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6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.xml.rels" ContentType="application/vnd.openxmlformats-package.relationships+xml"/>
  <Override PartName="/ppt/notesSlides/notesSlide6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A2B68B-A6B3-4010-A3E8-250106F56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1280" y="23760"/>
            <a:ext cx="8977320" cy="6821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 txBox="1"/>
          <p:nvPr/>
        </p:nvSpPr>
        <p:spPr>
          <a:xfrm>
            <a:off x="3073320" y="793800"/>
            <a:ext cx="2913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1353960" y="3043080"/>
            <a:ext cx="452520" cy="444600"/>
            <a:chOff x="1353960" y="3043080"/>
            <a:chExt cx="452520" cy="444600"/>
          </a:xfrm>
        </p:grpSpPr>
        <p:sp>
          <p:nvSpPr>
            <p:cNvPr id="624" name=""/>
            <p:cNvSpPr/>
            <p:nvPr/>
          </p:nvSpPr>
          <p:spPr>
            <a:xfrm>
              <a:off x="1366920" y="3043080"/>
              <a:ext cx="439560" cy="4399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1353960" y="3043080"/>
              <a:ext cx="444600" cy="4446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"/>
          <p:cNvSpPr txBox="1"/>
          <p:nvPr/>
        </p:nvSpPr>
        <p:spPr>
          <a:xfrm>
            <a:off x="717480" y="4183200"/>
            <a:ext cx="2201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Datum Target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 txBox="1"/>
          <p:nvPr/>
        </p:nvSpPr>
        <p:spPr>
          <a:xfrm>
            <a:off x="3073320" y="793800"/>
            <a:ext cx="2913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1353960" y="3043080"/>
            <a:ext cx="452520" cy="444600"/>
            <a:chOff x="1353960" y="3043080"/>
            <a:chExt cx="452520" cy="444600"/>
          </a:xfrm>
        </p:grpSpPr>
        <p:sp>
          <p:nvSpPr>
            <p:cNvPr id="629" name=""/>
            <p:cNvSpPr/>
            <p:nvPr/>
          </p:nvSpPr>
          <p:spPr>
            <a:xfrm>
              <a:off x="1366920" y="3043080"/>
              <a:ext cx="439560" cy="4399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1353960" y="3043080"/>
              <a:ext cx="444600" cy="4446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"/>
          <p:cNvSpPr txBox="1"/>
          <p:nvPr/>
        </p:nvSpPr>
        <p:spPr>
          <a:xfrm>
            <a:off x="717480" y="4183200"/>
            <a:ext cx="2201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Datum Target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233960" y="2346480"/>
            <a:ext cx="0" cy="1660320"/>
            <a:chOff x="4233960" y="2346480"/>
            <a:chExt cx="0" cy="1660320"/>
          </a:xfrm>
        </p:grpSpPr>
        <p:sp>
          <p:nvSpPr>
            <p:cNvPr id="633" name=""/>
            <p:cNvSpPr/>
            <p:nvPr/>
          </p:nvSpPr>
          <p:spPr>
            <a:xfrm>
              <a:off x="4233960" y="2346480"/>
              <a:ext cx="0" cy="531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33960" y="2955960"/>
              <a:ext cx="0" cy="109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233960" y="3154320"/>
              <a:ext cx="0" cy="1112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3640" bIns="53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233960" y="3354480"/>
              <a:ext cx="0" cy="6523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7" name=""/>
          <p:cNvSpPr txBox="1"/>
          <p:nvPr/>
        </p:nvSpPr>
        <p:spPr>
          <a:xfrm>
            <a:off x="3327480" y="4195800"/>
            <a:ext cx="2130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Datum Targe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1353960" y="3043080"/>
            <a:ext cx="452520" cy="444600"/>
            <a:chOff x="1353960" y="3043080"/>
            <a:chExt cx="452520" cy="444600"/>
          </a:xfrm>
        </p:grpSpPr>
        <p:sp>
          <p:nvSpPr>
            <p:cNvPr id="639" name=""/>
            <p:cNvSpPr/>
            <p:nvPr/>
          </p:nvSpPr>
          <p:spPr>
            <a:xfrm>
              <a:off x="1366920" y="3043080"/>
              <a:ext cx="439560" cy="4399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1353960" y="3043080"/>
              <a:ext cx="444600" cy="44460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6485040" y="2346480"/>
            <a:ext cx="1670040" cy="1663560"/>
            <a:chOff x="6485040" y="2346480"/>
            <a:chExt cx="1670040" cy="1663560"/>
          </a:xfrm>
        </p:grpSpPr>
        <p:grpSp>
          <p:nvGrpSpPr>
            <p:cNvPr id="642" name=""/>
            <p:cNvGrpSpPr/>
            <p:nvPr/>
          </p:nvGrpSpPr>
          <p:grpSpPr>
            <a:xfrm>
              <a:off x="6488280" y="2346480"/>
              <a:ext cx="0" cy="1660320"/>
              <a:chOff x="6488280" y="2346480"/>
              <a:chExt cx="0" cy="1660320"/>
            </a:xfrm>
          </p:grpSpPr>
          <p:sp>
            <p:nvSpPr>
              <p:cNvPr id="643" name=""/>
              <p:cNvSpPr/>
              <p:nvPr/>
            </p:nvSpPr>
            <p:spPr>
              <a:xfrm>
                <a:off x="6488280" y="2346480"/>
                <a:ext cx="0" cy="53172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488280" y="2955960"/>
                <a:ext cx="0" cy="109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1840" bIns="51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488280" y="3154320"/>
                <a:ext cx="0" cy="111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3640" bIns="53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488280" y="3354480"/>
                <a:ext cx="0" cy="65232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6485040" y="3998880"/>
              <a:ext cx="1660320" cy="0"/>
              <a:chOff x="6485040" y="3998880"/>
              <a:chExt cx="1660320" cy="0"/>
            </a:xfrm>
          </p:grpSpPr>
          <p:sp>
            <p:nvSpPr>
              <p:cNvPr id="648" name=""/>
              <p:cNvSpPr/>
              <p:nvPr/>
            </p:nvSpPr>
            <p:spPr>
              <a:xfrm>
                <a:off x="6485040" y="3998880"/>
                <a:ext cx="5317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094520" y="3998880"/>
                <a:ext cx="109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292880" y="3998880"/>
                <a:ext cx="1112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493040" y="3998880"/>
                <a:ext cx="6523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6494400" y="2359080"/>
              <a:ext cx="1660680" cy="0"/>
              <a:chOff x="6494400" y="2359080"/>
              <a:chExt cx="1660680" cy="0"/>
            </a:xfrm>
          </p:grpSpPr>
          <p:sp>
            <p:nvSpPr>
              <p:cNvPr id="653" name=""/>
              <p:cNvSpPr/>
              <p:nvPr/>
            </p:nvSpPr>
            <p:spPr>
              <a:xfrm>
                <a:off x="6494400" y="2359080"/>
                <a:ext cx="5317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104240" y="2359080"/>
                <a:ext cx="109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02600" y="2359080"/>
                <a:ext cx="1108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502400" y="2359080"/>
                <a:ext cx="65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8151840" y="2349360"/>
              <a:ext cx="0" cy="1660680"/>
              <a:chOff x="8151840" y="2349360"/>
              <a:chExt cx="0" cy="1660680"/>
            </a:xfrm>
          </p:grpSpPr>
          <p:sp>
            <p:nvSpPr>
              <p:cNvPr id="658" name=""/>
              <p:cNvSpPr/>
              <p:nvPr/>
            </p:nvSpPr>
            <p:spPr>
              <a:xfrm>
                <a:off x="8151840" y="2349360"/>
                <a:ext cx="0" cy="532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151840" y="2959200"/>
                <a:ext cx="0" cy="109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1840" bIns="51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8151840" y="3157560"/>
                <a:ext cx="0" cy="111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3640" bIns="53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151840" y="3357720"/>
                <a:ext cx="0" cy="65232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233960" y="2346480"/>
            <a:ext cx="0" cy="1660320"/>
            <a:chOff x="4233960" y="2346480"/>
            <a:chExt cx="0" cy="1660320"/>
          </a:xfrm>
        </p:grpSpPr>
        <p:sp>
          <p:nvSpPr>
            <p:cNvPr id="663" name=""/>
            <p:cNvSpPr/>
            <p:nvPr/>
          </p:nvSpPr>
          <p:spPr>
            <a:xfrm>
              <a:off x="4233960" y="2346480"/>
              <a:ext cx="0" cy="5317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233960" y="2955960"/>
              <a:ext cx="0" cy="1094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233960" y="3154320"/>
              <a:ext cx="0" cy="11124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3640" bIns="53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233960" y="3354480"/>
              <a:ext cx="0" cy="65232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 txBox="1"/>
          <p:nvPr/>
        </p:nvSpPr>
        <p:spPr>
          <a:xfrm>
            <a:off x="717480" y="4183200"/>
            <a:ext cx="22017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Datum Target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327480" y="4195800"/>
            <a:ext cx="2130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Datum Targe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6308640" y="4199040"/>
            <a:ext cx="22575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Datum Target Ar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6496200" y="2362320"/>
            <a:ext cx="110880" cy="11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6492960" y="2365200"/>
            <a:ext cx="263520" cy="263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6492960" y="2352600"/>
            <a:ext cx="428400" cy="42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6502320" y="2374920"/>
            <a:ext cx="549360" cy="549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6499080" y="2365200"/>
            <a:ext cx="714600" cy="714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6496200" y="2365200"/>
            <a:ext cx="869760" cy="87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6492960" y="2359080"/>
            <a:ext cx="1031760" cy="1031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6483240" y="2355840"/>
            <a:ext cx="1197000" cy="1197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6489720" y="2362320"/>
            <a:ext cx="1336680" cy="1336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6489720" y="2368440"/>
            <a:ext cx="1482840" cy="1482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6499080" y="2365200"/>
            <a:ext cx="1629000" cy="1629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6654960" y="2505240"/>
            <a:ext cx="1485720" cy="1485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6804000" y="2644920"/>
            <a:ext cx="1349280" cy="1349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6956280" y="2803680"/>
            <a:ext cx="1190880" cy="1190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>
            <a:off x="7112160" y="2955960"/>
            <a:ext cx="1035000" cy="1035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>
            <a:off x="7277040" y="3111480"/>
            <a:ext cx="866880" cy="866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7423200" y="3260880"/>
            <a:ext cx="723960" cy="723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7569360" y="3413160"/>
            <a:ext cx="577800" cy="577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7724880" y="3552840"/>
            <a:ext cx="434880" cy="43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7873920" y="3714840"/>
            <a:ext cx="276480" cy="276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 flipH="1">
            <a:off x="8029440" y="3863880"/>
            <a:ext cx="123840" cy="123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6916680" y="4692600"/>
            <a:ext cx="830160" cy="987480"/>
            <a:chOff x="6916680" y="4692600"/>
            <a:chExt cx="830160" cy="987480"/>
          </a:xfrm>
        </p:grpSpPr>
        <p:sp>
          <p:nvSpPr>
            <p:cNvPr id="692" name=""/>
            <p:cNvSpPr/>
            <p:nvPr/>
          </p:nvSpPr>
          <p:spPr>
            <a:xfrm>
              <a:off x="6916680" y="4778280"/>
              <a:ext cx="830160" cy="830160"/>
            </a:xfrm>
            <a:prstGeom prst="ellipse">
              <a:avLst/>
            </a:prstGeom>
            <a:solidFill>
              <a:srgbClr val="114ffb"/>
            </a:solidFill>
            <a:ln w="25560">
              <a:solidFill>
                <a:srgbClr val="ffffff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107120" y="4727520"/>
              <a:ext cx="82440" cy="927000"/>
            </a:xfrm>
            <a:prstGeom prst="rect">
              <a:avLst/>
            </a:pr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427880" y="4708440"/>
              <a:ext cx="88920" cy="939960"/>
            </a:xfrm>
            <a:prstGeom prst="rect">
              <a:avLst/>
            </a:pr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6951600" y="4807080"/>
              <a:ext cx="244440" cy="244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507440" y="5369040"/>
              <a:ext cx="193680" cy="193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75600" y="4692600"/>
              <a:ext cx="79200" cy="987480"/>
            </a:xfrm>
            <a:prstGeom prst="rect">
              <a:avLst/>
            </a:prstGeom>
            <a:solidFill>
              <a:srgbClr val="114ff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6923160" y="4781520"/>
              <a:ext cx="450720" cy="450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>
              <a:off x="6961320" y="4826160"/>
              <a:ext cx="520560" cy="52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008840" y="4870440"/>
              <a:ext cx="581040" cy="581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7091280" y="4952880"/>
              <a:ext cx="568440" cy="56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>
              <a:off x="7183440" y="5054760"/>
              <a:ext cx="527040" cy="527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7313760" y="5175360"/>
              <a:ext cx="428400" cy="428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 txBox="1"/>
          <p:nvPr/>
        </p:nvSpPr>
        <p:spPr>
          <a:xfrm>
            <a:off x="3073320" y="793800"/>
            <a:ext cx="2913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685800" y="398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685800" y="1770120"/>
            <a:ext cx="8029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target symbols are used to designate datum target points, lines or areas on the part by means of 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dia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traight leader line directed at the targe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 targets on a visible surface, a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eader is used; for targets on hidden surfaces, leader lines ar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ash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atum feature is called out as a dat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2305080" y="279360"/>
            <a:ext cx="4451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 txBox="1"/>
          <p:nvPr/>
        </p:nvSpPr>
        <p:spPr>
          <a:xfrm>
            <a:off x="2305080" y="279360"/>
            <a:ext cx="4451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143080" y="2768760"/>
            <a:ext cx="0" cy="3063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43080" y="3182760"/>
            <a:ext cx="0" cy="108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0400" bIns="50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143080" y="3367080"/>
            <a:ext cx="0" cy="108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0400" bIns="50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2143080" y="3583080"/>
            <a:ext cx="0" cy="1474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2165400" y="4014720"/>
            <a:ext cx="863640" cy="1613160"/>
            <a:chOff x="2165400" y="4014720"/>
            <a:chExt cx="863640" cy="1613160"/>
          </a:xfrm>
        </p:grpSpPr>
        <p:sp>
          <p:nvSpPr>
            <p:cNvPr id="714" name=""/>
            <p:cNvSpPr/>
            <p:nvPr/>
          </p:nvSpPr>
          <p:spPr>
            <a:xfrm>
              <a:off x="2490840" y="5089680"/>
              <a:ext cx="538200" cy="538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2165400" y="4014720"/>
              <a:ext cx="477720" cy="1081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487600" y="5351400"/>
              <a:ext cx="538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"/>
          <p:cNvSpPr txBox="1"/>
          <p:nvPr/>
        </p:nvSpPr>
        <p:spPr>
          <a:xfrm>
            <a:off x="2563920" y="5303880"/>
            <a:ext cx="431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341280" y="1135080"/>
            <a:ext cx="856764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Datum targe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mbols</a:t>
            </a:r>
            <a:r>
              <a:rPr b="0" lang="en-US" sz="2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 are used to identify datum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from the standpoint of location, orientation, size, and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of precedence, as they relate to the datum reference 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 txBox="1"/>
          <p:nvPr/>
        </p:nvSpPr>
        <p:spPr>
          <a:xfrm>
            <a:off x="2305080" y="279360"/>
            <a:ext cx="4451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143080" y="2768760"/>
            <a:ext cx="0" cy="3063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143080" y="3182760"/>
            <a:ext cx="0" cy="108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0400" bIns="50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143080" y="3367080"/>
            <a:ext cx="0" cy="108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0400" bIns="50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143080" y="3583080"/>
            <a:ext cx="0" cy="1474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2165400" y="4014720"/>
            <a:ext cx="863640" cy="1613160"/>
            <a:chOff x="2165400" y="4014720"/>
            <a:chExt cx="863640" cy="1613160"/>
          </a:xfrm>
        </p:grpSpPr>
        <p:sp>
          <p:nvSpPr>
            <p:cNvPr id="725" name=""/>
            <p:cNvSpPr/>
            <p:nvPr/>
          </p:nvSpPr>
          <p:spPr>
            <a:xfrm>
              <a:off x="2490840" y="5089680"/>
              <a:ext cx="538200" cy="538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2165400" y="4014720"/>
              <a:ext cx="477720" cy="1081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487600" y="5351400"/>
              <a:ext cx="538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4368960" y="4210200"/>
            <a:ext cx="260280" cy="260280"/>
            <a:chOff x="4368960" y="4210200"/>
            <a:chExt cx="260280" cy="260280"/>
          </a:xfrm>
        </p:grpSpPr>
        <p:sp>
          <p:nvSpPr>
            <p:cNvPr id="729" name=""/>
            <p:cNvSpPr/>
            <p:nvPr/>
          </p:nvSpPr>
          <p:spPr>
            <a:xfrm>
              <a:off x="4368960" y="4210200"/>
              <a:ext cx="260280" cy="260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>
              <a:off x="4368960" y="4210200"/>
              <a:ext cx="260280" cy="260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5035680" y="2603520"/>
            <a:ext cx="538200" cy="538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 flipH="1">
            <a:off x="5033880" y="2865600"/>
            <a:ext cx="522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4516560" y="3119400"/>
            <a:ext cx="653760" cy="115092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5083200" y="2857680"/>
            <a:ext cx="431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686040" y="3395520"/>
            <a:ext cx="1418040" cy="2259360"/>
          </a:xfrm>
          <a:custGeom>
            <a:avLst/>
            <a:gdLst/>
            <a:ahLst/>
            <a:rect l="0" t="0" r="r" b="b"/>
            <a:pathLst>
              <a:path fill="none" w="3939" h="6276">
                <a:moveTo>
                  <a:pt x="30" y="0"/>
                </a:moveTo>
                <a:lnTo>
                  <a:pt x="3939" y="0"/>
                </a:lnTo>
                <a:lnTo>
                  <a:pt x="3939" y="6276"/>
                </a:lnTo>
                <a:lnTo>
                  <a:pt x="463" y="6276"/>
                </a:lnTo>
                <a:lnTo>
                  <a:pt x="489" y="6152"/>
                </a:lnTo>
                <a:lnTo>
                  <a:pt x="463" y="6059"/>
                </a:lnTo>
                <a:lnTo>
                  <a:pt x="432" y="5879"/>
                </a:lnTo>
                <a:lnTo>
                  <a:pt x="432" y="5786"/>
                </a:lnTo>
                <a:lnTo>
                  <a:pt x="432" y="5693"/>
                </a:lnTo>
                <a:lnTo>
                  <a:pt x="489" y="5570"/>
                </a:lnTo>
                <a:lnTo>
                  <a:pt x="520" y="5477"/>
                </a:lnTo>
                <a:lnTo>
                  <a:pt x="520" y="5385"/>
                </a:lnTo>
                <a:lnTo>
                  <a:pt x="582" y="5200"/>
                </a:lnTo>
                <a:lnTo>
                  <a:pt x="612" y="5107"/>
                </a:lnTo>
                <a:lnTo>
                  <a:pt x="612" y="5014"/>
                </a:lnTo>
                <a:lnTo>
                  <a:pt x="582" y="4829"/>
                </a:lnTo>
                <a:lnTo>
                  <a:pt x="582" y="4737"/>
                </a:lnTo>
                <a:lnTo>
                  <a:pt x="551" y="4556"/>
                </a:lnTo>
                <a:lnTo>
                  <a:pt x="489" y="4340"/>
                </a:lnTo>
                <a:lnTo>
                  <a:pt x="401" y="4185"/>
                </a:lnTo>
                <a:lnTo>
                  <a:pt x="401" y="4062"/>
                </a:lnTo>
                <a:lnTo>
                  <a:pt x="401" y="3908"/>
                </a:lnTo>
                <a:lnTo>
                  <a:pt x="401" y="3815"/>
                </a:lnTo>
                <a:lnTo>
                  <a:pt x="401" y="3722"/>
                </a:lnTo>
                <a:lnTo>
                  <a:pt x="432" y="3568"/>
                </a:lnTo>
                <a:lnTo>
                  <a:pt x="432" y="3414"/>
                </a:lnTo>
                <a:lnTo>
                  <a:pt x="432" y="3295"/>
                </a:lnTo>
                <a:lnTo>
                  <a:pt x="432" y="3077"/>
                </a:lnTo>
                <a:lnTo>
                  <a:pt x="432" y="2985"/>
                </a:lnTo>
                <a:lnTo>
                  <a:pt x="432" y="2831"/>
                </a:lnTo>
                <a:lnTo>
                  <a:pt x="463" y="2676"/>
                </a:lnTo>
                <a:lnTo>
                  <a:pt x="489" y="2584"/>
                </a:lnTo>
                <a:lnTo>
                  <a:pt x="489" y="2368"/>
                </a:lnTo>
                <a:lnTo>
                  <a:pt x="489" y="2275"/>
                </a:lnTo>
                <a:lnTo>
                  <a:pt x="463" y="2121"/>
                </a:lnTo>
                <a:lnTo>
                  <a:pt x="463" y="1971"/>
                </a:lnTo>
                <a:lnTo>
                  <a:pt x="463" y="1878"/>
                </a:lnTo>
                <a:lnTo>
                  <a:pt x="463" y="1785"/>
                </a:lnTo>
                <a:lnTo>
                  <a:pt x="432" y="1662"/>
                </a:lnTo>
                <a:lnTo>
                  <a:pt x="401" y="1508"/>
                </a:lnTo>
                <a:lnTo>
                  <a:pt x="339" y="1415"/>
                </a:lnTo>
                <a:lnTo>
                  <a:pt x="246" y="1292"/>
                </a:lnTo>
                <a:lnTo>
                  <a:pt x="246" y="1199"/>
                </a:lnTo>
                <a:lnTo>
                  <a:pt x="216" y="1106"/>
                </a:lnTo>
                <a:lnTo>
                  <a:pt x="216" y="1014"/>
                </a:lnTo>
                <a:lnTo>
                  <a:pt x="154" y="829"/>
                </a:lnTo>
                <a:lnTo>
                  <a:pt x="123" y="679"/>
                </a:lnTo>
                <a:lnTo>
                  <a:pt x="123" y="586"/>
                </a:lnTo>
                <a:lnTo>
                  <a:pt x="123" y="493"/>
                </a:lnTo>
                <a:lnTo>
                  <a:pt x="92" y="401"/>
                </a:lnTo>
                <a:lnTo>
                  <a:pt x="61" y="308"/>
                </a:lnTo>
                <a:lnTo>
                  <a:pt x="30" y="216"/>
                </a:lnTo>
                <a:lnTo>
                  <a:pt x="30" y="123"/>
                </a:lnTo>
                <a:lnTo>
                  <a:pt x="0" y="3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 txBox="1"/>
          <p:nvPr/>
        </p:nvSpPr>
        <p:spPr>
          <a:xfrm>
            <a:off x="2563920" y="5303880"/>
            <a:ext cx="431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341280" y="1135080"/>
            <a:ext cx="856764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Datum targe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mbols</a:t>
            </a:r>
            <a:r>
              <a:rPr b="0" lang="en-US" sz="2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 are used to identify datum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from the standpoint of location, orientation, size, and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of precedence, as they relate to the datum reference 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 txBox="1"/>
          <p:nvPr/>
        </p:nvSpPr>
        <p:spPr>
          <a:xfrm>
            <a:off x="2305080" y="279360"/>
            <a:ext cx="4451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 Symb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341280" y="1135080"/>
            <a:ext cx="8567640" cy="137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Datum target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ymbols</a:t>
            </a:r>
            <a:r>
              <a:rPr b="0" lang="en-US" sz="2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 are used to identify datum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from the standpoint of location, orientation, size, and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of precedence, as they relate to the datum reference 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143080" y="2768760"/>
            <a:ext cx="0" cy="3063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143080" y="3182760"/>
            <a:ext cx="0" cy="108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0400" bIns="50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143080" y="3367080"/>
            <a:ext cx="0" cy="108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0400" bIns="50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143080" y="3583080"/>
            <a:ext cx="0" cy="1474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2165400" y="4014720"/>
            <a:ext cx="863640" cy="1613160"/>
            <a:chOff x="2165400" y="4014720"/>
            <a:chExt cx="863640" cy="1613160"/>
          </a:xfrm>
        </p:grpSpPr>
        <p:sp>
          <p:nvSpPr>
            <p:cNvPr id="745" name=""/>
            <p:cNvSpPr/>
            <p:nvPr/>
          </p:nvSpPr>
          <p:spPr>
            <a:xfrm>
              <a:off x="2490840" y="5089680"/>
              <a:ext cx="538200" cy="538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flipV="1">
              <a:off x="2165400" y="4014720"/>
              <a:ext cx="477720" cy="10810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487600" y="5351400"/>
              <a:ext cx="5382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4368960" y="4210200"/>
            <a:ext cx="260280" cy="260280"/>
            <a:chOff x="4368960" y="4210200"/>
            <a:chExt cx="260280" cy="260280"/>
          </a:xfrm>
        </p:grpSpPr>
        <p:sp>
          <p:nvSpPr>
            <p:cNvPr id="749" name=""/>
            <p:cNvSpPr/>
            <p:nvPr/>
          </p:nvSpPr>
          <p:spPr>
            <a:xfrm>
              <a:off x="4368960" y="4210200"/>
              <a:ext cx="260280" cy="260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4368960" y="4210200"/>
              <a:ext cx="260280" cy="260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5035680" y="2603520"/>
            <a:ext cx="538200" cy="538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5033880" y="2865600"/>
            <a:ext cx="522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4516560" y="3119400"/>
            <a:ext cx="653760" cy="115092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5083200" y="2857680"/>
            <a:ext cx="431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916680" y="4000680"/>
            <a:ext cx="830160" cy="8301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7107120" y="3949560"/>
            <a:ext cx="82440" cy="9270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7427880" y="3930480"/>
            <a:ext cx="88920" cy="9399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H="1">
            <a:off x="6951600" y="4029120"/>
            <a:ext cx="244440" cy="244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7507440" y="4591080"/>
            <a:ext cx="193680" cy="193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7275600" y="3914640"/>
            <a:ext cx="79200" cy="987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6923160" y="4003560"/>
            <a:ext cx="450720" cy="451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6961320" y="4048200"/>
            <a:ext cx="520560" cy="52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7008840" y="4092480"/>
            <a:ext cx="581040" cy="58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7091280" y="4175280"/>
            <a:ext cx="568440" cy="56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7183440" y="4276800"/>
            <a:ext cx="527040" cy="52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7313760" y="4397400"/>
            <a:ext cx="428400" cy="42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5797440" y="3236760"/>
            <a:ext cx="538200" cy="538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815080" y="3498840"/>
            <a:ext cx="522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288120" y="3672000"/>
            <a:ext cx="698400" cy="520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5851440" y="3457440"/>
            <a:ext cx="420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3686040" y="3395520"/>
            <a:ext cx="1418040" cy="2259360"/>
          </a:xfrm>
          <a:custGeom>
            <a:avLst/>
            <a:gdLst/>
            <a:ahLst/>
            <a:rect l="0" t="0" r="r" b="b"/>
            <a:pathLst>
              <a:path fill="none" w="3939" h="6276">
                <a:moveTo>
                  <a:pt x="30" y="0"/>
                </a:moveTo>
                <a:lnTo>
                  <a:pt x="3939" y="0"/>
                </a:lnTo>
                <a:lnTo>
                  <a:pt x="3939" y="6276"/>
                </a:lnTo>
                <a:lnTo>
                  <a:pt x="463" y="6276"/>
                </a:lnTo>
                <a:lnTo>
                  <a:pt x="489" y="6152"/>
                </a:lnTo>
                <a:lnTo>
                  <a:pt x="463" y="6059"/>
                </a:lnTo>
                <a:lnTo>
                  <a:pt x="432" y="5879"/>
                </a:lnTo>
                <a:lnTo>
                  <a:pt x="432" y="5786"/>
                </a:lnTo>
                <a:lnTo>
                  <a:pt x="432" y="5693"/>
                </a:lnTo>
                <a:lnTo>
                  <a:pt x="489" y="5570"/>
                </a:lnTo>
                <a:lnTo>
                  <a:pt x="520" y="5477"/>
                </a:lnTo>
                <a:lnTo>
                  <a:pt x="520" y="5385"/>
                </a:lnTo>
                <a:lnTo>
                  <a:pt x="582" y="5200"/>
                </a:lnTo>
                <a:lnTo>
                  <a:pt x="612" y="5107"/>
                </a:lnTo>
                <a:lnTo>
                  <a:pt x="612" y="5014"/>
                </a:lnTo>
                <a:lnTo>
                  <a:pt x="582" y="4829"/>
                </a:lnTo>
                <a:lnTo>
                  <a:pt x="582" y="4737"/>
                </a:lnTo>
                <a:lnTo>
                  <a:pt x="551" y="4556"/>
                </a:lnTo>
                <a:lnTo>
                  <a:pt x="489" y="4340"/>
                </a:lnTo>
                <a:lnTo>
                  <a:pt x="401" y="4185"/>
                </a:lnTo>
                <a:lnTo>
                  <a:pt x="401" y="4062"/>
                </a:lnTo>
                <a:lnTo>
                  <a:pt x="401" y="3908"/>
                </a:lnTo>
                <a:lnTo>
                  <a:pt x="401" y="3815"/>
                </a:lnTo>
                <a:lnTo>
                  <a:pt x="401" y="3722"/>
                </a:lnTo>
                <a:lnTo>
                  <a:pt x="432" y="3568"/>
                </a:lnTo>
                <a:lnTo>
                  <a:pt x="432" y="3414"/>
                </a:lnTo>
                <a:lnTo>
                  <a:pt x="432" y="3295"/>
                </a:lnTo>
                <a:lnTo>
                  <a:pt x="432" y="3077"/>
                </a:lnTo>
                <a:lnTo>
                  <a:pt x="432" y="2985"/>
                </a:lnTo>
                <a:lnTo>
                  <a:pt x="432" y="2831"/>
                </a:lnTo>
                <a:lnTo>
                  <a:pt x="463" y="2676"/>
                </a:lnTo>
                <a:lnTo>
                  <a:pt x="489" y="2584"/>
                </a:lnTo>
                <a:lnTo>
                  <a:pt x="489" y="2368"/>
                </a:lnTo>
                <a:lnTo>
                  <a:pt x="489" y="2275"/>
                </a:lnTo>
                <a:lnTo>
                  <a:pt x="463" y="2121"/>
                </a:lnTo>
                <a:lnTo>
                  <a:pt x="463" y="1971"/>
                </a:lnTo>
                <a:lnTo>
                  <a:pt x="463" y="1878"/>
                </a:lnTo>
                <a:lnTo>
                  <a:pt x="463" y="1785"/>
                </a:lnTo>
                <a:lnTo>
                  <a:pt x="432" y="1662"/>
                </a:lnTo>
                <a:lnTo>
                  <a:pt x="401" y="1508"/>
                </a:lnTo>
                <a:lnTo>
                  <a:pt x="339" y="1415"/>
                </a:lnTo>
                <a:lnTo>
                  <a:pt x="246" y="1292"/>
                </a:lnTo>
                <a:lnTo>
                  <a:pt x="246" y="1199"/>
                </a:lnTo>
                <a:lnTo>
                  <a:pt x="216" y="1106"/>
                </a:lnTo>
                <a:lnTo>
                  <a:pt x="216" y="1014"/>
                </a:lnTo>
                <a:lnTo>
                  <a:pt x="154" y="829"/>
                </a:lnTo>
                <a:lnTo>
                  <a:pt x="123" y="679"/>
                </a:lnTo>
                <a:lnTo>
                  <a:pt x="123" y="586"/>
                </a:lnTo>
                <a:lnTo>
                  <a:pt x="123" y="493"/>
                </a:lnTo>
                <a:lnTo>
                  <a:pt x="92" y="401"/>
                </a:lnTo>
                <a:lnTo>
                  <a:pt x="61" y="308"/>
                </a:lnTo>
                <a:lnTo>
                  <a:pt x="30" y="216"/>
                </a:lnTo>
                <a:lnTo>
                  <a:pt x="30" y="123"/>
                </a:lnTo>
                <a:lnTo>
                  <a:pt x="0" y="3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2563920" y="5303880"/>
            <a:ext cx="4316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641520" y="223848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Target Point Desig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611280" y="2717640"/>
            <a:ext cx="7831080" cy="123984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716040" y="2657520"/>
            <a:ext cx="7772400" cy="19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atum target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poin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indicated by the target point symbol, dimensionally located on a normal view of the surfac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101520"/>
            <a:ext cx="9020160" cy="6743880"/>
            <a:chOff x="0" y="101520"/>
            <a:chExt cx="9020160" cy="6743880"/>
          </a:xfrm>
        </p:grpSpPr>
        <p:sp>
          <p:nvSpPr>
            <p:cNvPr id="46" name=""/>
            <p:cNvSpPr/>
            <p:nvPr/>
          </p:nvSpPr>
          <p:spPr>
            <a:xfrm>
              <a:off x="320760" y="3456000"/>
              <a:ext cx="10382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98680" y="3456000"/>
              <a:ext cx="1364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456000"/>
              <a:ext cx="831960" cy="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982880" y="3456000"/>
              <a:ext cx="698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167360" y="3540240"/>
              <a:ext cx="2076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83160" y="3540240"/>
              <a:ext cx="1368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59640" y="3540240"/>
              <a:ext cx="20764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450120" y="3470400"/>
              <a:ext cx="0" cy="136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450120" y="765000"/>
              <a:ext cx="0" cy="2565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450120" y="3746520"/>
              <a:ext cx="0" cy="1800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33960" y="1436760"/>
              <a:ext cx="4470480" cy="424008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38520" y="1708200"/>
              <a:ext cx="3860640" cy="3705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6880" y="1515960"/>
              <a:ext cx="0" cy="3876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74800" y="1515960"/>
              <a:ext cx="0" cy="7621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74800" y="4675320"/>
              <a:ext cx="0" cy="717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74800" y="2279520"/>
              <a:ext cx="2887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32040" y="4630680"/>
              <a:ext cx="2314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220760" y="2336760"/>
              <a:ext cx="0" cy="352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20760" y="4216320"/>
              <a:ext cx="0" cy="358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73320" y="2749680"/>
              <a:ext cx="2300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78000" y="4156200"/>
              <a:ext cx="220680" cy="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1498680" y="2679840"/>
              <a:ext cx="68040" cy="6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 flipV="1">
              <a:off x="1496880" y="4154400"/>
              <a:ext cx="73080" cy="81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66720" y="2679840"/>
              <a:ext cx="4161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66720" y="4233960"/>
              <a:ext cx="4161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982880" y="2679840"/>
              <a:ext cx="69840" cy="6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982880" y="4157640"/>
              <a:ext cx="69840" cy="6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52720" y="2749680"/>
              <a:ext cx="0" cy="6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52720" y="4087800"/>
              <a:ext cx="0" cy="6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2052720" y="2817720"/>
              <a:ext cx="196920" cy="18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52720" y="4087800"/>
              <a:ext cx="201600" cy="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6880" y="2554200"/>
              <a:ext cx="361800" cy="18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96880" y="4354560"/>
              <a:ext cx="357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011240" y="2617920"/>
              <a:ext cx="0" cy="16891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1012680" y="2962440"/>
              <a:ext cx="1238400" cy="61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012680" y="3940200"/>
              <a:ext cx="1231920" cy="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96880" y="151596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6880" y="539280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6880" y="165420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6880" y="193032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6880" y="497844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6880" y="5254560"/>
              <a:ext cx="277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291360" y="1565280"/>
              <a:ext cx="320760" cy="28728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95960" y="3390840"/>
              <a:ext cx="290520" cy="276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299280" y="5272200"/>
              <a:ext cx="297000" cy="276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240760" y="3417840"/>
              <a:ext cx="298440" cy="276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618320" y="2048040"/>
              <a:ext cx="322200" cy="29988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78440" y="2081160"/>
              <a:ext cx="312840" cy="2761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965840" y="4748040"/>
              <a:ext cx="299880" cy="2779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645320" y="4756320"/>
              <a:ext cx="304920" cy="2779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496280" y="1924200"/>
              <a:ext cx="558720" cy="558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435560" y="1514520"/>
              <a:ext cx="1036440" cy="1036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05240" y="2362320"/>
              <a:ext cx="2475000" cy="235260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424480" y="2568600"/>
              <a:ext cx="2039760" cy="19400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72080" y="2708280"/>
              <a:ext cx="1746360" cy="166068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38920" y="3052800"/>
              <a:ext cx="1019160" cy="9716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27120" y="2725560"/>
              <a:ext cx="507960" cy="0"/>
            </a:xfrm>
            <a:prstGeom prst="line">
              <a:avLst/>
            </a:prstGeom>
            <a:ln w="12600">
              <a:solidFill>
                <a:srgbClr val="114ffb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15960" y="4175280"/>
              <a:ext cx="506520" cy="0"/>
            </a:xfrm>
            <a:prstGeom prst="line">
              <a:avLst/>
            </a:prstGeom>
            <a:ln w="12600">
              <a:solidFill>
                <a:srgbClr val="114ffb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72000" y="2614680"/>
              <a:ext cx="1943280" cy="182880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1560" y="4624560"/>
              <a:ext cx="57600" cy="57600"/>
            </a:xfrm>
            <a:custGeom>
              <a:avLst/>
              <a:gdLst/>
              <a:ahLst/>
              <a:rect l="0" t="0" r="r" b="b"/>
              <a:pathLst>
                <a:path fill="none" w="160" h="160">
                  <a:moveTo>
                    <a:pt x="160" y="160"/>
                  </a:moveTo>
                  <a:lnTo>
                    <a:pt x="160" y="160"/>
                  </a:lnTo>
                  <a:lnTo>
                    <a:pt x="160" y="160"/>
                  </a:lnTo>
                  <a:cubicBezTo>
                    <a:pt x="160" y="132"/>
                    <a:pt x="153" y="104"/>
                    <a:pt x="139" y="80"/>
                  </a:cubicBezTo>
                  <a:cubicBezTo>
                    <a:pt x="125" y="56"/>
                    <a:pt x="104" y="35"/>
                    <a:pt x="80" y="21"/>
                  </a:cubicBezTo>
                  <a:cubicBezTo>
                    <a:pt x="56" y="7"/>
                    <a:pt x="28" y="0"/>
                    <a:pt x="0" y="0"/>
                  </a:cubicBez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787320" y="1793880"/>
              <a:ext cx="2383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77880" y="1793880"/>
              <a:ext cx="712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15800" y="1793880"/>
              <a:ext cx="2145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787320" y="5118120"/>
              <a:ext cx="2383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677880" y="5118120"/>
              <a:ext cx="712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415800" y="5118120"/>
              <a:ext cx="2145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7569360" y="4668840"/>
              <a:ext cx="493560" cy="473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857840" y="4676760"/>
              <a:ext cx="469800" cy="4698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86080" y="2967120"/>
              <a:ext cx="4032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97240" y="3940200"/>
              <a:ext cx="3920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65200" y="2817720"/>
              <a:ext cx="1005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70240" y="4092480"/>
              <a:ext cx="10080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87520" y="5506920"/>
              <a:ext cx="0" cy="10875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82720" y="5489640"/>
              <a:ext cx="0" cy="409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22200" y="4702320"/>
              <a:ext cx="3240" cy="663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48040" y="4278240"/>
              <a:ext cx="0" cy="468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02280" y="3902040"/>
              <a:ext cx="0" cy="27306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8715240" y="3808440"/>
              <a:ext cx="5040" cy="28749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02360" y="3919680"/>
              <a:ext cx="0" cy="23065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78800" y="3780000"/>
              <a:ext cx="0" cy="2412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5662440" y="1870200"/>
              <a:ext cx="1602000" cy="33782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588080" y="1217520"/>
              <a:ext cx="2430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7264440" y="1224000"/>
              <a:ext cx="328680" cy="6462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831080" y="1068480"/>
              <a:ext cx="592200" cy="2970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502320" y="219240"/>
              <a:ext cx="308160" cy="13586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6600" y="219240"/>
              <a:ext cx="1969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7902720" y="1098720"/>
              <a:ext cx="204480" cy="193680"/>
              <a:chOff x="7902720" y="1098720"/>
              <a:chExt cx="204480" cy="193680"/>
            </a:xfrm>
          </p:grpSpPr>
          <p:sp>
            <p:nvSpPr>
              <p:cNvPr id="133" name=""/>
              <p:cNvSpPr/>
              <p:nvPr/>
            </p:nvSpPr>
            <p:spPr>
              <a:xfrm>
                <a:off x="7918560" y="112248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7902720" y="1098720"/>
                <a:ext cx="20448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 txBox="1"/>
            <p:nvPr/>
          </p:nvSpPr>
          <p:spPr>
            <a:xfrm>
              <a:off x="8099280" y="1025640"/>
              <a:ext cx="4096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114ffb"/>
                  </a:solidFill>
                  <a:latin typeface="Arial"/>
                  <a:ea typeface="Arial"/>
                </a:rPr>
                <a:t>8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27720" y="892080"/>
              <a:ext cx="1927440" cy="698400"/>
            </a:xfrm>
            <a:custGeom>
              <a:avLst/>
              <a:gdLst/>
              <a:ahLst/>
              <a:rect l="0" t="0" r="r" b="b"/>
              <a:pathLst>
                <a:path fill="none" w="5354" h="1940">
                  <a:moveTo>
                    <a:pt x="5354" y="0"/>
                  </a:moveTo>
                  <a:lnTo>
                    <a:pt x="5354" y="0"/>
                  </a:lnTo>
                  <a:lnTo>
                    <a:pt x="5353" y="0"/>
                  </a:lnTo>
                  <a:cubicBezTo>
                    <a:pt x="3886" y="0"/>
                    <a:pt x="2444" y="387"/>
                    <a:pt x="1173" y="1121"/>
                  </a:cubicBezTo>
                  <a:cubicBezTo>
                    <a:pt x="759" y="1360"/>
                    <a:pt x="367" y="1634"/>
                    <a:pt x="0" y="1940"/>
                  </a:cubicBezTo>
                </a:path>
              </a:pathLst>
            </a:custGeom>
            <a:ln w="12600">
              <a:solidFill>
                <a:srgbClr val="114ffb"/>
              </a:solidFill>
              <a:round/>
              <a:headEnd len="med" type="triangle" w="med"/>
              <a:tailEnd len="med" type="triangle" w="med"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 txBox="1"/>
            <p:nvPr/>
          </p:nvSpPr>
          <p:spPr>
            <a:xfrm>
              <a:off x="5032440" y="955800"/>
              <a:ext cx="668160" cy="324000"/>
            </a:xfrm>
            <a:prstGeom prst="rect">
              <a:avLst/>
            </a:prstGeom>
            <a:solidFill>
              <a:srgbClr val="114ffb"/>
            </a:solidFill>
            <a:ln w="12600">
              <a:solidFill>
                <a:srgbClr val="114ffb"/>
              </a:solidFill>
              <a:round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8X 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00520" y="1049400"/>
              <a:ext cx="50760" cy="5076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7475400" y="378000"/>
              <a:ext cx="8762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14  M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 txBox="1"/>
            <p:nvPr/>
          </p:nvSpPr>
          <p:spPr>
            <a:xfrm>
              <a:off x="6997680" y="101520"/>
              <a:ext cx="13510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8X      7.9 - 8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23080" y="384120"/>
              <a:ext cx="2136600" cy="291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6835680" y="396720"/>
              <a:ext cx="279360" cy="292320"/>
              <a:chOff x="6835680" y="396720"/>
              <a:chExt cx="279360" cy="292320"/>
            </a:xfrm>
          </p:grpSpPr>
          <p:sp>
            <p:nvSpPr>
              <p:cNvPr id="143" name=""/>
              <p:cNvSpPr/>
              <p:nvPr/>
            </p:nvSpPr>
            <p:spPr>
              <a:xfrm>
                <a:off x="6886440" y="447840"/>
                <a:ext cx="177840" cy="17784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975360" y="396720"/>
                <a:ext cx="0" cy="29232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835680" y="536400"/>
                <a:ext cx="27936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7140600" y="38412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474040" y="38412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929720" y="409680"/>
              <a:ext cx="241200" cy="24120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220240" y="38412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8292960" y="365040"/>
              <a:ext cx="72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A C 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683560" y="398520"/>
              <a:ext cx="241200" cy="24120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202360" y="6062760"/>
              <a:ext cx="739800" cy="7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02400" y="6070680"/>
              <a:ext cx="10717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03720" y="6518160"/>
              <a:ext cx="26319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02400" y="6492960"/>
              <a:ext cx="12099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5981760" y="5961240"/>
              <a:ext cx="190440" cy="196560"/>
              <a:chOff x="5981760" y="5961240"/>
              <a:chExt cx="190440" cy="196560"/>
            </a:xfrm>
          </p:grpSpPr>
          <p:sp>
            <p:nvSpPr>
              <p:cNvPr id="157" name=""/>
              <p:cNvSpPr/>
              <p:nvPr/>
            </p:nvSpPr>
            <p:spPr>
              <a:xfrm>
                <a:off x="5997600" y="5985000"/>
                <a:ext cx="152280" cy="1573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5981760" y="5961240"/>
                <a:ext cx="190440" cy="19656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"/>
            <p:cNvSpPr txBox="1"/>
            <p:nvPr/>
          </p:nvSpPr>
          <p:spPr>
            <a:xfrm>
              <a:off x="6129360" y="581184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57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56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7058160" y="6288120"/>
              <a:ext cx="4809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891480" y="6418440"/>
              <a:ext cx="190440" cy="196560"/>
              <a:chOff x="6891480" y="6418440"/>
              <a:chExt cx="190440" cy="196560"/>
            </a:xfrm>
          </p:grpSpPr>
          <p:sp>
            <p:nvSpPr>
              <p:cNvPr id="162" name=""/>
              <p:cNvSpPr/>
              <p:nvPr/>
            </p:nvSpPr>
            <p:spPr>
              <a:xfrm>
                <a:off x="6907320" y="6442200"/>
                <a:ext cx="152280" cy="1573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6891480" y="6418440"/>
                <a:ext cx="190440" cy="19656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2708280" y="2962440"/>
              <a:ext cx="0" cy="9651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55840" y="2816280"/>
              <a:ext cx="0" cy="12762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577800" y="6256440"/>
              <a:ext cx="419040" cy="4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68440" y="6256440"/>
              <a:ext cx="795240" cy="4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82720" y="5803920"/>
              <a:ext cx="7524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930320" y="5803920"/>
              <a:ext cx="3240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25440" y="5275440"/>
              <a:ext cx="25740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940040" y="5294160"/>
              <a:ext cx="3142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11440" y="4651200"/>
              <a:ext cx="333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54320" y="4651200"/>
              <a:ext cx="333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2552760" y="4392720"/>
              <a:ext cx="4316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1452600" y="504036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25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25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1581120" y="5545080"/>
              <a:ext cx="3826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3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928800" y="602604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41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41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63520" y="2274840"/>
              <a:ext cx="61920" cy="61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16080" y="2684520"/>
              <a:ext cx="66600" cy="666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1216080" y="4159080"/>
              <a:ext cx="60120" cy="54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1158840" y="4570560"/>
              <a:ext cx="61920" cy="61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957240" y="4302000"/>
              <a:ext cx="58680" cy="54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711520" y="1898640"/>
              <a:ext cx="0" cy="1066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01800" y="1898640"/>
              <a:ext cx="1810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7164360" y="422280"/>
              <a:ext cx="204840" cy="193680"/>
              <a:chOff x="7164360" y="422280"/>
              <a:chExt cx="204840" cy="193680"/>
            </a:xfrm>
          </p:grpSpPr>
          <p:sp>
            <p:nvSpPr>
              <p:cNvPr id="186" name=""/>
              <p:cNvSpPr/>
              <p:nvPr/>
            </p:nvSpPr>
            <p:spPr>
              <a:xfrm>
                <a:off x="7180200" y="44604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7164360" y="42228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7340760" y="184320"/>
              <a:ext cx="163440" cy="155520"/>
              <a:chOff x="7340760" y="184320"/>
              <a:chExt cx="163440" cy="155520"/>
            </a:xfrm>
          </p:grpSpPr>
          <p:sp>
            <p:nvSpPr>
              <p:cNvPr id="189" name=""/>
              <p:cNvSpPr/>
              <p:nvPr/>
            </p:nvSpPr>
            <p:spPr>
              <a:xfrm>
                <a:off x="7353360" y="203040"/>
                <a:ext cx="131760" cy="12528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7340760" y="184320"/>
                <a:ext cx="163440" cy="15552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940120" y="1822320"/>
              <a:ext cx="204840" cy="193680"/>
              <a:chOff x="2940120" y="1822320"/>
              <a:chExt cx="204840" cy="193680"/>
            </a:xfrm>
          </p:grpSpPr>
          <p:sp>
            <p:nvSpPr>
              <p:cNvPr id="192" name=""/>
              <p:cNvSpPr/>
              <p:nvPr/>
            </p:nvSpPr>
            <p:spPr>
              <a:xfrm>
                <a:off x="2955960" y="184644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2940120" y="182232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 txBox="1"/>
            <p:nvPr/>
          </p:nvSpPr>
          <p:spPr>
            <a:xfrm>
              <a:off x="3124080" y="1768320"/>
              <a:ext cx="12319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20.00 - 20.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59120" y="2103480"/>
              <a:ext cx="1278000" cy="2714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970360" y="2136600"/>
              <a:ext cx="199800" cy="2001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259080" y="2103480"/>
              <a:ext cx="0" cy="2714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3213000" y="2095560"/>
              <a:ext cx="530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730680" y="2111400"/>
              <a:ext cx="0" cy="2602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3683160" y="208908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33720" y="2111400"/>
              <a:ext cx="0" cy="2602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 txBox="1"/>
            <p:nvPr/>
          </p:nvSpPr>
          <p:spPr>
            <a:xfrm>
              <a:off x="3886200" y="209556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413160" y="2381400"/>
              <a:ext cx="146520" cy="152640"/>
            </a:xfrm>
            <a:custGeom>
              <a:avLst/>
              <a:gdLst/>
              <a:ahLst/>
              <a:rect l="0" t="0" r="r" b="b"/>
              <a:pathLst>
                <a:path fill="none" w="407" h="424">
                  <a:moveTo>
                    <a:pt x="407" y="0"/>
                  </a:moveTo>
                  <a:lnTo>
                    <a:pt x="0" y="0"/>
                  </a:lnTo>
                  <a:lnTo>
                    <a:pt x="203" y="424"/>
                  </a:lnTo>
                  <a:lnTo>
                    <a:pt x="407" y="0"/>
                  </a:ln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497400" y="2516040"/>
              <a:ext cx="0" cy="196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05320" y="2716200"/>
              <a:ext cx="171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76680" y="2581200"/>
              <a:ext cx="260280" cy="2602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3641760" y="255888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49320" y="2549520"/>
              <a:ext cx="63360" cy="63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787400" y="892080"/>
              <a:ext cx="895320" cy="1778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73360" y="892080"/>
              <a:ext cx="2667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2898720" y="723960"/>
              <a:ext cx="13510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M42 X 1.5 - 6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965320" y="982800"/>
              <a:ext cx="1625760" cy="2998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2998800" y="985680"/>
              <a:ext cx="279360" cy="292320"/>
              <a:chOff x="2998800" y="985680"/>
              <a:chExt cx="279360" cy="292320"/>
            </a:xfrm>
          </p:grpSpPr>
          <p:sp>
            <p:nvSpPr>
              <p:cNvPr id="214" name=""/>
              <p:cNvSpPr/>
              <p:nvPr/>
            </p:nvSpPr>
            <p:spPr>
              <a:xfrm>
                <a:off x="3049560" y="1036800"/>
                <a:ext cx="177840" cy="17784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138480" y="985680"/>
                <a:ext cx="0" cy="29232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998800" y="1125360"/>
                <a:ext cx="279360" cy="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3321000" y="98100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3355920" y="1035000"/>
              <a:ext cx="204840" cy="193680"/>
              <a:chOff x="3355920" y="1035000"/>
              <a:chExt cx="204840" cy="193680"/>
            </a:xfrm>
          </p:grpSpPr>
          <p:sp>
            <p:nvSpPr>
              <p:cNvPr id="219" name=""/>
              <p:cNvSpPr/>
              <p:nvPr/>
            </p:nvSpPr>
            <p:spPr>
              <a:xfrm>
                <a:off x="3371760" y="105876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3355920" y="103500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 txBox="1"/>
            <p:nvPr/>
          </p:nvSpPr>
          <p:spPr>
            <a:xfrm>
              <a:off x="3540240" y="996840"/>
              <a:ext cx="1093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1 M  B  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351320" y="1046160"/>
              <a:ext cx="210960" cy="1922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8800" y="1035000"/>
              <a:ext cx="210960" cy="1904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133880" y="98100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216080" y="565200"/>
              <a:ext cx="0" cy="16858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501920" y="1289160"/>
              <a:ext cx="0" cy="13618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006560" y="870120"/>
              <a:ext cx="0" cy="1647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596880" y="879480"/>
              <a:ext cx="0" cy="581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16080" y="555480"/>
              <a:ext cx="1019160" cy="21924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1273320" y="593640"/>
              <a:ext cx="104760" cy="142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1359000" y="593640"/>
              <a:ext cx="104760" cy="142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549440" y="555480"/>
              <a:ext cx="0" cy="2192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1504800" y="520560"/>
              <a:ext cx="7477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06 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06640" y="555480"/>
              <a:ext cx="0" cy="2192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01920" y="1384200"/>
              <a:ext cx="333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1035000" y="1384200"/>
              <a:ext cx="1810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06560" y="974880"/>
              <a:ext cx="1807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349200" y="974880"/>
              <a:ext cx="24768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1800360" y="1158840"/>
              <a:ext cx="4316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6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 txBox="1"/>
            <p:nvPr/>
          </p:nvSpPr>
          <p:spPr>
            <a:xfrm>
              <a:off x="581040" y="711360"/>
              <a:ext cx="43164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9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101520" y="2556000"/>
              <a:ext cx="438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92160" y="4356000"/>
              <a:ext cx="438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7200" y="2556000"/>
              <a:ext cx="0" cy="3618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6920" y="3384720"/>
              <a:ext cx="0" cy="9712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 txBox="1"/>
            <p:nvPr/>
          </p:nvSpPr>
          <p:spPr>
            <a:xfrm>
              <a:off x="0" y="2892600"/>
              <a:ext cx="62856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44.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44.4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87200" y="136440"/>
              <a:ext cx="0" cy="2400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7200" y="127080"/>
              <a:ext cx="1380960" cy="2476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0760" y="165240"/>
              <a:ext cx="0" cy="1616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5080" y="326880"/>
              <a:ext cx="1807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2760" y="127080"/>
              <a:ext cx="0" cy="247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" name=""/>
            <p:cNvGrpSpPr/>
            <p:nvPr/>
          </p:nvGrpSpPr>
          <p:grpSpPr>
            <a:xfrm>
              <a:off x="501480" y="146160"/>
              <a:ext cx="204840" cy="193680"/>
              <a:chOff x="501480" y="146160"/>
              <a:chExt cx="204840" cy="193680"/>
            </a:xfrm>
          </p:grpSpPr>
          <p:sp>
            <p:nvSpPr>
              <p:cNvPr id="252" name=""/>
              <p:cNvSpPr/>
              <p:nvPr/>
            </p:nvSpPr>
            <p:spPr>
              <a:xfrm>
                <a:off x="517680" y="16992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501480" y="14616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 txBox="1"/>
            <p:nvPr/>
          </p:nvSpPr>
          <p:spPr>
            <a:xfrm>
              <a:off x="657360" y="101520"/>
              <a:ext cx="944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08 M  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11320" y="146160"/>
              <a:ext cx="200160" cy="20016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368360" y="127080"/>
              <a:ext cx="0" cy="247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68400" y="374760"/>
              <a:ext cx="133560" cy="152640"/>
            </a:xfrm>
            <a:custGeom>
              <a:avLst/>
              <a:gdLst/>
              <a:ahLst/>
              <a:rect l="0" t="0" r="r" b="b"/>
              <a:pathLst>
                <a:path fill="none" w="371" h="424">
                  <a:moveTo>
                    <a:pt x="371" y="0"/>
                  </a:moveTo>
                  <a:lnTo>
                    <a:pt x="0" y="0"/>
                  </a:lnTo>
                  <a:lnTo>
                    <a:pt x="186" y="424"/>
                  </a:lnTo>
                  <a:lnTo>
                    <a:pt x="371" y="0"/>
                  </a:ln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035000" y="527040"/>
              <a:ext cx="0" cy="114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596880" y="641520"/>
              <a:ext cx="43812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00" y="507960"/>
              <a:ext cx="247680" cy="2476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314280" y="492120"/>
              <a:ext cx="3128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880" y="5899320"/>
              <a:ext cx="152640" cy="133560"/>
            </a:xfrm>
            <a:custGeom>
              <a:avLst/>
              <a:gdLst/>
              <a:ahLst/>
              <a:rect l="0" t="0" r="r" b="b"/>
              <a:pathLst>
                <a:path fill="none" w="424" h="371">
                  <a:moveTo>
                    <a:pt x="424" y="371"/>
                  </a:moveTo>
                  <a:lnTo>
                    <a:pt x="424" y="0"/>
                  </a:lnTo>
                  <a:lnTo>
                    <a:pt x="0" y="186"/>
                  </a:lnTo>
                  <a:lnTo>
                    <a:pt x="424" y="371"/>
                  </a:ln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320760" y="5965920"/>
              <a:ext cx="12384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360" y="5842080"/>
              <a:ext cx="247680" cy="24768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47520" y="581652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7520" y="6566040"/>
              <a:ext cx="1000080" cy="22860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25320" y="6613560"/>
              <a:ext cx="324360" cy="124200"/>
            </a:xfrm>
            <a:custGeom>
              <a:avLst/>
              <a:gdLst/>
              <a:ahLst/>
              <a:rect l="0" t="0" r="r" b="b"/>
              <a:pathLst>
                <a:path fill="none" w="901" h="345">
                  <a:moveTo>
                    <a:pt x="0" y="345"/>
                  </a:moveTo>
                  <a:lnTo>
                    <a:pt x="630" y="345"/>
                  </a:lnTo>
                  <a:lnTo>
                    <a:pt x="901" y="0"/>
                  </a:lnTo>
                  <a:lnTo>
                    <a:pt x="270" y="0"/>
                  </a:lnTo>
                  <a:lnTo>
                    <a:pt x="0" y="345"/>
                  </a:lnTo>
                </a:path>
              </a:pathLst>
            </a:custGeom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025640" y="6566040"/>
              <a:ext cx="0" cy="2286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1019160" y="6540480"/>
              <a:ext cx="5302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251080" y="2816280"/>
              <a:ext cx="0" cy="12636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00120" y="1514520"/>
              <a:ext cx="139680" cy="139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777960" y="1527120"/>
              <a:ext cx="114120" cy="114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600120" y="1933560"/>
              <a:ext cx="114120" cy="114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600120" y="1971720"/>
              <a:ext cx="266760" cy="2667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0120" y="2136600"/>
              <a:ext cx="279360" cy="279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76440" y="2276640"/>
              <a:ext cx="279360" cy="279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853920" y="2276640"/>
              <a:ext cx="279720" cy="279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993600" y="2390760"/>
              <a:ext cx="216000" cy="216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1006560" y="2568600"/>
              <a:ext cx="203040" cy="203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1006560" y="2708280"/>
              <a:ext cx="228600" cy="2286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1158840" y="2746440"/>
              <a:ext cx="216000" cy="216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1336680" y="2682720"/>
              <a:ext cx="279360" cy="279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1514520" y="2682720"/>
              <a:ext cx="279360" cy="279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1679400" y="2682720"/>
              <a:ext cx="279720" cy="279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1857240" y="2784600"/>
              <a:ext cx="177840" cy="177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2035080" y="2822400"/>
              <a:ext cx="139680" cy="140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2212920" y="2936880"/>
              <a:ext cx="25560" cy="255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00120" y="4359240"/>
              <a:ext cx="114120" cy="1144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00120" y="4359240"/>
              <a:ext cx="304920" cy="304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006560" y="3940200"/>
              <a:ext cx="304560" cy="3049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006560" y="3940200"/>
              <a:ext cx="114120" cy="1141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577800" y="1235160"/>
              <a:ext cx="7772400" cy="185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6600" spc="-1" strike="noStrike">
                  <a:solidFill>
                    <a:srgbClr val="fc0707"/>
                  </a:solidFill>
                  <a:latin typeface="Times New Roman"/>
                  <a:ea typeface="Times New Roman"/>
                </a:rPr>
                <a:t>GEOMETRIC TOLERANCING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12720" y="4232160"/>
              <a:ext cx="609480" cy="6098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1298520" y="3940200"/>
              <a:ext cx="203400" cy="2030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663480" y="4765680"/>
              <a:ext cx="216000" cy="216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1019160" y="4422600"/>
              <a:ext cx="203040" cy="2034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1501920" y="3940200"/>
              <a:ext cx="215640" cy="21600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828720" y="4930920"/>
              <a:ext cx="50760" cy="507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1616040" y="3940200"/>
              <a:ext cx="279360" cy="2793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1806480" y="3940200"/>
              <a:ext cx="292320" cy="2919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136600" y="3990960"/>
              <a:ext cx="101880" cy="1015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638280" y="5261040"/>
              <a:ext cx="126720" cy="1270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816120" y="5324400"/>
              <a:ext cx="63360" cy="637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59080" y="4084560"/>
              <a:ext cx="0" cy="787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59080" y="4870440"/>
              <a:ext cx="117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3422520" y="4789440"/>
              <a:ext cx="204840" cy="193680"/>
              <a:chOff x="3422520" y="4789440"/>
              <a:chExt cx="204840" cy="193680"/>
            </a:xfrm>
          </p:grpSpPr>
          <p:sp>
            <p:nvSpPr>
              <p:cNvPr id="307" name=""/>
              <p:cNvSpPr/>
              <p:nvPr/>
            </p:nvSpPr>
            <p:spPr>
              <a:xfrm>
                <a:off x="3438360" y="4813200"/>
                <a:ext cx="165240" cy="155520"/>
              </a:xfrm>
              <a:prstGeom prst="ellipse">
                <a:avLst/>
              </a:prstGeom>
              <a:noFill/>
              <a:ln w="12600">
                <a:solidFill>
                  <a:srgbClr val="114ffb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3422520" y="4789440"/>
                <a:ext cx="204840" cy="193680"/>
              </a:xfrm>
              <a:prstGeom prst="line">
                <a:avLst/>
              </a:prstGeom>
              <a:ln w="12600">
                <a:solidFill>
                  <a:srgbClr val="114ff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 txBox="1"/>
            <p:nvPr/>
          </p:nvSpPr>
          <p:spPr>
            <a:xfrm>
              <a:off x="3603600" y="4630680"/>
              <a:ext cx="53028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31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31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00400" y="5129280"/>
              <a:ext cx="939960" cy="291960"/>
            </a:xfrm>
            <a:prstGeom prst="rect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3276720" y="5167440"/>
              <a:ext cx="215640" cy="2156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543480" y="5129280"/>
              <a:ext cx="0" cy="2919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 txBox="1"/>
            <p:nvPr/>
          </p:nvSpPr>
          <p:spPr>
            <a:xfrm>
              <a:off x="3514680" y="5138640"/>
              <a:ext cx="431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0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 txBox="1"/>
            <p:nvPr/>
          </p:nvSpPr>
          <p:spPr>
            <a:xfrm>
              <a:off x="3895560" y="5126040"/>
              <a:ext cx="30312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114ffb"/>
                  </a:solidFill>
                  <a:latin typeface="Arial"/>
                  <a:ea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98800" y="5129280"/>
              <a:ext cx="0" cy="2919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57440" y="6496200"/>
              <a:ext cx="19447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247840" y="4168800"/>
              <a:ext cx="0" cy="223524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 txBox="1"/>
            <p:nvPr/>
          </p:nvSpPr>
          <p:spPr>
            <a:xfrm>
              <a:off x="1314360" y="4842000"/>
              <a:ext cx="6400800" cy="135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479"/>
                </a:spcBef>
              </a:pPr>
              <a:r>
                <a:rPr b="1" lang="en-US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ECHANICAL ENGINEERING 17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 flipH="1">
            <a:off x="2511360" y="1096920"/>
            <a:ext cx="35197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511360" y="2371680"/>
            <a:ext cx="35197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511360" y="4361040"/>
            <a:ext cx="3519720" cy="503640"/>
          </a:xfrm>
          <a:custGeom>
            <a:avLst/>
            <a:gdLst/>
            <a:ahLst/>
            <a:rect l="0" t="0" r="r" b="b"/>
            <a:pathLst>
              <a:path fill="none" w="9777" h="1399">
                <a:moveTo>
                  <a:pt x="0" y="1399"/>
                </a:moveTo>
                <a:lnTo>
                  <a:pt x="0" y="0"/>
                </a:lnTo>
                <a:lnTo>
                  <a:pt x="9777" y="0"/>
                </a:lnTo>
                <a:lnTo>
                  <a:pt x="9777" y="1399"/>
                </a:lnTo>
                <a:lnTo>
                  <a:pt x="0" y="1399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2511360" y="3608280"/>
            <a:ext cx="0" cy="6796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5370480" y="3608280"/>
            <a:ext cx="0" cy="9637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722680" y="3816360"/>
            <a:ext cx="9093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4132440" y="3816360"/>
            <a:ext cx="10299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511360" y="3784680"/>
            <a:ext cx="211320" cy="68760"/>
          </a:xfrm>
          <a:custGeom>
            <a:avLst/>
            <a:gdLst/>
            <a:ahLst/>
            <a:rect l="0" t="0" r="r" b="b"/>
            <a:pathLst>
              <a:path w="587" h="191">
                <a:moveTo>
                  <a:pt x="587" y="0"/>
                </a:moveTo>
                <a:lnTo>
                  <a:pt x="587" y="191"/>
                </a:lnTo>
                <a:lnTo>
                  <a:pt x="0" y="90"/>
                </a:lnTo>
                <a:lnTo>
                  <a:pt x="587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5162400" y="3784680"/>
            <a:ext cx="208440" cy="68760"/>
          </a:xfrm>
          <a:custGeom>
            <a:avLst/>
            <a:gdLst/>
            <a:ahLst/>
            <a:rect l="0" t="0" r="r" b="b"/>
            <a:pathLst>
              <a:path w="579" h="191">
                <a:moveTo>
                  <a:pt x="0" y="0"/>
                </a:moveTo>
                <a:lnTo>
                  <a:pt x="0" y="191"/>
                </a:lnTo>
                <a:lnTo>
                  <a:pt x="579" y="90"/>
                </a:lnTo>
                <a:lnTo>
                  <a:pt x="0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7640" bIns="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632040" y="3641760"/>
            <a:ext cx="500400" cy="354240"/>
          </a:xfrm>
          <a:custGeom>
            <a:avLst/>
            <a:gdLst/>
            <a:ahLst/>
            <a:rect l="0" t="0" r="r" b="b"/>
            <a:pathLst>
              <a:path fill="none" w="1390" h="984">
                <a:moveTo>
                  <a:pt x="0" y="984"/>
                </a:moveTo>
                <a:lnTo>
                  <a:pt x="1390" y="984"/>
                </a:lnTo>
                <a:lnTo>
                  <a:pt x="1390" y="0"/>
                </a:lnTo>
                <a:lnTo>
                  <a:pt x="0" y="0"/>
                </a:lnTo>
                <a:lnTo>
                  <a:pt x="0" y="984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3870360" y="4361040"/>
            <a:ext cx="0" cy="1062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870360" y="4540320"/>
            <a:ext cx="0" cy="1461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870360" y="4759200"/>
            <a:ext cx="0" cy="104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317760" y="4361040"/>
            <a:ext cx="0" cy="1062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3317760" y="4540320"/>
            <a:ext cx="0" cy="1461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317760" y="4759200"/>
            <a:ext cx="0" cy="104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595680" y="4060800"/>
            <a:ext cx="0" cy="460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595680" y="4591080"/>
            <a:ext cx="0" cy="730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1960" bIns="21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3595680" y="4737240"/>
            <a:ext cx="0" cy="4600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11360" y="1096920"/>
            <a:ext cx="0" cy="1274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3595680" y="1728720"/>
            <a:ext cx="0" cy="1494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3317760" y="1531800"/>
            <a:ext cx="552960" cy="547920"/>
          </a:xfrm>
          <a:custGeom>
            <a:avLst/>
            <a:gdLst/>
            <a:ahLst/>
            <a:rect l="0" t="0" r="r" b="b"/>
            <a:pathLst>
              <a:path fill="none" w="1536" h="1522">
                <a:moveTo>
                  <a:pt x="1536" y="760"/>
                </a:moveTo>
                <a:lnTo>
                  <a:pt x="1536" y="720"/>
                </a:lnTo>
                <a:lnTo>
                  <a:pt x="1536" y="679"/>
                </a:lnTo>
                <a:lnTo>
                  <a:pt x="1526" y="638"/>
                </a:lnTo>
                <a:lnTo>
                  <a:pt x="1516" y="608"/>
                </a:lnTo>
                <a:lnTo>
                  <a:pt x="1506" y="567"/>
                </a:lnTo>
                <a:lnTo>
                  <a:pt x="1495" y="527"/>
                </a:lnTo>
                <a:lnTo>
                  <a:pt x="1485" y="496"/>
                </a:lnTo>
                <a:lnTo>
                  <a:pt x="1475" y="456"/>
                </a:lnTo>
                <a:lnTo>
                  <a:pt x="1455" y="425"/>
                </a:lnTo>
                <a:lnTo>
                  <a:pt x="1434" y="385"/>
                </a:lnTo>
                <a:lnTo>
                  <a:pt x="1414" y="354"/>
                </a:lnTo>
                <a:lnTo>
                  <a:pt x="1394" y="324"/>
                </a:lnTo>
                <a:lnTo>
                  <a:pt x="1373" y="294"/>
                </a:lnTo>
                <a:lnTo>
                  <a:pt x="1353" y="263"/>
                </a:lnTo>
                <a:lnTo>
                  <a:pt x="1323" y="233"/>
                </a:lnTo>
                <a:lnTo>
                  <a:pt x="1292" y="202"/>
                </a:lnTo>
                <a:lnTo>
                  <a:pt x="1272" y="182"/>
                </a:lnTo>
                <a:lnTo>
                  <a:pt x="1241" y="152"/>
                </a:lnTo>
                <a:lnTo>
                  <a:pt x="1211" y="131"/>
                </a:lnTo>
                <a:lnTo>
                  <a:pt x="1170" y="111"/>
                </a:lnTo>
                <a:lnTo>
                  <a:pt x="1139" y="91"/>
                </a:lnTo>
                <a:lnTo>
                  <a:pt x="1108" y="70"/>
                </a:lnTo>
                <a:lnTo>
                  <a:pt x="1068" y="60"/>
                </a:lnTo>
                <a:lnTo>
                  <a:pt x="1037" y="40"/>
                </a:lnTo>
                <a:lnTo>
                  <a:pt x="996" y="30"/>
                </a:lnTo>
                <a:lnTo>
                  <a:pt x="956" y="20"/>
                </a:lnTo>
                <a:lnTo>
                  <a:pt x="925" y="10"/>
                </a:lnTo>
                <a:lnTo>
                  <a:pt x="885" y="0"/>
                </a:lnTo>
                <a:lnTo>
                  <a:pt x="844" y="0"/>
                </a:lnTo>
                <a:lnTo>
                  <a:pt x="803" y="0"/>
                </a:lnTo>
                <a:lnTo>
                  <a:pt x="773" y="0"/>
                </a:lnTo>
                <a:lnTo>
                  <a:pt x="732" y="0"/>
                </a:lnTo>
                <a:lnTo>
                  <a:pt x="692" y="0"/>
                </a:lnTo>
                <a:lnTo>
                  <a:pt x="651" y="0"/>
                </a:lnTo>
                <a:lnTo>
                  <a:pt x="610" y="10"/>
                </a:lnTo>
                <a:lnTo>
                  <a:pt x="580" y="20"/>
                </a:lnTo>
                <a:lnTo>
                  <a:pt x="539" y="30"/>
                </a:lnTo>
                <a:lnTo>
                  <a:pt x="498" y="40"/>
                </a:lnTo>
                <a:lnTo>
                  <a:pt x="468" y="60"/>
                </a:lnTo>
                <a:lnTo>
                  <a:pt x="427" y="70"/>
                </a:lnTo>
                <a:lnTo>
                  <a:pt x="397" y="91"/>
                </a:lnTo>
                <a:lnTo>
                  <a:pt x="365" y="111"/>
                </a:lnTo>
                <a:lnTo>
                  <a:pt x="325" y="131"/>
                </a:lnTo>
                <a:lnTo>
                  <a:pt x="294" y="152"/>
                </a:lnTo>
                <a:lnTo>
                  <a:pt x="264" y="182"/>
                </a:lnTo>
                <a:lnTo>
                  <a:pt x="243" y="202"/>
                </a:lnTo>
                <a:lnTo>
                  <a:pt x="213" y="233"/>
                </a:lnTo>
                <a:lnTo>
                  <a:pt x="182" y="263"/>
                </a:lnTo>
                <a:lnTo>
                  <a:pt x="162" y="294"/>
                </a:lnTo>
                <a:lnTo>
                  <a:pt x="142" y="324"/>
                </a:lnTo>
                <a:lnTo>
                  <a:pt x="121" y="354"/>
                </a:lnTo>
                <a:lnTo>
                  <a:pt x="101" y="385"/>
                </a:lnTo>
                <a:lnTo>
                  <a:pt x="81" y="425"/>
                </a:lnTo>
                <a:lnTo>
                  <a:pt x="60" y="456"/>
                </a:lnTo>
                <a:lnTo>
                  <a:pt x="50" y="496"/>
                </a:lnTo>
                <a:lnTo>
                  <a:pt x="40" y="527"/>
                </a:lnTo>
                <a:lnTo>
                  <a:pt x="20" y="567"/>
                </a:lnTo>
                <a:lnTo>
                  <a:pt x="20" y="608"/>
                </a:lnTo>
                <a:lnTo>
                  <a:pt x="10" y="638"/>
                </a:lnTo>
                <a:lnTo>
                  <a:pt x="10" y="679"/>
                </a:lnTo>
                <a:lnTo>
                  <a:pt x="0" y="720"/>
                </a:lnTo>
                <a:lnTo>
                  <a:pt x="0" y="760"/>
                </a:lnTo>
                <a:lnTo>
                  <a:pt x="0" y="802"/>
                </a:lnTo>
                <a:lnTo>
                  <a:pt x="10" y="842"/>
                </a:lnTo>
                <a:lnTo>
                  <a:pt x="10" y="873"/>
                </a:lnTo>
                <a:lnTo>
                  <a:pt x="20" y="913"/>
                </a:lnTo>
                <a:lnTo>
                  <a:pt x="20" y="954"/>
                </a:lnTo>
                <a:lnTo>
                  <a:pt x="40" y="994"/>
                </a:lnTo>
                <a:lnTo>
                  <a:pt x="50" y="1025"/>
                </a:lnTo>
                <a:lnTo>
                  <a:pt x="60" y="1065"/>
                </a:lnTo>
                <a:lnTo>
                  <a:pt x="81" y="1096"/>
                </a:lnTo>
                <a:lnTo>
                  <a:pt x="101" y="1126"/>
                </a:lnTo>
                <a:lnTo>
                  <a:pt x="121" y="1167"/>
                </a:lnTo>
                <a:lnTo>
                  <a:pt x="142" y="1197"/>
                </a:lnTo>
                <a:lnTo>
                  <a:pt x="162" y="1228"/>
                </a:lnTo>
                <a:lnTo>
                  <a:pt x="182" y="1258"/>
                </a:lnTo>
                <a:lnTo>
                  <a:pt x="213" y="1289"/>
                </a:lnTo>
                <a:lnTo>
                  <a:pt x="243" y="1319"/>
                </a:lnTo>
                <a:lnTo>
                  <a:pt x="264" y="1339"/>
                </a:lnTo>
                <a:lnTo>
                  <a:pt x="294" y="1370"/>
                </a:lnTo>
                <a:lnTo>
                  <a:pt x="325" y="1390"/>
                </a:lnTo>
                <a:lnTo>
                  <a:pt x="365" y="1410"/>
                </a:lnTo>
                <a:lnTo>
                  <a:pt x="397" y="1431"/>
                </a:lnTo>
                <a:lnTo>
                  <a:pt x="427" y="1451"/>
                </a:lnTo>
                <a:lnTo>
                  <a:pt x="468" y="1461"/>
                </a:lnTo>
                <a:lnTo>
                  <a:pt x="498" y="1481"/>
                </a:lnTo>
                <a:lnTo>
                  <a:pt x="539" y="1491"/>
                </a:lnTo>
                <a:lnTo>
                  <a:pt x="580" y="1502"/>
                </a:lnTo>
                <a:lnTo>
                  <a:pt x="610" y="1512"/>
                </a:lnTo>
                <a:lnTo>
                  <a:pt x="651" y="1512"/>
                </a:lnTo>
                <a:lnTo>
                  <a:pt x="692" y="1522"/>
                </a:lnTo>
                <a:lnTo>
                  <a:pt x="732" y="1522"/>
                </a:lnTo>
                <a:lnTo>
                  <a:pt x="773" y="1522"/>
                </a:lnTo>
                <a:lnTo>
                  <a:pt x="803" y="1522"/>
                </a:lnTo>
                <a:lnTo>
                  <a:pt x="844" y="1522"/>
                </a:lnTo>
                <a:lnTo>
                  <a:pt x="885" y="1512"/>
                </a:lnTo>
                <a:lnTo>
                  <a:pt x="925" y="1512"/>
                </a:lnTo>
                <a:lnTo>
                  <a:pt x="956" y="1502"/>
                </a:lnTo>
                <a:lnTo>
                  <a:pt x="996" y="1491"/>
                </a:lnTo>
                <a:lnTo>
                  <a:pt x="1037" y="1481"/>
                </a:lnTo>
                <a:lnTo>
                  <a:pt x="1068" y="1461"/>
                </a:lnTo>
                <a:lnTo>
                  <a:pt x="1108" y="1451"/>
                </a:lnTo>
                <a:lnTo>
                  <a:pt x="1139" y="1431"/>
                </a:lnTo>
                <a:lnTo>
                  <a:pt x="1170" y="1410"/>
                </a:lnTo>
                <a:lnTo>
                  <a:pt x="1211" y="1390"/>
                </a:lnTo>
                <a:lnTo>
                  <a:pt x="1241" y="1370"/>
                </a:lnTo>
                <a:lnTo>
                  <a:pt x="1272" y="1339"/>
                </a:lnTo>
                <a:lnTo>
                  <a:pt x="1292" y="1319"/>
                </a:lnTo>
                <a:lnTo>
                  <a:pt x="1323" y="1289"/>
                </a:lnTo>
                <a:lnTo>
                  <a:pt x="1353" y="1258"/>
                </a:lnTo>
                <a:lnTo>
                  <a:pt x="1373" y="1228"/>
                </a:lnTo>
                <a:lnTo>
                  <a:pt x="1394" y="1197"/>
                </a:lnTo>
                <a:lnTo>
                  <a:pt x="1414" y="1167"/>
                </a:lnTo>
                <a:lnTo>
                  <a:pt x="1434" y="1126"/>
                </a:lnTo>
                <a:lnTo>
                  <a:pt x="1455" y="1096"/>
                </a:lnTo>
                <a:lnTo>
                  <a:pt x="1475" y="1065"/>
                </a:lnTo>
                <a:lnTo>
                  <a:pt x="1485" y="1025"/>
                </a:lnTo>
                <a:lnTo>
                  <a:pt x="1495" y="994"/>
                </a:lnTo>
                <a:lnTo>
                  <a:pt x="1506" y="954"/>
                </a:lnTo>
                <a:lnTo>
                  <a:pt x="1516" y="913"/>
                </a:lnTo>
                <a:lnTo>
                  <a:pt x="1526" y="873"/>
                </a:lnTo>
                <a:lnTo>
                  <a:pt x="1536" y="842"/>
                </a:lnTo>
                <a:lnTo>
                  <a:pt x="1536" y="802"/>
                </a:lnTo>
                <a:lnTo>
                  <a:pt x="1536" y="76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595680" y="1954080"/>
            <a:ext cx="0" cy="2016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3244680" y="1805040"/>
            <a:ext cx="1969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V="1">
            <a:off x="3595680" y="1454040"/>
            <a:ext cx="0" cy="2016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745080" y="1805040"/>
            <a:ext cx="1983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519360" y="1805040"/>
            <a:ext cx="1494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5067360" y="4721400"/>
            <a:ext cx="279360" cy="6616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 flipH="1">
            <a:off x="5224320" y="4498920"/>
            <a:ext cx="292320" cy="2923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224320" y="4498920"/>
            <a:ext cx="292320" cy="2923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103800" y="4361040"/>
            <a:ext cx="5223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443560" y="4645080"/>
            <a:ext cx="11826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418440" y="4853160"/>
            <a:ext cx="0" cy="2124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418440" y="4046400"/>
            <a:ext cx="208440" cy="106560"/>
          </a:xfrm>
          <a:custGeom>
            <a:avLst/>
            <a:gdLst/>
            <a:ahLst/>
            <a:rect l="0" t="0" r="r" b="b"/>
            <a:pathLst>
              <a:path fill="none" w="579" h="296">
                <a:moveTo>
                  <a:pt x="0" y="296"/>
                </a:moveTo>
                <a:lnTo>
                  <a:pt x="0" y="0"/>
                </a:lnTo>
                <a:lnTo>
                  <a:pt x="579" y="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6381720" y="4645080"/>
            <a:ext cx="70200" cy="208440"/>
          </a:xfrm>
          <a:custGeom>
            <a:avLst/>
            <a:gdLst/>
            <a:ahLst/>
            <a:rect l="0" t="0" r="r" b="b"/>
            <a:pathLst>
              <a:path w="195" h="579">
                <a:moveTo>
                  <a:pt x="0" y="579"/>
                </a:moveTo>
                <a:lnTo>
                  <a:pt x="195" y="579"/>
                </a:lnTo>
                <a:lnTo>
                  <a:pt x="103" y="0"/>
                </a:lnTo>
                <a:lnTo>
                  <a:pt x="0" y="579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6381720" y="4152960"/>
            <a:ext cx="70200" cy="208440"/>
          </a:xfrm>
          <a:custGeom>
            <a:avLst/>
            <a:gdLst/>
            <a:ahLst/>
            <a:rect l="0" t="0" r="r" b="b"/>
            <a:pathLst>
              <a:path w="195" h="579">
                <a:moveTo>
                  <a:pt x="0" y="0"/>
                </a:moveTo>
                <a:lnTo>
                  <a:pt x="195" y="0"/>
                </a:lnTo>
                <a:lnTo>
                  <a:pt x="103" y="579"/>
                </a:lnTo>
                <a:lnTo>
                  <a:pt x="0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626160" y="3867120"/>
            <a:ext cx="475200" cy="359280"/>
          </a:xfrm>
          <a:custGeom>
            <a:avLst/>
            <a:gdLst/>
            <a:ahLst/>
            <a:rect l="0" t="0" r="r" b="b"/>
            <a:pathLst>
              <a:path fill="none" w="1320" h="998">
                <a:moveTo>
                  <a:pt x="0" y="998"/>
                </a:moveTo>
                <a:lnTo>
                  <a:pt x="1320" y="998"/>
                </a:lnTo>
                <a:lnTo>
                  <a:pt x="1320" y="0"/>
                </a:lnTo>
                <a:lnTo>
                  <a:pt x="0" y="0"/>
                </a:lnTo>
                <a:lnTo>
                  <a:pt x="0" y="998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4711680" y="5361120"/>
            <a:ext cx="533880" cy="511560"/>
          </a:xfrm>
          <a:custGeom>
            <a:avLst/>
            <a:gdLst/>
            <a:ahLst/>
            <a:rect l="0" t="0" r="r" b="b"/>
            <a:pathLst>
              <a:path fill="none" w="1483" h="1421">
                <a:moveTo>
                  <a:pt x="1483" y="710"/>
                </a:moveTo>
                <a:lnTo>
                  <a:pt x="1483" y="670"/>
                </a:lnTo>
                <a:lnTo>
                  <a:pt x="1473" y="639"/>
                </a:lnTo>
                <a:lnTo>
                  <a:pt x="1473" y="599"/>
                </a:lnTo>
                <a:lnTo>
                  <a:pt x="1462" y="558"/>
                </a:lnTo>
                <a:lnTo>
                  <a:pt x="1451" y="528"/>
                </a:lnTo>
                <a:lnTo>
                  <a:pt x="1441" y="487"/>
                </a:lnTo>
                <a:lnTo>
                  <a:pt x="1430" y="447"/>
                </a:lnTo>
                <a:lnTo>
                  <a:pt x="1409" y="416"/>
                </a:lnTo>
                <a:lnTo>
                  <a:pt x="1399" y="386"/>
                </a:lnTo>
                <a:lnTo>
                  <a:pt x="1377" y="344"/>
                </a:lnTo>
                <a:lnTo>
                  <a:pt x="1356" y="314"/>
                </a:lnTo>
                <a:lnTo>
                  <a:pt x="1335" y="283"/>
                </a:lnTo>
                <a:lnTo>
                  <a:pt x="1303" y="253"/>
                </a:lnTo>
                <a:lnTo>
                  <a:pt x="1282" y="223"/>
                </a:lnTo>
                <a:lnTo>
                  <a:pt x="1250" y="202"/>
                </a:lnTo>
                <a:lnTo>
                  <a:pt x="1219" y="172"/>
                </a:lnTo>
                <a:lnTo>
                  <a:pt x="1187" y="152"/>
                </a:lnTo>
                <a:lnTo>
                  <a:pt x="1155" y="131"/>
                </a:lnTo>
                <a:lnTo>
                  <a:pt x="1123" y="101"/>
                </a:lnTo>
                <a:lnTo>
                  <a:pt x="1091" y="91"/>
                </a:lnTo>
                <a:lnTo>
                  <a:pt x="1048" y="70"/>
                </a:lnTo>
                <a:lnTo>
                  <a:pt x="1016" y="50"/>
                </a:lnTo>
                <a:lnTo>
                  <a:pt x="974" y="40"/>
                </a:lnTo>
                <a:lnTo>
                  <a:pt x="942" y="30"/>
                </a:lnTo>
                <a:lnTo>
                  <a:pt x="900" y="20"/>
                </a:lnTo>
                <a:lnTo>
                  <a:pt x="858" y="10"/>
                </a:lnTo>
                <a:lnTo>
                  <a:pt x="826" y="10"/>
                </a:lnTo>
                <a:lnTo>
                  <a:pt x="784" y="10"/>
                </a:lnTo>
                <a:lnTo>
                  <a:pt x="741" y="0"/>
                </a:lnTo>
                <a:lnTo>
                  <a:pt x="699" y="10"/>
                </a:lnTo>
                <a:lnTo>
                  <a:pt x="667" y="10"/>
                </a:lnTo>
                <a:lnTo>
                  <a:pt x="625" y="10"/>
                </a:lnTo>
                <a:lnTo>
                  <a:pt x="583" y="20"/>
                </a:lnTo>
                <a:lnTo>
                  <a:pt x="540" y="30"/>
                </a:lnTo>
                <a:lnTo>
                  <a:pt x="508" y="40"/>
                </a:lnTo>
                <a:lnTo>
                  <a:pt x="466" y="50"/>
                </a:lnTo>
                <a:lnTo>
                  <a:pt x="434" y="70"/>
                </a:lnTo>
                <a:lnTo>
                  <a:pt x="392" y="91"/>
                </a:lnTo>
                <a:lnTo>
                  <a:pt x="359" y="101"/>
                </a:lnTo>
                <a:lnTo>
                  <a:pt x="328" y="131"/>
                </a:lnTo>
                <a:lnTo>
                  <a:pt x="296" y="152"/>
                </a:lnTo>
                <a:lnTo>
                  <a:pt x="264" y="172"/>
                </a:lnTo>
                <a:lnTo>
                  <a:pt x="232" y="202"/>
                </a:lnTo>
                <a:lnTo>
                  <a:pt x="201" y="223"/>
                </a:lnTo>
                <a:lnTo>
                  <a:pt x="179" y="253"/>
                </a:lnTo>
                <a:lnTo>
                  <a:pt x="158" y="283"/>
                </a:lnTo>
                <a:lnTo>
                  <a:pt x="127" y="314"/>
                </a:lnTo>
                <a:lnTo>
                  <a:pt x="105" y="344"/>
                </a:lnTo>
                <a:lnTo>
                  <a:pt x="84" y="386"/>
                </a:lnTo>
                <a:lnTo>
                  <a:pt x="74" y="416"/>
                </a:lnTo>
                <a:lnTo>
                  <a:pt x="52" y="447"/>
                </a:lnTo>
                <a:lnTo>
                  <a:pt x="42" y="487"/>
                </a:lnTo>
                <a:lnTo>
                  <a:pt x="31" y="528"/>
                </a:lnTo>
                <a:lnTo>
                  <a:pt x="21" y="558"/>
                </a:lnTo>
                <a:lnTo>
                  <a:pt x="10" y="599"/>
                </a:lnTo>
                <a:lnTo>
                  <a:pt x="10" y="639"/>
                </a:lnTo>
                <a:lnTo>
                  <a:pt x="0" y="670"/>
                </a:lnTo>
                <a:lnTo>
                  <a:pt x="0" y="710"/>
                </a:lnTo>
                <a:lnTo>
                  <a:pt x="0" y="751"/>
                </a:lnTo>
                <a:lnTo>
                  <a:pt x="10" y="792"/>
                </a:lnTo>
                <a:lnTo>
                  <a:pt x="10" y="832"/>
                </a:lnTo>
                <a:lnTo>
                  <a:pt x="21" y="863"/>
                </a:lnTo>
                <a:lnTo>
                  <a:pt x="31" y="903"/>
                </a:lnTo>
                <a:lnTo>
                  <a:pt x="42" y="944"/>
                </a:lnTo>
                <a:lnTo>
                  <a:pt x="52" y="974"/>
                </a:lnTo>
                <a:lnTo>
                  <a:pt x="74" y="1015"/>
                </a:lnTo>
                <a:lnTo>
                  <a:pt x="84" y="1045"/>
                </a:lnTo>
                <a:lnTo>
                  <a:pt x="105" y="1077"/>
                </a:lnTo>
                <a:lnTo>
                  <a:pt x="127" y="1107"/>
                </a:lnTo>
                <a:lnTo>
                  <a:pt x="158" y="1137"/>
                </a:lnTo>
                <a:lnTo>
                  <a:pt x="179" y="1168"/>
                </a:lnTo>
                <a:lnTo>
                  <a:pt x="201" y="1198"/>
                </a:lnTo>
                <a:lnTo>
                  <a:pt x="232" y="1229"/>
                </a:lnTo>
                <a:lnTo>
                  <a:pt x="264" y="1249"/>
                </a:lnTo>
                <a:lnTo>
                  <a:pt x="296" y="1279"/>
                </a:lnTo>
                <a:lnTo>
                  <a:pt x="328" y="1300"/>
                </a:lnTo>
                <a:lnTo>
                  <a:pt x="359" y="1320"/>
                </a:lnTo>
                <a:lnTo>
                  <a:pt x="392" y="1340"/>
                </a:lnTo>
                <a:lnTo>
                  <a:pt x="434" y="1361"/>
                </a:lnTo>
                <a:lnTo>
                  <a:pt x="466" y="1371"/>
                </a:lnTo>
                <a:lnTo>
                  <a:pt x="508" y="1381"/>
                </a:lnTo>
                <a:lnTo>
                  <a:pt x="540" y="1391"/>
                </a:lnTo>
                <a:lnTo>
                  <a:pt x="583" y="1401"/>
                </a:lnTo>
                <a:lnTo>
                  <a:pt x="625" y="1411"/>
                </a:lnTo>
                <a:lnTo>
                  <a:pt x="667" y="1421"/>
                </a:lnTo>
                <a:lnTo>
                  <a:pt x="699" y="1421"/>
                </a:lnTo>
                <a:lnTo>
                  <a:pt x="741" y="1421"/>
                </a:lnTo>
                <a:lnTo>
                  <a:pt x="784" y="1421"/>
                </a:lnTo>
                <a:lnTo>
                  <a:pt x="826" y="1421"/>
                </a:lnTo>
                <a:lnTo>
                  <a:pt x="858" y="1411"/>
                </a:lnTo>
                <a:lnTo>
                  <a:pt x="900" y="1401"/>
                </a:lnTo>
                <a:lnTo>
                  <a:pt x="942" y="1391"/>
                </a:lnTo>
                <a:lnTo>
                  <a:pt x="974" y="1381"/>
                </a:lnTo>
                <a:lnTo>
                  <a:pt x="1016" y="1371"/>
                </a:lnTo>
                <a:lnTo>
                  <a:pt x="1048" y="1361"/>
                </a:lnTo>
                <a:lnTo>
                  <a:pt x="1091" y="1340"/>
                </a:lnTo>
                <a:lnTo>
                  <a:pt x="1123" y="1320"/>
                </a:lnTo>
                <a:lnTo>
                  <a:pt x="1155" y="1300"/>
                </a:lnTo>
                <a:lnTo>
                  <a:pt x="1187" y="1279"/>
                </a:lnTo>
                <a:lnTo>
                  <a:pt x="1219" y="1249"/>
                </a:lnTo>
                <a:lnTo>
                  <a:pt x="1250" y="1229"/>
                </a:lnTo>
                <a:lnTo>
                  <a:pt x="1282" y="1198"/>
                </a:lnTo>
                <a:lnTo>
                  <a:pt x="1303" y="1168"/>
                </a:lnTo>
                <a:lnTo>
                  <a:pt x="1335" y="1137"/>
                </a:lnTo>
                <a:lnTo>
                  <a:pt x="1356" y="1107"/>
                </a:lnTo>
                <a:lnTo>
                  <a:pt x="1377" y="1077"/>
                </a:lnTo>
                <a:lnTo>
                  <a:pt x="1399" y="1045"/>
                </a:lnTo>
                <a:lnTo>
                  <a:pt x="1409" y="1015"/>
                </a:lnTo>
                <a:lnTo>
                  <a:pt x="1430" y="974"/>
                </a:lnTo>
                <a:lnTo>
                  <a:pt x="1441" y="944"/>
                </a:lnTo>
                <a:lnTo>
                  <a:pt x="1451" y="903"/>
                </a:lnTo>
                <a:lnTo>
                  <a:pt x="1462" y="863"/>
                </a:lnTo>
                <a:lnTo>
                  <a:pt x="1473" y="832"/>
                </a:lnTo>
                <a:lnTo>
                  <a:pt x="1473" y="792"/>
                </a:lnTo>
                <a:lnTo>
                  <a:pt x="1483" y="751"/>
                </a:lnTo>
                <a:lnTo>
                  <a:pt x="1483" y="71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713120" y="5616720"/>
            <a:ext cx="5256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6031080" y="1096920"/>
            <a:ext cx="0" cy="1274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4626000" y="2371680"/>
            <a:ext cx="0" cy="5065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479840" y="2878200"/>
            <a:ext cx="292320" cy="289440"/>
          </a:xfrm>
          <a:custGeom>
            <a:avLst/>
            <a:gdLst/>
            <a:ahLst/>
            <a:rect l="0" t="0" r="r" b="b"/>
            <a:pathLst>
              <a:path fill="none" w="812" h="804">
                <a:moveTo>
                  <a:pt x="812" y="804"/>
                </a:moveTo>
                <a:lnTo>
                  <a:pt x="0" y="804"/>
                </a:lnTo>
                <a:lnTo>
                  <a:pt x="0" y="0"/>
                </a:lnTo>
                <a:lnTo>
                  <a:pt x="812" y="0"/>
                </a:lnTo>
                <a:lnTo>
                  <a:pt x="812" y="804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4541760" y="2371680"/>
            <a:ext cx="168480" cy="146520"/>
          </a:xfrm>
          <a:custGeom>
            <a:avLst/>
            <a:gdLst/>
            <a:ahLst/>
            <a:rect l="0" t="0" r="r" b="b"/>
            <a:pathLst>
              <a:path w="468" h="407">
                <a:moveTo>
                  <a:pt x="468" y="0"/>
                </a:moveTo>
                <a:lnTo>
                  <a:pt x="233" y="407"/>
                </a:lnTo>
                <a:lnTo>
                  <a:pt x="0" y="0"/>
                </a:lnTo>
                <a:lnTo>
                  <a:pt x="468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V="1">
            <a:off x="4626000" y="2371680"/>
            <a:ext cx="84240" cy="1461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4541760" y="2371680"/>
            <a:ext cx="84240" cy="1461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541760" y="2371680"/>
            <a:ext cx="1684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4459320" y="2832120"/>
            <a:ext cx="336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693960" y="364176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6705720" y="3875040"/>
            <a:ext cx="2984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734000" y="5546880"/>
            <a:ext cx="450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 txBox="1"/>
          <p:nvPr/>
        </p:nvSpPr>
        <p:spPr>
          <a:xfrm>
            <a:off x="2906640" y="550224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1147680" y="263520"/>
            <a:ext cx="64562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signating a Datum Target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 flipH="1">
            <a:off x="3203640" y="3021120"/>
            <a:ext cx="2570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263680" y="3751200"/>
            <a:ext cx="45180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263680" y="2109960"/>
            <a:ext cx="4518360" cy="1641960"/>
          </a:xfrm>
          <a:custGeom>
            <a:avLst/>
            <a:gdLst/>
            <a:ahLst/>
            <a:rect l="0" t="0" r="r" b="b"/>
            <a:pathLst>
              <a:path fill="none" w="12551" h="4561">
                <a:moveTo>
                  <a:pt x="12551" y="0"/>
                </a:moveTo>
                <a:lnTo>
                  <a:pt x="0" y="0"/>
                </a:lnTo>
                <a:lnTo>
                  <a:pt x="0" y="4561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775480" y="3490920"/>
            <a:ext cx="159120" cy="260640"/>
          </a:xfrm>
          <a:custGeom>
            <a:avLst/>
            <a:gdLst/>
            <a:ahLst/>
            <a:rect l="0" t="0" r="r" b="b"/>
            <a:pathLst>
              <a:path w="442" h="724">
                <a:moveTo>
                  <a:pt x="230" y="0"/>
                </a:moveTo>
                <a:lnTo>
                  <a:pt x="442" y="724"/>
                </a:lnTo>
                <a:lnTo>
                  <a:pt x="0" y="105"/>
                </a:lnTo>
                <a:lnTo>
                  <a:pt x="230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4680000" y="1655640"/>
            <a:ext cx="1136880" cy="1854720"/>
          </a:xfrm>
          <a:custGeom>
            <a:avLst/>
            <a:gdLst/>
            <a:ahLst/>
            <a:rect l="0" t="0" r="r" b="b"/>
            <a:pathLst>
              <a:path fill="none" w="3158" h="5152">
                <a:moveTo>
                  <a:pt x="3158" y="5152"/>
                </a:moveTo>
                <a:lnTo>
                  <a:pt x="679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6781680" y="2109960"/>
            <a:ext cx="0" cy="16412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298680" y="2668680"/>
            <a:ext cx="708480" cy="708480"/>
          </a:xfrm>
          <a:custGeom>
            <a:avLst/>
            <a:gdLst/>
            <a:ahLst/>
            <a:rect l="0" t="0" r="r" b="b"/>
            <a:pathLst>
              <a:path fill="none" w="1968" h="1968">
                <a:moveTo>
                  <a:pt x="1968" y="979"/>
                </a:moveTo>
                <a:lnTo>
                  <a:pt x="1959" y="944"/>
                </a:lnTo>
                <a:lnTo>
                  <a:pt x="1959" y="909"/>
                </a:lnTo>
                <a:lnTo>
                  <a:pt x="1959" y="874"/>
                </a:lnTo>
                <a:lnTo>
                  <a:pt x="1951" y="847"/>
                </a:lnTo>
                <a:lnTo>
                  <a:pt x="1951" y="812"/>
                </a:lnTo>
                <a:lnTo>
                  <a:pt x="1942" y="777"/>
                </a:lnTo>
                <a:lnTo>
                  <a:pt x="1933" y="741"/>
                </a:lnTo>
                <a:lnTo>
                  <a:pt x="1924" y="706"/>
                </a:lnTo>
                <a:lnTo>
                  <a:pt x="1915" y="671"/>
                </a:lnTo>
                <a:lnTo>
                  <a:pt x="1898" y="636"/>
                </a:lnTo>
                <a:lnTo>
                  <a:pt x="1889" y="609"/>
                </a:lnTo>
                <a:lnTo>
                  <a:pt x="1871" y="574"/>
                </a:lnTo>
                <a:lnTo>
                  <a:pt x="1862" y="538"/>
                </a:lnTo>
                <a:lnTo>
                  <a:pt x="1845" y="512"/>
                </a:lnTo>
                <a:lnTo>
                  <a:pt x="1827" y="476"/>
                </a:lnTo>
                <a:lnTo>
                  <a:pt x="1809" y="449"/>
                </a:lnTo>
                <a:lnTo>
                  <a:pt x="1792" y="423"/>
                </a:lnTo>
                <a:lnTo>
                  <a:pt x="1765" y="396"/>
                </a:lnTo>
                <a:lnTo>
                  <a:pt x="1748" y="361"/>
                </a:lnTo>
                <a:lnTo>
                  <a:pt x="1721" y="335"/>
                </a:lnTo>
                <a:lnTo>
                  <a:pt x="1704" y="308"/>
                </a:lnTo>
                <a:lnTo>
                  <a:pt x="1677" y="291"/>
                </a:lnTo>
                <a:lnTo>
                  <a:pt x="1651" y="264"/>
                </a:lnTo>
                <a:lnTo>
                  <a:pt x="1624" y="238"/>
                </a:lnTo>
                <a:lnTo>
                  <a:pt x="1598" y="220"/>
                </a:lnTo>
                <a:lnTo>
                  <a:pt x="1571" y="194"/>
                </a:lnTo>
                <a:lnTo>
                  <a:pt x="1545" y="176"/>
                </a:lnTo>
                <a:lnTo>
                  <a:pt x="1510" y="158"/>
                </a:lnTo>
                <a:lnTo>
                  <a:pt x="1483" y="132"/>
                </a:lnTo>
                <a:lnTo>
                  <a:pt x="1456" y="114"/>
                </a:lnTo>
                <a:lnTo>
                  <a:pt x="1420" y="105"/>
                </a:lnTo>
                <a:lnTo>
                  <a:pt x="1385" y="88"/>
                </a:lnTo>
                <a:lnTo>
                  <a:pt x="1359" y="70"/>
                </a:lnTo>
                <a:lnTo>
                  <a:pt x="1323" y="61"/>
                </a:lnTo>
                <a:lnTo>
                  <a:pt x="1288" y="52"/>
                </a:lnTo>
                <a:lnTo>
                  <a:pt x="1262" y="35"/>
                </a:lnTo>
                <a:lnTo>
                  <a:pt x="1226" y="26"/>
                </a:lnTo>
                <a:lnTo>
                  <a:pt x="1191" y="17"/>
                </a:lnTo>
                <a:lnTo>
                  <a:pt x="1156" y="17"/>
                </a:lnTo>
                <a:lnTo>
                  <a:pt x="1121" y="8"/>
                </a:lnTo>
                <a:lnTo>
                  <a:pt x="1085" y="0"/>
                </a:lnTo>
                <a:lnTo>
                  <a:pt x="1050" y="0"/>
                </a:lnTo>
                <a:lnTo>
                  <a:pt x="1015" y="0"/>
                </a:lnTo>
                <a:lnTo>
                  <a:pt x="979" y="0"/>
                </a:lnTo>
                <a:lnTo>
                  <a:pt x="944" y="0"/>
                </a:lnTo>
                <a:lnTo>
                  <a:pt x="909" y="0"/>
                </a:lnTo>
                <a:lnTo>
                  <a:pt x="874" y="0"/>
                </a:lnTo>
                <a:lnTo>
                  <a:pt x="838" y="8"/>
                </a:lnTo>
                <a:lnTo>
                  <a:pt x="803" y="17"/>
                </a:lnTo>
                <a:lnTo>
                  <a:pt x="777" y="17"/>
                </a:lnTo>
                <a:lnTo>
                  <a:pt x="741" y="26"/>
                </a:lnTo>
                <a:lnTo>
                  <a:pt x="706" y="35"/>
                </a:lnTo>
                <a:lnTo>
                  <a:pt x="671" y="52"/>
                </a:lnTo>
                <a:lnTo>
                  <a:pt x="636" y="61"/>
                </a:lnTo>
                <a:lnTo>
                  <a:pt x="609" y="70"/>
                </a:lnTo>
                <a:lnTo>
                  <a:pt x="574" y="88"/>
                </a:lnTo>
                <a:lnTo>
                  <a:pt x="538" y="105"/>
                </a:lnTo>
                <a:lnTo>
                  <a:pt x="512" y="114"/>
                </a:lnTo>
                <a:lnTo>
                  <a:pt x="476" y="132"/>
                </a:lnTo>
                <a:lnTo>
                  <a:pt x="449" y="158"/>
                </a:lnTo>
                <a:lnTo>
                  <a:pt x="423" y="176"/>
                </a:lnTo>
                <a:lnTo>
                  <a:pt x="388" y="194"/>
                </a:lnTo>
                <a:lnTo>
                  <a:pt x="361" y="220"/>
                </a:lnTo>
                <a:lnTo>
                  <a:pt x="335" y="238"/>
                </a:lnTo>
                <a:lnTo>
                  <a:pt x="308" y="264"/>
                </a:lnTo>
                <a:lnTo>
                  <a:pt x="282" y="291"/>
                </a:lnTo>
                <a:lnTo>
                  <a:pt x="264" y="308"/>
                </a:lnTo>
                <a:lnTo>
                  <a:pt x="238" y="335"/>
                </a:lnTo>
                <a:lnTo>
                  <a:pt x="211" y="361"/>
                </a:lnTo>
                <a:lnTo>
                  <a:pt x="194" y="396"/>
                </a:lnTo>
                <a:lnTo>
                  <a:pt x="176" y="423"/>
                </a:lnTo>
                <a:lnTo>
                  <a:pt x="158" y="449"/>
                </a:lnTo>
                <a:lnTo>
                  <a:pt x="132" y="476"/>
                </a:lnTo>
                <a:lnTo>
                  <a:pt x="114" y="512"/>
                </a:lnTo>
                <a:lnTo>
                  <a:pt x="105" y="538"/>
                </a:lnTo>
                <a:lnTo>
                  <a:pt x="88" y="574"/>
                </a:lnTo>
                <a:lnTo>
                  <a:pt x="70" y="609"/>
                </a:lnTo>
                <a:lnTo>
                  <a:pt x="61" y="636"/>
                </a:lnTo>
                <a:lnTo>
                  <a:pt x="52" y="671"/>
                </a:lnTo>
                <a:lnTo>
                  <a:pt x="35" y="706"/>
                </a:lnTo>
                <a:lnTo>
                  <a:pt x="26" y="741"/>
                </a:lnTo>
                <a:lnTo>
                  <a:pt x="17" y="777"/>
                </a:lnTo>
                <a:lnTo>
                  <a:pt x="17" y="812"/>
                </a:lnTo>
                <a:lnTo>
                  <a:pt x="8" y="847"/>
                </a:lnTo>
                <a:lnTo>
                  <a:pt x="0" y="874"/>
                </a:lnTo>
                <a:lnTo>
                  <a:pt x="0" y="909"/>
                </a:lnTo>
                <a:lnTo>
                  <a:pt x="0" y="944"/>
                </a:lnTo>
                <a:lnTo>
                  <a:pt x="0" y="979"/>
                </a:lnTo>
                <a:lnTo>
                  <a:pt x="0" y="1015"/>
                </a:lnTo>
                <a:lnTo>
                  <a:pt x="0" y="1050"/>
                </a:lnTo>
                <a:lnTo>
                  <a:pt x="0" y="1085"/>
                </a:lnTo>
                <a:lnTo>
                  <a:pt x="8" y="1121"/>
                </a:lnTo>
                <a:lnTo>
                  <a:pt x="17" y="1156"/>
                </a:lnTo>
                <a:lnTo>
                  <a:pt x="17" y="1191"/>
                </a:lnTo>
                <a:lnTo>
                  <a:pt x="26" y="1226"/>
                </a:lnTo>
                <a:lnTo>
                  <a:pt x="35" y="1262"/>
                </a:lnTo>
                <a:lnTo>
                  <a:pt x="52" y="1297"/>
                </a:lnTo>
                <a:lnTo>
                  <a:pt x="61" y="1323"/>
                </a:lnTo>
                <a:lnTo>
                  <a:pt x="70" y="1359"/>
                </a:lnTo>
                <a:lnTo>
                  <a:pt x="88" y="1394"/>
                </a:lnTo>
                <a:lnTo>
                  <a:pt x="105" y="1420"/>
                </a:lnTo>
                <a:lnTo>
                  <a:pt x="114" y="1456"/>
                </a:lnTo>
                <a:lnTo>
                  <a:pt x="132" y="1483"/>
                </a:lnTo>
                <a:lnTo>
                  <a:pt x="158" y="1518"/>
                </a:lnTo>
                <a:lnTo>
                  <a:pt x="176" y="1545"/>
                </a:lnTo>
                <a:lnTo>
                  <a:pt x="194" y="1571"/>
                </a:lnTo>
                <a:lnTo>
                  <a:pt x="211" y="1598"/>
                </a:lnTo>
                <a:lnTo>
                  <a:pt x="238" y="1624"/>
                </a:lnTo>
                <a:lnTo>
                  <a:pt x="264" y="1651"/>
                </a:lnTo>
                <a:lnTo>
                  <a:pt x="282" y="1677"/>
                </a:lnTo>
                <a:lnTo>
                  <a:pt x="308" y="1704"/>
                </a:lnTo>
                <a:lnTo>
                  <a:pt x="335" y="1730"/>
                </a:lnTo>
                <a:lnTo>
                  <a:pt x="361" y="1748"/>
                </a:lnTo>
                <a:lnTo>
                  <a:pt x="388" y="1774"/>
                </a:lnTo>
                <a:lnTo>
                  <a:pt x="423" y="1792"/>
                </a:lnTo>
                <a:lnTo>
                  <a:pt x="449" y="1809"/>
                </a:lnTo>
                <a:lnTo>
                  <a:pt x="476" y="1827"/>
                </a:lnTo>
                <a:lnTo>
                  <a:pt x="512" y="1845"/>
                </a:lnTo>
                <a:lnTo>
                  <a:pt x="538" y="1862"/>
                </a:lnTo>
                <a:lnTo>
                  <a:pt x="574" y="1880"/>
                </a:lnTo>
                <a:lnTo>
                  <a:pt x="609" y="1898"/>
                </a:lnTo>
                <a:lnTo>
                  <a:pt x="636" y="1907"/>
                </a:lnTo>
                <a:lnTo>
                  <a:pt x="671" y="1915"/>
                </a:lnTo>
                <a:lnTo>
                  <a:pt x="706" y="1924"/>
                </a:lnTo>
                <a:lnTo>
                  <a:pt x="741" y="1942"/>
                </a:lnTo>
                <a:lnTo>
                  <a:pt x="777" y="1942"/>
                </a:lnTo>
                <a:lnTo>
                  <a:pt x="803" y="1951"/>
                </a:lnTo>
                <a:lnTo>
                  <a:pt x="838" y="1959"/>
                </a:lnTo>
                <a:lnTo>
                  <a:pt x="874" y="1959"/>
                </a:lnTo>
                <a:lnTo>
                  <a:pt x="909" y="1968"/>
                </a:lnTo>
                <a:lnTo>
                  <a:pt x="944" y="1968"/>
                </a:lnTo>
                <a:lnTo>
                  <a:pt x="979" y="1968"/>
                </a:lnTo>
                <a:lnTo>
                  <a:pt x="1015" y="1968"/>
                </a:lnTo>
                <a:lnTo>
                  <a:pt x="1050" y="1968"/>
                </a:lnTo>
                <a:lnTo>
                  <a:pt x="1085" y="1959"/>
                </a:lnTo>
                <a:lnTo>
                  <a:pt x="1121" y="1959"/>
                </a:lnTo>
                <a:lnTo>
                  <a:pt x="1156" y="1951"/>
                </a:lnTo>
                <a:lnTo>
                  <a:pt x="1191" y="1942"/>
                </a:lnTo>
                <a:lnTo>
                  <a:pt x="1226" y="1942"/>
                </a:lnTo>
                <a:lnTo>
                  <a:pt x="1262" y="1924"/>
                </a:lnTo>
                <a:lnTo>
                  <a:pt x="1288" y="1915"/>
                </a:lnTo>
                <a:lnTo>
                  <a:pt x="1323" y="1907"/>
                </a:lnTo>
                <a:lnTo>
                  <a:pt x="1359" y="1898"/>
                </a:lnTo>
                <a:lnTo>
                  <a:pt x="1385" y="1880"/>
                </a:lnTo>
                <a:lnTo>
                  <a:pt x="1420" y="1862"/>
                </a:lnTo>
                <a:lnTo>
                  <a:pt x="1456" y="1845"/>
                </a:lnTo>
                <a:lnTo>
                  <a:pt x="1483" y="1827"/>
                </a:lnTo>
                <a:lnTo>
                  <a:pt x="1510" y="1809"/>
                </a:lnTo>
                <a:lnTo>
                  <a:pt x="1545" y="1792"/>
                </a:lnTo>
                <a:lnTo>
                  <a:pt x="1571" y="1774"/>
                </a:lnTo>
                <a:lnTo>
                  <a:pt x="1598" y="1748"/>
                </a:lnTo>
                <a:lnTo>
                  <a:pt x="1624" y="1730"/>
                </a:lnTo>
                <a:lnTo>
                  <a:pt x="1651" y="1704"/>
                </a:lnTo>
                <a:lnTo>
                  <a:pt x="1677" y="1677"/>
                </a:lnTo>
                <a:lnTo>
                  <a:pt x="1704" y="1651"/>
                </a:lnTo>
                <a:lnTo>
                  <a:pt x="1721" y="1624"/>
                </a:lnTo>
                <a:lnTo>
                  <a:pt x="1748" y="1598"/>
                </a:lnTo>
                <a:lnTo>
                  <a:pt x="1765" y="1571"/>
                </a:lnTo>
                <a:lnTo>
                  <a:pt x="1792" y="1545"/>
                </a:lnTo>
                <a:lnTo>
                  <a:pt x="1809" y="1518"/>
                </a:lnTo>
                <a:lnTo>
                  <a:pt x="1827" y="1483"/>
                </a:lnTo>
                <a:lnTo>
                  <a:pt x="1845" y="1456"/>
                </a:lnTo>
                <a:lnTo>
                  <a:pt x="1862" y="1420"/>
                </a:lnTo>
                <a:lnTo>
                  <a:pt x="1871" y="1394"/>
                </a:lnTo>
                <a:lnTo>
                  <a:pt x="1889" y="1359"/>
                </a:lnTo>
                <a:lnTo>
                  <a:pt x="1898" y="1323"/>
                </a:lnTo>
                <a:lnTo>
                  <a:pt x="1915" y="1297"/>
                </a:lnTo>
                <a:lnTo>
                  <a:pt x="1924" y="1262"/>
                </a:lnTo>
                <a:lnTo>
                  <a:pt x="1933" y="1226"/>
                </a:lnTo>
                <a:lnTo>
                  <a:pt x="1942" y="1191"/>
                </a:lnTo>
                <a:lnTo>
                  <a:pt x="1951" y="1156"/>
                </a:lnTo>
                <a:lnTo>
                  <a:pt x="1951" y="1121"/>
                </a:lnTo>
                <a:lnTo>
                  <a:pt x="1959" y="1085"/>
                </a:lnTo>
                <a:lnTo>
                  <a:pt x="1959" y="1050"/>
                </a:lnTo>
                <a:lnTo>
                  <a:pt x="1959" y="1015"/>
                </a:lnTo>
                <a:lnTo>
                  <a:pt x="1968" y="979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flipV="1">
            <a:off x="3651120" y="2925720"/>
            <a:ext cx="0" cy="1936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5521320" y="4135320"/>
            <a:ext cx="260640" cy="165600"/>
          </a:xfrm>
          <a:custGeom>
            <a:avLst/>
            <a:gdLst/>
            <a:ahLst/>
            <a:rect l="0" t="0" r="r" b="b"/>
            <a:pathLst>
              <a:path w="724" h="460">
                <a:moveTo>
                  <a:pt x="0" y="230"/>
                </a:moveTo>
                <a:lnTo>
                  <a:pt x="724" y="0"/>
                </a:lnTo>
                <a:lnTo>
                  <a:pt x="114" y="460"/>
                </a:lnTo>
                <a:lnTo>
                  <a:pt x="0" y="23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826160" y="4259160"/>
            <a:ext cx="714600" cy="267120"/>
          </a:xfrm>
          <a:custGeom>
            <a:avLst/>
            <a:gdLst/>
            <a:ahLst/>
            <a:rect l="0" t="0" r="r" b="b"/>
            <a:pathLst>
              <a:path fill="none" w="1985" h="742">
                <a:moveTo>
                  <a:pt x="1985" y="0"/>
                </a:moveTo>
                <a:lnTo>
                  <a:pt x="546" y="742"/>
                </a:lnTo>
                <a:lnTo>
                  <a:pt x="0" y="742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651120" y="3214800"/>
            <a:ext cx="0" cy="257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5934240" y="3621240"/>
            <a:ext cx="0" cy="3394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5934240" y="4056120"/>
            <a:ext cx="0" cy="921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934240" y="4243320"/>
            <a:ext cx="0" cy="339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781600" y="3840120"/>
            <a:ext cx="0" cy="5652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6086520" y="3840120"/>
            <a:ext cx="0" cy="5652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934240" y="4402080"/>
            <a:ext cx="152640" cy="32040"/>
          </a:xfrm>
          <a:custGeom>
            <a:avLst/>
            <a:gdLst/>
            <a:ahLst/>
            <a:rect l="0" t="0" r="r" b="b"/>
            <a:pathLst>
              <a:path fill="none" w="424" h="89">
                <a:moveTo>
                  <a:pt x="0" y="0"/>
                </a:moveTo>
                <a:lnTo>
                  <a:pt x="17" y="17"/>
                </a:lnTo>
                <a:lnTo>
                  <a:pt x="26" y="26"/>
                </a:lnTo>
                <a:lnTo>
                  <a:pt x="44" y="35"/>
                </a:lnTo>
                <a:lnTo>
                  <a:pt x="61" y="53"/>
                </a:lnTo>
                <a:lnTo>
                  <a:pt x="79" y="62"/>
                </a:lnTo>
                <a:lnTo>
                  <a:pt x="97" y="62"/>
                </a:lnTo>
                <a:lnTo>
                  <a:pt x="123" y="71"/>
                </a:lnTo>
                <a:lnTo>
                  <a:pt x="141" y="80"/>
                </a:lnTo>
                <a:lnTo>
                  <a:pt x="158" y="80"/>
                </a:lnTo>
                <a:lnTo>
                  <a:pt x="176" y="89"/>
                </a:lnTo>
                <a:lnTo>
                  <a:pt x="202" y="89"/>
                </a:lnTo>
                <a:lnTo>
                  <a:pt x="221" y="89"/>
                </a:lnTo>
                <a:lnTo>
                  <a:pt x="239" y="89"/>
                </a:lnTo>
                <a:lnTo>
                  <a:pt x="256" y="80"/>
                </a:lnTo>
                <a:lnTo>
                  <a:pt x="283" y="80"/>
                </a:lnTo>
                <a:lnTo>
                  <a:pt x="300" y="80"/>
                </a:lnTo>
                <a:lnTo>
                  <a:pt x="318" y="71"/>
                </a:lnTo>
                <a:lnTo>
                  <a:pt x="336" y="62"/>
                </a:lnTo>
                <a:lnTo>
                  <a:pt x="353" y="53"/>
                </a:lnTo>
                <a:lnTo>
                  <a:pt x="371" y="45"/>
                </a:lnTo>
                <a:lnTo>
                  <a:pt x="389" y="35"/>
                </a:lnTo>
                <a:lnTo>
                  <a:pt x="406" y="26"/>
                </a:lnTo>
                <a:lnTo>
                  <a:pt x="424" y="8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5934240" y="4370400"/>
            <a:ext cx="152640" cy="32040"/>
          </a:xfrm>
          <a:custGeom>
            <a:avLst/>
            <a:gdLst/>
            <a:ahLst/>
            <a:rect l="0" t="0" r="r" b="b"/>
            <a:pathLst>
              <a:path fill="none" w="424" h="89">
                <a:moveTo>
                  <a:pt x="424" y="89"/>
                </a:moveTo>
                <a:lnTo>
                  <a:pt x="406" y="80"/>
                </a:lnTo>
                <a:lnTo>
                  <a:pt x="397" y="71"/>
                </a:lnTo>
                <a:lnTo>
                  <a:pt x="380" y="53"/>
                </a:lnTo>
                <a:lnTo>
                  <a:pt x="362" y="45"/>
                </a:lnTo>
                <a:lnTo>
                  <a:pt x="344" y="35"/>
                </a:lnTo>
                <a:lnTo>
                  <a:pt x="327" y="26"/>
                </a:lnTo>
                <a:lnTo>
                  <a:pt x="309" y="17"/>
                </a:lnTo>
                <a:lnTo>
                  <a:pt x="292" y="17"/>
                </a:lnTo>
                <a:lnTo>
                  <a:pt x="274" y="8"/>
                </a:lnTo>
                <a:lnTo>
                  <a:pt x="256" y="8"/>
                </a:lnTo>
                <a:lnTo>
                  <a:pt x="239" y="8"/>
                </a:lnTo>
                <a:lnTo>
                  <a:pt x="221" y="0"/>
                </a:lnTo>
                <a:lnTo>
                  <a:pt x="202" y="0"/>
                </a:lnTo>
                <a:lnTo>
                  <a:pt x="185" y="8"/>
                </a:lnTo>
                <a:lnTo>
                  <a:pt x="167" y="8"/>
                </a:lnTo>
                <a:lnTo>
                  <a:pt x="141" y="8"/>
                </a:lnTo>
                <a:lnTo>
                  <a:pt x="123" y="17"/>
                </a:lnTo>
                <a:lnTo>
                  <a:pt x="105" y="17"/>
                </a:lnTo>
                <a:lnTo>
                  <a:pt x="88" y="26"/>
                </a:lnTo>
                <a:lnTo>
                  <a:pt x="70" y="35"/>
                </a:lnTo>
                <a:lnTo>
                  <a:pt x="61" y="45"/>
                </a:lnTo>
                <a:lnTo>
                  <a:pt x="44" y="53"/>
                </a:lnTo>
                <a:lnTo>
                  <a:pt x="26" y="71"/>
                </a:lnTo>
                <a:lnTo>
                  <a:pt x="8" y="80"/>
                </a:lnTo>
                <a:lnTo>
                  <a:pt x="0" y="89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781600" y="4402080"/>
            <a:ext cx="152640" cy="32040"/>
          </a:xfrm>
          <a:custGeom>
            <a:avLst/>
            <a:gdLst/>
            <a:ahLst/>
            <a:rect l="0" t="0" r="r" b="b"/>
            <a:pathLst>
              <a:path fill="none" w="424" h="89">
                <a:moveTo>
                  <a:pt x="0" y="8"/>
                </a:moveTo>
                <a:lnTo>
                  <a:pt x="8" y="17"/>
                </a:lnTo>
                <a:lnTo>
                  <a:pt x="26" y="26"/>
                </a:lnTo>
                <a:lnTo>
                  <a:pt x="44" y="45"/>
                </a:lnTo>
                <a:lnTo>
                  <a:pt x="52" y="53"/>
                </a:lnTo>
                <a:lnTo>
                  <a:pt x="70" y="62"/>
                </a:lnTo>
                <a:lnTo>
                  <a:pt x="88" y="71"/>
                </a:lnTo>
                <a:lnTo>
                  <a:pt x="105" y="80"/>
                </a:lnTo>
                <a:lnTo>
                  <a:pt x="123" y="80"/>
                </a:lnTo>
                <a:lnTo>
                  <a:pt x="141" y="89"/>
                </a:lnTo>
                <a:lnTo>
                  <a:pt x="158" y="89"/>
                </a:lnTo>
                <a:lnTo>
                  <a:pt x="185" y="89"/>
                </a:lnTo>
                <a:lnTo>
                  <a:pt x="202" y="89"/>
                </a:lnTo>
                <a:lnTo>
                  <a:pt x="221" y="89"/>
                </a:lnTo>
                <a:lnTo>
                  <a:pt x="239" y="89"/>
                </a:lnTo>
                <a:lnTo>
                  <a:pt x="256" y="89"/>
                </a:lnTo>
                <a:lnTo>
                  <a:pt x="274" y="89"/>
                </a:lnTo>
                <a:lnTo>
                  <a:pt x="292" y="80"/>
                </a:lnTo>
                <a:lnTo>
                  <a:pt x="309" y="80"/>
                </a:lnTo>
                <a:lnTo>
                  <a:pt x="327" y="71"/>
                </a:lnTo>
                <a:lnTo>
                  <a:pt x="344" y="62"/>
                </a:lnTo>
                <a:lnTo>
                  <a:pt x="362" y="53"/>
                </a:lnTo>
                <a:lnTo>
                  <a:pt x="380" y="45"/>
                </a:lnTo>
                <a:lnTo>
                  <a:pt x="397" y="26"/>
                </a:lnTo>
                <a:lnTo>
                  <a:pt x="406" y="17"/>
                </a:lnTo>
                <a:lnTo>
                  <a:pt x="424" y="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781600" y="3751200"/>
            <a:ext cx="305280" cy="89280"/>
          </a:xfrm>
          <a:custGeom>
            <a:avLst/>
            <a:gdLst/>
            <a:ahLst/>
            <a:rect l="0" t="0" r="r" b="b"/>
            <a:pathLst>
              <a:path fill="none" w="848" h="248">
                <a:moveTo>
                  <a:pt x="0" y="248"/>
                </a:moveTo>
                <a:lnTo>
                  <a:pt x="848" y="248"/>
                </a:lnTo>
                <a:lnTo>
                  <a:pt x="839" y="231"/>
                </a:lnTo>
                <a:lnTo>
                  <a:pt x="822" y="213"/>
                </a:lnTo>
                <a:lnTo>
                  <a:pt x="804" y="196"/>
                </a:lnTo>
                <a:lnTo>
                  <a:pt x="795" y="168"/>
                </a:lnTo>
                <a:lnTo>
                  <a:pt x="778" y="150"/>
                </a:lnTo>
                <a:lnTo>
                  <a:pt x="760" y="133"/>
                </a:lnTo>
                <a:lnTo>
                  <a:pt x="742" y="115"/>
                </a:lnTo>
                <a:lnTo>
                  <a:pt x="716" y="106"/>
                </a:lnTo>
                <a:lnTo>
                  <a:pt x="698" y="89"/>
                </a:lnTo>
                <a:lnTo>
                  <a:pt x="681" y="80"/>
                </a:lnTo>
                <a:lnTo>
                  <a:pt x="654" y="61"/>
                </a:lnTo>
                <a:lnTo>
                  <a:pt x="637" y="52"/>
                </a:lnTo>
                <a:lnTo>
                  <a:pt x="609" y="44"/>
                </a:lnTo>
                <a:lnTo>
                  <a:pt x="591" y="35"/>
                </a:lnTo>
                <a:lnTo>
                  <a:pt x="565" y="26"/>
                </a:lnTo>
                <a:lnTo>
                  <a:pt x="547" y="17"/>
                </a:lnTo>
                <a:lnTo>
                  <a:pt x="521" y="8"/>
                </a:lnTo>
                <a:lnTo>
                  <a:pt x="494" y="8"/>
                </a:lnTo>
                <a:lnTo>
                  <a:pt x="468" y="8"/>
                </a:lnTo>
                <a:lnTo>
                  <a:pt x="450" y="0"/>
                </a:lnTo>
                <a:lnTo>
                  <a:pt x="424" y="0"/>
                </a:lnTo>
                <a:lnTo>
                  <a:pt x="397" y="0"/>
                </a:lnTo>
                <a:lnTo>
                  <a:pt x="371" y="8"/>
                </a:lnTo>
                <a:lnTo>
                  <a:pt x="344" y="8"/>
                </a:lnTo>
                <a:lnTo>
                  <a:pt x="327" y="8"/>
                </a:lnTo>
                <a:lnTo>
                  <a:pt x="300" y="17"/>
                </a:lnTo>
                <a:lnTo>
                  <a:pt x="274" y="26"/>
                </a:lnTo>
                <a:lnTo>
                  <a:pt x="256" y="35"/>
                </a:lnTo>
                <a:lnTo>
                  <a:pt x="230" y="44"/>
                </a:lnTo>
                <a:lnTo>
                  <a:pt x="211" y="52"/>
                </a:lnTo>
                <a:lnTo>
                  <a:pt x="185" y="61"/>
                </a:lnTo>
                <a:lnTo>
                  <a:pt x="167" y="80"/>
                </a:lnTo>
                <a:lnTo>
                  <a:pt x="141" y="89"/>
                </a:lnTo>
                <a:lnTo>
                  <a:pt x="123" y="106"/>
                </a:lnTo>
                <a:lnTo>
                  <a:pt x="105" y="115"/>
                </a:lnTo>
                <a:lnTo>
                  <a:pt x="88" y="133"/>
                </a:lnTo>
                <a:lnTo>
                  <a:pt x="70" y="150"/>
                </a:lnTo>
                <a:lnTo>
                  <a:pt x="52" y="168"/>
                </a:lnTo>
                <a:lnTo>
                  <a:pt x="35" y="196"/>
                </a:lnTo>
                <a:lnTo>
                  <a:pt x="26" y="213"/>
                </a:lnTo>
                <a:lnTo>
                  <a:pt x="8" y="231"/>
                </a:lnTo>
                <a:lnTo>
                  <a:pt x="0" y="248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38160" bIns="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3651120" y="2570040"/>
            <a:ext cx="0" cy="2606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844800" y="3021120"/>
            <a:ext cx="2574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556080" y="3021120"/>
            <a:ext cx="1904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2968560" y="1204920"/>
            <a:ext cx="2179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Arial"/>
                <a:ea typeface="Arial"/>
              </a:rPr>
              <a:t>Single point co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Arial"/>
                <a:ea typeface="Arial"/>
              </a:rPr>
              <a:t>at basic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2540160" y="4327560"/>
            <a:ext cx="23828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Arial"/>
                <a:ea typeface="Arial"/>
              </a:rPr>
              <a:t>Spherical tip gage 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367080" y="539100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1490760" y="263520"/>
            <a:ext cx="6024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Verifying a Datum Target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"/>
          <p:cNvSpPr txBox="1"/>
          <p:nvPr/>
        </p:nvSpPr>
        <p:spPr>
          <a:xfrm>
            <a:off x="641520" y="223848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Target Line Desig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671400" y="2657520"/>
            <a:ext cx="7680240" cy="13302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793800" y="2165400"/>
            <a:ext cx="7772400" cy="22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atum target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line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indicated by the target point symbol on an edge view of the surface, a phantom line on the normal view, or bo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476360" y="490680"/>
            <a:ext cx="6012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 Line Desig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7683480" y="3807000"/>
            <a:ext cx="297360" cy="298800"/>
          </a:xfrm>
          <a:custGeom>
            <a:avLst/>
            <a:gdLst/>
            <a:ahLst/>
            <a:rect l="0" t="0" r="r" b="b"/>
            <a:pathLst>
              <a:path fill="none" w="826" h="830">
                <a:moveTo>
                  <a:pt x="0" y="830"/>
                </a:moveTo>
                <a:lnTo>
                  <a:pt x="0" y="0"/>
                </a:lnTo>
                <a:lnTo>
                  <a:pt x="826" y="0"/>
                </a:lnTo>
                <a:lnTo>
                  <a:pt x="826" y="830"/>
                </a:lnTo>
                <a:lnTo>
                  <a:pt x="0" y="83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087800" y="5486400"/>
            <a:ext cx="4202640" cy="476640"/>
          </a:xfrm>
          <a:custGeom>
            <a:avLst/>
            <a:gdLst/>
            <a:ahLst/>
            <a:rect l="0" t="0" r="r" b="b"/>
            <a:pathLst>
              <a:path fill="none" w="11674" h="1324">
                <a:moveTo>
                  <a:pt x="11674" y="1324"/>
                </a:moveTo>
                <a:lnTo>
                  <a:pt x="11674" y="0"/>
                </a:lnTo>
                <a:lnTo>
                  <a:pt x="0" y="0"/>
                </a:lnTo>
                <a:lnTo>
                  <a:pt x="0" y="1324"/>
                </a:lnTo>
                <a:lnTo>
                  <a:pt x="11674" y="1324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"/>
          <p:cNvGrpSpPr/>
          <p:nvPr/>
        </p:nvGrpSpPr>
        <p:grpSpPr>
          <a:xfrm>
            <a:off x="4843440" y="5146560"/>
            <a:ext cx="0" cy="1214640"/>
            <a:chOff x="4843440" y="5146560"/>
            <a:chExt cx="0" cy="1214640"/>
          </a:xfrm>
        </p:grpSpPr>
        <p:sp>
          <p:nvSpPr>
            <p:cNvPr id="864" name=""/>
            <p:cNvSpPr/>
            <p:nvPr/>
          </p:nvSpPr>
          <p:spPr>
            <a:xfrm>
              <a:off x="4843440" y="5146560"/>
              <a:ext cx="0" cy="32724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843440" y="5581800"/>
              <a:ext cx="0" cy="11268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5080" bIns="55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843440" y="5807160"/>
              <a:ext cx="0" cy="11268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5080" bIns="55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843440" y="6033960"/>
              <a:ext cx="0" cy="32724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"/>
          <p:cNvSpPr/>
          <p:nvPr/>
        </p:nvSpPr>
        <p:spPr>
          <a:xfrm flipH="1" flipV="1">
            <a:off x="3635280" y="4956120"/>
            <a:ext cx="1208160" cy="7016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146400" y="4562640"/>
            <a:ext cx="518040" cy="524160"/>
          </a:xfrm>
          <a:custGeom>
            <a:avLst/>
            <a:gdLst/>
            <a:ahLst/>
            <a:rect l="0" t="0" r="r" b="b"/>
            <a:pathLst>
              <a:path fill="none" w="1439" h="1456">
                <a:moveTo>
                  <a:pt x="0" y="727"/>
                </a:moveTo>
                <a:lnTo>
                  <a:pt x="1439" y="727"/>
                </a:lnTo>
                <a:lnTo>
                  <a:pt x="1439" y="694"/>
                </a:lnTo>
                <a:lnTo>
                  <a:pt x="1439" y="661"/>
                </a:lnTo>
                <a:lnTo>
                  <a:pt x="1439" y="644"/>
                </a:lnTo>
                <a:lnTo>
                  <a:pt x="1439" y="611"/>
                </a:lnTo>
                <a:lnTo>
                  <a:pt x="1439" y="578"/>
                </a:lnTo>
                <a:lnTo>
                  <a:pt x="1423" y="562"/>
                </a:lnTo>
                <a:lnTo>
                  <a:pt x="1423" y="529"/>
                </a:lnTo>
                <a:lnTo>
                  <a:pt x="1423" y="512"/>
                </a:lnTo>
                <a:lnTo>
                  <a:pt x="1406" y="479"/>
                </a:lnTo>
                <a:lnTo>
                  <a:pt x="1389" y="463"/>
                </a:lnTo>
                <a:lnTo>
                  <a:pt x="1389" y="429"/>
                </a:lnTo>
                <a:lnTo>
                  <a:pt x="1373" y="413"/>
                </a:lnTo>
                <a:lnTo>
                  <a:pt x="1356" y="380"/>
                </a:lnTo>
                <a:lnTo>
                  <a:pt x="1356" y="363"/>
                </a:lnTo>
                <a:lnTo>
                  <a:pt x="1340" y="330"/>
                </a:lnTo>
                <a:lnTo>
                  <a:pt x="1323" y="314"/>
                </a:lnTo>
                <a:lnTo>
                  <a:pt x="1307" y="297"/>
                </a:lnTo>
                <a:lnTo>
                  <a:pt x="1290" y="264"/>
                </a:lnTo>
                <a:lnTo>
                  <a:pt x="1274" y="248"/>
                </a:lnTo>
                <a:lnTo>
                  <a:pt x="1257" y="231"/>
                </a:lnTo>
                <a:lnTo>
                  <a:pt x="1241" y="214"/>
                </a:lnTo>
                <a:lnTo>
                  <a:pt x="1208" y="181"/>
                </a:lnTo>
                <a:lnTo>
                  <a:pt x="1191" y="165"/>
                </a:lnTo>
                <a:lnTo>
                  <a:pt x="1175" y="148"/>
                </a:lnTo>
                <a:lnTo>
                  <a:pt x="1158" y="132"/>
                </a:lnTo>
                <a:lnTo>
                  <a:pt x="1125" y="115"/>
                </a:lnTo>
                <a:lnTo>
                  <a:pt x="1109" y="99"/>
                </a:lnTo>
                <a:lnTo>
                  <a:pt x="1092" y="99"/>
                </a:lnTo>
                <a:lnTo>
                  <a:pt x="1058" y="82"/>
                </a:lnTo>
                <a:lnTo>
                  <a:pt x="1041" y="66"/>
                </a:lnTo>
                <a:lnTo>
                  <a:pt x="1008" y="49"/>
                </a:lnTo>
                <a:lnTo>
                  <a:pt x="992" y="49"/>
                </a:lnTo>
                <a:lnTo>
                  <a:pt x="959" y="33"/>
                </a:lnTo>
                <a:lnTo>
                  <a:pt x="942" y="33"/>
                </a:lnTo>
                <a:lnTo>
                  <a:pt x="909" y="16"/>
                </a:lnTo>
                <a:lnTo>
                  <a:pt x="876" y="16"/>
                </a:lnTo>
                <a:lnTo>
                  <a:pt x="860" y="0"/>
                </a:lnTo>
                <a:lnTo>
                  <a:pt x="827" y="0"/>
                </a:lnTo>
                <a:lnTo>
                  <a:pt x="810" y="0"/>
                </a:lnTo>
                <a:lnTo>
                  <a:pt x="777" y="0"/>
                </a:lnTo>
                <a:lnTo>
                  <a:pt x="744" y="0"/>
                </a:lnTo>
                <a:lnTo>
                  <a:pt x="728" y="0"/>
                </a:lnTo>
                <a:lnTo>
                  <a:pt x="694" y="0"/>
                </a:lnTo>
                <a:lnTo>
                  <a:pt x="661" y="0"/>
                </a:lnTo>
                <a:lnTo>
                  <a:pt x="645" y="0"/>
                </a:lnTo>
                <a:lnTo>
                  <a:pt x="612" y="0"/>
                </a:lnTo>
                <a:lnTo>
                  <a:pt x="579" y="0"/>
                </a:lnTo>
                <a:lnTo>
                  <a:pt x="562" y="16"/>
                </a:lnTo>
                <a:lnTo>
                  <a:pt x="529" y="16"/>
                </a:lnTo>
                <a:lnTo>
                  <a:pt x="513" y="33"/>
                </a:lnTo>
                <a:lnTo>
                  <a:pt x="480" y="33"/>
                </a:lnTo>
                <a:lnTo>
                  <a:pt x="463" y="49"/>
                </a:lnTo>
                <a:lnTo>
                  <a:pt x="430" y="49"/>
                </a:lnTo>
                <a:lnTo>
                  <a:pt x="414" y="66"/>
                </a:lnTo>
                <a:lnTo>
                  <a:pt x="381" y="82"/>
                </a:lnTo>
                <a:lnTo>
                  <a:pt x="364" y="99"/>
                </a:lnTo>
                <a:lnTo>
                  <a:pt x="330" y="99"/>
                </a:lnTo>
                <a:lnTo>
                  <a:pt x="313" y="115"/>
                </a:lnTo>
                <a:lnTo>
                  <a:pt x="297" y="132"/>
                </a:lnTo>
                <a:lnTo>
                  <a:pt x="264" y="148"/>
                </a:lnTo>
                <a:lnTo>
                  <a:pt x="247" y="165"/>
                </a:lnTo>
                <a:lnTo>
                  <a:pt x="231" y="181"/>
                </a:lnTo>
                <a:lnTo>
                  <a:pt x="214" y="214"/>
                </a:lnTo>
                <a:lnTo>
                  <a:pt x="181" y="231"/>
                </a:lnTo>
                <a:lnTo>
                  <a:pt x="165" y="248"/>
                </a:lnTo>
                <a:lnTo>
                  <a:pt x="148" y="264"/>
                </a:lnTo>
                <a:lnTo>
                  <a:pt x="132" y="297"/>
                </a:lnTo>
                <a:lnTo>
                  <a:pt x="115" y="314"/>
                </a:lnTo>
                <a:lnTo>
                  <a:pt x="115" y="330"/>
                </a:lnTo>
                <a:lnTo>
                  <a:pt x="99" y="363"/>
                </a:lnTo>
                <a:lnTo>
                  <a:pt x="82" y="380"/>
                </a:lnTo>
                <a:lnTo>
                  <a:pt x="66" y="413"/>
                </a:lnTo>
                <a:lnTo>
                  <a:pt x="49" y="429"/>
                </a:lnTo>
                <a:lnTo>
                  <a:pt x="49" y="463"/>
                </a:lnTo>
                <a:lnTo>
                  <a:pt x="33" y="479"/>
                </a:lnTo>
                <a:lnTo>
                  <a:pt x="33" y="512"/>
                </a:lnTo>
                <a:lnTo>
                  <a:pt x="16" y="529"/>
                </a:lnTo>
                <a:lnTo>
                  <a:pt x="16" y="562"/>
                </a:lnTo>
                <a:lnTo>
                  <a:pt x="16" y="578"/>
                </a:lnTo>
                <a:lnTo>
                  <a:pt x="0" y="611"/>
                </a:lnTo>
                <a:lnTo>
                  <a:pt x="0" y="644"/>
                </a:lnTo>
                <a:lnTo>
                  <a:pt x="0" y="661"/>
                </a:lnTo>
                <a:lnTo>
                  <a:pt x="0" y="694"/>
                </a:lnTo>
                <a:lnTo>
                  <a:pt x="0" y="727"/>
                </a:lnTo>
                <a:lnTo>
                  <a:pt x="0" y="745"/>
                </a:lnTo>
                <a:lnTo>
                  <a:pt x="0" y="778"/>
                </a:lnTo>
                <a:lnTo>
                  <a:pt x="0" y="811"/>
                </a:lnTo>
                <a:lnTo>
                  <a:pt x="0" y="827"/>
                </a:lnTo>
                <a:lnTo>
                  <a:pt x="16" y="860"/>
                </a:lnTo>
                <a:lnTo>
                  <a:pt x="16" y="877"/>
                </a:lnTo>
                <a:lnTo>
                  <a:pt x="16" y="910"/>
                </a:lnTo>
                <a:lnTo>
                  <a:pt x="33" y="943"/>
                </a:lnTo>
                <a:lnTo>
                  <a:pt x="33" y="960"/>
                </a:lnTo>
                <a:lnTo>
                  <a:pt x="49" y="993"/>
                </a:lnTo>
                <a:lnTo>
                  <a:pt x="49" y="1009"/>
                </a:lnTo>
                <a:lnTo>
                  <a:pt x="66" y="1042"/>
                </a:lnTo>
                <a:lnTo>
                  <a:pt x="82" y="1059"/>
                </a:lnTo>
                <a:lnTo>
                  <a:pt x="99" y="1092"/>
                </a:lnTo>
                <a:lnTo>
                  <a:pt x="115" y="1108"/>
                </a:lnTo>
                <a:lnTo>
                  <a:pt x="115" y="1125"/>
                </a:lnTo>
                <a:lnTo>
                  <a:pt x="132" y="1158"/>
                </a:lnTo>
                <a:lnTo>
                  <a:pt x="148" y="1175"/>
                </a:lnTo>
                <a:lnTo>
                  <a:pt x="165" y="1191"/>
                </a:lnTo>
                <a:lnTo>
                  <a:pt x="181" y="1224"/>
                </a:lnTo>
                <a:lnTo>
                  <a:pt x="214" y="1241"/>
                </a:lnTo>
                <a:lnTo>
                  <a:pt x="231" y="1257"/>
                </a:lnTo>
                <a:lnTo>
                  <a:pt x="247" y="1274"/>
                </a:lnTo>
                <a:lnTo>
                  <a:pt x="264" y="1290"/>
                </a:lnTo>
                <a:lnTo>
                  <a:pt x="297" y="1307"/>
                </a:lnTo>
                <a:lnTo>
                  <a:pt x="313" y="1323"/>
                </a:lnTo>
                <a:lnTo>
                  <a:pt x="330" y="1340"/>
                </a:lnTo>
                <a:lnTo>
                  <a:pt x="364" y="1356"/>
                </a:lnTo>
                <a:lnTo>
                  <a:pt x="381" y="1373"/>
                </a:lnTo>
                <a:lnTo>
                  <a:pt x="414" y="1373"/>
                </a:lnTo>
                <a:lnTo>
                  <a:pt x="430" y="1390"/>
                </a:lnTo>
                <a:lnTo>
                  <a:pt x="463" y="1406"/>
                </a:lnTo>
                <a:lnTo>
                  <a:pt x="480" y="1406"/>
                </a:lnTo>
                <a:lnTo>
                  <a:pt x="513" y="1423"/>
                </a:lnTo>
                <a:lnTo>
                  <a:pt x="529" y="1423"/>
                </a:lnTo>
                <a:lnTo>
                  <a:pt x="562" y="1423"/>
                </a:lnTo>
                <a:lnTo>
                  <a:pt x="579" y="1439"/>
                </a:lnTo>
                <a:lnTo>
                  <a:pt x="612" y="1439"/>
                </a:lnTo>
                <a:lnTo>
                  <a:pt x="645" y="1439"/>
                </a:lnTo>
                <a:lnTo>
                  <a:pt x="661" y="1439"/>
                </a:lnTo>
                <a:lnTo>
                  <a:pt x="694" y="1456"/>
                </a:lnTo>
                <a:lnTo>
                  <a:pt x="728" y="1456"/>
                </a:lnTo>
                <a:lnTo>
                  <a:pt x="744" y="1456"/>
                </a:lnTo>
                <a:lnTo>
                  <a:pt x="777" y="1439"/>
                </a:lnTo>
                <a:lnTo>
                  <a:pt x="810" y="1439"/>
                </a:lnTo>
                <a:lnTo>
                  <a:pt x="827" y="1439"/>
                </a:lnTo>
                <a:lnTo>
                  <a:pt x="860" y="1439"/>
                </a:lnTo>
                <a:lnTo>
                  <a:pt x="876" y="1423"/>
                </a:lnTo>
                <a:lnTo>
                  <a:pt x="909" y="1423"/>
                </a:lnTo>
                <a:lnTo>
                  <a:pt x="942" y="1423"/>
                </a:lnTo>
                <a:lnTo>
                  <a:pt x="959" y="1406"/>
                </a:lnTo>
                <a:lnTo>
                  <a:pt x="992" y="1406"/>
                </a:lnTo>
                <a:lnTo>
                  <a:pt x="1008" y="1390"/>
                </a:lnTo>
                <a:lnTo>
                  <a:pt x="1041" y="1373"/>
                </a:lnTo>
                <a:lnTo>
                  <a:pt x="1058" y="1373"/>
                </a:lnTo>
                <a:lnTo>
                  <a:pt x="1092" y="1356"/>
                </a:lnTo>
                <a:lnTo>
                  <a:pt x="1109" y="1340"/>
                </a:lnTo>
                <a:lnTo>
                  <a:pt x="1125" y="1323"/>
                </a:lnTo>
                <a:lnTo>
                  <a:pt x="1158" y="1307"/>
                </a:lnTo>
                <a:lnTo>
                  <a:pt x="1175" y="1290"/>
                </a:lnTo>
                <a:lnTo>
                  <a:pt x="1191" y="1274"/>
                </a:lnTo>
                <a:lnTo>
                  <a:pt x="1208" y="1257"/>
                </a:lnTo>
                <a:lnTo>
                  <a:pt x="1241" y="1241"/>
                </a:lnTo>
                <a:lnTo>
                  <a:pt x="1257" y="1224"/>
                </a:lnTo>
                <a:lnTo>
                  <a:pt x="1274" y="1191"/>
                </a:lnTo>
                <a:lnTo>
                  <a:pt x="1290" y="1175"/>
                </a:lnTo>
                <a:lnTo>
                  <a:pt x="1307" y="1158"/>
                </a:lnTo>
                <a:lnTo>
                  <a:pt x="1323" y="1125"/>
                </a:lnTo>
                <a:lnTo>
                  <a:pt x="1340" y="1108"/>
                </a:lnTo>
                <a:lnTo>
                  <a:pt x="1356" y="1092"/>
                </a:lnTo>
                <a:lnTo>
                  <a:pt x="1356" y="1059"/>
                </a:lnTo>
                <a:lnTo>
                  <a:pt x="1373" y="1042"/>
                </a:lnTo>
                <a:lnTo>
                  <a:pt x="1389" y="1009"/>
                </a:lnTo>
                <a:lnTo>
                  <a:pt x="1389" y="993"/>
                </a:lnTo>
                <a:lnTo>
                  <a:pt x="1406" y="960"/>
                </a:lnTo>
                <a:lnTo>
                  <a:pt x="1423" y="943"/>
                </a:lnTo>
                <a:lnTo>
                  <a:pt x="1423" y="910"/>
                </a:lnTo>
                <a:lnTo>
                  <a:pt x="1423" y="877"/>
                </a:lnTo>
                <a:lnTo>
                  <a:pt x="1439" y="860"/>
                </a:lnTo>
                <a:lnTo>
                  <a:pt x="1439" y="827"/>
                </a:lnTo>
                <a:lnTo>
                  <a:pt x="1439" y="811"/>
                </a:lnTo>
                <a:lnTo>
                  <a:pt x="1439" y="778"/>
                </a:lnTo>
                <a:lnTo>
                  <a:pt x="1439" y="745"/>
                </a:lnTo>
                <a:lnTo>
                  <a:pt x="1439" y="727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004160" y="5146560"/>
            <a:ext cx="0" cy="4111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004160" y="5670720"/>
            <a:ext cx="0" cy="1126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7004160" y="5891040"/>
            <a:ext cx="0" cy="4096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724800" y="5486400"/>
            <a:ext cx="0" cy="123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724800" y="5664240"/>
            <a:ext cx="0" cy="1126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724800" y="5837400"/>
            <a:ext cx="0" cy="1252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83520" y="5486400"/>
            <a:ext cx="0" cy="123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283520" y="5664240"/>
            <a:ext cx="0" cy="1126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7283520" y="5837400"/>
            <a:ext cx="0" cy="1252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4843440" y="3533760"/>
            <a:ext cx="0" cy="9414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8290080" y="3533760"/>
            <a:ext cx="0" cy="9288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040360" y="4361040"/>
            <a:ext cx="12621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6831000" y="4361040"/>
            <a:ext cx="12682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4843440" y="4330800"/>
            <a:ext cx="197280" cy="65520"/>
          </a:xfrm>
          <a:custGeom>
            <a:avLst/>
            <a:gdLst/>
            <a:ahLst/>
            <a:rect l="0" t="0" r="r" b="b"/>
            <a:pathLst>
              <a:path w="548" h="182">
                <a:moveTo>
                  <a:pt x="548" y="0"/>
                </a:moveTo>
                <a:lnTo>
                  <a:pt x="548" y="182"/>
                </a:lnTo>
                <a:lnTo>
                  <a:pt x="0" y="83"/>
                </a:lnTo>
                <a:lnTo>
                  <a:pt x="548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8099280" y="4330800"/>
            <a:ext cx="190800" cy="65520"/>
          </a:xfrm>
          <a:custGeom>
            <a:avLst/>
            <a:gdLst/>
            <a:ahLst/>
            <a:rect l="0" t="0" r="r" b="b"/>
            <a:pathLst>
              <a:path w="530" h="182">
                <a:moveTo>
                  <a:pt x="0" y="0"/>
                </a:moveTo>
                <a:lnTo>
                  <a:pt x="0" y="182"/>
                </a:lnTo>
                <a:lnTo>
                  <a:pt x="53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087800" y="1449360"/>
            <a:ext cx="4202640" cy="1994400"/>
          </a:xfrm>
          <a:custGeom>
            <a:avLst/>
            <a:gdLst/>
            <a:ahLst/>
            <a:rect l="0" t="0" r="r" b="b"/>
            <a:pathLst>
              <a:path fill="none" w="11674" h="5540">
                <a:moveTo>
                  <a:pt x="11674" y="0"/>
                </a:moveTo>
                <a:lnTo>
                  <a:pt x="11674" y="5540"/>
                </a:lnTo>
                <a:lnTo>
                  <a:pt x="0" y="5540"/>
                </a:lnTo>
                <a:lnTo>
                  <a:pt x="0" y="0"/>
                </a:lnTo>
                <a:lnTo>
                  <a:pt x="11674" y="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H="1">
            <a:off x="3659040" y="3443400"/>
            <a:ext cx="1184400" cy="3571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3146400" y="3616200"/>
            <a:ext cx="518040" cy="518040"/>
          </a:xfrm>
          <a:custGeom>
            <a:avLst/>
            <a:gdLst/>
            <a:ahLst/>
            <a:rect l="0" t="0" r="r" b="b"/>
            <a:pathLst>
              <a:path fill="none" w="1439" h="1439">
                <a:moveTo>
                  <a:pt x="0" y="728"/>
                </a:moveTo>
                <a:lnTo>
                  <a:pt x="1439" y="728"/>
                </a:lnTo>
                <a:lnTo>
                  <a:pt x="1439" y="694"/>
                </a:lnTo>
                <a:lnTo>
                  <a:pt x="1439" y="661"/>
                </a:lnTo>
                <a:lnTo>
                  <a:pt x="1439" y="645"/>
                </a:lnTo>
                <a:lnTo>
                  <a:pt x="1439" y="612"/>
                </a:lnTo>
                <a:lnTo>
                  <a:pt x="1439" y="579"/>
                </a:lnTo>
                <a:lnTo>
                  <a:pt x="1423" y="562"/>
                </a:lnTo>
                <a:lnTo>
                  <a:pt x="1423" y="529"/>
                </a:lnTo>
                <a:lnTo>
                  <a:pt x="1423" y="513"/>
                </a:lnTo>
                <a:lnTo>
                  <a:pt x="1406" y="480"/>
                </a:lnTo>
                <a:lnTo>
                  <a:pt x="1389" y="447"/>
                </a:lnTo>
                <a:lnTo>
                  <a:pt x="1389" y="430"/>
                </a:lnTo>
                <a:lnTo>
                  <a:pt x="1373" y="397"/>
                </a:lnTo>
                <a:lnTo>
                  <a:pt x="1356" y="381"/>
                </a:lnTo>
                <a:lnTo>
                  <a:pt x="1356" y="364"/>
                </a:lnTo>
                <a:lnTo>
                  <a:pt x="1340" y="330"/>
                </a:lnTo>
                <a:lnTo>
                  <a:pt x="1323" y="313"/>
                </a:lnTo>
                <a:lnTo>
                  <a:pt x="1307" y="280"/>
                </a:lnTo>
                <a:lnTo>
                  <a:pt x="1290" y="264"/>
                </a:lnTo>
                <a:lnTo>
                  <a:pt x="1274" y="247"/>
                </a:lnTo>
                <a:lnTo>
                  <a:pt x="1257" y="231"/>
                </a:lnTo>
                <a:lnTo>
                  <a:pt x="1241" y="198"/>
                </a:lnTo>
                <a:lnTo>
                  <a:pt x="1208" y="181"/>
                </a:lnTo>
                <a:lnTo>
                  <a:pt x="1191" y="165"/>
                </a:lnTo>
                <a:lnTo>
                  <a:pt x="1175" y="148"/>
                </a:lnTo>
                <a:lnTo>
                  <a:pt x="1158" y="132"/>
                </a:lnTo>
                <a:lnTo>
                  <a:pt x="1125" y="115"/>
                </a:lnTo>
                <a:lnTo>
                  <a:pt x="1109" y="99"/>
                </a:lnTo>
                <a:lnTo>
                  <a:pt x="1092" y="82"/>
                </a:lnTo>
                <a:lnTo>
                  <a:pt x="1058" y="82"/>
                </a:lnTo>
                <a:lnTo>
                  <a:pt x="1041" y="66"/>
                </a:lnTo>
                <a:lnTo>
                  <a:pt x="1008" y="49"/>
                </a:lnTo>
                <a:lnTo>
                  <a:pt x="992" y="49"/>
                </a:lnTo>
                <a:lnTo>
                  <a:pt x="959" y="33"/>
                </a:lnTo>
                <a:lnTo>
                  <a:pt x="942" y="16"/>
                </a:lnTo>
                <a:lnTo>
                  <a:pt x="909" y="16"/>
                </a:lnTo>
                <a:lnTo>
                  <a:pt x="876" y="16"/>
                </a:lnTo>
                <a:lnTo>
                  <a:pt x="860" y="0"/>
                </a:lnTo>
                <a:lnTo>
                  <a:pt x="827" y="0"/>
                </a:lnTo>
                <a:lnTo>
                  <a:pt x="810" y="0"/>
                </a:lnTo>
                <a:lnTo>
                  <a:pt x="777" y="0"/>
                </a:lnTo>
                <a:lnTo>
                  <a:pt x="744" y="0"/>
                </a:lnTo>
                <a:lnTo>
                  <a:pt x="728" y="0"/>
                </a:lnTo>
                <a:lnTo>
                  <a:pt x="694" y="0"/>
                </a:lnTo>
                <a:lnTo>
                  <a:pt x="661" y="0"/>
                </a:lnTo>
                <a:lnTo>
                  <a:pt x="645" y="0"/>
                </a:lnTo>
                <a:lnTo>
                  <a:pt x="612" y="0"/>
                </a:lnTo>
                <a:lnTo>
                  <a:pt x="579" y="0"/>
                </a:lnTo>
                <a:lnTo>
                  <a:pt x="562" y="16"/>
                </a:lnTo>
                <a:lnTo>
                  <a:pt x="529" y="16"/>
                </a:lnTo>
                <a:lnTo>
                  <a:pt x="513" y="16"/>
                </a:lnTo>
                <a:lnTo>
                  <a:pt x="480" y="33"/>
                </a:lnTo>
                <a:lnTo>
                  <a:pt x="463" y="49"/>
                </a:lnTo>
                <a:lnTo>
                  <a:pt x="430" y="49"/>
                </a:lnTo>
                <a:lnTo>
                  <a:pt x="414" y="66"/>
                </a:lnTo>
                <a:lnTo>
                  <a:pt x="381" y="82"/>
                </a:lnTo>
                <a:lnTo>
                  <a:pt x="364" y="82"/>
                </a:lnTo>
                <a:lnTo>
                  <a:pt x="330" y="99"/>
                </a:lnTo>
                <a:lnTo>
                  <a:pt x="313" y="115"/>
                </a:lnTo>
                <a:lnTo>
                  <a:pt x="297" y="132"/>
                </a:lnTo>
                <a:lnTo>
                  <a:pt x="264" y="148"/>
                </a:lnTo>
                <a:lnTo>
                  <a:pt x="247" y="165"/>
                </a:lnTo>
                <a:lnTo>
                  <a:pt x="231" y="181"/>
                </a:lnTo>
                <a:lnTo>
                  <a:pt x="214" y="198"/>
                </a:lnTo>
                <a:lnTo>
                  <a:pt x="181" y="231"/>
                </a:lnTo>
                <a:lnTo>
                  <a:pt x="165" y="247"/>
                </a:lnTo>
                <a:lnTo>
                  <a:pt x="148" y="264"/>
                </a:lnTo>
                <a:lnTo>
                  <a:pt x="132" y="280"/>
                </a:lnTo>
                <a:lnTo>
                  <a:pt x="115" y="313"/>
                </a:lnTo>
                <a:lnTo>
                  <a:pt x="115" y="330"/>
                </a:lnTo>
                <a:lnTo>
                  <a:pt x="99" y="364"/>
                </a:lnTo>
                <a:lnTo>
                  <a:pt x="82" y="381"/>
                </a:lnTo>
                <a:lnTo>
                  <a:pt x="66" y="397"/>
                </a:lnTo>
                <a:lnTo>
                  <a:pt x="49" y="430"/>
                </a:lnTo>
                <a:lnTo>
                  <a:pt x="49" y="447"/>
                </a:lnTo>
                <a:lnTo>
                  <a:pt x="33" y="480"/>
                </a:lnTo>
                <a:lnTo>
                  <a:pt x="33" y="513"/>
                </a:lnTo>
                <a:lnTo>
                  <a:pt x="16" y="529"/>
                </a:lnTo>
                <a:lnTo>
                  <a:pt x="16" y="562"/>
                </a:lnTo>
                <a:lnTo>
                  <a:pt x="16" y="579"/>
                </a:lnTo>
                <a:lnTo>
                  <a:pt x="0" y="612"/>
                </a:lnTo>
                <a:lnTo>
                  <a:pt x="0" y="645"/>
                </a:lnTo>
                <a:lnTo>
                  <a:pt x="0" y="661"/>
                </a:lnTo>
                <a:lnTo>
                  <a:pt x="0" y="694"/>
                </a:lnTo>
                <a:lnTo>
                  <a:pt x="0" y="728"/>
                </a:lnTo>
                <a:lnTo>
                  <a:pt x="0" y="744"/>
                </a:lnTo>
                <a:lnTo>
                  <a:pt x="0" y="777"/>
                </a:lnTo>
                <a:lnTo>
                  <a:pt x="0" y="794"/>
                </a:lnTo>
                <a:lnTo>
                  <a:pt x="0" y="827"/>
                </a:lnTo>
                <a:lnTo>
                  <a:pt x="16" y="860"/>
                </a:lnTo>
                <a:lnTo>
                  <a:pt x="16" y="876"/>
                </a:lnTo>
                <a:lnTo>
                  <a:pt x="16" y="909"/>
                </a:lnTo>
                <a:lnTo>
                  <a:pt x="33" y="926"/>
                </a:lnTo>
                <a:lnTo>
                  <a:pt x="33" y="959"/>
                </a:lnTo>
                <a:lnTo>
                  <a:pt x="49" y="992"/>
                </a:lnTo>
                <a:lnTo>
                  <a:pt x="49" y="1008"/>
                </a:lnTo>
                <a:lnTo>
                  <a:pt x="66" y="1041"/>
                </a:lnTo>
                <a:lnTo>
                  <a:pt x="82" y="1058"/>
                </a:lnTo>
                <a:lnTo>
                  <a:pt x="99" y="1075"/>
                </a:lnTo>
                <a:lnTo>
                  <a:pt x="115" y="1109"/>
                </a:lnTo>
                <a:lnTo>
                  <a:pt x="115" y="1125"/>
                </a:lnTo>
                <a:lnTo>
                  <a:pt x="132" y="1158"/>
                </a:lnTo>
                <a:lnTo>
                  <a:pt x="148" y="1175"/>
                </a:lnTo>
                <a:lnTo>
                  <a:pt x="165" y="1191"/>
                </a:lnTo>
                <a:lnTo>
                  <a:pt x="181" y="1208"/>
                </a:lnTo>
                <a:lnTo>
                  <a:pt x="214" y="1241"/>
                </a:lnTo>
                <a:lnTo>
                  <a:pt x="231" y="1257"/>
                </a:lnTo>
                <a:lnTo>
                  <a:pt x="247" y="1274"/>
                </a:lnTo>
                <a:lnTo>
                  <a:pt x="264" y="1290"/>
                </a:lnTo>
                <a:lnTo>
                  <a:pt x="297" y="1307"/>
                </a:lnTo>
                <a:lnTo>
                  <a:pt x="313" y="1323"/>
                </a:lnTo>
                <a:lnTo>
                  <a:pt x="330" y="1340"/>
                </a:lnTo>
                <a:lnTo>
                  <a:pt x="364" y="1356"/>
                </a:lnTo>
                <a:lnTo>
                  <a:pt x="381" y="1356"/>
                </a:lnTo>
                <a:lnTo>
                  <a:pt x="414" y="1373"/>
                </a:lnTo>
                <a:lnTo>
                  <a:pt x="430" y="1389"/>
                </a:lnTo>
                <a:lnTo>
                  <a:pt x="463" y="1389"/>
                </a:lnTo>
                <a:lnTo>
                  <a:pt x="480" y="1406"/>
                </a:lnTo>
                <a:lnTo>
                  <a:pt x="513" y="1406"/>
                </a:lnTo>
                <a:lnTo>
                  <a:pt x="529" y="1423"/>
                </a:lnTo>
                <a:lnTo>
                  <a:pt x="562" y="1423"/>
                </a:lnTo>
                <a:lnTo>
                  <a:pt x="579" y="1439"/>
                </a:lnTo>
                <a:lnTo>
                  <a:pt x="612" y="1439"/>
                </a:lnTo>
                <a:lnTo>
                  <a:pt x="645" y="1439"/>
                </a:lnTo>
                <a:lnTo>
                  <a:pt x="661" y="1439"/>
                </a:lnTo>
                <a:lnTo>
                  <a:pt x="694" y="1439"/>
                </a:lnTo>
                <a:lnTo>
                  <a:pt x="728" y="1439"/>
                </a:lnTo>
                <a:lnTo>
                  <a:pt x="744" y="1439"/>
                </a:lnTo>
                <a:lnTo>
                  <a:pt x="777" y="1439"/>
                </a:lnTo>
                <a:lnTo>
                  <a:pt x="810" y="1439"/>
                </a:lnTo>
                <a:lnTo>
                  <a:pt x="827" y="1439"/>
                </a:lnTo>
                <a:lnTo>
                  <a:pt x="860" y="1439"/>
                </a:lnTo>
                <a:lnTo>
                  <a:pt x="876" y="1423"/>
                </a:lnTo>
                <a:lnTo>
                  <a:pt x="909" y="1423"/>
                </a:lnTo>
                <a:lnTo>
                  <a:pt x="942" y="1406"/>
                </a:lnTo>
                <a:lnTo>
                  <a:pt x="959" y="1406"/>
                </a:lnTo>
                <a:lnTo>
                  <a:pt x="992" y="1389"/>
                </a:lnTo>
                <a:lnTo>
                  <a:pt x="1008" y="1389"/>
                </a:lnTo>
                <a:lnTo>
                  <a:pt x="1041" y="1373"/>
                </a:lnTo>
                <a:lnTo>
                  <a:pt x="1058" y="1356"/>
                </a:lnTo>
                <a:lnTo>
                  <a:pt x="1092" y="1356"/>
                </a:lnTo>
                <a:lnTo>
                  <a:pt x="1109" y="1340"/>
                </a:lnTo>
                <a:lnTo>
                  <a:pt x="1125" y="1323"/>
                </a:lnTo>
                <a:lnTo>
                  <a:pt x="1158" y="1307"/>
                </a:lnTo>
                <a:lnTo>
                  <a:pt x="1175" y="1290"/>
                </a:lnTo>
                <a:lnTo>
                  <a:pt x="1191" y="1274"/>
                </a:lnTo>
                <a:lnTo>
                  <a:pt x="1208" y="1257"/>
                </a:lnTo>
                <a:lnTo>
                  <a:pt x="1241" y="1241"/>
                </a:lnTo>
                <a:lnTo>
                  <a:pt x="1257" y="1208"/>
                </a:lnTo>
                <a:lnTo>
                  <a:pt x="1274" y="1191"/>
                </a:lnTo>
                <a:lnTo>
                  <a:pt x="1290" y="1175"/>
                </a:lnTo>
                <a:lnTo>
                  <a:pt x="1307" y="1158"/>
                </a:lnTo>
                <a:lnTo>
                  <a:pt x="1323" y="1125"/>
                </a:lnTo>
                <a:lnTo>
                  <a:pt x="1340" y="1109"/>
                </a:lnTo>
                <a:lnTo>
                  <a:pt x="1356" y="1075"/>
                </a:lnTo>
                <a:lnTo>
                  <a:pt x="1356" y="1058"/>
                </a:lnTo>
                <a:lnTo>
                  <a:pt x="1373" y="1041"/>
                </a:lnTo>
                <a:lnTo>
                  <a:pt x="1389" y="1008"/>
                </a:lnTo>
                <a:lnTo>
                  <a:pt x="1389" y="992"/>
                </a:lnTo>
                <a:lnTo>
                  <a:pt x="1406" y="959"/>
                </a:lnTo>
                <a:lnTo>
                  <a:pt x="1423" y="926"/>
                </a:lnTo>
                <a:lnTo>
                  <a:pt x="1423" y="909"/>
                </a:lnTo>
                <a:lnTo>
                  <a:pt x="1423" y="876"/>
                </a:lnTo>
                <a:lnTo>
                  <a:pt x="1439" y="860"/>
                </a:lnTo>
                <a:lnTo>
                  <a:pt x="1439" y="827"/>
                </a:lnTo>
                <a:lnTo>
                  <a:pt x="1439" y="794"/>
                </a:lnTo>
                <a:lnTo>
                  <a:pt x="1439" y="777"/>
                </a:lnTo>
                <a:lnTo>
                  <a:pt x="1439" y="744"/>
                </a:lnTo>
                <a:lnTo>
                  <a:pt x="1439" y="728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H="1" flipV="1">
            <a:off x="4694400" y="3295800"/>
            <a:ext cx="298440" cy="29664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4694400" y="3295800"/>
            <a:ext cx="298440" cy="29664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7004160" y="2538360"/>
            <a:ext cx="0" cy="2746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6326280" y="4194000"/>
            <a:ext cx="493920" cy="321120"/>
          </a:xfrm>
          <a:custGeom>
            <a:avLst/>
            <a:gdLst/>
            <a:ahLst/>
            <a:rect l="0" t="0" r="r" b="b"/>
            <a:pathLst>
              <a:path fill="none" w="1372" h="892">
                <a:moveTo>
                  <a:pt x="0" y="892"/>
                </a:moveTo>
                <a:lnTo>
                  <a:pt x="0" y="0"/>
                </a:lnTo>
                <a:lnTo>
                  <a:pt x="1372" y="0"/>
                </a:lnTo>
                <a:lnTo>
                  <a:pt x="1372" y="892"/>
                </a:lnTo>
                <a:lnTo>
                  <a:pt x="0" y="892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7421400" y="3443400"/>
            <a:ext cx="1717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7510320" y="3443400"/>
            <a:ext cx="82800" cy="149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7421400" y="3443400"/>
            <a:ext cx="171720" cy="149760"/>
          </a:xfrm>
          <a:custGeom>
            <a:avLst/>
            <a:gdLst/>
            <a:ahLst/>
            <a:rect l="0" t="0" r="r" b="b"/>
            <a:pathLst>
              <a:path w="477" h="416">
                <a:moveTo>
                  <a:pt x="477" y="0"/>
                </a:moveTo>
                <a:lnTo>
                  <a:pt x="247" y="416"/>
                </a:lnTo>
                <a:lnTo>
                  <a:pt x="0" y="0"/>
                </a:lnTo>
                <a:lnTo>
                  <a:pt x="477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421400" y="3443400"/>
            <a:ext cx="88920" cy="149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510320" y="3956040"/>
            <a:ext cx="1731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10320" y="3592440"/>
            <a:ext cx="0" cy="3571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724800" y="2152800"/>
            <a:ext cx="559080" cy="559080"/>
          </a:xfrm>
          <a:custGeom>
            <a:avLst/>
            <a:gdLst/>
            <a:ahLst/>
            <a:rect l="0" t="0" r="r" b="b"/>
            <a:pathLst>
              <a:path fill="none" w="1553" h="1553">
                <a:moveTo>
                  <a:pt x="1553" y="777"/>
                </a:moveTo>
                <a:lnTo>
                  <a:pt x="1553" y="743"/>
                </a:lnTo>
                <a:lnTo>
                  <a:pt x="1536" y="726"/>
                </a:lnTo>
                <a:lnTo>
                  <a:pt x="1536" y="693"/>
                </a:lnTo>
                <a:lnTo>
                  <a:pt x="1536" y="660"/>
                </a:lnTo>
                <a:lnTo>
                  <a:pt x="1536" y="627"/>
                </a:lnTo>
                <a:lnTo>
                  <a:pt x="1520" y="610"/>
                </a:lnTo>
                <a:lnTo>
                  <a:pt x="1520" y="577"/>
                </a:lnTo>
                <a:lnTo>
                  <a:pt x="1520" y="544"/>
                </a:lnTo>
                <a:lnTo>
                  <a:pt x="1503" y="528"/>
                </a:lnTo>
                <a:lnTo>
                  <a:pt x="1503" y="495"/>
                </a:lnTo>
                <a:lnTo>
                  <a:pt x="1487" y="478"/>
                </a:lnTo>
                <a:lnTo>
                  <a:pt x="1470" y="445"/>
                </a:lnTo>
                <a:lnTo>
                  <a:pt x="1454" y="429"/>
                </a:lnTo>
                <a:lnTo>
                  <a:pt x="1454" y="396"/>
                </a:lnTo>
                <a:lnTo>
                  <a:pt x="1437" y="379"/>
                </a:lnTo>
                <a:lnTo>
                  <a:pt x="1421" y="346"/>
                </a:lnTo>
                <a:lnTo>
                  <a:pt x="1404" y="330"/>
                </a:lnTo>
                <a:lnTo>
                  <a:pt x="1388" y="297"/>
                </a:lnTo>
                <a:lnTo>
                  <a:pt x="1371" y="280"/>
                </a:lnTo>
                <a:lnTo>
                  <a:pt x="1355" y="264"/>
                </a:lnTo>
                <a:lnTo>
                  <a:pt x="1338" y="231"/>
                </a:lnTo>
                <a:lnTo>
                  <a:pt x="1305" y="214"/>
                </a:lnTo>
                <a:lnTo>
                  <a:pt x="1289" y="198"/>
                </a:lnTo>
                <a:lnTo>
                  <a:pt x="1272" y="181"/>
                </a:lnTo>
                <a:lnTo>
                  <a:pt x="1239" y="165"/>
                </a:lnTo>
                <a:lnTo>
                  <a:pt x="1222" y="148"/>
                </a:lnTo>
                <a:lnTo>
                  <a:pt x="1206" y="132"/>
                </a:lnTo>
                <a:lnTo>
                  <a:pt x="1173" y="115"/>
                </a:lnTo>
                <a:lnTo>
                  <a:pt x="1156" y="99"/>
                </a:lnTo>
                <a:lnTo>
                  <a:pt x="1123" y="82"/>
                </a:lnTo>
                <a:lnTo>
                  <a:pt x="1107" y="82"/>
                </a:lnTo>
                <a:lnTo>
                  <a:pt x="1074" y="66"/>
                </a:lnTo>
                <a:lnTo>
                  <a:pt x="1057" y="49"/>
                </a:lnTo>
                <a:lnTo>
                  <a:pt x="1024" y="49"/>
                </a:lnTo>
                <a:lnTo>
                  <a:pt x="991" y="33"/>
                </a:lnTo>
                <a:lnTo>
                  <a:pt x="975" y="33"/>
                </a:lnTo>
                <a:lnTo>
                  <a:pt x="942" y="16"/>
                </a:lnTo>
                <a:lnTo>
                  <a:pt x="909" y="16"/>
                </a:lnTo>
                <a:lnTo>
                  <a:pt x="892" y="16"/>
                </a:lnTo>
                <a:lnTo>
                  <a:pt x="859" y="16"/>
                </a:lnTo>
                <a:lnTo>
                  <a:pt x="826" y="0"/>
                </a:lnTo>
                <a:lnTo>
                  <a:pt x="810" y="0"/>
                </a:lnTo>
                <a:lnTo>
                  <a:pt x="777" y="0"/>
                </a:lnTo>
                <a:lnTo>
                  <a:pt x="743" y="0"/>
                </a:lnTo>
                <a:lnTo>
                  <a:pt x="726" y="0"/>
                </a:lnTo>
                <a:lnTo>
                  <a:pt x="693" y="16"/>
                </a:lnTo>
                <a:lnTo>
                  <a:pt x="660" y="16"/>
                </a:lnTo>
                <a:lnTo>
                  <a:pt x="644" y="16"/>
                </a:lnTo>
                <a:lnTo>
                  <a:pt x="610" y="16"/>
                </a:lnTo>
                <a:lnTo>
                  <a:pt x="577" y="33"/>
                </a:lnTo>
                <a:lnTo>
                  <a:pt x="561" y="33"/>
                </a:lnTo>
                <a:lnTo>
                  <a:pt x="528" y="49"/>
                </a:lnTo>
                <a:lnTo>
                  <a:pt x="495" y="49"/>
                </a:lnTo>
                <a:lnTo>
                  <a:pt x="478" y="66"/>
                </a:lnTo>
                <a:lnTo>
                  <a:pt x="445" y="82"/>
                </a:lnTo>
                <a:lnTo>
                  <a:pt x="429" y="82"/>
                </a:lnTo>
                <a:lnTo>
                  <a:pt x="396" y="99"/>
                </a:lnTo>
                <a:lnTo>
                  <a:pt x="379" y="115"/>
                </a:lnTo>
                <a:lnTo>
                  <a:pt x="346" y="132"/>
                </a:lnTo>
                <a:lnTo>
                  <a:pt x="330" y="148"/>
                </a:lnTo>
                <a:lnTo>
                  <a:pt x="313" y="165"/>
                </a:lnTo>
                <a:lnTo>
                  <a:pt x="280" y="181"/>
                </a:lnTo>
                <a:lnTo>
                  <a:pt x="264" y="198"/>
                </a:lnTo>
                <a:lnTo>
                  <a:pt x="247" y="214"/>
                </a:lnTo>
                <a:lnTo>
                  <a:pt x="214" y="231"/>
                </a:lnTo>
                <a:lnTo>
                  <a:pt x="198" y="264"/>
                </a:lnTo>
                <a:lnTo>
                  <a:pt x="181" y="280"/>
                </a:lnTo>
                <a:lnTo>
                  <a:pt x="165" y="297"/>
                </a:lnTo>
                <a:lnTo>
                  <a:pt x="148" y="330"/>
                </a:lnTo>
                <a:lnTo>
                  <a:pt x="132" y="346"/>
                </a:lnTo>
                <a:lnTo>
                  <a:pt x="115" y="379"/>
                </a:lnTo>
                <a:lnTo>
                  <a:pt x="99" y="396"/>
                </a:lnTo>
                <a:lnTo>
                  <a:pt x="99" y="429"/>
                </a:lnTo>
                <a:lnTo>
                  <a:pt x="82" y="445"/>
                </a:lnTo>
                <a:lnTo>
                  <a:pt x="66" y="478"/>
                </a:lnTo>
                <a:lnTo>
                  <a:pt x="66" y="495"/>
                </a:lnTo>
                <a:lnTo>
                  <a:pt x="49" y="528"/>
                </a:lnTo>
                <a:lnTo>
                  <a:pt x="33" y="544"/>
                </a:lnTo>
                <a:lnTo>
                  <a:pt x="33" y="577"/>
                </a:lnTo>
                <a:lnTo>
                  <a:pt x="33" y="610"/>
                </a:lnTo>
                <a:lnTo>
                  <a:pt x="16" y="627"/>
                </a:lnTo>
                <a:lnTo>
                  <a:pt x="16" y="660"/>
                </a:lnTo>
                <a:lnTo>
                  <a:pt x="16" y="693"/>
                </a:lnTo>
                <a:lnTo>
                  <a:pt x="16" y="726"/>
                </a:lnTo>
                <a:lnTo>
                  <a:pt x="0" y="743"/>
                </a:lnTo>
                <a:lnTo>
                  <a:pt x="0" y="777"/>
                </a:lnTo>
                <a:lnTo>
                  <a:pt x="0" y="810"/>
                </a:lnTo>
                <a:lnTo>
                  <a:pt x="16" y="826"/>
                </a:lnTo>
                <a:lnTo>
                  <a:pt x="16" y="859"/>
                </a:lnTo>
                <a:lnTo>
                  <a:pt x="16" y="892"/>
                </a:lnTo>
                <a:lnTo>
                  <a:pt x="16" y="909"/>
                </a:lnTo>
                <a:lnTo>
                  <a:pt x="33" y="942"/>
                </a:lnTo>
                <a:lnTo>
                  <a:pt x="33" y="975"/>
                </a:lnTo>
                <a:lnTo>
                  <a:pt x="33" y="991"/>
                </a:lnTo>
                <a:lnTo>
                  <a:pt x="49" y="1024"/>
                </a:lnTo>
                <a:lnTo>
                  <a:pt x="66" y="1057"/>
                </a:lnTo>
                <a:lnTo>
                  <a:pt x="66" y="1074"/>
                </a:lnTo>
                <a:lnTo>
                  <a:pt x="82" y="1107"/>
                </a:lnTo>
                <a:lnTo>
                  <a:pt x="99" y="1123"/>
                </a:lnTo>
                <a:lnTo>
                  <a:pt x="99" y="1156"/>
                </a:lnTo>
                <a:lnTo>
                  <a:pt x="115" y="1173"/>
                </a:lnTo>
                <a:lnTo>
                  <a:pt x="132" y="1206"/>
                </a:lnTo>
                <a:lnTo>
                  <a:pt x="148" y="1222"/>
                </a:lnTo>
                <a:lnTo>
                  <a:pt x="165" y="1239"/>
                </a:lnTo>
                <a:lnTo>
                  <a:pt x="181" y="1272"/>
                </a:lnTo>
                <a:lnTo>
                  <a:pt x="198" y="1289"/>
                </a:lnTo>
                <a:lnTo>
                  <a:pt x="214" y="1305"/>
                </a:lnTo>
                <a:lnTo>
                  <a:pt x="247" y="1338"/>
                </a:lnTo>
                <a:lnTo>
                  <a:pt x="264" y="1355"/>
                </a:lnTo>
                <a:lnTo>
                  <a:pt x="280" y="1371"/>
                </a:lnTo>
                <a:lnTo>
                  <a:pt x="313" y="1388"/>
                </a:lnTo>
                <a:lnTo>
                  <a:pt x="330" y="1404"/>
                </a:lnTo>
                <a:lnTo>
                  <a:pt x="346" y="1421"/>
                </a:lnTo>
                <a:lnTo>
                  <a:pt x="379" y="1437"/>
                </a:lnTo>
                <a:lnTo>
                  <a:pt x="396" y="1454"/>
                </a:lnTo>
                <a:lnTo>
                  <a:pt x="429" y="1454"/>
                </a:lnTo>
                <a:lnTo>
                  <a:pt x="445" y="1470"/>
                </a:lnTo>
                <a:lnTo>
                  <a:pt x="478" y="1487"/>
                </a:lnTo>
                <a:lnTo>
                  <a:pt x="495" y="1503"/>
                </a:lnTo>
                <a:lnTo>
                  <a:pt x="528" y="1503"/>
                </a:lnTo>
                <a:lnTo>
                  <a:pt x="561" y="1520"/>
                </a:lnTo>
                <a:lnTo>
                  <a:pt x="577" y="1520"/>
                </a:lnTo>
                <a:lnTo>
                  <a:pt x="610" y="1520"/>
                </a:lnTo>
                <a:lnTo>
                  <a:pt x="644" y="1536"/>
                </a:lnTo>
                <a:lnTo>
                  <a:pt x="660" y="1536"/>
                </a:lnTo>
                <a:lnTo>
                  <a:pt x="693" y="1536"/>
                </a:lnTo>
                <a:lnTo>
                  <a:pt x="726" y="1536"/>
                </a:lnTo>
                <a:lnTo>
                  <a:pt x="743" y="1553"/>
                </a:lnTo>
                <a:lnTo>
                  <a:pt x="777" y="1553"/>
                </a:lnTo>
                <a:lnTo>
                  <a:pt x="810" y="1553"/>
                </a:lnTo>
                <a:lnTo>
                  <a:pt x="826" y="1536"/>
                </a:lnTo>
                <a:lnTo>
                  <a:pt x="859" y="1536"/>
                </a:lnTo>
                <a:lnTo>
                  <a:pt x="892" y="1536"/>
                </a:lnTo>
                <a:lnTo>
                  <a:pt x="909" y="1536"/>
                </a:lnTo>
                <a:lnTo>
                  <a:pt x="942" y="1520"/>
                </a:lnTo>
                <a:lnTo>
                  <a:pt x="975" y="1520"/>
                </a:lnTo>
                <a:lnTo>
                  <a:pt x="991" y="1520"/>
                </a:lnTo>
                <a:lnTo>
                  <a:pt x="1024" y="1503"/>
                </a:lnTo>
                <a:lnTo>
                  <a:pt x="1057" y="1503"/>
                </a:lnTo>
                <a:lnTo>
                  <a:pt x="1074" y="1487"/>
                </a:lnTo>
                <a:lnTo>
                  <a:pt x="1107" y="1470"/>
                </a:lnTo>
                <a:lnTo>
                  <a:pt x="1123" y="1454"/>
                </a:lnTo>
                <a:lnTo>
                  <a:pt x="1156" y="1454"/>
                </a:lnTo>
                <a:lnTo>
                  <a:pt x="1173" y="1437"/>
                </a:lnTo>
                <a:lnTo>
                  <a:pt x="1206" y="1421"/>
                </a:lnTo>
                <a:lnTo>
                  <a:pt x="1222" y="1404"/>
                </a:lnTo>
                <a:lnTo>
                  <a:pt x="1239" y="1388"/>
                </a:lnTo>
                <a:lnTo>
                  <a:pt x="1272" y="1371"/>
                </a:lnTo>
                <a:lnTo>
                  <a:pt x="1289" y="1355"/>
                </a:lnTo>
                <a:lnTo>
                  <a:pt x="1305" y="1338"/>
                </a:lnTo>
                <a:lnTo>
                  <a:pt x="1338" y="1305"/>
                </a:lnTo>
                <a:lnTo>
                  <a:pt x="1355" y="1289"/>
                </a:lnTo>
                <a:lnTo>
                  <a:pt x="1371" y="1272"/>
                </a:lnTo>
                <a:lnTo>
                  <a:pt x="1388" y="1239"/>
                </a:lnTo>
                <a:lnTo>
                  <a:pt x="1404" y="1222"/>
                </a:lnTo>
                <a:lnTo>
                  <a:pt x="1421" y="1206"/>
                </a:lnTo>
                <a:lnTo>
                  <a:pt x="1437" y="1173"/>
                </a:lnTo>
                <a:lnTo>
                  <a:pt x="1454" y="1156"/>
                </a:lnTo>
                <a:lnTo>
                  <a:pt x="1454" y="1123"/>
                </a:lnTo>
                <a:lnTo>
                  <a:pt x="1470" y="1107"/>
                </a:lnTo>
                <a:lnTo>
                  <a:pt x="1487" y="1074"/>
                </a:lnTo>
                <a:lnTo>
                  <a:pt x="1503" y="1057"/>
                </a:lnTo>
                <a:lnTo>
                  <a:pt x="1503" y="1024"/>
                </a:lnTo>
                <a:lnTo>
                  <a:pt x="1520" y="991"/>
                </a:lnTo>
                <a:lnTo>
                  <a:pt x="1520" y="975"/>
                </a:lnTo>
                <a:lnTo>
                  <a:pt x="1520" y="942"/>
                </a:lnTo>
                <a:lnTo>
                  <a:pt x="1536" y="909"/>
                </a:lnTo>
                <a:lnTo>
                  <a:pt x="1536" y="892"/>
                </a:lnTo>
                <a:lnTo>
                  <a:pt x="1536" y="859"/>
                </a:lnTo>
                <a:lnTo>
                  <a:pt x="1536" y="826"/>
                </a:lnTo>
                <a:lnTo>
                  <a:pt x="1553" y="810"/>
                </a:lnTo>
                <a:lnTo>
                  <a:pt x="1553" y="777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6622920" y="2432160"/>
            <a:ext cx="2746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7004160" y="2050920"/>
            <a:ext cx="0" cy="2732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7112160" y="2432160"/>
            <a:ext cx="2728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004160" y="2378160"/>
            <a:ext cx="0" cy="1080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6950160" y="2432160"/>
            <a:ext cx="1080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 txBox="1"/>
          <p:nvPr/>
        </p:nvSpPr>
        <p:spPr>
          <a:xfrm>
            <a:off x="3222720" y="3852720"/>
            <a:ext cx="433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 txBox="1"/>
          <p:nvPr/>
        </p:nvSpPr>
        <p:spPr>
          <a:xfrm>
            <a:off x="3198960" y="4807080"/>
            <a:ext cx="433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 txBox="1"/>
          <p:nvPr/>
        </p:nvSpPr>
        <p:spPr>
          <a:xfrm>
            <a:off x="1566720" y="279360"/>
            <a:ext cx="6012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 Line Desig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5210280" y="611172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7683480" y="3807000"/>
            <a:ext cx="297360" cy="298800"/>
          </a:xfrm>
          <a:custGeom>
            <a:avLst/>
            <a:gdLst/>
            <a:ahLst/>
            <a:rect l="0" t="0" r="r" b="b"/>
            <a:pathLst>
              <a:path fill="none" w="826" h="830">
                <a:moveTo>
                  <a:pt x="0" y="830"/>
                </a:moveTo>
                <a:lnTo>
                  <a:pt x="0" y="0"/>
                </a:lnTo>
                <a:lnTo>
                  <a:pt x="826" y="0"/>
                </a:lnTo>
                <a:lnTo>
                  <a:pt x="826" y="830"/>
                </a:lnTo>
                <a:lnTo>
                  <a:pt x="0" y="83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4087800" y="5486400"/>
            <a:ext cx="4202640" cy="476640"/>
          </a:xfrm>
          <a:custGeom>
            <a:avLst/>
            <a:gdLst/>
            <a:ahLst/>
            <a:rect l="0" t="0" r="r" b="b"/>
            <a:pathLst>
              <a:path fill="none" w="11674" h="1324">
                <a:moveTo>
                  <a:pt x="11674" y="1324"/>
                </a:moveTo>
                <a:lnTo>
                  <a:pt x="11674" y="0"/>
                </a:lnTo>
                <a:lnTo>
                  <a:pt x="0" y="0"/>
                </a:lnTo>
                <a:lnTo>
                  <a:pt x="0" y="1324"/>
                </a:lnTo>
                <a:lnTo>
                  <a:pt x="11674" y="1324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4843440" y="5146560"/>
            <a:ext cx="0" cy="1214640"/>
            <a:chOff x="4843440" y="5146560"/>
            <a:chExt cx="0" cy="1214640"/>
          </a:xfrm>
        </p:grpSpPr>
        <p:sp>
          <p:nvSpPr>
            <p:cNvPr id="911" name=""/>
            <p:cNvSpPr/>
            <p:nvPr/>
          </p:nvSpPr>
          <p:spPr>
            <a:xfrm>
              <a:off x="4843440" y="5146560"/>
              <a:ext cx="0" cy="32724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843440" y="5581800"/>
              <a:ext cx="0" cy="11268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5080" bIns="55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843440" y="5807160"/>
              <a:ext cx="0" cy="11268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5080" bIns="55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843440" y="6033960"/>
              <a:ext cx="0" cy="32724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"/>
          <p:cNvSpPr/>
          <p:nvPr/>
        </p:nvSpPr>
        <p:spPr>
          <a:xfrm flipH="1" flipV="1">
            <a:off x="3635280" y="4956120"/>
            <a:ext cx="1208160" cy="7016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3146400" y="4562640"/>
            <a:ext cx="518040" cy="524160"/>
          </a:xfrm>
          <a:custGeom>
            <a:avLst/>
            <a:gdLst/>
            <a:ahLst/>
            <a:rect l="0" t="0" r="r" b="b"/>
            <a:pathLst>
              <a:path fill="none" w="1439" h="1456">
                <a:moveTo>
                  <a:pt x="0" y="727"/>
                </a:moveTo>
                <a:lnTo>
                  <a:pt x="1439" y="727"/>
                </a:lnTo>
                <a:lnTo>
                  <a:pt x="1439" y="694"/>
                </a:lnTo>
                <a:lnTo>
                  <a:pt x="1439" y="661"/>
                </a:lnTo>
                <a:lnTo>
                  <a:pt x="1439" y="644"/>
                </a:lnTo>
                <a:lnTo>
                  <a:pt x="1439" y="611"/>
                </a:lnTo>
                <a:lnTo>
                  <a:pt x="1439" y="578"/>
                </a:lnTo>
                <a:lnTo>
                  <a:pt x="1423" y="562"/>
                </a:lnTo>
                <a:lnTo>
                  <a:pt x="1423" y="529"/>
                </a:lnTo>
                <a:lnTo>
                  <a:pt x="1423" y="512"/>
                </a:lnTo>
                <a:lnTo>
                  <a:pt x="1406" y="479"/>
                </a:lnTo>
                <a:lnTo>
                  <a:pt x="1389" y="463"/>
                </a:lnTo>
                <a:lnTo>
                  <a:pt x="1389" y="429"/>
                </a:lnTo>
                <a:lnTo>
                  <a:pt x="1373" y="413"/>
                </a:lnTo>
                <a:lnTo>
                  <a:pt x="1356" y="380"/>
                </a:lnTo>
                <a:lnTo>
                  <a:pt x="1356" y="363"/>
                </a:lnTo>
                <a:lnTo>
                  <a:pt x="1340" y="330"/>
                </a:lnTo>
                <a:lnTo>
                  <a:pt x="1323" y="314"/>
                </a:lnTo>
                <a:lnTo>
                  <a:pt x="1307" y="297"/>
                </a:lnTo>
                <a:lnTo>
                  <a:pt x="1290" y="264"/>
                </a:lnTo>
                <a:lnTo>
                  <a:pt x="1274" y="248"/>
                </a:lnTo>
                <a:lnTo>
                  <a:pt x="1257" y="231"/>
                </a:lnTo>
                <a:lnTo>
                  <a:pt x="1241" y="214"/>
                </a:lnTo>
                <a:lnTo>
                  <a:pt x="1208" y="181"/>
                </a:lnTo>
                <a:lnTo>
                  <a:pt x="1191" y="165"/>
                </a:lnTo>
                <a:lnTo>
                  <a:pt x="1175" y="148"/>
                </a:lnTo>
                <a:lnTo>
                  <a:pt x="1158" y="132"/>
                </a:lnTo>
                <a:lnTo>
                  <a:pt x="1125" y="115"/>
                </a:lnTo>
                <a:lnTo>
                  <a:pt x="1109" y="99"/>
                </a:lnTo>
                <a:lnTo>
                  <a:pt x="1092" y="99"/>
                </a:lnTo>
                <a:lnTo>
                  <a:pt x="1058" y="82"/>
                </a:lnTo>
                <a:lnTo>
                  <a:pt x="1041" y="66"/>
                </a:lnTo>
                <a:lnTo>
                  <a:pt x="1008" y="49"/>
                </a:lnTo>
                <a:lnTo>
                  <a:pt x="992" y="49"/>
                </a:lnTo>
                <a:lnTo>
                  <a:pt x="959" y="33"/>
                </a:lnTo>
                <a:lnTo>
                  <a:pt x="942" y="33"/>
                </a:lnTo>
                <a:lnTo>
                  <a:pt x="909" y="16"/>
                </a:lnTo>
                <a:lnTo>
                  <a:pt x="876" y="16"/>
                </a:lnTo>
                <a:lnTo>
                  <a:pt x="860" y="0"/>
                </a:lnTo>
                <a:lnTo>
                  <a:pt x="827" y="0"/>
                </a:lnTo>
                <a:lnTo>
                  <a:pt x="810" y="0"/>
                </a:lnTo>
                <a:lnTo>
                  <a:pt x="777" y="0"/>
                </a:lnTo>
                <a:lnTo>
                  <a:pt x="744" y="0"/>
                </a:lnTo>
                <a:lnTo>
                  <a:pt x="728" y="0"/>
                </a:lnTo>
                <a:lnTo>
                  <a:pt x="694" y="0"/>
                </a:lnTo>
                <a:lnTo>
                  <a:pt x="661" y="0"/>
                </a:lnTo>
                <a:lnTo>
                  <a:pt x="645" y="0"/>
                </a:lnTo>
                <a:lnTo>
                  <a:pt x="612" y="0"/>
                </a:lnTo>
                <a:lnTo>
                  <a:pt x="579" y="0"/>
                </a:lnTo>
                <a:lnTo>
                  <a:pt x="562" y="16"/>
                </a:lnTo>
                <a:lnTo>
                  <a:pt x="529" y="16"/>
                </a:lnTo>
                <a:lnTo>
                  <a:pt x="513" y="33"/>
                </a:lnTo>
                <a:lnTo>
                  <a:pt x="480" y="33"/>
                </a:lnTo>
                <a:lnTo>
                  <a:pt x="463" y="49"/>
                </a:lnTo>
                <a:lnTo>
                  <a:pt x="430" y="49"/>
                </a:lnTo>
                <a:lnTo>
                  <a:pt x="414" y="66"/>
                </a:lnTo>
                <a:lnTo>
                  <a:pt x="381" y="82"/>
                </a:lnTo>
                <a:lnTo>
                  <a:pt x="364" y="99"/>
                </a:lnTo>
                <a:lnTo>
                  <a:pt x="330" y="99"/>
                </a:lnTo>
                <a:lnTo>
                  <a:pt x="313" y="115"/>
                </a:lnTo>
                <a:lnTo>
                  <a:pt x="297" y="132"/>
                </a:lnTo>
                <a:lnTo>
                  <a:pt x="264" y="148"/>
                </a:lnTo>
                <a:lnTo>
                  <a:pt x="247" y="165"/>
                </a:lnTo>
                <a:lnTo>
                  <a:pt x="231" y="181"/>
                </a:lnTo>
                <a:lnTo>
                  <a:pt x="214" y="214"/>
                </a:lnTo>
                <a:lnTo>
                  <a:pt x="181" y="231"/>
                </a:lnTo>
                <a:lnTo>
                  <a:pt x="165" y="248"/>
                </a:lnTo>
                <a:lnTo>
                  <a:pt x="148" y="264"/>
                </a:lnTo>
                <a:lnTo>
                  <a:pt x="132" y="297"/>
                </a:lnTo>
                <a:lnTo>
                  <a:pt x="115" y="314"/>
                </a:lnTo>
                <a:lnTo>
                  <a:pt x="115" y="330"/>
                </a:lnTo>
                <a:lnTo>
                  <a:pt x="99" y="363"/>
                </a:lnTo>
                <a:lnTo>
                  <a:pt x="82" y="380"/>
                </a:lnTo>
                <a:lnTo>
                  <a:pt x="66" y="413"/>
                </a:lnTo>
                <a:lnTo>
                  <a:pt x="49" y="429"/>
                </a:lnTo>
                <a:lnTo>
                  <a:pt x="49" y="463"/>
                </a:lnTo>
                <a:lnTo>
                  <a:pt x="33" y="479"/>
                </a:lnTo>
                <a:lnTo>
                  <a:pt x="33" y="512"/>
                </a:lnTo>
                <a:lnTo>
                  <a:pt x="16" y="529"/>
                </a:lnTo>
                <a:lnTo>
                  <a:pt x="16" y="562"/>
                </a:lnTo>
                <a:lnTo>
                  <a:pt x="16" y="578"/>
                </a:lnTo>
                <a:lnTo>
                  <a:pt x="0" y="611"/>
                </a:lnTo>
                <a:lnTo>
                  <a:pt x="0" y="644"/>
                </a:lnTo>
                <a:lnTo>
                  <a:pt x="0" y="661"/>
                </a:lnTo>
                <a:lnTo>
                  <a:pt x="0" y="694"/>
                </a:lnTo>
                <a:lnTo>
                  <a:pt x="0" y="727"/>
                </a:lnTo>
                <a:lnTo>
                  <a:pt x="0" y="745"/>
                </a:lnTo>
                <a:lnTo>
                  <a:pt x="0" y="778"/>
                </a:lnTo>
                <a:lnTo>
                  <a:pt x="0" y="811"/>
                </a:lnTo>
                <a:lnTo>
                  <a:pt x="0" y="827"/>
                </a:lnTo>
                <a:lnTo>
                  <a:pt x="16" y="860"/>
                </a:lnTo>
                <a:lnTo>
                  <a:pt x="16" y="877"/>
                </a:lnTo>
                <a:lnTo>
                  <a:pt x="16" y="910"/>
                </a:lnTo>
                <a:lnTo>
                  <a:pt x="33" y="943"/>
                </a:lnTo>
                <a:lnTo>
                  <a:pt x="33" y="960"/>
                </a:lnTo>
                <a:lnTo>
                  <a:pt x="49" y="993"/>
                </a:lnTo>
                <a:lnTo>
                  <a:pt x="49" y="1009"/>
                </a:lnTo>
                <a:lnTo>
                  <a:pt x="66" y="1042"/>
                </a:lnTo>
                <a:lnTo>
                  <a:pt x="82" y="1059"/>
                </a:lnTo>
                <a:lnTo>
                  <a:pt x="99" y="1092"/>
                </a:lnTo>
                <a:lnTo>
                  <a:pt x="115" y="1108"/>
                </a:lnTo>
                <a:lnTo>
                  <a:pt x="115" y="1125"/>
                </a:lnTo>
                <a:lnTo>
                  <a:pt x="132" y="1158"/>
                </a:lnTo>
                <a:lnTo>
                  <a:pt x="148" y="1175"/>
                </a:lnTo>
                <a:lnTo>
                  <a:pt x="165" y="1191"/>
                </a:lnTo>
                <a:lnTo>
                  <a:pt x="181" y="1224"/>
                </a:lnTo>
                <a:lnTo>
                  <a:pt x="214" y="1241"/>
                </a:lnTo>
                <a:lnTo>
                  <a:pt x="231" y="1257"/>
                </a:lnTo>
                <a:lnTo>
                  <a:pt x="247" y="1274"/>
                </a:lnTo>
                <a:lnTo>
                  <a:pt x="264" y="1290"/>
                </a:lnTo>
                <a:lnTo>
                  <a:pt x="297" y="1307"/>
                </a:lnTo>
                <a:lnTo>
                  <a:pt x="313" y="1323"/>
                </a:lnTo>
                <a:lnTo>
                  <a:pt x="330" y="1340"/>
                </a:lnTo>
                <a:lnTo>
                  <a:pt x="364" y="1356"/>
                </a:lnTo>
                <a:lnTo>
                  <a:pt x="381" y="1373"/>
                </a:lnTo>
                <a:lnTo>
                  <a:pt x="414" y="1373"/>
                </a:lnTo>
                <a:lnTo>
                  <a:pt x="430" y="1390"/>
                </a:lnTo>
                <a:lnTo>
                  <a:pt x="463" y="1406"/>
                </a:lnTo>
                <a:lnTo>
                  <a:pt x="480" y="1406"/>
                </a:lnTo>
                <a:lnTo>
                  <a:pt x="513" y="1423"/>
                </a:lnTo>
                <a:lnTo>
                  <a:pt x="529" y="1423"/>
                </a:lnTo>
                <a:lnTo>
                  <a:pt x="562" y="1423"/>
                </a:lnTo>
                <a:lnTo>
                  <a:pt x="579" y="1439"/>
                </a:lnTo>
                <a:lnTo>
                  <a:pt x="612" y="1439"/>
                </a:lnTo>
                <a:lnTo>
                  <a:pt x="645" y="1439"/>
                </a:lnTo>
                <a:lnTo>
                  <a:pt x="661" y="1439"/>
                </a:lnTo>
                <a:lnTo>
                  <a:pt x="694" y="1456"/>
                </a:lnTo>
                <a:lnTo>
                  <a:pt x="728" y="1456"/>
                </a:lnTo>
                <a:lnTo>
                  <a:pt x="744" y="1456"/>
                </a:lnTo>
                <a:lnTo>
                  <a:pt x="777" y="1439"/>
                </a:lnTo>
                <a:lnTo>
                  <a:pt x="810" y="1439"/>
                </a:lnTo>
                <a:lnTo>
                  <a:pt x="827" y="1439"/>
                </a:lnTo>
                <a:lnTo>
                  <a:pt x="860" y="1439"/>
                </a:lnTo>
                <a:lnTo>
                  <a:pt x="876" y="1423"/>
                </a:lnTo>
                <a:lnTo>
                  <a:pt x="909" y="1423"/>
                </a:lnTo>
                <a:lnTo>
                  <a:pt x="942" y="1423"/>
                </a:lnTo>
                <a:lnTo>
                  <a:pt x="959" y="1406"/>
                </a:lnTo>
                <a:lnTo>
                  <a:pt x="992" y="1406"/>
                </a:lnTo>
                <a:lnTo>
                  <a:pt x="1008" y="1390"/>
                </a:lnTo>
                <a:lnTo>
                  <a:pt x="1041" y="1373"/>
                </a:lnTo>
                <a:lnTo>
                  <a:pt x="1058" y="1373"/>
                </a:lnTo>
                <a:lnTo>
                  <a:pt x="1092" y="1356"/>
                </a:lnTo>
                <a:lnTo>
                  <a:pt x="1109" y="1340"/>
                </a:lnTo>
                <a:lnTo>
                  <a:pt x="1125" y="1323"/>
                </a:lnTo>
                <a:lnTo>
                  <a:pt x="1158" y="1307"/>
                </a:lnTo>
                <a:lnTo>
                  <a:pt x="1175" y="1290"/>
                </a:lnTo>
                <a:lnTo>
                  <a:pt x="1191" y="1274"/>
                </a:lnTo>
                <a:lnTo>
                  <a:pt x="1208" y="1257"/>
                </a:lnTo>
                <a:lnTo>
                  <a:pt x="1241" y="1241"/>
                </a:lnTo>
                <a:lnTo>
                  <a:pt x="1257" y="1224"/>
                </a:lnTo>
                <a:lnTo>
                  <a:pt x="1274" y="1191"/>
                </a:lnTo>
                <a:lnTo>
                  <a:pt x="1290" y="1175"/>
                </a:lnTo>
                <a:lnTo>
                  <a:pt x="1307" y="1158"/>
                </a:lnTo>
                <a:lnTo>
                  <a:pt x="1323" y="1125"/>
                </a:lnTo>
                <a:lnTo>
                  <a:pt x="1340" y="1108"/>
                </a:lnTo>
                <a:lnTo>
                  <a:pt x="1356" y="1092"/>
                </a:lnTo>
                <a:lnTo>
                  <a:pt x="1356" y="1059"/>
                </a:lnTo>
                <a:lnTo>
                  <a:pt x="1373" y="1042"/>
                </a:lnTo>
                <a:lnTo>
                  <a:pt x="1389" y="1009"/>
                </a:lnTo>
                <a:lnTo>
                  <a:pt x="1389" y="993"/>
                </a:lnTo>
                <a:lnTo>
                  <a:pt x="1406" y="960"/>
                </a:lnTo>
                <a:lnTo>
                  <a:pt x="1423" y="943"/>
                </a:lnTo>
                <a:lnTo>
                  <a:pt x="1423" y="910"/>
                </a:lnTo>
                <a:lnTo>
                  <a:pt x="1423" y="877"/>
                </a:lnTo>
                <a:lnTo>
                  <a:pt x="1439" y="860"/>
                </a:lnTo>
                <a:lnTo>
                  <a:pt x="1439" y="827"/>
                </a:lnTo>
                <a:lnTo>
                  <a:pt x="1439" y="811"/>
                </a:lnTo>
                <a:lnTo>
                  <a:pt x="1439" y="778"/>
                </a:lnTo>
                <a:lnTo>
                  <a:pt x="1439" y="745"/>
                </a:lnTo>
                <a:lnTo>
                  <a:pt x="1439" y="727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7004160" y="5146560"/>
            <a:ext cx="0" cy="4111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7004160" y="5670720"/>
            <a:ext cx="0" cy="1126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7004160" y="5891040"/>
            <a:ext cx="0" cy="4096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24800" y="5486400"/>
            <a:ext cx="0" cy="123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724800" y="5664240"/>
            <a:ext cx="0" cy="1126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724800" y="5837400"/>
            <a:ext cx="0" cy="1252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7283520" y="5486400"/>
            <a:ext cx="0" cy="123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7283520" y="5664240"/>
            <a:ext cx="0" cy="1126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283520" y="5837400"/>
            <a:ext cx="0" cy="1252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843440" y="3533760"/>
            <a:ext cx="0" cy="9414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8290080" y="3533760"/>
            <a:ext cx="0" cy="9288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040360" y="4361040"/>
            <a:ext cx="12621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H="1">
            <a:off x="6831000" y="4361040"/>
            <a:ext cx="12682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843440" y="4330800"/>
            <a:ext cx="197280" cy="65520"/>
          </a:xfrm>
          <a:custGeom>
            <a:avLst/>
            <a:gdLst/>
            <a:ahLst/>
            <a:rect l="0" t="0" r="r" b="b"/>
            <a:pathLst>
              <a:path w="548" h="182">
                <a:moveTo>
                  <a:pt x="548" y="0"/>
                </a:moveTo>
                <a:lnTo>
                  <a:pt x="548" y="182"/>
                </a:lnTo>
                <a:lnTo>
                  <a:pt x="0" y="83"/>
                </a:lnTo>
                <a:lnTo>
                  <a:pt x="548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8099280" y="4330800"/>
            <a:ext cx="190800" cy="65520"/>
          </a:xfrm>
          <a:custGeom>
            <a:avLst/>
            <a:gdLst/>
            <a:ahLst/>
            <a:rect l="0" t="0" r="r" b="b"/>
            <a:pathLst>
              <a:path w="530" h="182">
                <a:moveTo>
                  <a:pt x="0" y="0"/>
                </a:moveTo>
                <a:lnTo>
                  <a:pt x="0" y="182"/>
                </a:lnTo>
                <a:lnTo>
                  <a:pt x="530" y="8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4400" bIns="14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087800" y="1449360"/>
            <a:ext cx="4202640" cy="1994400"/>
          </a:xfrm>
          <a:custGeom>
            <a:avLst/>
            <a:gdLst/>
            <a:ahLst/>
            <a:rect l="0" t="0" r="r" b="b"/>
            <a:pathLst>
              <a:path fill="none" w="11674" h="5540">
                <a:moveTo>
                  <a:pt x="11674" y="0"/>
                </a:moveTo>
                <a:lnTo>
                  <a:pt x="11674" y="5540"/>
                </a:lnTo>
                <a:lnTo>
                  <a:pt x="0" y="5540"/>
                </a:lnTo>
                <a:lnTo>
                  <a:pt x="0" y="0"/>
                </a:lnTo>
                <a:lnTo>
                  <a:pt x="11674" y="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H="1">
            <a:off x="3659040" y="3443400"/>
            <a:ext cx="1184400" cy="3571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146400" y="3616200"/>
            <a:ext cx="518040" cy="518040"/>
          </a:xfrm>
          <a:custGeom>
            <a:avLst/>
            <a:gdLst/>
            <a:ahLst/>
            <a:rect l="0" t="0" r="r" b="b"/>
            <a:pathLst>
              <a:path fill="none" w="1439" h="1439">
                <a:moveTo>
                  <a:pt x="0" y="728"/>
                </a:moveTo>
                <a:lnTo>
                  <a:pt x="1439" y="728"/>
                </a:lnTo>
                <a:lnTo>
                  <a:pt x="1439" y="694"/>
                </a:lnTo>
                <a:lnTo>
                  <a:pt x="1439" y="661"/>
                </a:lnTo>
                <a:lnTo>
                  <a:pt x="1439" y="645"/>
                </a:lnTo>
                <a:lnTo>
                  <a:pt x="1439" y="612"/>
                </a:lnTo>
                <a:lnTo>
                  <a:pt x="1439" y="579"/>
                </a:lnTo>
                <a:lnTo>
                  <a:pt x="1423" y="562"/>
                </a:lnTo>
                <a:lnTo>
                  <a:pt x="1423" y="529"/>
                </a:lnTo>
                <a:lnTo>
                  <a:pt x="1423" y="513"/>
                </a:lnTo>
                <a:lnTo>
                  <a:pt x="1406" y="480"/>
                </a:lnTo>
                <a:lnTo>
                  <a:pt x="1389" y="447"/>
                </a:lnTo>
                <a:lnTo>
                  <a:pt x="1389" y="430"/>
                </a:lnTo>
                <a:lnTo>
                  <a:pt x="1373" y="397"/>
                </a:lnTo>
                <a:lnTo>
                  <a:pt x="1356" y="381"/>
                </a:lnTo>
                <a:lnTo>
                  <a:pt x="1356" y="364"/>
                </a:lnTo>
                <a:lnTo>
                  <a:pt x="1340" y="330"/>
                </a:lnTo>
                <a:lnTo>
                  <a:pt x="1323" y="313"/>
                </a:lnTo>
                <a:lnTo>
                  <a:pt x="1307" y="280"/>
                </a:lnTo>
                <a:lnTo>
                  <a:pt x="1290" y="264"/>
                </a:lnTo>
                <a:lnTo>
                  <a:pt x="1274" y="247"/>
                </a:lnTo>
                <a:lnTo>
                  <a:pt x="1257" y="231"/>
                </a:lnTo>
                <a:lnTo>
                  <a:pt x="1241" y="198"/>
                </a:lnTo>
                <a:lnTo>
                  <a:pt x="1208" y="181"/>
                </a:lnTo>
                <a:lnTo>
                  <a:pt x="1191" y="165"/>
                </a:lnTo>
                <a:lnTo>
                  <a:pt x="1175" y="148"/>
                </a:lnTo>
                <a:lnTo>
                  <a:pt x="1158" y="132"/>
                </a:lnTo>
                <a:lnTo>
                  <a:pt x="1125" y="115"/>
                </a:lnTo>
                <a:lnTo>
                  <a:pt x="1109" y="99"/>
                </a:lnTo>
                <a:lnTo>
                  <a:pt x="1092" y="82"/>
                </a:lnTo>
                <a:lnTo>
                  <a:pt x="1058" y="82"/>
                </a:lnTo>
                <a:lnTo>
                  <a:pt x="1041" y="66"/>
                </a:lnTo>
                <a:lnTo>
                  <a:pt x="1008" y="49"/>
                </a:lnTo>
                <a:lnTo>
                  <a:pt x="992" y="49"/>
                </a:lnTo>
                <a:lnTo>
                  <a:pt x="959" y="33"/>
                </a:lnTo>
                <a:lnTo>
                  <a:pt x="942" y="16"/>
                </a:lnTo>
                <a:lnTo>
                  <a:pt x="909" y="16"/>
                </a:lnTo>
                <a:lnTo>
                  <a:pt x="876" y="16"/>
                </a:lnTo>
                <a:lnTo>
                  <a:pt x="860" y="0"/>
                </a:lnTo>
                <a:lnTo>
                  <a:pt x="827" y="0"/>
                </a:lnTo>
                <a:lnTo>
                  <a:pt x="810" y="0"/>
                </a:lnTo>
                <a:lnTo>
                  <a:pt x="777" y="0"/>
                </a:lnTo>
                <a:lnTo>
                  <a:pt x="744" y="0"/>
                </a:lnTo>
                <a:lnTo>
                  <a:pt x="728" y="0"/>
                </a:lnTo>
                <a:lnTo>
                  <a:pt x="694" y="0"/>
                </a:lnTo>
                <a:lnTo>
                  <a:pt x="661" y="0"/>
                </a:lnTo>
                <a:lnTo>
                  <a:pt x="645" y="0"/>
                </a:lnTo>
                <a:lnTo>
                  <a:pt x="612" y="0"/>
                </a:lnTo>
                <a:lnTo>
                  <a:pt x="579" y="0"/>
                </a:lnTo>
                <a:lnTo>
                  <a:pt x="562" y="16"/>
                </a:lnTo>
                <a:lnTo>
                  <a:pt x="529" y="16"/>
                </a:lnTo>
                <a:lnTo>
                  <a:pt x="513" y="16"/>
                </a:lnTo>
                <a:lnTo>
                  <a:pt x="480" y="33"/>
                </a:lnTo>
                <a:lnTo>
                  <a:pt x="463" y="49"/>
                </a:lnTo>
                <a:lnTo>
                  <a:pt x="430" y="49"/>
                </a:lnTo>
                <a:lnTo>
                  <a:pt x="414" y="66"/>
                </a:lnTo>
                <a:lnTo>
                  <a:pt x="381" y="82"/>
                </a:lnTo>
                <a:lnTo>
                  <a:pt x="364" y="82"/>
                </a:lnTo>
                <a:lnTo>
                  <a:pt x="330" y="99"/>
                </a:lnTo>
                <a:lnTo>
                  <a:pt x="313" y="115"/>
                </a:lnTo>
                <a:lnTo>
                  <a:pt x="297" y="132"/>
                </a:lnTo>
                <a:lnTo>
                  <a:pt x="264" y="148"/>
                </a:lnTo>
                <a:lnTo>
                  <a:pt x="247" y="165"/>
                </a:lnTo>
                <a:lnTo>
                  <a:pt x="231" y="181"/>
                </a:lnTo>
                <a:lnTo>
                  <a:pt x="214" y="198"/>
                </a:lnTo>
                <a:lnTo>
                  <a:pt x="181" y="231"/>
                </a:lnTo>
                <a:lnTo>
                  <a:pt x="165" y="247"/>
                </a:lnTo>
                <a:lnTo>
                  <a:pt x="148" y="264"/>
                </a:lnTo>
                <a:lnTo>
                  <a:pt x="132" y="280"/>
                </a:lnTo>
                <a:lnTo>
                  <a:pt x="115" y="313"/>
                </a:lnTo>
                <a:lnTo>
                  <a:pt x="115" y="330"/>
                </a:lnTo>
                <a:lnTo>
                  <a:pt x="99" y="364"/>
                </a:lnTo>
                <a:lnTo>
                  <a:pt x="82" y="381"/>
                </a:lnTo>
                <a:lnTo>
                  <a:pt x="66" y="397"/>
                </a:lnTo>
                <a:lnTo>
                  <a:pt x="49" y="430"/>
                </a:lnTo>
                <a:lnTo>
                  <a:pt x="49" y="447"/>
                </a:lnTo>
                <a:lnTo>
                  <a:pt x="33" y="480"/>
                </a:lnTo>
                <a:lnTo>
                  <a:pt x="33" y="513"/>
                </a:lnTo>
                <a:lnTo>
                  <a:pt x="16" y="529"/>
                </a:lnTo>
                <a:lnTo>
                  <a:pt x="16" y="562"/>
                </a:lnTo>
                <a:lnTo>
                  <a:pt x="16" y="579"/>
                </a:lnTo>
                <a:lnTo>
                  <a:pt x="0" y="612"/>
                </a:lnTo>
                <a:lnTo>
                  <a:pt x="0" y="645"/>
                </a:lnTo>
                <a:lnTo>
                  <a:pt x="0" y="661"/>
                </a:lnTo>
                <a:lnTo>
                  <a:pt x="0" y="694"/>
                </a:lnTo>
                <a:lnTo>
                  <a:pt x="0" y="728"/>
                </a:lnTo>
                <a:lnTo>
                  <a:pt x="0" y="744"/>
                </a:lnTo>
                <a:lnTo>
                  <a:pt x="0" y="777"/>
                </a:lnTo>
                <a:lnTo>
                  <a:pt x="0" y="794"/>
                </a:lnTo>
                <a:lnTo>
                  <a:pt x="0" y="827"/>
                </a:lnTo>
                <a:lnTo>
                  <a:pt x="16" y="860"/>
                </a:lnTo>
                <a:lnTo>
                  <a:pt x="16" y="876"/>
                </a:lnTo>
                <a:lnTo>
                  <a:pt x="16" y="909"/>
                </a:lnTo>
                <a:lnTo>
                  <a:pt x="33" y="926"/>
                </a:lnTo>
                <a:lnTo>
                  <a:pt x="33" y="959"/>
                </a:lnTo>
                <a:lnTo>
                  <a:pt x="49" y="992"/>
                </a:lnTo>
                <a:lnTo>
                  <a:pt x="49" y="1008"/>
                </a:lnTo>
                <a:lnTo>
                  <a:pt x="66" y="1041"/>
                </a:lnTo>
                <a:lnTo>
                  <a:pt x="82" y="1058"/>
                </a:lnTo>
                <a:lnTo>
                  <a:pt x="99" y="1075"/>
                </a:lnTo>
                <a:lnTo>
                  <a:pt x="115" y="1109"/>
                </a:lnTo>
                <a:lnTo>
                  <a:pt x="115" y="1125"/>
                </a:lnTo>
                <a:lnTo>
                  <a:pt x="132" y="1158"/>
                </a:lnTo>
                <a:lnTo>
                  <a:pt x="148" y="1175"/>
                </a:lnTo>
                <a:lnTo>
                  <a:pt x="165" y="1191"/>
                </a:lnTo>
                <a:lnTo>
                  <a:pt x="181" y="1208"/>
                </a:lnTo>
                <a:lnTo>
                  <a:pt x="214" y="1241"/>
                </a:lnTo>
                <a:lnTo>
                  <a:pt x="231" y="1257"/>
                </a:lnTo>
                <a:lnTo>
                  <a:pt x="247" y="1274"/>
                </a:lnTo>
                <a:lnTo>
                  <a:pt x="264" y="1290"/>
                </a:lnTo>
                <a:lnTo>
                  <a:pt x="297" y="1307"/>
                </a:lnTo>
                <a:lnTo>
                  <a:pt x="313" y="1323"/>
                </a:lnTo>
                <a:lnTo>
                  <a:pt x="330" y="1340"/>
                </a:lnTo>
                <a:lnTo>
                  <a:pt x="364" y="1356"/>
                </a:lnTo>
                <a:lnTo>
                  <a:pt x="381" y="1356"/>
                </a:lnTo>
                <a:lnTo>
                  <a:pt x="414" y="1373"/>
                </a:lnTo>
                <a:lnTo>
                  <a:pt x="430" y="1389"/>
                </a:lnTo>
                <a:lnTo>
                  <a:pt x="463" y="1389"/>
                </a:lnTo>
                <a:lnTo>
                  <a:pt x="480" y="1406"/>
                </a:lnTo>
                <a:lnTo>
                  <a:pt x="513" y="1406"/>
                </a:lnTo>
                <a:lnTo>
                  <a:pt x="529" y="1423"/>
                </a:lnTo>
                <a:lnTo>
                  <a:pt x="562" y="1423"/>
                </a:lnTo>
                <a:lnTo>
                  <a:pt x="579" y="1439"/>
                </a:lnTo>
                <a:lnTo>
                  <a:pt x="612" y="1439"/>
                </a:lnTo>
                <a:lnTo>
                  <a:pt x="645" y="1439"/>
                </a:lnTo>
                <a:lnTo>
                  <a:pt x="661" y="1439"/>
                </a:lnTo>
                <a:lnTo>
                  <a:pt x="694" y="1439"/>
                </a:lnTo>
                <a:lnTo>
                  <a:pt x="728" y="1439"/>
                </a:lnTo>
                <a:lnTo>
                  <a:pt x="744" y="1439"/>
                </a:lnTo>
                <a:lnTo>
                  <a:pt x="777" y="1439"/>
                </a:lnTo>
                <a:lnTo>
                  <a:pt x="810" y="1439"/>
                </a:lnTo>
                <a:lnTo>
                  <a:pt x="827" y="1439"/>
                </a:lnTo>
                <a:lnTo>
                  <a:pt x="860" y="1439"/>
                </a:lnTo>
                <a:lnTo>
                  <a:pt x="876" y="1423"/>
                </a:lnTo>
                <a:lnTo>
                  <a:pt x="909" y="1423"/>
                </a:lnTo>
                <a:lnTo>
                  <a:pt x="942" y="1406"/>
                </a:lnTo>
                <a:lnTo>
                  <a:pt x="959" y="1406"/>
                </a:lnTo>
                <a:lnTo>
                  <a:pt x="992" y="1389"/>
                </a:lnTo>
                <a:lnTo>
                  <a:pt x="1008" y="1389"/>
                </a:lnTo>
                <a:lnTo>
                  <a:pt x="1041" y="1373"/>
                </a:lnTo>
                <a:lnTo>
                  <a:pt x="1058" y="1356"/>
                </a:lnTo>
                <a:lnTo>
                  <a:pt x="1092" y="1356"/>
                </a:lnTo>
                <a:lnTo>
                  <a:pt x="1109" y="1340"/>
                </a:lnTo>
                <a:lnTo>
                  <a:pt x="1125" y="1323"/>
                </a:lnTo>
                <a:lnTo>
                  <a:pt x="1158" y="1307"/>
                </a:lnTo>
                <a:lnTo>
                  <a:pt x="1175" y="1290"/>
                </a:lnTo>
                <a:lnTo>
                  <a:pt x="1191" y="1274"/>
                </a:lnTo>
                <a:lnTo>
                  <a:pt x="1208" y="1257"/>
                </a:lnTo>
                <a:lnTo>
                  <a:pt x="1241" y="1241"/>
                </a:lnTo>
                <a:lnTo>
                  <a:pt x="1257" y="1208"/>
                </a:lnTo>
                <a:lnTo>
                  <a:pt x="1274" y="1191"/>
                </a:lnTo>
                <a:lnTo>
                  <a:pt x="1290" y="1175"/>
                </a:lnTo>
                <a:lnTo>
                  <a:pt x="1307" y="1158"/>
                </a:lnTo>
                <a:lnTo>
                  <a:pt x="1323" y="1125"/>
                </a:lnTo>
                <a:lnTo>
                  <a:pt x="1340" y="1109"/>
                </a:lnTo>
                <a:lnTo>
                  <a:pt x="1356" y="1075"/>
                </a:lnTo>
                <a:lnTo>
                  <a:pt x="1356" y="1058"/>
                </a:lnTo>
                <a:lnTo>
                  <a:pt x="1373" y="1041"/>
                </a:lnTo>
                <a:lnTo>
                  <a:pt x="1389" y="1008"/>
                </a:lnTo>
                <a:lnTo>
                  <a:pt x="1389" y="992"/>
                </a:lnTo>
                <a:lnTo>
                  <a:pt x="1406" y="959"/>
                </a:lnTo>
                <a:lnTo>
                  <a:pt x="1423" y="926"/>
                </a:lnTo>
                <a:lnTo>
                  <a:pt x="1423" y="909"/>
                </a:lnTo>
                <a:lnTo>
                  <a:pt x="1423" y="876"/>
                </a:lnTo>
                <a:lnTo>
                  <a:pt x="1439" y="860"/>
                </a:lnTo>
                <a:lnTo>
                  <a:pt x="1439" y="827"/>
                </a:lnTo>
                <a:lnTo>
                  <a:pt x="1439" y="794"/>
                </a:lnTo>
                <a:lnTo>
                  <a:pt x="1439" y="777"/>
                </a:lnTo>
                <a:lnTo>
                  <a:pt x="1439" y="744"/>
                </a:lnTo>
                <a:lnTo>
                  <a:pt x="1439" y="728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4694400" y="3295800"/>
            <a:ext cx="298440" cy="29664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4694400" y="3295800"/>
            <a:ext cx="298440" cy="29664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7004160" y="2538360"/>
            <a:ext cx="0" cy="2746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6326280" y="4194000"/>
            <a:ext cx="493920" cy="321120"/>
          </a:xfrm>
          <a:custGeom>
            <a:avLst/>
            <a:gdLst/>
            <a:ahLst/>
            <a:rect l="0" t="0" r="r" b="b"/>
            <a:pathLst>
              <a:path fill="none" w="1372" h="892">
                <a:moveTo>
                  <a:pt x="0" y="892"/>
                </a:moveTo>
                <a:lnTo>
                  <a:pt x="0" y="0"/>
                </a:lnTo>
                <a:lnTo>
                  <a:pt x="1372" y="0"/>
                </a:lnTo>
                <a:lnTo>
                  <a:pt x="1372" y="892"/>
                </a:lnTo>
                <a:lnTo>
                  <a:pt x="0" y="892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H="1">
            <a:off x="7421400" y="3443400"/>
            <a:ext cx="1717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7510320" y="3443400"/>
            <a:ext cx="82800" cy="149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7421400" y="3443400"/>
            <a:ext cx="171720" cy="149760"/>
          </a:xfrm>
          <a:custGeom>
            <a:avLst/>
            <a:gdLst/>
            <a:ahLst/>
            <a:rect l="0" t="0" r="r" b="b"/>
            <a:pathLst>
              <a:path w="477" h="416">
                <a:moveTo>
                  <a:pt x="477" y="0"/>
                </a:moveTo>
                <a:lnTo>
                  <a:pt x="247" y="416"/>
                </a:lnTo>
                <a:lnTo>
                  <a:pt x="0" y="0"/>
                </a:lnTo>
                <a:lnTo>
                  <a:pt x="477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421400" y="3443400"/>
            <a:ext cx="88920" cy="149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7510320" y="3956040"/>
            <a:ext cx="1731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7510320" y="3592440"/>
            <a:ext cx="0" cy="3571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724800" y="2152800"/>
            <a:ext cx="559080" cy="559080"/>
          </a:xfrm>
          <a:custGeom>
            <a:avLst/>
            <a:gdLst/>
            <a:ahLst/>
            <a:rect l="0" t="0" r="r" b="b"/>
            <a:pathLst>
              <a:path fill="none" w="1553" h="1553">
                <a:moveTo>
                  <a:pt x="1553" y="777"/>
                </a:moveTo>
                <a:lnTo>
                  <a:pt x="1553" y="743"/>
                </a:lnTo>
                <a:lnTo>
                  <a:pt x="1536" y="726"/>
                </a:lnTo>
                <a:lnTo>
                  <a:pt x="1536" y="693"/>
                </a:lnTo>
                <a:lnTo>
                  <a:pt x="1536" y="660"/>
                </a:lnTo>
                <a:lnTo>
                  <a:pt x="1536" y="627"/>
                </a:lnTo>
                <a:lnTo>
                  <a:pt x="1520" y="610"/>
                </a:lnTo>
                <a:lnTo>
                  <a:pt x="1520" y="577"/>
                </a:lnTo>
                <a:lnTo>
                  <a:pt x="1520" y="544"/>
                </a:lnTo>
                <a:lnTo>
                  <a:pt x="1503" y="528"/>
                </a:lnTo>
                <a:lnTo>
                  <a:pt x="1503" y="495"/>
                </a:lnTo>
                <a:lnTo>
                  <a:pt x="1487" y="478"/>
                </a:lnTo>
                <a:lnTo>
                  <a:pt x="1470" y="445"/>
                </a:lnTo>
                <a:lnTo>
                  <a:pt x="1454" y="429"/>
                </a:lnTo>
                <a:lnTo>
                  <a:pt x="1454" y="396"/>
                </a:lnTo>
                <a:lnTo>
                  <a:pt x="1437" y="379"/>
                </a:lnTo>
                <a:lnTo>
                  <a:pt x="1421" y="346"/>
                </a:lnTo>
                <a:lnTo>
                  <a:pt x="1404" y="330"/>
                </a:lnTo>
                <a:lnTo>
                  <a:pt x="1388" y="297"/>
                </a:lnTo>
                <a:lnTo>
                  <a:pt x="1371" y="280"/>
                </a:lnTo>
                <a:lnTo>
                  <a:pt x="1355" y="264"/>
                </a:lnTo>
                <a:lnTo>
                  <a:pt x="1338" y="231"/>
                </a:lnTo>
                <a:lnTo>
                  <a:pt x="1305" y="214"/>
                </a:lnTo>
                <a:lnTo>
                  <a:pt x="1289" y="198"/>
                </a:lnTo>
                <a:lnTo>
                  <a:pt x="1272" y="181"/>
                </a:lnTo>
                <a:lnTo>
                  <a:pt x="1239" y="165"/>
                </a:lnTo>
                <a:lnTo>
                  <a:pt x="1222" y="148"/>
                </a:lnTo>
                <a:lnTo>
                  <a:pt x="1206" y="132"/>
                </a:lnTo>
                <a:lnTo>
                  <a:pt x="1173" y="115"/>
                </a:lnTo>
                <a:lnTo>
                  <a:pt x="1156" y="99"/>
                </a:lnTo>
                <a:lnTo>
                  <a:pt x="1123" y="82"/>
                </a:lnTo>
                <a:lnTo>
                  <a:pt x="1107" y="82"/>
                </a:lnTo>
                <a:lnTo>
                  <a:pt x="1074" y="66"/>
                </a:lnTo>
                <a:lnTo>
                  <a:pt x="1057" y="49"/>
                </a:lnTo>
                <a:lnTo>
                  <a:pt x="1024" y="49"/>
                </a:lnTo>
                <a:lnTo>
                  <a:pt x="991" y="33"/>
                </a:lnTo>
                <a:lnTo>
                  <a:pt x="975" y="33"/>
                </a:lnTo>
                <a:lnTo>
                  <a:pt x="942" y="16"/>
                </a:lnTo>
                <a:lnTo>
                  <a:pt x="909" y="16"/>
                </a:lnTo>
                <a:lnTo>
                  <a:pt x="892" y="16"/>
                </a:lnTo>
                <a:lnTo>
                  <a:pt x="859" y="16"/>
                </a:lnTo>
                <a:lnTo>
                  <a:pt x="826" y="0"/>
                </a:lnTo>
                <a:lnTo>
                  <a:pt x="810" y="0"/>
                </a:lnTo>
                <a:lnTo>
                  <a:pt x="777" y="0"/>
                </a:lnTo>
                <a:lnTo>
                  <a:pt x="743" y="0"/>
                </a:lnTo>
                <a:lnTo>
                  <a:pt x="726" y="0"/>
                </a:lnTo>
                <a:lnTo>
                  <a:pt x="693" y="16"/>
                </a:lnTo>
                <a:lnTo>
                  <a:pt x="660" y="16"/>
                </a:lnTo>
                <a:lnTo>
                  <a:pt x="644" y="16"/>
                </a:lnTo>
                <a:lnTo>
                  <a:pt x="610" y="16"/>
                </a:lnTo>
                <a:lnTo>
                  <a:pt x="577" y="33"/>
                </a:lnTo>
                <a:lnTo>
                  <a:pt x="561" y="33"/>
                </a:lnTo>
                <a:lnTo>
                  <a:pt x="528" y="49"/>
                </a:lnTo>
                <a:lnTo>
                  <a:pt x="495" y="49"/>
                </a:lnTo>
                <a:lnTo>
                  <a:pt x="478" y="66"/>
                </a:lnTo>
                <a:lnTo>
                  <a:pt x="445" y="82"/>
                </a:lnTo>
                <a:lnTo>
                  <a:pt x="429" y="82"/>
                </a:lnTo>
                <a:lnTo>
                  <a:pt x="396" y="99"/>
                </a:lnTo>
                <a:lnTo>
                  <a:pt x="379" y="115"/>
                </a:lnTo>
                <a:lnTo>
                  <a:pt x="346" y="132"/>
                </a:lnTo>
                <a:lnTo>
                  <a:pt x="330" y="148"/>
                </a:lnTo>
                <a:lnTo>
                  <a:pt x="313" y="165"/>
                </a:lnTo>
                <a:lnTo>
                  <a:pt x="280" y="181"/>
                </a:lnTo>
                <a:lnTo>
                  <a:pt x="264" y="198"/>
                </a:lnTo>
                <a:lnTo>
                  <a:pt x="247" y="214"/>
                </a:lnTo>
                <a:lnTo>
                  <a:pt x="214" y="231"/>
                </a:lnTo>
                <a:lnTo>
                  <a:pt x="198" y="264"/>
                </a:lnTo>
                <a:lnTo>
                  <a:pt x="181" y="280"/>
                </a:lnTo>
                <a:lnTo>
                  <a:pt x="165" y="297"/>
                </a:lnTo>
                <a:lnTo>
                  <a:pt x="148" y="330"/>
                </a:lnTo>
                <a:lnTo>
                  <a:pt x="132" y="346"/>
                </a:lnTo>
                <a:lnTo>
                  <a:pt x="115" y="379"/>
                </a:lnTo>
                <a:lnTo>
                  <a:pt x="99" y="396"/>
                </a:lnTo>
                <a:lnTo>
                  <a:pt x="99" y="429"/>
                </a:lnTo>
                <a:lnTo>
                  <a:pt x="82" y="445"/>
                </a:lnTo>
                <a:lnTo>
                  <a:pt x="66" y="478"/>
                </a:lnTo>
                <a:lnTo>
                  <a:pt x="66" y="495"/>
                </a:lnTo>
                <a:lnTo>
                  <a:pt x="49" y="528"/>
                </a:lnTo>
                <a:lnTo>
                  <a:pt x="33" y="544"/>
                </a:lnTo>
                <a:lnTo>
                  <a:pt x="33" y="577"/>
                </a:lnTo>
                <a:lnTo>
                  <a:pt x="33" y="610"/>
                </a:lnTo>
                <a:lnTo>
                  <a:pt x="16" y="627"/>
                </a:lnTo>
                <a:lnTo>
                  <a:pt x="16" y="660"/>
                </a:lnTo>
                <a:lnTo>
                  <a:pt x="16" y="693"/>
                </a:lnTo>
                <a:lnTo>
                  <a:pt x="16" y="726"/>
                </a:lnTo>
                <a:lnTo>
                  <a:pt x="0" y="743"/>
                </a:lnTo>
                <a:lnTo>
                  <a:pt x="0" y="777"/>
                </a:lnTo>
                <a:lnTo>
                  <a:pt x="0" y="810"/>
                </a:lnTo>
                <a:lnTo>
                  <a:pt x="16" y="826"/>
                </a:lnTo>
                <a:lnTo>
                  <a:pt x="16" y="859"/>
                </a:lnTo>
                <a:lnTo>
                  <a:pt x="16" y="892"/>
                </a:lnTo>
                <a:lnTo>
                  <a:pt x="16" y="909"/>
                </a:lnTo>
                <a:lnTo>
                  <a:pt x="33" y="942"/>
                </a:lnTo>
                <a:lnTo>
                  <a:pt x="33" y="975"/>
                </a:lnTo>
                <a:lnTo>
                  <a:pt x="33" y="991"/>
                </a:lnTo>
                <a:lnTo>
                  <a:pt x="49" y="1024"/>
                </a:lnTo>
                <a:lnTo>
                  <a:pt x="66" y="1057"/>
                </a:lnTo>
                <a:lnTo>
                  <a:pt x="66" y="1074"/>
                </a:lnTo>
                <a:lnTo>
                  <a:pt x="82" y="1107"/>
                </a:lnTo>
                <a:lnTo>
                  <a:pt x="99" y="1123"/>
                </a:lnTo>
                <a:lnTo>
                  <a:pt x="99" y="1156"/>
                </a:lnTo>
                <a:lnTo>
                  <a:pt x="115" y="1173"/>
                </a:lnTo>
                <a:lnTo>
                  <a:pt x="132" y="1206"/>
                </a:lnTo>
                <a:lnTo>
                  <a:pt x="148" y="1222"/>
                </a:lnTo>
                <a:lnTo>
                  <a:pt x="165" y="1239"/>
                </a:lnTo>
                <a:lnTo>
                  <a:pt x="181" y="1272"/>
                </a:lnTo>
                <a:lnTo>
                  <a:pt x="198" y="1289"/>
                </a:lnTo>
                <a:lnTo>
                  <a:pt x="214" y="1305"/>
                </a:lnTo>
                <a:lnTo>
                  <a:pt x="247" y="1338"/>
                </a:lnTo>
                <a:lnTo>
                  <a:pt x="264" y="1355"/>
                </a:lnTo>
                <a:lnTo>
                  <a:pt x="280" y="1371"/>
                </a:lnTo>
                <a:lnTo>
                  <a:pt x="313" y="1388"/>
                </a:lnTo>
                <a:lnTo>
                  <a:pt x="330" y="1404"/>
                </a:lnTo>
                <a:lnTo>
                  <a:pt x="346" y="1421"/>
                </a:lnTo>
                <a:lnTo>
                  <a:pt x="379" y="1437"/>
                </a:lnTo>
                <a:lnTo>
                  <a:pt x="396" y="1454"/>
                </a:lnTo>
                <a:lnTo>
                  <a:pt x="429" y="1454"/>
                </a:lnTo>
                <a:lnTo>
                  <a:pt x="445" y="1470"/>
                </a:lnTo>
                <a:lnTo>
                  <a:pt x="478" y="1487"/>
                </a:lnTo>
                <a:lnTo>
                  <a:pt x="495" y="1503"/>
                </a:lnTo>
                <a:lnTo>
                  <a:pt x="528" y="1503"/>
                </a:lnTo>
                <a:lnTo>
                  <a:pt x="561" y="1520"/>
                </a:lnTo>
                <a:lnTo>
                  <a:pt x="577" y="1520"/>
                </a:lnTo>
                <a:lnTo>
                  <a:pt x="610" y="1520"/>
                </a:lnTo>
                <a:lnTo>
                  <a:pt x="644" y="1536"/>
                </a:lnTo>
                <a:lnTo>
                  <a:pt x="660" y="1536"/>
                </a:lnTo>
                <a:lnTo>
                  <a:pt x="693" y="1536"/>
                </a:lnTo>
                <a:lnTo>
                  <a:pt x="726" y="1536"/>
                </a:lnTo>
                <a:lnTo>
                  <a:pt x="743" y="1553"/>
                </a:lnTo>
                <a:lnTo>
                  <a:pt x="777" y="1553"/>
                </a:lnTo>
                <a:lnTo>
                  <a:pt x="810" y="1553"/>
                </a:lnTo>
                <a:lnTo>
                  <a:pt x="826" y="1536"/>
                </a:lnTo>
                <a:lnTo>
                  <a:pt x="859" y="1536"/>
                </a:lnTo>
                <a:lnTo>
                  <a:pt x="892" y="1536"/>
                </a:lnTo>
                <a:lnTo>
                  <a:pt x="909" y="1536"/>
                </a:lnTo>
                <a:lnTo>
                  <a:pt x="942" y="1520"/>
                </a:lnTo>
                <a:lnTo>
                  <a:pt x="975" y="1520"/>
                </a:lnTo>
                <a:lnTo>
                  <a:pt x="991" y="1520"/>
                </a:lnTo>
                <a:lnTo>
                  <a:pt x="1024" y="1503"/>
                </a:lnTo>
                <a:lnTo>
                  <a:pt x="1057" y="1503"/>
                </a:lnTo>
                <a:lnTo>
                  <a:pt x="1074" y="1487"/>
                </a:lnTo>
                <a:lnTo>
                  <a:pt x="1107" y="1470"/>
                </a:lnTo>
                <a:lnTo>
                  <a:pt x="1123" y="1454"/>
                </a:lnTo>
                <a:lnTo>
                  <a:pt x="1156" y="1454"/>
                </a:lnTo>
                <a:lnTo>
                  <a:pt x="1173" y="1437"/>
                </a:lnTo>
                <a:lnTo>
                  <a:pt x="1206" y="1421"/>
                </a:lnTo>
                <a:lnTo>
                  <a:pt x="1222" y="1404"/>
                </a:lnTo>
                <a:lnTo>
                  <a:pt x="1239" y="1388"/>
                </a:lnTo>
                <a:lnTo>
                  <a:pt x="1272" y="1371"/>
                </a:lnTo>
                <a:lnTo>
                  <a:pt x="1289" y="1355"/>
                </a:lnTo>
                <a:lnTo>
                  <a:pt x="1305" y="1338"/>
                </a:lnTo>
                <a:lnTo>
                  <a:pt x="1338" y="1305"/>
                </a:lnTo>
                <a:lnTo>
                  <a:pt x="1355" y="1289"/>
                </a:lnTo>
                <a:lnTo>
                  <a:pt x="1371" y="1272"/>
                </a:lnTo>
                <a:lnTo>
                  <a:pt x="1388" y="1239"/>
                </a:lnTo>
                <a:lnTo>
                  <a:pt x="1404" y="1222"/>
                </a:lnTo>
                <a:lnTo>
                  <a:pt x="1421" y="1206"/>
                </a:lnTo>
                <a:lnTo>
                  <a:pt x="1437" y="1173"/>
                </a:lnTo>
                <a:lnTo>
                  <a:pt x="1454" y="1156"/>
                </a:lnTo>
                <a:lnTo>
                  <a:pt x="1454" y="1123"/>
                </a:lnTo>
                <a:lnTo>
                  <a:pt x="1470" y="1107"/>
                </a:lnTo>
                <a:lnTo>
                  <a:pt x="1487" y="1074"/>
                </a:lnTo>
                <a:lnTo>
                  <a:pt x="1503" y="1057"/>
                </a:lnTo>
                <a:lnTo>
                  <a:pt x="1503" y="1024"/>
                </a:lnTo>
                <a:lnTo>
                  <a:pt x="1520" y="991"/>
                </a:lnTo>
                <a:lnTo>
                  <a:pt x="1520" y="975"/>
                </a:lnTo>
                <a:lnTo>
                  <a:pt x="1520" y="942"/>
                </a:lnTo>
                <a:lnTo>
                  <a:pt x="1536" y="909"/>
                </a:lnTo>
                <a:lnTo>
                  <a:pt x="1536" y="892"/>
                </a:lnTo>
                <a:lnTo>
                  <a:pt x="1536" y="859"/>
                </a:lnTo>
                <a:lnTo>
                  <a:pt x="1536" y="826"/>
                </a:lnTo>
                <a:lnTo>
                  <a:pt x="1553" y="810"/>
                </a:lnTo>
                <a:lnTo>
                  <a:pt x="1553" y="777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flipH="1">
            <a:off x="6622920" y="2432160"/>
            <a:ext cx="2746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7004160" y="2050920"/>
            <a:ext cx="0" cy="2732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112160" y="2432160"/>
            <a:ext cx="2728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7004160" y="2378160"/>
            <a:ext cx="0" cy="1080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6950160" y="2432160"/>
            <a:ext cx="1080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3222720" y="3852720"/>
            <a:ext cx="433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198960" y="4807080"/>
            <a:ext cx="4334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Arial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2680" y="1292400"/>
            <a:ext cx="24940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atum tar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line (ele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one), which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 called out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rawing u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oint symb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edg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the surface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a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lin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jacent su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ew, or </a:t>
            </a:r>
            <a:r>
              <a:rPr b="0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oth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1566720" y="279360"/>
            <a:ext cx="6012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 Line Desig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5210280" y="611172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/>
          <p:nvPr/>
        </p:nvSpPr>
        <p:spPr>
          <a:xfrm>
            <a:off x="4989600" y="4757760"/>
            <a:ext cx="0" cy="142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2197080" y="2532240"/>
            <a:ext cx="0" cy="243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 flipH="1">
            <a:off x="3071880" y="4746600"/>
            <a:ext cx="54000" cy="52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40" bIns="1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4751280" y="4329000"/>
            <a:ext cx="470160" cy="470160"/>
          </a:xfrm>
          <a:custGeom>
            <a:avLst/>
            <a:gdLst/>
            <a:ahLst/>
            <a:rect l="0" t="0" r="r" b="b"/>
            <a:pathLst>
              <a:path w="1306" h="1306">
                <a:moveTo>
                  <a:pt x="1306" y="661"/>
                </a:moveTo>
                <a:lnTo>
                  <a:pt x="1306" y="627"/>
                </a:lnTo>
                <a:lnTo>
                  <a:pt x="1306" y="611"/>
                </a:lnTo>
                <a:lnTo>
                  <a:pt x="1306" y="578"/>
                </a:lnTo>
                <a:lnTo>
                  <a:pt x="1306" y="561"/>
                </a:lnTo>
                <a:lnTo>
                  <a:pt x="1289" y="545"/>
                </a:lnTo>
                <a:lnTo>
                  <a:pt x="1289" y="512"/>
                </a:lnTo>
                <a:lnTo>
                  <a:pt x="1289" y="495"/>
                </a:lnTo>
                <a:lnTo>
                  <a:pt x="1273" y="462"/>
                </a:lnTo>
                <a:lnTo>
                  <a:pt x="1273" y="446"/>
                </a:lnTo>
                <a:lnTo>
                  <a:pt x="1273" y="429"/>
                </a:lnTo>
                <a:lnTo>
                  <a:pt x="1256" y="396"/>
                </a:lnTo>
                <a:lnTo>
                  <a:pt x="1240" y="380"/>
                </a:lnTo>
                <a:lnTo>
                  <a:pt x="1240" y="363"/>
                </a:lnTo>
                <a:lnTo>
                  <a:pt x="1223" y="346"/>
                </a:lnTo>
                <a:lnTo>
                  <a:pt x="1223" y="313"/>
                </a:lnTo>
                <a:lnTo>
                  <a:pt x="1207" y="297"/>
                </a:lnTo>
                <a:lnTo>
                  <a:pt x="1190" y="280"/>
                </a:lnTo>
                <a:lnTo>
                  <a:pt x="1174" y="264"/>
                </a:lnTo>
                <a:lnTo>
                  <a:pt x="1157" y="247"/>
                </a:lnTo>
                <a:lnTo>
                  <a:pt x="1141" y="231"/>
                </a:lnTo>
                <a:lnTo>
                  <a:pt x="1124" y="214"/>
                </a:lnTo>
                <a:lnTo>
                  <a:pt x="1108" y="198"/>
                </a:lnTo>
                <a:lnTo>
                  <a:pt x="1091" y="181"/>
                </a:lnTo>
                <a:lnTo>
                  <a:pt x="1074" y="165"/>
                </a:lnTo>
                <a:lnTo>
                  <a:pt x="1058" y="148"/>
                </a:lnTo>
                <a:lnTo>
                  <a:pt x="1041" y="132"/>
                </a:lnTo>
                <a:lnTo>
                  <a:pt x="1025" y="115"/>
                </a:lnTo>
                <a:lnTo>
                  <a:pt x="1008" y="99"/>
                </a:lnTo>
                <a:lnTo>
                  <a:pt x="992" y="99"/>
                </a:lnTo>
                <a:lnTo>
                  <a:pt x="959" y="82"/>
                </a:lnTo>
                <a:lnTo>
                  <a:pt x="942" y="66"/>
                </a:lnTo>
                <a:lnTo>
                  <a:pt x="926" y="66"/>
                </a:lnTo>
                <a:lnTo>
                  <a:pt x="909" y="49"/>
                </a:lnTo>
                <a:lnTo>
                  <a:pt x="876" y="33"/>
                </a:lnTo>
                <a:lnTo>
                  <a:pt x="860" y="33"/>
                </a:lnTo>
                <a:lnTo>
                  <a:pt x="843" y="33"/>
                </a:lnTo>
                <a:lnTo>
                  <a:pt x="810" y="16"/>
                </a:lnTo>
                <a:lnTo>
                  <a:pt x="794" y="16"/>
                </a:lnTo>
                <a:lnTo>
                  <a:pt x="777" y="16"/>
                </a:lnTo>
                <a:lnTo>
                  <a:pt x="744" y="0"/>
                </a:lnTo>
                <a:lnTo>
                  <a:pt x="727" y="0"/>
                </a:lnTo>
                <a:lnTo>
                  <a:pt x="694" y="0"/>
                </a:lnTo>
                <a:lnTo>
                  <a:pt x="678" y="0"/>
                </a:lnTo>
                <a:lnTo>
                  <a:pt x="661" y="0"/>
                </a:lnTo>
                <a:lnTo>
                  <a:pt x="627" y="0"/>
                </a:lnTo>
                <a:lnTo>
                  <a:pt x="611" y="0"/>
                </a:lnTo>
                <a:lnTo>
                  <a:pt x="578" y="0"/>
                </a:lnTo>
                <a:lnTo>
                  <a:pt x="561" y="0"/>
                </a:lnTo>
                <a:lnTo>
                  <a:pt x="545" y="16"/>
                </a:lnTo>
                <a:lnTo>
                  <a:pt x="512" y="16"/>
                </a:lnTo>
                <a:lnTo>
                  <a:pt x="495" y="16"/>
                </a:lnTo>
                <a:lnTo>
                  <a:pt x="462" y="33"/>
                </a:lnTo>
                <a:lnTo>
                  <a:pt x="446" y="33"/>
                </a:lnTo>
                <a:lnTo>
                  <a:pt x="429" y="33"/>
                </a:lnTo>
                <a:lnTo>
                  <a:pt x="396" y="49"/>
                </a:lnTo>
                <a:lnTo>
                  <a:pt x="380" y="66"/>
                </a:lnTo>
                <a:lnTo>
                  <a:pt x="363" y="66"/>
                </a:lnTo>
                <a:lnTo>
                  <a:pt x="346" y="82"/>
                </a:lnTo>
                <a:lnTo>
                  <a:pt x="313" y="99"/>
                </a:lnTo>
                <a:lnTo>
                  <a:pt x="297" y="99"/>
                </a:lnTo>
                <a:lnTo>
                  <a:pt x="280" y="115"/>
                </a:lnTo>
                <a:lnTo>
                  <a:pt x="264" y="132"/>
                </a:lnTo>
                <a:lnTo>
                  <a:pt x="247" y="148"/>
                </a:lnTo>
                <a:lnTo>
                  <a:pt x="231" y="165"/>
                </a:lnTo>
                <a:lnTo>
                  <a:pt x="214" y="181"/>
                </a:lnTo>
                <a:lnTo>
                  <a:pt x="198" y="198"/>
                </a:lnTo>
                <a:lnTo>
                  <a:pt x="181" y="214"/>
                </a:lnTo>
                <a:lnTo>
                  <a:pt x="165" y="231"/>
                </a:lnTo>
                <a:lnTo>
                  <a:pt x="148" y="247"/>
                </a:lnTo>
                <a:lnTo>
                  <a:pt x="132" y="264"/>
                </a:lnTo>
                <a:lnTo>
                  <a:pt x="115" y="280"/>
                </a:lnTo>
                <a:lnTo>
                  <a:pt x="99" y="297"/>
                </a:lnTo>
                <a:lnTo>
                  <a:pt x="82" y="313"/>
                </a:lnTo>
                <a:lnTo>
                  <a:pt x="82" y="346"/>
                </a:lnTo>
                <a:lnTo>
                  <a:pt x="66" y="363"/>
                </a:lnTo>
                <a:lnTo>
                  <a:pt x="66" y="380"/>
                </a:lnTo>
                <a:lnTo>
                  <a:pt x="49" y="396"/>
                </a:lnTo>
                <a:lnTo>
                  <a:pt x="33" y="429"/>
                </a:lnTo>
                <a:lnTo>
                  <a:pt x="33" y="446"/>
                </a:lnTo>
                <a:lnTo>
                  <a:pt x="33" y="462"/>
                </a:lnTo>
                <a:lnTo>
                  <a:pt x="16" y="495"/>
                </a:lnTo>
                <a:lnTo>
                  <a:pt x="16" y="512"/>
                </a:lnTo>
                <a:lnTo>
                  <a:pt x="16" y="545"/>
                </a:lnTo>
                <a:lnTo>
                  <a:pt x="0" y="561"/>
                </a:lnTo>
                <a:lnTo>
                  <a:pt x="0" y="578"/>
                </a:lnTo>
                <a:lnTo>
                  <a:pt x="0" y="611"/>
                </a:lnTo>
                <a:lnTo>
                  <a:pt x="0" y="627"/>
                </a:lnTo>
                <a:lnTo>
                  <a:pt x="0" y="661"/>
                </a:lnTo>
                <a:lnTo>
                  <a:pt x="0" y="678"/>
                </a:lnTo>
                <a:lnTo>
                  <a:pt x="0" y="694"/>
                </a:lnTo>
                <a:lnTo>
                  <a:pt x="0" y="727"/>
                </a:lnTo>
                <a:lnTo>
                  <a:pt x="0" y="744"/>
                </a:lnTo>
                <a:lnTo>
                  <a:pt x="16" y="777"/>
                </a:lnTo>
                <a:lnTo>
                  <a:pt x="16" y="794"/>
                </a:lnTo>
                <a:lnTo>
                  <a:pt x="16" y="810"/>
                </a:lnTo>
                <a:lnTo>
                  <a:pt x="33" y="843"/>
                </a:lnTo>
                <a:lnTo>
                  <a:pt x="33" y="860"/>
                </a:lnTo>
                <a:lnTo>
                  <a:pt x="33" y="876"/>
                </a:lnTo>
                <a:lnTo>
                  <a:pt x="49" y="909"/>
                </a:lnTo>
                <a:lnTo>
                  <a:pt x="66" y="926"/>
                </a:lnTo>
                <a:lnTo>
                  <a:pt x="66" y="942"/>
                </a:lnTo>
                <a:lnTo>
                  <a:pt x="82" y="975"/>
                </a:lnTo>
                <a:lnTo>
                  <a:pt x="82" y="992"/>
                </a:lnTo>
                <a:lnTo>
                  <a:pt x="99" y="1008"/>
                </a:lnTo>
                <a:lnTo>
                  <a:pt x="115" y="1025"/>
                </a:lnTo>
                <a:lnTo>
                  <a:pt x="132" y="1041"/>
                </a:lnTo>
                <a:lnTo>
                  <a:pt x="148" y="1058"/>
                </a:lnTo>
                <a:lnTo>
                  <a:pt x="165" y="1091"/>
                </a:lnTo>
                <a:lnTo>
                  <a:pt x="181" y="1108"/>
                </a:lnTo>
                <a:lnTo>
                  <a:pt x="198" y="1124"/>
                </a:lnTo>
                <a:lnTo>
                  <a:pt x="214" y="1141"/>
                </a:lnTo>
                <a:lnTo>
                  <a:pt x="231" y="1157"/>
                </a:lnTo>
                <a:lnTo>
                  <a:pt x="247" y="1157"/>
                </a:lnTo>
                <a:lnTo>
                  <a:pt x="264" y="1174"/>
                </a:lnTo>
                <a:lnTo>
                  <a:pt x="280" y="1190"/>
                </a:lnTo>
                <a:lnTo>
                  <a:pt x="297" y="1207"/>
                </a:lnTo>
                <a:lnTo>
                  <a:pt x="313" y="1223"/>
                </a:lnTo>
                <a:lnTo>
                  <a:pt x="346" y="1223"/>
                </a:lnTo>
                <a:lnTo>
                  <a:pt x="363" y="1240"/>
                </a:lnTo>
                <a:lnTo>
                  <a:pt x="380" y="1256"/>
                </a:lnTo>
                <a:lnTo>
                  <a:pt x="396" y="1256"/>
                </a:lnTo>
                <a:lnTo>
                  <a:pt x="429" y="1273"/>
                </a:lnTo>
                <a:lnTo>
                  <a:pt x="446" y="1273"/>
                </a:lnTo>
                <a:lnTo>
                  <a:pt x="462" y="1289"/>
                </a:lnTo>
                <a:lnTo>
                  <a:pt x="495" y="1289"/>
                </a:lnTo>
                <a:lnTo>
                  <a:pt x="512" y="1289"/>
                </a:lnTo>
                <a:lnTo>
                  <a:pt x="545" y="1306"/>
                </a:lnTo>
                <a:lnTo>
                  <a:pt x="561" y="1306"/>
                </a:lnTo>
                <a:lnTo>
                  <a:pt x="578" y="1306"/>
                </a:lnTo>
                <a:lnTo>
                  <a:pt x="611" y="1306"/>
                </a:lnTo>
                <a:lnTo>
                  <a:pt x="627" y="1306"/>
                </a:lnTo>
                <a:lnTo>
                  <a:pt x="661" y="1306"/>
                </a:lnTo>
                <a:lnTo>
                  <a:pt x="678" y="1306"/>
                </a:lnTo>
                <a:lnTo>
                  <a:pt x="694" y="1306"/>
                </a:lnTo>
                <a:lnTo>
                  <a:pt x="727" y="1306"/>
                </a:lnTo>
                <a:lnTo>
                  <a:pt x="744" y="1306"/>
                </a:lnTo>
                <a:lnTo>
                  <a:pt x="777" y="1306"/>
                </a:lnTo>
                <a:lnTo>
                  <a:pt x="794" y="1289"/>
                </a:lnTo>
                <a:lnTo>
                  <a:pt x="810" y="1289"/>
                </a:lnTo>
                <a:lnTo>
                  <a:pt x="843" y="1289"/>
                </a:lnTo>
                <a:lnTo>
                  <a:pt x="860" y="1273"/>
                </a:lnTo>
                <a:lnTo>
                  <a:pt x="876" y="1273"/>
                </a:lnTo>
                <a:lnTo>
                  <a:pt x="909" y="1256"/>
                </a:lnTo>
                <a:lnTo>
                  <a:pt x="926" y="1256"/>
                </a:lnTo>
                <a:lnTo>
                  <a:pt x="942" y="1240"/>
                </a:lnTo>
                <a:lnTo>
                  <a:pt x="959" y="1223"/>
                </a:lnTo>
                <a:lnTo>
                  <a:pt x="992" y="1223"/>
                </a:lnTo>
                <a:lnTo>
                  <a:pt x="1008" y="1207"/>
                </a:lnTo>
                <a:lnTo>
                  <a:pt x="1025" y="1190"/>
                </a:lnTo>
                <a:lnTo>
                  <a:pt x="1041" y="1174"/>
                </a:lnTo>
                <a:lnTo>
                  <a:pt x="1058" y="1157"/>
                </a:lnTo>
                <a:lnTo>
                  <a:pt x="1074" y="1157"/>
                </a:lnTo>
                <a:lnTo>
                  <a:pt x="1091" y="1141"/>
                </a:lnTo>
                <a:lnTo>
                  <a:pt x="1108" y="1124"/>
                </a:lnTo>
                <a:lnTo>
                  <a:pt x="1124" y="1108"/>
                </a:lnTo>
                <a:lnTo>
                  <a:pt x="1141" y="1091"/>
                </a:lnTo>
                <a:lnTo>
                  <a:pt x="1157" y="1058"/>
                </a:lnTo>
                <a:lnTo>
                  <a:pt x="1174" y="1041"/>
                </a:lnTo>
                <a:lnTo>
                  <a:pt x="1190" y="1025"/>
                </a:lnTo>
                <a:lnTo>
                  <a:pt x="1207" y="1008"/>
                </a:lnTo>
                <a:lnTo>
                  <a:pt x="1223" y="992"/>
                </a:lnTo>
                <a:lnTo>
                  <a:pt x="1223" y="975"/>
                </a:lnTo>
                <a:lnTo>
                  <a:pt x="1240" y="942"/>
                </a:lnTo>
                <a:lnTo>
                  <a:pt x="1240" y="926"/>
                </a:lnTo>
                <a:lnTo>
                  <a:pt x="1256" y="909"/>
                </a:lnTo>
                <a:lnTo>
                  <a:pt x="1273" y="876"/>
                </a:lnTo>
                <a:lnTo>
                  <a:pt x="1273" y="860"/>
                </a:lnTo>
                <a:lnTo>
                  <a:pt x="1273" y="843"/>
                </a:lnTo>
                <a:lnTo>
                  <a:pt x="1289" y="810"/>
                </a:lnTo>
                <a:lnTo>
                  <a:pt x="1289" y="794"/>
                </a:lnTo>
                <a:lnTo>
                  <a:pt x="1289" y="777"/>
                </a:lnTo>
                <a:lnTo>
                  <a:pt x="1306" y="744"/>
                </a:lnTo>
                <a:lnTo>
                  <a:pt x="1306" y="727"/>
                </a:lnTo>
                <a:lnTo>
                  <a:pt x="1306" y="694"/>
                </a:lnTo>
                <a:lnTo>
                  <a:pt x="1306" y="678"/>
                </a:lnTo>
                <a:lnTo>
                  <a:pt x="1306" y="661"/>
                </a:lnTo>
                <a:close/>
              </a:path>
            </a:pathLst>
          </a:custGeom>
          <a:gradFill rotWithShape="0">
            <a:gsLst>
              <a:gs pos="0">
                <a:srgbClr val="30394c"/>
              </a:gs>
              <a:gs pos="100000">
                <a:srgbClr val="a2c1fe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 flipH="1">
            <a:off x="2197080" y="4799160"/>
            <a:ext cx="874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149480" y="4818240"/>
            <a:ext cx="1047960" cy="154440"/>
          </a:xfrm>
          <a:custGeom>
            <a:avLst/>
            <a:gdLst/>
            <a:ahLst/>
            <a:rect l="0" t="0" r="r" b="b"/>
            <a:pathLst>
              <a:path fill="none" w="2911" h="429">
                <a:moveTo>
                  <a:pt x="0" y="0"/>
                </a:moveTo>
                <a:lnTo>
                  <a:pt x="463" y="429"/>
                </a:lnTo>
                <a:lnTo>
                  <a:pt x="2911" y="42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H="1">
            <a:off x="3024360" y="4567320"/>
            <a:ext cx="36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 flipH="1">
            <a:off x="2822400" y="4567320"/>
            <a:ext cx="171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2755800" y="4567320"/>
            <a:ext cx="3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2554200" y="4567320"/>
            <a:ext cx="173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 flipH="1">
            <a:off x="2489040" y="4567320"/>
            <a:ext cx="34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2286000" y="456732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 flipH="1">
            <a:off x="2220840" y="4567320"/>
            <a:ext cx="30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2197080" y="2532240"/>
            <a:ext cx="428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 flipH="1">
            <a:off x="2197080" y="4329000"/>
            <a:ext cx="428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2732040" y="3417840"/>
            <a:ext cx="203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666880" y="3417840"/>
            <a:ext cx="302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 flipH="1">
            <a:off x="2465280" y="341784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2394000" y="3417840"/>
            <a:ext cx="34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2197080" y="341784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 flipH="1">
            <a:off x="2125800" y="3417840"/>
            <a:ext cx="34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1893960" y="3417840"/>
            <a:ext cx="201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 flipV="1">
            <a:off x="2197080" y="2532240"/>
            <a:ext cx="0" cy="179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292400" y="2216160"/>
            <a:ext cx="905400" cy="316440"/>
          </a:xfrm>
          <a:custGeom>
            <a:avLst/>
            <a:gdLst/>
            <a:ahLst/>
            <a:rect l="0" t="0" r="r" b="b"/>
            <a:pathLst>
              <a:path fill="none" w="2515" h="879">
                <a:moveTo>
                  <a:pt x="2515" y="879"/>
                </a:moveTo>
                <a:lnTo>
                  <a:pt x="2515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 flipH="1" flipV="1">
            <a:off x="3774960" y="1852560"/>
            <a:ext cx="476280" cy="1417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2625840" y="2532240"/>
            <a:ext cx="0" cy="179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125880" y="4383000"/>
            <a:ext cx="0" cy="363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805280" y="4383000"/>
            <a:ext cx="363960" cy="363960"/>
          </a:xfrm>
          <a:custGeom>
            <a:avLst/>
            <a:gdLst/>
            <a:ahLst/>
            <a:rect l="0" t="0" r="r" b="b"/>
            <a:pathLst>
              <a:path w="1011" h="1011">
                <a:moveTo>
                  <a:pt x="1011" y="514"/>
                </a:moveTo>
                <a:lnTo>
                  <a:pt x="1011" y="481"/>
                </a:lnTo>
                <a:lnTo>
                  <a:pt x="1011" y="464"/>
                </a:lnTo>
                <a:lnTo>
                  <a:pt x="1011" y="447"/>
                </a:lnTo>
                <a:lnTo>
                  <a:pt x="995" y="431"/>
                </a:lnTo>
                <a:lnTo>
                  <a:pt x="995" y="414"/>
                </a:lnTo>
                <a:lnTo>
                  <a:pt x="995" y="381"/>
                </a:lnTo>
                <a:lnTo>
                  <a:pt x="995" y="365"/>
                </a:lnTo>
                <a:lnTo>
                  <a:pt x="978" y="348"/>
                </a:lnTo>
                <a:lnTo>
                  <a:pt x="978" y="332"/>
                </a:lnTo>
                <a:lnTo>
                  <a:pt x="962" y="315"/>
                </a:lnTo>
                <a:lnTo>
                  <a:pt x="962" y="298"/>
                </a:lnTo>
                <a:lnTo>
                  <a:pt x="945" y="282"/>
                </a:lnTo>
                <a:lnTo>
                  <a:pt x="945" y="248"/>
                </a:lnTo>
                <a:lnTo>
                  <a:pt x="929" y="231"/>
                </a:lnTo>
                <a:lnTo>
                  <a:pt x="912" y="215"/>
                </a:lnTo>
                <a:lnTo>
                  <a:pt x="912" y="198"/>
                </a:lnTo>
                <a:lnTo>
                  <a:pt x="895" y="182"/>
                </a:lnTo>
                <a:lnTo>
                  <a:pt x="879" y="165"/>
                </a:lnTo>
                <a:lnTo>
                  <a:pt x="862" y="165"/>
                </a:lnTo>
                <a:lnTo>
                  <a:pt x="846" y="148"/>
                </a:lnTo>
                <a:lnTo>
                  <a:pt x="846" y="132"/>
                </a:lnTo>
                <a:lnTo>
                  <a:pt x="829" y="115"/>
                </a:lnTo>
                <a:lnTo>
                  <a:pt x="813" y="99"/>
                </a:lnTo>
                <a:lnTo>
                  <a:pt x="796" y="99"/>
                </a:lnTo>
                <a:lnTo>
                  <a:pt x="780" y="82"/>
                </a:lnTo>
                <a:lnTo>
                  <a:pt x="763" y="66"/>
                </a:lnTo>
                <a:lnTo>
                  <a:pt x="745" y="66"/>
                </a:lnTo>
                <a:lnTo>
                  <a:pt x="729" y="49"/>
                </a:lnTo>
                <a:lnTo>
                  <a:pt x="696" y="49"/>
                </a:lnTo>
                <a:lnTo>
                  <a:pt x="679" y="33"/>
                </a:lnTo>
                <a:lnTo>
                  <a:pt x="663" y="33"/>
                </a:lnTo>
                <a:lnTo>
                  <a:pt x="646" y="16"/>
                </a:lnTo>
                <a:lnTo>
                  <a:pt x="630" y="16"/>
                </a:lnTo>
                <a:lnTo>
                  <a:pt x="613" y="16"/>
                </a:lnTo>
                <a:lnTo>
                  <a:pt x="580" y="16"/>
                </a:lnTo>
                <a:lnTo>
                  <a:pt x="563" y="0"/>
                </a:lnTo>
                <a:lnTo>
                  <a:pt x="547" y="0"/>
                </a:lnTo>
                <a:lnTo>
                  <a:pt x="530" y="0"/>
                </a:lnTo>
                <a:lnTo>
                  <a:pt x="514" y="0"/>
                </a:lnTo>
                <a:lnTo>
                  <a:pt x="481" y="0"/>
                </a:lnTo>
                <a:lnTo>
                  <a:pt x="464" y="0"/>
                </a:lnTo>
                <a:lnTo>
                  <a:pt x="447" y="0"/>
                </a:lnTo>
                <a:lnTo>
                  <a:pt x="431" y="16"/>
                </a:lnTo>
                <a:lnTo>
                  <a:pt x="398" y="16"/>
                </a:lnTo>
                <a:lnTo>
                  <a:pt x="381" y="16"/>
                </a:lnTo>
                <a:lnTo>
                  <a:pt x="365" y="16"/>
                </a:lnTo>
                <a:lnTo>
                  <a:pt x="348" y="33"/>
                </a:lnTo>
                <a:lnTo>
                  <a:pt x="332" y="33"/>
                </a:lnTo>
                <a:lnTo>
                  <a:pt x="315" y="49"/>
                </a:lnTo>
                <a:lnTo>
                  <a:pt x="298" y="49"/>
                </a:lnTo>
                <a:lnTo>
                  <a:pt x="265" y="66"/>
                </a:lnTo>
                <a:lnTo>
                  <a:pt x="248" y="66"/>
                </a:lnTo>
                <a:lnTo>
                  <a:pt x="231" y="82"/>
                </a:lnTo>
                <a:lnTo>
                  <a:pt x="215" y="99"/>
                </a:lnTo>
                <a:lnTo>
                  <a:pt x="198" y="99"/>
                </a:lnTo>
                <a:lnTo>
                  <a:pt x="182" y="115"/>
                </a:lnTo>
                <a:lnTo>
                  <a:pt x="165" y="132"/>
                </a:lnTo>
                <a:lnTo>
                  <a:pt x="165" y="148"/>
                </a:lnTo>
                <a:lnTo>
                  <a:pt x="148" y="165"/>
                </a:lnTo>
                <a:lnTo>
                  <a:pt x="132" y="165"/>
                </a:lnTo>
                <a:lnTo>
                  <a:pt x="115" y="182"/>
                </a:lnTo>
                <a:lnTo>
                  <a:pt x="99" y="198"/>
                </a:lnTo>
                <a:lnTo>
                  <a:pt x="99" y="215"/>
                </a:lnTo>
                <a:lnTo>
                  <a:pt x="82" y="231"/>
                </a:lnTo>
                <a:lnTo>
                  <a:pt x="66" y="248"/>
                </a:lnTo>
                <a:lnTo>
                  <a:pt x="66" y="282"/>
                </a:lnTo>
                <a:lnTo>
                  <a:pt x="49" y="298"/>
                </a:lnTo>
                <a:lnTo>
                  <a:pt x="49" y="315"/>
                </a:lnTo>
                <a:lnTo>
                  <a:pt x="33" y="332"/>
                </a:lnTo>
                <a:lnTo>
                  <a:pt x="33" y="348"/>
                </a:lnTo>
                <a:lnTo>
                  <a:pt x="16" y="365"/>
                </a:lnTo>
                <a:lnTo>
                  <a:pt x="16" y="381"/>
                </a:lnTo>
                <a:lnTo>
                  <a:pt x="16" y="414"/>
                </a:lnTo>
                <a:lnTo>
                  <a:pt x="16" y="431"/>
                </a:lnTo>
                <a:lnTo>
                  <a:pt x="0" y="447"/>
                </a:lnTo>
                <a:lnTo>
                  <a:pt x="0" y="464"/>
                </a:lnTo>
                <a:lnTo>
                  <a:pt x="0" y="481"/>
                </a:lnTo>
                <a:lnTo>
                  <a:pt x="0" y="514"/>
                </a:lnTo>
                <a:lnTo>
                  <a:pt x="0" y="530"/>
                </a:lnTo>
                <a:lnTo>
                  <a:pt x="0" y="547"/>
                </a:lnTo>
                <a:lnTo>
                  <a:pt x="0" y="563"/>
                </a:lnTo>
                <a:lnTo>
                  <a:pt x="16" y="580"/>
                </a:lnTo>
                <a:lnTo>
                  <a:pt x="16" y="613"/>
                </a:lnTo>
                <a:lnTo>
                  <a:pt x="16" y="630"/>
                </a:lnTo>
                <a:lnTo>
                  <a:pt x="16" y="646"/>
                </a:lnTo>
                <a:lnTo>
                  <a:pt x="33" y="663"/>
                </a:lnTo>
                <a:lnTo>
                  <a:pt x="33" y="679"/>
                </a:lnTo>
                <a:lnTo>
                  <a:pt x="49" y="696"/>
                </a:lnTo>
                <a:lnTo>
                  <a:pt x="49" y="729"/>
                </a:lnTo>
                <a:lnTo>
                  <a:pt x="66" y="745"/>
                </a:lnTo>
                <a:lnTo>
                  <a:pt x="66" y="763"/>
                </a:lnTo>
                <a:lnTo>
                  <a:pt x="82" y="780"/>
                </a:lnTo>
                <a:lnTo>
                  <a:pt x="99" y="796"/>
                </a:lnTo>
                <a:lnTo>
                  <a:pt x="99" y="813"/>
                </a:lnTo>
                <a:lnTo>
                  <a:pt x="115" y="829"/>
                </a:lnTo>
                <a:lnTo>
                  <a:pt x="132" y="846"/>
                </a:lnTo>
                <a:lnTo>
                  <a:pt x="148" y="862"/>
                </a:lnTo>
                <a:lnTo>
                  <a:pt x="165" y="879"/>
                </a:lnTo>
                <a:lnTo>
                  <a:pt x="182" y="895"/>
                </a:lnTo>
                <a:lnTo>
                  <a:pt x="198" y="912"/>
                </a:lnTo>
                <a:lnTo>
                  <a:pt x="215" y="929"/>
                </a:lnTo>
                <a:lnTo>
                  <a:pt x="231" y="929"/>
                </a:lnTo>
                <a:lnTo>
                  <a:pt x="248" y="945"/>
                </a:lnTo>
                <a:lnTo>
                  <a:pt x="265" y="945"/>
                </a:lnTo>
                <a:lnTo>
                  <a:pt x="298" y="962"/>
                </a:lnTo>
                <a:lnTo>
                  <a:pt x="315" y="978"/>
                </a:lnTo>
                <a:lnTo>
                  <a:pt x="332" y="978"/>
                </a:lnTo>
                <a:lnTo>
                  <a:pt x="348" y="978"/>
                </a:lnTo>
                <a:lnTo>
                  <a:pt x="365" y="995"/>
                </a:lnTo>
                <a:lnTo>
                  <a:pt x="381" y="995"/>
                </a:lnTo>
                <a:lnTo>
                  <a:pt x="398" y="995"/>
                </a:lnTo>
                <a:lnTo>
                  <a:pt x="431" y="1011"/>
                </a:lnTo>
                <a:lnTo>
                  <a:pt x="447" y="1011"/>
                </a:lnTo>
                <a:lnTo>
                  <a:pt x="464" y="1011"/>
                </a:lnTo>
                <a:lnTo>
                  <a:pt x="481" y="1011"/>
                </a:lnTo>
                <a:lnTo>
                  <a:pt x="514" y="1011"/>
                </a:lnTo>
                <a:lnTo>
                  <a:pt x="530" y="1011"/>
                </a:lnTo>
                <a:lnTo>
                  <a:pt x="547" y="1011"/>
                </a:lnTo>
                <a:lnTo>
                  <a:pt x="563" y="1011"/>
                </a:lnTo>
                <a:lnTo>
                  <a:pt x="580" y="1011"/>
                </a:lnTo>
                <a:lnTo>
                  <a:pt x="613" y="995"/>
                </a:lnTo>
                <a:lnTo>
                  <a:pt x="630" y="995"/>
                </a:lnTo>
                <a:lnTo>
                  <a:pt x="646" y="995"/>
                </a:lnTo>
                <a:lnTo>
                  <a:pt x="663" y="978"/>
                </a:lnTo>
                <a:lnTo>
                  <a:pt x="679" y="978"/>
                </a:lnTo>
                <a:lnTo>
                  <a:pt x="696" y="978"/>
                </a:lnTo>
                <a:lnTo>
                  <a:pt x="729" y="962"/>
                </a:lnTo>
                <a:lnTo>
                  <a:pt x="745" y="945"/>
                </a:lnTo>
                <a:lnTo>
                  <a:pt x="763" y="945"/>
                </a:lnTo>
                <a:lnTo>
                  <a:pt x="780" y="929"/>
                </a:lnTo>
                <a:lnTo>
                  <a:pt x="796" y="929"/>
                </a:lnTo>
                <a:lnTo>
                  <a:pt x="813" y="912"/>
                </a:lnTo>
                <a:lnTo>
                  <a:pt x="829" y="895"/>
                </a:lnTo>
                <a:lnTo>
                  <a:pt x="846" y="879"/>
                </a:lnTo>
                <a:lnTo>
                  <a:pt x="862" y="862"/>
                </a:lnTo>
                <a:lnTo>
                  <a:pt x="879" y="846"/>
                </a:lnTo>
                <a:lnTo>
                  <a:pt x="895" y="829"/>
                </a:lnTo>
                <a:lnTo>
                  <a:pt x="912" y="813"/>
                </a:lnTo>
                <a:lnTo>
                  <a:pt x="912" y="796"/>
                </a:lnTo>
                <a:lnTo>
                  <a:pt x="929" y="780"/>
                </a:lnTo>
                <a:lnTo>
                  <a:pt x="945" y="763"/>
                </a:lnTo>
                <a:lnTo>
                  <a:pt x="945" y="745"/>
                </a:lnTo>
                <a:lnTo>
                  <a:pt x="962" y="729"/>
                </a:lnTo>
                <a:lnTo>
                  <a:pt x="962" y="696"/>
                </a:lnTo>
                <a:lnTo>
                  <a:pt x="978" y="679"/>
                </a:lnTo>
                <a:lnTo>
                  <a:pt x="978" y="663"/>
                </a:lnTo>
                <a:lnTo>
                  <a:pt x="995" y="646"/>
                </a:lnTo>
                <a:lnTo>
                  <a:pt x="995" y="630"/>
                </a:lnTo>
                <a:lnTo>
                  <a:pt x="995" y="613"/>
                </a:lnTo>
                <a:lnTo>
                  <a:pt x="995" y="580"/>
                </a:lnTo>
                <a:lnTo>
                  <a:pt x="1011" y="563"/>
                </a:lnTo>
                <a:lnTo>
                  <a:pt x="1011" y="547"/>
                </a:lnTo>
                <a:lnTo>
                  <a:pt x="1011" y="530"/>
                </a:lnTo>
                <a:lnTo>
                  <a:pt x="1011" y="514"/>
                </a:lnTo>
                <a:close/>
              </a:path>
            </a:pathLst>
          </a:custGeom>
          <a:gradFill rotWithShape="0">
            <a:gsLst>
              <a:gs pos="0">
                <a:srgbClr val="a2c1fe"/>
              </a:gs>
              <a:gs pos="100000">
                <a:srgbClr val="30394c"/>
              </a:gs>
            </a:gsLst>
            <a:lin ang="27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 flipV="1">
            <a:off x="4989600" y="4233960"/>
            <a:ext cx="0" cy="136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4656240" y="456732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 flipV="1">
            <a:off x="4989600" y="4465800"/>
            <a:ext cx="0" cy="19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4888080" y="4567320"/>
            <a:ext cx="196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180040" y="4567320"/>
            <a:ext cx="136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4221000" y="3257640"/>
            <a:ext cx="82800" cy="173520"/>
          </a:xfrm>
          <a:custGeom>
            <a:avLst/>
            <a:gdLst/>
            <a:ahLst/>
            <a:rect l="0" t="0" r="r" b="b"/>
            <a:pathLst>
              <a:path w="230" h="482">
                <a:moveTo>
                  <a:pt x="148" y="0"/>
                </a:moveTo>
                <a:lnTo>
                  <a:pt x="0" y="66"/>
                </a:lnTo>
                <a:lnTo>
                  <a:pt x="230" y="482"/>
                </a:lnTo>
                <a:lnTo>
                  <a:pt x="148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 flipV="1">
            <a:off x="2762280" y="1852560"/>
            <a:ext cx="1012680" cy="92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2625840" y="2751120"/>
            <a:ext cx="154440" cy="125640"/>
          </a:xfrm>
          <a:custGeom>
            <a:avLst/>
            <a:gdLst/>
            <a:ahLst/>
            <a:rect l="0" t="0" r="r" b="b"/>
            <a:pathLst>
              <a:path w="429" h="349">
                <a:moveTo>
                  <a:pt x="429" y="132"/>
                </a:moveTo>
                <a:lnTo>
                  <a:pt x="331" y="0"/>
                </a:lnTo>
                <a:lnTo>
                  <a:pt x="0" y="349"/>
                </a:lnTo>
                <a:lnTo>
                  <a:pt x="429" y="13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774960" y="1852560"/>
            <a:ext cx="190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6684840" y="3168720"/>
            <a:ext cx="500400" cy="500400"/>
          </a:xfrm>
          <a:custGeom>
            <a:avLst/>
            <a:gdLst/>
            <a:ahLst/>
            <a:rect l="0" t="0" r="r" b="b"/>
            <a:pathLst>
              <a:path fill="none" w="1390" h="1390">
                <a:moveTo>
                  <a:pt x="1390" y="694"/>
                </a:moveTo>
                <a:lnTo>
                  <a:pt x="1390" y="661"/>
                </a:lnTo>
                <a:lnTo>
                  <a:pt x="1390" y="644"/>
                </a:lnTo>
                <a:lnTo>
                  <a:pt x="1373" y="611"/>
                </a:lnTo>
                <a:lnTo>
                  <a:pt x="1373" y="595"/>
                </a:lnTo>
                <a:lnTo>
                  <a:pt x="1373" y="578"/>
                </a:lnTo>
                <a:lnTo>
                  <a:pt x="1373" y="545"/>
                </a:lnTo>
                <a:lnTo>
                  <a:pt x="1356" y="529"/>
                </a:lnTo>
                <a:lnTo>
                  <a:pt x="1356" y="496"/>
                </a:lnTo>
                <a:lnTo>
                  <a:pt x="1356" y="479"/>
                </a:lnTo>
                <a:lnTo>
                  <a:pt x="1340" y="463"/>
                </a:lnTo>
                <a:lnTo>
                  <a:pt x="1340" y="429"/>
                </a:lnTo>
                <a:lnTo>
                  <a:pt x="1323" y="413"/>
                </a:lnTo>
                <a:lnTo>
                  <a:pt x="1323" y="396"/>
                </a:lnTo>
                <a:lnTo>
                  <a:pt x="1307" y="363"/>
                </a:lnTo>
                <a:lnTo>
                  <a:pt x="1290" y="347"/>
                </a:lnTo>
                <a:lnTo>
                  <a:pt x="1290" y="330"/>
                </a:lnTo>
                <a:lnTo>
                  <a:pt x="1274" y="314"/>
                </a:lnTo>
                <a:lnTo>
                  <a:pt x="1257" y="281"/>
                </a:lnTo>
                <a:lnTo>
                  <a:pt x="1241" y="264"/>
                </a:lnTo>
                <a:lnTo>
                  <a:pt x="1224" y="248"/>
                </a:lnTo>
                <a:lnTo>
                  <a:pt x="1208" y="231"/>
                </a:lnTo>
                <a:lnTo>
                  <a:pt x="1191" y="214"/>
                </a:lnTo>
                <a:lnTo>
                  <a:pt x="1175" y="198"/>
                </a:lnTo>
                <a:lnTo>
                  <a:pt x="1158" y="181"/>
                </a:lnTo>
                <a:lnTo>
                  <a:pt x="1142" y="165"/>
                </a:lnTo>
                <a:lnTo>
                  <a:pt x="1125" y="148"/>
                </a:lnTo>
                <a:lnTo>
                  <a:pt x="1108" y="132"/>
                </a:lnTo>
                <a:lnTo>
                  <a:pt x="1092" y="115"/>
                </a:lnTo>
                <a:lnTo>
                  <a:pt x="1075" y="115"/>
                </a:lnTo>
                <a:lnTo>
                  <a:pt x="1042" y="99"/>
                </a:lnTo>
                <a:lnTo>
                  <a:pt x="1026" y="82"/>
                </a:lnTo>
                <a:lnTo>
                  <a:pt x="1009" y="66"/>
                </a:lnTo>
                <a:lnTo>
                  <a:pt x="993" y="66"/>
                </a:lnTo>
                <a:lnTo>
                  <a:pt x="960" y="49"/>
                </a:lnTo>
                <a:lnTo>
                  <a:pt x="943" y="49"/>
                </a:lnTo>
                <a:lnTo>
                  <a:pt x="927" y="33"/>
                </a:lnTo>
                <a:lnTo>
                  <a:pt x="893" y="33"/>
                </a:lnTo>
                <a:lnTo>
                  <a:pt x="877" y="16"/>
                </a:lnTo>
                <a:lnTo>
                  <a:pt x="860" y="16"/>
                </a:lnTo>
                <a:lnTo>
                  <a:pt x="827" y="16"/>
                </a:lnTo>
                <a:lnTo>
                  <a:pt x="811" y="0"/>
                </a:lnTo>
                <a:lnTo>
                  <a:pt x="778" y="0"/>
                </a:lnTo>
                <a:lnTo>
                  <a:pt x="761" y="0"/>
                </a:lnTo>
                <a:lnTo>
                  <a:pt x="728" y="0"/>
                </a:lnTo>
                <a:lnTo>
                  <a:pt x="712" y="0"/>
                </a:lnTo>
                <a:lnTo>
                  <a:pt x="694" y="0"/>
                </a:lnTo>
                <a:lnTo>
                  <a:pt x="661" y="0"/>
                </a:lnTo>
                <a:lnTo>
                  <a:pt x="644" y="0"/>
                </a:lnTo>
                <a:lnTo>
                  <a:pt x="611" y="0"/>
                </a:lnTo>
                <a:lnTo>
                  <a:pt x="595" y="0"/>
                </a:lnTo>
                <a:lnTo>
                  <a:pt x="562" y="0"/>
                </a:lnTo>
                <a:lnTo>
                  <a:pt x="545" y="16"/>
                </a:lnTo>
                <a:lnTo>
                  <a:pt x="529" y="16"/>
                </a:lnTo>
                <a:lnTo>
                  <a:pt x="496" y="16"/>
                </a:lnTo>
                <a:lnTo>
                  <a:pt x="479" y="33"/>
                </a:lnTo>
                <a:lnTo>
                  <a:pt x="463" y="33"/>
                </a:lnTo>
                <a:lnTo>
                  <a:pt x="429" y="49"/>
                </a:lnTo>
                <a:lnTo>
                  <a:pt x="413" y="49"/>
                </a:lnTo>
                <a:lnTo>
                  <a:pt x="396" y="66"/>
                </a:lnTo>
                <a:lnTo>
                  <a:pt x="363" y="66"/>
                </a:lnTo>
                <a:lnTo>
                  <a:pt x="347" y="82"/>
                </a:lnTo>
                <a:lnTo>
                  <a:pt x="330" y="99"/>
                </a:lnTo>
                <a:lnTo>
                  <a:pt x="314" y="115"/>
                </a:lnTo>
                <a:lnTo>
                  <a:pt x="281" y="115"/>
                </a:lnTo>
                <a:lnTo>
                  <a:pt x="264" y="132"/>
                </a:lnTo>
                <a:lnTo>
                  <a:pt x="248" y="148"/>
                </a:lnTo>
                <a:lnTo>
                  <a:pt x="231" y="165"/>
                </a:lnTo>
                <a:lnTo>
                  <a:pt x="214" y="181"/>
                </a:lnTo>
                <a:lnTo>
                  <a:pt x="198" y="198"/>
                </a:lnTo>
                <a:lnTo>
                  <a:pt x="181" y="214"/>
                </a:lnTo>
                <a:lnTo>
                  <a:pt x="165" y="231"/>
                </a:lnTo>
                <a:lnTo>
                  <a:pt x="148" y="248"/>
                </a:lnTo>
                <a:lnTo>
                  <a:pt x="132" y="264"/>
                </a:lnTo>
                <a:lnTo>
                  <a:pt x="115" y="281"/>
                </a:lnTo>
                <a:lnTo>
                  <a:pt x="99" y="314"/>
                </a:lnTo>
                <a:lnTo>
                  <a:pt x="99" y="330"/>
                </a:lnTo>
                <a:lnTo>
                  <a:pt x="82" y="347"/>
                </a:lnTo>
                <a:lnTo>
                  <a:pt x="66" y="363"/>
                </a:lnTo>
                <a:lnTo>
                  <a:pt x="66" y="396"/>
                </a:lnTo>
                <a:lnTo>
                  <a:pt x="49" y="413"/>
                </a:lnTo>
                <a:lnTo>
                  <a:pt x="49" y="429"/>
                </a:lnTo>
                <a:lnTo>
                  <a:pt x="33" y="463"/>
                </a:lnTo>
                <a:lnTo>
                  <a:pt x="33" y="479"/>
                </a:lnTo>
                <a:lnTo>
                  <a:pt x="16" y="496"/>
                </a:lnTo>
                <a:lnTo>
                  <a:pt x="16" y="529"/>
                </a:lnTo>
                <a:lnTo>
                  <a:pt x="0" y="545"/>
                </a:lnTo>
                <a:lnTo>
                  <a:pt x="0" y="578"/>
                </a:lnTo>
                <a:lnTo>
                  <a:pt x="0" y="595"/>
                </a:lnTo>
                <a:lnTo>
                  <a:pt x="0" y="611"/>
                </a:lnTo>
                <a:lnTo>
                  <a:pt x="0" y="644"/>
                </a:lnTo>
                <a:lnTo>
                  <a:pt x="0" y="661"/>
                </a:lnTo>
                <a:lnTo>
                  <a:pt x="0" y="694"/>
                </a:lnTo>
                <a:lnTo>
                  <a:pt x="0" y="712"/>
                </a:lnTo>
                <a:lnTo>
                  <a:pt x="0" y="745"/>
                </a:lnTo>
                <a:lnTo>
                  <a:pt x="0" y="761"/>
                </a:lnTo>
                <a:lnTo>
                  <a:pt x="0" y="778"/>
                </a:lnTo>
                <a:lnTo>
                  <a:pt x="0" y="811"/>
                </a:lnTo>
                <a:lnTo>
                  <a:pt x="0" y="827"/>
                </a:lnTo>
                <a:lnTo>
                  <a:pt x="16" y="860"/>
                </a:lnTo>
                <a:lnTo>
                  <a:pt x="16" y="877"/>
                </a:lnTo>
                <a:lnTo>
                  <a:pt x="33" y="893"/>
                </a:lnTo>
                <a:lnTo>
                  <a:pt x="33" y="927"/>
                </a:lnTo>
                <a:lnTo>
                  <a:pt x="49" y="943"/>
                </a:lnTo>
                <a:lnTo>
                  <a:pt x="49" y="976"/>
                </a:lnTo>
                <a:lnTo>
                  <a:pt x="66" y="993"/>
                </a:lnTo>
                <a:lnTo>
                  <a:pt x="66" y="1009"/>
                </a:lnTo>
                <a:lnTo>
                  <a:pt x="82" y="1026"/>
                </a:lnTo>
                <a:lnTo>
                  <a:pt x="99" y="1059"/>
                </a:lnTo>
                <a:lnTo>
                  <a:pt x="99" y="1075"/>
                </a:lnTo>
                <a:lnTo>
                  <a:pt x="115" y="1092"/>
                </a:lnTo>
                <a:lnTo>
                  <a:pt x="132" y="1108"/>
                </a:lnTo>
                <a:lnTo>
                  <a:pt x="148" y="1125"/>
                </a:lnTo>
                <a:lnTo>
                  <a:pt x="165" y="1142"/>
                </a:lnTo>
                <a:lnTo>
                  <a:pt x="181" y="1158"/>
                </a:lnTo>
                <a:lnTo>
                  <a:pt x="198" y="1191"/>
                </a:lnTo>
                <a:lnTo>
                  <a:pt x="214" y="1208"/>
                </a:lnTo>
                <a:lnTo>
                  <a:pt x="231" y="1208"/>
                </a:lnTo>
                <a:lnTo>
                  <a:pt x="248" y="1224"/>
                </a:lnTo>
                <a:lnTo>
                  <a:pt x="264" y="1241"/>
                </a:lnTo>
                <a:lnTo>
                  <a:pt x="281" y="1257"/>
                </a:lnTo>
                <a:lnTo>
                  <a:pt x="314" y="1274"/>
                </a:lnTo>
                <a:lnTo>
                  <a:pt x="330" y="1290"/>
                </a:lnTo>
                <a:lnTo>
                  <a:pt x="347" y="1290"/>
                </a:lnTo>
                <a:lnTo>
                  <a:pt x="363" y="1307"/>
                </a:lnTo>
                <a:lnTo>
                  <a:pt x="396" y="1323"/>
                </a:lnTo>
                <a:lnTo>
                  <a:pt x="413" y="1323"/>
                </a:lnTo>
                <a:lnTo>
                  <a:pt x="429" y="1340"/>
                </a:lnTo>
                <a:lnTo>
                  <a:pt x="463" y="1340"/>
                </a:lnTo>
                <a:lnTo>
                  <a:pt x="479" y="1356"/>
                </a:lnTo>
                <a:lnTo>
                  <a:pt x="496" y="1356"/>
                </a:lnTo>
                <a:lnTo>
                  <a:pt x="529" y="1373"/>
                </a:lnTo>
                <a:lnTo>
                  <a:pt x="545" y="1373"/>
                </a:lnTo>
                <a:lnTo>
                  <a:pt x="562" y="1373"/>
                </a:lnTo>
                <a:lnTo>
                  <a:pt x="595" y="1373"/>
                </a:lnTo>
                <a:lnTo>
                  <a:pt x="611" y="1390"/>
                </a:lnTo>
                <a:lnTo>
                  <a:pt x="644" y="1390"/>
                </a:lnTo>
                <a:lnTo>
                  <a:pt x="661" y="1390"/>
                </a:lnTo>
                <a:lnTo>
                  <a:pt x="694" y="1390"/>
                </a:lnTo>
                <a:lnTo>
                  <a:pt x="712" y="1390"/>
                </a:lnTo>
                <a:lnTo>
                  <a:pt x="728" y="1390"/>
                </a:lnTo>
                <a:lnTo>
                  <a:pt x="761" y="1390"/>
                </a:lnTo>
                <a:lnTo>
                  <a:pt x="778" y="1373"/>
                </a:lnTo>
                <a:lnTo>
                  <a:pt x="811" y="1373"/>
                </a:lnTo>
                <a:lnTo>
                  <a:pt x="827" y="1373"/>
                </a:lnTo>
                <a:lnTo>
                  <a:pt x="860" y="1373"/>
                </a:lnTo>
                <a:lnTo>
                  <a:pt x="877" y="1356"/>
                </a:lnTo>
                <a:lnTo>
                  <a:pt x="893" y="1356"/>
                </a:lnTo>
                <a:lnTo>
                  <a:pt x="927" y="1340"/>
                </a:lnTo>
                <a:lnTo>
                  <a:pt x="943" y="1340"/>
                </a:lnTo>
                <a:lnTo>
                  <a:pt x="960" y="1323"/>
                </a:lnTo>
                <a:lnTo>
                  <a:pt x="993" y="1323"/>
                </a:lnTo>
                <a:lnTo>
                  <a:pt x="1009" y="1307"/>
                </a:lnTo>
                <a:lnTo>
                  <a:pt x="1026" y="1290"/>
                </a:lnTo>
                <a:lnTo>
                  <a:pt x="1042" y="1290"/>
                </a:lnTo>
                <a:lnTo>
                  <a:pt x="1075" y="1274"/>
                </a:lnTo>
                <a:lnTo>
                  <a:pt x="1092" y="1257"/>
                </a:lnTo>
                <a:lnTo>
                  <a:pt x="1108" y="1241"/>
                </a:lnTo>
                <a:lnTo>
                  <a:pt x="1125" y="1224"/>
                </a:lnTo>
                <a:lnTo>
                  <a:pt x="1142" y="1208"/>
                </a:lnTo>
                <a:lnTo>
                  <a:pt x="1158" y="1208"/>
                </a:lnTo>
                <a:lnTo>
                  <a:pt x="1175" y="1191"/>
                </a:lnTo>
                <a:lnTo>
                  <a:pt x="1191" y="1158"/>
                </a:lnTo>
                <a:lnTo>
                  <a:pt x="1208" y="1142"/>
                </a:lnTo>
                <a:lnTo>
                  <a:pt x="1224" y="1125"/>
                </a:lnTo>
                <a:lnTo>
                  <a:pt x="1241" y="1108"/>
                </a:lnTo>
                <a:lnTo>
                  <a:pt x="1257" y="1092"/>
                </a:lnTo>
                <a:lnTo>
                  <a:pt x="1274" y="1075"/>
                </a:lnTo>
                <a:lnTo>
                  <a:pt x="1290" y="1059"/>
                </a:lnTo>
                <a:lnTo>
                  <a:pt x="1290" y="1026"/>
                </a:lnTo>
                <a:lnTo>
                  <a:pt x="1307" y="1009"/>
                </a:lnTo>
                <a:lnTo>
                  <a:pt x="1323" y="993"/>
                </a:lnTo>
                <a:lnTo>
                  <a:pt x="1323" y="976"/>
                </a:lnTo>
                <a:lnTo>
                  <a:pt x="1340" y="943"/>
                </a:lnTo>
                <a:lnTo>
                  <a:pt x="1340" y="927"/>
                </a:lnTo>
                <a:lnTo>
                  <a:pt x="1356" y="893"/>
                </a:lnTo>
                <a:lnTo>
                  <a:pt x="1356" y="877"/>
                </a:lnTo>
                <a:lnTo>
                  <a:pt x="1356" y="860"/>
                </a:lnTo>
                <a:lnTo>
                  <a:pt x="1373" y="827"/>
                </a:lnTo>
                <a:lnTo>
                  <a:pt x="1373" y="811"/>
                </a:lnTo>
                <a:lnTo>
                  <a:pt x="1373" y="778"/>
                </a:lnTo>
                <a:lnTo>
                  <a:pt x="1373" y="761"/>
                </a:lnTo>
                <a:lnTo>
                  <a:pt x="1390" y="745"/>
                </a:lnTo>
                <a:lnTo>
                  <a:pt x="1390" y="712"/>
                </a:lnTo>
                <a:lnTo>
                  <a:pt x="1390" y="69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6935760" y="3513240"/>
            <a:ext cx="0" cy="203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6935760" y="3121200"/>
            <a:ext cx="0" cy="196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6881760" y="341784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6632640" y="3417840"/>
            <a:ext cx="201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 flipV="1">
            <a:off x="6935760" y="3370320"/>
            <a:ext cx="0" cy="95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031160" y="3417840"/>
            <a:ext cx="201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141560" y="2219400"/>
            <a:ext cx="165600" cy="2572200"/>
          </a:xfrm>
          <a:custGeom>
            <a:avLst/>
            <a:gdLst/>
            <a:ahLst/>
            <a:rect l="0" t="0" r="r" b="b"/>
            <a:pathLst>
              <a:path fill="none" w="460" h="7145">
                <a:moveTo>
                  <a:pt x="0" y="7145"/>
                </a:moveTo>
                <a:lnTo>
                  <a:pt x="0" y="7029"/>
                </a:lnTo>
                <a:lnTo>
                  <a:pt x="38" y="6914"/>
                </a:lnTo>
                <a:lnTo>
                  <a:pt x="38" y="6798"/>
                </a:lnTo>
                <a:lnTo>
                  <a:pt x="117" y="6682"/>
                </a:lnTo>
                <a:lnTo>
                  <a:pt x="233" y="6605"/>
                </a:lnTo>
                <a:lnTo>
                  <a:pt x="271" y="6412"/>
                </a:lnTo>
                <a:lnTo>
                  <a:pt x="310" y="6258"/>
                </a:lnTo>
                <a:lnTo>
                  <a:pt x="350" y="6142"/>
                </a:lnTo>
                <a:lnTo>
                  <a:pt x="421" y="6026"/>
                </a:lnTo>
                <a:lnTo>
                  <a:pt x="421" y="5800"/>
                </a:lnTo>
                <a:lnTo>
                  <a:pt x="421" y="5685"/>
                </a:lnTo>
                <a:lnTo>
                  <a:pt x="388" y="5569"/>
                </a:lnTo>
                <a:lnTo>
                  <a:pt x="350" y="5376"/>
                </a:lnTo>
                <a:lnTo>
                  <a:pt x="350" y="5105"/>
                </a:lnTo>
                <a:lnTo>
                  <a:pt x="350" y="4989"/>
                </a:lnTo>
                <a:lnTo>
                  <a:pt x="350" y="4796"/>
                </a:lnTo>
                <a:lnTo>
                  <a:pt x="388" y="4680"/>
                </a:lnTo>
                <a:lnTo>
                  <a:pt x="388" y="4565"/>
                </a:lnTo>
                <a:lnTo>
                  <a:pt x="421" y="4449"/>
                </a:lnTo>
                <a:lnTo>
                  <a:pt x="421" y="4294"/>
                </a:lnTo>
                <a:lnTo>
                  <a:pt x="460" y="4146"/>
                </a:lnTo>
                <a:lnTo>
                  <a:pt x="460" y="3914"/>
                </a:lnTo>
                <a:lnTo>
                  <a:pt x="421" y="3798"/>
                </a:lnTo>
                <a:lnTo>
                  <a:pt x="388" y="3567"/>
                </a:lnTo>
                <a:lnTo>
                  <a:pt x="350" y="3374"/>
                </a:lnTo>
                <a:lnTo>
                  <a:pt x="350" y="3258"/>
                </a:lnTo>
                <a:lnTo>
                  <a:pt x="310" y="2872"/>
                </a:lnTo>
                <a:lnTo>
                  <a:pt x="271" y="2602"/>
                </a:lnTo>
                <a:lnTo>
                  <a:pt x="233" y="2260"/>
                </a:lnTo>
                <a:lnTo>
                  <a:pt x="194" y="2106"/>
                </a:lnTo>
                <a:lnTo>
                  <a:pt x="194" y="1952"/>
                </a:lnTo>
                <a:lnTo>
                  <a:pt x="233" y="1836"/>
                </a:lnTo>
                <a:lnTo>
                  <a:pt x="350" y="1642"/>
                </a:lnTo>
                <a:lnTo>
                  <a:pt x="421" y="1526"/>
                </a:lnTo>
                <a:lnTo>
                  <a:pt x="421" y="1411"/>
                </a:lnTo>
                <a:lnTo>
                  <a:pt x="460" y="1256"/>
                </a:lnTo>
                <a:lnTo>
                  <a:pt x="460" y="1141"/>
                </a:lnTo>
                <a:lnTo>
                  <a:pt x="460" y="1025"/>
                </a:lnTo>
                <a:lnTo>
                  <a:pt x="421" y="760"/>
                </a:lnTo>
                <a:lnTo>
                  <a:pt x="350" y="644"/>
                </a:lnTo>
                <a:lnTo>
                  <a:pt x="350" y="529"/>
                </a:lnTo>
                <a:lnTo>
                  <a:pt x="350" y="413"/>
                </a:lnTo>
                <a:lnTo>
                  <a:pt x="350" y="297"/>
                </a:lnTo>
                <a:lnTo>
                  <a:pt x="350" y="181"/>
                </a:lnTo>
                <a:lnTo>
                  <a:pt x="38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3584520" y="550224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201760" y="3162240"/>
            <a:ext cx="4208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2198520" y="3659040"/>
            <a:ext cx="42084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 txBox="1"/>
          <p:nvPr/>
        </p:nvSpPr>
        <p:spPr>
          <a:xfrm>
            <a:off x="3959280" y="1658880"/>
            <a:ext cx="663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5697360" y="4948200"/>
            <a:ext cx="2000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cating Gage 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3133800" y="4660920"/>
            <a:ext cx="2368440" cy="4730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 flipH="1" flipV="1">
            <a:off x="5159520" y="4746600"/>
            <a:ext cx="342720" cy="3873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5491080" y="5133960"/>
            <a:ext cx="222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4307040" y="4270320"/>
            <a:ext cx="3792960" cy="78120"/>
          </a:xfrm>
          <a:custGeom>
            <a:avLst/>
            <a:gdLst/>
            <a:ahLst/>
            <a:rect l="0" t="0" r="r" b="b"/>
            <a:pathLst>
              <a:path fill="none" w="10536" h="217">
                <a:moveTo>
                  <a:pt x="0" y="155"/>
                </a:moveTo>
                <a:lnTo>
                  <a:pt x="180" y="124"/>
                </a:lnTo>
                <a:lnTo>
                  <a:pt x="304" y="155"/>
                </a:lnTo>
                <a:lnTo>
                  <a:pt x="396" y="124"/>
                </a:lnTo>
                <a:lnTo>
                  <a:pt x="520" y="61"/>
                </a:lnTo>
                <a:lnTo>
                  <a:pt x="674" y="61"/>
                </a:lnTo>
                <a:lnTo>
                  <a:pt x="767" y="92"/>
                </a:lnTo>
                <a:lnTo>
                  <a:pt x="921" y="92"/>
                </a:lnTo>
                <a:lnTo>
                  <a:pt x="1075" y="61"/>
                </a:lnTo>
                <a:lnTo>
                  <a:pt x="1168" y="30"/>
                </a:lnTo>
                <a:lnTo>
                  <a:pt x="1261" y="61"/>
                </a:lnTo>
                <a:lnTo>
                  <a:pt x="1353" y="61"/>
                </a:lnTo>
                <a:lnTo>
                  <a:pt x="1724" y="133"/>
                </a:lnTo>
                <a:lnTo>
                  <a:pt x="1935" y="124"/>
                </a:lnTo>
                <a:lnTo>
                  <a:pt x="2032" y="133"/>
                </a:lnTo>
                <a:lnTo>
                  <a:pt x="2165" y="142"/>
                </a:lnTo>
                <a:lnTo>
                  <a:pt x="2315" y="124"/>
                </a:lnTo>
                <a:lnTo>
                  <a:pt x="2473" y="105"/>
                </a:lnTo>
                <a:lnTo>
                  <a:pt x="2570" y="88"/>
                </a:lnTo>
                <a:lnTo>
                  <a:pt x="2695" y="124"/>
                </a:lnTo>
                <a:lnTo>
                  <a:pt x="2827" y="155"/>
                </a:lnTo>
                <a:lnTo>
                  <a:pt x="2920" y="155"/>
                </a:lnTo>
                <a:lnTo>
                  <a:pt x="3074" y="155"/>
                </a:lnTo>
                <a:lnTo>
                  <a:pt x="3167" y="155"/>
                </a:lnTo>
                <a:lnTo>
                  <a:pt x="3290" y="155"/>
                </a:lnTo>
                <a:lnTo>
                  <a:pt x="3383" y="155"/>
                </a:lnTo>
                <a:lnTo>
                  <a:pt x="3475" y="124"/>
                </a:lnTo>
                <a:lnTo>
                  <a:pt x="3630" y="92"/>
                </a:lnTo>
                <a:lnTo>
                  <a:pt x="3753" y="92"/>
                </a:lnTo>
                <a:lnTo>
                  <a:pt x="3877" y="92"/>
                </a:lnTo>
                <a:lnTo>
                  <a:pt x="4000" y="124"/>
                </a:lnTo>
                <a:lnTo>
                  <a:pt x="4119" y="155"/>
                </a:lnTo>
                <a:lnTo>
                  <a:pt x="4212" y="155"/>
                </a:lnTo>
                <a:lnTo>
                  <a:pt x="4366" y="155"/>
                </a:lnTo>
                <a:lnTo>
                  <a:pt x="4582" y="155"/>
                </a:lnTo>
                <a:lnTo>
                  <a:pt x="4706" y="155"/>
                </a:lnTo>
                <a:lnTo>
                  <a:pt x="4829" y="155"/>
                </a:lnTo>
                <a:lnTo>
                  <a:pt x="5094" y="88"/>
                </a:lnTo>
                <a:lnTo>
                  <a:pt x="5517" y="61"/>
                </a:lnTo>
                <a:lnTo>
                  <a:pt x="5998" y="92"/>
                </a:lnTo>
                <a:lnTo>
                  <a:pt x="6143" y="97"/>
                </a:lnTo>
                <a:lnTo>
                  <a:pt x="6337" y="155"/>
                </a:lnTo>
                <a:lnTo>
                  <a:pt x="6430" y="186"/>
                </a:lnTo>
                <a:lnTo>
                  <a:pt x="6677" y="217"/>
                </a:lnTo>
                <a:lnTo>
                  <a:pt x="7105" y="217"/>
                </a:lnTo>
                <a:lnTo>
                  <a:pt x="7197" y="217"/>
                </a:lnTo>
                <a:lnTo>
                  <a:pt x="7290" y="217"/>
                </a:lnTo>
                <a:lnTo>
                  <a:pt x="7382" y="217"/>
                </a:lnTo>
                <a:lnTo>
                  <a:pt x="7475" y="186"/>
                </a:lnTo>
                <a:lnTo>
                  <a:pt x="7598" y="155"/>
                </a:lnTo>
                <a:lnTo>
                  <a:pt x="7784" y="124"/>
                </a:lnTo>
                <a:lnTo>
                  <a:pt x="7876" y="124"/>
                </a:lnTo>
                <a:lnTo>
                  <a:pt x="7970" y="155"/>
                </a:lnTo>
                <a:lnTo>
                  <a:pt x="8151" y="186"/>
                </a:lnTo>
                <a:lnTo>
                  <a:pt x="8305" y="186"/>
                </a:lnTo>
                <a:lnTo>
                  <a:pt x="8428" y="186"/>
                </a:lnTo>
                <a:lnTo>
                  <a:pt x="8521" y="186"/>
                </a:lnTo>
                <a:lnTo>
                  <a:pt x="8614" y="124"/>
                </a:lnTo>
                <a:lnTo>
                  <a:pt x="8737" y="124"/>
                </a:lnTo>
                <a:lnTo>
                  <a:pt x="8953" y="124"/>
                </a:lnTo>
                <a:lnTo>
                  <a:pt x="9169" y="124"/>
                </a:lnTo>
                <a:lnTo>
                  <a:pt x="9443" y="124"/>
                </a:lnTo>
                <a:lnTo>
                  <a:pt x="9597" y="155"/>
                </a:lnTo>
                <a:lnTo>
                  <a:pt x="9751" y="155"/>
                </a:lnTo>
                <a:lnTo>
                  <a:pt x="9875" y="92"/>
                </a:lnTo>
                <a:lnTo>
                  <a:pt x="9967" y="92"/>
                </a:lnTo>
                <a:lnTo>
                  <a:pt x="10122" y="0"/>
                </a:lnTo>
                <a:lnTo>
                  <a:pt x="10214" y="0"/>
                </a:lnTo>
                <a:lnTo>
                  <a:pt x="10307" y="30"/>
                </a:lnTo>
                <a:lnTo>
                  <a:pt x="10519" y="61"/>
                </a:lnTo>
                <a:lnTo>
                  <a:pt x="10536" y="70"/>
                </a:lnTo>
                <a:lnTo>
                  <a:pt x="10519" y="6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27000" bIns="27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4307040" y="2532240"/>
            <a:ext cx="0" cy="1793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4317840" y="2532240"/>
            <a:ext cx="377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8094600" y="2543040"/>
            <a:ext cx="0" cy="1749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2190600" y="4334040"/>
            <a:ext cx="876240" cy="466560"/>
          </a:xfrm>
          <a:prstGeom prst="rect">
            <a:avLst/>
          </a:prstGeom>
          <a:gradFill rotWithShape="0">
            <a:gsLst>
              <a:gs pos="0">
                <a:srgbClr val="30394c"/>
              </a:gs>
              <a:gs pos="50000">
                <a:srgbClr val="a2c1fe"/>
              </a:gs>
              <a:gs pos="100000">
                <a:srgbClr val="30394c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H="1">
            <a:off x="2017800" y="4567320"/>
            <a:ext cx="420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2505240" y="4572000"/>
            <a:ext cx="104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3062160" y="4336920"/>
            <a:ext cx="63720" cy="462240"/>
          </a:xfrm>
          <a:custGeom>
            <a:avLst/>
            <a:gdLst/>
            <a:ahLst/>
            <a:rect l="0" t="0" r="r" b="b"/>
            <a:pathLst>
              <a:path w="177" h="1284">
                <a:moveTo>
                  <a:pt x="0" y="0"/>
                </a:moveTo>
                <a:lnTo>
                  <a:pt x="177" y="112"/>
                </a:lnTo>
                <a:lnTo>
                  <a:pt x="177" y="1185"/>
                </a:lnTo>
                <a:lnTo>
                  <a:pt x="0" y="128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0394c"/>
              </a:gs>
              <a:gs pos="50000">
                <a:srgbClr val="a2c1fe"/>
              </a:gs>
              <a:gs pos="100000">
                <a:srgbClr val="30394c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2695680" y="4572000"/>
            <a:ext cx="657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1428840" y="279360"/>
            <a:ext cx="62913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Target Line Verific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 txBox="1"/>
          <p:nvPr/>
        </p:nvSpPr>
        <p:spPr>
          <a:xfrm>
            <a:off x="641520" y="2238480"/>
            <a:ext cx="7772400" cy="21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Target Area Desig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625320" y="2643120"/>
            <a:ext cx="7802640" cy="14209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 txBox="1"/>
          <p:nvPr/>
        </p:nvSpPr>
        <p:spPr>
          <a:xfrm>
            <a:off x="971640" y="1868400"/>
            <a:ext cx="7440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it is determined that an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re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contact is necessary to assure establishment of the datum (where spherical or pointed pins would be inadequate), a target area of the desired shape is specified.  The datum target area is indicated by section lines inside a phantom outline of the desired shape, with controlling dimensions ad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 txBox="1"/>
          <p:nvPr/>
        </p:nvSpPr>
        <p:spPr>
          <a:xfrm>
            <a:off x="2523960" y="831960"/>
            <a:ext cx="3916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 Ar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 txBox="1"/>
          <p:nvPr/>
        </p:nvSpPr>
        <p:spPr>
          <a:xfrm>
            <a:off x="1652760" y="378000"/>
            <a:ext cx="6062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 Area Desig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713040" y="3125880"/>
            <a:ext cx="4067640" cy="1686240"/>
          </a:xfrm>
          <a:custGeom>
            <a:avLst/>
            <a:gdLst/>
            <a:ahLst/>
            <a:rect l="0" t="0" r="r" b="b"/>
            <a:pathLst>
              <a:path fill="none" w="11299" h="4684">
                <a:moveTo>
                  <a:pt x="0" y="0"/>
                </a:moveTo>
                <a:lnTo>
                  <a:pt x="0" y="4684"/>
                </a:lnTo>
                <a:lnTo>
                  <a:pt x="11299" y="4684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H="1" flipV="1">
            <a:off x="2728800" y="2990880"/>
            <a:ext cx="1521000" cy="888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2728800" y="4118040"/>
            <a:ext cx="10782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3984480" y="5192640"/>
            <a:ext cx="432000" cy="298800"/>
          </a:xfrm>
          <a:custGeom>
            <a:avLst/>
            <a:gdLst/>
            <a:ahLst/>
            <a:rect l="0" t="0" r="r" b="b"/>
            <a:pathLst>
              <a:path fill="none" w="1200" h="830">
                <a:moveTo>
                  <a:pt x="0" y="830"/>
                </a:moveTo>
                <a:lnTo>
                  <a:pt x="0" y="0"/>
                </a:lnTo>
                <a:lnTo>
                  <a:pt x="1200" y="0"/>
                </a:lnTo>
                <a:lnTo>
                  <a:pt x="1200" y="830"/>
                </a:lnTo>
                <a:lnTo>
                  <a:pt x="0" y="83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H="1">
            <a:off x="2728800" y="4811760"/>
            <a:ext cx="8654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2847960" y="5065560"/>
            <a:ext cx="0" cy="2509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3713040" y="4930920"/>
            <a:ext cx="0" cy="5158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3459240" y="5284800"/>
            <a:ext cx="254520" cy="82800"/>
          </a:xfrm>
          <a:custGeom>
            <a:avLst/>
            <a:gdLst/>
            <a:ahLst/>
            <a:rect l="0" t="0" r="r" b="b"/>
            <a:pathLst>
              <a:path w="707" h="230">
                <a:moveTo>
                  <a:pt x="0" y="0"/>
                </a:moveTo>
                <a:lnTo>
                  <a:pt x="0" y="230"/>
                </a:lnTo>
                <a:lnTo>
                  <a:pt x="707" y="121"/>
                </a:lnTo>
                <a:lnTo>
                  <a:pt x="0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 flipH="1">
            <a:off x="3208320" y="5327640"/>
            <a:ext cx="2509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2803680" y="4811760"/>
            <a:ext cx="84600" cy="254520"/>
          </a:xfrm>
          <a:custGeom>
            <a:avLst/>
            <a:gdLst/>
            <a:ahLst/>
            <a:rect l="0" t="0" r="r" b="b"/>
            <a:pathLst>
              <a:path w="235" h="707">
                <a:moveTo>
                  <a:pt x="0" y="707"/>
                </a:moveTo>
                <a:lnTo>
                  <a:pt x="235" y="707"/>
                </a:lnTo>
                <a:lnTo>
                  <a:pt x="123" y="0"/>
                </a:lnTo>
                <a:lnTo>
                  <a:pt x="0" y="707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2576520" y="4307040"/>
            <a:ext cx="411480" cy="319320"/>
          </a:xfrm>
          <a:custGeom>
            <a:avLst/>
            <a:gdLst/>
            <a:ahLst/>
            <a:rect l="0" t="0" r="r" b="b"/>
            <a:pathLst>
              <a:path fill="none" w="1143" h="887">
                <a:moveTo>
                  <a:pt x="0" y="887"/>
                </a:moveTo>
                <a:lnTo>
                  <a:pt x="0" y="0"/>
                </a:lnTo>
                <a:lnTo>
                  <a:pt x="1143" y="0"/>
                </a:lnTo>
                <a:lnTo>
                  <a:pt x="1143" y="887"/>
                </a:lnTo>
                <a:lnTo>
                  <a:pt x="0" y="887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2803680" y="3863880"/>
            <a:ext cx="84600" cy="254520"/>
          </a:xfrm>
          <a:custGeom>
            <a:avLst/>
            <a:gdLst/>
            <a:ahLst/>
            <a:rect l="0" t="0" r="r" b="b"/>
            <a:pathLst>
              <a:path w="235" h="707">
                <a:moveTo>
                  <a:pt x="0" y="0"/>
                </a:moveTo>
                <a:lnTo>
                  <a:pt x="235" y="0"/>
                </a:lnTo>
                <a:lnTo>
                  <a:pt x="123" y="707"/>
                </a:lnTo>
                <a:lnTo>
                  <a:pt x="0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2847960" y="3613320"/>
            <a:ext cx="0" cy="2505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673520" y="4692600"/>
            <a:ext cx="0" cy="7542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4673520" y="5284800"/>
            <a:ext cx="249480" cy="82800"/>
          </a:xfrm>
          <a:custGeom>
            <a:avLst/>
            <a:gdLst/>
            <a:ahLst/>
            <a:rect l="0" t="0" r="r" b="b"/>
            <a:pathLst>
              <a:path w="693" h="230">
                <a:moveTo>
                  <a:pt x="693" y="0"/>
                </a:moveTo>
                <a:lnTo>
                  <a:pt x="693" y="230"/>
                </a:lnTo>
                <a:lnTo>
                  <a:pt x="0" y="121"/>
                </a:lnTo>
                <a:lnTo>
                  <a:pt x="693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4923000" y="5327640"/>
            <a:ext cx="2538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 flipH="1">
            <a:off x="3713040" y="3125880"/>
            <a:ext cx="23259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6033960" y="3125880"/>
            <a:ext cx="1748160" cy="1686240"/>
          </a:xfrm>
          <a:custGeom>
            <a:avLst/>
            <a:gdLst/>
            <a:ahLst/>
            <a:rect l="0" t="0" r="r" b="b"/>
            <a:pathLst>
              <a:path fill="none" w="4856" h="4684">
                <a:moveTo>
                  <a:pt x="0" y="0"/>
                </a:moveTo>
                <a:lnTo>
                  <a:pt x="57" y="79"/>
                </a:lnTo>
                <a:lnTo>
                  <a:pt x="180" y="171"/>
                </a:lnTo>
                <a:lnTo>
                  <a:pt x="335" y="202"/>
                </a:lnTo>
                <a:lnTo>
                  <a:pt x="489" y="202"/>
                </a:lnTo>
                <a:lnTo>
                  <a:pt x="582" y="233"/>
                </a:lnTo>
                <a:lnTo>
                  <a:pt x="736" y="326"/>
                </a:lnTo>
                <a:lnTo>
                  <a:pt x="798" y="418"/>
                </a:lnTo>
                <a:lnTo>
                  <a:pt x="952" y="573"/>
                </a:lnTo>
                <a:lnTo>
                  <a:pt x="978" y="665"/>
                </a:lnTo>
                <a:lnTo>
                  <a:pt x="1040" y="846"/>
                </a:lnTo>
                <a:lnTo>
                  <a:pt x="1071" y="970"/>
                </a:lnTo>
                <a:lnTo>
                  <a:pt x="1287" y="1247"/>
                </a:lnTo>
                <a:lnTo>
                  <a:pt x="1380" y="1402"/>
                </a:lnTo>
                <a:lnTo>
                  <a:pt x="1441" y="1587"/>
                </a:lnTo>
                <a:lnTo>
                  <a:pt x="1503" y="1680"/>
                </a:lnTo>
                <a:lnTo>
                  <a:pt x="1688" y="1741"/>
                </a:lnTo>
                <a:lnTo>
                  <a:pt x="1781" y="1772"/>
                </a:lnTo>
                <a:lnTo>
                  <a:pt x="1874" y="1803"/>
                </a:lnTo>
                <a:lnTo>
                  <a:pt x="2182" y="1834"/>
                </a:lnTo>
                <a:lnTo>
                  <a:pt x="2332" y="1927"/>
                </a:lnTo>
                <a:lnTo>
                  <a:pt x="2549" y="2019"/>
                </a:lnTo>
                <a:lnTo>
                  <a:pt x="2611" y="2138"/>
                </a:lnTo>
                <a:lnTo>
                  <a:pt x="2765" y="2231"/>
                </a:lnTo>
                <a:lnTo>
                  <a:pt x="2889" y="2355"/>
                </a:lnTo>
                <a:lnTo>
                  <a:pt x="2981" y="2448"/>
                </a:lnTo>
                <a:lnTo>
                  <a:pt x="3105" y="2541"/>
                </a:lnTo>
                <a:lnTo>
                  <a:pt x="3228" y="2602"/>
                </a:lnTo>
                <a:lnTo>
                  <a:pt x="3383" y="2757"/>
                </a:lnTo>
                <a:lnTo>
                  <a:pt x="3475" y="2787"/>
                </a:lnTo>
                <a:lnTo>
                  <a:pt x="3568" y="2880"/>
                </a:lnTo>
                <a:lnTo>
                  <a:pt x="3687" y="2973"/>
                </a:lnTo>
                <a:lnTo>
                  <a:pt x="3903" y="3127"/>
                </a:lnTo>
                <a:lnTo>
                  <a:pt x="3996" y="3281"/>
                </a:lnTo>
                <a:lnTo>
                  <a:pt x="4057" y="3374"/>
                </a:lnTo>
                <a:lnTo>
                  <a:pt x="4150" y="3586"/>
                </a:lnTo>
                <a:lnTo>
                  <a:pt x="4181" y="3740"/>
                </a:lnTo>
                <a:lnTo>
                  <a:pt x="4243" y="3833"/>
                </a:lnTo>
                <a:lnTo>
                  <a:pt x="4274" y="3925"/>
                </a:lnTo>
                <a:lnTo>
                  <a:pt x="4335" y="4049"/>
                </a:lnTo>
                <a:lnTo>
                  <a:pt x="4366" y="4141"/>
                </a:lnTo>
                <a:lnTo>
                  <a:pt x="4428" y="4234"/>
                </a:lnTo>
                <a:lnTo>
                  <a:pt x="4459" y="4326"/>
                </a:lnTo>
                <a:lnTo>
                  <a:pt x="4551" y="4388"/>
                </a:lnTo>
                <a:lnTo>
                  <a:pt x="4675" y="4481"/>
                </a:lnTo>
                <a:lnTo>
                  <a:pt x="4767" y="4543"/>
                </a:lnTo>
                <a:lnTo>
                  <a:pt x="4856" y="468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 txBox="1"/>
          <p:nvPr/>
        </p:nvSpPr>
        <p:spPr>
          <a:xfrm>
            <a:off x="2548080" y="429732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3979800" y="518148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Arial"/>
                <a:ea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"/>
          <p:cNvGrpSpPr/>
          <p:nvPr/>
        </p:nvGrpSpPr>
        <p:grpSpPr>
          <a:xfrm>
            <a:off x="2071800" y="2475000"/>
            <a:ext cx="711000" cy="704880"/>
            <a:chOff x="2071800" y="2475000"/>
            <a:chExt cx="711000" cy="704880"/>
          </a:xfrm>
        </p:grpSpPr>
        <p:sp>
          <p:nvSpPr>
            <p:cNvPr id="1046" name=""/>
            <p:cNvSpPr/>
            <p:nvPr/>
          </p:nvSpPr>
          <p:spPr>
            <a:xfrm>
              <a:off x="2076480" y="2475000"/>
              <a:ext cx="690840" cy="690840"/>
            </a:xfrm>
            <a:custGeom>
              <a:avLst/>
              <a:gdLst/>
              <a:ahLst/>
              <a:rect l="0" t="0" r="r" b="b"/>
              <a:pathLst>
                <a:path fill="none" w="1919" h="1919">
                  <a:moveTo>
                    <a:pt x="1919" y="960"/>
                  </a:moveTo>
                  <a:lnTo>
                    <a:pt x="1919" y="926"/>
                  </a:lnTo>
                  <a:lnTo>
                    <a:pt x="1908" y="903"/>
                  </a:lnTo>
                  <a:lnTo>
                    <a:pt x="1908" y="870"/>
                  </a:lnTo>
                  <a:lnTo>
                    <a:pt x="1908" y="848"/>
                  </a:lnTo>
                  <a:lnTo>
                    <a:pt x="1908" y="815"/>
                  </a:lnTo>
                  <a:lnTo>
                    <a:pt x="1897" y="793"/>
                  </a:lnTo>
                  <a:lnTo>
                    <a:pt x="1897" y="760"/>
                  </a:lnTo>
                  <a:lnTo>
                    <a:pt x="1886" y="727"/>
                  </a:lnTo>
                  <a:lnTo>
                    <a:pt x="1886" y="705"/>
                  </a:lnTo>
                  <a:lnTo>
                    <a:pt x="1875" y="683"/>
                  </a:lnTo>
                  <a:lnTo>
                    <a:pt x="1864" y="650"/>
                  </a:lnTo>
                  <a:lnTo>
                    <a:pt x="1853" y="628"/>
                  </a:lnTo>
                  <a:lnTo>
                    <a:pt x="1842" y="595"/>
                  </a:lnTo>
                  <a:lnTo>
                    <a:pt x="1831" y="573"/>
                  </a:lnTo>
                  <a:lnTo>
                    <a:pt x="1820" y="551"/>
                  </a:lnTo>
                  <a:lnTo>
                    <a:pt x="1808" y="518"/>
                  </a:lnTo>
                  <a:lnTo>
                    <a:pt x="1797" y="496"/>
                  </a:lnTo>
                  <a:lnTo>
                    <a:pt x="1786" y="474"/>
                  </a:lnTo>
                  <a:lnTo>
                    <a:pt x="1764" y="451"/>
                  </a:lnTo>
                  <a:lnTo>
                    <a:pt x="1753" y="418"/>
                  </a:lnTo>
                  <a:lnTo>
                    <a:pt x="1731" y="396"/>
                  </a:lnTo>
                  <a:lnTo>
                    <a:pt x="1720" y="374"/>
                  </a:lnTo>
                  <a:lnTo>
                    <a:pt x="1698" y="352"/>
                  </a:lnTo>
                  <a:lnTo>
                    <a:pt x="1687" y="330"/>
                  </a:lnTo>
                  <a:lnTo>
                    <a:pt x="1665" y="308"/>
                  </a:lnTo>
                  <a:lnTo>
                    <a:pt x="1643" y="286"/>
                  </a:lnTo>
                  <a:lnTo>
                    <a:pt x="1621" y="275"/>
                  </a:lnTo>
                  <a:lnTo>
                    <a:pt x="1599" y="253"/>
                  </a:lnTo>
                  <a:lnTo>
                    <a:pt x="1588" y="231"/>
                  </a:lnTo>
                  <a:lnTo>
                    <a:pt x="1566" y="220"/>
                  </a:lnTo>
                  <a:lnTo>
                    <a:pt x="1544" y="198"/>
                  </a:lnTo>
                  <a:lnTo>
                    <a:pt x="1511" y="176"/>
                  </a:lnTo>
                  <a:lnTo>
                    <a:pt x="1489" y="165"/>
                  </a:lnTo>
                  <a:lnTo>
                    <a:pt x="1467" y="154"/>
                  </a:lnTo>
                  <a:lnTo>
                    <a:pt x="1445" y="132"/>
                  </a:lnTo>
                  <a:lnTo>
                    <a:pt x="1423" y="121"/>
                  </a:lnTo>
                  <a:lnTo>
                    <a:pt x="1401" y="110"/>
                  </a:lnTo>
                  <a:lnTo>
                    <a:pt x="1368" y="99"/>
                  </a:lnTo>
                  <a:lnTo>
                    <a:pt x="1345" y="88"/>
                  </a:lnTo>
                  <a:lnTo>
                    <a:pt x="1323" y="66"/>
                  </a:lnTo>
                  <a:lnTo>
                    <a:pt x="1290" y="66"/>
                  </a:lnTo>
                  <a:lnTo>
                    <a:pt x="1268" y="55"/>
                  </a:lnTo>
                  <a:lnTo>
                    <a:pt x="1235" y="44"/>
                  </a:lnTo>
                  <a:lnTo>
                    <a:pt x="1213" y="33"/>
                  </a:lnTo>
                  <a:lnTo>
                    <a:pt x="1180" y="33"/>
                  </a:lnTo>
                  <a:lnTo>
                    <a:pt x="1158" y="22"/>
                  </a:lnTo>
                  <a:lnTo>
                    <a:pt x="1125" y="22"/>
                  </a:lnTo>
                  <a:lnTo>
                    <a:pt x="1103" y="11"/>
                  </a:lnTo>
                  <a:lnTo>
                    <a:pt x="1070" y="11"/>
                  </a:lnTo>
                  <a:lnTo>
                    <a:pt x="1048" y="0"/>
                  </a:lnTo>
                  <a:lnTo>
                    <a:pt x="1015" y="0"/>
                  </a:lnTo>
                  <a:lnTo>
                    <a:pt x="993" y="0"/>
                  </a:lnTo>
                  <a:lnTo>
                    <a:pt x="960" y="0"/>
                  </a:lnTo>
                  <a:lnTo>
                    <a:pt x="926" y="0"/>
                  </a:lnTo>
                  <a:lnTo>
                    <a:pt x="903" y="0"/>
                  </a:lnTo>
                  <a:lnTo>
                    <a:pt x="870" y="0"/>
                  </a:lnTo>
                  <a:lnTo>
                    <a:pt x="848" y="11"/>
                  </a:lnTo>
                  <a:lnTo>
                    <a:pt x="815" y="11"/>
                  </a:lnTo>
                  <a:lnTo>
                    <a:pt x="793" y="22"/>
                  </a:lnTo>
                  <a:lnTo>
                    <a:pt x="760" y="22"/>
                  </a:lnTo>
                  <a:lnTo>
                    <a:pt x="738" y="33"/>
                  </a:lnTo>
                  <a:lnTo>
                    <a:pt x="705" y="33"/>
                  </a:lnTo>
                  <a:lnTo>
                    <a:pt x="683" y="44"/>
                  </a:lnTo>
                  <a:lnTo>
                    <a:pt x="650" y="55"/>
                  </a:lnTo>
                  <a:lnTo>
                    <a:pt x="628" y="66"/>
                  </a:lnTo>
                  <a:lnTo>
                    <a:pt x="595" y="66"/>
                  </a:lnTo>
                  <a:lnTo>
                    <a:pt x="573" y="88"/>
                  </a:lnTo>
                  <a:lnTo>
                    <a:pt x="551" y="99"/>
                  </a:lnTo>
                  <a:lnTo>
                    <a:pt x="529" y="110"/>
                  </a:lnTo>
                  <a:lnTo>
                    <a:pt x="496" y="121"/>
                  </a:lnTo>
                  <a:lnTo>
                    <a:pt x="474" y="132"/>
                  </a:lnTo>
                  <a:lnTo>
                    <a:pt x="451" y="154"/>
                  </a:lnTo>
                  <a:lnTo>
                    <a:pt x="429" y="165"/>
                  </a:lnTo>
                  <a:lnTo>
                    <a:pt x="407" y="176"/>
                  </a:lnTo>
                  <a:lnTo>
                    <a:pt x="374" y="198"/>
                  </a:lnTo>
                  <a:lnTo>
                    <a:pt x="352" y="220"/>
                  </a:lnTo>
                  <a:lnTo>
                    <a:pt x="341" y="231"/>
                  </a:lnTo>
                  <a:lnTo>
                    <a:pt x="319" y="253"/>
                  </a:lnTo>
                  <a:lnTo>
                    <a:pt x="297" y="275"/>
                  </a:lnTo>
                  <a:lnTo>
                    <a:pt x="275" y="286"/>
                  </a:lnTo>
                  <a:lnTo>
                    <a:pt x="253" y="308"/>
                  </a:lnTo>
                  <a:lnTo>
                    <a:pt x="231" y="330"/>
                  </a:lnTo>
                  <a:lnTo>
                    <a:pt x="220" y="352"/>
                  </a:lnTo>
                  <a:lnTo>
                    <a:pt x="198" y="374"/>
                  </a:lnTo>
                  <a:lnTo>
                    <a:pt x="187" y="396"/>
                  </a:lnTo>
                  <a:lnTo>
                    <a:pt x="165" y="418"/>
                  </a:lnTo>
                  <a:lnTo>
                    <a:pt x="154" y="451"/>
                  </a:lnTo>
                  <a:lnTo>
                    <a:pt x="132" y="474"/>
                  </a:lnTo>
                  <a:lnTo>
                    <a:pt x="121" y="496"/>
                  </a:lnTo>
                  <a:lnTo>
                    <a:pt x="110" y="518"/>
                  </a:lnTo>
                  <a:lnTo>
                    <a:pt x="99" y="551"/>
                  </a:lnTo>
                  <a:lnTo>
                    <a:pt x="88" y="573"/>
                  </a:lnTo>
                  <a:lnTo>
                    <a:pt x="77" y="595"/>
                  </a:lnTo>
                  <a:lnTo>
                    <a:pt x="66" y="628"/>
                  </a:lnTo>
                  <a:lnTo>
                    <a:pt x="55" y="650"/>
                  </a:lnTo>
                  <a:lnTo>
                    <a:pt x="44" y="683"/>
                  </a:lnTo>
                  <a:lnTo>
                    <a:pt x="44" y="705"/>
                  </a:lnTo>
                  <a:lnTo>
                    <a:pt x="33" y="727"/>
                  </a:lnTo>
                  <a:lnTo>
                    <a:pt x="22" y="760"/>
                  </a:lnTo>
                  <a:lnTo>
                    <a:pt x="22" y="793"/>
                  </a:lnTo>
                  <a:lnTo>
                    <a:pt x="11" y="815"/>
                  </a:lnTo>
                  <a:lnTo>
                    <a:pt x="11" y="848"/>
                  </a:lnTo>
                  <a:lnTo>
                    <a:pt x="11" y="870"/>
                  </a:lnTo>
                  <a:lnTo>
                    <a:pt x="11" y="903"/>
                  </a:lnTo>
                  <a:lnTo>
                    <a:pt x="0" y="926"/>
                  </a:lnTo>
                  <a:lnTo>
                    <a:pt x="0" y="960"/>
                  </a:lnTo>
                  <a:lnTo>
                    <a:pt x="0" y="982"/>
                  </a:lnTo>
                  <a:lnTo>
                    <a:pt x="11" y="1015"/>
                  </a:lnTo>
                  <a:lnTo>
                    <a:pt x="11" y="1048"/>
                  </a:lnTo>
                  <a:lnTo>
                    <a:pt x="11" y="1070"/>
                  </a:lnTo>
                  <a:lnTo>
                    <a:pt x="11" y="1103"/>
                  </a:lnTo>
                  <a:lnTo>
                    <a:pt x="22" y="1125"/>
                  </a:lnTo>
                  <a:lnTo>
                    <a:pt x="22" y="1158"/>
                  </a:lnTo>
                  <a:lnTo>
                    <a:pt x="33" y="1180"/>
                  </a:lnTo>
                  <a:lnTo>
                    <a:pt x="44" y="1213"/>
                  </a:lnTo>
                  <a:lnTo>
                    <a:pt x="44" y="1235"/>
                  </a:lnTo>
                  <a:lnTo>
                    <a:pt x="55" y="1268"/>
                  </a:lnTo>
                  <a:lnTo>
                    <a:pt x="66" y="1290"/>
                  </a:lnTo>
                  <a:lnTo>
                    <a:pt x="77" y="1312"/>
                  </a:lnTo>
                  <a:lnTo>
                    <a:pt x="88" y="1345"/>
                  </a:lnTo>
                  <a:lnTo>
                    <a:pt x="99" y="1368"/>
                  </a:lnTo>
                  <a:lnTo>
                    <a:pt x="110" y="1401"/>
                  </a:lnTo>
                  <a:lnTo>
                    <a:pt x="121" y="1423"/>
                  </a:lnTo>
                  <a:lnTo>
                    <a:pt x="132" y="1445"/>
                  </a:lnTo>
                  <a:lnTo>
                    <a:pt x="154" y="1467"/>
                  </a:lnTo>
                  <a:lnTo>
                    <a:pt x="165" y="1489"/>
                  </a:lnTo>
                  <a:lnTo>
                    <a:pt x="187" y="1511"/>
                  </a:lnTo>
                  <a:lnTo>
                    <a:pt x="198" y="1544"/>
                  </a:lnTo>
                  <a:lnTo>
                    <a:pt x="220" y="1566"/>
                  </a:lnTo>
                  <a:lnTo>
                    <a:pt x="231" y="1588"/>
                  </a:lnTo>
                  <a:lnTo>
                    <a:pt x="253" y="1599"/>
                  </a:lnTo>
                  <a:lnTo>
                    <a:pt x="275" y="1621"/>
                  </a:lnTo>
                  <a:lnTo>
                    <a:pt x="297" y="1643"/>
                  </a:lnTo>
                  <a:lnTo>
                    <a:pt x="319" y="1665"/>
                  </a:lnTo>
                  <a:lnTo>
                    <a:pt x="341" y="1687"/>
                  </a:lnTo>
                  <a:lnTo>
                    <a:pt x="352" y="1698"/>
                  </a:lnTo>
                  <a:lnTo>
                    <a:pt x="374" y="1720"/>
                  </a:lnTo>
                  <a:lnTo>
                    <a:pt x="407" y="1731"/>
                  </a:lnTo>
                  <a:lnTo>
                    <a:pt x="429" y="1753"/>
                  </a:lnTo>
                  <a:lnTo>
                    <a:pt x="451" y="1764"/>
                  </a:lnTo>
                  <a:lnTo>
                    <a:pt x="474" y="1786"/>
                  </a:lnTo>
                  <a:lnTo>
                    <a:pt x="496" y="1797"/>
                  </a:lnTo>
                  <a:lnTo>
                    <a:pt x="529" y="1808"/>
                  </a:lnTo>
                  <a:lnTo>
                    <a:pt x="551" y="1820"/>
                  </a:lnTo>
                  <a:lnTo>
                    <a:pt x="573" y="1831"/>
                  </a:lnTo>
                  <a:lnTo>
                    <a:pt x="595" y="1842"/>
                  </a:lnTo>
                  <a:lnTo>
                    <a:pt x="628" y="1853"/>
                  </a:lnTo>
                  <a:lnTo>
                    <a:pt x="650" y="1864"/>
                  </a:lnTo>
                  <a:lnTo>
                    <a:pt x="683" y="1875"/>
                  </a:lnTo>
                  <a:lnTo>
                    <a:pt x="705" y="1886"/>
                  </a:lnTo>
                  <a:lnTo>
                    <a:pt x="738" y="1886"/>
                  </a:lnTo>
                  <a:lnTo>
                    <a:pt x="760" y="1897"/>
                  </a:lnTo>
                  <a:lnTo>
                    <a:pt x="793" y="1897"/>
                  </a:lnTo>
                  <a:lnTo>
                    <a:pt x="815" y="1908"/>
                  </a:lnTo>
                  <a:lnTo>
                    <a:pt x="848" y="1908"/>
                  </a:lnTo>
                  <a:lnTo>
                    <a:pt x="870" y="1908"/>
                  </a:lnTo>
                  <a:lnTo>
                    <a:pt x="903" y="1908"/>
                  </a:lnTo>
                  <a:lnTo>
                    <a:pt x="926" y="1919"/>
                  </a:lnTo>
                  <a:lnTo>
                    <a:pt x="960" y="1919"/>
                  </a:lnTo>
                  <a:lnTo>
                    <a:pt x="993" y="1919"/>
                  </a:lnTo>
                  <a:lnTo>
                    <a:pt x="1015" y="1908"/>
                  </a:lnTo>
                  <a:lnTo>
                    <a:pt x="1048" y="1908"/>
                  </a:lnTo>
                  <a:lnTo>
                    <a:pt x="1070" y="1908"/>
                  </a:lnTo>
                  <a:lnTo>
                    <a:pt x="1103" y="1908"/>
                  </a:lnTo>
                  <a:lnTo>
                    <a:pt x="1125" y="1897"/>
                  </a:lnTo>
                  <a:lnTo>
                    <a:pt x="1158" y="1897"/>
                  </a:lnTo>
                  <a:lnTo>
                    <a:pt x="1180" y="1886"/>
                  </a:lnTo>
                  <a:lnTo>
                    <a:pt x="1213" y="1886"/>
                  </a:lnTo>
                  <a:lnTo>
                    <a:pt x="1235" y="1875"/>
                  </a:lnTo>
                  <a:lnTo>
                    <a:pt x="1268" y="1864"/>
                  </a:lnTo>
                  <a:lnTo>
                    <a:pt x="1290" y="1853"/>
                  </a:lnTo>
                  <a:lnTo>
                    <a:pt x="1323" y="1842"/>
                  </a:lnTo>
                  <a:lnTo>
                    <a:pt x="1345" y="1831"/>
                  </a:lnTo>
                  <a:lnTo>
                    <a:pt x="1368" y="1820"/>
                  </a:lnTo>
                  <a:lnTo>
                    <a:pt x="1401" y="1808"/>
                  </a:lnTo>
                  <a:lnTo>
                    <a:pt x="1423" y="1797"/>
                  </a:lnTo>
                  <a:lnTo>
                    <a:pt x="1445" y="1786"/>
                  </a:lnTo>
                  <a:lnTo>
                    <a:pt x="1467" y="1764"/>
                  </a:lnTo>
                  <a:lnTo>
                    <a:pt x="1489" y="1753"/>
                  </a:lnTo>
                  <a:lnTo>
                    <a:pt x="1511" y="1731"/>
                  </a:lnTo>
                  <a:lnTo>
                    <a:pt x="1544" y="1720"/>
                  </a:lnTo>
                  <a:lnTo>
                    <a:pt x="1566" y="1698"/>
                  </a:lnTo>
                  <a:lnTo>
                    <a:pt x="1588" y="1687"/>
                  </a:lnTo>
                  <a:lnTo>
                    <a:pt x="1599" y="1665"/>
                  </a:lnTo>
                  <a:lnTo>
                    <a:pt x="1621" y="1643"/>
                  </a:lnTo>
                  <a:lnTo>
                    <a:pt x="1643" y="1621"/>
                  </a:lnTo>
                  <a:lnTo>
                    <a:pt x="1665" y="1599"/>
                  </a:lnTo>
                  <a:lnTo>
                    <a:pt x="1687" y="1588"/>
                  </a:lnTo>
                  <a:lnTo>
                    <a:pt x="1698" y="1566"/>
                  </a:lnTo>
                  <a:lnTo>
                    <a:pt x="1720" y="1544"/>
                  </a:lnTo>
                  <a:lnTo>
                    <a:pt x="1731" y="1511"/>
                  </a:lnTo>
                  <a:lnTo>
                    <a:pt x="1753" y="1489"/>
                  </a:lnTo>
                  <a:lnTo>
                    <a:pt x="1764" y="1467"/>
                  </a:lnTo>
                  <a:lnTo>
                    <a:pt x="1786" y="1445"/>
                  </a:lnTo>
                  <a:lnTo>
                    <a:pt x="1797" y="1423"/>
                  </a:lnTo>
                  <a:lnTo>
                    <a:pt x="1808" y="1401"/>
                  </a:lnTo>
                  <a:lnTo>
                    <a:pt x="1820" y="1368"/>
                  </a:lnTo>
                  <a:lnTo>
                    <a:pt x="1831" y="1345"/>
                  </a:lnTo>
                  <a:lnTo>
                    <a:pt x="1842" y="1312"/>
                  </a:lnTo>
                  <a:lnTo>
                    <a:pt x="1853" y="1290"/>
                  </a:lnTo>
                  <a:lnTo>
                    <a:pt x="1864" y="1268"/>
                  </a:lnTo>
                  <a:lnTo>
                    <a:pt x="1875" y="1235"/>
                  </a:lnTo>
                  <a:lnTo>
                    <a:pt x="1886" y="1213"/>
                  </a:lnTo>
                  <a:lnTo>
                    <a:pt x="1886" y="1180"/>
                  </a:lnTo>
                  <a:lnTo>
                    <a:pt x="1897" y="1158"/>
                  </a:lnTo>
                  <a:lnTo>
                    <a:pt x="1897" y="1125"/>
                  </a:lnTo>
                  <a:lnTo>
                    <a:pt x="1908" y="1103"/>
                  </a:lnTo>
                  <a:lnTo>
                    <a:pt x="1908" y="1070"/>
                  </a:lnTo>
                  <a:lnTo>
                    <a:pt x="1908" y="1048"/>
                  </a:lnTo>
                  <a:lnTo>
                    <a:pt x="1908" y="1015"/>
                  </a:lnTo>
                  <a:lnTo>
                    <a:pt x="1919" y="982"/>
                  </a:lnTo>
                  <a:lnTo>
                    <a:pt x="1919" y="96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2208240" y="2600280"/>
              <a:ext cx="146520" cy="177840"/>
              <a:chOff x="2208240" y="2600280"/>
              <a:chExt cx="146520" cy="177840"/>
            </a:xfrm>
          </p:grpSpPr>
          <p:sp>
            <p:nvSpPr>
              <p:cNvPr id="1048" name=""/>
              <p:cNvSpPr/>
              <p:nvPr/>
            </p:nvSpPr>
            <p:spPr>
              <a:xfrm flipV="1">
                <a:off x="2228760" y="2600280"/>
                <a:ext cx="101520" cy="177840"/>
              </a:xfrm>
              <a:prstGeom prst="line">
                <a:avLst/>
              </a:prstGeom>
              <a:ln w="12600">
                <a:solidFill>
                  <a:srgbClr val="f2fe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208240" y="2612880"/>
                <a:ext cx="146520" cy="149760"/>
              </a:xfrm>
              <a:custGeom>
                <a:avLst/>
                <a:gdLst/>
                <a:ahLst/>
                <a:rect l="0" t="0" r="r" b="b"/>
                <a:pathLst>
                  <a:path fill="none" w="407" h="416">
                    <a:moveTo>
                      <a:pt x="407" y="208"/>
                    </a:moveTo>
                    <a:lnTo>
                      <a:pt x="407" y="199"/>
                    </a:lnTo>
                    <a:lnTo>
                      <a:pt x="407" y="183"/>
                    </a:lnTo>
                    <a:lnTo>
                      <a:pt x="407" y="175"/>
                    </a:lnTo>
                    <a:lnTo>
                      <a:pt x="407" y="166"/>
                    </a:lnTo>
                    <a:lnTo>
                      <a:pt x="399" y="150"/>
                    </a:lnTo>
                    <a:lnTo>
                      <a:pt x="399" y="141"/>
                    </a:lnTo>
                    <a:lnTo>
                      <a:pt x="391" y="133"/>
                    </a:lnTo>
                    <a:lnTo>
                      <a:pt x="391" y="125"/>
                    </a:lnTo>
                    <a:lnTo>
                      <a:pt x="382" y="108"/>
                    </a:lnTo>
                    <a:lnTo>
                      <a:pt x="382" y="99"/>
                    </a:lnTo>
                    <a:lnTo>
                      <a:pt x="374" y="91"/>
                    </a:lnTo>
                    <a:lnTo>
                      <a:pt x="366" y="82"/>
                    </a:lnTo>
                    <a:lnTo>
                      <a:pt x="358" y="74"/>
                    </a:lnTo>
                    <a:lnTo>
                      <a:pt x="349" y="66"/>
                    </a:lnTo>
                    <a:lnTo>
                      <a:pt x="341" y="58"/>
                    </a:lnTo>
                    <a:lnTo>
                      <a:pt x="333" y="49"/>
                    </a:lnTo>
                    <a:lnTo>
                      <a:pt x="324" y="41"/>
                    </a:lnTo>
                    <a:lnTo>
                      <a:pt x="316" y="41"/>
                    </a:lnTo>
                    <a:lnTo>
                      <a:pt x="308" y="33"/>
                    </a:lnTo>
                    <a:lnTo>
                      <a:pt x="299" y="24"/>
                    </a:lnTo>
                    <a:lnTo>
                      <a:pt x="290" y="24"/>
                    </a:lnTo>
                    <a:lnTo>
                      <a:pt x="282" y="16"/>
                    </a:lnTo>
                    <a:lnTo>
                      <a:pt x="265" y="16"/>
                    </a:lnTo>
                    <a:lnTo>
                      <a:pt x="257" y="8"/>
                    </a:lnTo>
                    <a:lnTo>
                      <a:pt x="249" y="8"/>
                    </a:lnTo>
                    <a:lnTo>
                      <a:pt x="232" y="8"/>
                    </a:lnTo>
                    <a:lnTo>
                      <a:pt x="224" y="0"/>
                    </a:lnTo>
                    <a:lnTo>
                      <a:pt x="216" y="0"/>
                    </a:lnTo>
                    <a:lnTo>
                      <a:pt x="199" y="0"/>
                    </a:lnTo>
                    <a:lnTo>
                      <a:pt x="191" y="0"/>
                    </a:lnTo>
                    <a:lnTo>
                      <a:pt x="183" y="0"/>
                    </a:lnTo>
                    <a:lnTo>
                      <a:pt x="166" y="8"/>
                    </a:lnTo>
                    <a:lnTo>
                      <a:pt x="158" y="8"/>
                    </a:lnTo>
                    <a:lnTo>
                      <a:pt x="150" y="8"/>
                    </a:lnTo>
                    <a:lnTo>
                      <a:pt x="141" y="16"/>
                    </a:lnTo>
                    <a:lnTo>
                      <a:pt x="125" y="16"/>
                    </a:lnTo>
                    <a:lnTo>
                      <a:pt x="116" y="24"/>
                    </a:lnTo>
                    <a:lnTo>
                      <a:pt x="108" y="24"/>
                    </a:lnTo>
                    <a:lnTo>
                      <a:pt x="99" y="33"/>
                    </a:lnTo>
                    <a:lnTo>
                      <a:pt x="91" y="41"/>
                    </a:lnTo>
                    <a:lnTo>
                      <a:pt x="74" y="41"/>
                    </a:lnTo>
                    <a:lnTo>
                      <a:pt x="66" y="49"/>
                    </a:lnTo>
                    <a:lnTo>
                      <a:pt x="57" y="58"/>
                    </a:lnTo>
                    <a:lnTo>
                      <a:pt x="49" y="66"/>
                    </a:lnTo>
                    <a:lnTo>
                      <a:pt x="49" y="74"/>
                    </a:lnTo>
                    <a:lnTo>
                      <a:pt x="41" y="82"/>
                    </a:lnTo>
                    <a:lnTo>
                      <a:pt x="33" y="91"/>
                    </a:lnTo>
                    <a:lnTo>
                      <a:pt x="24" y="99"/>
                    </a:lnTo>
                    <a:lnTo>
                      <a:pt x="24" y="108"/>
                    </a:lnTo>
                    <a:lnTo>
                      <a:pt x="16" y="125"/>
                    </a:lnTo>
                    <a:lnTo>
                      <a:pt x="8" y="133"/>
                    </a:lnTo>
                    <a:lnTo>
                      <a:pt x="8" y="141"/>
                    </a:lnTo>
                    <a:lnTo>
                      <a:pt x="8" y="150"/>
                    </a:lnTo>
                    <a:lnTo>
                      <a:pt x="0" y="166"/>
                    </a:lnTo>
                    <a:lnTo>
                      <a:pt x="0" y="175"/>
                    </a:lnTo>
                    <a:lnTo>
                      <a:pt x="0" y="183"/>
                    </a:lnTo>
                    <a:lnTo>
                      <a:pt x="0" y="199"/>
                    </a:lnTo>
                    <a:lnTo>
                      <a:pt x="0" y="208"/>
                    </a:lnTo>
                    <a:lnTo>
                      <a:pt x="0" y="216"/>
                    </a:lnTo>
                    <a:lnTo>
                      <a:pt x="0" y="233"/>
                    </a:lnTo>
                    <a:lnTo>
                      <a:pt x="0" y="241"/>
                    </a:lnTo>
                    <a:lnTo>
                      <a:pt x="0" y="249"/>
                    </a:lnTo>
                    <a:lnTo>
                      <a:pt x="8" y="266"/>
                    </a:lnTo>
                    <a:lnTo>
                      <a:pt x="8" y="274"/>
                    </a:lnTo>
                    <a:lnTo>
                      <a:pt x="8" y="282"/>
                    </a:lnTo>
                    <a:lnTo>
                      <a:pt x="16" y="291"/>
                    </a:lnTo>
                    <a:lnTo>
                      <a:pt x="24" y="307"/>
                    </a:lnTo>
                    <a:lnTo>
                      <a:pt x="24" y="317"/>
                    </a:lnTo>
                    <a:lnTo>
                      <a:pt x="33" y="325"/>
                    </a:lnTo>
                    <a:lnTo>
                      <a:pt x="41" y="333"/>
                    </a:lnTo>
                    <a:lnTo>
                      <a:pt x="49" y="341"/>
                    </a:lnTo>
                    <a:lnTo>
                      <a:pt x="49" y="350"/>
                    </a:lnTo>
                    <a:lnTo>
                      <a:pt x="57" y="358"/>
                    </a:lnTo>
                    <a:lnTo>
                      <a:pt x="66" y="366"/>
                    </a:lnTo>
                    <a:lnTo>
                      <a:pt x="74" y="375"/>
                    </a:lnTo>
                    <a:lnTo>
                      <a:pt x="91" y="383"/>
                    </a:lnTo>
                    <a:lnTo>
                      <a:pt x="99" y="383"/>
                    </a:lnTo>
                    <a:lnTo>
                      <a:pt x="108" y="391"/>
                    </a:lnTo>
                    <a:lnTo>
                      <a:pt x="116" y="399"/>
                    </a:lnTo>
                    <a:lnTo>
                      <a:pt x="125" y="399"/>
                    </a:lnTo>
                    <a:lnTo>
                      <a:pt x="141" y="408"/>
                    </a:lnTo>
                    <a:lnTo>
                      <a:pt x="150" y="408"/>
                    </a:lnTo>
                    <a:lnTo>
                      <a:pt x="158" y="408"/>
                    </a:lnTo>
                    <a:lnTo>
                      <a:pt x="166" y="416"/>
                    </a:lnTo>
                    <a:lnTo>
                      <a:pt x="183" y="416"/>
                    </a:lnTo>
                    <a:lnTo>
                      <a:pt x="191" y="416"/>
                    </a:lnTo>
                    <a:lnTo>
                      <a:pt x="199" y="416"/>
                    </a:lnTo>
                    <a:lnTo>
                      <a:pt x="216" y="416"/>
                    </a:lnTo>
                    <a:lnTo>
                      <a:pt x="224" y="416"/>
                    </a:lnTo>
                    <a:lnTo>
                      <a:pt x="232" y="416"/>
                    </a:lnTo>
                    <a:lnTo>
                      <a:pt x="249" y="408"/>
                    </a:lnTo>
                    <a:lnTo>
                      <a:pt x="257" y="408"/>
                    </a:lnTo>
                    <a:lnTo>
                      <a:pt x="265" y="408"/>
                    </a:lnTo>
                    <a:lnTo>
                      <a:pt x="282" y="399"/>
                    </a:lnTo>
                    <a:lnTo>
                      <a:pt x="290" y="399"/>
                    </a:lnTo>
                    <a:lnTo>
                      <a:pt x="299" y="391"/>
                    </a:lnTo>
                    <a:lnTo>
                      <a:pt x="308" y="383"/>
                    </a:lnTo>
                    <a:lnTo>
                      <a:pt x="316" y="383"/>
                    </a:lnTo>
                    <a:lnTo>
                      <a:pt x="324" y="375"/>
                    </a:lnTo>
                    <a:lnTo>
                      <a:pt x="333" y="366"/>
                    </a:lnTo>
                    <a:lnTo>
                      <a:pt x="341" y="358"/>
                    </a:lnTo>
                    <a:lnTo>
                      <a:pt x="349" y="350"/>
                    </a:lnTo>
                    <a:lnTo>
                      <a:pt x="358" y="341"/>
                    </a:lnTo>
                    <a:lnTo>
                      <a:pt x="366" y="333"/>
                    </a:lnTo>
                    <a:lnTo>
                      <a:pt x="374" y="325"/>
                    </a:lnTo>
                    <a:lnTo>
                      <a:pt x="382" y="317"/>
                    </a:lnTo>
                    <a:lnTo>
                      <a:pt x="382" y="307"/>
                    </a:lnTo>
                    <a:lnTo>
                      <a:pt x="391" y="291"/>
                    </a:lnTo>
                    <a:lnTo>
                      <a:pt x="391" y="282"/>
                    </a:lnTo>
                    <a:lnTo>
                      <a:pt x="399" y="274"/>
                    </a:lnTo>
                    <a:lnTo>
                      <a:pt x="399" y="266"/>
                    </a:lnTo>
                    <a:lnTo>
                      <a:pt x="407" y="249"/>
                    </a:lnTo>
                    <a:lnTo>
                      <a:pt x="407" y="241"/>
                    </a:lnTo>
                    <a:lnTo>
                      <a:pt x="407" y="233"/>
                    </a:lnTo>
                    <a:lnTo>
                      <a:pt x="407" y="216"/>
                    </a:lnTo>
                    <a:lnTo>
                      <a:pt x="407" y="208"/>
                    </a:lnTo>
                  </a:path>
                </a:pathLst>
              </a:custGeom>
              <a:ln w="12600">
                <a:solidFill>
                  <a:srgbClr val="f2fef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0" name=""/>
            <p:cNvSpPr txBox="1"/>
            <p:nvPr/>
          </p:nvSpPr>
          <p:spPr>
            <a:xfrm>
              <a:off x="2344680" y="2514600"/>
              <a:ext cx="43812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2fefd"/>
                  </a:solidFill>
                  <a:latin typeface="Arial"/>
                  <a:ea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071800" y="2822400"/>
              <a:ext cx="698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 txBox="1"/>
            <p:nvPr/>
          </p:nvSpPr>
          <p:spPr>
            <a:xfrm>
              <a:off x="2190600" y="2813040"/>
              <a:ext cx="4636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2fefd"/>
                  </a:solidFill>
                  <a:latin typeface="Arial"/>
                  <a:ea typeface="Arial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3906720" y="4116240"/>
            <a:ext cx="109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4257720" y="3703680"/>
            <a:ext cx="830160" cy="8301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4448160" y="3652920"/>
            <a:ext cx="82440" cy="9270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4768920" y="3633840"/>
            <a:ext cx="88920" cy="9399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 flipH="1">
            <a:off x="4292640" y="3732120"/>
            <a:ext cx="244440" cy="244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4848120" y="4294080"/>
            <a:ext cx="193680" cy="193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616280" y="3618000"/>
            <a:ext cx="79200" cy="987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 flipH="1">
            <a:off x="4264200" y="3706920"/>
            <a:ext cx="450720" cy="450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 flipH="1">
            <a:off x="4302000" y="3751200"/>
            <a:ext cx="520920" cy="520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4349880" y="3795840"/>
            <a:ext cx="581040" cy="58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 flipH="1">
            <a:off x="4432320" y="3878280"/>
            <a:ext cx="568440" cy="5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 flipH="1">
            <a:off x="4524480" y="3979800"/>
            <a:ext cx="527040" cy="52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 flipH="1">
            <a:off x="4654440" y="4100400"/>
            <a:ext cx="428760" cy="42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670280" y="4537080"/>
            <a:ext cx="0" cy="8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4105440" y="4116240"/>
            <a:ext cx="1196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4670280" y="3529080"/>
            <a:ext cx="0" cy="93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4965840" y="9360"/>
            <a:ext cx="4165560" cy="59529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20760" y="3456000"/>
            <a:ext cx="103824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98680" y="3456000"/>
            <a:ext cx="13644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74800" y="3456000"/>
            <a:ext cx="831960" cy="1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1982880" y="3456000"/>
            <a:ext cx="6984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167360" y="3540240"/>
            <a:ext cx="20761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383160" y="3540240"/>
            <a:ext cx="13680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659640" y="3540240"/>
            <a:ext cx="207648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450120" y="3470400"/>
            <a:ext cx="0" cy="136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450120" y="765000"/>
            <a:ext cx="0" cy="2565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450120" y="3746520"/>
            <a:ext cx="0" cy="18003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33960" y="1436760"/>
            <a:ext cx="4470480" cy="424008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38520" y="1708200"/>
            <a:ext cx="3860640" cy="370512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96880" y="1515960"/>
            <a:ext cx="0" cy="38768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74800" y="1515960"/>
            <a:ext cx="0" cy="7621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74800" y="4675320"/>
            <a:ext cx="0" cy="717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74800" y="2279520"/>
            <a:ext cx="2887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932040" y="4630680"/>
            <a:ext cx="23148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20760" y="2336760"/>
            <a:ext cx="0" cy="352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220760" y="4216320"/>
            <a:ext cx="0" cy="358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273320" y="2749680"/>
            <a:ext cx="23004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278000" y="4156200"/>
            <a:ext cx="22680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498680" y="2678040"/>
            <a:ext cx="69840" cy="716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H="1" flipV="1">
            <a:off x="1496880" y="4154400"/>
            <a:ext cx="73080" cy="810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566720" y="2679840"/>
            <a:ext cx="41616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566720" y="4233960"/>
            <a:ext cx="41616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82880" y="2679840"/>
            <a:ext cx="69840" cy="698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1982880" y="4157640"/>
            <a:ext cx="69840" cy="698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052720" y="2749680"/>
            <a:ext cx="0" cy="61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052720" y="4087800"/>
            <a:ext cx="0" cy="698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2816280"/>
            <a:ext cx="192240" cy="1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052720" y="4087800"/>
            <a:ext cx="195120" cy="1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95440" y="2557440"/>
            <a:ext cx="36180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96880" y="4354560"/>
            <a:ext cx="3571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011240" y="2617920"/>
            <a:ext cx="0" cy="16891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09800" y="2962440"/>
            <a:ext cx="124128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012680" y="3940200"/>
            <a:ext cx="1231920" cy="1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6880" y="1515960"/>
            <a:ext cx="2779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6880" y="5392800"/>
            <a:ext cx="2779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6880" y="1654200"/>
            <a:ext cx="2779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6880" y="1930320"/>
            <a:ext cx="2779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6880" y="4978440"/>
            <a:ext cx="2779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6880" y="5254560"/>
            <a:ext cx="2779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291360" y="1565280"/>
            <a:ext cx="320760" cy="28728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395960" y="3390840"/>
            <a:ext cx="290520" cy="27612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299280" y="5272200"/>
            <a:ext cx="297000" cy="27612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40760" y="3417840"/>
            <a:ext cx="298440" cy="27612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618320" y="2048040"/>
            <a:ext cx="322200" cy="29988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78440" y="2081160"/>
            <a:ext cx="312840" cy="27612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965840" y="4748040"/>
            <a:ext cx="299880" cy="27792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45320" y="4756320"/>
            <a:ext cx="304920" cy="27792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7496280" y="1924200"/>
            <a:ext cx="558720" cy="558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4435560" y="1514520"/>
            <a:ext cx="1036440" cy="1036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205240" y="2362320"/>
            <a:ext cx="2475000" cy="235260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24480" y="2568600"/>
            <a:ext cx="2039760" cy="194004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572080" y="2708280"/>
            <a:ext cx="1746360" cy="166068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938920" y="3052800"/>
            <a:ext cx="1019160" cy="97164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527120" y="2725560"/>
            <a:ext cx="482760" cy="0"/>
          </a:xfrm>
          <a:prstGeom prst="line">
            <a:avLst/>
          </a:prstGeom>
          <a:ln w="12600">
            <a:solidFill>
              <a:srgbClr val="114ffb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515960" y="4175280"/>
            <a:ext cx="506520" cy="0"/>
          </a:xfrm>
          <a:prstGeom prst="line">
            <a:avLst/>
          </a:prstGeom>
          <a:ln w="12600">
            <a:solidFill>
              <a:srgbClr val="114ffb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472000" y="2614680"/>
            <a:ext cx="1943280" cy="182880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71560" y="4624560"/>
            <a:ext cx="57600" cy="57600"/>
          </a:xfrm>
          <a:custGeom>
            <a:avLst/>
            <a:gdLst/>
            <a:ahLst/>
            <a:rect l="0" t="0" r="r" b="b"/>
            <a:pathLst>
              <a:path fill="none" w="160" h="160">
                <a:moveTo>
                  <a:pt x="160" y="160"/>
                </a:moveTo>
                <a:lnTo>
                  <a:pt x="160" y="160"/>
                </a:lnTo>
                <a:lnTo>
                  <a:pt x="160" y="160"/>
                </a:lnTo>
                <a:cubicBezTo>
                  <a:pt x="160" y="132"/>
                  <a:pt x="153" y="104"/>
                  <a:pt x="139" y="80"/>
                </a:cubicBezTo>
                <a:cubicBezTo>
                  <a:pt x="125" y="56"/>
                  <a:pt x="104" y="35"/>
                  <a:pt x="80" y="21"/>
                </a:cubicBezTo>
                <a:cubicBezTo>
                  <a:pt x="56" y="7"/>
                  <a:pt x="28" y="0"/>
                  <a:pt x="0" y="0"/>
                </a:cubicBezTo>
              </a:path>
            </a:pathLst>
          </a:custGeom>
          <a:ln w="12600">
            <a:solidFill>
              <a:srgbClr val="114ffb"/>
            </a:solidFill>
            <a:round/>
          </a:ln>
        </p:spPr>
        <p:txBody>
          <a:bodyPr lIns="96120" rIns="96120" tIns="6480" bIns="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787320" y="1793880"/>
            <a:ext cx="2383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77880" y="1793880"/>
            <a:ext cx="7128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415800" y="1793880"/>
            <a:ext cx="21456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787320" y="5118120"/>
            <a:ext cx="2383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677880" y="5118120"/>
            <a:ext cx="7128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415800" y="5118120"/>
            <a:ext cx="21456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 flipV="1">
            <a:off x="7569360" y="4668840"/>
            <a:ext cx="493560" cy="4730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4857840" y="4676760"/>
            <a:ext cx="469800" cy="4698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86080" y="2967120"/>
            <a:ext cx="40320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97240" y="3940200"/>
            <a:ext cx="39204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365200" y="2817720"/>
            <a:ext cx="10051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370240" y="4092480"/>
            <a:ext cx="100800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87520" y="5506920"/>
            <a:ext cx="0" cy="10875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82720" y="5489640"/>
            <a:ext cx="0" cy="4096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222200" y="4702320"/>
            <a:ext cx="3240" cy="663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048040" y="4278240"/>
            <a:ext cx="0" cy="4683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202280" y="3902040"/>
            <a:ext cx="0" cy="27306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8715240" y="3808440"/>
            <a:ext cx="5040" cy="28749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02360" y="3919680"/>
            <a:ext cx="0" cy="23065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78800" y="3780000"/>
            <a:ext cx="0" cy="2412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662440" y="1870200"/>
            <a:ext cx="1602000" cy="337824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588080" y="1217520"/>
            <a:ext cx="24300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7264440" y="1224000"/>
            <a:ext cx="328680" cy="6462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831080" y="1068480"/>
            <a:ext cx="592200" cy="29700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6502320" y="219240"/>
            <a:ext cx="308160" cy="135864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16600" y="219240"/>
            <a:ext cx="1969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7902720" y="1098720"/>
            <a:ext cx="204480" cy="193680"/>
            <a:chOff x="7902720" y="1098720"/>
            <a:chExt cx="204480" cy="193680"/>
          </a:xfrm>
        </p:grpSpPr>
        <p:sp>
          <p:nvSpPr>
            <p:cNvPr id="407" name=""/>
            <p:cNvSpPr/>
            <p:nvPr/>
          </p:nvSpPr>
          <p:spPr>
            <a:xfrm>
              <a:off x="7918560" y="1122480"/>
              <a:ext cx="165240" cy="1555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7902720" y="1098720"/>
              <a:ext cx="204480" cy="193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"/>
          <p:cNvSpPr txBox="1"/>
          <p:nvPr/>
        </p:nvSpPr>
        <p:spPr>
          <a:xfrm>
            <a:off x="8099280" y="102564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4ffb"/>
                </a:solidFill>
                <a:latin typeface="Arial"/>
                <a:ea typeface="Arial"/>
              </a:rPr>
              <a:t>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527720" y="892080"/>
            <a:ext cx="1927440" cy="698400"/>
          </a:xfrm>
          <a:custGeom>
            <a:avLst/>
            <a:gdLst/>
            <a:ahLst/>
            <a:rect l="0" t="0" r="r" b="b"/>
            <a:pathLst>
              <a:path fill="none" w="5354" h="1940">
                <a:moveTo>
                  <a:pt x="5354" y="0"/>
                </a:moveTo>
                <a:lnTo>
                  <a:pt x="5354" y="0"/>
                </a:lnTo>
                <a:lnTo>
                  <a:pt x="5353" y="0"/>
                </a:lnTo>
                <a:cubicBezTo>
                  <a:pt x="3886" y="0"/>
                  <a:pt x="2444" y="387"/>
                  <a:pt x="1173" y="1121"/>
                </a:cubicBezTo>
                <a:cubicBezTo>
                  <a:pt x="759" y="1360"/>
                  <a:pt x="367" y="1634"/>
                  <a:pt x="0" y="1940"/>
                </a:cubicBezTo>
              </a:path>
            </a:pathLst>
          </a:custGeom>
          <a:ln w="12600">
            <a:solidFill>
              <a:srgbClr val="114ffb"/>
            </a:solidFill>
            <a:round/>
            <a:headEnd len="med" type="triangle" w="med"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5032440" y="955800"/>
            <a:ext cx="668160" cy="324000"/>
          </a:xfrm>
          <a:prstGeom prst="rect">
            <a:avLst/>
          </a:prstGeom>
          <a:solidFill>
            <a:srgbClr val="114ffb"/>
          </a:solidFill>
          <a:ln w="1260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8X 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00520" y="1049400"/>
            <a:ext cx="50760" cy="5076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7427880" y="387360"/>
            <a:ext cx="876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0.14  M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6997680" y="101520"/>
            <a:ext cx="1351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8X      7.9 - 8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23080" y="384120"/>
            <a:ext cx="2136600" cy="29196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6835680" y="396720"/>
            <a:ext cx="279360" cy="292320"/>
            <a:chOff x="6835680" y="396720"/>
            <a:chExt cx="279360" cy="292320"/>
          </a:xfrm>
        </p:grpSpPr>
        <p:sp>
          <p:nvSpPr>
            <p:cNvPr id="417" name=""/>
            <p:cNvSpPr/>
            <p:nvPr/>
          </p:nvSpPr>
          <p:spPr>
            <a:xfrm>
              <a:off x="6886440" y="447840"/>
              <a:ext cx="177840" cy="1778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75360" y="39672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35680" y="536400"/>
              <a:ext cx="279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7140600" y="384120"/>
            <a:ext cx="0" cy="2923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474040" y="384120"/>
            <a:ext cx="0" cy="2923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907400" y="409680"/>
            <a:ext cx="241200" cy="24120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220240" y="384120"/>
            <a:ext cx="0" cy="2923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13760" y="384120"/>
            <a:ext cx="77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A  C 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693280" y="411120"/>
            <a:ext cx="241200" cy="24120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202360" y="6062760"/>
            <a:ext cx="739800" cy="792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3200" bIns="-43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02400" y="6070680"/>
            <a:ext cx="1071720" cy="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203720" y="6518160"/>
            <a:ext cx="263196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502400" y="6492960"/>
            <a:ext cx="1209960" cy="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5981760" y="5961240"/>
            <a:ext cx="190440" cy="196560"/>
            <a:chOff x="5981760" y="5961240"/>
            <a:chExt cx="190440" cy="196560"/>
          </a:xfrm>
        </p:grpSpPr>
        <p:sp>
          <p:nvSpPr>
            <p:cNvPr id="431" name=""/>
            <p:cNvSpPr/>
            <p:nvPr/>
          </p:nvSpPr>
          <p:spPr>
            <a:xfrm>
              <a:off x="5997600" y="5985000"/>
              <a:ext cx="152280" cy="1573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5981760" y="5961240"/>
              <a:ext cx="190440" cy="1965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"/>
          <p:cNvSpPr txBox="1"/>
          <p:nvPr/>
        </p:nvSpPr>
        <p:spPr>
          <a:xfrm>
            <a:off x="6129360" y="5811840"/>
            <a:ext cx="530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57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56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7058160" y="6288120"/>
            <a:ext cx="4809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891480" y="6418440"/>
            <a:ext cx="190440" cy="196560"/>
            <a:chOff x="6891480" y="6418440"/>
            <a:chExt cx="190440" cy="196560"/>
          </a:xfrm>
        </p:grpSpPr>
        <p:sp>
          <p:nvSpPr>
            <p:cNvPr id="436" name=""/>
            <p:cNvSpPr/>
            <p:nvPr/>
          </p:nvSpPr>
          <p:spPr>
            <a:xfrm>
              <a:off x="6907320" y="6442200"/>
              <a:ext cx="152280" cy="1573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6891480" y="6418440"/>
              <a:ext cx="190440" cy="19656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2708280" y="2962440"/>
            <a:ext cx="0" cy="96516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255840" y="2816280"/>
            <a:ext cx="0" cy="127620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577800" y="6256440"/>
            <a:ext cx="419040" cy="468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68440" y="6256440"/>
            <a:ext cx="795240" cy="468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82720" y="5803920"/>
            <a:ext cx="75240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930320" y="5803920"/>
            <a:ext cx="324000" cy="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225440" y="5275440"/>
            <a:ext cx="25740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940040" y="5294160"/>
            <a:ext cx="314280" cy="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711440" y="4651200"/>
            <a:ext cx="333360" cy="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254320" y="4651200"/>
            <a:ext cx="33336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2552760" y="4392720"/>
            <a:ext cx="431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9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9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452600" y="5040360"/>
            <a:ext cx="530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25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25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581120" y="5545080"/>
            <a:ext cx="382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928800" y="6026040"/>
            <a:ext cx="530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4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4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163520" y="2274840"/>
            <a:ext cx="61920" cy="61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222200" y="2690640"/>
            <a:ext cx="54000" cy="540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1216080" y="4159080"/>
            <a:ext cx="60120" cy="540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1158840" y="4570560"/>
            <a:ext cx="61920" cy="61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957240" y="4302000"/>
            <a:ext cx="58680" cy="540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2711520" y="1898640"/>
            <a:ext cx="0" cy="10666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701800" y="1898640"/>
            <a:ext cx="18108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7164360" y="422280"/>
            <a:ext cx="204840" cy="193680"/>
            <a:chOff x="7164360" y="422280"/>
            <a:chExt cx="204840" cy="193680"/>
          </a:xfrm>
        </p:grpSpPr>
        <p:sp>
          <p:nvSpPr>
            <p:cNvPr id="460" name=""/>
            <p:cNvSpPr/>
            <p:nvPr/>
          </p:nvSpPr>
          <p:spPr>
            <a:xfrm>
              <a:off x="7180200" y="446040"/>
              <a:ext cx="165240" cy="1555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164360" y="422280"/>
              <a:ext cx="204840" cy="193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7413480" y="162000"/>
            <a:ext cx="163800" cy="155520"/>
            <a:chOff x="7413480" y="162000"/>
            <a:chExt cx="163800" cy="155520"/>
          </a:xfrm>
        </p:grpSpPr>
        <p:sp>
          <p:nvSpPr>
            <p:cNvPr id="463" name=""/>
            <p:cNvSpPr/>
            <p:nvPr/>
          </p:nvSpPr>
          <p:spPr>
            <a:xfrm>
              <a:off x="7426440" y="181080"/>
              <a:ext cx="131760" cy="12528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7413480" y="162000"/>
              <a:ext cx="163800" cy="1555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940120" y="1822320"/>
            <a:ext cx="204840" cy="193680"/>
            <a:chOff x="2940120" y="1822320"/>
            <a:chExt cx="204840" cy="193680"/>
          </a:xfrm>
        </p:grpSpPr>
        <p:sp>
          <p:nvSpPr>
            <p:cNvPr id="466" name=""/>
            <p:cNvSpPr/>
            <p:nvPr/>
          </p:nvSpPr>
          <p:spPr>
            <a:xfrm>
              <a:off x="2955960" y="1846440"/>
              <a:ext cx="165240" cy="1555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2940120" y="1822320"/>
              <a:ext cx="204840" cy="193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 txBox="1"/>
          <p:nvPr/>
        </p:nvSpPr>
        <p:spPr>
          <a:xfrm>
            <a:off x="3124080" y="1768320"/>
            <a:ext cx="1231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20.00 - 20.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859120" y="2103480"/>
            <a:ext cx="1278000" cy="27144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970360" y="2136600"/>
            <a:ext cx="199800" cy="20016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259080" y="2103480"/>
            <a:ext cx="0" cy="271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213000" y="209556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0.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730680" y="2111400"/>
            <a:ext cx="0" cy="2602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683160" y="20890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933720" y="2111400"/>
            <a:ext cx="0" cy="2602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886200" y="209556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413160" y="2381400"/>
            <a:ext cx="146520" cy="152640"/>
          </a:xfrm>
          <a:custGeom>
            <a:avLst/>
            <a:gdLst/>
            <a:ahLst/>
            <a:rect l="0" t="0" r="r" b="b"/>
            <a:pathLst>
              <a:path fill="none" w="407" h="424">
                <a:moveTo>
                  <a:pt x="407" y="0"/>
                </a:moveTo>
                <a:lnTo>
                  <a:pt x="0" y="0"/>
                </a:lnTo>
                <a:lnTo>
                  <a:pt x="203" y="424"/>
                </a:lnTo>
                <a:lnTo>
                  <a:pt x="407" y="0"/>
                </a:lnTo>
              </a:path>
            </a:pathLst>
          </a:custGeom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97400" y="2516040"/>
            <a:ext cx="0" cy="196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505320" y="2716200"/>
            <a:ext cx="17136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676680" y="2581200"/>
            <a:ext cx="260280" cy="26028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641760" y="25588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957240" y="2557440"/>
            <a:ext cx="55440" cy="554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1787400" y="892080"/>
            <a:ext cx="895320" cy="177804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673360" y="892080"/>
            <a:ext cx="26676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2898720" y="723960"/>
            <a:ext cx="13510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M42 X 1.5 - 6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965320" y="982800"/>
            <a:ext cx="1625760" cy="29988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2998800" y="985680"/>
            <a:ext cx="279360" cy="292320"/>
            <a:chOff x="2998800" y="985680"/>
            <a:chExt cx="279360" cy="292320"/>
          </a:xfrm>
        </p:grpSpPr>
        <p:sp>
          <p:nvSpPr>
            <p:cNvPr id="488" name=""/>
            <p:cNvSpPr/>
            <p:nvPr/>
          </p:nvSpPr>
          <p:spPr>
            <a:xfrm>
              <a:off x="3049560" y="1036800"/>
              <a:ext cx="177840" cy="17784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38480" y="985680"/>
              <a:ext cx="0" cy="29232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998800" y="1125360"/>
              <a:ext cx="279360" cy="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3321000" y="981000"/>
            <a:ext cx="0" cy="2923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355920" y="1035000"/>
            <a:ext cx="204840" cy="193680"/>
            <a:chOff x="3355920" y="1035000"/>
            <a:chExt cx="204840" cy="193680"/>
          </a:xfrm>
        </p:grpSpPr>
        <p:sp>
          <p:nvSpPr>
            <p:cNvPr id="493" name=""/>
            <p:cNvSpPr/>
            <p:nvPr/>
          </p:nvSpPr>
          <p:spPr>
            <a:xfrm>
              <a:off x="3371760" y="1058760"/>
              <a:ext cx="165240" cy="1555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3355920" y="1035000"/>
              <a:ext cx="204840" cy="193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 txBox="1"/>
          <p:nvPr/>
        </p:nvSpPr>
        <p:spPr>
          <a:xfrm>
            <a:off x="3540240" y="996840"/>
            <a:ext cx="1093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0.1 M  B 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351320" y="1046160"/>
            <a:ext cx="210960" cy="19224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898800" y="1035000"/>
            <a:ext cx="210960" cy="19044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33880" y="981000"/>
            <a:ext cx="0" cy="2923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1216080" y="565200"/>
            <a:ext cx="0" cy="16858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1501920" y="1289160"/>
            <a:ext cx="0" cy="13618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1006560" y="870120"/>
            <a:ext cx="0" cy="1647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596880" y="879480"/>
            <a:ext cx="0" cy="5810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216080" y="555480"/>
            <a:ext cx="1019160" cy="21924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1273320" y="593640"/>
            <a:ext cx="104760" cy="142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359000" y="593640"/>
            <a:ext cx="104760" cy="142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549440" y="555480"/>
            <a:ext cx="0" cy="2192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504800" y="520560"/>
            <a:ext cx="7477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0.06 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006640" y="555480"/>
            <a:ext cx="0" cy="2192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501920" y="1384200"/>
            <a:ext cx="33336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1035000" y="1384200"/>
            <a:ext cx="18108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006560" y="974880"/>
            <a:ext cx="18072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349200" y="974880"/>
            <a:ext cx="247680" cy="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1800360" y="1158840"/>
            <a:ext cx="431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6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6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581040" y="711360"/>
            <a:ext cx="431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9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9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101520" y="2556000"/>
            <a:ext cx="4381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92160" y="4356000"/>
            <a:ext cx="4381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87200" y="2556000"/>
            <a:ext cx="0" cy="361800"/>
          </a:xfrm>
          <a:prstGeom prst="line">
            <a:avLst/>
          </a:prstGeom>
          <a:ln w="12600">
            <a:solidFill>
              <a:srgbClr val="114ffb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96920" y="3384720"/>
            <a:ext cx="0" cy="97128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0" y="2892600"/>
            <a:ext cx="62856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44.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44.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187200" y="136440"/>
            <a:ext cx="0" cy="2400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87200" y="127080"/>
            <a:ext cx="1380960" cy="24768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20760" y="165240"/>
            <a:ext cx="0" cy="1616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35080" y="326880"/>
            <a:ext cx="1807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82760" y="127080"/>
            <a:ext cx="0" cy="2476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01480" y="146160"/>
            <a:ext cx="204840" cy="193680"/>
            <a:chOff x="501480" y="146160"/>
            <a:chExt cx="204840" cy="193680"/>
          </a:xfrm>
        </p:grpSpPr>
        <p:sp>
          <p:nvSpPr>
            <p:cNvPr id="526" name=""/>
            <p:cNvSpPr/>
            <p:nvPr/>
          </p:nvSpPr>
          <p:spPr>
            <a:xfrm>
              <a:off x="517680" y="169920"/>
              <a:ext cx="165240" cy="1555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501480" y="146160"/>
              <a:ext cx="204840" cy="193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 txBox="1"/>
          <p:nvPr/>
        </p:nvSpPr>
        <p:spPr>
          <a:xfrm>
            <a:off x="657360" y="101520"/>
            <a:ext cx="944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0.08 M 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111320" y="146160"/>
            <a:ext cx="200160" cy="200160"/>
          </a:xfrm>
          <a:prstGeom prst="ellipse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368360" y="127080"/>
            <a:ext cx="0" cy="2476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968400" y="374760"/>
            <a:ext cx="133560" cy="152640"/>
          </a:xfrm>
          <a:custGeom>
            <a:avLst/>
            <a:gdLst/>
            <a:ahLst/>
            <a:rect l="0" t="0" r="r" b="b"/>
            <a:pathLst>
              <a:path fill="none" w="371" h="424">
                <a:moveTo>
                  <a:pt x="371" y="0"/>
                </a:moveTo>
                <a:lnTo>
                  <a:pt x="0" y="0"/>
                </a:lnTo>
                <a:lnTo>
                  <a:pt x="186" y="424"/>
                </a:lnTo>
                <a:lnTo>
                  <a:pt x="371" y="0"/>
                </a:lnTo>
              </a:path>
            </a:pathLst>
          </a:custGeom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035000" y="527040"/>
            <a:ext cx="0" cy="114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596880" y="641520"/>
            <a:ext cx="43812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9200" y="507960"/>
            <a:ext cx="247680" cy="24768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14280" y="49212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34880" y="5899320"/>
            <a:ext cx="152640" cy="133560"/>
          </a:xfrm>
          <a:custGeom>
            <a:avLst/>
            <a:gdLst/>
            <a:ahLst/>
            <a:rect l="0" t="0" r="r" b="b"/>
            <a:pathLst>
              <a:path fill="none" w="424" h="371">
                <a:moveTo>
                  <a:pt x="424" y="371"/>
                </a:moveTo>
                <a:lnTo>
                  <a:pt x="424" y="0"/>
                </a:lnTo>
                <a:lnTo>
                  <a:pt x="0" y="186"/>
                </a:lnTo>
                <a:lnTo>
                  <a:pt x="424" y="371"/>
                </a:lnTo>
              </a:path>
            </a:pathLst>
          </a:custGeom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320760" y="5965920"/>
            <a:ext cx="12384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3360" y="5842080"/>
            <a:ext cx="247680" cy="24768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8160" y="5807160"/>
            <a:ext cx="322200" cy="32400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87520" y="6566040"/>
            <a:ext cx="1000080" cy="22860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25320" y="6613560"/>
            <a:ext cx="324360" cy="124200"/>
          </a:xfrm>
          <a:custGeom>
            <a:avLst/>
            <a:gdLst/>
            <a:ahLst/>
            <a:rect l="0" t="0" r="r" b="b"/>
            <a:pathLst>
              <a:path fill="none" w="901" h="345">
                <a:moveTo>
                  <a:pt x="0" y="345"/>
                </a:moveTo>
                <a:lnTo>
                  <a:pt x="630" y="345"/>
                </a:lnTo>
                <a:lnTo>
                  <a:pt x="901" y="0"/>
                </a:lnTo>
                <a:lnTo>
                  <a:pt x="270" y="0"/>
                </a:lnTo>
                <a:lnTo>
                  <a:pt x="0" y="345"/>
                </a:lnTo>
              </a:path>
            </a:pathLst>
          </a:custGeom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025640" y="6566040"/>
            <a:ext cx="0" cy="2286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1019160" y="6540480"/>
            <a:ext cx="530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0.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251080" y="2819520"/>
            <a:ext cx="1440" cy="12603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600120" y="1514520"/>
            <a:ext cx="139680" cy="1396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777960" y="1527120"/>
            <a:ext cx="114120" cy="114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600120" y="1933560"/>
            <a:ext cx="114120" cy="114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600120" y="1971720"/>
            <a:ext cx="266760" cy="2667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600120" y="2136600"/>
            <a:ext cx="279360" cy="279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676440" y="2276640"/>
            <a:ext cx="279360" cy="2793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853920" y="2276640"/>
            <a:ext cx="279720" cy="2793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993600" y="2390760"/>
            <a:ext cx="216000" cy="2160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1006560" y="2568600"/>
            <a:ext cx="203040" cy="2030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1006560" y="2708280"/>
            <a:ext cx="228600" cy="2286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1158840" y="2752560"/>
            <a:ext cx="209520" cy="2098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1336680" y="2682720"/>
            <a:ext cx="279360" cy="279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1514520" y="2682720"/>
            <a:ext cx="279360" cy="279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679400" y="2682720"/>
            <a:ext cx="279720" cy="279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1857240" y="2771640"/>
            <a:ext cx="190800" cy="1908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V="1">
            <a:off x="2035080" y="2822400"/>
            <a:ext cx="139680" cy="1400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2212920" y="2928960"/>
            <a:ext cx="33480" cy="33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7640" bIns="-17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600120" y="4359240"/>
            <a:ext cx="114120" cy="1144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600120" y="4359240"/>
            <a:ext cx="304920" cy="304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1006560" y="3940200"/>
            <a:ext cx="304560" cy="3049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1006560" y="3940200"/>
            <a:ext cx="114120" cy="1141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12720" y="4232160"/>
            <a:ext cx="609480" cy="6098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1298520" y="3940200"/>
            <a:ext cx="203400" cy="2030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663480" y="4765680"/>
            <a:ext cx="216000" cy="2160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1019160" y="4422600"/>
            <a:ext cx="203040" cy="2034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501920" y="3940200"/>
            <a:ext cx="215640" cy="2160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828720" y="4930920"/>
            <a:ext cx="50760" cy="507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360" bIns="-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V="1">
            <a:off x="1616040" y="3940200"/>
            <a:ext cx="279360" cy="2793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806480" y="3940200"/>
            <a:ext cx="292320" cy="2919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143080" y="3990960"/>
            <a:ext cx="95400" cy="9540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4280" bIns="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638280" y="5261040"/>
            <a:ext cx="126720" cy="12708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816120" y="5324400"/>
            <a:ext cx="63360" cy="637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259080" y="4084560"/>
            <a:ext cx="0" cy="78732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59080" y="4870440"/>
            <a:ext cx="117360" cy="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3422520" y="4789440"/>
            <a:ext cx="204840" cy="193680"/>
            <a:chOff x="3422520" y="4789440"/>
            <a:chExt cx="204840" cy="193680"/>
          </a:xfrm>
        </p:grpSpPr>
        <p:sp>
          <p:nvSpPr>
            <p:cNvPr id="580" name=""/>
            <p:cNvSpPr/>
            <p:nvPr/>
          </p:nvSpPr>
          <p:spPr>
            <a:xfrm>
              <a:off x="3438360" y="4813200"/>
              <a:ext cx="165240" cy="155520"/>
            </a:xfrm>
            <a:prstGeom prst="ellipse">
              <a:avLst/>
            </a:prstGeom>
            <a:noFill/>
            <a:ln w="12600">
              <a:solidFill>
                <a:srgbClr val="114f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3422520" y="4789440"/>
              <a:ext cx="204840" cy="193680"/>
            </a:xfrm>
            <a:prstGeom prst="line">
              <a:avLst/>
            </a:prstGeom>
            <a:ln w="12600">
              <a:solidFill>
                <a:srgbClr val="114f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 txBox="1"/>
          <p:nvPr/>
        </p:nvSpPr>
        <p:spPr>
          <a:xfrm>
            <a:off x="3603600" y="4630680"/>
            <a:ext cx="5302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31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3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200400" y="5129280"/>
            <a:ext cx="939960" cy="291960"/>
          </a:xfrm>
          <a:prstGeom prst="rect">
            <a:avLst/>
          </a:prstGeom>
          <a:noFill/>
          <a:ln w="12600">
            <a:solidFill>
              <a:srgbClr val="114ffb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3276720" y="5167440"/>
            <a:ext cx="215640" cy="215640"/>
          </a:xfrm>
          <a:prstGeom prst="line">
            <a:avLst/>
          </a:prstGeom>
          <a:ln w="12600">
            <a:solidFill>
              <a:srgbClr val="114ffb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543480" y="5129280"/>
            <a:ext cx="0" cy="2919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3514680" y="5138640"/>
            <a:ext cx="431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895560" y="512604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14ffb"/>
                </a:solidFill>
                <a:latin typeface="Arial"/>
                <a:ea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898800" y="5129280"/>
            <a:ext cx="0" cy="29196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657440" y="6496200"/>
            <a:ext cx="1944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247840" y="4168800"/>
            <a:ext cx="0" cy="2235240"/>
          </a:xfrm>
          <a:prstGeom prst="line">
            <a:avLst/>
          </a:prstGeom>
          <a:ln w="12600">
            <a:solidFill>
              <a:srgbClr val="114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19200" y="1584360"/>
            <a:ext cx="2854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706840" y="376200"/>
            <a:ext cx="5618520" cy="6258240"/>
          </a:xfrm>
          <a:custGeom>
            <a:avLst/>
            <a:gdLst/>
            <a:ahLst/>
            <a:rect l="0" t="0" r="r" b="b"/>
            <a:pathLst>
              <a:path w="15607" h="17384">
                <a:moveTo>
                  <a:pt x="7804" y="17384"/>
                </a:moveTo>
                <a:lnTo>
                  <a:pt x="15607" y="8691"/>
                </a:lnTo>
                <a:lnTo>
                  <a:pt x="7804" y="0"/>
                </a:lnTo>
                <a:lnTo>
                  <a:pt x="0" y="8691"/>
                </a:lnTo>
                <a:lnTo>
                  <a:pt x="7804" y="17384"/>
                </a:lnTo>
                <a:close/>
              </a:path>
            </a:pathLst>
          </a:cu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0" y="51688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S AND </a:t>
            </a: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2016000" y="0"/>
            <a:ext cx="7115040" cy="687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422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10</a:t>
            </a:r>
            <a:endParaRPr b="0" lang="en-US" sz="4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6924600" y="1039680"/>
            <a:ext cx="2130480" cy="798480"/>
            <a:chOff x="6924600" y="1039680"/>
            <a:chExt cx="2130480" cy="798480"/>
          </a:xfrm>
        </p:grpSpPr>
        <p:sp>
          <p:nvSpPr>
            <p:cNvPr id="596" name=""/>
            <p:cNvSpPr/>
            <p:nvPr/>
          </p:nvSpPr>
          <p:spPr>
            <a:xfrm>
              <a:off x="6924600" y="1039680"/>
              <a:ext cx="2130480" cy="7984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3365fb"/>
              </a:solidFill>
              <a:round/>
            </a:ln>
          </p:spPr>
          <p:txBody>
            <a:bodyPr lIns="115200" rIns="115200" tIns="70200" bIns="70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 txBox="1"/>
            <p:nvPr/>
          </p:nvSpPr>
          <p:spPr>
            <a:xfrm>
              <a:off x="6969240" y="1084320"/>
              <a:ext cx="2054160" cy="668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Copyright  1996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Brigham Young Universit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fc0128"/>
                  </a:solidFill>
                  <a:latin typeface="Times New Roman"/>
                  <a:ea typeface="Times New Roman"/>
                </a:rPr>
                <a:t>All Rights Reserve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"/>
          <p:cNvSpPr txBox="1"/>
          <p:nvPr/>
        </p:nvSpPr>
        <p:spPr>
          <a:xfrm>
            <a:off x="3290760" y="2143080"/>
            <a:ext cx="493092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T</a:t>
            </a:r>
            <a:endParaRPr b="0" lang="en-US" sz="1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835360" y="3943440"/>
            <a:ext cx="5510160" cy="378000"/>
          </a:xfrm>
          <a:prstGeom prst="rect">
            <a:avLst/>
          </a:prstGeom>
          <a:gradFill rotWithShape="0">
            <a:gsLst>
              <a:gs pos="0">
                <a:srgbClr val="4c4c4c"/>
              </a:gs>
              <a:gs pos="50000">
                <a:srgbClr val="ffffff"/>
              </a:gs>
              <a:gs pos="100000">
                <a:srgbClr val="4c4c4c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718320" y="6149880"/>
            <a:ext cx="2117880" cy="423720"/>
          </a:xfrm>
          <a:prstGeom prst="rect">
            <a:avLst/>
          </a:prstGeom>
          <a:solidFill>
            <a:srgbClr val="fc012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6762600" y="6230880"/>
            <a:ext cx="2090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  <a:ea typeface="Arial"/>
              </a:rPr>
              <a:t>Part 3 of a 3-Part 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"/>
          <p:cNvSpPr txBox="1"/>
          <p:nvPr/>
        </p:nvSpPr>
        <p:spPr>
          <a:xfrm>
            <a:off x="1652760" y="378000"/>
            <a:ext cx="6062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 Area Desig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3713040" y="3125880"/>
            <a:ext cx="4067640" cy="1686240"/>
          </a:xfrm>
          <a:custGeom>
            <a:avLst/>
            <a:gdLst/>
            <a:ahLst/>
            <a:rect l="0" t="0" r="r" b="b"/>
            <a:pathLst>
              <a:path fill="none" w="11299" h="4684">
                <a:moveTo>
                  <a:pt x="0" y="0"/>
                </a:moveTo>
                <a:lnTo>
                  <a:pt x="0" y="4684"/>
                </a:lnTo>
                <a:lnTo>
                  <a:pt x="11299" y="4684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2728800" y="2990880"/>
            <a:ext cx="1521000" cy="888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2728800" y="4118040"/>
            <a:ext cx="10782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3984480" y="5192640"/>
            <a:ext cx="432000" cy="298800"/>
          </a:xfrm>
          <a:custGeom>
            <a:avLst/>
            <a:gdLst/>
            <a:ahLst/>
            <a:rect l="0" t="0" r="r" b="b"/>
            <a:pathLst>
              <a:path fill="none" w="1200" h="830">
                <a:moveTo>
                  <a:pt x="0" y="830"/>
                </a:moveTo>
                <a:lnTo>
                  <a:pt x="0" y="0"/>
                </a:lnTo>
                <a:lnTo>
                  <a:pt x="1200" y="0"/>
                </a:lnTo>
                <a:lnTo>
                  <a:pt x="1200" y="830"/>
                </a:lnTo>
                <a:lnTo>
                  <a:pt x="0" y="83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2728800" y="4811760"/>
            <a:ext cx="8654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2847960" y="5065560"/>
            <a:ext cx="0" cy="2509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713040" y="4930920"/>
            <a:ext cx="0" cy="5158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459240" y="5284800"/>
            <a:ext cx="254520" cy="82800"/>
          </a:xfrm>
          <a:custGeom>
            <a:avLst/>
            <a:gdLst/>
            <a:ahLst/>
            <a:rect l="0" t="0" r="r" b="b"/>
            <a:pathLst>
              <a:path w="707" h="230">
                <a:moveTo>
                  <a:pt x="0" y="0"/>
                </a:moveTo>
                <a:lnTo>
                  <a:pt x="0" y="230"/>
                </a:lnTo>
                <a:lnTo>
                  <a:pt x="707" y="121"/>
                </a:lnTo>
                <a:lnTo>
                  <a:pt x="0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 flipH="1">
            <a:off x="3208320" y="5327640"/>
            <a:ext cx="2509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803680" y="4811760"/>
            <a:ext cx="84600" cy="254520"/>
          </a:xfrm>
          <a:custGeom>
            <a:avLst/>
            <a:gdLst/>
            <a:ahLst/>
            <a:rect l="0" t="0" r="r" b="b"/>
            <a:pathLst>
              <a:path w="235" h="707">
                <a:moveTo>
                  <a:pt x="0" y="707"/>
                </a:moveTo>
                <a:lnTo>
                  <a:pt x="235" y="707"/>
                </a:lnTo>
                <a:lnTo>
                  <a:pt x="123" y="0"/>
                </a:lnTo>
                <a:lnTo>
                  <a:pt x="0" y="707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2576520" y="4307040"/>
            <a:ext cx="411480" cy="319320"/>
          </a:xfrm>
          <a:custGeom>
            <a:avLst/>
            <a:gdLst/>
            <a:ahLst/>
            <a:rect l="0" t="0" r="r" b="b"/>
            <a:pathLst>
              <a:path fill="none" w="1143" h="887">
                <a:moveTo>
                  <a:pt x="0" y="887"/>
                </a:moveTo>
                <a:lnTo>
                  <a:pt x="0" y="0"/>
                </a:lnTo>
                <a:lnTo>
                  <a:pt x="1143" y="0"/>
                </a:lnTo>
                <a:lnTo>
                  <a:pt x="1143" y="887"/>
                </a:lnTo>
                <a:lnTo>
                  <a:pt x="0" y="887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2803680" y="3863880"/>
            <a:ext cx="84600" cy="254520"/>
          </a:xfrm>
          <a:custGeom>
            <a:avLst/>
            <a:gdLst/>
            <a:ahLst/>
            <a:rect l="0" t="0" r="r" b="b"/>
            <a:pathLst>
              <a:path w="235" h="707">
                <a:moveTo>
                  <a:pt x="0" y="0"/>
                </a:moveTo>
                <a:lnTo>
                  <a:pt x="235" y="0"/>
                </a:lnTo>
                <a:lnTo>
                  <a:pt x="123" y="707"/>
                </a:lnTo>
                <a:lnTo>
                  <a:pt x="0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 flipV="1">
            <a:off x="2847960" y="3613320"/>
            <a:ext cx="0" cy="2505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4673520" y="4692600"/>
            <a:ext cx="0" cy="7542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4673520" y="5284800"/>
            <a:ext cx="249480" cy="82800"/>
          </a:xfrm>
          <a:custGeom>
            <a:avLst/>
            <a:gdLst/>
            <a:ahLst/>
            <a:rect l="0" t="0" r="r" b="b"/>
            <a:pathLst>
              <a:path w="693" h="230">
                <a:moveTo>
                  <a:pt x="693" y="0"/>
                </a:moveTo>
                <a:lnTo>
                  <a:pt x="693" y="230"/>
                </a:lnTo>
                <a:lnTo>
                  <a:pt x="0" y="121"/>
                </a:lnTo>
                <a:lnTo>
                  <a:pt x="693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4923000" y="5327640"/>
            <a:ext cx="2538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 flipH="1">
            <a:off x="3713040" y="3125880"/>
            <a:ext cx="23259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033960" y="3125880"/>
            <a:ext cx="1748160" cy="1686240"/>
          </a:xfrm>
          <a:custGeom>
            <a:avLst/>
            <a:gdLst/>
            <a:ahLst/>
            <a:rect l="0" t="0" r="r" b="b"/>
            <a:pathLst>
              <a:path fill="none" w="4856" h="4684">
                <a:moveTo>
                  <a:pt x="0" y="0"/>
                </a:moveTo>
                <a:lnTo>
                  <a:pt x="57" y="79"/>
                </a:lnTo>
                <a:lnTo>
                  <a:pt x="180" y="171"/>
                </a:lnTo>
                <a:lnTo>
                  <a:pt x="335" y="202"/>
                </a:lnTo>
                <a:lnTo>
                  <a:pt x="489" y="202"/>
                </a:lnTo>
                <a:lnTo>
                  <a:pt x="582" y="233"/>
                </a:lnTo>
                <a:lnTo>
                  <a:pt x="736" y="326"/>
                </a:lnTo>
                <a:lnTo>
                  <a:pt x="798" y="418"/>
                </a:lnTo>
                <a:lnTo>
                  <a:pt x="952" y="573"/>
                </a:lnTo>
                <a:lnTo>
                  <a:pt x="978" y="665"/>
                </a:lnTo>
                <a:lnTo>
                  <a:pt x="1040" y="846"/>
                </a:lnTo>
                <a:lnTo>
                  <a:pt x="1071" y="970"/>
                </a:lnTo>
                <a:lnTo>
                  <a:pt x="1287" y="1247"/>
                </a:lnTo>
                <a:lnTo>
                  <a:pt x="1380" y="1402"/>
                </a:lnTo>
                <a:lnTo>
                  <a:pt x="1441" y="1587"/>
                </a:lnTo>
                <a:lnTo>
                  <a:pt x="1503" y="1680"/>
                </a:lnTo>
                <a:lnTo>
                  <a:pt x="1688" y="1741"/>
                </a:lnTo>
                <a:lnTo>
                  <a:pt x="1781" y="1772"/>
                </a:lnTo>
                <a:lnTo>
                  <a:pt x="1874" y="1803"/>
                </a:lnTo>
                <a:lnTo>
                  <a:pt x="2182" y="1834"/>
                </a:lnTo>
                <a:lnTo>
                  <a:pt x="2332" y="1927"/>
                </a:lnTo>
                <a:lnTo>
                  <a:pt x="2549" y="2019"/>
                </a:lnTo>
                <a:lnTo>
                  <a:pt x="2611" y="2138"/>
                </a:lnTo>
                <a:lnTo>
                  <a:pt x="2765" y="2231"/>
                </a:lnTo>
                <a:lnTo>
                  <a:pt x="2889" y="2355"/>
                </a:lnTo>
                <a:lnTo>
                  <a:pt x="2981" y="2448"/>
                </a:lnTo>
                <a:lnTo>
                  <a:pt x="3105" y="2541"/>
                </a:lnTo>
                <a:lnTo>
                  <a:pt x="3228" y="2602"/>
                </a:lnTo>
                <a:lnTo>
                  <a:pt x="3383" y="2757"/>
                </a:lnTo>
                <a:lnTo>
                  <a:pt x="3475" y="2787"/>
                </a:lnTo>
                <a:lnTo>
                  <a:pt x="3568" y="2880"/>
                </a:lnTo>
                <a:lnTo>
                  <a:pt x="3687" y="2973"/>
                </a:lnTo>
                <a:lnTo>
                  <a:pt x="3903" y="3127"/>
                </a:lnTo>
                <a:lnTo>
                  <a:pt x="3996" y="3281"/>
                </a:lnTo>
                <a:lnTo>
                  <a:pt x="4057" y="3374"/>
                </a:lnTo>
                <a:lnTo>
                  <a:pt x="4150" y="3586"/>
                </a:lnTo>
                <a:lnTo>
                  <a:pt x="4181" y="3740"/>
                </a:lnTo>
                <a:lnTo>
                  <a:pt x="4243" y="3833"/>
                </a:lnTo>
                <a:lnTo>
                  <a:pt x="4274" y="3925"/>
                </a:lnTo>
                <a:lnTo>
                  <a:pt x="4335" y="4049"/>
                </a:lnTo>
                <a:lnTo>
                  <a:pt x="4366" y="4141"/>
                </a:lnTo>
                <a:lnTo>
                  <a:pt x="4428" y="4234"/>
                </a:lnTo>
                <a:lnTo>
                  <a:pt x="4459" y="4326"/>
                </a:lnTo>
                <a:lnTo>
                  <a:pt x="4551" y="4388"/>
                </a:lnTo>
                <a:lnTo>
                  <a:pt x="4675" y="4481"/>
                </a:lnTo>
                <a:lnTo>
                  <a:pt x="4767" y="4543"/>
                </a:lnTo>
                <a:lnTo>
                  <a:pt x="4856" y="468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 txBox="1"/>
          <p:nvPr/>
        </p:nvSpPr>
        <p:spPr>
          <a:xfrm>
            <a:off x="2595600" y="429732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979800" y="5165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076480" y="2475000"/>
            <a:ext cx="690840" cy="690840"/>
          </a:xfrm>
          <a:custGeom>
            <a:avLst/>
            <a:gdLst/>
            <a:ahLst/>
            <a:rect l="0" t="0" r="r" b="b"/>
            <a:pathLst>
              <a:path fill="none" w="1919" h="1919">
                <a:moveTo>
                  <a:pt x="1919" y="960"/>
                </a:moveTo>
                <a:lnTo>
                  <a:pt x="1919" y="926"/>
                </a:lnTo>
                <a:lnTo>
                  <a:pt x="1908" y="903"/>
                </a:lnTo>
                <a:lnTo>
                  <a:pt x="1908" y="870"/>
                </a:lnTo>
                <a:lnTo>
                  <a:pt x="1908" y="848"/>
                </a:lnTo>
                <a:lnTo>
                  <a:pt x="1908" y="815"/>
                </a:lnTo>
                <a:lnTo>
                  <a:pt x="1897" y="793"/>
                </a:lnTo>
                <a:lnTo>
                  <a:pt x="1897" y="760"/>
                </a:lnTo>
                <a:lnTo>
                  <a:pt x="1886" y="727"/>
                </a:lnTo>
                <a:lnTo>
                  <a:pt x="1886" y="705"/>
                </a:lnTo>
                <a:lnTo>
                  <a:pt x="1875" y="683"/>
                </a:lnTo>
                <a:lnTo>
                  <a:pt x="1864" y="650"/>
                </a:lnTo>
                <a:lnTo>
                  <a:pt x="1853" y="628"/>
                </a:lnTo>
                <a:lnTo>
                  <a:pt x="1842" y="595"/>
                </a:lnTo>
                <a:lnTo>
                  <a:pt x="1831" y="573"/>
                </a:lnTo>
                <a:lnTo>
                  <a:pt x="1820" y="551"/>
                </a:lnTo>
                <a:lnTo>
                  <a:pt x="1808" y="518"/>
                </a:lnTo>
                <a:lnTo>
                  <a:pt x="1797" y="496"/>
                </a:lnTo>
                <a:lnTo>
                  <a:pt x="1786" y="474"/>
                </a:lnTo>
                <a:lnTo>
                  <a:pt x="1764" y="451"/>
                </a:lnTo>
                <a:lnTo>
                  <a:pt x="1753" y="418"/>
                </a:lnTo>
                <a:lnTo>
                  <a:pt x="1731" y="396"/>
                </a:lnTo>
                <a:lnTo>
                  <a:pt x="1720" y="374"/>
                </a:lnTo>
                <a:lnTo>
                  <a:pt x="1698" y="352"/>
                </a:lnTo>
                <a:lnTo>
                  <a:pt x="1687" y="330"/>
                </a:lnTo>
                <a:lnTo>
                  <a:pt x="1665" y="308"/>
                </a:lnTo>
                <a:lnTo>
                  <a:pt x="1643" y="286"/>
                </a:lnTo>
                <a:lnTo>
                  <a:pt x="1621" y="275"/>
                </a:lnTo>
                <a:lnTo>
                  <a:pt x="1599" y="253"/>
                </a:lnTo>
                <a:lnTo>
                  <a:pt x="1588" y="231"/>
                </a:lnTo>
                <a:lnTo>
                  <a:pt x="1566" y="220"/>
                </a:lnTo>
                <a:lnTo>
                  <a:pt x="1544" y="198"/>
                </a:lnTo>
                <a:lnTo>
                  <a:pt x="1511" y="176"/>
                </a:lnTo>
                <a:lnTo>
                  <a:pt x="1489" y="165"/>
                </a:lnTo>
                <a:lnTo>
                  <a:pt x="1467" y="154"/>
                </a:lnTo>
                <a:lnTo>
                  <a:pt x="1445" y="132"/>
                </a:lnTo>
                <a:lnTo>
                  <a:pt x="1423" y="121"/>
                </a:lnTo>
                <a:lnTo>
                  <a:pt x="1401" y="110"/>
                </a:lnTo>
                <a:lnTo>
                  <a:pt x="1368" y="99"/>
                </a:lnTo>
                <a:lnTo>
                  <a:pt x="1345" y="88"/>
                </a:lnTo>
                <a:lnTo>
                  <a:pt x="1323" y="66"/>
                </a:lnTo>
                <a:lnTo>
                  <a:pt x="1290" y="66"/>
                </a:lnTo>
                <a:lnTo>
                  <a:pt x="1268" y="55"/>
                </a:lnTo>
                <a:lnTo>
                  <a:pt x="1235" y="44"/>
                </a:lnTo>
                <a:lnTo>
                  <a:pt x="1213" y="33"/>
                </a:lnTo>
                <a:lnTo>
                  <a:pt x="1180" y="33"/>
                </a:lnTo>
                <a:lnTo>
                  <a:pt x="1158" y="22"/>
                </a:lnTo>
                <a:lnTo>
                  <a:pt x="1125" y="22"/>
                </a:lnTo>
                <a:lnTo>
                  <a:pt x="1103" y="11"/>
                </a:lnTo>
                <a:lnTo>
                  <a:pt x="1070" y="11"/>
                </a:lnTo>
                <a:lnTo>
                  <a:pt x="1048" y="0"/>
                </a:lnTo>
                <a:lnTo>
                  <a:pt x="1015" y="0"/>
                </a:lnTo>
                <a:lnTo>
                  <a:pt x="993" y="0"/>
                </a:lnTo>
                <a:lnTo>
                  <a:pt x="960" y="0"/>
                </a:lnTo>
                <a:lnTo>
                  <a:pt x="926" y="0"/>
                </a:lnTo>
                <a:lnTo>
                  <a:pt x="903" y="0"/>
                </a:lnTo>
                <a:lnTo>
                  <a:pt x="870" y="0"/>
                </a:lnTo>
                <a:lnTo>
                  <a:pt x="848" y="11"/>
                </a:lnTo>
                <a:lnTo>
                  <a:pt x="815" y="11"/>
                </a:lnTo>
                <a:lnTo>
                  <a:pt x="793" y="22"/>
                </a:lnTo>
                <a:lnTo>
                  <a:pt x="760" y="22"/>
                </a:lnTo>
                <a:lnTo>
                  <a:pt x="738" y="33"/>
                </a:lnTo>
                <a:lnTo>
                  <a:pt x="705" y="33"/>
                </a:lnTo>
                <a:lnTo>
                  <a:pt x="683" y="44"/>
                </a:lnTo>
                <a:lnTo>
                  <a:pt x="650" y="55"/>
                </a:lnTo>
                <a:lnTo>
                  <a:pt x="628" y="66"/>
                </a:lnTo>
                <a:lnTo>
                  <a:pt x="595" y="66"/>
                </a:lnTo>
                <a:lnTo>
                  <a:pt x="573" y="88"/>
                </a:lnTo>
                <a:lnTo>
                  <a:pt x="551" y="99"/>
                </a:lnTo>
                <a:lnTo>
                  <a:pt x="529" y="110"/>
                </a:lnTo>
                <a:lnTo>
                  <a:pt x="496" y="121"/>
                </a:lnTo>
                <a:lnTo>
                  <a:pt x="474" y="132"/>
                </a:lnTo>
                <a:lnTo>
                  <a:pt x="451" y="154"/>
                </a:lnTo>
                <a:lnTo>
                  <a:pt x="429" y="165"/>
                </a:lnTo>
                <a:lnTo>
                  <a:pt x="407" y="176"/>
                </a:lnTo>
                <a:lnTo>
                  <a:pt x="374" y="198"/>
                </a:lnTo>
                <a:lnTo>
                  <a:pt x="352" y="220"/>
                </a:lnTo>
                <a:lnTo>
                  <a:pt x="341" y="231"/>
                </a:lnTo>
                <a:lnTo>
                  <a:pt x="319" y="253"/>
                </a:lnTo>
                <a:lnTo>
                  <a:pt x="297" y="275"/>
                </a:lnTo>
                <a:lnTo>
                  <a:pt x="275" y="286"/>
                </a:lnTo>
                <a:lnTo>
                  <a:pt x="253" y="308"/>
                </a:lnTo>
                <a:lnTo>
                  <a:pt x="231" y="330"/>
                </a:lnTo>
                <a:lnTo>
                  <a:pt x="220" y="352"/>
                </a:lnTo>
                <a:lnTo>
                  <a:pt x="198" y="374"/>
                </a:lnTo>
                <a:lnTo>
                  <a:pt x="187" y="396"/>
                </a:lnTo>
                <a:lnTo>
                  <a:pt x="165" y="418"/>
                </a:lnTo>
                <a:lnTo>
                  <a:pt x="154" y="451"/>
                </a:lnTo>
                <a:lnTo>
                  <a:pt x="132" y="474"/>
                </a:lnTo>
                <a:lnTo>
                  <a:pt x="121" y="496"/>
                </a:lnTo>
                <a:lnTo>
                  <a:pt x="110" y="518"/>
                </a:lnTo>
                <a:lnTo>
                  <a:pt x="99" y="551"/>
                </a:lnTo>
                <a:lnTo>
                  <a:pt x="88" y="573"/>
                </a:lnTo>
                <a:lnTo>
                  <a:pt x="77" y="595"/>
                </a:lnTo>
                <a:lnTo>
                  <a:pt x="66" y="628"/>
                </a:lnTo>
                <a:lnTo>
                  <a:pt x="55" y="650"/>
                </a:lnTo>
                <a:lnTo>
                  <a:pt x="44" y="683"/>
                </a:lnTo>
                <a:lnTo>
                  <a:pt x="44" y="705"/>
                </a:lnTo>
                <a:lnTo>
                  <a:pt x="33" y="727"/>
                </a:lnTo>
                <a:lnTo>
                  <a:pt x="22" y="760"/>
                </a:lnTo>
                <a:lnTo>
                  <a:pt x="22" y="793"/>
                </a:lnTo>
                <a:lnTo>
                  <a:pt x="11" y="815"/>
                </a:lnTo>
                <a:lnTo>
                  <a:pt x="11" y="848"/>
                </a:lnTo>
                <a:lnTo>
                  <a:pt x="11" y="870"/>
                </a:lnTo>
                <a:lnTo>
                  <a:pt x="11" y="903"/>
                </a:lnTo>
                <a:lnTo>
                  <a:pt x="0" y="926"/>
                </a:lnTo>
                <a:lnTo>
                  <a:pt x="0" y="960"/>
                </a:lnTo>
                <a:lnTo>
                  <a:pt x="0" y="982"/>
                </a:lnTo>
                <a:lnTo>
                  <a:pt x="11" y="1015"/>
                </a:lnTo>
                <a:lnTo>
                  <a:pt x="11" y="1048"/>
                </a:lnTo>
                <a:lnTo>
                  <a:pt x="11" y="1070"/>
                </a:lnTo>
                <a:lnTo>
                  <a:pt x="11" y="1103"/>
                </a:lnTo>
                <a:lnTo>
                  <a:pt x="22" y="1125"/>
                </a:lnTo>
                <a:lnTo>
                  <a:pt x="22" y="1158"/>
                </a:lnTo>
                <a:lnTo>
                  <a:pt x="33" y="1180"/>
                </a:lnTo>
                <a:lnTo>
                  <a:pt x="44" y="1213"/>
                </a:lnTo>
                <a:lnTo>
                  <a:pt x="44" y="1235"/>
                </a:lnTo>
                <a:lnTo>
                  <a:pt x="55" y="1268"/>
                </a:lnTo>
                <a:lnTo>
                  <a:pt x="66" y="1290"/>
                </a:lnTo>
                <a:lnTo>
                  <a:pt x="77" y="1312"/>
                </a:lnTo>
                <a:lnTo>
                  <a:pt x="88" y="1345"/>
                </a:lnTo>
                <a:lnTo>
                  <a:pt x="99" y="1368"/>
                </a:lnTo>
                <a:lnTo>
                  <a:pt x="110" y="1401"/>
                </a:lnTo>
                <a:lnTo>
                  <a:pt x="121" y="1423"/>
                </a:lnTo>
                <a:lnTo>
                  <a:pt x="132" y="1445"/>
                </a:lnTo>
                <a:lnTo>
                  <a:pt x="154" y="1467"/>
                </a:lnTo>
                <a:lnTo>
                  <a:pt x="165" y="1489"/>
                </a:lnTo>
                <a:lnTo>
                  <a:pt x="187" y="1511"/>
                </a:lnTo>
                <a:lnTo>
                  <a:pt x="198" y="1544"/>
                </a:lnTo>
                <a:lnTo>
                  <a:pt x="220" y="1566"/>
                </a:lnTo>
                <a:lnTo>
                  <a:pt x="231" y="1588"/>
                </a:lnTo>
                <a:lnTo>
                  <a:pt x="253" y="1599"/>
                </a:lnTo>
                <a:lnTo>
                  <a:pt x="275" y="1621"/>
                </a:lnTo>
                <a:lnTo>
                  <a:pt x="297" y="1643"/>
                </a:lnTo>
                <a:lnTo>
                  <a:pt x="319" y="1665"/>
                </a:lnTo>
                <a:lnTo>
                  <a:pt x="341" y="1687"/>
                </a:lnTo>
                <a:lnTo>
                  <a:pt x="352" y="1698"/>
                </a:lnTo>
                <a:lnTo>
                  <a:pt x="374" y="1720"/>
                </a:lnTo>
                <a:lnTo>
                  <a:pt x="407" y="1731"/>
                </a:lnTo>
                <a:lnTo>
                  <a:pt x="429" y="1753"/>
                </a:lnTo>
                <a:lnTo>
                  <a:pt x="451" y="1764"/>
                </a:lnTo>
                <a:lnTo>
                  <a:pt x="474" y="1786"/>
                </a:lnTo>
                <a:lnTo>
                  <a:pt x="496" y="1797"/>
                </a:lnTo>
                <a:lnTo>
                  <a:pt x="529" y="1808"/>
                </a:lnTo>
                <a:lnTo>
                  <a:pt x="551" y="1820"/>
                </a:lnTo>
                <a:lnTo>
                  <a:pt x="573" y="1831"/>
                </a:lnTo>
                <a:lnTo>
                  <a:pt x="595" y="1842"/>
                </a:lnTo>
                <a:lnTo>
                  <a:pt x="628" y="1853"/>
                </a:lnTo>
                <a:lnTo>
                  <a:pt x="650" y="1864"/>
                </a:lnTo>
                <a:lnTo>
                  <a:pt x="683" y="1875"/>
                </a:lnTo>
                <a:lnTo>
                  <a:pt x="705" y="1886"/>
                </a:lnTo>
                <a:lnTo>
                  <a:pt x="738" y="1886"/>
                </a:lnTo>
                <a:lnTo>
                  <a:pt x="760" y="1897"/>
                </a:lnTo>
                <a:lnTo>
                  <a:pt x="793" y="1897"/>
                </a:lnTo>
                <a:lnTo>
                  <a:pt x="815" y="1908"/>
                </a:lnTo>
                <a:lnTo>
                  <a:pt x="848" y="1908"/>
                </a:lnTo>
                <a:lnTo>
                  <a:pt x="870" y="1908"/>
                </a:lnTo>
                <a:lnTo>
                  <a:pt x="903" y="1908"/>
                </a:lnTo>
                <a:lnTo>
                  <a:pt x="926" y="1919"/>
                </a:lnTo>
                <a:lnTo>
                  <a:pt x="960" y="1919"/>
                </a:lnTo>
                <a:lnTo>
                  <a:pt x="993" y="1919"/>
                </a:lnTo>
                <a:lnTo>
                  <a:pt x="1015" y="1908"/>
                </a:lnTo>
                <a:lnTo>
                  <a:pt x="1048" y="1908"/>
                </a:lnTo>
                <a:lnTo>
                  <a:pt x="1070" y="1908"/>
                </a:lnTo>
                <a:lnTo>
                  <a:pt x="1103" y="1908"/>
                </a:lnTo>
                <a:lnTo>
                  <a:pt x="1125" y="1897"/>
                </a:lnTo>
                <a:lnTo>
                  <a:pt x="1158" y="1897"/>
                </a:lnTo>
                <a:lnTo>
                  <a:pt x="1180" y="1886"/>
                </a:lnTo>
                <a:lnTo>
                  <a:pt x="1213" y="1886"/>
                </a:lnTo>
                <a:lnTo>
                  <a:pt x="1235" y="1875"/>
                </a:lnTo>
                <a:lnTo>
                  <a:pt x="1268" y="1864"/>
                </a:lnTo>
                <a:lnTo>
                  <a:pt x="1290" y="1853"/>
                </a:lnTo>
                <a:lnTo>
                  <a:pt x="1323" y="1842"/>
                </a:lnTo>
                <a:lnTo>
                  <a:pt x="1345" y="1831"/>
                </a:lnTo>
                <a:lnTo>
                  <a:pt x="1368" y="1820"/>
                </a:lnTo>
                <a:lnTo>
                  <a:pt x="1401" y="1808"/>
                </a:lnTo>
                <a:lnTo>
                  <a:pt x="1423" y="1797"/>
                </a:lnTo>
                <a:lnTo>
                  <a:pt x="1445" y="1786"/>
                </a:lnTo>
                <a:lnTo>
                  <a:pt x="1467" y="1764"/>
                </a:lnTo>
                <a:lnTo>
                  <a:pt x="1489" y="1753"/>
                </a:lnTo>
                <a:lnTo>
                  <a:pt x="1511" y="1731"/>
                </a:lnTo>
                <a:lnTo>
                  <a:pt x="1544" y="1720"/>
                </a:lnTo>
                <a:lnTo>
                  <a:pt x="1566" y="1698"/>
                </a:lnTo>
                <a:lnTo>
                  <a:pt x="1588" y="1687"/>
                </a:lnTo>
                <a:lnTo>
                  <a:pt x="1599" y="1665"/>
                </a:lnTo>
                <a:lnTo>
                  <a:pt x="1621" y="1643"/>
                </a:lnTo>
                <a:lnTo>
                  <a:pt x="1643" y="1621"/>
                </a:lnTo>
                <a:lnTo>
                  <a:pt x="1665" y="1599"/>
                </a:lnTo>
                <a:lnTo>
                  <a:pt x="1687" y="1588"/>
                </a:lnTo>
                <a:lnTo>
                  <a:pt x="1698" y="1566"/>
                </a:lnTo>
                <a:lnTo>
                  <a:pt x="1720" y="1544"/>
                </a:lnTo>
                <a:lnTo>
                  <a:pt x="1731" y="1511"/>
                </a:lnTo>
                <a:lnTo>
                  <a:pt x="1753" y="1489"/>
                </a:lnTo>
                <a:lnTo>
                  <a:pt x="1764" y="1467"/>
                </a:lnTo>
                <a:lnTo>
                  <a:pt x="1786" y="1445"/>
                </a:lnTo>
                <a:lnTo>
                  <a:pt x="1797" y="1423"/>
                </a:lnTo>
                <a:lnTo>
                  <a:pt x="1808" y="1401"/>
                </a:lnTo>
                <a:lnTo>
                  <a:pt x="1820" y="1368"/>
                </a:lnTo>
                <a:lnTo>
                  <a:pt x="1831" y="1345"/>
                </a:lnTo>
                <a:lnTo>
                  <a:pt x="1842" y="1312"/>
                </a:lnTo>
                <a:lnTo>
                  <a:pt x="1853" y="1290"/>
                </a:lnTo>
                <a:lnTo>
                  <a:pt x="1864" y="1268"/>
                </a:lnTo>
                <a:lnTo>
                  <a:pt x="1875" y="1235"/>
                </a:lnTo>
                <a:lnTo>
                  <a:pt x="1886" y="1213"/>
                </a:lnTo>
                <a:lnTo>
                  <a:pt x="1886" y="1180"/>
                </a:lnTo>
                <a:lnTo>
                  <a:pt x="1897" y="1158"/>
                </a:lnTo>
                <a:lnTo>
                  <a:pt x="1897" y="1125"/>
                </a:lnTo>
                <a:lnTo>
                  <a:pt x="1908" y="1103"/>
                </a:lnTo>
                <a:lnTo>
                  <a:pt x="1908" y="1070"/>
                </a:lnTo>
                <a:lnTo>
                  <a:pt x="1908" y="1048"/>
                </a:lnTo>
                <a:lnTo>
                  <a:pt x="1908" y="1015"/>
                </a:lnTo>
                <a:lnTo>
                  <a:pt x="1919" y="982"/>
                </a:lnTo>
                <a:lnTo>
                  <a:pt x="1919" y="96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2208240" y="2600280"/>
            <a:ext cx="146520" cy="177840"/>
            <a:chOff x="2208240" y="2600280"/>
            <a:chExt cx="146520" cy="177840"/>
          </a:xfrm>
        </p:grpSpPr>
        <p:sp>
          <p:nvSpPr>
            <p:cNvPr id="1092" name=""/>
            <p:cNvSpPr/>
            <p:nvPr/>
          </p:nvSpPr>
          <p:spPr>
            <a:xfrm flipV="1">
              <a:off x="2228760" y="2600280"/>
              <a:ext cx="101520" cy="1778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208240" y="2612880"/>
              <a:ext cx="146520" cy="149760"/>
            </a:xfrm>
            <a:custGeom>
              <a:avLst/>
              <a:gdLst/>
              <a:ahLst/>
              <a:rect l="0" t="0" r="r" b="b"/>
              <a:pathLst>
                <a:path fill="none" w="407" h="416">
                  <a:moveTo>
                    <a:pt x="407" y="208"/>
                  </a:moveTo>
                  <a:lnTo>
                    <a:pt x="407" y="199"/>
                  </a:lnTo>
                  <a:lnTo>
                    <a:pt x="407" y="183"/>
                  </a:lnTo>
                  <a:lnTo>
                    <a:pt x="407" y="175"/>
                  </a:lnTo>
                  <a:lnTo>
                    <a:pt x="407" y="166"/>
                  </a:lnTo>
                  <a:lnTo>
                    <a:pt x="399" y="150"/>
                  </a:lnTo>
                  <a:lnTo>
                    <a:pt x="399" y="141"/>
                  </a:lnTo>
                  <a:lnTo>
                    <a:pt x="391" y="133"/>
                  </a:lnTo>
                  <a:lnTo>
                    <a:pt x="391" y="125"/>
                  </a:lnTo>
                  <a:lnTo>
                    <a:pt x="382" y="108"/>
                  </a:lnTo>
                  <a:lnTo>
                    <a:pt x="382" y="99"/>
                  </a:lnTo>
                  <a:lnTo>
                    <a:pt x="374" y="91"/>
                  </a:lnTo>
                  <a:lnTo>
                    <a:pt x="366" y="82"/>
                  </a:lnTo>
                  <a:lnTo>
                    <a:pt x="358" y="74"/>
                  </a:lnTo>
                  <a:lnTo>
                    <a:pt x="349" y="66"/>
                  </a:lnTo>
                  <a:lnTo>
                    <a:pt x="341" y="58"/>
                  </a:lnTo>
                  <a:lnTo>
                    <a:pt x="333" y="49"/>
                  </a:lnTo>
                  <a:lnTo>
                    <a:pt x="324" y="41"/>
                  </a:lnTo>
                  <a:lnTo>
                    <a:pt x="316" y="41"/>
                  </a:lnTo>
                  <a:lnTo>
                    <a:pt x="308" y="33"/>
                  </a:lnTo>
                  <a:lnTo>
                    <a:pt x="299" y="24"/>
                  </a:lnTo>
                  <a:lnTo>
                    <a:pt x="290" y="24"/>
                  </a:lnTo>
                  <a:lnTo>
                    <a:pt x="282" y="16"/>
                  </a:lnTo>
                  <a:lnTo>
                    <a:pt x="265" y="16"/>
                  </a:lnTo>
                  <a:lnTo>
                    <a:pt x="257" y="8"/>
                  </a:lnTo>
                  <a:lnTo>
                    <a:pt x="249" y="8"/>
                  </a:lnTo>
                  <a:lnTo>
                    <a:pt x="232" y="8"/>
                  </a:lnTo>
                  <a:lnTo>
                    <a:pt x="224" y="0"/>
                  </a:lnTo>
                  <a:lnTo>
                    <a:pt x="216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83" y="0"/>
                  </a:lnTo>
                  <a:lnTo>
                    <a:pt x="166" y="8"/>
                  </a:lnTo>
                  <a:lnTo>
                    <a:pt x="158" y="8"/>
                  </a:lnTo>
                  <a:lnTo>
                    <a:pt x="150" y="8"/>
                  </a:lnTo>
                  <a:lnTo>
                    <a:pt x="141" y="16"/>
                  </a:lnTo>
                  <a:lnTo>
                    <a:pt x="125" y="16"/>
                  </a:lnTo>
                  <a:lnTo>
                    <a:pt x="116" y="24"/>
                  </a:lnTo>
                  <a:lnTo>
                    <a:pt x="108" y="24"/>
                  </a:lnTo>
                  <a:lnTo>
                    <a:pt x="99" y="33"/>
                  </a:lnTo>
                  <a:lnTo>
                    <a:pt x="91" y="41"/>
                  </a:lnTo>
                  <a:lnTo>
                    <a:pt x="74" y="41"/>
                  </a:lnTo>
                  <a:lnTo>
                    <a:pt x="66" y="49"/>
                  </a:lnTo>
                  <a:lnTo>
                    <a:pt x="57" y="58"/>
                  </a:lnTo>
                  <a:lnTo>
                    <a:pt x="49" y="66"/>
                  </a:lnTo>
                  <a:lnTo>
                    <a:pt x="49" y="74"/>
                  </a:lnTo>
                  <a:lnTo>
                    <a:pt x="41" y="82"/>
                  </a:lnTo>
                  <a:lnTo>
                    <a:pt x="33" y="91"/>
                  </a:lnTo>
                  <a:lnTo>
                    <a:pt x="24" y="99"/>
                  </a:lnTo>
                  <a:lnTo>
                    <a:pt x="24" y="108"/>
                  </a:lnTo>
                  <a:lnTo>
                    <a:pt x="16" y="125"/>
                  </a:lnTo>
                  <a:lnTo>
                    <a:pt x="8" y="133"/>
                  </a:lnTo>
                  <a:lnTo>
                    <a:pt x="8" y="141"/>
                  </a:lnTo>
                  <a:lnTo>
                    <a:pt x="8" y="150"/>
                  </a:lnTo>
                  <a:lnTo>
                    <a:pt x="0" y="166"/>
                  </a:lnTo>
                  <a:lnTo>
                    <a:pt x="0" y="175"/>
                  </a:lnTo>
                  <a:lnTo>
                    <a:pt x="0" y="183"/>
                  </a:lnTo>
                  <a:lnTo>
                    <a:pt x="0" y="199"/>
                  </a:lnTo>
                  <a:lnTo>
                    <a:pt x="0" y="208"/>
                  </a:lnTo>
                  <a:lnTo>
                    <a:pt x="0" y="216"/>
                  </a:lnTo>
                  <a:lnTo>
                    <a:pt x="0" y="233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8" y="266"/>
                  </a:lnTo>
                  <a:lnTo>
                    <a:pt x="8" y="274"/>
                  </a:lnTo>
                  <a:lnTo>
                    <a:pt x="8" y="282"/>
                  </a:lnTo>
                  <a:lnTo>
                    <a:pt x="16" y="291"/>
                  </a:lnTo>
                  <a:lnTo>
                    <a:pt x="24" y="307"/>
                  </a:lnTo>
                  <a:lnTo>
                    <a:pt x="24" y="317"/>
                  </a:lnTo>
                  <a:lnTo>
                    <a:pt x="33" y="325"/>
                  </a:lnTo>
                  <a:lnTo>
                    <a:pt x="41" y="333"/>
                  </a:lnTo>
                  <a:lnTo>
                    <a:pt x="49" y="341"/>
                  </a:lnTo>
                  <a:lnTo>
                    <a:pt x="49" y="350"/>
                  </a:lnTo>
                  <a:lnTo>
                    <a:pt x="57" y="358"/>
                  </a:lnTo>
                  <a:lnTo>
                    <a:pt x="66" y="366"/>
                  </a:lnTo>
                  <a:lnTo>
                    <a:pt x="74" y="375"/>
                  </a:lnTo>
                  <a:lnTo>
                    <a:pt x="91" y="383"/>
                  </a:lnTo>
                  <a:lnTo>
                    <a:pt x="99" y="383"/>
                  </a:lnTo>
                  <a:lnTo>
                    <a:pt x="108" y="391"/>
                  </a:lnTo>
                  <a:lnTo>
                    <a:pt x="116" y="399"/>
                  </a:lnTo>
                  <a:lnTo>
                    <a:pt x="125" y="399"/>
                  </a:lnTo>
                  <a:lnTo>
                    <a:pt x="141" y="408"/>
                  </a:lnTo>
                  <a:lnTo>
                    <a:pt x="150" y="408"/>
                  </a:lnTo>
                  <a:lnTo>
                    <a:pt x="158" y="408"/>
                  </a:lnTo>
                  <a:lnTo>
                    <a:pt x="166" y="416"/>
                  </a:lnTo>
                  <a:lnTo>
                    <a:pt x="183" y="416"/>
                  </a:lnTo>
                  <a:lnTo>
                    <a:pt x="191" y="416"/>
                  </a:lnTo>
                  <a:lnTo>
                    <a:pt x="199" y="416"/>
                  </a:lnTo>
                  <a:lnTo>
                    <a:pt x="216" y="416"/>
                  </a:lnTo>
                  <a:lnTo>
                    <a:pt x="224" y="416"/>
                  </a:lnTo>
                  <a:lnTo>
                    <a:pt x="232" y="416"/>
                  </a:lnTo>
                  <a:lnTo>
                    <a:pt x="249" y="408"/>
                  </a:lnTo>
                  <a:lnTo>
                    <a:pt x="257" y="408"/>
                  </a:lnTo>
                  <a:lnTo>
                    <a:pt x="265" y="408"/>
                  </a:lnTo>
                  <a:lnTo>
                    <a:pt x="282" y="399"/>
                  </a:lnTo>
                  <a:lnTo>
                    <a:pt x="290" y="399"/>
                  </a:lnTo>
                  <a:lnTo>
                    <a:pt x="299" y="391"/>
                  </a:lnTo>
                  <a:lnTo>
                    <a:pt x="308" y="383"/>
                  </a:lnTo>
                  <a:lnTo>
                    <a:pt x="316" y="383"/>
                  </a:lnTo>
                  <a:lnTo>
                    <a:pt x="324" y="375"/>
                  </a:lnTo>
                  <a:lnTo>
                    <a:pt x="333" y="366"/>
                  </a:lnTo>
                  <a:lnTo>
                    <a:pt x="341" y="358"/>
                  </a:lnTo>
                  <a:lnTo>
                    <a:pt x="349" y="350"/>
                  </a:lnTo>
                  <a:lnTo>
                    <a:pt x="358" y="341"/>
                  </a:lnTo>
                  <a:lnTo>
                    <a:pt x="366" y="333"/>
                  </a:lnTo>
                  <a:lnTo>
                    <a:pt x="374" y="325"/>
                  </a:lnTo>
                  <a:lnTo>
                    <a:pt x="382" y="317"/>
                  </a:lnTo>
                  <a:lnTo>
                    <a:pt x="382" y="307"/>
                  </a:lnTo>
                  <a:lnTo>
                    <a:pt x="391" y="291"/>
                  </a:lnTo>
                  <a:lnTo>
                    <a:pt x="391" y="282"/>
                  </a:lnTo>
                  <a:lnTo>
                    <a:pt x="399" y="274"/>
                  </a:lnTo>
                  <a:lnTo>
                    <a:pt x="399" y="266"/>
                  </a:lnTo>
                  <a:lnTo>
                    <a:pt x="407" y="249"/>
                  </a:lnTo>
                  <a:lnTo>
                    <a:pt x="407" y="241"/>
                  </a:lnTo>
                  <a:lnTo>
                    <a:pt x="407" y="233"/>
                  </a:lnTo>
                  <a:lnTo>
                    <a:pt x="407" y="216"/>
                  </a:lnTo>
                  <a:lnTo>
                    <a:pt x="407" y="208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"/>
          <p:cNvSpPr txBox="1"/>
          <p:nvPr/>
        </p:nvSpPr>
        <p:spPr>
          <a:xfrm>
            <a:off x="2344680" y="251460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2071800" y="2822400"/>
            <a:ext cx="698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 txBox="1"/>
          <p:nvPr/>
        </p:nvSpPr>
        <p:spPr>
          <a:xfrm>
            <a:off x="2190600" y="281304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Arial"/>
                <a:ea typeface="Arial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3906720" y="4116240"/>
            <a:ext cx="109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4257720" y="3703680"/>
            <a:ext cx="830160" cy="8301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4448160" y="3652920"/>
            <a:ext cx="82440" cy="9270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768920" y="3633840"/>
            <a:ext cx="88920" cy="9399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 flipH="1">
            <a:off x="4292640" y="3732120"/>
            <a:ext cx="244440" cy="244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 flipH="1">
            <a:off x="4848120" y="4294080"/>
            <a:ext cx="193680" cy="193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4616280" y="3618000"/>
            <a:ext cx="79200" cy="987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 flipH="1">
            <a:off x="4264200" y="3706920"/>
            <a:ext cx="450720" cy="450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 flipH="1">
            <a:off x="4302000" y="3751200"/>
            <a:ext cx="520920" cy="520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 flipH="1">
            <a:off x="4349880" y="3795840"/>
            <a:ext cx="581040" cy="58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H="1">
            <a:off x="4432320" y="3878280"/>
            <a:ext cx="568440" cy="5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 flipH="1">
            <a:off x="4524480" y="3979800"/>
            <a:ext cx="527040" cy="52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 flipH="1">
            <a:off x="4654440" y="4100400"/>
            <a:ext cx="428760" cy="42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V="1">
            <a:off x="4670280" y="4537080"/>
            <a:ext cx="0" cy="8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4105440" y="4116240"/>
            <a:ext cx="1196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4670280" y="3529080"/>
            <a:ext cx="0" cy="93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3592440" y="1073160"/>
            <a:ext cx="40845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target areas of the des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pe are identified on the draw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outlining the boundary of th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th phantom lines, and crossh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i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"/>
          <p:cNvSpPr txBox="1"/>
          <p:nvPr/>
        </p:nvSpPr>
        <p:spPr>
          <a:xfrm>
            <a:off x="1652760" y="378000"/>
            <a:ext cx="6062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 Area Desig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3713040" y="3125880"/>
            <a:ext cx="4067640" cy="1686240"/>
          </a:xfrm>
          <a:custGeom>
            <a:avLst/>
            <a:gdLst/>
            <a:ahLst/>
            <a:rect l="0" t="0" r="r" b="b"/>
            <a:pathLst>
              <a:path fill="none" w="11299" h="4684">
                <a:moveTo>
                  <a:pt x="0" y="0"/>
                </a:moveTo>
                <a:lnTo>
                  <a:pt x="0" y="4684"/>
                </a:lnTo>
                <a:lnTo>
                  <a:pt x="11299" y="4684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H="1" flipV="1">
            <a:off x="2728800" y="2990880"/>
            <a:ext cx="1521000" cy="888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H="1">
            <a:off x="2728800" y="4118040"/>
            <a:ext cx="10782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984480" y="5192640"/>
            <a:ext cx="432000" cy="298800"/>
          </a:xfrm>
          <a:custGeom>
            <a:avLst/>
            <a:gdLst/>
            <a:ahLst/>
            <a:rect l="0" t="0" r="r" b="b"/>
            <a:pathLst>
              <a:path fill="none" w="1200" h="830">
                <a:moveTo>
                  <a:pt x="0" y="830"/>
                </a:moveTo>
                <a:lnTo>
                  <a:pt x="0" y="0"/>
                </a:lnTo>
                <a:lnTo>
                  <a:pt x="1200" y="0"/>
                </a:lnTo>
                <a:lnTo>
                  <a:pt x="1200" y="830"/>
                </a:lnTo>
                <a:lnTo>
                  <a:pt x="0" y="83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2728800" y="4811760"/>
            <a:ext cx="8654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2847960" y="5065560"/>
            <a:ext cx="0" cy="2509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3713040" y="4930920"/>
            <a:ext cx="0" cy="5158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3459240" y="5284800"/>
            <a:ext cx="254520" cy="82800"/>
          </a:xfrm>
          <a:custGeom>
            <a:avLst/>
            <a:gdLst/>
            <a:ahLst/>
            <a:rect l="0" t="0" r="r" b="b"/>
            <a:pathLst>
              <a:path w="707" h="230">
                <a:moveTo>
                  <a:pt x="0" y="0"/>
                </a:moveTo>
                <a:lnTo>
                  <a:pt x="0" y="230"/>
                </a:lnTo>
                <a:lnTo>
                  <a:pt x="707" y="121"/>
                </a:lnTo>
                <a:lnTo>
                  <a:pt x="0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3208320" y="5327640"/>
            <a:ext cx="2509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803680" y="4811760"/>
            <a:ext cx="84600" cy="254520"/>
          </a:xfrm>
          <a:custGeom>
            <a:avLst/>
            <a:gdLst/>
            <a:ahLst/>
            <a:rect l="0" t="0" r="r" b="b"/>
            <a:pathLst>
              <a:path w="235" h="707">
                <a:moveTo>
                  <a:pt x="0" y="707"/>
                </a:moveTo>
                <a:lnTo>
                  <a:pt x="235" y="707"/>
                </a:lnTo>
                <a:lnTo>
                  <a:pt x="123" y="0"/>
                </a:lnTo>
                <a:lnTo>
                  <a:pt x="0" y="707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2576520" y="4307040"/>
            <a:ext cx="411480" cy="319320"/>
          </a:xfrm>
          <a:custGeom>
            <a:avLst/>
            <a:gdLst/>
            <a:ahLst/>
            <a:rect l="0" t="0" r="r" b="b"/>
            <a:pathLst>
              <a:path fill="none" w="1143" h="887">
                <a:moveTo>
                  <a:pt x="0" y="887"/>
                </a:moveTo>
                <a:lnTo>
                  <a:pt x="0" y="0"/>
                </a:lnTo>
                <a:lnTo>
                  <a:pt x="1143" y="0"/>
                </a:lnTo>
                <a:lnTo>
                  <a:pt x="1143" y="887"/>
                </a:lnTo>
                <a:lnTo>
                  <a:pt x="0" y="887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803680" y="3863880"/>
            <a:ext cx="84600" cy="254520"/>
          </a:xfrm>
          <a:custGeom>
            <a:avLst/>
            <a:gdLst/>
            <a:ahLst/>
            <a:rect l="0" t="0" r="r" b="b"/>
            <a:pathLst>
              <a:path w="235" h="707">
                <a:moveTo>
                  <a:pt x="0" y="0"/>
                </a:moveTo>
                <a:lnTo>
                  <a:pt x="235" y="0"/>
                </a:lnTo>
                <a:lnTo>
                  <a:pt x="123" y="707"/>
                </a:lnTo>
                <a:lnTo>
                  <a:pt x="0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 flipV="1">
            <a:off x="2847960" y="3613320"/>
            <a:ext cx="0" cy="2505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4673520" y="4692600"/>
            <a:ext cx="0" cy="7542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673520" y="5284800"/>
            <a:ext cx="249480" cy="82800"/>
          </a:xfrm>
          <a:custGeom>
            <a:avLst/>
            <a:gdLst/>
            <a:ahLst/>
            <a:rect l="0" t="0" r="r" b="b"/>
            <a:pathLst>
              <a:path w="693" h="230">
                <a:moveTo>
                  <a:pt x="693" y="0"/>
                </a:moveTo>
                <a:lnTo>
                  <a:pt x="693" y="230"/>
                </a:lnTo>
                <a:lnTo>
                  <a:pt x="0" y="121"/>
                </a:lnTo>
                <a:lnTo>
                  <a:pt x="693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4923000" y="5327640"/>
            <a:ext cx="2538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3713040" y="3125880"/>
            <a:ext cx="23259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6033960" y="3125880"/>
            <a:ext cx="1748160" cy="1686240"/>
          </a:xfrm>
          <a:custGeom>
            <a:avLst/>
            <a:gdLst/>
            <a:ahLst/>
            <a:rect l="0" t="0" r="r" b="b"/>
            <a:pathLst>
              <a:path fill="none" w="4856" h="4684">
                <a:moveTo>
                  <a:pt x="0" y="0"/>
                </a:moveTo>
                <a:lnTo>
                  <a:pt x="57" y="79"/>
                </a:lnTo>
                <a:lnTo>
                  <a:pt x="180" y="171"/>
                </a:lnTo>
                <a:lnTo>
                  <a:pt x="335" y="202"/>
                </a:lnTo>
                <a:lnTo>
                  <a:pt x="489" y="202"/>
                </a:lnTo>
                <a:lnTo>
                  <a:pt x="582" y="233"/>
                </a:lnTo>
                <a:lnTo>
                  <a:pt x="736" y="326"/>
                </a:lnTo>
                <a:lnTo>
                  <a:pt x="798" y="418"/>
                </a:lnTo>
                <a:lnTo>
                  <a:pt x="952" y="573"/>
                </a:lnTo>
                <a:lnTo>
                  <a:pt x="978" y="665"/>
                </a:lnTo>
                <a:lnTo>
                  <a:pt x="1040" y="846"/>
                </a:lnTo>
                <a:lnTo>
                  <a:pt x="1071" y="970"/>
                </a:lnTo>
                <a:lnTo>
                  <a:pt x="1287" y="1247"/>
                </a:lnTo>
                <a:lnTo>
                  <a:pt x="1380" y="1402"/>
                </a:lnTo>
                <a:lnTo>
                  <a:pt x="1441" y="1587"/>
                </a:lnTo>
                <a:lnTo>
                  <a:pt x="1503" y="1680"/>
                </a:lnTo>
                <a:lnTo>
                  <a:pt x="1688" y="1741"/>
                </a:lnTo>
                <a:lnTo>
                  <a:pt x="1781" y="1772"/>
                </a:lnTo>
                <a:lnTo>
                  <a:pt x="1874" y="1803"/>
                </a:lnTo>
                <a:lnTo>
                  <a:pt x="2182" y="1834"/>
                </a:lnTo>
                <a:lnTo>
                  <a:pt x="2332" y="1927"/>
                </a:lnTo>
                <a:lnTo>
                  <a:pt x="2549" y="2019"/>
                </a:lnTo>
                <a:lnTo>
                  <a:pt x="2611" y="2138"/>
                </a:lnTo>
                <a:lnTo>
                  <a:pt x="2765" y="2231"/>
                </a:lnTo>
                <a:lnTo>
                  <a:pt x="2889" y="2355"/>
                </a:lnTo>
                <a:lnTo>
                  <a:pt x="2981" y="2448"/>
                </a:lnTo>
                <a:lnTo>
                  <a:pt x="3105" y="2541"/>
                </a:lnTo>
                <a:lnTo>
                  <a:pt x="3228" y="2602"/>
                </a:lnTo>
                <a:lnTo>
                  <a:pt x="3383" y="2757"/>
                </a:lnTo>
                <a:lnTo>
                  <a:pt x="3475" y="2787"/>
                </a:lnTo>
                <a:lnTo>
                  <a:pt x="3568" y="2880"/>
                </a:lnTo>
                <a:lnTo>
                  <a:pt x="3687" y="2973"/>
                </a:lnTo>
                <a:lnTo>
                  <a:pt x="3903" y="3127"/>
                </a:lnTo>
                <a:lnTo>
                  <a:pt x="3996" y="3281"/>
                </a:lnTo>
                <a:lnTo>
                  <a:pt x="4057" y="3374"/>
                </a:lnTo>
                <a:lnTo>
                  <a:pt x="4150" y="3586"/>
                </a:lnTo>
                <a:lnTo>
                  <a:pt x="4181" y="3740"/>
                </a:lnTo>
                <a:lnTo>
                  <a:pt x="4243" y="3833"/>
                </a:lnTo>
                <a:lnTo>
                  <a:pt x="4274" y="3925"/>
                </a:lnTo>
                <a:lnTo>
                  <a:pt x="4335" y="4049"/>
                </a:lnTo>
                <a:lnTo>
                  <a:pt x="4366" y="4141"/>
                </a:lnTo>
                <a:lnTo>
                  <a:pt x="4428" y="4234"/>
                </a:lnTo>
                <a:lnTo>
                  <a:pt x="4459" y="4326"/>
                </a:lnTo>
                <a:lnTo>
                  <a:pt x="4551" y="4388"/>
                </a:lnTo>
                <a:lnTo>
                  <a:pt x="4675" y="4481"/>
                </a:lnTo>
                <a:lnTo>
                  <a:pt x="4767" y="4543"/>
                </a:lnTo>
                <a:lnTo>
                  <a:pt x="4856" y="468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 txBox="1"/>
          <p:nvPr/>
        </p:nvSpPr>
        <p:spPr>
          <a:xfrm>
            <a:off x="2595600" y="429732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 txBox="1"/>
          <p:nvPr/>
        </p:nvSpPr>
        <p:spPr>
          <a:xfrm>
            <a:off x="3979800" y="5165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2076480" y="2475000"/>
            <a:ext cx="690840" cy="690840"/>
          </a:xfrm>
          <a:custGeom>
            <a:avLst/>
            <a:gdLst/>
            <a:ahLst/>
            <a:rect l="0" t="0" r="r" b="b"/>
            <a:pathLst>
              <a:path fill="none" w="1919" h="1919">
                <a:moveTo>
                  <a:pt x="1919" y="960"/>
                </a:moveTo>
                <a:lnTo>
                  <a:pt x="1919" y="926"/>
                </a:lnTo>
                <a:lnTo>
                  <a:pt x="1908" y="903"/>
                </a:lnTo>
                <a:lnTo>
                  <a:pt x="1908" y="870"/>
                </a:lnTo>
                <a:lnTo>
                  <a:pt x="1908" y="848"/>
                </a:lnTo>
                <a:lnTo>
                  <a:pt x="1908" y="815"/>
                </a:lnTo>
                <a:lnTo>
                  <a:pt x="1897" y="793"/>
                </a:lnTo>
                <a:lnTo>
                  <a:pt x="1897" y="760"/>
                </a:lnTo>
                <a:lnTo>
                  <a:pt x="1886" y="727"/>
                </a:lnTo>
                <a:lnTo>
                  <a:pt x="1886" y="705"/>
                </a:lnTo>
                <a:lnTo>
                  <a:pt x="1875" y="683"/>
                </a:lnTo>
                <a:lnTo>
                  <a:pt x="1864" y="650"/>
                </a:lnTo>
                <a:lnTo>
                  <a:pt x="1853" y="628"/>
                </a:lnTo>
                <a:lnTo>
                  <a:pt x="1842" y="595"/>
                </a:lnTo>
                <a:lnTo>
                  <a:pt x="1831" y="573"/>
                </a:lnTo>
                <a:lnTo>
                  <a:pt x="1820" y="551"/>
                </a:lnTo>
                <a:lnTo>
                  <a:pt x="1808" y="518"/>
                </a:lnTo>
                <a:lnTo>
                  <a:pt x="1797" y="496"/>
                </a:lnTo>
                <a:lnTo>
                  <a:pt x="1786" y="474"/>
                </a:lnTo>
                <a:lnTo>
                  <a:pt x="1764" y="451"/>
                </a:lnTo>
                <a:lnTo>
                  <a:pt x="1753" y="418"/>
                </a:lnTo>
                <a:lnTo>
                  <a:pt x="1731" y="396"/>
                </a:lnTo>
                <a:lnTo>
                  <a:pt x="1720" y="374"/>
                </a:lnTo>
                <a:lnTo>
                  <a:pt x="1698" y="352"/>
                </a:lnTo>
                <a:lnTo>
                  <a:pt x="1687" y="330"/>
                </a:lnTo>
                <a:lnTo>
                  <a:pt x="1665" y="308"/>
                </a:lnTo>
                <a:lnTo>
                  <a:pt x="1643" y="286"/>
                </a:lnTo>
                <a:lnTo>
                  <a:pt x="1621" y="275"/>
                </a:lnTo>
                <a:lnTo>
                  <a:pt x="1599" y="253"/>
                </a:lnTo>
                <a:lnTo>
                  <a:pt x="1588" y="231"/>
                </a:lnTo>
                <a:lnTo>
                  <a:pt x="1566" y="220"/>
                </a:lnTo>
                <a:lnTo>
                  <a:pt x="1544" y="198"/>
                </a:lnTo>
                <a:lnTo>
                  <a:pt x="1511" y="176"/>
                </a:lnTo>
                <a:lnTo>
                  <a:pt x="1489" y="165"/>
                </a:lnTo>
                <a:lnTo>
                  <a:pt x="1467" y="154"/>
                </a:lnTo>
                <a:lnTo>
                  <a:pt x="1445" y="132"/>
                </a:lnTo>
                <a:lnTo>
                  <a:pt x="1423" y="121"/>
                </a:lnTo>
                <a:lnTo>
                  <a:pt x="1401" y="110"/>
                </a:lnTo>
                <a:lnTo>
                  <a:pt x="1368" y="99"/>
                </a:lnTo>
                <a:lnTo>
                  <a:pt x="1345" y="88"/>
                </a:lnTo>
                <a:lnTo>
                  <a:pt x="1323" y="66"/>
                </a:lnTo>
                <a:lnTo>
                  <a:pt x="1290" y="66"/>
                </a:lnTo>
                <a:lnTo>
                  <a:pt x="1268" y="55"/>
                </a:lnTo>
                <a:lnTo>
                  <a:pt x="1235" y="44"/>
                </a:lnTo>
                <a:lnTo>
                  <a:pt x="1213" y="33"/>
                </a:lnTo>
                <a:lnTo>
                  <a:pt x="1180" y="33"/>
                </a:lnTo>
                <a:lnTo>
                  <a:pt x="1158" y="22"/>
                </a:lnTo>
                <a:lnTo>
                  <a:pt x="1125" y="22"/>
                </a:lnTo>
                <a:lnTo>
                  <a:pt x="1103" y="11"/>
                </a:lnTo>
                <a:lnTo>
                  <a:pt x="1070" y="11"/>
                </a:lnTo>
                <a:lnTo>
                  <a:pt x="1048" y="0"/>
                </a:lnTo>
                <a:lnTo>
                  <a:pt x="1015" y="0"/>
                </a:lnTo>
                <a:lnTo>
                  <a:pt x="993" y="0"/>
                </a:lnTo>
                <a:lnTo>
                  <a:pt x="960" y="0"/>
                </a:lnTo>
                <a:lnTo>
                  <a:pt x="926" y="0"/>
                </a:lnTo>
                <a:lnTo>
                  <a:pt x="903" y="0"/>
                </a:lnTo>
                <a:lnTo>
                  <a:pt x="870" y="0"/>
                </a:lnTo>
                <a:lnTo>
                  <a:pt x="848" y="11"/>
                </a:lnTo>
                <a:lnTo>
                  <a:pt x="815" y="11"/>
                </a:lnTo>
                <a:lnTo>
                  <a:pt x="793" y="22"/>
                </a:lnTo>
                <a:lnTo>
                  <a:pt x="760" y="22"/>
                </a:lnTo>
                <a:lnTo>
                  <a:pt x="738" y="33"/>
                </a:lnTo>
                <a:lnTo>
                  <a:pt x="705" y="33"/>
                </a:lnTo>
                <a:lnTo>
                  <a:pt x="683" y="44"/>
                </a:lnTo>
                <a:lnTo>
                  <a:pt x="650" y="55"/>
                </a:lnTo>
                <a:lnTo>
                  <a:pt x="628" y="66"/>
                </a:lnTo>
                <a:lnTo>
                  <a:pt x="595" y="66"/>
                </a:lnTo>
                <a:lnTo>
                  <a:pt x="573" y="88"/>
                </a:lnTo>
                <a:lnTo>
                  <a:pt x="551" y="99"/>
                </a:lnTo>
                <a:lnTo>
                  <a:pt x="529" y="110"/>
                </a:lnTo>
                <a:lnTo>
                  <a:pt x="496" y="121"/>
                </a:lnTo>
                <a:lnTo>
                  <a:pt x="474" y="132"/>
                </a:lnTo>
                <a:lnTo>
                  <a:pt x="451" y="154"/>
                </a:lnTo>
                <a:lnTo>
                  <a:pt x="429" y="165"/>
                </a:lnTo>
                <a:lnTo>
                  <a:pt x="407" y="176"/>
                </a:lnTo>
                <a:lnTo>
                  <a:pt x="374" y="198"/>
                </a:lnTo>
                <a:lnTo>
                  <a:pt x="352" y="220"/>
                </a:lnTo>
                <a:lnTo>
                  <a:pt x="341" y="231"/>
                </a:lnTo>
                <a:lnTo>
                  <a:pt x="319" y="253"/>
                </a:lnTo>
                <a:lnTo>
                  <a:pt x="297" y="275"/>
                </a:lnTo>
                <a:lnTo>
                  <a:pt x="275" y="286"/>
                </a:lnTo>
                <a:lnTo>
                  <a:pt x="253" y="308"/>
                </a:lnTo>
                <a:lnTo>
                  <a:pt x="231" y="330"/>
                </a:lnTo>
                <a:lnTo>
                  <a:pt x="220" y="352"/>
                </a:lnTo>
                <a:lnTo>
                  <a:pt x="198" y="374"/>
                </a:lnTo>
                <a:lnTo>
                  <a:pt x="187" y="396"/>
                </a:lnTo>
                <a:lnTo>
                  <a:pt x="165" y="418"/>
                </a:lnTo>
                <a:lnTo>
                  <a:pt x="154" y="451"/>
                </a:lnTo>
                <a:lnTo>
                  <a:pt x="132" y="474"/>
                </a:lnTo>
                <a:lnTo>
                  <a:pt x="121" y="496"/>
                </a:lnTo>
                <a:lnTo>
                  <a:pt x="110" y="518"/>
                </a:lnTo>
                <a:lnTo>
                  <a:pt x="99" y="551"/>
                </a:lnTo>
                <a:lnTo>
                  <a:pt x="88" y="573"/>
                </a:lnTo>
                <a:lnTo>
                  <a:pt x="77" y="595"/>
                </a:lnTo>
                <a:lnTo>
                  <a:pt x="66" y="628"/>
                </a:lnTo>
                <a:lnTo>
                  <a:pt x="55" y="650"/>
                </a:lnTo>
                <a:lnTo>
                  <a:pt x="44" y="683"/>
                </a:lnTo>
                <a:lnTo>
                  <a:pt x="44" y="705"/>
                </a:lnTo>
                <a:lnTo>
                  <a:pt x="33" y="727"/>
                </a:lnTo>
                <a:lnTo>
                  <a:pt x="22" y="760"/>
                </a:lnTo>
                <a:lnTo>
                  <a:pt x="22" y="793"/>
                </a:lnTo>
                <a:lnTo>
                  <a:pt x="11" y="815"/>
                </a:lnTo>
                <a:lnTo>
                  <a:pt x="11" y="848"/>
                </a:lnTo>
                <a:lnTo>
                  <a:pt x="11" y="870"/>
                </a:lnTo>
                <a:lnTo>
                  <a:pt x="11" y="903"/>
                </a:lnTo>
                <a:lnTo>
                  <a:pt x="0" y="926"/>
                </a:lnTo>
                <a:lnTo>
                  <a:pt x="0" y="960"/>
                </a:lnTo>
                <a:lnTo>
                  <a:pt x="0" y="982"/>
                </a:lnTo>
                <a:lnTo>
                  <a:pt x="11" y="1015"/>
                </a:lnTo>
                <a:lnTo>
                  <a:pt x="11" y="1048"/>
                </a:lnTo>
                <a:lnTo>
                  <a:pt x="11" y="1070"/>
                </a:lnTo>
                <a:lnTo>
                  <a:pt x="11" y="1103"/>
                </a:lnTo>
                <a:lnTo>
                  <a:pt x="22" y="1125"/>
                </a:lnTo>
                <a:lnTo>
                  <a:pt x="22" y="1158"/>
                </a:lnTo>
                <a:lnTo>
                  <a:pt x="33" y="1180"/>
                </a:lnTo>
                <a:lnTo>
                  <a:pt x="44" y="1213"/>
                </a:lnTo>
                <a:lnTo>
                  <a:pt x="44" y="1235"/>
                </a:lnTo>
                <a:lnTo>
                  <a:pt x="55" y="1268"/>
                </a:lnTo>
                <a:lnTo>
                  <a:pt x="66" y="1290"/>
                </a:lnTo>
                <a:lnTo>
                  <a:pt x="77" y="1312"/>
                </a:lnTo>
                <a:lnTo>
                  <a:pt x="88" y="1345"/>
                </a:lnTo>
                <a:lnTo>
                  <a:pt x="99" y="1368"/>
                </a:lnTo>
                <a:lnTo>
                  <a:pt x="110" y="1401"/>
                </a:lnTo>
                <a:lnTo>
                  <a:pt x="121" y="1423"/>
                </a:lnTo>
                <a:lnTo>
                  <a:pt x="132" y="1445"/>
                </a:lnTo>
                <a:lnTo>
                  <a:pt x="154" y="1467"/>
                </a:lnTo>
                <a:lnTo>
                  <a:pt x="165" y="1489"/>
                </a:lnTo>
                <a:lnTo>
                  <a:pt x="187" y="1511"/>
                </a:lnTo>
                <a:lnTo>
                  <a:pt x="198" y="1544"/>
                </a:lnTo>
                <a:lnTo>
                  <a:pt x="220" y="1566"/>
                </a:lnTo>
                <a:lnTo>
                  <a:pt x="231" y="1588"/>
                </a:lnTo>
                <a:lnTo>
                  <a:pt x="253" y="1599"/>
                </a:lnTo>
                <a:lnTo>
                  <a:pt x="275" y="1621"/>
                </a:lnTo>
                <a:lnTo>
                  <a:pt x="297" y="1643"/>
                </a:lnTo>
                <a:lnTo>
                  <a:pt x="319" y="1665"/>
                </a:lnTo>
                <a:lnTo>
                  <a:pt x="341" y="1687"/>
                </a:lnTo>
                <a:lnTo>
                  <a:pt x="352" y="1698"/>
                </a:lnTo>
                <a:lnTo>
                  <a:pt x="374" y="1720"/>
                </a:lnTo>
                <a:lnTo>
                  <a:pt x="407" y="1731"/>
                </a:lnTo>
                <a:lnTo>
                  <a:pt x="429" y="1753"/>
                </a:lnTo>
                <a:lnTo>
                  <a:pt x="451" y="1764"/>
                </a:lnTo>
                <a:lnTo>
                  <a:pt x="474" y="1786"/>
                </a:lnTo>
                <a:lnTo>
                  <a:pt x="496" y="1797"/>
                </a:lnTo>
                <a:lnTo>
                  <a:pt x="529" y="1808"/>
                </a:lnTo>
                <a:lnTo>
                  <a:pt x="551" y="1820"/>
                </a:lnTo>
                <a:lnTo>
                  <a:pt x="573" y="1831"/>
                </a:lnTo>
                <a:lnTo>
                  <a:pt x="595" y="1842"/>
                </a:lnTo>
                <a:lnTo>
                  <a:pt x="628" y="1853"/>
                </a:lnTo>
                <a:lnTo>
                  <a:pt x="650" y="1864"/>
                </a:lnTo>
                <a:lnTo>
                  <a:pt x="683" y="1875"/>
                </a:lnTo>
                <a:lnTo>
                  <a:pt x="705" y="1886"/>
                </a:lnTo>
                <a:lnTo>
                  <a:pt x="738" y="1886"/>
                </a:lnTo>
                <a:lnTo>
                  <a:pt x="760" y="1897"/>
                </a:lnTo>
                <a:lnTo>
                  <a:pt x="793" y="1897"/>
                </a:lnTo>
                <a:lnTo>
                  <a:pt x="815" y="1908"/>
                </a:lnTo>
                <a:lnTo>
                  <a:pt x="848" y="1908"/>
                </a:lnTo>
                <a:lnTo>
                  <a:pt x="870" y="1908"/>
                </a:lnTo>
                <a:lnTo>
                  <a:pt x="903" y="1908"/>
                </a:lnTo>
                <a:lnTo>
                  <a:pt x="926" y="1919"/>
                </a:lnTo>
                <a:lnTo>
                  <a:pt x="960" y="1919"/>
                </a:lnTo>
                <a:lnTo>
                  <a:pt x="993" y="1919"/>
                </a:lnTo>
                <a:lnTo>
                  <a:pt x="1015" y="1908"/>
                </a:lnTo>
                <a:lnTo>
                  <a:pt x="1048" y="1908"/>
                </a:lnTo>
                <a:lnTo>
                  <a:pt x="1070" y="1908"/>
                </a:lnTo>
                <a:lnTo>
                  <a:pt x="1103" y="1908"/>
                </a:lnTo>
                <a:lnTo>
                  <a:pt x="1125" y="1897"/>
                </a:lnTo>
                <a:lnTo>
                  <a:pt x="1158" y="1897"/>
                </a:lnTo>
                <a:lnTo>
                  <a:pt x="1180" y="1886"/>
                </a:lnTo>
                <a:lnTo>
                  <a:pt x="1213" y="1886"/>
                </a:lnTo>
                <a:lnTo>
                  <a:pt x="1235" y="1875"/>
                </a:lnTo>
                <a:lnTo>
                  <a:pt x="1268" y="1864"/>
                </a:lnTo>
                <a:lnTo>
                  <a:pt x="1290" y="1853"/>
                </a:lnTo>
                <a:lnTo>
                  <a:pt x="1323" y="1842"/>
                </a:lnTo>
                <a:lnTo>
                  <a:pt x="1345" y="1831"/>
                </a:lnTo>
                <a:lnTo>
                  <a:pt x="1368" y="1820"/>
                </a:lnTo>
                <a:lnTo>
                  <a:pt x="1401" y="1808"/>
                </a:lnTo>
                <a:lnTo>
                  <a:pt x="1423" y="1797"/>
                </a:lnTo>
                <a:lnTo>
                  <a:pt x="1445" y="1786"/>
                </a:lnTo>
                <a:lnTo>
                  <a:pt x="1467" y="1764"/>
                </a:lnTo>
                <a:lnTo>
                  <a:pt x="1489" y="1753"/>
                </a:lnTo>
                <a:lnTo>
                  <a:pt x="1511" y="1731"/>
                </a:lnTo>
                <a:lnTo>
                  <a:pt x="1544" y="1720"/>
                </a:lnTo>
                <a:lnTo>
                  <a:pt x="1566" y="1698"/>
                </a:lnTo>
                <a:lnTo>
                  <a:pt x="1588" y="1687"/>
                </a:lnTo>
                <a:lnTo>
                  <a:pt x="1599" y="1665"/>
                </a:lnTo>
                <a:lnTo>
                  <a:pt x="1621" y="1643"/>
                </a:lnTo>
                <a:lnTo>
                  <a:pt x="1643" y="1621"/>
                </a:lnTo>
                <a:lnTo>
                  <a:pt x="1665" y="1599"/>
                </a:lnTo>
                <a:lnTo>
                  <a:pt x="1687" y="1588"/>
                </a:lnTo>
                <a:lnTo>
                  <a:pt x="1698" y="1566"/>
                </a:lnTo>
                <a:lnTo>
                  <a:pt x="1720" y="1544"/>
                </a:lnTo>
                <a:lnTo>
                  <a:pt x="1731" y="1511"/>
                </a:lnTo>
                <a:lnTo>
                  <a:pt x="1753" y="1489"/>
                </a:lnTo>
                <a:lnTo>
                  <a:pt x="1764" y="1467"/>
                </a:lnTo>
                <a:lnTo>
                  <a:pt x="1786" y="1445"/>
                </a:lnTo>
                <a:lnTo>
                  <a:pt x="1797" y="1423"/>
                </a:lnTo>
                <a:lnTo>
                  <a:pt x="1808" y="1401"/>
                </a:lnTo>
                <a:lnTo>
                  <a:pt x="1820" y="1368"/>
                </a:lnTo>
                <a:lnTo>
                  <a:pt x="1831" y="1345"/>
                </a:lnTo>
                <a:lnTo>
                  <a:pt x="1842" y="1312"/>
                </a:lnTo>
                <a:lnTo>
                  <a:pt x="1853" y="1290"/>
                </a:lnTo>
                <a:lnTo>
                  <a:pt x="1864" y="1268"/>
                </a:lnTo>
                <a:lnTo>
                  <a:pt x="1875" y="1235"/>
                </a:lnTo>
                <a:lnTo>
                  <a:pt x="1886" y="1213"/>
                </a:lnTo>
                <a:lnTo>
                  <a:pt x="1886" y="1180"/>
                </a:lnTo>
                <a:lnTo>
                  <a:pt x="1897" y="1158"/>
                </a:lnTo>
                <a:lnTo>
                  <a:pt x="1897" y="1125"/>
                </a:lnTo>
                <a:lnTo>
                  <a:pt x="1908" y="1103"/>
                </a:lnTo>
                <a:lnTo>
                  <a:pt x="1908" y="1070"/>
                </a:lnTo>
                <a:lnTo>
                  <a:pt x="1908" y="1048"/>
                </a:lnTo>
                <a:lnTo>
                  <a:pt x="1908" y="1015"/>
                </a:lnTo>
                <a:lnTo>
                  <a:pt x="1919" y="982"/>
                </a:lnTo>
                <a:lnTo>
                  <a:pt x="1919" y="96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6" name=""/>
          <p:cNvGrpSpPr/>
          <p:nvPr/>
        </p:nvGrpSpPr>
        <p:grpSpPr>
          <a:xfrm>
            <a:off x="2208240" y="2600280"/>
            <a:ext cx="146520" cy="177840"/>
            <a:chOff x="2208240" y="2600280"/>
            <a:chExt cx="146520" cy="177840"/>
          </a:xfrm>
        </p:grpSpPr>
        <p:sp>
          <p:nvSpPr>
            <p:cNvPr id="1137" name=""/>
            <p:cNvSpPr/>
            <p:nvPr/>
          </p:nvSpPr>
          <p:spPr>
            <a:xfrm flipV="1">
              <a:off x="2228760" y="2600280"/>
              <a:ext cx="101520" cy="177840"/>
            </a:xfrm>
            <a:prstGeom prst="line">
              <a:avLst/>
            </a:prstGeom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208240" y="2612880"/>
              <a:ext cx="146520" cy="149760"/>
            </a:xfrm>
            <a:custGeom>
              <a:avLst/>
              <a:gdLst/>
              <a:ahLst/>
              <a:rect l="0" t="0" r="r" b="b"/>
              <a:pathLst>
                <a:path fill="none" w="407" h="416">
                  <a:moveTo>
                    <a:pt x="407" y="208"/>
                  </a:moveTo>
                  <a:lnTo>
                    <a:pt x="407" y="199"/>
                  </a:lnTo>
                  <a:lnTo>
                    <a:pt x="407" y="183"/>
                  </a:lnTo>
                  <a:lnTo>
                    <a:pt x="407" y="175"/>
                  </a:lnTo>
                  <a:lnTo>
                    <a:pt x="407" y="166"/>
                  </a:lnTo>
                  <a:lnTo>
                    <a:pt x="399" y="150"/>
                  </a:lnTo>
                  <a:lnTo>
                    <a:pt x="399" y="141"/>
                  </a:lnTo>
                  <a:lnTo>
                    <a:pt x="391" y="133"/>
                  </a:lnTo>
                  <a:lnTo>
                    <a:pt x="391" y="125"/>
                  </a:lnTo>
                  <a:lnTo>
                    <a:pt x="382" y="108"/>
                  </a:lnTo>
                  <a:lnTo>
                    <a:pt x="382" y="99"/>
                  </a:lnTo>
                  <a:lnTo>
                    <a:pt x="374" y="91"/>
                  </a:lnTo>
                  <a:lnTo>
                    <a:pt x="366" y="82"/>
                  </a:lnTo>
                  <a:lnTo>
                    <a:pt x="358" y="74"/>
                  </a:lnTo>
                  <a:lnTo>
                    <a:pt x="349" y="66"/>
                  </a:lnTo>
                  <a:lnTo>
                    <a:pt x="341" y="58"/>
                  </a:lnTo>
                  <a:lnTo>
                    <a:pt x="333" y="49"/>
                  </a:lnTo>
                  <a:lnTo>
                    <a:pt x="324" y="41"/>
                  </a:lnTo>
                  <a:lnTo>
                    <a:pt x="316" y="41"/>
                  </a:lnTo>
                  <a:lnTo>
                    <a:pt x="308" y="33"/>
                  </a:lnTo>
                  <a:lnTo>
                    <a:pt x="299" y="24"/>
                  </a:lnTo>
                  <a:lnTo>
                    <a:pt x="290" y="24"/>
                  </a:lnTo>
                  <a:lnTo>
                    <a:pt x="282" y="16"/>
                  </a:lnTo>
                  <a:lnTo>
                    <a:pt x="265" y="16"/>
                  </a:lnTo>
                  <a:lnTo>
                    <a:pt x="257" y="8"/>
                  </a:lnTo>
                  <a:lnTo>
                    <a:pt x="249" y="8"/>
                  </a:lnTo>
                  <a:lnTo>
                    <a:pt x="232" y="8"/>
                  </a:lnTo>
                  <a:lnTo>
                    <a:pt x="224" y="0"/>
                  </a:lnTo>
                  <a:lnTo>
                    <a:pt x="216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83" y="0"/>
                  </a:lnTo>
                  <a:lnTo>
                    <a:pt x="166" y="8"/>
                  </a:lnTo>
                  <a:lnTo>
                    <a:pt x="158" y="8"/>
                  </a:lnTo>
                  <a:lnTo>
                    <a:pt x="150" y="8"/>
                  </a:lnTo>
                  <a:lnTo>
                    <a:pt x="141" y="16"/>
                  </a:lnTo>
                  <a:lnTo>
                    <a:pt x="125" y="16"/>
                  </a:lnTo>
                  <a:lnTo>
                    <a:pt x="116" y="24"/>
                  </a:lnTo>
                  <a:lnTo>
                    <a:pt x="108" y="24"/>
                  </a:lnTo>
                  <a:lnTo>
                    <a:pt x="99" y="33"/>
                  </a:lnTo>
                  <a:lnTo>
                    <a:pt x="91" y="41"/>
                  </a:lnTo>
                  <a:lnTo>
                    <a:pt x="74" y="41"/>
                  </a:lnTo>
                  <a:lnTo>
                    <a:pt x="66" y="49"/>
                  </a:lnTo>
                  <a:lnTo>
                    <a:pt x="57" y="58"/>
                  </a:lnTo>
                  <a:lnTo>
                    <a:pt x="49" y="66"/>
                  </a:lnTo>
                  <a:lnTo>
                    <a:pt x="49" y="74"/>
                  </a:lnTo>
                  <a:lnTo>
                    <a:pt x="41" y="82"/>
                  </a:lnTo>
                  <a:lnTo>
                    <a:pt x="33" y="91"/>
                  </a:lnTo>
                  <a:lnTo>
                    <a:pt x="24" y="99"/>
                  </a:lnTo>
                  <a:lnTo>
                    <a:pt x="24" y="108"/>
                  </a:lnTo>
                  <a:lnTo>
                    <a:pt x="16" y="125"/>
                  </a:lnTo>
                  <a:lnTo>
                    <a:pt x="8" y="133"/>
                  </a:lnTo>
                  <a:lnTo>
                    <a:pt x="8" y="141"/>
                  </a:lnTo>
                  <a:lnTo>
                    <a:pt x="8" y="150"/>
                  </a:lnTo>
                  <a:lnTo>
                    <a:pt x="0" y="166"/>
                  </a:lnTo>
                  <a:lnTo>
                    <a:pt x="0" y="175"/>
                  </a:lnTo>
                  <a:lnTo>
                    <a:pt x="0" y="183"/>
                  </a:lnTo>
                  <a:lnTo>
                    <a:pt x="0" y="199"/>
                  </a:lnTo>
                  <a:lnTo>
                    <a:pt x="0" y="208"/>
                  </a:lnTo>
                  <a:lnTo>
                    <a:pt x="0" y="216"/>
                  </a:lnTo>
                  <a:lnTo>
                    <a:pt x="0" y="233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8" y="266"/>
                  </a:lnTo>
                  <a:lnTo>
                    <a:pt x="8" y="274"/>
                  </a:lnTo>
                  <a:lnTo>
                    <a:pt x="8" y="282"/>
                  </a:lnTo>
                  <a:lnTo>
                    <a:pt x="16" y="291"/>
                  </a:lnTo>
                  <a:lnTo>
                    <a:pt x="24" y="307"/>
                  </a:lnTo>
                  <a:lnTo>
                    <a:pt x="24" y="317"/>
                  </a:lnTo>
                  <a:lnTo>
                    <a:pt x="33" y="325"/>
                  </a:lnTo>
                  <a:lnTo>
                    <a:pt x="41" y="333"/>
                  </a:lnTo>
                  <a:lnTo>
                    <a:pt x="49" y="341"/>
                  </a:lnTo>
                  <a:lnTo>
                    <a:pt x="49" y="350"/>
                  </a:lnTo>
                  <a:lnTo>
                    <a:pt x="57" y="358"/>
                  </a:lnTo>
                  <a:lnTo>
                    <a:pt x="66" y="366"/>
                  </a:lnTo>
                  <a:lnTo>
                    <a:pt x="74" y="375"/>
                  </a:lnTo>
                  <a:lnTo>
                    <a:pt x="91" y="383"/>
                  </a:lnTo>
                  <a:lnTo>
                    <a:pt x="99" y="383"/>
                  </a:lnTo>
                  <a:lnTo>
                    <a:pt x="108" y="391"/>
                  </a:lnTo>
                  <a:lnTo>
                    <a:pt x="116" y="399"/>
                  </a:lnTo>
                  <a:lnTo>
                    <a:pt x="125" y="399"/>
                  </a:lnTo>
                  <a:lnTo>
                    <a:pt x="141" y="408"/>
                  </a:lnTo>
                  <a:lnTo>
                    <a:pt x="150" y="408"/>
                  </a:lnTo>
                  <a:lnTo>
                    <a:pt x="158" y="408"/>
                  </a:lnTo>
                  <a:lnTo>
                    <a:pt x="166" y="416"/>
                  </a:lnTo>
                  <a:lnTo>
                    <a:pt x="183" y="416"/>
                  </a:lnTo>
                  <a:lnTo>
                    <a:pt x="191" y="416"/>
                  </a:lnTo>
                  <a:lnTo>
                    <a:pt x="199" y="416"/>
                  </a:lnTo>
                  <a:lnTo>
                    <a:pt x="216" y="416"/>
                  </a:lnTo>
                  <a:lnTo>
                    <a:pt x="224" y="416"/>
                  </a:lnTo>
                  <a:lnTo>
                    <a:pt x="232" y="416"/>
                  </a:lnTo>
                  <a:lnTo>
                    <a:pt x="249" y="408"/>
                  </a:lnTo>
                  <a:lnTo>
                    <a:pt x="257" y="408"/>
                  </a:lnTo>
                  <a:lnTo>
                    <a:pt x="265" y="408"/>
                  </a:lnTo>
                  <a:lnTo>
                    <a:pt x="282" y="399"/>
                  </a:lnTo>
                  <a:lnTo>
                    <a:pt x="290" y="399"/>
                  </a:lnTo>
                  <a:lnTo>
                    <a:pt x="299" y="391"/>
                  </a:lnTo>
                  <a:lnTo>
                    <a:pt x="308" y="383"/>
                  </a:lnTo>
                  <a:lnTo>
                    <a:pt x="316" y="383"/>
                  </a:lnTo>
                  <a:lnTo>
                    <a:pt x="324" y="375"/>
                  </a:lnTo>
                  <a:lnTo>
                    <a:pt x="333" y="366"/>
                  </a:lnTo>
                  <a:lnTo>
                    <a:pt x="341" y="358"/>
                  </a:lnTo>
                  <a:lnTo>
                    <a:pt x="349" y="350"/>
                  </a:lnTo>
                  <a:lnTo>
                    <a:pt x="358" y="341"/>
                  </a:lnTo>
                  <a:lnTo>
                    <a:pt x="366" y="333"/>
                  </a:lnTo>
                  <a:lnTo>
                    <a:pt x="374" y="325"/>
                  </a:lnTo>
                  <a:lnTo>
                    <a:pt x="382" y="317"/>
                  </a:lnTo>
                  <a:lnTo>
                    <a:pt x="382" y="307"/>
                  </a:lnTo>
                  <a:lnTo>
                    <a:pt x="391" y="291"/>
                  </a:lnTo>
                  <a:lnTo>
                    <a:pt x="391" y="282"/>
                  </a:lnTo>
                  <a:lnTo>
                    <a:pt x="399" y="274"/>
                  </a:lnTo>
                  <a:lnTo>
                    <a:pt x="399" y="266"/>
                  </a:lnTo>
                  <a:lnTo>
                    <a:pt x="407" y="249"/>
                  </a:lnTo>
                  <a:lnTo>
                    <a:pt x="407" y="241"/>
                  </a:lnTo>
                  <a:lnTo>
                    <a:pt x="407" y="233"/>
                  </a:lnTo>
                  <a:lnTo>
                    <a:pt x="407" y="216"/>
                  </a:lnTo>
                  <a:lnTo>
                    <a:pt x="407" y="208"/>
                  </a:lnTo>
                </a:path>
              </a:pathLst>
            </a:custGeom>
            <a:ln w="12600">
              <a:solidFill>
                <a:srgbClr val="ffff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"/>
          <p:cNvSpPr txBox="1"/>
          <p:nvPr/>
        </p:nvSpPr>
        <p:spPr>
          <a:xfrm>
            <a:off x="2344680" y="251460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071800" y="2822400"/>
            <a:ext cx="698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2190600" y="281304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Arial"/>
                <a:ea typeface="Arial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906720" y="4116240"/>
            <a:ext cx="1098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4257720" y="3703680"/>
            <a:ext cx="830160" cy="830160"/>
          </a:xfrm>
          <a:prstGeom prst="ellipse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448160" y="3652920"/>
            <a:ext cx="82440" cy="9270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4768920" y="3633840"/>
            <a:ext cx="88920" cy="93996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4292640" y="3732120"/>
            <a:ext cx="244440" cy="244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4848120" y="4294080"/>
            <a:ext cx="193680" cy="193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4616280" y="3618000"/>
            <a:ext cx="79200" cy="9874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 flipH="1">
            <a:off x="4264200" y="3706920"/>
            <a:ext cx="450720" cy="450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4302000" y="3751200"/>
            <a:ext cx="520920" cy="520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 flipH="1">
            <a:off x="4349880" y="3795840"/>
            <a:ext cx="581040" cy="58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 flipH="1">
            <a:off x="4432320" y="3878280"/>
            <a:ext cx="568440" cy="5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 flipH="1">
            <a:off x="4524480" y="3979800"/>
            <a:ext cx="527040" cy="527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 flipH="1">
            <a:off x="4654440" y="4100400"/>
            <a:ext cx="428760" cy="42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 flipV="1">
            <a:off x="4670280" y="4537080"/>
            <a:ext cx="0" cy="8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4105440" y="4116240"/>
            <a:ext cx="1196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4670280" y="3529080"/>
            <a:ext cx="0" cy="931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 txBox="1"/>
          <p:nvPr/>
        </p:nvSpPr>
        <p:spPr>
          <a:xfrm>
            <a:off x="3592440" y="1073160"/>
            <a:ext cx="40845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Datum target areas of the des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shape are identified on the draw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by outlining the boundary of th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with phantom lines, and crossh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he in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42840" y="1058760"/>
            <a:ext cx="31748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diameter of the cir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area is called out i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per portion of the symb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843120" y="2475000"/>
            <a:ext cx="690840" cy="690840"/>
          </a:xfrm>
          <a:custGeom>
            <a:avLst/>
            <a:gdLst/>
            <a:ahLst/>
            <a:rect l="0" t="0" r="r" b="b"/>
            <a:pathLst>
              <a:path fill="none" w="1919" h="1919">
                <a:moveTo>
                  <a:pt x="1919" y="960"/>
                </a:moveTo>
                <a:lnTo>
                  <a:pt x="1919" y="926"/>
                </a:lnTo>
                <a:lnTo>
                  <a:pt x="1908" y="903"/>
                </a:lnTo>
                <a:lnTo>
                  <a:pt x="1908" y="870"/>
                </a:lnTo>
                <a:lnTo>
                  <a:pt x="1908" y="848"/>
                </a:lnTo>
                <a:lnTo>
                  <a:pt x="1908" y="815"/>
                </a:lnTo>
                <a:lnTo>
                  <a:pt x="1897" y="793"/>
                </a:lnTo>
                <a:lnTo>
                  <a:pt x="1897" y="760"/>
                </a:lnTo>
                <a:lnTo>
                  <a:pt x="1886" y="727"/>
                </a:lnTo>
                <a:lnTo>
                  <a:pt x="1886" y="705"/>
                </a:lnTo>
                <a:lnTo>
                  <a:pt x="1875" y="683"/>
                </a:lnTo>
                <a:lnTo>
                  <a:pt x="1864" y="650"/>
                </a:lnTo>
                <a:lnTo>
                  <a:pt x="1853" y="628"/>
                </a:lnTo>
                <a:lnTo>
                  <a:pt x="1842" y="595"/>
                </a:lnTo>
                <a:lnTo>
                  <a:pt x="1831" y="573"/>
                </a:lnTo>
                <a:lnTo>
                  <a:pt x="1820" y="551"/>
                </a:lnTo>
                <a:lnTo>
                  <a:pt x="1808" y="518"/>
                </a:lnTo>
                <a:lnTo>
                  <a:pt x="1797" y="496"/>
                </a:lnTo>
                <a:lnTo>
                  <a:pt x="1786" y="474"/>
                </a:lnTo>
                <a:lnTo>
                  <a:pt x="1764" y="451"/>
                </a:lnTo>
                <a:lnTo>
                  <a:pt x="1753" y="418"/>
                </a:lnTo>
                <a:lnTo>
                  <a:pt x="1731" y="396"/>
                </a:lnTo>
                <a:lnTo>
                  <a:pt x="1720" y="374"/>
                </a:lnTo>
                <a:lnTo>
                  <a:pt x="1698" y="352"/>
                </a:lnTo>
                <a:lnTo>
                  <a:pt x="1687" y="330"/>
                </a:lnTo>
                <a:lnTo>
                  <a:pt x="1665" y="308"/>
                </a:lnTo>
                <a:lnTo>
                  <a:pt x="1643" y="286"/>
                </a:lnTo>
                <a:lnTo>
                  <a:pt x="1621" y="275"/>
                </a:lnTo>
                <a:lnTo>
                  <a:pt x="1599" y="253"/>
                </a:lnTo>
                <a:lnTo>
                  <a:pt x="1588" y="231"/>
                </a:lnTo>
                <a:lnTo>
                  <a:pt x="1566" y="220"/>
                </a:lnTo>
                <a:lnTo>
                  <a:pt x="1544" y="198"/>
                </a:lnTo>
                <a:lnTo>
                  <a:pt x="1511" y="176"/>
                </a:lnTo>
                <a:lnTo>
                  <a:pt x="1489" y="165"/>
                </a:lnTo>
                <a:lnTo>
                  <a:pt x="1467" y="154"/>
                </a:lnTo>
                <a:lnTo>
                  <a:pt x="1445" y="132"/>
                </a:lnTo>
                <a:lnTo>
                  <a:pt x="1423" y="121"/>
                </a:lnTo>
                <a:lnTo>
                  <a:pt x="1401" y="110"/>
                </a:lnTo>
                <a:lnTo>
                  <a:pt x="1368" y="99"/>
                </a:lnTo>
                <a:lnTo>
                  <a:pt x="1345" y="88"/>
                </a:lnTo>
                <a:lnTo>
                  <a:pt x="1323" y="66"/>
                </a:lnTo>
                <a:lnTo>
                  <a:pt x="1290" y="66"/>
                </a:lnTo>
                <a:lnTo>
                  <a:pt x="1268" y="55"/>
                </a:lnTo>
                <a:lnTo>
                  <a:pt x="1235" y="44"/>
                </a:lnTo>
                <a:lnTo>
                  <a:pt x="1213" y="33"/>
                </a:lnTo>
                <a:lnTo>
                  <a:pt x="1180" y="33"/>
                </a:lnTo>
                <a:lnTo>
                  <a:pt x="1158" y="22"/>
                </a:lnTo>
                <a:lnTo>
                  <a:pt x="1125" y="22"/>
                </a:lnTo>
                <a:lnTo>
                  <a:pt x="1103" y="11"/>
                </a:lnTo>
                <a:lnTo>
                  <a:pt x="1070" y="11"/>
                </a:lnTo>
                <a:lnTo>
                  <a:pt x="1048" y="0"/>
                </a:lnTo>
                <a:lnTo>
                  <a:pt x="1015" y="0"/>
                </a:lnTo>
                <a:lnTo>
                  <a:pt x="993" y="0"/>
                </a:lnTo>
                <a:lnTo>
                  <a:pt x="960" y="0"/>
                </a:lnTo>
                <a:lnTo>
                  <a:pt x="926" y="0"/>
                </a:lnTo>
                <a:lnTo>
                  <a:pt x="903" y="0"/>
                </a:lnTo>
                <a:lnTo>
                  <a:pt x="870" y="0"/>
                </a:lnTo>
                <a:lnTo>
                  <a:pt x="848" y="11"/>
                </a:lnTo>
                <a:lnTo>
                  <a:pt x="815" y="11"/>
                </a:lnTo>
                <a:lnTo>
                  <a:pt x="793" y="22"/>
                </a:lnTo>
                <a:lnTo>
                  <a:pt x="760" y="22"/>
                </a:lnTo>
                <a:lnTo>
                  <a:pt x="738" y="33"/>
                </a:lnTo>
                <a:lnTo>
                  <a:pt x="705" y="33"/>
                </a:lnTo>
                <a:lnTo>
                  <a:pt x="683" y="44"/>
                </a:lnTo>
                <a:lnTo>
                  <a:pt x="650" y="55"/>
                </a:lnTo>
                <a:lnTo>
                  <a:pt x="628" y="66"/>
                </a:lnTo>
                <a:lnTo>
                  <a:pt x="595" y="66"/>
                </a:lnTo>
                <a:lnTo>
                  <a:pt x="573" y="88"/>
                </a:lnTo>
                <a:lnTo>
                  <a:pt x="551" y="99"/>
                </a:lnTo>
                <a:lnTo>
                  <a:pt x="529" y="110"/>
                </a:lnTo>
                <a:lnTo>
                  <a:pt x="496" y="121"/>
                </a:lnTo>
                <a:lnTo>
                  <a:pt x="474" y="132"/>
                </a:lnTo>
                <a:lnTo>
                  <a:pt x="451" y="154"/>
                </a:lnTo>
                <a:lnTo>
                  <a:pt x="429" y="165"/>
                </a:lnTo>
                <a:lnTo>
                  <a:pt x="407" y="176"/>
                </a:lnTo>
                <a:lnTo>
                  <a:pt x="374" y="198"/>
                </a:lnTo>
                <a:lnTo>
                  <a:pt x="352" y="220"/>
                </a:lnTo>
                <a:lnTo>
                  <a:pt x="341" y="231"/>
                </a:lnTo>
                <a:lnTo>
                  <a:pt x="319" y="253"/>
                </a:lnTo>
                <a:lnTo>
                  <a:pt x="297" y="275"/>
                </a:lnTo>
                <a:lnTo>
                  <a:pt x="275" y="286"/>
                </a:lnTo>
                <a:lnTo>
                  <a:pt x="253" y="308"/>
                </a:lnTo>
                <a:lnTo>
                  <a:pt x="231" y="330"/>
                </a:lnTo>
                <a:lnTo>
                  <a:pt x="220" y="352"/>
                </a:lnTo>
                <a:lnTo>
                  <a:pt x="198" y="374"/>
                </a:lnTo>
                <a:lnTo>
                  <a:pt x="187" y="396"/>
                </a:lnTo>
                <a:lnTo>
                  <a:pt x="165" y="418"/>
                </a:lnTo>
                <a:lnTo>
                  <a:pt x="154" y="451"/>
                </a:lnTo>
                <a:lnTo>
                  <a:pt x="132" y="474"/>
                </a:lnTo>
                <a:lnTo>
                  <a:pt x="121" y="496"/>
                </a:lnTo>
                <a:lnTo>
                  <a:pt x="110" y="518"/>
                </a:lnTo>
                <a:lnTo>
                  <a:pt x="99" y="551"/>
                </a:lnTo>
                <a:lnTo>
                  <a:pt x="88" y="573"/>
                </a:lnTo>
                <a:lnTo>
                  <a:pt x="77" y="595"/>
                </a:lnTo>
                <a:lnTo>
                  <a:pt x="66" y="628"/>
                </a:lnTo>
                <a:lnTo>
                  <a:pt x="55" y="650"/>
                </a:lnTo>
                <a:lnTo>
                  <a:pt x="44" y="683"/>
                </a:lnTo>
                <a:lnTo>
                  <a:pt x="44" y="705"/>
                </a:lnTo>
                <a:lnTo>
                  <a:pt x="33" y="727"/>
                </a:lnTo>
                <a:lnTo>
                  <a:pt x="22" y="760"/>
                </a:lnTo>
                <a:lnTo>
                  <a:pt x="22" y="793"/>
                </a:lnTo>
                <a:lnTo>
                  <a:pt x="11" y="815"/>
                </a:lnTo>
                <a:lnTo>
                  <a:pt x="11" y="848"/>
                </a:lnTo>
                <a:lnTo>
                  <a:pt x="11" y="870"/>
                </a:lnTo>
                <a:lnTo>
                  <a:pt x="11" y="903"/>
                </a:lnTo>
                <a:lnTo>
                  <a:pt x="0" y="926"/>
                </a:lnTo>
                <a:lnTo>
                  <a:pt x="0" y="960"/>
                </a:lnTo>
                <a:lnTo>
                  <a:pt x="0" y="982"/>
                </a:lnTo>
                <a:lnTo>
                  <a:pt x="11" y="1015"/>
                </a:lnTo>
                <a:lnTo>
                  <a:pt x="11" y="1048"/>
                </a:lnTo>
                <a:lnTo>
                  <a:pt x="11" y="1070"/>
                </a:lnTo>
                <a:lnTo>
                  <a:pt x="11" y="1103"/>
                </a:lnTo>
                <a:lnTo>
                  <a:pt x="22" y="1125"/>
                </a:lnTo>
                <a:lnTo>
                  <a:pt x="22" y="1158"/>
                </a:lnTo>
                <a:lnTo>
                  <a:pt x="33" y="1180"/>
                </a:lnTo>
                <a:lnTo>
                  <a:pt x="44" y="1213"/>
                </a:lnTo>
                <a:lnTo>
                  <a:pt x="44" y="1235"/>
                </a:lnTo>
                <a:lnTo>
                  <a:pt x="55" y="1268"/>
                </a:lnTo>
                <a:lnTo>
                  <a:pt x="66" y="1290"/>
                </a:lnTo>
                <a:lnTo>
                  <a:pt x="77" y="1312"/>
                </a:lnTo>
                <a:lnTo>
                  <a:pt x="88" y="1345"/>
                </a:lnTo>
                <a:lnTo>
                  <a:pt x="99" y="1368"/>
                </a:lnTo>
                <a:lnTo>
                  <a:pt x="110" y="1401"/>
                </a:lnTo>
                <a:lnTo>
                  <a:pt x="121" y="1423"/>
                </a:lnTo>
                <a:lnTo>
                  <a:pt x="132" y="1445"/>
                </a:lnTo>
                <a:lnTo>
                  <a:pt x="154" y="1467"/>
                </a:lnTo>
                <a:lnTo>
                  <a:pt x="165" y="1489"/>
                </a:lnTo>
                <a:lnTo>
                  <a:pt x="187" y="1511"/>
                </a:lnTo>
                <a:lnTo>
                  <a:pt x="198" y="1544"/>
                </a:lnTo>
                <a:lnTo>
                  <a:pt x="220" y="1566"/>
                </a:lnTo>
                <a:lnTo>
                  <a:pt x="231" y="1588"/>
                </a:lnTo>
                <a:lnTo>
                  <a:pt x="253" y="1599"/>
                </a:lnTo>
                <a:lnTo>
                  <a:pt x="275" y="1621"/>
                </a:lnTo>
                <a:lnTo>
                  <a:pt x="297" y="1643"/>
                </a:lnTo>
                <a:lnTo>
                  <a:pt x="319" y="1665"/>
                </a:lnTo>
                <a:lnTo>
                  <a:pt x="341" y="1687"/>
                </a:lnTo>
                <a:lnTo>
                  <a:pt x="352" y="1698"/>
                </a:lnTo>
                <a:lnTo>
                  <a:pt x="374" y="1720"/>
                </a:lnTo>
                <a:lnTo>
                  <a:pt x="407" y="1731"/>
                </a:lnTo>
                <a:lnTo>
                  <a:pt x="429" y="1753"/>
                </a:lnTo>
                <a:lnTo>
                  <a:pt x="451" y="1764"/>
                </a:lnTo>
                <a:lnTo>
                  <a:pt x="474" y="1786"/>
                </a:lnTo>
                <a:lnTo>
                  <a:pt x="496" y="1797"/>
                </a:lnTo>
                <a:lnTo>
                  <a:pt x="529" y="1808"/>
                </a:lnTo>
                <a:lnTo>
                  <a:pt x="551" y="1820"/>
                </a:lnTo>
                <a:lnTo>
                  <a:pt x="573" y="1831"/>
                </a:lnTo>
                <a:lnTo>
                  <a:pt x="595" y="1842"/>
                </a:lnTo>
                <a:lnTo>
                  <a:pt x="628" y="1853"/>
                </a:lnTo>
                <a:lnTo>
                  <a:pt x="650" y="1864"/>
                </a:lnTo>
                <a:lnTo>
                  <a:pt x="683" y="1875"/>
                </a:lnTo>
                <a:lnTo>
                  <a:pt x="705" y="1886"/>
                </a:lnTo>
                <a:lnTo>
                  <a:pt x="738" y="1886"/>
                </a:lnTo>
                <a:lnTo>
                  <a:pt x="760" y="1897"/>
                </a:lnTo>
                <a:lnTo>
                  <a:pt x="793" y="1897"/>
                </a:lnTo>
                <a:lnTo>
                  <a:pt x="815" y="1908"/>
                </a:lnTo>
                <a:lnTo>
                  <a:pt x="848" y="1908"/>
                </a:lnTo>
                <a:lnTo>
                  <a:pt x="870" y="1908"/>
                </a:lnTo>
                <a:lnTo>
                  <a:pt x="903" y="1908"/>
                </a:lnTo>
                <a:lnTo>
                  <a:pt x="926" y="1919"/>
                </a:lnTo>
                <a:lnTo>
                  <a:pt x="960" y="1919"/>
                </a:lnTo>
                <a:lnTo>
                  <a:pt x="993" y="1919"/>
                </a:lnTo>
                <a:lnTo>
                  <a:pt x="1015" y="1908"/>
                </a:lnTo>
                <a:lnTo>
                  <a:pt x="1048" y="1908"/>
                </a:lnTo>
                <a:lnTo>
                  <a:pt x="1070" y="1908"/>
                </a:lnTo>
                <a:lnTo>
                  <a:pt x="1103" y="1908"/>
                </a:lnTo>
                <a:lnTo>
                  <a:pt x="1125" y="1897"/>
                </a:lnTo>
                <a:lnTo>
                  <a:pt x="1158" y="1897"/>
                </a:lnTo>
                <a:lnTo>
                  <a:pt x="1180" y="1886"/>
                </a:lnTo>
                <a:lnTo>
                  <a:pt x="1213" y="1886"/>
                </a:lnTo>
                <a:lnTo>
                  <a:pt x="1235" y="1875"/>
                </a:lnTo>
                <a:lnTo>
                  <a:pt x="1268" y="1864"/>
                </a:lnTo>
                <a:lnTo>
                  <a:pt x="1290" y="1853"/>
                </a:lnTo>
                <a:lnTo>
                  <a:pt x="1323" y="1842"/>
                </a:lnTo>
                <a:lnTo>
                  <a:pt x="1345" y="1831"/>
                </a:lnTo>
                <a:lnTo>
                  <a:pt x="1368" y="1820"/>
                </a:lnTo>
                <a:lnTo>
                  <a:pt x="1401" y="1808"/>
                </a:lnTo>
                <a:lnTo>
                  <a:pt x="1423" y="1797"/>
                </a:lnTo>
                <a:lnTo>
                  <a:pt x="1445" y="1786"/>
                </a:lnTo>
                <a:lnTo>
                  <a:pt x="1467" y="1764"/>
                </a:lnTo>
                <a:lnTo>
                  <a:pt x="1489" y="1753"/>
                </a:lnTo>
                <a:lnTo>
                  <a:pt x="1511" y="1731"/>
                </a:lnTo>
                <a:lnTo>
                  <a:pt x="1544" y="1720"/>
                </a:lnTo>
                <a:lnTo>
                  <a:pt x="1566" y="1698"/>
                </a:lnTo>
                <a:lnTo>
                  <a:pt x="1588" y="1687"/>
                </a:lnTo>
                <a:lnTo>
                  <a:pt x="1599" y="1665"/>
                </a:lnTo>
                <a:lnTo>
                  <a:pt x="1621" y="1643"/>
                </a:lnTo>
                <a:lnTo>
                  <a:pt x="1643" y="1621"/>
                </a:lnTo>
                <a:lnTo>
                  <a:pt x="1665" y="1599"/>
                </a:lnTo>
                <a:lnTo>
                  <a:pt x="1687" y="1588"/>
                </a:lnTo>
                <a:lnTo>
                  <a:pt x="1698" y="1566"/>
                </a:lnTo>
                <a:lnTo>
                  <a:pt x="1720" y="1544"/>
                </a:lnTo>
                <a:lnTo>
                  <a:pt x="1731" y="1511"/>
                </a:lnTo>
                <a:lnTo>
                  <a:pt x="1753" y="1489"/>
                </a:lnTo>
                <a:lnTo>
                  <a:pt x="1764" y="1467"/>
                </a:lnTo>
                <a:lnTo>
                  <a:pt x="1786" y="1445"/>
                </a:lnTo>
                <a:lnTo>
                  <a:pt x="1797" y="1423"/>
                </a:lnTo>
                <a:lnTo>
                  <a:pt x="1808" y="1401"/>
                </a:lnTo>
                <a:lnTo>
                  <a:pt x="1820" y="1368"/>
                </a:lnTo>
                <a:lnTo>
                  <a:pt x="1831" y="1345"/>
                </a:lnTo>
                <a:lnTo>
                  <a:pt x="1842" y="1312"/>
                </a:lnTo>
                <a:lnTo>
                  <a:pt x="1853" y="1290"/>
                </a:lnTo>
                <a:lnTo>
                  <a:pt x="1864" y="1268"/>
                </a:lnTo>
                <a:lnTo>
                  <a:pt x="1875" y="1235"/>
                </a:lnTo>
                <a:lnTo>
                  <a:pt x="1886" y="1213"/>
                </a:lnTo>
                <a:lnTo>
                  <a:pt x="1886" y="1180"/>
                </a:lnTo>
                <a:lnTo>
                  <a:pt x="1897" y="1158"/>
                </a:lnTo>
                <a:lnTo>
                  <a:pt x="1897" y="1125"/>
                </a:lnTo>
                <a:lnTo>
                  <a:pt x="1908" y="1103"/>
                </a:lnTo>
                <a:lnTo>
                  <a:pt x="1908" y="1070"/>
                </a:lnTo>
                <a:lnTo>
                  <a:pt x="1908" y="1048"/>
                </a:lnTo>
                <a:lnTo>
                  <a:pt x="1908" y="1015"/>
                </a:lnTo>
                <a:lnTo>
                  <a:pt x="1919" y="982"/>
                </a:lnTo>
                <a:lnTo>
                  <a:pt x="1919" y="96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974880" y="2600280"/>
            <a:ext cx="146520" cy="177840"/>
            <a:chOff x="974880" y="2600280"/>
            <a:chExt cx="146520" cy="177840"/>
          </a:xfrm>
        </p:grpSpPr>
        <p:sp>
          <p:nvSpPr>
            <p:cNvPr id="1162" name=""/>
            <p:cNvSpPr/>
            <p:nvPr/>
          </p:nvSpPr>
          <p:spPr>
            <a:xfrm flipV="1">
              <a:off x="995400" y="2600280"/>
              <a:ext cx="101520" cy="1778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974880" y="2612880"/>
              <a:ext cx="146520" cy="149760"/>
            </a:xfrm>
            <a:custGeom>
              <a:avLst/>
              <a:gdLst/>
              <a:ahLst/>
              <a:rect l="0" t="0" r="r" b="b"/>
              <a:pathLst>
                <a:path fill="none" w="407" h="416">
                  <a:moveTo>
                    <a:pt x="407" y="208"/>
                  </a:moveTo>
                  <a:lnTo>
                    <a:pt x="407" y="199"/>
                  </a:lnTo>
                  <a:lnTo>
                    <a:pt x="407" y="183"/>
                  </a:lnTo>
                  <a:lnTo>
                    <a:pt x="407" y="175"/>
                  </a:lnTo>
                  <a:lnTo>
                    <a:pt x="407" y="166"/>
                  </a:lnTo>
                  <a:lnTo>
                    <a:pt x="399" y="150"/>
                  </a:lnTo>
                  <a:lnTo>
                    <a:pt x="399" y="141"/>
                  </a:lnTo>
                  <a:lnTo>
                    <a:pt x="391" y="133"/>
                  </a:lnTo>
                  <a:lnTo>
                    <a:pt x="391" y="125"/>
                  </a:lnTo>
                  <a:lnTo>
                    <a:pt x="382" y="108"/>
                  </a:lnTo>
                  <a:lnTo>
                    <a:pt x="382" y="99"/>
                  </a:lnTo>
                  <a:lnTo>
                    <a:pt x="374" y="91"/>
                  </a:lnTo>
                  <a:lnTo>
                    <a:pt x="366" y="82"/>
                  </a:lnTo>
                  <a:lnTo>
                    <a:pt x="358" y="74"/>
                  </a:lnTo>
                  <a:lnTo>
                    <a:pt x="349" y="66"/>
                  </a:lnTo>
                  <a:lnTo>
                    <a:pt x="341" y="58"/>
                  </a:lnTo>
                  <a:lnTo>
                    <a:pt x="333" y="49"/>
                  </a:lnTo>
                  <a:lnTo>
                    <a:pt x="324" y="41"/>
                  </a:lnTo>
                  <a:lnTo>
                    <a:pt x="316" y="41"/>
                  </a:lnTo>
                  <a:lnTo>
                    <a:pt x="308" y="33"/>
                  </a:lnTo>
                  <a:lnTo>
                    <a:pt x="299" y="24"/>
                  </a:lnTo>
                  <a:lnTo>
                    <a:pt x="290" y="24"/>
                  </a:lnTo>
                  <a:lnTo>
                    <a:pt x="282" y="16"/>
                  </a:lnTo>
                  <a:lnTo>
                    <a:pt x="265" y="16"/>
                  </a:lnTo>
                  <a:lnTo>
                    <a:pt x="257" y="8"/>
                  </a:lnTo>
                  <a:lnTo>
                    <a:pt x="249" y="8"/>
                  </a:lnTo>
                  <a:lnTo>
                    <a:pt x="232" y="8"/>
                  </a:lnTo>
                  <a:lnTo>
                    <a:pt x="224" y="0"/>
                  </a:lnTo>
                  <a:lnTo>
                    <a:pt x="216" y="0"/>
                  </a:lnTo>
                  <a:lnTo>
                    <a:pt x="199" y="0"/>
                  </a:lnTo>
                  <a:lnTo>
                    <a:pt x="191" y="0"/>
                  </a:lnTo>
                  <a:lnTo>
                    <a:pt x="183" y="0"/>
                  </a:lnTo>
                  <a:lnTo>
                    <a:pt x="166" y="8"/>
                  </a:lnTo>
                  <a:lnTo>
                    <a:pt x="158" y="8"/>
                  </a:lnTo>
                  <a:lnTo>
                    <a:pt x="150" y="8"/>
                  </a:lnTo>
                  <a:lnTo>
                    <a:pt x="141" y="16"/>
                  </a:lnTo>
                  <a:lnTo>
                    <a:pt x="125" y="16"/>
                  </a:lnTo>
                  <a:lnTo>
                    <a:pt x="116" y="24"/>
                  </a:lnTo>
                  <a:lnTo>
                    <a:pt x="108" y="24"/>
                  </a:lnTo>
                  <a:lnTo>
                    <a:pt x="99" y="33"/>
                  </a:lnTo>
                  <a:lnTo>
                    <a:pt x="91" y="41"/>
                  </a:lnTo>
                  <a:lnTo>
                    <a:pt x="74" y="41"/>
                  </a:lnTo>
                  <a:lnTo>
                    <a:pt x="66" y="49"/>
                  </a:lnTo>
                  <a:lnTo>
                    <a:pt x="57" y="58"/>
                  </a:lnTo>
                  <a:lnTo>
                    <a:pt x="49" y="66"/>
                  </a:lnTo>
                  <a:lnTo>
                    <a:pt x="49" y="74"/>
                  </a:lnTo>
                  <a:lnTo>
                    <a:pt x="41" y="82"/>
                  </a:lnTo>
                  <a:lnTo>
                    <a:pt x="33" y="91"/>
                  </a:lnTo>
                  <a:lnTo>
                    <a:pt x="24" y="99"/>
                  </a:lnTo>
                  <a:lnTo>
                    <a:pt x="24" y="108"/>
                  </a:lnTo>
                  <a:lnTo>
                    <a:pt x="16" y="125"/>
                  </a:lnTo>
                  <a:lnTo>
                    <a:pt x="8" y="133"/>
                  </a:lnTo>
                  <a:lnTo>
                    <a:pt x="8" y="141"/>
                  </a:lnTo>
                  <a:lnTo>
                    <a:pt x="8" y="150"/>
                  </a:lnTo>
                  <a:lnTo>
                    <a:pt x="0" y="166"/>
                  </a:lnTo>
                  <a:lnTo>
                    <a:pt x="0" y="175"/>
                  </a:lnTo>
                  <a:lnTo>
                    <a:pt x="0" y="183"/>
                  </a:lnTo>
                  <a:lnTo>
                    <a:pt x="0" y="199"/>
                  </a:lnTo>
                  <a:lnTo>
                    <a:pt x="0" y="208"/>
                  </a:lnTo>
                  <a:lnTo>
                    <a:pt x="0" y="216"/>
                  </a:lnTo>
                  <a:lnTo>
                    <a:pt x="0" y="233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8" y="266"/>
                  </a:lnTo>
                  <a:lnTo>
                    <a:pt x="8" y="274"/>
                  </a:lnTo>
                  <a:lnTo>
                    <a:pt x="8" y="282"/>
                  </a:lnTo>
                  <a:lnTo>
                    <a:pt x="16" y="291"/>
                  </a:lnTo>
                  <a:lnTo>
                    <a:pt x="24" y="307"/>
                  </a:lnTo>
                  <a:lnTo>
                    <a:pt x="24" y="317"/>
                  </a:lnTo>
                  <a:lnTo>
                    <a:pt x="33" y="325"/>
                  </a:lnTo>
                  <a:lnTo>
                    <a:pt x="41" y="333"/>
                  </a:lnTo>
                  <a:lnTo>
                    <a:pt x="49" y="341"/>
                  </a:lnTo>
                  <a:lnTo>
                    <a:pt x="49" y="350"/>
                  </a:lnTo>
                  <a:lnTo>
                    <a:pt x="57" y="358"/>
                  </a:lnTo>
                  <a:lnTo>
                    <a:pt x="66" y="366"/>
                  </a:lnTo>
                  <a:lnTo>
                    <a:pt x="74" y="375"/>
                  </a:lnTo>
                  <a:lnTo>
                    <a:pt x="91" y="383"/>
                  </a:lnTo>
                  <a:lnTo>
                    <a:pt x="99" y="383"/>
                  </a:lnTo>
                  <a:lnTo>
                    <a:pt x="108" y="391"/>
                  </a:lnTo>
                  <a:lnTo>
                    <a:pt x="116" y="399"/>
                  </a:lnTo>
                  <a:lnTo>
                    <a:pt x="125" y="399"/>
                  </a:lnTo>
                  <a:lnTo>
                    <a:pt x="141" y="408"/>
                  </a:lnTo>
                  <a:lnTo>
                    <a:pt x="150" y="408"/>
                  </a:lnTo>
                  <a:lnTo>
                    <a:pt x="158" y="408"/>
                  </a:lnTo>
                  <a:lnTo>
                    <a:pt x="166" y="416"/>
                  </a:lnTo>
                  <a:lnTo>
                    <a:pt x="183" y="416"/>
                  </a:lnTo>
                  <a:lnTo>
                    <a:pt x="191" y="416"/>
                  </a:lnTo>
                  <a:lnTo>
                    <a:pt x="199" y="416"/>
                  </a:lnTo>
                  <a:lnTo>
                    <a:pt x="216" y="416"/>
                  </a:lnTo>
                  <a:lnTo>
                    <a:pt x="224" y="416"/>
                  </a:lnTo>
                  <a:lnTo>
                    <a:pt x="232" y="416"/>
                  </a:lnTo>
                  <a:lnTo>
                    <a:pt x="249" y="408"/>
                  </a:lnTo>
                  <a:lnTo>
                    <a:pt x="257" y="408"/>
                  </a:lnTo>
                  <a:lnTo>
                    <a:pt x="265" y="408"/>
                  </a:lnTo>
                  <a:lnTo>
                    <a:pt x="282" y="399"/>
                  </a:lnTo>
                  <a:lnTo>
                    <a:pt x="290" y="399"/>
                  </a:lnTo>
                  <a:lnTo>
                    <a:pt x="299" y="391"/>
                  </a:lnTo>
                  <a:lnTo>
                    <a:pt x="308" y="383"/>
                  </a:lnTo>
                  <a:lnTo>
                    <a:pt x="316" y="383"/>
                  </a:lnTo>
                  <a:lnTo>
                    <a:pt x="324" y="375"/>
                  </a:lnTo>
                  <a:lnTo>
                    <a:pt x="333" y="366"/>
                  </a:lnTo>
                  <a:lnTo>
                    <a:pt x="341" y="358"/>
                  </a:lnTo>
                  <a:lnTo>
                    <a:pt x="349" y="350"/>
                  </a:lnTo>
                  <a:lnTo>
                    <a:pt x="358" y="341"/>
                  </a:lnTo>
                  <a:lnTo>
                    <a:pt x="366" y="333"/>
                  </a:lnTo>
                  <a:lnTo>
                    <a:pt x="374" y="325"/>
                  </a:lnTo>
                  <a:lnTo>
                    <a:pt x="382" y="317"/>
                  </a:lnTo>
                  <a:lnTo>
                    <a:pt x="382" y="307"/>
                  </a:lnTo>
                  <a:lnTo>
                    <a:pt x="391" y="291"/>
                  </a:lnTo>
                  <a:lnTo>
                    <a:pt x="391" y="282"/>
                  </a:lnTo>
                  <a:lnTo>
                    <a:pt x="399" y="274"/>
                  </a:lnTo>
                  <a:lnTo>
                    <a:pt x="399" y="266"/>
                  </a:lnTo>
                  <a:lnTo>
                    <a:pt x="407" y="249"/>
                  </a:lnTo>
                  <a:lnTo>
                    <a:pt x="407" y="241"/>
                  </a:lnTo>
                  <a:lnTo>
                    <a:pt x="407" y="233"/>
                  </a:lnTo>
                  <a:lnTo>
                    <a:pt x="407" y="216"/>
                  </a:lnTo>
                  <a:lnTo>
                    <a:pt x="407" y="208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4" name=""/>
          <p:cNvSpPr/>
          <p:nvPr/>
        </p:nvSpPr>
        <p:spPr>
          <a:xfrm>
            <a:off x="3713040" y="3125880"/>
            <a:ext cx="4067640" cy="1686240"/>
          </a:xfrm>
          <a:custGeom>
            <a:avLst/>
            <a:gdLst/>
            <a:ahLst/>
            <a:rect l="0" t="0" r="r" b="b"/>
            <a:pathLst>
              <a:path fill="none" w="11299" h="4684">
                <a:moveTo>
                  <a:pt x="0" y="0"/>
                </a:moveTo>
                <a:lnTo>
                  <a:pt x="0" y="4684"/>
                </a:lnTo>
                <a:lnTo>
                  <a:pt x="11299" y="4684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 flipH="1" flipV="1">
            <a:off x="2728800" y="2990880"/>
            <a:ext cx="1676520" cy="9795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 flipH="1">
            <a:off x="2728800" y="4118040"/>
            <a:ext cx="18846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984480" y="5192640"/>
            <a:ext cx="432000" cy="298800"/>
          </a:xfrm>
          <a:custGeom>
            <a:avLst/>
            <a:gdLst/>
            <a:ahLst/>
            <a:rect l="0" t="0" r="r" b="b"/>
            <a:pathLst>
              <a:path fill="none" w="1200" h="830">
                <a:moveTo>
                  <a:pt x="0" y="830"/>
                </a:moveTo>
                <a:lnTo>
                  <a:pt x="0" y="0"/>
                </a:lnTo>
                <a:lnTo>
                  <a:pt x="1200" y="0"/>
                </a:lnTo>
                <a:lnTo>
                  <a:pt x="1200" y="830"/>
                </a:lnTo>
                <a:lnTo>
                  <a:pt x="0" y="83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 flipH="1">
            <a:off x="2728800" y="4811760"/>
            <a:ext cx="8654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2847960" y="5065560"/>
            <a:ext cx="0" cy="2509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713040" y="4930920"/>
            <a:ext cx="0" cy="5158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3459240" y="5284800"/>
            <a:ext cx="254520" cy="82800"/>
          </a:xfrm>
          <a:custGeom>
            <a:avLst/>
            <a:gdLst/>
            <a:ahLst/>
            <a:rect l="0" t="0" r="r" b="b"/>
            <a:pathLst>
              <a:path w="707" h="230">
                <a:moveTo>
                  <a:pt x="0" y="0"/>
                </a:moveTo>
                <a:lnTo>
                  <a:pt x="0" y="230"/>
                </a:lnTo>
                <a:lnTo>
                  <a:pt x="707" y="121"/>
                </a:lnTo>
                <a:lnTo>
                  <a:pt x="0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 flipH="1">
            <a:off x="3208320" y="5327640"/>
            <a:ext cx="2509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2803680" y="4811760"/>
            <a:ext cx="84600" cy="254520"/>
          </a:xfrm>
          <a:custGeom>
            <a:avLst/>
            <a:gdLst/>
            <a:ahLst/>
            <a:rect l="0" t="0" r="r" b="b"/>
            <a:pathLst>
              <a:path w="235" h="707">
                <a:moveTo>
                  <a:pt x="0" y="707"/>
                </a:moveTo>
                <a:lnTo>
                  <a:pt x="235" y="707"/>
                </a:lnTo>
                <a:lnTo>
                  <a:pt x="123" y="0"/>
                </a:lnTo>
                <a:lnTo>
                  <a:pt x="0" y="707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2576520" y="4307040"/>
            <a:ext cx="411480" cy="319320"/>
          </a:xfrm>
          <a:custGeom>
            <a:avLst/>
            <a:gdLst/>
            <a:ahLst/>
            <a:rect l="0" t="0" r="r" b="b"/>
            <a:pathLst>
              <a:path fill="none" w="1143" h="887">
                <a:moveTo>
                  <a:pt x="0" y="887"/>
                </a:moveTo>
                <a:lnTo>
                  <a:pt x="0" y="0"/>
                </a:lnTo>
                <a:lnTo>
                  <a:pt x="1143" y="0"/>
                </a:lnTo>
                <a:lnTo>
                  <a:pt x="1143" y="887"/>
                </a:lnTo>
                <a:lnTo>
                  <a:pt x="0" y="887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2803680" y="3863880"/>
            <a:ext cx="84600" cy="254520"/>
          </a:xfrm>
          <a:custGeom>
            <a:avLst/>
            <a:gdLst/>
            <a:ahLst/>
            <a:rect l="0" t="0" r="r" b="b"/>
            <a:pathLst>
              <a:path w="235" h="707">
                <a:moveTo>
                  <a:pt x="0" y="0"/>
                </a:moveTo>
                <a:lnTo>
                  <a:pt x="235" y="0"/>
                </a:lnTo>
                <a:lnTo>
                  <a:pt x="123" y="707"/>
                </a:lnTo>
                <a:lnTo>
                  <a:pt x="0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2847960" y="3613320"/>
            <a:ext cx="0" cy="2505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4673520" y="4168800"/>
            <a:ext cx="0" cy="12780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4673520" y="5284800"/>
            <a:ext cx="249480" cy="82800"/>
          </a:xfrm>
          <a:custGeom>
            <a:avLst/>
            <a:gdLst/>
            <a:ahLst/>
            <a:rect l="0" t="0" r="r" b="b"/>
            <a:pathLst>
              <a:path w="693" h="230">
                <a:moveTo>
                  <a:pt x="693" y="0"/>
                </a:moveTo>
                <a:lnTo>
                  <a:pt x="693" y="230"/>
                </a:lnTo>
                <a:lnTo>
                  <a:pt x="0" y="121"/>
                </a:lnTo>
                <a:lnTo>
                  <a:pt x="693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31680" bIns="31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4923000" y="5327640"/>
            <a:ext cx="2538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 flipH="1" flipV="1">
            <a:off x="4478400" y="3919680"/>
            <a:ext cx="393480" cy="39204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4478400" y="3919680"/>
            <a:ext cx="393480" cy="39204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 flipH="1">
            <a:off x="3713040" y="3125880"/>
            <a:ext cx="23259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 flipH="1" flipV="1">
            <a:off x="2141640" y="2065320"/>
            <a:ext cx="214200" cy="5079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2086200" y="2475000"/>
            <a:ext cx="686160" cy="690840"/>
          </a:xfrm>
          <a:custGeom>
            <a:avLst/>
            <a:gdLst/>
            <a:ahLst/>
            <a:rect l="0" t="0" r="r" b="b"/>
            <a:pathLst>
              <a:path fill="none" w="1906" h="1919">
                <a:moveTo>
                  <a:pt x="1906" y="960"/>
                </a:moveTo>
                <a:lnTo>
                  <a:pt x="1906" y="926"/>
                </a:lnTo>
                <a:lnTo>
                  <a:pt x="1906" y="903"/>
                </a:lnTo>
                <a:lnTo>
                  <a:pt x="1906" y="870"/>
                </a:lnTo>
                <a:lnTo>
                  <a:pt x="1906" y="848"/>
                </a:lnTo>
                <a:lnTo>
                  <a:pt x="1894" y="815"/>
                </a:lnTo>
                <a:lnTo>
                  <a:pt x="1894" y="793"/>
                </a:lnTo>
                <a:lnTo>
                  <a:pt x="1883" y="760"/>
                </a:lnTo>
                <a:lnTo>
                  <a:pt x="1883" y="727"/>
                </a:lnTo>
                <a:lnTo>
                  <a:pt x="1872" y="705"/>
                </a:lnTo>
                <a:lnTo>
                  <a:pt x="1872" y="683"/>
                </a:lnTo>
                <a:lnTo>
                  <a:pt x="1861" y="650"/>
                </a:lnTo>
                <a:lnTo>
                  <a:pt x="1850" y="628"/>
                </a:lnTo>
                <a:lnTo>
                  <a:pt x="1839" y="595"/>
                </a:lnTo>
                <a:lnTo>
                  <a:pt x="1828" y="573"/>
                </a:lnTo>
                <a:lnTo>
                  <a:pt x="1817" y="551"/>
                </a:lnTo>
                <a:lnTo>
                  <a:pt x="1806" y="518"/>
                </a:lnTo>
                <a:lnTo>
                  <a:pt x="1795" y="496"/>
                </a:lnTo>
                <a:lnTo>
                  <a:pt x="1773" y="474"/>
                </a:lnTo>
                <a:lnTo>
                  <a:pt x="1762" y="451"/>
                </a:lnTo>
                <a:lnTo>
                  <a:pt x="1751" y="418"/>
                </a:lnTo>
                <a:lnTo>
                  <a:pt x="1729" y="396"/>
                </a:lnTo>
                <a:lnTo>
                  <a:pt x="1718" y="374"/>
                </a:lnTo>
                <a:lnTo>
                  <a:pt x="1696" y="352"/>
                </a:lnTo>
                <a:lnTo>
                  <a:pt x="1674" y="330"/>
                </a:lnTo>
                <a:lnTo>
                  <a:pt x="1663" y="308"/>
                </a:lnTo>
                <a:lnTo>
                  <a:pt x="1641" y="286"/>
                </a:lnTo>
                <a:lnTo>
                  <a:pt x="1619" y="275"/>
                </a:lnTo>
                <a:lnTo>
                  <a:pt x="1597" y="253"/>
                </a:lnTo>
                <a:lnTo>
                  <a:pt x="1575" y="231"/>
                </a:lnTo>
                <a:lnTo>
                  <a:pt x="1553" y="220"/>
                </a:lnTo>
                <a:lnTo>
                  <a:pt x="1531" y="198"/>
                </a:lnTo>
                <a:lnTo>
                  <a:pt x="1509" y="176"/>
                </a:lnTo>
                <a:lnTo>
                  <a:pt x="1487" y="165"/>
                </a:lnTo>
                <a:lnTo>
                  <a:pt x="1465" y="154"/>
                </a:lnTo>
                <a:lnTo>
                  <a:pt x="1443" y="132"/>
                </a:lnTo>
                <a:lnTo>
                  <a:pt x="1421" y="121"/>
                </a:lnTo>
                <a:lnTo>
                  <a:pt x="1388" y="110"/>
                </a:lnTo>
                <a:lnTo>
                  <a:pt x="1366" y="99"/>
                </a:lnTo>
                <a:lnTo>
                  <a:pt x="1344" y="88"/>
                </a:lnTo>
                <a:lnTo>
                  <a:pt x="1311" y="66"/>
                </a:lnTo>
                <a:lnTo>
                  <a:pt x="1289" y="66"/>
                </a:lnTo>
                <a:lnTo>
                  <a:pt x="1256" y="55"/>
                </a:lnTo>
                <a:lnTo>
                  <a:pt x="1234" y="44"/>
                </a:lnTo>
                <a:lnTo>
                  <a:pt x="1212" y="33"/>
                </a:lnTo>
                <a:lnTo>
                  <a:pt x="1179" y="33"/>
                </a:lnTo>
                <a:lnTo>
                  <a:pt x="1157" y="22"/>
                </a:lnTo>
                <a:lnTo>
                  <a:pt x="1124" y="22"/>
                </a:lnTo>
                <a:lnTo>
                  <a:pt x="1102" y="11"/>
                </a:lnTo>
                <a:lnTo>
                  <a:pt x="1069" y="11"/>
                </a:lnTo>
                <a:lnTo>
                  <a:pt x="1036" y="0"/>
                </a:lnTo>
                <a:lnTo>
                  <a:pt x="1014" y="0"/>
                </a:lnTo>
                <a:lnTo>
                  <a:pt x="981" y="0"/>
                </a:lnTo>
                <a:lnTo>
                  <a:pt x="959" y="0"/>
                </a:lnTo>
                <a:lnTo>
                  <a:pt x="924" y="0"/>
                </a:lnTo>
                <a:lnTo>
                  <a:pt x="902" y="0"/>
                </a:lnTo>
                <a:lnTo>
                  <a:pt x="869" y="0"/>
                </a:lnTo>
                <a:lnTo>
                  <a:pt x="836" y="11"/>
                </a:lnTo>
                <a:lnTo>
                  <a:pt x="814" y="11"/>
                </a:lnTo>
                <a:lnTo>
                  <a:pt x="781" y="22"/>
                </a:lnTo>
                <a:lnTo>
                  <a:pt x="759" y="22"/>
                </a:lnTo>
                <a:lnTo>
                  <a:pt x="726" y="33"/>
                </a:lnTo>
                <a:lnTo>
                  <a:pt x="704" y="33"/>
                </a:lnTo>
                <a:lnTo>
                  <a:pt x="671" y="44"/>
                </a:lnTo>
                <a:lnTo>
                  <a:pt x="649" y="55"/>
                </a:lnTo>
                <a:lnTo>
                  <a:pt x="627" y="66"/>
                </a:lnTo>
                <a:lnTo>
                  <a:pt x="594" y="66"/>
                </a:lnTo>
                <a:lnTo>
                  <a:pt x="572" y="88"/>
                </a:lnTo>
                <a:lnTo>
                  <a:pt x="539" y="99"/>
                </a:lnTo>
                <a:lnTo>
                  <a:pt x="517" y="110"/>
                </a:lnTo>
                <a:lnTo>
                  <a:pt x="495" y="121"/>
                </a:lnTo>
                <a:lnTo>
                  <a:pt x="473" y="132"/>
                </a:lnTo>
                <a:lnTo>
                  <a:pt x="440" y="154"/>
                </a:lnTo>
                <a:lnTo>
                  <a:pt x="418" y="165"/>
                </a:lnTo>
                <a:lnTo>
                  <a:pt x="396" y="176"/>
                </a:lnTo>
                <a:lnTo>
                  <a:pt x="374" y="198"/>
                </a:lnTo>
                <a:lnTo>
                  <a:pt x="352" y="220"/>
                </a:lnTo>
                <a:lnTo>
                  <a:pt x="330" y="231"/>
                </a:lnTo>
                <a:lnTo>
                  <a:pt x="308" y="253"/>
                </a:lnTo>
                <a:lnTo>
                  <a:pt x="286" y="275"/>
                </a:lnTo>
                <a:lnTo>
                  <a:pt x="275" y="286"/>
                </a:lnTo>
                <a:lnTo>
                  <a:pt x="253" y="308"/>
                </a:lnTo>
                <a:lnTo>
                  <a:pt x="231" y="330"/>
                </a:lnTo>
                <a:lnTo>
                  <a:pt x="209" y="352"/>
                </a:lnTo>
                <a:lnTo>
                  <a:pt x="198" y="374"/>
                </a:lnTo>
                <a:lnTo>
                  <a:pt x="176" y="396"/>
                </a:lnTo>
                <a:lnTo>
                  <a:pt x="165" y="418"/>
                </a:lnTo>
                <a:lnTo>
                  <a:pt x="143" y="451"/>
                </a:lnTo>
                <a:lnTo>
                  <a:pt x="132" y="474"/>
                </a:lnTo>
                <a:lnTo>
                  <a:pt x="121" y="496"/>
                </a:lnTo>
                <a:lnTo>
                  <a:pt x="110" y="518"/>
                </a:lnTo>
                <a:lnTo>
                  <a:pt x="99" y="551"/>
                </a:lnTo>
                <a:lnTo>
                  <a:pt x="77" y="573"/>
                </a:lnTo>
                <a:lnTo>
                  <a:pt x="66" y="595"/>
                </a:lnTo>
                <a:lnTo>
                  <a:pt x="66" y="628"/>
                </a:lnTo>
                <a:lnTo>
                  <a:pt x="55" y="650"/>
                </a:lnTo>
                <a:lnTo>
                  <a:pt x="44" y="683"/>
                </a:lnTo>
                <a:lnTo>
                  <a:pt x="33" y="705"/>
                </a:lnTo>
                <a:lnTo>
                  <a:pt x="33" y="727"/>
                </a:lnTo>
                <a:lnTo>
                  <a:pt x="22" y="760"/>
                </a:lnTo>
                <a:lnTo>
                  <a:pt x="22" y="793"/>
                </a:lnTo>
                <a:lnTo>
                  <a:pt x="11" y="815"/>
                </a:lnTo>
                <a:lnTo>
                  <a:pt x="11" y="848"/>
                </a:lnTo>
                <a:lnTo>
                  <a:pt x="0" y="870"/>
                </a:lnTo>
                <a:lnTo>
                  <a:pt x="0" y="903"/>
                </a:lnTo>
                <a:lnTo>
                  <a:pt x="0" y="926"/>
                </a:lnTo>
                <a:lnTo>
                  <a:pt x="0" y="960"/>
                </a:lnTo>
                <a:lnTo>
                  <a:pt x="0" y="982"/>
                </a:lnTo>
                <a:lnTo>
                  <a:pt x="0" y="1015"/>
                </a:lnTo>
                <a:lnTo>
                  <a:pt x="0" y="1048"/>
                </a:lnTo>
                <a:lnTo>
                  <a:pt x="11" y="1070"/>
                </a:lnTo>
                <a:lnTo>
                  <a:pt x="11" y="1103"/>
                </a:lnTo>
                <a:lnTo>
                  <a:pt x="22" y="1125"/>
                </a:lnTo>
                <a:lnTo>
                  <a:pt x="22" y="1158"/>
                </a:lnTo>
                <a:lnTo>
                  <a:pt x="33" y="1180"/>
                </a:lnTo>
                <a:lnTo>
                  <a:pt x="33" y="1213"/>
                </a:lnTo>
                <a:lnTo>
                  <a:pt x="44" y="1235"/>
                </a:lnTo>
                <a:lnTo>
                  <a:pt x="55" y="1268"/>
                </a:lnTo>
                <a:lnTo>
                  <a:pt x="66" y="1290"/>
                </a:lnTo>
                <a:lnTo>
                  <a:pt x="66" y="1312"/>
                </a:lnTo>
                <a:lnTo>
                  <a:pt x="77" y="1345"/>
                </a:lnTo>
                <a:lnTo>
                  <a:pt x="99" y="1368"/>
                </a:lnTo>
                <a:lnTo>
                  <a:pt x="110" y="1401"/>
                </a:lnTo>
                <a:lnTo>
                  <a:pt x="121" y="1423"/>
                </a:lnTo>
                <a:lnTo>
                  <a:pt x="132" y="1445"/>
                </a:lnTo>
                <a:lnTo>
                  <a:pt x="143" y="1467"/>
                </a:lnTo>
                <a:lnTo>
                  <a:pt x="165" y="1489"/>
                </a:lnTo>
                <a:lnTo>
                  <a:pt x="176" y="1511"/>
                </a:lnTo>
                <a:lnTo>
                  <a:pt x="198" y="1544"/>
                </a:lnTo>
                <a:lnTo>
                  <a:pt x="209" y="1566"/>
                </a:lnTo>
                <a:lnTo>
                  <a:pt x="231" y="1588"/>
                </a:lnTo>
                <a:lnTo>
                  <a:pt x="253" y="1599"/>
                </a:lnTo>
                <a:lnTo>
                  <a:pt x="275" y="1621"/>
                </a:lnTo>
                <a:lnTo>
                  <a:pt x="286" y="1643"/>
                </a:lnTo>
                <a:lnTo>
                  <a:pt x="308" y="1665"/>
                </a:lnTo>
                <a:lnTo>
                  <a:pt x="330" y="1687"/>
                </a:lnTo>
                <a:lnTo>
                  <a:pt x="352" y="1698"/>
                </a:lnTo>
                <a:lnTo>
                  <a:pt x="374" y="1720"/>
                </a:lnTo>
                <a:lnTo>
                  <a:pt x="396" y="1731"/>
                </a:lnTo>
                <a:lnTo>
                  <a:pt x="418" y="1753"/>
                </a:lnTo>
                <a:lnTo>
                  <a:pt x="440" y="1764"/>
                </a:lnTo>
                <a:lnTo>
                  <a:pt x="473" y="1786"/>
                </a:lnTo>
                <a:lnTo>
                  <a:pt x="495" y="1797"/>
                </a:lnTo>
                <a:lnTo>
                  <a:pt x="517" y="1808"/>
                </a:lnTo>
                <a:lnTo>
                  <a:pt x="539" y="1820"/>
                </a:lnTo>
                <a:lnTo>
                  <a:pt x="572" y="1831"/>
                </a:lnTo>
                <a:lnTo>
                  <a:pt x="594" y="1842"/>
                </a:lnTo>
                <a:lnTo>
                  <a:pt x="627" y="1853"/>
                </a:lnTo>
                <a:lnTo>
                  <a:pt x="649" y="1864"/>
                </a:lnTo>
                <a:lnTo>
                  <a:pt x="671" y="1875"/>
                </a:lnTo>
                <a:lnTo>
                  <a:pt x="704" y="1886"/>
                </a:lnTo>
                <a:lnTo>
                  <a:pt x="726" y="1886"/>
                </a:lnTo>
                <a:lnTo>
                  <a:pt x="759" y="1897"/>
                </a:lnTo>
                <a:lnTo>
                  <a:pt x="781" y="1897"/>
                </a:lnTo>
                <a:lnTo>
                  <a:pt x="814" y="1908"/>
                </a:lnTo>
                <a:lnTo>
                  <a:pt x="836" y="1908"/>
                </a:lnTo>
                <a:lnTo>
                  <a:pt x="869" y="1908"/>
                </a:lnTo>
                <a:lnTo>
                  <a:pt x="902" y="1908"/>
                </a:lnTo>
                <a:lnTo>
                  <a:pt x="924" y="1919"/>
                </a:lnTo>
                <a:lnTo>
                  <a:pt x="959" y="1919"/>
                </a:lnTo>
                <a:lnTo>
                  <a:pt x="981" y="1919"/>
                </a:lnTo>
                <a:lnTo>
                  <a:pt x="1014" y="1908"/>
                </a:lnTo>
                <a:lnTo>
                  <a:pt x="1036" y="1908"/>
                </a:lnTo>
                <a:lnTo>
                  <a:pt x="1069" y="1908"/>
                </a:lnTo>
                <a:lnTo>
                  <a:pt x="1102" y="1908"/>
                </a:lnTo>
                <a:lnTo>
                  <a:pt x="1124" y="1897"/>
                </a:lnTo>
                <a:lnTo>
                  <a:pt x="1157" y="1897"/>
                </a:lnTo>
                <a:lnTo>
                  <a:pt x="1179" y="1886"/>
                </a:lnTo>
                <a:lnTo>
                  <a:pt x="1212" y="1886"/>
                </a:lnTo>
                <a:lnTo>
                  <a:pt x="1234" y="1875"/>
                </a:lnTo>
                <a:lnTo>
                  <a:pt x="1256" y="1864"/>
                </a:lnTo>
                <a:lnTo>
                  <a:pt x="1289" y="1853"/>
                </a:lnTo>
                <a:lnTo>
                  <a:pt x="1311" y="1842"/>
                </a:lnTo>
                <a:lnTo>
                  <a:pt x="1344" y="1831"/>
                </a:lnTo>
                <a:lnTo>
                  <a:pt x="1366" y="1820"/>
                </a:lnTo>
                <a:lnTo>
                  <a:pt x="1388" y="1808"/>
                </a:lnTo>
                <a:lnTo>
                  <a:pt x="1421" y="1797"/>
                </a:lnTo>
                <a:lnTo>
                  <a:pt x="1443" y="1786"/>
                </a:lnTo>
                <a:lnTo>
                  <a:pt x="1465" y="1764"/>
                </a:lnTo>
                <a:lnTo>
                  <a:pt x="1487" y="1753"/>
                </a:lnTo>
                <a:lnTo>
                  <a:pt x="1509" y="1731"/>
                </a:lnTo>
                <a:lnTo>
                  <a:pt x="1531" y="1720"/>
                </a:lnTo>
                <a:lnTo>
                  <a:pt x="1553" y="1698"/>
                </a:lnTo>
                <a:lnTo>
                  <a:pt x="1575" y="1687"/>
                </a:lnTo>
                <a:lnTo>
                  <a:pt x="1597" y="1665"/>
                </a:lnTo>
                <a:lnTo>
                  <a:pt x="1619" y="1643"/>
                </a:lnTo>
                <a:lnTo>
                  <a:pt x="1641" y="1621"/>
                </a:lnTo>
                <a:lnTo>
                  <a:pt x="1663" y="1599"/>
                </a:lnTo>
                <a:lnTo>
                  <a:pt x="1674" y="1588"/>
                </a:lnTo>
                <a:lnTo>
                  <a:pt x="1696" y="1566"/>
                </a:lnTo>
                <a:lnTo>
                  <a:pt x="1718" y="1544"/>
                </a:lnTo>
                <a:lnTo>
                  <a:pt x="1729" y="1511"/>
                </a:lnTo>
                <a:lnTo>
                  <a:pt x="1751" y="1489"/>
                </a:lnTo>
                <a:lnTo>
                  <a:pt x="1762" y="1467"/>
                </a:lnTo>
                <a:lnTo>
                  <a:pt x="1773" y="1445"/>
                </a:lnTo>
                <a:lnTo>
                  <a:pt x="1795" y="1423"/>
                </a:lnTo>
                <a:lnTo>
                  <a:pt x="1806" y="1401"/>
                </a:lnTo>
                <a:lnTo>
                  <a:pt x="1817" y="1368"/>
                </a:lnTo>
                <a:lnTo>
                  <a:pt x="1828" y="1345"/>
                </a:lnTo>
                <a:lnTo>
                  <a:pt x="1839" y="1312"/>
                </a:lnTo>
                <a:lnTo>
                  <a:pt x="1850" y="1290"/>
                </a:lnTo>
                <a:lnTo>
                  <a:pt x="1861" y="1268"/>
                </a:lnTo>
                <a:lnTo>
                  <a:pt x="1872" y="1235"/>
                </a:lnTo>
                <a:lnTo>
                  <a:pt x="1872" y="1213"/>
                </a:lnTo>
                <a:lnTo>
                  <a:pt x="1883" y="1180"/>
                </a:lnTo>
                <a:lnTo>
                  <a:pt x="1883" y="1158"/>
                </a:lnTo>
                <a:lnTo>
                  <a:pt x="1894" y="1125"/>
                </a:lnTo>
                <a:lnTo>
                  <a:pt x="1894" y="1103"/>
                </a:lnTo>
                <a:lnTo>
                  <a:pt x="1906" y="1070"/>
                </a:lnTo>
                <a:lnTo>
                  <a:pt x="1906" y="1048"/>
                </a:lnTo>
                <a:lnTo>
                  <a:pt x="1906" y="1015"/>
                </a:lnTo>
                <a:lnTo>
                  <a:pt x="1906" y="982"/>
                </a:lnTo>
                <a:lnTo>
                  <a:pt x="1906" y="96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2085840" y="2819520"/>
            <a:ext cx="6858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403360" y="2689200"/>
            <a:ext cx="27360" cy="59040"/>
          </a:xfrm>
          <a:custGeom>
            <a:avLst/>
            <a:gdLst/>
            <a:ahLst/>
            <a:rect l="0" t="0" r="r" b="b"/>
            <a:pathLst>
              <a:path w="76" h="164">
                <a:moveTo>
                  <a:pt x="66" y="164"/>
                </a:moveTo>
                <a:lnTo>
                  <a:pt x="76" y="153"/>
                </a:lnTo>
                <a:lnTo>
                  <a:pt x="0" y="0"/>
                </a:lnTo>
                <a:lnTo>
                  <a:pt x="66" y="16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2403360" y="2689200"/>
            <a:ext cx="32040" cy="55800"/>
          </a:xfrm>
          <a:custGeom>
            <a:avLst/>
            <a:gdLst/>
            <a:ahLst/>
            <a:rect l="0" t="0" r="r" b="b"/>
            <a:pathLst>
              <a:path w="89" h="155">
                <a:moveTo>
                  <a:pt x="78" y="155"/>
                </a:moveTo>
                <a:lnTo>
                  <a:pt x="89" y="155"/>
                </a:lnTo>
                <a:lnTo>
                  <a:pt x="0" y="0"/>
                </a:lnTo>
                <a:lnTo>
                  <a:pt x="78" y="15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2403360" y="2689200"/>
            <a:ext cx="35280" cy="55800"/>
          </a:xfrm>
          <a:custGeom>
            <a:avLst/>
            <a:gdLst/>
            <a:ahLst/>
            <a:rect l="0" t="0" r="r" b="b"/>
            <a:pathLst>
              <a:path w="98" h="155">
                <a:moveTo>
                  <a:pt x="87" y="155"/>
                </a:moveTo>
                <a:lnTo>
                  <a:pt x="98" y="144"/>
                </a:lnTo>
                <a:lnTo>
                  <a:pt x="0" y="0"/>
                </a:lnTo>
                <a:lnTo>
                  <a:pt x="87" y="15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2403360" y="2689200"/>
            <a:ext cx="39960" cy="51120"/>
          </a:xfrm>
          <a:custGeom>
            <a:avLst/>
            <a:gdLst/>
            <a:ahLst/>
            <a:rect l="0" t="0" r="r" b="b"/>
            <a:pathLst>
              <a:path w="111" h="142">
                <a:moveTo>
                  <a:pt x="100" y="142"/>
                </a:moveTo>
                <a:lnTo>
                  <a:pt x="111" y="131"/>
                </a:lnTo>
                <a:lnTo>
                  <a:pt x="0" y="0"/>
                </a:lnTo>
                <a:lnTo>
                  <a:pt x="100" y="14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2403360" y="2689200"/>
            <a:ext cx="43200" cy="47880"/>
          </a:xfrm>
          <a:custGeom>
            <a:avLst/>
            <a:gdLst/>
            <a:ahLst/>
            <a:rect l="0" t="0" r="r" b="b"/>
            <a:pathLst>
              <a:path w="120" h="133">
                <a:moveTo>
                  <a:pt x="109" y="133"/>
                </a:moveTo>
                <a:lnTo>
                  <a:pt x="120" y="133"/>
                </a:lnTo>
                <a:lnTo>
                  <a:pt x="0" y="0"/>
                </a:lnTo>
                <a:lnTo>
                  <a:pt x="109" y="13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2403360" y="2689200"/>
            <a:ext cx="43200" cy="47880"/>
          </a:xfrm>
          <a:custGeom>
            <a:avLst/>
            <a:gdLst/>
            <a:ahLst/>
            <a:rect l="0" t="0" r="r" b="b"/>
            <a:pathLst>
              <a:path w="120" h="133">
                <a:moveTo>
                  <a:pt x="120" y="133"/>
                </a:moveTo>
                <a:lnTo>
                  <a:pt x="120" y="122"/>
                </a:lnTo>
                <a:lnTo>
                  <a:pt x="0" y="0"/>
                </a:lnTo>
                <a:lnTo>
                  <a:pt x="120" y="13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2403360" y="2689200"/>
            <a:ext cx="47880" cy="43200"/>
          </a:xfrm>
          <a:custGeom>
            <a:avLst/>
            <a:gdLst/>
            <a:ahLst/>
            <a:rect l="0" t="0" r="r" b="b"/>
            <a:pathLst>
              <a:path w="133" h="120">
                <a:moveTo>
                  <a:pt x="122" y="120"/>
                </a:moveTo>
                <a:lnTo>
                  <a:pt x="133" y="109"/>
                </a:lnTo>
                <a:lnTo>
                  <a:pt x="0" y="0"/>
                </a:lnTo>
                <a:lnTo>
                  <a:pt x="122" y="12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2403360" y="2689200"/>
            <a:ext cx="51120" cy="39960"/>
          </a:xfrm>
          <a:custGeom>
            <a:avLst/>
            <a:gdLst/>
            <a:ahLst/>
            <a:rect l="0" t="0" r="r" b="b"/>
            <a:pathLst>
              <a:path w="142" h="111">
                <a:moveTo>
                  <a:pt x="131" y="111"/>
                </a:moveTo>
                <a:lnTo>
                  <a:pt x="142" y="100"/>
                </a:lnTo>
                <a:lnTo>
                  <a:pt x="0" y="0"/>
                </a:lnTo>
                <a:lnTo>
                  <a:pt x="131" y="11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403360" y="2689200"/>
            <a:ext cx="51120" cy="35280"/>
          </a:xfrm>
          <a:custGeom>
            <a:avLst/>
            <a:gdLst/>
            <a:ahLst/>
            <a:rect l="0" t="0" r="r" b="b"/>
            <a:pathLst>
              <a:path w="142" h="98">
                <a:moveTo>
                  <a:pt x="142" y="98"/>
                </a:moveTo>
                <a:lnTo>
                  <a:pt x="142" y="87"/>
                </a:lnTo>
                <a:lnTo>
                  <a:pt x="0" y="0"/>
                </a:lnTo>
                <a:lnTo>
                  <a:pt x="142" y="98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15840" bIns="-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2403360" y="2689200"/>
            <a:ext cx="55800" cy="32040"/>
          </a:xfrm>
          <a:custGeom>
            <a:avLst/>
            <a:gdLst/>
            <a:ahLst/>
            <a:rect l="0" t="0" r="r" b="b"/>
            <a:pathLst>
              <a:path w="155" h="89">
                <a:moveTo>
                  <a:pt x="144" y="89"/>
                </a:moveTo>
                <a:lnTo>
                  <a:pt x="155" y="78"/>
                </a:lnTo>
                <a:lnTo>
                  <a:pt x="0" y="0"/>
                </a:lnTo>
                <a:lnTo>
                  <a:pt x="144" y="8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403360" y="2689200"/>
            <a:ext cx="55800" cy="27360"/>
          </a:xfrm>
          <a:custGeom>
            <a:avLst/>
            <a:gdLst/>
            <a:ahLst/>
            <a:rect l="0" t="0" r="r" b="b"/>
            <a:pathLst>
              <a:path w="155" h="76">
                <a:moveTo>
                  <a:pt x="155" y="76"/>
                </a:moveTo>
                <a:lnTo>
                  <a:pt x="155" y="66"/>
                </a:lnTo>
                <a:lnTo>
                  <a:pt x="0" y="0"/>
                </a:lnTo>
                <a:lnTo>
                  <a:pt x="155" y="7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403360" y="2689200"/>
            <a:ext cx="59040" cy="24120"/>
          </a:xfrm>
          <a:custGeom>
            <a:avLst/>
            <a:gdLst/>
            <a:ahLst/>
            <a:rect l="0" t="0" r="r" b="b"/>
            <a:pathLst>
              <a:path w="164" h="67">
                <a:moveTo>
                  <a:pt x="153" y="67"/>
                </a:moveTo>
                <a:lnTo>
                  <a:pt x="164" y="56"/>
                </a:lnTo>
                <a:lnTo>
                  <a:pt x="0" y="0"/>
                </a:lnTo>
                <a:lnTo>
                  <a:pt x="153" y="6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403360" y="2689200"/>
            <a:ext cx="59040" cy="19440"/>
          </a:xfrm>
          <a:custGeom>
            <a:avLst/>
            <a:gdLst/>
            <a:ahLst/>
            <a:rect l="0" t="0" r="r" b="b"/>
            <a:pathLst>
              <a:path w="164" h="54">
                <a:moveTo>
                  <a:pt x="164" y="54"/>
                </a:moveTo>
                <a:lnTo>
                  <a:pt x="164" y="44"/>
                </a:lnTo>
                <a:lnTo>
                  <a:pt x="0" y="0"/>
                </a:lnTo>
                <a:lnTo>
                  <a:pt x="164" y="5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403360" y="2689200"/>
            <a:ext cx="59040" cy="16200"/>
          </a:xfrm>
          <a:custGeom>
            <a:avLst/>
            <a:gdLst/>
            <a:ahLst/>
            <a:rect l="0" t="0" r="r" b="b"/>
            <a:pathLst>
              <a:path w="164" h="45">
                <a:moveTo>
                  <a:pt x="164" y="45"/>
                </a:moveTo>
                <a:lnTo>
                  <a:pt x="164" y="34"/>
                </a:lnTo>
                <a:lnTo>
                  <a:pt x="0" y="0"/>
                </a:lnTo>
                <a:lnTo>
                  <a:pt x="164" y="4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2403360" y="2689200"/>
            <a:ext cx="63720" cy="11520"/>
          </a:xfrm>
          <a:custGeom>
            <a:avLst/>
            <a:gdLst/>
            <a:ahLst/>
            <a:rect l="0" t="0" r="r" b="b"/>
            <a:pathLst>
              <a:path w="177" h="32">
                <a:moveTo>
                  <a:pt x="166" y="32"/>
                </a:moveTo>
                <a:lnTo>
                  <a:pt x="177" y="21"/>
                </a:lnTo>
                <a:lnTo>
                  <a:pt x="0" y="0"/>
                </a:lnTo>
                <a:lnTo>
                  <a:pt x="166" y="3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2403360" y="2689200"/>
            <a:ext cx="63720" cy="8280"/>
          </a:xfrm>
          <a:custGeom>
            <a:avLst/>
            <a:gdLst/>
            <a:ahLst/>
            <a:rect l="0" t="0" r="r" b="b"/>
            <a:pathLst>
              <a:path w="177" h="23">
                <a:moveTo>
                  <a:pt x="177" y="23"/>
                </a:moveTo>
                <a:lnTo>
                  <a:pt x="177" y="12"/>
                </a:lnTo>
                <a:lnTo>
                  <a:pt x="0" y="0"/>
                </a:lnTo>
                <a:lnTo>
                  <a:pt x="177" y="2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42840" bIns="-42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403360" y="2689200"/>
            <a:ext cx="63720" cy="3600"/>
          </a:xfrm>
          <a:custGeom>
            <a:avLst/>
            <a:gdLst/>
            <a:ahLst/>
            <a:rect l="0" t="0" r="r" b="b"/>
            <a:pathLst>
              <a:path w="177" h="10">
                <a:moveTo>
                  <a:pt x="177" y="10"/>
                </a:moveTo>
                <a:lnTo>
                  <a:pt x="177" y="0"/>
                </a:lnTo>
                <a:lnTo>
                  <a:pt x="0" y="0"/>
                </a:lnTo>
                <a:lnTo>
                  <a:pt x="177" y="1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47520" bIns="-47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2403360" y="2684520"/>
            <a:ext cx="63720" cy="5040"/>
          </a:xfrm>
          <a:custGeom>
            <a:avLst/>
            <a:gdLst/>
            <a:ahLst/>
            <a:rect l="0" t="0" r="r" b="b"/>
            <a:pathLst>
              <a:path w="177" h="14">
                <a:moveTo>
                  <a:pt x="177" y="14"/>
                </a:moveTo>
                <a:lnTo>
                  <a:pt x="177" y="0"/>
                </a:lnTo>
                <a:lnTo>
                  <a:pt x="0" y="14"/>
                </a:lnTo>
                <a:lnTo>
                  <a:pt x="177" y="1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46080" bIns="-46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2403360" y="2681280"/>
            <a:ext cx="63720" cy="8280"/>
          </a:xfrm>
          <a:custGeom>
            <a:avLst/>
            <a:gdLst/>
            <a:ahLst/>
            <a:rect l="0" t="0" r="r" b="b"/>
            <a:pathLst>
              <a:path w="177" h="23">
                <a:moveTo>
                  <a:pt x="177" y="12"/>
                </a:moveTo>
                <a:lnTo>
                  <a:pt x="177" y="0"/>
                </a:lnTo>
                <a:lnTo>
                  <a:pt x="0" y="23"/>
                </a:lnTo>
                <a:lnTo>
                  <a:pt x="177" y="1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42840" bIns="-42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2403360" y="2676600"/>
            <a:ext cx="63720" cy="12960"/>
          </a:xfrm>
          <a:custGeom>
            <a:avLst/>
            <a:gdLst/>
            <a:ahLst/>
            <a:rect l="0" t="0" r="r" b="b"/>
            <a:pathLst>
              <a:path w="177" h="36">
                <a:moveTo>
                  <a:pt x="177" y="11"/>
                </a:moveTo>
                <a:lnTo>
                  <a:pt x="166" y="0"/>
                </a:lnTo>
                <a:lnTo>
                  <a:pt x="0" y="36"/>
                </a:lnTo>
                <a:lnTo>
                  <a:pt x="177" y="1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403360" y="2673360"/>
            <a:ext cx="59040" cy="16200"/>
          </a:xfrm>
          <a:custGeom>
            <a:avLst/>
            <a:gdLst/>
            <a:ahLst/>
            <a:rect l="0" t="0" r="r" b="b"/>
            <a:pathLst>
              <a:path w="164" h="45">
                <a:moveTo>
                  <a:pt x="164" y="11"/>
                </a:moveTo>
                <a:lnTo>
                  <a:pt x="164" y="0"/>
                </a:lnTo>
                <a:lnTo>
                  <a:pt x="0" y="45"/>
                </a:lnTo>
                <a:lnTo>
                  <a:pt x="164" y="1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2403360" y="2668680"/>
            <a:ext cx="59040" cy="20880"/>
          </a:xfrm>
          <a:custGeom>
            <a:avLst/>
            <a:gdLst/>
            <a:ahLst/>
            <a:rect l="0" t="0" r="r" b="b"/>
            <a:pathLst>
              <a:path w="164" h="58">
                <a:moveTo>
                  <a:pt x="164" y="11"/>
                </a:moveTo>
                <a:lnTo>
                  <a:pt x="164" y="0"/>
                </a:lnTo>
                <a:lnTo>
                  <a:pt x="0" y="58"/>
                </a:lnTo>
                <a:lnTo>
                  <a:pt x="164" y="1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0240" bIns="-30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2403360" y="2665440"/>
            <a:ext cx="59040" cy="24120"/>
          </a:xfrm>
          <a:custGeom>
            <a:avLst/>
            <a:gdLst/>
            <a:ahLst/>
            <a:rect l="0" t="0" r="r" b="b"/>
            <a:pathLst>
              <a:path w="164" h="67">
                <a:moveTo>
                  <a:pt x="164" y="11"/>
                </a:moveTo>
                <a:lnTo>
                  <a:pt x="153" y="0"/>
                </a:lnTo>
                <a:lnTo>
                  <a:pt x="0" y="67"/>
                </a:lnTo>
                <a:lnTo>
                  <a:pt x="164" y="1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2403360" y="2660760"/>
            <a:ext cx="55800" cy="28800"/>
          </a:xfrm>
          <a:custGeom>
            <a:avLst/>
            <a:gdLst/>
            <a:ahLst/>
            <a:rect l="0" t="0" r="r" b="b"/>
            <a:pathLst>
              <a:path w="155" h="80">
                <a:moveTo>
                  <a:pt x="155" y="11"/>
                </a:moveTo>
                <a:lnTo>
                  <a:pt x="155" y="0"/>
                </a:lnTo>
                <a:lnTo>
                  <a:pt x="0" y="80"/>
                </a:lnTo>
                <a:lnTo>
                  <a:pt x="155" y="1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403360" y="2657520"/>
            <a:ext cx="55800" cy="32040"/>
          </a:xfrm>
          <a:custGeom>
            <a:avLst/>
            <a:gdLst/>
            <a:ahLst/>
            <a:rect l="0" t="0" r="r" b="b"/>
            <a:pathLst>
              <a:path w="155" h="89">
                <a:moveTo>
                  <a:pt x="155" y="11"/>
                </a:moveTo>
                <a:lnTo>
                  <a:pt x="144" y="0"/>
                </a:lnTo>
                <a:lnTo>
                  <a:pt x="0" y="89"/>
                </a:lnTo>
                <a:lnTo>
                  <a:pt x="155" y="1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403360" y="2652840"/>
            <a:ext cx="51120" cy="36720"/>
          </a:xfrm>
          <a:custGeom>
            <a:avLst/>
            <a:gdLst/>
            <a:ahLst/>
            <a:rect l="0" t="0" r="r" b="b"/>
            <a:pathLst>
              <a:path w="142" h="102">
                <a:moveTo>
                  <a:pt x="142" y="11"/>
                </a:moveTo>
                <a:lnTo>
                  <a:pt x="142" y="0"/>
                </a:lnTo>
                <a:lnTo>
                  <a:pt x="0" y="102"/>
                </a:lnTo>
                <a:lnTo>
                  <a:pt x="142" y="1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403360" y="2649600"/>
            <a:ext cx="51120" cy="39960"/>
          </a:xfrm>
          <a:custGeom>
            <a:avLst/>
            <a:gdLst/>
            <a:ahLst/>
            <a:rect l="0" t="0" r="r" b="b"/>
            <a:pathLst>
              <a:path w="142" h="111">
                <a:moveTo>
                  <a:pt x="142" y="11"/>
                </a:moveTo>
                <a:lnTo>
                  <a:pt x="131" y="0"/>
                </a:lnTo>
                <a:lnTo>
                  <a:pt x="0" y="111"/>
                </a:lnTo>
                <a:lnTo>
                  <a:pt x="142" y="1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403360" y="2644920"/>
            <a:ext cx="47880" cy="44640"/>
          </a:xfrm>
          <a:custGeom>
            <a:avLst/>
            <a:gdLst/>
            <a:ahLst/>
            <a:rect l="0" t="0" r="r" b="b"/>
            <a:pathLst>
              <a:path w="133" h="124">
                <a:moveTo>
                  <a:pt x="133" y="11"/>
                </a:moveTo>
                <a:lnTo>
                  <a:pt x="133" y="0"/>
                </a:lnTo>
                <a:lnTo>
                  <a:pt x="0" y="124"/>
                </a:lnTo>
                <a:lnTo>
                  <a:pt x="133" y="1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2403360" y="2641680"/>
            <a:ext cx="47880" cy="47880"/>
          </a:xfrm>
          <a:custGeom>
            <a:avLst/>
            <a:gdLst/>
            <a:ahLst/>
            <a:rect l="0" t="0" r="r" b="b"/>
            <a:pathLst>
              <a:path w="133" h="133">
                <a:moveTo>
                  <a:pt x="133" y="11"/>
                </a:moveTo>
                <a:lnTo>
                  <a:pt x="122" y="0"/>
                </a:lnTo>
                <a:lnTo>
                  <a:pt x="0" y="133"/>
                </a:lnTo>
                <a:lnTo>
                  <a:pt x="133" y="1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403360" y="2641680"/>
            <a:ext cx="43200" cy="47880"/>
          </a:xfrm>
          <a:custGeom>
            <a:avLst/>
            <a:gdLst/>
            <a:ahLst/>
            <a:rect l="0" t="0" r="r" b="b"/>
            <a:pathLst>
              <a:path w="120" h="133">
                <a:moveTo>
                  <a:pt x="120" y="0"/>
                </a:moveTo>
                <a:lnTo>
                  <a:pt x="109" y="0"/>
                </a:lnTo>
                <a:lnTo>
                  <a:pt x="0" y="133"/>
                </a:lnTo>
                <a:lnTo>
                  <a:pt x="12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403360" y="2637000"/>
            <a:ext cx="39960" cy="52920"/>
          </a:xfrm>
          <a:custGeom>
            <a:avLst/>
            <a:gdLst/>
            <a:ahLst/>
            <a:rect l="0" t="0" r="r" b="b"/>
            <a:pathLst>
              <a:path w="111" h="147">
                <a:moveTo>
                  <a:pt x="111" y="11"/>
                </a:moveTo>
                <a:lnTo>
                  <a:pt x="100" y="0"/>
                </a:lnTo>
                <a:lnTo>
                  <a:pt x="0" y="147"/>
                </a:lnTo>
                <a:lnTo>
                  <a:pt x="111" y="1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403360" y="2637000"/>
            <a:ext cx="35280" cy="52920"/>
          </a:xfrm>
          <a:custGeom>
            <a:avLst/>
            <a:gdLst/>
            <a:ahLst/>
            <a:rect l="0" t="0" r="r" b="b"/>
            <a:pathLst>
              <a:path w="98" h="147">
                <a:moveTo>
                  <a:pt x="98" y="0"/>
                </a:moveTo>
                <a:lnTo>
                  <a:pt x="87" y="0"/>
                </a:lnTo>
                <a:lnTo>
                  <a:pt x="0" y="147"/>
                </a:lnTo>
                <a:lnTo>
                  <a:pt x="98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2403360" y="2633760"/>
            <a:ext cx="32040" cy="55800"/>
          </a:xfrm>
          <a:custGeom>
            <a:avLst/>
            <a:gdLst/>
            <a:ahLst/>
            <a:rect l="0" t="0" r="r" b="b"/>
            <a:pathLst>
              <a:path w="89" h="155">
                <a:moveTo>
                  <a:pt x="89" y="11"/>
                </a:moveTo>
                <a:lnTo>
                  <a:pt x="78" y="0"/>
                </a:lnTo>
                <a:lnTo>
                  <a:pt x="0" y="155"/>
                </a:lnTo>
                <a:lnTo>
                  <a:pt x="89" y="1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403360" y="2628720"/>
            <a:ext cx="27360" cy="60840"/>
          </a:xfrm>
          <a:custGeom>
            <a:avLst/>
            <a:gdLst/>
            <a:ahLst/>
            <a:rect l="0" t="0" r="r" b="b"/>
            <a:pathLst>
              <a:path w="76" h="169">
                <a:moveTo>
                  <a:pt x="76" y="11"/>
                </a:moveTo>
                <a:lnTo>
                  <a:pt x="66" y="0"/>
                </a:lnTo>
                <a:lnTo>
                  <a:pt x="0" y="169"/>
                </a:lnTo>
                <a:lnTo>
                  <a:pt x="76" y="1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403360" y="2628720"/>
            <a:ext cx="24120" cy="60840"/>
          </a:xfrm>
          <a:custGeom>
            <a:avLst/>
            <a:gdLst/>
            <a:ahLst/>
            <a:rect l="0" t="0" r="r" b="b"/>
            <a:pathLst>
              <a:path w="67" h="169">
                <a:moveTo>
                  <a:pt x="67" y="0"/>
                </a:moveTo>
                <a:lnTo>
                  <a:pt x="56" y="0"/>
                </a:lnTo>
                <a:lnTo>
                  <a:pt x="0" y="169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2403360" y="2628720"/>
            <a:ext cx="19440" cy="60840"/>
          </a:xfrm>
          <a:custGeom>
            <a:avLst/>
            <a:gdLst/>
            <a:ahLst/>
            <a:rect l="0" t="0" r="r" b="b"/>
            <a:pathLst>
              <a:path w="54" h="169">
                <a:moveTo>
                  <a:pt x="54" y="0"/>
                </a:moveTo>
                <a:lnTo>
                  <a:pt x="44" y="0"/>
                </a:lnTo>
                <a:lnTo>
                  <a:pt x="0" y="169"/>
                </a:lnTo>
                <a:lnTo>
                  <a:pt x="5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2403360" y="2625840"/>
            <a:ext cx="16200" cy="63720"/>
          </a:xfrm>
          <a:custGeom>
            <a:avLst/>
            <a:gdLst/>
            <a:ahLst/>
            <a:rect l="0" t="0" r="r" b="b"/>
            <a:pathLst>
              <a:path w="45" h="177">
                <a:moveTo>
                  <a:pt x="45" y="11"/>
                </a:moveTo>
                <a:lnTo>
                  <a:pt x="34" y="0"/>
                </a:lnTo>
                <a:lnTo>
                  <a:pt x="0" y="177"/>
                </a:lnTo>
                <a:lnTo>
                  <a:pt x="45" y="1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2403360" y="2625840"/>
            <a:ext cx="11520" cy="63720"/>
          </a:xfrm>
          <a:custGeom>
            <a:avLst/>
            <a:gdLst/>
            <a:ahLst/>
            <a:rect l="0" t="0" r="r" b="b"/>
            <a:pathLst>
              <a:path w="32" h="177">
                <a:moveTo>
                  <a:pt x="32" y="0"/>
                </a:moveTo>
                <a:lnTo>
                  <a:pt x="21" y="0"/>
                </a:lnTo>
                <a:lnTo>
                  <a:pt x="0" y="177"/>
                </a:lnTo>
                <a:lnTo>
                  <a:pt x="3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2403360" y="2625840"/>
            <a:ext cx="8280" cy="63720"/>
          </a:xfrm>
          <a:custGeom>
            <a:avLst/>
            <a:gdLst/>
            <a:ahLst/>
            <a:rect l="0" t="0" r="r" b="b"/>
            <a:pathLst>
              <a:path w="23" h="177">
                <a:moveTo>
                  <a:pt x="23" y="0"/>
                </a:moveTo>
                <a:lnTo>
                  <a:pt x="12" y="0"/>
                </a:lnTo>
                <a:lnTo>
                  <a:pt x="0" y="177"/>
                </a:lnTo>
                <a:lnTo>
                  <a:pt x="23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403360" y="2625840"/>
            <a:ext cx="3600" cy="63720"/>
          </a:xfrm>
          <a:custGeom>
            <a:avLst/>
            <a:gdLst/>
            <a:ahLst/>
            <a:rect l="0" t="0" r="r" b="b"/>
            <a:pathLst>
              <a:path w="10" h="177">
                <a:moveTo>
                  <a:pt x="10" y="0"/>
                </a:moveTo>
                <a:lnTo>
                  <a:pt x="0" y="0"/>
                </a:lnTo>
                <a:lnTo>
                  <a:pt x="0" y="177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398680" y="2625840"/>
            <a:ext cx="5040" cy="63720"/>
          </a:xfrm>
          <a:custGeom>
            <a:avLst/>
            <a:gdLst/>
            <a:ahLst/>
            <a:rect l="0" t="0" r="r" b="b"/>
            <a:pathLst>
              <a:path w="14" h="177">
                <a:moveTo>
                  <a:pt x="14" y="0"/>
                </a:moveTo>
                <a:lnTo>
                  <a:pt x="0" y="0"/>
                </a:lnTo>
                <a:lnTo>
                  <a:pt x="14" y="177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2395440" y="2625840"/>
            <a:ext cx="8280" cy="63720"/>
          </a:xfrm>
          <a:custGeom>
            <a:avLst/>
            <a:gdLst/>
            <a:ahLst/>
            <a:rect l="0" t="0" r="r" b="b"/>
            <a:pathLst>
              <a:path w="23" h="177">
                <a:moveTo>
                  <a:pt x="12" y="0"/>
                </a:moveTo>
                <a:lnTo>
                  <a:pt x="0" y="0"/>
                </a:lnTo>
                <a:lnTo>
                  <a:pt x="23" y="177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2390760" y="2625840"/>
            <a:ext cx="12960" cy="63720"/>
          </a:xfrm>
          <a:custGeom>
            <a:avLst/>
            <a:gdLst/>
            <a:ahLst/>
            <a:rect l="0" t="0" r="r" b="b"/>
            <a:pathLst>
              <a:path w="36" h="177">
                <a:moveTo>
                  <a:pt x="11" y="0"/>
                </a:moveTo>
                <a:lnTo>
                  <a:pt x="0" y="0"/>
                </a:lnTo>
                <a:lnTo>
                  <a:pt x="36" y="177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2387520" y="2625840"/>
            <a:ext cx="16200" cy="63720"/>
          </a:xfrm>
          <a:custGeom>
            <a:avLst/>
            <a:gdLst/>
            <a:ahLst/>
            <a:rect l="0" t="0" r="r" b="b"/>
            <a:pathLst>
              <a:path w="45" h="177">
                <a:moveTo>
                  <a:pt x="11" y="0"/>
                </a:moveTo>
                <a:lnTo>
                  <a:pt x="0" y="11"/>
                </a:lnTo>
                <a:lnTo>
                  <a:pt x="45" y="177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2382840" y="2628720"/>
            <a:ext cx="20880" cy="60840"/>
          </a:xfrm>
          <a:custGeom>
            <a:avLst/>
            <a:gdLst/>
            <a:ahLst/>
            <a:rect l="0" t="0" r="r" b="b"/>
            <a:pathLst>
              <a:path w="58" h="169">
                <a:moveTo>
                  <a:pt x="11" y="0"/>
                </a:moveTo>
                <a:lnTo>
                  <a:pt x="0" y="0"/>
                </a:lnTo>
                <a:lnTo>
                  <a:pt x="58" y="16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379600" y="2628720"/>
            <a:ext cx="24120" cy="60840"/>
          </a:xfrm>
          <a:custGeom>
            <a:avLst/>
            <a:gdLst/>
            <a:ahLst/>
            <a:rect l="0" t="0" r="r" b="b"/>
            <a:pathLst>
              <a:path w="67" h="169">
                <a:moveTo>
                  <a:pt x="11" y="0"/>
                </a:moveTo>
                <a:lnTo>
                  <a:pt x="0" y="0"/>
                </a:lnTo>
                <a:lnTo>
                  <a:pt x="67" y="16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2374920" y="2628720"/>
            <a:ext cx="28800" cy="60840"/>
          </a:xfrm>
          <a:custGeom>
            <a:avLst/>
            <a:gdLst/>
            <a:ahLst/>
            <a:rect l="0" t="0" r="r" b="b"/>
            <a:pathLst>
              <a:path w="80" h="169">
                <a:moveTo>
                  <a:pt x="11" y="0"/>
                </a:moveTo>
                <a:lnTo>
                  <a:pt x="0" y="11"/>
                </a:lnTo>
                <a:lnTo>
                  <a:pt x="80" y="169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2371680" y="2633760"/>
            <a:ext cx="32040" cy="55800"/>
          </a:xfrm>
          <a:custGeom>
            <a:avLst/>
            <a:gdLst/>
            <a:ahLst/>
            <a:rect l="0" t="0" r="r" b="b"/>
            <a:pathLst>
              <a:path w="89" h="155">
                <a:moveTo>
                  <a:pt x="11" y="0"/>
                </a:moveTo>
                <a:lnTo>
                  <a:pt x="0" y="0"/>
                </a:lnTo>
                <a:lnTo>
                  <a:pt x="89" y="155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367000" y="2633760"/>
            <a:ext cx="36720" cy="55800"/>
          </a:xfrm>
          <a:custGeom>
            <a:avLst/>
            <a:gdLst/>
            <a:ahLst/>
            <a:rect l="0" t="0" r="r" b="b"/>
            <a:pathLst>
              <a:path w="102" h="155">
                <a:moveTo>
                  <a:pt x="11" y="0"/>
                </a:moveTo>
                <a:lnTo>
                  <a:pt x="0" y="11"/>
                </a:lnTo>
                <a:lnTo>
                  <a:pt x="102" y="155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2363760" y="2637000"/>
            <a:ext cx="39960" cy="52920"/>
          </a:xfrm>
          <a:custGeom>
            <a:avLst/>
            <a:gdLst/>
            <a:ahLst/>
            <a:rect l="0" t="0" r="r" b="b"/>
            <a:pathLst>
              <a:path w="111" h="147">
                <a:moveTo>
                  <a:pt x="11" y="0"/>
                </a:moveTo>
                <a:lnTo>
                  <a:pt x="0" y="11"/>
                </a:lnTo>
                <a:lnTo>
                  <a:pt x="111" y="147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800" bIns="1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2359080" y="2641680"/>
            <a:ext cx="44640" cy="47880"/>
          </a:xfrm>
          <a:custGeom>
            <a:avLst/>
            <a:gdLst/>
            <a:ahLst/>
            <a:rect l="0" t="0" r="r" b="b"/>
            <a:pathLst>
              <a:path w="124" h="133">
                <a:moveTo>
                  <a:pt x="11" y="0"/>
                </a:moveTo>
                <a:lnTo>
                  <a:pt x="0" y="0"/>
                </a:lnTo>
                <a:lnTo>
                  <a:pt x="124" y="133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355840" y="2641680"/>
            <a:ext cx="47880" cy="47880"/>
          </a:xfrm>
          <a:custGeom>
            <a:avLst/>
            <a:gdLst/>
            <a:ahLst/>
            <a:rect l="0" t="0" r="r" b="b"/>
            <a:pathLst>
              <a:path w="133" h="133">
                <a:moveTo>
                  <a:pt x="11" y="0"/>
                </a:moveTo>
                <a:lnTo>
                  <a:pt x="0" y="11"/>
                </a:lnTo>
                <a:lnTo>
                  <a:pt x="133" y="133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355840" y="2644920"/>
            <a:ext cx="47880" cy="44640"/>
          </a:xfrm>
          <a:custGeom>
            <a:avLst/>
            <a:gdLst/>
            <a:ahLst/>
            <a:rect l="0" t="0" r="r" b="b"/>
            <a:pathLst>
              <a:path w="133" h="124">
                <a:moveTo>
                  <a:pt x="0" y="0"/>
                </a:moveTo>
                <a:lnTo>
                  <a:pt x="0" y="11"/>
                </a:lnTo>
                <a:lnTo>
                  <a:pt x="133" y="1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6480" bIns="-6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2351160" y="2649600"/>
            <a:ext cx="52920" cy="39960"/>
          </a:xfrm>
          <a:custGeom>
            <a:avLst/>
            <a:gdLst/>
            <a:ahLst/>
            <a:rect l="0" t="0" r="r" b="b"/>
            <a:pathLst>
              <a:path w="147" h="111">
                <a:moveTo>
                  <a:pt x="11" y="0"/>
                </a:moveTo>
                <a:lnTo>
                  <a:pt x="0" y="11"/>
                </a:lnTo>
                <a:lnTo>
                  <a:pt x="147" y="111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2347920" y="2652840"/>
            <a:ext cx="55800" cy="36720"/>
          </a:xfrm>
          <a:custGeom>
            <a:avLst/>
            <a:gdLst/>
            <a:ahLst/>
            <a:rect l="0" t="0" r="r" b="b"/>
            <a:pathLst>
              <a:path w="155" h="102">
                <a:moveTo>
                  <a:pt x="11" y="0"/>
                </a:moveTo>
                <a:lnTo>
                  <a:pt x="0" y="11"/>
                </a:lnTo>
                <a:lnTo>
                  <a:pt x="155" y="102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14400" bIns="-14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2347920" y="2657520"/>
            <a:ext cx="55800" cy="32040"/>
          </a:xfrm>
          <a:custGeom>
            <a:avLst/>
            <a:gdLst/>
            <a:ahLst/>
            <a:rect l="0" t="0" r="r" b="b"/>
            <a:pathLst>
              <a:path w="155" h="89">
                <a:moveTo>
                  <a:pt x="0" y="0"/>
                </a:moveTo>
                <a:lnTo>
                  <a:pt x="0" y="11"/>
                </a:lnTo>
                <a:lnTo>
                  <a:pt x="155" y="8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2343240" y="2660760"/>
            <a:ext cx="60840" cy="28800"/>
          </a:xfrm>
          <a:custGeom>
            <a:avLst/>
            <a:gdLst/>
            <a:ahLst/>
            <a:rect l="0" t="0" r="r" b="b"/>
            <a:pathLst>
              <a:path w="169" h="80">
                <a:moveTo>
                  <a:pt x="11" y="0"/>
                </a:moveTo>
                <a:lnTo>
                  <a:pt x="0" y="11"/>
                </a:lnTo>
                <a:lnTo>
                  <a:pt x="169" y="8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22320" bIns="-22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2343240" y="2665440"/>
            <a:ext cx="60840" cy="24120"/>
          </a:xfrm>
          <a:custGeom>
            <a:avLst/>
            <a:gdLst/>
            <a:ahLst/>
            <a:rect l="0" t="0" r="r" b="b"/>
            <a:pathLst>
              <a:path w="169" h="67">
                <a:moveTo>
                  <a:pt x="0" y="0"/>
                </a:moveTo>
                <a:lnTo>
                  <a:pt x="0" y="0"/>
                </a:lnTo>
                <a:lnTo>
                  <a:pt x="169" y="6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343240" y="2665440"/>
            <a:ext cx="60840" cy="24120"/>
          </a:xfrm>
          <a:custGeom>
            <a:avLst/>
            <a:gdLst/>
            <a:ahLst/>
            <a:rect l="0" t="0" r="r" b="b"/>
            <a:pathLst>
              <a:path w="169" h="67">
                <a:moveTo>
                  <a:pt x="0" y="0"/>
                </a:moveTo>
                <a:lnTo>
                  <a:pt x="0" y="22"/>
                </a:lnTo>
                <a:lnTo>
                  <a:pt x="169" y="6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2340000" y="2673360"/>
            <a:ext cx="63720" cy="16200"/>
          </a:xfrm>
          <a:custGeom>
            <a:avLst/>
            <a:gdLst/>
            <a:ahLst/>
            <a:rect l="0" t="0" r="r" b="b"/>
            <a:pathLst>
              <a:path w="177" h="45">
                <a:moveTo>
                  <a:pt x="11" y="0"/>
                </a:moveTo>
                <a:lnTo>
                  <a:pt x="0" y="11"/>
                </a:lnTo>
                <a:lnTo>
                  <a:pt x="177" y="45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2340000" y="2676600"/>
            <a:ext cx="63720" cy="12960"/>
          </a:xfrm>
          <a:custGeom>
            <a:avLst/>
            <a:gdLst/>
            <a:ahLst/>
            <a:rect l="0" t="0" r="r" b="b"/>
            <a:pathLst>
              <a:path w="177" h="36">
                <a:moveTo>
                  <a:pt x="0" y="0"/>
                </a:moveTo>
                <a:lnTo>
                  <a:pt x="0" y="11"/>
                </a:lnTo>
                <a:lnTo>
                  <a:pt x="177" y="36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8160" bIns="-38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2340000" y="2681280"/>
            <a:ext cx="63720" cy="8280"/>
          </a:xfrm>
          <a:custGeom>
            <a:avLst/>
            <a:gdLst/>
            <a:ahLst/>
            <a:rect l="0" t="0" r="r" b="b"/>
            <a:pathLst>
              <a:path w="177" h="23">
                <a:moveTo>
                  <a:pt x="0" y="0"/>
                </a:moveTo>
                <a:lnTo>
                  <a:pt x="0" y="12"/>
                </a:lnTo>
                <a:lnTo>
                  <a:pt x="177" y="2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42840" bIns="-42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2340000" y="2684520"/>
            <a:ext cx="63720" cy="5040"/>
          </a:xfrm>
          <a:custGeom>
            <a:avLst/>
            <a:gdLst/>
            <a:ahLst/>
            <a:rect l="0" t="0" r="r" b="b"/>
            <a:pathLst>
              <a:path w="177" h="14">
                <a:moveTo>
                  <a:pt x="0" y="0"/>
                </a:moveTo>
                <a:lnTo>
                  <a:pt x="0" y="14"/>
                </a:lnTo>
                <a:lnTo>
                  <a:pt x="177" y="14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46080" bIns="-46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2340000" y="2689200"/>
            <a:ext cx="63720" cy="3600"/>
          </a:xfrm>
          <a:custGeom>
            <a:avLst/>
            <a:gdLst/>
            <a:ahLst/>
            <a:rect l="0" t="0" r="r" b="b"/>
            <a:pathLst>
              <a:path w="177" h="10">
                <a:moveTo>
                  <a:pt x="0" y="0"/>
                </a:moveTo>
                <a:lnTo>
                  <a:pt x="0" y="10"/>
                </a:lnTo>
                <a:lnTo>
                  <a:pt x="177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47520" bIns="-47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2340000" y="2689200"/>
            <a:ext cx="63720" cy="8280"/>
          </a:xfrm>
          <a:custGeom>
            <a:avLst/>
            <a:gdLst/>
            <a:ahLst/>
            <a:rect l="0" t="0" r="r" b="b"/>
            <a:pathLst>
              <a:path w="177" h="23">
                <a:moveTo>
                  <a:pt x="0" y="12"/>
                </a:moveTo>
                <a:lnTo>
                  <a:pt x="0" y="23"/>
                </a:lnTo>
                <a:lnTo>
                  <a:pt x="177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42840" bIns="-42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2340000" y="2689200"/>
            <a:ext cx="63720" cy="11520"/>
          </a:xfrm>
          <a:custGeom>
            <a:avLst/>
            <a:gdLst/>
            <a:ahLst/>
            <a:rect l="0" t="0" r="r" b="b"/>
            <a:pathLst>
              <a:path w="177" h="32">
                <a:moveTo>
                  <a:pt x="0" y="21"/>
                </a:moveTo>
                <a:lnTo>
                  <a:pt x="0" y="32"/>
                </a:lnTo>
                <a:lnTo>
                  <a:pt x="177" y="0"/>
                </a:lnTo>
                <a:lnTo>
                  <a:pt x="0" y="2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9600" bIns="-39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2340000" y="2689200"/>
            <a:ext cx="63720" cy="16200"/>
          </a:xfrm>
          <a:custGeom>
            <a:avLst/>
            <a:gdLst/>
            <a:ahLst/>
            <a:rect l="0" t="0" r="r" b="b"/>
            <a:pathLst>
              <a:path w="177" h="45">
                <a:moveTo>
                  <a:pt x="0" y="34"/>
                </a:moveTo>
                <a:lnTo>
                  <a:pt x="11" y="45"/>
                </a:lnTo>
                <a:lnTo>
                  <a:pt x="177" y="0"/>
                </a:lnTo>
                <a:lnTo>
                  <a:pt x="0" y="3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4920" bIns="-34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2343240" y="2689200"/>
            <a:ext cx="60840" cy="19440"/>
          </a:xfrm>
          <a:custGeom>
            <a:avLst/>
            <a:gdLst/>
            <a:ahLst/>
            <a:rect l="0" t="0" r="r" b="b"/>
            <a:pathLst>
              <a:path w="169" h="54">
                <a:moveTo>
                  <a:pt x="0" y="44"/>
                </a:moveTo>
                <a:lnTo>
                  <a:pt x="0" y="54"/>
                </a:lnTo>
                <a:lnTo>
                  <a:pt x="169" y="0"/>
                </a:lnTo>
                <a:lnTo>
                  <a:pt x="0" y="4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1680" bIns="-31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2343240" y="2689200"/>
            <a:ext cx="60840" cy="24120"/>
          </a:xfrm>
          <a:custGeom>
            <a:avLst/>
            <a:gdLst/>
            <a:ahLst/>
            <a:rect l="0" t="0" r="r" b="b"/>
            <a:pathLst>
              <a:path w="169" h="67">
                <a:moveTo>
                  <a:pt x="0" y="56"/>
                </a:moveTo>
                <a:lnTo>
                  <a:pt x="0" y="67"/>
                </a:lnTo>
                <a:lnTo>
                  <a:pt x="169" y="0"/>
                </a:lnTo>
                <a:lnTo>
                  <a:pt x="0" y="5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27000" bIns="-27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343240" y="2689200"/>
            <a:ext cx="60840" cy="27360"/>
          </a:xfrm>
          <a:custGeom>
            <a:avLst/>
            <a:gdLst/>
            <a:ahLst/>
            <a:rect l="0" t="0" r="r" b="b"/>
            <a:pathLst>
              <a:path w="169" h="76">
                <a:moveTo>
                  <a:pt x="0" y="66"/>
                </a:moveTo>
                <a:lnTo>
                  <a:pt x="11" y="76"/>
                </a:lnTo>
                <a:lnTo>
                  <a:pt x="169" y="0"/>
                </a:lnTo>
                <a:lnTo>
                  <a:pt x="0" y="6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23760" bIns="-23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2347920" y="2689200"/>
            <a:ext cx="55800" cy="32040"/>
          </a:xfrm>
          <a:custGeom>
            <a:avLst/>
            <a:gdLst/>
            <a:ahLst/>
            <a:rect l="0" t="0" r="r" b="b"/>
            <a:pathLst>
              <a:path w="155" h="89">
                <a:moveTo>
                  <a:pt x="0" y="78"/>
                </a:moveTo>
                <a:lnTo>
                  <a:pt x="0" y="89"/>
                </a:lnTo>
                <a:lnTo>
                  <a:pt x="155" y="0"/>
                </a:lnTo>
                <a:lnTo>
                  <a:pt x="0" y="78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19080" bIns="-19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2347920" y="2689200"/>
            <a:ext cx="55800" cy="35280"/>
          </a:xfrm>
          <a:custGeom>
            <a:avLst/>
            <a:gdLst/>
            <a:ahLst/>
            <a:rect l="0" t="0" r="r" b="b"/>
            <a:pathLst>
              <a:path w="155" h="98">
                <a:moveTo>
                  <a:pt x="0" y="87"/>
                </a:moveTo>
                <a:lnTo>
                  <a:pt x="11" y="98"/>
                </a:lnTo>
                <a:lnTo>
                  <a:pt x="155" y="0"/>
                </a:lnTo>
                <a:lnTo>
                  <a:pt x="0" y="8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15840" bIns="-15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2351160" y="2689200"/>
            <a:ext cx="52920" cy="39960"/>
          </a:xfrm>
          <a:custGeom>
            <a:avLst/>
            <a:gdLst/>
            <a:ahLst/>
            <a:rect l="0" t="0" r="r" b="b"/>
            <a:pathLst>
              <a:path w="147" h="111">
                <a:moveTo>
                  <a:pt x="0" y="100"/>
                </a:moveTo>
                <a:lnTo>
                  <a:pt x="11" y="111"/>
                </a:lnTo>
                <a:lnTo>
                  <a:pt x="147" y="0"/>
                </a:lnTo>
                <a:lnTo>
                  <a:pt x="0" y="10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11160" bIns="-11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2355840" y="2689200"/>
            <a:ext cx="47880" cy="43200"/>
          </a:xfrm>
          <a:custGeom>
            <a:avLst/>
            <a:gdLst/>
            <a:ahLst/>
            <a:rect l="0" t="0" r="r" b="b"/>
            <a:pathLst>
              <a:path w="133" h="120">
                <a:moveTo>
                  <a:pt x="0" y="109"/>
                </a:moveTo>
                <a:lnTo>
                  <a:pt x="0" y="120"/>
                </a:lnTo>
                <a:lnTo>
                  <a:pt x="133" y="0"/>
                </a:lnTo>
                <a:lnTo>
                  <a:pt x="0" y="109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2355840" y="2689200"/>
            <a:ext cx="47880" cy="43200"/>
          </a:xfrm>
          <a:custGeom>
            <a:avLst/>
            <a:gdLst/>
            <a:ahLst/>
            <a:rect l="0" t="0" r="r" b="b"/>
            <a:pathLst>
              <a:path w="133" h="120">
                <a:moveTo>
                  <a:pt x="0" y="120"/>
                </a:moveTo>
                <a:lnTo>
                  <a:pt x="11" y="120"/>
                </a:lnTo>
                <a:lnTo>
                  <a:pt x="133" y="0"/>
                </a:lnTo>
                <a:lnTo>
                  <a:pt x="0" y="12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359080" y="2689200"/>
            <a:ext cx="44640" cy="47880"/>
          </a:xfrm>
          <a:custGeom>
            <a:avLst/>
            <a:gdLst/>
            <a:ahLst/>
            <a:rect l="0" t="0" r="r" b="b"/>
            <a:pathLst>
              <a:path w="124" h="133">
                <a:moveTo>
                  <a:pt x="0" y="122"/>
                </a:moveTo>
                <a:lnTo>
                  <a:pt x="11" y="133"/>
                </a:lnTo>
                <a:lnTo>
                  <a:pt x="124" y="0"/>
                </a:lnTo>
                <a:lnTo>
                  <a:pt x="0" y="12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2363760" y="2689200"/>
            <a:ext cx="39960" cy="51120"/>
          </a:xfrm>
          <a:custGeom>
            <a:avLst/>
            <a:gdLst/>
            <a:ahLst/>
            <a:rect l="0" t="0" r="r" b="b"/>
            <a:pathLst>
              <a:path w="111" h="142">
                <a:moveTo>
                  <a:pt x="0" y="131"/>
                </a:moveTo>
                <a:lnTo>
                  <a:pt x="11" y="142"/>
                </a:lnTo>
                <a:lnTo>
                  <a:pt x="111" y="0"/>
                </a:lnTo>
                <a:lnTo>
                  <a:pt x="0" y="13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2367000" y="2689200"/>
            <a:ext cx="36720" cy="51120"/>
          </a:xfrm>
          <a:custGeom>
            <a:avLst/>
            <a:gdLst/>
            <a:ahLst/>
            <a:rect l="0" t="0" r="r" b="b"/>
            <a:pathLst>
              <a:path w="102" h="142">
                <a:moveTo>
                  <a:pt x="0" y="142"/>
                </a:moveTo>
                <a:lnTo>
                  <a:pt x="11" y="142"/>
                </a:lnTo>
                <a:lnTo>
                  <a:pt x="102" y="0"/>
                </a:lnTo>
                <a:lnTo>
                  <a:pt x="0" y="142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2371680" y="2689200"/>
            <a:ext cx="32040" cy="55800"/>
          </a:xfrm>
          <a:custGeom>
            <a:avLst/>
            <a:gdLst/>
            <a:ahLst/>
            <a:rect l="0" t="0" r="r" b="b"/>
            <a:pathLst>
              <a:path w="89" h="155">
                <a:moveTo>
                  <a:pt x="0" y="144"/>
                </a:moveTo>
                <a:lnTo>
                  <a:pt x="0" y="155"/>
                </a:lnTo>
                <a:lnTo>
                  <a:pt x="89" y="0"/>
                </a:lnTo>
                <a:lnTo>
                  <a:pt x="0" y="14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371680" y="2689200"/>
            <a:ext cx="32040" cy="55800"/>
          </a:xfrm>
          <a:custGeom>
            <a:avLst/>
            <a:gdLst/>
            <a:ahLst/>
            <a:rect l="0" t="0" r="r" b="b"/>
            <a:pathLst>
              <a:path w="89" h="155">
                <a:moveTo>
                  <a:pt x="0" y="155"/>
                </a:moveTo>
                <a:lnTo>
                  <a:pt x="11" y="155"/>
                </a:lnTo>
                <a:lnTo>
                  <a:pt x="89" y="0"/>
                </a:lnTo>
                <a:lnTo>
                  <a:pt x="0" y="155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374920" y="2689200"/>
            <a:ext cx="28800" cy="59040"/>
          </a:xfrm>
          <a:custGeom>
            <a:avLst/>
            <a:gdLst/>
            <a:ahLst/>
            <a:rect l="0" t="0" r="r" b="b"/>
            <a:pathLst>
              <a:path w="80" h="164">
                <a:moveTo>
                  <a:pt x="0" y="153"/>
                </a:moveTo>
                <a:lnTo>
                  <a:pt x="11" y="164"/>
                </a:lnTo>
                <a:lnTo>
                  <a:pt x="80" y="0"/>
                </a:lnTo>
                <a:lnTo>
                  <a:pt x="0" y="15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379600" y="2689200"/>
            <a:ext cx="24120" cy="59040"/>
          </a:xfrm>
          <a:custGeom>
            <a:avLst/>
            <a:gdLst/>
            <a:ahLst/>
            <a:rect l="0" t="0" r="r" b="b"/>
            <a:pathLst>
              <a:path w="67" h="164">
                <a:moveTo>
                  <a:pt x="0" y="164"/>
                </a:moveTo>
                <a:lnTo>
                  <a:pt x="11" y="164"/>
                </a:lnTo>
                <a:lnTo>
                  <a:pt x="67" y="0"/>
                </a:lnTo>
                <a:lnTo>
                  <a:pt x="0" y="16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382840" y="2689200"/>
            <a:ext cx="20880" cy="59040"/>
          </a:xfrm>
          <a:custGeom>
            <a:avLst/>
            <a:gdLst/>
            <a:ahLst/>
            <a:rect l="0" t="0" r="r" b="b"/>
            <a:pathLst>
              <a:path w="58" h="164">
                <a:moveTo>
                  <a:pt x="0" y="164"/>
                </a:moveTo>
                <a:lnTo>
                  <a:pt x="22" y="164"/>
                </a:lnTo>
                <a:lnTo>
                  <a:pt x="58" y="0"/>
                </a:lnTo>
                <a:lnTo>
                  <a:pt x="0" y="16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2390760" y="2689200"/>
            <a:ext cx="12960" cy="63720"/>
          </a:xfrm>
          <a:custGeom>
            <a:avLst/>
            <a:gdLst/>
            <a:ahLst/>
            <a:rect l="0" t="0" r="r" b="b"/>
            <a:pathLst>
              <a:path w="36" h="177">
                <a:moveTo>
                  <a:pt x="0" y="166"/>
                </a:moveTo>
                <a:lnTo>
                  <a:pt x="11" y="177"/>
                </a:lnTo>
                <a:lnTo>
                  <a:pt x="36" y="0"/>
                </a:lnTo>
                <a:lnTo>
                  <a:pt x="0" y="166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2395440" y="2689200"/>
            <a:ext cx="8280" cy="63720"/>
          </a:xfrm>
          <a:custGeom>
            <a:avLst/>
            <a:gdLst/>
            <a:ahLst/>
            <a:rect l="0" t="0" r="r" b="b"/>
            <a:pathLst>
              <a:path w="23" h="177">
                <a:moveTo>
                  <a:pt x="0" y="177"/>
                </a:moveTo>
                <a:lnTo>
                  <a:pt x="12" y="177"/>
                </a:lnTo>
                <a:lnTo>
                  <a:pt x="23" y="0"/>
                </a:lnTo>
                <a:lnTo>
                  <a:pt x="0" y="17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2398680" y="2689200"/>
            <a:ext cx="5040" cy="63720"/>
          </a:xfrm>
          <a:custGeom>
            <a:avLst/>
            <a:gdLst/>
            <a:ahLst/>
            <a:rect l="0" t="0" r="r" b="b"/>
            <a:pathLst>
              <a:path w="14" h="177">
                <a:moveTo>
                  <a:pt x="0" y="177"/>
                </a:moveTo>
                <a:lnTo>
                  <a:pt x="14" y="177"/>
                </a:lnTo>
                <a:lnTo>
                  <a:pt x="14" y="0"/>
                </a:lnTo>
                <a:lnTo>
                  <a:pt x="0" y="17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2403360" y="2689200"/>
            <a:ext cx="3600" cy="63720"/>
          </a:xfrm>
          <a:custGeom>
            <a:avLst/>
            <a:gdLst/>
            <a:ahLst/>
            <a:rect l="0" t="0" r="r" b="b"/>
            <a:pathLst>
              <a:path w="10" h="177">
                <a:moveTo>
                  <a:pt x="0" y="177"/>
                </a:moveTo>
                <a:lnTo>
                  <a:pt x="10" y="177"/>
                </a:lnTo>
                <a:lnTo>
                  <a:pt x="0" y="0"/>
                </a:lnTo>
                <a:lnTo>
                  <a:pt x="0" y="17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2403360" y="2689200"/>
            <a:ext cx="8280" cy="63720"/>
          </a:xfrm>
          <a:custGeom>
            <a:avLst/>
            <a:gdLst/>
            <a:ahLst/>
            <a:rect l="0" t="0" r="r" b="b"/>
            <a:pathLst>
              <a:path w="23" h="177">
                <a:moveTo>
                  <a:pt x="12" y="177"/>
                </a:moveTo>
                <a:lnTo>
                  <a:pt x="23" y="177"/>
                </a:lnTo>
                <a:lnTo>
                  <a:pt x="0" y="0"/>
                </a:lnTo>
                <a:lnTo>
                  <a:pt x="12" y="17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2403360" y="2689200"/>
            <a:ext cx="11520" cy="63720"/>
          </a:xfrm>
          <a:custGeom>
            <a:avLst/>
            <a:gdLst/>
            <a:ahLst/>
            <a:rect l="0" t="0" r="r" b="b"/>
            <a:pathLst>
              <a:path w="32" h="177">
                <a:moveTo>
                  <a:pt x="21" y="177"/>
                </a:moveTo>
                <a:lnTo>
                  <a:pt x="32" y="177"/>
                </a:lnTo>
                <a:lnTo>
                  <a:pt x="0" y="0"/>
                </a:lnTo>
                <a:lnTo>
                  <a:pt x="21" y="17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403360" y="2689200"/>
            <a:ext cx="16200" cy="63720"/>
          </a:xfrm>
          <a:custGeom>
            <a:avLst/>
            <a:gdLst/>
            <a:ahLst/>
            <a:rect l="0" t="0" r="r" b="b"/>
            <a:pathLst>
              <a:path w="45" h="177">
                <a:moveTo>
                  <a:pt x="34" y="177"/>
                </a:moveTo>
                <a:lnTo>
                  <a:pt x="45" y="166"/>
                </a:lnTo>
                <a:lnTo>
                  <a:pt x="0" y="0"/>
                </a:lnTo>
                <a:lnTo>
                  <a:pt x="34" y="177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12600" bIns="12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403360" y="2689200"/>
            <a:ext cx="19440" cy="59040"/>
          </a:xfrm>
          <a:custGeom>
            <a:avLst/>
            <a:gdLst/>
            <a:ahLst/>
            <a:rect l="0" t="0" r="r" b="b"/>
            <a:pathLst>
              <a:path w="54" h="164">
                <a:moveTo>
                  <a:pt x="44" y="164"/>
                </a:moveTo>
                <a:lnTo>
                  <a:pt x="54" y="164"/>
                </a:lnTo>
                <a:lnTo>
                  <a:pt x="0" y="0"/>
                </a:lnTo>
                <a:lnTo>
                  <a:pt x="44" y="16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403360" y="2689200"/>
            <a:ext cx="24120" cy="59040"/>
          </a:xfrm>
          <a:custGeom>
            <a:avLst/>
            <a:gdLst/>
            <a:ahLst/>
            <a:rect l="0" t="0" r="r" b="b"/>
            <a:pathLst>
              <a:path w="67" h="164">
                <a:moveTo>
                  <a:pt x="56" y="164"/>
                </a:moveTo>
                <a:lnTo>
                  <a:pt x="67" y="164"/>
                </a:lnTo>
                <a:lnTo>
                  <a:pt x="0" y="0"/>
                </a:lnTo>
                <a:lnTo>
                  <a:pt x="56" y="16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7920" bIns="7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H="1" flipV="1">
            <a:off x="2355840" y="2573280"/>
            <a:ext cx="23760" cy="558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680" bIns="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2141640" y="2065320"/>
            <a:ext cx="2458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2502000" y="1978200"/>
            <a:ext cx="149760" cy="176040"/>
            <a:chOff x="2502000" y="1978200"/>
            <a:chExt cx="149760" cy="176040"/>
          </a:xfrm>
        </p:grpSpPr>
        <p:sp>
          <p:nvSpPr>
            <p:cNvPr id="1281" name=""/>
            <p:cNvSpPr/>
            <p:nvPr/>
          </p:nvSpPr>
          <p:spPr>
            <a:xfrm flipV="1">
              <a:off x="2525760" y="1978200"/>
              <a:ext cx="101520" cy="1760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02000" y="1994040"/>
              <a:ext cx="149760" cy="146520"/>
            </a:xfrm>
            <a:custGeom>
              <a:avLst/>
              <a:gdLst/>
              <a:ahLst/>
              <a:rect l="0" t="0" r="r" b="b"/>
              <a:pathLst>
                <a:path fill="none" w="416" h="407">
                  <a:moveTo>
                    <a:pt x="416" y="207"/>
                  </a:moveTo>
                  <a:lnTo>
                    <a:pt x="416" y="191"/>
                  </a:lnTo>
                  <a:lnTo>
                    <a:pt x="416" y="183"/>
                  </a:lnTo>
                  <a:lnTo>
                    <a:pt x="408" y="166"/>
                  </a:lnTo>
                  <a:lnTo>
                    <a:pt x="408" y="158"/>
                  </a:lnTo>
                  <a:lnTo>
                    <a:pt x="408" y="150"/>
                  </a:lnTo>
                  <a:lnTo>
                    <a:pt x="408" y="141"/>
                  </a:lnTo>
                  <a:lnTo>
                    <a:pt x="399" y="125"/>
                  </a:lnTo>
                  <a:lnTo>
                    <a:pt x="399" y="116"/>
                  </a:lnTo>
                  <a:lnTo>
                    <a:pt x="391" y="108"/>
                  </a:lnTo>
                  <a:lnTo>
                    <a:pt x="383" y="99"/>
                  </a:lnTo>
                  <a:lnTo>
                    <a:pt x="383" y="91"/>
                  </a:lnTo>
                  <a:lnTo>
                    <a:pt x="375" y="82"/>
                  </a:lnTo>
                  <a:lnTo>
                    <a:pt x="366" y="66"/>
                  </a:lnTo>
                  <a:lnTo>
                    <a:pt x="358" y="57"/>
                  </a:lnTo>
                  <a:lnTo>
                    <a:pt x="350" y="57"/>
                  </a:lnTo>
                  <a:lnTo>
                    <a:pt x="341" y="49"/>
                  </a:lnTo>
                  <a:lnTo>
                    <a:pt x="333" y="41"/>
                  </a:lnTo>
                  <a:lnTo>
                    <a:pt x="325" y="33"/>
                  </a:lnTo>
                  <a:lnTo>
                    <a:pt x="317" y="24"/>
                  </a:lnTo>
                  <a:lnTo>
                    <a:pt x="307" y="24"/>
                  </a:lnTo>
                  <a:lnTo>
                    <a:pt x="291" y="16"/>
                  </a:lnTo>
                  <a:lnTo>
                    <a:pt x="282" y="8"/>
                  </a:lnTo>
                  <a:lnTo>
                    <a:pt x="274" y="8"/>
                  </a:lnTo>
                  <a:lnTo>
                    <a:pt x="266" y="8"/>
                  </a:lnTo>
                  <a:lnTo>
                    <a:pt x="249" y="0"/>
                  </a:lnTo>
                  <a:lnTo>
                    <a:pt x="241" y="0"/>
                  </a:lnTo>
                  <a:lnTo>
                    <a:pt x="233" y="0"/>
                  </a:lnTo>
                  <a:lnTo>
                    <a:pt x="216" y="0"/>
                  </a:lnTo>
                  <a:lnTo>
                    <a:pt x="208" y="0"/>
                  </a:lnTo>
                  <a:lnTo>
                    <a:pt x="199" y="0"/>
                  </a:lnTo>
                  <a:lnTo>
                    <a:pt x="183" y="0"/>
                  </a:lnTo>
                  <a:lnTo>
                    <a:pt x="175" y="0"/>
                  </a:lnTo>
                  <a:lnTo>
                    <a:pt x="166" y="0"/>
                  </a:lnTo>
                  <a:lnTo>
                    <a:pt x="150" y="8"/>
                  </a:lnTo>
                  <a:lnTo>
                    <a:pt x="141" y="8"/>
                  </a:lnTo>
                  <a:lnTo>
                    <a:pt x="133" y="8"/>
                  </a:lnTo>
                  <a:lnTo>
                    <a:pt x="125" y="16"/>
                  </a:lnTo>
                  <a:lnTo>
                    <a:pt x="108" y="24"/>
                  </a:lnTo>
                  <a:lnTo>
                    <a:pt x="99" y="24"/>
                  </a:lnTo>
                  <a:lnTo>
                    <a:pt x="91" y="33"/>
                  </a:lnTo>
                  <a:lnTo>
                    <a:pt x="82" y="41"/>
                  </a:lnTo>
                  <a:lnTo>
                    <a:pt x="74" y="49"/>
                  </a:lnTo>
                  <a:lnTo>
                    <a:pt x="66" y="57"/>
                  </a:lnTo>
                  <a:lnTo>
                    <a:pt x="58" y="57"/>
                  </a:lnTo>
                  <a:lnTo>
                    <a:pt x="49" y="66"/>
                  </a:lnTo>
                  <a:lnTo>
                    <a:pt x="41" y="82"/>
                  </a:lnTo>
                  <a:lnTo>
                    <a:pt x="41" y="91"/>
                  </a:lnTo>
                  <a:lnTo>
                    <a:pt x="33" y="99"/>
                  </a:lnTo>
                  <a:lnTo>
                    <a:pt x="24" y="108"/>
                  </a:lnTo>
                  <a:lnTo>
                    <a:pt x="24" y="116"/>
                  </a:lnTo>
                  <a:lnTo>
                    <a:pt x="16" y="125"/>
                  </a:lnTo>
                  <a:lnTo>
                    <a:pt x="16" y="141"/>
                  </a:lnTo>
                  <a:lnTo>
                    <a:pt x="8" y="150"/>
                  </a:lnTo>
                  <a:lnTo>
                    <a:pt x="8" y="158"/>
                  </a:lnTo>
                  <a:lnTo>
                    <a:pt x="8" y="166"/>
                  </a:lnTo>
                  <a:lnTo>
                    <a:pt x="0" y="183"/>
                  </a:lnTo>
                  <a:lnTo>
                    <a:pt x="0" y="191"/>
                  </a:lnTo>
                  <a:lnTo>
                    <a:pt x="0" y="207"/>
                  </a:lnTo>
                  <a:lnTo>
                    <a:pt x="0" y="216"/>
                  </a:lnTo>
                  <a:lnTo>
                    <a:pt x="0" y="224"/>
                  </a:lnTo>
                  <a:lnTo>
                    <a:pt x="8" y="232"/>
                  </a:lnTo>
                  <a:lnTo>
                    <a:pt x="8" y="249"/>
                  </a:lnTo>
                  <a:lnTo>
                    <a:pt x="8" y="257"/>
                  </a:lnTo>
                  <a:lnTo>
                    <a:pt x="16" y="265"/>
                  </a:lnTo>
                  <a:lnTo>
                    <a:pt x="16" y="282"/>
                  </a:lnTo>
                  <a:lnTo>
                    <a:pt x="24" y="290"/>
                  </a:lnTo>
                  <a:lnTo>
                    <a:pt x="24" y="299"/>
                  </a:lnTo>
                  <a:lnTo>
                    <a:pt x="33" y="308"/>
                  </a:lnTo>
                  <a:lnTo>
                    <a:pt x="41" y="316"/>
                  </a:lnTo>
                  <a:lnTo>
                    <a:pt x="41" y="333"/>
                  </a:lnTo>
                  <a:lnTo>
                    <a:pt x="49" y="341"/>
                  </a:lnTo>
                  <a:lnTo>
                    <a:pt x="58" y="349"/>
                  </a:lnTo>
                  <a:lnTo>
                    <a:pt x="66" y="349"/>
                  </a:lnTo>
                  <a:lnTo>
                    <a:pt x="74" y="358"/>
                  </a:lnTo>
                  <a:lnTo>
                    <a:pt x="82" y="366"/>
                  </a:lnTo>
                  <a:lnTo>
                    <a:pt x="91" y="374"/>
                  </a:lnTo>
                  <a:lnTo>
                    <a:pt x="99" y="382"/>
                  </a:lnTo>
                  <a:lnTo>
                    <a:pt x="108" y="382"/>
                  </a:lnTo>
                  <a:lnTo>
                    <a:pt x="125" y="391"/>
                  </a:lnTo>
                  <a:lnTo>
                    <a:pt x="133" y="399"/>
                  </a:lnTo>
                  <a:lnTo>
                    <a:pt x="141" y="399"/>
                  </a:lnTo>
                  <a:lnTo>
                    <a:pt x="150" y="399"/>
                  </a:lnTo>
                  <a:lnTo>
                    <a:pt x="166" y="407"/>
                  </a:lnTo>
                  <a:lnTo>
                    <a:pt x="175" y="407"/>
                  </a:lnTo>
                  <a:lnTo>
                    <a:pt x="183" y="407"/>
                  </a:lnTo>
                  <a:lnTo>
                    <a:pt x="199" y="407"/>
                  </a:lnTo>
                  <a:lnTo>
                    <a:pt x="208" y="407"/>
                  </a:lnTo>
                  <a:lnTo>
                    <a:pt x="216" y="407"/>
                  </a:lnTo>
                  <a:lnTo>
                    <a:pt x="233" y="407"/>
                  </a:lnTo>
                  <a:lnTo>
                    <a:pt x="241" y="407"/>
                  </a:lnTo>
                  <a:lnTo>
                    <a:pt x="249" y="407"/>
                  </a:lnTo>
                  <a:lnTo>
                    <a:pt x="266" y="399"/>
                  </a:lnTo>
                  <a:lnTo>
                    <a:pt x="274" y="399"/>
                  </a:lnTo>
                  <a:lnTo>
                    <a:pt x="282" y="399"/>
                  </a:lnTo>
                  <a:lnTo>
                    <a:pt x="291" y="391"/>
                  </a:lnTo>
                  <a:lnTo>
                    <a:pt x="307" y="382"/>
                  </a:lnTo>
                  <a:lnTo>
                    <a:pt x="317" y="382"/>
                  </a:lnTo>
                  <a:lnTo>
                    <a:pt x="325" y="374"/>
                  </a:lnTo>
                  <a:lnTo>
                    <a:pt x="333" y="366"/>
                  </a:lnTo>
                  <a:lnTo>
                    <a:pt x="341" y="358"/>
                  </a:lnTo>
                  <a:lnTo>
                    <a:pt x="350" y="349"/>
                  </a:lnTo>
                  <a:lnTo>
                    <a:pt x="358" y="349"/>
                  </a:lnTo>
                  <a:lnTo>
                    <a:pt x="366" y="341"/>
                  </a:lnTo>
                  <a:lnTo>
                    <a:pt x="375" y="333"/>
                  </a:lnTo>
                  <a:lnTo>
                    <a:pt x="383" y="316"/>
                  </a:lnTo>
                  <a:lnTo>
                    <a:pt x="383" y="308"/>
                  </a:lnTo>
                  <a:lnTo>
                    <a:pt x="391" y="299"/>
                  </a:lnTo>
                  <a:lnTo>
                    <a:pt x="399" y="290"/>
                  </a:lnTo>
                  <a:lnTo>
                    <a:pt x="399" y="282"/>
                  </a:lnTo>
                  <a:lnTo>
                    <a:pt x="408" y="265"/>
                  </a:lnTo>
                  <a:lnTo>
                    <a:pt x="408" y="257"/>
                  </a:lnTo>
                  <a:lnTo>
                    <a:pt x="408" y="249"/>
                  </a:lnTo>
                  <a:lnTo>
                    <a:pt x="408" y="232"/>
                  </a:lnTo>
                  <a:lnTo>
                    <a:pt x="416" y="224"/>
                  </a:lnTo>
                  <a:lnTo>
                    <a:pt x="416" y="216"/>
                  </a:lnTo>
                  <a:lnTo>
                    <a:pt x="416" y="207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3" name=""/>
          <p:cNvSpPr/>
          <p:nvPr/>
        </p:nvSpPr>
        <p:spPr>
          <a:xfrm>
            <a:off x="6033960" y="3125880"/>
            <a:ext cx="1748160" cy="1686240"/>
          </a:xfrm>
          <a:custGeom>
            <a:avLst/>
            <a:gdLst/>
            <a:ahLst/>
            <a:rect l="0" t="0" r="r" b="b"/>
            <a:pathLst>
              <a:path fill="none" w="4856" h="4684">
                <a:moveTo>
                  <a:pt x="0" y="0"/>
                </a:moveTo>
                <a:lnTo>
                  <a:pt x="57" y="79"/>
                </a:lnTo>
                <a:lnTo>
                  <a:pt x="180" y="171"/>
                </a:lnTo>
                <a:lnTo>
                  <a:pt x="335" y="202"/>
                </a:lnTo>
                <a:lnTo>
                  <a:pt x="489" y="202"/>
                </a:lnTo>
                <a:lnTo>
                  <a:pt x="582" y="233"/>
                </a:lnTo>
                <a:lnTo>
                  <a:pt x="736" y="326"/>
                </a:lnTo>
                <a:lnTo>
                  <a:pt x="798" y="418"/>
                </a:lnTo>
                <a:lnTo>
                  <a:pt x="952" y="573"/>
                </a:lnTo>
                <a:lnTo>
                  <a:pt x="978" y="665"/>
                </a:lnTo>
                <a:lnTo>
                  <a:pt x="1040" y="846"/>
                </a:lnTo>
                <a:lnTo>
                  <a:pt x="1071" y="970"/>
                </a:lnTo>
                <a:lnTo>
                  <a:pt x="1287" y="1247"/>
                </a:lnTo>
                <a:lnTo>
                  <a:pt x="1380" y="1402"/>
                </a:lnTo>
                <a:lnTo>
                  <a:pt x="1441" y="1587"/>
                </a:lnTo>
                <a:lnTo>
                  <a:pt x="1503" y="1680"/>
                </a:lnTo>
                <a:lnTo>
                  <a:pt x="1688" y="1741"/>
                </a:lnTo>
                <a:lnTo>
                  <a:pt x="1781" y="1772"/>
                </a:lnTo>
                <a:lnTo>
                  <a:pt x="1874" y="1803"/>
                </a:lnTo>
                <a:lnTo>
                  <a:pt x="2182" y="1834"/>
                </a:lnTo>
                <a:lnTo>
                  <a:pt x="2332" y="1927"/>
                </a:lnTo>
                <a:lnTo>
                  <a:pt x="2549" y="2019"/>
                </a:lnTo>
                <a:lnTo>
                  <a:pt x="2611" y="2138"/>
                </a:lnTo>
                <a:lnTo>
                  <a:pt x="2765" y="2231"/>
                </a:lnTo>
                <a:lnTo>
                  <a:pt x="2889" y="2355"/>
                </a:lnTo>
                <a:lnTo>
                  <a:pt x="2981" y="2448"/>
                </a:lnTo>
                <a:lnTo>
                  <a:pt x="3105" y="2541"/>
                </a:lnTo>
                <a:lnTo>
                  <a:pt x="3228" y="2602"/>
                </a:lnTo>
                <a:lnTo>
                  <a:pt x="3383" y="2757"/>
                </a:lnTo>
                <a:lnTo>
                  <a:pt x="3475" y="2787"/>
                </a:lnTo>
                <a:lnTo>
                  <a:pt x="3568" y="2880"/>
                </a:lnTo>
                <a:lnTo>
                  <a:pt x="3687" y="2973"/>
                </a:lnTo>
                <a:lnTo>
                  <a:pt x="3903" y="3127"/>
                </a:lnTo>
                <a:lnTo>
                  <a:pt x="3996" y="3281"/>
                </a:lnTo>
                <a:lnTo>
                  <a:pt x="4057" y="3374"/>
                </a:lnTo>
                <a:lnTo>
                  <a:pt x="4150" y="3586"/>
                </a:lnTo>
                <a:lnTo>
                  <a:pt x="4181" y="3740"/>
                </a:lnTo>
                <a:lnTo>
                  <a:pt x="4243" y="3833"/>
                </a:lnTo>
                <a:lnTo>
                  <a:pt x="4274" y="3925"/>
                </a:lnTo>
                <a:lnTo>
                  <a:pt x="4335" y="4049"/>
                </a:lnTo>
                <a:lnTo>
                  <a:pt x="4366" y="4141"/>
                </a:lnTo>
                <a:lnTo>
                  <a:pt x="4428" y="4234"/>
                </a:lnTo>
                <a:lnTo>
                  <a:pt x="4459" y="4326"/>
                </a:lnTo>
                <a:lnTo>
                  <a:pt x="4551" y="4388"/>
                </a:lnTo>
                <a:lnTo>
                  <a:pt x="4675" y="4481"/>
                </a:lnTo>
                <a:lnTo>
                  <a:pt x="4767" y="4543"/>
                </a:lnTo>
                <a:lnTo>
                  <a:pt x="4856" y="468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"/>
          <p:cNvSpPr txBox="1"/>
          <p:nvPr/>
        </p:nvSpPr>
        <p:spPr>
          <a:xfrm>
            <a:off x="2595600" y="429732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3979800" y="5165640"/>
            <a:ext cx="412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 txBox="1"/>
          <p:nvPr/>
        </p:nvSpPr>
        <p:spPr>
          <a:xfrm>
            <a:off x="2695680" y="190512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2185920" y="281304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Arial"/>
                <a:ea typeface="Arial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1122480" y="2536920"/>
            <a:ext cx="438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"/>
          <p:cNvSpPr/>
          <p:nvPr/>
        </p:nvSpPr>
        <p:spPr>
          <a:xfrm>
            <a:off x="838080" y="2822400"/>
            <a:ext cx="698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 txBox="1"/>
          <p:nvPr/>
        </p:nvSpPr>
        <p:spPr>
          <a:xfrm>
            <a:off x="957240" y="281304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Arial"/>
                <a:ea typeface="Arial"/>
              </a:rPr>
              <a:t>A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 txBox="1"/>
          <p:nvPr/>
        </p:nvSpPr>
        <p:spPr>
          <a:xfrm>
            <a:off x="1598760" y="2658960"/>
            <a:ext cx="3747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 txBox="1"/>
          <p:nvPr/>
        </p:nvSpPr>
        <p:spPr>
          <a:xfrm>
            <a:off x="1652760" y="378000"/>
            <a:ext cx="60627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 Area Desig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 txBox="1"/>
          <p:nvPr/>
        </p:nvSpPr>
        <p:spPr>
          <a:xfrm>
            <a:off x="3925800" y="1071720"/>
            <a:ext cx="45370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it is not practical to use this method,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ernative method may be used as sh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 txBox="1"/>
          <p:nvPr/>
        </p:nvSpPr>
        <p:spPr>
          <a:xfrm>
            <a:off x="201600" y="947880"/>
            <a:ext cx="31748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he diameter of the circ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arget area is called out in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upper portion of the symb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685800" y="1685880"/>
            <a:ext cx="7772400" cy="371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location and size (where applicable) of datum targets are defined with either basic or toleranced dimensions.  If defined with basic dimensions, established tooling or gaging tolerances app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 txBox="1"/>
          <p:nvPr/>
        </p:nvSpPr>
        <p:spPr>
          <a:xfrm>
            <a:off x="1474920" y="723960"/>
            <a:ext cx="5837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c0128"/>
                </a:solidFill>
                <a:uFillTx/>
                <a:latin typeface="Times New Roman"/>
                <a:ea typeface="Times New Roman"/>
              </a:rPr>
              <a:t>CONCEPTS TO CLING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685800" y="1685880"/>
            <a:ext cx="77724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618ffd"/>
                </a:solidFill>
                <a:latin typeface="Times New Roman"/>
                <a:ea typeface="Times New Roman"/>
              </a:rPr>
              <a:t>The location and size (where applicable) of datum targets are defined with either basic or toleranced dimensions.  If defined with basic dimensions, established tooling or gaging tolerances app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***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CAUTION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*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no recognized “tolerance standard” for tool and gage makers.  The tolerances are tight, but it may be to your advantage to specify the toler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1474920" y="723960"/>
            <a:ext cx="58374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 u="sng">
                <a:solidFill>
                  <a:srgbClr val="fc0128"/>
                </a:solidFill>
                <a:uFillTx/>
                <a:latin typeface="Times New Roman"/>
                <a:ea typeface="Times New Roman"/>
              </a:rPr>
              <a:t>CONCEPTS TO CLING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"/>
          <p:cNvSpPr txBox="1"/>
          <p:nvPr/>
        </p:nvSpPr>
        <p:spPr>
          <a:xfrm>
            <a:off x="685800" y="2095560"/>
            <a:ext cx="7772400" cy="24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ing Target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"/>
          <p:cNvSpPr/>
          <p:nvPr/>
        </p:nvSpPr>
        <p:spPr>
          <a:xfrm>
            <a:off x="1109520" y="2687760"/>
            <a:ext cx="7000920" cy="131616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2832120" y="4135320"/>
            <a:ext cx="1492560" cy="336960"/>
          </a:xfrm>
          <a:custGeom>
            <a:avLst/>
            <a:gdLst/>
            <a:ahLst/>
            <a:rect l="0" t="0" r="r" b="b"/>
            <a:pathLst>
              <a:path fill="none" w="4146" h="936">
                <a:moveTo>
                  <a:pt x="0" y="936"/>
                </a:moveTo>
                <a:lnTo>
                  <a:pt x="0" y="0"/>
                </a:lnTo>
                <a:lnTo>
                  <a:pt x="4146" y="0"/>
                </a:lnTo>
                <a:lnTo>
                  <a:pt x="4146" y="936"/>
                </a:lnTo>
                <a:lnTo>
                  <a:pt x="0" y="936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2832120" y="3122640"/>
            <a:ext cx="3518280" cy="2359440"/>
          </a:xfrm>
          <a:custGeom>
            <a:avLst/>
            <a:gdLst/>
            <a:ahLst/>
            <a:rect l="0" t="0" r="r" b="b"/>
            <a:pathLst>
              <a:path fill="none" w="9773" h="6554">
                <a:moveTo>
                  <a:pt x="0" y="6554"/>
                </a:moveTo>
                <a:lnTo>
                  <a:pt x="0" y="0"/>
                </a:lnTo>
                <a:lnTo>
                  <a:pt x="5292" y="0"/>
                </a:lnTo>
                <a:lnTo>
                  <a:pt x="5292" y="1879"/>
                </a:lnTo>
                <a:lnTo>
                  <a:pt x="5292" y="1941"/>
                </a:lnTo>
                <a:lnTo>
                  <a:pt x="5301" y="2003"/>
                </a:lnTo>
                <a:lnTo>
                  <a:pt x="5310" y="2055"/>
                </a:lnTo>
                <a:lnTo>
                  <a:pt x="5336" y="2108"/>
                </a:lnTo>
                <a:lnTo>
                  <a:pt x="5363" y="2161"/>
                </a:lnTo>
                <a:lnTo>
                  <a:pt x="5389" y="2214"/>
                </a:lnTo>
                <a:lnTo>
                  <a:pt x="5424" y="2258"/>
                </a:lnTo>
                <a:lnTo>
                  <a:pt x="5460" y="2302"/>
                </a:lnTo>
                <a:lnTo>
                  <a:pt x="5504" y="2338"/>
                </a:lnTo>
                <a:lnTo>
                  <a:pt x="5548" y="2373"/>
                </a:lnTo>
                <a:lnTo>
                  <a:pt x="5601" y="2408"/>
                </a:lnTo>
                <a:lnTo>
                  <a:pt x="5654" y="2426"/>
                </a:lnTo>
                <a:lnTo>
                  <a:pt x="5707" y="2452"/>
                </a:lnTo>
                <a:lnTo>
                  <a:pt x="5768" y="2461"/>
                </a:lnTo>
                <a:lnTo>
                  <a:pt x="5821" y="2470"/>
                </a:lnTo>
                <a:lnTo>
                  <a:pt x="5883" y="2479"/>
                </a:lnTo>
                <a:lnTo>
                  <a:pt x="9773" y="2479"/>
                </a:lnTo>
                <a:lnTo>
                  <a:pt x="9773" y="4084"/>
                </a:lnTo>
                <a:lnTo>
                  <a:pt x="5883" y="4084"/>
                </a:lnTo>
                <a:lnTo>
                  <a:pt x="5821" y="4084"/>
                </a:lnTo>
                <a:lnTo>
                  <a:pt x="5768" y="4093"/>
                </a:lnTo>
                <a:lnTo>
                  <a:pt x="5707" y="4110"/>
                </a:lnTo>
                <a:lnTo>
                  <a:pt x="5654" y="4128"/>
                </a:lnTo>
                <a:lnTo>
                  <a:pt x="5601" y="4154"/>
                </a:lnTo>
                <a:lnTo>
                  <a:pt x="5548" y="4181"/>
                </a:lnTo>
                <a:lnTo>
                  <a:pt x="5504" y="4216"/>
                </a:lnTo>
                <a:lnTo>
                  <a:pt x="5460" y="4260"/>
                </a:lnTo>
                <a:lnTo>
                  <a:pt x="5424" y="4296"/>
                </a:lnTo>
                <a:lnTo>
                  <a:pt x="5389" y="4348"/>
                </a:lnTo>
                <a:lnTo>
                  <a:pt x="5363" y="4393"/>
                </a:lnTo>
                <a:lnTo>
                  <a:pt x="5336" y="4446"/>
                </a:lnTo>
                <a:lnTo>
                  <a:pt x="5310" y="4507"/>
                </a:lnTo>
                <a:lnTo>
                  <a:pt x="5301" y="4560"/>
                </a:lnTo>
                <a:lnTo>
                  <a:pt x="5292" y="4622"/>
                </a:lnTo>
                <a:lnTo>
                  <a:pt x="5292" y="4675"/>
                </a:lnTo>
                <a:lnTo>
                  <a:pt x="5292" y="6554"/>
                </a:lnTo>
                <a:lnTo>
                  <a:pt x="0" y="6554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737240" y="3798720"/>
            <a:ext cx="0" cy="10065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832120" y="896760"/>
            <a:ext cx="3518280" cy="1155960"/>
          </a:xfrm>
          <a:custGeom>
            <a:avLst/>
            <a:gdLst/>
            <a:ahLst/>
            <a:rect l="0" t="0" r="r" b="b"/>
            <a:pathLst>
              <a:path fill="none" w="9773" h="3211">
                <a:moveTo>
                  <a:pt x="0" y="0"/>
                </a:moveTo>
                <a:lnTo>
                  <a:pt x="0" y="3211"/>
                </a:lnTo>
                <a:lnTo>
                  <a:pt x="9773" y="3211"/>
                </a:lnTo>
                <a:lnTo>
                  <a:pt x="9773" y="1817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2832120" y="896760"/>
            <a:ext cx="19051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2832120" y="1535040"/>
            <a:ext cx="982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984400" y="1535040"/>
            <a:ext cx="1018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3139920" y="1535040"/>
            <a:ext cx="1018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329256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44808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60360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375912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391464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407052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4226040" y="1535040"/>
            <a:ext cx="982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4737240" y="1550880"/>
            <a:ext cx="0" cy="501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"/>
          <p:cNvSpPr/>
          <p:nvPr/>
        </p:nvSpPr>
        <p:spPr>
          <a:xfrm>
            <a:off x="4324320" y="1535040"/>
            <a:ext cx="0" cy="795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"/>
          <p:cNvSpPr/>
          <p:nvPr/>
        </p:nvSpPr>
        <p:spPr>
          <a:xfrm>
            <a:off x="4324320" y="1665360"/>
            <a:ext cx="0" cy="104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4324320" y="1820880"/>
            <a:ext cx="0" cy="104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4324320" y="1976400"/>
            <a:ext cx="0" cy="763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4737240" y="1550880"/>
            <a:ext cx="16128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>
            <a:off x="4737240" y="896760"/>
            <a:ext cx="0" cy="6541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 txBox="1"/>
          <p:nvPr/>
        </p:nvSpPr>
        <p:spPr>
          <a:xfrm>
            <a:off x="249120" y="806400"/>
            <a:ext cx="23209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datum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ed by tw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target 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one datum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"/>
          <p:cNvSpPr txBox="1"/>
          <p:nvPr/>
        </p:nvSpPr>
        <p:spPr>
          <a:xfrm>
            <a:off x="325440" y="379728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"/>
          <p:cNvSpPr/>
          <p:nvPr/>
        </p:nvSpPr>
        <p:spPr>
          <a:xfrm>
            <a:off x="2832120" y="4135320"/>
            <a:ext cx="1492560" cy="336960"/>
          </a:xfrm>
          <a:custGeom>
            <a:avLst/>
            <a:gdLst/>
            <a:ahLst/>
            <a:rect l="0" t="0" r="r" b="b"/>
            <a:pathLst>
              <a:path fill="none" w="4146" h="936">
                <a:moveTo>
                  <a:pt x="0" y="936"/>
                </a:moveTo>
                <a:lnTo>
                  <a:pt x="0" y="0"/>
                </a:lnTo>
                <a:lnTo>
                  <a:pt x="4146" y="0"/>
                </a:lnTo>
                <a:lnTo>
                  <a:pt x="4146" y="936"/>
                </a:lnTo>
                <a:lnTo>
                  <a:pt x="0" y="936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2832120" y="3122640"/>
            <a:ext cx="3518280" cy="2359440"/>
          </a:xfrm>
          <a:custGeom>
            <a:avLst/>
            <a:gdLst/>
            <a:ahLst/>
            <a:rect l="0" t="0" r="r" b="b"/>
            <a:pathLst>
              <a:path fill="none" w="9773" h="6554">
                <a:moveTo>
                  <a:pt x="0" y="6554"/>
                </a:moveTo>
                <a:lnTo>
                  <a:pt x="0" y="0"/>
                </a:lnTo>
                <a:lnTo>
                  <a:pt x="5292" y="0"/>
                </a:lnTo>
                <a:lnTo>
                  <a:pt x="5292" y="1879"/>
                </a:lnTo>
                <a:lnTo>
                  <a:pt x="5292" y="1941"/>
                </a:lnTo>
                <a:lnTo>
                  <a:pt x="5301" y="2003"/>
                </a:lnTo>
                <a:lnTo>
                  <a:pt x="5310" y="2055"/>
                </a:lnTo>
                <a:lnTo>
                  <a:pt x="5336" y="2108"/>
                </a:lnTo>
                <a:lnTo>
                  <a:pt x="5363" y="2161"/>
                </a:lnTo>
                <a:lnTo>
                  <a:pt x="5389" y="2214"/>
                </a:lnTo>
                <a:lnTo>
                  <a:pt x="5424" y="2258"/>
                </a:lnTo>
                <a:lnTo>
                  <a:pt x="5460" y="2302"/>
                </a:lnTo>
                <a:lnTo>
                  <a:pt x="5504" y="2338"/>
                </a:lnTo>
                <a:lnTo>
                  <a:pt x="5548" y="2373"/>
                </a:lnTo>
                <a:lnTo>
                  <a:pt x="5601" y="2408"/>
                </a:lnTo>
                <a:lnTo>
                  <a:pt x="5654" y="2426"/>
                </a:lnTo>
                <a:lnTo>
                  <a:pt x="5707" y="2452"/>
                </a:lnTo>
                <a:lnTo>
                  <a:pt x="5768" y="2461"/>
                </a:lnTo>
                <a:lnTo>
                  <a:pt x="5821" y="2470"/>
                </a:lnTo>
                <a:lnTo>
                  <a:pt x="5883" y="2479"/>
                </a:lnTo>
                <a:lnTo>
                  <a:pt x="9773" y="2479"/>
                </a:lnTo>
                <a:lnTo>
                  <a:pt x="9773" y="4084"/>
                </a:lnTo>
                <a:lnTo>
                  <a:pt x="5883" y="4084"/>
                </a:lnTo>
                <a:lnTo>
                  <a:pt x="5821" y="4084"/>
                </a:lnTo>
                <a:lnTo>
                  <a:pt x="5768" y="4093"/>
                </a:lnTo>
                <a:lnTo>
                  <a:pt x="5707" y="4110"/>
                </a:lnTo>
                <a:lnTo>
                  <a:pt x="5654" y="4128"/>
                </a:lnTo>
                <a:lnTo>
                  <a:pt x="5601" y="4154"/>
                </a:lnTo>
                <a:lnTo>
                  <a:pt x="5548" y="4181"/>
                </a:lnTo>
                <a:lnTo>
                  <a:pt x="5504" y="4216"/>
                </a:lnTo>
                <a:lnTo>
                  <a:pt x="5460" y="4260"/>
                </a:lnTo>
                <a:lnTo>
                  <a:pt x="5424" y="4296"/>
                </a:lnTo>
                <a:lnTo>
                  <a:pt x="5389" y="4348"/>
                </a:lnTo>
                <a:lnTo>
                  <a:pt x="5363" y="4393"/>
                </a:lnTo>
                <a:lnTo>
                  <a:pt x="5336" y="4446"/>
                </a:lnTo>
                <a:lnTo>
                  <a:pt x="5310" y="4507"/>
                </a:lnTo>
                <a:lnTo>
                  <a:pt x="5301" y="4560"/>
                </a:lnTo>
                <a:lnTo>
                  <a:pt x="5292" y="4622"/>
                </a:lnTo>
                <a:lnTo>
                  <a:pt x="5292" y="4675"/>
                </a:lnTo>
                <a:lnTo>
                  <a:pt x="5292" y="6554"/>
                </a:lnTo>
                <a:lnTo>
                  <a:pt x="0" y="6554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"/>
          <p:cNvSpPr/>
          <p:nvPr/>
        </p:nvSpPr>
        <p:spPr>
          <a:xfrm>
            <a:off x="4737240" y="3798720"/>
            <a:ext cx="0" cy="10065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"/>
          <p:cNvSpPr/>
          <p:nvPr/>
        </p:nvSpPr>
        <p:spPr>
          <a:xfrm>
            <a:off x="6438960" y="2052720"/>
            <a:ext cx="5684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2832120" y="896760"/>
            <a:ext cx="3518280" cy="1155960"/>
          </a:xfrm>
          <a:custGeom>
            <a:avLst/>
            <a:gdLst/>
            <a:ahLst/>
            <a:rect l="0" t="0" r="r" b="b"/>
            <a:pathLst>
              <a:path fill="none" w="9773" h="3211">
                <a:moveTo>
                  <a:pt x="0" y="0"/>
                </a:moveTo>
                <a:lnTo>
                  <a:pt x="0" y="3211"/>
                </a:lnTo>
                <a:lnTo>
                  <a:pt x="9773" y="3211"/>
                </a:lnTo>
                <a:lnTo>
                  <a:pt x="9773" y="1817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 flipH="1">
            <a:off x="2832120" y="896760"/>
            <a:ext cx="19051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2832120" y="1535040"/>
            <a:ext cx="982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2984400" y="1535040"/>
            <a:ext cx="1018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139920" y="1535040"/>
            <a:ext cx="1018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329256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344808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360360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375912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391464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407052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4226040" y="1535040"/>
            <a:ext cx="982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4737240" y="1550880"/>
            <a:ext cx="0" cy="501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4324320" y="1535040"/>
            <a:ext cx="0" cy="795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4324320" y="1665360"/>
            <a:ext cx="0" cy="104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4324320" y="1820880"/>
            <a:ext cx="0" cy="104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4324320" y="1976400"/>
            <a:ext cx="0" cy="763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4737240" y="1550880"/>
            <a:ext cx="16128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4737240" y="896760"/>
            <a:ext cx="0" cy="6541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6788160" y="1585800"/>
            <a:ext cx="92160" cy="1368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 flipH="1">
            <a:off x="6788160" y="1585800"/>
            <a:ext cx="92160" cy="1368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686640" y="1509840"/>
            <a:ext cx="276480" cy="276480"/>
          </a:xfrm>
          <a:custGeom>
            <a:avLst/>
            <a:gdLst/>
            <a:ahLst/>
            <a:rect l="0" t="0" r="r" b="b"/>
            <a:pathLst>
              <a:path fill="none" w="768" h="768">
                <a:moveTo>
                  <a:pt x="0" y="768"/>
                </a:moveTo>
                <a:lnTo>
                  <a:pt x="0" y="0"/>
                </a:lnTo>
                <a:lnTo>
                  <a:pt x="768" y="0"/>
                </a:lnTo>
                <a:lnTo>
                  <a:pt x="768" y="768"/>
                </a:lnTo>
                <a:lnTo>
                  <a:pt x="0" y="768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6826320" y="1785960"/>
            <a:ext cx="0" cy="266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6746760" y="2052720"/>
            <a:ext cx="158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6746760" y="1916280"/>
            <a:ext cx="795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746760" y="1916280"/>
            <a:ext cx="159120" cy="136800"/>
          </a:xfrm>
          <a:custGeom>
            <a:avLst/>
            <a:gdLst/>
            <a:ahLst/>
            <a:rect l="0" t="0" r="r" b="b"/>
            <a:pathLst>
              <a:path w="442" h="380">
                <a:moveTo>
                  <a:pt x="0" y="380"/>
                </a:moveTo>
                <a:lnTo>
                  <a:pt x="221" y="0"/>
                </a:lnTo>
                <a:lnTo>
                  <a:pt x="442" y="380"/>
                </a:lnTo>
                <a:lnTo>
                  <a:pt x="0" y="38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 flipH="1" flipV="1">
            <a:off x="6826320" y="1916280"/>
            <a:ext cx="7920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 txBox="1"/>
          <p:nvPr/>
        </p:nvSpPr>
        <p:spPr>
          <a:xfrm>
            <a:off x="249120" y="806400"/>
            <a:ext cx="23209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datum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ed by tw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target 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one datum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 txBox="1"/>
          <p:nvPr/>
        </p:nvSpPr>
        <p:spPr>
          <a:xfrm>
            <a:off x="325440" y="379728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"/>
          <p:cNvSpPr/>
          <p:nvPr/>
        </p:nvSpPr>
        <p:spPr>
          <a:xfrm>
            <a:off x="3784680" y="5100480"/>
            <a:ext cx="0" cy="9716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5648400" y="5037120"/>
            <a:ext cx="0" cy="10350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3962520" y="5983200"/>
            <a:ext cx="5014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 flipH="1">
            <a:off x="4968720" y="5983200"/>
            <a:ext cx="5050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3784680" y="5951520"/>
            <a:ext cx="178200" cy="60840"/>
          </a:xfrm>
          <a:custGeom>
            <a:avLst/>
            <a:gdLst/>
            <a:ahLst/>
            <a:rect l="0" t="0" r="r" b="b"/>
            <a:pathLst>
              <a:path w="495" h="169">
                <a:moveTo>
                  <a:pt x="495" y="0"/>
                </a:moveTo>
                <a:lnTo>
                  <a:pt x="495" y="169"/>
                </a:lnTo>
                <a:lnTo>
                  <a:pt x="0" y="89"/>
                </a:lnTo>
                <a:lnTo>
                  <a:pt x="495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5473800" y="5951520"/>
            <a:ext cx="174960" cy="60840"/>
          </a:xfrm>
          <a:custGeom>
            <a:avLst/>
            <a:gdLst/>
            <a:ahLst/>
            <a:rect l="0" t="0" r="r" b="b"/>
            <a:pathLst>
              <a:path w="486" h="169">
                <a:moveTo>
                  <a:pt x="0" y="0"/>
                </a:moveTo>
                <a:lnTo>
                  <a:pt x="0" y="169"/>
                </a:lnTo>
                <a:lnTo>
                  <a:pt x="486" y="8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4562640" y="5910120"/>
            <a:ext cx="95760" cy="143280"/>
          </a:xfrm>
          <a:custGeom>
            <a:avLst/>
            <a:gdLst/>
            <a:ahLst/>
            <a:rect l="0" t="0" r="r" b="b"/>
            <a:pathLst>
              <a:path fill="none" w="266" h="398">
                <a:moveTo>
                  <a:pt x="35" y="0"/>
                </a:moveTo>
                <a:lnTo>
                  <a:pt x="248" y="0"/>
                </a:lnTo>
                <a:lnTo>
                  <a:pt x="133" y="150"/>
                </a:lnTo>
                <a:lnTo>
                  <a:pt x="195" y="150"/>
                </a:lnTo>
                <a:lnTo>
                  <a:pt x="231" y="168"/>
                </a:lnTo>
                <a:lnTo>
                  <a:pt x="248" y="195"/>
                </a:lnTo>
                <a:lnTo>
                  <a:pt x="266" y="247"/>
                </a:lnTo>
                <a:lnTo>
                  <a:pt x="266" y="283"/>
                </a:lnTo>
                <a:lnTo>
                  <a:pt x="248" y="345"/>
                </a:lnTo>
                <a:lnTo>
                  <a:pt x="213" y="381"/>
                </a:lnTo>
                <a:lnTo>
                  <a:pt x="150" y="398"/>
                </a:lnTo>
                <a:lnTo>
                  <a:pt x="98" y="398"/>
                </a:lnTo>
                <a:lnTo>
                  <a:pt x="35" y="381"/>
                </a:lnTo>
                <a:lnTo>
                  <a:pt x="17" y="363"/>
                </a:lnTo>
                <a:lnTo>
                  <a:pt x="0" y="328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4705200" y="6040440"/>
            <a:ext cx="16200" cy="12960"/>
          </a:xfrm>
          <a:custGeom>
            <a:avLst/>
            <a:gdLst/>
            <a:ahLst/>
            <a:rect l="0" t="0" r="r" b="b"/>
            <a:pathLst>
              <a:path fill="none" w="45" h="36">
                <a:moveTo>
                  <a:pt x="27" y="0"/>
                </a:moveTo>
                <a:lnTo>
                  <a:pt x="0" y="17"/>
                </a:lnTo>
                <a:lnTo>
                  <a:pt x="27" y="36"/>
                </a:lnTo>
                <a:lnTo>
                  <a:pt x="45" y="17"/>
                </a:lnTo>
                <a:lnTo>
                  <a:pt x="27" y="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-38160" bIns="-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4768920" y="5910120"/>
            <a:ext cx="101880" cy="95760"/>
          </a:xfrm>
          <a:custGeom>
            <a:avLst/>
            <a:gdLst/>
            <a:ahLst/>
            <a:rect l="0" t="0" r="r" b="b"/>
            <a:pathLst>
              <a:path fill="none" w="283" h="266">
                <a:moveTo>
                  <a:pt x="186" y="0"/>
                </a:moveTo>
                <a:lnTo>
                  <a:pt x="0" y="266"/>
                </a:lnTo>
                <a:lnTo>
                  <a:pt x="283" y="266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44640" bIns="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4835520" y="5910120"/>
            <a:ext cx="0" cy="1429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464000" y="5811840"/>
            <a:ext cx="505080" cy="343440"/>
          </a:xfrm>
          <a:custGeom>
            <a:avLst/>
            <a:gdLst/>
            <a:ahLst/>
            <a:rect l="0" t="0" r="r" b="b"/>
            <a:pathLst>
              <a:path fill="none" w="1403" h="954">
                <a:moveTo>
                  <a:pt x="0" y="954"/>
                </a:moveTo>
                <a:lnTo>
                  <a:pt x="1403" y="954"/>
                </a:lnTo>
                <a:lnTo>
                  <a:pt x="1403" y="0"/>
                </a:lnTo>
                <a:lnTo>
                  <a:pt x="0" y="0"/>
                </a:lnTo>
                <a:lnTo>
                  <a:pt x="0" y="954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H="1">
            <a:off x="2241720" y="3592440"/>
            <a:ext cx="14540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H="1">
            <a:off x="2241720" y="5011560"/>
            <a:ext cx="14540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>
            <a:off x="2330280" y="3770280"/>
            <a:ext cx="0" cy="3621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2330280" y="4475160"/>
            <a:ext cx="0" cy="3589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>
            <a:off x="2301840" y="3592440"/>
            <a:ext cx="57600" cy="178200"/>
          </a:xfrm>
          <a:custGeom>
            <a:avLst/>
            <a:gdLst/>
            <a:ahLst/>
            <a:rect l="0" t="0" r="r" b="b"/>
            <a:pathLst>
              <a:path w="160" h="495">
                <a:moveTo>
                  <a:pt x="0" y="495"/>
                </a:moveTo>
                <a:lnTo>
                  <a:pt x="160" y="495"/>
                </a:lnTo>
                <a:lnTo>
                  <a:pt x="80" y="0"/>
                </a:lnTo>
                <a:lnTo>
                  <a:pt x="0" y="49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2301840" y="4834080"/>
            <a:ext cx="57600" cy="178200"/>
          </a:xfrm>
          <a:custGeom>
            <a:avLst/>
            <a:gdLst/>
            <a:ahLst/>
            <a:rect l="0" t="0" r="r" b="b"/>
            <a:pathLst>
              <a:path w="160" h="495">
                <a:moveTo>
                  <a:pt x="0" y="0"/>
                </a:moveTo>
                <a:lnTo>
                  <a:pt x="160" y="0"/>
                </a:lnTo>
                <a:lnTo>
                  <a:pt x="80" y="49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2184480" y="4230720"/>
            <a:ext cx="95760" cy="143280"/>
          </a:xfrm>
          <a:custGeom>
            <a:avLst/>
            <a:gdLst/>
            <a:ahLst/>
            <a:rect l="0" t="0" r="r" b="b"/>
            <a:pathLst>
              <a:path fill="none" w="266" h="398">
                <a:moveTo>
                  <a:pt x="17" y="97"/>
                </a:moveTo>
                <a:lnTo>
                  <a:pt x="17" y="79"/>
                </a:lnTo>
                <a:lnTo>
                  <a:pt x="35" y="35"/>
                </a:lnTo>
                <a:lnTo>
                  <a:pt x="52" y="17"/>
                </a:lnTo>
                <a:lnTo>
                  <a:pt x="89" y="0"/>
                </a:lnTo>
                <a:lnTo>
                  <a:pt x="168" y="0"/>
                </a:lnTo>
                <a:lnTo>
                  <a:pt x="204" y="17"/>
                </a:lnTo>
                <a:lnTo>
                  <a:pt x="222" y="35"/>
                </a:lnTo>
                <a:lnTo>
                  <a:pt x="248" y="79"/>
                </a:lnTo>
                <a:lnTo>
                  <a:pt x="248" y="115"/>
                </a:lnTo>
                <a:lnTo>
                  <a:pt x="222" y="150"/>
                </a:lnTo>
                <a:lnTo>
                  <a:pt x="186" y="212"/>
                </a:lnTo>
                <a:lnTo>
                  <a:pt x="0" y="398"/>
                </a:lnTo>
                <a:lnTo>
                  <a:pt x="266" y="398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>
            <a:off x="2327400" y="4361040"/>
            <a:ext cx="12960" cy="12960"/>
          </a:xfrm>
          <a:custGeom>
            <a:avLst/>
            <a:gdLst/>
            <a:ahLst/>
            <a:rect l="0" t="0" r="r" b="b"/>
            <a:pathLst>
              <a:path fill="none" w="36" h="36">
                <a:moveTo>
                  <a:pt x="17" y="0"/>
                </a:moveTo>
                <a:lnTo>
                  <a:pt x="0" y="17"/>
                </a:lnTo>
                <a:lnTo>
                  <a:pt x="17" y="36"/>
                </a:lnTo>
                <a:lnTo>
                  <a:pt x="36" y="17"/>
                </a:lnTo>
                <a:lnTo>
                  <a:pt x="17" y="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-38160" bIns="-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2394000" y="4230720"/>
            <a:ext cx="89280" cy="143280"/>
          </a:xfrm>
          <a:custGeom>
            <a:avLst/>
            <a:gdLst/>
            <a:ahLst/>
            <a:rect l="0" t="0" r="r" b="b"/>
            <a:pathLst>
              <a:path fill="none" w="248" h="398">
                <a:moveTo>
                  <a:pt x="231" y="61"/>
                </a:moveTo>
                <a:lnTo>
                  <a:pt x="213" y="17"/>
                </a:lnTo>
                <a:lnTo>
                  <a:pt x="159" y="0"/>
                </a:lnTo>
                <a:lnTo>
                  <a:pt x="115" y="0"/>
                </a:lnTo>
                <a:lnTo>
                  <a:pt x="61" y="17"/>
                </a:lnTo>
                <a:lnTo>
                  <a:pt x="26" y="79"/>
                </a:lnTo>
                <a:lnTo>
                  <a:pt x="0" y="177"/>
                </a:lnTo>
                <a:lnTo>
                  <a:pt x="0" y="265"/>
                </a:lnTo>
                <a:lnTo>
                  <a:pt x="26" y="345"/>
                </a:lnTo>
                <a:lnTo>
                  <a:pt x="61" y="381"/>
                </a:lnTo>
                <a:lnTo>
                  <a:pt x="115" y="398"/>
                </a:lnTo>
                <a:lnTo>
                  <a:pt x="133" y="398"/>
                </a:lnTo>
                <a:lnTo>
                  <a:pt x="196" y="381"/>
                </a:lnTo>
                <a:lnTo>
                  <a:pt x="231" y="345"/>
                </a:lnTo>
                <a:lnTo>
                  <a:pt x="248" y="283"/>
                </a:lnTo>
                <a:lnTo>
                  <a:pt x="248" y="265"/>
                </a:lnTo>
                <a:lnTo>
                  <a:pt x="231" y="212"/>
                </a:lnTo>
                <a:lnTo>
                  <a:pt x="196" y="177"/>
                </a:lnTo>
                <a:lnTo>
                  <a:pt x="133" y="150"/>
                </a:lnTo>
                <a:lnTo>
                  <a:pt x="115" y="150"/>
                </a:lnTo>
                <a:lnTo>
                  <a:pt x="61" y="177"/>
                </a:lnTo>
                <a:lnTo>
                  <a:pt x="26" y="212"/>
                </a:lnTo>
                <a:lnTo>
                  <a:pt x="0" y="265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2082960" y="4132440"/>
            <a:ext cx="495720" cy="343440"/>
          </a:xfrm>
          <a:custGeom>
            <a:avLst/>
            <a:gdLst/>
            <a:ahLst/>
            <a:rect l="0" t="0" r="r" b="b"/>
            <a:pathLst>
              <a:path fill="none" w="1377" h="954">
                <a:moveTo>
                  <a:pt x="0" y="954"/>
                </a:moveTo>
                <a:lnTo>
                  <a:pt x="1377" y="954"/>
                </a:lnTo>
                <a:lnTo>
                  <a:pt x="1377" y="0"/>
                </a:lnTo>
                <a:lnTo>
                  <a:pt x="0" y="0"/>
                </a:lnTo>
                <a:lnTo>
                  <a:pt x="0" y="954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2832120" y="4135320"/>
            <a:ext cx="1492560" cy="336960"/>
          </a:xfrm>
          <a:custGeom>
            <a:avLst/>
            <a:gdLst/>
            <a:ahLst/>
            <a:rect l="0" t="0" r="r" b="b"/>
            <a:pathLst>
              <a:path fill="none" w="4146" h="936">
                <a:moveTo>
                  <a:pt x="0" y="936"/>
                </a:moveTo>
                <a:lnTo>
                  <a:pt x="0" y="0"/>
                </a:lnTo>
                <a:lnTo>
                  <a:pt x="4146" y="0"/>
                </a:lnTo>
                <a:lnTo>
                  <a:pt x="4146" y="936"/>
                </a:lnTo>
                <a:lnTo>
                  <a:pt x="0" y="936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832120" y="3122640"/>
            <a:ext cx="3518280" cy="2359440"/>
          </a:xfrm>
          <a:custGeom>
            <a:avLst/>
            <a:gdLst/>
            <a:ahLst/>
            <a:rect l="0" t="0" r="r" b="b"/>
            <a:pathLst>
              <a:path fill="none" w="9773" h="6554">
                <a:moveTo>
                  <a:pt x="0" y="6554"/>
                </a:moveTo>
                <a:lnTo>
                  <a:pt x="0" y="0"/>
                </a:lnTo>
                <a:lnTo>
                  <a:pt x="5292" y="0"/>
                </a:lnTo>
                <a:lnTo>
                  <a:pt x="5292" y="1879"/>
                </a:lnTo>
                <a:lnTo>
                  <a:pt x="5292" y="1941"/>
                </a:lnTo>
                <a:lnTo>
                  <a:pt x="5301" y="2003"/>
                </a:lnTo>
                <a:lnTo>
                  <a:pt x="5310" y="2055"/>
                </a:lnTo>
                <a:lnTo>
                  <a:pt x="5336" y="2108"/>
                </a:lnTo>
                <a:lnTo>
                  <a:pt x="5363" y="2161"/>
                </a:lnTo>
                <a:lnTo>
                  <a:pt x="5389" y="2214"/>
                </a:lnTo>
                <a:lnTo>
                  <a:pt x="5424" y="2258"/>
                </a:lnTo>
                <a:lnTo>
                  <a:pt x="5460" y="2302"/>
                </a:lnTo>
                <a:lnTo>
                  <a:pt x="5504" y="2338"/>
                </a:lnTo>
                <a:lnTo>
                  <a:pt x="5548" y="2373"/>
                </a:lnTo>
                <a:lnTo>
                  <a:pt x="5601" y="2408"/>
                </a:lnTo>
                <a:lnTo>
                  <a:pt x="5654" y="2426"/>
                </a:lnTo>
                <a:lnTo>
                  <a:pt x="5707" y="2452"/>
                </a:lnTo>
                <a:lnTo>
                  <a:pt x="5768" y="2461"/>
                </a:lnTo>
                <a:lnTo>
                  <a:pt x="5821" y="2470"/>
                </a:lnTo>
                <a:lnTo>
                  <a:pt x="5883" y="2479"/>
                </a:lnTo>
                <a:lnTo>
                  <a:pt x="9773" y="2479"/>
                </a:lnTo>
                <a:lnTo>
                  <a:pt x="9773" y="4084"/>
                </a:lnTo>
                <a:lnTo>
                  <a:pt x="5883" y="4084"/>
                </a:lnTo>
                <a:lnTo>
                  <a:pt x="5821" y="4084"/>
                </a:lnTo>
                <a:lnTo>
                  <a:pt x="5768" y="4093"/>
                </a:lnTo>
                <a:lnTo>
                  <a:pt x="5707" y="4110"/>
                </a:lnTo>
                <a:lnTo>
                  <a:pt x="5654" y="4128"/>
                </a:lnTo>
                <a:lnTo>
                  <a:pt x="5601" y="4154"/>
                </a:lnTo>
                <a:lnTo>
                  <a:pt x="5548" y="4181"/>
                </a:lnTo>
                <a:lnTo>
                  <a:pt x="5504" y="4216"/>
                </a:lnTo>
                <a:lnTo>
                  <a:pt x="5460" y="4260"/>
                </a:lnTo>
                <a:lnTo>
                  <a:pt x="5424" y="4296"/>
                </a:lnTo>
                <a:lnTo>
                  <a:pt x="5389" y="4348"/>
                </a:lnTo>
                <a:lnTo>
                  <a:pt x="5363" y="4393"/>
                </a:lnTo>
                <a:lnTo>
                  <a:pt x="5336" y="4446"/>
                </a:lnTo>
                <a:lnTo>
                  <a:pt x="5310" y="4507"/>
                </a:lnTo>
                <a:lnTo>
                  <a:pt x="5301" y="4560"/>
                </a:lnTo>
                <a:lnTo>
                  <a:pt x="5292" y="4622"/>
                </a:lnTo>
                <a:lnTo>
                  <a:pt x="5292" y="4675"/>
                </a:lnTo>
                <a:lnTo>
                  <a:pt x="5292" y="6554"/>
                </a:lnTo>
                <a:lnTo>
                  <a:pt x="0" y="6554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4737240" y="3798720"/>
            <a:ext cx="0" cy="10065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3784680" y="3678120"/>
            <a:ext cx="0" cy="12542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"/>
          <p:cNvSpPr/>
          <p:nvPr/>
        </p:nvSpPr>
        <p:spPr>
          <a:xfrm flipV="1">
            <a:off x="5648400" y="4573440"/>
            <a:ext cx="0" cy="37476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"/>
          <p:cNvSpPr/>
          <p:nvPr/>
        </p:nvSpPr>
        <p:spPr>
          <a:xfrm flipV="1">
            <a:off x="5648400" y="4367160"/>
            <a:ext cx="0" cy="10476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47160" bIns="47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"/>
          <p:cNvSpPr/>
          <p:nvPr/>
        </p:nvSpPr>
        <p:spPr>
          <a:xfrm flipV="1">
            <a:off x="5648400" y="4160880"/>
            <a:ext cx="0" cy="1015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5648400" y="3681360"/>
            <a:ext cx="0" cy="37476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 flipH="1" flipV="1">
            <a:off x="3645000" y="4871880"/>
            <a:ext cx="276120" cy="2797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645000" y="4871880"/>
            <a:ext cx="276120" cy="2797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H="1">
            <a:off x="3645000" y="3456000"/>
            <a:ext cx="276120" cy="2761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>
            <a:off x="3645000" y="3456000"/>
            <a:ext cx="276120" cy="2761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 flipV="1">
            <a:off x="3784680" y="3049560"/>
            <a:ext cx="0" cy="4669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6438960" y="2052720"/>
            <a:ext cx="5684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3784680" y="2138400"/>
            <a:ext cx="0" cy="3236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2832120" y="896760"/>
            <a:ext cx="3518280" cy="1295640"/>
            <a:chOff x="2832120" y="896760"/>
            <a:chExt cx="3518280" cy="1295640"/>
          </a:xfrm>
        </p:grpSpPr>
        <p:sp>
          <p:nvSpPr>
            <p:cNvPr id="1397" name=""/>
            <p:cNvSpPr/>
            <p:nvPr/>
          </p:nvSpPr>
          <p:spPr>
            <a:xfrm>
              <a:off x="2832120" y="896760"/>
              <a:ext cx="3518280" cy="1155960"/>
            </a:xfrm>
            <a:custGeom>
              <a:avLst/>
              <a:gdLst/>
              <a:ahLst/>
              <a:rect l="0" t="0" r="r" b="b"/>
              <a:pathLst>
                <a:path fill="none" w="9773" h="3211">
                  <a:moveTo>
                    <a:pt x="0" y="0"/>
                  </a:moveTo>
                  <a:lnTo>
                    <a:pt x="0" y="3211"/>
                  </a:lnTo>
                  <a:lnTo>
                    <a:pt x="9773" y="3211"/>
                  </a:lnTo>
                  <a:lnTo>
                    <a:pt x="9773" y="1817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2832120" y="896760"/>
              <a:ext cx="190512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832120" y="1535040"/>
              <a:ext cx="982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984400" y="1535040"/>
              <a:ext cx="1018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139920" y="1535040"/>
              <a:ext cx="1018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292560" y="1535040"/>
              <a:ext cx="10476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448080" y="1535040"/>
              <a:ext cx="10476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603600" y="1535040"/>
              <a:ext cx="10476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759120" y="1535040"/>
              <a:ext cx="10476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914640" y="1535040"/>
              <a:ext cx="10476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4070520" y="1535040"/>
              <a:ext cx="10476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226040" y="1535040"/>
              <a:ext cx="982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737240" y="1550880"/>
              <a:ext cx="0" cy="5018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324320" y="1535040"/>
              <a:ext cx="0" cy="795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4324320" y="1665360"/>
              <a:ext cx="0" cy="104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324320" y="1820880"/>
              <a:ext cx="0" cy="104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324320" y="1976400"/>
              <a:ext cx="0" cy="763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3645000" y="1916280"/>
              <a:ext cx="276120" cy="27612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3645000" y="1916280"/>
              <a:ext cx="276120" cy="27612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5511960" y="1916280"/>
              <a:ext cx="276120" cy="27612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511960" y="1916280"/>
              <a:ext cx="276120" cy="27612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4737240" y="1550880"/>
              <a:ext cx="161280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737240" y="896760"/>
              <a:ext cx="0" cy="6541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6788160" y="1585800"/>
            <a:ext cx="92160" cy="1368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 flipH="1">
            <a:off x="6788160" y="1585800"/>
            <a:ext cx="92160" cy="1368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6686640" y="1509840"/>
            <a:ext cx="276480" cy="276480"/>
          </a:xfrm>
          <a:custGeom>
            <a:avLst/>
            <a:gdLst/>
            <a:ahLst/>
            <a:rect l="0" t="0" r="r" b="b"/>
            <a:pathLst>
              <a:path fill="none" w="768" h="768">
                <a:moveTo>
                  <a:pt x="0" y="768"/>
                </a:moveTo>
                <a:lnTo>
                  <a:pt x="0" y="0"/>
                </a:lnTo>
                <a:lnTo>
                  <a:pt x="768" y="0"/>
                </a:lnTo>
                <a:lnTo>
                  <a:pt x="768" y="768"/>
                </a:lnTo>
                <a:lnTo>
                  <a:pt x="0" y="768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 flipV="1">
            <a:off x="6826320" y="1785960"/>
            <a:ext cx="0" cy="266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6746760" y="2052720"/>
            <a:ext cx="158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 flipV="1">
            <a:off x="6746760" y="1916280"/>
            <a:ext cx="795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"/>
          <p:cNvSpPr/>
          <p:nvPr/>
        </p:nvSpPr>
        <p:spPr>
          <a:xfrm>
            <a:off x="6746760" y="1916280"/>
            <a:ext cx="159120" cy="136800"/>
          </a:xfrm>
          <a:custGeom>
            <a:avLst/>
            <a:gdLst/>
            <a:ahLst/>
            <a:rect l="0" t="0" r="r" b="b"/>
            <a:pathLst>
              <a:path w="442" h="380">
                <a:moveTo>
                  <a:pt x="0" y="380"/>
                </a:moveTo>
                <a:lnTo>
                  <a:pt x="221" y="0"/>
                </a:lnTo>
                <a:lnTo>
                  <a:pt x="442" y="380"/>
                </a:lnTo>
                <a:lnTo>
                  <a:pt x="0" y="38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"/>
          <p:cNvSpPr/>
          <p:nvPr/>
        </p:nvSpPr>
        <p:spPr>
          <a:xfrm flipH="1" flipV="1">
            <a:off x="6826320" y="1916280"/>
            <a:ext cx="7920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249120" y="806400"/>
            <a:ext cx="23209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datum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ed by tw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target 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one datum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"/>
          <p:cNvSpPr txBox="1"/>
          <p:nvPr/>
        </p:nvSpPr>
        <p:spPr>
          <a:xfrm>
            <a:off x="325440" y="379728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/>
          <p:nvPr/>
        </p:nvSpPr>
        <p:spPr>
          <a:xfrm>
            <a:off x="3784680" y="5100480"/>
            <a:ext cx="0" cy="9716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"/>
          <p:cNvSpPr/>
          <p:nvPr/>
        </p:nvSpPr>
        <p:spPr>
          <a:xfrm>
            <a:off x="5648400" y="5037120"/>
            <a:ext cx="0" cy="10350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"/>
          <p:cNvSpPr/>
          <p:nvPr/>
        </p:nvSpPr>
        <p:spPr>
          <a:xfrm>
            <a:off x="3962520" y="5983200"/>
            <a:ext cx="5014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4968720" y="5983200"/>
            <a:ext cx="5050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"/>
          <p:cNvSpPr/>
          <p:nvPr/>
        </p:nvSpPr>
        <p:spPr>
          <a:xfrm>
            <a:off x="3784680" y="5951520"/>
            <a:ext cx="178200" cy="60840"/>
          </a:xfrm>
          <a:custGeom>
            <a:avLst/>
            <a:gdLst/>
            <a:ahLst/>
            <a:rect l="0" t="0" r="r" b="b"/>
            <a:pathLst>
              <a:path w="495" h="169">
                <a:moveTo>
                  <a:pt x="495" y="0"/>
                </a:moveTo>
                <a:lnTo>
                  <a:pt x="495" y="169"/>
                </a:lnTo>
                <a:lnTo>
                  <a:pt x="0" y="89"/>
                </a:lnTo>
                <a:lnTo>
                  <a:pt x="495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5" name=""/>
          <p:cNvSpPr/>
          <p:nvPr/>
        </p:nvSpPr>
        <p:spPr>
          <a:xfrm>
            <a:off x="5473800" y="5951520"/>
            <a:ext cx="174960" cy="60840"/>
          </a:xfrm>
          <a:custGeom>
            <a:avLst/>
            <a:gdLst/>
            <a:ahLst/>
            <a:rect l="0" t="0" r="r" b="b"/>
            <a:pathLst>
              <a:path w="486" h="169">
                <a:moveTo>
                  <a:pt x="0" y="0"/>
                </a:moveTo>
                <a:lnTo>
                  <a:pt x="0" y="169"/>
                </a:lnTo>
                <a:lnTo>
                  <a:pt x="486" y="8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9720" bIns="9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"/>
          <p:cNvSpPr/>
          <p:nvPr/>
        </p:nvSpPr>
        <p:spPr>
          <a:xfrm>
            <a:off x="4562640" y="5910120"/>
            <a:ext cx="95760" cy="143280"/>
          </a:xfrm>
          <a:custGeom>
            <a:avLst/>
            <a:gdLst/>
            <a:ahLst/>
            <a:rect l="0" t="0" r="r" b="b"/>
            <a:pathLst>
              <a:path fill="none" w="266" h="398">
                <a:moveTo>
                  <a:pt x="35" y="0"/>
                </a:moveTo>
                <a:lnTo>
                  <a:pt x="248" y="0"/>
                </a:lnTo>
                <a:lnTo>
                  <a:pt x="133" y="150"/>
                </a:lnTo>
                <a:lnTo>
                  <a:pt x="195" y="150"/>
                </a:lnTo>
                <a:lnTo>
                  <a:pt x="231" y="168"/>
                </a:lnTo>
                <a:lnTo>
                  <a:pt x="248" y="195"/>
                </a:lnTo>
                <a:lnTo>
                  <a:pt x="266" y="247"/>
                </a:lnTo>
                <a:lnTo>
                  <a:pt x="266" y="283"/>
                </a:lnTo>
                <a:lnTo>
                  <a:pt x="248" y="345"/>
                </a:lnTo>
                <a:lnTo>
                  <a:pt x="213" y="381"/>
                </a:lnTo>
                <a:lnTo>
                  <a:pt x="150" y="398"/>
                </a:lnTo>
                <a:lnTo>
                  <a:pt x="98" y="398"/>
                </a:lnTo>
                <a:lnTo>
                  <a:pt x="35" y="381"/>
                </a:lnTo>
                <a:lnTo>
                  <a:pt x="17" y="363"/>
                </a:lnTo>
                <a:lnTo>
                  <a:pt x="0" y="328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"/>
          <p:cNvSpPr/>
          <p:nvPr/>
        </p:nvSpPr>
        <p:spPr>
          <a:xfrm>
            <a:off x="4705200" y="6040440"/>
            <a:ext cx="16200" cy="12960"/>
          </a:xfrm>
          <a:custGeom>
            <a:avLst/>
            <a:gdLst/>
            <a:ahLst/>
            <a:rect l="0" t="0" r="r" b="b"/>
            <a:pathLst>
              <a:path fill="none" w="45" h="36">
                <a:moveTo>
                  <a:pt x="27" y="0"/>
                </a:moveTo>
                <a:lnTo>
                  <a:pt x="0" y="17"/>
                </a:lnTo>
                <a:lnTo>
                  <a:pt x="27" y="36"/>
                </a:lnTo>
                <a:lnTo>
                  <a:pt x="45" y="17"/>
                </a:lnTo>
                <a:lnTo>
                  <a:pt x="27" y="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-38160" bIns="-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"/>
          <p:cNvSpPr/>
          <p:nvPr/>
        </p:nvSpPr>
        <p:spPr>
          <a:xfrm>
            <a:off x="4768920" y="5910120"/>
            <a:ext cx="101880" cy="95760"/>
          </a:xfrm>
          <a:custGeom>
            <a:avLst/>
            <a:gdLst/>
            <a:ahLst/>
            <a:rect l="0" t="0" r="r" b="b"/>
            <a:pathLst>
              <a:path fill="none" w="283" h="266">
                <a:moveTo>
                  <a:pt x="186" y="0"/>
                </a:moveTo>
                <a:lnTo>
                  <a:pt x="0" y="266"/>
                </a:lnTo>
                <a:lnTo>
                  <a:pt x="283" y="266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44640" bIns="44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"/>
          <p:cNvSpPr/>
          <p:nvPr/>
        </p:nvSpPr>
        <p:spPr>
          <a:xfrm>
            <a:off x="4835520" y="5910120"/>
            <a:ext cx="0" cy="1429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"/>
          <p:cNvSpPr/>
          <p:nvPr/>
        </p:nvSpPr>
        <p:spPr>
          <a:xfrm>
            <a:off x="4464000" y="5811840"/>
            <a:ext cx="505080" cy="343440"/>
          </a:xfrm>
          <a:custGeom>
            <a:avLst/>
            <a:gdLst/>
            <a:ahLst/>
            <a:rect l="0" t="0" r="r" b="b"/>
            <a:pathLst>
              <a:path fill="none" w="1403" h="954">
                <a:moveTo>
                  <a:pt x="0" y="954"/>
                </a:moveTo>
                <a:lnTo>
                  <a:pt x="1403" y="954"/>
                </a:lnTo>
                <a:lnTo>
                  <a:pt x="1403" y="0"/>
                </a:lnTo>
                <a:lnTo>
                  <a:pt x="0" y="0"/>
                </a:lnTo>
                <a:lnTo>
                  <a:pt x="0" y="954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 flipH="1">
            <a:off x="3219480" y="5157720"/>
            <a:ext cx="403200" cy="5587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"/>
          <p:cNvSpPr/>
          <p:nvPr/>
        </p:nvSpPr>
        <p:spPr>
          <a:xfrm>
            <a:off x="6159600" y="5189400"/>
            <a:ext cx="486000" cy="483120"/>
          </a:xfrm>
          <a:custGeom>
            <a:avLst/>
            <a:gdLst/>
            <a:ahLst/>
            <a:rect l="0" t="0" r="r" b="b"/>
            <a:pathLst>
              <a:path fill="none" w="1350" h="1342">
                <a:moveTo>
                  <a:pt x="1350" y="671"/>
                </a:moveTo>
                <a:lnTo>
                  <a:pt x="1341" y="609"/>
                </a:lnTo>
                <a:lnTo>
                  <a:pt x="1332" y="547"/>
                </a:lnTo>
                <a:lnTo>
                  <a:pt x="1323" y="486"/>
                </a:lnTo>
                <a:lnTo>
                  <a:pt x="1297" y="424"/>
                </a:lnTo>
                <a:lnTo>
                  <a:pt x="1279" y="371"/>
                </a:lnTo>
                <a:lnTo>
                  <a:pt x="1244" y="317"/>
                </a:lnTo>
                <a:lnTo>
                  <a:pt x="1209" y="264"/>
                </a:lnTo>
                <a:lnTo>
                  <a:pt x="1173" y="211"/>
                </a:lnTo>
                <a:lnTo>
                  <a:pt x="1129" y="167"/>
                </a:lnTo>
                <a:lnTo>
                  <a:pt x="1076" y="132"/>
                </a:lnTo>
                <a:lnTo>
                  <a:pt x="1032" y="97"/>
                </a:lnTo>
                <a:lnTo>
                  <a:pt x="971" y="70"/>
                </a:lnTo>
                <a:lnTo>
                  <a:pt x="918" y="44"/>
                </a:lnTo>
                <a:lnTo>
                  <a:pt x="856" y="17"/>
                </a:lnTo>
                <a:lnTo>
                  <a:pt x="803" y="8"/>
                </a:lnTo>
                <a:lnTo>
                  <a:pt x="733" y="0"/>
                </a:lnTo>
                <a:lnTo>
                  <a:pt x="670" y="0"/>
                </a:lnTo>
                <a:lnTo>
                  <a:pt x="608" y="0"/>
                </a:lnTo>
                <a:lnTo>
                  <a:pt x="546" y="8"/>
                </a:lnTo>
                <a:lnTo>
                  <a:pt x="493" y="17"/>
                </a:lnTo>
                <a:lnTo>
                  <a:pt x="432" y="44"/>
                </a:lnTo>
                <a:lnTo>
                  <a:pt x="379" y="70"/>
                </a:lnTo>
                <a:lnTo>
                  <a:pt x="317" y="97"/>
                </a:lnTo>
                <a:lnTo>
                  <a:pt x="273" y="132"/>
                </a:lnTo>
                <a:lnTo>
                  <a:pt x="220" y="167"/>
                </a:lnTo>
                <a:lnTo>
                  <a:pt x="176" y="211"/>
                </a:lnTo>
                <a:lnTo>
                  <a:pt x="141" y="264"/>
                </a:lnTo>
                <a:lnTo>
                  <a:pt x="105" y="317"/>
                </a:lnTo>
                <a:lnTo>
                  <a:pt x="70" y="371"/>
                </a:lnTo>
                <a:lnTo>
                  <a:pt x="44" y="424"/>
                </a:lnTo>
                <a:lnTo>
                  <a:pt x="26" y="486"/>
                </a:lnTo>
                <a:lnTo>
                  <a:pt x="17" y="547"/>
                </a:lnTo>
                <a:lnTo>
                  <a:pt x="8" y="609"/>
                </a:lnTo>
                <a:lnTo>
                  <a:pt x="0" y="671"/>
                </a:lnTo>
                <a:lnTo>
                  <a:pt x="8" y="733"/>
                </a:lnTo>
                <a:lnTo>
                  <a:pt x="17" y="794"/>
                </a:lnTo>
                <a:lnTo>
                  <a:pt x="26" y="856"/>
                </a:lnTo>
                <a:lnTo>
                  <a:pt x="44" y="909"/>
                </a:lnTo>
                <a:lnTo>
                  <a:pt x="70" y="971"/>
                </a:lnTo>
                <a:lnTo>
                  <a:pt x="105" y="1025"/>
                </a:lnTo>
                <a:lnTo>
                  <a:pt x="141" y="1077"/>
                </a:lnTo>
                <a:lnTo>
                  <a:pt x="176" y="1122"/>
                </a:lnTo>
                <a:lnTo>
                  <a:pt x="220" y="1166"/>
                </a:lnTo>
                <a:lnTo>
                  <a:pt x="273" y="1201"/>
                </a:lnTo>
                <a:lnTo>
                  <a:pt x="317" y="1236"/>
                </a:lnTo>
                <a:lnTo>
                  <a:pt x="379" y="1272"/>
                </a:lnTo>
                <a:lnTo>
                  <a:pt x="432" y="1298"/>
                </a:lnTo>
                <a:lnTo>
                  <a:pt x="493" y="1316"/>
                </a:lnTo>
                <a:lnTo>
                  <a:pt x="546" y="1333"/>
                </a:lnTo>
                <a:lnTo>
                  <a:pt x="608" y="1342"/>
                </a:lnTo>
                <a:lnTo>
                  <a:pt x="670" y="1342"/>
                </a:lnTo>
                <a:lnTo>
                  <a:pt x="733" y="1342"/>
                </a:lnTo>
                <a:lnTo>
                  <a:pt x="803" y="1333"/>
                </a:lnTo>
                <a:lnTo>
                  <a:pt x="856" y="1316"/>
                </a:lnTo>
                <a:lnTo>
                  <a:pt x="918" y="1298"/>
                </a:lnTo>
                <a:lnTo>
                  <a:pt x="971" y="1272"/>
                </a:lnTo>
                <a:lnTo>
                  <a:pt x="1032" y="1236"/>
                </a:lnTo>
                <a:lnTo>
                  <a:pt x="1076" y="1201"/>
                </a:lnTo>
                <a:lnTo>
                  <a:pt x="1129" y="1166"/>
                </a:lnTo>
                <a:lnTo>
                  <a:pt x="1173" y="1122"/>
                </a:lnTo>
                <a:lnTo>
                  <a:pt x="1209" y="1077"/>
                </a:lnTo>
                <a:lnTo>
                  <a:pt x="1244" y="1025"/>
                </a:lnTo>
                <a:lnTo>
                  <a:pt x="1279" y="971"/>
                </a:lnTo>
                <a:lnTo>
                  <a:pt x="1297" y="909"/>
                </a:lnTo>
                <a:lnTo>
                  <a:pt x="1323" y="856"/>
                </a:lnTo>
                <a:lnTo>
                  <a:pt x="1332" y="794"/>
                </a:lnTo>
                <a:lnTo>
                  <a:pt x="1341" y="733"/>
                </a:lnTo>
                <a:lnTo>
                  <a:pt x="1350" y="671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"/>
          <p:cNvSpPr/>
          <p:nvPr/>
        </p:nvSpPr>
        <p:spPr>
          <a:xfrm>
            <a:off x="2835360" y="5672160"/>
            <a:ext cx="486000" cy="483120"/>
          </a:xfrm>
          <a:custGeom>
            <a:avLst/>
            <a:gdLst/>
            <a:ahLst/>
            <a:rect l="0" t="0" r="r" b="b"/>
            <a:pathLst>
              <a:path fill="none" w="1350" h="1342">
                <a:moveTo>
                  <a:pt x="0" y="671"/>
                </a:moveTo>
                <a:lnTo>
                  <a:pt x="1350" y="671"/>
                </a:lnTo>
                <a:lnTo>
                  <a:pt x="1341" y="609"/>
                </a:lnTo>
                <a:lnTo>
                  <a:pt x="1332" y="547"/>
                </a:lnTo>
                <a:lnTo>
                  <a:pt x="1323" y="486"/>
                </a:lnTo>
                <a:lnTo>
                  <a:pt x="1297" y="433"/>
                </a:lnTo>
                <a:lnTo>
                  <a:pt x="1279" y="371"/>
                </a:lnTo>
                <a:lnTo>
                  <a:pt x="1244" y="317"/>
                </a:lnTo>
                <a:lnTo>
                  <a:pt x="1209" y="264"/>
                </a:lnTo>
                <a:lnTo>
                  <a:pt x="1173" y="220"/>
                </a:lnTo>
                <a:lnTo>
                  <a:pt x="1129" y="176"/>
                </a:lnTo>
                <a:lnTo>
                  <a:pt x="1076" y="132"/>
                </a:lnTo>
                <a:lnTo>
                  <a:pt x="1032" y="105"/>
                </a:lnTo>
                <a:lnTo>
                  <a:pt x="971" y="70"/>
                </a:lnTo>
                <a:lnTo>
                  <a:pt x="918" y="44"/>
                </a:lnTo>
                <a:lnTo>
                  <a:pt x="856" y="26"/>
                </a:lnTo>
                <a:lnTo>
                  <a:pt x="803" y="8"/>
                </a:lnTo>
                <a:lnTo>
                  <a:pt x="741" y="0"/>
                </a:lnTo>
                <a:lnTo>
                  <a:pt x="670" y="0"/>
                </a:lnTo>
                <a:lnTo>
                  <a:pt x="608" y="0"/>
                </a:lnTo>
                <a:lnTo>
                  <a:pt x="555" y="8"/>
                </a:lnTo>
                <a:lnTo>
                  <a:pt x="493" y="26"/>
                </a:lnTo>
                <a:lnTo>
                  <a:pt x="432" y="44"/>
                </a:lnTo>
                <a:lnTo>
                  <a:pt x="379" y="70"/>
                </a:lnTo>
                <a:lnTo>
                  <a:pt x="317" y="105"/>
                </a:lnTo>
                <a:lnTo>
                  <a:pt x="273" y="132"/>
                </a:lnTo>
                <a:lnTo>
                  <a:pt x="220" y="176"/>
                </a:lnTo>
                <a:lnTo>
                  <a:pt x="176" y="220"/>
                </a:lnTo>
                <a:lnTo>
                  <a:pt x="141" y="264"/>
                </a:lnTo>
                <a:lnTo>
                  <a:pt x="105" y="317"/>
                </a:lnTo>
                <a:lnTo>
                  <a:pt x="70" y="371"/>
                </a:lnTo>
                <a:lnTo>
                  <a:pt x="52" y="433"/>
                </a:lnTo>
                <a:lnTo>
                  <a:pt x="26" y="486"/>
                </a:lnTo>
                <a:lnTo>
                  <a:pt x="17" y="547"/>
                </a:lnTo>
                <a:lnTo>
                  <a:pt x="8" y="609"/>
                </a:lnTo>
                <a:lnTo>
                  <a:pt x="0" y="671"/>
                </a:lnTo>
                <a:lnTo>
                  <a:pt x="8" y="733"/>
                </a:lnTo>
                <a:lnTo>
                  <a:pt x="17" y="794"/>
                </a:lnTo>
                <a:lnTo>
                  <a:pt x="26" y="856"/>
                </a:lnTo>
                <a:lnTo>
                  <a:pt x="52" y="918"/>
                </a:lnTo>
                <a:lnTo>
                  <a:pt x="70" y="971"/>
                </a:lnTo>
                <a:lnTo>
                  <a:pt x="105" y="1025"/>
                </a:lnTo>
                <a:lnTo>
                  <a:pt x="141" y="1077"/>
                </a:lnTo>
                <a:lnTo>
                  <a:pt x="176" y="1130"/>
                </a:lnTo>
                <a:lnTo>
                  <a:pt x="220" y="1174"/>
                </a:lnTo>
                <a:lnTo>
                  <a:pt x="273" y="1210"/>
                </a:lnTo>
                <a:lnTo>
                  <a:pt x="317" y="1245"/>
                </a:lnTo>
                <a:lnTo>
                  <a:pt x="379" y="1272"/>
                </a:lnTo>
                <a:lnTo>
                  <a:pt x="432" y="1298"/>
                </a:lnTo>
                <a:lnTo>
                  <a:pt x="493" y="1324"/>
                </a:lnTo>
                <a:lnTo>
                  <a:pt x="555" y="1333"/>
                </a:lnTo>
                <a:lnTo>
                  <a:pt x="608" y="1342"/>
                </a:lnTo>
                <a:lnTo>
                  <a:pt x="670" y="1342"/>
                </a:lnTo>
                <a:lnTo>
                  <a:pt x="741" y="1342"/>
                </a:lnTo>
                <a:lnTo>
                  <a:pt x="803" y="1333"/>
                </a:lnTo>
                <a:lnTo>
                  <a:pt x="856" y="1324"/>
                </a:lnTo>
                <a:lnTo>
                  <a:pt x="918" y="1298"/>
                </a:lnTo>
                <a:lnTo>
                  <a:pt x="971" y="1272"/>
                </a:lnTo>
                <a:lnTo>
                  <a:pt x="1032" y="1245"/>
                </a:lnTo>
                <a:lnTo>
                  <a:pt x="1076" y="1210"/>
                </a:lnTo>
                <a:lnTo>
                  <a:pt x="1129" y="1174"/>
                </a:lnTo>
                <a:lnTo>
                  <a:pt x="1173" y="1130"/>
                </a:lnTo>
                <a:lnTo>
                  <a:pt x="1209" y="1077"/>
                </a:lnTo>
                <a:lnTo>
                  <a:pt x="1244" y="1025"/>
                </a:lnTo>
                <a:lnTo>
                  <a:pt x="1279" y="971"/>
                </a:lnTo>
                <a:lnTo>
                  <a:pt x="1297" y="918"/>
                </a:lnTo>
                <a:lnTo>
                  <a:pt x="1323" y="856"/>
                </a:lnTo>
                <a:lnTo>
                  <a:pt x="1332" y="794"/>
                </a:lnTo>
                <a:lnTo>
                  <a:pt x="1341" y="733"/>
                </a:lnTo>
                <a:lnTo>
                  <a:pt x="1350" y="671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"/>
          <p:cNvSpPr/>
          <p:nvPr/>
        </p:nvSpPr>
        <p:spPr>
          <a:xfrm>
            <a:off x="2968560" y="5954760"/>
            <a:ext cx="921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2968560" y="5954760"/>
            <a:ext cx="921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"/>
          <p:cNvSpPr/>
          <p:nvPr/>
        </p:nvSpPr>
        <p:spPr>
          <a:xfrm>
            <a:off x="3098880" y="5954760"/>
            <a:ext cx="92520" cy="136800"/>
          </a:xfrm>
          <a:custGeom>
            <a:avLst/>
            <a:gdLst/>
            <a:ahLst/>
            <a:rect l="0" t="0" r="r" b="b"/>
            <a:pathLst>
              <a:path fill="none" w="257" h="380">
                <a:moveTo>
                  <a:pt x="35" y="0"/>
                </a:moveTo>
                <a:lnTo>
                  <a:pt x="240" y="0"/>
                </a:lnTo>
                <a:lnTo>
                  <a:pt x="133" y="141"/>
                </a:lnTo>
                <a:lnTo>
                  <a:pt x="186" y="141"/>
                </a:lnTo>
                <a:lnTo>
                  <a:pt x="222" y="158"/>
                </a:lnTo>
                <a:lnTo>
                  <a:pt x="240" y="176"/>
                </a:lnTo>
                <a:lnTo>
                  <a:pt x="257" y="239"/>
                </a:lnTo>
                <a:lnTo>
                  <a:pt x="257" y="274"/>
                </a:lnTo>
                <a:lnTo>
                  <a:pt x="240" y="327"/>
                </a:lnTo>
                <a:lnTo>
                  <a:pt x="204" y="362"/>
                </a:lnTo>
                <a:lnTo>
                  <a:pt x="150" y="380"/>
                </a:lnTo>
                <a:lnTo>
                  <a:pt x="98" y="380"/>
                </a:lnTo>
                <a:lnTo>
                  <a:pt x="35" y="362"/>
                </a:lnTo>
                <a:lnTo>
                  <a:pt x="17" y="344"/>
                </a:lnTo>
                <a:lnTo>
                  <a:pt x="0" y="309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2241720" y="3592440"/>
            <a:ext cx="14540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2241720" y="5011560"/>
            <a:ext cx="14540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"/>
          <p:cNvSpPr/>
          <p:nvPr/>
        </p:nvSpPr>
        <p:spPr>
          <a:xfrm>
            <a:off x="2330280" y="3770280"/>
            <a:ext cx="0" cy="3621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2330280" y="4475160"/>
            <a:ext cx="0" cy="3589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"/>
          <p:cNvSpPr/>
          <p:nvPr/>
        </p:nvSpPr>
        <p:spPr>
          <a:xfrm>
            <a:off x="2301840" y="3592440"/>
            <a:ext cx="57600" cy="178200"/>
          </a:xfrm>
          <a:custGeom>
            <a:avLst/>
            <a:gdLst/>
            <a:ahLst/>
            <a:rect l="0" t="0" r="r" b="b"/>
            <a:pathLst>
              <a:path w="160" h="495">
                <a:moveTo>
                  <a:pt x="0" y="495"/>
                </a:moveTo>
                <a:lnTo>
                  <a:pt x="160" y="495"/>
                </a:lnTo>
                <a:lnTo>
                  <a:pt x="80" y="0"/>
                </a:lnTo>
                <a:lnTo>
                  <a:pt x="0" y="49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2301840" y="4834080"/>
            <a:ext cx="57600" cy="178200"/>
          </a:xfrm>
          <a:custGeom>
            <a:avLst/>
            <a:gdLst/>
            <a:ahLst/>
            <a:rect l="0" t="0" r="r" b="b"/>
            <a:pathLst>
              <a:path w="160" h="495">
                <a:moveTo>
                  <a:pt x="0" y="0"/>
                </a:moveTo>
                <a:lnTo>
                  <a:pt x="160" y="0"/>
                </a:lnTo>
                <a:lnTo>
                  <a:pt x="80" y="49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"/>
          <p:cNvSpPr/>
          <p:nvPr/>
        </p:nvSpPr>
        <p:spPr>
          <a:xfrm>
            <a:off x="2184480" y="4230720"/>
            <a:ext cx="95760" cy="143280"/>
          </a:xfrm>
          <a:custGeom>
            <a:avLst/>
            <a:gdLst/>
            <a:ahLst/>
            <a:rect l="0" t="0" r="r" b="b"/>
            <a:pathLst>
              <a:path fill="none" w="266" h="398">
                <a:moveTo>
                  <a:pt x="17" y="97"/>
                </a:moveTo>
                <a:lnTo>
                  <a:pt x="17" y="79"/>
                </a:lnTo>
                <a:lnTo>
                  <a:pt x="35" y="35"/>
                </a:lnTo>
                <a:lnTo>
                  <a:pt x="52" y="17"/>
                </a:lnTo>
                <a:lnTo>
                  <a:pt x="89" y="0"/>
                </a:lnTo>
                <a:lnTo>
                  <a:pt x="168" y="0"/>
                </a:lnTo>
                <a:lnTo>
                  <a:pt x="204" y="17"/>
                </a:lnTo>
                <a:lnTo>
                  <a:pt x="222" y="35"/>
                </a:lnTo>
                <a:lnTo>
                  <a:pt x="248" y="79"/>
                </a:lnTo>
                <a:lnTo>
                  <a:pt x="248" y="115"/>
                </a:lnTo>
                <a:lnTo>
                  <a:pt x="222" y="150"/>
                </a:lnTo>
                <a:lnTo>
                  <a:pt x="186" y="212"/>
                </a:lnTo>
                <a:lnTo>
                  <a:pt x="0" y="398"/>
                </a:lnTo>
                <a:lnTo>
                  <a:pt x="266" y="398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"/>
          <p:cNvSpPr/>
          <p:nvPr/>
        </p:nvSpPr>
        <p:spPr>
          <a:xfrm>
            <a:off x="2327400" y="4361040"/>
            <a:ext cx="12960" cy="12960"/>
          </a:xfrm>
          <a:custGeom>
            <a:avLst/>
            <a:gdLst/>
            <a:ahLst/>
            <a:rect l="0" t="0" r="r" b="b"/>
            <a:pathLst>
              <a:path fill="none" w="36" h="36">
                <a:moveTo>
                  <a:pt x="17" y="0"/>
                </a:moveTo>
                <a:lnTo>
                  <a:pt x="0" y="17"/>
                </a:lnTo>
                <a:lnTo>
                  <a:pt x="17" y="36"/>
                </a:lnTo>
                <a:lnTo>
                  <a:pt x="36" y="17"/>
                </a:lnTo>
                <a:lnTo>
                  <a:pt x="17" y="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-38160" bIns="-38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"/>
          <p:cNvSpPr/>
          <p:nvPr/>
        </p:nvSpPr>
        <p:spPr>
          <a:xfrm>
            <a:off x="2394000" y="4230720"/>
            <a:ext cx="89280" cy="143280"/>
          </a:xfrm>
          <a:custGeom>
            <a:avLst/>
            <a:gdLst/>
            <a:ahLst/>
            <a:rect l="0" t="0" r="r" b="b"/>
            <a:pathLst>
              <a:path fill="none" w="248" h="398">
                <a:moveTo>
                  <a:pt x="231" y="61"/>
                </a:moveTo>
                <a:lnTo>
                  <a:pt x="213" y="17"/>
                </a:lnTo>
                <a:lnTo>
                  <a:pt x="159" y="0"/>
                </a:lnTo>
                <a:lnTo>
                  <a:pt x="115" y="0"/>
                </a:lnTo>
                <a:lnTo>
                  <a:pt x="61" y="17"/>
                </a:lnTo>
                <a:lnTo>
                  <a:pt x="26" y="79"/>
                </a:lnTo>
                <a:lnTo>
                  <a:pt x="0" y="177"/>
                </a:lnTo>
                <a:lnTo>
                  <a:pt x="0" y="265"/>
                </a:lnTo>
                <a:lnTo>
                  <a:pt x="26" y="345"/>
                </a:lnTo>
                <a:lnTo>
                  <a:pt x="61" y="381"/>
                </a:lnTo>
                <a:lnTo>
                  <a:pt x="115" y="398"/>
                </a:lnTo>
                <a:lnTo>
                  <a:pt x="133" y="398"/>
                </a:lnTo>
                <a:lnTo>
                  <a:pt x="196" y="381"/>
                </a:lnTo>
                <a:lnTo>
                  <a:pt x="231" y="345"/>
                </a:lnTo>
                <a:lnTo>
                  <a:pt x="248" y="283"/>
                </a:lnTo>
                <a:lnTo>
                  <a:pt x="248" y="265"/>
                </a:lnTo>
                <a:lnTo>
                  <a:pt x="231" y="212"/>
                </a:lnTo>
                <a:lnTo>
                  <a:pt x="196" y="177"/>
                </a:lnTo>
                <a:lnTo>
                  <a:pt x="133" y="150"/>
                </a:lnTo>
                <a:lnTo>
                  <a:pt x="115" y="150"/>
                </a:lnTo>
                <a:lnTo>
                  <a:pt x="61" y="177"/>
                </a:lnTo>
                <a:lnTo>
                  <a:pt x="26" y="212"/>
                </a:lnTo>
                <a:lnTo>
                  <a:pt x="0" y="265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"/>
          <p:cNvSpPr/>
          <p:nvPr/>
        </p:nvSpPr>
        <p:spPr>
          <a:xfrm>
            <a:off x="2082960" y="4132440"/>
            <a:ext cx="495720" cy="343440"/>
          </a:xfrm>
          <a:custGeom>
            <a:avLst/>
            <a:gdLst/>
            <a:ahLst/>
            <a:rect l="0" t="0" r="r" b="b"/>
            <a:pathLst>
              <a:path fill="none" w="1377" h="954">
                <a:moveTo>
                  <a:pt x="0" y="954"/>
                </a:moveTo>
                <a:lnTo>
                  <a:pt x="1377" y="954"/>
                </a:lnTo>
                <a:lnTo>
                  <a:pt x="1377" y="0"/>
                </a:lnTo>
                <a:lnTo>
                  <a:pt x="0" y="0"/>
                </a:lnTo>
                <a:lnTo>
                  <a:pt x="0" y="954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"/>
          <p:cNvSpPr/>
          <p:nvPr/>
        </p:nvSpPr>
        <p:spPr>
          <a:xfrm flipH="1" flipV="1">
            <a:off x="2984400" y="2874960"/>
            <a:ext cx="628920" cy="5526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"/>
          <p:cNvSpPr/>
          <p:nvPr/>
        </p:nvSpPr>
        <p:spPr>
          <a:xfrm>
            <a:off x="2832120" y="4135320"/>
            <a:ext cx="1492560" cy="336960"/>
          </a:xfrm>
          <a:custGeom>
            <a:avLst/>
            <a:gdLst/>
            <a:ahLst/>
            <a:rect l="0" t="0" r="r" b="b"/>
            <a:pathLst>
              <a:path fill="none" w="4146" h="936">
                <a:moveTo>
                  <a:pt x="0" y="936"/>
                </a:moveTo>
                <a:lnTo>
                  <a:pt x="0" y="0"/>
                </a:lnTo>
                <a:lnTo>
                  <a:pt x="4146" y="0"/>
                </a:lnTo>
                <a:lnTo>
                  <a:pt x="4146" y="936"/>
                </a:lnTo>
                <a:lnTo>
                  <a:pt x="0" y="936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"/>
          <p:cNvSpPr/>
          <p:nvPr/>
        </p:nvSpPr>
        <p:spPr>
          <a:xfrm>
            <a:off x="2832120" y="3122640"/>
            <a:ext cx="3518280" cy="2359440"/>
          </a:xfrm>
          <a:custGeom>
            <a:avLst/>
            <a:gdLst/>
            <a:ahLst/>
            <a:rect l="0" t="0" r="r" b="b"/>
            <a:pathLst>
              <a:path fill="none" w="9773" h="6554">
                <a:moveTo>
                  <a:pt x="0" y="6554"/>
                </a:moveTo>
                <a:lnTo>
                  <a:pt x="0" y="0"/>
                </a:lnTo>
                <a:lnTo>
                  <a:pt x="5292" y="0"/>
                </a:lnTo>
                <a:lnTo>
                  <a:pt x="5292" y="1879"/>
                </a:lnTo>
                <a:lnTo>
                  <a:pt x="5292" y="1941"/>
                </a:lnTo>
                <a:lnTo>
                  <a:pt x="5301" y="2003"/>
                </a:lnTo>
                <a:lnTo>
                  <a:pt x="5310" y="2055"/>
                </a:lnTo>
                <a:lnTo>
                  <a:pt x="5336" y="2108"/>
                </a:lnTo>
                <a:lnTo>
                  <a:pt x="5363" y="2161"/>
                </a:lnTo>
                <a:lnTo>
                  <a:pt x="5389" y="2214"/>
                </a:lnTo>
                <a:lnTo>
                  <a:pt x="5424" y="2258"/>
                </a:lnTo>
                <a:lnTo>
                  <a:pt x="5460" y="2302"/>
                </a:lnTo>
                <a:lnTo>
                  <a:pt x="5504" y="2338"/>
                </a:lnTo>
                <a:lnTo>
                  <a:pt x="5548" y="2373"/>
                </a:lnTo>
                <a:lnTo>
                  <a:pt x="5601" y="2408"/>
                </a:lnTo>
                <a:lnTo>
                  <a:pt x="5654" y="2426"/>
                </a:lnTo>
                <a:lnTo>
                  <a:pt x="5707" y="2452"/>
                </a:lnTo>
                <a:lnTo>
                  <a:pt x="5768" y="2461"/>
                </a:lnTo>
                <a:lnTo>
                  <a:pt x="5821" y="2470"/>
                </a:lnTo>
                <a:lnTo>
                  <a:pt x="5883" y="2479"/>
                </a:lnTo>
                <a:lnTo>
                  <a:pt x="9773" y="2479"/>
                </a:lnTo>
                <a:lnTo>
                  <a:pt x="9773" y="4084"/>
                </a:lnTo>
                <a:lnTo>
                  <a:pt x="5883" y="4084"/>
                </a:lnTo>
                <a:lnTo>
                  <a:pt x="5821" y="4084"/>
                </a:lnTo>
                <a:lnTo>
                  <a:pt x="5768" y="4093"/>
                </a:lnTo>
                <a:lnTo>
                  <a:pt x="5707" y="4110"/>
                </a:lnTo>
                <a:lnTo>
                  <a:pt x="5654" y="4128"/>
                </a:lnTo>
                <a:lnTo>
                  <a:pt x="5601" y="4154"/>
                </a:lnTo>
                <a:lnTo>
                  <a:pt x="5548" y="4181"/>
                </a:lnTo>
                <a:lnTo>
                  <a:pt x="5504" y="4216"/>
                </a:lnTo>
                <a:lnTo>
                  <a:pt x="5460" y="4260"/>
                </a:lnTo>
                <a:lnTo>
                  <a:pt x="5424" y="4296"/>
                </a:lnTo>
                <a:lnTo>
                  <a:pt x="5389" y="4348"/>
                </a:lnTo>
                <a:lnTo>
                  <a:pt x="5363" y="4393"/>
                </a:lnTo>
                <a:lnTo>
                  <a:pt x="5336" y="4446"/>
                </a:lnTo>
                <a:lnTo>
                  <a:pt x="5310" y="4507"/>
                </a:lnTo>
                <a:lnTo>
                  <a:pt x="5301" y="4560"/>
                </a:lnTo>
                <a:lnTo>
                  <a:pt x="5292" y="4622"/>
                </a:lnTo>
                <a:lnTo>
                  <a:pt x="5292" y="4675"/>
                </a:lnTo>
                <a:lnTo>
                  <a:pt x="5292" y="6554"/>
                </a:lnTo>
                <a:lnTo>
                  <a:pt x="0" y="6554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"/>
          <p:cNvSpPr/>
          <p:nvPr/>
        </p:nvSpPr>
        <p:spPr>
          <a:xfrm>
            <a:off x="2558880" y="2475000"/>
            <a:ext cx="483120" cy="483120"/>
          </a:xfrm>
          <a:custGeom>
            <a:avLst/>
            <a:gdLst/>
            <a:ahLst/>
            <a:rect l="0" t="0" r="r" b="b"/>
            <a:pathLst>
              <a:path fill="none" w="1342" h="1342">
                <a:moveTo>
                  <a:pt x="1342" y="671"/>
                </a:moveTo>
                <a:lnTo>
                  <a:pt x="1342" y="609"/>
                </a:lnTo>
                <a:lnTo>
                  <a:pt x="1333" y="547"/>
                </a:lnTo>
                <a:lnTo>
                  <a:pt x="1316" y="486"/>
                </a:lnTo>
                <a:lnTo>
                  <a:pt x="1298" y="433"/>
                </a:lnTo>
                <a:lnTo>
                  <a:pt x="1272" y="371"/>
                </a:lnTo>
                <a:lnTo>
                  <a:pt x="1245" y="317"/>
                </a:lnTo>
                <a:lnTo>
                  <a:pt x="1210" y="264"/>
                </a:lnTo>
                <a:lnTo>
                  <a:pt x="1166" y="220"/>
                </a:lnTo>
                <a:lnTo>
                  <a:pt x="1130" y="176"/>
                </a:lnTo>
                <a:lnTo>
                  <a:pt x="1077" y="132"/>
                </a:lnTo>
                <a:lnTo>
                  <a:pt x="1025" y="97"/>
                </a:lnTo>
                <a:lnTo>
                  <a:pt x="971" y="70"/>
                </a:lnTo>
                <a:lnTo>
                  <a:pt x="918" y="44"/>
                </a:lnTo>
                <a:lnTo>
                  <a:pt x="856" y="26"/>
                </a:lnTo>
                <a:lnTo>
                  <a:pt x="794" y="8"/>
                </a:lnTo>
                <a:lnTo>
                  <a:pt x="733" y="0"/>
                </a:lnTo>
                <a:lnTo>
                  <a:pt x="671" y="0"/>
                </a:lnTo>
                <a:lnTo>
                  <a:pt x="609" y="0"/>
                </a:lnTo>
                <a:lnTo>
                  <a:pt x="547" y="8"/>
                </a:lnTo>
                <a:lnTo>
                  <a:pt x="486" y="26"/>
                </a:lnTo>
                <a:lnTo>
                  <a:pt x="433" y="44"/>
                </a:lnTo>
                <a:lnTo>
                  <a:pt x="371" y="70"/>
                </a:lnTo>
                <a:lnTo>
                  <a:pt x="317" y="97"/>
                </a:lnTo>
                <a:lnTo>
                  <a:pt x="264" y="132"/>
                </a:lnTo>
                <a:lnTo>
                  <a:pt x="220" y="176"/>
                </a:lnTo>
                <a:lnTo>
                  <a:pt x="176" y="220"/>
                </a:lnTo>
                <a:lnTo>
                  <a:pt x="132" y="264"/>
                </a:lnTo>
                <a:lnTo>
                  <a:pt x="97" y="317"/>
                </a:lnTo>
                <a:lnTo>
                  <a:pt x="70" y="371"/>
                </a:lnTo>
                <a:lnTo>
                  <a:pt x="44" y="433"/>
                </a:lnTo>
                <a:lnTo>
                  <a:pt x="26" y="486"/>
                </a:lnTo>
                <a:lnTo>
                  <a:pt x="8" y="547"/>
                </a:lnTo>
                <a:lnTo>
                  <a:pt x="0" y="609"/>
                </a:lnTo>
                <a:lnTo>
                  <a:pt x="0" y="671"/>
                </a:lnTo>
                <a:lnTo>
                  <a:pt x="0" y="733"/>
                </a:lnTo>
                <a:lnTo>
                  <a:pt x="8" y="794"/>
                </a:lnTo>
                <a:lnTo>
                  <a:pt x="26" y="856"/>
                </a:lnTo>
                <a:lnTo>
                  <a:pt x="44" y="918"/>
                </a:lnTo>
                <a:lnTo>
                  <a:pt x="70" y="971"/>
                </a:lnTo>
                <a:lnTo>
                  <a:pt x="97" y="1025"/>
                </a:lnTo>
                <a:lnTo>
                  <a:pt x="132" y="1077"/>
                </a:lnTo>
                <a:lnTo>
                  <a:pt x="176" y="1122"/>
                </a:lnTo>
                <a:lnTo>
                  <a:pt x="220" y="1166"/>
                </a:lnTo>
                <a:lnTo>
                  <a:pt x="264" y="1210"/>
                </a:lnTo>
                <a:lnTo>
                  <a:pt x="317" y="1245"/>
                </a:lnTo>
                <a:lnTo>
                  <a:pt x="371" y="1272"/>
                </a:lnTo>
                <a:lnTo>
                  <a:pt x="433" y="1298"/>
                </a:lnTo>
                <a:lnTo>
                  <a:pt x="486" y="1316"/>
                </a:lnTo>
                <a:lnTo>
                  <a:pt x="547" y="1333"/>
                </a:lnTo>
                <a:lnTo>
                  <a:pt x="609" y="1342"/>
                </a:lnTo>
                <a:lnTo>
                  <a:pt x="671" y="1342"/>
                </a:lnTo>
                <a:lnTo>
                  <a:pt x="733" y="1342"/>
                </a:lnTo>
                <a:lnTo>
                  <a:pt x="794" y="1333"/>
                </a:lnTo>
                <a:lnTo>
                  <a:pt x="856" y="1316"/>
                </a:lnTo>
                <a:lnTo>
                  <a:pt x="918" y="1298"/>
                </a:lnTo>
                <a:lnTo>
                  <a:pt x="971" y="1272"/>
                </a:lnTo>
                <a:lnTo>
                  <a:pt x="1025" y="1245"/>
                </a:lnTo>
                <a:lnTo>
                  <a:pt x="1077" y="1210"/>
                </a:lnTo>
                <a:lnTo>
                  <a:pt x="1130" y="1166"/>
                </a:lnTo>
                <a:lnTo>
                  <a:pt x="1166" y="1122"/>
                </a:lnTo>
                <a:lnTo>
                  <a:pt x="1210" y="1077"/>
                </a:lnTo>
                <a:lnTo>
                  <a:pt x="1245" y="1025"/>
                </a:lnTo>
                <a:lnTo>
                  <a:pt x="1272" y="971"/>
                </a:lnTo>
                <a:lnTo>
                  <a:pt x="1298" y="918"/>
                </a:lnTo>
                <a:lnTo>
                  <a:pt x="1316" y="856"/>
                </a:lnTo>
                <a:lnTo>
                  <a:pt x="1333" y="794"/>
                </a:lnTo>
                <a:lnTo>
                  <a:pt x="1342" y="733"/>
                </a:lnTo>
                <a:lnTo>
                  <a:pt x="1342" y="671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"/>
          <p:cNvSpPr/>
          <p:nvPr/>
        </p:nvSpPr>
        <p:spPr>
          <a:xfrm>
            <a:off x="2558880" y="2716200"/>
            <a:ext cx="482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"/>
          <p:cNvSpPr/>
          <p:nvPr/>
        </p:nvSpPr>
        <p:spPr>
          <a:xfrm>
            <a:off x="2689200" y="2757600"/>
            <a:ext cx="921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"/>
          <p:cNvSpPr/>
          <p:nvPr/>
        </p:nvSpPr>
        <p:spPr>
          <a:xfrm flipH="1">
            <a:off x="2689200" y="2757600"/>
            <a:ext cx="921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"/>
          <p:cNvSpPr/>
          <p:nvPr/>
        </p:nvSpPr>
        <p:spPr>
          <a:xfrm>
            <a:off x="2822400" y="2757600"/>
            <a:ext cx="92520" cy="136800"/>
          </a:xfrm>
          <a:custGeom>
            <a:avLst/>
            <a:gdLst/>
            <a:ahLst/>
            <a:rect l="0" t="0" r="r" b="b"/>
            <a:pathLst>
              <a:path fill="none" w="257" h="380">
                <a:moveTo>
                  <a:pt x="17" y="88"/>
                </a:moveTo>
                <a:lnTo>
                  <a:pt x="17" y="70"/>
                </a:lnTo>
                <a:lnTo>
                  <a:pt x="35" y="35"/>
                </a:lnTo>
                <a:lnTo>
                  <a:pt x="52" y="17"/>
                </a:lnTo>
                <a:lnTo>
                  <a:pt x="89" y="0"/>
                </a:lnTo>
                <a:lnTo>
                  <a:pt x="168" y="0"/>
                </a:lnTo>
                <a:lnTo>
                  <a:pt x="204" y="17"/>
                </a:lnTo>
                <a:lnTo>
                  <a:pt x="222" y="35"/>
                </a:lnTo>
                <a:lnTo>
                  <a:pt x="240" y="70"/>
                </a:lnTo>
                <a:lnTo>
                  <a:pt x="240" y="105"/>
                </a:lnTo>
                <a:lnTo>
                  <a:pt x="222" y="141"/>
                </a:lnTo>
                <a:lnTo>
                  <a:pt x="186" y="195"/>
                </a:lnTo>
                <a:lnTo>
                  <a:pt x="0" y="380"/>
                </a:lnTo>
                <a:lnTo>
                  <a:pt x="257" y="38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"/>
          <p:cNvSpPr/>
          <p:nvPr/>
        </p:nvSpPr>
        <p:spPr>
          <a:xfrm>
            <a:off x="4946760" y="2579760"/>
            <a:ext cx="483120" cy="483120"/>
          </a:xfrm>
          <a:custGeom>
            <a:avLst/>
            <a:gdLst/>
            <a:ahLst/>
            <a:rect l="0" t="0" r="r" b="b"/>
            <a:pathLst>
              <a:path fill="none" w="1342" h="1342">
                <a:moveTo>
                  <a:pt x="1342" y="671"/>
                </a:moveTo>
                <a:lnTo>
                  <a:pt x="1342" y="609"/>
                </a:lnTo>
                <a:lnTo>
                  <a:pt x="1333" y="547"/>
                </a:lnTo>
                <a:lnTo>
                  <a:pt x="1316" y="486"/>
                </a:lnTo>
                <a:lnTo>
                  <a:pt x="1298" y="433"/>
                </a:lnTo>
                <a:lnTo>
                  <a:pt x="1272" y="371"/>
                </a:lnTo>
                <a:lnTo>
                  <a:pt x="1245" y="317"/>
                </a:lnTo>
                <a:lnTo>
                  <a:pt x="1210" y="264"/>
                </a:lnTo>
                <a:lnTo>
                  <a:pt x="1174" y="220"/>
                </a:lnTo>
                <a:lnTo>
                  <a:pt x="1130" y="176"/>
                </a:lnTo>
                <a:lnTo>
                  <a:pt x="1077" y="132"/>
                </a:lnTo>
                <a:lnTo>
                  <a:pt x="1025" y="97"/>
                </a:lnTo>
                <a:lnTo>
                  <a:pt x="971" y="70"/>
                </a:lnTo>
                <a:lnTo>
                  <a:pt x="918" y="44"/>
                </a:lnTo>
                <a:lnTo>
                  <a:pt x="856" y="26"/>
                </a:lnTo>
                <a:lnTo>
                  <a:pt x="794" y="8"/>
                </a:lnTo>
                <a:lnTo>
                  <a:pt x="733" y="0"/>
                </a:lnTo>
                <a:lnTo>
                  <a:pt x="671" y="0"/>
                </a:lnTo>
                <a:lnTo>
                  <a:pt x="609" y="0"/>
                </a:lnTo>
                <a:lnTo>
                  <a:pt x="547" y="8"/>
                </a:lnTo>
                <a:lnTo>
                  <a:pt x="486" y="26"/>
                </a:lnTo>
                <a:lnTo>
                  <a:pt x="433" y="44"/>
                </a:lnTo>
                <a:lnTo>
                  <a:pt x="371" y="70"/>
                </a:lnTo>
                <a:lnTo>
                  <a:pt x="317" y="97"/>
                </a:lnTo>
                <a:lnTo>
                  <a:pt x="264" y="132"/>
                </a:lnTo>
                <a:lnTo>
                  <a:pt x="220" y="176"/>
                </a:lnTo>
                <a:lnTo>
                  <a:pt x="176" y="220"/>
                </a:lnTo>
                <a:lnTo>
                  <a:pt x="132" y="264"/>
                </a:lnTo>
                <a:lnTo>
                  <a:pt x="105" y="317"/>
                </a:lnTo>
                <a:lnTo>
                  <a:pt x="70" y="371"/>
                </a:lnTo>
                <a:lnTo>
                  <a:pt x="44" y="433"/>
                </a:lnTo>
                <a:lnTo>
                  <a:pt x="26" y="486"/>
                </a:lnTo>
                <a:lnTo>
                  <a:pt x="8" y="547"/>
                </a:lnTo>
                <a:lnTo>
                  <a:pt x="0" y="609"/>
                </a:lnTo>
                <a:lnTo>
                  <a:pt x="0" y="671"/>
                </a:lnTo>
                <a:lnTo>
                  <a:pt x="0" y="733"/>
                </a:lnTo>
                <a:lnTo>
                  <a:pt x="8" y="794"/>
                </a:lnTo>
                <a:lnTo>
                  <a:pt x="26" y="856"/>
                </a:lnTo>
                <a:lnTo>
                  <a:pt x="44" y="918"/>
                </a:lnTo>
                <a:lnTo>
                  <a:pt x="70" y="971"/>
                </a:lnTo>
                <a:lnTo>
                  <a:pt x="105" y="1025"/>
                </a:lnTo>
                <a:lnTo>
                  <a:pt x="132" y="1077"/>
                </a:lnTo>
                <a:lnTo>
                  <a:pt x="176" y="1130"/>
                </a:lnTo>
                <a:lnTo>
                  <a:pt x="220" y="1174"/>
                </a:lnTo>
                <a:lnTo>
                  <a:pt x="264" y="1210"/>
                </a:lnTo>
                <a:lnTo>
                  <a:pt x="317" y="1245"/>
                </a:lnTo>
                <a:lnTo>
                  <a:pt x="371" y="1272"/>
                </a:lnTo>
                <a:lnTo>
                  <a:pt x="433" y="1298"/>
                </a:lnTo>
                <a:lnTo>
                  <a:pt x="486" y="1316"/>
                </a:lnTo>
                <a:lnTo>
                  <a:pt x="547" y="1333"/>
                </a:lnTo>
                <a:lnTo>
                  <a:pt x="609" y="1342"/>
                </a:lnTo>
                <a:lnTo>
                  <a:pt x="671" y="1342"/>
                </a:lnTo>
                <a:lnTo>
                  <a:pt x="733" y="1342"/>
                </a:lnTo>
                <a:lnTo>
                  <a:pt x="794" y="1333"/>
                </a:lnTo>
                <a:lnTo>
                  <a:pt x="856" y="1316"/>
                </a:lnTo>
                <a:lnTo>
                  <a:pt x="918" y="1298"/>
                </a:lnTo>
                <a:lnTo>
                  <a:pt x="971" y="1272"/>
                </a:lnTo>
                <a:lnTo>
                  <a:pt x="1025" y="1245"/>
                </a:lnTo>
                <a:lnTo>
                  <a:pt x="1077" y="1210"/>
                </a:lnTo>
                <a:lnTo>
                  <a:pt x="1130" y="1174"/>
                </a:lnTo>
                <a:lnTo>
                  <a:pt x="1174" y="1130"/>
                </a:lnTo>
                <a:lnTo>
                  <a:pt x="1210" y="1077"/>
                </a:lnTo>
                <a:lnTo>
                  <a:pt x="1245" y="1025"/>
                </a:lnTo>
                <a:lnTo>
                  <a:pt x="1272" y="971"/>
                </a:lnTo>
                <a:lnTo>
                  <a:pt x="1298" y="918"/>
                </a:lnTo>
                <a:lnTo>
                  <a:pt x="1316" y="856"/>
                </a:lnTo>
                <a:lnTo>
                  <a:pt x="1333" y="794"/>
                </a:lnTo>
                <a:lnTo>
                  <a:pt x="1342" y="733"/>
                </a:lnTo>
                <a:lnTo>
                  <a:pt x="1342" y="671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"/>
          <p:cNvSpPr/>
          <p:nvPr/>
        </p:nvSpPr>
        <p:spPr>
          <a:xfrm>
            <a:off x="5079960" y="2862360"/>
            <a:ext cx="921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"/>
          <p:cNvSpPr/>
          <p:nvPr/>
        </p:nvSpPr>
        <p:spPr>
          <a:xfrm flipH="1">
            <a:off x="5079960" y="2862360"/>
            <a:ext cx="921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"/>
          <p:cNvSpPr/>
          <p:nvPr/>
        </p:nvSpPr>
        <p:spPr>
          <a:xfrm>
            <a:off x="5210280" y="2862360"/>
            <a:ext cx="92520" cy="136800"/>
          </a:xfrm>
          <a:custGeom>
            <a:avLst/>
            <a:gdLst/>
            <a:ahLst/>
            <a:rect l="0" t="0" r="r" b="b"/>
            <a:pathLst>
              <a:path fill="none" w="257" h="380">
                <a:moveTo>
                  <a:pt x="35" y="0"/>
                </a:moveTo>
                <a:lnTo>
                  <a:pt x="240" y="0"/>
                </a:lnTo>
                <a:lnTo>
                  <a:pt x="124" y="141"/>
                </a:lnTo>
                <a:lnTo>
                  <a:pt x="186" y="141"/>
                </a:lnTo>
                <a:lnTo>
                  <a:pt x="222" y="158"/>
                </a:lnTo>
                <a:lnTo>
                  <a:pt x="240" y="176"/>
                </a:lnTo>
                <a:lnTo>
                  <a:pt x="257" y="239"/>
                </a:lnTo>
                <a:lnTo>
                  <a:pt x="257" y="274"/>
                </a:lnTo>
                <a:lnTo>
                  <a:pt x="240" y="327"/>
                </a:lnTo>
                <a:lnTo>
                  <a:pt x="204" y="362"/>
                </a:lnTo>
                <a:lnTo>
                  <a:pt x="150" y="380"/>
                </a:lnTo>
                <a:lnTo>
                  <a:pt x="89" y="380"/>
                </a:lnTo>
                <a:lnTo>
                  <a:pt x="35" y="362"/>
                </a:lnTo>
                <a:lnTo>
                  <a:pt x="17" y="344"/>
                </a:lnTo>
                <a:lnTo>
                  <a:pt x="0" y="309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>
            <a:off x="4594320" y="2862360"/>
            <a:ext cx="921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 flipH="1">
            <a:off x="4594320" y="2862360"/>
            <a:ext cx="921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4727520" y="2862360"/>
            <a:ext cx="92520" cy="136800"/>
          </a:xfrm>
          <a:custGeom>
            <a:avLst/>
            <a:gdLst/>
            <a:ahLst/>
            <a:rect l="0" t="0" r="r" b="b"/>
            <a:pathLst>
              <a:path fill="none" w="257" h="380">
                <a:moveTo>
                  <a:pt x="17" y="88"/>
                </a:moveTo>
                <a:lnTo>
                  <a:pt x="17" y="70"/>
                </a:lnTo>
                <a:lnTo>
                  <a:pt x="35" y="35"/>
                </a:lnTo>
                <a:lnTo>
                  <a:pt x="52" y="17"/>
                </a:lnTo>
                <a:lnTo>
                  <a:pt x="89" y="0"/>
                </a:lnTo>
                <a:lnTo>
                  <a:pt x="159" y="0"/>
                </a:lnTo>
                <a:lnTo>
                  <a:pt x="196" y="17"/>
                </a:lnTo>
                <a:lnTo>
                  <a:pt x="222" y="35"/>
                </a:lnTo>
                <a:lnTo>
                  <a:pt x="240" y="70"/>
                </a:lnTo>
                <a:lnTo>
                  <a:pt x="240" y="105"/>
                </a:lnTo>
                <a:lnTo>
                  <a:pt x="222" y="141"/>
                </a:lnTo>
                <a:lnTo>
                  <a:pt x="177" y="195"/>
                </a:lnTo>
                <a:lnTo>
                  <a:pt x="0" y="380"/>
                </a:lnTo>
                <a:lnTo>
                  <a:pt x="257" y="38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4464000" y="2579760"/>
            <a:ext cx="483120" cy="483120"/>
          </a:xfrm>
          <a:custGeom>
            <a:avLst/>
            <a:gdLst/>
            <a:ahLst/>
            <a:rect l="0" t="0" r="r" b="b"/>
            <a:pathLst>
              <a:path fill="none" w="1342" h="1342">
                <a:moveTo>
                  <a:pt x="1342" y="671"/>
                </a:moveTo>
                <a:lnTo>
                  <a:pt x="1342" y="609"/>
                </a:lnTo>
                <a:lnTo>
                  <a:pt x="1333" y="547"/>
                </a:lnTo>
                <a:lnTo>
                  <a:pt x="1316" y="486"/>
                </a:lnTo>
                <a:lnTo>
                  <a:pt x="1298" y="433"/>
                </a:lnTo>
                <a:lnTo>
                  <a:pt x="1272" y="371"/>
                </a:lnTo>
                <a:lnTo>
                  <a:pt x="1245" y="317"/>
                </a:lnTo>
                <a:lnTo>
                  <a:pt x="1210" y="264"/>
                </a:lnTo>
                <a:lnTo>
                  <a:pt x="1166" y="220"/>
                </a:lnTo>
                <a:lnTo>
                  <a:pt x="1122" y="176"/>
                </a:lnTo>
                <a:lnTo>
                  <a:pt x="1077" y="132"/>
                </a:lnTo>
                <a:lnTo>
                  <a:pt x="1025" y="97"/>
                </a:lnTo>
                <a:lnTo>
                  <a:pt x="971" y="70"/>
                </a:lnTo>
                <a:lnTo>
                  <a:pt x="918" y="44"/>
                </a:lnTo>
                <a:lnTo>
                  <a:pt x="856" y="26"/>
                </a:lnTo>
                <a:lnTo>
                  <a:pt x="794" y="8"/>
                </a:lnTo>
                <a:lnTo>
                  <a:pt x="733" y="0"/>
                </a:lnTo>
                <a:lnTo>
                  <a:pt x="671" y="0"/>
                </a:lnTo>
                <a:lnTo>
                  <a:pt x="609" y="0"/>
                </a:lnTo>
                <a:lnTo>
                  <a:pt x="547" y="8"/>
                </a:lnTo>
                <a:lnTo>
                  <a:pt x="486" y="26"/>
                </a:lnTo>
                <a:lnTo>
                  <a:pt x="433" y="44"/>
                </a:lnTo>
                <a:lnTo>
                  <a:pt x="371" y="70"/>
                </a:lnTo>
                <a:lnTo>
                  <a:pt x="317" y="97"/>
                </a:lnTo>
                <a:lnTo>
                  <a:pt x="264" y="132"/>
                </a:lnTo>
                <a:lnTo>
                  <a:pt x="220" y="176"/>
                </a:lnTo>
                <a:lnTo>
                  <a:pt x="176" y="220"/>
                </a:lnTo>
                <a:lnTo>
                  <a:pt x="132" y="264"/>
                </a:lnTo>
                <a:lnTo>
                  <a:pt x="97" y="317"/>
                </a:lnTo>
                <a:lnTo>
                  <a:pt x="70" y="371"/>
                </a:lnTo>
                <a:lnTo>
                  <a:pt x="44" y="433"/>
                </a:lnTo>
                <a:lnTo>
                  <a:pt x="26" y="486"/>
                </a:lnTo>
                <a:lnTo>
                  <a:pt x="8" y="547"/>
                </a:lnTo>
                <a:lnTo>
                  <a:pt x="0" y="609"/>
                </a:lnTo>
                <a:lnTo>
                  <a:pt x="0" y="671"/>
                </a:lnTo>
                <a:lnTo>
                  <a:pt x="0" y="733"/>
                </a:lnTo>
                <a:lnTo>
                  <a:pt x="8" y="794"/>
                </a:lnTo>
                <a:lnTo>
                  <a:pt x="26" y="856"/>
                </a:lnTo>
                <a:lnTo>
                  <a:pt x="44" y="918"/>
                </a:lnTo>
                <a:lnTo>
                  <a:pt x="70" y="971"/>
                </a:lnTo>
                <a:lnTo>
                  <a:pt x="97" y="1025"/>
                </a:lnTo>
                <a:lnTo>
                  <a:pt x="132" y="1077"/>
                </a:lnTo>
                <a:lnTo>
                  <a:pt x="176" y="1130"/>
                </a:lnTo>
                <a:lnTo>
                  <a:pt x="220" y="1174"/>
                </a:lnTo>
                <a:lnTo>
                  <a:pt x="264" y="1210"/>
                </a:lnTo>
                <a:lnTo>
                  <a:pt x="317" y="1245"/>
                </a:lnTo>
                <a:lnTo>
                  <a:pt x="371" y="1272"/>
                </a:lnTo>
                <a:lnTo>
                  <a:pt x="433" y="1298"/>
                </a:lnTo>
                <a:lnTo>
                  <a:pt x="486" y="1316"/>
                </a:lnTo>
                <a:lnTo>
                  <a:pt x="547" y="1333"/>
                </a:lnTo>
                <a:lnTo>
                  <a:pt x="609" y="1342"/>
                </a:lnTo>
                <a:lnTo>
                  <a:pt x="671" y="1342"/>
                </a:lnTo>
                <a:lnTo>
                  <a:pt x="733" y="1342"/>
                </a:lnTo>
                <a:lnTo>
                  <a:pt x="794" y="1333"/>
                </a:lnTo>
                <a:lnTo>
                  <a:pt x="856" y="1316"/>
                </a:lnTo>
                <a:lnTo>
                  <a:pt x="918" y="1298"/>
                </a:lnTo>
                <a:lnTo>
                  <a:pt x="971" y="1272"/>
                </a:lnTo>
                <a:lnTo>
                  <a:pt x="1025" y="1245"/>
                </a:lnTo>
                <a:lnTo>
                  <a:pt x="1077" y="1210"/>
                </a:lnTo>
                <a:lnTo>
                  <a:pt x="1122" y="1174"/>
                </a:lnTo>
                <a:lnTo>
                  <a:pt x="1166" y="1130"/>
                </a:lnTo>
                <a:lnTo>
                  <a:pt x="1210" y="1077"/>
                </a:lnTo>
                <a:lnTo>
                  <a:pt x="1245" y="1025"/>
                </a:lnTo>
                <a:lnTo>
                  <a:pt x="1272" y="971"/>
                </a:lnTo>
                <a:lnTo>
                  <a:pt x="1298" y="918"/>
                </a:lnTo>
                <a:lnTo>
                  <a:pt x="1316" y="856"/>
                </a:lnTo>
                <a:lnTo>
                  <a:pt x="1333" y="794"/>
                </a:lnTo>
                <a:lnTo>
                  <a:pt x="1342" y="733"/>
                </a:lnTo>
                <a:lnTo>
                  <a:pt x="1342" y="671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6480000" y="2862360"/>
            <a:ext cx="921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 flipH="1">
            <a:off x="6480000" y="2862360"/>
            <a:ext cx="921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6632640" y="2862360"/>
            <a:ext cx="32040" cy="136800"/>
          </a:xfrm>
          <a:custGeom>
            <a:avLst/>
            <a:gdLst/>
            <a:ahLst/>
            <a:rect l="0" t="0" r="r" b="b"/>
            <a:pathLst>
              <a:path fill="none" w="89" h="380">
                <a:moveTo>
                  <a:pt x="0" y="70"/>
                </a:moveTo>
                <a:lnTo>
                  <a:pt x="35" y="52"/>
                </a:lnTo>
                <a:lnTo>
                  <a:pt x="89" y="0"/>
                </a:lnTo>
                <a:lnTo>
                  <a:pt x="89" y="38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327720" y="2579760"/>
            <a:ext cx="486000" cy="483120"/>
          </a:xfrm>
          <a:custGeom>
            <a:avLst/>
            <a:gdLst/>
            <a:ahLst/>
            <a:rect l="0" t="0" r="r" b="b"/>
            <a:pathLst>
              <a:path fill="none" w="1350" h="1342">
                <a:moveTo>
                  <a:pt x="1350" y="671"/>
                </a:moveTo>
                <a:lnTo>
                  <a:pt x="1341" y="609"/>
                </a:lnTo>
                <a:lnTo>
                  <a:pt x="1332" y="547"/>
                </a:lnTo>
                <a:lnTo>
                  <a:pt x="1323" y="486"/>
                </a:lnTo>
                <a:lnTo>
                  <a:pt x="1297" y="433"/>
                </a:lnTo>
                <a:lnTo>
                  <a:pt x="1279" y="371"/>
                </a:lnTo>
                <a:lnTo>
                  <a:pt x="1244" y="317"/>
                </a:lnTo>
                <a:lnTo>
                  <a:pt x="1209" y="264"/>
                </a:lnTo>
                <a:lnTo>
                  <a:pt x="1173" y="220"/>
                </a:lnTo>
                <a:lnTo>
                  <a:pt x="1129" y="176"/>
                </a:lnTo>
                <a:lnTo>
                  <a:pt x="1076" y="132"/>
                </a:lnTo>
                <a:lnTo>
                  <a:pt x="1032" y="97"/>
                </a:lnTo>
                <a:lnTo>
                  <a:pt x="971" y="70"/>
                </a:lnTo>
                <a:lnTo>
                  <a:pt x="918" y="44"/>
                </a:lnTo>
                <a:lnTo>
                  <a:pt x="856" y="26"/>
                </a:lnTo>
                <a:lnTo>
                  <a:pt x="803" y="8"/>
                </a:lnTo>
                <a:lnTo>
                  <a:pt x="733" y="0"/>
                </a:lnTo>
                <a:lnTo>
                  <a:pt x="670" y="0"/>
                </a:lnTo>
                <a:lnTo>
                  <a:pt x="608" y="0"/>
                </a:lnTo>
                <a:lnTo>
                  <a:pt x="555" y="8"/>
                </a:lnTo>
                <a:lnTo>
                  <a:pt x="493" y="26"/>
                </a:lnTo>
                <a:lnTo>
                  <a:pt x="432" y="44"/>
                </a:lnTo>
                <a:lnTo>
                  <a:pt x="379" y="70"/>
                </a:lnTo>
                <a:lnTo>
                  <a:pt x="317" y="97"/>
                </a:lnTo>
                <a:lnTo>
                  <a:pt x="273" y="132"/>
                </a:lnTo>
                <a:lnTo>
                  <a:pt x="220" y="176"/>
                </a:lnTo>
                <a:lnTo>
                  <a:pt x="176" y="220"/>
                </a:lnTo>
                <a:lnTo>
                  <a:pt x="141" y="264"/>
                </a:lnTo>
                <a:lnTo>
                  <a:pt x="105" y="317"/>
                </a:lnTo>
                <a:lnTo>
                  <a:pt x="70" y="371"/>
                </a:lnTo>
                <a:lnTo>
                  <a:pt x="44" y="433"/>
                </a:lnTo>
                <a:lnTo>
                  <a:pt x="26" y="486"/>
                </a:lnTo>
                <a:lnTo>
                  <a:pt x="17" y="547"/>
                </a:lnTo>
                <a:lnTo>
                  <a:pt x="8" y="609"/>
                </a:lnTo>
                <a:lnTo>
                  <a:pt x="0" y="671"/>
                </a:lnTo>
                <a:lnTo>
                  <a:pt x="8" y="733"/>
                </a:lnTo>
                <a:lnTo>
                  <a:pt x="17" y="794"/>
                </a:lnTo>
                <a:lnTo>
                  <a:pt x="26" y="856"/>
                </a:lnTo>
                <a:lnTo>
                  <a:pt x="44" y="918"/>
                </a:lnTo>
                <a:lnTo>
                  <a:pt x="70" y="971"/>
                </a:lnTo>
                <a:lnTo>
                  <a:pt x="105" y="1025"/>
                </a:lnTo>
                <a:lnTo>
                  <a:pt x="141" y="1077"/>
                </a:lnTo>
                <a:lnTo>
                  <a:pt x="176" y="1130"/>
                </a:lnTo>
                <a:lnTo>
                  <a:pt x="220" y="1174"/>
                </a:lnTo>
                <a:lnTo>
                  <a:pt x="273" y="1210"/>
                </a:lnTo>
                <a:lnTo>
                  <a:pt x="317" y="1245"/>
                </a:lnTo>
                <a:lnTo>
                  <a:pt x="379" y="1272"/>
                </a:lnTo>
                <a:lnTo>
                  <a:pt x="432" y="1298"/>
                </a:lnTo>
                <a:lnTo>
                  <a:pt x="493" y="1316"/>
                </a:lnTo>
                <a:lnTo>
                  <a:pt x="555" y="1333"/>
                </a:lnTo>
                <a:lnTo>
                  <a:pt x="608" y="1342"/>
                </a:lnTo>
                <a:lnTo>
                  <a:pt x="670" y="1342"/>
                </a:lnTo>
                <a:lnTo>
                  <a:pt x="733" y="1342"/>
                </a:lnTo>
                <a:lnTo>
                  <a:pt x="803" y="1333"/>
                </a:lnTo>
                <a:lnTo>
                  <a:pt x="856" y="1316"/>
                </a:lnTo>
                <a:lnTo>
                  <a:pt x="918" y="1298"/>
                </a:lnTo>
                <a:lnTo>
                  <a:pt x="971" y="1272"/>
                </a:lnTo>
                <a:lnTo>
                  <a:pt x="1032" y="1245"/>
                </a:lnTo>
                <a:lnTo>
                  <a:pt x="1076" y="1210"/>
                </a:lnTo>
                <a:lnTo>
                  <a:pt x="1129" y="1174"/>
                </a:lnTo>
                <a:lnTo>
                  <a:pt x="1173" y="1130"/>
                </a:lnTo>
                <a:lnTo>
                  <a:pt x="1209" y="1077"/>
                </a:lnTo>
                <a:lnTo>
                  <a:pt x="1244" y="1025"/>
                </a:lnTo>
                <a:lnTo>
                  <a:pt x="1279" y="971"/>
                </a:lnTo>
                <a:lnTo>
                  <a:pt x="1297" y="918"/>
                </a:lnTo>
                <a:lnTo>
                  <a:pt x="1323" y="856"/>
                </a:lnTo>
                <a:lnTo>
                  <a:pt x="1332" y="794"/>
                </a:lnTo>
                <a:lnTo>
                  <a:pt x="1341" y="733"/>
                </a:lnTo>
                <a:lnTo>
                  <a:pt x="1350" y="671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6311880" y="5468760"/>
            <a:ext cx="92160" cy="140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 flipH="1">
            <a:off x="6311880" y="5468760"/>
            <a:ext cx="92160" cy="140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6464160" y="5468760"/>
            <a:ext cx="32040" cy="140040"/>
          </a:xfrm>
          <a:custGeom>
            <a:avLst/>
            <a:gdLst/>
            <a:ahLst/>
            <a:rect l="0" t="0" r="r" b="b"/>
            <a:pathLst>
              <a:path fill="none" w="89" h="389">
                <a:moveTo>
                  <a:pt x="0" y="70"/>
                </a:moveTo>
                <a:lnTo>
                  <a:pt x="35" y="52"/>
                </a:lnTo>
                <a:lnTo>
                  <a:pt x="89" y="0"/>
                </a:lnTo>
                <a:lnTo>
                  <a:pt x="89" y="389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6159600" y="5430960"/>
            <a:ext cx="4856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4737240" y="3798720"/>
            <a:ext cx="0" cy="10065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3784680" y="3678120"/>
            <a:ext cx="0" cy="12542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3" name=""/>
          <p:cNvGrpSpPr/>
          <p:nvPr/>
        </p:nvGrpSpPr>
        <p:grpSpPr>
          <a:xfrm>
            <a:off x="5648400" y="3681360"/>
            <a:ext cx="0" cy="1266840"/>
            <a:chOff x="5648400" y="3681360"/>
            <a:chExt cx="0" cy="1266840"/>
          </a:xfrm>
        </p:grpSpPr>
        <p:sp>
          <p:nvSpPr>
            <p:cNvPr id="1484" name=""/>
            <p:cNvSpPr/>
            <p:nvPr/>
          </p:nvSpPr>
          <p:spPr>
            <a:xfrm flipV="1">
              <a:off x="5648400" y="4573440"/>
              <a:ext cx="0" cy="37476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5648400" y="4367160"/>
              <a:ext cx="0" cy="10476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7160" bIns="47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5648400" y="4160880"/>
              <a:ext cx="0" cy="10152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V="1">
              <a:off x="5648400" y="3681360"/>
              <a:ext cx="0" cy="37476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8" name=""/>
          <p:cNvSpPr/>
          <p:nvPr/>
        </p:nvSpPr>
        <p:spPr>
          <a:xfrm flipH="1" flipV="1">
            <a:off x="3645000" y="4871880"/>
            <a:ext cx="276120" cy="2797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 flipV="1">
            <a:off x="3645000" y="4871880"/>
            <a:ext cx="276120" cy="2797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5651640" y="4824360"/>
            <a:ext cx="561960" cy="4539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 flipH="1">
            <a:off x="3645000" y="3456000"/>
            <a:ext cx="276120" cy="2761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>
            <a:off x="3645000" y="3456000"/>
            <a:ext cx="276120" cy="2761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3784680" y="3049560"/>
            <a:ext cx="0" cy="4669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6327720" y="2820960"/>
            <a:ext cx="4860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>
            <a:off x="6438960" y="2052720"/>
            <a:ext cx="5684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4464000" y="2820960"/>
            <a:ext cx="482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>
            <a:off x="3784680" y="2138400"/>
            <a:ext cx="0" cy="3236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>
            <a:off x="3952800" y="2214720"/>
            <a:ext cx="565200" cy="4539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>
            <a:off x="5819760" y="2214720"/>
            <a:ext cx="561960" cy="4539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>
            <a:off x="4946760" y="2820960"/>
            <a:ext cx="4824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2832120" y="896760"/>
            <a:ext cx="3518280" cy="1155960"/>
          </a:xfrm>
          <a:custGeom>
            <a:avLst/>
            <a:gdLst/>
            <a:ahLst/>
            <a:rect l="0" t="0" r="r" b="b"/>
            <a:pathLst>
              <a:path fill="none" w="9773" h="3211">
                <a:moveTo>
                  <a:pt x="0" y="0"/>
                </a:moveTo>
                <a:lnTo>
                  <a:pt x="0" y="3211"/>
                </a:lnTo>
                <a:lnTo>
                  <a:pt x="9773" y="3211"/>
                </a:lnTo>
                <a:lnTo>
                  <a:pt x="9773" y="1817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H="1">
            <a:off x="2832120" y="896760"/>
            <a:ext cx="19051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>
            <a:off x="2832120" y="1535040"/>
            <a:ext cx="982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2984400" y="1535040"/>
            <a:ext cx="1018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>
            <a:off x="3139920" y="1535040"/>
            <a:ext cx="1018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>
            <a:off x="329256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>
            <a:off x="344808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>
            <a:off x="360360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75912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391464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407052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4226040" y="1535040"/>
            <a:ext cx="982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4737240" y="1550880"/>
            <a:ext cx="0" cy="501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4324320" y="1535040"/>
            <a:ext cx="0" cy="795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4324320" y="1665360"/>
            <a:ext cx="0" cy="104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4324320" y="1820880"/>
            <a:ext cx="0" cy="104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4324320" y="1976400"/>
            <a:ext cx="0" cy="763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 flipH="1">
            <a:off x="3645000" y="1916280"/>
            <a:ext cx="276120" cy="2761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3645000" y="1916280"/>
            <a:ext cx="276120" cy="2761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 flipH="1">
            <a:off x="5511960" y="1916280"/>
            <a:ext cx="276120" cy="2761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5511960" y="1916280"/>
            <a:ext cx="276120" cy="2761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4737240" y="1550880"/>
            <a:ext cx="16128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4737240" y="896760"/>
            <a:ext cx="0" cy="6541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6788160" y="1585800"/>
            <a:ext cx="92160" cy="1368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 flipH="1">
            <a:off x="6788160" y="1585800"/>
            <a:ext cx="92160" cy="1368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686640" y="1509840"/>
            <a:ext cx="276480" cy="276480"/>
          </a:xfrm>
          <a:custGeom>
            <a:avLst/>
            <a:gdLst/>
            <a:ahLst/>
            <a:rect l="0" t="0" r="r" b="b"/>
            <a:pathLst>
              <a:path fill="none" w="768" h="768">
                <a:moveTo>
                  <a:pt x="0" y="768"/>
                </a:moveTo>
                <a:lnTo>
                  <a:pt x="0" y="0"/>
                </a:lnTo>
                <a:lnTo>
                  <a:pt x="768" y="0"/>
                </a:lnTo>
                <a:lnTo>
                  <a:pt x="768" y="768"/>
                </a:lnTo>
                <a:lnTo>
                  <a:pt x="0" y="768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6826320" y="1785960"/>
            <a:ext cx="0" cy="266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6746760" y="2052720"/>
            <a:ext cx="158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6746760" y="1916280"/>
            <a:ext cx="795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746760" y="1916280"/>
            <a:ext cx="159120" cy="136800"/>
          </a:xfrm>
          <a:custGeom>
            <a:avLst/>
            <a:gdLst/>
            <a:ahLst/>
            <a:rect l="0" t="0" r="r" b="b"/>
            <a:pathLst>
              <a:path w="442" h="380">
                <a:moveTo>
                  <a:pt x="0" y="380"/>
                </a:moveTo>
                <a:lnTo>
                  <a:pt x="221" y="0"/>
                </a:lnTo>
                <a:lnTo>
                  <a:pt x="442" y="380"/>
                </a:lnTo>
                <a:lnTo>
                  <a:pt x="0" y="38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 flipH="1" flipV="1">
            <a:off x="6826320" y="1916280"/>
            <a:ext cx="7920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 txBox="1"/>
          <p:nvPr/>
        </p:nvSpPr>
        <p:spPr>
          <a:xfrm>
            <a:off x="249120" y="806400"/>
            <a:ext cx="23209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datum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ed by tw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target 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one datum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 txBox="1"/>
          <p:nvPr/>
        </p:nvSpPr>
        <p:spPr>
          <a:xfrm>
            <a:off x="325440" y="379728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023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S AND DATUM REFERENC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613480" y="6408720"/>
            <a:ext cx="2657520" cy="4366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658880" y="4668840"/>
            <a:ext cx="5815080" cy="1041480"/>
          </a:xfrm>
          <a:prstGeom prst="rect">
            <a:avLst/>
          </a:prstGeom>
          <a:solidFill>
            <a:srgbClr val="fc0128"/>
          </a:solidFill>
          <a:ln w="50760">
            <a:solidFill>
              <a:srgbClr val="ffffff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2476440" y="4808520"/>
            <a:ext cx="4175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t Three of 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"/>
          <p:cNvSpPr/>
          <p:nvPr/>
        </p:nvSpPr>
        <p:spPr>
          <a:xfrm flipV="1">
            <a:off x="3784680" y="4962600"/>
            <a:ext cx="0" cy="1108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3727440" y="5016600"/>
            <a:ext cx="1144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3784680" y="3537000"/>
            <a:ext cx="0" cy="1112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3727440" y="3594240"/>
            <a:ext cx="1144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2832120" y="4135320"/>
            <a:ext cx="1492560" cy="336960"/>
          </a:xfrm>
          <a:custGeom>
            <a:avLst/>
            <a:gdLst/>
            <a:ahLst/>
            <a:rect l="0" t="0" r="r" b="b"/>
            <a:pathLst>
              <a:path fill="none" w="4146" h="936">
                <a:moveTo>
                  <a:pt x="0" y="936"/>
                </a:moveTo>
                <a:lnTo>
                  <a:pt x="0" y="0"/>
                </a:lnTo>
                <a:lnTo>
                  <a:pt x="4146" y="0"/>
                </a:lnTo>
                <a:lnTo>
                  <a:pt x="4146" y="936"/>
                </a:lnTo>
                <a:lnTo>
                  <a:pt x="0" y="936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2832120" y="3122640"/>
            <a:ext cx="3518280" cy="2359440"/>
          </a:xfrm>
          <a:custGeom>
            <a:avLst/>
            <a:gdLst/>
            <a:ahLst/>
            <a:rect l="0" t="0" r="r" b="b"/>
            <a:pathLst>
              <a:path fill="none" w="9773" h="6554">
                <a:moveTo>
                  <a:pt x="0" y="6554"/>
                </a:moveTo>
                <a:lnTo>
                  <a:pt x="0" y="0"/>
                </a:lnTo>
                <a:lnTo>
                  <a:pt x="5292" y="0"/>
                </a:lnTo>
                <a:lnTo>
                  <a:pt x="5292" y="1879"/>
                </a:lnTo>
                <a:lnTo>
                  <a:pt x="5292" y="1941"/>
                </a:lnTo>
                <a:lnTo>
                  <a:pt x="5301" y="2003"/>
                </a:lnTo>
                <a:lnTo>
                  <a:pt x="5310" y="2055"/>
                </a:lnTo>
                <a:lnTo>
                  <a:pt x="5336" y="2108"/>
                </a:lnTo>
                <a:lnTo>
                  <a:pt x="5363" y="2161"/>
                </a:lnTo>
                <a:lnTo>
                  <a:pt x="5389" y="2214"/>
                </a:lnTo>
                <a:lnTo>
                  <a:pt x="5424" y="2258"/>
                </a:lnTo>
                <a:lnTo>
                  <a:pt x="5460" y="2302"/>
                </a:lnTo>
                <a:lnTo>
                  <a:pt x="5504" y="2338"/>
                </a:lnTo>
                <a:lnTo>
                  <a:pt x="5548" y="2373"/>
                </a:lnTo>
                <a:lnTo>
                  <a:pt x="5601" y="2408"/>
                </a:lnTo>
                <a:lnTo>
                  <a:pt x="5654" y="2426"/>
                </a:lnTo>
                <a:lnTo>
                  <a:pt x="5707" y="2452"/>
                </a:lnTo>
                <a:lnTo>
                  <a:pt x="5768" y="2461"/>
                </a:lnTo>
                <a:lnTo>
                  <a:pt x="5821" y="2470"/>
                </a:lnTo>
                <a:lnTo>
                  <a:pt x="5883" y="2479"/>
                </a:lnTo>
                <a:lnTo>
                  <a:pt x="9773" y="2479"/>
                </a:lnTo>
                <a:lnTo>
                  <a:pt x="9773" y="4084"/>
                </a:lnTo>
                <a:lnTo>
                  <a:pt x="5883" y="4084"/>
                </a:lnTo>
                <a:lnTo>
                  <a:pt x="5821" y="4084"/>
                </a:lnTo>
                <a:lnTo>
                  <a:pt x="5768" y="4093"/>
                </a:lnTo>
                <a:lnTo>
                  <a:pt x="5707" y="4110"/>
                </a:lnTo>
                <a:lnTo>
                  <a:pt x="5654" y="4128"/>
                </a:lnTo>
                <a:lnTo>
                  <a:pt x="5601" y="4154"/>
                </a:lnTo>
                <a:lnTo>
                  <a:pt x="5548" y="4181"/>
                </a:lnTo>
                <a:lnTo>
                  <a:pt x="5504" y="4216"/>
                </a:lnTo>
                <a:lnTo>
                  <a:pt x="5460" y="4260"/>
                </a:lnTo>
                <a:lnTo>
                  <a:pt x="5424" y="4296"/>
                </a:lnTo>
                <a:lnTo>
                  <a:pt x="5389" y="4348"/>
                </a:lnTo>
                <a:lnTo>
                  <a:pt x="5363" y="4393"/>
                </a:lnTo>
                <a:lnTo>
                  <a:pt x="5336" y="4446"/>
                </a:lnTo>
                <a:lnTo>
                  <a:pt x="5310" y="4507"/>
                </a:lnTo>
                <a:lnTo>
                  <a:pt x="5301" y="4560"/>
                </a:lnTo>
                <a:lnTo>
                  <a:pt x="5292" y="4622"/>
                </a:lnTo>
                <a:lnTo>
                  <a:pt x="5292" y="4675"/>
                </a:lnTo>
                <a:lnTo>
                  <a:pt x="5292" y="6554"/>
                </a:lnTo>
                <a:lnTo>
                  <a:pt x="0" y="6554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2832120" y="896760"/>
            <a:ext cx="3518280" cy="1155960"/>
          </a:xfrm>
          <a:custGeom>
            <a:avLst/>
            <a:gdLst/>
            <a:ahLst/>
            <a:rect l="0" t="0" r="r" b="b"/>
            <a:pathLst>
              <a:path fill="none" w="9773" h="3211">
                <a:moveTo>
                  <a:pt x="0" y="0"/>
                </a:moveTo>
                <a:lnTo>
                  <a:pt x="0" y="3211"/>
                </a:lnTo>
                <a:lnTo>
                  <a:pt x="9773" y="3211"/>
                </a:lnTo>
                <a:lnTo>
                  <a:pt x="9773" y="1817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 flipH="1">
            <a:off x="2832120" y="896760"/>
            <a:ext cx="19051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2832120" y="1535040"/>
            <a:ext cx="982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2984400" y="1535040"/>
            <a:ext cx="1018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3139920" y="1535040"/>
            <a:ext cx="1018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329256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344808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360360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375912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391464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407052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226040" y="1535040"/>
            <a:ext cx="982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4737240" y="1550880"/>
            <a:ext cx="0" cy="501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4324320" y="1535040"/>
            <a:ext cx="0" cy="795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4324320" y="1665360"/>
            <a:ext cx="0" cy="104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4324320" y="1820880"/>
            <a:ext cx="0" cy="104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4324320" y="1976400"/>
            <a:ext cx="0" cy="763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4737240" y="1550880"/>
            <a:ext cx="16128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4737240" y="896760"/>
            <a:ext cx="0" cy="6541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 txBox="1"/>
          <p:nvPr/>
        </p:nvSpPr>
        <p:spPr>
          <a:xfrm>
            <a:off x="325440" y="379728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3784680" y="3678120"/>
            <a:ext cx="0" cy="12542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1" name=""/>
          <p:cNvGrpSpPr/>
          <p:nvPr/>
        </p:nvGrpSpPr>
        <p:grpSpPr>
          <a:xfrm>
            <a:off x="5648400" y="3681360"/>
            <a:ext cx="0" cy="1266840"/>
            <a:chOff x="5648400" y="3681360"/>
            <a:chExt cx="0" cy="1266840"/>
          </a:xfrm>
        </p:grpSpPr>
        <p:sp>
          <p:nvSpPr>
            <p:cNvPr id="1562" name=""/>
            <p:cNvSpPr/>
            <p:nvPr/>
          </p:nvSpPr>
          <p:spPr>
            <a:xfrm flipV="1">
              <a:off x="5648400" y="4573440"/>
              <a:ext cx="0" cy="37476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V="1">
              <a:off x="5648400" y="4367160"/>
              <a:ext cx="0" cy="10476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7160" bIns="47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5648400" y="4160880"/>
              <a:ext cx="0" cy="10152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V="1">
              <a:off x="5648400" y="3681360"/>
              <a:ext cx="0" cy="37476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6" name=""/>
          <p:cNvSpPr/>
          <p:nvPr/>
        </p:nvSpPr>
        <p:spPr>
          <a:xfrm flipH="1" flipV="1">
            <a:off x="3645000" y="4871880"/>
            <a:ext cx="276120" cy="2797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3645000" y="4871880"/>
            <a:ext cx="276120" cy="2797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 flipH="1">
            <a:off x="3645000" y="3456000"/>
            <a:ext cx="276120" cy="2761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3645000" y="3456000"/>
            <a:ext cx="276120" cy="2761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3784680" y="3049560"/>
            <a:ext cx="0" cy="4669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3784680" y="2138400"/>
            <a:ext cx="0" cy="3236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 flipH="1">
            <a:off x="3645000" y="1916280"/>
            <a:ext cx="276120" cy="2761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3645000" y="1916280"/>
            <a:ext cx="276120" cy="2761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5511960" y="1916280"/>
            <a:ext cx="276120" cy="2761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5511960" y="1916280"/>
            <a:ext cx="276120" cy="2761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3219480" y="5157720"/>
            <a:ext cx="403200" cy="5587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6159600" y="5189400"/>
            <a:ext cx="486000" cy="483120"/>
          </a:xfrm>
          <a:custGeom>
            <a:avLst/>
            <a:gdLst/>
            <a:ahLst/>
            <a:rect l="0" t="0" r="r" b="b"/>
            <a:pathLst>
              <a:path fill="none" w="1350" h="1342">
                <a:moveTo>
                  <a:pt x="1350" y="671"/>
                </a:moveTo>
                <a:lnTo>
                  <a:pt x="1341" y="609"/>
                </a:lnTo>
                <a:lnTo>
                  <a:pt x="1332" y="547"/>
                </a:lnTo>
                <a:lnTo>
                  <a:pt x="1323" y="486"/>
                </a:lnTo>
                <a:lnTo>
                  <a:pt x="1297" y="424"/>
                </a:lnTo>
                <a:lnTo>
                  <a:pt x="1279" y="371"/>
                </a:lnTo>
                <a:lnTo>
                  <a:pt x="1244" y="317"/>
                </a:lnTo>
                <a:lnTo>
                  <a:pt x="1209" y="264"/>
                </a:lnTo>
                <a:lnTo>
                  <a:pt x="1173" y="211"/>
                </a:lnTo>
                <a:lnTo>
                  <a:pt x="1129" y="167"/>
                </a:lnTo>
                <a:lnTo>
                  <a:pt x="1076" y="132"/>
                </a:lnTo>
                <a:lnTo>
                  <a:pt x="1032" y="97"/>
                </a:lnTo>
                <a:lnTo>
                  <a:pt x="971" y="70"/>
                </a:lnTo>
                <a:lnTo>
                  <a:pt x="918" y="44"/>
                </a:lnTo>
                <a:lnTo>
                  <a:pt x="856" y="17"/>
                </a:lnTo>
                <a:lnTo>
                  <a:pt x="803" y="8"/>
                </a:lnTo>
                <a:lnTo>
                  <a:pt x="733" y="0"/>
                </a:lnTo>
                <a:lnTo>
                  <a:pt x="670" y="0"/>
                </a:lnTo>
                <a:lnTo>
                  <a:pt x="608" y="0"/>
                </a:lnTo>
                <a:lnTo>
                  <a:pt x="546" y="8"/>
                </a:lnTo>
                <a:lnTo>
                  <a:pt x="493" y="17"/>
                </a:lnTo>
                <a:lnTo>
                  <a:pt x="432" y="44"/>
                </a:lnTo>
                <a:lnTo>
                  <a:pt x="379" y="70"/>
                </a:lnTo>
                <a:lnTo>
                  <a:pt x="317" y="97"/>
                </a:lnTo>
                <a:lnTo>
                  <a:pt x="273" y="132"/>
                </a:lnTo>
                <a:lnTo>
                  <a:pt x="220" y="167"/>
                </a:lnTo>
                <a:lnTo>
                  <a:pt x="176" y="211"/>
                </a:lnTo>
                <a:lnTo>
                  <a:pt x="141" y="264"/>
                </a:lnTo>
                <a:lnTo>
                  <a:pt x="105" y="317"/>
                </a:lnTo>
                <a:lnTo>
                  <a:pt x="70" y="371"/>
                </a:lnTo>
                <a:lnTo>
                  <a:pt x="44" y="424"/>
                </a:lnTo>
                <a:lnTo>
                  <a:pt x="26" y="486"/>
                </a:lnTo>
                <a:lnTo>
                  <a:pt x="17" y="547"/>
                </a:lnTo>
                <a:lnTo>
                  <a:pt x="8" y="609"/>
                </a:lnTo>
                <a:lnTo>
                  <a:pt x="0" y="671"/>
                </a:lnTo>
                <a:lnTo>
                  <a:pt x="8" y="733"/>
                </a:lnTo>
                <a:lnTo>
                  <a:pt x="17" y="794"/>
                </a:lnTo>
                <a:lnTo>
                  <a:pt x="26" y="856"/>
                </a:lnTo>
                <a:lnTo>
                  <a:pt x="44" y="909"/>
                </a:lnTo>
                <a:lnTo>
                  <a:pt x="70" y="971"/>
                </a:lnTo>
                <a:lnTo>
                  <a:pt x="105" y="1025"/>
                </a:lnTo>
                <a:lnTo>
                  <a:pt x="141" y="1077"/>
                </a:lnTo>
                <a:lnTo>
                  <a:pt x="176" y="1122"/>
                </a:lnTo>
                <a:lnTo>
                  <a:pt x="220" y="1166"/>
                </a:lnTo>
                <a:lnTo>
                  <a:pt x="273" y="1201"/>
                </a:lnTo>
                <a:lnTo>
                  <a:pt x="317" y="1236"/>
                </a:lnTo>
                <a:lnTo>
                  <a:pt x="379" y="1272"/>
                </a:lnTo>
                <a:lnTo>
                  <a:pt x="432" y="1298"/>
                </a:lnTo>
                <a:lnTo>
                  <a:pt x="493" y="1316"/>
                </a:lnTo>
                <a:lnTo>
                  <a:pt x="546" y="1333"/>
                </a:lnTo>
                <a:lnTo>
                  <a:pt x="608" y="1342"/>
                </a:lnTo>
                <a:lnTo>
                  <a:pt x="670" y="1342"/>
                </a:lnTo>
                <a:lnTo>
                  <a:pt x="733" y="1342"/>
                </a:lnTo>
                <a:lnTo>
                  <a:pt x="803" y="1333"/>
                </a:lnTo>
                <a:lnTo>
                  <a:pt x="856" y="1316"/>
                </a:lnTo>
                <a:lnTo>
                  <a:pt x="918" y="1298"/>
                </a:lnTo>
                <a:lnTo>
                  <a:pt x="971" y="1272"/>
                </a:lnTo>
                <a:lnTo>
                  <a:pt x="1032" y="1236"/>
                </a:lnTo>
                <a:lnTo>
                  <a:pt x="1076" y="1201"/>
                </a:lnTo>
                <a:lnTo>
                  <a:pt x="1129" y="1166"/>
                </a:lnTo>
                <a:lnTo>
                  <a:pt x="1173" y="1122"/>
                </a:lnTo>
                <a:lnTo>
                  <a:pt x="1209" y="1077"/>
                </a:lnTo>
                <a:lnTo>
                  <a:pt x="1244" y="1025"/>
                </a:lnTo>
                <a:lnTo>
                  <a:pt x="1279" y="971"/>
                </a:lnTo>
                <a:lnTo>
                  <a:pt x="1297" y="909"/>
                </a:lnTo>
                <a:lnTo>
                  <a:pt x="1323" y="856"/>
                </a:lnTo>
                <a:lnTo>
                  <a:pt x="1332" y="794"/>
                </a:lnTo>
                <a:lnTo>
                  <a:pt x="1341" y="733"/>
                </a:lnTo>
                <a:lnTo>
                  <a:pt x="1350" y="671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2835360" y="5672160"/>
            <a:ext cx="486000" cy="483120"/>
          </a:xfrm>
          <a:custGeom>
            <a:avLst/>
            <a:gdLst/>
            <a:ahLst/>
            <a:rect l="0" t="0" r="r" b="b"/>
            <a:pathLst>
              <a:path fill="none" w="1350" h="1342">
                <a:moveTo>
                  <a:pt x="0" y="671"/>
                </a:moveTo>
                <a:lnTo>
                  <a:pt x="1350" y="671"/>
                </a:lnTo>
                <a:lnTo>
                  <a:pt x="1341" y="609"/>
                </a:lnTo>
                <a:lnTo>
                  <a:pt x="1332" y="547"/>
                </a:lnTo>
                <a:lnTo>
                  <a:pt x="1323" y="486"/>
                </a:lnTo>
                <a:lnTo>
                  <a:pt x="1297" y="433"/>
                </a:lnTo>
                <a:lnTo>
                  <a:pt x="1279" y="371"/>
                </a:lnTo>
                <a:lnTo>
                  <a:pt x="1244" y="317"/>
                </a:lnTo>
                <a:lnTo>
                  <a:pt x="1209" y="264"/>
                </a:lnTo>
                <a:lnTo>
                  <a:pt x="1173" y="220"/>
                </a:lnTo>
                <a:lnTo>
                  <a:pt x="1129" y="176"/>
                </a:lnTo>
                <a:lnTo>
                  <a:pt x="1076" y="132"/>
                </a:lnTo>
                <a:lnTo>
                  <a:pt x="1032" y="105"/>
                </a:lnTo>
                <a:lnTo>
                  <a:pt x="971" y="70"/>
                </a:lnTo>
                <a:lnTo>
                  <a:pt x="918" y="44"/>
                </a:lnTo>
                <a:lnTo>
                  <a:pt x="856" y="26"/>
                </a:lnTo>
                <a:lnTo>
                  <a:pt x="803" y="8"/>
                </a:lnTo>
                <a:lnTo>
                  <a:pt x="741" y="0"/>
                </a:lnTo>
                <a:lnTo>
                  <a:pt x="670" y="0"/>
                </a:lnTo>
                <a:lnTo>
                  <a:pt x="608" y="0"/>
                </a:lnTo>
                <a:lnTo>
                  <a:pt x="555" y="8"/>
                </a:lnTo>
                <a:lnTo>
                  <a:pt x="493" y="26"/>
                </a:lnTo>
                <a:lnTo>
                  <a:pt x="432" y="44"/>
                </a:lnTo>
                <a:lnTo>
                  <a:pt x="379" y="70"/>
                </a:lnTo>
                <a:lnTo>
                  <a:pt x="317" y="105"/>
                </a:lnTo>
                <a:lnTo>
                  <a:pt x="273" y="132"/>
                </a:lnTo>
                <a:lnTo>
                  <a:pt x="220" y="176"/>
                </a:lnTo>
                <a:lnTo>
                  <a:pt x="176" y="220"/>
                </a:lnTo>
                <a:lnTo>
                  <a:pt x="141" y="264"/>
                </a:lnTo>
                <a:lnTo>
                  <a:pt x="105" y="317"/>
                </a:lnTo>
                <a:lnTo>
                  <a:pt x="70" y="371"/>
                </a:lnTo>
                <a:lnTo>
                  <a:pt x="52" y="433"/>
                </a:lnTo>
                <a:lnTo>
                  <a:pt x="26" y="486"/>
                </a:lnTo>
                <a:lnTo>
                  <a:pt x="17" y="547"/>
                </a:lnTo>
                <a:lnTo>
                  <a:pt x="8" y="609"/>
                </a:lnTo>
                <a:lnTo>
                  <a:pt x="0" y="671"/>
                </a:lnTo>
                <a:lnTo>
                  <a:pt x="8" y="733"/>
                </a:lnTo>
                <a:lnTo>
                  <a:pt x="17" y="794"/>
                </a:lnTo>
                <a:lnTo>
                  <a:pt x="26" y="856"/>
                </a:lnTo>
                <a:lnTo>
                  <a:pt x="52" y="918"/>
                </a:lnTo>
                <a:lnTo>
                  <a:pt x="70" y="971"/>
                </a:lnTo>
                <a:lnTo>
                  <a:pt x="105" y="1025"/>
                </a:lnTo>
                <a:lnTo>
                  <a:pt x="141" y="1077"/>
                </a:lnTo>
                <a:lnTo>
                  <a:pt x="176" y="1130"/>
                </a:lnTo>
                <a:lnTo>
                  <a:pt x="220" y="1174"/>
                </a:lnTo>
                <a:lnTo>
                  <a:pt x="273" y="1210"/>
                </a:lnTo>
                <a:lnTo>
                  <a:pt x="317" y="1245"/>
                </a:lnTo>
                <a:lnTo>
                  <a:pt x="379" y="1272"/>
                </a:lnTo>
                <a:lnTo>
                  <a:pt x="432" y="1298"/>
                </a:lnTo>
                <a:lnTo>
                  <a:pt x="493" y="1324"/>
                </a:lnTo>
                <a:lnTo>
                  <a:pt x="555" y="1333"/>
                </a:lnTo>
                <a:lnTo>
                  <a:pt x="608" y="1342"/>
                </a:lnTo>
                <a:lnTo>
                  <a:pt x="670" y="1342"/>
                </a:lnTo>
                <a:lnTo>
                  <a:pt x="741" y="1342"/>
                </a:lnTo>
                <a:lnTo>
                  <a:pt x="803" y="1333"/>
                </a:lnTo>
                <a:lnTo>
                  <a:pt x="856" y="1324"/>
                </a:lnTo>
                <a:lnTo>
                  <a:pt x="918" y="1298"/>
                </a:lnTo>
                <a:lnTo>
                  <a:pt x="971" y="1272"/>
                </a:lnTo>
                <a:lnTo>
                  <a:pt x="1032" y="1245"/>
                </a:lnTo>
                <a:lnTo>
                  <a:pt x="1076" y="1210"/>
                </a:lnTo>
                <a:lnTo>
                  <a:pt x="1129" y="1174"/>
                </a:lnTo>
                <a:lnTo>
                  <a:pt x="1173" y="1130"/>
                </a:lnTo>
                <a:lnTo>
                  <a:pt x="1209" y="1077"/>
                </a:lnTo>
                <a:lnTo>
                  <a:pt x="1244" y="1025"/>
                </a:lnTo>
                <a:lnTo>
                  <a:pt x="1279" y="971"/>
                </a:lnTo>
                <a:lnTo>
                  <a:pt x="1297" y="918"/>
                </a:lnTo>
                <a:lnTo>
                  <a:pt x="1323" y="856"/>
                </a:lnTo>
                <a:lnTo>
                  <a:pt x="1332" y="794"/>
                </a:lnTo>
                <a:lnTo>
                  <a:pt x="1341" y="733"/>
                </a:lnTo>
                <a:lnTo>
                  <a:pt x="1350" y="671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2968560" y="5954760"/>
            <a:ext cx="921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2968560" y="5954760"/>
            <a:ext cx="921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3098880" y="5954760"/>
            <a:ext cx="92520" cy="136800"/>
          </a:xfrm>
          <a:custGeom>
            <a:avLst/>
            <a:gdLst/>
            <a:ahLst/>
            <a:rect l="0" t="0" r="r" b="b"/>
            <a:pathLst>
              <a:path fill="none" w="257" h="380">
                <a:moveTo>
                  <a:pt x="35" y="0"/>
                </a:moveTo>
                <a:lnTo>
                  <a:pt x="240" y="0"/>
                </a:lnTo>
                <a:lnTo>
                  <a:pt x="133" y="141"/>
                </a:lnTo>
                <a:lnTo>
                  <a:pt x="186" y="141"/>
                </a:lnTo>
                <a:lnTo>
                  <a:pt x="222" y="158"/>
                </a:lnTo>
                <a:lnTo>
                  <a:pt x="240" y="176"/>
                </a:lnTo>
                <a:lnTo>
                  <a:pt x="257" y="239"/>
                </a:lnTo>
                <a:lnTo>
                  <a:pt x="257" y="274"/>
                </a:lnTo>
                <a:lnTo>
                  <a:pt x="240" y="327"/>
                </a:lnTo>
                <a:lnTo>
                  <a:pt x="204" y="362"/>
                </a:lnTo>
                <a:lnTo>
                  <a:pt x="150" y="380"/>
                </a:lnTo>
                <a:lnTo>
                  <a:pt x="98" y="380"/>
                </a:lnTo>
                <a:lnTo>
                  <a:pt x="35" y="362"/>
                </a:lnTo>
                <a:lnTo>
                  <a:pt x="17" y="344"/>
                </a:lnTo>
                <a:lnTo>
                  <a:pt x="0" y="309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 flipH="1" flipV="1">
            <a:off x="2984400" y="2874960"/>
            <a:ext cx="628920" cy="5526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2558880" y="2475000"/>
            <a:ext cx="483120" cy="483120"/>
          </a:xfrm>
          <a:custGeom>
            <a:avLst/>
            <a:gdLst/>
            <a:ahLst/>
            <a:rect l="0" t="0" r="r" b="b"/>
            <a:pathLst>
              <a:path fill="none" w="1342" h="1342">
                <a:moveTo>
                  <a:pt x="1342" y="671"/>
                </a:moveTo>
                <a:lnTo>
                  <a:pt x="1342" y="609"/>
                </a:lnTo>
                <a:lnTo>
                  <a:pt x="1333" y="547"/>
                </a:lnTo>
                <a:lnTo>
                  <a:pt x="1316" y="486"/>
                </a:lnTo>
                <a:lnTo>
                  <a:pt x="1298" y="433"/>
                </a:lnTo>
                <a:lnTo>
                  <a:pt x="1272" y="371"/>
                </a:lnTo>
                <a:lnTo>
                  <a:pt x="1245" y="317"/>
                </a:lnTo>
                <a:lnTo>
                  <a:pt x="1210" y="264"/>
                </a:lnTo>
                <a:lnTo>
                  <a:pt x="1166" y="220"/>
                </a:lnTo>
                <a:lnTo>
                  <a:pt x="1130" y="176"/>
                </a:lnTo>
                <a:lnTo>
                  <a:pt x="1077" y="132"/>
                </a:lnTo>
                <a:lnTo>
                  <a:pt x="1025" y="97"/>
                </a:lnTo>
                <a:lnTo>
                  <a:pt x="971" y="70"/>
                </a:lnTo>
                <a:lnTo>
                  <a:pt x="918" y="44"/>
                </a:lnTo>
                <a:lnTo>
                  <a:pt x="856" y="26"/>
                </a:lnTo>
                <a:lnTo>
                  <a:pt x="794" y="8"/>
                </a:lnTo>
                <a:lnTo>
                  <a:pt x="733" y="0"/>
                </a:lnTo>
                <a:lnTo>
                  <a:pt x="671" y="0"/>
                </a:lnTo>
                <a:lnTo>
                  <a:pt x="609" y="0"/>
                </a:lnTo>
                <a:lnTo>
                  <a:pt x="547" y="8"/>
                </a:lnTo>
                <a:lnTo>
                  <a:pt x="486" y="26"/>
                </a:lnTo>
                <a:lnTo>
                  <a:pt x="433" y="44"/>
                </a:lnTo>
                <a:lnTo>
                  <a:pt x="371" y="70"/>
                </a:lnTo>
                <a:lnTo>
                  <a:pt x="317" y="97"/>
                </a:lnTo>
                <a:lnTo>
                  <a:pt x="264" y="132"/>
                </a:lnTo>
                <a:lnTo>
                  <a:pt x="220" y="176"/>
                </a:lnTo>
                <a:lnTo>
                  <a:pt x="176" y="220"/>
                </a:lnTo>
                <a:lnTo>
                  <a:pt x="132" y="264"/>
                </a:lnTo>
                <a:lnTo>
                  <a:pt x="97" y="317"/>
                </a:lnTo>
                <a:lnTo>
                  <a:pt x="70" y="371"/>
                </a:lnTo>
                <a:lnTo>
                  <a:pt x="44" y="433"/>
                </a:lnTo>
                <a:lnTo>
                  <a:pt x="26" y="486"/>
                </a:lnTo>
                <a:lnTo>
                  <a:pt x="8" y="547"/>
                </a:lnTo>
                <a:lnTo>
                  <a:pt x="0" y="609"/>
                </a:lnTo>
                <a:lnTo>
                  <a:pt x="0" y="671"/>
                </a:lnTo>
                <a:lnTo>
                  <a:pt x="0" y="733"/>
                </a:lnTo>
                <a:lnTo>
                  <a:pt x="8" y="794"/>
                </a:lnTo>
                <a:lnTo>
                  <a:pt x="26" y="856"/>
                </a:lnTo>
                <a:lnTo>
                  <a:pt x="44" y="918"/>
                </a:lnTo>
                <a:lnTo>
                  <a:pt x="70" y="971"/>
                </a:lnTo>
                <a:lnTo>
                  <a:pt x="97" y="1025"/>
                </a:lnTo>
                <a:lnTo>
                  <a:pt x="132" y="1077"/>
                </a:lnTo>
                <a:lnTo>
                  <a:pt x="176" y="1122"/>
                </a:lnTo>
                <a:lnTo>
                  <a:pt x="220" y="1166"/>
                </a:lnTo>
                <a:lnTo>
                  <a:pt x="264" y="1210"/>
                </a:lnTo>
                <a:lnTo>
                  <a:pt x="317" y="1245"/>
                </a:lnTo>
                <a:lnTo>
                  <a:pt x="371" y="1272"/>
                </a:lnTo>
                <a:lnTo>
                  <a:pt x="433" y="1298"/>
                </a:lnTo>
                <a:lnTo>
                  <a:pt x="486" y="1316"/>
                </a:lnTo>
                <a:lnTo>
                  <a:pt x="547" y="1333"/>
                </a:lnTo>
                <a:lnTo>
                  <a:pt x="609" y="1342"/>
                </a:lnTo>
                <a:lnTo>
                  <a:pt x="671" y="1342"/>
                </a:lnTo>
                <a:lnTo>
                  <a:pt x="733" y="1342"/>
                </a:lnTo>
                <a:lnTo>
                  <a:pt x="794" y="1333"/>
                </a:lnTo>
                <a:lnTo>
                  <a:pt x="856" y="1316"/>
                </a:lnTo>
                <a:lnTo>
                  <a:pt x="918" y="1298"/>
                </a:lnTo>
                <a:lnTo>
                  <a:pt x="971" y="1272"/>
                </a:lnTo>
                <a:lnTo>
                  <a:pt x="1025" y="1245"/>
                </a:lnTo>
                <a:lnTo>
                  <a:pt x="1077" y="1210"/>
                </a:lnTo>
                <a:lnTo>
                  <a:pt x="1130" y="1166"/>
                </a:lnTo>
                <a:lnTo>
                  <a:pt x="1166" y="1122"/>
                </a:lnTo>
                <a:lnTo>
                  <a:pt x="1210" y="1077"/>
                </a:lnTo>
                <a:lnTo>
                  <a:pt x="1245" y="1025"/>
                </a:lnTo>
                <a:lnTo>
                  <a:pt x="1272" y="971"/>
                </a:lnTo>
                <a:lnTo>
                  <a:pt x="1298" y="918"/>
                </a:lnTo>
                <a:lnTo>
                  <a:pt x="1316" y="856"/>
                </a:lnTo>
                <a:lnTo>
                  <a:pt x="1333" y="794"/>
                </a:lnTo>
                <a:lnTo>
                  <a:pt x="1342" y="733"/>
                </a:lnTo>
                <a:lnTo>
                  <a:pt x="1342" y="671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2558880" y="2716200"/>
            <a:ext cx="482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2689200" y="2757600"/>
            <a:ext cx="921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 flipH="1">
            <a:off x="2689200" y="2757600"/>
            <a:ext cx="921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2822400" y="2757600"/>
            <a:ext cx="92520" cy="136800"/>
          </a:xfrm>
          <a:custGeom>
            <a:avLst/>
            <a:gdLst/>
            <a:ahLst/>
            <a:rect l="0" t="0" r="r" b="b"/>
            <a:pathLst>
              <a:path fill="none" w="257" h="380">
                <a:moveTo>
                  <a:pt x="17" y="88"/>
                </a:moveTo>
                <a:lnTo>
                  <a:pt x="17" y="70"/>
                </a:lnTo>
                <a:lnTo>
                  <a:pt x="35" y="35"/>
                </a:lnTo>
                <a:lnTo>
                  <a:pt x="52" y="17"/>
                </a:lnTo>
                <a:lnTo>
                  <a:pt x="89" y="0"/>
                </a:lnTo>
                <a:lnTo>
                  <a:pt x="168" y="0"/>
                </a:lnTo>
                <a:lnTo>
                  <a:pt x="204" y="17"/>
                </a:lnTo>
                <a:lnTo>
                  <a:pt x="222" y="35"/>
                </a:lnTo>
                <a:lnTo>
                  <a:pt x="240" y="70"/>
                </a:lnTo>
                <a:lnTo>
                  <a:pt x="240" y="105"/>
                </a:lnTo>
                <a:lnTo>
                  <a:pt x="222" y="141"/>
                </a:lnTo>
                <a:lnTo>
                  <a:pt x="186" y="195"/>
                </a:lnTo>
                <a:lnTo>
                  <a:pt x="0" y="380"/>
                </a:lnTo>
                <a:lnTo>
                  <a:pt x="257" y="38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4946760" y="2579760"/>
            <a:ext cx="483120" cy="483120"/>
          </a:xfrm>
          <a:custGeom>
            <a:avLst/>
            <a:gdLst/>
            <a:ahLst/>
            <a:rect l="0" t="0" r="r" b="b"/>
            <a:pathLst>
              <a:path fill="none" w="1342" h="1342">
                <a:moveTo>
                  <a:pt x="1342" y="671"/>
                </a:moveTo>
                <a:lnTo>
                  <a:pt x="1342" y="609"/>
                </a:lnTo>
                <a:lnTo>
                  <a:pt x="1333" y="547"/>
                </a:lnTo>
                <a:lnTo>
                  <a:pt x="1316" y="486"/>
                </a:lnTo>
                <a:lnTo>
                  <a:pt x="1298" y="433"/>
                </a:lnTo>
                <a:lnTo>
                  <a:pt x="1272" y="371"/>
                </a:lnTo>
                <a:lnTo>
                  <a:pt x="1245" y="317"/>
                </a:lnTo>
                <a:lnTo>
                  <a:pt x="1210" y="264"/>
                </a:lnTo>
                <a:lnTo>
                  <a:pt x="1174" y="220"/>
                </a:lnTo>
                <a:lnTo>
                  <a:pt x="1130" y="176"/>
                </a:lnTo>
                <a:lnTo>
                  <a:pt x="1077" y="132"/>
                </a:lnTo>
                <a:lnTo>
                  <a:pt x="1025" y="97"/>
                </a:lnTo>
                <a:lnTo>
                  <a:pt x="971" y="70"/>
                </a:lnTo>
                <a:lnTo>
                  <a:pt x="918" y="44"/>
                </a:lnTo>
                <a:lnTo>
                  <a:pt x="856" y="26"/>
                </a:lnTo>
                <a:lnTo>
                  <a:pt x="794" y="8"/>
                </a:lnTo>
                <a:lnTo>
                  <a:pt x="733" y="0"/>
                </a:lnTo>
                <a:lnTo>
                  <a:pt x="671" y="0"/>
                </a:lnTo>
                <a:lnTo>
                  <a:pt x="609" y="0"/>
                </a:lnTo>
                <a:lnTo>
                  <a:pt x="547" y="8"/>
                </a:lnTo>
                <a:lnTo>
                  <a:pt x="486" y="26"/>
                </a:lnTo>
                <a:lnTo>
                  <a:pt x="433" y="44"/>
                </a:lnTo>
                <a:lnTo>
                  <a:pt x="371" y="70"/>
                </a:lnTo>
                <a:lnTo>
                  <a:pt x="317" y="97"/>
                </a:lnTo>
                <a:lnTo>
                  <a:pt x="264" y="132"/>
                </a:lnTo>
                <a:lnTo>
                  <a:pt x="220" y="176"/>
                </a:lnTo>
                <a:lnTo>
                  <a:pt x="176" y="220"/>
                </a:lnTo>
                <a:lnTo>
                  <a:pt x="132" y="264"/>
                </a:lnTo>
                <a:lnTo>
                  <a:pt x="105" y="317"/>
                </a:lnTo>
                <a:lnTo>
                  <a:pt x="70" y="371"/>
                </a:lnTo>
                <a:lnTo>
                  <a:pt x="44" y="433"/>
                </a:lnTo>
                <a:lnTo>
                  <a:pt x="26" y="486"/>
                </a:lnTo>
                <a:lnTo>
                  <a:pt x="8" y="547"/>
                </a:lnTo>
                <a:lnTo>
                  <a:pt x="0" y="609"/>
                </a:lnTo>
                <a:lnTo>
                  <a:pt x="0" y="671"/>
                </a:lnTo>
                <a:lnTo>
                  <a:pt x="0" y="733"/>
                </a:lnTo>
                <a:lnTo>
                  <a:pt x="8" y="794"/>
                </a:lnTo>
                <a:lnTo>
                  <a:pt x="26" y="856"/>
                </a:lnTo>
                <a:lnTo>
                  <a:pt x="44" y="918"/>
                </a:lnTo>
                <a:lnTo>
                  <a:pt x="70" y="971"/>
                </a:lnTo>
                <a:lnTo>
                  <a:pt x="105" y="1025"/>
                </a:lnTo>
                <a:lnTo>
                  <a:pt x="132" y="1077"/>
                </a:lnTo>
                <a:lnTo>
                  <a:pt x="176" y="1130"/>
                </a:lnTo>
                <a:lnTo>
                  <a:pt x="220" y="1174"/>
                </a:lnTo>
                <a:lnTo>
                  <a:pt x="264" y="1210"/>
                </a:lnTo>
                <a:lnTo>
                  <a:pt x="317" y="1245"/>
                </a:lnTo>
                <a:lnTo>
                  <a:pt x="371" y="1272"/>
                </a:lnTo>
                <a:lnTo>
                  <a:pt x="433" y="1298"/>
                </a:lnTo>
                <a:lnTo>
                  <a:pt x="486" y="1316"/>
                </a:lnTo>
                <a:lnTo>
                  <a:pt x="547" y="1333"/>
                </a:lnTo>
                <a:lnTo>
                  <a:pt x="609" y="1342"/>
                </a:lnTo>
                <a:lnTo>
                  <a:pt x="671" y="1342"/>
                </a:lnTo>
                <a:lnTo>
                  <a:pt x="733" y="1342"/>
                </a:lnTo>
                <a:lnTo>
                  <a:pt x="794" y="1333"/>
                </a:lnTo>
                <a:lnTo>
                  <a:pt x="856" y="1316"/>
                </a:lnTo>
                <a:lnTo>
                  <a:pt x="918" y="1298"/>
                </a:lnTo>
                <a:lnTo>
                  <a:pt x="971" y="1272"/>
                </a:lnTo>
                <a:lnTo>
                  <a:pt x="1025" y="1245"/>
                </a:lnTo>
                <a:lnTo>
                  <a:pt x="1077" y="1210"/>
                </a:lnTo>
                <a:lnTo>
                  <a:pt x="1130" y="1174"/>
                </a:lnTo>
                <a:lnTo>
                  <a:pt x="1174" y="1130"/>
                </a:lnTo>
                <a:lnTo>
                  <a:pt x="1210" y="1077"/>
                </a:lnTo>
                <a:lnTo>
                  <a:pt x="1245" y="1025"/>
                </a:lnTo>
                <a:lnTo>
                  <a:pt x="1272" y="971"/>
                </a:lnTo>
                <a:lnTo>
                  <a:pt x="1298" y="918"/>
                </a:lnTo>
                <a:lnTo>
                  <a:pt x="1316" y="856"/>
                </a:lnTo>
                <a:lnTo>
                  <a:pt x="1333" y="794"/>
                </a:lnTo>
                <a:lnTo>
                  <a:pt x="1342" y="733"/>
                </a:lnTo>
                <a:lnTo>
                  <a:pt x="1342" y="671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5079960" y="2862360"/>
            <a:ext cx="921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 flipH="1">
            <a:off x="5079960" y="2862360"/>
            <a:ext cx="921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5210280" y="2862360"/>
            <a:ext cx="92520" cy="136800"/>
          </a:xfrm>
          <a:custGeom>
            <a:avLst/>
            <a:gdLst/>
            <a:ahLst/>
            <a:rect l="0" t="0" r="r" b="b"/>
            <a:pathLst>
              <a:path fill="none" w="257" h="380">
                <a:moveTo>
                  <a:pt x="35" y="0"/>
                </a:moveTo>
                <a:lnTo>
                  <a:pt x="240" y="0"/>
                </a:lnTo>
                <a:lnTo>
                  <a:pt x="124" y="141"/>
                </a:lnTo>
                <a:lnTo>
                  <a:pt x="186" y="141"/>
                </a:lnTo>
                <a:lnTo>
                  <a:pt x="222" y="158"/>
                </a:lnTo>
                <a:lnTo>
                  <a:pt x="240" y="176"/>
                </a:lnTo>
                <a:lnTo>
                  <a:pt x="257" y="239"/>
                </a:lnTo>
                <a:lnTo>
                  <a:pt x="257" y="274"/>
                </a:lnTo>
                <a:lnTo>
                  <a:pt x="240" y="327"/>
                </a:lnTo>
                <a:lnTo>
                  <a:pt x="204" y="362"/>
                </a:lnTo>
                <a:lnTo>
                  <a:pt x="150" y="380"/>
                </a:lnTo>
                <a:lnTo>
                  <a:pt x="89" y="380"/>
                </a:lnTo>
                <a:lnTo>
                  <a:pt x="35" y="362"/>
                </a:lnTo>
                <a:lnTo>
                  <a:pt x="17" y="344"/>
                </a:lnTo>
                <a:lnTo>
                  <a:pt x="0" y="309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4594320" y="2862360"/>
            <a:ext cx="921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4594320" y="2862360"/>
            <a:ext cx="921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4727520" y="2862360"/>
            <a:ext cx="92520" cy="136800"/>
          </a:xfrm>
          <a:custGeom>
            <a:avLst/>
            <a:gdLst/>
            <a:ahLst/>
            <a:rect l="0" t="0" r="r" b="b"/>
            <a:pathLst>
              <a:path fill="none" w="257" h="380">
                <a:moveTo>
                  <a:pt x="17" y="88"/>
                </a:moveTo>
                <a:lnTo>
                  <a:pt x="17" y="70"/>
                </a:lnTo>
                <a:lnTo>
                  <a:pt x="35" y="35"/>
                </a:lnTo>
                <a:lnTo>
                  <a:pt x="52" y="17"/>
                </a:lnTo>
                <a:lnTo>
                  <a:pt x="89" y="0"/>
                </a:lnTo>
                <a:lnTo>
                  <a:pt x="159" y="0"/>
                </a:lnTo>
                <a:lnTo>
                  <a:pt x="196" y="17"/>
                </a:lnTo>
                <a:lnTo>
                  <a:pt x="222" y="35"/>
                </a:lnTo>
                <a:lnTo>
                  <a:pt x="240" y="70"/>
                </a:lnTo>
                <a:lnTo>
                  <a:pt x="240" y="105"/>
                </a:lnTo>
                <a:lnTo>
                  <a:pt x="222" y="141"/>
                </a:lnTo>
                <a:lnTo>
                  <a:pt x="177" y="195"/>
                </a:lnTo>
                <a:lnTo>
                  <a:pt x="0" y="380"/>
                </a:lnTo>
                <a:lnTo>
                  <a:pt x="257" y="38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4464000" y="2579760"/>
            <a:ext cx="483120" cy="483120"/>
          </a:xfrm>
          <a:custGeom>
            <a:avLst/>
            <a:gdLst/>
            <a:ahLst/>
            <a:rect l="0" t="0" r="r" b="b"/>
            <a:pathLst>
              <a:path fill="none" w="1342" h="1342">
                <a:moveTo>
                  <a:pt x="1342" y="671"/>
                </a:moveTo>
                <a:lnTo>
                  <a:pt x="1342" y="609"/>
                </a:lnTo>
                <a:lnTo>
                  <a:pt x="1333" y="547"/>
                </a:lnTo>
                <a:lnTo>
                  <a:pt x="1316" y="486"/>
                </a:lnTo>
                <a:lnTo>
                  <a:pt x="1298" y="433"/>
                </a:lnTo>
                <a:lnTo>
                  <a:pt x="1272" y="371"/>
                </a:lnTo>
                <a:lnTo>
                  <a:pt x="1245" y="317"/>
                </a:lnTo>
                <a:lnTo>
                  <a:pt x="1210" y="264"/>
                </a:lnTo>
                <a:lnTo>
                  <a:pt x="1166" y="220"/>
                </a:lnTo>
                <a:lnTo>
                  <a:pt x="1122" y="176"/>
                </a:lnTo>
                <a:lnTo>
                  <a:pt x="1077" y="132"/>
                </a:lnTo>
                <a:lnTo>
                  <a:pt x="1025" y="97"/>
                </a:lnTo>
                <a:lnTo>
                  <a:pt x="971" y="70"/>
                </a:lnTo>
                <a:lnTo>
                  <a:pt x="918" y="44"/>
                </a:lnTo>
                <a:lnTo>
                  <a:pt x="856" y="26"/>
                </a:lnTo>
                <a:lnTo>
                  <a:pt x="794" y="8"/>
                </a:lnTo>
                <a:lnTo>
                  <a:pt x="733" y="0"/>
                </a:lnTo>
                <a:lnTo>
                  <a:pt x="671" y="0"/>
                </a:lnTo>
                <a:lnTo>
                  <a:pt x="609" y="0"/>
                </a:lnTo>
                <a:lnTo>
                  <a:pt x="547" y="8"/>
                </a:lnTo>
                <a:lnTo>
                  <a:pt x="486" y="26"/>
                </a:lnTo>
                <a:lnTo>
                  <a:pt x="433" y="44"/>
                </a:lnTo>
                <a:lnTo>
                  <a:pt x="371" y="70"/>
                </a:lnTo>
                <a:lnTo>
                  <a:pt x="317" y="97"/>
                </a:lnTo>
                <a:lnTo>
                  <a:pt x="264" y="132"/>
                </a:lnTo>
                <a:lnTo>
                  <a:pt x="220" y="176"/>
                </a:lnTo>
                <a:lnTo>
                  <a:pt x="176" y="220"/>
                </a:lnTo>
                <a:lnTo>
                  <a:pt x="132" y="264"/>
                </a:lnTo>
                <a:lnTo>
                  <a:pt x="97" y="317"/>
                </a:lnTo>
                <a:lnTo>
                  <a:pt x="70" y="371"/>
                </a:lnTo>
                <a:lnTo>
                  <a:pt x="44" y="433"/>
                </a:lnTo>
                <a:lnTo>
                  <a:pt x="26" y="486"/>
                </a:lnTo>
                <a:lnTo>
                  <a:pt x="8" y="547"/>
                </a:lnTo>
                <a:lnTo>
                  <a:pt x="0" y="609"/>
                </a:lnTo>
                <a:lnTo>
                  <a:pt x="0" y="671"/>
                </a:lnTo>
                <a:lnTo>
                  <a:pt x="0" y="733"/>
                </a:lnTo>
                <a:lnTo>
                  <a:pt x="8" y="794"/>
                </a:lnTo>
                <a:lnTo>
                  <a:pt x="26" y="856"/>
                </a:lnTo>
                <a:lnTo>
                  <a:pt x="44" y="918"/>
                </a:lnTo>
                <a:lnTo>
                  <a:pt x="70" y="971"/>
                </a:lnTo>
                <a:lnTo>
                  <a:pt x="97" y="1025"/>
                </a:lnTo>
                <a:lnTo>
                  <a:pt x="132" y="1077"/>
                </a:lnTo>
                <a:lnTo>
                  <a:pt x="176" y="1130"/>
                </a:lnTo>
                <a:lnTo>
                  <a:pt x="220" y="1174"/>
                </a:lnTo>
                <a:lnTo>
                  <a:pt x="264" y="1210"/>
                </a:lnTo>
                <a:lnTo>
                  <a:pt x="317" y="1245"/>
                </a:lnTo>
                <a:lnTo>
                  <a:pt x="371" y="1272"/>
                </a:lnTo>
                <a:lnTo>
                  <a:pt x="433" y="1298"/>
                </a:lnTo>
                <a:lnTo>
                  <a:pt x="486" y="1316"/>
                </a:lnTo>
                <a:lnTo>
                  <a:pt x="547" y="1333"/>
                </a:lnTo>
                <a:lnTo>
                  <a:pt x="609" y="1342"/>
                </a:lnTo>
                <a:lnTo>
                  <a:pt x="671" y="1342"/>
                </a:lnTo>
                <a:lnTo>
                  <a:pt x="733" y="1342"/>
                </a:lnTo>
                <a:lnTo>
                  <a:pt x="794" y="1333"/>
                </a:lnTo>
                <a:lnTo>
                  <a:pt x="856" y="1316"/>
                </a:lnTo>
                <a:lnTo>
                  <a:pt x="918" y="1298"/>
                </a:lnTo>
                <a:lnTo>
                  <a:pt x="971" y="1272"/>
                </a:lnTo>
                <a:lnTo>
                  <a:pt x="1025" y="1245"/>
                </a:lnTo>
                <a:lnTo>
                  <a:pt x="1077" y="1210"/>
                </a:lnTo>
                <a:lnTo>
                  <a:pt x="1122" y="1174"/>
                </a:lnTo>
                <a:lnTo>
                  <a:pt x="1166" y="1130"/>
                </a:lnTo>
                <a:lnTo>
                  <a:pt x="1210" y="1077"/>
                </a:lnTo>
                <a:lnTo>
                  <a:pt x="1245" y="1025"/>
                </a:lnTo>
                <a:lnTo>
                  <a:pt x="1272" y="971"/>
                </a:lnTo>
                <a:lnTo>
                  <a:pt x="1298" y="918"/>
                </a:lnTo>
                <a:lnTo>
                  <a:pt x="1316" y="856"/>
                </a:lnTo>
                <a:lnTo>
                  <a:pt x="1333" y="794"/>
                </a:lnTo>
                <a:lnTo>
                  <a:pt x="1342" y="733"/>
                </a:lnTo>
                <a:lnTo>
                  <a:pt x="1342" y="671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"/>
          <p:cNvSpPr/>
          <p:nvPr/>
        </p:nvSpPr>
        <p:spPr>
          <a:xfrm>
            <a:off x="6480000" y="2862360"/>
            <a:ext cx="921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 flipH="1">
            <a:off x="6480000" y="2862360"/>
            <a:ext cx="921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6632640" y="2862360"/>
            <a:ext cx="32040" cy="136800"/>
          </a:xfrm>
          <a:custGeom>
            <a:avLst/>
            <a:gdLst/>
            <a:ahLst/>
            <a:rect l="0" t="0" r="r" b="b"/>
            <a:pathLst>
              <a:path fill="none" w="89" h="380">
                <a:moveTo>
                  <a:pt x="0" y="70"/>
                </a:moveTo>
                <a:lnTo>
                  <a:pt x="35" y="52"/>
                </a:lnTo>
                <a:lnTo>
                  <a:pt x="89" y="0"/>
                </a:lnTo>
                <a:lnTo>
                  <a:pt x="89" y="38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327720" y="2579760"/>
            <a:ext cx="486000" cy="483120"/>
          </a:xfrm>
          <a:custGeom>
            <a:avLst/>
            <a:gdLst/>
            <a:ahLst/>
            <a:rect l="0" t="0" r="r" b="b"/>
            <a:pathLst>
              <a:path fill="none" w="1350" h="1342">
                <a:moveTo>
                  <a:pt x="1350" y="671"/>
                </a:moveTo>
                <a:lnTo>
                  <a:pt x="1341" y="609"/>
                </a:lnTo>
                <a:lnTo>
                  <a:pt x="1332" y="547"/>
                </a:lnTo>
                <a:lnTo>
                  <a:pt x="1323" y="486"/>
                </a:lnTo>
                <a:lnTo>
                  <a:pt x="1297" y="433"/>
                </a:lnTo>
                <a:lnTo>
                  <a:pt x="1279" y="371"/>
                </a:lnTo>
                <a:lnTo>
                  <a:pt x="1244" y="317"/>
                </a:lnTo>
                <a:lnTo>
                  <a:pt x="1209" y="264"/>
                </a:lnTo>
                <a:lnTo>
                  <a:pt x="1173" y="220"/>
                </a:lnTo>
                <a:lnTo>
                  <a:pt x="1129" y="176"/>
                </a:lnTo>
                <a:lnTo>
                  <a:pt x="1076" y="132"/>
                </a:lnTo>
                <a:lnTo>
                  <a:pt x="1032" y="97"/>
                </a:lnTo>
                <a:lnTo>
                  <a:pt x="971" y="70"/>
                </a:lnTo>
                <a:lnTo>
                  <a:pt x="918" y="44"/>
                </a:lnTo>
                <a:lnTo>
                  <a:pt x="856" y="26"/>
                </a:lnTo>
                <a:lnTo>
                  <a:pt x="803" y="8"/>
                </a:lnTo>
                <a:lnTo>
                  <a:pt x="733" y="0"/>
                </a:lnTo>
                <a:lnTo>
                  <a:pt x="670" y="0"/>
                </a:lnTo>
                <a:lnTo>
                  <a:pt x="608" y="0"/>
                </a:lnTo>
                <a:lnTo>
                  <a:pt x="555" y="8"/>
                </a:lnTo>
                <a:lnTo>
                  <a:pt x="493" y="26"/>
                </a:lnTo>
                <a:lnTo>
                  <a:pt x="432" y="44"/>
                </a:lnTo>
                <a:lnTo>
                  <a:pt x="379" y="70"/>
                </a:lnTo>
                <a:lnTo>
                  <a:pt x="317" y="97"/>
                </a:lnTo>
                <a:lnTo>
                  <a:pt x="273" y="132"/>
                </a:lnTo>
                <a:lnTo>
                  <a:pt x="220" y="176"/>
                </a:lnTo>
                <a:lnTo>
                  <a:pt x="176" y="220"/>
                </a:lnTo>
                <a:lnTo>
                  <a:pt x="141" y="264"/>
                </a:lnTo>
                <a:lnTo>
                  <a:pt x="105" y="317"/>
                </a:lnTo>
                <a:lnTo>
                  <a:pt x="70" y="371"/>
                </a:lnTo>
                <a:lnTo>
                  <a:pt x="44" y="433"/>
                </a:lnTo>
                <a:lnTo>
                  <a:pt x="26" y="486"/>
                </a:lnTo>
                <a:lnTo>
                  <a:pt x="17" y="547"/>
                </a:lnTo>
                <a:lnTo>
                  <a:pt x="8" y="609"/>
                </a:lnTo>
                <a:lnTo>
                  <a:pt x="0" y="671"/>
                </a:lnTo>
                <a:lnTo>
                  <a:pt x="8" y="733"/>
                </a:lnTo>
                <a:lnTo>
                  <a:pt x="17" y="794"/>
                </a:lnTo>
                <a:lnTo>
                  <a:pt x="26" y="856"/>
                </a:lnTo>
                <a:lnTo>
                  <a:pt x="44" y="918"/>
                </a:lnTo>
                <a:lnTo>
                  <a:pt x="70" y="971"/>
                </a:lnTo>
                <a:lnTo>
                  <a:pt x="105" y="1025"/>
                </a:lnTo>
                <a:lnTo>
                  <a:pt x="141" y="1077"/>
                </a:lnTo>
                <a:lnTo>
                  <a:pt x="176" y="1130"/>
                </a:lnTo>
                <a:lnTo>
                  <a:pt x="220" y="1174"/>
                </a:lnTo>
                <a:lnTo>
                  <a:pt x="273" y="1210"/>
                </a:lnTo>
                <a:lnTo>
                  <a:pt x="317" y="1245"/>
                </a:lnTo>
                <a:lnTo>
                  <a:pt x="379" y="1272"/>
                </a:lnTo>
                <a:lnTo>
                  <a:pt x="432" y="1298"/>
                </a:lnTo>
                <a:lnTo>
                  <a:pt x="493" y="1316"/>
                </a:lnTo>
                <a:lnTo>
                  <a:pt x="555" y="1333"/>
                </a:lnTo>
                <a:lnTo>
                  <a:pt x="608" y="1342"/>
                </a:lnTo>
                <a:lnTo>
                  <a:pt x="670" y="1342"/>
                </a:lnTo>
                <a:lnTo>
                  <a:pt x="733" y="1342"/>
                </a:lnTo>
                <a:lnTo>
                  <a:pt x="803" y="1333"/>
                </a:lnTo>
                <a:lnTo>
                  <a:pt x="856" y="1316"/>
                </a:lnTo>
                <a:lnTo>
                  <a:pt x="918" y="1298"/>
                </a:lnTo>
                <a:lnTo>
                  <a:pt x="971" y="1272"/>
                </a:lnTo>
                <a:lnTo>
                  <a:pt x="1032" y="1245"/>
                </a:lnTo>
                <a:lnTo>
                  <a:pt x="1076" y="1210"/>
                </a:lnTo>
                <a:lnTo>
                  <a:pt x="1129" y="1174"/>
                </a:lnTo>
                <a:lnTo>
                  <a:pt x="1173" y="1130"/>
                </a:lnTo>
                <a:lnTo>
                  <a:pt x="1209" y="1077"/>
                </a:lnTo>
                <a:lnTo>
                  <a:pt x="1244" y="1025"/>
                </a:lnTo>
                <a:lnTo>
                  <a:pt x="1279" y="971"/>
                </a:lnTo>
                <a:lnTo>
                  <a:pt x="1297" y="918"/>
                </a:lnTo>
                <a:lnTo>
                  <a:pt x="1323" y="856"/>
                </a:lnTo>
                <a:lnTo>
                  <a:pt x="1332" y="794"/>
                </a:lnTo>
                <a:lnTo>
                  <a:pt x="1341" y="733"/>
                </a:lnTo>
                <a:lnTo>
                  <a:pt x="1350" y="671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6311880" y="5468760"/>
            <a:ext cx="92160" cy="140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 flipH="1">
            <a:off x="6311880" y="5468760"/>
            <a:ext cx="92160" cy="140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"/>
          <p:cNvSpPr/>
          <p:nvPr/>
        </p:nvSpPr>
        <p:spPr>
          <a:xfrm>
            <a:off x="6464160" y="5468760"/>
            <a:ext cx="32040" cy="140040"/>
          </a:xfrm>
          <a:custGeom>
            <a:avLst/>
            <a:gdLst/>
            <a:ahLst/>
            <a:rect l="0" t="0" r="r" b="b"/>
            <a:pathLst>
              <a:path fill="none" w="89" h="389">
                <a:moveTo>
                  <a:pt x="0" y="70"/>
                </a:moveTo>
                <a:lnTo>
                  <a:pt x="35" y="52"/>
                </a:lnTo>
                <a:lnTo>
                  <a:pt x="89" y="0"/>
                </a:lnTo>
                <a:lnTo>
                  <a:pt x="89" y="389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6159600" y="5430960"/>
            <a:ext cx="4856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"/>
          <p:cNvSpPr/>
          <p:nvPr/>
        </p:nvSpPr>
        <p:spPr>
          <a:xfrm>
            <a:off x="5651640" y="4824360"/>
            <a:ext cx="561960" cy="4539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6327720" y="2820960"/>
            <a:ext cx="4860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"/>
          <p:cNvSpPr/>
          <p:nvPr/>
        </p:nvSpPr>
        <p:spPr>
          <a:xfrm>
            <a:off x="4464000" y="2820960"/>
            <a:ext cx="482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3952800" y="2214720"/>
            <a:ext cx="565200" cy="4539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"/>
          <p:cNvSpPr/>
          <p:nvPr/>
        </p:nvSpPr>
        <p:spPr>
          <a:xfrm>
            <a:off x="5819760" y="2214720"/>
            <a:ext cx="561960" cy="4539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"/>
          <p:cNvSpPr/>
          <p:nvPr/>
        </p:nvSpPr>
        <p:spPr>
          <a:xfrm>
            <a:off x="4946760" y="2820960"/>
            <a:ext cx="4824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"/>
          <p:cNvSpPr/>
          <p:nvPr/>
        </p:nvSpPr>
        <p:spPr>
          <a:xfrm>
            <a:off x="6438960" y="2052720"/>
            <a:ext cx="5684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"/>
          <p:cNvSpPr/>
          <p:nvPr/>
        </p:nvSpPr>
        <p:spPr>
          <a:xfrm>
            <a:off x="6788160" y="1585800"/>
            <a:ext cx="92160" cy="1368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"/>
          <p:cNvSpPr/>
          <p:nvPr/>
        </p:nvSpPr>
        <p:spPr>
          <a:xfrm flipH="1">
            <a:off x="6788160" y="1585800"/>
            <a:ext cx="92160" cy="1368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"/>
          <p:cNvSpPr/>
          <p:nvPr/>
        </p:nvSpPr>
        <p:spPr>
          <a:xfrm>
            <a:off x="6686640" y="1509840"/>
            <a:ext cx="276480" cy="276480"/>
          </a:xfrm>
          <a:custGeom>
            <a:avLst/>
            <a:gdLst/>
            <a:ahLst/>
            <a:rect l="0" t="0" r="r" b="b"/>
            <a:pathLst>
              <a:path fill="none" w="768" h="768">
                <a:moveTo>
                  <a:pt x="0" y="768"/>
                </a:moveTo>
                <a:lnTo>
                  <a:pt x="0" y="0"/>
                </a:lnTo>
                <a:lnTo>
                  <a:pt x="768" y="0"/>
                </a:lnTo>
                <a:lnTo>
                  <a:pt x="768" y="768"/>
                </a:lnTo>
                <a:lnTo>
                  <a:pt x="0" y="768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"/>
          <p:cNvSpPr/>
          <p:nvPr/>
        </p:nvSpPr>
        <p:spPr>
          <a:xfrm flipV="1">
            <a:off x="6826320" y="1785960"/>
            <a:ext cx="0" cy="266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6746760" y="2052720"/>
            <a:ext cx="158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"/>
          <p:cNvSpPr/>
          <p:nvPr/>
        </p:nvSpPr>
        <p:spPr>
          <a:xfrm flipV="1">
            <a:off x="6746760" y="1916280"/>
            <a:ext cx="795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"/>
          <p:cNvSpPr/>
          <p:nvPr/>
        </p:nvSpPr>
        <p:spPr>
          <a:xfrm>
            <a:off x="6746760" y="1916280"/>
            <a:ext cx="159120" cy="136800"/>
          </a:xfrm>
          <a:custGeom>
            <a:avLst/>
            <a:gdLst/>
            <a:ahLst/>
            <a:rect l="0" t="0" r="r" b="b"/>
            <a:pathLst>
              <a:path w="442" h="380">
                <a:moveTo>
                  <a:pt x="0" y="380"/>
                </a:moveTo>
                <a:lnTo>
                  <a:pt x="221" y="0"/>
                </a:lnTo>
                <a:lnTo>
                  <a:pt x="442" y="380"/>
                </a:lnTo>
                <a:lnTo>
                  <a:pt x="0" y="38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"/>
          <p:cNvSpPr/>
          <p:nvPr/>
        </p:nvSpPr>
        <p:spPr>
          <a:xfrm flipH="1" flipV="1">
            <a:off x="6826320" y="1916280"/>
            <a:ext cx="7920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"/>
          <p:cNvSpPr/>
          <p:nvPr/>
        </p:nvSpPr>
        <p:spPr>
          <a:xfrm>
            <a:off x="3549600" y="4707000"/>
            <a:ext cx="124200" cy="167040"/>
          </a:xfrm>
          <a:custGeom>
            <a:avLst/>
            <a:gdLst/>
            <a:ahLst/>
            <a:rect l="0" t="0" r="r" b="b"/>
            <a:pathLst>
              <a:path w="345" h="464">
                <a:moveTo>
                  <a:pt x="146" y="0"/>
                </a:moveTo>
                <a:lnTo>
                  <a:pt x="345" y="464"/>
                </a:lnTo>
                <a:lnTo>
                  <a:pt x="0" y="92"/>
                </a:lnTo>
                <a:lnTo>
                  <a:pt x="146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"/>
          <p:cNvSpPr/>
          <p:nvPr/>
        </p:nvSpPr>
        <p:spPr>
          <a:xfrm>
            <a:off x="2192400" y="2789280"/>
            <a:ext cx="1449720" cy="2035440"/>
          </a:xfrm>
          <a:custGeom>
            <a:avLst/>
            <a:gdLst/>
            <a:ahLst/>
            <a:rect l="0" t="0" r="r" b="b"/>
            <a:pathLst>
              <a:path fill="none" w="4027" h="5654">
                <a:moveTo>
                  <a:pt x="4027" y="5654"/>
                </a:moveTo>
                <a:lnTo>
                  <a:pt x="541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"/>
          <p:cNvSpPr/>
          <p:nvPr/>
        </p:nvSpPr>
        <p:spPr>
          <a:xfrm>
            <a:off x="3603600" y="4827600"/>
            <a:ext cx="360720" cy="359280"/>
          </a:xfrm>
          <a:custGeom>
            <a:avLst/>
            <a:gdLst/>
            <a:ahLst/>
            <a:rect l="0" t="0" r="r" b="b"/>
            <a:pathLst>
              <a:path fill="none" w="1002" h="998">
                <a:moveTo>
                  <a:pt x="1002" y="495"/>
                </a:moveTo>
                <a:lnTo>
                  <a:pt x="1002" y="476"/>
                </a:lnTo>
                <a:lnTo>
                  <a:pt x="1002" y="456"/>
                </a:lnTo>
                <a:lnTo>
                  <a:pt x="1002" y="429"/>
                </a:lnTo>
                <a:lnTo>
                  <a:pt x="995" y="410"/>
                </a:lnTo>
                <a:lnTo>
                  <a:pt x="988" y="383"/>
                </a:lnTo>
                <a:lnTo>
                  <a:pt x="988" y="363"/>
                </a:lnTo>
                <a:lnTo>
                  <a:pt x="982" y="337"/>
                </a:lnTo>
                <a:lnTo>
                  <a:pt x="968" y="317"/>
                </a:lnTo>
                <a:lnTo>
                  <a:pt x="962" y="297"/>
                </a:lnTo>
                <a:lnTo>
                  <a:pt x="955" y="278"/>
                </a:lnTo>
                <a:lnTo>
                  <a:pt x="942" y="258"/>
                </a:lnTo>
                <a:lnTo>
                  <a:pt x="929" y="237"/>
                </a:lnTo>
                <a:lnTo>
                  <a:pt x="915" y="217"/>
                </a:lnTo>
                <a:lnTo>
                  <a:pt x="902" y="197"/>
                </a:lnTo>
                <a:lnTo>
                  <a:pt x="889" y="178"/>
                </a:lnTo>
                <a:lnTo>
                  <a:pt x="876" y="164"/>
                </a:lnTo>
                <a:lnTo>
                  <a:pt x="856" y="145"/>
                </a:lnTo>
                <a:lnTo>
                  <a:pt x="842" y="131"/>
                </a:lnTo>
                <a:lnTo>
                  <a:pt x="823" y="112"/>
                </a:lnTo>
                <a:lnTo>
                  <a:pt x="803" y="98"/>
                </a:lnTo>
                <a:lnTo>
                  <a:pt x="789" y="85"/>
                </a:lnTo>
                <a:lnTo>
                  <a:pt x="769" y="72"/>
                </a:lnTo>
                <a:lnTo>
                  <a:pt x="750" y="59"/>
                </a:lnTo>
                <a:lnTo>
                  <a:pt x="730" y="52"/>
                </a:lnTo>
                <a:lnTo>
                  <a:pt x="703" y="39"/>
                </a:lnTo>
                <a:lnTo>
                  <a:pt x="683" y="32"/>
                </a:lnTo>
                <a:lnTo>
                  <a:pt x="663" y="26"/>
                </a:lnTo>
                <a:lnTo>
                  <a:pt x="644" y="19"/>
                </a:lnTo>
                <a:lnTo>
                  <a:pt x="617" y="13"/>
                </a:lnTo>
                <a:lnTo>
                  <a:pt x="597" y="6"/>
                </a:lnTo>
                <a:lnTo>
                  <a:pt x="571" y="6"/>
                </a:lnTo>
                <a:lnTo>
                  <a:pt x="551" y="0"/>
                </a:lnTo>
                <a:lnTo>
                  <a:pt x="524" y="0"/>
                </a:lnTo>
                <a:lnTo>
                  <a:pt x="504" y="0"/>
                </a:lnTo>
                <a:lnTo>
                  <a:pt x="477" y="0"/>
                </a:lnTo>
                <a:lnTo>
                  <a:pt x="457" y="0"/>
                </a:lnTo>
                <a:lnTo>
                  <a:pt x="430" y="6"/>
                </a:lnTo>
                <a:lnTo>
                  <a:pt x="411" y="6"/>
                </a:lnTo>
                <a:lnTo>
                  <a:pt x="391" y="13"/>
                </a:lnTo>
                <a:lnTo>
                  <a:pt x="364" y="19"/>
                </a:lnTo>
                <a:lnTo>
                  <a:pt x="344" y="26"/>
                </a:lnTo>
                <a:lnTo>
                  <a:pt x="324" y="32"/>
                </a:lnTo>
                <a:lnTo>
                  <a:pt x="298" y="39"/>
                </a:lnTo>
                <a:lnTo>
                  <a:pt x="278" y="52"/>
                </a:lnTo>
                <a:lnTo>
                  <a:pt x="258" y="59"/>
                </a:lnTo>
                <a:lnTo>
                  <a:pt x="238" y="72"/>
                </a:lnTo>
                <a:lnTo>
                  <a:pt x="218" y="85"/>
                </a:lnTo>
                <a:lnTo>
                  <a:pt x="198" y="98"/>
                </a:lnTo>
                <a:lnTo>
                  <a:pt x="185" y="112"/>
                </a:lnTo>
                <a:lnTo>
                  <a:pt x="165" y="131"/>
                </a:lnTo>
                <a:lnTo>
                  <a:pt x="145" y="145"/>
                </a:lnTo>
                <a:lnTo>
                  <a:pt x="132" y="164"/>
                </a:lnTo>
                <a:lnTo>
                  <a:pt x="119" y="178"/>
                </a:lnTo>
                <a:lnTo>
                  <a:pt x="106" y="197"/>
                </a:lnTo>
                <a:lnTo>
                  <a:pt x="92" y="217"/>
                </a:lnTo>
                <a:lnTo>
                  <a:pt x="79" y="237"/>
                </a:lnTo>
                <a:lnTo>
                  <a:pt x="66" y="258"/>
                </a:lnTo>
                <a:lnTo>
                  <a:pt x="53" y="278"/>
                </a:lnTo>
                <a:lnTo>
                  <a:pt x="46" y="297"/>
                </a:lnTo>
                <a:lnTo>
                  <a:pt x="33" y="317"/>
                </a:lnTo>
                <a:lnTo>
                  <a:pt x="26" y="337"/>
                </a:lnTo>
                <a:lnTo>
                  <a:pt x="19" y="363"/>
                </a:lnTo>
                <a:lnTo>
                  <a:pt x="13" y="383"/>
                </a:lnTo>
                <a:lnTo>
                  <a:pt x="13" y="410"/>
                </a:lnTo>
                <a:lnTo>
                  <a:pt x="6" y="429"/>
                </a:lnTo>
                <a:lnTo>
                  <a:pt x="6" y="456"/>
                </a:lnTo>
                <a:lnTo>
                  <a:pt x="0" y="476"/>
                </a:lnTo>
                <a:lnTo>
                  <a:pt x="0" y="495"/>
                </a:lnTo>
                <a:lnTo>
                  <a:pt x="0" y="522"/>
                </a:lnTo>
                <a:lnTo>
                  <a:pt x="6" y="542"/>
                </a:lnTo>
                <a:lnTo>
                  <a:pt x="6" y="568"/>
                </a:lnTo>
                <a:lnTo>
                  <a:pt x="13" y="588"/>
                </a:lnTo>
                <a:lnTo>
                  <a:pt x="13" y="614"/>
                </a:lnTo>
                <a:lnTo>
                  <a:pt x="19" y="634"/>
                </a:lnTo>
                <a:lnTo>
                  <a:pt x="26" y="660"/>
                </a:lnTo>
                <a:lnTo>
                  <a:pt x="33" y="680"/>
                </a:lnTo>
                <a:lnTo>
                  <a:pt x="46" y="700"/>
                </a:lnTo>
                <a:lnTo>
                  <a:pt x="53" y="720"/>
                </a:lnTo>
                <a:lnTo>
                  <a:pt x="66" y="740"/>
                </a:lnTo>
                <a:lnTo>
                  <a:pt x="79" y="760"/>
                </a:lnTo>
                <a:lnTo>
                  <a:pt x="92" y="780"/>
                </a:lnTo>
                <a:lnTo>
                  <a:pt x="106" y="800"/>
                </a:lnTo>
                <a:lnTo>
                  <a:pt x="119" y="820"/>
                </a:lnTo>
                <a:lnTo>
                  <a:pt x="132" y="833"/>
                </a:lnTo>
                <a:lnTo>
                  <a:pt x="145" y="853"/>
                </a:lnTo>
                <a:lnTo>
                  <a:pt x="165" y="866"/>
                </a:lnTo>
                <a:lnTo>
                  <a:pt x="185" y="886"/>
                </a:lnTo>
                <a:lnTo>
                  <a:pt x="198" y="899"/>
                </a:lnTo>
                <a:lnTo>
                  <a:pt x="218" y="912"/>
                </a:lnTo>
                <a:lnTo>
                  <a:pt x="238" y="925"/>
                </a:lnTo>
                <a:lnTo>
                  <a:pt x="258" y="932"/>
                </a:lnTo>
                <a:lnTo>
                  <a:pt x="278" y="945"/>
                </a:lnTo>
                <a:lnTo>
                  <a:pt x="298" y="958"/>
                </a:lnTo>
                <a:lnTo>
                  <a:pt x="324" y="965"/>
                </a:lnTo>
                <a:lnTo>
                  <a:pt x="344" y="972"/>
                </a:lnTo>
                <a:lnTo>
                  <a:pt x="364" y="978"/>
                </a:lnTo>
                <a:lnTo>
                  <a:pt x="391" y="985"/>
                </a:lnTo>
                <a:lnTo>
                  <a:pt x="411" y="991"/>
                </a:lnTo>
                <a:lnTo>
                  <a:pt x="430" y="991"/>
                </a:lnTo>
                <a:lnTo>
                  <a:pt x="457" y="998"/>
                </a:lnTo>
                <a:lnTo>
                  <a:pt x="477" y="998"/>
                </a:lnTo>
                <a:lnTo>
                  <a:pt x="504" y="998"/>
                </a:lnTo>
                <a:lnTo>
                  <a:pt x="524" y="998"/>
                </a:lnTo>
                <a:lnTo>
                  <a:pt x="551" y="998"/>
                </a:lnTo>
                <a:lnTo>
                  <a:pt x="571" y="991"/>
                </a:lnTo>
                <a:lnTo>
                  <a:pt x="597" y="991"/>
                </a:lnTo>
                <a:lnTo>
                  <a:pt x="617" y="985"/>
                </a:lnTo>
                <a:lnTo>
                  <a:pt x="644" y="978"/>
                </a:lnTo>
                <a:lnTo>
                  <a:pt x="663" y="972"/>
                </a:lnTo>
                <a:lnTo>
                  <a:pt x="683" y="965"/>
                </a:lnTo>
                <a:lnTo>
                  <a:pt x="703" y="958"/>
                </a:lnTo>
                <a:lnTo>
                  <a:pt x="730" y="945"/>
                </a:lnTo>
                <a:lnTo>
                  <a:pt x="750" y="932"/>
                </a:lnTo>
                <a:lnTo>
                  <a:pt x="769" y="925"/>
                </a:lnTo>
                <a:lnTo>
                  <a:pt x="789" y="912"/>
                </a:lnTo>
                <a:lnTo>
                  <a:pt x="803" y="899"/>
                </a:lnTo>
                <a:lnTo>
                  <a:pt x="823" y="886"/>
                </a:lnTo>
                <a:lnTo>
                  <a:pt x="842" y="866"/>
                </a:lnTo>
                <a:lnTo>
                  <a:pt x="856" y="853"/>
                </a:lnTo>
                <a:lnTo>
                  <a:pt x="876" y="833"/>
                </a:lnTo>
                <a:lnTo>
                  <a:pt x="889" y="820"/>
                </a:lnTo>
                <a:lnTo>
                  <a:pt x="902" y="800"/>
                </a:lnTo>
                <a:lnTo>
                  <a:pt x="915" y="780"/>
                </a:lnTo>
                <a:lnTo>
                  <a:pt x="929" y="760"/>
                </a:lnTo>
                <a:lnTo>
                  <a:pt x="942" y="740"/>
                </a:lnTo>
                <a:lnTo>
                  <a:pt x="955" y="720"/>
                </a:lnTo>
                <a:lnTo>
                  <a:pt x="962" y="700"/>
                </a:lnTo>
                <a:lnTo>
                  <a:pt x="968" y="680"/>
                </a:lnTo>
                <a:lnTo>
                  <a:pt x="982" y="660"/>
                </a:lnTo>
                <a:lnTo>
                  <a:pt x="988" y="634"/>
                </a:lnTo>
                <a:lnTo>
                  <a:pt x="988" y="614"/>
                </a:lnTo>
                <a:lnTo>
                  <a:pt x="995" y="588"/>
                </a:lnTo>
                <a:lnTo>
                  <a:pt x="1002" y="568"/>
                </a:lnTo>
                <a:lnTo>
                  <a:pt x="1002" y="542"/>
                </a:lnTo>
                <a:lnTo>
                  <a:pt x="1002" y="522"/>
                </a:lnTo>
                <a:lnTo>
                  <a:pt x="1002" y="495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"/>
          <p:cNvSpPr/>
          <p:nvPr/>
        </p:nvSpPr>
        <p:spPr>
          <a:xfrm flipV="1">
            <a:off x="3784680" y="4962600"/>
            <a:ext cx="0" cy="1108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"/>
          <p:cNvSpPr/>
          <p:nvPr/>
        </p:nvSpPr>
        <p:spPr>
          <a:xfrm>
            <a:off x="3727440" y="5016600"/>
            <a:ext cx="1144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"/>
          <p:cNvSpPr/>
          <p:nvPr/>
        </p:nvSpPr>
        <p:spPr>
          <a:xfrm flipH="1" flipV="1">
            <a:off x="2379600" y="2786040"/>
            <a:ext cx="1239840" cy="7095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"/>
          <p:cNvSpPr/>
          <p:nvPr/>
        </p:nvSpPr>
        <p:spPr>
          <a:xfrm>
            <a:off x="3603600" y="3424320"/>
            <a:ext cx="360720" cy="359280"/>
          </a:xfrm>
          <a:custGeom>
            <a:avLst/>
            <a:gdLst/>
            <a:ahLst/>
            <a:rect l="0" t="0" r="r" b="b"/>
            <a:pathLst>
              <a:path fill="none" w="1002" h="998">
                <a:moveTo>
                  <a:pt x="1002" y="502"/>
                </a:moveTo>
                <a:lnTo>
                  <a:pt x="1002" y="476"/>
                </a:lnTo>
                <a:lnTo>
                  <a:pt x="1002" y="456"/>
                </a:lnTo>
                <a:lnTo>
                  <a:pt x="1002" y="429"/>
                </a:lnTo>
                <a:lnTo>
                  <a:pt x="995" y="410"/>
                </a:lnTo>
                <a:lnTo>
                  <a:pt x="988" y="383"/>
                </a:lnTo>
                <a:lnTo>
                  <a:pt x="988" y="363"/>
                </a:lnTo>
                <a:lnTo>
                  <a:pt x="982" y="344"/>
                </a:lnTo>
                <a:lnTo>
                  <a:pt x="968" y="317"/>
                </a:lnTo>
                <a:lnTo>
                  <a:pt x="962" y="297"/>
                </a:lnTo>
                <a:lnTo>
                  <a:pt x="955" y="278"/>
                </a:lnTo>
                <a:lnTo>
                  <a:pt x="942" y="258"/>
                </a:lnTo>
                <a:lnTo>
                  <a:pt x="929" y="237"/>
                </a:lnTo>
                <a:lnTo>
                  <a:pt x="915" y="217"/>
                </a:lnTo>
                <a:lnTo>
                  <a:pt x="902" y="197"/>
                </a:lnTo>
                <a:lnTo>
                  <a:pt x="889" y="178"/>
                </a:lnTo>
                <a:lnTo>
                  <a:pt x="876" y="164"/>
                </a:lnTo>
                <a:lnTo>
                  <a:pt x="856" y="145"/>
                </a:lnTo>
                <a:lnTo>
                  <a:pt x="842" y="131"/>
                </a:lnTo>
                <a:lnTo>
                  <a:pt x="823" y="112"/>
                </a:lnTo>
                <a:lnTo>
                  <a:pt x="803" y="99"/>
                </a:lnTo>
                <a:lnTo>
                  <a:pt x="789" y="85"/>
                </a:lnTo>
                <a:lnTo>
                  <a:pt x="769" y="72"/>
                </a:lnTo>
                <a:lnTo>
                  <a:pt x="750" y="65"/>
                </a:lnTo>
                <a:lnTo>
                  <a:pt x="730" y="52"/>
                </a:lnTo>
                <a:lnTo>
                  <a:pt x="703" y="39"/>
                </a:lnTo>
                <a:lnTo>
                  <a:pt x="683" y="32"/>
                </a:lnTo>
                <a:lnTo>
                  <a:pt x="663" y="26"/>
                </a:lnTo>
                <a:lnTo>
                  <a:pt x="644" y="19"/>
                </a:lnTo>
                <a:lnTo>
                  <a:pt x="617" y="13"/>
                </a:lnTo>
                <a:lnTo>
                  <a:pt x="597" y="6"/>
                </a:lnTo>
                <a:lnTo>
                  <a:pt x="571" y="6"/>
                </a:lnTo>
                <a:lnTo>
                  <a:pt x="551" y="0"/>
                </a:lnTo>
                <a:lnTo>
                  <a:pt x="524" y="0"/>
                </a:lnTo>
                <a:lnTo>
                  <a:pt x="504" y="0"/>
                </a:lnTo>
                <a:lnTo>
                  <a:pt x="477" y="0"/>
                </a:lnTo>
                <a:lnTo>
                  <a:pt x="457" y="0"/>
                </a:lnTo>
                <a:lnTo>
                  <a:pt x="430" y="6"/>
                </a:lnTo>
                <a:lnTo>
                  <a:pt x="411" y="6"/>
                </a:lnTo>
                <a:lnTo>
                  <a:pt x="391" y="13"/>
                </a:lnTo>
                <a:lnTo>
                  <a:pt x="364" y="19"/>
                </a:lnTo>
                <a:lnTo>
                  <a:pt x="344" y="26"/>
                </a:lnTo>
                <a:lnTo>
                  <a:pt x="324" y="32"/>
                </a:lnTo>
                <a:lnTo>
                  <a:pt x="298" y="39"/>
                </a:lnTo>
                <a:lnTo>
                  <a:pt x="278" y="52"/>
                </a:lnTo>
                <a:lnTo>
                  <a:pt x="258" y="65"/>
                </a:lnTo>
                <a:lnTo>
                  <a:pt x="238" y="72"/>
                </a:lnTo>
                <a:lnTo>
                  <a:pt x="218" y="85"/>
                </a:lnTo>
                <a:lnTo>
                  <a:pt x="198" y="99"/>
                </a:lnTo>
                <a:lnTo>
                  <a:pt x="185" y="112"/>
                </a:lnTo>
                <a:lnTo>
                  <a:pt x="165" y="131"/>
                </a:lnTo>
                <a:lnTo>
                  <a:pt x="145" y="145"/>
                </a:lnTo>
                <a:lnTo>
                  <a:pt x="132" y="164"/>
                </a:lnTo>
                <a:lnTo>
                  <a:pt x="119" y="178"/>
                </a:lnTo>
                <a:lnTo>
                  <a:pt x="106" y="197"/>
                </a:lnTo>
                <a:lnTo>
                  <a:pt x="92" y="217"/>
                </a:lnTo>
                <a:lnTo>
                  <a:pt x="79" y="237"/>
                </a:lnTo>
                <a:lnTo>
                  <a:pt x="66" y="258"/>
                </a:lnTo>
                <a:lnTo>
                  <a:pt x="53" y="278"/>
                </a:lnTo>
                <a:lnTo>
                  <a:pt x="46" y="297"/>
                </a:lnTo>
                <a:lnTo>
                  <a:pt x="33" y="317"/>
                </a:lnTo>
                <a:lnTo>
                  <a:pt x="26" y="344"/>
                </a:lnTo>
                <a:lnTo>
                  <a:pt x="19" y="363"/>
                </a:lnTo>
                <a:lnTo>
                  <a:pt x="13" y="383"/>
                </a:lnTo>
                <a:lnTo>
                  <a:pt x="13" y="410"/>
                </a:lnTo>
                <a:lnTo>
                  <a:pt x="6" y="429"/>
                </a:lnTo>
                <a:lnTo>
                  <a:pt x="6" y="456"/>
                </a:lnTo>
                <a:lnTo>
                  <a:pt x="0" y="476"/>
                </a:lnTo>
                <a:lnTo>
                  <a:pt x="0" y="502"/>
                </a:lnTo>
                <a:lnTo>
                  <a:pt x="0" y="522"/>
                </a:lnTo>
                <a:lnTo>
                  <a:pt x="6" y="548"/>
                </a:lnTo>
                <a:lnTo>
                  <a:pt x="6" y="568"/>
                </a:lnTo>
                <a:lnTo>
                  <a:pt x="13" y="588"/>
                </a:lnTo>
                <a:lnTo>
                  <a:pt x="13" y="614"/>
                </a:lnTo>
                <a:lnTo>
                  <a:pt x="19" y="634"/>
                </a:lnTo>
                <a:lnTo>
                  <a:pt x="26" y="660"/>
                </a:lnTo>
                <a:lnTo>
                  <a:pt x="33" y="680"/>
                </a:lnTo>
                <a:lnTo>
                  <a:pt x="46" y="700"/>
                </a:lnTo>
                <a:lnTo>
                  <a:pt x="53" y="720"/>
                </a:lnTo>
                <a:lnTo>
                  <a:pt x="66" y="740"/>
                </a:lnTo>
                <a:lnTo>
                  <a:pt x="79" y="760"/>
                </a:lnTo>
                <a:lnTo>
                  <a:pt x="92" y="780"/>
                </a:lnTo>
                <a:lnTo>
                  <a:pt x="106" y="800"/>
                </a:lnTo>
                <a:lnTo>
                  <a:pt x="119" y="820"/>
                </a:lnTo>
                <a:lnTo>
                  <a:pt x="132" y="833"/>
                </a:lnTo>
                <a:lnTo>
                  <a:pt x="145" y="853"/>
                </a:lnTo>
                <a:lnTo>
                  <a:pt x="165" y="866"/>
                </a:lnTo>
                <a:lnTo>
                  <a:pt x="185" y="886"/>
                </a:lnTo>
                <a:lnTo>
                  <a:pt x="198" y="899"/>
                </a:lnTo>
                <a:lnTo>
                  <a:pt x="218" y="912"/>
                </a:lnTo>
                <a:lnTo>
                  <a:pt x="238" y="925"/>
                </a:lnTo>
                <a:lnTo>
                  <a:pt x="258" y="939"/>
                </a:lnTo>
                <a:lnTo>
                  <a:pt x="278" y="945"/>
                </a:lnTo>
                <a:lnTo>
                  <a:pt x="298" y="958"/>
                </a:lnTo>
                <a:lnTo>
                  <a:pt x="324" y="965"/>
                </a:lnTo>
                <a:lnTo>
                  <a:pt x="344" y="972"/>
                </a:lnTo>
                <a:lnTo>
                  <a:pt x="364" y="978"/>
                </a:lnTo>
                <a:lnTo>
                  <a:pt x="391" y="985"/>
                </a:lnTo>
                <a:lnTo>
                  <a:pt x="411" y="991"/>
                </a:lnTo>
                <a:lnTo>
                  <a:pt x="430" y="991"/>
                </a:lnTo>
                <a:lnTo>
                  <a:pt x="457" y="998"/>
                </a:lnTo>
                <a:lnTo>
                  <a:pt x="477" y="998"/>
                </a:lnTo>
                <a:lnTo>
                  <a:pt x="504" y="998"/>
                </a:lnTo>
                <a:lnTo>
                  <a:pt x="524" y="998"/>
                </a:lnTo>
                <a:lnTo>
                  <a:pt x="551" y="998"/>
                </a:lnTo>
                <a:lnTo>
                  <a:pt x="571" y="991"/>
                </a:lnTo>
                <a:lnTo>
                  <a:pt x="597" y="991"/>
                </a:lnTo>
                <a:lnTo>
                  <a:pt x="617" y="985"/>
                </a:lnTo>
                <a:lnTo>
                  <a:pt x="644" y="978"/>
                </a:lnTo>
                <a:lnTo>
                  <a:pt x="663" y="972"/>
                </a:lnTo>
                <a:lnTo>
                  <a:pt x="683" y="965"/>
                </a:lnTo>
                <a:lnTo>
                  <a:pt x="703" y="958"/>
                </a:lnTo>
                <a:lnTo>
                  <a:pt x="730" y="945"/>
                </a:lnTo>
                <a:lnTo>
                  <a:pt x="750" y="939"/>
                </a:lnTo>
                <a:lnTo>
                  <a:pt x="769" y="925"/>
                </a:lnTo>
                <a:lnTo>
                  <a:pt x="789" y="912"/>
                </a:lnTo>
                <a:lnTo>
                  <a:pt x="803" y="899"/>
                </a:lnTo>
                <a:lnTo>
                  <a:pt x="823" y="886"/>
                </a:lnTo>
                <a:lnTo>
                  <a:pt x="842" y="866"/>
                </a:lnTo>
                <a:lnTo>
                  <a:pt x="856" y="853"/>
                </a:lnTo>
                <a:lnTo>
                  <a:pt x="876" y="833"/>
                </a:lnTo>
                <a:lnTo>
                  <a:pt x="889" y="820"/>
                </a:lnTo>
                <a:lnTo>
                  <a:pt x="902" y="800"/>
                </a:lnTo>
                <a:lnTo>
                  <a:pt x="915" y="780"/>
                </a:lnTo>
                <a:lnTo>
                  <a:pt x="929" y="760"/>
                </a:lnTo>
                <a:lnTo>
                  <a:pt x="942" y="740"/>
                </a:lnTo>
                <a:lnTo>
                  <a:pt x="955" y="720"/>
                </a:lnTo>
                <a:lnTo>
                  <a:pt x="962" y="700"/>
                </a:lnTo>
                <a:lnTo>
                  <a:pt x="968" y="680"/>
                </a:lnTo>
                <a:lnTo>
                  <a:pt x="982" y="660"/>
                </a:lnTo>
                <a:lnTo>
                  <a:pt x="988" y="634"/>
                </a:lnTo>
                <a:lnTo>
                  <a:pt x="988" y="614"/>
                </a:lnTo>
                <a:lnTo>
                  <a:pt x="995" y="588"/>
                </a:lnTo>
                <a:lnTo>
                  <a:pt x="1002" y="568"/>
                </a:lnTo>
                <a:lnTo>
                  <a:pt x="1002" y="548"/>
                </a:lnTo>
                <a:lnTo>
                  <a:pt x="1002" y="522"/>
                </a:lnTo>
                <a:lnTo>
                  <a:pt x="1002" y="502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"/>
          <p:cNvSpPr/>
          <p:nvPr/>
        </p:nvSpPr>
        <p:spPr>
          <a:xfrm flipV="1">
            <a:off x="3784680" y="3537000"/>
            <a:ext cx="0" cy="1112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"/>
          <p:cNvSpPr/>
          <p:nvPr/>
        </p:nvSpPr>
        <p:spPr>
          <a:xfrm>
            <a:off x="3727440" y="3594240"/>
            <a:ext cx="1144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8" name=""/>
          <p:cNvGrpSpPr/>
          <p:nvPr/>
        </p:nvGrpSpPr>
        <p:grpSpPr>
          <a:xfrm>
            <a:off x="3603600" y="1895400"/>
            <a:ext cx="360720" cy="919080"/>
            <a:chOff x="3603600" y="1895400"/>
            <a:chExt cx="360720" cy="919080"/>
          </a:xfrm>
        </p:grpSpPr>
        <p:sp>
          <p:nvSpPr>
            <p:cNvPr id="1629" name=""/>
            <p:cNvSpPr/>
            <p:nvPr/>
          </p:nvSpPr>
          <p:spPr>
            <a:xfrm>
              <a:off x="3603600" y="2187720"/>
              <a:ext cx="0" cy="4888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963960" y="2187720"/>
              <a:ext cx="0" cy="4842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784680" y="1895400"/>
              <a:ext cx="0" cy="3002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784680" y="2300400"/>
              <a:ext cx="0" cy="1062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784680" y="2511360"/>
              <a:ext cx="0" cy="3031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784680" y="2652840"/>
              <a:ext cx="179640" cy="57600"/>
            </a:xfrm>
            <a:custGeom>
              <a:avLst/>
              <a:gdLst/>
              <a:ahLst/>
              <a:rect l="0" t="0" r="r" b="b"/>
              <a:pathLst>
                <a:path fill="none" w="499" h="160">
                  <a:moveTo>
                    <a:pt x="0" y="0"/>
                  </a:moveTo>
                  <a:lnTo>
                    <a:pt x="6" y="13"/>
                  </a:lnTo>
                  <a:lnTo>
                    <a:pt x="19" y="33"/>
                  </a:lnTo>
                  <a:lnTo>
                    <a:pt x="33" y="47"/>
                  </a:lnTo>
                  <a:lnTo>
                    <a:pt x="39" y="60"/>
                  </a:lnTo>
                  <a:lnTo>
                    <a:pt x="53" y="73"/>
                  </a:lnTo>
                  <a:lnTo>
                    <a:pt x="66" y="86"/>
                  </a:lnTo>
                  <a:lnTo>
                    <a:pt x="86" y="100"/>
                  </a:lnTo>
                  <a:lnTo>
                    <a:pt x="99" y="106"/>
                  </a:lnTo>
                  <a:lnTo>
                    <a:pt x="112" y="121"/>
                  </a:lnTo>
                  <a:lnTo>
                    <a:pt x="132" y="127"/>
                  </a:lnTo>
                  <a:lnTo>
                    <a:pt x="146" y="134"/>
                  </a:lnTo>
                  <a:lnTo>
                    <a:pt x="166" y="140"/>
                  </a:lnTo>
                  <a:lnTo>
                    <a:pt x="186" y="147"/>
                  </a:lnTo>
                  <a:lnTo>
                    <a:pt x="199" y="154"/>
                  </a:lnTo>
                  <a:lnTo>
                    <a:pt x="219" y="154"/>
                  </a:lnTo>
                  <a:lnTo>
                    <a:pt x="239" y="160"/>
                  </a:lnTo>
                  <a:lnTo>
                    <a:pt x="260" y="160"/>
                  </a:lnTo>
                  <a:lnTo>
                    <a:pt x="273" y="160"/>
                  </a:lnTo>
                  <a:lnTo>
                    <a:pt x="293" y="160"/>
                  </a:lnTo>
                  <a:lnTo>
                    <a:pt x="313" y="154"/>
                  </a:lnTo>
                  <a:lnTo>
                    <a:pt x="333" y="154"/>
                  </a:lnTo>
                  <a:lnTo>
                    <a:pt x="346" y="147"/>
                  </a:lnTo>
                  <a:lnTo>
                    <a:pt x="366" y="140"/>
                  </a:lnTo>
                  <a:lnTo>
                    <a:pt x="386" y="134"/>
                  </a:lnTo>
                  <a:lnTo>
                    <a:pt x="399" y="127"/>
                  </a:lnTo>
                  <a:lnTo>
                    <a:pt x="419" y="121"/>
                  </a:lnTo>
                  <a:lnTo>
                    <a:pt x="432" y="113"/>
                  </a:lnTo>
                  <a:lnTo>
                    <a:pt x="446" y="100"/>
                  </a:lnTo>
                  <a:lnTo>
                    <a:pt x="459" y="86"/>
                  </a:lnTo>
                  <a:lnTo>
                    <a:pt x="479" y="73"/>
                  </a:lnTo>
                  <a:lnTo>
                    <a:pt x="492" y="67"/>
                  </a:lnTo>
                  <a:lnTo>
                    <a:pt x="499" y="53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603600" y="2583000"/>
              <a:ext cx="181440" cy="108360"/>
            </a:xfrm>
            <a:custGeom>
              <a:avLst/>
              <a:gdLst/>
              <a:ahLst/>
              <a:rect l="0" t="0" r="r" b="b"/>
              <a:pathLst>
                <a:path fill="none" w="504" h="301">
                  <a:moveTo>
                    <a:pt x="0" y="261"/>
                  </a:moveTo>
                  <a:lnTo>
                    <a:pt x="26" y="268"/>
                  </a:lnTo>
                  <a:lnTo>
                    <a:pt x="46" y="275"/>
                  </a:lnTo>
                  <a:lnTo>
                    <a:pt x="66" y="281"/>
                  </a:lnTo>
                  <a:lnTo>
                    <a:pt x="92" y="288"/>
                  </a:lnTo>
                  <a:lnTo>
                    <a:pt x="112" y="295"/>
                  </a:lnTo>
                  <a:lnTo>
                    <a:pt x="133" y="295"/>
                  </a:lnTo>
                  <a:lnTo>
                    <a:pt x="159" y="301"/>
                  </a:lnTo>
                  <a:lnTo>
                    <a:pt x="179" y="301"/>
                  </a:lnTo>
                  <a:lnTo>
                    <a:pt x="206" y="301"/>
                  </a:lnTo>
                  <a:lnTo>
                    <a:pt x="225" y="301"/>
                  </a:lnTo>
                  <a:lnTo>
                    <a:pt x="252" y="301"/>
                  </a:lnTo>
                  <a:lnTo>
                    <a:pt x="272" y="295"/>
                  </a:lnTo>
                  <a:lnTo>
                    <a:pt x="298" y="295"/>
                  </a:lnTo>
                  <a:lnTo>
                    <a:pt x="318" y="288"/>
                  </a:lnTo>
                  <a:lnTo>
                    <a:pt x="338" y="281"/>
                  </a:lnTo>
                  <a:lnTo>
                    <a:pt x="364" y="275"/>
                  </a:lnTo>
                  <a:lnTo>
                    <a:pt x="385" y="268"/>
                  </a:lnTo>
                  <a:lnTo>
                    <a:pt x="405" y="255"/>
                  </a:lnTo>
                  <a:lnTo>
                    <a:pt x="425" y="248"/>
                  </a:lnTo>
                  <a:lnTo>
                    <a:pt x="445" y="235"/>
                  </a:lnTo>
                  <a:lnTo>
                    <a:pt x="465" y="220"/>
                  </a:lnTo>
                  <a:lnTo>
                    <a:pt x="484" y="207"/>
                  </a:lnTo>
                  <a:lnTo>
                    <a:pt x="504" y="194"/>
                  </a:lnTo>
                  <a:lnTo>
                    <a:pt x="498" y="180"/>
                  </a:lnTo>
                  <a:lnTo>
                    <a:pt x="491" y="160"/>
                  </a:lnTo>
                  <a:lnTo>
                    <a:pt x="484" y="147"/>
                  </a:lnTo>
                  <a:lnTo>
                    <a:pt x="471" y="134"/>
                  </a:lnTo>
                  <a:lnTo>
                    <a:pt x="465" y="114"/>
                  </a:lnTo>
                  <a:lnTo>
                    <a:pt x="451" y="100"/>
                  </a:lnTo>
                  <a:lnTo>
                    <a:pt x="438" y="87"/>
                  </a:lnTo>
                  <a:lnTo>
                    <a:pt x="425" y="80"/>
                  </a:lnTo>
                  <a:lnTo>
                    <a:pt x="418" y="66"/>
                  </a:lnTo>
                  <a:lnTo>
                    <a:pt x="398" y="53"/>
                  </a:lnTo>
                  <a:lnTo>
                    <a:pt x="385" y="46"/>
                  </a:lnTo>
                  <a:lnTo>
                    <a:pt x="371" y="33"/>
                  </a:lnTo>
                  <a:lnTo>
                    <a:pt x="358" y="26"/>
                  </a:lnTo>
                  <a:lnTo>
                    <a:pt x="338" y="19"/>
                  </a:lnTo>
                  <a:lnTo>
                    <a:pt x="325" y="13"/>
                  </a:lnTo>
                  <a:lnTo>
                    <a:pt x="305" y="13"/>
                  </a:lnTo>
                  <a:lnTo>
                    <a:pt x="285" y="6"/>
                  </a:lnTo>
                  <a:lnTo>
                    <a:pt x="272" y="6"/>
                  </a:lnTo>
                  <a:lnTo>
                    <a:pt x="252" y="0"/>
                  </a:lnTo>
                  <a:lnTo>
                    <a:pt x="239" y="0"/>
                  </a:lnTo>
                  <a:lnTo>
                    <a:pt x="219" y="6"/>
                  </a:lnTo>
                  <a:lnTo>
                    <a:pt x="199" y="6"/>
                  </a:lnTo>
                  <a:lnTo>
                    <a:pt x="186" y="6"/>
                  </a:lnTo>
                  <a:lnTo>
                    <a:pt x="166" y="13"/>
                  </a:lnTo>
                  <a:lnTo>
                    <a:pt x="153" y="19"/>
                  </a:lnTo>
                  <a:lnTo>
                    <a:pt x="133" y="26"/>
                  </a:lnTo>
                  <a:lnTo>
                    <a:pt x="119" y="33"/>
                  </a:lnTo>
                  <a:lnTo>
                    <a:pt x="99" y="39"/>
                  </a:lnTo>
                  <a:lnTo>
                    <a:pt x="85" y="46"/>
                  </a:lnTo>
                  <a:lnTo>
                    <a:pt x="72" y="59"/>
                  </a:lnTo>
                  <a:lnTo>
                    <a:pt x="59" y="66"/>
                  </a:lnTo>
                  <a:lnTo>
                    <a:pt x="46" y="80"/>
                  </a:lnTo>
                  <a:lnTo>
                    <a:pt x="33" y="94"/>
                  </a:lnTo>
                  <a:lnTo>
                    <a:pt x="19" y="107"/>
                  </a:lnTo>
                  <a:lnTo>
                    <a:pt x="13" y="120"/>
                  </a:lnTo>
                  <a:lnTo>
                    <a:pt x="0" y="134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603600" y="2063880"/>
              <a:ext cx="360720" cy="124200"/>
            </a:xfrm>
            <a:custGeom>
              <a:avLst/>
              <a:gdLst/>
              <a:ahLst/>
              <a:rect l="0" t="0" r="r" b="b"/>
              <a:pathLst>
                <a:path fill="none" w="1002" h="345">
                  <a:moveTo>
                    <a:pt x="1002" y="345"/>
                  </a:moveTo>
                  <a:lnTo>
                    <a:pt x="995" y="326"/>
                  </a:lnTo>
                  <a:lnTo>
                    <a:pt x="988" y="306"/>
                  </a:lnTo>
                  <a:lnTo>
                    <a:pt x="975" y="286"/>
                  </a:lnTo>
                  <a:lnTo>
                    <a:pt x="962" y="258"/>
                  </a:lnTo>
                  <a:lnTo>
                    <a:pt x="948" y="239"/>
                  </a:lnTo>
                  <a:lnTo>
                    <a:pt x="935" y="219"/>
                  </a:lnTo>
                  <a:lnTo>
                    <a:pt x="922" y="206"/>
                  </a:lnTo>
                  <a:lnTo>
                    <a:pt x="909" y="186"/>
                  </a:lnTo>
                  <a:lnTo>
                    <a:pt x="889" y="166"/>
                  </a:lnTo>
                  <a:lnTo>
                    <a:pt x="876" y="146"/>
                  </a:lnTo>
                  <a:lnTo>
                    <a:pt x="856" y="133"/>
                  </a:lnTo>
                  <a:lnTo>
                    <a:pt x="836" y="120"/>
                  </a:lnTo>
                  <a:lnTo>
                    <a:pt x="816" y="106"/>
                  </a:lnTo>
                  <a:lnTo>
                    <a:pt x="796" y="93"/>
                  </a:lnTo>
                  <a:lnTo>
                    <a:pt x="776" y="79"/>
                  </a:lnTo>
                  <a:lnTo>
                    <a:pt x="756" y="66"/>
                  </a:lnTo>
                  <a:lnTo>
                    <a:pt x="736" y="52"/>
                  </a:lnTo>
                  <a:lnTo>
                    <a:pt x="716" y="46"/>
                  </a:lnTo>
                  <a:lnTo>
                    <a:pt x="690" y="33"/>
                  </a:lnTo>
                  <a:lnTo>
                    <a:pt x="670" y="26"/>
                  </a:lnTo>
                  <a:lnTo>
                    <a:pt x="644" y="19"/>
                  </a:lnTo>
                  <a:lnTo>
                    <a:pt x="624" y="13"/>
                  </a:lnTo>
                  <a:lnTo>
                    <a:pt x="597" y="13"/>
                  </a:lnTo>
                  <a:lnTo>
                    <a:pt x="577" y="6"/>
                  </a:lnTo>
                  <a:lnTo>
                    <a:pt x="551" y="6"/>
                  </a:lnTo>
                  <a:lnTo>
                    <a:pt x="531" y="0"/>
                  </a:lnTo>
                  <a:lnTo>
                    <a:pt x="504" y="0"/>
                  </a:lnTo>
                  <a:lnTo>
                    <a:pt x="477" y="0"/>
                  </a:lnTo>
                  <a:lnTo>
                    <a:pt x="457" y="6"/>
                  </a:lnTo>
                  <a:lnTo>
                    <a:pt x="430" y="6"/>
                  </a:lnTo>
                  <a:lnTo>
                    <a:pt x="411" y="13"/>
                  </a:lnTo>
                  <a:lnTo>
                    <a:pt x="384" y="13"/>
                  </a:lnTo>
                  <a:lnTo>
                    <a:pt x="364" y="19"/>
                  </a:lnTo>
                  <a:lnTo>
                    <a:pt x="338" y="26"/>
                  </a:lnTo>
                  <a:lnTo>
                    <a:pt x="318" y="33"/>
                  </a:lnTo>
                  <a:lnTo>
                    <a:pt x="291" y="46"/>
                  </a:lnTo>
                  <a:lnTo>
                    <a:pt x="271" y="52"/>
                  </a:lnTo>
                  <a:lnTo>
                    <a:pt x="251" y="66"/>
                  </a:lnTo>
                  <a:lnTo>
                    <a:pt x="232" y="79"/>
                  </a:lnTo>
                  <a:lnTo>
                    <a:pt x="205" y="93"/>
                  </a:lnTo>
                  <a:lnTo>
                    <a:pt x="192" y="106"/>
                  </a:lnTo>
                  <a:lnTo>
                    <a:pt x="172" y="120"/>
                  </a:lnTo>
                  <a:lnTo>
                    <a:pt x="152" y="133"/>
                  </a:lnTo>
                  <a:lnTo>
                    <a:pt x="132" y="146"/>
                  </a:lnTo>
                  <a:lnTo>
                    <a:pt x="119" y="166"/>
                  </a:lnTo>
                  <a:lnTo>
                    <a:pt x="99" y="186"/>
                  </a:lnTo>
                  <a:lnTo>
                    <a:pt x="86" y="206"/>
                  </a:lnTo>
                  <a:lnTo>
                    <a:pt x="72" y="219"/>
                  </a:lnTo>
                  <a:lnTo>
                    <a:pt x="59" y="239"/>
                  </a:lnTo>
                  <a:lnTo>
                    <a:pt x="46" y="258"/>
                  </a:lnTo>
                  <a:lnTo>
                    <a:pt x="33" y="286"/>
                  </a:lnTo>
                  <a:lnTo>
                    <a:pt x="19" y="306"/>
                  </a:lnTo>
                  <a:lnTo>
                    <a:pt x="13" y="326"/>
                  </a:lnTo>
                  <a:lnTo>
                    <a:pt x="0" y="345"/>
                  </a:lnTo>
                  <a:lnTo>
                    <a:pt x="1002" y="345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7" name=""/>
          <p:cNvSpPr txBox="1"/>
          <p:nvPr/>
        </p:nvSpPr>
        <p:spPr>
          <a:xfrm>
            <a:off x="625320" y="2556000"/>
            <a:ext cx="1671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Gage p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point conta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 flipH="1">
            <a:off x="1781280" y="2786040"/>
            <a:ext cx="420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"/>
          <p:cNvSpPr/>
          <p:nvPr/>
        </p:nvSpPr>
        <p:spPr>
          <a:xfrm>
            <a:off x="2832120" y="4135320"/>
            <a:ext cx="1492560" cy="336960"/>
          </a:xfrm>
          <a:custGeom>
            <a:avLst/>
            <a:gdLst/>
            <a:ahLst/>
            <a:rect l="0" t="0" r="r" b="b"/>
            <a:pathLst>
              <a:path fill="none" w="4146" h="936">
                <a:moveTo>
                  <a:pt x="0" y="936"/>
                </a:moveTo>
                <a:lnTo>
                  <a:pt x="0" y="0"/>
                </a:lnTo>
                <a:lnTo>
                  <a:pt x="4146" y="0"/>
                </a:lnTo>
                <a:lnTo>
                  <a:pt x="4146" y="936"/>
                </a:lnTo>
                <a:lnTo>
                  <a:pt x="0" y="936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2832120" y="3122640"/>
            <a:ext cx="3518280" cy="2359440"/>
          </a:xfrm>
          <a:custGeom>
            <a:avLst/>
            <a:gdLst/>
            <a:ahLst/>
            <a:rect l="0" t="0" r="r" b="b"/>
            <a:pathLst>
              <a:path fill="none" w="9773" h="6554">
                <a:moveTo>
                  <a:pt x="0" y="6554"/>
                </a:moveTo>
                <a:lnTo>
                  <a:pt x="0" y="0"/>
                </a:lnTo>
                <a:lnTo>
                  <a:pt x="5292" y="0"/>
                </a:lnTo>
                <a:lnTo>
                  <a:pt x="5292" y="1879"/>
                </a:lnTo>
                <a:lnTo>
                  <a:pt x="5292" y="1941"/>
                </a:lnTo>
                <a:lnTo>
                  <a:pt x="5301" y="2003"/>
                </a:lnTo>
                <a:lnTo>
                  <a:pt x="5310" y="2055"/>
                </a:lnTo>
                <a:lnTo>
                  <a:pt x="5336" y="2108"/>
                </a:lnTo>
                <a:lnTo>
                  <a:pt x="5363" y="2161"/>
                </a:lnTo>
                <a:lnTo>
                  <a:pt x="5389" y="2214"/>
                </a:lnTo>
                <a:lnTo>
                  <a:pt x="5424" y="2258"/>
                </a:lnTo>
                <a:lnTo>
                  <a:pt x="5460" y="2302"/>
                </a:lnTo>
                <a:lnTo>
                  <a:pt x="5504" y="2338"/>
                </a:lnTo>
                <a:lnTo>
                  <a:pt x="5548" y="2373"/>
                </a:lnTo>
                <a:lnTo>
                  <a:pt x="5601" y="2408"/>
                </a:lnTo>
                <a:lnTo>
                  <a:pt x="5654" y="2426"/>
                </a:lnTo>
                <a:lnTo>
                  <a:pt x="5707" y="2452"/>
                </a:lnTo>
                <a:lnTo>
                  <a:pt x="5768" y="2461"/>
                </a:lnTo>
                <a:lnTo>
                  <a:pt x="5821" y="2470"/>
                </a:lnTo>
                <a:lnTo>
                  <a:pt x="5883" y="2479"/>
                </a:lnTo>
                <a:lnTo>
                  <a:pt x="9773" y="2479"/>
                </a:lnTo>
                <a:lnTo>
                  <a:pt x="9773" y="4084"/>
                </a:lnTo>
                <a:lnTo>
                  <a:pt x="5883" y="4084"/>
                </a:lnTo>
                <a:lnTo>
                  <a:pt x="5821" y="4084"/>
                </a:lnTo>
                <a:lnTo>
                  <a:pt x="5768" y="4093"/>
                </a:lnTo>
                <a:lnTo>
                  <a:pt x="5707" y="4110"/>
                </a:lnTo>
                <a:lnTo>
                  <a:pt x="5654" y="4128"/>
                </a:lnTo>
                <a:lnTo>
                  <a:pt x="5601" y="4154"/>
                </a:lnTo>
                <a:lnTo>
                  <a:pt x="5548" y="4181"/>
                </a:lnTo>
                <a:lnTo>
                  <a:pt x="5504" y="4216"/>
                </a:lnTo>
                <a:lnTo>
                  <a:pt x="5460" y="4260"/>
                </a:lnTo>
                <a:lnTo>
                  <a:pt x="5424" y="4296"/>
                </a:lnTo>
                <a:lnTo>
                  <a:pt x="5389" y="4348"/>
                </a:lnTo>
                <a:lnTo>
                  <a:pt x="5363" y="4393"/>
                </a:lnTo>
                <a:lnTo>
                  <a:pt x="5336" y="4446"/>
                </a:lnTo>
                <a:lnTo>
                  <a:pt x="5310" y="4507"/>
                </a:lnTo>
                <a:lnTo>
                  <a:pt x="5301" y="4560"/>
                </a:lnTo>
                <a:lnTo>
                  <a:pt x="5292" y="4622"/>
                </a:lnTo>
                <a:lnTo>
                  <a:pt x="5292" y="4675"/>
                </a:lnTo>
                <a:lnTo>
                  <a:pt x="5292" y="6554"/>
                </a:lnTo>
                <a:lnTo>
                  <a:pt x="0" y="6554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3463920" y="3417840"/>
            <a:ext cx="178200" cy="100440"/>
          </a:xfrm>
          <a:custGeom>
            <a:avLst/>
            <a:gdLst/>
            <a:ahLst/>
            <a:rect l="0" t="0" r="r" b="b"/>
            <a:pathLst>
              <a:path w="495" h="279">
                <a:moveTo>
                  <a:pt x="209" y="0"/>
                </a:moveTo>
                <a:lnTo>
                  <a:pt x="495" y="279"/>
                </a:lnTo>
                <a:lnTo>
                  <a:pt x="0" y="55"/>
                </a:lnTo>
                <a:lnTo>
                  <a:pt x="209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49320" bIns="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2832120" y="896760"/>
            <a:ext cx="3518280" cy="1155960"/>
          </a:xfrm>
          <a:custGeom>
            <a:avLst/>
            <a:gdLst/>
            <a:ahLst/>
            <a:rect l="0" t="0" r="r" b="b"/>
            <a:pathLst>
              <a:path fill="none" w="9773" h="3211">
                <a:moveTo>
                  <a:pt x="0" y="0"/>
                </a:moveTo>
                <a:lnTo>
                  <a:pt x="0" y="3211"/>
                </a:lnTo>
                <a:lnTo>
                  <a:pt x="9773" y="3211"/>
                </a:lnTo>
                <a:lnTo>
                  <a:pt x="9773" y="1817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 flipH="1">
            <a:off x="2832120" y="896760"/>
            <a:ext cx="19051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2832120" y="1535040"/>
            <a:ext cx="982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2984400" y="1535040"/>
            <a:ext cx="1018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139920" y="1535040"/>
            <a:ext cx="1018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329256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"/>
          <p:cNvSpPr/>
          <p:nvPr/>
        </p:nvSpPr>
        <p:spPr>
          <a:xfrm>
            <a:off x="344808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360360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375912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391464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407052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4226040" y="1535040"/>
            <a:ext cx="982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4737240" y="1550880"/>
            <a:ext cx="0" cy="501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4324320" y="1535040"/>
            <a:ext cx="0" cy="795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/>
          <p:nvPr/>
        </p:nvSpPr>
        <p:spPr>
          <a:xfrm>
            <a:off x="4324320" y="1665360"/>
            <a:ext cx="0" cy="104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/>
          <p:nvPr/>
        </p:nvSpPr>
        <p:spPr>
          <a:xfrm>
            <a:off x="4324320" y="1820880"/>
            <a:ext cx="0" cy="104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/>
          <p:nvPr/>
        </p:nvSpPr>
        <p:spPr>
          <a:xfrm>
            <a:off x="4324320" y="1976400"/>
            <a:ext cx="0" cy="763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/>
          <p:nvPr/>
        </p:nvSpPr>
        <p:spPr>
          <a:xfrm>
            <a:off x="4737240" y="1550880"/>
            <a:ext cx="16128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4737240" y="896760"/>
            <a:ext cx="0" cy="6541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325440" y="379728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2" name=""/>
          <p:cNvGrpSpPr/>
          <p:nvPr/>
        </p:nvGrpSpPr>
        <p:grpSpPr>
          <a:xfrm>
            <a:off x="5648400" y="3681360"/>
            <a:ext cx="0" cy="1266840"/>
            <a:chOff x="5648400" y="3681360"/>
            <a:chExt cx="0" cy="1266840"/>
          </a:xfrm>
        </p:grpSpPr>
        <p:sp>
          <p:nvSpPr>
            <p:cNvPr id="1663" name=""/>
            <p:cNvSpPr/>
            <p:nvPr/>
          </p:nvSpPr>
          <p:spPr>
            <a:xfrm flipV="1">
              <a:off x="5648400" y="4573440"/>
              <a:ext cx="0" cy="37476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V="1">
              <a:off x="5648400" y="4367160"/>
              <a:ext cx="0" cy="10476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7160" bIns="47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V="1">
              <a:off x="5648400" y="4160880"/>
              <a:ext cx="0" cy="10152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V="1">
              <a:off x="5648400" y="3681360"/>
              <a:ext cx="0" cy="37476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7" name=""/>
          <p:cNvSpPr/>
          <p:nvPr/>
        </p:nvSpPr>
        <p:spPr>
          <a:xfrm flipH="1">
            <a:off x="5511960" y="1916280"/>
            <a:ext cx="276120" cy="2761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/>
          <p:nvPr/>
        </p:nvSpPr>
        <p:spPr>
          <a:xfrm>
            <a:off x="5511960" y="1916280"/>
            <a:ext cx="276120" cy="2761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/>
          <p:nvPr/>
        </p:nvSpPr>
        <p:spPr>
          <a:xfrm>
            <a:off x="6159600" y="5189400"/>
            <a:ext cx="486000" cy="483120"/>
          </a:xfrm>
          <a:custGeom>
            <a:avLst/>
            <a:gdLst/>
            <a:ahLst/>
            <a:rect l="0" t="0" r="r" b="b"/>
            <a:pathLst>
              <a:path fill="none" w="1350" h="1342">
                <a:moveTo>
                  <a:pt x="1350" y="671"/>
                </a:moveTo>
                <a:lnTo>
                  <a:pt x="1341" y="609"/>
                </a:lnTo>
                <a:lnTo>
                  <a:pt x="1332" y="547"/>
                </a:lnTo>
                <a:lnTo>
                  <a:pt x="1323" y="486"/>
                </a:lnTo>
                <a:lnTo>
                  <a:pt x="1297" y="424"/>
                </a:lnTo>
                <a:lnTo>
                  <a:pt x="1279" y="371"/>
                </a:lnTo>
                <a:lnTo>
                  <a:pt x="1244" y="317"/>
                </a:lnTo>
                <a:lnTo>
                  <a:pt x="1209" y="264"/>
                </a:lnTo>
                <a:lnTo>
                  <a:pt x="1173" y="211"/>
                </a:lnTo>
                <a:lnTo>
                  <a:pt x="1129" y="167"/>
                </a:lnTo>
                <a:lnTo>
                  <a:pt x="1076" y="132"/>
                </a:lnTo>
                <a:lnTo>
                  <a:pt x="1032" y="97"/>
                </a:lnTo>
                <a:lnTo>
                  <a:pt x="971" y="70"/>
                </a:lnTo>
                <a:lnTo>
                  <a:pt x="918" y="44"/>
                </a:lnTo>
                <a:lnTo>
                  <a:pt x="856" y="17"/>
                </a:lnTo>
                <a:lnTo>
                  <a:pt x="803" y="8"/>
                </a:lnTo>
                <a:lnTo>
                  <a:pt x="733" y="0"/>
                </a:lnTo>
                <a:lnTo>
                  <a:pt x="670" y="0"/>
                </a:lnTo>
                <a:lnTo>
                  <a:pt x="608" y="0"/>
                </a:lnTo>
                <a:lnTo>
                  <a:pt x="546" y="8"/>
                </a:lnTo>
                <a:lnTo>
                  <a:pt x="493" y="17"/>
                </a:lnTo>
                <a:lnTo>
                  <a:pt x="432" y="44"/>
                </a:lnTo>
                <a:lnTo>
                  <a:pt x="379" y="70"/>
                </a:lnTo>
                <a:lnTo>
                  <a:pt x="317" y="97"/>
                </a:lnTo>
                <a:lnTo>
                  <a:pt x="273" y="132"/>
                </a:lnTo>
                <a:lnTo>
                  <a:pt x="220" y="167"/>
                </a:lnTo>
                <a:lnTo>
                  <a:pt x="176" y="211"/>
                </a:lnTo>
                <a:lnTo>
                  <a:pt x="141" y="264"/>
                </a:lnTo>
                <a:lnTo>
                  <a:pt x="105" y="317"/>
                </a:lnTo>
                <a:lnTo>
                  <a:pt x="70" y="371"/>
                </a:lnTo>
                <a:lnTo>
                  <a:pt x="44" y="424"/>
                </a:lnTo>
                <a:lnTo>
                  <a:pt x="26" y="486"/>
                </a:lnTo>
                <a:lnTo>
                  <a:pt x="17" y="547"/>
                </a:lnTo>
                <a:lnTo>
                  <a:pt x="8" y="609"/>
                </a:lnTo>
                <a:lnTo>
                  <a:pt x="0" y="671"/>
                </a:lnTo>
                <a:lnTo>
                  <a:pt x="8" y="733"/>
                </a:lnTo>
                <a:lnTo>
                  <a:pt x="17" y="794"/>
                </a:lnTo>
                <a:lnTo>
                  <a:pt x="26" y="856"/>
                </a:lnTo>
                <a:lnTo>
                  <a:pt x="44" y="909"/>
                </a:lnTo>
                <a:lnTo>
                  <a:pt x="70" y="971"/>
                </a:lnTo>
                <a:lnTo>
                  <a:pt x="105" y="1025"/>
                </a:lnTo>
                <a:lnTo>
                  <a:pt x="141" y="1077"/>
                </a:lnTo>
                <a:lnTo>
                  <a:pt x="176" y="1122"/>
                </a:lnTo>
                <a:lnTo>
                  <a:pt x="220" y="1166"/>
                </a:lnTo>
                <a:lnTo>
                  <a:pt x="273" y="1201"/>
                </a:lnTo>
                <a:lnTo>
                  <a:pt x="317" y="1236"/>
                </a:lnTo>
                <a:lnTo>
                  <a:pt x="379" y="1272"/>
                </a:lnTo>
                <a:lnTo>
                  <a:pt x="432" y="1298"/>
                </a:lnTo>
                <a:lnTo>
                  <a:pt x="493" y="1316"/>
                </a:lnTo>
                <a:lnTo>
                  <a:pt x="546" y="1333"/>
                </a:lnTo>
                <a:lnTo>
                  <a:pt x="608" y="1342"/>
                </a:lnTo>
                <a:lnTo>
                  <a:pt x="670" y="1342"/>
                </a:lnTo>
                <a:lnTo>
                  <a:pt x="733" y="1342"/>
                </a:lnTo>
                <a:lnTo>
                  <a:pt x="803" y="1333"/>
                </a:lnTo>
                <a:lnTo>
                  <a:pt x="856" y="1316"/>
                </a:lnTo>
                <a:lnTo>
                  <a:pt x="918" y="1298"/>
                </a:lnTo>
                <a:lnTo>
                  <a:pt x="971" y="1272"/>
                </a:lnTo>
                <a:lnTo>
                  <a:pt x="1032" y="1236"/>
                </a:lnTo>
                <a:lnTo>
                  <a:pt x="1076" y="1201"/>
                </a:lnTo>
                <a:lnTo>
                  <a:pt x="1129" y="1166"/>
                </a:lnTo>
                <a:lnTo>
                  <a:pt x="1173" y="1122"/>
                </a:lnTo>
                <a:lnTo>
                  <a:pt x="1209" y="1077"/>
                </a:lnTo>
                <a:lnTo>
                  <a:pt x="1244" y="1025"/>
                </a:lnTo>
                <a:lnTo>
                  <a:pt x="1279" y="971"/>
                </a:lnTo>
                <a:lnTo>
                  <a:pt x="1297" y="909"/>
                </a:lnTo>
                <a:lnTo>
                  <a:pt x="1323" y="856"/>
                </a:lnTo>
                <a:lnTo>
                  <a:pt x="1332" y="794"/>
                </a:lnTo>
                <a:lnTo>
                  <a:pt x="1341" y="733"/>
                </a:lnTo>
                <a:lnTo>
                  <a:pt x="1350" y="671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"/>
          <p:cNvSpPr/>
          <p:nvPr/>
        </p:nvSpPr>
        <p:spPr>
          <a:xfrm>
            <a:off x="6480000" y="2862360"/>
            <a:ext cx="921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/>
          <p:nvPr/>
        </p:nvSpPr>
        <p:spPr>
          <a:xfrm flipH="1">
            <a:off x="6480000" y="2862360"/>
            <a:ext cx="921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"/>
          <p:cNvSpPr/>
          <p:nvPr/>
        </p:nvSpPr>
        <p:spPr>
          <a:xfrm>
            <a:off x="6632640" y="2862360"/>
            <a:ext cx="32040" cy="136800"/>
          </a:xfrm>
          <a:custGeom>
            <a:avLst/>
            <a:gdLst/>
            <a:ahLst/>
            <a:rect l="0" t="0" r="r" b="b"/>
            <a:pathLst>
              <a:path fill="none" w="89" h="380">
                <a:moveTo>
                  <a:pt x="0" y="70"/>
                </a:moveTo>
                <a:lnTo>
                  <a:pt x="35" y="52"/>
                </a:lnTo>
                <a:lnTo>
                  <a:pt x="89" y="0"/>
                </a:lnTo>
                <a:lnTo>
                  <a:pt x="89" y="38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/>
          <p:nvPr/>
        </p:nvSpPr>
        <p:spPr>
          <a:xfrm>
            <a:off x="6327720" y="2579760"/>
            <a:ext cx="486000" cy="483120"/>
          </a:xfrm>
          <a:custGeom>
            <a:avLst/>
            <a:gdLst/>
            <a:ahLst/>
            <a:rect l="0" t="0" r="r" b="b"/>
            <a:pathLst>
              <a:path fill="none" w="1350" h="1342">
                <a:moveTo>
                  <a:pt x="1350" y="671"/>
                </a:moveTo>
                <a:lnTo>
                  <a:pt x="1341" y="609"/>
                </a:lnTo>
                <a:lnTo>
                  <a:pt x="1332" y="547"/>
                </a:lnTo>
                <a:lnTo>
                  <a:pt x="1323" y="486"/>
                </a:lnTo>
                <a:lnTo>
                  <a:pt x="1297" y="433"/>
                </a:lnTo>
                <a:lnTo>
                  <a:pt x="1279" y="371"/>
                </a:lnTo>
                <a:lnTo>
                  <a:pt x="1244" y="317"/>
                </a:lnTo>
                <a:lnTo>
                  <a:pt x="1209" y="264"/>
                </a:lnTo>
                <a:lnTo>
                  <a:pt x="1173" y="220"/>
                </a:lnTo>
                <a:lnTo>
                  <a:pt x="1129" y="176"/>
                </a:lnTo>
                <a:lnTo>
                  <a:pt x="1076" y="132"/>
                </a:lnTo>
                <a:lnTo>
                  <a:pt x="1032" y="97"/>
                </a:lnTo>
                <a:lnTo>
                  <a:pt x="971" y="70"/>
                </a:lnTo>
                <a:lnTo>
                  <a:pt x="918" y="44"/>
                </a:lnTo>
                <a:lnTo>
                  <a:pt x="856" y="26"/>
                </a:lnTo>
                <a:lnTo>
                  <a:pt x="803" y="8"/>
                </a:lnTo>
                <a:lnTo>
                  <a:pt x="733" y="0"/>
                </a:lnTo>
                <a:lnTo>
                  <a:pt x="670" y="0"/>
                </a:lnTo>
                <a:lnTo>
                  <a:pt x="608" y="0"/>
                </a:lnTo>
                <a:lnTo>
                  <a:pt x="555" y="8"/>
                </a:lnTo>
                <a:lnTo>
                  <a:pt x="493" y="26"/>
                </a:lnTo>
                <a:lnTo>
                  <a:pt x="432" y="44"/>
                </a:lnTo>
                <a:lnTo>
                  <a:pt x="379" y="70"/>
                </a:lnTo>
                <a:lnTo>
                  <a:pt x="317" y="97"/>
                </a:lnTo>
                <a:lnTo>
                  <a:pt x="273" y="132"/>
                </a:lnTo>
                <a:lnTo>
                  <a:pt x="220" y="176"/>
                </a:lnTo>
                <a:lnTo>
                  <a:pt x="176" y="220"/>
                </a:lnTo>
                <a:lnTo>
                  <a:pt x="141" y="264"/>
                </a:lnTo>
                <a:lnTo>
                  <a:pt x="105" y="317"/>
                </a:lnTo>
                <a:lnTo>
                  <a:pt x="70" y="371"/>
                </a:lnTo>
                <a:lnTo>
                  <a:pt x="44" y="433"/>
                </a:lnTo>
                <a:lnTo>
                  <a:pt x="26" y="486"/>
                </a:lnTo>
                <a:lnTo>
                  <a:pt x="17" y="547"/>
                </a:lnTo>
                <a:lnTo>
                  <a:pt x="8" y="609"/>
                </a:lnTo>
                <a:lnTo>
                  <a:pt x="0" y="671"/>
                </a:lnTo>
                <a:lnTo>
                  <a:pt x="8" y="733"/>
                </a:lnTo>
                <a:lnTo>
                  <a:pt x="17" y="794"/>
                </a:lnTo>
                <a:lnTo>
                  <a:pt x="26" y="856"/>
                </a:lnTo>
                <a:lnTo>
                  <a:pt x="44" y="918"/>
                </a:lnTo>
                <a:lnTo>
                  <a:pt x="70" y="971"/>
                </a:lnTo>
                <a:lnTo>
                  <a:pt x="105" y="1025"/>
                </a:lnTo>
                <a:lnTo>
                  <a:pt x="141" y="1077"/>
                </a:lnTo>
                <a:lnTo>
                  <a:pt x="176" y="1130"/>
                </a:lnTo>
                <a:lnTo>
                  <a:pt x="220" y="1174"/>
                </a:lnTo>
                <a:lnTo>
                  <a:pt x="273" y="1210"/>
                </a:lnTo>
                <a:lnTo>
                  <a:pt x="317" y="1245"/>
                </a:lnTo>
                <a:lnTo>
                  <a:pt x="379" y="1272"/>
                </a:lnTo>
                <a:lnTo>
                  <a:pt x="432" y="1298"/>
                </a:lnTo>
                <a:lnTo>
                  <a:pt x="493" y="1316"/>
                </a:lnTo>
                <a:lnTo>
                  <a:pt x="555" y="1333"/>
                </a:lnTo>
                <a:lnTo>
                  <a:pt x="608" y="1342"/>
                </a:lnTo>
                <a:lnTo>
                  <a:pt x="670" y="1342"/>
                </a:lnTo>
                <a:lnTo>
                  <a:pt x="733" y="1342"/>
                </a:lnTo>
                <a:lnTo>
                  <a:pt x="803" y="1333"/>
                </a:lnTo>
                <a:lnTo>
                  <a:pt x="856" y="1316"/>
                </a:lnTo>
                <a:lnTo>
                  <a:pt x="918" y="1298"/>
                </a:lnTo>
                <a:lnTo>
                  <a:pt x="971" y="1272"/>
                </a:lnTo>
                <a:lnTo>
                  <a:pt x="1032" y="1245"/>
                </a:lnTo>
                <a:lnTo>
                  <a:pt x="1076" y="1210"/>
                </a:lnTo>
                <a:lnTo>
                  <a:pt x="1129" y="1174"/>
                </a:lnTo>
                <a:lnTo>
                  <a:pt x="1173" y="1130"/>
                </a:lnTo>
                <a:lnTo>
                  <a:pt x="1209" y="1077"/>
                </a:lnTo>
                <a:lnTo>
                  <a:pt x="1244" y="1025"/>
                </a:lnTo>
                <a:lnTo>
                  <a:pt x="1279" y="971"/>
                </a:lnTo>
                <a:lnTo>
                  <a:pt x="1297" y="918"/>
                </a:lnTo>
                <a:lnTo>
                  <a:pt x="1323" y="856"/>
                </a:lnTo>
                <a:lnTo>
                  <a:pt x="1332" y="794"/>
                </a:lnTo>
                <a:lnTo>
                  <a:pt x="1341" y="733"/>
                </a:lnTo>
                <a:lnTo>
                  <a:pt x="1350" y="671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6311880" y="5468760"/>
            <a:ext cx="92160" cy="140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/>
          <p:nvPr/>
        </p:nvSpPr>
        <p:spPr>
          <a:xfrm flipH="1">
            <a:off x="6311880" y="5468760"/>
            <a:ext cx="92160" cy="140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"/>
          <p:cNvSpPr/>
          <p:nvPr/>
        </p:nvSpPr>
        <p:spPr>
          <a:xfrm>
            <a:off x="6464160" y="5468760"/>
            <a:ext cx="32040" cy="140040"/>
          </a:xfrm>
          <a:custGeom>
            <a:avLst/>
            <a:gdLst/>
            <a:ahLst/>
            <a:rect l="0" t="0" r="r" b="b"/>
            <a:pathLst>
              <a:path fill="none" w="89" h="389">
                <a:moveTo>
                  <a:pt x="0" y="70"/>
                </a:moveTo>
                <a:lnTo>
                  <a:pt x="35" y="52"/>
                </a:lnTo>
                <a:lnTo>
                  <a:pt x="89" y="0"/>
                </a:lnTo>
                <a:lnTo>
                  <a:pt x="89" y="389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"/>
          <p:cNvSpPr/>
          <p:nvPr/>
        </p:nvSpPr>
        <p:spPr>
          <a:xfrm>
            <a:off x="6159600" y="5430960"/>
            <a:ext cx="4856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"/>
          <p:cNvSpPr/>
          <p:nvPr/>
        </p:nvSpPr>
        <p:spPr>
          <a:xfrm>
            <a:off x="5651640" y="4824360"/>
            <a:ext cx="561960" cy="4539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"/>
          <p:cNvSpPr/>
          <p:nvPr/>
        </p:nvSpPr>
        <p:spPr>
          <a:xfrm>
            <a:off x="6327720" y="2820960"/>
            <a:ext cx="4860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/>
          <p:nvPr/>
        </p:nvSpPr>
        <p:spPr>
          <a:xfrm>
            <a:off x="5819760" y="2214720"/>
            <a:ext cx="561960" cy="4539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"/>
          <p:cNvSpPr/>
          <p:nvPr/>
        </p:nvSpPr>
        <p:spPr>
          <a:xfrm>
            <a:off x="6438960" y="2052720"/>
            <a:ext cx="5684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"/>
          <p:cNvSpPr/>
          <p:nvPr/>
        </p:nvSpPr>
        <p:spPr>
          <a:xfrm>
            <a:off x="6788160" y="1585800"/>
            <a:ext cx="92160" cy="1368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6788160" y="1585800"/>
            <a:ext cx="92160" cy="1368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6686640" y="1509840"/>
            <a:ext cx="276480" cy="276480"/>
          </a:xfrm>
          <a:custGeom>
            <a:avLst/>
            <a:gdLst/>
            <a:ahLst/>
            <a:rect l="0" t="0" r="r" b="b"/>
            <a:pathLst>
              <a:path fill="none" w="768" h="768">
                <a:moveTo>
                  <a:pt x="0" y="768"/>
                </a:moveTo>
                <a:lnTo>
                  <a:pt x="0" y="0"/>
                </a:lnTo>
                <a:lnTo>
                  <a:pt x="768" y="0"/>
                </a:lnTo>
                <a:lnTo>
                  <a:pt x="768" y="768"/>
                </a:lnTo>
                <a:lnTo>
                  <a:pt x="0" y="768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6826320" y="1785960"/>
            <a:ext cx="0" cy="266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"/>
          <p:cNvSpPr/>
          <p:nvPr/>
        </p:nvSpPr>
        <p:spPr>
          <a:xfrm>
            <a:off x="6746760" y="2052720"/>
            <a:ext cx="158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 flipV="1">
            <a:off x="6746760" y="1916280"/>
            <a:ext cx="795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6746760" y="1916280"/>
            <a:ext cx="159120" cy="136800"/>
          </a:xfrm>
          <a:custGeom>
            <a:avLst/>
            <a:gdLst/>
            <a:ahLst/>
            <a:rect l="0" t="0" r="r" b="b"/>
            <a:pathLst>
              <a:path w="442" h="380">
                <a:moveTo>
                  <a:pt x="0" y="380"/>
                </a:moveTo>
                <a:lnTo>
                  <a:pt x="221" y="0"/>
                </a:lnTo>
                <a:lnTo>
                  <a:pt x="442" y="380"/>
                </a:lnTo>
                <a:lnTo>
                  <a:pt x="0" y="38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 flipH="1" flipV="1">
            <a:off x="6826320" y="1916280"/>
            <a:ext cx="7920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"/>
          <p:cNvSpPr/>
          <p:nvPr/>
        </p:nvSpPr>
        <p:spPr>
          <a:xfrm>
            <a:off x="3549600" y="4707000"/>
            <a:ext cx="124200" cy="167040"/>
          </a:xfrm>
          <a:custGeom>
            <a:avLst/>
            <a:gdLst/>
            <a:ahLst/>
            <a:rect l="0" t="0" r="r" b="b"/>
            <a:pathLst>
              <a:path w="345" h="464">
                <a:moveTo>
                  <a:pt x="146" y="0"/>
                </a:moveTo>
                <a:lnTo>
                  <a:pt x="345" y="464"/>
                </a:lnTo>
                <a:lnTo>
                  <a:pt x="0" y="92"/>
                </a:lnTo>
                <a:lnTo>
                  <a:pt x="146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2192400" y="2789280"/>
            <a:ext cx="1449720" cy="2035440"/>
          </a:xfrm>
          <a:custGeom>
            <a:avLst/>
            <a:gdLst/>
            <a:ahLst/>
            <a:rect l="0" t="0" r="r" b="b"/>
            <a:pathLst>
              <a:path fill="none" w="4027" h="5654">
                <a:moveTo>
                  <a:pt x="4027" y="5654"/>
                </a:moveTo>
                <a:lnTo>
                  <a:pt x="541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3603600" y="4827600"/>
            <a:ext cx="360720" cy="359280"/>
          </a:xfrm>
          <a:custGeom>
            <a:avLst/>
            <a:gdLst/>
            <a:ahLst/>
            <a:rect l="0" t="0" r="r" b="b"/>
            <a:pathLst>
              <a:path fill="none" w="1002" h="998">
                <a:moveTo>
                  <a:pt x="1002" y="495"/>
                </a:moveTo>
                <a:lnTo>
                  <a:pt x="1002" y="476"/>
                </a:lnTo>
                <a:lnTo>
                  <a:pt x="1002" y="456"/>
                </a:lnTo>
                <a:lnTo>
                  <a:pt x="1002" y="429"/>
                </a:lnTo>
                <a:lnTo>
                  <a:pt x="995" y="410"/>
                </a:lnTo>
                <a:lnTo>
                  <a:pt x="988" y="383"/>
                </a:lnTo>
                <a:lnTo>
                  <a:pt x="988" y="363"/>
                </a:lnTo>
                <a:lnTo>
                  <a:pt x="982" y="337"/>
                </a:lnTo>
                <a:lnTo>
                  <a:pt x="968" y="317"/>
                </a:lnTo>
                <a:lnTo>
                  <a:pt x="962" y="297"/>
                </a:lnTo>
                <a:lnTo>
                  <a:pt x="955" y="278"/>
                </a:lnTo>
                <a:lnTo>
                  <a:pt x="942" y="258"/>
                </a:lnTo>
                <a:lnTo>
                  <a:pt x="929" y="237"/>
                </a:lnTo>
                <a:lnTo>
                  <a:pt x="915" y="217"/>
                </a:lnTo>
                <a:lnTo>
                  <a:pt x="902" y="197"/>
                </a:lnTo>
                <a:lnTo>
                  <a:pt x="889" y="178"/>
                </a:lnTo>
                <a:lnTo>
                  <a:pt x="876" y="164"/>
                </a:lnTo>
                <a:lnTo>
                  <a:pt x="856" y="145"/>
                </a:lnTo>
                <a:lnTo>
                  <a:pt x="842" y="131"/>
                </a:lnTo>
                <a:lnTo>
                  <a:pt x="823" y="112"/>
                </a:lnTo>
                <a:lnTo>
                  <a:pt x="803" y="98"/>
                </a:lnTo>
                <a:lnTo>
                  <a:pt x="789" y="85"/>
                </a:lnTo>
                <a:lnTo>
                  <a:pt x="769" y="72"/>
                </a:lnTo>
                <a:lnTo>
                  <a:pt x="750" y="59"/>
                </a:lnTo>
                <a:lnTo>
                  <a:pt x="730" y="52"/>
                </a:lnTo>
                <a:lnTo>
                  <a:pt x="703" y="39"/>
                </a:lnTo>
                <a:lnTo>
                  <a:pt x="683" y="32"/>
                </a:lnTo>
                <a:lnTo>
                  <a:pt x="663" y="26"/>
                </a:lnTo>
                <a:lnTo>
                  <a:pt x="644" y="19"/>
                </a:lnTo>
                <a:lnTo>
                  <a:pt x="617" y="13"/>
                </a:lnTo>
                <a:lnTo>
                  <a:pt x="597" y="6"/>
                </a:lnTo>
                <a:lnTo>
                  <a:pt x="571" y="6"/>
                </a:lnTo>
                <a:lnTo>
                  <a:pt x="551" y="0"/>
                </a:lnTo>
                <a:lnTo>
                  <a:pt x="524" y="0"/>
                </a:lnTo>
                <a:lnTo>
                  <a:pt x="504" y="0"/>
                </a:lnTo>
                <a:lnTo>
                  <a:pt x="477" y="0"/>
                </a:lnTo>
                <a:lnTo>
                  <a:pt x="457" y="0"/>
                </a:lnTo>
                <a:lnTo>
                  <a:pt x="430" y="6"/>
                </a:lnTo>
                <a:lnTo>
                  <a:pt x="411" y="6"/>
                </a:lnTo>
                <a:lnTo>
                  <a:pt x="391" y="13"/>
                </a:lnTo>
                <a:lnTo>
                  <a:pt x="364" y="19"/>
                </a:lnTo>
                <a:lnTo>
                  <a:pt x="344" y="26"/>
                </a:lnTo>
                <a:lnTo>
                  <a:pt x="324" y="32"/>
                </a:lnTo>
                <a:lnTo>
                  <a:pt x="298" y="39"/>
                </a:lnTo>
                <a:lnTo>
                  <a:pt x="278" y="52"/>
                </a:lnTo>
                <a:lnTo>
                  <a:pt x="258" y="59"/>
                </a:lnTo>
                <a:lnTo>
                  <a:pt x="238" y="72"/>
                </a:lnTo>
                <a:lnTo>
                  <a:pt x="218" y="85"/>
                </a:lnTo>
                <a:lnTo>
                  <a:pt x="198" y="98"/>
                </a:lnTo>
                <a:lnTo>
                  <a:pt x="185" y="112"/>
                </a:lnTo>
                <a:lnTo>
                  <a:pt x="165" y="131"/>
                </a:lnTo>
                <a:lnTo>
                  <a:pt x="145" y="145"/>
                </a:lnTo>
                <a:lnTo>
                  <a:pt x="132" y="164"/>
                </a:lnTo>
                <a:lnTo>
                  <a:pt x="119" y="178"/>
                </a:lnTo>
                <a:lnTo>
                  <a:pt x="106" y="197"/>
                </a:lnTo>
                <a:lnTo>
                  <a:pt x="92" y="217"/>
                </a:lnTo>
                <a:lnTo>
                  <a:pt x="79" y="237"/>
                </a:lnTo>
                <a:lnTo>
                  <a:pt x="66" y="258"/>
                </a:lnTo>
                <a:lnTo>
                  <a:pt x="53" y="278"/>
                </a:lnTo>
                <a:lnTo>
                  <a:pt x="46" y="297"/>
                </a:lnTo>
                <a:lnTo>
                  <a:pt x="33" y="317"/>
                </a:lnTo>
                <a:lnTo>
                  <a:pt x="26" y="337"/>
                </a:lnTo>
                <a:lnTo>
                  <a:pt x="19" y="363"/>
                </a:lnTo>
                <a:lnTo>
                  <a:pt x="13" y="383"/>
                </a:lnTo>
                <a:lnTo>
                  <a:pt x="13" y="410"/>
                </a:lnTo>
                <a:lnTo>
                  <a:pt x="6" y="429"/>
                </a:lnTo>
                <a:lnTo>
                  <a:pt x="6" y="456"/>
                </a:lnTo>
                <a:lnTo>
                  <a:pt x="0" y="476"/>
                </a:lnTo>
                <a:lnTo>
                  <a:pt x="0" y="495"/>
                </a:lnTo>
                <a:lnTo>
                  <a:pt x="0" y="522"/>
                </a:lnTo>
                <a:lnTo>
                  <a:pt x="6" y="542"/>
                </a:lnTo>
                <a:lnTo>
                  <a:pt x="6" y="568"/>
                </a:lnTo>
                <a:lnTo>
                  <a:pt x="13" y="588"/>
                </a:lnTo>
                <a:lnTo>
                  <a:pt x="13" y="614"/>
                </a:lnTo>
                <a:lnTo>
                  <a:pt x="19" y="634"/>
                </a:lnTo>
                <a:lnTo>
                  <a:pt x="26" y="660"/>
                </a:lnTo>
                <a:lnTo>
                  <a:pt x="33" y="680"/>
                </a:lnTo>
                <a:lnTo>
                  <a:pt x="46" y="700"/>
                </a:lnTo>
                <a:lnTo>
                  <a:pt x="53" y="720"/>
                </a:lnTo>
                <a:lnTo>
                  <a:pt x="66" y="740"/>
                </a:lnTo>
                <a:lnTo>
                  <a:pt x="79" y="760"/>
                </a:lnTo>
                <a:lnTo>
                  <a:pt x="92" y="780"/>
                </a:lnTo>
                <a:lnTo>
                  <a:pt x="106" y="800"/>
                </a:lnTo>
                <a:lnTo>
                  <a:pt x="119" y="820"/>
                </a:lnTo>
                <a:lnTo>
                  <a:pt x="132" y="833"/>
                </a:lnTo>
                <a:lnTo>
                  <a:pt x="145" y="853"/>
                </a:lnTo>
                <a:lnTo>
                  <a:pt x="165" y="866"/>
                </a:lnTo>
                <a:lnTo>
                  <a:pt x="185" y="886"/>
                </a:lnTo>
                <a:lnTo>
                  <a:pt x="198" y="899"/>
                </a:lnTo>
                <a:lnTo>
                  <a:pt x="218" y="912"/>
                </a:lnTo>
                <a:lnTo>
                  <a:pt x="238" y="925"/>
                </a:lnTo>
                <a:lnTo>
                  <a:pt x="258" y="932"/>
                </a:lnTo>
                <a:lnTo>
                  <a:pt x="278" y="945"/>
                </a:lnTo>
                <a:lnTo>
                  <a:pt x="298" y="958"/>
                </a:lnTo>
                <a:lnTo>
                  <a:pt x="324" y="965"/>
                </a:lnTo>
                <a:lnTo>
                  <a:pt x="344" y="972"/>
                </a:lnTo>
                <a:lnTo>
                  <a:pt x="364" y="978"/>
                </a:lnTo>
                <a:lnTo>
                  <a:pt x="391" y="985"/>
                </a:lnTo>
                <a:lnTo>
                  <a:pt x="411" y="991"/>
                </a:lnTo>
                <a:lnTo>
                  <a:pt x="430" y="991"/>
                </a:lnTo>
                <a:lnTo>
                  <a:pt x="457" y="998"/>
                </a:lnTo>
                <a:lnTo>
                  <a:pt x="477" y="998"/>
                </a:lnTo>
                <a:lnTo>
                  <a:pt x="504" y="998"/>
                </a:lnTo>
                <a:lnTo>
                  <a:pt x="524" y="998"/>
                </a:lnTo>
                <a:lnTo>
                  <a:pt x="551" y="998"/>
                </a:lnTo>
                <a:lnTo>
                  <a:pt x="571" y="991"/>
                </a:lnTo>
                <a:lnTo>
                  <a:pt x="597" y="991"/>
                </a:lnTo>
                <a:lnTo>
                  <a:pt x="617" y="985"/>
                </a:lnTo>
                <a:lnTo>
                  <a:pt x="644" y="978"/>
                </a:lnTo>
                <a:lnTo>
                  <a:pt x="663" y="972"/>
                </a:lnTo>
                <a:lnTo>
                  <a:pt x="683" y="965"/>
                </a:lnTo>
                <a:lnTo>
                  <a:pt x="703" y="958"/>
                </a:lnTo>
                <a:lnTo>
                  <a:pt x="730" y="945"/>
                </a:lnTo>
                <a:lnTo>
                  <a:pt x="750" y="932"/>
                </a:lnTo>
                <a:lnTo>
                  <a:pt x="769" y="925"/>
                </a:lnTo>
                <a:lnTo>
                  <a:pt x="789" y="912"/>
                </a:lnTo>
                <a:lnTo>
                  <a:pt x="803" y="899"/>
                </a:lnTo>
                <a:lnTo>
                  <a:pt x="823" y="886"/>
                </a:lnTo>
                <a:lnTo>
                  <a:pt x="842" y="866"/>
                </a:lnTo>
                <a:lnTo>
                  <a:pt x="856" y="853"/>
                </a:lnTo>
                <a:lnTo>
                  <a:pt x="876" y="833"/>
                </a:lnTo>
                <a:lnTo>
                  <a:pt x="889" y="820"/>
                </a:lnTo>
                <a:lnTo>
                  <a:pt x="902" y="800"/>
                </a:lnTo>
                <a:lnTo>
                  <a:pt x="915" y="780"/>
                </a:lnTo>
                <a:lnTo>
                  <a:pt x="929" y="760"/>
                </a:lnTo>
                <a:lnTo>
                  <a:pt x="942" y="740"/>
                </a:lnTo>
                <a:lnTo>
                  <a:pt x="955" y="720"/>
                </a:lnTo>
                <a:lnTo>
                  <a:pt x="962" y="700"/>
                </a:lnTo>
                <a:lnTo>
                  <a:pt x="968" y="680"/>
                </a:lnTo>
                <a:lnTo>
                  <a:pt x="982" y="660"/>
                </a:lnTo>
                <a:lnTo>
                  <a:pt x="988" y="634"/>
                </a:lnTo>
                <a:lnTo>
                  <a:pt x="988" y="614"/>
                </a:lnTo>
                <a:lnTo>
                  <a:pt x="995" y="588"/>
                </a:lnTo>
                <a:lnTo>
                  <a:pt x="1002" y="568"/>
                </a:lnTo>
                <a:lnTo>
                  <a:pt x="1002" y="542"/>
                </a:lnTo>
                <a:lnTo>
                  <a:pt x="1002" y="522"/>
                </a:lnTo>
                <a:lnTo>
                  <a:pt x="1002" y="495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 flipV="1">
            <a:off x="3784680" y="4962600"/>
            <a:ext cx="0" cy="1108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3727440" y="5016600"/>
            <a:ext cx="1144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 flipH="1" flipV="1">
            <a:off x="2379600" y="2786040"/>
            <a:ext cx="1239840" cy="7095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3603600" y="3424320"/>
            <a:ext cx="360720" cy="359280"/>
          </a:xfrm>
          <a:custGeom>
            <a:avLst/>
            <a:gdLst/>
            <a:ahLst/>
            <a:rect l="0" t="0" r="r" b="b"/>
            <a:pathLst>
              <a:path fill="none" w="1002" h="998">
                <a:moveTo>
                  <a:pt x="1002" y="502"/>
                </a:moveTo>
                <a:lnTo>
                  <a:pt x="1002" y="476"/>
                </a:lnTo>
                <a:lnTo>
                  <a:pt x="1002" y="456"/>
                </a:lnTo>
                <a:lnTo>
                  <a:pt x="1002" y="429"/>
                </a:lnTo>
                <a:lnTo>
                  <a:pt x="995" y="410"/>
                </a:lnTo>
                <a:lnTo>
                  <a:pt x="988" y="383"/>
                </a:lnTo>
                <a:lnTo>
                  <a:pt x="988" y="363"/>
                </a:lnTo>
                <a:lnTo>
                  <a:pt x="982" y="344"/>
                </a:lnTo>
                <a:lnTo>
                  <a:pt x="968" y="317"/>
                </a:lnTo>
                <a:lnTo>
                  <a:pt x="962" y="297"/>
                </a:lnTo>
                <a:lnTo>
                  <a:pt x="955" y="278"/>
                </a:lnTo>
                <a:lnTo>
                  <a:pt x="942" y="258"/>
                </a:lnTo>
                <a:lnTo>
                  <a:pt x="929" y="237"/>
                </a:lnTo>
                <a:lnTo>
                  <a:pt x="915" y="217"/>
                </a:lnTo>
                <a:lnTo>
                  <a:pt x="902" y="197"/>
                </a:lnTo>
                <a:lnTo>
                  <a:pt x="889" y="178"/>
                </a:lnTo>
                <a:lnTo>
                  <a:pt x="876" y="164"/>
                </a:lnTo>
                <a:lnTo>
                  <a:pt x="856" y="145"/>
                </a:lnTo>
                <a:lnTo>
                  <a:pt x="842" y="131"/>
                </a:lnTo>
                <a:lnTo>
                  <a:pt x="823" y="112"/>
                </a:lnTo>
                <a:lnTo>
                  <a:pt x="803" y="99"/>
                </a:lnTo>
                <a:lnTo>
                  <a:pt x="789" y="85"/>
                </a:lnTo>
                <a:lnTo>
                  <a:pt x="769" y="72"/>
                </a:lnTo>
                <a:lnTo>
                  <a:pt x="750" y="65"/>
                </a:lnTo>
                <a:lnTo>
                  <a:pt x="730" y="52"/>
                </a:lnTo>
                <a:lnTo>
                  <a:pt x="703" y="39"/>
                </a:lnTo>
                <a:lnTo>
                  <a:pt x="683" y="32"/>
                </a:lnTo>
                <a:lnTo>
                  <a:pt x="663" y="26"/>
                </a:lnTo>
                <a:lnTo>
                  <a:pt x="644" y="19"/>
                </a:lnTo>
                <a:lnTo>
                  <a:pt x="617" y="13"/>
                </a:lnTo>
                <a:lnTo>
                  <a:pt x="597" y="6"/>
                </a:lnTo>
                <a:lnTo>
                  <a:pt x="571" y="6"/>
                </a:lnTo>
                <a:lnTo>
                  <a:pt x="551" y="0"/>
                </a:lnTo>
                <a:lnTo>
                  <a:pt x="524" y="0"/>
                </a:lnTo>
                <a:lnTo>
                  <a:pt x="504" y="0"/>
                </a:lnTo>
                <a:lnTo>
                  <a:pt x="477" y="0"/>
                </a:lnTo>
                <a:lnTo>
                  <a:pt x="457" y="0"/>
                </a:lnTo>
                <a:lnTo>
                  <a:pt x="430" y="6"/>
                </a:lnTo>
                <a:lnTo>
                  <a:pt x="411" y="6"/>
                </a:lnTo>
                <a:lnTo>
                  <a:pt x="391" y="13"/>
                </a:lnTo>
                <a:lnTo>
                  <a:pt x="364" y="19"/>
                </a:lnTo>
                <a:lnTo>
                  <a:pt x="344" y="26"/>
                </a:lnTo>
                <a:lnTo>
                  <a:pt x="324" y="32"/>
                </a:lnTo>
                <a:lnTo>
                  <a:pt x="298" y="39"/>
                </a:lnTo>
                <a:lnTo>
                  <a:pt x="278" y="52"/>
                </a:lnTo>
                <a:lnTo>
                  <a:pt x="258" y="65"/>
                </a:lnTo>
                <a:lnTo>
                  <a:pt x="238" y="72"/>
                </a:lnTo>
                <a:lnTo>
                  <a:pt x="218" y="85"/>
                </a:lnTo>
                <a:lnTo>
                  <a:pt x="198" y="99"/>
                </a:lnTo>
                <a:lnTo>
                  <a:pt x="185" y="112"/>
                </a:lnTo>
                <a:lnTo>
                  <a:pt x="165" y="131"/>
                </a:lnTo>
                <a:lnTo>
                  <a:pt x="145" y="145"/>
                </a:lnTo>
                <a:lnTo>
                  <a:pt x="132" y="164"/>
                </a:lnTo>
                <a:lnTo>
                  <a:pt x="119" y="178"/>
                </a:lnTo>
                <a:lnTo>
                  <a:pt x="106" y="197"/>
                </a:lnTo>
                <a:lnTo>
                  <a:pt x="92" y="217"/>
                </a:lnTo>
                <a:lnTo>
                  <a:pt x="79" y="237"/>
                </a:lnTo>
                <a:lnTo>
                  <a:pt x="66" y="258"/>
                </a:lnTo>
                <a:lnTo>
                  <a:pt x="53" y="278"/>
                </a:lnTo>
                <a:lnTo>
                  <a:pt x="46" y="297"/>
                </a:lnTo>
                <a:lnTo>
                  <a:pt x="33" y="317"/>
                </a:lnTo>
                <a:lnTo>
                  <a:pt x="26" y="344"/>
                </a:lnTo>
                <a:lnTo>
                  <a:pt x="19" y="363"/>
                </a:lnTo>
                <a:lnTo>
                  <a:pt x="13" y="383"/>
                </a:lnTo>
                <a:lnTo>
                  <a:pt x="13" y="410"/>
                </a:lnTo>
                <a:lnTo>
                  <a:pt x="6" y="429"/>
                </a:lnTo>
                <a:lnTo>
                  <a:pt x="6" y="456"/>
                </a:lnTo>
                <a:lnTo>
                  <a:pt x="0" y="476"/>
                </a:lnTo>
                <a:lnTo>
                  <a:pt x="0" y="502"/>
                </a:lnTo>
                <a:lnTo>
                  <a:pt x="0" y="522"/>
                </a:lnTo>
                <a:lnTo>
                  <a:pt x="6" y="548"/>
                </a:lnTo>
                <a:lnTo>
                  <a:pt x="6" y="568"/>
                </a:lnTo>
                <a:lnTo>
                  <a:pt x="13" y="588"/>
                </a:lnTo>
                <a:lnTo>
                  <a:pt x="13" y="614"/>
                </a:lnTo>
                <a:lnTo>
                  <a:pt x="19" y="634"/>
                </a:lnTo>
                <a:lnTo>
                  <a:pt x="26" y="660"/>
                </a:lnTo>
                <a:lnTo>
                  <a:pt x="33" y="680"/>
                </a:lnTo>
                <a:lnTo>
                  <a:pt x="46" y="700"/>
                </a:lnTo>
                <a:lnTo>
                  <a:pt x="53" y="720"/>
                </a:lnTo>
                <a:lnTo>
                  <a:pt x="66" y="740"/>
                </a:lnTo>
                <a:lnTo>
                  <a:pt x="79" y="760"/>
                </a:lnTo>
                <a:lnTo>
                  <a:pt x="92" y="780"/>
                </a:lnTo>
                <a:lnTo>
                  <a:pt x="106" y="800"/>
                </a:lnTo>
                <a:lnTo>
                  <a:pt x="119" y="820"/>
                </a:lnTo>
                <a:lnTo>
                  <a:pt x="132" y="833"/>
                </a:lnTo>
                <a:lnTo>
                  <a:pt x="145" y="853"/>
                </a:lnTo>
                <a:lnTo>
                  <a:pt x="165" y="866"/>
                </a:lnTo>
                <a:lnTo>
                  <a:pt x="185" y="886"/>
                </a:lnTo>
                <a:lnTo>
                  <a:pt x="198" y="899"/>
                </a:lnTo>
                <a:lnTo>
                  <a:pt x="218" y="912"/>
                </a:lnTo>
                <a:lnTo>
                  <a:pt x="238" y="925"/>
                </a:lnTo>
                <a:lnTo>
                  <a:pt x="258" y="939"/>
                </a:lnTo>
                <a:lnTo>
                  <a:pt x="278" y="945"/>
                </a:lnTo>
                <a:lnTo>
                  <a:pt x="298" y="958"/>
                </a:lnTo>
                <a:lnTo>
                  <a:pt x="324" y="965"/>
                </a:lnTo>
                <a:lnTo>
                  <a:pt x="344" y="972"/>
                </a:lnTo>
                <a:lnTo>
                  <a:pt x="364" y="978"/>
                </a:lnTo>
                <a:lnTo>
                  <a:pt x="391" y="985"/>
                </a:lnTo>
                <a:lnTo>
                  <a:pt x="411" y="991"/>
                </a:lnTo>
                <a:lnTo>
                  <a:pt x="430" y="991"/>
                </a:lnTo>
                <a:lnTo>
                  <a:pt x="457" y="998"/>
                </a:lnTo>
                <a:lnTo>
                  <a:pt x="477" y="998"/>
                </a:lnTo>
                <a:lnTo>
                  <a:pt x="504" y="998"/>
                </a:lnTo>
                <a:lnTo>
                  <a:pt x="524" y="998"/>
                </a:lnTo>
                <a:lnTo>
                  <a:pt x="551" y="998"/>
                </a:lnTo>
                <a:lnTo>
                  <a:pt x="571" y="991"/>
                </a:lnTo>
                <a:lnTo>
                  <a:pt x="597" y="991"/>
                </a:lnTo>
                <a:lnTo>
                  <a:pt x="617" y="985"/>
                </a:lnTo>
                <a:lnTo>
                  <a:pt x="644" y="978"/>
                </a:lnTo>
                <a:lnTo>
                  <a:pt x="663" y="972"/>
                </a:lnTo>
                <a:lnTo>
                  <a:pt x="683" y="965"/>
                </a:lnTo>
                <a:lnTo>
                  <a:pt x="703" y="958"/>
                </a:lnTo>
                <a:lnTo>
                  <a:pt x="730" y="945"/>
                </a:lnTo>
                <a:lnTo>
                  <a:pt x="750" y="939"/>
                </a:lnTo>
                <a:lnTo>
                  <a:pt x="769" y="925"/>
                </a:lnTo>
                <a:lnTo>
                  <a:pt x="789" y="912"/>
                </a:lnTo>
                <a:lnTo>
                  <a:pt x="803" y="899"/>
                </a:lnTo>
                <a:lnTo>
                  <a:pt x="823" y="886"/>
                </a:lnTo>
                <a:lnTo>
                  <a:pt x="842" y="866"/>
                </a:lnTo>
                <a:lnTo>
                  <a:pt x="856" y="853"/>
                </a:lnTo>
                <a:lnTo>
                  <a:pt x="876" y="833"/>
                </a:lnTo>
                <a:lnTo>
                  <a:pt x="889" y="820"/>
                </a:lnTo>
                <a:lnTo>
                  <a:pt x="902" y="800"/>
                </a:lnTo>
                <a:lnTo>
                  <a:pt x="915" y="780"/>
                </a:lnTo>
                <a:lnTo>
                  <a:pt x="929" y="760"/>
                </a:lnTo>
                <a:lnTo>
                  <a:pt x="942" y="740"/>
                </a:lnTo>
                <a:lnTo>
                  <a:pt x="955" y="720"/>
                </a:lnTo>
                <a:lnTo>
                  <a:pt x="962" y="700"/>
                </a:lnTo>
                <a:lnTo>
                  <a:pt x="968" y="680"/>
                </a:lnTo>
                <a:lnTo>
                  <a:pt x="982" y="660"/>
                </a:lnTo>
                <a:lnTo>
                  <a:pt x="988" y="634"/>
                </a:lnTo>
                <a:lnTo>
                  <a:pt x="988" y="614"/>
                </a:lnTo>
                <a:lnTo>
                  <a:pt x="995" y="588"/>
                </a:lnTo>
                <a:lnTo>
                  <a:pt x="1002" y="568"/>
                </a:lnTo>
                <a:lnTo>
                  <a:pt x="1002" y="548"/>
                </a:lnTo>
                <a:lnTo>
                  <a:pt x="1002" y="522"/>
                </a:lnTo>
                <a:lnTo>
                  <a:pt x="1002" y="502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 flipV="1">
            <a:off x="3784680" y="3537000"/>
            <a:ext cx="0" cy="1112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3727440" y="3594240"/>
            <a:ext cx="1144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9" name=""/>
          <p:cNvGrpSpPr/>
          <p:nvPr/>
        </p:nvGrpSpPr>
        <p:grpSpPr>
          <a:xfrm>
            <a:off x="3603600" y="1895400"/>
            <a:ext cx="360720" cy="919080"/>
            <a:chOff x="3603600" y="1895400"/>
            <a:chExt cx="360720" cy="919080"/>
          </a:xfrm>
        </p:grpSpPr>
        <p:sp>
          <p:nvSpPr>
            <p:cNvPr id="1700" name=""/>
            <p:cNvSpPr/>
            <p:nvPr/>
          </p:nvSpPr>
          <p:spPr>
            <a:xfrm>
              <a:off x="3603600" y="2187720"/>
              <a:ext cx="0" cy="4888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963960" y="2187720"/>
              <a:ext cx="0" cy="4842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784680" y="1895400"/>
              <a:ext cx="0" cy="3002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784680" y="2300400"/>
              <a:ext cx="0" cy="1062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784680" y="2511360"/>
              <a:ext cx="0" cy="3031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784680" y="2652840"/>
              <a:ext cx="179640" cy="57600"/>
            </a:xfrm>
            <a:custGeom>
              <a:avLst/>
              <a:gdLst/>
              <a:ahLst/>
              <a:rect l="0" t="0" r="r" b="b"/>
              <a:pathLst>
                <a:path fill="none" w="499" h="160">
                  <a:moveTo>
                    <a:pt x="0" y="0"/>
                  </a:moveTo>
                  <a:lnTo>
                    <a:pt x="6" y="13"/>
                  </a:lnTo>
                  <a:lnTo>
                    <a:pt x="19" y="33"/>
                  </a:lnTo>
                  <a:lnTo>
                    <a:pt x="33" y="47"/>
                  </a:lnTo>
                  <a:lnTo>
                    <a:pt x="39" y="60"/>
                  </a:lnTo>
                  <a:lnTo>
                    <a:pt x="53" y="73"/>
                  </a:lnTo>
                  <a:lnTo>
                    <a:pt x="66" y="86"/>
                  </a:lnTo>
                  <a:lnTo>
                    <a:pt x="86" y="100"/>
                  </a:lnTo>
                  <a:lnTo>
                    <a:pt x="99" y="106"/>
                  </a:lnTo>
                  <a:lnTo>
                    <a:pt x="112" y="121"/>
                  </a:lnTo>
                  <a:lnTo>
                    <a:pt x="132" y="127"/>
                  </a:lnTo>
                  <a:lnTo>
                    <a:pt x="146" y="134"/>
                  </a:lnTo>
                  <a:lnTo>
                    <a:pt x="166" y="140"/>
                  </a:lnTo>
                  <a:lnTo>
                    <a:pt x="186" y="147"/>
                  </a:lnTo>
                  <a:lnTo>
                    <a:pt x="199" y="154"/>
                  </a:lnTo>
                  <a:lnTo>
                    <a:pt x="219" y="154"/>
                  </a:lnTo>
                  <a:lnTo>
                    <a:pt x="239" y="160"/>
                  </a:lnTo>
                  <a:lnTo>
                    <a:pt x="260" y="160"/>
                  </a:lnTo>
                  <a:lnTo>
                    <a:pt x="273" y="160"/>
                  </a:lnTo>
                  <a:lnTo>
                    <a:pt x="293" y="160"/>
                  </a:lnTo>
                  <a:lnTo>
                    <a:pt x="313" y="154"/>
                  </a:lnTo>
                  <a:lnTo>
                    <a:pt x="333" y="154"/>
                  </a:lnTo>
                  <a:lnTo>
                    <a:pt x="346" y="147"/>
                  </a:lnTo>
                  <a:lnTo>
                    <a:pt x="366" y="140"/>
                  </a:lnTo>
                  <a:lnTo>
                    <a:pt x="386" y="134"/>
                  </a:lnTo>
                  <a:lnTo>
                    <a:pt x="399" y="127"/>
                  </a:lnTo>
                  <a:lnTo>
                    <a:pt x="419" y="121"/>
                  </a:lnTo>
                  <a:lnTo>
                    <a:pt x="432" y="113"/>
                  </a:lnTo>
                  <a:lnTo>
                    <a:pt x="446" y="100"/>
                  </a:lnTo>
                  <a:lnTo>
                    <a:pt x="459" y="86"/>
                  </a:lnTo>
                  <a:lnTo>
                    <a:pt x="479" y="73"/>
                  </a:lnTo>
                  <a:lnTo>
                    <a:pt x="492" y="67"/>
                  </a:lnTo>
                  <a:lnTo>
                    <a:pt x="499" y="53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603600" y="2583000"/>
              <a:ext cx="181440" cy="108360"/>
            </a:xfrm>
            <a:custGeom>
              <a:avLst/>
              <a:gdLst/>
              <a:ahLst/>
              <a:rect l="0" t="0" r="r" b="b"/>
              <a:pathLst>
                <a:path fill="none" w="504" h="301">
                  <a:moveTo>
                    <a:pt x="0" y="261"/>
                  </a:moveTo>
                  <a:lnTo>
                    <a:pt x="26" y="268"/>
                  </a:lnTo>
                  <a:lnTo>
                    <a:pt x="46" y="275"/>
                  </a:lnTo>
                  <a:lnTo>
                    <a:pt x="66" y="281"/>
                  </a:lnTo>
                  <a:lnTo>
                    <a:pt x="92" y="288"/>
                  </a:lnTo>
                  <a:lnTo>
                    <a:pt x="112" y="295"/>
                  </a:lnTo>
                  <a:lnTo>
                    <a:pt x="133" y="295"/>
                  </a:lnTo>
                  <a:lnTo>
                    <a:pt x="159" y="301"/>
                  </a:lnTo>
                  <a:lnTo>
                    <a:pt x="179" y="301"/>
                  </a:lnTo>
                  <a:lnTo>
                    <a:pt x="206" y="301"/>
                  </a:lnTo>
                  <a:lnTo>
                    <a:pt x="225" y="301"/>
                  </a:lnTo>
                  <a:lnTo>
                    <a:pt x="252" y="301"/>
                  </a:lnTo>
                  <a:lnTo>
                    <a:pt x="272" y="295"/>
                  </a:lnTo>
                  <a:lnTo>
                    <a:pt x="298" y="295"/>
                  </a:lnTo>
                  <a:lnTo>
                    <a:pt x="318" y="288"/>
                  </a:lnTo>
                  <a:lnTo>
                    <a:pt x="338" y="281"/>
                  </a:lnTo>
                  <a:lnTo>
                    <a:pt x="364" y="275"/>
                  </a:lnTo>
                  <a:lnTo>
                    <a:pt x="385" y="268"/>
                  </a:lnTo>
                  <a:lnTo>
                    <a:pt x="405" y="255"/>
                  </a:lnTo>
                  <a:lnTo>
                    <a:pt x="425" y="248"/>
                  </a:lnTo>
                  <a:lnTo>
                    <a:pt x="445" y="235"/>
                  </a:lnTo>
                  <a:lnTo>
                    <a:pt x="465" y="220"/>
                  </a:lnTo>
                  <a:lnTo>
                    <a:pt x="484" y="207"/>
                  </a:lnTo>
                  <a:lnTo>
                    <a:pt x="504" y="194"/>
                  </a:lnTo>
                  <a:lnTo>
                    <a:pt x="498" y="180"/>
                  </a:lnTo>
                  <a:lnTo>
                    <a:pt x="491" y="160"/>
                  </a:lnTo>
                  <a:lnTo>
                    <a:pt x="484" y="147"/>
                  </a:lnTo>
                  <a:lnTo>
                    <a:pt x="471" y="134"/>
                  </a:lnTo>
                  <a:lnTo>
                    <a:pt x="465" y="114"/>
                  </a:lnTo>
                  <a:lnTo>
                    <a:pt x="451" y="100"/>
                  </a:lnTo>
                  <a:lnTo>
                    <a:pt x="438" y="87"/>
                  </a:lnTo>
                  <a:lnTo>
                    <a:pt x="425" y="80"/>
                  </a:lnTo>
                  <a:lnTo>
                    <a:pt x="418" y="66"/>
                  </a:lnTo>
                  <a:lnTo>
                    <a:pt x="398" y="53"/>
                  </a:lnTo>
                  <a:lnTo>
                    <a:pt x="385" y="46"/>
                  </a:lnTo>
                  <a:lnTo>
                    <a:pt x="371" y="33"/>
                  </a:lnTo>
                  <a:lnTo>
                    <a:pt x="358" y="26"/>
                  </a:lnTo>
                  <a:lnTo>
                    <a:pt x="338" y="19"/>
                  </a:lnTo>
                  <a:lnTo>
                    <a:pt x="325" y="13"/>
                  </a:lnTo>
                  <a:lnTo>
                    <a:pt x="305" y="13"/>
                  </a:lnTo>
                  <a:lnTo>
                    <a:pt x="285" y="6"/>
                  </a:lnTo>
                  <a:lnTo>
                    <a:pt x="272" y="6"/>
                  </a:lnTo>
                  <a:lnTo>
                    <a:pt x="252" y="0"/>
                  </a:lnTo>
                  <a:lnTo>
                    <a:pt x="239" y="0"/>
                  </a:lnTo>
                  <a:lnTo>
                    <a:pt x="219" y="6"/>
                  </a:lnTo>
                  <a:lnTo>
                    <a:pt x="199" y="6"/>
                  </a:lnTo>
                  <a:lnTo>
                    <a:pt x="186" y="6"/>
                  </a:lnTo>
                  <a:lnTo>
                    <a:pt x="166" y="13"/>
                  </a:lnTo>
                  <a:lnTo>
                    <a:pt x="153" y="19"/>
                  </a:lnTo>
                  <a:lnTo>
                    <a:pt x="133" y="26"/>
                  </a:lnTo>
                  <a:lnTo>
                    <a:pt x="119" y="33"/>
                  </a:lnTo>
                  <a:lnTo>
                    <a:pt x="99" y="39"/>
                  </a:lnTo>
                  <a:lnTo>
                    <a:pt x="85" y="46"/>
                  </a:lnTo>
                  <a:lnTo>
                    <a:pt x="72" y="59"/>
                  </a:lnTo>
                  <a:lnTo>
                    <a:pt x="59" y="66"/>
                  </a:lnTo>
                  <a:lnTo>
                    <a:pt x="46" y="80"/>
                  </a:lnTo>
                  <a:lnTo>
                    <a:pt x="33" y="94"/>
                  </a:lnTo>
                  <a:lnTo>
                    <a:pt x="19" y="107"/>
                  </a:lnTo>
                  <a:lnTo>
                    <a:pt x="13" y="120"/>
                  </a:lnTo>
                  <a:lnTo>
                    <a:pt x="0" y="134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603600" y="2063880"/>
              <a:ext cx="360720" cy="124200"/>
            </a:xfrm>
            <a:custGeom>
              <a:avLst/>
              <a:gdLst/>
              <a:ahLst/>
              <a:rect l="0" t="0" r="r" b="b"/>
              <a:pathLst>
                <a:path fill="none" w="1002" h="345">
                  <a:moveTo>
                    <a:pt x="1002" y="345"/>
                  </a:moveTo>
                  <a:lnTo>
                    <a:pt x="995" y="326"/>
                  </a:lnTo>
                  <a:lnTo>
                    <a:pt x="988" y="306"/>
                  </a:lnTo>
                  <a:lnTo>
                    <a:pt x="975" y="286"/>
                  </a:lnTo>
                  <a:lnTo>
                    <a:pt x="962" y="258"/>
                  </a:lnTo>
                  <a:lnTo>
                    <a:pt x="948" y="239"/>
                  </a:lnTo>
                  <a:lnTo>
                    <a:pt x="935" y="219"/>
                  </a:lnTo>
                  <a:lnTo>
                    <a:pt x="922" y="206"/>
                  </a:lnTo>
                  <a:lnTo>
                    <a:pt x="909" y="186"/>
                  </a:lnTo>
                  <a:lnTo>
                    <a:pt x="889" y="166"/>
                  </a:lnTo>
                  <a:lnTo>
                    <a:pt x="876" y="146"/>
                  </a:lnTo>
                  <a:lnTo>
                    <a:pt x="856" y="133"/>
                  </a:lnTo>
                  <a:lnTo>
                    <a:pt x="836" y="120"/>
                  </a:lnTo>
                  <a:lnTo>
                    <a:pt x="816" y="106"/>
                  </a:lnTo>
                  <a:lnTo>
                    <a:pt x="796" y="93"/>
                  </a:lnTo>
                  <a:lnTo>
                    <a:pt x="776" y="79"/>
                  </a:lnTo>
                  <a:lnTo>
                    <a:pt x="756" y="66"/>
                  </a:lnTo>
                  <a:lnTo>
                    <a:pt x="736" y="52"/>
                  </a:lnTo>
                  <a:lnTo>
                    <a:pt x="716" y="46"/>
                  </a:lnTo>
                  <a:lnTo>
                    <a:pt x="690" y="33"/>
                  </a:lnTo>
                  <a:lnTo>
                    <a:pt x="670" y="26"/>
                  </a:lnTo>
                  <a:lnTo>
                    <a:pt x="644" y="19"/>
                  </a:lnTo>
                  <a:lnTo>
                    <a:pt x="624" y="13"/>
                  </a:lnTo>
                  <a:lnTo>
                    <a:pt x="597" y="13"/>
                  </a:lnTo>
                  <a:lnTo>
                    <a:pt x="577" y="6"/>
                  </a:lnTo>
                  <a:lnTo>
                    <a:pt x="551" y="6"/>
                  </a:lnTo>
                  <a:lnTo>
                    <a:pt x="531" y="0"/>
                  </a:lnTo>
                  <a:lnTo>
                    <a:pt x="504" y="0"/>
                  </a:lnTo>
                  <a:lnTo>
                    <a:pt x="477" y="0"/>
                  </a:lnTo>
                  <a:lnTo>
                    <a:pt x="457" y="6"/>
                  </a:lnTo>
                  <a:lnTo>
                    <a:pt x="430" y="6"/>
                  </a:lnTo>
                  <a:lnTo>
                    <a:pt x="411" y="13"/>
                  </a:lnTo>
                  <a:lnTo>
                    <a:pt x="384" y="13"/>
                  </a:lnTo>
                  <a:lnTo>
                    <a:pt x="364" y="19"/>
                  </a:lnTo>
                  <a:lnTo>
                    <a:pt x="338" y="26"/>
                  </a:lnTo>
                  <a:lnTo>
                    <a:pt x="318" y="33"/>
                  </a:lnTo>
                  <a:lnTo>
                    <a:pt x="291" y="46"/>
                  </a:lnTo>
                  <a:lnTo>
                    <a:pt x="271" y="52"/>
                  </a:lnTo>
                  <a:lnTo>
                    <a:pt x="251" y="66"/>
                  </a:lnTo>
                  <a:lnTo>
                    <a:pt x="232" y="79"/>
                  </a:lnTo>
                  <a:lnTo>
                    <a:pt x="205" y="93"/>
                  </a:lnTo>
                  <a:lnTo>
                    <a:pt x="192" y="106"/>
                  </a:lnTo>
                  <a:lnTo>
                    <a:pt x="172" y="120"/>
                  </a:lnTo>
                  <a:lnTo>
                    <a:pt x="152" y="133"/>
                  </a:lnTo>
                  <a:lnTo>
                    <a:pt x="132" y="146"/>
                  </a:lnTo>
                  <a:lnTo>
                    <a:pt x="119" y="166"/>
                  </a:lnTo>
                  <a:lnTo>
                    <a:pt x="99" y="186"/>
                  </a:lnTo>
                  <a:lnTo>
                    <a:pt x="86" y="206"/>
                  </a:lnTo>
                  <a:lnTo>
                    <a:pt x="72" y="219"/>
                  </a:lnTo>
                  <a:lnTo>
                    <a:pt x="59" y="239"/>
                  </a:lnTo>
                  <a:lnTo>
                    <a:pt x="46" y="258"/>
                  </a:lnTo>
                  <a:lnTo>
                    <a:pt x="33" y="286"/>
                  </a:lnTo>
                  <a:lnTo>
                    <a:pt x="19" y="306"/>
                  </a:lnTo>
                  <a:lnTo>
                    <a:pt x="13" y="326"/>
                  </a:lnTo>
                  <a:lnTo>
                    <a:pt x="0" y="345"/>
                  </a:lnTo>
                  <a:lnTo>
                    <a:pt x="1002" y="345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8" name=""/>
          <p:cNvGrpSpPr/>
          <p:nvPr/>
        </p:nvGrpSpPr>
        <p:grpSpPr>
          <a:xfrm>
            <a:off x="5410080" y="2009880"/>
            <a:ext cx="471600" cy="471240"/>
            <a:chOff x="5410080" y="2009880"/>
            <a:chExt cx="471600" cy="471240"/>
          </a:xfrm>
        </p:grpSpPr>
        <p:sp>
          <p:nvSpPr>
            <p:cNvPr id="1709" name=""/>
            <p:cNvSpPr/>
            <p:nvPr/>
          </p:nvSpPr>
          <p:spPr>
            <a:xfrm>
              <a:off x="5587920" y="2244600"/>
              <a:ext cx="1144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505480" y="2104920"/>
              <a:ext cx="281520" cy="281520"/>
            </a:xfrm>
            <a:custGeom>
              <a:avLst/>
              <a:gdLst/>
              <a:ahLst/>
              <a:rect l="0" t="0" r="r" b="b"/>
              <a:pathLst>
                <a:path fill="none" w="782" h="782">
                  <a:moveTo>
                    <a:pt x="782" y="391"/>
                  </a:moveTo>
                  <a:lnTo>
                    <a:pt x="775" y="371"/>
                  </a:lnTo>
                  <a:lnTo>
                    <a:pt x="775" y="351"/>
                  </a:lnTo>
                  <a:lnTo>
                    <a:pt x="775" y="331"/>
                  </a:lnTo>
                  <a:lnTo>
                    <a:pt x="769" y="311"/>
                  </a:lnTo>
                  <a:lnTo>
                    <a:pt x="769" y="292"/>
                  </a:lnTo>
                  <a:lnTo>
                    <a:pt x="762" y="272"/>
                  </a:lnTo>
                  <a:lnTo>
                    <a:pt x="756" y="252"/>
                  </a:lnTo>
                  <a:lnTo>
                    <a:pt x="742" y="232"/>
                  </a:lnTo>
                  <a:lnTo>
                    <a:pt x="736" y="212"/>
                  </a:lnTo>
                  <a:lnTo>
                    <a:pt x="729" y="191"/>
                  </a:lnTo>
                  <a:lnTo>
                    <a:pt x="716" y="178"/>
                  </a:lnTo>
                  <a:lnTo>
                    <a:pt x="703" y="158"/>
                  </a:lnTo>
                  <a:lnTo>
                    <a:pt x="689" y="145"/>
                  </a:lnTo>
                  <a:lnTo>
                    <a:pt x="683" y="132"/>
                  </a:lnTo>
                  <a:lnTo>
                    <a:pt x="663" y="112"/>
                  </a:lnTo>
                  <a:lnTo>
                    <a:pt x="650" y="99"/>
                  </a:lnTo>
                  <a:lnTo>
                    <a:pt x="637" y="85"/>
                  </a:lnTo>
                  <a:lnTo>
                    <a:pt x="617" y="72"/>
                  </a:lnTo>
                  <a:lnTo>
                    <a:pt x="603" y="66"/>
                  </a:lnTo>
                  <a:lnTo>
                    <a:pt x="583" y="52"/>
                  </a:lnTo>
                  <a:lnTo>
                    <a:pt x="563" y="46"/>
                  </a:lnTo>
                  <a:lnTo>
                    <a:pt x="550" y="33"/>
                  </a:lnTo>
                  <a:lnTo>
                    <a:pt x="530" y="26"/>
                  </a:lnTo>
                  <a:lnTo>
                    <a:pt x="510" y="19"/>
                  </a:lnTo>
                  <a:lnTo>
                    <a:pt x="490" y="13"/>
                  </a:lnTo>
                  <a:lnTo>
                    <a:pt x="470" y="6"/>
                  </a:lnTo>
                  <a:lnTo>
                    <a:pt x="450" y="6"/>
                  </a:lnTo>
                  <a:lnTo>
                    <a:pt x="430" y="6"/>
                  </a:lnTo>
                  <a:lnTo>
                    <a:pt x="411" y="0"/>
                  </a:lnTo>
                  <a:lnTo>
                    <a:pt x="391" y="0"/>
                  </a:lnTo>
                  <a:lnTo>
                    <a:pt x="371" y="0"/>
                  </a:lnTo>
                  <a:lnTo>
                    <a:pt x="351" y="6"/>
                  </a:lnTo>
                  <a:lnTo>
                    <a:pt x="331" y="6"/>
                  </a:lnTo>
                  <a:lnTo>
                    <a:pt x="311" y="6"/>
                  </a:lnTo>
                  <a:lnTo>
                    <a:pt x="292" y="13"/>
                  </a:lnTo>
                  <a:lnTo>
                    <a:pt x="272" y="19"/>
                  </a:lnTo>
                  <a:lnTo>
                    <a:pt x="252" y="26"/>
                  </a:lnTo>
                  <a:lnTo>
                    <a:pt x="232" y="33"/>
                  </a:lnTo>
                  <a:lnTo>
                    <a:pt x="212" y="46"/>
                  </a:lnTo>
                  <a:lnTo>
                    <a:pt x="199" y="52"/>
                  </a:lnTo>
                  <a:lnTo>
                    <a:pt x="178" y="66"/>
                  </a:lnTo>
                  <a:lnTo>
                    <a:pt x="158" y="72"/>
                  </a:lnTo>
                  <a:lnTo>
                    <a:pt x="145" y="85"/>
                  </a:lnTo>
                  <a:lnTo>
                    <a:pt x="132" y="99"/>
                  </a:lnTo>
                  <a:lnTo>
                    <a:pt x="112" y="112"/>
                  </a:lnTo>
                  <a:lnTo>
                    <a:pt x="99" y="132"/>
                  </a:lnTo>
                  <a:lnTo>
                    <a:pt x="85" y="145"/>
                  </a:lnTo>
                  <a:lnTo>
                    <a:pt x="72" y="158"/>
                  </a:lnTo>
                  <a:lnTo>
                    <a:pt x="66" y="178"/>
                  </a:lnTo>
                  <a:lnTo>
                    <a:pt x="52" y="191"/>
                  </a:lnTo>
                  <a:lnTo>
                    <a:pt x="46" y="212"/>
                  </a:lnTo>
                  <a:lnTo>
                    <a:pt x="33" y="232"/>
                  </a:lnTo>
                  <a:lnTo>
                    <a:pt x="26" y="252"/>
                  </a:lnTo>
                  <a:lnTo>
                    <a:pt x="19" y="272"/>
                  </a:lnTo>
                  <a:lnTo>
                    <a:pt x="13" y="292"/>
                  </a:lnTo>
                  <a:lnTo>
                    <a:pt x="6" y="311"/>
                  </a:lnTo>
                  <a:lnTo>
                    <a:pt x="6" y="331"/>
                  </a:lnTo>
                  <a:lnTo>
                    <a:pt x="6" y="351"/>
                  </a:lnTo>
                  <a:lnTo>
                    <a:pt x="0" y="371"/>
                  </a:lnTo>
                  <a:lnTo>
                    <a:pt x="0" y="391"/>
                  </a:lnTo>
                  <a:lnTo>
                    <a:pt x="0" y="411"/>
                  </a:lnTo>
                  <a:lnTo>
                    <a:pt x="6" y="430"/>
                  </a:lnTo>
                  <a:lnTo>
                    <a:pt x="6" y="450"/>
                  </a:lnTo>
                  <a:lnTo>
                    <a:pt x="6" y="470"/>
                  </a:lnTo>
                  <a:lnTo>
                    <a:pt x="13" y="490"/>
                  </a:lnTo>
                  <a:lnTo>
                    <a:pt x="19" y="510"/>
                  </a:lnTo>
                  <a:lnTo>
                    <a:pt x="26" y="530"/>
                  </a:lnTo>
                  <a:lnTo>
                    <a:pt x="33" y="550"/>
                  </a:lnTo>
                  <a:lnTo>
                    <a:pt x="46" y="569"/>
                  </a:lnTo>
                  <a:lnTo>
                    <a:pt x="52" y="583"/>
                  </a:lnTo>
                  <a:lnTo>
                    <a:pt x="66" y="603"/>
                  </a:lnTo>
                  <a:lnTo>
                    <a:pt x="72" y="617"/>
                  </a:lnTo>
                  <a:lnTo>
                    <a:pt x="85" y="637"/>
                  </a:lnTo>
                  <a:lnTo>
                    <a:pt x="99" y="650"/>
                  </a:lnTo>
                  <a:lnTo>
                    <a:pt x="112" y="663"/>
                  </a:lnTo>
                  <a:lnTo>
                    <a:pt x="132" y="683"/>
                  </a:lnTo>
                  <a:lnTo>
                    <a:pt x="145" y="696"/>
                  </a:lnTo>
                  <a:lnTo>
                    <a:pt x="158" y="703"/>
                  </a:lnTo>
                  <a:lnTo>
                    <a:pt x="178" y="716"/>
                  </a:lnTo>
                  <a:lnTo>
                    <a:pt x="199" y="729"/>
                  </a:lnTo>
                  <a:lnTo>
                    <a:pt x="212" y="736"/>
                  </a:lnTo>
                  <a:lnTo>
                    <a:pt x="232" y="749"/>
                  </a:lnTo>
                  <a:lnTo>
                    <a:pt x="252" y="756"/>
                  </a:lnTo>
                  <a:lnTo>
                    <a:pt x="272" y="762"/>
                  </a:lnTo>
                  <a:lnTo>
                    <a:pt x="292" y="769"/>
                  </a:lnTo>
                  <a:lnTo>
                    <a:pt x="311" y="769"/>
                  </a:lnTo>
                  <a:lnTo>
                    <a:pt x="331" y="775"/>
                  </a:lnTo>
                  <a:lnTo>
                    <a:pt x="351" y="775"/>
                  </a:lnTo>
                  <a:lnTo>
                    <a:pt x="371" y="782"/>
                  </a:lnTo>
                  <a:lnTo>
                    <a:pt x="391" y="782"/>
                  </a:lnTo>
                  <a:lnTo>
                    <a:pt x="411" y="782"/>
                  </a:lnTo>
                  <a:lnTo>
                    <a:pt x="430" y="775"/>
                  </a:lnTo>
                  <a:lnTo>
                    <a:pt x="450" y="775"/>
                  </a:lnTo>
                  <a:lnTo>
                    <a:pt x="470" y="769"/>
                  </a:lnTo>
                  <a:lnTo>
                    <a:pt x="490" y="769"/>
                  </a:lnTo>
                  <a:lnTo>
                    <a:pt x="510" y="762"/>
                  </a:lnTo>
                  <a:lnTo>
                    <a:pt x="530" y="756"/>
                  </a:lnTo>
                  <a:lnTo>
                    <a:pt x="550" y="749"/>
                  </a:lnTo>
                  <a:lnTo>
                    <a:pt x="563" y="736"/>
                  </a:lnTo>
                  <a:lnTo>
                    <a:pt x="583" y="729"/>
                  </a:lnTo>
                  <a:lnTo>
                    <a:pt x="603" y="716"/>
                  </a:lnTo>
                  <a:lnTo>
                    <a:pt x="617" y="703"/>
                  </a:lnTo>
                  <a:lnTo>
                    <a:pt x="637" y="696"/>
                  </a:lnTo>
                  <a:lnTo>
                    <a:pt x="650" y="683"/>
                  </a:lnTo>
                  <a:lnTo>
                    <a:pt x="663" y="663"/>
                  </a:lnTo>
                  <a:lnTo>
                    <a:pt x="683" y="650"/>
                  </a:lnTo>
                  <a:lnTo>
                    <a:pt x="689" y="637"/>
                  </a:lnTo>
                  <a:lnTo>
                    <a:pt x="703" y="617"/>
                  </a:lnTo>
                  <a:lnTo>
                    <a:pt x="716" y="603"/>
                  </a:lnTo>
                  <a:lnTo>
                    <a:pt x="729" y="583"/>
                  </a:lnTo>
                  <a:lnTo>
                    <a:pt x="736" y="569"/>
                  </a:lnTo>
                  <a:lnTo>
                    <a:pt x="742" y="550"/>
                  </a:lnTo>
                  <a:lnTo>
                    <a:pt x="756" y="530"/>
                  </a:lnTo>
                  <a:lnTo>
                    <a:pt x="762" y="510"/>
                  </a:lnTo>
                  <a:lnTo>
                    <a:pt x="769" y="490"/>
                  </a:lnTo>
                  <a:lnTo>
                    <a:pt x="769" y="470"/>
                  </a:lnTo>
                  <a:lnTo>
                    <a:pt x="775" y="450"/>
                  </a:lnTo>
                  <a:lnTo>
                    <a:pt x="775" y="430"/>
                  </a:lnTo>
                  <a:lnTo>
                    <a:pt x="775" y="411"/>
                  </a:lnTo>
                  <a:lnTo>
                    <a:pt x="782" y="391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464080" y="2063880"/>
              <a:ext cx="360720" cy="362160"/>
            </a:xfrm>
            <a:custGeom>
              <a:avLst/>
              <a:gdLst/>
              <a:ahLst/>
              <a:rect l="0" t="0" r="r" b="b"/>
              <a:pathLst>
                <a:path fill="none" w="1002" h="1006">
                  <a:moveTo>
                    <a:pt x="1002" y="502"/>
                  </a:moveTo>
                  <a:lnTo>
                    <a:pt x="1002" y="476"/>
                  </a:lnTo>
                  <a:lnTo>
                    <a:pt x="1002" y="456"/>
                  </a:lnTo>
                  <a:lnTo>
                    <a:pt x="1002" y="429"/>
                  </a:lnTo>
                  <a:lnTo>
                    <a:pt x="995" y="410"/>
                  </a:lnTo>
                  <a:lnTo>
                    <a:pt x="988" y="390"/>
                  </a:lnTo>
                  <a:lnTo>
                    <a:pt x="988" y="363"/>
                  </a:lnTo>
                  <a:lnTo>
                    <a:pt x="975" y="343"/>
                  </a:lnTo>
                  <a:lnTo>
                    <a:pt x="968" y="324"/>
                  </a:lnTo>
                  <a:lnTo>
                    <a:pt x="962" y="297"/>
                  </a:lnTo>
                  <a:lnTo>
                    <a:pt x="955" y="277"/>
                  </a:lnTo>
                  <a:lnTo>
                    <a:pt x="942" y="257"/>
                  </a:lnTo>
                  <a:lnTo>
                    <a:pt x="929" y="238"/>
                  </a:lnTo>
                  <a:lnTo>
                    <a:pt x="915" y="218"/>
                  </a:lnTo>
                  <a:lnTo>
                    <a:pt x="902" y="198"/>
                  </a:lnTo>
                  <a:lnTo>
                    <a:pt x="889" y="185"/>
                  </a:lnTo>
                  <a:lnTo>
                    <a:pt x="876" y="165"/>
                  </a:lnTo>
                  <a:lnTo>
                    <a:pt x="856" y="145"/>
                  </a:lnTo>
                  <a:lnTo>
                    <a:pt x="842" y="132"/>
                  </a:lnTo>
                  <a:lnTo>
                    <a:pt x="823" y="119"/>
                  </a:lnTo>
                  <a:lnTo>
                    <a:pt x="803" y="105"/>
                  </a:lnTo>
                  <a:lnTo>
                    <a:pt x="789" y="92"/>
                  </a:lnTo>
                  <a:lnTo>
                    <a:pt x="769" y="79"/>
                  </a:lnTo>
                  <a:lnTo>
                    <a:pt x="750" y="66"/>
                  </a:lnTo>
                  <a:lnTo>
                    <a:pt x="723" y="52"/>
                  </a:lnTo>
                  <a:lnTo>
                    <a:pt x="703" y="46"/>
                  </a:lnTo>
                  <a:lnTo>
                    <a:pt x="683" y="33"/>
                  </a:lnTo>
                  <a:lnTo>
                    <a:pt x="663" y="26"/>
                  </a:lnTo>
                  <a:lnTo>
                    <a:pt x="637" y="19"/>
                  </a:lnTo>
                  <a:lnTo>
                    <a:pt x="617" y="13"/>
                  </a:lnTo>
                  <a:lnTo>
                    <a:pt x="597" y="13"/>
                  </a:lnTo>
                  <a:lnTo>
                    <a:pt x="571" y="6"/>
                  </a:lnTo>
                  <a:lnTo>
                    <a:pt x="551" y="6"/>
                  </a:lnTo>
                  <a:lnTo>
                    <a:pt x="524" y="0"/>
                  </a:lnTo>
                  <a:lnTo>
                    <a:pt x="504" y="0"/>
                  </a:lnTo>
                  <a:lnTo>
                    <a:pt x="477" y="0"/>
                  </a:lnTo>
                  <a:lnTo>
                    <a:pt x="457" y="6"/>
                  </a:lnTo>
                  <a:lnTo>
                    <a:pt x="430" y="6"/>
                  </a:lnTo>
                  <a:lnTo>
                    <a:pt x="411" y="13"/>
                  </a:lnTo>
                  <a:lnTo>
                    <a:pt x="391" y="13"/>
                  </a:lnTo>
                  <a:lnTo>
                    <a:pt x="364" y="19"/>
                  </a:lnTo>
                  <a:lnTo>
                    <a:pt x="344" y="26"/>
                  </a:lnTo>
                  <a:lnTo>
                    <a:pt x="324" y="33"/>
                  </a:lnTo>
                  <a:lnTo>
                    <a:pt x="298" y="46"/>
                  </a:lnTo>
                  <a:lnTo>
                    <a:pt x="278" y="52"/>
                  </a:lnTo>
                  <a:lnTo>
                    <a:pt x="258" y="66"/>
                  </a:lnTo>
                  <a:lnTo>
                    <a:pt x="238" y="79"/>
                  </a:lnTo>
                  <a:lnTo>
                    <a:pt x="218" y="92"/>
                  </a:lnTo>
                  <a:lnTo>
                    <a:pt x="198" y="105"/>
                  </a:lnTo>
                  <a:lnTo>
                    <a:pt x="185" y="119"/>
                  </a:lnTo>
                  <a:lnTo>
                    <a:pt x="165" y="132"/>
                  </a:lnTo>
                  <a:lnTo>
                    <a:pt x="145" y="145"/>
                  </a:lnTo>
                  <a:lnTo>
                    <a:pt x="132" y="165"/>
                  </a:lnTo>
                  <a:lnTo>
                    <a:pt x="119" y="185"/>
                  </a:lnTo>
                  <a:lnTo>
                    <a:pt x="106" y="198"/>
                  </a:lnTo>
                  <a:lnTo>
                    <a:pt x="92" y="218"/>
                  </a:lnTo>
                  <a:lnTo>
                    <a:pt x="79" y="238"/>
                  </a:lnTo>
                  <a:lnTo>
                    <a:pt x="66" y="257"/>
                  </a:lnTo>
                  <a:lnTo>
                    <a:pt x="53" y="277"/>
                  </a:lnTo>
                  <a:lnTo>
                    <a:pt x="46" y="297"/>
                  </a:lnTo>
                  <a:lnTo>
                    <a:pt x="33" y="324"/>
                  </a:lnTo>
                  <a:lnTo>
                    <a:pt x="26" y="343"/>
                  </a:lnTo>
                  <a:lnTo>
                    <a:pt x="19" y="363"/>
                  </a:lnTo>
                  <a:lnTo>
                    <a:pt x="13" y="390"/>
                  </a:lnTo>
                  <a:lnTo>
                    <a:pt x="13" y="410"/>
                  </a:lnTo>
                  <a:lnTo>
                    <a:pt x="6" y="429"/>
                  </a:lnTo>
                  <a:lnTo>
                    <a:pt x="6" y="456"/>
                  </a:lnTo>
                  <a:lnTo>
                    <a:pt x="0" y="476"/>
                  </a:lnTo>
                  <a:lnTo>
                    <a:pt x="0" y="502"/>
                  </a:lnTo>
                  <a:lnTo>
                    <a:pt x="0" y="523"/>
                  </a:lnTo>
                  <a:lnTo>
                    <a:pt x="6" y="550"/>
                  </a:lnTo>
                  <a:lnTo>
                    <a:pt x="6" y="569"/>
                  </a:lnTo>
                  <a:lnTo>
                    <a:pt x="13" y="596"/>
                  </a:lnTo>
                  <a:lnTo>
                    <a:pt x="13" y="616"/>
                  </a:lnTo>
                  <a:lnTo>
                    <a:pt x="19" y="642"/>
                  </a:lnTo>
                  <a:lnTo>
                    <a:pt x="26" y="662"/>
                  </a:lnTo>
                  <a:lnTo>
                    <a:pt x="33" y="682"/>
                  </a:lnTo>
                  <a:lnTo>
                    <a:pt x="46" y="702"/>
                  </a:lnTo>
                  <a:lnTo>
                    <a:pt x="53" y="728"/>
                  </a:lnTo>
                  <a:lnTo>
                    <a:pt x="66" y="748"/>
                  </a:lnTo>
                  <a:lnTo>
                    <a:pt x="79" y="768"/>
                  </a:lnTo>
                  <a:lnTo>
                    <a:pt x="92" y="788"/>
                  </a:lnTo>
                  <a:lnTo>
                    <a:pt x="106" y="801"/>
                  </a:lnTo>
                  <a:lnTo>
                    <a:pt x="119" y="821"/>
                  </a:lnTo>
                  <a:lnTo>
                    <a:pt x="132" y="841"/>
                  </a:lnTo>
                  <a:lnTo>
                    <a:pt x="145" y="854"/>
                  </a:lnTo>
                  <a:lnTo>
                    <a:pt x="165" y="874"/>
                  </a:lnTo>
                  <a:lnTo>
                    <a:pt x="185" y="887"/>
                  </a:lnTo>
                  <a:lnTo>
                    <a:pt x="198" y="900"/>
                  </a:lnTo>
                  <a:lnTo>
                    <a:pt x="218" y="913"/>
                  </a:lnTo>
                  <a:lnTo>
                    <a:pt x="238" y="927"/>
                  </a:lnTo>
                  <a:lnTo>
                    <a:pt x="258" y="940"/>
                  </a:lnTo>
                  <a:lnTo>
                    <a:pt x="278" y="953"/>
                  </a:lnTo>
                  <a:lnTo>
                    <a:pt x="298" y="960"/>
                  </a:lnTo>
                  <a:lnTo>
                    <a:pt x="324" y="966"/>
                  </a:lnTo>
                  <a:lnTo>
                    <a:pt x="344" y="979"/>
                  </a:lnTo>
                  <a:lnTo>
                    <a:pt x="364" y="986"/>
                  </a:lnTo>
                  <a:lnTo>
                    <a:pt x="391" y="986"/>
                  </a:lnTo>
                  <a:lnTo>
                    <a:pt x="411" y="993"/>
                  </a:lnTo>
                  <a:lnTo>
                    <a:pt x="430" y="999"/>
                  </a:lnTo>
                  <a:lnTo>
                    <a:pt x="457" y="999"/>
                  </a:lnTo>
                  <a:lnTo>
                    <a:pt x="477" y="999"/>
                  </a:lnTo>
                  <a:lnTo>
                    <a:pt x="504" y="1006"/>
                  </a:lnTo>
                  <a:lnTo>
                    <a:pt x="524" y="999"/>
                  </a:lnTo>
                  <a:lnTo>
                    <a:pt x="551" y="999"/>
                  </a:lnTo>
                  <a:lnTo>
                    <a:pt x="571" y="999"/>
                  </a:lnTo>
                  <a:lnTo>
                    <a:pt x="597" y="993"/>
                  </a:lnTo>
                  <a:lnTo>
                    <a:pt x="617" y="986"/>
                  </a:lnTo>
                  <a:lnTo>
                    <a:pt x="637" y="986"/>
                  </a:lnTo>
                  <a:lnTo>
                    <a:pt x="663" y="979"/>
                  </a:lnTo>
                  <a:lnTo>
                    <a:pt x="683" y="966"/>
                  </a:lnTo>
                  <a:lnTo>
                    <a:pt x="703" y="960"/>
                  </a:lnTo>
                  <a:lnTo>
                    <a:pt x="723" y="953"/>
                  </a:lnTo>
                  <a:lnTo>
                    <a:pt x="750" y="940"/>
                  </a:lnTo>
                  <a:lnTo>
                    <a:pt x="769" y="927"/>
                  </a:lnTo>
                  <a:lnTo>
                    <a:pt x="789" y="913"/>
                  </a:lnTo>
                  <a:lnTo>
                    <a:pt x="803" y="900"/>
                  </a:lnTo>
                  <a:lnTo>
                    <a:pt x="823" y="887"/>
                  </a:lnTo>
                  <a:lnTo>
                    <a:pt x="842" y="874"/>
                  </a:lnTo>
                  <a:lnTo>
                    <a:pt x="856" y="854"/>
                  </a:lnTo>
                  <a:lnTo>
                    <a:pt x="876" y="841"/>
                  </a:lnTo>
                  <a:lnTo>
                    <a:pt x="889" y="821"/>
                  </a:lnTo>
                  <a:lnTo>
                    <a:pt x="902" y="801"/>
                  </a:lnTo>
                  <a:lnTo>
                    <a:pt x="915" y="788"/>
                  </a:lnTo>
                  <a:lnTo>
                    <a:pt x="929" y="768"/>
                  </a:lnTo>
                  <a:lnTo>
                    <a:pt x="942" y="748"/>
                  </a:lnTo>
                  <a:lnTo>
                    <a:pt x="955" y="728"/>
                  </a:lnTo>
                  <a:lnTo>
                    <a:pt x="962" y="702"/>
                  </a:lnTo>
                  <a:lnTo>
                    <a:pt x="968" y="682"/>
                  </a:lnTo>
                  <a:lnTo>
                    <a:pt x="975" y="662"/>
                  </a:lnTo>
                  <a:lnTo>
                    <a:pt x="988" y="642"/>
                  </a:lnTo>
                  <a:lnTo>
                    <a:pt x="988" y="616"/>
                  </a:lnTo>
                  <a:lnTo>
                    <a:pt x="995" y="596"/>
                  </a:lnTo>
                  <a:lnTo>
                    <a:pt x="1002" y="569"/>
                  </a:lnTo>
                  <a:lnTo>
                    <a:pt x="1002" y="550"/>
                  </a:lnTo>
                  <a:lnTo>
                    <a:pt x="1002" y="523"/>
                  </a:lnTo>
                  <a:lnTo>
                    <a:pt x="1002" y="502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>
              <a:off x="5410080" y="2244600"/>
              <a:ext cx="12060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645160" y="2357280"/>
              <a:ext cx="0" cy="1238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757840" y="2244600"/>
              <a:ext cx="1238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V="1">
              <a:off x="5645160" y="2187720"/>
              <a:ext cx="0" cy="1141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V="1">
              <a:off x="5645160" y="2009880"/>
              <a:ext cx="0" cy="1206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7" name=""/>
          <p:cNvSpPr txBox="1"/>
          <p:nvPr/>
        </p:nvSpPr>
        <p:spPr>
          <a:xfrm>
            <a:off x="625320" y="2556000"/>
            <a:ext cx="1671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Gage p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point conta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 flipH="1">
            <a:off x="1781280" y="2786040"/>
            <a:ext cx="420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6329520" y="3121200"/>
            <a:ext cx="15303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Gage p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line conta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2832120" y="4135320"/>
            <a:ext cx="1492560" cy="336960"/>
          </a:xfrm>
          <a:custGeom>
            <a:avLst/>
            <a:gdLst/>
            <a:ahLst/>
            <a:rect l="0" t="0" r="r" b="b"/>
            <a:pathLst>
              <a:path fill="none" w="4146" h="936">
                <a:moveTo>
                  <a:pt x="0" y="936"/>
                </a:moveTo>
                <a:lnTo>
                  <a:pt x="0" y="0"/>
                </a:lnTo>
                <a:lnTo>
                  <a:pt x="4146" y="0"/>
                </a:lnTo>
                <a:lnTo>
                  <a:pt x="4146" y="936"/>
                </a:lnTo>
                <a:lnTo>
                  <a:pt x="0" y="936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2832120" y="3122640"/>
            <a:ext cx="3518280" cy="2359440"/>
          </a:xfrm>
          <a:custGeom>
            <a:avLst/>
            <a:gdLst/>
            <a:ahLst/>
            <a:rect l="0" t="0" r="r" b="b"/>
            <a:pathLst>
              <a:path fill="none" w="9773" h="6554">
                <a:moveTo>
                  <a:pt x="0" y="6554"/>
                </a:moveTo>
                <a:lnTo>
                  <a:pt x="0" y="0"/>
                </a:lnTo>
                <a:lnTo>
                  <a:pt x="5292" y="0"/>
                </a:lnTo>
                <a:lnTo>
                  <a:pt x="5292" y="1879"/>
                </a:lnTo>
                <a:lnTo>
                  <a:pt x="5292" y="1941"/>
                </a:lnTo>
                <a:lnTo>
                  <a:pt x="5301" y="2003"/>
                </a:lnTo>
                <a:lnTo>
                  <a:pt x="5310" y="2055"/>
                </a:lnTo>
                <a:lnTo>
                  <a:pt x="5336" y="2108"/>
                </a:lnTo>
                <a:lnTo>
                  <a:pt x="5363" y="2161"/>
                </a:lnTo>
                <a:lnTo>
                  <a:pt x="5389" y="2214"/>
                </a:lnTo>
                <a:lnTo>
                  <a:pt x="5424" y="2258"/>
                </a:lnTo>
                <a:lnTo>
                  <a:pt x="5460" y="2302"/>
                </a:lnTo>
                <a:lnTo>
                  <a:pt x="5504" y="2338"/>
                </a:lnTo>
                <a:lnTo>
                  <a:pt x="5548" y="2373"/>
                </a:lnTo>
                <a:lnTo>
                  <a:pt x="5601" y="2408"/>
                </a:lnTo>
                <a:lnTo>
                  <a:pt x="5654" y="2426"/>
                </a:lnTo>
                <a:lnTo>
                  <a:pt x="5707" y="2452"/>
                </a:lnTo>
                <a:lnTo>
                  <a:pt x="5768" y="2461"/>
                </a:lnTo>
                <a:lnTo>
                  <a:pt x="5821" y="2470"/>
                </a:lnTo>
                <a:lnTo>
                  <a:pt x="5883" y="2479"/>
                </a:lnTo>
                <a:lnTo>
                  <a:pt x="9773" y="2479"/>
                </a:lnTo>
                <a:lnTo>
                  <a:pt x="9773" y="4084"/>
                </a:lnTo>
                <a:lnTo>
                  <a:pt x="5883" y="4084"/>
                </a:lnTo>
                <a:lnTo>
                  <a:pt x="5821" y="4084"/>
                </a:lnTo>
                <a:lnTo>
                  <a:pt x="5768" y="4093"/>
                </a:lnTo>
                <a:lnTo>
                  <a:pt x="5707" y="4110"/>
                </a:lnTo>
                <a:lnTo>
                  <a:pt x="5654" y="4128"/>
                </a:lnTo>
                <a:lnTo>
                  <a:pt x="5601" y="4154"/>
                </a:lnTo>
                <a:lnTo>
                  <a:pt x="5548" y="4181"/>
                </a:lnTo>
                <a:lnTo>
                  <a:pt x="5504" y="4216"/>
                </a:lnTo>
                <a:lnTo>
                  <a:pt x="5460" y="4260"/>
                </a:lnTo>
                <a:lnTo>
                  <a:pt x="5424" y="4296"/>
                </a:lnTo>
                <a:lnTo>
                  <a:pt x="5389" y="4348"/>
                </a:lnTo>
                <a:lnTo>
                  <a:pt x="5363" y="4393"/>
                </a:lnTo>
                <a:lnTo>
                  <a:pt x="5336" y="4446"/>
                </a:lnTo>
                <a:lnTo>
                  <a:pt x="5310" y="4507"/>
                </a:lnTo>
                <a:lnTo>
                  <a:pt x="5301" y="4560"/>
                </a:lnTo>
                <a:lnTo>
                  <a:pt x="5292" y="4622"/>
                </a:lnTo>
                <a:lnTo>
                  <a:pt x="5292" y="4675"/>
                </a:lnTo>
                <a:lnTo>
                  <a:pt x="5292" y="6554"/>
                </a:lnTo>
                <a:lnTo>
                  <a:pt x="0" y="6554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3463920" y="3417840"/>
            <a:ext cx="178200" cy="100440"/>
          </a:xfrm>
          <a:custGeom>
            <a:avLst/>
            <a:gdLst/>
            <a:ahLst/>
            <a:rect l="0" t="0" r="r" b="b"/>
            <a:pathLst>
              <a:path w="495" h="279">
                <a:moveTo>
                  <a:pt x="209" y="0"/>
                </a:moveTo>
                <a:lnTo>
                  <a:pt x="495" y="279"/>
                </a:lnTo>
                <a:lnTo>
                  <a:pt x="0" y="55"/>
                </a:lnTo>
                <a:lnTo>
                  <a:pt x="209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2fefd"/>
            </a:solidFill>
            <a:round/>
          </a:ln>
        </p:spPr>
        <p:txBody>
          <a:bodyPr lIns="96120" rIns="96120" tIns="49320" bIns="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5457960" y="3605040"/>
            <a:ext cx="363600" cy="1816200"/>
          </a:xfrm>
          <a:prstGeom prst="rect">
            <a:avLst/>
          </a:prstGeom>
          <a:gradFill rotWithShape="0">
            <a:gsLst>
              <a:gs pos="0">
                <a:srgbClr val="30394c"/>
              </a:gs>
              <a:gs pos="50000">
                <a:srgbClr val="a2c1fe"/>
              </a:gs>
              <a:gs pos="100000">
                <a:srgbClr val="30394c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4" name=""/>
          <p:cNvGrpSpPr/>
          <p:nvPr/>
        </p:nvGrpSpPr>
        <p:grpSpPr>
          <a:xfrm>
            <a:off x="5462640" y="3321000"/>
            <a:ext cx="360360" cy="2293920"/>
            <a:chOff x="5462640" y="3321000"/>
            <a:chExt cx="360360" cy="2293920"/>
          </a:xfrm>
        </p:grpSpPr>
        <p:sp>
          <p:nvSpPr>
            <p:cNvPr id="1725" name=""/>
            <p:cNvSpPr/>
            <p:nvPr/>
          </p:nvSpPr>
          <p:spPr>
            <a:xfrm flipV="1">
              <a:off x="5643720" y="5049720"/>
              <a:ext cx="0" cy="5652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V="1">
              <a:off x="5643720" y="4838760"/>
              <a:ext cx="0" cy="1062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V="1">
              <a:off x="5643720" y="4205160"/>
              <a:ext cx="0" cy="5288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V="1">
              <a:off x="5643720" y="3992400"/>
              <a:ext cx="0" cy="104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V="1">
              <a:off x="5643720" y="3321000"/>
              <a:ext cx="0" cy="5652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462640" y="3602160"/>
              <a:ext cx="0" cy="18190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823000" y="3602160"/>
              <a:ext cx="0" cy="18190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5462640" y="5421240"/>
              <a:ext cx="36036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5462640" y="3602160"/>
              <a:ext cx="36036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504040" y="3544920"/>
              <a:ext cx="28080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>
              <a:off x="5462640" y="3544920"/>
              <a:ext cx="41400" cy="572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5784840" y="3544920"/>
              <a:ext cx="38160" cy="572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7" name=""/>
          <p:cNvGrpSpPr/>
          <p:nvPr/>
        </p:nvGrpSpPr>
        <p:grpSpPr>
          <a:xfrm>
            <a:off x="5668920" y="3321000"/>
            <a:ext cx="691200" cy="618120"/>
            <a:chOff x="5668920" y="3321000"/>
            <a:chExt cx="691200" cy="618120"/>
          </a:xfrm>
        </p:grpSpPr>
        <p:sp>
          <p:nvSpPr>
            <p:cNvPr id="1738" name=""/>
            <p:cNvSpPr/>
            <p:nvPr/>
          </p:nvSpPr>
          <p:spPr>
            <a:xfrm>
              <a:off x="5668920" y="3753000"/>
              <a:ext cx="160560" cy="186120"/>
            </a:xfrm>
            <a:custGeom>
              <a:avLst/>
              <a:gdLst/>
              <a:ahLst/>
              <a:rect l="0" t="0" r="r" b="b"/>
              <a:pathLst>
                <a:path w="446" h="517">
                  <a:moveTo>
                    <a:pt x="446" y="135"/>
                  </a:moveTo>
                  <a:lnTo>
                    <a:pt x="0" y="517"/>
                  </a:lnTo>
                  <a:lnTo>
                    <a:pt x="305" y="0"/>
                  </a:lnTo>
                  <a:lnTo>
                    <a:pt x="446" y="135"/>
                  </a:lnTo>
                  <a:close/>
                </a:path>
              </a:pathLst>
            </a:custGeom>
            <a:solidFill>
              <a:srgbClr val="f2fefd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5802480" y="3321000"/>
              <a:ext cx="557640" cy="456120"/>
            </a:xfrm>
            <a:custGeom>
              <a:avLst/>
              <a:gdLst/>
              <a:ahLst/>
              <a:rect l="0" t="0" r="r" b="b"/>
              <a:pathLst>
                <a:path fill="none" w="1549" h="1267">
                  <a:moveTo>
                    <a:pt x="0" y="1267"/>
                  </a:moveTo>
                  <a:lnTo>
                    <a:pt x="1072" y="0"/>
                  </a:lnTo>
                  <a:lnTo>
                    <a:pt x="1549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0" name=""/>
          <p:cNvSpPr/>
          <p:nvPr/>
        </p:nvSpPr>
        <p:spPr>
          <a:xfrm>
            <a:off x="2832120" y="896760"/>
            <a:ext cx="3518280" cy="1155960"/>
          </a:xfrm>
          <a:custGeom>
            <a:avLst/>
            <a:gdLst/>
            <a:ahLst/>
            <a:rect l="0" t="0" r="r" b="b"/>
            <a:pathLst>
              <a:path fill="none" w="9773" h="3211">
                <a:moveTo>
                  <a:pt x="0" y="0"/>
                </a:moveTo>
                <a:lnTo>
                  <a:pt x="0" y="3211"/>
                </a:lnTo>
                <a:lnTo>
                  <a:pt x="9773" y="3211"/>
                </a:lnTo>
                <a:lnTo>
                  <a:pt x="9773" y="1817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 flipH="1">
            <a:off x="2832120" y="896760"/>
            <a:ext cx="19051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832120" y="1535040"/>
            <a:ext cx="982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2984400" y="1535040"/>
            <a:ext cx="1018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3139920" y="1535040"/>
            <a:ext cx="1018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329256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344808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360360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375912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391464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4070520" y="1535040"/>
            <a:ext cx="104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4226040" y="1535040"/>
            <a:ext cx="982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4737240" y="1550880"/>
            <a:ext cx="0" cy="501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4324320" y="1535040"/>
            <a:ext cx="0" cy="795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>
            <a:off x="4324320" y="1665360"/>
            <a:ext cx="0" cy="104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>
            <a:off x="4324320" y="1820880"/>
            <a:ext cx="0" cy="104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>
            <a:off x="4324320" y="1976400"/>
            <a:ext cx="0" cy="763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>
            <a:off x="4737240" y="1550880"/>
            <a:ext cx="16128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>
            <a:off x="4737240" y="896760"/>
            <a:ext cx="0" cy="6541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325440" y="3797280"/>
            <a:ext cx="2127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>
            <a:off x="6438960" y="2052720"/>
            <a:ext cx="5684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6788160" y="1585800"/>
            <a:ext cx="92160" cy="1368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H="1">
            <a:off x="6788160" y="1585800"/>
            <a:ext cx="92160" cy="1368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6686640" y="1509840"/>
            <a:ext cx="276480" cy="276480"/>
          </a:xfrm>
          <a:custGeom>
            <a:avLst/>
            <a:gdLst/>
            <a:ahLst/>
            <a:rect l="0" t="0" r="r" b="b"/>
            <a:pathLst>
              <a:path fill="none" w="768" h="768">
                <a:moveTo>
                  <a:pt x="0" y="768"/>
                </a:moveTo>
                <a:lnTo>
                  <a:pt x="0" y="0"/>
                </a:lnTo>
                <a:lnTo>
                  <a:pt x="768" y="0"/>
                </a:lnTo>
                <a:lnTo>
                  <a:pt x="768" y="768"/>
                </a:lnTo>
                <a:lnTo>
                  <a:pt x="0" y="768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6826320" y="1785960"/>
            <a:ext cx="0" cy="266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>
            <a:off x="6746760" y="2052720"/>
            <a:ext cx="158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6746760" y="1916280"/>
            <a:ext cx="7956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>
            <a:off x="6746760" y="1916280"/>
            <a:ext cx="159120" cy="136800"/>
          </a:xfrm>
          <a:custGeom>
            <a:avLst/>
            <a:gdLst/>
            <a:ahLst/>
            <a:rect l="0" t="0" r="r" b="b"/>
            <a:pathLst>
              <a:path w="442" h="380">
                <a:moveTo>
                  <a:pt x="0" y="380"/>
                </a:moveTo>
                <a:lnTo>
                  <a:pt x="221" y="0"/>
                </a:lnTo>
                <a:lnTo>
                  <a:pt x="442" y="380"/>
                </a:lnTo>
                <a:lnTo>
                  <a:pt x="0" y="38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 flipH="1" flipV="1">
            <a:off x="6826320" y="1916280"/>
            <a:ext cx="79200" cy="1364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9" name=""/>
          <p:cNvGrpSpPr/>
          <p:nvPr/>
        </p:nvGrpSpPr>
        <p:grpSpPr>
          <a:xfrm>
            <a:off x="2168640" y="615960"/>
            <a:ext cx="4951440" cy="5592600"/>
            <a:chOff x="2168640" y="615960"/>
            <a:chExt cx="4951440" cy="5592600"/>
          </a:xfrm>
        </p:grpSpPr>
        <p:pic>
          <p:nvPicPr>
            <p:cNvPr id="1770" name="" descr=""/>
            <p:cNvPicPr/>
            <p:nvPr/>
          </p:nvPicPr>
          <p:blipFill>
            <a:blip r:embed="rId1"/>
            <a:stretch/>
          </p:blipFill>
          <p:spPr>
            <a:xfrm>
              <a:off x="2179800" y="736560"/>
              <a:ext cx="4832280" cy="546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1" name=""/>
            <p:cNvSpPr/>
            <p:nvPr/>
          </p:nvSpPr>
          <p:spPr>
            <a:xfrm>
              <a:off x="2168640" y="615960"/>
              <a:ext cx="4951440" cy="5592600"/>
            </a:xfrm>
            <a:prstGeom prst="rect">
              <a:avLst/>
            </a:prstGeom>
            <a:noFill/>
            <a:ln w="203040">
              <a:solidFill>
                <a:srgbClr val="114ffb"/>
              </a:solidFill>
              <a:round/>
            </a:ln>
          </p:spPr>
          <p:txBody>
            <a:bodyPr lIns="191520" rIns="191520" tIns="146520" bIns="146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"/>
          <p:cNvSpPr txBox="1"/>
          <p:nvPr/>
        </p:nvSpPr>
        <p:spPr>
          <a:xfrm>
            <a:off x="685800" y="2146320"/>
            <a:ext cx="7772400" cy="24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Derived From Stepped Su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868320" y="2370240"/>
            <a:ext cx="7407360" cy="19350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"/>
          <p:cNvSpPr txBox="1"/>
          <p:nvPr/>
        </p:nvSpPr>
        <p:spPr>
          <a:xfrm>
            <a:off x="685800" y="122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epped Su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685800" y="2577960"/>
            <a:ext cx="7772400" cy="244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rge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ay be used to establish a datum on stepped or offset surf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ffset distance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ween datum point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dimensioned using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c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men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6" name=""/>
          <p:cNvGrpSpPr/>
          <p:nvPr/>
        </p:nvGrpSpPr>
        <p:grpSpPr>
          <a:xfrm>
            <a:off x="895320" y="316080"/>
            <a:ext cx="7396200" cy="6121440"/>
            <a:chOff x="895320" y="316080"/>
            <a:chExt cx="7396200" cy="6121440"/>
          </a:xfrm>
        </p:grpSpPr>
        <p:sp>
          <p:nvSpPr>
            <p:cNvPr id="1777" name=""/>
            <p:cNvSpPr/>
            <p:nvPr/>
          </p:nvSpPr>
          <p:spPr>
            <a:xfrm>
              <a:off x="7053120" y="6262560"/>
              <a:ext cx="79560" cy="1177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H="1">
              <a:off x="7053120" y="6262560"/>
              <a:ext cx="79560" cy="1177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167600" y="6262560"/>
              <a:ext cx="79560" cy="117720"/>
            </a:xfrm>
            <a:custGeom>
              <a:avLst/>
              <a:gdLst/>
              <a:ahLst/>
              <a:rect l="0" t="0" r="r" b="b"/>
              <a:pathLst>
                <a:path fill="none" w="221" h="327">
                  <a:moveTo>
                    <a:pt x="17" y="79"/>
                  </a:moveTo>
                  <a:lnTo>
                    <a:pt x="17" y="61"/>
                  </a:lnTo>
                  <a:lnTo>
                    <a:pt x="26" y="26"/>
                  </a:lnTo>
                  <a:lnTo>
                    <a:pt x="44" y="17"/>
                  </a:lnTo>
                  <a:lnTo>
                    <a:pt x="79" y="0"/>
                  </a:lnTo>
                  <a:lnTo>
                    <a:pt x="142" y="0"/>
                  </a:lnTo>
                  <a:lnTo>
                    <a:pt x="168" y="17"/>
                  </a:lnTo>
                  <a:lnTo>
                    <a:pt x="186" y="26"/>
                  </a:lnTo>
                  <a:lnTo>
                    <a:pt x="203" y="61"/>
                  </a:lnTo>
                  <a:lnTo>
                    <a:pt x="203" y="97"/>
                  </a:lnTo>
                  <a:lnTo>
                    <a:pt x="186" y="123"/>
                  </a:lnTo>
                  <a:lnTo>
                    <a:pt x="159" y="168"/>
                  </a:lnTo>
                  <a:lnTo>
                    <a:pt x="0" y="327"/>
                  </a:lnTo>
                  <a:lnTo>
                    <a:pt x="221" y="327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6942240" y="6021360"/>
              <a:ext cx="416160" cy="416160"/>
            </a:xfrm>
            <a:custGeom>
              <a:avLst/>
              <a:gdLst/>
              <a:ahLst/>
              <a:rect l="0" t="0" r="r" b="b"/>
              <a:pathLst>
                <a:path fill="none" w="1156" h="1156">
                  <a:moveTo>
                    <a:pt x="1156" y="573"/>
                  </a:moveTo>
                  <a:lnTo>
                    <a:pt x="1156" y="546"/>
                  </a:lnTo>
                  <a:lnTo>
                    <a:pt x="1147" y="520"/>
                  </a:lnTo>
                  <a:lnTo>
                    <a:pt x="1147" y="493"/>
                  </a:lnTo>
                  <a:lnTo>
                    <a:pt x="1147" y="467"/>
                  </a:lnTo>
                  <a:lnTo>
                    <a:pt x="1138" y="449"/>
                  </a:lnTo>
                  <a:lnTo>
                    <a:pt x="1129" y="423"/>
                  </a:lnTo>
                  <a:lnTo>
                    <a:pt x="1121" y="396"/>
                  </a:lnTo>
                  <a:lnTo>
                    <a:pt x="1112" y="370"/>
                  </a:lnTo>
                  <a:lnTo>
                    <a:pt x="1103" y="343"/>
                  </a:lnTo>
                  <a:lnTo>
                    <a:pt x="1094" y="326"/>
                  </a:lnTo>
                  <a:lnTo>
                    <a:pt x="1085" y="299"/>
                  </a:lnTo>
                  <a:lnTo>
                    <a:pt x="1068" y="282"/>
                  </a:lnTo>
                  <a:lnTo>
                    <a:pt x="1059" y="255"/>
                  </a:lnTo>
                  <a:lnTo>
                    <a:pt x="1041" y="238"/>
                  </a:lnTo>
                  <a:lnTo>
                    <a:pt x="1024" y="211"/>
                  </a:lnTo>
                  <a:lnTo>
                    <a:pt x="1006" y="194"/>
                  </a:lnTo>
                  <a:lnTo>
                    <a:pt x="997" y="176"/>
                  </a:lnTo>
                  <a:lnTo>
                    <a:pt x="971" y="158"/>
                  </a:lnTo>
                  <a:lnTo>
                    <a:pt x="953" y="141"/>
                  </a:lnTo>
                  <a:lnTo>
                    <a:pt x="935" y="123"/>
                  </a:lnTo>
                  <a:lnTo>
                    <a:pt x="918" y="105"/>
                  </a:lnTo>
                  <a:lnTo>
                    <a:pt x="891" y="88"/>
                  </a:lnTo>
                  <a:lnTo>
                    <a:pt x="874" y="79"/>
                  </a:lnTo>
                  <a:lnTo>
                    <a:pt x="847" y="70"/>
                  </a:lnTo>
                  <a:lnTo>
                    <a:pt x="830" y="52"/>
                  </a:lnTo>
                  <a:lnTo>
                    <a:pt x="803" y="44"/>
                  </a:lnTo>
                  <a:lnTo>
                    <a:pt x="777" y="35"/>
                  </a:lnTo>
                  <a:lnTo>
                    <a:pt x="750" y="26"/>
                  </a:lnTo>
                  <a:lnTo>
                    <a:pt x="733" y="17"/>
                  </a:lnTo>
                  <a:lnTo>
                    <a:pt x="706" y="8"/>
                  </a:lnTo>
                  <a:lnTo>
                    <a:pt x="680" y="8"/>
                  </a:lnTo>
                  <a:lnTo>
                    <a:pt x="653" y="0"/>
                  </a:lnTo>
                  <a:lnTo>
                    <a:pt x="627" y="0"/>
                  </a:lnTo>
                  <a:lnTo>
                    <a:pt x="600" y="0"/>
                  </a:lnTo>
                  <a:lnTo>
                    <a:pt x="573" y="0"/>
                  </a:lnTo>
                  <a:lnTo>
                    <a:pt x="546" y="0"/>
                  </a:lnTo>
                  <a:lnTo>
                    <a:pt x="520" y="0"/>
                  </a:lnTo>
                  <a:lnTo>
                    <a:pt x="493" y="0"/>
                  </a:lnTo>
                  <a:lnTo>
                    <a:pt x="467" y="8"/>
                  </a:lnTo>
                  <a:lnTo>
                    <a:pt x="449" y="8"/>
                  </a:lnTo>
                  <a:lnTo>
                    <a:pt x="423" y="17"/>
                  </a:lnTo>
                  <a:lnTo>
                    <a:pt x="396" y="26"/>
                  </a:lnTo>
                  <a:lnTo>
                    <a:pt x="370" y="35"/>
                  </a:lnTo>
                  <a:lnTo>
                    <a:pt x="343" y="44"/>
                  </a:lnTo>
                  <a:lnTo>
                    <a:pt x="326" y="52"/>
                  </a:lnTo>
                  <a:lnTo>
                    <a:pt x="299" y="70"/>
                  </a:lnTo>
                  <a:lnTo>
                    <a:pt x="282" y="79"/>
                  </a:lnTo>
                  <a:lnTo>
                    <a:pt x="255" y="88"/>
                  </a:lnTo>
                  <a:lnTo>
                    <a:pt x="238" y="105"/>
                  </a:lnTo>
                  <a:lnTo>
                    <a:pt x="211" y="123"/>
                  </a:lnTo>
                  <a:lnTo>
                    <a:pt x="194" y="141"/>
                  </a:lnTo>
                  <a:lnTo>
                    <a:pt x="176" y="158"/>
                  </a:lnTo>
                  <a:lnTo>
                    <a:pt x="158" y="176"/>
                  </a:lnTo>
                  <a:lnTo>
                    <a:pt x="141" y="194"/>
                  </a:lnTo>
                  <a:lnTo>
                    <a:pt x="123" y="211"/>
                  </a:lnTo>
                  <a:lnTo>
                    <a:pt x="105" y="238"/>
                  </a:lnTo>
                  <a:lnTo>
                    <a:pt x="97" y="255"/>
                  </a:lnTo>
                  <a:lnTo>
                    <a:pt x="79" y="282"/>
                  </a:lnTo>
                  <a:lnTo>
                    <a:pt x="70" y="299"/>
                  </a:lnTo>
                  <a:lnTo>
                    <a:pt x="52" y="326"/>
                  </a:lnTo>
                  <a:lnTo>
                    <a:pt x="44" y="343"/>
                  </a:lnTo>
                  <a:lnTo>
                    <a:pt x="35" y="370"/>
                  </a:lnTo>
                  <a:lnTo>
                    <a:pt x="26" y="396"/>
                  </a:lnTo>
                  <a:lnTo>
                    <a:pt x="17" y="423"/>
                  </a:lnTo>
                  <a:lnTo>
                    <a:pt x="8" y="449"/>
                  </a:lnTo>
                  <a:lnTo>
                    <a:pt x="8" y="467"/>
                  </a:lnTo>
                  <a:lnTo>
                    <a:pt x="0" y="493"/>
                  </a:lnTo>
                  <a:lnTo>
                    <a:pt x="0" y="520"/>
                  </a:lnTo>
                  <a:lnTo>
                    <a:pt x="0" y="546"/>
                  </a:lnTo>
                  <a:lnTo>
                    <a:pt x="0" y="573"/>
                  </a:lnTo>
                  <a:lnTo>
                    <a:pt x="0" y="600"/>
                  </a:lnTo>
                  <a:lnTo>
                    <a:pt x="0" y="627"/>
                  </a:lnTo>
                  <a:lnTo>
                    <a:pt x="0" y="653"/>
                  </a:lnTo>
                  <a:lnTo>
                    <a:pt x="8" y="680"/>
                  </a:lnTo>
                  <a:lnTo>
                    <a:pt x="8" y="706"/>
                  </a:lnTo>
                  <a:lnTo>
                    <a:pt x="17" y="733"/>
                  </a:lnTo>
                  <a:lnTo>
                    <a:pt x="26" y="750"/>
                  </a:lnTo>
                  <a:lnTo>
                    <a:pt x="35" y="777"/>
                  </a:lnTo>
                  <a:lnTo>
                    <a:pt x="44" y="803"/>
                  </a:lnTo>
                  <a:lnTo>
                    <a:pt x="52" y="830"/>
                  </a:lnTo>
                  <a:lnTo>
                    <a:pt x="70" y="847"/>
                  </a:lnTo>
                  <a:lnTo>
                    <a:pt x="79" y="874"/>
                  </a:lnTo>
                  <a:lnTo>
                    <a:pt x="97" y="891"/>
                  </a:lnTo>
                  <a:lnTo>
                    <a:pt x="105" y="918"/>
                  </a:lnTo>
                  <a:lnTo>
                    <a:pt x="123" y="935"/>
                  </a:lnTo>
                  <a:lnTo>
                    <a:pt x="141" y="953"/>
                  </a:lnTo>
                  <a:lnTo>
                    <a:pt x="158" y="971"/>
                  </a:lnTo>
                  <a:lnTo>
                    <a:pt x="176" y="997"/>
                  </a:lnTo>
                  <a:lnTo>
                    <a:pt x="194" y="1015"/>
                  </a:lnTo>
                  <a:lnTo>
                    <a:pt x="211" y="1024"/>
                  </a:lnTo>
                  <a:lnTo>
                    <a:pt x="238" y="1041"/>
                  </a:lnTo>
                  <a:lnTo>
                    <a:pt x="255" y="1059"/>
                  </a:lnTo>
                  <a:lnTo>
                    <a:pt x="282" y="1068"/>
                  </a:lnTo>
                  <a:lnTo>
                    <a:pt x="299" y="1085"/>
                  </a:lnTo>
                  <a:lnTo>
                    <a:pt x="326" y="1094"/>
                  </a:lnTo>
                  <a:lnTo>
                    <a:pt x="343" y="1103"/>
                  </a:lnTo>
                  <a:lnTo>
                    <a:pt x="370" y="1121"/>
                  </a:lnTo>
                  <a:lnTo>
                    <a:pt x="396" y="1121"/>
                  </a:lnTo>
                  <a:lnTo>
                    <a:pt x="423" y="1129"/>
                  </a:lnTo>
                  <a:lnTo>
                    <a:pt x="449" y="1138"/>
                  </a:lnTo>
                  <a:lnTo>
                    <a:pt x="467" y="1147"/>
                  </a:lnTo>
                  <a:lnTo>
                    <a:pt x="493" y="1147"/>
                  </a:lnTo>
                  <a:lnTo>
                    <a:pt x="520" y="1147"/>
                  </a:lnTo>
                  <a:lnTo>
                    <a:pt x="546" y="1156"/>
                  </a:lnTo>
                  <a:lnTo>
                    <a:pt x="573" y="1156"/>
                  </a:lnTo>
                  <a:lnTo>
                    <a:pt x="600" y="1156"/>
                  </a:lnTo>
                  <a:lnTo>
                    <a:pt x="627" y="1147"/>
                  </a:lnTo>
                  <a:lnTo>
                    <a:pt x="653" y="1147"/>
                  </a:lnTo>
                  <a:lnTo>
                    <a:pt x="680" y="1147"/>
                  </a:lnTo>
                  <a:lnTo>
                    <a:pt x="706" y="1138"/>
                  </a:lnTo>
                  <a:lnTo>
                    <a:pt x="733" y="1129"/>
                  </a:lnTo>
                  <a:lnTo>
                    <a:pt x="750" y="1121"/>
                  </a:lnTo>
                  <a:lnTo>
                    <a:pt x="777" y="1121"/>
                  </a:lnTo>
                  <a:lnTo>
                    <a:pt x="803" y="1103"/>
                  </a:lnTo>
                  <a:lnTo>
                    <a:pt x="830" y="1094"/>
                  </a:lnTo>
                  <a:lnTo>
                    <a:pt x="847" y="1085"/>
                  </a:lnTo>
                  <a:lnTo>
                    <a:pt x="874" y="1068"/>
                  </a:lnTo>
                  <a:lnTo>
                    <a:pt x="891" y="1059"/>
                  </a:lnTo>
                  <a:lnTo>
                    <a:pt x="918" y="1041"/>
                  </a:lnTo>
                  <a:lnTo>
                    <a:pt x="935" y="1024"/>
                  </a:lnTo>
                  <a:lnTo>
                    <a:pt x="953" y="1015"/>
                  </a:lnTo>
                  <a:lnTo>
                    <a:pt x="971" y="997"/>
                  </a:lnTo>
                  <a:lnTo>
                    <a:pt x="997" y="971"/>
                  </a:lnTo>
                  <a:lnTo>
                    <a:pt x="1006" y="953"/>
                  </a:lnTo>
                  <a:lnTo>
                    <a:pt x="1024" y="935"/>
                  </a:lnTo>
                  <a:lnTo>
                    <a:pt x="1041" y="918"/>
                  </a:lnTo>
                  <a:lnTo>
                    <a:pt x="1059" y="891"/>
                  </a:lnTo>
                  <a:lnTo>
                    <a:pt x="1068" y="874"/>
                  </a:lnTo>
                  <a:lnTo>
                    <a:pt x="1085" y="847"/>
                  </a:lnTo>
                  <a:lnTo>
                    <a:pt x="1094" y="830"/>
                  </a:lnTo>
                  <a:lnTo>
                    <a:pt x="1103" y="803"/>
                  </a:lnTo>
                  <a:lnTo>
                    <a:pt x="1112" y="777"/>
                  </a:lnTo>
                  <a:lnTo>
                    <a:pt x="1121" y="750"/>
                  </a:lnTo>
                  <a:lnTo>
                    <a:pt x="1129" y="733"/>
                  </a:lnTo>
                  <a:lnTo>
                    <a:pt x="1138" y="706"/>
                  </a:lnTo>
                  <a:lnTo>
                    <a:pt x="1147" y="680"/>
                  </a:lnTo>
                  <a:lnTo>
                    <a:pt x="1147" y="653"/>
                  </a:lnTo>
                  <a:lnTo>
                    <a:pt x="1147" y="627"/>
                  </a:lnTo>
                  <a:lnTo>
                    <a:pt x="1156" y="600"/>
                  </a:lnTo>
                  <a:lnTo>
                    <a:pt x="1156" y="573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V="1">
              <a:off x="5859360" y="3592440"/>
              <a:ext cx="615960" cy="8287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891040" y="5688000"/>
              <a:ext cx="1067040" cy="4572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6138720" y="2925720"/>
              <a:ext cx="19080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796000" y="5538960"/>
              <a:ext cx="14446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7164360" y="4710240"/>
              <a:ext cx="0" cy="1904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7164360" y="5195880"/>
              <a:ext cx="0" cy="1904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7139160" y="4557600"/>
              <a:ext cx="51120" cy="152640"/>
            </a:xfrm>
            <a:custGeom>
              <a:avLst/>
              <a:gdLst/>
              <a:ahLst/>
              <a:rect l="0" t="0" r="r" b="b"/>
              <a:pathLst>
                <a:path w="142" h="424">
                  <a:moveTo>
                    <a:pt x="0" y="424"/>
                  </a:moveTo>
                  <a:lnTo>
                    <a:pt x="142" y="424"/>
                  </a:lnTo>
                  <a:lnTo>
                    <a:pt x="70" y="0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7139160" y="5386320"/>
              <a:ext cx="51120" cy="152640"/>
            </a:xfrm>
            <a:custGeom>
              <a:avLst/>
              <a:gdLst/>
              <a:ahLst/>
              <a:rect l="0" t="0" r="r" b="b"/>
              <a:pathLst>
                <a:path w="142" h="424">
                  <a:moveTo>
                    <a:pt x="0" y="0"/>
                  </a:moveTo>
                  <a:lnTo>
                    <a:pt x="142" y="0"/>
                  </a:lnTo>
                  <a:lnTo>
                    <a:pt x="7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7062840" y="4986360"/>
              <a:ext cx="82800" cy="124200"/>
            </a:xfrm>
            <a:custGeom>
              <a:avLst/>
              <a:gdLst/>
              <a:ahLst/>
              <a:rect l="0" t="0" r="r" b="b"/>
              <a:pathLst>
                <a:path fill="none" w="230" h="345">
                  <a:moveTo>
                    <a:pt x="17" y="89"/>
                  </a:moveTo>
                  <a:lnTo>
                    <a:pt x="17" y="70"/>
                  </a:lnTo>
                  <a:lnTo>
                    <a:pt x="26" y="35"/>
                  </a:lnTo>
                  <a:lnTo>
                    <a:pt x="44" y="17"/>
                  </a:lnTo>
                  <a:lnTo>
                    <a:pt x="79" y="0"/>
                  </a:lnTo>
                  <a:lnTo>
                    <a:pt x="142" y="0"/>
                  </a:lnTo>
                  <a:lnTo>
                    <a:pt x="177" y="17"/>
                  </a:lnTo>
                  <a:lnTo>
                    <a:pt x="195" y="35"/>
                  </a:lnTo>
                  <a:lnTo>
                    <a:pt x="212" y="70"/>
                  </a:lnTo>
                  <a:lnTo>
                    <a:pt x="212" y="98"/>
                  </a:lnTo>
                  <a:lnTo>
                    <a:pt x="195" y="133"/>
                  </a:lnTo>
                  <a:lnTo>
                    <a:pt x="159" y="186"/>
                  </a:lnTo>
                  <a:lnTo>
                    <a:pt x="0" y="345"/>
                  </a:lnTo>
                  <a:lnTo>
                    <a:pt x="230" y="345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186680" y="5100480"/>
              <a:ext cx="9720" cy="9720"/>
            </a:xfrm>
            <a:custGeom>
              <a:avLst/>
              <a:gdLst/>
              <a:ahLst/>
              <a:rect l="0" t="0" r="r" b="b"/>
              <a:pathLst>
                <a:path fill="none" w="27" h="27">
                  <a:moveTo>
                    <a:pt x="8" y="0"/>
                  </a:moveTo>
                  <a:lnTo>
                    <a:pt x="0" y="8"/>
                  </a:lnTo>
                  <a:lnTo>
                    <a:pt x="8" y="27"/>
                  </a:lnTo>
                  <a:lnTo>
                    <a:pt x="27" y="8"/>
                  </a:lnTo>
                  <a:lnTo>
                    <a:pt x="8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7256520" y="4986360"/>
              <a:ext cx="28800" cy="124200"/>
            </a:xfrm>
            <a:custGeom>
              <a:avLst/>
              <a:gdLst/>
              <a:ahLst/>
              <a:rect l="0" t="0" r="r" b="b"/>
              <a:pathLst>
                <a:path fill="none" w="80" h="345">
                  <a:moveTo>
                    <a:pt x="0" y="70"/>
                  </a:moveTo>
                  <a:lnTo>
                    <a:pt x="26" y="52"/>
                  </a:lnTo>
                  <a:lnTo>
                    <a:pt x="80" y="0"/>
                  </a:lnTo>
                  <a:lnTo>
                    <a:pt x="80" y="345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977160" y="4900680"/>
              <a:ext cx="375120" cy="295560"/>
            </a:xfrm>
            <a:custGeom>
              <a:avLst/>
              <a:gdLst/>
              <a:ahLst/>
              <a:rect l="0" t="0" r="r" b="b"/>
              <a:pathLst>
                <a:path fill="none" w="1042" h="821">
                  <a:moveTo>
                    <a:pt x="0" y="821"/>
                  </a:moveTo>
                  <a:lnTo>
                    <a:pt x="1042" y="821"/>
                  </a:lnTo>
                  <a:lnTo>
                    <a:pt x="1042" y="0"/>
                  </a:lnTo>
                  <a:lnTo>
                    <a:pt x="0" y="0"/>
                  </a:lnTo>
                  <a:lnTo>
                    <a:pt x="0" y="821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888240" y="3836880"/>
              <a:ext cx="3524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796000" y="4557600"/>
              <a:ext cx="14446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V="1">
              <a:off x="7164360" y="3532320"/>
              <a:ext cx="0" cy="1522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164360" y="4710240"/>
              <a:ext cx="0" cy="1522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139160" y="3684600"/>
              <a:ext cx="51120" cy="152640"/>
            </a:xfrm>
            <a:custGeom>
              <a:avLst/>
              <a:gdLst/>
              <a:ahLst/>
              <a:rect l="0" t="0" r="r" b="b"/>
              <a:pathLst>
                <a:path w="142" h="424">
                  <a:moveTo>
                    <a:pt x="0" y="0"/>
                  </a:moveTo>
                  <a:lnTo>
                    <a:pt x="142" y="0"/>
                  </a:lnTo>
                  <a:lnTo>
                    <a:pt x="7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139160" y="4557600"/>
              <a:ext cx="51120" cy="152640"/>
            </a:xfrm>
            <a:custGeom>
              <a:avLst/>
              <a:gdLst/>
              <a:ahLst/>
              <a:rect l="0" t="0" r="r" b="b"/>
              <a:pathLst>
                <a:path w="142" h="424">
                  <a:moveTo>
                    <a:pt x="0" y="424"/>
                  </a:moveTo>
                  <a:lnTo>
                    <a:pt x="142" y="424"/>
                  </a:lnTo>
                  <a:lnTo>
                    <a:pt x="70" y="0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034040" y="4135320"/>
              <a:ext cx="32040" cy="124200"/>
            </a:xfrm>
            <a:custGeom>
              <a:avLst/>
              <a:gdLst/>
              <a:ahLst/>
              <a:rect l="0" t="0" r="r" b="b"/>
              <a:pathLst>
                <a:path fill="none" w="89" h="345">
                  <a:moveTo>
                    <a:pt x="0" y="70"/>
                  </a:moveTo>
                  <a:lnTo>
                    <a:pt x="35" y="52"/>
                  </a:lnTo>
                  <a:lnTo>
                    <a:pt x="89" y="0"/>
                  </a:lnTo>
                  <a:lnTo>
                    <a:pt x="89" y="345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7142040" y="4249800"/>
              <a:ext cx="9720" cy="9720"/>
            </a:xfrm>
            <a:custGeom>
              <a:avLst/>
              <a:gdLst/>
              <a:ahLst/>
              <a:rect l="0" t="0" r="r" b="b"/>
              <a:pathLst>
                <a:path fill="none" w="27" h="27">
                  <a:moveTo>
                    <a:pt x="18" y="0"/>
                  </a:moveTo>
                  <a:lnTo>
                    <a:pt x="0" y="8"/>
                  </a:lnTo>
                  <a:lnTo>
                    <a:pt x="18" y="27"/>
                  </a:lnTo>
                  <a:lnTo>
                    <a:pt x="27" y="8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7192800" y="4135320"/>
              <a:ext cx="82800" cy="124200"/>
            </a:xfrm>
            <a:custGeom>
              <a:avLst/>
              <a:gdLst/>
              <a:ahLst/>
              <a:rect l="0" t="0" r="r" b="b"/>
              <a:pathLst>
                <a:path fill="none" w="230" h="345">
                  <a:moveTo>
                    <a:pt x="203" y="0"/>
                  </a:moveTo>
                  <a:lnTo>
                    <a:pt x="35" y="0"/>
                  </a:lnTo>
                  <a:lnTo>
                    <a:pt x="17" y="150"/>
                  </a:lnTo>
                  <a:lnTo>
                    <a:pt x="35" y="133"/>
                  </a:lnTo>
                  <a:lnTo>
                    <a:pt x="88" y="115"/>
                  </a:lnTo>
                  <a:lnTo>
                    <a:pt x="133" y="115"/>
                  </a:lnTo>
                  <a:lnTo>
                    <a:pt x="186" y="133"/>
                  </a:lnTo>
                  <a:lnTo>
                    <a:pt x="212" y="168"/>
                  </a:lnTo>
                  <a:lnTo>
                    <a:pt x="230" y="212"/>
                  </a:lnTo>
                  <a:lnTo>
                    <a:pt x="230" y="247"/>
                  </a:lnTo>
                  <a:lnTo>
                    <a:pt x="212" y="301"/>
                  </a:lnTo>
                  <a:lnTo>
                    <a:pt x="186" y="328"/>
                  </a:lnTo>
                  <a:lnTo>
                    <a:pt x="133" y="345"/>
                  </a:lnTo>
                  <a:lnTo>
                    <a:pt x="88" y="345"/>
                  </a:lnTo>
                  <a:lnTo>
                    <a:pt x="35" y="328"/>
                  </a:lnTo>
                  <a:lnTo>
                    <a:pt x="17" y="319"/>
                  </a:lnTo>
                  <a:lnTo>
                    <a:pt x="0" y="284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948360" y="4049640"/>
              <a:ext cx="432000" cy="295560"/>
            </a:xfrm>
            <a:custGeom>
              <a:avLst/>
              <a:gdLst/>
              <a:ahLst/>
              <a:rect l="0" t="0" r="r" b="b"/>
              <a:pathLst>
                <a:path fill="none" w="1200" h="821">
                  <a:moveTo>
                    <a:pt x="0" y="821"/>
                  </a:moveTo>
                  <a:lnTo>
                    <a:pt x="1200" y="821"/>
                  </a:lnTo>
                  <a:lnTo>
                    <a:pt x="1200" y="0"/>
                  </a:lnTo>
                  <a:lnTo>
                    <a:pt x="0" y="0"/>
                  </a:lnTo>
                  <a:lnTo>
                    <a:pt x="0" y="821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2849400" y="1633680"/>
              <a:ext cx="3962880" cy="870480"/>
            </a:xfrm>
            <a:custGeom>
              <a:avLst/>
              <a:gdLst/>
              <a:ahLst/>
              <a:rect l="0" t="0" r="r" b="b"/>
              <a:pathLst>
                <a:path fill="none" w="11008" h="2418">
                  <a:moveTo>
                    <a:pt x="4931" y="2418"/>
                  </a:moveTo>
                  <a:lnTo>
                    <a:pt x="11008" y="2418"/>
                  </a:lnTo>
                  <a:lnTo>
                    <a:pt x="1100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2849400" y="3836880"/>
              <a:ext cx="3962880" cy="2422800"/>
            </a:xfrm>
            <a:custGeom>
              <a:avLst/>
              <a:gdLst/>
              <a:ahLst/>
              <a:rect l="0" t="0" r="r" b="b"/>
              <a:pathLst>
                <a:path fill="none" w="11008" h="6730">
                  <a:moveTo>
                    <a:pt x="0" y="0"/>
                  </a:moveTo>
                  <a:lnTo>
                    <a:pt x="0" y="6730"/>
                  </a:lnTo>
                  <a:lnTo>
                    <a:pt x="11008" y="6730"/>
                  </a:lnTo>
                  <a:lnTo>
                    <a:pt x="1100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H="1" flipV="1">
              <a:off x="2944800" y="1407960"/>
              <a:ext cx="647640" cy="5209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849400" y="1633680"/>
              <a:ext cx="0" cy="4348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V="1">
              <a:off x="5719680" y="2560680"/>
              <a:ext cx="0" cy="19238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3738600" y="2141640"/>
              <a:ext cx="0" cy="28638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H="1">
              <a:off x="2430360" y="3836880"/>
              <a:ext cx="3430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H="1">
              <a:off x="2430360" y="5049720"/>
              <a:ext cx="123192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506680" y="3989520"/>
              <a:ext cx="0" cy="3078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V="1">
              <a:off x="2506680" y="4589640"/>
              <a:ext cx="0" cy="3078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481120" y="3836880"/>
              <a:ext cx="51120" cy="152640"/>
            </a:xfrm>
            <a:custGeom>
              <a:avLst/>
              <a:gdLst/>
              <a:ahLst/>
              <a:rect l="0" t="0" r="r" b="b"/>
              <a:pathLst>
                <a:path w="142" h="424">
                  <a:moveTo>
                    <a:pt x="0" y="424"/>
                  </a:moveTo>
                  <a:lnTo>
                    <a:pt x="142" y="424"/>
                  </a:lnTo>
                  <a:lnTo>
                    <a:pt x="70" y="0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481120" y="4897440"/>
              <a:ext cx="51120" cy="152640"/>
            </a:xfrm>
            <a:custGeom>
              <a:avLst/>
              <a:gdLst/>
              <a:ahLst/>
              <a:rect l="0" t="0" r="r" b="b"/>
              <a:pathLst>
                <a:path w="142" h="424">
                  <a:moveTo>
                    <a:pt x="0" y="0"/>
                  </a:moveTo>
                  <a:lnTo>
                    <a:pt x="142" y="0"/>
                  </a:lnTo>
                  <a:lnTo>
                    <a:pt x="7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376360" y="4383000"/>
              <a:ext cx="82800" cy="124200"/>
            </a:xfrm>
            <a:custGeom>
              <a:avLst/>
              <a:gdLst/>
              <a:ahLst/>
              <a:rect l="0" t="0" r="r" b="b"/>
              <a:pathLst>
                <a:path fill="none" w="230" h="345">
                  <a:moveTo>
                    <a:pt x="17" y="79"/>
                  </a:moveTo>
                  <a:lnTo>
                    <a:pt x="17" y="61"/>
                  </a:lnTo>
                  <a:lnTo>
                    <a:pt x="35" y="26"/>
                  </a:lnTo>
                  <a:lnTo>
                    <a:pt x="52" y="8"/>
                  </a:lnTo>
                  <a:lnTo>
                    <a:pt x="79" y="0"/>
                  </a:lnTo>
                  <a:lnTo>
                    <a:pt x="150" y="0"/>
                  </a:lnTo>
                  <a:lnTo>
                    <a:pt x="177" y="8"/>
                  </a:lnTo>
                  <a:lnTo>
                    <a:pt x="195" y="26"/>
                  </a:lnTo>
                  <a:lnTo>
                    <a:pt x="212" y="61"/>
                  </a:lnTo>
                  <a:lnTo>
                    <a:pt x="212" y="98"/>
                  </a:lnTo>
                  <a:lnTo>
                    <a:pt x="195" y="124"/>
                  </a:lnTo>
                  <a:lnTo>
                    <a:pt x="159" y="177"/>
                  </a:lnTo>
                  <a:lnTo>
                    <a:pt x="0" y="345"/>
                  </a:lnTo>
                  <a:lnTo>
                    <a:pt x="230" y="345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500200" y="4494240"/>
              <a:ext cx="12960" cy="12960"/>
            </a:xfrm>
            <a:custGeom>
              <a:avLst/>
              <a:gdLst/>
              <a:ahLst/>
              <a:rect l="0" t="0" r="r" b="b"/>
              <a:pathLst>
                <a:path fill="none" w="36" h="36">
                  <a:moveTo>
                    <a:pt x="17" y="0"/>
                  </a:moveTo>
                  <a:lnTo>
                    <a:pt x="0" y="17"/>
                  </a:lnTo>
                  <a:lnTo>
                    <a:pt x="17" y="36"/>
                  </a:lnTo>
                  <a:lnTo>
                    <a:pt x="36" y="17"/>
                  </a:lnTo>
                  <a:lnTo>
                    <a:pt x="17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554200" y="4383000"/>
              <a:ext cx="79560" cy="124200"/>
            </a:xfrm>
            <a:custGeom>
              <a:avLst/>
              <a:gdLst/>
              <a:ahLst/>
              <a:rect l="0" t="0" r="r" b="b"/>
              <a:pathLst>
                <a:path fill="none" w="221" h="345">
                  <a:moveTo>
                    <a:pt x="195" y="0"/>
                  </a:moveTo>
                  <a:lnTo>
                    <a:pt x="26" y="0"/>
                  </a:lnTo>
                  <a:lnTo>
                    <a:pt x="8" y="142"/>
                  </a:lnTo>
                  <a:lnTo>
                    <a:pt x="26" y="124"/>
                  </a:lnTo>
                  <a:lnTo>
                    <a:pt x="79" y="115"/>
                  </a:lnTo>
                  <a:lnTo>
                    <a:pt x="124" y="115"/>
                  </a:lnTo>
                  <a:lnTo>
                    <a:pt x="177" y="124"/>
                  </a:lnTo>
                  <a:lnTo>
                    <a:pt x="212" y="159"/>
                  </a:lnTo>
                  <a:lnTo>
                    <a:pt x="221" y="212"/>
                  </a:lnTo>
                  <a:lnTo>
                    <a:pt x="221" y="239"/>
                  </a:lnTo>
                  <a:lnTo>
                    <a:pt x="212" y="293"/>
                  </a:lnTo>
                  <a:lnTo>
                    <a:pt x="177" y="328"/>
                  </a:lnTo>
                  <a:lnTo>
                    <a:pt x="124" y="345"/>
                  </a:lnTo>
                  <a:lnTo>
                    <a:pt x="79" y="345"/>
                  </a:lnTo>
                  <a:lnTo>
                    <a:pt x="26" y="328"/>
                  </a:lnTo>
                  <a:lnTo>
                    <a:pt x="8" y="310"/>
                  </a:lnTo>
                  <a:lnTo>
                    <a:pt x="0" y="275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290680" y="4297320"/>
              <a:ext cx="429120" cy="292320"/>
            </a:xfrm>
            <a:custGeom>
              <a:avLst/>
              <a:gdLst/>
              <a:ahLst/>
              <a:rect l="0" t="0" r="r" b="b"/>
              <a:pathLst>
                <a:path fill="none" w="1192" h="812">
                  <a:moveTo>
                    <a:pt x="0" y="812"/>
                  </a:moveTo>
                  <a:lnTo>
                    <a:pt x="1192" y="812"/>
                  </a:lnTo>
                  <a:lnTo>
                    <a:pt x="1192" y="0"/>
                  </a:lnTo>
                  <a:lnTo>
                    <a:pt x="0" y="0"/>
                  </a:lnTo>
                  <a:lnTo>
                    <a:pt x="0" y="812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624560" y="3836880"/>
              <a:ext cx="0" cy="24228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 flipV="1">
              <a:off x="3618000" y="4929120"/>
              <a:ext cx="237960" cy="23832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V="1">
              <a:off x="3618000" y="4929120"/>
              <a:ext cx="237960" cy="23832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265480" y="5624640"/>
              <a:ext cx="416160" cy="416160"/>
            </a:xfrm>
            <a:custGeom>
              <a:avLst/>
              <a:gdLst/>
              <a:ahLst/>
              <a:rect l="0" t="0" r="r" b="b"/>
              <a:pathLst>
                <a:path fill="none" w="1156" h="1156">
                  <a:moveTo>
                    <a:pt x="0" y="583"/>
                  </a:moveTo>
                  <a:lnTo>
                    <a:pt x="1156" y="583"/>
                  </a:lnTo>
                  <a:lnTo>
                    <a:pt x="1147" y="555"/>
                  </a:lnTo>
                  <a:lnTo>
                    <a:pt x="1147" y="529"/>
                  </a:lnTo>
                  <a:lnTo>
                    <a:pt x="1147" y="502"/>
                  </a:lnTo>
                  <a:lnTo>
                    <a:pt x="1147" y="476"/>
                  </a:lnTo>
                  <a:lnTo>
                    <a:pt x="1138" y="449"/>
                  </a:lnTo>
                  <a:lnTo>
                    <a:pt x="1129" y="423"/>
                  </a:lnTo>
                  <a:lnTo>
                    <a:pt x="1121" y="396"/>
                  </a:lnTo>
                  <a:lnTo>
                    <a:pt x="1112" y="379"/>
                  </a:lnTo>
                  <a:lnTo>
                    <a:pt x="1103" y="352"/>
                  </a:lnTo>
                  <a:lnTo>
                    <a:pt x="1094" y="326"/>
                  </a:lnTo>
                  <a:lnTo>
                    <a:pt x="1085" y="308"/>
                  </a:lnTo>
                  <a:lnTo>
                    <a:pt x="1068" y="282"/>
                  </a:lnTo>
                  <a:lnTo>
                    <a:pt x="1059" y="264"/>
                  </a:lnTo>
                  <a:lnTo>
                    <a:pt x="1041" y="238"/>
                  </a:lnTo>
                  <a:lnTo>
                    <a:pt x="1024" y="220"/>
                  </a:lnTo>
                  <a:lnTo>
                    <a:pt x="1006" y="202"/>
                  </a:lnTo>
                  <a:lnTo>
                    <a:pt x="988" y="176"/>
                  </a:lnTo>
                  <a:lnTo>
                    <a:pt x="971" y="158"/>
                  </a:lnTo>
                  <a:lnTo>
                    <a:pt x="953" y="141"/>
                  </a:lnTo>
                  <a:lnTo>
                    <a:pt x="935" y="123"/>
                  </a:lnTo>
                  <a:lnTo>
                    <a:pt x="918" y="114"/>
                  </a:lnTo>
                  <a:lnTo>
                    <a:pt x="891" y="97"/>
                  </a:lnTo>
                  <a:lnTo>
                    <a:pt x="874" y="79"/>
                  </a:lnTo>
                  <a:lnTo>
                    <a:pt x="847" y="70"/>
                  </a:lnTo>
                  <a:lnTo>
                    <a:pt x="830" y="61"/>
                  </a:lnTo>
                  <a:lnTo>
                    <a:pt x="803" y="44"/>
                  </a:lnTo>
                  <a:lnTo>
                    <a:pt x="777" y="35"/>
                  </a:lnTo>
                  <a:lnTo>
                    <a:pt x="750" y="26"/>
                  </a:lnTo>
                  <a:lnTo>
                    <a:pt x="733" y="17"/>
                  </a:lnTo>
                  <a:lnTo>
                    <a:pt x="706" y="17"/>
                  </a:lnTo>
                  <a:lnTo>
                    <a:pt x="680" y="8"/>
                  </a:lnTo>
                  <a:lnTo>
                    <a:pt x="653" y="8"/>
                  </a:lnTo>
                  <a:lnTo>
                    <a:pt x="627" y="0"/>
                  </a:lnTo>
                  <a:lnTo>
                    <a:pt x="600" y="0"/>
                  </a:lnTo>
                  <a:lnTo>
                    <a:pt x="573" y="0"/>
                  </a:lnTo>
                  <a:lnTo>
                    <a:pt x="546" y="0"/>
                  </a:lnTo>
                  <a:lnTo>
                    <a:pt x="520" y="0"/>
                  </a:lnTo>
                  <a:lnTo>
                    <a:pt x="493" y="8"/>
                  </a:lnTo>
                  <a:lnTo>
                    <a:pt x="467" y="8"/>
                  </a:lnTo>
                  <a:lnTo>
                    <a:pt x="449" y="17"/>
                  </a:lnTo>
                  <a:lnTo>
                    <a:pt x="423" y="17"/>
                  </a:lnTo>
                  <a:lnTo>
                    <a:pt x="396" y="26"/>
                  </a:lnTo>
                  <a:lnTo>
                    <a:pt x="370" y="35"/>
                  </a:lnTo>
                  <a:lnTo>
                    <a:pt x="343" y="44"/>
                  </a:lnTo>
                  <a:lnTo>
                    <a:pt x="326" y="61"/>
                  </a:lnTo>
                  <a:lnTo>
                    <a:pt x="299" y="70"/>
                  </a:lnTo>
                  <a:lnTo>
                    <a:pt x="282" y="79"/>
                  </a:lnTo>
                  <a:lnTo>
                    <a:pt x="255" y="97"/>
                  </a:lnTo>
                  <a:lnTo>
                    <a:pt x="238" y="114"/>
                  </a:lnTo>
                  <a:lnTo>
                    <a:pt x="211" y="123"/>
                  </a:lnTo>
                  <a:lnTo>
                    <a:pt x="194" y="141"/>
                  </a:lnTo>
                  <a:lnTo>
                    <a:pt x="176" y="158"/>
                  </a:lnTo>
                  <a:lnTo>
                    <a:pt x="158" y="176"/>
                  </a:lnTo>
                  <a:lnTo>
                    <a:pt x="141" y="202"/>
                  </a:lnTo>
                  <a:lnTo>
                    <a:pt x="123" y="220"/>
                  </a:lnTo>
                  <a:lnTo>
                    <a:pt x="105" y="238"/>
                  </a:lnTo>
                  <a:lnTo>
                    <a:pt x="88" y="264"/>
                  </a:lnTo>
                  <a:lnTo>
                    <a:pt x="79" y="282"/>
                  </a:lnTo>
                  <a:lnTo>
                    <a:pt x="70" y="308"/>
                  </a:lnTo>
                  <a:lnTo>
                    <a:pt x="52" y="326"/>
                  </a:lnTo>
                  <a:lnTo>
                    <a:pt x="44" y="352"/>
                  </a:lnTo>
                  <a:lnTo>
                    <a:pt x="35" y="379"/>
                  </a:lnTo>
                  <a:lnTo>
                    <a:pt x="26" y="396"/>
                  </a:lnTo>
                  <a:lnTo>
                    <a:pt x="17" y="423"/>
                  </a:lnTo>
                  <a:lnTo>
                    <a:pt x="8" y="449"/>
                  </a:lnTo>
                  <a:lnTo>
                    <a:pt x="8" y="476"/>
                  </a:lnTo>
                  <a:lnTo>
                    <a:pt x="0" y="502"/>
                  </a:lnTo>
                  <a:lnTo>
                    <a:pt x="0" y="529"/>
                  </a:lnTo>
                  <a:lnTo>
                    <a:pt x="0" y="555"/>
                  </a:lnTo>
                  <a:lnTo>
                    <a:pt x="0" y="583"/>
                  </a:lnTo>
                  <a:lnTo>
                    <a:pt x="0" y="609"/>
                  </a:lnTo>
                  <a:lnTo>
                    <a:pt x="0" y="636"/>
                  </a:lnTo>
                  <a:lnTo>
                    <a:pt x="0" y="653"/>
                  </a:lnTo>
                  <a:lnTo>
                    <a:pt x="8" y="680"/>
                  </a:lnTo>
                  <a:lnTo>
                    <a:pt x="8" y="706"/>
                  </a:lnTo>
                  <a:lnTo>
                    <a:pt x="17" y="733"/>
                  </a:lnTo>
                  <a:lnTo>
                    <a:pt x="26" y="759"/>
                  </a:lnTo>
                  <a:lnTo>
                    <a:pt x="35" y="785"/>
                  </a:lnTo>
                  <a:lnTo>
                    <a:pt x="44" y="803"/>
                  </a:lnTo>
                  <a:lnTo>
                    <a:pt x="52" y="830"/>
                  </a:lnTo>
                  <a:lnTo>
                    <a:pt x="70" y="856"/>
                  </a:lnTo>
                  <a:lnTo>
                    <a:pt x="79" y="874"/>
                  </a:lnTo>
                  <a:lnTo>
                    <a:pt x="88" y="900"/>
                  </a:lnTo>
                  <a:lnTo>
                    <a:pt x="105" y="918"/>
                  </a:lnTo>
                  <a:lnTo>
                    <a:pt x="123" y="944"/>
                  </a:lnTo>
                  <a:lnTo>
                    <a:pt x="141" y="962"/>
                  </a:lnTo>
                  <a:lnTo>
                    <a:pt x="158" y="979"/>
                  </a:lnTo>
                  <a:lnTo>
                    <a:pt x="176" y="997"/>
                  </a:lnTo>
                  <a:lnTo>
                    <a:pt x="194" y="1015"/>
                  </a:lnTo>
                  <a:lnTo>
                    <a:pt x="211" y="1032"/>
                  </a:lnTo>
                  <a:lnTo>
                    <a:pt x="238" y="1050"/>
                  </a:lnTo>
                  <a:lnTo>
                    <a:pt x="255" y="1059"/>
                  </a:lnTo>
                  <a:lnTo>
                    <a:pt x="282" y="1076"/>
                  </a:lnTo>
                  <a:lnTo>
                    <a:pt x="299" y="1085"/>
                  </a:lnTo>
                  <a:lnTo>
                    <a:pt x="326" y="1103"/>
                  </a:lnTo>
                  <a:lnTo>
                    <a:pt x="343" y="1112"/>
                  </a:lnTo>
                  <a:lnTo>
                    <a:pt x="370" y="1121"/>
                  </a:lnTo>
                  <a:lnTo>
                    <a:pt x="396" y="1129"/>
                  </a:lnTo>
                  <a:lnTo>
                    <a:pt x="423" y="1138"/>
                  </a:lnTo>
                  <a:lnTo>
                    <a:pt x="449" y="1138"/>
                  </a:lnTo>
                  <a:lnTo>
                    <a:pt x="467" y="1147"/>
                  </a:lnTo>
                  <a:lnTo>
                    <a:pt x="493" y="1156"/>
                  </a:lnTo>
                  <a:lnTo>
                    <a:pt x="520" y="1156"/>
                  </a:lnTo>
                  <a:lnTo>
                    <a:pt x="546" y="1156"/>
                  </a:lnTo>
                  <a:lnTo>
                    <a:pt x="573" y="1156"/>
                  </a:lnTo>
                  <a:lnTo>
                    <a:pt x="600" y="1156"/>
                  </a:lnTo>
                  <a:lnTo>
                    <a:pt x="627" y="1156"/>
                  </a:lnTo>
                  <a:lnTo>
                    <a:pt x="653" y="1156"/>
                  </a:lnTo>
                  <a:lnTo>
                    <a:pt x="680" y="1147"/>
                  </a:lnTo>
                  <a:lnTo>
                    <a:pt x="706" y="1138"/>
                  </a:lnTo>
                  <a:lnTo>
                    <a:pt x="733" y="1138"/>
                  </a:lnTo>
                  <a:lnTo>
                    <a:pt x="750" y="1129"/>
                  </a:lnTo>
                  <a:lnTo>
                    <a:pt x="777" y="1121"/>
                  </a:lnTo>
                  <a:lnTo>
                    <a:pt x="803" y="1112"/>
                  </a:lnTo>
                  <a:lnTo>
                    <a:pt x="830" y="1103"/>
                  </a:lnTo>
                  <a:lnTo>
                    <a:pt x="847" y="1085"/>
                  </a:lnTo>
                  <a:lnTo>
                    <a:pt x="874" y="1076"/>
                  </a:lnTo>
                  <a:lnTo>
                    <a:pt x="891" y="1059"/>
                  </a:lnTo>
                  <a:lnTo>
                    <a:pt x="918" y="1050"/>
                  </a:lnTo>
                  <a:lnTo>
                    <a:pt x="935" y="1032"/>
                  </a:lnTo>
                  <a:lnTo>
                    <a:pt x="953" y="1015"/>
                  </a:lnTo>
                  <a:lnTo>
                    <a:pt x="971" y="997"/>
                  </a:lnTo>
                  <a:lnTo>
                    <a:pt x="988" y="979"/>
                  </a:lnTo>
                  <a:lnTo>
                    <a:pt x="1006" y="962"/>
                  </a:lnTo>
                  <a:lnTo>
                    <a:pt x="1024" y="944"/>
                  </a:lnTo>
                  <a:lnTo>
                    <a:pt x="1041" y="918"/>
                  </a:lnTo>
                  <a:lnTo>
                    <a:pt x="1059" y="900"/>
                  </a:lnTo>
                  <a:lnTo>
                    <a:pt x="1068" y="874"/>
                  </a:lnTo>
                  <a:lnTo>
                    <a:pt x="1085" y="856"/>
                  </a:lnTo>
                  <a:lnTo>
                    <a:pt x="1094" y="830"/>
                  </a:lnTo>
                  <a:lnTo>
                    <a:pt x="1103" y="803"/>
                  </a:lnTo>
                  <a:lnTo>
                    <a:pt x="1112" y="785"/>
                  </a:lnTo>
                  <a:lnTo>
                    <a:pt x="1121" y="759"/>
                  </a:lnTo>
                  <a:lnTo>
                    <a:pt x="1129" y="733"/>
                  </a:lnTo>
                  <a:lnTo>
                    <a:pt x="1138" y="706"/>
                  </a:lnTo>
                  <a:lnTo>
                    <a:pt x="1147" y="680"/>
                  </a:lnTo>
                  <a:lnTo>
                    <a:pt x="1147" y="653"/>
                  </a:lnTo>
                  <a:lnTo>
                    <a:pt x="1147" y="636"/>
                  </a:lnTo>
                  <a:lnTo>
                    <a:pt x="1147" y="609"/>
                  </a:lnTo>
                  <a:lnTo>
                    <a:pt x="1156" y="583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376360" y="5865840"/>
              <a:ext cx="79560" cy="1206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 flipH="1">
              <a:off x="2376360" y="5865840"/>
              <a:ext cx="79560" cy="1206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490840" y="5865840"/>
              <a:ext cx="79560" cy="120960"/>
            </a:xfrm>
            <a:custGeom>
              <a:avLst/>
              <a:gdLst/>
              <a:ahLst/>
              <a:rect l="0" t="0" r="r" b="b"/>
              <a:pathLst>
                <a:path fill="none" w="221" h="336">
                  <a:moveTo>
                    <a:pt x="26" y="0"/>
                  </a:moveTo>
                  <a:lnTo>
                    <a:pt x="203" y="0"/>
                  </a:lnTo>
                  <a:lnTo>
                    <a:pt x="105" y="132"/>
                  </a:lnTo>
                  <a:lnTo>
                    <a:pt x="159" y="132"/>
                  </a:lnTo>
                  <a:lnTo>
                    <a:pt x="186" y="141"/>
                  </a:lnTo>
                  <a:lnTo>
                    <a:pt x="203" y="158"/>
                  </a:lnTo>
                  <a:lnTo>
                    <a:pt x="221" y="203"/>
                  </a:lnTo>
                  <a:lnTo>
                    <a:pt x="221" y="239"/>
                  </a:lnTo>
                  <a:lnTo>
                    <a:pt x="203" y="283"/>
                  </a:lnTo>
                  <a:lnTo>
                    <a:pt x="168" y="318"/>
                  </a:lnTo>
                  <a:lnTo>
                    <a:pt x="124" y="336"/>
                  </a:lnTo>
                  <a:lnTo>
                    <a:pt x="79" y="336"/>
                  </a:lnTo>
                  <a:lnTo>
                    <a:pt x="26" y="318"/>
                  </a:lnTo>
                  <a:lnTo>
                    <a:pt x="17" y="300"/>
                  </a:lnTo>
                  <a:lnTo>
                    <a:pt x="0" y="274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H="1">
              <a:off x="2652840" y="5205240"/>
              <a:ext cx="930240" cy="5241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V="1">
              <a:off x="5719680" y="4602240"/>
              <a:ext cx="0" cy="8856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 flipV="1">
              <a:off x="5602320" y="5421240"/>
              <a:ext cx="235080" cy="23832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V="1">
              <a:off x="5602320" y="5421240"/>
              <a:ext cx="235080" cy="23832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>
              <a:off x="5602320" y="4440240"/>
              <a:ext cx="235080" cy="23796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602320" y="4440240"/>
              <a:ext cx="235080" cy="23796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 flipH="1">
              <a:off x="1677960" y="2068560"/>
              <a:ext cx="10954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1677960" y="2503440"/>
              <a:ext cx="28702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V="1">
              <a:off x="1754280" y="1763640"/>
              <a:ext cx="0" cy="1526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754280" y="2655720"/>
              <a:ext cx="0" cy="1526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28720" y="1916280"/>
              <a:ext cx="51120" cy="152640"/>
            </a:xfrm>
            <a:custGeom>
              <a:avLst/>
              <a:gdLst/>
              <a:ahLst/>
              <a:rect l="0" t="0" r="r" b="b"/>
              <a:pathLst>
                <a:path w="142" h="424">
                  <a:moveTo>
                    <a:pt x="0" y="0"/>
                  </a:moveTo>
                  <a:lnTo>
                    <a:pt x="142" y="0"/>
                  </a:lnTo>
                  <a:lnTo>
                    <a:pt x="7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728720" y="2503440"/>
              <a:ext cx="51120" cy="152640"/>
            </a:xfrm>
            <a:custGeom>
              <a:avLst/>
              <a:gdLst/>
              <a:ahLst/>
              <a:rect l="0" t="0" r="r" b="b"/>
              <a:pathLst>
                <a:path w="142" h="424">
                  <a:moveTo>
                    <a:pt x="0" y="424"/>
                  </a:moveTo>
                  <a:lnTo>
                    <a:pt x="142" y="424"/>
                  </a:lnTo>
                  <a:lnTo>
                    <a:pt x="70" y="0"/>
                  </a:lnTo>
                  <a:lnTo>
                    <a:pt x="0" y="4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627200" y="2224080"/>
              <a:ext cx="82800" cy="124200"/>
            </a:xfrm>
            <a:custGeom>
              <a:avLst/>
              <a:gdLst/>
              <a:ahLst/>
              <a:rect l="0" t="0" r="r" b="b"/>
              <a:pathLst>
                <a:path fill="none" w="230" h="345">
                  <a:moveTo>
                    <a:pt x="105" y="0"/>
                  </a:moveTo>
                  <a:lnTo>
                    <a:pt x="52" y="17"/>
                  </a:lnTo>
                  <a:lnTo>
                    <a:pt x="17" y="61"/>
                  </a:lnTo>
                  <a:lnTo>
                    <a:pt x="0" y="142"/>
                  </a:lnTo>
                  <a:lnTo>
                    <a:pt x="0" y="195"/>
                  </a:lnTo>
                  <a:lnTo>
                    <a:pt x="17" y="275"/>
                  </a:lnTo>
                  <a:lnTo>
                    <a:pt x="52" y="328"/>
                  </a:lnTo>
                  <a:lnTo>
                    <a:pt x="105" y="345"/>
                  </a:lnTo>
                  <a:lnTo>
                    <a:pt x="133" y="345"/>
                  </a:lnTo>
                  <a:lnTo>
                    <a:pt x="186" y="328"/>
                  </a:lnTo>
                  <a:lnTo>
                    <a:pt x="221" y="275"/>
                  </a:lnTo>
                  <a:lnTo>
                    <a:pt x="230" y="195"/>
                  </a:lnTo>
                  <a:lnTo>
                    <a:pt x="230" y="142"/>
                  </a:lnTo>
                  <a:lnTo>
                    <a:pt x="221" y="61"/>
                  </a:lnTo>
                  <a:lnTo>
                    <a:pt x="186" y="17"/>
                  </a:lnTo>
                  <a:lnTo>
                    <a:pt x="133" y="0"/>
                  </a:lnTo>
                  <a:lnTo>
                    <a:pt x="105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751040" y="2335320"/>
              <a:ext cx="12960" cy="12960"/>
            </a:xfrm>
            <a:custGeom>
              <a:avLst/>
              <a:gdLst/>
              <a:ahLst/>
              <a:rect l="0" t="0" r="r" b="b"/>
              <a:pathLst>
                <a:path fill="none" w="36" h="36">
                  <a:moveTo>
                    <a:pt x="17" y="0"/>
                  </a:moveTo>
                  <a:lnTo>
                    <a:pt x="0" y="17"/>
                  </a:lnTo>
                  <a:lnTo>
                    <a:pt x="17" y="36"/>
                  </a:lnTo>
                  <a:lnTo>
                    <a:pt x="36" y="17"/>
                  </a:lnTo>
                  <a:lnTo>
                    <a:pt x="17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805040" y="2224080"/>
              <a:ext cx="76680" cy="124200"/>
            </a:xfrm>
            <a:custGeom>
              <a:avLst/>
              <a:gdLst/>
              <a:ahLst/>
              <a:rect l="0" t="0" r="r" b="b"/>
              <a:pathLst>
                <a:path fill="none" w="213" h="345">
                  <a:moveTo>
                    <a:pt x="213" y="115"/>
                  </a:moveTo>
                  <a:lnTo>
                    <a:pt x="196" y="159"/>
                  </a:lnTo>
                  <a:lnTo>
                    <a:pt x="169" y="195"/>
                  </a:lnTo>
                  <a:lnTo>
                    <a:pt x="115" y="212"/>
                  </a:lnTo>
                  <a:lnTo>
                    <a:pt x="98" y="212"/>
                  </a:lnTo>
                  <a:lnTo>
                    <a:pt x="52" y="195"/>
                  </a:lnTo>
                  <a:lnTo>
                    <a:pt x="17" y="159"/>
                  </a:lnTo>
                  <a:lnTo>
                    <a:pt x="0" y="115"/>
                  </a:lnTo>
                  <a:lnTo>
                    <a:pt x="0" y="98"/>
                  </a:lnTo>
                  <a:lnTo>
                    <a:pt x="17" y="44"/>
                  </a:lnTo>
                  <a:lnTo>
                    <a:pt x="52" y="17"/>
                  </a:lnTo>
                  <a:lnTo>
                    <a:pt x="98" y="0"/>
                  </a:lnTo>
                  <a:lnTo>
                    <a:pt x="115" y="0"/>
                  </a:lnTo>
                  <a:lnTo>
                    <a:pt x="169" y="17"/>
                  </a:lnTo>
                  <a:lnTo>
                    <a:pt x="196" y="44"/>
                  </a:lnTo>
                  <a:lnTo>
                    <a:pt x="213" y="115"/>
                  </a:lnTo>
                  <a:lnTo>
                    <a:pt x="213" y="195"/>
                  </a:lnTo>
                  <a:lnTo>
                    <a:pt x="196" y="275"/>
                  </a:lnTo>
                  <a:lnTo>
                    <a:pt x="169" y="328"/>
                  </a:lnTo>
                  <a:lnTo>
                    <a:pt x="115" y="345"/>
                  </a:lnTo>
                  <a:lnTo>
                    <a:pt x="80" y="345"/>
                  </a:lnTo>
                  <a:lnTo>
                    <a:pt x="35" y="328"/>
                  </a:lnTo>
                  <a:lnTo>
                    <a:pt x="17" y="293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544760" y="2138400"/>
              <a:ext cx="422640" cy="295560"/>
            </a:xfrm>
            <a:custGeom>
              <a:avLst/>
              <a:gdLst/>
              <a:ahLst/>
              <a:rect l="0" t="0" r="r" b="b"/>
              <a:pathLst>
                <a:path fill="none" w="1174" h="821">
                  <a:moveTo>
                    <a:pt x="0" y="821"/>
                  </a:moveTo>
                  <a:lnTo>
                    <a:pt x="1174" y="821"/>
                  </a:lnTo>
                  <a:lnTo>
                    <a:pt x="1174" y="0"/>
                  </a:lnTo>
                  <a:lnTo>
                    <a:pt x="0" y="0"/>
                  </a:lnTo>
                  <a:lnTo>
                    <a:pt x="0" y="821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V="1">
              <a:off x="5719680" y="3490920"/>
              <a:ext cx="0" cy="2700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890880" y="3567240"/>
              <a:ext cx="6224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 flipH="1">
              <a:off x="4944960" y="3567240"/>
              <a:ext cx="6224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738600" y="3541680"/>
              <a:ext cx="152640" cy="51120"/>
            </a:xfrm>
            <a:custGeom>
              <a:avLst/>
              <a:gdLst/>
              <a:ahLst/>
              <a:rect l="0" t="0" r="r" b="b"/>
              <a:pathLst>
                <a:path w="424" h="142">
                  <a:moveTo>
                    <a:pt x="424" y="0"/>
                  </a:moveTo>
                  <a:lnTo>
                    <a:pt x="424" y="142"/>
                  </a:lnTo>
                  <a:lnTo>
                    <a:pt x="0" y="7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567400" y="3541680"/>
              <a:ext cx="152640" cy="51120"/>
            </a:xfrm>
            <a:custGeom>
              <a:avLst/>
              <a:gdLst/>
              <a:ahLst/>
              <a:rect l="0" t="0" r="r" b="b"/>
              <a:pathLst>
                <a:path w="424" h="142">
                  <a:moveTo>
                    <a:pt x="0" y="0"/>
                  </a:moveTo>
                  <a:lnTo>
                    <a:pt x="0" y="142"/>
                  </a:lnTo>
                  <a:lnTo>
                    <a:pt x="424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4599000" y="3506760"/>
              <a:ext cx="89280" cy="82800"/>
            </a:xfrm>
            <a:custGeom>
              <a:avLst/>
              <a:gdLst/>
              <a:ahLst/>
              <a:rect l="0" t="0" r="r" b="b"/>
              <a:pathLst>
                <a:path fill="none" w="248" h="230">
                  <a:moveTo>
                    <a:pt x="168" y="0"/>
                  </a:moveTo>
                  <a:lnTo>
                    <a:pt x="0" y="230"/>
                  </a:lnTo>
                  <a:lnTo>
                    <a:pt x="248" y="23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4659480" y="3506760"/>
              <a:ext cx="0" cy="1238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4722840" y="3618000"/>
              <a:ext cx="12960" cy="12960"/>
            </a:xfrm>
            <a:custGeom>
              <a:avLst/>
              <a:gdLst/>
              <a:ahLst/>
              <a:rect l="0" t="0" r="r" b="b"/>
              <a:pathLst>
                <a:path fill="none" w="36" h="36">
                  <a:moveTo>
                    <a:pt x="17" y="0"/>
                  </a:moveTo>
                  <a:lnTo>
                    <a:pt x="0" y="17"/>
                  </a:lnTo>
                  <a:lnTo>
                    <a:pt x="17" y="36"/>
                  </a:lnTo>
                  <a:lnTo>
                    <a:pt x="36" y="17"/>
                  </a:lnTo>
                  <a:lnTo>
                    <a:pt x="17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4776840" y="3506760"/>
              <a:ext cx="82800" cy="124200"/>
            </a:xfrm>
            <a:custGeom>
              <a:avLst/>
              <a:gdLst/>
              <a:ahLst/>
              <a:rect l="0" t="0" r="r" b="b"/>
              <a:pathLst>
                <a:path fill="none" w="230" h="345">
                  <a:moveTo>
                    <a:pt x="17" y="79"/>
                  </a:moveTo>
                  <a:lnTo>
                    <a:pt x="17" y="61"/>
                  </a:lnTo>
                  <a:lnTo>
                    <a:pt x="26" y="35"/>
                  </a:lnTo>
                  <a:lnTo>
                    <a:pt x="44" y="17"/>
                  </a:lnTo>
                  <a:lnTo>
                    <a:pt x="79" y="0"/>
                  </a:lnTo>
                  <a:lnTo>
                    <a:pt x="142" y="0"/>
                  </a:lnTo>
                  <a:lnTo>
                    <a:pt x="177" y="17"/>
                  </a:lnTo>
                  <a:lnTo>
                    <a:pt x="195" y="35"/>
                  </a:lnTo>
                  <a:lnTo>
                    <a:pt x="212" y="61"/>
                  </a:lnTo>
                  <a:lnTo>
                    <a:pt x="212" y="98"/>
                  </a:lnTo>
                  <a:lnTo>
                    <a:pt x="195" y="133"/>
                  </a:lnTo>
                  <a:lnTo>
                    <a:pt x="159" y="177"/>
                  </a:lnTo>
                  <a:lnTo>
                    <a:pt x="0" y="345"/>
                  </a:lnTo>
                  <a:lnTo>
                    <a:pt x="230" y="345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513320" y="3421080"/>
              <a:ext cx="432000" cy="295560"/>
            </a:xfrm>
            <a:custGeom>
              <a:avLst/>
              <a:gdLst/>
              <a:ahLst/>
              <a:rect l="0" t="0" r="r" b="b"/>
              <a:pathLst>
                <a:path fill="none" w="1200" h="821">
                  <a:moveTo>
                    <a:pt x="0" y="821"/>
                  </a:moveTo>
                  <a:lnTo>
                    <a:pt x="1200" y="821"/>
                  </a:lnTo>
                  <a:lnTo>
                    <a:pt x="1200" y="0"/>
                  </a:lnTo>
                  <a:lnTo>
                    <a:pt x="0" y="0"/>
                  </a:lnTo>
                  <a:lnTo>
                    <a:pt x="0" y="821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V="1">
              <a:off x="2849400" y="3490920"/>
              <a:ext cx="0" cy="2700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V="1">
              <a:off x="3738600" y="3490920"/>
              <a:ext cx="0" cy="2700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2548080" y="3567240"/>
              <a:ext cx="1490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890880" y="3567240"/>
              <a:ext cx="1526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697120" y="3541680"/>
              <a:ext cx="152640" cy="51120"/>
            </a:xfrm>
            <a:custGeom>
              <a:avLst/>
              <a:gdLst/>
              <a:ahLst/>
              <a:rect l="0" t="0" r="r" b="b"/>
              <a:pathLst>
                <a:path w="424" h="142">
                  <a:moveTo>
                    <a:pt x="0" y="0"/>
                  </a:moveTo>
                  <a:lnTo>
                    <a:pt x="0" y="142"/>
                  </a:lnTo>
                  <a:lnTo>
                    <a:pt x="424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3738600" y="3541680"/>
              <a:ext cx="152640" cy="51120"/>
            </a:xfrm>
            <a:custGeom>
              <a:avLst/>
              <a:gdLst/>
              <a:ahLst/>
              <a:rect l="0" t="0" r="r" b="b"/>
              <a:pathLst>
                <a:path w="424" h="142">
                  <a:moveTo>
                    <a:pt x="424" y="0"/>
                  </a:moveTo>
                  <a:lnTo>
                    <a:pt x="424" y="142"/>
                  </a:lnTo>
                  <a:lnTo>
                    <a:pt x="0" y="7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3166920" y="3506760"/>
              <a:ext cx="32040" cy="124200"/>
            </a:xfrm>
            <a:custGeom>
              <a:avLst/>
              <a:gdLst/>
              <a:ahLst/>
              <a:rect l="0" t="0" r="r" b="b"/>
              <a:pathLst>
                <a:path fill="none" w="89" h="345">
                  <a:moveTo>
                    <a:pt x="0" y="61"/>
                  </a:moveTo>
                  <a:lnTo>
                    <a:pt x="35" y="52"/>
                  </a:lnTo>
                  <a:lnTo>
                    <a:pt x="89" y="0"/>
                  </a:lnTo>
                  <a:lnTo>
                    <a:pt x="89" y="345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3274920" y="3618000"/>
              <a:ext cx="9720" cy="12960"/>
            </a:xfrm>
            <a:custGeom>
              <a:avLst/>
              <a:gdLst/>
              <a:ahLst/>
              <a:rect l="0" t="0" r="r" b="b"/>
              <a:pathLst>
                <a:path fill="none" w="27" h="36">
                  <a:moveTo>
                    <a:pt x="8" y="0"/>
                  </a:moveTo>
                  <a:lnTo>
                    <a:pt x="0" y="17"/>
                  </a:lnTo>
                  <a:lnTo>
                    <a:pt x="8" y="36"/>
                  </a:lnTo>
                  <a:lnTo>
                    <a:pt x="27" y="17"/>
                  </a:lnTo>
                  <a:lnTo>
                    <a:pt x="8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3325680" y="3506760"/>
              <a:ext cx="76680" cy="124200"/>
            </a:xfrm>
            <a:custGeom>
              <a:avLst/>
              <a:gdLst/>
              <a:ahLst/>
              <a:rect l="0" t="0" r="r" b="b"/>
              <a:pathLst>
                <a:path fill="none" w="213" h="345">
                  <a:moveTo>
                    <a:pt x="213" y="115"/>
                  </a:moveTo>
                  <a:lnTo>
                    <a:pt x="204" y="168"/>
                  </a:lnTo>
                  <a:lnTo>
                    <a:pt x="169" y="195"/>
                  </a:lnTo>
                  <a:lnTo>
                    <a:pt x="115" y="212"/>
                  </a:lnTo>
                  <a:lnTo>
                    <a:pt x="98" y="212"/>
                  </a:lnTo>
                  <a:lnTo>
                    <a:pt x="52" y="195"/>
                  </a:lnTo>
                  <a:lnTo>
                    <a:pt x="17" y="168"/>
                  </a:lnTo>
                  <a:lnTo>
                    <a:pt x="0" y="115"/>
                  </a:lnTo>
                  <a:lnTo>
                    <a:pt x="0" y="98"/>
                  </a:lnTo>
                  <a:lnTo>
                    <a:pt x="17" y="52"/>
                  </a:lnTo>
                  <a:lnTo>
                    <a:pt x="52" y="17"/>
                  </a:lnTo>
                  <a:lnTo>
                    <a:pt x="98" y="0"/>
                  </a:lnTo>
                  <a:lnTo>
                    <a:pt x="115" y="0"/>
                  </a:lnTo>
                  <a:lnTo>
                    <a:pt x="169" y="17"/>
                  </a:lnTo>
                  <a:lnTo>
                    <a:pt x="204" y="52"/>
                  </a:lnTo>
                  <a:lnTo>
                    <a:pt x="213" y="115"/>
                  </a:lnTo>
                  <a:lnTo>
                    <a:pt x="213" y="195"/>
                  </a:lnTo>
                  <a:lnTo>
                    <a:pt x="204" y="284"/>
                  </a:lnTo>
                  <a:lnTo>
                    <a:pt x="169" y="328"/>
                  </a:lnTo>
                  <a:lnTo>
                    <a:pt x="115" y="345"/>
                  </a:lnTo>
                  <a:lnTo>
                    <a:pt x="89" y="345"/>
                  </a:lnTo>
                  <a:lnTo>
                    <a:pt x="35" y="328"/>
                  </a:lnTo>
                  <a:lnTo>
                    <a:pt x="17" y="293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081240" y="3421080"/>
              <a:ext cx="425880" cy="295560"/>
            </a:xfrm>
            <a:custGeom>
              <a:avLst/>
              <a:gdLst/>
              <a:ahLst/>
              <a:rect l="0" t="0" r="r" b="b"/>
              <a:pathLst>
                <a:path fill="none" w="1183" h="821">
                  <a:moveTo>
                    <a:pt x="0" y="821"/>
                  </a:moveTo>
                  <a:lnTo>
                    <a:pt x="1183" y="821"/>
                  </a:lnTo>
                  <a:lnTo>
                    <a:pt x="1183" y="0"/>
                  </a:lnTo>
                  <a:lnTo>
                    <a:pt x="0" y="0"/>
                  </a:lnTo>
                  <a:lnTo>
                    <a:pt x="0" y="821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3618000" y="1947960"/>
              <a:ext cx="237960" cy="23796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618000" y="1947960"/>
              <a:ext cx="237960" cy="23796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849400" y="2068560"/>
              <a:ext cx="13208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871720" y="2732040"/>
              <a:ext cx="238320" cy="238320"/>
            </a:xfrm>
            <a:custGeom>
              <a:avLst/>
              <a:gdLst/>
              <a:ahLst/>
              <a:rect l="0" t="0" r="r" b="b"/>
              <a:pathLst>
                <a:path fill="none" w="662" h="662">
                  <a:moveTo>
                    <a:pt x="0" y="0"/>
                  </a:moveTo>
                  <a:lnTo>
                    <a:pt x="0" y="662"/>
                  </a:lnTo>
                  <a:lnTo>
                    <a:pt x="662" y="662"/>
                  </a:lnTo>
                  <a:lnTo>
                    <a:pt x="662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957400" y="2798640"/>
              <a:ext cx="79560" cy="1206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>
              <a:off x="2957400" y="2798640"/>
              <a:ext cx="79560" cy="1206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370240" y="2503440"/>
              <a:ext cx="2984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370240" y="2068560"/>
              <a:ext cx="2984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2592360" y="1763640"/>
              <a:ext cx="0" cy="1526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440080" y="2655720"/>
              <a:ext cx="152640" cy="464040"/>
            </a:xfrm>
            <a:custGeom>
              <a:avLst/>
              <a:gdLst/>
              <a:ahLst/>
              <a:rect l="0" t="0" r="r" b="b"/>
              <a:pathLst>
                <a:path fill="none" w="424" h="1289">
                  <a:moveTo>
                    <a:pt x="424" y="0"/>
                  </a:moveTo>
                  <a:lnTo>
                    <a:pt x="424" y="1289"/>
                  </a:lnTo>
                  <a:lnTo>
                    <a:pt x="0" y="1289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567160" y="1916280"/>
              <a:ext cx="51120" cy="152640"/>
            </a:xfrm>
            <a:custGeom>
              <a:avLst/>
              <a:gdLst/>
              <a:ahLst/>
              <a:rect l="0" t="0" r="r" b="b"/>
              <a:pathLst>
                <a:path w="142" h="424">
                  <a:moveTo>
                    <a:pt x="0" y="0"/>
                  </a:moveTo>
                  <a:lnTo>
                    <a:pt x="142" y="0"/>
                  </a:lnTo>
                  <a:lnTo>
                    <a:pt x="70" y="4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516040" y="2427120"/>
              <a:ext cx="152640" cy="152640"/>
            </a:xfrm>
            <a:custGeom>
              <a:avLst/>
              <a:gdLst/>
              <a:ahLst/>
              <a:rect l="0" t="0" r="r" b="b"/>
              <a:pathLst>
                <a:path fill="none" w="424" h="424">
                  <a:moveTo>
                    <a:pt x="211" y="0"/>
                  </a:moveTo>
                  <a:lnTo>
                    <a:pt x="194" y="0"/>
                  </a:lnTo>
                  <a:lnTo>
                    <a:pt x="176" y="0"/>
                  </a:lnTo>
                  <a:lnTo>
                    <a:pt x="167" y="8"/>
                  </a:lnTo>
                  <a:lnTo>
                    <a:pt x="149" y="8"/>
                  </a:lnTo>
                  <a:lnTo>
                    <a:pt x="132" y="8"/>
                  </a:lnTo>
                  <a:lnTo>
                    <a:pt x="123" y="17"/>
                  </a:lnTo>
                  <a:lnTo>
                    <a:pt x="105" y="26"/>
                  </a:lnTo>
                  <a:lnTo>
                    <a:pt x="97" y="35"/>
                  </a:lnTo>
                  <a:lnTo>
                    <a:pt x="88" y="44"/>
                  </a:lnTo>
                  <a:lnTo>
                    <a:pt x="70" y="52"/>
                  </a:lnTo>
                  <a:lnTo>
                    <a:pt x="61" y="61"/>
                  </a:lnTo>
                  <a:lnTo>
                    <a:pt x="52" y="70"/>
                  </a:lnTo>
                  <a:lnTo>
                    <a:pt x="44" y="79"/>
                  </a:lnTo>
                  <a:lnTo>
                    <a:pt x="35" y="97"/>
                  </a:lnTo>
                  <a:lnTo>
                    <a:pt x="26" y="105"/>
                  </a:lnTo>
                  <a:lnTo>
                    <a:pt x="17" y="123"/>
                  </a:lnTo>
                  <a:lnTo>
                    <a:pt x="8" y="141"/>
                  </a:lnTo>
                  <a:lnTo>
                    <a:pt x="8" y="149"/>
                  </a:lnTo>
                  <a:lnTo>
                    <a:pt x="0" y="167"/>
                  </a:lnTo>
                  <a:lnTo>
                    <a:pt x="0" y="176"/>
                  </a:lnTo>
                  <a:lnTo>
                    <a:pt x="0" y="194"/>
                  </a:lnTo>
                  <a:lnTo>
                    <a:pt x="0" y="211"/>
                  </a:lnTo>
                  <a:lnTo>
                    <a:pt x="0" y="230"/>
                  </a:lnTo>
                  <a:lnTo>
                    <a:pt x="0" y="239"/>
                  </a:lnTo>
                  <a:lnTo>
                    <a:pt x="0" y="256"/>
                  </a:lnTo>
                  <a:lnTo>
                    <a:pt x="8" y="274"/>
                  </a:lnTo>
                  <a:lnTo>
                    <a:pt x="8" y="283"/>
                  </a:lnTo>
                  <a:lnTo>
                    <a:pt x="17" y="300"/>
                  </a:lnTo>
                  <a:lnTo>
                    <a:pt x="26" y="309"/>
                  </a:lnTo>
                  <a:lnTo>
                    <a:pt x="35" y="327"/>
                  </a:lnTo>
                  <a:lnTo>
                    <a:pt x="44" y="336"/>
                  </a:lnTo>
                  <a:lnTo>
                    <a:pt x="52" y="353"/>
                  </a:lnTo>
                  <a:lnTo>
                    <a:pt x="61" y="362"/>
                  </a:lnTo>
                  <a:lnTo>
                    <a:pt x="70" y="371"/>
                  </a:lnTo>
                  <a:lnTo>
                    <a:pt x="88" y="380"/>
                  </a:lnTo>
                  <a:lnTo>
                    <a:pt x="97" y="389"/>
                  </a:lnTo>
                  <a:lnTo>
                    <a:pt x="105" y="397"/>
                  </a:lnTo>
                  <a:lnTo>
                    <a:pt x="123" y="406"/>
                  </a:lnTo>
                  <a:lnTo>
                    <a:pt x="132" y="406"/>
                  </a:lnTo>
                  <a:lnTo>
                    <a:pt x="149" y="415"/>
                  </a:lnTo>
                  <a:lnTo>
                    <a:pt x="167" y="415"/>
                  </a:lnTo>
                  <a:lnTo>
                    <a:pt x="176" y="424"/>
                  </a:lnTo>
                  <a:lnTo>
                    <a:pt x="194" y="424"/>
                  </a:lnTo>
                  <a:lnTo>
                    <a:pt x="211" y="424"/>
                  </a:lnTo>
                  <a:lnTo>
                    <a:pt x="230" y="424"/>
                  </a:lnTo>
                  <a:lnTo>
                    <a:pt x="239" y="424"/>
                  </a:lnTo>
                  <a:lnTo>
                    <a:pt x="256" y="415"/>
                  </a:lnTo>
                  <a:lnTo>
                    <a:pt x="274" y="415"/>
                  </a:lnTo>
                  <a:lnTo>
                    <a:pt x="283" y="406"/>
                  </a:lnTo>
                  <a:lnTo>
                    <a:pt x="300" y="406"/>
                  </a:lnTo>
                  <a:lnTo>
                    <a:pt x="309" y="397"/>
                  </a:lnTo>
                  <a:lnTo>
                    <a:pt x="327" y="389"/>
                  </a:lnTo>
                  <a:lnTo>
                    <a:pt x="336" y="380"/>
                  </a:lnTo>
                  <a:lnTo>
                    <a:pt x="353" y="371"/>
                  </a:lnTo>
                  <a:lnTo>
                    <a:pt x="362" y="362"/>
                  </a:lnTo>
                  <a:lnTo>
                    <a:pt x="371" y="353"/>
                  </a:lnTo>
                  <a:lnTo>
                    <a:pt x="380" y="336"/>
                  </a:lnTo>
                  <a:lnTo>
                    <a:pt x="389" y="327"/>
                  </a:lnTo>
                  <a:lnTo>
                    <a:pt x="397" y="309"/>
                  </a:lnTo>
                  <a:lnTo>
                    <a:pt x="406" y="300"/>
                  </a:lnTo>
                  <a:lnTo>
                    <a:pt x="406" y="283"/>
                  </a:lnTo>
                  <a:lnTo>
                    <a:pt x="415" y="274"/>
                  </a:lnTo>
                  <a:lnTo>
                    <a:pt x="415" y="256"/>
                  </a:lnTo>
                  <a:lnTo>
                    <a:pt x="424" y="239"/>
                  </a:lnTo>
                  <a:lnTo>
                    <a:pt x="424" y="230"/>
                  </a:lnTo>
                  <a:lnTo>
                    <a:pt x="424" y="211"/>
                  </a:lnTo>
                  <a:lnTo>
                    <a:pt x="424" y="194"/>
                  </a:lnTo>
                  <a:lnTo>
                    <a:pt x="424" y="176"/>
                  </a:lnTo>
                  <a:lnTo>
                    <a:pt x="415" y="167"/>
                  </a:lnTo>
                  <a:lnTo>
                    <a:pt x="415" y="149"/>
                  </a:lnTo>
                  <a:lnTo>
                    <a:pt x="406" y="141"/>
                  </a:lnTo>
                  <a:lnTo>
                    <a:pt x="406" y="123"/>
                  </a:lnTo>
                  <a:lnTo>
                    <a:pt x="397" y="105"/>
                  </a:lnTo>
                  <a:lnTo>
                    <a:pt x="389" y="97"/>
                  </a:lnTo>
                  <a:lnTo>
                    <a:pt x="380" y="79"/>
                  </a:lnTo>
                  <a:lnTo>
                    <a:pt x="371" y="70"/>
                  </a:lnTo>
                  <a:lnTo>
                    <a:pt x="362" y="61"/>
                  </a:lnTo>
                  <a:lnTo>
                    <a:pt x="353" y="52"/>
                  </a:lnTo>
                  <a:lnTo>
                    <a:pt x="336" y="44"/>
                  </a:lnTo>
                  <a:lnTo>
                    <a:pt x="327" y="35"/>
                  </a:lnTo>
                  <a:lnTo>
                    <a:pt x="309" y="26"/>
                  </a:lnTo>
                  <a:lnTo>
                    <a:pt x="300" y="17"/>
                  </a:lnTo>
                  <a:lnTo>
                    <a:pt x="283" y="8"/>
                  </a:lnTo>
                  <a:lnTo>
                    <a:pt x="274" y="8"/>
                  </a:lnTo>
                  <a:lnTo>
                    <a:pt x="256" y="8"/>
                  </a:lnTo>
                  <a:lnTo>
                    <a:pt x="239" y="0"/>
                  </a:lnTo>
                  <a:lnTo>
                    <a:pt x="230" y="0"/>
                  </a:lnTo>
                  <a:lnTo>
                    <a:pt x="211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592360" y="2579760"/>
              <a:ext cx="0" cy="759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573200" y="3056040"/>
              <a:ext cx="82800" cy="124200"/>
            </a:xfrm>
            <a:custGeom>
              <a:avLst/>
              <a:gdLst/>
              <a:ahLst/>
              <a:rect l="0" t="0" r="r" b="b"/>
              <a:pathLst>
                <a:path fill="none" w="230" h="345">
                  <a:moveTo>
                    <a:pt x="97" y="0"/>
                  </a:moveTo>
                  <a:lnTo>
                    <a:pt x="44" y="17"/>
                  </a:lnTo>
                  <a:lnTo>
                    <a:pt x="17" y="70"/>
                  </a:lnTo>
                  <a:lnTo>
                    <a:pt x="0" y="150"/>
                  </a:lnTo>
                  <a:lnTo>
                    <a:pt x="0" y="203"/>
                  </a:lnTo>
                  <a:lnTo>
                    <a:pt x="17" y="284"/>
                  </a:lnTo>
                  <a:lnTo>
                    <a:pt x="44" y="328"/>
                  </a:lnTo>
                  <a:lnTo>
                    <a:pt x="97" y="345"/>
                  </a:lnTo>
                  <a:lnTo>
                    <a:pt x="124" y="345"/>
                  </a:lnTo>
                  <a:lnTo>
                    <a:pt x="177" y="328"/>
                  </a:lnTo>
                  <a:lnTo>
                    <a:pt x="212" y="284"/>
                  </a:lnTo>
                  <a:lnTo>
                    <a:pt x="230" y="203"/>
                  </a:lnTo>
                  <a:lnTo>
                    <a:pt x="230" y="150"/>
                  </a:lnTo>
                  <a:lnTo>
                    <a:pt x="212" y="70"/>
                  </a:lnTo>
                  <a:lnTo>
                    <a:pt x="177" y="17"/>
                  </a:lnTo>
                  <a:lnTo>
                    <a:pt x="124" y="0"/>
                  </a:lnTo>
                  <a:lnTo>
                    <a:pt x="97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693800" y="3166920"/>
              <a:ext cx="12960" cy="12960"/>
            </a:xfrm>
            <a:custGeom>
              <a:avLst/>
              <a:gdLst/>
              <a:ahLst/>
              <a:rect l="0" t="0" r="r" b="b"/>
              <a:pathLst>
                <a:path fill="none" w="36" h="36">
                  <a:moveTo>
                    <a:pt x="17" y="0"/>
                  </a:moveTo>
                  <a:lnTo>
                    <a:pt x="0" y="17"/>
                  </a:lnTo>
                  <a:lnTo>
                    <a:pt x="17" y="36"/>
                  </a:lnTo>
                  <a:lnTo>
                    <a:pt x="36" y="17"/>
                  </a:lnTo>
                  <a:lnTo>
                    <a:pt x="17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747800" y="3056040"/>
              <a:ext cx="76680" cy="124200"/>
            </a:xfrm>
            <a:custGeom>
              <a:avLst/>
              <a:gdLst/>
              <a:ahLst/>
              <a:rect l="0" t="0" r="r" b="b"/>
              <a:pathLst>
                <a:path fill="none" w="213" h="345">
                  <a:moveTo>
                    <a:pt x="213" y="115"/>
                  </a:moveTo>
                  <a:lnTo>
                    <a:pt x="196" y="168"/>
                  </a:lnTo>
                  <a:lnTo>
                    <a:pt x="169" y="203"/>
                  </a:lnTo>
                  <a:lnTo>
                    <a:pt x="115" y="212"/>
                  </a:lnTo>
                  <a:lnTo>
                    <a:pt x="98" y="212"/>
                  </a:lnTo>
                  <a:lnTo>
                    <a:pt x="52" y="203"/>
                  </a:lnTo>
                  <a:lnTo>
                    <a:pt x="17" y="168"/>
                  </a:lnTo>
                  <a:lnTo>
                    <a:pt x="0" y="115"/>
                  </a:lnTo>
                  <a:lnTo>
                    <a:pt x="0" y="98"/>
                  </a:lnTo>
                  <a:lnTo>
                    <a:pt x="17" y="52"/>
                  </a:lnTo>
                  <a:lnTo>
                    <a:pt x="52" y="17"/>
                  </a:lnTo>
                  <a:lnTo>
                    <a:pt x="98" y="0"/>
                  </a:lnTo>
                  <a:lnTo>
                    <a:pt x="115" y="0"/>
                  </a:lnTo>
                  <a:lnTo>
                    <a:pt x="169" y="17"/>
                  </a:lnTo>
                  <a:lnTo>
                    <a:pt x="196" y="52"/>
                  </a:lnTo>
                  <a:lnTo>
                    <a:pt x="213" y="115"/>
                  </a:lnTo>
                  <a:lnTo>
                    <a:pt x="213" y="203"/>
                  </a:lnTo>
                  <a:lnTo>
                    <a:pt x="196" y="284"/>
                  </a:lnTo>
                  <a:lnTo>
                    <a:pt x="169" y="328"/>
                  </a:lnTo>
                  <a:lnTo>
                    <a:pt x="115" y="345"/>
                  </a:lnTo>
                  <a:lnTo>
                    <a:pt x="80" y="345"/>
                  </a:lnTo>
                  <a:lnTo>
                    <a:pt x="35" y="328"/>
                  </a:lnTo>
                  <a:lnTo>
                    <a:pt x="17" y="301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16280" y="3062160"/>
              <a:ext cx="0" cy="986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865160" y="3110040"/>
              <a:ext cx="986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865160" y="3170160"/>
              <a:ext cx="986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001960" y="306216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89" y="0"/>
                  </a:moveTo>
                  <a:lnTo>
                    <a:pt x="44" y="8"/>
                  </a:lnTo>
                  <a:lnTo>
                    <a:pt x="17" y="61"/>
                  </a:lnTo>
                  <a:lnTo>
                    <a:pt x="0" y="133"/>
                  </a:lnTo>
                  <a:lnTo>
                    <a:pt x="0" y="177"/>
                  </a:lnTo>
                  <a:lnTo>
                    <a:pt x="17" y="257"/>
                  </a:lnTo>
                  <a:lnTo>
                    <a:pt x="44" y="301"/>
                  </a:lnTo>
                  <a:lnTo>
                    <a:pt x="89" y="319"/>
                  </a:lnTo>
                  <a:lnTo>
                    <a:pt x="124" y="319"/>
                  </a:lnTo>
                  <a:lnTo>
                    <a:pt x="169" y="301"/>
                  </a:lnTo>
                  <a:lnTo>
                    <a:pt x="196" y="257"/>
                  </a:lnTo>
                  <a:lnTo>
                    <a:pt x="213" y="177"/>
                  </a:lnTo>
                  <a:lnTo>
                    <a:pt x="213" y="133"/>
                  </a:lnTo>
                  <a:lnTo>
                    <a:pt x="196" y="61"/>
                  </a:lnTo>
                  <a:lnTo>
                    <a:pt x="169" y="8"/>
                  </a:lnTo>
                  <a:lnTo>
                    <a:pt x="124" y="0"/>
                  </a:lnTo>
                  <a:lnTo>
                    <a:pt x="89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2116080" y="3164040"/>
              <a:ext cx="9720" cy="12960"/>
            </a:xfrm>
            <a:custGeom>
              <a:avLst/>
              <a:gdLst/>
              <a:ahLst/>
              <a:rect l="0" t="0" r="r" b="b"/>
              <a:pathLst>
                <a:path fill="none" w="27" h="36">
                  <a:moveTo>
                    <a:pt x="18" y="0"/>
                  </a:moveTo>
                  <a:lnTo>
                    <a:pt x="0" y="17"/>
                  </a:lnTo>
                  <a:lnTo>
                    <a:pt x="18" y="36"/>
                  </a:lnTo>
                  <a:lnTo>
                    <a:pt x="27" y="17"/>
                  </a:lnTo>
                  <a:lnTo>
                    <a:pt x="18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163600" y="306216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89" y="0"/>
                  </a:moveTo>
                  <a:lnTo>
                    <a:pt x="44" y="8"/>
                  </a:lnTo>
                  <a:lnTo>
                    <a:pt x="17" y="61"/>
                  </a:lnTo>
                  <a:lnTo>
                    <a:pt x="0" y="133"/>
                  </a:lnTo>
                  <a:lnTo>
                    <a:pt x="0" y="177"/>
                  </a:lnTo>
                  <a:lnTo>
                    <a:pt x="17" y="257"/>
                  </a:lnTo>
                  <a:lnTo>
                    <a:pt x="44" y="301"/>
                  </a:lnTo>
                  <a:lnTo>
                    <a:pt x="89" y="319"/>
                  </a:lnTo>
                  <a:lnTo>
                    <a:pt x="124" y="319"/>
                  </a:lnTo>
                  <a:lnTo>
                    <a:pt x="169" y="301"/>
                  </a:lnTo>
                  <a:lnTo>
                    <a:pt x="196" y="257"/>
                  </a:lnTo>
                  <a:lnTo>
                    <a:pt x="213" y="177"/>
                  </a:lnTo>
                  <a:lnTo>
                    <a:pt x="213" y="133"/>
                  </a:lnTo>
                  <a:lnTo>
                    <a:pt x="196" y="61"/>
                  </a:lnTo>
                  <a:lnTo>
                    <a:pt x="169" y="8"/>
                  </a:lnTo>
                  <a:lnTo>
                    <a:pt x="124" y="0"/>
                  </a:lnTo>
                  <a:lnTo>
                    <a:pt x="89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271600" y="306216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187" y="0"/>
                  </a:moveTo>
                  <a:lnTo>
                    <a:pt x="35" y="0"/>
                  </a:lnTo>
                  <a:lnTo>
                    <a:pt x="17" y="133"/>
                  </a:lnTo>
                  <a:lnTo>
                    <a:pt x="35" y="115"/>
                  </a:lnTo>
                  <a:lnTo>
                    <a:pt x="80" y="106"/>
                  </a:lnTo>
                  <a:lnTo>
                    <a:pt x="124" y="106"/>
                  </a:lnTo>
                  <a:lnTo>
                    <a:pt x="169" y="115"/>
                  </a:lnTo>
                  <a:lnTo>
                    <a:pt x="204" y="150"/>
                  </a:lnTo>
                  <a:lnTo>
                    <a:pt x="213" y="195"/>
                  </a:lnTo>
                  <a:lnTo>
                    <a:pt x="213" y="221"/>
                  </a:lnTo>
                  <a:lnTo>
                    <a:pt x="204" y="275"/>
                  </a:lnTo>
                  <a:lnTo>
                    <a:pt x="169" y="301"/>
                  </a:lnTo>
                  <a:lnTo>
                    <a:pt x="124" y="319"/>
                  </a:lnTo>
                  <a:lnTo>
                    <a:pt x="80" y="319"/>
                  </a:lnTo>
                  <a:lnTo>
                    <a:pt x="35" y="301"/>
                  </a:lnTo>
                  <a:lnTo>
                    <a:pt x="17" y="284"/>
                  </a:lnTo>
                  <a:lnTo>
                    <a:pt x="0" y="257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989440" y="2503440"/>
              <a:ext cx="0" cy="2286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922480" y="2503440"/>
              <a:ext cx="13680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2922480" y="2503440"/>
              <a:ext cx="66960" cy="1173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922480" y="2503440"/>
              <a:ext cx="136800" cy="117720"/>
            </a:xfrm>
            <a:custGeom>
              <a:avLst/>
              <a:gdLst/>
              <a:ahLst/>
              <a:rect l="0" t="0" r="r" b="b"/>
              <a:pathLst>
                <a:path w="380" h="327">
                  <a:moveTo>
                    <a:pt x="0" y="0"/>
                  </a:moveTo>
                  <a:lnTo>
                    <a:pt x="185" y="327"/>
                  </a:lnTo>
                  <a:lnTo>
                    <a:pt x="3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H="1">
              <a:off x="2989440" y="2503440"/>
              <a:ext cx="69840" cy="1173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5850000" y="2637000"/>
              <a:ext cx="288720" cy="2887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4621320" y="1897200"/>
              <a:ext cx="0" cy="6062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H="1">
              <a:off x="5602320" y="2382840"/>
              <a:ext cx="235080" cy="23796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602320" y="2382840"/>
              <a:ext cx="235080" cy="23796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604960" y="1039680"/>
              <a:ext cx="416160" cy="416160"/>
            </a:xfrm>
            <a:custGeom>
              <a:avLst/>
              <a:gdLst/>
              <a:ahLst/>
              <a:rect l="0" t="0" r="r" b="b"/>
              <a:pathLst>
                <a:path fill="none" w="1156" h="1156">
                  <a:moveTo>
                    <a:pt x="0" y="583"/>
                  </a:moveTo>
                  <a:lnTo>
                    <a:pt x="1156" y="583"/>
                  </a:lnTo>
                  <a:lnTo>
                    <a:pt x="1156" y="555"/>
                  </a:lnTo>
                  <a:lnTo>
                    <a:pt x="1156" y="529"/>
                  </a:lnTo>
                  <a:lnTo>
                    <a:pt x="1147" y="502"/>
                  </a:lnTo>
                  <a:lnTo>
                    <a:pt x="1147" y="476"/>
                  </a:lnTo>
                  <a:lnTo>
                    <a:pt x="1138" y="449"/>
                  </a:lnTo>
                  <a:lnTo>
                    <a:pt x="1129" y="423"/>
                  </a:lnTo>
                  <a:lnTo>
                    <a:pt x="1129" y="396"/>
                  </a:lnTo>
                  <a:lnTo>
                    <a:pt x="1121" y="379"/>
                  </a:lnTo>
                  <a:lnTo>
                    <a:pt x="1112" y="352"/>
                  </a:lnTo>
                  <a:lnTo>
                    <a:pt x="1094" y="326"/>
                  </a:lnTo>
                  <a:lnTo>
                    <a:pt x="1085" y="308"/>
                  </a:lnTo>
                  <a:lnTo>
                    <a:pt x="1068" y="282"/>
                  </a:lnTo>
                  <a:lnTo>
                    <a:pt x="1059" y="255"/>
                  </a:lnTo>
                  <a:lnTo>
                    <a:pt x="1041" y="238"/>
                  </a:lnTo>
                  <a:lnTo>
                    <a:pt x="1032" y="220"/>
                  </a:lnTo>
                  <a:lnTo>
                    <a:pt x="1015" y="194"/>
                  </a:lnTo>
                  <a:lnTo>
                    <a:pt x="997" y="176"/>
                  </a:lnTo>
                  <a:lnTo>
                    <a:pt x="979" y="158"/>
                  </a:lnTo>
                  <a:lnTo>
                    <a:pt x="953" y="141"/>
                  </a:lnTo>
                  <a:lnTo>
                    <a:pt x="935" y="123"/>
                  </a:lnTo>
                  <a:lnTo>
                    <a:pt x="918" y="114"/>
                  </a:lnTo>
                  <a:lnTo>
                    <a:pt x="891" y="97"/>
                  </a:lnTo>
                  <a:lnTo>
                    <a:pt x="874" y="79"/>
                  </a:lnTo>
                  <a:lnTo>
                    <a:pt x="847" y="70"/>
                  </a:lnTo>
                  <a:lnTo>
                    <a:pt x="830" y="52"/>
                  </a:lnTo>
                  <a:lnTo>
                    <a:pt x="803" y="44"/>
                  </a:lnTo>
                  <a:lnTo>
                    <a:pt x="777" y="35"/>
                  </a:lnTo>
                  <a:lnTo>
                    <a:pt x="759" y="26"/>
                  </a:lnTo>
                  <a:lnTo>
                    <a:pt x="733" y="17"/>
                  </a:lnTo>
                  <a:lnTo>
                    <a:pt x="706" y="17"/>
                  </a:lnTo>
                  <a:lnTo>
                    <a:pt x="680" y="8"/>
                  </a:lnTo>
                  <a:lnTo>
                    <a:pt x="653" y="8"/>
                  </a:lnTo>
                  <a:lnTo>
                    <a:pt x="627" y="0"/>
                  </a:lnTo>
                  <a:lnTo>
                    <a:pt x="600" y="0"/>
                  </a:lnTo>
                  <a:lnTo>
                    <a:pt x="573" y="0"/>
                  </a:lnTo>
                  <a:lnTo>
                    <a:pt x="546" y="0"/>
                  </a:lnTo>
                  <a:lnTo>
                    <a:pt x="520" y="0"/>
                  </a:lnTo>
                  <a:lnTo>
                    <a:pt x="502" y="8"/>
                  </a:lnTo>
                  <a:lnTo>
                    <a:pt x="476" y="8"/>
                  </a:lnTo>
                  <a:lnTo>
                    <a:pt x="449" y="17"/>
                  </a:lnTo>
                  <a:lnTo>
                    <a:pt x="423" y="17"/>
                  </a:lnTo>
                  <a:lnTo>
                    <a:pt x="396" y="26"/>
                  </a:lnTo>
                  <a:lnTo>
                    <a:pt x="370" y="35"/>
                  </a:lnTo>
                  <a:lnTo>
                    <a:pt x="352" y="44"/>
                  </a:lnTo>
                  <a:lnTo>
                    <a:pt x="326" y="52"/>
                  </a:lnTo>
                  <a:lnTo>
                    <a:pt x="299" y="70"/>
                  </a:lnTo>
                  <a:lnTo>
                    <a:pt x="282" y="79"/>
                  </a:lnTo>
                  <a:lnTo>
                    <a:pt x="255" y="97"/>
                  </a:lnTo>
                  <a:lnTo>
                    <a:pt x="238" y="114"/>
                  </a:lnTo>
                  <a:lnTo>
                    <a:pt x="220" y="123"/>
                  </a:lnTo>
                  <a:lnTo>
                    <a:pt x="194" y="141"/>
                  </a:lnTo>
                  <a:lnTo>
                    <a:pt x="176" y="158"/>
                  </a:lnTo>
                  <a:lnTo>
                    <a:pt x="158" y="176"/>
                  </a:lnTo>
                  <a:lnTo>
                    <a:pt x="141" y="194"/>
                  </a:lnTo>
                  <a:lnTo>
                    <a:pt x="123" y="220"/>
                  </a:lnTo>
                  <a:lnTo>
                    <a:pt x="105" y="238"/>
                  </a:lnTo>
                  <a:lnTo>
                    <a:pt x="97" y="255"/>
                  </a:lnTo>
                  <a:lnTo>
                    <a:pt x="79" y="282"/>
                  </a:lnTo>
                  <a:lnTo>
                    <a:pt x="70" y="308"/>
                  </a:lnTo>
                  <a:lnTo>
                    <a:pt x="52" y="326"/>
                  </a:lnTo>
                  <a:lnTo>
                    <a:pt x="44" y="352"/>
                  </a:lnTo>
                  <a:lnTo>
                    <a:pt x="35" y="379"/>
                  </a:lnTo>
                  <a:lnTo>
                    <a:pt x="26" y="396"/>
                  </a:lnTo>
                  <a:lnTo>
                    <a:pt x="17" y="423"/>
                  </a:lnTo>
                  <a:lnTo>
                    <a:pt x="17" y="449"/>
                  </a:lnTo>
                  <a:lnTo>
                    <a:pt x="8" y="476"/>
                  </a:lnTo>
                  <a:lnTo>
                    <a:pt x="8" y="502"/>
                  </a:lnTo>
                  <a:lnTo>
                    <a:pt x="0" y="529"/>
                  </a:lnTo>
                  <a:lnTo>
                    <a:pt x="0" y="555"/>
                  </a:lnTo>
                  <a:lnTo>
                    <a:pt x="0" y="583"/>
                  </a:lnTo>
                  <a:lnTo>
                    <a:pt x="0" y="600"/>
                  </a:lnTo>
                  <a:lnTo>
                    <a:pt x="0" y="627"/>
                  </a:lnTo>
                  <a:lnTo>
                    <a:pt x="8" y="653"/>
                  </a:lnTo>
                  <a:lnTo>
                    <a:pt x="8" y="680"/>
                  </a:lnTo>
                  <a:lnTo>
                    <a:pt x="17" y="706"/>
                  </a:lnTo>
                  <a:lnTo>
                    <a:pt x="17" y="733"/>
                  </a:lnTo>
                  <a:lnTo>
                    <a:pt x="26" y="759"/>
                  </a:lnTo>
                  <a:lnTo>
                    <a:pt x="35" y="785"/>
                  </a:lnTo>
                  <a:lnTo>
                    <a:pt x="44" y="803"/>
                  </a:lnTo>
                  <a:lnTo>
                    <a:pt x="52" y="830"/>
                  </a:lnTo>
                  <a:lnTo>
                    <a:pt x="70" y="856"/>
                  </a:lnTo>
                  <a:lnTo>
                    <a:pt x="79" y="874"/>
                  </a:lnTo>
                  <a:lnTo>
                    <a:pt x="97" y="900"/>
                  </a:lnTo>
                  <a:lnTo>
                    <a:pt x="105" y="918"/>
                  </a:lnTo>
                  <a:lnTo>
                    <a:pt x="123" y="935"/>
                  </a:lnTo>
                  <a:lnTo>
                    <a:pt x="141" y="962"/>
                  </a:lnTo>
                  <a:lnTo>
                    <a:pt x="158" y="979"/>
                  </a:lnTo>
                  <a:lnTo>
                    <a:pt x="176" y="997"/>
                  </a:lnTo>
                  <a:lnTo>
                    <a:pt x="194" y="1015"/>
                  </a:lnTo>
                  <a:lnTo>
                    <a:pt x="220" y="1032"/>
                  </a:lnTo>
                  <a:lnTo>
                    <a:pt x="238" y="1050"/>
                  </a:lnTo>
                  <a:lnTo>
                    <a:pt x="255" y="1059"/>
                  </a:lnTo>
                  <a:lnTo>
                    <a:pt x="282" y="1076"/>
                  </a:lnTo>
                  <a:lnTo>
                    <a:pt x="299" y="1085"/>
                  </a:lnTo>
                  <a:lnTo>
                    <a:pt x="326" y="1103"/>
                  </a:lnTo>
                  <a:lnTo>
                    <a:pt x="352" y="1112"/>
                  </a:lnTo>
                  <a:lnTo>
                    <a:pt x="370" y="1121"/>
                  </a:lnTo>
                  <a:lnTo>
                    <a:pt x="396" y="1129"/>
                  </a:lnTo>
                  <a:lnTo>
                    <a:pt x="423" y="1138"/>
                  </a:lnTo>
                  <a:lnTo>
                    <a:pt x="449" y="1138"/>
                  </a:lnTo>
                  <a:lnTo>
                    <a:pt x="476" y="1147"/>
                  </a:lnTo>
                  <a:lnTo>
                    <a:pt x="502" y="1147"/>
                  </a:lnTo>
                  <a:lnTo>
                    <a:pt x="520" y="1156"/>
                  </a:lnTo>
                  <a:lnTo>
                    <a:pt x="546" y="1156"/>
                  </a:lnTo>
                  <a:lnTo>
                    <a:pt x="573" y="1156"/>
                  </a:lnTo>
                  <a:lnTo>
                    <a:pt x="600" y="1156"/>
                  </a:lnTo>
                  <a:lnTo>
                    <a:pt x="627" y="1156"/>
                  </a:lnTo>
                  <a:lnTo>
                    <a:pt x="653" y="1147"/>
                  </a:lnTo>
                  <a:lnTo>
                    <a:pt x="680" y="1147"/>
                  </a:lnTo>
                  <a:lnTo>
                    <a:pt x="706" y="1138"/>
                  </a:lnTo>
                  <a:lnTo>
                    <a:pt x="733" y="1138"/>
                  </a:lnTo>
                  <a:lnTo>
                    <a:pt x="759" y="1129"/>
                  </a:lnTo>
                  <a:lnTo>
                    <a:pt x="777" y="1121"/>
                  </a:lnTo>
                  <a:lnTo>
                    <a:pt x="803" y="1112"/>
                  </a:lnTo>
                  <a:lnTo>
                    <a:pt x="830" y="1103"/>
                  </a:lnTo>
                  <a:lnTo>
                    <a:pt x="847" y="1085"/>
                  </a:lnTo>
                  <a:lnTo>
                    <a:pt x="874" y="1076"/>
                  </a:lnTo>
                  <a:lnTo>
                    <a:pt x="891" y="1059"/>
                  </a:lnTo>
                  <a:lnTo>
                    <a:pt x="918" y="1050"/>
                  </a:lnTo>
                  <a:lnTo>
                    <a:pt x="935" y="1032"/>
                  </a:lnTo>
                  <a:lnTo>
                    <a:pt x="953" y="1015"/>
                  </a:lnTo>
                  <a:lnTo>
                    <a:pt x="979" y="997"/>
                  </a:lnTo>
                  <a:lnTo>
                    <a:pt x="997" y="979"/>
                  </a:lnTo>
                  <a:lnTo>
                    <a:pt x="1015" y="962"/>
                  </a:lnTo>
                  <a:lnTo>
                    <a:pt x="1032" y="935"/>
                  </a:lnTo>
                  <a:lnTo>
                    <a:pt x="1041" y="918"/>
                  </a:lnTo>
                  <a:lnTo>
                    <a:pt x="1059" y="900"/>
                  </a:lnTo>
                  <a:lnTo>
                    <a:pt x="1068" y="874"/>
                  </a:lnTo>
                  <a:lnTo>
                    <a:pt x="1085" y="856"/>
                  </a:lnTo>
                  <a:lnTo>
                    <a:pt x="1094" y="830"/>
                  </a:lnTo>
                  <a:lnTo>
                    <a:pt x="1112" y="803"/>
                  </a:lnTo>
                  <a:lnTo>
                    <a:pt x="1121" y="785"/>
                  </a:lnTo>
                  <a:lnTo>
                    <a:pt x="1129" y="759"/>
                  </a:lnTo>
                  <a:lnTo>
                    <a:pt x="1129" y="733"/>
                  </a:lnTo>
                  <a:lnTo>
                    <a:pt x="1138" y="706"/>
                  </a:lnTo>
                  <a:lnTo>
                    <a:pt x="1147" y="680"/>
                  </a:lnTo>
                  <a:lnTo>
                    <a:pt x="1147" y="653"/>
                  </a:lnTo>
                  <a:lnTo>
                    <a:pt x="1156" y="627"/>
                  </a:lnTo>
                  <a:lnTo>
                    <a:pt x="1156" y="600"/>
                  </a:lnTo>
                  <a:lnTo>
                    <a:pt x="1156" y="583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716200" y="1281240"/>
              <a:ext cx="79560" cy="1206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>
              <a:off x="2716200" y="1281240"/>
              <a:ext cx="79560" cy="1206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830680" y="1281240"/>
              <a:ext cx="79560" cy="120960"/>
            </a:xfrm>
            <a:custGeom>
              <a:avLst/>
              <a:gdLst/>
              <a:ahLst/>
              <a:rect l="0" t="0" r="r" b="b"/>
              <a:pathLst>
                <a:path fill="none" w="221" h="336">
                  <a:moveTo>
                    <a:pt x="35" y="0"/>
                  </a:moveTo>
                  <a:lnTo>
                    <a:pt x="203" y="0"/>
                  </a:lnTo>
                  <a:lnTo>
                    <a:pt x="115" y="123"/>
                  </a:lnTo>
                  <a:lnTo>
                    <a:pt x="159" y="123"/>
                  </a:lnTo>
                  <a:lnTo>
                    <a:pt x="186" y="141"/>
                  </a:lnTo>
                  <a:lnTo>
                    <a:pt x="203" y="158"/>
                  </a:lnTo>
                  <a:lnTo>
                    <a:pt x="221" y="203"/>
                  </a:lnTo>
                  <a:lnTo>
                    <a:pt x="221" y="239"/>
                  </a:lnTo>
                  <a:lnTo>
                    <a:pt x="203" y="283"/>
                  </a:lnTo>
                  <a:lnTo>
                    <a:pt x="177" y="318"/>
                  </a:lnTo>
                  <a:lnTo>
                    <a:pt x="124" y="336"/>
                  </a:lnTo>
                  <a:lnTo>
                    <a:pt x="79" y="336"/>
                  </a:lnTo>
                  <a:lnTo>
                    <a:pt x="35" y="318"/>
                  </a:lnTo>
                  <a:lnTo>
                    <a:pt x="17" y="300"/>
                  </a:lnTo>
                  <a:lnTo>
                    <a:pt x="0" y="274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942240" y="6227640"/>
              <a:ext cx="41580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329520" y="2719440"/>
              <a:ext cx="416160" cy="416160"/>
            </a:xfrm>
            <a:custGeom>
              <a:avLst/>
              <a:gdLst/>
              <a:ahLst/>
              <a:rect l="0" t="0" r="r" b="b"/>
              <a:pathLst>
                <a:path fill="none" w="1156" h="1156">
                  <a:moveTo>
                    <a:pt x="1156" y="573"/>
                  </a:moveTo>
                  <a:lnTo>
                    <a:pt x="1156" y="546"/>
                  </a:lnTo>
                  <a:lnTo>
                    <a:pt x="1156" y="520"/>
                  </a:lnTo>
                  <a:lnTo>
                    <a:pt x="1156" y="502"/>
                  </a:lnTo>
                  <a:lnTo>
                    <a:pt x="1147" y="476"/>
                  </a:lnTo>
                  <a:lnTo>
                    <a:pt x="1147" y="449"/>
                  </a:lnTo>
                  <a:lnTo>
                    <a:pt x="1138" y="423"/>
                  </a:lnTo>
                  <a:lnTo>
                    <a:pt x="1129" y="396"/>
                  </a:lnTo>
                  <a:lnTo>
                    <a:pt x="1121" y="370"/>
                  </a:lnTo>
                  <a:lnTo>
                    <a:pt x="1112" y="352"/>
                  </a:lnTo>
                  <a:lnTo>
                    <a:pt x="1103" y="326"/>
                  </a:lnTo>
                  <a:lnTo>
                    <a:pt x="1094" y="299"/>
                  </a:lnTo>
                  <a:lnTo>
                    <a:pt x="1076" y="282"/>
                  </a:lnTo>
                  <a:lnTo>
                    <a:pt x="1068" y="255"/>
                  </a:lnTo>
                  <a:lnTo>
                    <a:pt x="1050" y="238"/>
                  </a:lnTo>
                  <a:lnTo>
                    <a:pt x="1032" y="220"/>
                  </a:lnTo>
                  <a:lnTo>
                    <a:pt x="1015" y="194"/>
                  </a:lnTo>
                  <a:lnTo>
                    <a:pt x="997" y="176"/>
                  </a:lnTo>
                  <a:lnTo>
                    <a:pt x="979" y="158"/>
                  </a:lnTo>
                  <a:lnTo>
                    <a:pt x="962" y="141"/>
                  </a:lnTo>
                  <a:lnTo>
                    <a:pt x="944" y="123"/>
                  </a:lnTo>
                  <a:lnTo>
                    <a:pt x="918" y="105"/>
                  </a:lnTo>
                  <a:lnTo>
                    <a:pt x="900" y="97"/>
                  </a:lnTo>
                  <a:lnTo>
                    <a:pt x="874" y="79"/>
                  </a:lnTo>
                  <a:lnTo>
                    <a:pt x="856" y="70"/>
                  </a:lnTo>
                  <a:lnTo>
                    <a:pt x="830" y="52"/>
                  </a:lnTo>
                  <a:lnTo>
                    <a:pt x="812" y="44"/>
                  </a:lnTo>
                  <a:lnTo>
                    <a:pt x="785" y="35"/>
                  </a:lnTo>
                  <a:lnTo>
                    <a:pt x="759" y="26"/>
                  </a:lnTo>
                  <a:lnTo>
                    <a:pt x="733" y="17"/>
                  </a:lnTo>
                  <a:lnTo>
                    <a:pt x="706" y="8"/>
                  </a:lnTo>
                  <a:lnTo>
                    <a:pt x="688" y="8"/>
                  </a:lnTo>
                  <a:lnTo>
                    <a:pt x="662" y="0"/>
                  </a:lnTo>
                  <a:lnTo>
                    <a:pt x="636" y="0"/>
                  </a:lnTo>
                  <a:lnTo>
                    <a:pt x="609" y="0"/>
                  </a:lnTo>
                  <a:lnTo>
                    <a:pt x="583" y="0"/>
                  </a:lnTo>
                  <a:lnTo>
                    <a:pt x="555" y="0"/>
                  </a:lnTo>
                  <a:lnTo>
                    <a:pt x="529" y="0"/>
                  </a:lnTo>
                  <a:lnTo>
                    <a:pt x="502" y="0"/>
                  </a:lnTo>
                  <a:lnTo>
                    <a:pt x="476" y="8"/>
                  </a:lnTo>
                  <a:lnTo>
                    <a:pt x="449" y="8"/>
                  </a:lnTo>
                  <a:lnTo>
                    <a:pt x="432" y="17"/>
                  </a:lnTo>
                  <a:lnTo>
                    <a:pt x="405" y="26"/>
                  </a:lnTo>
                  <a:lnTo>
                    <a:pt x="379" y="35"/>
                  </a:lnTo>
                  <a:lnTo>
                    <a:pt x="352" y="44"/>
                  </a:lnTo>
                  <a:lnTo>
                    <a:pt x="335" y="52"/>
                  </a:lnTo>
                  <a:lnTo>
                    <a:pt x="308" y="70"/>
                  </a:lnTo>
                  <a:lnTo>
                    <a:pt x="282" y="79"/>
                  </a:lnTo>
                  <a:lnTo>
                    <a:pt x="264" y="97"/>
                  </a:lnTo>
                  <a:lnTo>
                    <a:pt x="238" y="105"/>
                  </a:lnTo>
                  <a:lnTo>
                    <a:pt x="220" y="123"/>
                  </a:lnTo>
                  <a:lnTo>
                    <a:pt x="202" y="141"/>
                  </a:lnTo>
                  <a:lnTo>
                    <a:pt x="185" y="158"/>
                  </a:lnTo>
                  <a:lnTo>
                    <a:pt x="167" y="176"/>
                  </a:lnTo>
                  <a:lnTo>
                    <a:pt x="149" y="194"/>
                  </a:lnTo>
                  <a:lnTo>
                    <a:pt x="132" y="220"/>
                  </a:lnTo>
                  <a:lnTo>
                    <a:pt x="114" y="238"/>
                  </a:lnTo>
                  <a:lnTo>
                    <a:pt x="97" y="255"/>
                  </a:lnTo>
                  <a:lnTo>
                    <a:pt x="88" y="282"/>
                  </a:lnTo>
                  <a:lnTo>
                    <a:pt x="70" y="299"/>
                  </a:lnTo>
                  <a:lnTo>
                    <a:pt x="61" y="326"/>
                  </a:lnTo>
                  <a:lnTo>
                    <a:pt x="52" y="352"/>
                  </a:lnTo>
                  <a:lnTo>
                    <a:pt x="44" y="370"/>
                  </a:lnTo>
                  <a:lnTo>
                    <a:pt x="35" y="396"/>
                  </a:lnTo>
                  <a:lnTo>
                    <a:pt x="26" y="423"/>
                  </a:lnTo>
                  <a:lnTo>
                    <a:pt x="17" y="449"/>
                  </a:lnTo>
                  <a:lnTo>
                    <a:pt x="17" y="476"/>
                  </a:lnTo>
                  <a:lnTo>
                    <a:pt x="8" y="502"/>
                  </a:lnTo>
                  <a:lnTo>
                    <a:pt x="8" y="520"/>
                  </a:lnTo>
                  <a:lnTo>
                    <a:pt x="8" y="546"/>
                  </a:lnTo>
                  <a:lnTo>
                    <a:pt x="0" y="573"/>
                  </a:lnTo>
                  <a:lnTo>
                    <a:pt x="8" y="600"/>
                  </a:lnTo>
                  <a:lnTo>
                    <a:pt x="8" y="627"/>
                  </a:lnTo>
                  <a:lnTo>
                    <a:pt x="8" y="653"/>
                  </a:lnTo>
                  <a:lnTo>
                    <a:pt x="17" y="680"/>
                  </a:lnTo>
                  <a:lnTo>
                    <a:pt x="17" y="706"/>
                  </a:lnTo>
                  <a:lnTo>
                    <a:pt x="26" y="733"/>
                  </a:lnTo>
                  <a:lnTo>
                    <a:pt x="35" y="759"/>
                  </a:lnTo>
                  <a:lnTo>
                    <a:pt x="44" y="777"/>
                  </a:lnTo>
                  <a:lnTo>
                    <a:pt x="52" y="803"/>
                  </a:lnTo>
                  <a:lnTo>
                    <a:pt x="61" y="830"/>
                  </a:lnTo>
                  <a:lnTo>
                    <a:pt x="70" y="847"/>
                  </a:lnTo>
                  <a:lnTo>
                    <a:pt x="88" y="874"/>
                  </a:lnTo>
                  <a:lnTo>
                    <a:pt x="97" y="891"/>
                  </a:lnTo>
                  <a:lnTo>
                    <a:pt x="114" y="918"/>
                  </a:lnTo>
                  <a:lnTo>
                    <a:pt x="132" y="935"/>
                  </a:lnTo>
                  <a:lnTo>
                    <a:pt x="149" y="953"/>
                  </a:lnTo>
                  <a:lnTo>
                    <a:pt x="167" y="979"/>
                  </a:lnTo>
                  <a:lnTo>
                    <a:pt x="185" y="997"/>
                  </a:lnTo>
                  <a:lnTo>
                    <a:pt x="202" y="1015"/>
                  </a:lnTo>
                  <a:lnTo>
                    <a:pt x="220" y="1032"/>
                  </a:lnTo>
                  <a:lnTo>
                    <a:pt x="238" y="1041"/>
                  </a:lnTo>
                  <a:lnTo>
                    <a:pt x="264" y="1059"/>
                  </a:lnTo>
                  <a:lnTo>
                    <a:pt x="282" y="1076"/>
                  </a:lnTo>
                  <a:lnTo>
                    <a:pt x="308" y="1085"/>
                  </a:lnTo>
                  <a:lnTo>
                    <a:pt x="335" y="1094"/>
                  </a:lnTo>
                  <a:lnTo>
                    <a:pt x="352" y="1112"/>
                  </a:lnTo>
                  <a:lnTo>
                    <a:pt x="379" y="1121"/>
                  </a:lnTo>
                  <a:lnTo>
                    <a:pt x="405" y="1129"/>
                  </a:lnTo>
                  <a:lnTo>
                    <a:pt x="432" y="1138"/>
                  </a:lnTo>
                  <a:lnTo>
                    <a:pt x="449" y="1138"/>
                  </a:lnTo>
                  <a:lnTo>
                    <a:pt x="476" y="1147"/>
                  </a:lnTo>
                  <a:lnTo>
                    <a:pt x="502" y="1147"/>
                  </a:lnTo>
                  <a:lnTo>
                    <a:pt x="529" y="1156"/>
                  </a:lnTo>
                  <a:lnTo>
                    <a:pt x="555" y="1156"/>
                  </a:lnTo>
                  <a:lnTo>
                    <a:pt x="583" y="1156"/>
                  </a:lnTo>
                  <a:lnTo>
                    <a:pt x="609" y="1156"/>
                  </a:lnTo>
                  <a:lnTo>
                    <a:pt x="636" y="1156"/>
                  </a:lnTo>
                  <a:lnTo>
                    <a:pt x="662" y="1147"/>
                  </a:lnTo>
                  <a:lnTo>
                    <a:pt x="688" y="1147"/>
                  </a:lnTo>
                  <a:lnTo>
                    <a:pt x="706" y="1138"/>
                  </a:lnTo>
                  <a:lnTo>
                    <a:pt x="733" y="1138"/>
                  </a:lnTo>
                  <a:lnTo>
                    <a:pt x="759" y="1129"/>
                  </a:lnTo>
                  <a:lnTo>
                    <a:pt x="785" y="1121"/>
                  </a:lnTo>
                  <a:lnTo>
                    <a:pt x="812" y="1112"/>
                  </a:lnTo>
                  <a:lnTo>
                    <a:pt x="830" y="1094"/>
                  </a:lnTo>
                  <a:lnTo>
                    <a:pt x="856" y="1085"/>
                  </a:lnTo>
                  <a:lnTo>
                    <a:pt x="874" y="1076"/>
                  </a:lnTo>
                  <a:lnTo>
                    <a:pt x="900" y="1059"/>
                  </a:lnTo>
                  <a:lnTo>
                    <a:pt x="918" y="1041"/>
                  </a:lnTo>
                  <a:lnTo>
                    <a:pt x="944" y="1032"/>
                  </a:lnTo>
                  <a:lnTo>
                    <a:pt x="962" y="1015"/>
                  </a:lnTo>
                  <a:lnTo>
                    <a:pt x="979" y="997"/>
                  </a:lnTo>
                  <a:lnTo>
                    <a:pt x="997" y="979"/>
                  </a:lnTo>
                  <a:lnTo>
                    <a:pt x="1015" y="953"/>
                  </a:lnTo>
                  <a:lnTo>
                    <a:pt x="1032" y="935"/>
                  </a:lnTo>
                  <a:lnTo>
                    <a:pt x="1050" y="918"/>
                  </a:lnTo>
                  <a:lnTo>
                    <a:pt x="1068" y="891"/>
                  </a:lnTo>
                  <a:lnTo>
                    <a:pt x="1076" y="874"/>
                  </a:lnTo>
                  <a:lnTo>
                    <a:pt x="1094" y="847"/>
                  </a:lnTo>
                  <a:lnTo>
                    <a:pt x="1103" y="830"/>
                  </a:lnTo>
                  <a:lnTo>
                    <a:pt x="1112" y="803"/>
                  </a:lnTo>
                  <a:lnTo>
                    <a:pt x="1121" y="777"/>
                  </a:lnTo>
                  <a:lnTo>
                    <a:pt x="1129" y="759"/>
                  </a:lnTo>
                  <a:lnTo>
                    <a:pt x="1138" y="733"/>
                  </a:lnTo>
                  <a:lnTo>
                    <a:pt x="1147" y="706"/>
                  </a:lnTo>
                  <a:lnTo>
                    <a:pt x="1147" y="680"/>
                  </a:lnTo>
                  <a:lnTo>
                    <a:pt x="1156" y="653"/>
                  </a:lnTo>
                  <a:lnTo>
                    <a:pt x="1156" y="627"/>
                  </a:lnTo>
                  <a:lnTo>
                    <a:pt x="1156" y="600"/>
                  </a:lnTo>
                  <a:lnTo>
                    <a:pt x="1156" y="573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745320" y="2719440"/>
              <a:ext cx="416160" cy="416160"/>
            </a:xfrm>
            <a:custGeom>
              <a:avLst/>
              <a:gdLst/>
              <a:ahLst/>
              <a:rect l="0" t="0" r="r" b="b"/>
              <a:pathLst>
                <a:path fill="none" w="1156" h="1156">
                  <a:moveTo>
                    <a:pt x="1156" y="573"/>
                  </a:moveTo>
                  <a:lnTo>
                    <a:pt x="1156" y="546"/>
                  </a:lnTo>
                  <a:lnTo>
                    <a:pt x="1156" y="520"/>
                  </a:lnTo>
                  <a:lnTo>
                    <a:pt x="1156" y="502"/>
                  </a:lnTo>
                  <a:lnTo>
                    <a:pt x="1147" y="476"/>
                  </a:lnTo>
                  <a:lnTo>
                    <a:pt x="1147" y="449"/>
                  </a:lnTo>
                  <a:lnTo>
                    <a:pt x="1138" y="423"/>
                  </a:lnTo>
                  <a:lnTo>
                    <a:pt x="1129" y="396"/>
                  </a:lnTo>
                  <a:lnTo>
                    <a:pt x="1121" y="370"/>
                  </a:lnTo>
                  <a:lnTo>
                    <a:pt x="1112" y="352"/>
                  </a:lnTo>
                  <a:lnTo>
                    <a:pt x="1103" y="326"/>
                  </a:lnTo>
                  <a:lnTo>
                    <a:pt x="1085" y="299"/>
                  </a:lnTo>
                  <a:lnTo>
                    <a:pt x="1076" y="282"/>
                  </a:lnTo>
                  <a:lnTo>
                    <a:pt x="1059" y="255"/>
                  </a:lnTo>
                  <a:lnTo>
                    <a:pt x="1050" y="238"/>
                  </a:lnTo>
                  <a:lnTo>
                    <a:pt x="1032" y="220"/>
                  </a:lnTo>
                  <a:lnTo>
                    <a:pt x="1015" y="194"/>
                  </a:lnTo>
                  <a:lnTo>
                    <a:pt x="997" y="176"/>
                  </a:lnTo>
                  <a:lnTo>
                    <a:pt x="979" y="158"/>
                  </a:lnTo>
                  <a:lnTo>
                    <a:pt x="962" y="141"/>
                  </a:lnTo>
                  <a:lnTo>
                    <a:pt x="944" y="123"/>
                  </a:lnTo>
                  <a:lnTo>
                    <a:pt x="918" y="105"/>
                  </a:lnTo>
                  <a:lnTo>
                    <a:pt x="900" y="97"/>
                  </a:lnTo>
                  <a:lnTo>
                    <a:pt x="874" y="79"/>
                  </a:lnTo>
                  <a:lnTo>
                    <a:pt x="856" y="70"/>
                  </a:lnTo>
                  <a:lnTo>
                    <a:pt x="830" y="52"/>
                  </a:lnTo>
                  <a:lnTo>
                    <a:pt x="803" y="44"/>
                  </a:lnTo>
                  <a:lnTo>
                    <a:pt x="785" y="35"/>
                  </a:lnTo>
                  <a:lnTo>
                    <a:pt x="759" y="26"/>
                  </a:lnTo>
                  <a:lnTo>
                    <a:pt x="733" y="17"/>
                  </a:lnTo>
                  <a:lnTo>
                    <a:pt x="706" y="8"/>
                  </a:lnTo>
                  <a:lnTo>
                    <a:pt x="680" y="8"/>
                  </a:lnTo>
                  <a:lnTo>
                    <a:pt x="662" y="0"/>
                  </a:lnTo>
                  <a:lnTo>
                    <a:pt x="636" y="0"/>
                  </a:lnTo>
                  <a:lnTo>
                    <a:pt x="609" y="0"/>
                  </a:lnTo>
                  <a:lnTo>
                    <a:pt x="583" y="0"/>
                  </a:lnTo>
                  <a:lnTo>
                    <a:pt x="555" y="0"/>
                  </a:lnTo>
                  <a:lnTo>
                    <a:pt x="529" y="0"/>
                  </a:lnTo>
                  <a:lnTo>
                    <a:pt x="502" y="0"/>
                  </a:lnTo>
                  <a:lnTo>
                    <a:pt x="476" y="8"/>
                  </a:lnTo>
                  <a:lnTo>
                    <a:pt x="449" y="8"/>
                  </a:lnTo>
                  <a:lnTo>
                    <a:pt x="423" y="17"/>
                  </a:lnTo>
                  <a:lnTo>
                    <a:pt x="405" y="26"/>
                  </a:lnTo>
                  <a:lnTo>
                    <a:pt x="379" y="35"/>
                  </a:lnTo>
                  <a:lnTo>
                    <a:pt x="352" y="44"/>
                  </a:lnTo>
                  <a:lnTo>
                    <a:pt x="326" y="52"/>
                  </a:lnTo>
                  <a:lnTo>
                    <a:pt x="308" y="70"/>
                  </a:lnTo>
                  <a:lnTo>
                    <a:pt x="282" y="79"/>
                  </a:lnTo>
                  <a:lnTo>
                    <a:pt x="264" y="97"/>
                  </a:lnTo>
                  <a:lnTo>
                    <a:pt x="238" y="105"/>
                  </a:lnTo>
                  <a:lnTo>
                    <a:pt x="220" y="123"/>
                  </a:lnTo>
                  <a:lnTo>
                    <a:pt x="202" y="141"/>
                  </a:lnTo>
                  <a:lnTo>
                    <a:pt x="185" y="158"/>
                  </a:lnTo>
                  <a:lnTo>
                    <a:pt x="167" y="176"/>
                  </a:lnTo>
                  <a:lnTo>
                    <a:pt x="149" y="194"/>
                  </a:lnTo>
                  <a:lnTo>
                    <a:pt x="132" y="220"/>
                  </a:lnTo>
                  <a:lnTo>
                    <a:pt x="114" y="238"/>
                  </a:lnTo>
                  <a:lnTo>
                    <a:pt x="97" y="255"/>
                  </a:lnTo>
                  <a:lnTo>
                    <a:pt x="88" y="282"/>
                  </a:lnTo>
                  <a:lnTo>
                    <a:pt x="70" y="299"/>
                  </a:lnTo>
                  <a:lnTo>
                    <a:pt x="61" y="326"/>
                  </a:lnTo>
                  <a:lnTo>
                    <a:pt x="52" y="352"/>
                  </a:lnTo>
                  <a:lnTo>
                    <a:pt x="44" y="370"/>
                  </a:lnTo>
                  <a:lnTo>
                    <a:pt x="35" y="396"/>
                  </a:lnTo>
                  <a:lnTo>
                    <a:pt x="26" y="423"/>
                  </a:lnTo>
                  <a:lnTo>
                    <a:pt x="17" y="449"/>
                  </a:lnTo>
                  <a:lnTo>
                    <a:pt x="8" y="476"/>
                  </a:lnTo>
                  <a:lnTo>
                    <a:pt x="8" y="502"/>
                  </a:lnTo>
                  <a:lnTo>
                    <a:pt x="8" y="520"/>
                  </a:lnTo>
                  <a:lnTo>
                    <a:pt x="0" y="546"/>
                  </a:lnTo>
                  <a:lnTo>
                    <a:pt x="0" y="573"/>
                  </a:lnTo>
                  <a:lnTo>
                    <a:pt x="0" y="600"/>
                  </a:lnTo>
                  <a:lnTo>
                    <a:pt x="8" y="627"/>
                  </a:lnTo>
                  <a:lnTo>
                    <a:pt x="8" y="653"/>
                  </a:lnTo>
                  <a:lnTo>
                    <a:pt x="8" y="680"/>
                  </a:lnTo>
                  <a:lnTo>
                    <a:pt x="17" y="706"/>
                  </a:lnTo>
                  <a:lnTo>
                    <a:pt x="26" y="733"/>
                  </a:lnTo>
                  <a:lnTo>
                    <a:pt x="35" y="759"/>
                  </a:lnTo>
                  <a:lnTo>
                    <a:pt x="44" y="777"/>
                  </a:lnTo>
                  <a:lnTo>
                    <a:pt x="52" y="803"/>
                  </a:lnTo>
                  <a:lnTo>
                    <a:pt x="61" y="830"/>
                  </a:lnTo>
                  <a:lnTo>
                    <a:pt x="70" y="847"/>
                  </a:lnTo>
                  <a:lnTo>
                    <a:pt x="88" y="874"/>
                  </a:lnTo>
                  <a:lnTo>
                    <a:pt x="97" y="891"/>
                  </a:lnTo>
                  <a:lnTo>
                    <a:pt x="114" y="918"/>
                  </a:lnTo>
                  <a:lnTo>
                    <a:pt x="132" y="935"/>
                  </a:lnTo>
                  <a:lnTo>
                    <a:pt x="149" y="953"/>
                  </a:lnTo>
                  <a:lnTo>
                    <a:pt x="167" y="979"/>
                  </a:lnTo>
                  <a:lnTo>
                    <a:pt x="185" y="997"/>
                  </a:lnTo>
                  <a:lnTo>
                    <a:pt x="202" y="1015"/>
                  </a:lnTo>
                  <a:lnTo>
                    <a:pt x="220" y="1032"/>
                  </a:lnTo>
                  <a:lnTo>
                    <a:pt x="238" y="1041"/>
                  </a:lnTo>
                  <a:lnTo>
                    <a:pt x="264" y="1059"/>
                  </a:lnTo>
                  <a:lnTo>
                    <a:pt x="282" y="1076"/>
                  </a:lnTo>
                  <a:lnTo>
                    <a:pt x="308" y="1085"/>
                  </a:lnTo>
                  <a:lnTo>
                    <a:pt x="326" y="1094"/>
                  </a:lnTo>
                  <a:lnTo>
                    <a:pt x="352" y="1112"/>
                  </a:lnTo>
                  <a:lnTo>
                    <a:pt x="379" y="1121"/>
                  </a:lnTo>
                  <a:lnTo>
                    <a:pt x="405" y="1129"/>
                  </a:lnTo>
                  <a:lnTo>
                    <a:pt x="423" y="1138"/>
                  </a:lnTo>
                  <a:lnTo>
                    <a:pt x="449" y="1138"/>
                  </a:lnTo>
                  <a:lnTo>
                    <a:pt x="476" y="1147"/>
                  </a:lnTo>
                  <a:lnTo>
                    <a:pt x="502" y="1147"/>
                  </a:lnTo>
                  <a:lnTo>
                    <a:pt x="529" y="1156"/>
                  </a:lnTo>
                  <a:lnTo>
                    <a:pt x="555" y="1156"/>
                  </a:lnTo>
                  <a:lnTo>
                    <a:pt x="583" y="1156"/>
                  </a:lnTo>
                  <a:lnTo>
                    <a:pt x="609" y="1156"/>
                  </a:lnTo>
                  <a:lnTo>
                    <a:pt x="636" y="1156"/>
                  </a:lnTo>
                  <a:lnTo>
                    <a:pt x="662" y="1147"/>
                  </a:lnTo>
                  <a:lnTo>
                    <a:pt x="680" y="1147"/>
                  </a:lnTo>
                  <a:lnTo>
                    <a:pt x="706" y="1138"/>
                  </a:lnTo>
                  <a:lnTo>
                    <a:pt x="733" y="1138"/>
                  </a:lnTo>
                  <a:lnTo>
                    <a:pt x="759" y="1129"/>
                  </a:lnTo>
                  <a:lnTo>
                    <a:pt x="785" y="1121"/>
                  </a:lnTo>
                  <a:lnTo>
                    <a:pt x="803" y="1112"/>
                  </a:lnTo>
                  <a:lnTo>
                    <a:pt x="830" y="1094"/>
                  </a:lnTo>
                  <a:lnTo>
                    <a:pt x="856" y="1085"/>
                  </a:lnTo>
                  <a:lnTo>
                    <a:pt x="874" y="1076"/>
                  </a:lnTo>
                  <a:lnTo>
                    <a:pt x="900" y="1059"/>
                  </a:lnTo>
                  <a:lnTo>
                    <a:pt x="918" y="1041"/>
                  </a:lnTo>
                  <a:lnTo>
                    <a:pt x="944" y="1032"/>
                  </a:lnTo>
                  <a:lnTo>
                    <a:pt x="962" y="1015"/>
                  </a:lnTo>
                  <a:lnTo>
                    <a:pt x="979" y="997"/>
                  </a:lnTo>
                  <a:lnTo>
                    <a:pt x="997" y="979"/>
                  </a:lnTo>
                  <a:lnTo>
                    <a:pt x="1015" y="953"/>
                  </a:lnTo>
                  <a:lnTo>
                    <a:pt x="1032" y="935"/>
                  </a:lnTo>
                  <a:lnTo>
                    <a:pt x="1050" y="918"/>
                  </a:lnTo>
                  <a:lnTo>
                    <a:pt x="1059" y="891"/>
                  </a:lnTo>
                  <a:lnTo>
                    <a:pt x="1076" y="874"/>
                  </a:lnTo>
                  <a:lnTo>
                    <a:pt x="1085" y="847"/>
                  </a:lnTo>
                  <a:lnTo>
                    <a:pt x="1103" y="830"/>
                  </a:lnTo>
                  <a:lnTo>
                    <a:pt x="1112" y="803"/>
                  </a:lnTo>
                  <a:lnTo>
                    <a:pt x="1121" y="777"/>
                  </a:lnTo>
                  <a:lnTo>
                    <a:pt x="1129" y="759"/>
                  </a:lnTo>
                  <a:lnTo>
                    <a:pt x="1138" y="733"/>
                  </a:lnTo>
                  <a:lnTo>
                    <a:pt x="1147" y="706"/>
                  </a:lnTo>
                  <a:lnTo>
                    <a:pt x="1147" y="680"/>
                  </a:lnTo>
                  <a:lnTo>
                    <a:pt x="1156" y="653"/>
                  </a:lnTo>
                  <a:lnTo>
                    <a:pt x="1156" y="627"/>
                  </a:lnTo>
                  <a:lnTo>
                    <a:pt x="1156" y="600"/>
                  </a:lnTo>
                  <a:lnTo>
                    <a:pt x="1156" y="573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373800" y="3205080"/>
              <a:ext cx="416160" cy="416160"/>
            </a:xfrm>
            <a:custGeom>
              <a:avLst/>
              <a:gdLst/>
              <a:ahLst/>
              <a:rect l="0" t="0" r="r" b="b"/>
              <a:pathLst>
                <a:path fill="none" w="1156" h="1156">
                  <a:moveTo>
                    <a:pt x="1156" y="583"/>
                  </a:moveTo>
                  <a:lnTo>
                    <a:pt x="1156" y="555"/>
                  </a:lnTo>
                  <a:lnTo>
                    <a:pt x="1156" y="529"/>
                  </a:lnTo>
                  <a:lnTo>
                    <a:pt x="1147" y="502"/>
                  </a:lnTo>
                  <a:lnTo>
                    <a:pt x="1147" y="476"/>
                  </a:lnTo>
                  <a:lnTo>
                    <a:pt x="1138" y="449"/>
                  </a:lnTo>
                  <a:lnTo>
                    <a:pt x="1129" y="423"/>
                  </a:lnTo>
                  <a:lnTo>
                    <a:pt x="1129" y="396"/>
                  </a:lnTo>
                  <a:lnTo>
                    <a:pt x="1121" y="379"/>
                  </a:lnTo>
                  <a:lnTo>
                    <a:pt x="1112" y="352"/>
                  </a:lnTo>
                  <a:lnTo>
                    <a:pt x="1094" y="326"/>
                  </a:lnTo>
                  <a:lnTo>
                    <a:pt x="1085" y="308"/>
                  </a:lnTo>
                  <a:lnTo>
                    <a:pt x="1076" y="282"/>
                  </a:lnTo>
                  <a:lnTo>
                    <a:pt x="1059" y="264"/>
                  </a:lnTo>
                  <a:lnTo>
                    <a:pt x="1041" y="238"/>
                  </a:lnTo>
                  <a:lnTo>
                    <a:pt x="1032" y="220"/>
                  </a:lnTo>
                  <a:lnTo>
                    <a:pt x="1015" y="202"/>
                  </a:lnTo>
                  <a:lnTo>
                    <a:pt x="997" y="176"/>
                  </a:lnTo>
                  <a:lnTo>
                    <a:pt x="979" y="158"/>
                  </a:lnTo>
                  <a:lnTo>
                    <a:pt x="953" y="141"/>
                  </a:lnTo>
                  <a:lnTo>
                    <a:pt x="935" y="123"/>
                  </a:lnTo>
                  <a:lnTo>
                    <a:pt x="918" y="114"/>
                  </a:lnTo>
                  <a:lnTo>
                    <a:pt x="891" y="97"/>
                  </a:lnTo>
                  <a:lnTo>
                    <a:pt x="874" y="79"/>
                  </a:lnTo>
                  <a:lnTo>
                    <a:pt x="847" y="70"/>
                  </a:lnTo>
                  <a:lnTo>
                    <a:pt x="830" y="61"/>
                  </a:lnTo>
                  <a:lnTo>
                    <a:pt x="803" y="44"/>
                  </a:lnTo>
                  <a:lnTo>
                    <a:pt x="777" y="35"/>
                  </a:lnTo>
                  <a:lnTo>
                    <a:pt x="759" y="26"/>
                  </a:lnTo>
                  <a:lnTo>
                    <a:pt x="733" y="17"/>
                  </a:lnTo>
                  <a:lnTo>
                    <a:pt x="706" y="17"/>
                  </a:lnTo>
                  <a:lnTo>
                    <a:pt x="680" y="8"/>
                  </a:lnTo>
                  <a:lnTo>
                    <a:pt x="653" y="8"/>
                  </a:lnTo>
                  <a:lnTo>
                    <a:pt x="627" y="0"/>
                  </a:lnTo>
                  <a:lnTo>
                    <a:pt x="600" y="0"/>
                  </a:lnTo>
                  <a:lnTo>
                    <a:pt x="573" y="0"/>
                  </a:lnTo>
                  <a:lnTo>
                    <a:pt x="546" y="0"/>
                  </a:lnTo>
                  <a:lnTo>
                    <a:pt x="529" y="0"/>
                  </a:lnTo>
                  <a:lnTo>
                    <a:pt x="502" y="8"/>
                  </a:lnTo>
                  <a:lnTo>
                    <a:pt x="476" y="8"/>
                  </a:lnTo>
                  <a:lnTo>
                    <a:pt x="449" y="17"/>
                  </a:lnTo>
                  <a:lnTo>
                    <a:pt x="423" y="17"/>
                  </a:lnTo>
                  <a:lnTo>
                    <a:pt x="396" y="26"/>
                  </a:lnTo>
                  <a:lnTo>
                    <a:pt x="370" y="35"/>
                  </a:lnTo>
                  <a:lnTo>
                    <a:pt x="352" y="44"/>
                  </a:lnTo>
                  <a:lnTo>
                    <a:pt x="326" y="61"/>
                  </a:lnTo>
                  <a:lnTo>
                    <a:pt x="299" y="70"/>
                  </a:lnTo>
                  <a:lnTo>
                    <a:pt x="282" y="79"/>
                  </a:lnTo>
                  <a:lnTo>
                    <a:pt x="255" y="97"/>
                  </a:lnTo>
                  <a:lnTo>
                    <a:pt x="238" y="114"/>
                  </a:lnTo>
                  <a:lnTo>
                    <a:pt x="220" y="123"/>
                  </a:lnTo>
                  <a:lnTo>
                    <a:pt x="194" y="141"/>
                  </a:lnTo>
                  <a:lnTo>
                    <a:pt x="176" y="158"/>
                  </a:lnTo>
                  <a:lnTo>
                    <a:pt x="158" y="176"/>
                  </a:lnTo>
                  <a:lnTo>
                    <a:pt x="141" y="202"/>
                  </a:lnTo>
                  <a:lnTo>
                    <a:pt x="123" y="220"/>
                  </a:lnTo>
                  <a:lnTo>
                    <a:pt x="105" y="238"/>
                  </a:lnTo>
                  <a:lnTo>
                    <a:pt x="97" y="264"/>
                  </a:lnTo>
                  <a:lnTo>
                    <a:pt x="79" y="282"/>
                  </a:lnTo>
                  <a:lnTo>
                    <a:pt x="70" y="308"/>
                  </a:lnTo>
                  <a:lnTo>
                    <a:pt x="52" y="326"/>
                  </a:lnTo>
                  <a:lnTo>
                    <a:pt x="44" y="352"/>
                  </a:lnTo>
                  <a:lnTo>
                    <a:pt x="35" y="379"/>
                  </a:lnTo>
                  <a:lnTo>
                    <a:pt x="26" y="396"/>
                  </a:lnTo>
                  <a:lnTo>
                    <a:pt x="17" y="423"/>
                  </a:lnTo>
                  <a:lnTo>
                    <a:pt x="17" y="449"/>
                  </a:lnTo>
                  <a:lnTo>
                    <a:pt x="8" y="476"/>
                  </a:lnTo>
                  <a:lnTo>
                    <a:pt x="8" y="502"/>
                  </a:lnTo>
                  <a:lnTo>
                    <a:pt x="0" y="529"/>
                  </a:lnTo>
                  <a:lnTo>
                    <a:pt x="0" y="555"/>
                  </a:lnTo>
                  <a:lnTo>
                    <a:pt x="0" y="583"/>
                  </a:lnTo>
                  <a:lnTo>
                    <a:pt x="0" y="609"/>
                  </a:lnTo>
                  <a:lnTo>
                    <a:pt x="0" y="636"/>
                  </a:lnTo>
                  <a:lnTo>
                    <a:pt x="8" y="653"/>
                  </a:lnTo>
                  <a:lnTo>
                    <a:pt x="8" y="680"/>
                  </a:lnTo>
                  <a:lnTo>
                    <a:pt x="17" y="706"/>
                  </a:lnTo>
                  <a:lnTo>
                    <a:pt x="17" y="733"/>
                  </a:lnTo>
                  <a:lnTo>
                    <a:pt x="26" y="759"/>
                  </a:lnTo>
                  <a:lnTo>
                    <a:pt x="35" y="785"/>
                  </a:lnTo>
                  <a:lnTo>
                    <a:pt x="44" y="803"/>
                  </a:lnTo>
                  <a:lnTo>
                    <a:pt x="52" y="830"/>
                  </a:lnTo>
                  <a:lnTo>
                    <a:pt x="70" y="856"/>
                  </a:lnTo>
                  <a:lnTo>
                    <a:pt x="79" y="874"/>
                  </a:lnTo>
                  <a:lnTo>
                    <a:pt x="97" y="900"/>
                  </a:lnTo>
                  <a:lnTo>
                    <a:pt x="105" y="918"/>
                  </a:lnTo>
                  <a:lnTo>
                    <a:pt x="123" y="935"/>
                  </a:lnTo>
                  <a:lnTo>
                    <a:pt x="141" y="962"/>
                  </a:lnTo>
                  <a:lnTo>
                    <a:pt x="158" y="979"/>
                  </a:lnTo>
                  <a:lnTo>
                    <a:pt x="176" y="997"/>
                  </a:lnTo>
                  <a:lnTo>
                    <a:pt x="194" y="1015"/>
                  </a:lnTo>
                  <a:lnTo>
                    <a:pt x="220" y="1032"/>
                  </a:lnTo>
                  <a:lnTo>
                    <a:pt x="238" y="1050"/>
                  </a:lnTo>
                  <a:lnTo>
                    <a:pt x="255" y="1059"/>
                  </a:lnTo>
                  <a:lnTo>
                    <a:pt x="282" y="1076"/>
                  </a:lnTo>
                  <a:lnTo>
                    <a:pt x="299" y="1085"/>
                  </a:lnTo>
                  <a:lnTo>
                    <a:pt x="326" y="1103"/>
                  </a:lnTo>
                  <a:lnTo>
                    <a:pt x="352" y="1112"/>
                  </a:lnTo>
                  <a:lnTo>
                    <a:pt x="370" y="1121"/>
                  </a:lnTo>
                  <a:lnTo>
                    <a:pt x="396" y="1129"/>
                  </a:lnTo>
                  <a:lnTo>
                    <a:pt x="423" y="1138"/>
                  </a:lnTo>
                  <a:lnTo>
                    <a:pt x="449" y="1147"/>
                  </a:lnTo>
                  <a:lnTo>
                    <a:pt x="476" y="1147"/>
                  </a:lnTo>
                  <a:lnTo>
                    <a:pt x="502" y="1156"/>
                  </a:lnTo>
                  <a:lnTo>
                    <a:pt x="529" y="1156"/>
                  </a:lnTo>
                  <a:lnTo>
                    <a:pt x="546" y="1156"/>
                  </a:lnTo>
                  <a:lnTo>
                    <a:pt x="573" y="1156"/>
                  </a:lnTo>
                  <a:lnTo>
                    <a:pt x="600" y="1156"/>
                  </a:lnTo>
                  <a:lnTo>
                    <a:pt x="627" y="1156"/>
                  </a:lnTo>
                  <a:lnTo>
                    <a:pt x="653" y="1156"/>
                  </a:lnTo>
                  <a:lnTo>
                    <a:pt x="680" y="1147"/>
                  </a:lnTo>
                  <a:lnTo>
                    <a:pt x="706" y="1147"/>
                  </a:lnTo>
                  <a:lnTo>
                    <a:pt x="733" y="1138"/>
                  </a:lnTo>
                  <a:lnTo>
                    <a:pt x="759" y="1129"/>
                  </a:lnTo>
                  <a:lnTo>
                    <a:pt x="777" y="1121"/>
                  </a:lnTo>
                  <a:lnTo>
                    <a:pt x="803" y="1112"/>
                  </a:lnTo>
                  <a:lnTo>
                    <a:pt x="830" y="1103"/>
                  </a:lnTo>
                  <a:lnTo>
                    <a:pt x="847" y="1085"/>
                  </a:lnTo>
                  <a:lnTo>
                    <a:pt x="874" y="1076"/>
                  </a:lnTo>
                  <a:lnTo>
                    <a:pt x="891" y="1059"/>
                  </a:lnTo>
                  <a:lnTo>
                    <a:pt x="918" y="1050"/>
                  </a:lnTo>
                  <a:lnTo>
                    <a:pt x="935" y="1032"/>
                  </a:lnTo>
                  <a:lnTo>
                    <a:pt x="953" y="1015"/>
                  </a:lnTo>
                  <a:lnTo>
                    <a:pt x="979" y="997"/>
                  </a:lnTo>
                  <a:lnTo>
                    <a:pt x="997" y="979"/>
                  </a:lnTo>
                  <a:lnTo>
                    <a:pt x="1015" y="962"/>
                  </a:lnTo>
                  <a:lnTo>
                    <a:pt x="1032" y="935"/>
                  </a:lnTo>
                  <a:lnTo>
                    <a:pt x="1041" y="918"/>
                  </a:lnTo>
                  <a:lnTo>
                    <a:pt x="1059" y="900"/>
                  </a:lnTo>
                  <a:lnTo>
                    <a:pt x="1076" y="874"/>
                  </a:lnTo>
                  <a:lnTo>
                    <a:pt x="1085" y="856"/>
                  </a:lnTo>
                  <a:lnTo>
                    <a:pt x="1094" y="830"/>
                  </a:lnTo>
                  <a:lnTo>
                    <a:pt x="1112" y="803"/>
                  </a:lnTo>
                  <a:lnTo>
                    <a:pt x="1121" y="785"/>
                  </a:lnTo>
                  <a:lnTo>
                    <a:pt x="1129" y="759"/>
                  </a:lnTo>
                  <a:lnTo>
                    <a:pt x="1129" y="733"/>
                  </a:lnTo>
                  <a:lnTo>
                    <a:pt x="1138" y="706"/>
                  </a:lnTo>
                  <a:lnTo>
                    <a:pt x="1147" y="680"/>
                  </a:lnTo>
                  <a:lnTo>
                    <a:pt x="1147" y="653"/>
                  </a:lnTo>
                  <a:lnTo>
                    <a:pt x="1156" y="636"/>
                  </a:lnTo>
                  <a:lnTo>
                    <a:pt x="1156" y="609"/>
                  </a:lnTo>
                  <a:lnTo>
                    <a:pt x="1156" y="583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6373800" y="3414600"/>
              <a:ext cx="41580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504120" y="3446640"/>
              <a:ext cx="79200" cy="1206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H="1">
              <a:off x="6504120" y="3446640"/>
              <a:ext cx="79200" cy="1206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634080" y="3446640"/>
              <a:ext cx="28800" cy="120960"/>
            </a:xfrm>
            <a:custGeom>
              <a:avLst/>
              <a:gdLst/>
              <a:ahLst/>
              <a:rect l="0" t="0" r="r" b="b"/>
              <a:pathLst>
                <a:path fill="none" w="80" h="336">
                  <a:moveTo>
                    <a:pt x="0" y="61"/>
                  </a:moveTo>
                  <a:lnTo>
                    <a:pt x="26" y="52"/>
                  </a:lnTo>
                  <a:lnTo>
                    <a:pt x="80" y="0"/>
                  </a:lnTo>
                  <a:lnTo>
                    <a:pt x="80" y="336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859440" y="2960640"/>
              <a:ext cx="79560" cy="1173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H="1">
              <a:off x="6859440" y="2960640"/>
              <a:ext cx="79560" cy="1173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973920" y="2960640"/>
              <a:ext cx="76680" cy="117720"/>
            </a:xfrm>
            <a:custGeom>
              <a:avLst/>
              <a:gdLst/>
              <a:ahLst/>
              <a:rect l="0" t="0" r="r" b="b"/>
              <a:pathLst>
                <a:path fill="none" w="213" h="327">
                  <a:moveTo>
                    <a:pt x="8" y="79"/>
                  </a:moveTo>
                  <a:lnTo>
                    <a:pt x="8" y="61"/>
                  </a:lnTo>
                  <a:lnTo>
                    <a:pt x="26" y="35"/>
                  </a:lnTo>
                  <a:lnTo>
                    <a:pt x="44" y="17"/>
                  </a:lnTo>
                  <a:lnTo>
                    <a:pt x="71" y="0"/>
                  </a:lnTo>
                  <a:lnTo>
                    <a:pt x="142" y="0"/>
                  </a:lnTo>
                  <a:lnTo>
                    <a:pt x="169" y="17"/>
                  </a:lnTo>
                  <a:lnTo>
                    <a:pt x="187" y="35"/>
                  </a:lnTo>
                  <a:lnTo>
                    <a:pt x="204" y="61"/>
                  </a:lnTo>
                  <a:lnTo>
                    <a:pt x="204" y="97"/>
                  </a:lnTo>
                  <a:lnTo>
                    <a:pt x="187" y="123"/>
                  </a:lnTo>
                  <a:lnTo>
                    <a:pt x="150" y="177"/>
                  </a:lnTo>
                  <a:lnTo>
                    <a:pt x="0" y="327"/>
                  </a:lnTo>
                  <a:lnTo>
                    <a:pt x="213" y="327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745320" y="2925720"/>
              <a:ext cx="41580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459480" y="2960640"/>
              <a:ext cx="79560" cy="1173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 flipH="1">
              <a:off x="6459480" y="2960640"/>
              <a:ext cx="79560" cy="1173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589800" y="2960640"/>
              <a:ext cx="28800" cy="117720"/>
            </a:xfrm>
            <a:custGeom>
              <a:avLst/>
              <a:gdLst/>
              <a:ahLst/>
              <a:rect l="0" t="0" r="r" b="b"/>
              <a:pathLst>
                <a:path fill="none" w="80" h="327">
                  <a:moveTo>
                    <a:pt x="0" y="61"/>
                  </a:moveTo>
                  <a:lnTo>
                    <a:pt x="35" y="44"/>
                  </a:lnTo>
                  <a:lnTo>
                    <a:pt x="80" y="0"/>
                  </a:lnTo>
                  <a:lnTo>
                    <a:pt x="80" y="327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329520" y="2925720"/>
              <a:ext cx="41580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V="1">
              <a:off x="4170240" y="1898640"/>
              <a:ext cx="0" cy="165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164120" y="1897200"/>
              <a:ext cx="461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170240" y="3835440"/>
              <a:ext cx="0" cy="2424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 txBox="1"/>
            <p:nvPr/>
          </p:nvSpPr>
          <p:spPr>
            <a:xfrm>
              <a:off x="895320" y="316080"/>
              <a:ext cx="739620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afd00"/>
                  </a:solidFill>
                  <a:latin typeface="Times New Roman"/>
                  <a:ea typeface="Times New Roman"/>
                </a:rPr>
                <a:t>Datum Defined From Stepped Surface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"/>
          <p:cNvSpPr txBox="1"/>
          <p:nvPr/>
        </p:nvSpPr>
        <p:spPr>
          <a:xfrm>
            <a:off x="685800" y="1395360"/>
            <a:ext cx="7772400" cy="38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Planes Established By Datum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928800" y="2430360"/>
            <a:ext cx="7286760" cy="180036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 txBox="1"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Planes Established by Datum Tar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 txBox="1"/>
          <p:nvPr/>
        </p:nvSpPr>
        <p:spPr>
          <a:xfrm>
            <a:off x="838080" y="1905120"/>
            <a:ext cx="7650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rimary datum plane is established by at least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re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arget points or areas not on a straight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econdary datum plane is established by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two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ertiary datum plane is established by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.  A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mbin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f target points, lines, and areas may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"/>
          <p:cNvSpPr/>
          <p:nvPr/>
        </p:nvSpPr>
        <p:spPr>
          <a:xfrm>
            <a:off x="5079960" y="946080"/>
            <a:ext cx="1572120" cy="1238760"/>
          </a:xfrm>
          <a:custGeom>
            <a:avLst/>
            <a:gdLst/>
            <a:ahLst/>
            <a:rect l="0" t="0" r="r" b="b"/>
            <a:pathLst>
              <a:path fill="none" w="4367" h="3441">
                <a:moveTo>
                  <a:pt x="0" y="3441"/>
                </a:moveTo>
                <a:lnTo>
                  <a:pt x="0" y="0"/>
                </a:lnTo>
                <a:lnTo>
                  <a:pt x="4367" y="0"/>
                </a:lnTo>
                <a:lnTo>
                  <a:pt x="4367" y="3441"/>
                </a:lnTo>
                <a:lnTo>
                  <a:pt x="0" y="344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 flipH="1">
            <a:off x="4751280" y="1733400"/>
            <a:ext cx="209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 flipV="1">
            <a:off x="5079960" y="1666800"/>
            <a:ext cx="0" cy="138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 flipH="1" flipV="1">
            <a:off x="4960800" y="1733400"/>
            <a:ext cx="119160" cy="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4960800" y="1666800"/>
            <a:ext cx="119520" cy="138600"/>
          </a:xfrm>
          <a:custGeom>
            <a:avLst/>
            <a:gdLst/>
            <a:ahLst/>
            <a:rect l="0" t="0" r="r" b="b"/>
            <a:pathLst>
              <a:path w="332" h="385">
                <a:moveTo>
                  <a:pt x="332" y="385"/>
                </a:moveTo>
                <a:lnTo>
                  <a:pt x="0" y="192"/>
                </a:lnTo>
                <a:lnTo>
                  <a:pt x="332" y="0"/>
                </a:lnTo>
                <a:lnTo>
                  <a:pt x="332" y="38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 flipH="1">
            <a:off x="4960800" y="1666800"/>
            <a:ext cx="119160" cy="66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6531120" y="2305080"/>
            <a:ext cx="0" cy="21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/>
          <p:nvPr/>
        </p:nvSpPr>
        <p:spPr>
          <a:xfrm>
            <a:off x="6410160" y="2523960"/>
            <a:ext cx="241560" cy="236880"/>
          </a:xfrm>
          <a:custGeom>
            <a:avLst/>
            <a:gdLst/>
            <a:ahLst/>
            <a:rect l="0" t="0" r="r" b="b"/>
            <a:pathLst>
              <a:path fill="none" w="671" h="658">
                <a:moveTo>
                  <a:pt x="0" y="658"/>
                </a:moveTo>
                <a:lnTo>
                  <a:pt x="0" y="0"/>
                </a:lnTo>
                <a:lnTo>
                  <a:pt x="671" y="0"/>
                </a:lnTo>
                <a:lnTo>
                  <a:pt x="671" y="658"/>
                </a:lnTo>
                <a:lnTo>
                  <a:pt x="0" y="658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"/>
          <p:cNvSpPr/>
          <p:nvPr/>
        </p:nvSpPr>
        <p:spPr>
          <a:xfrm flipH="1">
            <a:off x="6462720" y="218448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"/>
          <p:cNvSpPr/>
          <p:nvPr/>
        </p:nvSpPr>
        <p:spPr>
          <a:xfrm flipH="1">
            <a:off x="6531120" y="2184480"/>
            <a:ext cx="71280" cy="12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"/>
          <p:cNvSpPr/>
          <p:nvPr/>
        </p:nvSpPr>
        <p:spPr>
          <a:xfrm>
            <a:off x="6462720" y="2184480"/>
            <a:ext cx="140040" cy="120960"/>
          </a:xfrm>
          <a:custGeom>
            <a:avLst/>
            <a:gdLst/>
            <a:ahLst/>
            <a:rect l="0" t="0" r="r" b="b"/>
            <a:pathLst>
              <a:path w="389" h="336">
                <a:moveTo>
                  <a:pt x="389" y="0"/>
                </a:moveTo>
                <a:lnTo>
                  <a:pt x="195" y="336"/>
                </a:lnTo>
                <a:lnTo>
                  <a:pt x="0" y="0"/>
                </a:lnTo>
                <a:lnTo>
                  <a:pt x="389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"/>
          <p:cNvSpPr/>
          <p:nvPr/>
        </p:nvSpPr>
        <p:spPr>
          <a:xfrm>
            <a:off x="6462720" y="2184480"/>
            <a:ext cx="68400" cy="12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"/>
          <p:cNvSpPr/>
          <p:nvPr/>
        </p:nvSpPr>
        <p:spPr>
          <a:xfrm>
            <a:off x="4500720" y="1616040"/>
            <a:ext cx="240120" cy="238320"/>
          </a:xfrm>
          <a:custGeom>
            <a:avLst/>
            <a:gdLst/>
            <a:ahLst/>
            <a:rect l="0" t="0" r="r" b="b"/>
            <a:pathLst>
              <a:path fill="none" w="667" h="662">
                <a:moveTo>
                  <a:pt x="0" y="662"/>
                </a:moveTo>
                <a:lnTo>
                  <a:pt x="0" y="0"/>
                </a:lnTo>
                <a:lnTo>
                  <a:pt x="667" y="0"/>
                </a:lnTo>
                <a:lnTo>
                  <a:pt x="667" y="662"/>
                </a:lnTo>
                <a:lnTo>
                  <a:pt x="0" y="662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6189840" y="4724280"/>
            <a:ext cx="0" cy="154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 flipH="1">
            <a:off x="6892920" y="292428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 flipV="1">
            <a:off x="6824520" y="3201840"/>
            <a:ext cx="68400" cy="120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"/>
          <p:cNvSpPr/>
          <p:nvPr/>
        </p:nvSpPr>
        <p:spPr>
          <a:xfrm>
            <a:off x="6824520" y="3201840"/>
            <a:ext cx="140040" cy="120960"/>
          </a:xfrm>
          <a:custGeom>
            <a:avLst/>
            <a:gdLst/>
            <a:ahLst/>
            <a:rect l="0" t="0" r="r" b="b"/>
            <a:pathLst>
              <a:path w="389" h="336">
                <a:moveTo>
                  <a:pt x="0" y="336"/>
                </a:moveTo>
                <a:lnTo>
                  <a:pt x="195" y="0"/>
                </a:lnTo>
                <a:lnTo>
                  <a:pt x="389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 flipH="1" flipV="1">
            <a:off x="6892920" y="3201840"/>
            <a:ext cx="71280" cy="120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"/>
          <p:cNvSpPr/>
          <p:nvPr/>
        </p:nvSpPr>
        <p:spPr>
          <a:xfrm>
            <a:off x="6730920" y="3322800"/>
            <a:ext cx="1176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"/>
          <p:cNvSpPr/>
          <p:nvPr/>
        </p:nvSpPr>
        <p:spPr>
          <a:xfrm flipV="1">
            <a:off x="6892920" y="2924280"/>
            <a:ext cx="0" cy="277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"/>
          <p:cNvSpPr/>
          <p:nvPr/>
        </p:nvSpPr>
        <p:spPr>
          <a:xfrm flipV="1">
            <a:off x="5079960" y="2770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4" name=""/>
          <p:cNvGrpSpPr/>
          <p:nvPr/>
        </p:nvGrpSpPr>
        <p:grpSpPr>
          <a:xfrm>
            <a:off x="4775040" y="2820960"/>
            <a:ext cx="305280" cy="54360"/>
            <a:chOff x="4775040" y="2820960"/>
            <a:chExt cx="305280" cy="54360"/>
          </a:xfrm>
        </p:grpSpPr>
        <p:sp>
          <p:nvSpPr>
            <p:cNvPr id="1945" name=""/>
            <p:cNvSpPr/>
            <p:nvPr/>
          </p:nvSpPr>
          <p:spPr>
            <a:xfrm flipH="1">
              <a:off x="4775040" y="2846520"/>
              <a:ext cx="152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927680" y="2820960"/>
              <a:ext cx="152640" cy="54360"/>
            </a:xfrm>
            <a:custGeom>
              <a:avLst/>
              <a:gdLst/>
              <a:ahLst/>
              <a:rect l="0" t="0" r="r" b="b"/>
              <a:pathLst>
                <a:path w="424" h="151">
                  <a:moveTo>
                    <a:pt x="0" y="0"/>
                  </a:moveTo>
                  <a:lnTo>
                    <a:pt x="0" y="151"/>
                  </a:lnTo>
                  <a:lnTo>
                    <a:pt x="424" y="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7" name=""/>
          <p:cNvSpPr/>
          <p:nvPr/>
        </p:nvSpPr>
        <p:spPr>
          <a:xfrm>
            <a:off x="4040280" y="3103560"/>
            <a:ext cx="421200" cy="422640"/>
          </a:xfrm>
          <a:custGeom>
            <a:avLst/>
            <a:gdLst/>
            <a:ahLst/>
            <a:rect l="0" t="0" r="r" b="b"/>
            <a:pathLst>
              <a:path fill="none" w="1170" h="1174">
                <a:moveTo>
                  <a:pt x="1170" y="587"/>
                </a:moveTo>
                <a:lnTo>
                  <a:pt x="1170" y="558"/>
                </a:lnTo>
                <a:lnTo>
                  <a:pt x="1164" y="534"/>
                </a:lnTo>
                <a:lnTo>
                  <a:pt x="1164" y="505"/>
                </a:lnTo>
                <a:lnTo>
                  <a:pt x="1158" y="476"/>
                </a:lnTo>
                <a:lnTo>
                  <a:pt x="1153" y="452"/>
                </a:lnTo>
                <a:lnTo>
                  <a:pt x="1147" y="423"/>
                </a:lnTo>
                <a:lnTo>
                  <a:pt x="1135" y="399"/>
                </a:lnTo>
                <a:lnTo>
                  <a:pt x="1129" y="370"/>
                </a:lnTo>
                <a:lnTo>
                  <a:pt x="1117" y="347"/>
                </a:lnTo>
                <a:lnTo>
                  <a:pt x="1106" y="317"/>
                </a:lnTo>
                <a:lnTo>
                  <a:pt x="1088" y="294"/>
                </a:lnTo>
                <a:lnTo>
                  <a:pt x="1077" y="269"/>
                </a:lnTo>
                <a:lnTo>
                  <a:pt x="1059" y="246"/>
                </a:lnTo>
                <a:lnTo>
                  <a:pt x="1042" y="228"/>
                </a:lnTo>
                <a:lnTo>
                  <a:pt x="1024" y="205"/>
                </a:lnTo>
                <a:lnTo>
                  <a:pt x="1006" y="181"/>
                </a:lnTo>
                <a:lnTo>
                  <a:pt x="989" y="164"/>
                </a:lnTo>
                <a:lnTo>
                  <a:pt x="966" y="146"/>
                </a:lnTo>
                <a:lnTo>
                  <a:pt x="948" y="129"/>
                </a:lnTo>
                <a:lnTo>
                  <a:pt x="925" y="111"/>
                </a:lnTo>
                <a:lnTo>
                  <a:pt x="901" y="93"/>
                </a:lnTo>
                <a:lnTo>
                  <a:pt x="878" y="82"/>
                </a:lnTo>
                <a:lnTo>
                  <a:pt x="854" y="64"/>
                </a:lnTo>
                <a:lnTo>
                  <a:pt x="830" y="52"/>
                </a:lnTo>
                <a:lnTo>
                  <a:pt x="801" y="46"/>
                </a:lnTo>
                <a:lnTo>
                  <a:pt x="778" y="35"/>
                </a:lnTo>
                <a:lnTo>
                  <a:pt x="748" y="23"/>
                </a:lnTo>
                <a:lnTo>
                  <a:pt x="725" y="17"/>
                </a:lnTo>
                <a:lnTo>
                  <a:pt x="696" y="11"/>
                </a:lnTo>
                <a:lnTo>
                  <a:pt x="667" y="5"/>
                </a:lnTo>
                <a:lnTo>
                  <a:pt x="643" y="5"/>
                </a:lnTo>
                <a:lnTo>
                  <a:pt x="614" y="0"/>
                </a:lnTo>
                <a:lnTo>
                  <a:pt x="585" y="0"/>
                </a:lnTo>
                <a:lnTo>
                  <a:pt x="556" y="0"/>
                </a:lnTo>
                <a:lnTo>
                  <a:pt x="532" y="5"/>
                </a:lnTo>
                <a:lnTo>
                  <a:pt x="503" y="5"/>
                </a:lnTo>
                <a:lnTo>
                  <a:pt x="474" y="11"/>
                </a:lnTo>
                <a:lnTo>
                  <a:pt x="450" y="17"/>
                </a:lnTo>
                <a:lnTo>
                  <a:pt x="421" y="23"/>
                </a:lnTo>
                <a:lnTo>
                  <a:pt x="392" y="35"/>
                </a:lnTo>
                <a:lnTo>
                  <a:pt x="369" y="46"/>
                </a:lnTo>
                <a:lnTo>
                  <a:pt x="345" y="52"/>
                </a:lnTo>
                <a:lnTo>
                  <a:pt x="316" y="64"/>
                </a:lnTo>
                <a:lnTo>
                  <a:pt x="293" y="82"/>
                </a:lnTo>
                <a:lnTo>
                  <a:pt x="268" y="93"/>
                </a:lnTo>
                <a:lnTo>
                  <a:pt x="245" y="111"/>
                </a:lnTo>
                <a:lnTo>
                  <a:pt x="222" y="129"/>
                </a:lnTo>
                <a:lnTo>
                  <a:pt x="204" y="146"/>
                </a:lnTo>
                <a:lnTo>
                  <a:pt x="181" y="164"/>
                </a:lnTo>
                <a:lnTo>
                  <a:pt x="163" y="181"/>
                </a:lnTo>
                <a:lnTo>
                  <a:pt x="146" y="205"/>
                </a:lnTo>
                <a:lnTo>
                  <a:pt x="128" y="228"/>
                </a:lnTo>
                <a:lnTo>
                  <a:pt x="111" y="246"/>
                </a:lnTo>
                <a:lnTo>
                  <a:pt x="93" y="269"/>
                </a:lnTo>
                <a:lnTo>
                  <a:pt x="81" y="294"/>
                </a:lnTo>
                <a:lnTo>
                  <a:pt x="64" y="317"/>
                </a:lnTo>
                <a:lnTo>
                  <a:pt x="52" y="347"/>
                </a:lnTo>
                <a:lnTo>
                  <a:pt x="40" y="370"/>
                </a:lnTo>
                <a:lnTo>
                  <a:pt x="35" y="399"/>
                </a:lnTo>
                <a:lnTo>
                  <a:pt x="23" y="423"/>
                </a:lnTo>
                <a:lnTo>
                  <a:pt x="17" y="452"/>
                </a:lnTo>
                <a:lnTo>
                  <a:pt x="11" y="476"/>
                </a:lnTo>
                <a:lnTo>
                  <a:pt x="5" y="505"/>
                </a:lnTo>
                <a:lnTo>
                  <a:pt x="5" y="534"/>
                </a:lnTo>
                <a:lnTo>
                  <a:pt x="5" y="558"/>
                </a:lnTo>
                <a:lnTo>
                  <a:pt x="0" y="587"/>
                </a:lnTo>
                <a:lnTo>
                  <a:pt x="5" y="616"/>
                </a:lnTo>
                <a:lnTo>
                  <a:pt x="5" y="646"/>
                </a:lnTo>
                <a:lnTo>
                  <a:pt x="5" y="669"/>
                </a:lnTo>
                <a:lnTo>
                  <a:pt x="11" y="698"/>
                </a:lnTo>
                <a:lnTo>
                  <a:pt x="17" y="728"/>
                </a:lnTo>
                <a:lnTo>
                  <a:pt x="23" y="751"/>
                </a:lnTo>
                <a:lnTo>
                  <a:pt x="35" y="781"/>
                </a:lnTo>
                <a:lnTo>
                  <a:pt x="40" y="804"/>
                </a:lnTo>
                <a:lnTo>
                  <a:pt x="52" y="833"/>
                </a:lnTo>
                <a:lnTo>
                  <a:pt x="64" y="857"/>
                </a:lnTo>
                <a:lnTo>
                  <a:pt x="81" y="880"/>
                </a:lnTo>
                <a:lnTo>
                  <a:pt x="93" y="905"/>
                </a:lnTo>
                <a:lnTo>
                  <a:pt x="111" y="928"/>
                </a:lnTo>
                <a:lnTo>
                  <a:pt x="128" y="952"/>
                </a:lnTo>
                <a:lnTo>
                  <a:pt x="146" y="975"/>
                </a:lnTo>
                <a:lnTo>
                  <a:pt x="163" y="993"/>
                </a:lnTo>
                <a:lnTo>
                  <a:pt x="181" y="1010"/>
                </a:lnTo>
                <a:lnTo>
                  <a:pt x="204" y="1034"/>
                </a:lnTo>
                <a:lnTo>
                  <a:pt x="222" y="1051"/>
                </a:lnTo>
                <a:lnTo>
                  <a:pt x="245" y="1063"/>
                </a:lnTo>
                <a:lnTo>
                  <a:pt x="268" y="1081"/>
                </a:lnTo>
                <a:lnTo>
                  <a:pt x="293" y="1098"/>
                </a:lnTo>
                <a:lnTo>
                  <a:pt x="316" y="1110"/>
                </a:lnTo>
                <a:lnTo>
                  <a:pt x="345" y="1122"/>
                </a:lnTo>
                <a:lnTo>
                  <a:pt x="369" y="1133"/>
                </a:lnTo>
                <a:lnTo>
                  <a:pt x="392" y="1139"/>
                </a:lnTo>
                <a:lnTo>
                  <a:pt x="421" y="1151"/>
                </a:lnTo>
                <a:lnTo>
                  <a:pt x="450" y="1157"/>
                </a:lnTo>
                <a:lnTo>
                  <a:pt x="474" y="1163"/>
                </a:lnTo>
                <a:lnTo>
                  <a:pt x="503" y="1169"/>
                </a:lnTo>
                <a:lnTo>
                  <a:pt x="532" y="1169"/>
                </a:lnTo>
                <a:lnTo>
                  <a:pt x="556" y="1174"/>
                </a:lnTo>
                <a:lnTo>
                  <a:pt x="585" y="1174"/>
                </a:lnTo>
                <a:lnTo>
                  <a:pt x="614" y="1174"/>
                </a:lnTo>
                <a:lnTo>
                  <a:pt x="643" y="1169"/>
                </a:lnTo>
                <a:lnTo>
                  <a:pt x="667" y="1169"/>
                </a:lnTo>
                <a:lnTo>
                  <a:pt x="696" y="1163"/>
                </a:lnTo>
                <a:lnTo>
                  <a:pt x="725" y="1157"/>
                </a:lnTo>
                <a:lnTo>
                  <a:pt x="748" y="1151"/>
                </a:lnTo>
                <a:lnTo>
                  <a:pt x="778" y="1139"/>
                </a:lnTo>
                <a:lnTo>
                  <a:pt x="801" y="1133"/>
                </a:lnTo>
                <a:lnTo>
                  <a:pt x="830" y="1122"/>
                </a:lnTo>
                <a:lnTo>
                  <a:pt x="854" y="1110"/>
                </a:lnTo>
                <a:lnTo>
                  <a:pt x="878" y="1098"/>
                </a:lnTo>
                <a:lnTo>
                  <a:pt x="901" y="1081"/>
                </a:lnTo>
                <a:lnTo>
                  <a:pt x="925" y="1063"/>
                </a:lnTo>
                <a:lnTo>
                  <a:pt x="948" y="1051"/>
                </a:lnTo>
                <a:lnTo>
                  <a:pt x="966" y="1034"/>
                </a:lnTo>
                <a:lnTo>
                  <a:pt x="989" y="1010"/>
                </a:lnTo>
                <a:lnTo>
                  <a:pt x="1006" y="993"/>
                </a:lnTo>
                <a:lnTo>
                  <a:pt x="1024" y="975"/>
                </a:lnTo>
                <a:lnTo>
                  <a:pt x="1042" y="952"/>
                </a:lnTo>
                <a:lnTo>
                  <a:pt x="1059" y="928"/>
                </a:lnTo>
                <a:lnTo>
                  <a:pt x="1077" y="905"/>
                </a:lnTo>
                <a:lnTo>
                  <a:pt x="1088" y="880"/>
                </a:lnTo>
                <a:lnTo>
                  <a:pt x="1106" y="857"/>
                </a:lnTo>
                <a:lnTo>
                  <a:pt x="1117" y="833"/>
                </a:lnTo>
                <a:lnTo>
                  <a:pt x="1129" y="804"/>
                </a:lnTo>
                <a:lnTo>
                  <a:pt x="1135" y="781"/>
                </a:lnTo>
                <a:lnTo>
                  <a:pt x="1147" y="751"/>
                </a:lnTo>
                <a:lnTo>
                  <a:pt x="1153" y="728"/>
                </a:lnTo>
                <a:lnTo>
                  <a:pt x="1158" y="698"/>
                </a:lnTo>
                <a:lnTo>
                  <a:pt x="1164" y="669"/>
                </a:lnTo>
                <a:lnTo>
                  <a:pt x="1164" y="646"/>
                </a:lnTo>
                <a:lnTo>
                  <a:pt x="1170" y="616"/>
                </a:lnTo>
                <a:lnTo>
                  <a:pt x="1170" y="587"/>
                </a:ln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/>
          <p:nvPr/>
        </p:nvSpPr>
        <p:spPr>
          <a:xfrm>
            <a:off x="5475240" y="4068720"/>
            <a:ext cx="0" cy="114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"/>
          <p:cNvSpPr/>
          <p:nvPr/>
        </p:nvSpPr>
        <p:spPr>
          <a:xfrm flipH="1" flipV="1">
            <a:off x="4432320" y="4668840"/>
            <a:ext cx="977760" cy="56844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/>
          <p:nvPr/>
        </p:nvSpPr>
        <p:spPr>
          <a:xfrm>
            <a:off x="4040280" y="4354560"/>
            <a:ext cx="421200" cy="421200"/>
          </a:xfrm>
          <a:custGeom>
            <a:avLst/>
            <a:gdLst/>
            <a:ahLst/>
            <a:rect l="0" t="0" r="r" b="b"/>
            <a:pathLst>
              <a:path fill="none" w="1170" h="1170">
                <a:moveTo>
                  <a:pt x="1170" y="585"/>
                </a:moveTo>
                <a:lnTo>
                  <a:pt x="1170" y="556"/>
                </a:lnTo>
                <a:lnTo>
                  <a:pt x="1164" y="532"/>
                </a:lnTo>
                <a:lnTo>
                  <a:pt x="1164" y="503"/>
                </a:lnTo>
                <a:lnTo>
                  <a:pt x="1158" y="474"/>
                </a:lnTo>
                <a:lnTo>
                  <a:pt x="1153" y="450"/>
                </a:lnTo>
                <a:lnTo>
                  <a:pt x="1147" y="421"/>
                </a:lnTo>
                <a:lnTo>
                  <a:pt x="1135" y="398"/>
                </a:lnTo>
                <a:lnTo>
                  <a:pt x="1129" y="369"/>
                </a:lnTo>
                <a:lnTo>
                  <a:pt x="1117" y="345"/>
                </a:lnTo>
                <a:lnTo>
                  <a:pt x="1106" y="322"/>
                </a:lnTo>
                <a:lnTo>
                  <a:pt x="1088" y="293"/>
                </a:lnTo>
                <a:lnTo>
                  <a:pt x="1077" y="268"/>
                </a:lnTo>
                <a:lnTo>
                  <a:pt x="1059" y="245"/>
                </a:lnTo>
                <a:lnTo>
                  <a:pt x="1042" y="227"/>
                </a:lnTo>
                <a:lnTo>
                  <a:pt x="1024" y="204"/>
                </a:lnTo>
                <a:lnTo>
                  <a:pt x="1006" y="181"/>
                </a:lnTo>
                <a:lnTo>
                  <a:pt x="989" y="163"/>
                </a:lnTo>
                <a:lnTo>
                  <a:pt x="966" y="146"/>
                </a:lnTo>
                <a:lnTo>
                  <a:pt x="948" y="128"/>
                </a:lnTo>
                <a:lnTo>
                  <a:pt x="925" y="111"/>
                </a:lnTo>
                <a:lnTo>
                  <a:pt x="901" y="93"/>
                </a:lnTo>
                <a:lnTo>
                  <a:pt x="878" y="81"/>
                </a:lnTo>
                <a:lnTo>
                  <a:pt x="854" y="64"/>
                </a:lnTo>
                <a:lnTo>
                  <a:pt x="830" y="52"/>
                </a:lnTo>
                <a:lnTo>
                  <a:pt x="801" y="46"/>
                </a:lnTo>
                <a:lnTo>
                  <a:pt x="778" y="35"/>
                </a:lnTo>
                <a:lnTo>
                  <a:pt x="748" y="23"/>
                </a:lnTo>
                <a:lnTo>
                  <a:pt x="725" y="17"/>
                </a:lnTo>
                <a:lnTo>
                  <a:pt x="696" y="11"/>
                </a:lnTo>
                <a:lnTo>
                  <a:pt x="667" y="5"/>
                </a:lnTo>
                <a:lnTo>
                  <a:pt x="643" y="5"/>
                </a:lnTo>
                <a:lnTo>
                  <a:pt x="614" y="0"/>
                </a:lnTo>
                <a:lnTo>
                  <a:pt x="585" y="0"/>
                </a:lnTo>
                <a:lnTo>
                  <a:pt x="556" y="0"/>
                </a:lnTo>
                <a:lnTo>
                  <a:pt x="532" y="5"/>
                </a:lnTo>
                <a:lnTo>
                  <a:pt x="503" y="5"/>
                </a:lnTo>
                <a:lnTo>
                  <a:pt x="474" y="11"/>
                </a:lnTo>
                <a:lnTo>
                  <a:pt x="450" y="17"/>
                </a:lnTo>
                <a:lnTo>
                  <a:pt x="421" y="23"/>
                </a:lnTo>
                <a:lnTo>
                  <a:pt x="392" y="35"/>
                </a:lnTo>
                <a:lnTo>
                  <a:pt x="369" y="46"/>
                </a:lnTo>
                <a:lnTo>
                  <a:pt x="345" y="52"/>
                </a:lnTo>
                <a:lnTo>
                  <a:pt x="316" y="64"/>
                </a:lnTo>
                <a:lnTo>
                  <a:pt x="293" y="81"/>
                </a:lnTo>
                <a:lnTo>
                  <a:pt x="268" y="93"/>
                </a:lnTo>
                <a:lnTo>
                  <a:pt x="245" y="111"/>
                </a:lnTo>
                <a:lnTo>
                  <a:pt x="222" y="128"/>
                </a:lnTo>
                <a:lnTo>
                  <a:pt x="204" y="146"/>
                </a:lnTo>
                <a:lnTo>
                  <a:pt x="181" y="163"/>
                </a:lnTo>
                <a:lnTo>
                  <a:pt x="163" y="181"/>
                </a:lnTo>
                <a:lnTo>
                  <a:pt x="146" y="204"/>
                </a:lnTo>
                <a:lnTo>
                  <a:pt x="128" y="227"/>
                </a:lnTo>
                <a:lnTo>
                  <a:pt x="111" y="245"/>
                </a:lnTo>
                <a:lnTo>
                  <a:pt x="93" y="268"/>
                </a:lnTo>
                <a:lnTo>
                  <a:pt x="81" y="293"/>
                </a:lnTo>
                <a:lnTo>
                  <a:pt x="64" y="322"/>
                </a:lnTo>
                <a:lnTo>
                  <a:pt x="52" y="345"/>
                </a:lnTo>
                <a:lnTo>
                  <a:pt x="40" y="369"/>
                </a:lnTo>
                <a:lnTo>
                  <a:pt x="35" y="398"/>
                </a:lnTo>
                <a:lnTo>
                  <a:pt x="23" y="421"/>
                </a:lnTo>
                <a:lnTo>
                  <a:pt x="17" y="450"/>
                </a:lnTo>
                <a:lnTo>
                  <a:pt x="11" y="474"/>
                </a:lnTo>
                <a:lnTo>
                  <a:pt x="5" y="503"/>
                </a:lnTo>
                <a:lnTo>
                  <a:pt x="5" y="532"/>
                </a:lnTo>
                <a:lnTo>
                  <a:pt x="5" y="556"/>
                </a:lnTo>
                <a:lnTo>
                  <a:pt x="0" y="585"/>
                </a:lnTo>
                <a:lnTo>
                  <a:pt x="5" y="614"/>
                </a:lnTo>
                <a:lnTo>
                  <a:pt x="5" y="643"/>
                </a:lnTo>
                <a:lnTo>
                  <a:pt x="5" y="667"/>
                </a:lnTo>
                <a:lnTo>
                  <a:pt x="11" y="696"/>
                </a:lnTo>
                <a:lnTo>
                  <a:pt x="17" y="725"/>
                </a:lnTo>
                <a:lnTo>
                  <a:pt x="23" y="748"/>
                </a:lnTo>
                <a:lnTo>
                  <a:pt x="35" y="778"/>
                </a:lnTo>
                <a:lnTo>
                  <a:pt x="40" y="801"/>
                </a:lnTo>
                <a:lnTo>
                  <a:pt x="52" y="830"/>
                </a:lnTo>
                <a:lnTo>
                  <a:pt x="64" y="854"/>
                </a:lnTo>
                <a:lnTo>
                  <a:pt x="81" y="878"/>
                </a:lnTo>
                <a:lnTo>
                  <a:pt x="93" y="901"/>
                </a:lnTo>
                <a:lnTo>
                  <a:pt x="111" y="925"/>
                </a:lnTo>
                <a:lnTo>
                  <a:pt x="128" y="948"/>
                </a:lnTo>
                <a:lnTo>
                  <a:pt x="146" y="971"/>
                </a:lnTo>
                <a:lnTo>
                  <a:pt x="163" y="989"/>
                </a:lnTo>
                <a:lnTo>
                  <a:pt x="181" y="1006"/>
                </a:lnTo>
                <a:lnTo>
                  <a:pt x="204" y="1030"/>
                </a:lnTo>
                <a:lnTo>
                  <a:pt x="222" y="1047"/>
                </a:lnTo>
                <a:lnTo>
                  <a:pt x="245" y="1059"/>
                </a:lnTo>
                <a:lnTo>
                  <a:pt x="268" y="1077"/>
                </a:lnTo>
                <a:lnTo>
                  <a:pt x="293" y="1094"/>
                </a:lnTo>
                <a:lnTo>
                  <a:pt x="316" y="1106"/>
                </a:lnTo>
                <a:lnTo>
                  <a:pt x="345" y="1117"/>
                </a:lnTo>
                <a:lnTo>
                  <a:pt x="369" y="1129"/>
                </a:lnTo>
                <a:lnTo>
                  <a:pt x="392" y="1135"/>
                </a:lnTo>
                <a:lnTo>
                  <a:pt x="421" y="1147"/>
                </a:lnTo>
                <a:lnTo>
                  <a:pt x="450" y="1153"/>
                </a:lnTo>
                <a:lnTo>
                  <a:pt x="474" y="1158"/>
                </a:lnTo>
                <a:lnTo>
                  <a:pt x="503" y="1164"/>
                </a:lnTo>
                <a:lnTo>
                  <a:pt x="532" y="1164"/>
                </a:lnTo>
                <a:lnTo>
                  <a:pt x="556" y="1170"/>
                </a:lnTo>
                <a:lnTo>
                  <a:pt x="585" y="1170"/>
                </a:lnTo>
                <a:lnTo>
                  <a:pt x="614" y="1170"/>
                </a:lnTo>
                <a:lnTo>
                  <a:pt x="643" y="1164"/>
                </a:lnTo>
                <a:lnTo>
                  <a:pt x="667" y="1164"/>
                </a:lnTo>
                <a:lnTo>
                  <a:pt x="696" y="1158"/>
                </a:lnTo>
                <a:lnTo>
                  <a:pt x="725" y="1153"/>
                </a:lnTo>
                <a:lnTo>
                  <a:pt x="748" y="1147"/>
                </a:lnTo>
                <a:lnTo>
                  <a:pt x="778" y="1135"/>
                </a:lnTo>
                <a:lnTo>
                  <a:pt x="801" y="1129"/>
                </a:lnTo>
                <a:lnTo>
                  <a:pt x="830" y="1117"/>
                </a:lnTo>
                <a:lnTo>
                  <a:pt x="854" y="1106"/>
                </a:lnTo>
                <a:lnTo>
                  <a:pt x="878" y="1094"/>
                </a:lnTo>
                <a:lnTo>
                  <a:pt x="901" y="1077"/>
                </a:lnTo>
                <a:lnTo>
                  <a:pt x="925" y="1059"/>
                </a:lnTo>
                <a:lnTo>
                  <a:pt x="948" y="1047"/>
                </a:lnTo>
                <a:lnTo>
                  <a:pt x="966" y="1030"/>
                </a:lnTo>
                <a:lnTo>
                  <a:pt x="989" y="1006"/>
                </a:lnTo>
                <a:lnTo>
                  <a:pt x="1006" y="989"/>
                </a:lnTo>
                <a:lnTo>
                  <a:pt x="1024" y="971"/>
                </a:lnTo>
                <a:lnTo>
                  <a:pt x="1042" y="948"/>
                </a:lnTo>
                <a:lnTo>
                  <a:pt x="1059" y="925"/>
                </a:lnTo>
                <a:lnTo>
                  <a:pt x="1077" y="901"/>
                </a:lnTo>
                <a:lnTo>
                  <a:pt x="1088" y="878"/>
                </a:lnTo>
                <a:lnTo>
                  <a:pt x="1106" y="854"/>
                </a:lnTo>
                <a:lnTo>
                  <a:pt x="1117" y="830"/>
                </a:lnTo>
                <a:lnTo>
                  <a:pt x="1129" y="801"/>
                </a:lnTo>
                <a:lnTo>
                  <a:pt x="1135" y="778"/>
                </a:lnTo>
                <a:lnTo>
                  <a:pt x="1147" y="748"/>
                </a:lnTo>
                <a:lnTo>
                  <a:pt x="1153" y="725"/>
                </a:lnTo>
                <a:lnTo>
                  <a:pt x="1158" y="696"/>
                </a:lnTo>
                <a:lnTo>
                  <a:pt x="1164" y="667"/>
                </a:lnTo>
                <a:lnTo>
                  <a:pt x="1164" y="643"/>
                </a:lnTo>
                <a:lnTo>
                  <a:pt x="1170" y="614"/>
                </a:lnTo>
                <a:lnTo>
                  <a:pt x="1170" y="585"/>
                </a:ln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/>
          <p:nvPr/>
        </p:nvSpPr>
        <p:spPr>
          <a:xfrm flipH="1" flipV="1">
            <a:off x="6073920" y="4500720"/>
            <a:ext cx="241200" cy="2412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/>
          <p:nvPr/>
        </p:nvSpPr>
        <p:spPr>
          <a:xfrm flipH="1">
            <a:off x="6073920" y="4500720"/>
            <a:ext cx="241200" cy="2412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"/>
          <p:cNvSpPr/>
          <p:nvPr/>
        </p:nvSpPr>
        <p:spPr>
          <a:xfrm>
            <a:off x="5079960" y="3322800"/>
            <a:ext cx="1572120" cy="2481480"/>
          </a:xfrm>
          <a:custGeom>
            <a:avLst/>
            <a:gdLst/>
            <a:ahLst/>
            <a:rect l="0" t="0" r="r" b="b"/>
            <a:pathLst>
              <a:path fill="none" w="4367" h="6893">
                <a:moveTo>
                  <a:pt x="0" y="6893"/>
                </a:moveTo>
                <a:lnTo>
                  <a:pt x="0" y="0"/>
                </a:lnTo>
                <a:lnTo>
                  <a:pt x="4367" y="0"/>
                </a:lnTo>
                <a:lnTo>
                  <a:pt x="4367" y="6893"/>
                </a:lnTo>
                <a:lnTo>
                  <a:pt x="0" y="689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/>
          <p:nvPr/>
        </p:nvSpPr>
        <p:spPr>
          <a:xfrm flipH="1" flipV="1">
            <a:off x="5356080" y="5127480"/>
            <a:ext cx="239760" cy="23976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 flipH="1">
            <a:off x="5356080" y="5127480"/>
            <a:ext cx="239760" cy="23976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/>
          <p:nvPr/>
        </p:nvSpPr>
        <p:spPr>
          <a:xfrm flipH="1" flipV="1">
            <a:off x="4917960" y="4222800"/>
            <a:ext cx="1227240" cy="39852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/>
          <p:nvPr/>
        </p:nvSpPr>
        <p:spPr>
          <a:xfrm flipH="1" flipV="1">
            <a:off x="4432320" y="3419640"/>
            <a:ext cx="977760" cy="56988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/>
          <p:nvPr/>
        </p:nvSpPr>
        <p:spPr>
          <a:xfrm>
            <a:off x="4040280" y="4564080"/>
            <a:ext cx="42048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"/>
          <p:cNvSpPr/>
          <p:nvPr/>
        </p:nvSpPr>
        <p:spPr>
          <a:xfrm>
            <a:off x="4505400" y="3946680"/>
            <a:ext cx="422640" cy="422640"/>
          </a:xfrm>
          <a:custGeom>
            <a:avLst/>
            <a:gdLst/>
            <a:ahLst/>
            <a:rect l="0" t="0" r="r" b="b"/>
            <a:pathLst>
              <a:path fill="none" w="1174" h="1174">
                <a:moveTo>
                  <a:pt x="1174" y="587"/>
                </a:moveTo>
                <a:lnTo>
                  <a:pt x="1169" y="558"/>
                </a:lnTo>
                <a:lnTo>
                  <a:pt x="1169" y="528"/>
                </a:lnTo>
                <a:lnTo>
                  <a:pt x="1163" y="505"/>
                </a:lnTo>
                <a:lnTo>
                  <a:pt x="1163" y="476"/>
                </a:lnTo>
                <a:lnTo>
                  <a:pt x="1157" y="446"/>
                </a:lnTo>
                <a:lnTo>
                  <a:pt x="1151" y="423"/>
                </a:lnTo>
                <a:lnTo>
                  <a:pt x="1139" y="393"/>
                </a:lnTo>
                <a:lnTo>
                  <a:pt x="1128" y="370"/>
                </a:lnTo>
                <a:lnTo>
                  <a:pt x="1116" y="341"/>
                </a:lnTo>
                <a:lnTo>
                  <a:pt x="1104" y="317"/>
                </a:lnTo>
                <a:lnTo>
                  <a:pt x="1092" y="294"/>
                </a:lnTo>
                <a:lnTo>
                  <a:pt x="1081" y="269"/>
                </a:lnTo>
                <a:lnTo>
                  <a:pt x="1063" y="246"/>
                </a:lnTo>
                <a:lnTo>
                  <a:pt x="1045" y="222"/>
                </a:lnTo>
                <a:lnTo>
                  <a:pt x="1028" y="199"/>
                </a:lnTo>
                <a:lnTo>
                  <a:pt x="1010" y="181"/>
                </a:lnTo>
                <a:lnTo>
                  <a:pt x="993" y="158"/>
                </a:lnTo>
                <a:lnTo>
                  <a:pt x="969" y="140"/>
                </a:lnTo>
                <a:lnTo>
                  <a:pt x="946" y="123"/>
                </a:lnTo>
                <a:lnTo>
                  <a:pt x="928" y="105"/>
                </a:lnTo>
                <a:lnTo>
                  <a:pt x="905" y="93"/>
                </a:lnTo>
                <a:lnTo>
                  <a:pt x="880" y="76"/>
                </a:lnTo>
                <a:lnTo>
                  <a:pt x="857" y="64"/>
                </a:lnTo>
                <a:lnTo>
                  <a:pt x="827" y="52"/>
                </a:lnTo>
                <a:lnTo>
                  <a:pt x="804" y="41"/>
                </a:lnTo>
                <a:lnTo>
                  <a:pt x="775" y="29"/>
                </a:lnTo>
                <a:lnTo>
                  <a:pt x="751" y="23"/>
                </a:lnTo>
                <a:lnTo>
                  <a:pt x="722" y="17"/>
                </a:lnTo>
                <a:lnTo>
                  <a:pt x="698" y="11"/>
                </a:lnTo>
                <a:lnTo>
                  <a:pt x="669" y="5"/>
                </a:lnTo>
                <a:lnTo>
                  <a:pt x="640" y="0"/>
                </a:lnTo>
                <a:lnTo>
                  <a:pt x="616" y="0"/>
                </a:lnTo>
                <a:lnTo>
                  <a:pt x="587" y="0"/>
                </a:lnTo>
                <a:lnTo>
                  <a:pt x="558" y="0"/>
                </a:lnTo>
                <a:lnTo>
                  <a:pt x="528" y="0"/>
                </a:lnTo>
                <a:lnTo>
                  <a:pt x="505" y="5"/>
                </a:lnTo>
                <a:lnTo>
                  <a:pt x="476" y="11"/>
                </a:lnTo>
                <a:lnTo>
                  <a:pt x="446" y="17"/>
                </a:lnTo>
                <a:lnTo>
                  <a:pt x="423" y="23"/>
                </a:lnTo>
                <a:lnTo>
                  <a:pt x="393" y="29"/>
                </a:lnTo>
                <a:lnTo>
                  <a:pt x="370" y="41"/>
                </a:lnTo>
                <a:lnTo>
                  <a:pt x="341" y="52"/>
                </a:lnTo>
                <a:lnTo>
                  <a:pt x="317" y="64"/>
                </a:lnTo>
                <a:lnTo>
                  <a:pt x="294" y="76"/>
                </a:lnTo>
                <a:lnTo>
                  <a:pt x="269" y="93"/>
                </a:lnTo>
                <a:lnTo>
                  <a:pt x="246" y="105"/>
                </a:lnTo>
                <a:lnTo>
                  <a:pt x="222" y="123"/>
                </a:lnTo>
                <a:lnTo>
                  <a:pt x="205" y="140"/>
                </a:lnTo>
                <a:lnTo>
                  <a:pt x="181" y="158"/>
                </a:lnTo>
                <a:lnTo>
                  <a:pt x="164" y="181"/>
                </a:lnTo>
                <a:lnTo>
                  <a:pt x="140" y="199"/>
                </a:lnTo>
                <a:lnTo>
                  <a:pt x="123" y="222"/>
                </a:lnTo>
                <a:lnTo>
                  <a:pt x="111" y="246"/>
                </a:lnTo>
                <a:lnTo>
                  <a:pt x="93" y="269"/>
                </a:lnTo>
                <a:lnTo>
                  <a:pt x="82" y="294"/>
                </a:lnTo>
                <a:lnTo>
                  <a:pt x="64" y="317"/>
                </a:lnTo>
                <a:lnTo>
                  <a:pt x="52" y="341"/>
                </a:lnTo>
                <a:lnTo>
                  <a:pt x="41" y="370"/>
                </a:lnTo>
                <a:lnTo>
                  <a:pt x="35" y="393"/>
                </a:lnTo>
                <a:lnTo>
                  <a:pt x="23" y="423"/>
                </a:lnTo>
                <a:lnTo>
                  <a:pt x="17" y="446"/>
                </a:lnTo>
                <a:lnTo>
                  <a:pt x="11" y="476"/>
                </a:lnTo>
                <a:lnTo>
                  <a:pt x="5" y="505"/>
                </a:lnTo>
                <a:lnTo>
                  <a:pt x="0" y="528"/>
                </a:lnTo>
                <a:lnTo>
                  <a:pt x="0" y="558"/>
                </a:lnTo>
                <a:lnTo>
                  <a:pt x="0" y="587"/>
                </a:lnTo>
                <a:lnTo>
                  <a:pt x="0" y="610"/>
                </a:lnTo>
                <a:lnTo>
                  <a:pt x="0" y="640"/>
                </a:lnTo>
                <a:lnTo>
                  <a:pt x="5" y="669"/>
                </a:lnTo>
                <a:lnTo>
                  <a:pt x="11" y="698"/>
                </a:lnTo>
                <a:lnTo>
                  <a:pt x="17" y="722"/>
                </a:lnTo>
                <a:lnTo>
                  <a:pt x="23" y="751"/>
                </a:lnTo>
                <a:lnTo>
                  <a:pt x="35" y="775"/>
                </a:lnTo>
                <a:lnTo>
                  <a:pt x="41" y="804"/>
                </a:lnTo>
                <a:lnTo>
                  <a:pt x="52" y="827"/>
                </a:lnTo>
                <a:lnTo>
                  <a:pt x="64" y="851"/>
                </a:lnTo>
                <a:lnTo>
                  <a:pt x="82" y="880"/>
                </a:lnTo>
                <a:lnTo>
                  <a:pt x="93" y="905"/>
                </a:lnTo>
                <a:lnTo>
                  <a:pt x="111" y="928"/>
                </a:lnTo>
                <a:lnTo>
                  <a:pt x="123" y="946"/>
                </a:lnTo>
                <a:lnTo>
                  <a:pt x="140" y="969"/>
                </a:lnTo>
                <a:lnTo>
                  <a:pt x="164" y="993"/>
                </a:lnTo>
                <a:lnTo>
                  <a:pt x="181" y="1010"/>
                </a:lnTo>
                <a:lnTo>
                  <a:pt x="205" y="1028"/>
                </a:lnTo>
                <a:lnTo>
                  <a:pt x="222" y="1045"/>
                </a:lnTo>
                <a:lnTo>
                  <a:pt x="246" y="1063"/>
                </a:lnTo>
                <a:lnTo>
                  <a:pt x="269" y="1081"/>
                </a:lnTo>
                <a:lnTo>
                  <a:pt x="294" y="1092"/>
                </a:lnTo>
                <a:lnTo>
                  <a:pt x="317" y="1104"/>
                </a:lnTo>
                <a:lnTo>
                  <a:pt x="341" y="1122"/>
                </a:lnTo>
                <a:lnTo>
                  <a:pt x="370" y="1128"/>
                </a:lnTo>
                <a:lnTo>
                  <a:pt x="393" y="1139"/>
                </a:lnTo>
                <a:lnTo>
                  <a:pt x="423" y="1151"/>
                </a:lnTo>
                <a:lnTo>
                  <a:pt x="446" y="1157"/>
                </a:lnTo>
                <a:lnTo>
                  <a:pt x="476" y="1163"/>
                </a:lnTo>
                <a:lnTo>
                  <a:pt x="505" y="1163"/>
                </a:lnTo>
                <a:lnTo>
                  <a:pt x="528" y="1169"/>
                </a:lnTo>
                <a:lnTo>
                  <a:pt x="558" y="1169"/>
                </a:lnTo>
                <a:lnTo>
                  <a:pt x="587" y="1174"/>
                </a:lnTo>
                <a:lnTo>
                  <a:pt x="616" y="1169"/>
                </a:lnTo>
                <a:lnTo>
                  <a:pt x="640" y="1169"/>
                </a:lnTo>
                <a:lnTo>
                  <a:pt x="669" y="1163"/>
                </a:lnTo>
                <a:lnTo>
                  <a:pt x="698" y="1163"/>
                </a:lnTo>
                <a:lnTo>
                  <a:pt x="722" y="1157"/>
                </a:lnTo>
                <a:lnTo>
                  <a:pt x="751" y="1151"/>
                </a:lnTo>
                <a:lnTo>
                  <a:pt x="775" y="1139"/>
                </a:lnTo>
                <a:lnTo>
                  <a:pt x="804" y="1128"/>
                </a:lnTo>
                <a:lnTo>
                  <a:pt x="827" y="1122"/>
                </a:lnTo>
                <a:lnTo>
                  <a:pt x="857" y="1104"/>
                </a:lnTo>
                <a:lnTo>
                  <a:pt x="880" y="1092"/>
                </a:lnTo>
                <a:lnTo>
                  <a:pt x="905" y="1081"/>
                </a:lnTo>
                <a:lnTo>
                  <a:pt x="928" y="1063"/>
                </a:lnTo>
                <a:lnTo>
                  <a:pt x="946" y="1045"/>
                </a:lnTo>
                <a:lnTo>
                  <a:pt x="969" y="1028"/>
                </a:lnTo>
                <a:lnTo>
                  <a:pt x="993" y="1010"/>
                </a:lnTo>
                <a:lnTo>
                  <a:pt x="1010" y="993"/>
                </a:lnTo>
                <a:lnTo>
                  <a:pt x="1028" y="969"/>
                </a:lnTo>
                <a:lnTo>
                  <a:pt x="1045" y="946"/>
                </a:lnTo>
                <a:lnTo>
                  <a:pt x="1063" y="928"/>
                </a:lnTo>
                <a:lnTo>
                  <a:pt x="1081" y="905"/>
                </a:lnTo>
                <a:lnTo>
                  <a:pt x="1092" y="880"/>
                </a:lnTo>
                <a:lnTo>
                  <a:pt x="1104" y="851"/>
                </a:lnTo>
                <a:lnTo>
                  <a:pt x="1116" y="827"/>
                </a:lnTo>
                <a:lnTo>
                  <a:pt x="1128" y="804"/>
                </a:lnTo>
                <a:lnTo>
                  <a:pt x="1139" y="775"/>
                </a:lnTo>
                <a:lnTo>
                  <a:pt x="1151" y="751"/>
                </a:lnTo>
                <a:lnTo>
                  <a:pt x="1157" y="722"/>
                </a:lnTo>
                <a:lnTo>
                  <a:pt x="1163" y="698"/>
                </a:lnTo>
                <a:lnTo>
                  <a:pt x="1163" y="669"/>
                </a:lnTo>
                <a:lnTo>
                  <a:pt x="1169" y="640"/>
                </a:lnTo>
                <a:lnTo>
                  <a:pt x="1169" y="610"/>
                </a:lnTo>
                <a:lnTo>
                  <a:pt x="1174" y="587"/>
                </a:ln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/>
          <p:nvPr/>
        </p:nvSpPr>
        <p:spPr>
          <a:xfrm>
            <a:off x="4505400" y="4157640"/>
            <a:ext cx="42228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"/>
          <p:cNvSpPr/>
          <p:nvPr/>
        </p:nvSpPr>
        <p:spPr>
          <a:xfrm>
            <a:off x="4040280" y="3314880"/>
            <a:ext cx="42048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/>
          <p:nvPr/>
        </p:nvSpPr>
        <p:spPr>
          <a:xfrm>
            <a:off x="5475240" y="2763720"/>
            <a:ext cx="0" cy="1208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"/>
          <p:cNvSpPr/>
          <p:nvPr/>
        </p:nvSpPr>
        <p:spPr>
          <a:xfrm flipH="1" flipV="1">
            <a:off x="5356080" y="3875040"/>
            <a:ext cx="239760" cy="2412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"/>
          <p:cNvSpPr/>
          <p:nvPr/>
        </p:nvSpPr>
        <p:spPr>
          <a:xfrm flipH="1">
            <a:off x="5356080" y="3875040"/>
            <a:ext cx="239760" cy="2412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"/>
          <p:cNvSpPr/>
          <p:nvPr/>
        </p:nvSpPr>
        <p:spPr>
          <a:xfrm>
            <a:off x="4408560" y="2751120"/>
            <a:ext cx="356040" cy="224280"/>
          </a:xfrm>
          <a:custGeom>
            <a:avLst/>
            <a:gdLst/>
            <a:ahLst/>
            <a:rect l="0" t="0" r="r" b="b"/>
            <a:pathLst>
              <a:path fill="none" w="989" h="623">
                <a:moveTo>
                  <a:pt x="0" y="623"/>
                </a:moveTo>
                <a:lnTo>
                  <a:pt x="0" y="0"/>
                </a:lnTo>
                <a:lnTo>
                  <a:pt x="989" y="0"/>
                </a:lnTo>
                <a:lnTo>
                  <a:pt x="989" y="623"/>
                </a:lnTo>
                <a:lnTo>
                  <a:pt x="0" y="62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7078680" y="2805120"/>
            <a:ext cx="241560" cy="238320"/>
          </a:xfrm>
          <a:custGeom>
            <a:avLst/>
            <a:gdLst/>
            <a:ahLst/>
            <a:rect l="0" t="0" r="r" b="b"/>
            <a:pathLst>
              <a:path fill="none" w="671" h="662">
                <a:moveTo>
                  <a:pt x="0" y="662"/>
                </a:moveTo>
                <a:lnTo>
                  <a:pt x="0" y="0"/>
                </a:lnTo>
                <a:lnTo>
                  <a:pt x="671" y="0"/>
                </a:lnTo>
                <a:lnTo>
                  <a:pt x="671" y="662"/>
                </a:lnTo>
                <a:lnTo>
                  <a:pt x="0" y="662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"/>
          <p:cNvSpPr/>
          <p:nvPr/>
        </p:nvSpPr>
        <p:spPr>
          <a:xfrm>
            <a:off x="5527800" y="525132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5527800" y="4000680"/>
            <a:ext cx="1888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310520" y="3848040"/>
            <a:ext cx="51120" cy="152640"/>
          </a:xfrm>
          <a:custGeom>
            <a:avLst/>
            <a:gdLst/>
            <a:ahLst/>
            <a:rect l="0" t="0" r="r" b="b"/>
            <a:pathLst>
              <a:path w="142" h="424">
                <a:moveTo>
                  <a:pt x="0" y="0"/>
                </a:moveTo>
                <a:lnTo>
                  <a:pt x="142" y="0"/>
                </a:lnTo>
                <a:lnTo>
                  <a:pt x="70" y="4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"/>
          <p:cNvSpPr/>
          <p:nvPr/>
        </p:nvSpPr>
        <p:spPr>
          <a:xfrm>
            <a:off x="7648560" y="4086360"/>
            <a:ext cx="302040" cy="184680"/>
          </a:xfrm>
          <a:custGeom>
            <a:avLst/>
            <a:gdLst/>
            <a:ahLst/>
            <a:rect l="0" t="0" r="r" b="b"/>
            <a:pathLst>
              <a:path fill="none" w="839" h="513">
                <a:moveTo>
                  <a:pt x="0" y="513"/>
                </a:moveTo>
                <a:lnTo>
                  <a:pt x="0" y="0"/>
                </a:lnTo>
                <a:lnTo>
                  <a:pt x="839" y="0"/>
                </a:lnTo>
                <a:lnTo>
                  <a:pt x="839" y="513"/>
                </a:lnTo>
                <a:lnTo>
                  <a:pt x="0" y="51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7772400" y="4470480"/>
            <a:ext cx="49680" cy="155880"/>
          </a:xfrm>
          <a:custGeom>
            <a:avLst/>
            <a:gdLst/>
            <a:ahLst/>
            <a:rect l="0" t="0" r="r" b="b"/>
            <a:pathLst>
              <a:path w="138" h="433">
                <a:moveTo>
                  <a:pt x="0" y="0"/>
                </a:moveTo>
                <a:lnTo>
                  <a:pt x="138" y="0"/>
                </a:lnTo>
                <a:lnTo>
                  <a:pt x="69" y="43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/>
          <p:nvPr/>
        </p:nvSpPr>
        <p:spPr>
          <a:xfrm flipV="1">
            <a:off x="7796160" y="4270320"/>
            <a:ext cx="0" cy="2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7772400" y="3344760"/>
            <a:ext cx="49680" cy="157680"/>
          </a:xfrm>
          <a:custGeom>
            <a:avLst/>
            <a:gdLst/>
            <a:ahLst/>
            <a:rect l="0" t="0" r="r" b="b"/>
            <a:pathLst>
              <a:path w="138" h="438">
                <a:moveTo>
                  <a:pt x="0" y="438"/>
                </a:moveTo>
                <a:lnTo>
                  <a:pt x="138" y="438"/>
                </a:lnTo>
                <a:lnTo>
                  <a:pt x="69" y="0"/>
                </a:lnTo>
                <a:lnTo>
                  <a:pt x="0" y="43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"/>
          <p:cNvSpPr/>
          <p:nvPr/>
        </p:nvSpPr>
        <p:spPr>
          <a:xfrm>
            <a:off x="7796160" y="3451320"/>
            <a:ext cx="0" cy="631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"/>
          <p:cNvSpPr/>
          <p:nvPr/>
        </p:nvSpPr>
        <p:spPr>
          <a:xfrm flipV="1">
            <a:off x="7337520" y="377208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7310520" y="3327480"/>
            <a:ext cx="51120" cy="155880"/>
          </a:xfrm>
          <a:custGeom>
            <a:avLst/>
            <a:gdLst/>
            <a:ahLst/>
            <a:rect l="0" t="0" r="r" b="b"/>
            <a:pathLst>
              <a:path w="142" h="433">
                <a:moveTo>
                  <a:pt x="0" y="433"/>
                </a:moveTo>
                <a:lnTo>
                  <a:pt x="142" y="433"/>
                </a:lnTo>
                <a:lnTo>
                  <a:pt x="70" y="0"/>
                </a:lnTo>
                <a:lnTo>
                  <a:pt x="0" y="43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"/>
          <p:cNvSpPr/>
          <p:nvPr/>
        </p:nvSpPr>
        <p:spPr>
          <a:xfrm>
            <a:off x="7192800" y="4854600"/>
            <a:ext cx="302040" cy="187560"/>
          </a:xfrm>
          <a:custGeom>
            <a:avLst/>
            <a:gdLst/>
            <a:ahLst/>
            <a:rect l="0" t="0" r="r" b="b"/>
            <a:pathLst>
              <a:path fill="none" w="839" h="521">
                <a:moveTo>
                  <a:pt x="0" y="521"/>
                </a:moveTo>
                <a:lnTo>
                  <a:pt x="0" y="0"/>
                </a:lnTo>
                <a:lnTo>
                  <a:pt x="839" y="0"/>
                </a:lnTo>
                <a:lnTo>
                  <a:pt x="839" y="521"/>
                </a:lnTo>
                <a:lnTo>
                  <a:pt x="0" y="52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"/>
          <p:cNvSpPr/>
          <p:nvPr/>
        </p:nvSpPr>
        <p:spPr>
          <a:xfrm>
            <a:off x="6248520" y="4626000"/>
            <a:ext cx="1649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"/>
          <p:cNvSpPr/>
          <p:nvPr/>
        </p:nvSpPr>
        <p:spPr>
          <a:xfrm>
            <a:off x="7188120" y="3557520"/>
            <a:ext cx="330480" cy="214560"/>
          </a:xfrm>
          <a:custGeom>
            <a:avLst/>
            <a:gdLst/>
            <a:ahLst/>
            <a:rect l="0" t="0" r="r" b="b"/>
            <a:pathLst>
              <a:path fill="none" w="918" h="596">
                <a:moveTo>
                  <a:pt x="0" y="596"/>
                </a:moveTo>
                <a:lnTo>
                  <a:pt x="0" y="0"/>
                </a:lnTo>
                <a:lnTo>
                  <a:pt x="918" y="0"/>
                </a:lnTo>
                <a:lnTo>
                  <a:pt x="918" y="596"/>
                </a:lnTo>
                <a:lnTo>
                  <a:pt x="0" y="596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"/>
          <p:cNvSpPr/>
          <p:nvPr/>
        </p:nvSpPr>
        <p:spPr>
          <a:xfrm>
            <a:off x="7311960" y="4003560"/>
            <a:ext cx="51120" cy="154440"/>
          </a:xfrm>
          <a:custGeom>
            <a:avLst/>
            <a:gdLst/>
            <a:ahLst/>
            <a:rect l="0" t="0" r="r" b="b"/>
            <a:pathLst>
              <a:path w="142" h="429">
                <a:moveTo>
                  <a:pt x="0" y="429"/>
                </a:moveTo>
                <a:lnTo>
                  <a:pt x="142" y="429"/>
                </a:lnTo>
                <a:lnTo>
                  <a:pt x="70" y="0"/>
                </a:lnTo>
                <a:lnTo>
                  <a:pt x="0" y="42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 flipV="1">
            <a:off x="7327800" y="5041800"/>
            <a:ext cx="0" cy="5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7311960" y="5095800"/>
            <a:ext cx="51120" cy="155880"/>
          </a:xfrm>
          <a:custGeom>
            <a:avLst/>
            <a:gdLst/>
            <a:ahLst/>
            <a:rect l="0" t="0" r="r" b="b"/>
            <a:pathLst>
              <a:path w="142" h="433">
                <a:moveTo>
                  <a:pt x="0" y="0"/>
                </a:moveTo>
                <a:lnTo>
                  <a:pt x="142" y="0"/>
                </a:lnTo>
                <a:lnTo>
                  <a:pt x="70" y="43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"/>
          <p:cNvSpPr/>
          <p:nvPr/>
        </p:nvSpPr>
        <p:spPr>
          <a:xfrm>
            <a:off x="7343640" y="346248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"/>
          <p:cNvSpPr/>
          <p:nvPr/>
        </p:nvSpPr>
        <p:spPr>
          <a:xfrm>
            <a:off x="7343640" y="4005360"/>
            <a:ext cx="0" cy="852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 txBox="1"/>
          <p:nvPr/>
        </p:nvSpPr>
        <p:spPr>
          <a:xfrm>
            <a:off x="399960" y="237960"/>
            <a:ext cx="38973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Planes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y Datum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 txBox="1"/>
          <p:nvPr/>
        </p:nvSpPr>
        <p:spPr>
          <a:xfrm>
            <a:off x="6373800" y="250344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 txBox="1"/>
          <p:nvPr/>
        </p:nvSpPr>
        <p:spPr>
          <a:xfrm>
            <a:off x="4491000" y="160488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"/>
          <p:cNvSpPr txBox="1"/>
          <p:nvPr/>
        </p:nvSpPr>
        <p:spPr>
          <a:xfrm>
            <a:off x="7050240" y="2779560"/>
            <a:ext cx="291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"/>
          <p:cNvSpPr txBox="1"/>
          <p:nvPr/>
        </p:nvSpPr>
        <p:spPr>
          <a:xfrm>
            <a:off x="4075200" y="329076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"/>
          <p:cNvSpPr txBox="1"/>
          <p:nvPr/>
        </p:nvSpPr>
        <p:spPr>
          <a:xfrm>
            <a:off x="4540320" y="413244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"/>
          <p:cNvSpPr txBox="1"/>
          <p:nvPr/>
        </p:nvSpPr>
        <p:spPr>
          <a:xfrm>
            <a:off x="4075200" y="453060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"/>
          <p:cNvSpPr/>
          <p:nvPr/>
        </p:nvSpPr>
        <p:spPr>
          <a:xfrm>
            <a:off x="5656320" y="6091200"/>
            <a:ext cx="367200" cy="217800"/>
          </a:xfrm>
          <a:custGeom>
            <a:avLst/>
            <a:gdLst/>
            <a:ahLst/>
            <a:rect l="0" t="0" r="r" b="b"/>
            <a:pathLst>
              <a:path fill="none" w="1020" h="605">
                <a:moveTo>
                  <a:pt x="0" y="605"/>
                </a:moveTo>
                <a:lnTo>
                  <a:pt x="0" y="0"/>
                </a:lnTo>
                <a:lnTo>
                  <a:pt x="1020" y="0"/>
                </a:lnTo>
                <a:lnTo>
                  <a:pt x="1020" y="605"/>
                </a:lnTo>
                <a:lnTo>
                  <a:pt x="0" y="60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5477040" y="5392800"/>
            <a:ext cx="0" cy="86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4" name=""/>
          <p:cNvGrpSpPr/>
          <p:nvPr/>
        </p:nvGrpSpPr>
        <p:grpSpPr>
          <a:xfrm>
            <a:off x="5135400" y="6138720"/>
            <a:ext cx="311760" cy="52920"/>
            <a:chOff x="5135400" y="6138720"/>
            <a:chExt cx="311760" cy="52920"/>
          </a:xfrm>
        </p:grpSpPr>
        <p:sp>
          <p:nvSpPr>
            <p:cNvPr id="1995" name=""/>
            <p:cNvSpPr/>
            <p:nvPr/>
          </p:nvSpPr>
          <p:spPr>
            <a:xfrm flipH="1">
              <a:off x="5135400" y="616572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5289480" y="6138720"/>
              <a:ext cx="157680" cy="52920"/>
            </a:xfrm>
            <a:custGeom>
              <a:avLst/>
              <a:gdLst/>
              <a:ahLst/>
              <a:rect l="0" t="0" r="r" b="b"/>
              <a:pathLst>
                <a:path w="438" h="147">
                  <a:moveTo>
                    <a:pt x="0" y="0"/>
                  </a:moveTo>
                  <a:lnTo>
                    <a:pt x="0" y="147"/>
                  </a:lnTo>
                  <a:lnTo>
                    <a:pt x="438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7" name=""/>
          <p:cNvGrpSpPr/>
          <p:nvPr/>
        </p:nvGrpSpPr>
        <p:grpSpPr>
          <a:xfrm>
            <a:off x="6208560" y="6149880"/>
            <a:ext cx="308160" cy="52920"/>
            <a:chOff x="6208560" y="6149880"/>
            <a:chExt cx="308160" cy="52920"/>
          </a:xfrm>
        </p:grpSpPr>
        <p:sp>
          <p:nvSpPr>
            <p:cNvPr id="1998" name=""/>
            <p:cNvSpPr/>
            <p:nvPr/>
          </p:nvSpPr>
          <p:spPr>
            <a:xfrm>
              <a:off x="6362640" y="61768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208560" y="6149880"/>
              <a:ext cx="154440" cy="52920"/>
            </a:xfrm>
            <a:custGeom>
              <a:avLst/>
              <a:gdLst/>
              <a:ahLst/>
              <a:rect l="0" t="0" r="r" b="b"/>
              <a:pathLst>
                <a:path w="429" h="147">
                  <a:moveTo>
                    <a:pt x="429" y="0"/>
                  </a:moveTo>
                  <a:lnTo>
                    <a:pt x="429" y="147"/>
                  </a:lnTo>
                  <a:lnTo>
                    <a:pt x="0" y="76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0" name=""/>
          <p:cNvGrpSpPr/>
          <p:nvPr/>
        </p:nvGrpSpPr>
        <p:grpSpPr>
          <a:xfrm>
            <a:off x="5491080" y="2828880"/>
            <a:ext cx="304920" cy="54360"/>
            <a:chOff x="5491080" y="2828880"/>
            <a:chExt cx="304920" cy="54360"/>
          </a:xfrm>
        </p:grpSpPr>
        <p:sp>
          <p:nvSpPr>
            <p:cNvPr id="2001" name=""/>
            <p:cNvSpPr/>
            <p:nvPr/>
          </p:nvSpPr>
          <p:spPr>
            <a:xfrm>
              <a:off x="5643720" y="2854440"/>
              <a:ext cx="152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491080" y="2828880"/>
              <a:ext cx="152640" cy="54360"/>
            </a:xfrm>
            <a:custGeom>
              <a:avLst/>
              <a:gdLst/>
              <a:ahLst/>
              <a:rect l="0" t="0" r="r" b="b"/>
              <a:pathLst>
                <a:path w="424" h="151">
                  <a:moveTo>
                    <a:pt x="424" y="0"/>
                  </a:moveTo>
                  <a:lnTo>
                    <a:pt x="424" y="151"/>
                  </a:lnTo>
                  <a:lnTo>
                    <a:pt x="0" y="72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3" name=""/>
          <p:cNvSpPr txBox="1"/>
          <p:nvPr/>
        </p:nvSpPr>
        <p:spPr>
          <a:xfrm>
            <a:off x="547560" y="1441440"/>
            <a:ext cx="287172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shown, the prim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D is establish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datum targets;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condary datum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ablished by 2 dat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rge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5613480" y="6408720"/>
            <a:ext cx="2657520" cy="4366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85800" y="388800"/>
            <a:ext cx="7772400" cy="3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816120" y="754200"/>
            <a:ext cx="6588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Top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7445520" y="781200"/>
            <a:ext cx="1319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Slid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685800" y="1073160"/>
            <a:ext cx="777240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Datum Features -- Co-datum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ngle Datum Axis From Two Datum Featur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ial Surface Datum Featur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Target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Target Point Designa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Target Line Designa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Target Area Designation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bining Target Symbol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Derived From Stepped Surface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Planes Established by Datum Target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Target Planar Application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Targets Used To Establish a Datum Axis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Targets and Single Cylinder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Targets and Two Cylinder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ondary Datum Axis RF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 Target Lines and Cylindrical Target Areas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"/>
          <p:cNvSpPr txBox="1"/>
          <p:nvPr/>
        </p:nvSpPr>
        <p:spPr>
          <a:xfrm>
            <a:off x="547560" y="1441440"/>
            <a:ext cx="287172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shown, the prim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D is establish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datum targets;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condary datum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tablished by 2 dat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rge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6856560" y="1025640"/>
            <a:ext cx="421200" cy="421200"/>
          </a:xfrm>
          <a:custGeom>
            <a:avLst/>
            <a:gdLst/>
            <a:ahLst/>
            <a:rect l="0" t="0" r="r" b="b"/>
            <a:pathLst>
              <a:path fill="none" w="1170" h="1170">
                <a:moveTo>
                  <a:pt x="0" y="582"/>
                </a:moveTo>
                <a:lnTo>
                  <a:pt x="1170" y="582"/>
                </a:lnTo>
                <a:lnTo>
                  <a:pt x="1170" y="558"/>
                </a:lnTo>
                <a:lnTo>
                  <a:pt x="1164" y="529"/>
                </a:lnTo>
                <a:lnTo>
                  <a:pt x="1164" y="500"/>
                </a:lnTo>
                <a:lnTo>
                  <a:pt x="1158" y="476"/>
                </a:lnTo>
                <a:lnTo>
                  <a:pt x="1153" y="447"/>
                </a:lnTo>
                <a:lnTo>
                  <a:pt x="1147" y="417"/>
                </a:lnTo>
                <a:lnTo>
                  <a:pt x="1135" y="394"/>
                </a:lnTo>
                <a:lnTo>
                  <a:pt x="1129" y="365"/>
                </a:lnTo>
                <a:lnTo>
                  <a:pt x="1117" y="341"/>
                </a:lnTo>
                <a:lnTo>
                  <a:pt x="1106" y="318"/>
                </a:lnTo>
                <a:lnTo>
                  <a:pt x="1088" y="294"/>
                </a:lnTo>
                <a:lnTo>
                  <a:pt x="1077" y="270"/>
                </a:lnTo>
                <a:lnTo>
                  <a:pt x="1059" y="246"/>
                </a:lnTo>
                <a:lnTo>
                  <a:pt x="1042" y="223"/>
                </a:lnTo>
                <a:lnTo>
                  <a:pt x="1024" y="199"/>
                </a:lnTo>
                <a:lnTo>
                  <a:pt x="1006" y="182"/>
                </a:lnTo>
                <a:lnTo>
                  <a:pt x="989" y="158"/>
                </a:lnTo>
                <a:lnTo>
                  <a:pt x="966" y="140"/>
                </a:lnTo>
                <a:lnTo>
                  <a:pt x="948" y="123"/>
                </a:lnTo>
                <a:lnTo>
                  <a:pt x="925" y="105"/>
                </a:lnTo>
                <a:lnTo>
                  <a:pt x="901" y="93"/>
                </a:lnTo>
                <a:lnTo>
                  <a:pt x="878" y="76"/>
                </a:lnTo>
                <a:lnTo>
                  <a:pt x="854" y="64"/>
                </a:lnTo>
                <a:lnTo>
                  <a:pt x="830" y="52"/>
                </a:lnTo>
                <a:lnTo>
                  <a:pt x="801" y="41"/>
                </a:lnTo>
                <a:lnTo>
                  <a:pt x="778" y="29"/>
                </a:lnTo>
                <a:lnTo>
                  <a:pt x="748" y="23"/>
                </a:lnTo>
                <a:lnTo>
                  <a:pt x="725" y="11"/>
                </a:lnTo>
                <a:lnTo>
                  <a:pt x="696" y="11"/>
                </a:lnTo>
                <a:lnTo>
                  <a:pt x="667" y="5"/>
                </a:lnTo>
                <a:lnTo>
                  <a:pt x="643" y="0"/>
                </a:lnTo>
                <a:lnTo>
                  <a:pt x="614" y="0"/>
                </a:lnTo>
                <a:lnTo>
                  <a:pt x="585" y="0"/>
                </a:lnTo>
                <a:lnTo>
                  <a:pt x="556" y="0"/>
                </a:lnTo>
                <a:lnTo>
                  <a:pt x="532" y="0"/>
                </a:lnTo>
                <a:lnTo>
                  <a:pt x="503" y="5"/>
                </a:lnTo>
                <a:lnTo>
                  <a:pt x="474" y="11"/>
                </a:lnTo>
                <a:lnTo>
                  <a:pt x="450" y="11"/>
                </a:lnTo>
                <a:lnTo>
                  <a:pt x="421" y="23"/>
                </a:lnTo>
                <a:lnTo>
                  <a:pt x="392" y="29"/>
                </a:lnTo>
                <a:lnTo>
                  <a:pt x="369" y="41"/>
                </a:lnTo>
                <a:lnTo>
                  <a:pt x="345" y="52"/>
                </a:lnTo>
                <a:lnTo>
                  <a:pt x="316" y="64"/>
                </a:lnTo>
                <a:lnTo>
                  <a:pt x="293" y="76"/>
                </a:lnTo>
                <a:lnTo>
                  <a:pt x="268" y="93"/>
                </a:lnTo>
                <a:lnTo>
                  <a:pt x="245" y="105"/>
                </a:lnTo>
                <a:lnTo>
                  <a:pt x="222" y="123"/>
                </a:lnTo>
                <a:lnTo>
                  <a:pt x="204" y="140"/>
                </a:lnTo>
                <a:lnTo>
                  <a:pt x="181" y="158"/>
                </a:lnTo>
                <a:lnTo>
                  <a:pt x="163" y="182"/>
                </a:lnTo>
                <a:lnTo>
                  <a:pt x="146" y="199"/>
                </a:lnTo>
                <a:lnTo>
                  <a:pt x="128" y="223"/>
                </a:lnTo>
                <a:lnTo>
                  <a:pt x="111" y="246"/>
                </a:lnTo>
                <a:lnTo>
                  <a:pt x="93" y="270"/>
                </a:lnTo>
                <a:lnTo>
                  <a:pt x="81" y="294"/>
                </a:lnTo>
                <a:lnTo>
                  <a:pt x="70" y="318"/>
                </a:lnTo>
                <a:lnTo>
                  <a:pt x="52" y="341"/>
                </a:lnTo>
                <a:lnTo>
                  <a:pt x="46" y="365"/>
                </a:lnTo>
                <a:lnTo>
                  <a:pt x="35" y="394"/>
                </a:lnTo>
                <a:lnTo>
                  <a:pt x="23" y="417"/>
                </a:lnTo>
                <a:lnTo>
                  <a:pt x="17" y="447"/>
                </a:lnTo>
                <a:lnTo>
                  <a:pt x="11" y="476"/>
                </a:lnTo>
                <a:lnTo>
                  <a:pt x="5" y="500"/>
                </a:lnTo>
                <a:lnTo>
                  <a:pt x="5" y="529"/>
                </a:lnTo>
                <a:lnTo>
                  <a:pt x="0" y="558"/>
                </a:lnTo>
                <a:lnTo>
                  <a:pt x="0" y="582"/>
                </a:lnTo>
                <a:lnTo>
                  <a:pt x="0" y="611"/>
                </a:lnTo>
                <a:lnTo>
                  <a:pt x="5" y="641"/>
                </a:lnTo>
                <a:lnTo>
                  <a:pt x="5" y="670"/>
                </a:lnTo>
                <a:lnTo>
                  <a:pt x="11" y="693"/>
                </a:lnTo>
                <a:lnTo>
                  <a:pt x="17" y="723"/>
                </a:lnTo>
                <a:lnTo>
                  <a:pt x="23" y="752"/>
                </a:lnTo>
                <a:lnTo>
                  <a:pt x="35" y="776"/>
                </a:lnTo>
                <a:lnTo>
                  <a:pt x="46" y="805"/>
                </a:lnTo>
                <a:lnTo>
                  <a:pt x="52" y="828"/>
                </a:lnTo>
                <a:lnTo>
                  <a:pt x="70" y="852"/>
                </a:lnTo>
                <a:lnTo>
                  <a:pt x="81" y="875"/>
                </a:lnTo>
                <a:lnTo>
                  <a:pt x="93" y="906"/>
                </a:lnTo>
                <a:lnTo>
                  <a:pt x="111" y="923"/>
                </a:lnTo>
                <a:lnTo>
                  <a:pt x="128" y="947"/>
                </a:lnTo>
                <a:lnTo>
                  <a:pt x="146" y="970"/>
                </a:lnTo>
                <a:lnTo>
                  <a:pt x="163" y="988"/>
                </a:lnTo>
                <a:lnTo>
                  <a:pt x="181" y="1012"/>
                </a:lnTo>
                <a:lnTo>
                  <a:pt x="204" y="1029"/>
                </a:lnTo>
                <a:lnTo>
                  <a:pt x="222" y="1047"/>
                </a:lnTo>
                <a:lnTo>
                  <a:pt x="245" y="1064"/>
                </a:lnTo>
                <a:lnTo>
                  <a:pt x="268" y="1076"/>
                </a:lnTo>
                <a:lnTo>
                  <a:pt x="293" y="1094"/>
                </a:lnTo>
                <a:lnTo>
                  <a:pt x="316" y="1105"/>
                </a:lnTo>
                <a:lnTo>
                  <a:pt x="345" y="1117"/>
                </a:lnTo>
                <a:lnTo>
                  <a:pt x="369" y="1129"/>
                </a:lnTo>
                <a:lnTo>
                  <a:pt x="392" y="1141"/>
                </a:lnTo>
                <a:lnTo>
                  <a:pt x="421" y="1147"/>
                </a:lnTo>
                <a:lnTo>
                  <a:pt x="450" y="1152"/>
                </a:lnTo>
                <a:lnTo>
                  <a:pt x="474" y="1158"/>
                </a:lnTo>
                <a:lnTo>
                  <a:pt x="503" y="1164"/>
                </a:lnTo>
                <a:lnTo>
                  <a:pt x="532" y="1170"/>
                </a:lnTo>
                <a:lnTo>
                  <a:pt x="556" y="1170"/>
                </a:lnTo>
                <a:lnTo>
                  <a:pt x="585" y="1170"/>
                </a:lnTo>
                <a:lnTo>
                  <a:pt x="614" y="1170"/>
                </a:lnTo>
                <a:lnTo>
                  <a:pt x="643" y="1170"/>
                </a:lnTo>
                <a:lnTo>
                  <a:pt x="667" y="1164"/>
                </a:lnTo>
                <a:lnTo>
                  <a:pt x="696" y="1158"/>
                </a:lnTo>
                <a:lnTo>
                  <a:pt x="725" y="1152"/>
                </a:lnTo>
                <a:lnTo>
                  <a:pt x="748" y="1147"/>
                </a:lnTo>
                <a:lnTo>
                  <a:pt x="778" y="1141"/>
                </a:lnTo>
                <a:lnTo>
                  <a:pt x="801" y="1129"/>
                </a:lnTo>
                <a:lnTo>
                  <a:pt x="830" y="1117"/>
                </a:lnTo>
                <a:lnTo>
                  <a:pt x="854" y="1105"/>
                </a:lnTo>
                <a:lnTo>
                  <a:pt x="878" y="1094"/>
                </a:lnTo>
                <a:lnTo>
                  <a:pt x="901" y="1076"/>
                </a:lnTo>
                <a:lnTo>
                  <a:pt x="925" y="1064"/>
                </a:lnTo>
                <a:lnTo>
                  <a:pt x="948" y="1047"/>
                </a:lnTo>
                <a:lnTo>
                  <a:pt x="966" y="1029"/>
                </a:lnTo>
                <a:lnTo>
                  <a:pt x="989" y="1012"/>
                </a:lnTo>
                <a:lnTo>
                  <a:pt x="1006" y="988"/>
                </a:lnTo>
                <a:lnTo>
                  <a:pt x="1024" y="970"/>
                </a:lnTo>
                <a:lnTo>
                  <a:pt x="1042" y="947"/>
                </a:lnTo>
                <a:lnTo>
                  <a:pt x="1059" y="923"/>
                </a:lnTo>
                <a:lnTo>
                  <a:pt x="1077" y="906"/>
                </a:lnTo>
                <a:lnTo>
                  <a:pt x="1088" y="875"/>
                </a:lnTo>
                <a:lnTo>
                  <a:pt x="1106" y="852"/>
                </a:lnTo>
                <a:lnTo>
                  <a:pt x="1117" y="828"/>
                </a:lnTo>
                <a:lnTo>
                  <a:pt x="1129" y="805"/>
                </a:lnTo>
                <a:lnTo>
                  <a:pt x="1135" y="776"/>
                </a:lnTo>
                <a:lnTo>
                  <a:pt x="1147" y="752"/>
                </a:lnTo>
                <a:lnTo>
                  <a:pt x="1153" y="723"/>
                </a:lnTo>
                <a:lnTo>
                  <a:pt x="1158" y="693"/>
                </a:lnTo>
                <a:lnTo>
                  <a:pt x="1164" y="670"/>
                </a:lnTo>
                <a:lnTo>
                  <a:pt x="1164" y="641"/>
                </a:lnTo>
                <a:lnTo>
                  <a:pt x="1170" y="611"/>
                </a:lnTo>
                <a:lnTo>
                  <a:pt x="1170" y="582"/>
                </a:ln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 flipV="1">
            <a:off x="5475240" y="1325520"/>
            <a:ext cx="1405080" cy="65088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5475240" y="1378080"/>
            <a:ext cx="0" cy="53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5079960" y="946080"/>
            <a:ext cx="1572120" cy="1238760"/>
          </a:xfrm>
          <a:custGeom>
            <a:avLst/>
            <a:gdLst/>
            <a:ahLst/>
            <a:rect l="0" t="0" r="r" b="b"/>
            <a:pathLst>
              <a:path fill="none" w="4367" h="3441">
                <a:moveTo>
                  <a:pt x="0" y="3441"/>
                </a:moveTo>
                <a:lnTo>
                  <a:pt x="0" y="0"/>
                </a:lnTo>
                <a:lnTo>
                  <a:pt x="4367" y="0"/>
                </a:lnTo>
                <a:lnTo>
                  <a:pt x="4367" y="3441"/>
                </a:lnTo>
                <a:lnTo>
                  <a:pt x="0" y="344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 flipH="1">
            <a:off x="4751280" y="1733400"/>
            <a:ext cx="209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 flipV="1">
            <a:off x="5079960" y="1666800"/>
            <a:ext cx="0" cy="138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 flipH="1" flipV="1">
            <a:off x="4960800" y="1733400"/>
            <a:ext cx="119160" cy="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4960800" y="1666800"/>
            <a:ext cx="119520" cy="138600"/>
          </a:xfrm>
          <a:custGeom>
            <a:avLst/>
            <a:gdLst/>
            <a:ahLst/>
            <a:rect l="0" t="0" r="r" b="b"/>
            <a:pathLst>
              <a:path w="332" h="385">
                <a:moveTo>
                  <a:pt x="332" y="385"/>
                </a:moveTo>
                <a:lnTo>
                  <a:pt x="0" y="192"/>
                </a:lnTo>
                <a:lnTo>
                  <a:pt x="332" y="0"/>
                </a:lnTo>
                <a:lnTo>
                  <a:pt x="332" y="38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 flipH="1">
            <a:off x="4960800" y="1666800"/>
            <a:ext cx="119160" cy="66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6531120" y="2305080"/>
            <a:ext cx="0" cy="21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6410160" y="2523960"/>
            <a:ext cx="241560" cy="236880"/>
          </a:xfrm>
          <a:custGeom>
            <a:avLst/>
            <a:gdLst/>
            <a:ahLst/>
            <a:rect l="0" t="0" r="r" b="b"/>
            <a:pathLst>
              <a:path fill="none" w="671" h="658">
                <a:moveTo>
                  <a:pt x="0" y="658"/>
                </a:moveTo>
                <a:lnTo>
                  <a:pt x="0" y="0"/>
                </a:lnTo>
                <a:lnTo>
                  <a:pt x="671" y="0"/>
                </a:lnTo>
                <a:lnTo>
                  <a:pt x="671" y="658"/>
                </a:lnTo>
                <a:lnTo>
                  <a:pt x="0" y="658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 flipH="1" flipV="1">
            <a:off x="5356080" y="1855800"/>
            <a:ext cx="239760" cy="2412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 flipH="1">
            <a:off x="5356080" y="1855800"/>
            <a:ext cx="239760" cy="2412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6462720" y="218448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 flipH="1">
            <a:off x="6531120" y="2184480"/>
            <a:ext cx="71280" cy="12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6462720" y="2184480"/>
            <a:ext cx="140040" cy="120960"/>
          </a:xfrm>
          <a:custGeom>
            <a:avLst/>
            <a:gdLst/>
            <a:ahLst/>
            <a:rect l="0" t="0" r="r" b="b"/>
            <a:pathLst>
              <a:path w="389" h="336">
                <a:moveTo>
                  <a:pt x="389" y="0"/>
                </a:moveTo>
                <a:lnTo>
                  <a:pt x="195" y="336"/>
                </a:lnTo>
                <a:lnTo>
                  <a:pt x="0" y="0"/>
                </a:lnTo>
                <a:lnTo>
                  <a:pt x="389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6462720" y="2184480"/>
            <a:ext cx="68400" cy="12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 flipV="1">
            <a:off x="5475240" y="739800"/>
            <a:ext cx="917640" cy="58572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 flipH="1" flipV="1">
            <a:off x="5356080" y="1204920"/>
            <a:ext cx="239760" cy="2412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 flipH="1">
            <a:off x="5356080" y="1204920"/>
            <a:ext cx="239760" cy="24120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6361200" y="415800"/>
            <a:ext cx="417960" cy="422640"/>
          </a:xfrm>
          <a:custGeom>
            <a:avLst/>
            <a:gdLst/>
            <a:ahLst/>
            <a:rect l="0" t="0" r="r" b="b"/>
            <a:pathLst>
              <a:path fill="none" w="1161" h="1174">
                <a:moveTo>
                  <a:pt x="1161" y="587"/>
                </a:moveTo>
                <a:lnTo>
                  <a:pt x="1161" y="558"/>
                </a:lnTo>
                <a:lnTo>
                  <a:pt x="1161" y="534"/>
                </a:lnTo>
                <a:lnTo>
                  <a:pt x="1155" y="505"/>
                </a:lnTo>
                <a:lnTo>
                  <a:pt x="1150" y="476"/>
                </a:lnTo>
                <a:lnTo>
                  <a:pt x="1144" y="452"/>
                </a:lnTo>
                <a:lnTo>
                  <a:pt x="1138" y="423"/>
                </a:lnTo>
                <a:lnTo>
                  <a:pt x="1132" y="399"/>
                </a:lnTo>
                <a:lnTo>
                  <a:pt x="1120" y="370"/>
                </a:lnTo>
                <a:lnTo>
                  <a:pt x="1109" y="347"/>
                </a:lnTo>
                <a:lnTo>
                  <a:pt x="1097" y="323"/>
                </a:lnTo>
                <a:lnTo>
                  <a:pt x="1085" y="294"/>
                </a:lnTo>
                <a:lnTo>
                  <a:pt x="1068" y="269"/>
                </a:lnTo>
                <a:lnTo>
                  <a:pt x="1056" y="246"/>
                </a:lnTo>
                <a:lnTo>
                  <a:pt x="1039" y="228"/>
                </a:lnTo>
                <a:lnTo>
                  <a:pt x="1021" y="205"/>
                </a:lnTo>
                <a:lnTo>
                  <a:pt x="998" y="181"/>
                </a:lnTo>
                <a:lnTo>
                  <a:pt x="981" y="164"/>
                </a:lnTo>
                <a:lnTo>
                  <a:pt x="963" y="146"/>
                </a:lnTo>
                <a:lnTo>
                  <a:pt x="940" y="129"/>
                </a:lnTo>
                <a:lnTo>
                  <a:pt x="916" y="111"/>
                </a:lnTo>
                <a:lnTo>
                  <a:pt x="893" y="93"/>
                </a:lnTo>
                <a:lnTo>
                  <a:pt x="869" y="82"/>
                </a:lnTo>
                <a:lnTo>
                  <a:pt x="846" y="64"/>
                </a:lnTo>
                <a:lnTo>
                  <a:pt x="822" y="58"/>
                </a:lnTo>
                <a:lnTo>
                  <a:pt x="793" y="46"/>
                </a:lnTo>
                <a:lnTo>
                  <a:pt x="770" y="35"/>
                </a:lnTo>
                <a:lnTo>
                  <a:pt x="746" y="23"/>
                </a:lnTo>
                <a:lnTo>
                  <a:pt x="717" y="17"/>
                </a:lnTo>
                <a:lnTo>
                  <a:pt x="688" y="11"/>
                </a:lnTo>
                <a:lnTo>
                  <a:pt x="665" y="5"/>
                </a:lnTo>
                <a:lnTo>
                  <a:pt x="636" y="5"/>
                </a:lnTo>
                <a:lnTo>
                  <a:pt x="607" y="0"/>
                </a:lnTo>
                <a:lnTo>
                  <a:pt x="577" y="0"/>
                </a:lnTo>
                <a:lnTo>
                  <a:pt x="554" y="0"/>
                </a:lnTo>
                <a:lnTo>
                  <a:pt x="525" y="5"/>
                </a:lnTo>
                <a:lnTo>
                  <a:pt x="496" y="5"/>
                </a:lnTo>
                <a:lnTo>
                  <a:pt x="467" y="11"/>
                </a:lnTo>
                <a:lnTo>
                  <a:pt x="443" y="17"/>
                </a:lnTo>
                <a:lnTo>
                  <a:pt x="414" y="23"/>
                </a:lnTo>
                <a:lnTo>
                  <a:pt x="391" y="35"/>
                </a:lnTo>
                <a:lnTo>
                  <a:pt x="362" y="46"/>
                </a:lnTo>
                <a:lnTo>
                  <a:pt x="339" y="58"/>
                </a:lnTo>
                <a:lnTo>
                  <a:pt x="315" y="64"/>
                </a:lnTo>
                <a:lnTo>
                  <a:pt x="292" y="82"/>
                </a:lnTo>
                <a:lnTo>
                  <a:pt x="262" y="93"/>
                </a:lnTo>
                <a:lnTo>
                  <a:pt x="244" y="111"/>
                </a:lnTo>
                <a:lnTo>
                  <a:pt x="221" y="129"/>
                </a:lnTo>
                <a:lnTo>
                  <a:pt x="198" y="146"/>
                </a:lnTo>
                <a:lnTo>
                  <a:pt x="180" y="164"/>
                </a:lnTo>
                <a:lnTo>
                  <a:pt x="157" y="181"/>
                </a:lnTo>
                <a:lnTo>
                  <a:pt x="139" y="205"/>
                </a:lnTo>
                <a:lnTo>
                  <a:pt x="122" y="228"/>
                </a:lnTo>
                <a:lnTo>
                  <a:pt x="104" y="246"/>
                </a:lnTo>
                <a:lnTo>
                  <a:pt x="87" y="269"/>
                </a:lnTo>
                <a:lnTo>
                  <a:pt x="75" y="294"/>
                </a:lnTo>
                <a:lnTo>
                  <a:pt x="64" y="323"/>
                </a:lnTo>
                <a:lnTo>
                  <a:pt x="52" y="347"/>
                </a:lnTo>
                <a:lnTo>
                  <a:pt x="40" y="370"/>
                </a:lnTo>
                <a:lnTo>
                  <a:pt x="29" y="399"/>
                </a:lnTo>
                <a:lnTo>
                  <a:pt x="23" y="423"/>
                </a:lnTo>
                <a:lnTo>
                  <a:pt x="11" y="452"/>
                </a:lnTo>
                <a:lnTo>
                  <a:pt x="5" y="476"/>
                </a:lnTo>
                <a:lnTo>
                  <a:pt x="5" y="505"/>
                </a:lnTo>
                <a:lnTo>
                  <a:pt x="0" y="534"/>
                </a:lnTo>
                <a:lnTo>
                  <a:pt x="0" y="558"/>
                </a:lnTo>
                <a:lnTo>
                  <a:pt x="0" y="587"/>
                </a:lnTo>
                <a:lnTo>
                  <a:pt x="0" y="616"/>
                </a:lnTo>
                <a:lnTo>
                  <a:pt x="0" y="646"/>
                </a:lnTo>
                <a:lnTo>
                  <a:pt x="5" y="669"/>
                </a:lnTo>
                <a:lnTo>
                  <a:pt x="5" y="698"/>
                </a:lnTo>
                <a:lnTo>
                  <a:pt x="11" y="728"/>
                </a:lnTo>
                <a:lnTo>
                  <a:pt x="23" y="751"/>
                </a:lnTo>
                <a:lnTo>
                  <a:pt x="29" y="781"/>
                </a:lnTo>
                <a:lnTo>
                  <a:pt x="40" y="804"/>
                </a:lnTo>
                <a:lnTo>
                  <a:pt x="52" y="833"/>
                </a:lnTo>
                <a:lnTo>
                  <a:pt x="64" y="857"/>
                </a:lnTo>
                <a:lnTo>
                  <a:pt x="75" y="880"/>
                </a:lnTo>
                <a:lnTo>
                  <a:pt x="87" y="905"/>
                </a:lnTo>
                <a:lnTo>
                  <a:pt x="104" y="928"/>
                </a:lnTo>
                <a:lnTo>
                  <a:pt x="122" y="952"/>
                </a:lnTo>
                <a:lnTo>
                  <a:pt x="139" y="975"/>
                </a:lnTo>
                <a:lnTo>
                  <a:pt x="157" y="993"/>
                </a:lnTo>
                <a:lnTo>
                  <a:pt x="180" y="1010"/>
                </a:lnTo>
                <a:lnTo>
                  <a:pt x="198" y="1034"/>
                </a:lnTo>
                <a:lnTo>
                  <a:pt x="221" y="1051"/>
                </a:lnTo>
                <a:lnTo>
                  <a:pt x="244" y="1063"/>
                </a:lnTo>
                <a:lnTo>
                  <a:pt x="262" y="1081"/>
                </a:lnTo>
                <a:lnTo>
                  <a:pt x="292" y="1098"/>
                </a:lnTo>
                <a:lnTo>
                  <a:pt x="315" y="1110"/>
                </a:lnTo>
                <a:lnTo>
                  <a:pt x="339" y="1122"/>
                </a:lnTo>
                <a:lnTo>
                  <a:pt x="362" y="1133"/>
                </a:lnTo>
                <a:lnTo>
                  <a:pt x="391" y="1139"/>
                </a:lnTo>
                <a:lnTo>
                  <a:pt x="414" y="1151"/>
                </a:lnTo>
                <a:lnTo>
                  <a:pt x="443" y="1157"/>
                </a:lnTo>
                <a:lnTo>
                  <a:pt x="467" y="1163"/>
                </a:lnTo>
                <a:lnTo>
                  <a:pt x="496" y="1169"/>
                </a:lnTo>
                <a:lnTo>
                  <a:pt x="525" y="1169"/>
                </a:lnTo>
                <a:lnTo>
                  <a:pt x="554" y="1174"/>
                </a:lnTo>
                <a:lnTo>
                  <a:pt x="577" y="1174"/>
                </a:lnTo>
                <a:lnTo>
                  <a:pt x="607" y="1174"/>
                </a:lnTo>
                <a:lnTo>
                  <a:pt x="636" y="1169"/>
                </a:lnTo>
                <a:lnTo>
                  <a:pt x="665" y="1169"/>
                </a:lnTo>
                <a:lnTo>
                  <a:pt x="688" y="1163"/>
                </a:lnTo>
                <a:lnTo>
                  <a:pt x="717" y="1157"/>
                </a:lnTo>
                <a:lnTo>
                  <a:pt x="746" y="1151"/>
                </a:lnTo>
                <a:lnTo>
                  <a:pt x="770" y="1139"/>
                </a:lnTo>
                <a:lnTo>
                  <a:pt x="793" y="1133"/>
                </a:lnTo>
                <a:lnTo>
                  <a:pt x="822" y="1122"/>
                </a:lnTo>
                <a:lnTo>
                  <a:pt x="846" y="1110"/>
                </a:lnTo>
                <a:lnTo>
                  <a:pt x="869" y="1098"/>
                </a:lnTo>
                <a:lnTo>
                  <a:pt x="893" y="1081"/>
                </a:lnTo>
                <a:lnTo>
                  <a:pt x="916" y="1063"/>
                </a:lnTo>
                <a:lnTo>
                  <a:pt x="940" y="1051"/>
                </a:lnTo>
                <a:lnTo>
                  <a:pt x="963" y="1034"/>
                </a:lnTo>
                <a:lnTo>
                  <a:pt x="981" y="1010"/>
                </a:lnTo>
                <a:lnTo>
                  <a:pt x="998" y="993"/>
                </a:lnTo>
                <a:lnTo>
                  <a:pt x="1021" y="975"/>
                </a:lnTo>
                <a:lnTo>
                  <a:pt x="1039" y="952"/>
                </a:lnTo>
                <a:lnTo>
                  <a:pt x="1056" y="928"/>
                </a:lnTo>
                <a:lnTo>
                  <a:pt x="1068" y="905"/>
                </a:lnTo>
                <a:lnTo>
                  <a:pt x="1085" y="880"/>
                </a:lnTo>
                <a:lnTo>
                  <a:pt x="1097" y="857"/>
                </a:lnTo>
                <a:lnTo>
                  <a:pt x="1109" y="833"/>
                </a:lnTo>
                <a:lnTo>
                  <a:pt x="1120" y="804"/>
                </a:lnTo>
                <a:lnTo>
                  <a:pt x="1132" y="781"/>
                </a:lnTo>
                <a:lnTo>
                  <a:pt x="1138" y="751"/>
                </a:lnTo>
                <a:lnTo>
                  <a:pt x="1144" y="728"/>
                </a:lnTo>
                <a:lnTo>
                  <a:pt x="1150" y="698"/>
                </a:lnTo>
                <a:lnTo>
                  <a:pt x="1155" y="669"/>
                </a:lnTo>
                <a:lnTo>
                  <a:pt x="1161" y="646"/>
                </a:lnTo>
                <a:lnTo>
                  <a:pt x="1161" y="616"/>
                </a:lnTo>
                <a:lnTo>
                  <a:pt x="1161" y="587"/>
                </a:ln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6361200" y="625320"/>
            <a:ext cx="41760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 flipH="1">
            <a:off x="3819600" y="1978200"/>
            <a:ext cx="1563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 flipH="1">
            <a:off x="3797280" y="2178000"/>
            <a:ext cx="1209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4500720" y="1616040"/>
            <a:ext cx="240120" cy="238320"/>
          </a:xfrm>
          <a:custGeom>
            <a:avLst/>
            <a:gdLst/>
            <a:ahLst/>
            <a:rect l="0" t="0" r="r" b="b"/>
            <a:pathLst>
              <a:path fill="none" w="667" h="662">
                <a:moveTo>
                  <a:pt x="0" y="662"/>
                </a:moveTo>
                <a:lnTo>
                  <a:pt x="0" y="0"/>
                </a:lnTo>
                <a:lnTo>
                  <a:pt x="667" y="0"/>
                </a:lnTo>
                <a:lnTo>
                  <a:pt x="667" y="662"/>
                </a:lnTo>
                <a:lnTo>
                  <a:pt x="0" y="662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3908520" y="2178000"/>
            <a:ext cx="0" cy="3873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 flipV="1">
            <a:off x="3908520" y="1324080"/>
            <a:ext cx="0" cy="642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 flipV="1">
            <a:off x="3908520" y="981000"/>
            <a:ext cx="0" cy="32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3919680" y="981000"/>
            <a:ext cx="155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3908520" y="2565360"/>
            <a:ext cx="133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4075200" y="870120"/>
            <a:ext cx="353880" cy="23328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4041720" y="2454120"/>
            <a:ext cx="353880" cy="2444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5477040" y="5392800"/>
            <a:ext cx="0" cy="86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6195960" y="4697280"/>
            <a:ext cx="0" cy="1557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5135400" y="6138720"/>
            <a:ext cx="311760" cy="52920"/>
            <a:chOff x="5135400" y="6138720"/>
            <a:chExt cx="311760" cy="52920"/>
          </a:xfrm>
        </p:grpSpPr>
        <p:sp>
          <p:nvSpPr>
            <p:cNvPr id="2040" name=""/>
            <p:cNvSpPr/>
            <p:nvPr/>
          </p:nvSpPr>
          <p:spPr>
            <a:xfrm flipH="1">
              <a:off x="5135400" y="616572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289480" y="6138720"/>
              <a:ext cx="157680" cy="52920"/>
            </a:xfrm>
            <a:custGeom>
              <a:avLst/>
              <a:gdLst/>
              <a:ahLst/>
              <a:rect l="0" t="0" r="r" b="b"/>
              <a:pathLst>
                <a:path w="438" h="147">
                  <a:moveTo>
                    <a:pt x="0" y="0"/>
                  </a:moveTo>
                  <a:lnTo>
                    <a:pt x="0" y="147"/>
                  </a:lnTo>
                  <a:lnTo>
                    <a:pt x="438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2" name=""/>
          <p:cNvGrpSpPr/>
          <p:nvPr/>
        </p:nvGrpSpPr>
        <p:grpSpPr>
          <a:xfrm>
            <a:off x="6208560" y="6149880"/>
            <a:ext cx="308160" cy="52920"/>
            <a:chOff x="6208560" y="6149880"/>
            <a:chExt cx="308160" cy="52920"/>
          </a:xfrm>
        </p:grpSpPr>
        <p:sp>
          <p:nvSpPr>
            <p:cNvPr id="2043" name=""/>
            <p:cNvSpPr/>
            <p:nvPr/>
          </p:nvSpPr>
          <p:spPr>
            <a:xfrm>
              <a:off x="6362640" y="61768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6208560" y="6149880"/>
              <a:ext cx="154440" cy="52920"/>
            </a:xfrm>
            <a:custGeom>
              <a:avLst/>
              <a:gdLst/>
              <a:ahLst/>
              <a:rect l="0" t="0" r="r" b="b"/>
              <a:pathLst>
                <a:path w="429" h="147">
                  <a:moveTo>
                    <a:pt x="429" y="0"/>
                  </a:moveTo>
                  <a:lnTo>
                    <a:pt x="429" y="147"/>
                  </a:lnTo>
                  <a:lnTo>
                    <a:pt x="0" y="76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5" name=""/>
          <p:cNvSpPr/>
          <p:nvPr/>
        </p:nvSpPr>
        <p:spPr>
          <a:xfrm flipH="1">
            <a:off x="6892920" y="292428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 flipV="1">
            <a:off x="6824520" y="3201840"/>
            <a:ext cx="68400" cy="120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6824520" y="3201840"/>
            <a:ext cx="140040" cy="120960"/>
          </a:xfrm>
          <a:custGeom>
            <a:avLst/>
            <a:gdLst/>
            <a:ahLst/>
            <a:rect l="0" t="0" r="r" b="b"/>
            <a:pathLst>
              <a:path w="389" h="336">
                <a:moveTo>
                  <a:pt x="0" y="336"/>
                </a:moveTo>
                <a:lnTo>
                  <a:pt x="195" y="0"/>
                </a:lnTo>
                <a:lnTo>
                  <a:pt x="389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 flipH="1" flipV="1">
            <a:off x="6892920" y="3201840"/>
            <a:ext cx="71280" cy="120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6730920" y="3322800"/>
            <a:ext cx="1176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 flipV="1">
            <a:off x="6892920" y="2924280"/>
            <a:ext cx="0" cy="277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 flipV="1">
            <a:off x="5475240" y="2770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 flipV="1">
            <a:off x="5079960" y="2770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5629320" y="2846520"/>
            <a:ext cx="154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 flipH="1">
            <a:off x="4775040" y="2846520"/>
            <a:ext cx="152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5475240" y="2820960"/>
            <a:ext cx="154440" cy="54360"/>
          </a:xfrm>
          <a:custGeom>
            <a:avLst/>
            <a:gdLst/>
            <a:ahLst/>
            <a:rect l="0" t="0" r="r" b="b"/>
            <a:pathLst>
              <a:path w="429" h="151">
                <a:moveTo>
                  <a:pt x="429" y="0"/>
                </a:moveTo>
                <a:lnTo>
                  <a:pt x="429" y="151"/>
                </a:lnTo>
                <a:lnTo>
                  <a:pt x="0" y="72"/>
                </a:lnTo>
                <a:lnTo>
                  <a:pt x="429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4927680" y="2820960"/>
            <a:ext cx="152640" cy="54360"/>
          </a:xfrm>
          <a:custGeom>
            <a:avLst/>
            <a:gdLst/>
            <a:ahLst/>
            <a:rect l="0" t="0" r="r" b="b"/>
            <a:pathLst>
              <a:path w="424" h="151">
                <a:moveTo>
                  <a:pt x="0" y="0"/>
                </a:moveTo>
                <a:lnTo>
                  <a:pt x="0" y="151"/>
                </a:lnTo>
                <a:lnTo>
                  <a:pt x="424" y="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 flipV="1">
            <a:off x="5527800" y="3138480"/>
            <a:ext cx="372960" cy="19044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6300720" y="2833560"/>
            <a:ext cx="417960" cy="419400"/>
          </a:xfrm>
          <a:custGeom>
            <a:avLst/>
            <a:gdLst/>
            <a:ahLst/>
            <a:rect l="0" t="0" r="r" b="b"/>
            <a:pathLst>
              <a:path fill="none" w="1161" h="1165">
                <a:moveTo>
                  <a:pt x="1161" y="579"/>
                </a:moveTo>
                <a:lnTo>
                  <a:pt x="1161" y="555"/>
                </a:lnTo>
                <a:lnTo>
                  <a:pt x="1161" y="526"/>
                </a:lnTo>
                <a:lnTo>
                  <a:pt x="1155" y="497"/>
                </a:lnTo>
                <a:lnTo>
                  <a:pt x="1150" y="468"/>
                </a:lnTo>
                <a:lnTo>
                  <a:pt x="1144" y="444"/>
                </a:lnTo>
                <a:lnTo>
                  <a:pt x="1138" y="415"/>
                </a:lnTo>
                <a:lnTo>
                  <a:pt x="1132" y="391"/>
                </a:lnTo>
                <a:lnTo>
                  <a:pt x="1120" y="362"/>
                </a:lnTo>
                <a:lnTo>
                  <a:pt x="1109" y="339"/>
                </a:lnTo>
                <a:lnTo>
                  <a:pt x="1097" y="315"/>
                </a:lnTo>
                <a:lnTo>
                  <a:pt x="1085" y="292"/>
                </a:lnTo>
                <a:lnTo>
                  <a:pt x="1068" y="263"/>
                </a:lnTo>
                <a:lnTo>
                  <a:pt x="1056" y="245"/>
                </a:lnTo>
                <a:lnTo>
                  <a:pt x="1039" y="222"/>
                </a:lnTo>
                <a:lnTo>
                  <a:pt x="1021" y="198"/>
                </a:lnTo>
                <a:lnTo>
                  <a:pt x="1004" y="175"/>
                </a:lnTo>
                <a:lnTo>
                  <a:pt x="981" y="157"/>
                </a:lnTo>
                <a:lnTo>
                  <a:pt x="963" y="140"/>
                </a:lnTo>
                <a:lnTo>
                  <a:pt x="940" y="122"/>
                </a:lnTo>
                <a:lnTo>
                  <a:pt x="916" y="105"/>
                </a:lnTo>
                <a:lnTo>
                  <a:pt x="893" y="87"/>
                </a:lnTo>
                <a:lnTo>
                  <a:pt x="869" y="76"/>
                </a:lnTo>
                <a:lnTo>
                  <a:pt x="846" y="64"/>
                </a:lnTo>
                <a:lnTo>
                  <a:pt x="822" y="52"/>
                </a:lnTo>
                <a:lnTo>
                  <a:pt x="799" y="40"/>
                </a:lnTo>
                <a:lnTo>
                  <a:pt x="770" y="29"/>
                </a:lnTo>
                <a:lnTo>
                  <a:pt x="746" y="23"/>
                </a:lnTo>
                <a:lnTo>
                  <a:pt x="717" y="11"/>
                </a:lnTo>
                <a:lnTo>
                  <a:pt x="688" y="5"/>
                </a:lnTo>
                <a:lnTo>
                  <a:pt x="665" y="5"/>
                </a:lnTo>
                <a:lnTo>
                  <a:pt x="636" y="0"/>
                </a:lnTo>
                <a:lnTo>
                  <a:pt x="607" y="0"/>
                </a:lnTo>
                <a:lnTo>
                  <a:pt x="577" y="0"/>
                </a:lnTo>
                <a:lnTo>
                  <a:pt x="554" y="0"/>
                </a:lnTo>
                <a:lnTo>
                  <a:pt x="525" y="0"/>
                </a:lnTo>
                <a:lnTo>
                  <a:pt x="496" y="5"/>
                </a:lnTo>
                <a:lnTo>
                  <a:pt x="473" y="5"/>
                </a:lnTo>
                <a:lnTo>
                  <a:pt x="443" y="11"/>
                </a:lnTo>
                <a:lnTo>
                  <a:pt x="414" y="23"/>
                </a:lnTo>
                <a:lnTo>
                  <a:pt x="391" y="29"/>
                </a:lnTo>
                <a:lnTo>
                  <a:pt x="362" y="40"/>
                </a:lnTo>
                <a:lnTo>
                  <a:pt x="339" y="52"/>
                </a:lnTo>
                <a:lnTo>
                  <a:pt x="315" y="64"/>
                </a:lnTo>
                <a:lnTo>
                  <a:pt x="292" y="76"/>
                </a:lnTo>
                <a:lnTo>
                  <a:pt x="268" y="87"/>
                </a:lnTo>
                <a:lnTo>
                  <a:pt x="244" y="105"/>
                </a:lnTo>
                <a:lnTo>
                  <a:pt x="221" y="122"/>
                </a:lnTo>
                <a:lnTo>
                  <a:pt x="198" y="140"/>
                </a:lnTo>
                <a:lnTo>
                  <a:pt x="180" y="157"/>
                </a:lnTo>
                <a:lnTo>
                  <a:pt x="157" y="175"/>
                </a:lnTo>
                <a:lnTo>
                  <a:pt x="139" y="198"/>
                </a:lnTo>
                <a:lnTo>
                  <a:pt x="122" y="222"/>
                </a:lnTo>
                <a:lnTo>
                  <a:pt x="104" y="245"/>
                </a:lnTo>
                <a:lnTo>
                  <a:pt x="87" y="263"/>
                </a:lnTo>
                <a:lnTo>
                  <a:pt x="75" y="292"/>
                </a:lnTo>
                <a:lnTo>
                  <a:pt x="64" y="315"/>
                </a:lnTo>
                <a:lnTo>
                  <a:pt x="52" y="339"/>
                </a:lnTo>
                <a:lnTo>
                  <a:pt x="40" y="362"/>
                </a:lnTo>
                <a:lnTo>
                  <a:pt x="29" y="391"/>
                </a:lnTo>
                <a:lnTo>
                  <a:pt x="23" y="415"/>
                </a:lnTo>
                <a:lnTo>
                  <a:pt x="11" y="444"/>
                </a:lnTo>
                <a:lnTo>
                  <a:pt x="11" y="468"/>
                </a:lnTo>
                <a:lnTo>
                  <a:pt x="5" y="497"/>
                </a:lnTo>
                <a:lnTo>
                  <a:pt x="0" y="526"/>
                </a:lnTo>
                <a:lnTo>
                  <a:pt x="0" y="555"/>
                </a:lnTo>
                <a:lnTo>
                  <a:pt x="0" y="579"/>
                </a:lnTo>
                <a:lnTo>
                  <a:pt x="0" y="609"/>
                </a:lnTo>
                <a:lnTo>
                  <a:pt x="0" y="638"/>
                </a:lnTo>
                <a:lnTo>
                  <a:pt x="5" y="662"/>
                </a:lnTo>
                <a:lnTo>
                  <a:pt x="11" y="691"/>
                </a:lnTo>
                <a:lnTo>
                  <a:pt x="11" y="720"/>
                </a:lnTo>
                <a:lnTo>
                  <a:pt x="23" y="743"/>
                </a:lnTo>
                <a:lnTo>
                  <a:pt x="29" y="773"/>
                </a:lnTo>
                <a:lnTo>
                  <a:pt x="40" y="796"/>
                </a:lnTo>
                <a:lnTo>
                  <a:pt x="52" y="825"/>
                </a:lnTo>
                <a:lnTo>
                  <a:pt x="64" y="849"/>
                </a:lnTo>
                <a:lnTo>
                  <a:pt x="75" y="872"/>
                </a:lnTo>
                <a:lnTo>
                  <a:pt x="87" y="896"/>
                </a:lnTo>
                <a:lnTo>
                  <a:pt x="104" y="919"/>
                </a:lnTo>
                <a:lnTo>
                  <a:pt x="122" y="942"/>
                </a:lnTo>
                <a:lnTo>
                  <a:pt x="139" y="966"/>
                </a:lnTo>
                <a:lnTo>
                  <a:pt x="157" y="983"/>
                </a:lnTo>
                <a:lnTo>
                  <a:pt x="180" y="1007"/>
                </a:lnTo>
                <a:lnTo>
                  <a:pt x="198" y="1024"/>
                </a:lnTo>
                <a:lnTo>
                  <a:pt x="221" y="1042"/>
                </a:lnTo>
                <a:lnTo>
                  <a:pt x="244" y="1059"/>
                </a:lnTo>
                <a:lnTo>
                  <a:pt x="268" y="1071"/>
                </a:lnTo>
                <a:lnTo>
                  <a:pt x="292" y="1089"/>
                </a:lnTo>
                <a:lnTo>
                  <a:pt x="315" y="1100"/>
                </a:lnTo>
                <a:lnTo>
                  <a:pt x="339" y="1112"/>
                </a:lnTo>
                <a:lnTo>
                  <a:pt x="362" y="1124"/>
                </a:lnTo>
                <a:lnTo>
                  <a:pt x="391" y="1135"/>
                </a:lnTo>
                <a:lnTo>
                  <a:pt x="414" y="1141"/>
                </a:lnTo>
                <a:lnTo>
                  <a:pt x="443" y="1147"/>
                </a:lnTo>
                <a:lnTo>
                  <a:pt x="473" y="1153"/>
                </a:lnTo>
                <a:lnTo>
                  <a:pt x="496" y="1159"/>
                </a:lnTo>
                <a:lnTo>
                  <a:pt x="525" y="1165"/>
                </a:lnTo>
                <a:lnTo>
                  <a:pt x="554" y="1165"/>
                </a:lnTo>
                <a:lnTo>
                  <a:pt x="577" y="1165"/>
                </a:lnTo>
                <a:lnTo>
                  <a:pt x="607" y="1165"/>
                </a:lnTo>
                <a:lnTo>
                  <a:pt x="636" y="1165"/>
                </a:lnTo>
                <a:lnTo>
                  <a:pt x="665" y="1159"/>
                </a:lnTo>
                <a:lnTo>
                  <a:pt x="688" y="1153"/>
                </a:lnTo>
                <a:lnTo>
                  <a:pt x="717" y="1147"/>
                </a:lnTo>
                <a:lnTo>
                  <a:pt x="746" y="1141"/>
                </a:lnTo>
                <a:lnTo>
                  <a:pt x="770" y="1135"/>
                </a:lnTo>
                <a:lnTo>
                  <a:pt x="799" y="1124"/>
                </a:lnTo>
                <a:lnTo>
                  <a:pt x="822" y="1112"/>
                </a:lnTo>
                <a:lnTo>
                  <a:pt x="846" y="1100"/>
                </a:lnTo>
                <a:lnTo>
                  <a:pt x="869" y="1089"/>
                </a:lnTo>
                <a:lnTo>
                  <a:pt x="893" y="1071"/>
                </a:lnTo>
                <a:lnTo>
                  <a:pt x="916" y="1059"/>
                </a:lnTo>
                <a:lnTo>
                  <a:pt x="940" y="1042"/>
                </a:lnTo>
                <a:lnTo>
                  <a:pt x="963" y="1024"/>
                </a:lnTo>
                <a:lnTo>
                  <a:pt x="981" y="1007"/>
                </a:lnTo>
                <a:lnTo>
                  <a:pt x="1004" y="983"/>
                </a:lnTo>
                <a:lnTo>
                  <a:pt x="1021" y="966"/>
                </a:lnTo>
                <a:lnTo>
                  <a:pt x="1039" y="942"/>
                </a:lnTo>
                <a:lnTo>
                  <a:pt x="1056" y="919"/>
                </a:lnTo>
                <a:lnTo>
                  <a:pt x="1068" y="896"/>
                </a:lnTo>
                <a:lnTo>
                  <a:pt x="1085" y="872"/>
                </a:lnTo>
                <a:lnTo>
                  <a:pt x="1097" y="849"/>
                </a:lnTo>
                <a:lnTo>
                  <a:pt x="1109" y="825"/>
                </a:lnTo>
                <a:lnTo>
                  <a:pt x="1120" y="796"/>
                </a:lnTo>
                <a:lnTo>
                  <a:pt x="1132" y="773"/>
                </a:lnTo>
                <a:lnTo>
                  <a:pt x="1138" y="743"/>
                </a:lnTo>
                <a:lnTo>
                  <a:pt x="1144" y="720"/>
                </a:lnTo>
                <a:lnTo>
                  <a:pt x="1150" y="691"/>
                </a:lnTo>
                <a:lnTo>
                  <a:pt x="1155" y="662"/>
                </a:lnTo>
                <a:lnTo>
                  <a:pt x="1161" y="638"/>
                </a:lnTo>
                <a:lnTo>
                  <a:pt x="1161" y="609"/>
                </a:lnTo>
                <a:lnTo>
                  <a:pt x="1161" y="579"/>
                </a:ln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5877000" y="2833560"/>
            <a:ext cx="424080" cy="419400"/>
          </a:xfrm>
          <a:custGeom>
            <a:avLst/>
            <a:gdLst/>
            <a:ahLst/>
            <a:rect l="0" t="0" r="r" b="b"/>
            <a:pathLst>
              <a:path fill="none" w="1178" h="1165">
                <a:moveTo>
                  <a:pt x="1178" y="579"/>
                </a:moveTo>
                <a:lnTo>
                  <a:pt x="1178" y="555"/>
                </a:lnTo>
                <a:lnTo>
                  <a:pt x="1172" y="526"/>
                </a:lnTo>
                <a:lnTo>
                  <a:pt x="1172" y="497"/>
                </a:lnTo>
                <a:lnTo>
                  <a:pt x="1166" y="468"/>
                </a:lnTo>
                <a:lnTo>
                  <a:pt x="1160" y="444"/>
                </a:lnTo>
                <a:lnTo>
                  <a:pt x="1154" y="415"/>
                </a:lnTo>
                <a:lnTo>
                  <a:pt x="1143" y="391"/>
                </a:lnTo>
                <a:lnTo>
                  <a:pt x="1137" y="362"/>
                </a:lnTo>
                <a:lnTo>
                  <a:pt x="1125" y="339"/>
                </a:lnTo>
                <a:lnTo>
                  <a:pt x="1113" y="315"/>
                </a:lnTo>
                <a:lnTo>
                  <a:pt x="1095" y="292"/>
                </a:lnTo>
                <a:lnTo>
                  <a:pt x="1084" y="263"/>
                </a:lnTo>
                <a:lnTo>
                  <a:pt x="1066" y="245"/>
                </a:lnTo>
                <a:lnTo>
                  <a:pt x="1048" y="222"/>
                </a:lnTo>
                <a:lnTo>
                  <a:pt x="1031" y="198"/>
                </a:lnTo>
                <a:lnTo>
                  <a:pt x="1013" y="175"/>
                </a:lnTo>
                <a:lnTo>
                  <a:pt x="995" y="157"/>
                </a:lnTo>
                <a:lnTo>
                  <a:pt x="972" y="140"/>
                </a:lnTo>
                <a:lnTo>
                  <a:pt x="954" y="122"/>
                </a:lnTo>
                <a:lnTo>
                  <a:pt x="931" y="105"/>
                </a:lnTo>
                <a:lnTo>
                  <a:pt x="907" y="87"/>
                </a:lnTo>
                <a:lnTo>
                  <a:pt x="884" y="76"/>
                </a:lnTo>
                <a:lnTo>
                  <a:pt x="860" y="64"/>
                </a:lnTo>
                <a:lnTo>
                  <a:pt x="831" y="52"/>
                </a:lnTo>
                <a:lnTo>
                  <a:pt x="807" y="40"/>
                </a:lnTo>
                <a:lnTo>
                  <a:pt x="783" y="29"/>
                </a:lnTo>
                <a:lnTo>
                  <a:pt x="754" y="23"/>
                </a:lnTo>
                <a:lnTo>
                  <a:pt x="725" y="11"/>
                </a:lnTo>
                <a:lnTo>
                  <a:pt x="701" y="5"/>
                </a:lnTo>
                <a:lnTo>
                  <a:pt x="672" y="5"/>
                </a:lnTo>
                <a:lnTo>
                  <a:pt x="648" y="0"/>
                </a:lnTo>
                <a:lnTo>
                  <a:pt x="619" y="0"/>
                </a:lnTo>
                <a:lnTo>
                  <a:pt x="588" y="0"/>
                </a:lnTo>
                <a:lnTo>
                  <a:pt x="559" y="0"/>
                </a:lnTo>
                <a:lnTo>
                  <a:pt x="529" y="0"/>
                </a:lnTo>
                <a:lnTo>
                  <a:pt x="506" y="5"/>
                </a:lnTo>
                <a:lnTo>
                  <a:pt x="476" y="5"/>
                </a:lnTo>
                <a:lnTo>
                  <a:pt x="453" y="11"/>
                </a:lnTo>
                <a:lnTo>
                  <a:pt x="423" y="23"/>
                </a:lnTo>
                <a:lnTo>
                  <a:pt x="394" y="29"/>
                </a:lnTo>
                <a:lnTo>
                  <a:pt x="370" y="40"/>
                </a:lnTo>
                <a:lnTo>
                  <a:pt x="341" y="52"/>
                </a:lnTo>
                <a:lnTo>
                  <a:pt x="317" y="64"/>
                </a:lnTo>
                <a:lnTo>
                  <a:pt x="294" y="76"/>
                </a:lnTo>
                <a:lnTo>
                  <a:pt x="270" y="87"/>
                </a:lnTo>
                <a:lnTo>
                  <a:pt x="247" y="105"/>
                </a:lnTo>
                <a:lnTo>
                  <a:pt x="223" y="122"/>
                </a:lnTo>
                <a:lnTo>
                  <a:pt x="206" y="140"/>
                </a:lnTo>
                <a:lnTo>
                  <a:pt x="182" y="157"/>
                </a:lnTo>
                <a:lnTo>
                  <a:pt x="164" y="175"/>
                </a:lnTo>
                <a:lnTo>
                  <a:pt x="147" y="198"/>
                </a:lnTo>
                <a:lnTo>
                  <a:pt x="129" y="222"/>
                </a:lnTo>
                <a:lnTo>
                  <a:pt x="111" y="245"/>
                </a:lnTo>
                <a:lnTo>
                  <a:pt x="94" y="263"/>
                </a:lnTo>
                <a:lnTo>
                  <a:pt x="82" y="292"/>
                </a:lnTo>
                <a:lnTo>
                  <a:pt x="64" y="315"/>
                </a:lnTo>
                <a:lnTo>
                  <a:pt x="52" y="339"/>
                </a:lnTo>
                <a:lnTo>
                  <a:pt x="41" y="362"/>
                </a:lnTo>
                <a:lnTo>
                  <a:pt x="35" y="391"/>
                </a:lnTo>
                <a:lnTo>
                  <a:pt x="23" y="415"/>
                </a:lnTo>
                <a:lnTo>
                  <a:pt x="17" y="444"/>
                </a:lnTo>
                <a:lnTo>
                  <a:pt x="11" y="468"/>
                </a:lnTo>
                <a:lnTo>
                  <a:pt x="5" y="497"/>
                </a:lnTo>
                <a:lnTo>
                  <a:pt x="5" y="526"/>
                </a:lnTo>
                <a:lnTo>
                  <a:pt x="0" y="555"/>
                </a:lnTo>
                <a:lnTo>
                  <a:pt x="0" y="579"/>
                </a:lnTo>
                <a:lnTo>
                  <a:pt x="0" y="609"/>
                </a:lnTo>
                <a:lnTo>
                  <a:pt x="5" y="638"/>
                </a:lnTo>
                <a:lnTo>
                  <a:pt x="5" y="662"/>
                </a:lnTo>
                <a:lnTo>
                  <a:pt x="11" y="691"/>
                </a:lnTo>
                <a:lnTo>
                  <a:pt x="17" y="720"/>
                </a:lnTo>
                <a:lnTo>
                  <a:pt x="23" y="743"/>
                </a:lnTo>
                <a:lnTo>
                  <a:pt x="35" y="773"/>
                </a:lnTo>
                <a:lnTo>
                  <a:pt x="41" y="796"/>
                </a:lnTo>
                <a:lnTo>
                  <a:pt x="52" y="825"/>
                </a:lnTo>
                <a:lnTo>
                  <a:pt x="64" y="849"/>
                </a:lnTo>
                <a:lnTo>
                  <a:pt x="82" y="872"/>
                </a:lnTo>
                <a:lnTo>
                  <a:pt x="94" y="896"/>
                </a:lnTo>
                <a:lnTo>
                  <a:pt x="111" y="919"/>
                </a:lnTo>
                <a:lnTo>
                  <a:pt x="129" y="942"/>
                </a:lnTo>
                <a:lnTo>
                  <a:pt x="147" y="966"/>
                </a:lnTo>
                <a:lnTo>
                  <a:pt x="164" y="983"/>
                </a:lnTo>
                <a:lnTo>
                  <a:pt x="182" y="1007"/>
                </a:lnTo>
                <a:lnTo>
                  <a:pt x="206" y="1024"/>
                </a:lnTo>
                <a:lnTo>
                  <a:pt x="223" y="1042"/>
                </a:lnTo>
                <a:lnTo>
                  <a:pt x="247" y="1059"/>
                </a:lnTo>
                <a:lnTo>
                  <a:pt x="270" y="1071"/>
                </a:lnTo>
                <a:lnTo>
                  <a:pt x="294" y="1089"/>
                </a:lnTo>
                <a:lnTo>
                  <a:pt x="317" y="1100"/>
                </a:lnTo>
                <a:lnTo>
                  <a:pt x="341" y="1112"/>
                </a:lnTo>
                <a:lnTo>
                  <a:pt x="370" y="1124"/>
                </a:lnTo>
                <a:lnTo>
                  <a:pt x="394" y="1135"/>
                </a:lnTo>
                <a:lnTo>
                  <a:pt x="423" y="1141"/>
                </a:lnTo>
                <a:lnTo>
                  <a:pt x="453" y="1147"/>
                </a:lnTo>
                <a:lnTo>
                  <a:pt x="476" y="1153"/>
                </a:lnTo>
                <a:lnTo>
                  <a:pt x="506" y="1159"/>
                </a:lnTo>
                <a:lnTo>
                  <a:pt x="529" y="1165"/>
                </a:lnTo>
                <a:lnTo>
                  <a:pt x="559" y="1165"/>
                </a:lnTo>
                <a:lnTo>
                  <a:pt x="588" y="1165"/>
                </a:lnTo>
                <a:lnTo>
                  <a:pt x="619" y="1165"/>
                </a:lnTo>
                <a:lnTo>
                  <a:pt x="648" y="1165"/>
                </a:lnTo>
                <a:lnTo>
                  <a:pt x="672" y="1159"/>
                </a:lnTo>
                <a:lnTo>
                  <a:pt x="701" y="1153"/>
                </a:lnTo>
                <a:lnTo>
                  <a:pt x="725" y="1147"/>
                </a:lnTo>
                <a:lnTo>
                  <a:pt x="754" y="1141"/>
                </a:lnTo>
                <a:lnTo>
                  <a:pt x="783" y="1135"/>
                </a:lnTo>
                <a:lnTo>
                  <a:pt x="807" y="1124"/>
                </a:lnTo>
                <a:lnTo>
                  <a:pt x="831" y="1112"/>
                </a:lnTo>
                <a:lnTo>
                  <a:pt x="860" y="1100"/>
                </a:lnTo>
                <a:lnTo>
                  <a:pt x="884" y="1089"/>
                </a:lnTo>
                <a:lnTo>
                  <a:pt x="907" y="1071"/>
                </a:lnTo>
                <a:lnTo>
                  <a:pt x="931" y="1059"/>
                </a:lnTo>
                <a:lnTo>
                  <a:pt x="954" y="1042"/>
                </a:lnTo>
                <a:lnTo>
                  <a:pt x="972" y="1024"/>
                </a:lnTo>
                <a:lnTo>
                  <a:pt x="995" y="1007"/>
                </a:lnTo>
                <a:lnTo>
                  <a:pt x="1013" y="983"/>
                </a:lnTo>
                <a:lnTo>
                  <a:pt x="1031" y="966"/>
                </a:lnTo>
                <a:lnTo>
                  <a:pt x="1048" y="942"/>
                </a:lnTo>
                <a:lnTo>
                  <a:pt x="1066" y="919"/>
                </a:lnTo>
                <a:lnTo>
                  <a:pt x="1084" y="896"/>
                </a:lnTo>
                <a:lnTo>
                  <a:pt x="1095" y="872"/>
                </a:lnTo>
                <a:lnTo>
                  <a:pt x="1113" y="849"/>
                </a:lnTo>
                <a:lnTo>
                  <a:pt x="1125" y="825"/>
                </a:lnTo>
                <a:lnTo>
                  <a:pt x="1137" y="796"/>
                </a:lnTo>
                <a:lnTo>
                  <a:pt x="1143" y="773"/>
                </a:lnTo>
                <a:lnTo>
                  <a:pt x="1154" y="743"/>
                </a:lnTo>
                <a:lnTo>
                  <a:pt x="1160" y="720"/>
                </a:lnTo>
                <a:lnTo>
                  <a:pt x="1166" y="691"/>
                </a:lnTo>
                <a:lnTo>
                  <a:pt x="1172" y="662"/>
                </a:lnTo>
                <a:lnTo>
                  <a:pt x="1172" y="638"/>
                </a:lnTo>
                <a:lnTo>
                  <a:pt x="1178" y="609"/>
                </a:lnTo>
                <a:lnTo>
                  <a:pt x="1178" y="579"/>
                </a:ln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4040280" y="3103560"/>
            <a:ext cx="421200" cy="422640"/>
          </a:xfrm>
          <a:custGeom>
            <a:avLst/>
            <a:gdLst/>
            <a:ahLst/>
            <a:rect l="0" t="0" r="r" b="b"/>
            <a:pathLst>
              <a:path fill="none" w="1170" h="1174">
                <a:moveTo>
                  <a:pt x="1170" y="587"/>
                </a:moveTo>
                <a:lnTo>
                  <a:pt x="1170" y="558"/>
                </a:lnTo>
                <a:lnTo>
                  <a:pt x="1164" y="534"/>
                </a:lnTo>
                <a:lnTo>
                  <a:pt x="1164" y="505"/>
                </a:lnTo>
                <a:lnTo>
                  <a:pt x="1158" y="476"/>
                </a:lnTo>
                <a:lnTo>
                  <a:pt x="1153" y="452"/>
                </a:lnTo>
                <a:lnTo>
                  <a:pt x="1147" y="423"/>
                </a:lnTo>
                <a:lnTo>
                  <a:pt x="1135" y="399"/>
                </a:lnTo>
                <a:lnTo>
                  <a:pt x="1129" y="370"/>
                </a:lnTo>
                <a:lnTo>
                  <a:pt x="1117" y="347"/>
                </a:lnTo>
                <a:lnTo>
                  <a:pt x="1106" y="317"/>
                </a:lnTo>
                <a:lnTo>
                  <a:pt x="1088" y="294"/>
                </a:lnTo>
                <a:lnTo>
                  <a:pt x="1077" y="269"/>
                </a:lnTo>
                <a:lnTo>
                  <a:pt x="1059" y="246"/>
                </a:lnTo>
                <a:lnTo>
                  <a:pt x="1042" y="228"/>
                </a:lnTo>
                <a:lnTo>
                  <a:pt x="1024" y="205"/>
                </a:lnTo>
                <a:lnTo>
                  <a:pt x="1006" y="181"/>
                </a:lnTo>
                <a:lnTo>
                  <a:pt x="989" y="164"/>
                </a:lnTo>
                <a:lnTo>
                  <a:pt x="966" y="146"/>
                </a:lnTo>
                <a:lnTo>
                  <a:pt x="948" y="129"/>
                </a:lnTo>
                <a:lnTo>
                  <a:pt x="925" y="111"/>
                </a:lnTo>
                <a:lnTo>
                  <a:pt x="901" y="93"/>
                </a:lnTo>
                <a:lnTo>
                  <a:pt x="878" y="82"/>
                </a:lnTo>
                <a:lnTo>
                  <a:pt x="854" y="64"/>
                </a:lnTo>
                <a:lnTo>
                  <a:pt x="830" y="52"/>
                </a:lnTo>
                <a:lnTo>
                  <a:pt x="801" y="46"/>
                </a:lnTo>
                <a:lnTo>
                  <a:pt x="778" y="35"/>
                </a:lnTo>
                <a:lnTo>
                  <a:pt x="748" y="23"/>
                </a:lnTo>
                <a:lnTo>
                  <a:pt x="725" y="17"/>
                </a:lnTo>
                <a:lnTo>
                  <a:pt x="696" y="11"/>
                </a:lnTo>
                <a:lnTo>
                  <a:pt x="667" y="5"/>
                </a:lnTo>
                <a:lnTo>
                  <a:pt x="643" y="5"/>
                </a:lnTo>
                <a:lnTo>
                  <a:pt x="614" y="0"/>
                </a:lnTo>
                <a:lnTo>
                  <a:pt x="585" y="0"/>
                </a:lnTo>
                <a:lnTo>
                  <a:pt x="556" y="0"/>
                </a:lnTo>
                <a:lnTo>
                  <a:pt x="532" y="5"/>
                </a:lnTo>
                <a:lnTo>
                  <a:pt x="503" y="5"/>
                </a:lnTo>
                <a:lnTo>
                  <a:pt x="474" y="11"/>
                </a:lnTo>
                <a:lnTo>
                  <a:pt x="450" y="17"/>
                </a:lnTo>
                <a:lnTo>
                  <a:pt x="421" y="23"/>
                </a:lnTo>
                <a:lnTo>
                  <a:pt x="392" y="35"/>
                </a:lnTo>
                <a:lnTo>
                  <a:pt x="369" y="46"/>
                </a:lnTo>
                <a:lnTo>
                  <a:pt x="345" y="52"/>
                </a:lnTo>
                <a:lnTo>
                  <a:pt x="316" y="64"/>
                </a:lnTo>
                <a:lnTo>
                  <a:pt x="293" y="82"/>
                </a:lnTo>
                <a:lnTo>
                  <a:pt x="268" y="93"/>
                </a:lnTo>
                <a:lnTo>
                  <a:pt x="245" y="111"/>
                </a:lnTo>
                <a:lnTo>
                  <a:pt x="222" y="129"/>
                </a:lnTo>
                <a:lnTo>
                  <a:pt x="204" y="146"/>
                </a:lnTo>
                <a:lnTo>
                  <a:pt x="181" y="164"/>
                </a:lnTo>
                <a:lnTo>
                  <a:pt x="163" y="181"/>
                </a:lnTo>
                <a:lnTo>
                  <a:pt x="146" y="205"/>
                </a:lnTo>
                <a:lnTo>
                  <a:pt x="128" y="228"/>
                </a:lnTo>
                <a:lnTo>
                  <a:pt x="111" y="246"/>
                </a:lnTo>
                <a:lnTo>
                  <a:pt x="93" y="269"/>
                </a:lnTo>
                <a:lnTo>
                  <a:pt x="81" y="294"/>
                </a:lnTo>
                <a:lnTo>
                  <a:pt x="64" y="317"/>
                </a:lnTo>
                <a:lnTo>
                  <a:pt x="52" y="347"/>
                </a:lnTo>
                <a:lnTo>
                  <a:pt x="40" y="370"/>
                </a:lnTo>
                <a:lnTo>
                  <a:pt x="35" y="399"/>
                </a:lnTo>
                <a:lnTo>
                  <a:pt x="23" y="423"/>
                </a:lnTo>
                <a:lnTo>
                  <a:pt x="17" y="452"/>
                </a:lnTo>
                <a:lnTo>
                  <a:pt x="11" y="476"/>
                </a:lnTo>
                <a:lnTo>
                  <a:pt x="5" y="505"/>
                </a:lnTo>
                <a:lnTo>
                  <a:pt x="5" y="534"/>
                </a:lnTo>
                <a:lnTo>
                  <a:pt x="5" y="558"/>
                </a:lnTo>
                <a:lnTo>
                  <a:pt x="0" y="587"/>
                </a:lnTo>
                <a:lnTo>
                  <a:pt x="5" y="616"/>
                </a:lnTo>
                <a:lnTo>
                  <a:pt x="5" y="646"/>
                </a:lnTo>
                <a:lnTo>
                  <a:pt x="5" y="669"/>
                </a:lnTo>
                <a:lnTo>
                  <a:pt x="11" y="698"/>
                </a:lnTo>
                <a:lnTo>
                  <a:pt x="17" y="728"/>
                </a:lnTo>
                <a:lnTo>
                  <a:pt x="23" y="751"/>
                </a:lnTo>
                <a:lnTo>
                  <a:pt x="35" y="781"/>
                </a:lnTo>
                <a:lnTo>
                  <a:pt x="40" y="804"/>
                </a:lnTo>
                <a:lnTo>
                  <a:pt x="52" y="833"/>
                </a:lnTo>
                <a:lnTo>
                  <a:pt x="64" y="857"/>
                </a:lnTo>
                <a:lnTo>
                  <a:pt x="81" y="880"/>
                </a:lnTo>
                <a:lnTo>
                  <a:pt x="93" y="905"/>
                </a:lnTo>
                <a:lnTo>
                  <a:pt x="111" y="928"/>
                </a:lnTo>
                <a:lnTo>
                  <a:pt x="128" y="952"/>
                </a:lnTo>
                <a:lnTo>
                  <a:pt x="146" y="975"/>
                </a:lnTo>
                <a:lnTo>
                  <a:pt x="163" y="993"/>
                </a:lnTo>
                <a:lnTo>
                  <a:pt x="181" y="1010"/>
                </a:lnTo>
                <a:lnTo>
                  <a:pt x="204" y="1034"/>
                </a:lnTo>
                <a:lnTo>
                  <a:pt x="222" y="1051"/>
                </a:lnTo>
                <a:lnTo>
                  <a:pt x="245" y="1063"/>
                </a:lnTo>
                <a:lnTo>
                  <a:pt x="268" y="1081"/>
                </a:lnTo>
                <a:lnTo>
                  <a:pt x="293" y="1098"/>
                </a:lnTo>
                <a:lnTo>
                  <a:pt x="316" y="1110"/>
                </a:lnTo>
                <a:lnTo>
                  <a:pt x="345" y="1122"/>
                </a:lnTo>
                <a:lnTo>
                  <a:pt x="369" y="1133"/>
                </a:lnTo>
                <a:lnTo>
                  <a:pt x="392" y="1139"/>
                </a:lnTo>
                <a:lnTo>
                  <a:pt x="421" y="1151"/>
                </a:lnTo>
                <a:lnTo>
                  <a:pt x="450" y="1157"/>
                </a:lnTo>
                <a:lnTo>
                  <a:pt x="474" y="1163"/>
                </a:lnTo>
                <a:lnTo>
                  <a:pt x="503" y="1169"/>
                </a:lnTo>
                <a:lnTo>
                  <a:pt x="532" y="1169"/>
                </a:lnTo>
                <a:lnTo>
                  <a:pt x="556" y="1174"/>
                </a:lnTo>
                <a:lnTo>
                  <a:pt x="585" y="1174"/>
                </a:lnTo>
                <a:lnTo>
                  <a:pt x="614" y="1174"/>
                </a:lnTo>
                <a:lnTo>
                  <a:pt x="643" y="1169"/>
                </a:lnTo>
                <a:lnTo>
                  <a:pt x="667" y="1169"/>
                </a:lnTo>
                <a:lnTo>
                  <a:pt x="696" y="1163"/>
                </a:lnTo>
                <a:lnTo>
                  <a:pt x="725" y="1157"/>
                </a:lnTo>
                <a:lnTo>
                  <a:pt x="748" y="1151"/>
                </a:lnTo>
                <a:lnTo>
                  <a:pt x="778" y="1139"/>
                </a:lnTo>
                <a:lnTo>
                  <a:pt x="801" y="1133"/>
                </a:lnTo>
                <a:lnTo>
                  <a:pt x="830" y="1122"/>
                </a:lnTo>
                <a:lnTo>
                  <a:pt x="854" y="1110"/>
                </a:lnTo>
                <a:lnTo>
                  <a:pt x="878" y="1098"/>
                </a:lnTo>
                <a:lnTo>
                  <a:pt x="901" y="1081"/>
                </a:lnTo>
                <a:lnTo>
                  <a:pt x="925" y="1063"/>
                </a:lnTo>
                <a:lnTo>
                  <a:pt x="948" y="1051"/>
                </a:lnTo>
                <a:lnTo>
                  <a:pt x="966" y="1034"/>
                </a:lnTo>
                <a:lnTo>
                  <a:pt x="989" y="1010"/>
                </a:lnTo>
                <a:lnTo>
                  <a:pt x="1006" y="993"/>
                </a:lnTo>
                <a:lnTo>
                  <a:pt x="1024" y="975"/>
                </a:lnTo>
                <a:lnTo>
                  <a:pt x="1042" y="952"/>
                </a:lnTo>
                <a:lnTo>
                  <a:pt x="1059" y="928"/>
                </a:lnTo>
                <a:lnTo>
                  <a:pt x="1077" y="905"/>
                </a:lnTo>
                <a:lnTo>
                  <a:pt x="1088" y="880"/>
                </a:lnTo>
                <a:lnTo>
                  <a:pt x="1106" y="857"/>
                </a:lnTo>
                <a:lnTo>
                  <a:pt x="1117" y="833"/>
                </a:lnTo>
                <a:lnTo>
                  <a:pt x="1129" y="804"/>
                </a:lnTo>
                <a:lnTo>
                  <a:pt x="1135" y="781"/>
                </a:lnTo>
                <a:lnTo>
                  <a:pt x="1147" y="751"/>
                </a:lnTo>
                <a:lnTo>
                  <a:pt x="1153" y="728"/>
                </a:lnTo>
                <a:lnTo>
                  <a:pt x="1158" y="698"/>
                </a:lnTo>
                <a:lnTo>
                  <a:pt x="1164" y="669"/>
                </a:lnTo>
                <a:lnTo>
                  <a:pt x="1164" y="646"/>
                </a:lnTo>
                <a:lnTo>
                  <a:pt x="1170" y="616"/>
                </a:lnTo>
                <a:lnTo>
                  <a:pt x="1170" y="58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5475240" y="4068720"/>
            <a:ext cx="0" cy="114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 flipH="1" flipV="1">
            <a:off x="4432320" y="4668840"/>
            <a:ext cx="977760" cy="5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4040280" y="4354560"/>
            <a:ext cx="421200" cy="421200"/>
          </a:xfrm>
          <a:custGeom>
            <a:avLst/>
            <a:gdLst/>
            <a:ahLst/>
            <a:rect l="0" t="0" r="r" b="b"/>
            <a:pathLst>
              <a:path fill="none" w="1170" h="1170">
                <a:moveTo>
                  <a:pt x="1170" y="585"/>
                </a:moveTo>
                <a:lnTo>
                  <a:pt x="1170" y="556"/>
                </a:lnTo>
                <a:lnTo>
                  <a:pt x="1164" y="532"/>
                </a:lnTo>
                <a:lnTo>
                  <a:pt x="1164" y="503"/>
                </a:lnTo>
                <a:lnTo>
                  <a:pt x="1158" y="474"/>
                </a:lnTo>
                <a:lnTo>
                  <a:pt x="1153" y="450"/>
                </a:lnTo>
                <a:lnTo>
                  <a:pt x="1147" y="421"/>
                </a:lnTo>
                <a:lnTo>
                  <a:pt x="1135" y="398"/>
                </a:lnTo>
                <a:lnTo>
                  <a:pt x="1129" y="369"/>
                </a:lnTo>
                <a:lnTo>
                  <a:pt x="1117" y="345"/>
                </a:lnTo>
                <a:lnTo>
                  <a:pt x="1106" y="322"/>
                </a:lnTo>
                <a:lnTo>
                  <a:pt x="1088" y="293"/>
                </a:lnTo>
                <a:lnTo>
                  <a:pt x="1077" y="268"/>
                </a:lnTo>
                <a:lnTo>
                  <a:pt x="1059" y="245"/>
                </a:lnTo>
                <a:lnTo>
                  <a:pt x="1042" y="227"/>
                </a:lnTo>
                <a:lnTo>
                  <a:pt x="1024" y="204"/>
                </a:lnTo>
                <a:lnTo>
                  <a:pt x="1006" y="181"/>
                </a:lnTo>
                <a:lnTo>
                  <a:pt x="989" y="163"/>
                </a:lnTo>
                <a:lnTo>
                  <a:pt x="966" y="146"/>
                </a:lnTo>
                <a:lnTo>
                  <a:pt x="948" y="128"/>
                </a:lnTo>
                <a:lnTo>
                  <a:pt x="925" y="111"/>
                </a:lnTo>
                <a:lnTo>
                  <a:pt x="901" y="93"/>
                </a:lnTo>
                <a:lnTo>
                  <a:pt x="878" y="81"/>
                </a:lnTo>
                <a:lnTo>
                  <a:pt x="854" y="64"/>
                </a:lnTo>
                <a:lnTo>
                  <a:pt x="830" y="52"/>
                </a:lnTo>
                <a:lnTo>
                  <a:pt x="801" y="46"/>
                </a:lnTo>
                <a:lnTo>
                  <a:pt x="778" y="35"/>
                </a:lnTo>
                <a:lnTo>
                  <a:pt x="748" y="23"/>
                </a:lnTo>
                <a:lnTo>
                  <a:pt x="725" y="17"/>
                </a:lnTo>
                <a:lnTo>
                  <a:pt x="696" y="11"/>
                </a:lnTo>
                <a:lnTo>
                  <a:pt x="667" y="5"/>
                </a:lnTo>
                <a:lnTo>
                  <a:pt x="643" y="5"/>
                </a:lnTo>
                <a:lnTo>
                  <a:pt x="614" y="0"/>
                </a:lnTo>
                <a:lnTo>
                  <a:pt x="585" y="0"/>
                </a:lnTo>
                <a:lnTo>
                  <a:pt x="556" y="0"/>
                </a:lnTo>
                <a:lnTo>
                  <a:pt x="532" y="5"/>
                </a:lnTo>
                <a:lnTo>
                  <a:pt x="503" y="5"/>
                </a:lnTo>
                <a:lnTo>
                  <a:pt x="474" y="11"/>
                </a:lnTo>
                <a:lnTo>
                  <a:pt x="450" y="17"/>
                </a:lnTo>
                <a:lnTo>
                  <a:pt x="421" y="23"/>
                </a:lnTo>
                <a:lnTo>
                  <a:pt x="392" y="35"/>
                </a:lnTo>
                <a:lnTo>
                  <a:pt x="369" y="46"/>
                </a:lnTo>
                <a:lnTo>
                  <a:pt x="345" y="52"/>
                </a:lnTo>
                <a:lnTo>
                  <a:pt x="316" y="64"/>
                </a:lnTo>
                <a:lnTo>
                  <a:pt x="293" y="81"/>
                </a:lnTo>
                <a:lnTo>
                  <a:pt x="268" y="93"/>
                </a:lnTo>
                <a:lnTo>
                  <a:pt x="245" y="111"/>
                </a:lnTo>
                <a:lnTo>
                  <a:pt x="222" y="128"/>
                </a:lnTo>
                <a:lnTo>
                  <a:pt x="204" y="146"/>
                </a:lnTo>
                <a:lnTo>
                  <a:pt x="181" y="163"/>
                </a:lnTo>
                <a:lnTo>
                  <a:pt x="163" y="181"/>
                </a:lnTo>
                <a:lnTo>
                  <a:pt x="146" y="204"/>
                </a:lnTo>
                <a:lnTo>
                  <a:pt x="128" y="227"/>
                </a:lnTo>
                <a:lnTo>
                  <a:pt x="111" y="245"/>
                </a:lnTo>
                <a:lnTo>
                  <a:pt x="93" y="268"/>
                </a:lnTo>
                <a:lnTo>
                  <a:pt x="81" y="293"/>
                </a:lnTo>
                <a:lnTo>
                  <a:pt x="64" y="322"/>
                </a:lnTo>
                <a:lnTo>
                  <a:pt x="52" y="345"/>
                </a:lnTo>
                <a:lnTo>
                  <a:pt x="40" y="369"/>
                </a:lnTo>
                <a:lnTo>
                  <a:pt x="35" y="398"/>
                </a:lnTo>
                <a:lnTo>
                  <a:pt x="23" y="421"/>
                </a:lnTo>
                <a:lnTo>
                  <a:pt x="17" y="450"/>
                </a:lnTo>
                <a:lnTo>
                  <a:pt x="11" y="474"/>
                </a:lnTo>
                <a:lnTo>
                  <a:pt x="5" y="503"/>
                </a:lnTo>
                <a:lnTo>
                  <a:pt x="5" y="532"/>
                </a:lnTo>
                <a:lnTo>
                  <a:pt x="5" y="556"/>
                </a:lnTo>
                <a:lnTo>
                  <a:pt x="0" y="585"/>
                </a:lnTo>
                <a:lnTo>
                  <a:pt x="5" y="614"/>
                </a:lnTo>
                <a:lnTo>
                  <a:pt x="5" y="643"/>
                </a:lnTo>
                <a:lnTo>
                  <a:pt x="5" y="667"/>
                </a:lnTo>
                <a:lnTo>
                  <a:pt x="11" y="696"/>
                </a:lnTo>
                <a:lnTo>
                  <a:pt x="17" y="725"/>
                </a:lnTo>
                <a:lnTo>
                  <a:pt x="23" y="748"/>
                </a:lnTo>
                <a:lnTo>
                  <a:pt x="35" y="778"/>
                </a:lnTo>
                <a:lnTo>
                  <a:pt x="40" y="801"/>
                </a:lnTo>
                <a:lnTo>
                  <a:pt x="52" y="830"/>
                </a:lnTo>
                <a:lnTo>
                  <a:pt x="64" y="854"/>
                </a:lnTo>
                <a:lnTo>
                  <a:pt x="81" y="878"/>
                </a:lnTo>
                <a:lnTo>
                  <a:pt x="93" y="901"/>
                </a:lnTo>
                <a:lnTo>
                  <a:pt x="111" y="925"/>
                </a:lnTo>
                <a:lnTo>
                  <a:pt x="128" y="948"/>
                </a:lnTo>
                <a:lnTo>
                  <a:pt x="146" y="971"/>
                </a:lnTo>
                <a:lnTo>
                  <a:pt x="163" y="989"/>
                </a:lnTo>
                <a:lnTo>
                  <a:pt x="181" y="1006"/>
                </a:lnTo>
                <a:lnTo>
                  <a:pt x="204" y="1030"/>
                </a:lnTo>
                <a:lnTo>
                  <a:pt x="222" y="1047"/>
                </a:lnTo>
                <a:lnTo>
                  <a:pt x="245" y="1059"/>
                </a:lnTo>
                <a:lnTo>
                  <a:pt x="268" y="1077"/>
                </a:lnTo>
                <a:lnTo>
                  <a:pt x="293" y="1094"/>
                </a:lnTo>
                <a:lnTo>
                  <a:pt x="316" y="1106"/>
                </a:lnTo>
                <a:lnTo>
                  <a:pt x="345" y="1117"/>
                </a:lnTo>
                <a:lnTo>
                  <a:pt x="369" y="1129"/>
                </a:lnTo>
                <a:lnTo>
                  <a:pt x="392" y="1135"/>
                </a:lnTo>
                <a:lnTo>
                  <a:pt x="421" y="1147"/>
                </a:lnTo>
                <a:lnTo>
                  <a:pt x="450" y="1153"/>
                </a:lnTo>
                <a:lnTo>
                  <a:pt x="474" y="1158"/>
                </a:lnTo>
                <a:lnTo>
                  <a:pt x="503" y="1164"/>
                </a:lnTo>
                <a:lnTo>
                  <a:pt x="532" y="1164"/>
                </a:lnTo>
                <a:lnTo>
                  <a:pt x="556" y="1170"/>
                </a:lnTo>
                <a:lnTo>
                  <a:pt x="585" y="1170"/>
                </a:lnTo>
                <a:lnTo>
                  <a:pt x="614" y="1170"/>
                </a:lnTo>
                <a:lnTo>
                  <a:pt x="643" y="1164"/>
                </a:lnTo>
                <a:lnTo>
                  <a:pt x="667" y="1164"/>
                </a:lnTo>
                <a:lnTo>
                  <a:pt x="696" y="1158"/>
                </a:lnTo>
                <a:lnTo>
                  <a:pt x="725" y="1153"/>
                </a:lnTo>
                <a:lnTo>
                  <a:pt x="748" y="1147"/>
                </a:lnTo>
                <a:lnTo>
                  <a:pt x="778" y="1135"/>
                </a:lnTo>
                <a:lnTo>
                  <a:pt x="801" y="1129"/>
                </a:lnTo>
                <a:lnTo>
                  <a:pt x="830" y="1117"/>
                </a:lnTo>
                <a:lnTo>
                  <a:pt x="854" y="1106"/>
                </a:lnTo>
                <a:lnTo>
                  <a:pt x="878" y="1094"/>
                </a:lnTo>
                <a:lnTo>
                  <a:pt x="901" y="1077"/>
                </a:lnTo>
                <a:lnTo>
                  <a:pt x="925" y="1059"/>
                </a:lnTo>
                <a:lnTo>
                  <a:pt x="948" y="1047"/>
                </a:lnTo>
                <a:lnTo>
                  <a:pt x="966" y="1030"/>
                </a:lnTo>
                <a:lnTo>
                  <a:pt x="989" y="1006"/>
                </a:lnTo>
                <a:lnTo>
                  <a:pt x="1006" y="989"/>
                </a:lnTo>
                <a:lnTo>
                  <a:pt x="1024" y="971"/>
                </a:lnTo>
                <a:lnTo>
                  <a:pt x="1042" y="948"/>
                </a:lnTo>
                <a:lnTo>
                  <a:pt x="1059" y="925"/>
                </a:lnTo>
                <a:lnTo>
                  <a:pt x="1077" y="901"/>
                </a:lnTo>
                <a:lnTo>
                  <a:pt x="1088" y="878"/>
                </a:lnTo>
                <a:lnTo>
                  <a:pt x="1106" y="854"/>
                </a:lnTo>
                <a:lnTo>
                  <a:pt x="1117" y="830"/>
                </a:lnTo>
                <a:lnTo>
                  <a:pt x="1129" y="801"/>
                </a:lnTo>
                <a:lnTo>
                  <a:pt x="1135" y="778"/>
                </a:lnTo>
                <a:lnTo>
                  <a:pt x="1147" y="748"/>
                </a:lnTo>
                <a:lnTo>
                  <a:pt x="1153" y="725"/>
                </a:lnTo>
                <a:lnTo>
                  <a:pt x="1158" y="696"/>
                </a:lnTo>
                <a:lnTo>
                  <a:pt x="1164" y="667"/>
                </a:lnTo>
                <a:lnTo>
                  <a:pt x="1164" y="643"/>
                </a:lnTo>
                <a:lnTo>
                  <a:pt x="1170" y="614"/>
                </a:lnTo>
                <a:lnTo>
                  <a:pt x="1170" y="58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 flipH="1" flipV="1">
            <a:off x="6073920" y="4500720"/>
            <a:ext cx="241200" cy="241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 flipH="1">
            <a:off x="6073920" y="4500720"/>
            <a:ext cx="241200" cy="241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5079960" y="3322800"/>
            <a:ext cx="1572120" cy="2481480"/>
          </a:xfrm>
          <a:custGeom>
            <a:avLst/>
            <a:gdLst/>
            <a:ahLst/>
            <a:rect l="0" t="0" r="r" b="b"/>
            <a:pathLst>
              <a:path fill="none" w="4367" h="6893">
                <a:moveTo>
                  <a:pt x="0" y="6893"/>
                </a:moveTo>
                <a:lnTo>
                  <a:pt x="0" y="0"/>
                </a:lnTo>
                <a:lnTo>
                  <a:pt x="4367" y="0"/>
                </a:lnTo>
                <a:lnTo>
                  <a:pt x="4367" y="6893"/>
                </a:lnTo>
                <a:lnTo>
                  <a:pt x="0" y="689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 flipH="1" flipV="1">
            <a:off x="5356080" y="5127480"/>
            <a:ext cx="239760" cy="2397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 flipH="1">
            <a:off x="5356080" y="5127480"/>
            <a:ext cx="239760" cy="2397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 flipH="1" flipV="1">
            <a:off x="4917960" y="4222800"/>
            <a:ext cx="1227240" cy="398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 flipH="1" flipV="1">
            <a:off x="4432320" y="3419640"/>
            <a:ext cx="977760" cy="569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4040280" y="4564080"/>
            <a:ext cx="420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4505400" y="3946680"/>
            <a:ext cx="422640" cy="422640"/>
          </a:xfrm>
          <a:custGeom>
            <a:avLst/>
            <a:gdLst/>
            <a:ahLst/>
            <a:rect l="0" t="0" r="r" b="b"/>
            <a:pathLst>
              <a:path fill="none" w="1174" h="1174">
                <a:moveTo>
                  <a:pt x="1174" y="587"/>
                </a:moveTo>
                <a:lnTo>
                  <a:pt x="1169" y="558"/>
                </a:lnTo>
                <a:lnTo>
                  <a:pt x="1169" y="528"/>
                </a:lnTo>
                <a:lnTo>
                  <a:pt x="1163" y="505"/>
                </a:lnTo>
                <a:lnTo>
                  <a:pt x="1163" y="476"/>
                </a:lnTo>
                <a:lnTo>
                  <a:pt x="1157" y="446"/>
                </a:lnTo>
                <a:lnTo>
                  <a:pt x="1151" y="423"/>
                </a:lnTo>
                <a:lnTo>
                  <a:pt x="1139" y="393"/>
                </a:lnTo>
                <a:lnTo>
                  <a:pt x="1128" y="370"/>
                </a:lnTo>
                <a:lnTo>
                  <a:pt x="1116" y="341"/>
                </a:lnTo>
                <a:lnTo>
                  <a:pt x="1104" y="317"/>
                </a:lnTo>
                <a:lnTo>
                  <a:pt x="1092" y="294"/>
                </a:lnTo>
                <a:lnTo>
                  <a:pt x="1081" y="269"/>
                </a:lnTo>
                <a:lnTo>
                  <a:pt x="1063" y="246"/>
                </a:lnTo>
                <a:lnTo>
                  <a:pt x="1045" y="222"/>
                </a:lnTo>
                <a:lnTo>
                  <a:pt x="1028" y="199"/>
                </a:lnTo>
                <a:lnTo>
                  <a:pt x="1010" y="181"/>
                </a:lnTo>
                <a:lnTo>
                  <a:pt x="993" y="158"/>
                </a:lnTo>
                <a:lnTo>
                  <a:pt x="969" y="140"/>
                </a:lnTo>
                <a:lnTo>
                  <a:pt x="946" y="123"/>
                </a:lnTo>
                <a:lnTo>
                  <a:pt x="928" y="105"/>
                </a:lnTo>
                <a:lnTo>
                  <a:pt x="905" y="93"/>
                </a:lnTo>
                <a:lnTo>
                  <a:pt x="880" y="76"/>
                </a:lnTo>
                <a:lnTo>
                  <a:pt x="857" y="64"/>
                </a:lnTo>
                <a:lnTo>
                  <a:pt x="827" y="52"/>
                </a:lnTo>
                <a:lnTo>
                  <a:pt x="804" y="41"/>
                </a:lnTo>
                <a:lnTo>
                  <a:pt x="775" y="29"/>
                </a:lnTo>
                <a:lnTo>
                  <a:pt x="751" y="23"/>
                </a:lnTo>
                <a:lnTo>
                  <a:pt x="722" y="17"/>
                </a:lnTo>
                <a:lnTo>
                  <a:pt x="698" y="11"/>
                </a:lnTo>
                <a:lnTo>
                  <a:pt x="669" y="5"/>
                </a:lnTo>
                <a:lnTo>
                  <a:pt x="640" y="0"/>
                </a:lnTo>
                <a:lnTo>
                  <a:pt x="616" y="0"/>
                </a:lnTo>
                <a:lnTo>
                  <a:pt x="587" y="0"/>
                </a:lnTo>
                <a:lnTo>
                  <a:pt x="558" y="0"/>
                </a:lnTo>
                <a:lnTo>
                  <a:pt x="528" y="0"/>
                </a:lnTo>
                <a:lnTo>
                  <a:pt x="505" y="5"/>
                </a:lnTo>
                <a:lnTo>
                  <a:pt x="476" y="11"/>
                </a:lnTo>
                <a:lnTo>
                  <a:pt x="446" y="17"/>
                </a:lnTo>
                <a:lnTo>
                  <a:pt x="423" y="23"/>
                </a:lnTo>
                <a:lnTo>
                  <a:pt x="393" y="29"/>
                </a:lnTo>
                <a:lnTo>
                  <a:pt x="370" y="41"/>
                </a:lnTo>
                <a:lnTo>
                  <a:pt x="341" y="52"/>
                </a:lnTo>
                <a:lnTo>
                  <a:pt x="317" y="64"/>
                </a:lnTo>
                <a:lnTo>
                  <a:pt x="294" y="76"/>
                </a:lnTo>
                <a:lnTo>
                  <a:pt x="269" y="93"/>
                </a:lnTo>
                <a:lnTo>
                  <a:pt x="246" y="105"/>
                </a:lnTo>
                <a:lnTo>
                  <a:pt x="222" y="123"/>
                </a:lnTo>
                <a:lnTo>
                  <a:pt x="205" y="140"/>
                </a:lnTo>
                <a:lnTo>
                  <a:pt x="181" y="158"/>
                </a:lnTo>
                <a:lnTo>
                  <a:pt x="164" y="181"/>
                </a:lnTo>
                <a:lnTo>
                  <a:pt x="140" y="199"/>
                </a:lnTo>
                <a:lnTo>
                  <a:pt x="123" y="222"/>
                </a:lnTo>
                <a:lnTo>
                  <a:pt x="111" y="246"/>
                </a:lnTo>
                <a:lnTo>
                  <a:pt x="93" y="269"/>
                </a:lnTo>
                <a:lnTo>
                  <a:pt x="82" y="294"/>
                </a:lnTo>
                <a:lnTo>
                  <a:pt x="64" y="317"/>
                </a:lnTo>
                <a:lnTo>
                  <a:pt x="52" y="341"/>
                </a:lnTo>
                <a:lnTo>
                  <a:pt x="41" y="370"/>
                </a:lnTo>
                <a:lnTo>
                  <a:pt x="35" y="393"/>
                </a:lnTo>
                <a:lnTo>
                  <a:pt x="23" y="423"/>
                </a:lnTo>
                <a:lnTo>
                  <a:pt x="17" y="446"/>
                </a:lnTo>
                <a:lnTo>
                  <a:pt x="11" y="476"/>
                </a:lnTo>
                <a:lnTo>
                  <a:pt x="5" y="505"/>
                </a:lnTo>
                <a:lnTo>
                  <a:pt x="0" y="528"/>
                </a:lnTo>
                <a:lnTo>
                  <a:pt x="0" y="558"/>
                </a:lnTo>
                <a:lnTo>
                  <a:pt x="0" y="587"/>
                </a:lnTo>
                <a:lnTo>
                  <a:pt x="0" y="610"/>
                </a:lnTo>
                <a:lnTo>
                  <a:pt x="0" y="640"/>
                </a:lnTo>
                <a:lnTo>
                  <a:pt x="5" y="669"/>
                </a:lnTo>
                <a:lnTo>
                  <a:pt x="11" y="698"/>
                </a:lnTo>
                <a:lnTo>
                  <a:pt x="17" y="722"/>
                </a:lnTo>
                <a:lnTo>
                  <a:pt x="23" y="751"/>
                </a:lnTo>
                <a:lnTo>
                  <a:pt x="35" y="775"/>
                </a:lnTo>
                <a:lnTo>
                  <a:pt x="41" y="804"/>
                </a:lnTo>
                <a:lnTo>
                  <a:pt x="52" y="827"/>
                </a:lnTo>
                <a:lnTo>
                  <a:pt x="64" y="851"/>
                </a:lnTo>
                <a:lnTo>
                  <a:pt x="82" y="880"/>
                </a:lnTo>
                <a:lnTo>
                  <a:pt x="93" y="905"/>
                </a:lnTo>
                <a:lnTo>
                  <a:pt x="111" y="928"/>
                </a:lnTo>
                <a:lnTo>
                  <a:pt x="123" y="946"/>
                </a:lnTo>
                <a:lnTo>
                  <a:pt x="140" y="969"/>
                </a:lnTo>
                <a:lnTo>
                  <a:pt x="164" y="993"/>
                </a:lnTo>
                <a:lnTo>
                  <a:pt x="181" y="1010"/>
                </a:lnTo>
                <a:lnTo>
                  <a:pt x="205" y="1028"/>
                </a:lnTo>
                <a:lnTo>
                  <a:pt x="222" y="1045"/>
                </a:lnTo>
                <a:lnTo>
                  <a:pt x="246" y="1063"/>
                </a:lnTo>
                <a:lnTo>
                  <a:pt x="269" y="1081"/>
                </a:lnTo>
                <a:lnTo>
                  <a:pt x="294" y="1092"/>
                </a:lnTo>
                <a:lnTo>
                  <a:pt x="317" y="1104"/>
                </a:lnTo>
                <a:lnTo>
                  <a:pt x="341" y="1122"/>
                </a:lnTo>
                <a:lnTo>
                  <a:pt x="370" y="1128"/>
                </a:lnTo>
                <a:lnTo>
                  <a:pt x="393" y="1139"/>
                </a:lnTo>
                <a:lnTo>
                  <a:pt x="423" y="1151"/>
                </a:lnTo>
                <a:lnTo>
                  <a:pt x="446" y="1157"/>
                </a:lnTo>
                <a:lnTo>
                  <a:pt x="476" y="1163"/>
                </a:lnTo>
                <a:lnTo>
                  <a:pt x="505" y="1163"/>
                </a:lnTo>
                <a:lnTo>
                  <a:pt x="528" y="1169"/>
                </a:lnTo>
                <a:lnTo>
                  <a:pt x="558" y="1169"/>
                </a:lnTo>
                <a:lnTo>
                  <a:pt x="587" y="1174"/>
                </a:lnTo>
                <a:lnTo>
                  <a:pt x="616" y="1169"/>
                </a:lnTo>
                <a:lnTo>
                  <a:pt x="640" y="1169"/>
                </a:lnTo>
                <a:lnTo>
                  <a:pt x="669" y="1163"/>
                </a:lnTo>
                <a:lnTo>
                  <a:pt x="698" y="1163"/>
                </a:lnTo>
                <a:lnTo>
                  <a:pt x="722" y="1157"/>
                </a:lnTo>
                <a:lnTo>
                  <a:pt x="751" y="1151"/>
                </a:lnTo>
                <a:lnTo>
                  <a:pt x="775" y="1139"/>
                </a:lnTo>
                <a:lnTo>
                  <a:pt x="804" y="1128"/>
                </a:lnTo>
                <a:lnTo>
                  <a:pt x="827" y="1122"/>
                </a:lnTo>
                <a:lnTo>
                  <a:pt x="857" y="1104"/>
                </a:lnTo>
                <a:lnTo>
                  <a:pt x="880" y="1092"/>
                </a:lnTo>
                <a:lnTo>
                  <a:pt x="905" y="1081"/>
                </a:lnTo>
                <a:lnTo>
                  <a:pt x="928" y="1063"/>
                </a:lnTo>
                <a:lnTo>
                  <a:pt x="946" y="1045"/>
                </a:lnTo>
                <a:lnTo>
                  <a:pt x="969" y="1028"/>
                </a:lnTo>
                <a:lnTo>
                  <a:pt x="993" y="1010"/>
                </a:lnTo>
                <a:lnTo>
                  <a:pt x="1010" y="993"/>
                </a:lnTo>
                <a:lnTo>
                  <a:pt x="1028" y="969"/>
                </a:lnTo>
                <a:lnTo>
                  <a:pt x="1045" y="946"/>
                </a:lnTo>
                <a:lnTo>
                  <a:pt x="1063" y="928"/>
                </a:lnTo>
                <a:lnTo>
                  <a:pt x="1081" y="905"/>
                </a:lnTo>
                <a:lnTo>
                  <a:pt x="1092" y="880"/>
                </a:lnTo>
                <a:lnTo>
                  <a:pt x="1104" y="851"/>
                </a:lnTo>
                <a:lnTo>
                  <a:pt x="1116" y="827"/>
                </a:lnTo>
                <a:lnTo>
                  <a:pt x="1128" y="804"/>
                </a:lnTo>
                <a:lnTo>
                  <a:pt x="1139" y="775"/>
                </a:lnTo>
                <a:lnTo>
                  <a:pt x="1151" y="751"/>
                </a:lnTo>
                <a:lnTo>
                  <a:pt x="1157" y="722"/>
                </a:lnTo>
                <a:lnTo>
                  <a:pt x="1163" y="698"/>
                </a:lnTo>
                <a:lnTo>
                  <a:pt x="1163" y="669"/>
                </a:lnTo>
                <a:lnTo>
                  <a:pt x="1169" y="640"/>
                </a:lnTo>
                <a:lnTo>
                  <a:pt x="1169" y="610"/>
                </a:lnTo>
                <a:lnTo>
                  <a:pt x="1174" y="58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4505400" y="4157640"/>
            <a:ext cx="422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4040280" y="3314880"/>
            <a:ext cx="420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5475240" y="3357720"/>
            <a:ext cx="0" cy="614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 flipH="1" flipV="1">
            <a:off x="5356080" y="3875040"/>
            <a:ext cx="239760" cy="241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 flipH="1">
            <a:off x="5356080" y="3875040"/>
            <a:ext cx="239760" cy="241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H="1" flipV="1">
            <a:off x="5356080" y="3201840"/>
            <a:ext cx="239760" cy="24156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H="1">
            <a:off x="5356080" y="3201840"/>
            <a:ext cx="239760" cy="24156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4408560" y="2751120"/>
            <a:ext cx="356040" cy="224280"/>
          </a:xfrm>
          <a:custGeom>
            <a:avLst/>
            <a:gdLst/>
            <a:ahLst/>
            <a:rect l="0" t="0" r="r" b="b"/>
            <a:pathLst>
              <a:path fill="none" w="989" h="623">
                <a:moveTo>
                  <a:pt x="0" y="623"/>
                </a:moveTo>
                <a:lnTo>
                  <a:pt x="0" y="0"/>
                </a:lnTo>
                <a:lnTo>
                  <a:pt x="989" y="0"/>
                </a:lnTo>
                <a:lnTo>
                  <a:pt x="989" y="623"/>
                </a:lnTo>
                <a:lnTo>
                  <a:pt x="0" y="62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5877000" y="3043080"/>
            <a:ext cx="841320" cy="0"/>
          </a:xfrm>
          <a:custGeom>
            <a:avLst/>
            <a:gdLst/>
            <a:ahLst/>
            <a:rect l="0" t="0" r="r" b="b"/>
            <a:pathLst>
              <a:path fill="none" w="2337" h="0">
                <a:moveTo>
                  <a:pt x="0" y="0"/>
                </a:moveTo>
                <a:lnTo>
                  <a:pt x="1171" y="0"/>
                </a:lnTo>
                <a:lnTo>
                  <a:pt x="2337" y="0"/>
                </a:ln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>
            <a:off x="7078680" y="2805120"/>
            <a:ext cx="241560" cy="238320"/>
          </a:xfrm>
          <a:custGeom>
            <a:avLst/>
            <a:gdLst/>
            <a:ahLst/>
            <a:rect l="0" t="0" r="r" b="b"/>
            <a:pathLst>
              <a:path fill="none" w="671" h="662">
                <a:moveTo>
                  <a:pt x="0" y="662"/>
                </a:moveTo>
                <a:lnTo>
                  <a:pt x="0" y="0"/>
                </a:lnTo>
                <a:lnTo>
                  <a:pt x="671" y="0"/>
                </a:lnTo>
                <a:lnTo>
                  <a:pt x="671" y="662"/>
                </a:lnTo>
                <a:lnTo>
                  <a:pt x="0" y="662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>
            <a:off x="5527800" y="525132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>
            <a:off x="5527800" y="4000680"/>
            <a:ext cx="1888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>
            <a:off x="7310520" y="3848040"/>
            <a:ext cx="51120" cy="152640"/>
          </a:xfrm>
          <a:custGeom>
            <a:avLst/>
            <a:gdLst/>
            <a:ahLst/>
            <a:rect l="0" t="0" r="r" b="b"/>
            <a:pathLst>
              <a:path w="142" h="424">
                <a:moveTo>
                  <a:pt x="0" y="0"/>
                </a:moveTo>
                <a:lnTo>
                  <a:pt x="142" y="0"/>
                </a:lnTo>
                <a:lnTo>
                  <a:pt x="70" y="4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>
            <a:off x="7648560" y="4086360"/>
            <a:ext cx="302040" cy="184680"/>
          </a:xfrm>
          <a:custGeom>
            <a:avLst/>
            <a:gdLst/>
            <a:ahLst/>
            <a:rect l="0" t="0" r="r" b="b"/>
            <a:pathLst>
              <a:path fill="none" w="839" h="513">
                <a:moveTo>
                  <a:pt x="0" y="513"/>
                </a:moveTo>
                <a:lnTo>
                  <a:pt x="0" y="0"/>
                </a:lnTo>
                <a:lnTo>
                  <a:pt x="839" y="0"/>
                </a:lnTo>
                <a:lnTo>
                  <a:pt x="839" y="513"/>
                </a:lnTo>
                <a:lnTo>
                  <a:pt x="0" y="51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7772400" y="4470480"/>
            <a:ext cx="49680" cy="155880"/>
          </a:xfrm>
          <a:custGeom>
            <a:avLst/>
            <a:gdLst/>
            <a:ahLst/>
            <a:rect l="0" t="0" r="r" b="b"/>
            <a:pathLst>
              <a:path w="138" h="433">
                <a:moveTo>
                  <a:pt x="0" y="0"/>
                </a:moveTo>
                <a:lnTo>
                  <a:pt x="138" y="0"/>
                </a:lnTo>
                <a:lnTo>
                  <a:pt x="69" y="43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"/>
          <p:cNvSpPr/>
          <p:nvPr/>
        </p:nvSpPr>
        <p:spPr>
          <a:xfrm flipV="1">
            <a:off x="7796160" y="4270320"/>
            <a:ext cx="0" cy="2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"/>
          <p:cNvSpPr/>
          <p:nvPr/>
        </p:nvSpPr>
        <p:spPr>
          <a:xfrm>
            <a:off x="7772400" y="3344760"/>
            <a:ext cx="49680" cy="157680"/>
          </a:xfrm>
          <a:custGeom>
            <a:avLst/>
            <a:gdLst/>
            <a:ahLst/>
            <a:rect l="0" t="0" r="r" b="b"/>
            <a:pathLst>
              <a:path w="138" h="438">
                <a:moveTo>
                  <a:pt x="0" y="438"/>
                </a:moveTo>
                <a:lnTo>
                  <a:pt x="138" y="438"/>
                </a:lnTo>
                <a:lnTo>
                  <a:pt x="69" y="0"/>
                </a:lnTo>
                <a:lnTo>
                  <a:pt x="0" y="43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"/>
          <p:cNvSpPr/>
          <p:nvPr/>
        </p:nvSpPr>
        <p:spPr>
          <a:xfrm>
            <a:off x="7796160" y="3451320"/>
            <a:ext cx="0" cy="631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"/>
          <p:cNvSpPr/>
          <p:nvPr/>
        </p:nvSpPr>
        <p:spPr>
          <a:xfrm flipV="1">
            <a:off x="7337520" y="377208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"/>
          <p:cNvSpPr/>
          <p:nvPr/>
        </p:nvSpPr>
        <p:spPr>
          <a:xfrm>
            <a:off x="7310520" y="3327480"/>
            <a:ext cx="51120" cy="155880"/>
          </a:xfrm>
          <a:custGeom>
            <a:avLst/>
            <a:gdLst/>
            <a:ahLst/>
            <a:rect l="0" t="0" r="r" b="b"/>
            <a:pathLst>
              <a:path w="142" h="433">
                <a:moveTo>
                  <a:pt x="0" y="433"/>
                </a:moveTo>
                <a:lnTo>
                  <a:pt x="142" y="433"/>
                </a:lnTo>
                <a:lnTo>
                  <a:pt x="70" y="0"/>
                </a:lnTo>
                <a:lnTo>
                  <a:pt x="0" y="43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"/>
          <p:cNvSpPr/>
          <p:nvPr/>
        </p:nvSpPr>
        <p:spPr>
          <a:xfrm>
            <a:off x="7192800" y="4854600"/>
            <a:ext cx="302040" cy="187560"/>
          </a:xfrm>
          <a:custGeom>
            <a:avLst/>
            <a:gdLst/>
            <a:ahLst/>
            <a:rect l="0" t="0" r="r" b="b"/>
            <a:pathLst>
              <a:path fill="none" w="839" h="521">
                <a:moveTo>
                  <a:pt x="0" y="521"/>
                </a:moveTo>
                <a:lnTo>
                  <a:pt x="0" y="0"/>
                </a:lnTo>
                <a:lnTo>
                  <a:pt x="839" y="0"/>
                </a:lnTo>
                <a:lnTo>
                  <a:pt x="839" y="521"/>
                </a:lnTo>
                <a:lnTo>
                  <a:pt x="0" y="52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"/>
          <p:cNvSpPr/>
          <p:nvPr/>
        </p:nvSpPr>
        <p:spPr>
          <a:xfrm>
            <a:off x="6248520" y="4626000"/>
            <a:ext cx="1649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"/>
          <p:cNvSpPr/>
          <p:nvPr/>
        </p:nvSpPr>
        <p:spPr>
          <a:xfrm>
            <a:off x="7188120" y="3557520"/>
            <a:ext cx="330480" cy="214560"/>
          </a:xfrm>
          <a:custGeom>
            <a:avLst/>
            <a:gdLst/>
            <a:ahLst/>
            <a:rect l="0" t="0" r="r" b="b"/>
            <a:pathLst>
              <a:path fill="none" w="918" h="596">
                <a:moveTo>
                  <a:pt x="0" y="596"/>
                </a:moveTo>
                <a:lnTo>
                  <a:pt x="0" y="0"/>
                </a:lnTo>
                <a:lnTo>
                  <a:pt x="918" y="0"/>
                </a:lnTo>
                <a:lnTo>
                  <a:pt x="918" y="596"/>
                </a:lnTo>
                <a:lnTo>
                  <a:pt x="0" y="596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"/>
          <p:cNvSpPr/>
          <p:nvPr/>
        </p:nvSpPr>
        <p:spPr>
          <a:xfrm>
            <a:off x="7311960" y="4003560"/>
            <a:ext cx="51120" cy="154440"/>
          </a:xfrm>
          <a:custGeom>
            <a:avLst/>
            <a:gdLst/>
            <a:ahLst/>
            <a:rect l="0" t="0" r="r" b="b"/>
            <a:pathLst>
              <a:path w="142" h="429">
                <a:moveTo>
                  <a:pt x="0" y="429"/>
                </a:moveTo>
                <a:lnTo>
                  <a:pt x="142" y="429"/>
                </a:lnTo>
                <a:lnTo>
                  <a:pt x="70" y="0"/>
                </a:lnTo>
                <a:lnTo>
                  <a:pt x="0" y="42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"/>
          <p:cNvSpPr/>
          <p:nvPr/>
        </p:nvSpPr>
        <p:spPr>
          <a:xfrm flipV="1">
            <a:off x="7327800" y="5041800"/>
            <a:ext cx="0" cy="5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"/>
          <p:cNvSpPr/>
          <p:nvPr/>
        </p:nvSpPr>
        <p:spPr>
          <a:xfrm>
            <a:off x="7311960" y="5095800"/>
            <a:ext cx="51120" cy="155880"/>
          </a:xfrm>
          <a:custGeom>
            <a:avLst/>
            <a:gdLst/>
            <a:ahLst/>
            <a:rect l="0" t="0" r="r" b="b"/>
            <a:pathLst>
              <a:path w="142" h="433">
                <a:moveTo>
                  <a:pt x="0" y="0"/>
                </a:moveTo>
                <a:lnTo>
                  <a:pt x="142" y="0"/>
                </a:lnTo>
                <a:lnTo>
                  <a:pt x="70" y="43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"/>
          <p:cNvSpPr/>
          <p:nvPr/>
        </p:nvSpPr>
        <p:spPr>
          <a:xfrm>
            <a:off x="7343640" y="346248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"/>
          <p:cNvSpPr/>
          <p:nvPr/>
        </p:nvSpPr>
        <p:spPr>
          <a:xfrm>
            <a:off x="7343640" y="4005360"/>
            <a:ext cx="0" cy="852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"/>
          <p:cNvSpPr/>
          <p:nvPr/>
        </p:nvSpPr>
        <p:spPr>
          <a:xfrm flipH="1">
            <a:off x="3797280" y="1324080"/>
            <a:ext cx="1527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"/>
          <p:cNvSpPr txBox="1"/>
          <p:nvPr/>
        </p:nvSpPr>
        <p:spPr>
          <a:xfrm>
            <a:off x="6421320" y="25113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"/>
          <p:cNvSpPr txBox="1"/>
          <p:nvPr/>
        </p:nvSpPr>
        <p:spPr>
          <a:xfrm>
            <a:off x="4491000" y="159696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"/>
          <p:cNvSpPr txBox="1"/>
          <p:nvPr/>
        </p:nvSpPr>
        <p:spPr>
          <a:xfrm>
            <a:off x="7097760" y="278748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"/>
          <p:cNvSpPr txBox="1"/>
          <p:nvPr/>
        </p:nvSpPr>
        <p:spPr>
          <a:xfrm>
            <a:off x="4091040" y="329076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"/>
          <p:cNvSpPr txBox="1"/>
          <p:nvPr/>
        </p:nvSpPr>
        <p:spPr>
          <a:xfrm>
            <a:off x="4556160" y="413244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"/>
          <p:cNvSpPr txBox="1"/>
          <p:nvPr/>
        </p:nvSpPr>
        <p:spPr>
          <a:xfrm>
            <a:off x="4091040" y="453060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"/>
          <p:cNvSpPr txBox="1"/>
          <p:nvPr/>
        </p:nvSpPr>
        <p:spPr>
          <a:xfrm>
            <a:off x="6405480" y="57960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"/>
          <p:cNvSpPr txBox="1"/>
          <p:nvPr/>
        </p:nvSpPr>
        <p:spPr>
          <a:xfrm>
            <a:off x="6915240" y="118728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"/>
          <p:cNvSpPr txBox="1"/>
          <p:nvPr/>
        </p:nvSpPr>
        <p:spPr>
          <a:xfrm>
            <a:off x="5940360" y="300996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"/>
          <p:cNvSpPr txBox="1"/>
          <p:nvPr/>
        </p:nvSpPr>
        <p:spPr>
          <a:xfrm>
            <a:off x="6361200" y="300996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"/>
          <p:cNvSpPr/>
          <p:nvPr/>
        </p:nvSpPr>
        <p:spPr>
          <a:xfrm>
            <a:off x="5656320" y="6091200"/>
            <a:ext cx="367200" cy="217800"/>
          </a:xfrm>
          <a:custGeom>
            <a:avLst/>
            <a:gdLst/>
            <a:ahLst/>
            <a:rect l="0" t="0" r="r" b="b"/>
            <a:pathLst>
              <a:path fill="none" w="1020" h="605">
                <a:moveTo>
                  <a:pt x="0" y="605"/>
                </a:moveTo>
                <a:lnTo>
                  <a:pt x="0" y="0"/>
                </a:lnTo>
                <a:lnTo>
                  <a:pt x="1020" y="0"/>
                </a:lnTo>
                <a:lnTo>
                  <a:pt x="1020" y="605"/>
                </a:lnTo>
                <a:lnTo>
                  <a:pt x="0" y="60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"/>
          <p:cNvSpPr txBox="1"/>
          <p:nvPr/>
        </p:nvSpPr>
        <p:spPr>
          <a:xfrm>
            <a:off x="399960" y="237960"/>
            <a:ext cx="38973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Planes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y Datum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"/>
          <p:cNvSpPr txBox="1"/>
          <p:nvPr/>
        </p:nvSpPr>
        <p:spPr>
          <a:xfrm>
            <a:off x="547560" y="1441440"/>
            <a:ext cx="287172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shown, the prim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D is establish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datum targets;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ondary datum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tablished by 2 dat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s;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terti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atum F is establish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 datum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"/>
          <p:cNvSpPr/>
          <p:nvPr/>
        </p:nvSpPr>
        <p:spPr>
          <a:xfrm>
            <a:off x="6856560" y="1025640"/>
            <a:ext cx="421200" cy="421200"/>
          </a:xfrm>
          <a:custGeom>
            <a:avLst/>
            <a:gdLst/>
            <a:ahLst/>
            <a:rect l="0" t="0" r="r" b="b"/>
            <a:pathLst>
              <a:path fill="none" w="1170" h="1170">
                <a:moveTo>
                  <a:pt x="0" y="582"/>
                </a:moveTo>
                <a:lnTo>
                  <a:pt x="1170" y="582"/>
                </a:lnTo>
                <a:lnTo>
                  <a:pt x="1170" y="558"/>
                </a:lnTo>
                <a:lnTo>
                  <a:pt x="1164" y="529"/>
                </a:lnTo>
                <a:lnTo>
                  <a:pt x="1164" y="500"/>
                </a:lnTo>
                <a:lnTo>
                  <a:pt x="1158" y="476"/>
                </a:lnTo>
                <a:lnTo>
                  <a:pt x="1153" y="447"/>
                </a:lnTo>
                <a:lnTo>
                  <a:pt x="1147" y="417"/>
                </a:lnTo>
                <a:lnTo>
                  <a:pt x="1135" y="394"/>
                </a:lnTo>
                <a:lnTo>
                  <a:pt x="1129" y="365"/>
                </a:lnTo>
                <a:lnTo>
                  <a:pt x="1117" y="341"/>
                </a:lnTo>
                <a:lnTo>
                  <a:pt x="1106" y="318"/>
                </a:lnTo>
                <a:lnTo>
                  <a:pt x="1088" y="294"/>
                </a:lnTo>
                <a:lnTo>
                  <a:pt x="1077" y="270"/>
                </a:lnTo>
                <a:lnTo>
                  <a:pt x="1059" y="246"/>
                </a:lnTo>
                <a:lnTo>
                  <a:pt x="1042" y="223"/>
                </a:lnTo>
                <a:lnTo>
                  <a:pt x="1024" y="199"/>
                </a:lnTo>
                <a:lnTo>
                  <a:pt x="1006" y="182"/>
                </a:lnTo>
                <a:lnTo>
                  <a:pt x="989" y="158"/>
                </a:lnTo>
                <a:lnTo>
                  <a:pt x="966" y="140"/>
                </a:lnTo>
                <a:lnTo>
                  <a:pt x="948" y="123"/>
                </a:lnTo>
                <a:lnTo>
                  <a:pt x="925" y="105"/>
                </a:lnTo>
                <a:lnTo>
                  <a:pt x="901" y="93"/>
                </a:lnTo>
                <a:lnTo>
                  <a:pt x="878" y="76"/>
                </a:lnTo>
                <a:lnTo>
                  <a:pt x="854" y="64"/>
                </a:lnTo>
                <a:lnTo>
                  <a:pt x="830" y="52"/>
                </a:lnTo>
                <a:lnTo>
                  <a:pt x="801" y="41"/>
                </a:lnTo>
                <a:lnTo>
                  <a:pt x="778" y="29"/>
                </a:lnTo>
                <a:lnTo>
                  <a:pt x="748" y="23"/>
                </a:lnTo>
                <a:lnTo>
                  <a:pt x="725" y="11"/>
                </a:lnTo>
                <a:lnTo>
                  <a:pt x="696" y="11"/>
                </a:lnTo>
                <a:lnTo>
                  <a:pt x="667" y="5"/>
                </a:lnTo>
                <a:lnTo>
                  <a:pt x="643" y="0"/>
                </a:lnTo>
                <a:lnTo>
                  <a:pt x="614" y="0"/>
                </a:lnTo>
                <a:lnTo>
                  <a:pt x="585" y="0"/>
                </a:lnTo>
                <a:lnTo>
                  <a:pt x="556" y="0"/>
                </a:lnTo>
                <a:lnTo>
                  <a:pt x="532" y="0"/>
                </a:lnTo>
                <a:lnTo>
                  <a:pt x="503" y="5"/>
                </a:lnTo>
                <a:lnTo>
                  <a:pt x="474" y="11"/>
                </a:lnTo>
                <a:lnTo>
                  <a:pt x="450" y="11"/>
                </a:lnTo>
                <a:lnTo>
                  <a:pt x="421" y="23"/>
                </a:lnTo>
                <a:lnTo>
                  <a:pt x="392" y="29"/>
                </a:lnTo>
                <a:lnTo>
                  <a:pt x="369" y="41"/>
                </a:lnTo>
                <a:lnTo>
                  <a:pt x="345" y="52"/>
                </a:lnTo>
                <a:lnTo>
                  <a:pt x="316" y="64"/>
                </a:lnTo>
                <a:lnTo>
                  <a:pt x="293" y="76"/>
                </a:lnTo>
                <a:lnTo>
                  <a:pt x="268" y="93"/>
                </a:lnTo>
                <a:lnTo>
                  <a:pt x="245" y="105"/>
                </a:lnTo>
                <a:lnTo>
                  <a:pt x="222" y="123"/>
                </a:lnTo>
                <a:lnTo>
                  <a:pt x="204" y="140"/>
                </a:lnTo>
                <a:lnTo>
                  <a:pt x="181" y="158"/>
                </a:lnTo>
                <a:lnTo>
                  <a:pt x="163" y="182"/>
                </a:lnTo>
                <a:lnTo>
                  <a:pt x="146" y="199"/>
                </a:lnTo>
                <a:lnTo>
                  <a:pt x="128" y="223"/>
                </a:lnTo>
                <a:lnTo>
                  <a:pt x="111" y="246"/>
                </a:lnTo>
                <a:lnTo>
                  <a:pt x="93" y="270"/>
                </a:lnTo>
                <a:lnTo>
                  <a:pt x="81" y="294"/>
                </a:lnTo>
                <a:lnTo>
                  <a:pt x="70" y="318"/>
                </a:lnTo>
                <a:lnTo>
                  <a:pt x="52" y="341"/>
                </a:lnTo>
                <a:lnTo>
                  <a:pt x="46" y="365"/>
                </a:lnTo>
                <a:lnTo>
                  <a:pt x="35" y="394"/>
                </a:lnTo>
                <a:lnTo>
                  <a:pt x="23" y="417"/>
                </a:lnTo>
                <a:lnTo>
                  <a:pt x="17" y="447"/>
                </a:lnTo>
                <a:lnTo>
                  <a:pt x="11" y="476"/>
                </a:lnTo>
                <a:lnTo>
                  <a:pt x="5" y="500"/>
                </a:lnTo>
                <a:lnTo>
                  <a:pt x="5" y="529"/>
                </a:lnTo>
                <a:lnTo>
                  <a:pt x="0" y="558"/>
                </a:lnTo>
                <a:lnTo>
                  <a:pt x="0" y="582"/>
                </a:lnTo>
                <a:lnTo>
                  <a:pt x="0" y="611"/>
                </a:lnTo>
                <a:lnTo>
                  <a:pt x="5" y="641"/>
                </a:lnTo>
                <a:lnTo>
                  <a:pt x="5" y="670"/>
                </a:lnTo>
                <a:lnTo>
                  <a:pt x="11" y="693"/>
                </a:lnTo>
                <a:lnTo>
                  <a:pt x="17" y="723"/>
                </a:lnTo>
                <a:lnTo>
                  <a:pt x="23" y="752"/>
                </a:lnTo>
                <a:lnTo>
                  <a:pt x="35" y="776"/>
                </a:lnTo>
                <a:lnTo>
                  <a:pt x="46" y="805"/>
                </a:lnTo>
                <a:lnTo>
                  <a:pt x="52" y="828"/>
                </a:lnTo>
                <a:lnTo>
                  <a:pt x="70" y="852"/>
                </a:lnTo>
                <a:lnTo>
                  <a:pt x="81" y="875"/>
                </a:lnTo>
                <a:lnTo>
                  <a:pt x="93" y="906"/>
                </a:lnTo>
                <a:lnTo>
                  <a:pt x="111" y="923"/>
                </a:lnTo>
                <a:lnTo>
                  <a:pt x="128" y="947"/>
                </a:lnTo>
                <a:lnTo>
                  <a:pt x="146" y="970"/>
                </a:lnTo>
                <a:lnTo>
                  <a:pt x="163" y="988"/>
                </a:lnTo>
                <a:lnTo>
                  <a:pt x="181" y="1012"/>
                </a:lnTo>
                <a:lnTo>
                  <a:pt x="204" y="1029"/>
                </a:lnTo>
                <a:lnTo>
                  <a:pt x="222" y="1047"/>
                </a:lnTo>
                <a:lnTo>
                  <a:pt x="245" y="1064"/>
                </a:lnTo>
                <a:lnTo>
                  <a:pt x="268" y="1076"/>
                </a:lnTo>
                <a:lnTo>
                  <a:pt x="293" y="1094"/>
                </a:lnTo>
                <a:lnTo>
                  <a:pt x="316" y="1105"/>
                </a:lnTo>
                <a:lnTo>
                  <a:pt x="345" y="1117"/>
                </a:lnTo>
                <a:lnTo>
                  <a:pt x="369" y="1129"/>
                </a:lnTo>
                <a:lnTo>
                  <a:pt x="392" y="1141"/>
                </a:lnTo>
                <a:lnTo>
                  <a:pt x="421" y="1147"/>
                </a:lnTo>
                <a:lnTo>
                  <a:pt x="450" y="1152"/>
                </a:lnTo>
                <a:lnTo>
                  <a:pt x="474" y="1158"/>
                </a:lnTo>
                <a:lnTo>
                  <a:pt x="503" y="1164"/>
                </a:lnTo>
                <a:lnTo>
                  <a:pt x="532" y="1170"/>
                </a:lnTo>
                <a:lnTo>
                  <a:pt x="556" y="1170"/>
                </a:lnTo>
                <a:lnTo>
                  <a:pt x="585" y="1170"/>
                </a:lnTo>
                <a:lnTo>
                  <a:pt x="614" y="1170"/>
                </a:lnTo>
                <a:lnTo>
                  <a:pt x="643" y="1170"/>
                </a:lnTo>
                <a:lnTo>
                  <a:pt x="667" y="1164"/>
                </a:lnTo>
                <a:lnTo>
                  <a:pt x="696" y="1158"/>
                </a:lnTo>
                <a:lnTo>
                  <a:pt x="725" y="1152"/>
                </a:lnTo>
                <a:lnTo>
                  <a:pt x="748" y="1147"/>
                </a:lnTo>
                <a:lnTo>
                  <a:pt x="778" y="1141"/>
                </a:lnTo>
                <a:lnTo>
                  <a:pt x="801" y="1129"/>
                </a:lnTo>
                <a:lnTo>
                  <a:pt x="830" y="1117"/>
                </a:lnTo>
                <a:lnTo>
                  <a:pt x="854" y="1105"/>
                </a:lnTo>
                <a:lnTo>
                  <a:pt x="878" y="1094"/>
                </a:lnTo>
                <a:lnTo>
                  <a:pt x="901" y="1076"/>
                </a:lnTo>
                <a:lnTo>
                  <a:pt x="925" y="1064"/>
                </a:lnTo>
                <a:lnTo>
                  <a:pt x="948" y="1047"/>
                </a:lnTo>
                <a:lnTo>
                  <a:pt x="966" y="1029"/>
                </a:lnTo>
                <a:lnTo>
                  <a:pt x="989" y="1012"/>
                </a:lnTo>
                <a:lnTo>
                  <a:pt x="1006" y="988"/>
                </a:lnTo>
                <a:lnTo>
                  <a:pt x="1024" y="970"/>
                </a:lnTo>
                <a:lnTo>
                  <a:pt x="1042" y="947"/>
                </a:lnTo>
                <a:lnTo>
                  <a:pt x="1059" y="923"/>
                </a:lnTo>
                <a:lnTo>
                  <a:pt x="1077" y="906"/>
                </a:lnTo>
                <a:lnTo>
                  <a:pt x="1088" y="875"/>
                </a:lnTo>
                <a:lnTo>
                  <a:pt x="1106" y="852"/>
                </a:lnTo>
                <a:lnTo>
                  <a:pt x="1117" y="828"/>
                </a:lnTo>
                <a:lnTo>
                  <a:pt x="1129" y="805"/>
                </a:lnTo>
                <a:lnTo>
                  <a:pt x="1135" y="776"/>
                </a:lnTo>
                <a:lnTo>
                  <a:pt x="1147" y="752"/>
                </a:lnTo>
                <a:lnTo>
                  <a:pt x="1153" y="723"/>
                </a:lnTo>
                <a:lnTo>
                  <a:pt x="1158" y="693"/>
                </a:lnTo>
                <a:lnTo>
                  <a:pt x="1164" y="670"/>
                </a:lnTo>
                <a:lnTo>
                  <a:pt x="1164" y="641"/>
                </a:lnTo>
                <a:lnTo>
                  <a:pt x="1170" y="611"/>
                </a:lnTo>
                <a:lnTo>
                  <a:pt x="1170" y="582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"/>
          <p:cNvSpPr/>
          <p:nvPr/>
        </p:nvSpPr>
        <p:spPr>
          <a:xfrm flipV="1">
            <a:off x="5475240" y="1325520"/>
            <a:ext cx="1405080" cy="65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"/>
          <p:cNvSpPr/>
          <p:nvPr/>
        </p:nvSpPr>
        <p:spPr>
          <a:xfrm>
            <a:off x="5475240" y="1378080"/>
            <a:ext cx="0" cy="53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"/>
          <p:cNvSpPr/>
          <p:nvPr/>
        </p:nvSpPr>
        <p:spPr>
          <a:xfrm>
            <a:off x="5079960" y="946080"/>
            <a:ext cx="1572120" cy="1238760"/>
          </a:xfrm>
          <a:custGeom>
            <a:avLst/>
            <a:gdLst/>
            <a:ahLst/>
            <a:rect l="0" t="0" r="r" b="b"/>
            <a:pathLst>
              <a:path fill="none" w="4367" h="3441">
                <a:moveTo>
                  <a:pt x="0" y="3441"/>
                </a:moveTo>
                <a:lnTo>
                  <a:pt x="0" y="0"/>
                </a:lnTo>
                <a:lnTo>
                  <a:pt x="4367" y="0"/>
                </a:lnTo>
                <a:lnTo>
                  <a:pt x="4367" y="3441"/>
                </a:lnTo>
                <a:lnTo>
                  <a:pt x="0" y="344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"/>
          <p:cNvSpPr/>
          <p:nvPr/>
        </p:nvSpPr>
        <p:spPr>
          <a:xfrm flipH="1">
            <a:off x="4751280" y="1733400"/>
            <a:ext cx="209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 flipV="1">
            <a:off x="5079960" y="1666800"/>
            <a:ext cx="0" cy="138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"/>
          <p:cNvSpPr/>
          <p:nvPr/>
        </p:nvSpPr>
        <p:spPr>
          <a:xfrm flipH="1" flipV="1">
            <a:off x="4960800" y="1733400"/>
            <a:ext cx="119160" cy="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/>
          <p:nvPr/>
        </p:nvSpPr>
        <p:spPr>
          <a:xfrm>
            <a:off x="4960800" y="1666800"/>
            <a:ext cx="119520" cy="138600"/>
          </a:xfrm>
          <a:custGeom>
            <a:avLst/>
            <a:gdLst/>
            <a:ahLst/>
            <a:rect l="0" t="0" r="r" b="b"/>
            <a:pathLst>
              <a:path w="332" h="385">
                <a:moveTo>
                  <a:pt x="332" y="385"/>
                </a:moveTo>
                <a:lnTo>
                  <a:pt x="0" y="192"/>
                </a:lnTo>
                <a:lnTo>
                  <a:pt x="332" y="0"/>
                </a:lnTo>
                <a:lnTo>
                  <a:pt x="332" y="38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"/>
          <p:cNvSpPr/>
          <p:nvPr/>
        </p:nvSpPr>
        <p:spPr>
          <a:xfrm flipH="1">
            <a:off x="4960800" y="1666800"/>
            <a:ext cx="119160" cy="66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"/>
          <p:cNvSpPr/>
          <p:nvPr/>
        </p:nvSpPr>
        <p:spPr>
          <a:xfrm>
            <a:off x="6531120" y="2305080"/>
            <a:ext cx="0" cy="21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"/>
          <p:cNvSpPr/>
          <p:nvPr/>
        </p:nvSpPr>
        <p:spPr>
          <a:xfrm>
            <a:off x="6410160" y="2523960"/>
            <a:ext cx="241560" cy="236880"/>
          </a:xfrm>
          <a:custGeom>
            <a:avLst/>
            <a:gdLst/>
            <a:ahLst/>
            <a:rect l="0" t="0" r="r" b="b"/>
            <a:pathLst>
              <a:path fill="none" w="671" h="658">
                <a:moveTo>
                  <a:pt x="0" y="658"/>
                </a:moveTo>
                <a:lnTo>
                  <a:pt x="0" y="0"/>
                </a:lnTo>
                <a:lnTo>
                  <a:pt x="671" y="0"/>
                </a:lnTo>
                <a:lnTo>
                  <a:pt x="671" y="658"/>
                </a:lnTo>
                <a:lnTo>
                  <a:pt x="0" y="658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 flipH="1" flipV="1">
            <a:off x="5356080" y="1855800"/>
            <a:ext cx="239760" cy="241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"/>
          <p:cNvSpPr/>
          <p:nvPr/>
        </p:nvSpPr>
        <p:spPr>
          <a:xfrm flipH="1">
            <a:off x="5356080" y="1855800"/>
            <a:ext cx="239760" cy="241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"/>
          <p:cNvSpPr/>
          <p:nvPr/>
        </p:nvSpPr>
        <p:spPr>
          <a:xfrm flipH="1">
            <a:off x="6462720" y="218448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"/>
          <p:cNvSpPr/>
          <p:nvPr/>
        </p:nvSpPr>
        <p:spPr>
          <a:xfrm flipH="1">
            <a:off x="6531120" y="2184480"/>
            <a:ext cx="71280" cy="12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"/>
          <p:cNvSpPr/>
          <p:nvPr/>
        </p:nvSpPr>
        <p:spPr>
          <a:xfrm>
            <a:off x="6462720" y="2184480"/>
            <a:ext cx="140040" cy="120960"/>
          </a:xfrm>
          <a:custGeom>
            <a:avLst/>
            <a:gdLst/>
            <a:ahLst/>
            <a:rect l="0" t="0" r="r" b="b"/>
            <a:pathLst>
              <a:path w="389" h="336">
                <a:moveTo>
                  <a:pt x="389" y="0"/>
                </a:moveTo>
                <a:lnTo>
                  <a:pt x="195" y="336"/>
                </a:lnTo>
                <a:lnTo>
                  <a:pt x="0" y="0"/>
                </a:lnTo>
                <a:lnTo>
                  <a:pt x="389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"/>
          <p:cNvSpPr/>
          <p:nvPr/>
        </p:nvSpPr>
        <p:spPr>
          <a:xfrm>
            <a:off x="6462720" y="2184480"/>
            <a:ext cx="68400" cy="12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 flipV="1">
            <a:off x="5475240" y="739800"/>
            <a:ext cx="917640" cy="585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"/>
          <p:cNvSpPr/>
          <p:nvPr/>
        </p:nvSpPr>
        <p:spPr>
          <a:xfrm flipH="1" flipV="1">
            <a:off x="5356080" y="1204920"/>
            <a:ext cx="239760" cy="241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"/>
          <p:cNvSpPr/>
          <p:nvPr/>
        </p:nvSpPr>
        <p:spPr>
          <a:xfrm flipH="1">
            <a:off x="5356080" y="1204920"/>
            <a:ext cx="239760" cy="241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5" name=""/>
          <p:cNvSpPr/>
          <p:nvPr/>
        </p:nvSpPr>
        <p:spPr>
          <a:xfrm>
            <a:off x="6361200" y="415800"/>
            <a:ext cx="417960" cy="422640"/>
          </a:xfrm>
          <a:custGeom>
            <a:avLst/>
            <a:gdLst/>
            <a:ahLst/>
            <a:rect l="0" t="0" r="r" b="b"/>
            <a:pathLst>
              <a:path fill="none" w="1161" h="1174">
                <a:moveTo>
                  <a:pt x="1161" y="587"/>
                </a:moveTo>
                <a:lnTo>
                  <a:pt x="1161" y="558"/>
                </a:lnTo>
                <a:lnTo>
                  <a:pt x="1161" y="534"/>
                </a:lnTo>
                <a:lnTo>
                  <a:pt x="1155" y="505"/>
                </a:lnTo>
                <a:lnTo>
                  <a:pt x="1150" y="476"/>
                </a:lnTo>
                <a:lnTo>
                  <a:pt x="1144" y="452"/>
                </a:lnTo>
                <a:lnTo>
                  <a:pt x="1138" y="423"/>
                </a:lnTo>
                <a:lnTo>
                  <a:pt x="1132" y="399"/>
                </a:lnTo>
                <a:lnTo>
                  <a:pt x="1120" y="370"/>
                </a:lnTo>
                <a:lnTo>
                  <a:pt x="1109" y="347"/>
                </a:lnTo>
                <a:lnTo>
                  <a:pt x="1097" y="323"/>
                </a:lnTo>
                <a:lnTo>
                  <a:pt x="1085" y="294"/>
                </a:lnTo>
                <a:lnTo>
                  <a:pt x="1068" y="269"/>
                </a:lnTo>
                <a:lnTo>
                  <a:pt x="1056" y="246"/>
                </a:lnTo>
                <a:lnTo>
                  <a:pt x="1039" y="228"/>
                </a:lnTo>
                <a:lnTo>
                  <a:pt x="1021" y="205"/>
                </a:lnTo>
                <a:lnTo>
                  <a:pt x="998" y="181"/>
                </a:lnTo>
                <a:lnTo>
                  <a:pt x="981" y="164"/>
                </a:lnTo>
                <a:lnTo>
                  <a:pt x="963" y="146"/>
                </a:lnTo>
                <a:lnTo>
                  <a:pt x="940" y="129"/>
                </a:lnTo>
                <a:lnTo>
                  <a:pt x="916" y="111"/>
                </a:lnTo>
                <a:lnTo>
                  <a:pt x="893" y="93"/>
                </a:lnTo>
                <a:lnTo>
                  <a:pt x="869" y="82"/>
                </a:lnTo>
                <a:lnTo>
                  <a:pt x="846" y="64"/>
                </a:lnTo>
                <a:lnTo>
                  <a:pt x="822" y="58"/>
                </a:lnTo>
                <a:lnTo>
                  <a:pt x="793" y="46"/>
                </a:lnTo>
                <a:lnTo>
                  <a:pt x="770" y="35"/>
                </a:lnTo>
                <a:lnTo>
                  <a:pt x="746" y="23"/>
                </a:lnTo>
                <a:lnTo>
                  <a:pt x="717" y="17"/>
                </a:lnTo>
                <a:lnTo>
                  <a:pt x="688" y="11"/>
                </a:lnTo>
                <a:lnTo>
                  <a:pt x="665" y="5"/>
                </a:lnTo>
                <a:lnTo>
                  <a:pt x="636" y="5"/>
                </a:lnTo>
                <a:lnTo>
                  <a:pt x="607" y="0"/>
                </a:lnTo>
                <a:lnTo>
                  <a:pt x="577" y="0"/>
                </a:lnTo>
                <a:lnTo>
                  <a:pt x="554" y="0"/>
                </a:lnTo>
                <a:lnTo>
                  <a:pt x="525" y="5"/>
                </a:lnTo>
                <a:lnTo>
                  <a:pt x="496" y="5"/>
                </a:lnTo>
                <a:lnTo>
                  <a:pt x="467" y="11"/>
                </a:lnTo>
                <a:lnTo>
                  <a:pt x="443" y="17"/>
                </a:lnTo>
                <a:lnTo>
                  <a:pt x="414" y="23"/>
                </a:lnTo>
                <a:lnTo>
                  <a:pt x="391" y="35"/>
                </a:lnTo>
                <a:lnTo>
                  <a:pt x="362" y="46"/>
                </a:lnTo>
                <a:lnTo>
                  <a:pt x="339" y="58"/>
                </a:lnTo>
                <a:lnTo>
                  <a:pt x="315" y="64"/>
                </a:lnTo>
                <a:lnTo>
                  <a:pt x="292" y="82"/>
                </a:lnTo>
                <a:lnTo>
                  <a:pt x="262" y="93"/>
                </a:lnTo>
                <a:lnTo>
                  <a:pt x="244" y="111"/>
                </a:lnTo>
                <a:lnTo>
                  <a:pt x="221" y="129"/>
                </a:lnTo>
                <a:lnTo>
                  <a:pt x="198" y="146"/>
                </a:lnTo>
                <a:lnTo>
                  <a:pt x="180" y="164"/>
                </a:lnTo>
                <a:lnTo>
                  <a:pt x="157" y="181"/>
                </a:lnTo>
                <a:lnTo>
                  <a:pt x="139" y="205"/>
                </a:lnTo>
                <a:lnTo>
                  <a:pt x="122" y="228"/>
                </a:lnTo>
                <a:lnTo>
                  <a:pt x="104" y="246"/>
                </a:lnTo>
                <a:lnTo>
                  <a:pt x="87" y="269"/>
                </a:lnTo>
                <a:lnTo>
                  <a:pt x="75" y="294"/>
                </a:lnTo>
                <a:lnTo>
                  <a:pt x="64" y="323"/>
                </a:lnTo>
                <a:lnTo>
                  <a:pt x="52" y="347"/>
                </a:lnTo>
                <a:lnTo>
                  <a:pt x="40" y="370"/>
                </a:lnTo>
                <a:lnTo>
                  <a:pt x="29" y="399"/>
                </a:lnTo>
                <a:lnTo>
                  <a:pt x="23" y="423"/>
                </a:lnTo>
                <a:lnTo>
                  <a:pt x="11" y="452"/>
                </a:lnTo>
                <a:lnTo>
                  <a:pt x="5" y="476"/>
                </a:lnTo>
                <a:lnTo>
                  <a:pt x="5" y="505"/>
                </a:lnTo>
                <a:lnTo>
                  <a:pt x="0" y="534"/>
                </a:lnTo>
                <a:lnTo>
                  <a:pt x="0" y="558"/>
                </a:lnTo>
                <a:lnTo>
                  <a:pt x="0" y="587"/>
                </a:lnTo>
                <a:lnTo>
                  <a:pt x="0" y="616"/>
                </a:lnTo>
                <a:lnTo>
                  <a:pt x="0" y="646"/>
                </a:lnTo>
                <a:lnTo>
                  <a:pt x="5" y="669"/>
                </a:lnTo>
                <a:lnTo>
                  <a:pt x="5" y="698"/>
                </a:lnTo>
                <a:lnTo>
                  <a:pt x="11" y="728"/>
                </a:lnTo>
                <a:lnTo>
                  <a:pt x="23" y="751"/>
                </a:lnTo>
                <a:lnTo>
                  <a:pt x="29" y="781"/>
                </a:lnTo>
                <a:lnTo>
                  <a:pt x="40" y="804"/>
                </a:lnTo>
                <a:lnTo>
                  <a:pt x="52" y="833"/>
                </a:lnTo>
                <a:lnTo>
                  <a:pt x="64" y="857"/>
                </a:lnTo>
                <a:lnTo>
                  <a:pt x="75" y="880"/>
                </a:lnTo>
                <a:lnTo>
                  <a:pt x="87" y="905"/>
                </a:lnTo>
                <a:lnTo>
                  <a:pt x="104" y="928"/>
                </a:lnTo>
                <a:lnTo>
                  <a:pt x="122" y="952"/>
                </a:lnTo>
                <a:lnTo>
                  <a:pt x="139" y="975"/>
                </a:lnTo>
                <a:lnTo>
                  <a:pt x="157" y="993"/>
                </a:lnTo>
                <a:lnTo>
                  <a:pt x="180" y="1010"/>
                </a:lnTo>
                <a:lnTo>
                  <a:pt x="198" y="1034"/>
                </a:lnTo>
                <a:lnTo>
                  <a:pt x="221" y="1051"/>
                </a:lnTo>
                <a:lnTo>
                  <a:pt x="244" y="1063"/>
                </a:lnTo>
                <a:lnTo>
                  <a:pt x="262" y="1081"/>
                </a:lnTo>
                <a:lnTo>
                  <a:pt x="292" y="1098"/>
                </a:lnTo>
                <a:lnTo>
                  <a:pt x="315" y="1110"/>
                </a:lnTo>
                <a:lnTo>
                  <a:pt x="339" y="1122"/>
                </a:lnTo>
                <a:lnTo>
                  <a:pt x="362" y="1133"/>
                </a:lnTo>
                <a:lnTo>
                  <a:pt x="391" y="1139"/>
                </a:lnTo>
                <a:lnTo>
                  <a:pt x="414" y="1151"/>
                </a:lnTo>
                <a:lnTo>
                  <a:pt x="443" y="1157"/>
                </a:lnTo>
                <a:lnTo>
                  <a:pt x="467" y="1163"/>
                </a:lnTo>
                <a:lnTo>
                  <a:pt x="496" y="1169"/>
                </a:lnTo>
                <a:lnTo>
                  <a:pt x="525" y="1169"/>
                </a:lnTo>
                <a:lnTo>
                  <a:pt x="554" y="1174"/>
                </a:lnTo>
                <a:lnTo>
                  <a:pt x="577" y="1174"/>
                </a:lnTo>
                <a:lnTo>
                  <a:pt x="607" y="1174"/>
                </a:lnTo>
                <a:lnTo>
                  <a:pt x="636" y="1169"/>
                </a:lnTo>
                <a:lnTo>
                  <a:pt x="665" y="1169"/>
                </a:lnTo>
                <a:lnTo>
                  <a:pt x="688" y="1163"/>
                </a:lnTo>
                <a:lnTo>
                  <a:pt x="717" y="1157"/>
                </a:lnTo>
                <a:lnTo>
                  <a:pt x="746" y="1151"/>
                </a:lnTo>
                <a:lnTo>
                  <a:pt x="770" y="1139"/>
                </a:lnTo>
                <a:lnTo>
                  <a:pt x="793" y="1133"/>
                </a:lnTo>
                <a:lnTo>
                  <a:pt x="822" y="1122"/>
                </a:lnTo>
                <a:lnTo>
                  <a:pt x="846" y="1110"/>
                </a:lnTo>
                <a:lnTo>
                  <a:pt x="869" y="1098"/>
                </a:lnTo>
                <a:lnTo>
                  <a:pt x="893" y="1081"/>
                </a:lnTo>
                <a:lnTo>
                  <a:pt x="916" y="1063"/>
                </a:lnTo>
                <a:lnTo>
                  <a:pt x="940" y="1051"/>
                </a:lnTo>
                <a:lnTo>
                  <a:pt x="963" y="1034"/>
                </a:lnTo>
                <a:lnTo>
                  <a:pt x="981" y="1010"/>
                </a:lnTo>
                <a:lnTo>
                  <a:pt x="998" y="993"/>
                </a:lnTo>
                <a:lnTo>
                  <a:pt x="1021" y="975"/>
                </a:lnTo>
                <a:lnTo>
                  <a:pt x="1039" y="952"/>
                </a:lnTo>
                <a:lnTo>
                  <a:pt x="1056" y="928"/>
                </a:lnTo>
                <a:lnTo>
                  <a:pt x="1068" y="905"/>
                </a:lnTo>
                <a:lnTo>
                  <a:pt x="1085" y="880"/>
                </a:lnTo>
                <a:lnTo>
                  <a:pt x="1097" y="857"/>
                </a:lnTo>
                <a:lnTo>
                  <a:pt x="1109" y="833"/>
                </a:lnTo>
                <a:lnTo>
                  <a:pt x="1120" y="804"/>
                </a:lnTo>
                <a:lnTo>
                  <a:pt x="1132" y="781"/>
                </a:lnTo>
                <a:lnTo>
                  <a:pt x="1138" y="751"/>
                </a:lnTo>
                <a:lnTo>
                  <a:pt x="1144" y="728"/>
                </a:lnTo>
                <a:lnTo>
                  <a:pt x="1150" y="698"/>
                </a:lnTo>
                <a:lnTo>
                  <a:pt x="1155" y="669"/>
                </a:lnTo>
                <a:lnTo>
                  <a:pt x="1161" y="646"/>
                </a:lnTo>
                <a:lnTo>
                  <a:pt x="1161" y="616"/>
                </a:lnTo>
                <a:lnTo>
                  <a:pt x="1161" y="58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"/>
          <p:cNvSpPr/>
          <p:nvPr/>
        </p:nvSpPr>
        <p:spPr>
          <a:xfrm>
            <a:off x="6361200" y="625320"/>
            <a:ext cx="417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"/>
          <p:cNvSpPr/>
          <p:nvPr/>
        </p:nvSpPr>
        <p:spPr>
          <a:xfrm flipH="1">
            <a:off x="4705200" y="1324080"/>
            <a:ext cx="677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"/>
          <p:cNvSpPr/>
          <p:nvPr/>
        </p:nvSpPr>
        <p:spPr>
          <a:xfrm flipH="1">
            <a:off x="3819600" y="1978200"/>
            <a:ext cx="1563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"/>
          <p:cNvSpPr/>
          <p:nvPr/>
        </p:nvSpPr>
        <p:spPr>
          <a:xfrm flipH="1">
            <a:off x="3797280" y="2178000"/>
            <a:ext cx="1209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"/>
          <p:cNvSpPr/>
          <p:nvPr/>
        </p:nvSpPr>
        <p:spPr>
          <a:xfrm>
            <a:off x="4500720" y="1616040"/>
            <a:ext cx="240120" cy="238320"/>
          </a:xfrm>
          <a:custGeom>
            <a:avLst/>
            <a:gdLst/>
            <a:ahLst/>
            <a:rect l="0" t="0" r="r" b="b"/>
            <a:pathLst>
              <a:path fill="none" w="667" h="662">
                <a:moveTo>
                  <a:pt x="0" y="662"/>
                </a:moveTo>
                <a:lnTo>
                  <a:pt x="0" y="0"/>
                </a:lnTo>
                <a:lnTo>
                  <a:pt x="667" y="0"/>
                </a:lnTo>
                <a:lnTo>
                  <a:pt x="667" y="662"/>
                </a:lnTo>
                <a:lnTo>
                  <a:pt x="0" y="662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"/>
          <p:cNvSpPr/>
          <p:nvPr/>
        </p:nvSpPr>
        <p:spPr>
          <a:xfrm>
            <a:off x="3908520" y="2178000"/>
            <a:ext cx="0" cy="3873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"/>
          <p:cNvSpPr/>
          <p:nvPr/>
        </p:nvSpPr>
        <p:spPr>
          <a:xfrm flipV="1">
            <a:off x="3908520" y="1324080"/>
            <a:ext cx="0" cy="642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"/>
          <p:cNvSpPr/>
          <p:nvPr/>
        </p:nvSpPr>
        <p:spPr>
          <a:xfrm flipV="1">
            <a:off x="3908520" y="981000"/>
            <a:ext cx="0" cy="32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"/>
          <p:cNvSpPr/>
          <p:nvPr/>
        </p:nvSpPr>
        <p:spPr>
          <a:xfrm>
            <a:off x="3919680" y="981000"/>
            <a:ext cx="155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"/>
          <p:cNvSpPr/>
          <p:nvPr/>
        </p:nvSpPr>
        <p:spPr>
          <a:xfrm>
            <a:off x="3908520" y="2565360"/>
            <a:ext cx="133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"/>
          <p:cNvSpPr/>
          <p:nvPr/>
        </p:nvSpPr>
        <p:spPr>
          <a:xfrm>
            <a:off x="4075200" y="870120"/>
            <a:ext cx="353880" cy="23328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"/>
          <p:cNvSpPr/>
          <p:nvPr/>
        </p:nvSpPr>
        <p:spPr>
          <a:xfrm>
            <a:off x="4041720" y="2454120"/>
            <a:ext cx="353880" cy="2444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 flipH="1">
            <a:off x="6892920" y="292428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"/>
          <p:cNvSpPr/>
          <p:nvPr/>
        </p:nvSpPr>
        <p:spPr>
          <a:xfrm flipV="1">
            <a:off x="6824520" y="3201840"/>
            <a:ext cx="68400" cy="120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"/>
          <p:cNvSpPr/>
          <p:nvPr/>
        </p:nvSpPr>
        <p:spPr>
          <a:xfrm>
            <a:off x="6824520" y="3201840"/>
            <a:ext cx="140040" cy="120960"/>
          </a:xfrm>
          <a:custGeom>
            <a:avLst/>
            <a:gdLst/>
            <a:ahLst/>
            <a:rect l="0" t="0" r="r" b="b"/>
            <a:pathLst>
              <a:path w="389" h="336">
                <a:moveTo>
                  <a:pt x="0" y="336"/>
                </a:moveTo>
                <a:lnTo>
                  <a:pt x="195" y="0"/>
                </a:lnTo>
                <a:lnTo>
                  <a:pt x="389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"/>
          <p:cNvSpPr/>
          <p:nvPr/>
        </p:nvSpPr>
        <p:spPr>
          <a:xfrm flipH="1" flipV="1">
            <a:off x="6892920" y="3201840"/>
            <a:ext cx="71280" cy="120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"/>
          <p:cNvSpPr/>
          <p:nvPr/>
        </p:nvSpPr>
        <p:spPr>
          <a:xfrm>
            <a:off x="6730920" y="3322800"/>
            <a:ext cx="1176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"/>
          <p:cNvSpPr/>
          <p:nvPr/>
        </p:nvSpPr>
        <p:spPr>
          <a:xfrm flipV="1">
            <a:off x="6892920" y="2924280"/>
            <a:ext cx="0" cy="277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"/>
          <p:cNvSpPr/>
          <p:nvPr/>
        </p:nvSpPr>
        <p:spPr>
          <a:xfrm flipV="1">
            <a:off x="5475240" y="2770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"/>
          <p:cNvSpPr/>
          <p:nvPr/>
        </p:nvSpPr>
        <p:spPr>
          <a:xfrm flipV="1">
            <a:off x="5079960" y="2770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"/>
          <p:cNvSpPr/>
          <p:nvPr/>
        </p:nvSpPr>
        <p:spPr>
          <a:xfrm>
            <a:off x="5629320" y="2846520"/>
            <a:ext cx="154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"/>
          <p:cNvSpPr/>
          <p:nvPr/>
        </p:nvSpPr>
        <p:spPr>
          <a:xfrm flipH="1">
            <a:off x="4775040" y="2846520"/>
            <a:ext cx="152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5475240" y="2820960"/>
            <a:ext cx="154440" cy="54360"/>
          </a:xfrm>
          <a:custGeom>
            <a:avLst/>
            <a:gdLst/>
            <a:ahLst/>
            <a:rect l="0" t="0" r="r" b="b"/>
            <a:pathLst>
              <a:path w="429" h="151">
                <a:moveTo>
                  <a:pt x="429" y="0"/>
                </a:moveTo>
                <a:lnTo>
                  <a:pt x="429" y="151"/>
                </a:lnTo>
                <a:lnTo>
                  <a:pt x="0" y="72"/>
                </a:lnTo>
                <a:lnTo>
                  <a:pt x="429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"/>
          <p:cNvSpPr/>
          <p:nvPr/>
        </p:nvSpPr>
        <p:spPr>
          <a:xfrm>
            <a:off x="4927680" y="2820960"/>
            <a:ext cx="152640" cy="54360"/>
          </a:xfrm>
          <a:custGeom>
            <a:avLst/>
            <a:gdLst/>
            <a:ahLst/>
            <a:rect l="0" t="0" r="r" b="b"/>
            <a:pathLst>
              <a:path w="424" h="151">
                <a:moveTo>
                  <a:pt x="0" y="0"/>
                </a:moveTo>
                <a:lnTo>
                  <a:pt x="0" y="151"/>
                </a:lnTo>
                <a:lnTo>
                  <a:pt x="424" y="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"/>
          <p:cNvSpPr/>
          <p:nvPr/>
        </p:nvSpPr>
        <p:spPr>
          <a:xfrm flipV="1">
            <a:off x="5527800" y="3138480"/>
            <a:ext cx="372960" cy="190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"/>
          <p:cNvSpPr/>
          <p:nvPr/>
        </p:nvSpPr>
        <p:spPr>
          <a:xfrm>
            <a:off x="6300720" y="2833560"/>
            <a:ext cx="417960" cy="419400"/>
          </a:xfrm>
          <a:custGeom>
            <a:avLst/>
            <a:gdLst/>
            <a:ahLst/>
            <a:rect l="0" t="0" r="r" b="b"/>
            <a:pathLst>
              <a:path fill="none" w="1161" h="1165">
                <a:moveTo>
                  <a:pt x="1161" y="579"/>
                </a:moveTo>
                <a:lnTo>
                  <a:pt x="1161" y="555"/>
                </a:lnTo>
                <a:lnTo>
                  <a:pt x="1161" y="526"/>
                </a:lnTo>
                <a:lnTo>
                  <a:pt x="1155" y="497"/>
                </a:lnTo>
                <a:lnTo>
                  <a:pt x="1150" y="468"/>
                </a:lnTo>
                <a:lnTo>
                  <a:pt x="1144" y="444"/>
                </a:lnTo>
                <a:lnTo>
                  <a:pt x="1138" y="415"/>
                </a:lnTo>
                <a:lnTo>
                  <a:pt x="1132" y="391"/>
                </a:lnTo>
                <a:lnTo>
                  <a:pt x="1120" y="362"/>
                </a:lnTo>
                <a:lnTo>
                  <a:pt x="1109" y="339"/>
                </a:lnTo>
                <a:lnTo>
                  <a:pt x="1097" y="315"/>
                </a:lnTo>
                <a:lnTo>
                  <a:pt x="1085" y="292"/>
                </a:lnTo>
                <a:lnTo>
                  <a:pt x="1068" y="263"/>
                </a:lnTo>
                <a:lnTo>
                  <a:pt x="1056" y="245"/>
                </a:lnTo>
                <a:lnTo>
                  <a:pt x="1039" y="222"/>
                </a:lnTo>
                <a:lnTo>
                  <a:pt x="1021" y="198"/>
                </a:lnTo>
                <a:lnTo>
                  <a:pt x="1004" y="175"/>
                </a:lnTo>
                <a:lnTo>
                  <a:pt x="981" y="157"/>
                </a:lnTo>
                <a:lnTo>
                  <a:pt x="963" y="140"/>
                </a:lnTo>
                <a:lnTo>
                  <a:pt x="940" y="122"/>
                </a:lnTo>
                <a:lnTo>
                  <a:pt x="916" y="105"/>
                </a:lnTo>
                <a:lnTo>
                  <a:pt x="893" y="87"/>
                </a:lnTo>
                <a:lnTo>
                  <a:pt x="869" y="76"/>
                </a:lnTo>
                <a:lnTo>
                  <a:pt x="846" y="64"/>
                </a:lnTo>
                <a:lnTo>
                  <a:pt x="822" y="52"/>
                </a:lnTo>
                <a:lnTo>
                  <a:pt x="799" y="40"/>
                </a:lnTo>
                <a:lnTo>
                  <a:pt x="770" y="29"/>
                </a:lnTo>
                <a:lnTo>
                  <a:pt x="746" y="23"/>
                </a:lnTo>
                <a:lnTo>
                  <a:pt x="717" y="11"/>
                </a:lnTo>
                <a:lnTo>
                  <a:pt x="688" y="5"/>
                </a:lnTo>
                <a:lnTo>
                  <a:pt x="665" y="5"/>
                </a:lnTo>
                <a:lnTo>
                  <a:pt x="636" y="0"/>
                </a:lnTo>
                <a:lnTo>
                  <a:pt x="607" y="0"/>
                </a:lnTo>
                <a:lnTo>
                  <a:pt x="577" y="0"/>
                </a:lnTo>
                <a:lnTo>
                  <a:pt x="554" y="0"/>
                </a:lnTo>
                <a:lnTo>
                  <a:pt x="525" y="0"/>
                </a:lnTo>
                <a:lnTo>
                  <a:pt x="496" y="5"/>
                </a:lnTo>
                <a:lnTo>
                  <a:pt x="473" y="5"/>
                </a:lnTo>
                <a:lnTo>
                  <a:pt x="443" y="11"/>
                </a:lnTo>
                <a:lnTo>
                  <a:pt x="414" y="23"/>
                </a:lnTo>
                <a:lnTo>
                  <a:pt x="391" y="29"/>
                </a:lnTo>
                <a:lnTo>
                  <a:pt x="362" y="40"/>
                </a:lnTo>
                <a:lnTo>
                  <a:pt x="339" y="52"/>
                </a:lnTo>
                <a:lnTo>
                  <a:pt x="315" y="64"/>
                </a:lnTo>
                <a:lnTo>
                  <a:pt x="292" y="76"/>
                </a:lnTo>
                <a:lnTo>
                  <a:pt x="268" y="87"/>
                </a:lnTo>
                <a:lnTo>
                  <a:pt x="244" y="105"/>
                </a:lnTo>
                <a:lnTo>
                  <a:pt x="221" y="122"/>
                </a:lnTo>
                <a:lnTo>
                  <a:pt x="198" y="140"/>
                </a:lnTo>
                <a:lnTo>
                  <a:pt x="180" y="157"/>
                </a:lnTo>
                <a:lnTo>
                  <a:pt x="157" y="175"/>
                </a:lnTo>
                <a:lnTo>
                  <a:pt x="139" y="198"/>
                </a:lnTo>
                <a:lnTo>
                  <a:pt x="122" y="222"/>
                </a:lnTo>
                <a:lnTo>
                  <a:pt x="104" y="245"/>
                </a:lnTo>
                <a:lnTo>
                  <a:pt x="87" y="263"/>
                </a:lnTo>
                <a:lnTo>
                  <a:pt x="75" y="292"/>
                </a:lnTo>
                <a:lnTo>
                  <a:pt x="64" y="315"/>
                </a:lnTo>
                <a:lnTo>
                  <a:pt x="52" y="339"/>
                </a:lnTo>
                <a:lnTo>
                  <a:pt x="40" y="362"/>
                </a:lnTo>
                <a:lnTo>
                  <a:pt x="29" y="391"/>
                </a:lnTo>
                <a:lnTo>
                  <a:pt x="23" y="415"/>
                </a:lnTo>
                <a:lnTo>
                  <a:pt x="11" y="444"/>
                </a:lnTo>
                <a:lnTo>
                  <a:pt x="11" y="468"/>
                </a:lnTo>
                <a:lnTo>
                  <a:pt x="5" y="497"/>
                </a:lnTo>
                <a:lnTo>
                  <a:pt x="0" y="526"/>
                </a:lnTo>
                <a:lnTo>
                  <a:pt x="0" y="555"/>
                </a:lnTo>
                <a:lnTo>
                  <a:pt x="0" y="579"/>
                </a:lnTo>
                <a:lnTo>
                  <a:pt x="0" y="609"/>
                </a:lnTo>
                <a:lnTo>
                  <a:pt x="0" y="638"/>
                </a:lnTo>
                <a:lnTo>
                  <a:pt x="5" y="662"/>
                </a:lnTo>
                <a:lnTo>
                  <a:pt x="11" y="691"/>
                </a:lnTo>
                <a:lnTo>
                  <a:pt x="11" y="720"/>
                </a:lnTo>
                <a:lnTo>
                  <a:pt x="23" y="743"/>
                </a:lnTo>
                <a:lnTo>
                  <a:pt x="29" y="773"/>
                </a:lnTo>
                <a:lnTo>
                  <a:pt x="40" y="796"/>
                </a:lnTo>
                <a:lnTo>
                  <a:pt x="52" y="825"/>
                </a:lnTo>
                <a:lnTo>
                  <a:pt x="64" y="849"/>
                </a:lnTo>
                <a:lnTo>
                  <a:pt x="75" y="872"/>
                </a:lnTo>
                <a:lnTo>
                  <a:pt x="87" y="896"/>
                </a:lnTo>
                <a:lnTo>
                  <a:pt x="104" y="919"/>
                </a:lnTo>
                <a:lnTo>
                  <a:pt x="122" y="942"/>
                </a:lnTo>
                <a:lnTo>
                  <a:pt x="139" y="966"/>
                </a:lnTo>
                <a:lnTo>
                  <a:pt x="157" y="983"/>
                </a:lnTo>
                <a:lnTo>
                  <a:pt x="180" y="1007"/>
                </a:lnTo>
                <a:lnTo>
                  <a:pt x="198" y="1024"/>
                </a:lnTo>
                <a:lnTo>
                  <a:pt x="221" y="1042"/>
                </a:lnTo>
                <a:lnTo>
                  <a:pt x="244" y="1059"/>
                </a:lnTo>
                <a:lnTo>
                  <a:pt x="268" y="1071"/>
                </a:lnTo>
                <a:lnTo>
                  <a:pt x="292" y="1089"/>
                </a:lnTo>
                <a:lnTo>
                  <a:pt x="315" y="1100"/>
                </a:lnTo>
                <a:lnTo>
                  <a:pt x="339" y="1112"/>
                </a:lnTo>
                <a:lnTo>
                  <a:pt x="362" y="1124"/>
                </a:lnTo>
                <a:lnTo>
                  <a:pt x="391" y="1135"/>
                </a:lnTo>
                <a:lnTo>
                  <a:pt x="414" y="1141"/>
                </a:lnTo>
                <a:lnTo>
                  <a:pt x="443" y="1147"/>
                </a:lnTo>
                <a:lnTo>
                  <a:pt x="473" y="1153"/>
                </a:lnTo>
                <a:lnTo>
                  <a:pt x="496" y="1159"/>
                </a:lnTo>
                <a:lnTo>
                  <a:pt x="525" y="1165"/>
                </a:lnTo>
                <a:lnTo>
                  <a:pt x="554" y="1165"/>
                </a:lnTo>
                <a:lnTo>
                  <a:pt x="577" y="1165"/>
                </a:lnTo>
                <a:lnTo>
                  <a:pt x="607" y="1165"/>
                </a:lnTo>
                <a:lnTo>
                  <a:pt x="636" y="1165"/>
                </a:lnTo>
                <a:lnTo>
                  <a:pt x="665" y="1159"/>
                </a:lnTo>
                <a:lnTo>
                  <a:pt x="688" y="1153"/>
                </a:lnTo>
                <a:lnTo>
                  <a:pt x="717" y="1147"/>
                </a:lnTo>
                <a:lnTo>
                  <a:pt x="746" y="1141"/>
                </a:lnTo>
                <a:lnTo>
                  <a:pt x="770" y="1135"/>
                </a:lnTo>
                <a:lnTo>
                  <a:pt x="799" y="1124"/>
                </a:lnTo>
                <a:lnTo>
                  <a:pt x="822" y="1112"/>
                </a:lnTo>
                <a:lnTo>
                  <a:pt x="846" y="1100"/>
                </a:lnTo>
                <a:lnTo>
                  <a:pt x="869" y="1089"/>
                </a:lnTo>
                <a:lnTo>
                  <a:pt x="893" y="1071"/>
                </a:lnTo>
                <a:lnTo>
                  <a:pt x="916" y="1059"/>
                </a:lnTo>
                <a:lnTo>
                  <a:pt x="940" y="1042"/>
                </a:lnTo>
                <a:lnTo>
                  <a:pt x="963" y="1024"/>
                </a:lnTo>
                <a:lnTo>
                  <a:pt x="981" y="1007"/>
                </a:lnTo>
                <a:lnTo>
                  <a:pt x="1004" y="983"/>
                </a:lnTo>
                <a:lnTo>
                  <a:pt x="1021" y="966"/>
                </a:lnTo>
                <a:lnTo>
                  <a:pt x="1039" y="942"/>
                </a:lnTo>
                <a:lnTo>
                  <a:pt x="1056" y="919"/>
                </a:lnTo>
                <a:lnTo>
                  <a:pt x="1068" y="896"/>
                </a:lnTo>
                <a:lnTo>
                  <a:pt x="1085" y="872"/>
                </a:lnTo>
                <a:lnTo>
                  <a:pt x="1097" y="849"/>
                </a:lnTo>
                <a:lnTo>
                  <a:pt x="1109" y="825"/>
                </a:lnTo>
                <a:lnTo>
                  <a:pt x="1120" y="796"/>
                </a:lnTo>
                <a:lnTo>
                  <a:pt x="1132" y="773"/>
                </a:lnTo>
                <a:lnTo>
                  <a:pt x="1138" y="743"/>
                </a:lnTo>
                <a:lnTo>
                  <a:pt x="1144" y="720"/>
                </a:lnTo>
                <a:lnTo>
                  <a:pt x="1150" y="691"/>
                </a:lnTo>
                <a:lnTo>
                  <a:pt x="1155" y="662"/>
                </a:lnTo>
                <a:lnTo>
                  <a:pt x="1161" y="638"/>
                </a:lnTo>
                <a:lnTo>
                  <a:pt x="1161" y="609"/>
                </a:lnTo>
                <a:lnTo>
                  <a:pt x="1161" y="57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/>
          <p:nvPr/>
        </p:nvSpPr>
        <p:spPr>
          <a:xfrm>
            <a:off x="5877000" y="2833560"/>
            <a:ext cx="424080" cy="419400"/>
          </a:xfrm>
          <a:custGeom>
            <a:avLst/>
            <a:gdLst/>
            <a:ahLst/>
            <a:rect l="0" t="0" r="r" b="b"/>
            <a:pathLst>
              <a:path fill="none" w="1178" h="1165">
                <a:moveTo>
                  <a:pt x="1178" y="579"/>
                </a:moveTo>
                <a:lnTo>
                  <a:pt x="1178" y="555"/>
                </a:lnTo>
                <a:lnTo>
                  <a:pt x="1172" y="526"/>
                </a:lnTo>
                <a:lnTo>
                  <a:pt x="1172" y="497"/>
                </a:lnTo>
                <a:lnTo>
                  <a:pt x="1166" y="468"/>
                </a:lnTo>
                <a:lnTo>
                  <a:pt x="1160" y="444"/>
                </a:lnTo>
                <a:lnTo>
                  <a:pt x="1154" y="415"/>
                </a:lnTo>
                <a:lnTo>
                  <a:pt x="1143" y="391"/>
                </a:lnTo>
                <a:lnTo>
                  <a:pt x="1137" y="362"/>
                </a:lnTo>
                <a:lnTo>
                  <a:pt x="1125" y="339"/>
                </a:lnTo>
                <a:lnTo>
                  <a:pt x="1113" y="315"/>
                </a:lnTo>
                <a:lnTo>
                  <a:pt x="1095" y="292"/>
                </a:lnTo>
                <a:lnTo>
                  <a:pt x="1084" y="263"/>
                </a:lnTo>
                <a:lnTo>
                  <a:pt x="1066" y="245"/>
                </a:lnTo>
                <a:lnTo>
                  <a:pt x="1048" y="222"/>
                </a:lnTo>
                <a:lnTo>
                  <a:pt x="1031" y="198"/>
                </a:lnTo>
                <a:lnTo>
                  <a:pt x="1013" y="175"/>
                </a:lnTo>
                <a:lnTo>
                  <a:pt x="995" y="157"/>
                </a:lnTo>
                <a:lnTo>
                  <a:pt x="972" y="140"/>
                </a:lnTo>
                <a:lnTo>
                  <a:pt x="954" y="122"/>
                </a:lnTo>
                <a:lnTo>
                  <a:pt x="931" y="105"/>
                </a:lnTo>
                <a:lnTo>
                  <a:pt x="907" y="87"/>
                </a:lnTo>
                <a:lnTo>
                  <a:pt x="884" y="76"/>
                </a:lnTo>
                <a:lnTo>
                  <a:pt x="860" y="64"/>
                </a:lnTo>
                <a:lnTo>
                  <a:pt x="831" y="52"/>
                </a:lnTo>
                <a:lnTo>
                  <a:pt x="807" y="40"/>
                </a:lnTo>
                <a:lnTo>
                  <a:pt x="783" y="29"/>
                </a:lnTo>
                <a:lnTo>
                  <a:pt x="754" y="23"/>
                </a:lnTo>
                <a:lnTo>
                  <a:pt x="725" y="11"/>
                </a:lnTo>
                <a:lnTo>
                  <a:pt x="701" y="5"/>
                </a:lnTo>
                <a:lnTo>
                  <a:pt x="672" y="5"/>
                </a:lnTo>
                <a:lnTo>
                  <a:pt x="648" y="0"/>
                </a:lnTo>
                <a:lnTo>
                  <a:pt x="619" y="0"/>
                </a:lnTo>
                <a:lnTo>
                  <a:pt x="588" y="0"/>
                </a:lnTo>
                <a:lnTo>
                  <a:pt x="559" y="0"/>
                </a:lnTo>
                <a:lnTo>
                  <a:pt x="529" y="0"/>
                </a:lnTo>
                <a:lnTo>
                  <a:pt x="506" y="5"/>
                </a:lnTo>
                <a:lnTo>
                  <a:pt x="476" y="5"/>
                </a:lnTo>
                <a:lnTo>
                  <a:pt x="453" y="11"/>
                </a:lnTo>
                <a:lnTo>
                  <a:pt x="423" y="23"/>
                </a:lnTo>
                <a:lnTo>
                  <a:pt x="394" y="29"/>
                </a:lnTo>
                <a:lnTo>
                  <a:pt x="370" y="40"/>
                </a:lnTo>
                <a:lnTo>
                  <a:pt x="341" y="52"/>
                </a:lnTo>
                <a:lnTo>
                  <a:pt x="317" y="64"/>
                </a:lnTo>
                <a:lnTo>
                  <a:pt x="294" y="76"/>
                </a:lnTo>
                <a:lnTo>
                  <a:pt x="270" y="87"/>
                </a:lnTo>
                <a:lnTo>
                  <a:pt x="247" y="105"/>
                </a:lnTo>
                <a:lnTo>
                  <a:pt x="223" y="122"/>
                </a:lnTo>
                <a:lnTo>
                  <a:pt x="206" y="140"/>
                </a:lnTo>
                <a:lnTo>
                  <a:pt x="182" y="157"/>
                </a:lnTo>
                <a:lnTo>
                  <a:pt x="164" y="175"/>
                </a:lnTo>
                <a:lnTo>
                  <a:pt x="147" y="198"/>
                </a:lnTo>
                <a:lnTo>
                  <a:pt x="129" y="222"/>
                </a:lnTo>
                <a:lnTo>
                  <a:pt x="111" y="245"/>
                </a:lnTo>
                <a:lnTo>
                  <a:pt x="94" y="263"/>
                </a:lnTo>
                <a:lnTo>
                  <a:pt x="82" y="292"/>
                </a:lnTo>
                <a:lnTo>
                  <a:pt x="64" y="315"/>
                </a:lnTo>
                <a:lnTo>
                  <a:pt x="52" y="339"/>
                </a:lnTo>
                <a:lnTo>
                  <a:pt x="41" y="362"/>
                </a:lnTo>
                <a:lnTo>
                  <a:pt x="35" y="391"/>
                </a:lnTo>
                <a:lnTo>
                  <a:pt x="23" y="415"/>
                </a:lnTo>
                <a:lnTo>
                  <a:pt x="17" y="444"/>
                </a:lnTo>
                <a:lnTo>
                  <a:pt x="11" y="468"/>
                </a:lnTo>
                <a:lnTo>
                  <a:pt x="5" y="497"/>
                </a:lnTo>
                <a:lnTo>
                  <a:pt x="5" y="526"/>
                </a:lnTo>
                <a:lnTo>
                  <a:pt x="0" y="555"/>
                </a:lnTo>
                <a:lnTo>
                  <a:pt x="0" y="579"/>
                </a:lnTo>
                <a:lnTo>
                  <a:pt x="0" y="609"/>
                </a:lnTo>
                <a:lnTo>
                  <a:pt x="5" y="638"/>
                </a:lnTo>
                <a:lnTo>
                  <a:pt x="5" y="662"/>
                </a:lnTo>
                <a:lnTo>
                  <a:pt x="11" y="691"/>
                </a:lnTo>
                <a:lnTo>
                  <a:pt x="17" y="720"/>
                </a:lnTo>
                <a:lnTo>
                  <a:pt x="23" y="743"/>
                </a:lnTo>
                <a:lnTo>
                  <a:pt x="35" y="773"/>
                </a:lnTo>
                <a:lnTo>
                  <a:pt x="41" y="796"/>
                </a:lnTo>
                <a:lnTo>
                  <a:pt x="52" y="825"/>
                </a:lnTo>
                <a:lnTo>
                  <a:pt x="64" y="849"/>
                </a:lnTo>
                <a:lnTo>
                  <a:pt x="82" y="872"/>
                </a:lnTo>
                <a:lnTo>
                  <a:pt x="94" y="896"/>
                </a:lnTo>
                <a:lnTo>
                  <a:pt x="111" y="919"/>
                </a:lnTo>
                <a:lnTo>
                  <a:pt x="129" y="942"/>
                </a:lnTo>
                <a:lnTo>
                  <a:pt x="147" y="966"/>
                </a:lnTo>
                <a:lnTo>
                  <a:pt x="164" y="983"/>
                </a:lnTo>
                <a:lnTo>
                  <a:pt x="182" y="1007"/>
                </a:lnTo>
                <a:lnTo>
                  <a:pt x="206" y="1024"/>
                </a:lnTo>
                <a:lnTo>
                  <a:pt x="223" y="1042"/>
                </a:lnTo>
                <a:lnTo>
                  <a:pt x="247" y="1059"/>
                </a:lnTo>
                <a:lnTo>
                  <a:pt x="270" y="1071"/>
                </a:lnTo>
                <a:lnTo>
                  <a:pt x="294" y="1089"/>
                </a:lnTo>
                <a:lnTo>
                  <a:pt x="317" y="1100"/>
                </a:lnTo>
                <a:lnTo>
                  <a:pt x="341" y="1112"/>
                </a:lnTo>
                <a:lnTo>
                  <a:pt x="370" y="1124"/>
                </a:lnTo>
                <a:lnTo>
                  <a:pt x="394" y="1135"/>
                </a:lnTo>
                <a:lnTo>
                  <a:pt x="423" y="1141"/>
                </a:lnTo>
                <a:lnTo>
                  <a:pt x="453" y="1147"/>
                </a:lnTo>
                <a:lnTo>
                  <a:pt x="476" y="1153"/>
                </a:lnTo>
                <a:lnTo>
                  <a:pt x="506" y="1159"/>
                </a:lnTo>
                <a:lnTo>
                  <a:pt x="529" y="1165"/>
                </a:lnTo>
                <a:lnTo>
                  <a:pt x="559" y="1165"/>
                </a:lnTo>
                <a:lnTo>
                  <a:pt x="588" y="1165"/>
                </a:lnTo>
                <a:lnTo>
                  <a:pt x="619" y="1165"/>
                </a:lnTo>
                <a:lnTo>
                  <a:pt x="648" y="1165"/>
                </a:lnTo>
                <a:lnTo>
                  <a:pt x="672" y="1159"/>
                </a:lnTo>
                <a:lnTo>
                  <a:pt x="701" y="1153"/>
                </a:lnTo>
                <a:lnTo>
                  <a:pt x="725" y="1147"/>
                </a:lnTo>
                <a:lnTo>
                  <a:pt x="754" y="1141"/>
                </a:lnTo>
                <a:lnTo>
                  <a:pt x="783" y="1135"/>
                </a:lnTo>
                <a:lnTo>
                  <a:pt x="807" y="1124"/>
                </a:lnTo>
                <a:lnTo>
                  <a:pt x="831" y="1112"/>
                </a:lnTo>
                <a:lnTo>
                  <a:pt x="860" y="1100"/>
                </a:lnTo>
                <a:lnTo>
                  <a:pt x="884" y="1089"/>
                </a:lnTo>
                <a:lnTo>
                  <a:pt x="907" y="1071"/>
                </a:lnTo>
                <a:lnTo>
                  <a:pt x="931" y="1059"/>
                </a:lnTo>
                <a:lnTo>
                  <a:pt x="954" y="1042"/>
                </a:lnTo>
                <a:lnTo>
                  <a:pt x="972" y="1024"/>
                </a:lnTo>
                <a:lnTo>
                  <a:pt x="995" y="1007"/>
                </a:lnTo>
                <a:lnTo>
                  <a:pt x="1013" y="983"/>
                </a:lnTo>
                <a:lnTo>
                  <a:pt x="1031" y="966"/>
                </a:lnTo>
                <a:lnTo>
                  <a:pt x="1048" y="942"/>
                </a:lnTo>
                <a:lnTo>
                  <a:pt x="1066" y="919"/>
                </a:lnTo>
                <a:lnTo>
                  <a:pt x="1084" y="896"/>
                </a:lnTo>
                <a:lnTo>
                  <a:pt x="1095" y="872"/>
                </a:lnTo>
                <a:lnTo>
                  <a:pt x="1113" y="849"/>
                </a:lnTo>
                <a:lnTo>
                  <a:pt x="1125" y="825"/>
                </a:lnTo>
                <a:lnTo>
                  <a:pt x="1137" y="796"/>
                </a:lnTo>
                <a:lnTo>
                  <a:pt x="1143" y="773"/>
                </a:lnTo>
                <a:lnTo>
                  <a:pt x="1154" y="743"/>
                </a:lnTo>
                <a:lnTo>
                  <a:pt x="1160" y="720"/>
                </a:lnTo>
                <a:lnTo>
                  <a:pt x="1166" y="691"/>
                </a:lnTo>
                <a:lnTo>
                  <a:pt x="1172" y="662"/>
                </a:lnTo>
                <a:lnTo>
                  <a:pt x="1172" y="638"/>
                </a:lnTo>
                <a:lnTo>
                  <a:pt x="1178" y="609"/>
                </a:lnTo>
                <a:lnTo>
                  <a:pt x="1178" y="57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/>
          <p:nvPr/>
        </p:nvSpPr>
        <p:spPr>
          <a:xfrm>
            <a:off x="4040280" y="3103560"/>
            <a:ext cx="421200" cy="422640"/>
          </a:xfrm>
          <a:custGeom>
            <a:avLst/>
            <a:gdLst/>
            <a:ahLst/>
            <a:rect l="0" t="0" r="r" b="b"/>
            <a:pathLst>
              <a:path fill="none" w="1170" h="1174">
                <a:moveTo>
                  <a:pt x="1170" y="587"/>
                </a:moveTo>
                <a:lnTo>
                  <a:pt x="1170" y="558"/>
                </a:lnTo>
                <a:lnTo>
                  <a:pt x="1164" y="534"/>
                </a:lnTo>
                <a:lnTo>
                  <a:pt x="1164" y="505"/>
                </a:lnTo>
                <a:lnTo>
                  <a:pt x="1158" y="476"/>
                </a:lnTo>
                <a:lnTo>
                  <a:pt x="1153" y="452"/>
                </a:lnTo>
                <a:lnTo>
                  <a:pt x="1147" y="423"/>
                </a:lnTo>
                <a:lnTo>
                  <a:pt x="1135" y="399"/>
                </a:lnTo>
                <a:lnTo>
                  <a:pt x="1129" y="370"/>
                </a:lnTo>
                <a:lnTo>
                  <a:pt x="1117" y="347"/>
                </a:lnTo>
                <a:lnTo>
                  <a:pt x="1106" y="317"/>
                </a:lnTo>
                <a:lnTo>
                  <a:pt x="1088" y="294"/>
                </a:lnTo>
                <a:lnTo>
                  <a:pt x="1077" y="269"/>
                </a:lnTo>
                <a:lnTo>
                  <a:pt x="1059" y="246"/>
                </a:lnTo>
                <a:lnTo>
                  <a:pt x="1042" y="228"/>
                </a:lnTo>
                <a:lnTo>
                  <a:pt x="1024" y="205"/>
                </a:lnTo>
                <a:lnTo>
                  <a:pt x="1006" y="181"/>
                </a:lnTo>
                <a:lnTo>
                  <a:pt x="989" y="164"/>
                </a:lnTo>
                <a:lnTo>
                  <a:pt x="966" y="146"/>
                </a:lnTo>
                <a:lnTo>
                  <a:pt x="948" y="129"/>
                </a:lnTo>
                <a:lnTo>
                  <a:pt x="925" y="111"/>
                </a:lnTo>
                <a:lnTo>
                  <a:pt x="901" y="93"/>
                </a:lnTo>
                <a:lnTo>
                  <a:pt x="878" y="82"/>
                </a:lnTo>
                <a:lnTo>
                  <a:pt x="854" y="64"/>
                </a:lnTo>
                <a:lnTo>
                  <a:pt x="830" y="52"/>
                </a:lnTo>
                <a:lnTo>
                  <a:pt x="801" y="46"/>
                </a:lnTo>
                <a:lnTo>
                  <a:pt x="778" y="35"/>
                </a:lnTo>
                <a:lnTo>
                  <a:pt x="748" y="23"/>
                </a:lnTo>
                <a:lnTo>
                  <a:pt x="725" y="17"/>
                </a:lnTo>
                <a:lnTo>
                  <a:pt x="696" y="11"/>
                </a:lnTo>
                <a:lnTo>
                  <a:pt x="667" y="5"/>
                </a:lnTo>
                <a:lnTo>
                  <a:pt x="643" y="5"/>
                </a:lnTo>
                <a:lnTo>
                  <a:pt x="614" y="0"/>
                </a:lnTo>
                <a:lnTo>
                  <a:pt x="585" y="0"/>
                </a:lnTo>
                <a:lnTo>
                  <a:pt x="556" y="0"/>
                </a:lnTo>
                <a:lnTo>
                  <a:pt x="532" y="5"/>
                </a:lnTo>
                <a:lnTo>
                  <a:pt x="503" y="5"/>
                </a:lnTo>
                <a:lnTo>
                  <a:pt x="474" y="11"/>
                </a:lnTo>
                <a:lnTo>
                  <a:pt x="450" y="17"/>
                </a:lnTo>
                <a:lnTo>
                  <a:pt x="421" y="23"/>
                </a:lnTo>
                <a:lnTo>
                  <a:pt x="392" y="35"/>
                </a:lnTo>
                <a:lnTo>
                  <a:pt x="369" y="46"/>
                </a:lnTo>
                <a:lnTo>
                  <a:pt x="345" y="52"/>
                </a:lnTo>
                <a:lnTo>
                  <a:pt x="316" y="64"/>
                </a:lnTo>
                <a:lnTo>
                  <a:pt x="293" y="82"/>
                </a:lnTo>
                <a:lnTo>
                  <a:pt x="268" y="93"/>
                </a:lnTo>
                <a:lnTo>
                  <a:pt x="245" y="111"/>
                </a:lnTo>
                <a:lnTo>
                  <a:pt x="222" y="129"/>
                </a:lnTo>
                <a:lnTo>
                  <a:pt x="204" y="146"/>
                </a:lnTo>
                <a:lnTo>
                  <a:pt x="181" y="164"/>
                </a:lnTo>
                <a:lnTo>
                  <a:pt x="163" y="181"/>
                </a:lnTo>
                <a:lnTo>
                  <a:pt x="146" y="205"/>
                </a:lnTo>
                <a:lnTo>
                  <a:pt x="128" y="228"/>
                </a:lnTo>
                <a:lnTo>
                  <a:pt x="111" y="246"/>
                </a:lnTo>
                <a:lnTo>
                  <a:pt x="93" y="269"/>
                </a:lnTo>
                <a:lnTo>
                  <a:pt x="81" y="294"/>
                </a:lnTo>
                <a:lnTo>
                  <a:pt x="64" y="317"/>
                </a:lnTo>
                <a:lnTo>
                  <a:pt x="52" y="347"/>
                </a:lnTo>
                <a:lnTo>
                  <a:pt x="40" y="370"/>
                </a:lnTo>
                <a:lnTo>
                  <a:pt x="35" y="399"/>
                </a:lnTo>
                <a:lnTo>
                  <a:pt x="23" y="423"/>
                </a:lnTo>
                <a:lnTo>
                  <a:pt x="17" y="452"/>
                </a:lnTo>
                <a:lnTo>
                  <a:pt x="11" y="476"/>
                </a:lnTo>
                <a:lnTo>
                  <a:pt x="5" y="505"/>
                </a:lnTo>
                <a:lnTo>
                  <a:pt x="5" y="534"/>
                </a:lnTo>
                <a:lnTo>
                  <a:pt x="5" y="558"/>
                </a:lnTo>
                <a:lnTo>
                  <a:pt x="0" y="587"/>
                </a:lnTo>
                <a:lnTo>
                  <a:pt x="5" y="616"/>
                </a:lnTo>
                <a:lnTo>
                  <a:pt x="5" y="646"/>
                </a:lnTo>
                <a:lnTo>
                  <a:pt x="5" y="669"/>
                </a:lnTo>
                <a:lnTo>
                  <a:pt x="11" y="698"/>
                </a:lnTo>
                <a:lnTo>
                  <a:pt x="17" y="728"/>
                </a:lnTo>
                <a:lnTo>
                  <a:pt x="23" y="751"/>
                </a:lnTo>
                <a:lnTo>
                  <a:pt x="35" y="781"/>
                </a:lnTo>
                <a:lnTo>
                  <a:pt x="40" y="804"/>
                </a:lnTo>
                <a:lnTo>
                  <a:pt x="52" y="833"/>
                </a:lnTo>
                <a:lnTo>
                  <a:pt x="64" y="857"/>
                </a:lnTo>
                <a:lnTo>
                  <a:pt x="81" y="880"/>
                </a:lnTo>
                <a:lnTo>
                  <a:pt x="93" y="905"/>
                </a:lnTo>
                <a:lnTo>
                  <a:pt x="111" y="928"/>
                </a:lnTo>
                <a:lnTo>
                  <a:pt x="128" y="952"/>
                </a:lnTo>
                <a:lnTo>
                  <a:pt x="146" y="975"/>
                </a:lnTo>
                <a:lnTo>
                  <a:pt x="163" y="993"/>
                </a:lnTo>
                <a:lnTo>
                  <a:pt x="181" y="1010"/>
                </a:lnTo>
                <a:lnTo>
                  <a:pt x="204" y="1034"/>
                </a:lnTo>
                <a:lnTo>
                  <a:pt x="222" y="1051"/>
                </a:lnTo>
                <a:lnTo>
                  <a:pt x="245" y="1063"/>
                </a:lnTo>
                <a:lnTo>
                  <a:pt x="268" y="1081"/>
                </a:lnTo>
                <a:lnTo>
                  <a:pt x="293" y="1098"/>
                </a:lnTo>
                <a:lnTo>
                  <a:pt x="316" y="1110"/>
                </a:lnTo>
                <a:lnTo>
                  <a:pt x="345" y="1122"/>
                </a:lnTo>
                <a:lnTo>
                  <a:pt x="369" y="1133"/>
                </a:lnTo>
                <a:lnTo>
                  <a:pt x="392" y="1139"/>
                </a:lnTo>
                <a:lnTo>
                  <a:pt x="421" y="1151"/>
                </a:lnTo>
                <a:lnTo>
                  <a:pt x="450" y="1157"/>
                </a:lnTo>
                <a:lnTo>
                  <a:pt x="474" y="1163"/>
                </a:lnTo>
                <a:lnTo>
                  <a:pt x="503" y="1169"/>
                </a:lnTo>
                <a:lnTo>
                  <a:pt x="532" y="1169"/>
                </a:lnTo>
                <a:lnTo>
                  <a:pt x="556" y="1174"/>
                </a:lnTo>
                <a:lnTo>
                  <a:pt x="585" y="1174"/>
                </a:lnTo>
                <a:lnTo>
                  <a:pt x="614" y="1174"/>
                </a:lnTo>
                <a:lnTo>
                  <a:pt x="643" y="1169"/>
                </a:lnTo>
                <a:lnTo>
                  <a:pt x="667" y="1169"/>
                </a:lnTo>
                <a:lnTo>
                  <a:pt x="696" y="1163"/>
                </a:lnTo>
                <a:lnTo>
                  <a:pt x="725" y="1157"/>
                </a:lnTo>
                <a:lnTo>
                  <a:pt x="748" y="1151"/>
                </a:lnTo>
                <a:lnTo>
                  <a:pt x="778" y="1139"/>
                </a:lnTo>
                <a:lnTo>
                  <a:pt x="801" y="1133"/>
                </a:lnTo>
                <a:lnTo>
                  <a:pt x="830" y="1122"/>
                </a:lnTo>
                <a:lnTo>
                  <a:pt x="854" y="1110"/>
                </a:lnTo>
                <a:lnTo>
                  <a:pt x="878" y="1098"/>
                </a:lnTo>
                <a:lnTo>
                  <a:pt x="901" y="1081"/>
                </a:lnTo>
                <a:lnTo>
                  <a:pt x="925" y="1063"/>
                </a:lnTo>
                <a:lnTo>
                  <a:pt x="948" y="1051"/>
                </a:lnTo>
                <a:lnTo>
                  <a:pt x="966" y="1034"/>
                </a:lnTo>
                <a:lnTo>
                  <a:pt x="989" y="1010"/>
                </a:lnTo>
                <a:lnTo>
                  <a:pt x="1006" y="993"/>
                </a:lnTo>
                <a:lnTo>
                  <a:pt x="1024" y="975"/>
                </a:lnTo>
                <a:lnTo>
                  <a:pt x="1042" y="952"/>
                </a:lnTo>
                <a:lnTo>
                  <a:pt x="1059" y="928"/>
                </a:lnTo>
                <a:lnTo>
                  <a:pt x="1077" y="905"/>
                </a:lnTo>
                <a:lnTo>
                  <a:pt x="1088" y="880"/>
                </a:lnTo>
                <a:lnTo>
                  <a:pt x="1106" y="857"/>
                </a:lnTo>
                <a:lnTo>
                  <a:pt x="1117" y="833"/>
                </a:lnTo>
                <a:lnTo>
                  <a:pt x="1129" y="804"/>
                </a:lnTo>
                <a:lnTo>
                  <a:pt x="1135" y="781"/>
                </a:lnTo>
                <a:lnTo>
                  <a:pt x="1147" y="751"/>
                </a:lnTo>
                <a:lnTo>
                  <a:pt x="1153" y="728"/>
                </a:lnTo>
                <a:lnTo>
                  <a:pt x="1158" y="698"/>
                </a:lnTo>
                <a:lnTo>
                  <a:pt x="1164" y="669"/>
                </a:lnTo>
                <a:lnTo>
                  <a:pt x="1164" y="646"/>
                </a:lnTo>
                <a:lnTo>
                  <a:pt x="1170" y="616"/>
                </a:lnTo>
                <a:lnTo>
                  <a:pt x="1170" y="58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"/>
          <p:cNvSpPr/>
          <p:nvPr/>
        </p:nvSpPr>
        <p:spPr>
          <a:xfrm>
            <a:off x="5475240" y="4068720"/>
            <a:ext cx="0" cy="114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"/>
          <p:cNvSpPr/>
          <p:nvPr/>
        </p:nvSpPr>
        <p:spPr>
          <a:xfrm flipH="1" flipV="1">
            <a:off x="4432320" y="4668840"/>
            <a:ext cx="977760" cy="5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"/>
          <p:cNvSpPr/>
          <p:nvPr/>
        </p:nvSpPr>
        <p:spPr>
          <a:xfrm>
            <a:off x="4040280" y="4354560"/>
            <a:ext cx="421200" cy="421200"/>
          </a:xfrm>
          <a:custGeom>
            <a:avLst/>
            <a:gdLst/>
            <a:ahLst/>
            <a:rect l="0" t="0" r="r" b="b"/>
            <a:pathLst>
              <a:path fill="none" w="1170" h="1170">
                <a:moveTo>
                  <a:pt x="1170" y="585"/>
                </a:moveTo>
                <a:lnTo>
                  <a:pt x="1170" y="556"/>
                </a:lnTo>
                <a:lnTo>
                  <a:pt x="1164" y="532"/>
                </a:lnTo>
                <a:lnTo>
                  <a:pt x="1164" y="503"/>
                </a:lnTo>
                <a:lnTo>
                  <a:pt x="1158" y="474"/>
                </a:lnTo>
                <a:lnTo>
                  <a:pt x="1153" y="450"/>
                </a:lnTo>
                <a:lnTo>
                  <a:pt x="1147" y="421"/>
                </a:lnTo>
                <a:lnTo>
                  <a:pt x="1135" y="398"/>
                </a:lnTo>
                <a:lnTo>
                  <a:pt x="1129" y="369"/>
                </a:lnTo>
                <a:lnTo>
                  <a:pt x="1117" y="345"/>
                </a:lnTo>
                <a:lnTo>
                  <a:pt x="1106" y="322"/>
                </a:lnTo>
                <a:lnTo>
                  <a:pt x="1088" y="293"/>
                </a:lnTo>
                <a:lnTo>
                  <a:pt x="1077" y="268"/>
                </a:lnTo>
                <a:lnTo>
                  <a:pt x="1059" y="245"/>
                </a:lnTo>
                <a:lnTo>
                  <a:pt x="1042" y="227"/>
                </a:lnTo>
                <a:lnTo>
                  <a:pt x="1024" y="204"/>
                </a:lnTo>
                <a:lnTo>
                  <a:pt x="1006" y="181"/>
                </a:lnTo>
                <a:lnTo>
                  <a:pt x="989" y="163"/>
                </a:lnTo>
                <a:lnTo>
                  <a:pt x="966" y="146"/>
                </a:lnTo>
                <a:lnTo>
                  <a:pt x="948" y="128"/>
                </a:lnTo>
                <a:lnTo>
                  <a:pt x="925" y="111"/>
                </a:lnTo>
                <a:lnTo>
                  <a:pt x="901" y="93"/>
                </a:lnTo>
                <a:lnTo>
                  <a:pt x="878" y="81"/>
                </a:lnTo>
                <a:lnTo>
                  <a:pt x="854" y="64"/>
                </a:lnTo>
                <a:lnTo>
                  <a:pt x="830" y="52"/>
                </a:lnTo>
                <a:lnTo>
                  <a:pt x="801" y="46"/>
                </a:lnTo>
                <a:lnTo>
                  <a:pt x="778" y="35"/>
                </a:lnTo>
                <a:lnTo>
                  <a:pt x="748" y="23"/>
                </a:lnTo>
                <a:lnTo>
                  <a:pt x="725" y="17"/>
                </a:lnTo>
                <a:lnTo>
                  <a:pt x="696" y="11"/>
                </a:lnTo>
                <a:lnTo>
                  <a:pt x="667" y="5"/>
                </a:lnTo>
                <a:lnTo>
                  <a:pt x="643" y="5"/>
                </a:lnTo>
                <a:lnTo>
                  <a:pt x="614" y="0"/>
                </a:lnTo>
                <a:lnTo>
                  <a:pt x="585" y="0"/>
                </a:lnTo>
                <a:lnTo>
                  <a:pt x="556" y="0"/>
                </a:lnTo>
                <a:lnTo>
                  <a:pt x="532" y="5"/>
                </a:lnTo>
                <a:lnTo>
                  <a:pt x="503" y="5"/>
                </a:lnTo>
                <a:lnTo>
                  <a:pt x="474" y="11"/>
                </a:lnTo>
                <a:lnTo>
                  <a:pt x="450" y="17"/>
                </a:lnTo>
                <a:lnTo>
                  <a:pt x="421" y="23"/>
                </a:lnTo>
                <a:lnTo>
                  <a:pt x="392" y="35"/>
                </a:lnTo>
                <a:lnTo>
                  <a:pt x="369" y="46"/>
                </a:lnTo>
                <a:lnTo>
                  <a:pt x="345" y="52"/>
                </a:lnTo>
                <a:lnTo>
                  <a:pt x="316" y="64"/>
                </a:lnTo>
                <a:lnTo>
                  <a:pt x="293" y="81"/>
                </a:lnTo>
                <a:lnTo>
                  <a:pt x="268" y="93"/>
                </a:lnTo>
                <a:lnTo>
                  <a:pt x="245" y="111"/>
                </a:lnTo>
                <a:lnTo>
                  <a:pt x="222" y="128"/>
                </a:lnTo>
                <a:lnTo>
                  <a:pt x="204" y="146"/>
                </a:lnTo>
                <a:lnTo>
                  <a:pt x="181" y="163"/>
                </a:lnTo>
                <a:lnTo>
                  <a:pt x="163" y="181"/>
                </a:lnTo>
                <a:lnTo>
                  <a:pt x="146" y="204"/>
                </a:lnTo>
                <a:lnTo>
                  <a:pt x="128" y="227"/>
                </a:lnTo>
                <a:lnTo>
                  <a:pt x="111" y="245"/>
                </a:lnTo>
                <a:lnTo>
                  <a:pt x="93" y="268"/>
                </a:lnTo>
                <a:lnTo>
                  <a:pt x="81" y="293"/>
                </a:lnTo>
                <a:lnTo>
                  <a:pt x="64" y="322"/>
                </a:lnTo>
                <a:lnTo>
                  <a:pt x="52" y="345"/>
                </a:lnTo>
                <a:lnTo>
                  <a:pt x="40" y="369"/>
                </a:lnTo>
                <a:lnTo>
                  <a:pt x="35" y="398"/>
                </a:lnTo>
                <a:lnTo>
                  <a:pt x="23" y="421"/>
                </a:lnTo>
                <a:lnTo>
                  <a:pt x="17" y="450"/>
                </a:lnTo>
                <a:lnTo>
                  <a:pt x="11" y="474"/>
                </a:lnTo>
                <a:lnTo>
                  <a:pt x="5" y="503"/>
                </a:lnTo>
                <a:lnTo>
                  <a:pt x="5" y="532"/>
                </a:lnTo>
                <a:lnTo>
                  <a:pt x="5" y="556"/>
                </a:lnTo>
                <a:lnTo>
                  <a:pt x="0" y="585"/>
                </a:lnTo>
                <a:lnTo>
                  <a:pt x="5" y="614"/>
                </a:lnTo>
                <a:lnTo>
                  <a:pt x="5" y="643"/>
                </a:lnTo>
                <a:lnTo>
                  <a:pt x="5" y="667"/>
                </a:lnTo>
                <a:lnTo>
                  <a:pt x="11" y="696"/>
                </a:lnTo>
                <a:lnTo>
                  <a:pt x="17" y="725"/>
                </a:lnTo>
                <a:lnTo>
                  <a:pt x="23" y="748"/>
                </a:lnTo>
                <a:lnTo>
                  <a:pt x="35" y="778"/>
                </a:lnTo>
                <a:lnTo>
                  <a:pt x="40" y="801"/>
                </a:lnTo>
                <a:lnTo>
                  <a:pt x="52" y="830"/>
                </a:lnTo>
                <a:lnTo>
                  <a:pt x="64" y="854"/>
                </a:lnTo>
                <a:lnTo>
                  <a:pt x="81" y="878"/>
                </a:lnTo>
                <a:lnTo>
                  <a:pt x="93" y="901"/>
                </a:lnTo>
                <a:lnTo>
                  <a:pt x="111" y="925"/>
                </a:lnTo>
                <a:lnTo>
                  <a:pt x="128" y="948"/>
                </a:lnTo>
                <a:lnTo>
                  <a:pt x="146" y="971"/>
                </a:lnTo>
                <a:lnTo>
                  <a:pt x="163" y="989"/>
                </a:lnTo>
                <a:lnTo>
                  <a:pt x="181" y="1006"/>
                </a:lnTo>
                <a:lnTo>
                  <a:pt x="204" y="1030"/>
                </a:lnTo>
                <a:lnTo>
                  <a:pt x="222" y="1047"/>
                </a:lnTo>
                <a:lnTo>
                  <a:pt x="245" y="1059"/>
                </a:lnTo>
                <a:lnTo>
                  <a:pt x="268" y="1077"/>
                </a:lnTo>
                <a:lnTo>
                  <a:pt x="293" y="1094"/>
                </a:lnTo>
                <a:lnTo>
                  <a:pt x="316" y="1106"/>
                </a:lnTo>
                <a:lnTo>
                  <a:pt x="345" y="1117"/>
                </a:lnTo>
                <a:lnTo>
                  <a:pt x="369" y="1129"/>
                </a:lnTo>
                <a:lnTo>
                  <a:pt x="392" y="1135"/>
                </a:lnTo>
                <a:lnTo>
                  <a:pt x="421" y="1147"/>
                </a:lnTo>
                <a:lnTo>
                  <a:pt x="450" y="1153"/>
                </a:lnTo>
                <a:lnTo>
                  <a:pt x="474" y="1158"/>
                </a:lnTo>
                <a:lnTo>
                  <a:pt x="503" y="1164"/>
                </a:lnTo>
                <a:lnTo>
                  <a:pt x="532" y="1164"/>
                </a:lnTo>
                <a:lnTo>
                  <a:pt x="556" y="1170"/>
                </a:lnTo>
                <a:lnTo>
                  <a:pt x="585" y="1170"/>
                </a:lnTo>
                <a:lnTo>
                  <a:pt x="614" y="1170"/>
                </a:lnTo>
                <a:lnTo>
                  <a:pt x="643" y="1164"/>
                </a:lnTo>
                <a:lnTo>
                  <a:pt x="667" y="1164"/>
                </a:lnTo>
                <a:lnTo>
                  <a:pt x="696" y="1158"/>
                </a:lnTo>
                <a:lnTo>
                  <a:pt x="725" y="1153"/>
                </a:lnTo>
                <a:lnTo>
                  <a:pt x="748" y="1147"/>
                </a:lnTo>
                <a:lnTo>
                  <a:pt x="778" y="1135"/>
                </a:lnTo>
                <a:lnTo>
                  <a:pt x="801" y="1129"/>
                </a:lnTo>
                <a:lnTo>
                  <a:pt x="830" y="1117"/>
                </a:lnTo>
                <a:lnTo>
                  <a:pt x="854" y="1106"/>
                </a:lnTo>
                <a:lnTo>
                  <a:pt x="878" y="1094"/>
                </a:lnTo>
                <a:lnTo>
                  <a:pt x="901" y="1077"/>
                </a:lnTo>
                <a:lnTo>
                  <a:pt x="925" y="1059"/>
                </a:lnTo>
                <a:lnTo>
                  <a:pt x="948" y="1047"/>
                </a:lnTo>
                <a:lnTo>
                  <a:pt x="966" y="1030"/>
                </a:lnTo>
                <a:lnTo>
                  <a:pt x="989" y="1006"/>
                </a:lnTo>
                <a:lnTo>
                  <a:pt x="1006" y="989"/>
                </a:lnTo>
                <a:lnTo>
                  <a:pt x="1024" y="971"/>
                </a:lnTo>
                <a:lnTo>
                  <a:pt x="1042" y="948"/>
                </a:lnTo>
                <a:lnTo>
                  <a:pt x="1059" y="925"/>
                </a:lnTo>
                <a:lnTo>
                  <a:pt x="1077" y="901"/>
                </a:lnTo>
                <a:lnTo>
                  <a:pt x="1088" y="878"/>
                </a:lnTo>
                <a:lnTo>
                  <a:pt x="1106" y="854"/>
                </a:lnTo>
                <a:lnTo>
                  <a:pt x="1117" y="830"/>
                </a:lnTo>
                <a:lnTo>
                  <a:pt x="1129" y="801"/>
                </a:lnTo>
                <a:lnTo>
                  <a:pt x="1135" y="778"/>
                </a:lnTo>
                <a:lnTo>
                  <a:pt x="1147" y="748"/>
                </a:lnTo>
                <a:lnTo>
                  <a:pt x="1153" y="725"/>
                </a:lnTo>
                <a:lnTo>
                  <a:pt x="1158" y="696"/>
                </a:lnTo>
                <a:lnTo>
                  <a:pt x="1164" y="667"/>
                </a:lnTo>
                <a:lnTo>
                  <a:pt x="1164" y="643"/>
                </a:lnTo>
                <a:lnTo>
                  <a:pt x="1170" y="614"/>
                </a:lnTo>
                <a:lnTo>
                  <a:pt x="1170" y="58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/>
          <p:nvPr/>
        </p:nvSpPr>
        <p:spPr>
          <a:xfrm flipH="1" flipV="1">
            <a:off x="6073920" y="4500720"/>
            <a:ext cx="241200" cy="241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6073920" y="4500720"/>
            <a:ext cx="241200" cy="241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"/>
          <p:cNvSpPr/>
          <p:nvPr/>
        </p:nvSpPr>
        <p:spPr>
          <a:xfrm>
            <a:off x="5079960" y="3322800"/>
            <a:ext cx="1572120" cy="2481480"/>
          </a:xfrm>
          <a:custGeom>
            <a:avLst/>
            <a:gdLst/>
            <a:ahLst/>
            <a:rect l="0" t="0" r="r" b="b"/>
            <a:pathLst>
              <a:path fill="none" w="4367" h="6893">
                <a:moveTo>
                  <a:pt x="0" y="6893"/>
                </a:moveTo>
                <a:lnTo>
                  <a:pt x="0" y="0"/>
                </a:lnTo>
                <a:lnTo>
                  <a:pt x="4367" y="0"/>
                </a:lnTo>
                <a:lnTo>
                  <a:pt x="4367" y="6893"/>
                </a:lnTo>
                <a:lnTo>
                  <a:pt x="0" y="689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"/>
          <p:cNvSpPr/>
          <p:nvPr/>
        </p:nvSpPr>
        <p:spPr>
          <a:xfrm flipH="1" flipV="1">
            <a:off x="5356080" y="5127480"/>
            <a:ext cx="239760" cy="2397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5356080" y="5127480"/>
            <a:ext cx="239760" cy="2397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 flipH="1" flipV="1">
            <a:off x="4917960" y="4222800"/>
            <a:ext cx="1227240" cy="398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 flipH="1" flipV="1">
            <a:off x="4432320" y="3419640"/>
            <a:ext cx="977760" cy="569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"/>
          <p:cNvSpPr/>
          <p:nvPr/>
        </p:nvSpPr>
        <p:spPr>
          <a:xfrm>
            <a:off x="4040280" y="4564080"/>
            <a:ext cx="420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"/>
          <p:cNvSpPr/>
          <p:nvPr/>
        </p:nvSpPr>
        <p:spPr>
          <a:xfrm>
            <a:off x="4505400" y="3946680"/>
            <a:ext cx="422640" cy="422640"/>
          </a:xfrm>
          <a:custGeom>
            <a:avLst/>
            <a:gdLst/>
            <a:ahLst/>
            <a:rect l="0" t="0" r="r" b="b"/>
            <a:pathLst>
              <a:path fill="none" w="1174" h="1174">
                <a:moveTo>
                  <a:pt x="1174" y="587"/>
                </a:moveTo>
                <a:lnTo>
                  <a:pt x="1169" y="558"/>
                </a:lnTo>
                <a:lnTo>
                  <a:pt x="1169" y="528"/>
                </a:lnTo>
                <a:lnTo>
                  <a:pt x="1163" y="505"/>
                </a:lnTo>
                <a:lnTo>
                  <a:pt x="1163" y="476"/>
                </a:lnTo>
                <a:lnTo>
                  <a:pt x="1157" y="446"/>
                </a:lnTo>
                <a:lnTo>
                  <a:pt x="1151" y="423"/>
                </a:lnTo>
                <a:lnTo>
                  <a:pt x="1139" y="393"/>
                </a:lnTo>
                <a:lnTo>
                  <a:pt x="1128" y="370"/>
                </a:lnTo>
                <a:lnTo>
                  <a:pt x="1116" y="341"/>
                </a:lnTo>
                <a:lnTo>
                  <a:pt x="1104" y="317"/>
                </a:lnTo>
                <a:lnTo>
                  <a:pt x="1092" y="294"/>
                </a:lnTo>
                <a:lnTo>
                  <a:pt x="1081" y="269"/>
                </a:lnTo>
                <a:lnTo>
                  <a:pt x="1063" y="246"/>
                </a:lnTo>
                <a:lnTo>
                  <a:pt x="1045" y="222"/>
                </a:lnTo>
                <a:lnTo>
                  <a:pt x="1028" y="199"/>
                </a:lnTo>
                <a:lnTo>
                  <a:pt x="1010" y="181"/>
                </a:lnTo>
                <a:lnTo>
                  <a:pt x="993" y="158"/>
                </a:lnTo>
                <a:lnTo>
                  <a:pt x="969" y="140"/>
                </a:lnTo>
                <a:lnTo>
                  <a:pt x="946" y="123"/>
                </a:lnTo>
                <a:lnTo>
                  <a:pt x="928" y="105"/>
                </a:lnTo>
                <a:lnTo>
                  <a:pt x="905" y="93"/>
                </a:lnTo>
                <a:lnTo>
                  <a:pt x="880" y="76"/>
                </a:lnTo>
                <a:lnTo>
                  <a:pt x="857" y="64"/>
                </a:lnTo>
                <a:lnTo>
                  <a:pt x="827" y="52"/>
                </a:lnTo>
                <a:lnTo>
                  <a:pt x="804" y="41"/>
                </a:lnTo>
                <a:lnTo>
                  <a:pt x="775" y="29"/>
                </a:lnTo>
                <a:lnTo>
                  <a:pt x="751" y="23"/>
                </a:lnTo>
                <a:lnTo>
                  <a:pt x="722" y="17"/>
                </a:lnTo>
                <a:lnTo>
                  <a:pt x="698" y="11"/>
                </a:lnTo>
                <a:lnTo>
                  <a:pt x="669" y="5"/>
                </a:lnTo>
                <a:lnTo>
                  <a:pt x="640" y="0"/>
                </a:lnTo>
                <a:lnTo>
                  <a:pt x="616" y="0"/>
                </a:lnTo>
                <a:lnTo>
                  <a:pt x="587" y="0"/>
                </a:lnTo>
                <a:lnTo>
                  <a:pt x="558" y="0"/>
                </a:lnTo>
                <a:lnTo>
                  <a:pt x="528" y="0"/>
                </a:lnTo>
                <a:lnTo>
                  <a:pt x="505" y="5"/>
                </a:lnTo>
                <a:lnTo>
                  <a:pt x="476" y="11"/>
                </a:lnTo>
                <a:lnTo>
                  <a:pt x="446" y="17"/>
                </a:lnTo>
                <a:lnTo>
                  <a:pt x="423" y="23"/>
                </a:lnTo>
                <a:lnTo>
                  <a:pt x="393" y="29"/>
                </a:lnTo>
                <a:lnTo>
                  <a:pt x="370" y="41"/>
                </a:lnTo>
                <a:lnTo>
                  <a:pt x="341" y="52"/>
                </a:lnTo>
                <a:lnTo>
                  <a:pt x="317" y="64"/>
                </a:lnTo>
                <a:lnTo>
                  <a:pt x="294" y="76"/>
                </a:lnTo>
                <a:lnTo>
                  <a:pt x="269" y="93"/>
                </a:lnTo>
                <a:lnTo>
                  <a:pt x="246" y="105"/>
                </a:lnTo>
                <a:lnTo>
                  <a:pt x="222" y="123"/>
                </a:lnTo>
                <a:lnTo>
                  <a:pt x="205" y="140"/>
                </a:lnTo>
                <a:lnTo>
                  <a:pt x="181" y="158"/>
                </a:lnTo>
                <a:lnTo>
                  <a:pt x="164" y="181"/>
                </a:lnTo>
                <a:lnTo>
                  <a:pt x="140" y="199"/>
                </a:lnTo>
                <a:lnTo>
                  <a:pt x="123" y="222"/>
                </a:lnTo>
                <a:lnTo>
                  <a:pt x="111" y="246"/>
                </a:lnTo>
                <a:lnTo>
                  <a:pt x="93" y="269"/>
                </a:lnTo>
                <a:lnTo>
                  <a:pt x="82" y="294"/>
                </a:lnTo>
                <a:lnTo>
                  <a:pt x="64" y="317"/>
                </a:lnTo>
                <a:lnTo>
                  <a:pt x="52" y="341"/>
                </a:lnTo>
                <a:lnTo>
                  <a:pt x="41" y="370"/>
                </a:lnTo>
                <a:lnTo>
                  <a:pt x="35" y="393"/>
                </a:lnTo>
                <a:lnTo>
                  <a:pt x="23" y="423"/>
                </a:lnTo>
                <a:lnTo>
                  <a:pt x="17" y="446"/>
                </a:lnTo>
                <a:lnTo>
                  <a:pt x="11" y="476"/>
                </a:lnTo>
                <a:lnTo>
                  <a:pt x="5" y="505"/>
                </a:lnTo>
                <a:lnTo>
                  <a:pt x="0" y="528"/>
                </a:lnTo>
                <a:lnTo>
                  <a:pt x="0" y="558"/>
                </a:lnTo>
                <a:lnTo>
                  <a:pt x="0" y="587"/>
                </a:lnTo>
                <a:lnTo>
                  <a:pt x="0" y="610"/>
                </a:lnTo>
                <a:lnTo>
                  <a:pt x="0" y="640"/>
                </a:lnTo>
                <a:lnTo>
                  <a:pt x="5" y="669"/>
                </a:lnTo>
                <a:lnTo>
                  <a:pt x="11" y="698"/>
                </a:lnTo>
                <a:lnTo>
                  <a:pt x="17" y="722"/>
                </a:lnTo>
                <a:lnTo>
                  <a:pt x="23" y="751"/>
                </a:lnTo>
                <a:lnTo>
                  <a:pt x="35" y="775"/>
                </a:lnTo>
                <a:lnTo>
                  <a:pt x="41" y="804"/>
                </a:lnTo>
                <a:lnTo>
                  <a:pt x="52" y="827"/>
                </a:lnTo>
                <a:lnTo>
                  <a:pt x="64" y="851"/>
                </a:lnTo>
                <a:lnTo>
                  <a:pt x="82" y="880"/>
                </a:lnTo>
                <a:lnTo>
                  <a:pt x="93" y="905"/>
                </a:lnTo>
                <a:lnTo>
                  <a:pt x="111" y="928"/>
                </a:lnTo>
                <a:lnTo>
                  <a:pt x="123" y="946"/>
                </a:lnTo>
                <a:lnTo>
                  <a:pt x="140" y="969"/>
                </a:lnTo>
                <a:lnTo>
                  <a:pt x="164" y="993"/>
                </a:lnTo>
                <a:lnTo>
                  <a:pt x="181" y="1010"/>
                </a:lnTo>
                <a:lnTo>
                  <a:pt x="205" y="1028"/>
                </a:lnTo>
                <a:lnTo>
                  <a:pt x="222" y="1045"/>
                </a:lnTo>
                <a:lnTo>
                  <a:pt x="246" y="1063"/>
                </a:lnTo>
                <a:lnTo>
                  <a:pt x="269" y="1081"/>
                </a:lnTo>
                <a:lnTo>
                  <a:pt x="294" y="1092"/>
                </a:lnTo>
                <a:lnTo>
                  <a:pt x="317" y="1104"/>
                </a:lnTo>
                <a:lnTo>
                  <a:pt x="341" y="1122"/>
                </a:lnTo>
                <a:lnTo>
                  <a:pt x="370" y="1128"/>
                </a:lnTo>
                <a:lnTo>
                  <a:pt x="393" y="1139"/>
                </a:lnTo>
                <a:lnTo>
                  <a:pt x="423" y="1151"/>
                </a:lnTo>
                <a:lnTo>
                  <a:pt x="446" y="1157"/>
                </a:lnTo>
                <a:lnTo>
                  <a:pt x="476" y="1163"/>
                </a:lnTo>
                <a:lnTo>
                  <a:pt x="505" y="1163"/>
                </a:lnTo>
                <a:lnTo>
                  <a:pt x="528" y="1169"/>
                </a:lnTo>
                <a:lnTo>
                  <a:pt x="558" y="1169"/>
                </a:lnTo>
                <a:lnTo>
                  <a:pt x="587" y="1174"/>
                </a:lnTo>
                <a:lnTo>
                  <a:pt x="616" y="1169"/>
                </a:lnTo>
                <a:lnTo>
                  <a:pt x="640" y="1169"/>
                </a:lnTo>
                <a:lnTo>
                  <a:pt x="669" y="1163"/>
                </a:lnTo>
                <a:lnTo>
                  <a:pt x="698" y="1163"/>
                </a:lnTo>
                <a:lnTo>
                  <a:pt x="722" y="1157"/>
                </a:lnTo>
                <a:lnTo>
                  <a:pt x="751" y="1151"/>
                </a:lnTo>
                <a:lnTo>
                  <a:pt x="775" y="1139"/>
                </a:lnTo>
                <a:lnTo>
                  <a:pt x="804" y="1128"/>
                </a:lnTo>
                <a:lnTo>
                  <a:pt x="827" y="1122"/>
                </a:lnTo>
                <a:lnTo>
                  <a:pt x="857" y="1104"/>
                </a:lnTo>
                <a:lnTo>
                  <a:pt x="880" y="1092"/>
                </a:lnTo>
                <a:lnTo>
                  <a:pt x="905" y="1081"/>
                </a:lnTo>
                <a:lnTo>
                  <a:pt x="928" y="1063"/>
                </a:lnTo>
                <a:lnTo>
                  <a:pt x="946" y="1045"/>
                </a:lnTo>
                <a:lnTo>
                  <a:pt x="969" y="1028"/>
                </a:lnTo>
                <a:lnTo>
                  <a:pt x="993" y="1010"/>
                </a:lnTo>
                <a:lnTo>
                  <a:pt x="1010" y="993"/>
                </a:lnTo>
                <a:lnTo>
                  <a:pt x="1028" y="969"/>
                </a:lnTo>
                <a:lnTo>
                  <a:pt x="1045" y="946"/>
                </a:lnTo>
                <a:lnTo>
                  <a:pt x="1063" y="928"/>
                </a:lnTo>
                <a:lnTo>
                  <a:pt x="1081" y="905"/>
                </a:lnTo>
                <a:lnTo>
                  <a:pt x="1092" y="880"/>
                </a:lnTo>
                <a:lnTo>
                  <a:pt x="1104" y="851"/>
                </a:lnTo>
                <a:lnTo>
                  <a:pt x="1116" y="827"/>
                </a:lnTo>
                <a:lnTo>
                  <a:pt x="1128" y="804"/>
                </a:lnTo>
                <a:lnTo>
                  <a:pt x="1139" y="775"/>
                </a:lnTo>
                <a:lnTo>
                  <a:pt x="1151" y="751"/>
                </a:lnTo>
                <a:lnTo>
                  <a:pt x="1157" y="722"/>
                </a:lnTo>
                <a:lnTo>
                  <a:pt x="1163" y="698"/>
                </a:lnTo>
                <a:lnTo>
                  <a:pt x="1163" y="669"/>
                </a:lnTo>
                <a:lnTo>
                  <a:pt x="1169" y="640"/>
                </a:lnTo>
                <a:lnTo>
                  <a:pt x="1169" y="610"/>
                </a:lnTo>
                <a:lnTo>
                  <a:pt x="1174" y="58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"/>
          <p:cNvSpPr/>
          <p:nvPr/>
        </p:nvSpPr>
        <p:spPr>
          <a:xfrm>
            <a:off x="4505400" y="4157640"/>
            <a:ext cx="422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"/>
          <p:cNvSpPr/>
          <p:nvPr/>
        </p:nvSpPr>
        <p:spPr>
          <a:xfrm>
            <a:off x="4040280" y="3314880"/>
            <a:ext cx="420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"/>
          <p:cNvSpPr/>
          <p:nvPr/>
        </p:nvSpPr>
        <p:spPr>
          <a:xfrm>
            <a:off x="5475240" y="3357720"/>
            <a:ext cx="0" cy="614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"/>
          <p:cNvSpPr/>
          <p:nvPr/>
        </p:nvSpPr>
        <p:spPr>
          <a:xfrm flipH="1" flipV="1">
            <a:off x="5356080" y="3875040"/>
            <a:ext cx="239760" cy="241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"/>
          <p:cNvSpPr/>
          <p:nvPr/>
        </p:nvSpPr>
        <p:spPr>
          <a:xfrm flipH="1">
            <a:off x="5356080" y="3875040"/>
            <a:ext cx="239760" cy="241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 flipH="1" flipV="1">
            <a:off x="5356080" y="3201840"/>
            <a:ext cx="239760" cy="241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"/>
          <p:cNvSpPr/>
          <p:nvPr/>
        </p:nvSpPr>
        <p:spPr>
          <a:xfrm flipH="1">
            <a:off x="5356080" y="3201840"/>
            <a:ext cx="239760" cy="241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"/>
          <p:cNvSpPr/>
          <p:nvPr/>
        </p:nvSpPr>
        <p:spPr>
          <a:xfrm>
            <a:off x="4408560" y="2751120"/>
            <a:ext cx="356040" cy="224280"/>
          </a:xfrm>
          <a:custGeom>
            <a:avLst/>
            <a:gdLst/>
            <a:ahLst/>
            <a:rect l="0" t="0" r="r" b="b"/>
            <a:pathLst>
              <a:path fill="none" w="989" h="623">
                <a:moveTo>
                  <a:pt x="0" y="623"/>
                </a:moveTo>
                <a:lnTo>
                  <a:pt x="0" y="0"/>
                </a:lnTo>
                <a:lnTo>
                  <a:pt x="989" y="0"/>
                </a:lnTo>
                <a:lnTo>
                  <a:pt x="989" y="623"/>
                </a:lnTo>
                <a:lnTo>
                  <a:pt x="0" y="62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4" name=""/>
          <p:cNvSpPr/>
          <p:nvPr/>
        </p:nvSpPr>
        <p:spPr>
          <a:xfrm>
            <a:off x="5877000" y="3043080"/>
            <a:ext cx="841320" cy="0"/>
          </a:xfrm>
          <a:custGeom>
            <a:avLst/>
            <a:gdLst/>
            <a:ahLst/>
            <a:rect l="0" t="0" r="r" b="b"/>
            <a:pathLst>
              <a:path fill="none" w="2337" h="0">
                <a:moveTo>
                  <a:pt x="0" y="0"/>
                </a:moveTo>
                <a:lnTo>
                  <a:pt x="1171" y="0"/>
                </a:lnTo>
                <a:lnTo>
                  <a:pt x="2337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"/>
          <p:cNvSpPr/>
          <p:nvPr/>
        </p:nvSpPr>
        <p:spPr>
          <a:xfrm>
            <a:off x="7078680" y="2805120"/>
            <a:ext cx="241560" cy="238320"/>
          </a:xfrm>
          <a:custGeom>
            <a:avLst/>
            <a:gdLst/>
            <a:ahLst/>
            <a:rect l="0" t="0" r="r" b="b"/>
            <a:pathLst>
              <a:path fill="none" w="671" h="662">
                <a:moveTo>
                  <a:pt x="0" y="662"/>
                </a:moveTo>
                <a:lnTo>
                  <a:pt x="0" y="0"/>
                </a:lnTo>
                <a:lnTo>
                  <a:pt x="671" y="0"/>
                </a:lnTo>
                <a:lnTo>
                  <a:pt x="671" y="662"/>
                </a:lnTo>
                <a:lnTo>
                  <a:pt x="0" y="662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"/>
          <p:cNvSpPr/>
          <p:nvPr/>
        </p:nvSpPr>
        <p:spPr>
          <a:xfrm>
            <a:off x="5527800" y="525132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"/>
          <p:cNvSpPr/>
          <p:nvPr/>
        </p:nvSpPr>
        <p:spPr>
          <a:xfrm>
            <a:off x="5527800" y="4000680"/>
            <a:ext cx="1888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"/>
          <p:cNvSpPr/>
          <p:nvPr/>
        </p:nvSpPr>
        <p:spPr>
          <a:xfrm>
            <a:off x="7310520" y="3848040"/>
            <a:ext cx="51120" cy="152640"/>
          </a:xfrm>
          <a:custGeom>
            <a:avLst/>
            <a:gdLst/>
            <a:ahLst/>
            <a:rect l="0" t="0" r="r" b="b"/>
            <a:pathLst>
              <a:path w="142" h="424">
                <a:moveTo>
                  <a:pt x="0" y="0"/>
                </a:moveTo>
                <a:lnTo>
                  <a:pt x="142" y="0"/>
                </a:lnTo>
                <a:lnTo>
                  <a:pt x="70" y="4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"/>
          <p:cNvSpPr/>
          <p:nvPr/>
        </p:nvSpPr>
        <p:spPr>
          <a:xfrm>
            <a:off x="7648560" y="4086360"/>
            <a:ext cx="302040" cy="184680"/>
          </a:xfrm>
          <a:custGeom>
            <a:avLst/>
            <a:gdLst/>
            <a:ahLst/>
            <a:rect l="0" t="0" r="r" b="b"/>
            <a:pathLst>
              <a:path fill="none" w="839" h="513">
                <a:moveTo>
                  <a:pt x="0" y="513"/>
                </a:moveTo>
                <a:lnTo>
                  <a:pt x="0" y="0"/>
                </a:lnTo>
                <a:lnTo>
                  <a:pt x="839" y="0"/>
                </a:lnTo>
                <a:lnTo>
                  <a:pt x="839" y="513"/>
                </a:lnTo>
                <a:lnTo>
                  <a:pt x="0" y="51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"/>
          <p:cNvSpPr/>
          <p:nvPr/>
        </p:nvSpPr>
        <p:spPr>
          <a:xfrm>
            <a:off x="7772400" y="4470480"/>
            <a:ext cx="49680" cy="155880"/>
          </a:xfrm>
          <a:custGeom>
            <a:avLst/>
            <a:gdLst/>
            <a:ahLst/>
            <a:rect l="0" t="0" r="r" b="b"/>
            <a:pathLst>
              <a:path w="138" h="433">
                <a:moveTo>
                  <a:pt x="0" y="0"/>
                </a:moveTo>
                <a:lnTo>
                  <a:pt x="138" y="0"/>
                </a:lnTo>
                <a:lnTo>
                  <a:pt x="69" y="43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"/>
          <p:cNvSpPr/>
          <p:nvPr/>
        </p:nvSpPr>
        <p:spPr>
          <a:xfrm flipV="1">
            <a:off x="7796160" y="4270320"/>
            <a:ext cx="0" cy="2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"/>
          <p:cNvSpPr/>
          <p:nvPr/>
        </p:nvSpPr>
        <p:spPr>
          <a:xfrm>
            <a:off x="7772400" y="3344760"/>
            <a:ext cx="49680" cy="157680"/>
          </a:xfrm>
          <a:custGeom>
            <a:avLst/>
            <a:gdLst/>
            <a:ahLst/>
            <a:rect l="0" t="0" r="r" b="b"/>
            <a:pathLst>
              <a:path w="138" h="438">
                <a:moveTo>
                  <a:pt x="0" y="438"/>
                </a:moveTo>
                <a:lnTo>
                  <a:pt x="138" y="438"/>
                </a:lnTo>
                <a:lnTo>
                  <a:pt x="69" y="0"/>
                </a:lnTo>
                <a:lnTo>
                  <a:pt x="0" y="43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"/>
          <p:cNvSpPr/>
          <p:nvPr/>
        </p:nvSpPr>
        <p:spPr>
          <a:xfrm>
            <a:off x="7796160" y="3451320"/>
            <a:ext cx="0" cy="631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"/>
          <p:cNvSpPr/>
          <p:nvPr/>
        </p:nvSpPr>
        <p:spPr>
          <a:xfrm flipV="1">
            <a:off x="7337520" y="377208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"/>
          <p:cNvSpPr/>
          <p:nvPr/>
        </p:nvSpPr>
        <p:spPr>
          <a:xfrm>
            <a:off x="7310520" y="3327480"/>
            <a:ext cx="51120" cy="155880"/>
          </a:xfrm>
          <a:custGeom>
            <a:avLst/>
            <a:gdLst/>
            <a:ahLst/>
            <a:rect l="0" t="0" r="r" b="b"/>
            <a:pathLst>
              <a:path w="142" h="433">
                <a:moveTo>
                  <a:pt x="0" y="433"/>
                </a:moveTo>
                <a:lnTo>
                  <a:pt x="142" y="433"/>
                </a:lnTo>
                <a:lnTo>
                  <a:pt x="70" y="0"/>
                </a:lnTo>
                <a:lnTo>
                  <a:pt x="0" y="43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"/>
          <p:cNvSpPr/>
          <p:nvPr/>
        </p:nvSpPr>
        <p:spPr>
          <a:xfrm>
            <a:off x="7192800" y="4854600"/>
            <a:ext cx="302040" cy="187560"/>
          </a:xfrm>
          <a:custGeom>
            <a:avLst/>
            <a:gdLst/>
            <a:ahLst/>
            <a:rect l="0" t="0" r="r" b="b"/>
            <a:pathLst>
              <a:path fill="none" w="839" h="521">
                <a:moveTo>
                  <a:pt x="0" y="521"/>
                </a:moveTo>
                <a:lnTo>
                  <a:pt x="0" y="0"/>
                </a:lnTo>
                <a:lnTo>
                  <a:pt x="839" y="0"/>
                </a:lnTo>
                <a:lnTo>
                  <a:pt x="839" y="521"/>
                </a:lnTo>
                <a:lnTo>
                  <a:pt x="0" y="52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"/>
          <p:cNvSpPr/>
          <p:nvPr/>
        </p:nvSpPr>
        <p:spPr>
          <a:xfrm>
            <a:off x="6248520" y="4626000"/>
            <a:ext cx="1649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"/>
          <p:cNvSpPr/>
          <p:nvPr/>
        </p:nvSpPr>
        <p:spPr>
          <a:xfrm>
            <a:off x="7188120" y="3557520"/>
            <a:ext cx="330480" cy="214560"/>
          </a:xfrm>
          <a:custGeom>
            <a:avLst/>
            <a:gdLst/>
            <a:ahLst/>
            <a:rect l="0" t="0" r="r" b="b"/>
            <a:pathLst>
              <a:path fill="none" w="918" h="596">
                <a:moveTo>
                  <a:pt x="0" y="596"/>
                </a:moveTo>
                <a:lnTo>
                  <a:pt x="0" y="0"/>
                </a:lnTo>
                <a:lnTo>
                  <a:pt x="918" y="0"/>
                </a:lnTo>
                <a:lnTo>
                  <a:pt x="918" y="596"/>
                </a:lnTo>
                <a:lnTo>
                  <a:pt x="0" y="596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7311960" y="4003560"/>
            <a:ext cx="51120" cy="154440"/>
          </a:xfrm>
          <a:custGeom>
            <a:avLst/>
            <a:gdLst/>
            <a:ahLst/>
            <a:rect l="0" t="0" r="r" b="b"/>
            <a:pathLst>
              <a:path w="142" h="429">
                <a:moveTo>
                  <a:pt x="0" y="429"/>
                </a:moveTo>
                <a:lnTo>
                  <a:pt x="142" y="429"/>
                </a:lnTo>
                <a:lnTo>
                  <a:pt x="70" y="0"/>
                </a:lnTo>
                <a:lnTo>
                  <a:pt x="0" y="42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"/>
          <p:cNvSpPr/>
          <p:nvPr/>
        </p:nvSpPr>
        <p:spPr>
          <a:xfrm flipV="1">
            <a:off x="7327800" y="5041800"/>
            <a:ext cx="0" cy="5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"/>
          <p:cNvSpPr/>
          <p:nvPr/>
        </p:nvSpPr>
        <p:spPr>
          <a:xfrm>
            <a:off x="7311960" y="5095800"/>
            <a:ext cx="51120" cy="155880"/>
          </a:xfrm>
          <a:custGeom>
            <a:avLst/>
            <a:gdLst/>
            <a:ahLst/>
            <a:rect l="0" t="0" r="r" b="b"/>
            <a:pathLst>
              <a:path w="142" h="433">
                <a:moveTo>
                  <a:pt x="0" y="0"/>
                </a:moveTo>
                <a:lnTo>
                  <a:pt x="142" y="0"/>
                </a:lnTo>
                <a:lnTo>
                  <a:pt x="70" y="43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"/>
          <p:cNvSpPr/>
          <p:nvPr/>
        </p:nvSpPr>
        <p:spPr>
          <a:xfrm>
            <a:off x="7343640" y="346248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"/>
          <p:cNvSpPr/>
          <p:nvPr/>
        </p:nvSpPr>
        <p:spPr>
          <a:xfrm>
            <a:off x="7343640" y="4005360"/>
            <a:ext cx="0" cy="844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"/>
          <p:cNvSpPr/>
          <p:nvPr/>
        </p:nvSpPr>
        <p:spPr>
          <a:xfrm>
            <a:off x="5361120" y="206280"/>
            <a:ext cx="419400" cy="419400"/>
          </a:xfrm>
          <a:custGeom>
            <a:avLst/>
            <a:gdLst/>
            <a:ahLst/>
            <a:rect l="0" t="0" r="r" b="b"/>
            <a:pathLst>
              <a:path fill="none" w="1165" h="1165">
                <a:moveTo>
                  <a:pt x="1165" y="586"/>
                </a:moveTo>
                <a:lnTo>
                  <a:pt x="1165" y="555"/>
                </a:lnTo>
                <a:lnTo>
                  <a:pt x="1165" y="526"/>
                </a:lnTo>
                <a:lnTo>
                  <a:pt x="1159" y="497"/>
                </a:lnTo>
                <a:lnTo>
                  <a:pt x="1153" y="473"/>
                </a:lnTo>
                <a:lnTo>
                  <a:pt x="1147" y="444"/>
                </a:lnTo>
                <a:lnTo>
                  <a:pt x="1141" y="421"/>
                </a:lnTo>
                <a:lnTo>
                  <a:pt x="1135" y="391"/>
                </a:lnTo>
                <a:lnTo>
                  <a:pt x="1124" y="362"/>
                </a:lnTo>
                <a:lnTo>
                  <a:pt x="1112" y="339"/>
                </a:lnTo>
                <a:lnTo>
                  <a:pt x="1100" y="315"/>
                </a:lnTo>
                <a:lnTo>
                  <a:pt x="1089" y="292"/>
                </a:lnTo>
                <a:lnTo>
                  <a:pt x="1071" y="269"/>
                </a:lnTo>
                <a:lnTo>
                  <a:pt x="1059" y="245"/>
                </a:lnTo>
                <a:lnTo>
                  <a:pt x="1042" y="222"/>
                </a:lnTo>
                <a:lnTo>
                  <a:pt x="1024" y="198"/>
                </a:lnTo>
                <a:lnTo>
                  <a:pt x="1007" y="181"/>
                </a:lnTo>
                <a:lnTo>
                  <a:pt x="983" y="157"/>
                </a:lnTo>
                <a:lnTo>
                  <a:pt x="966" y="140"/>
                </a:lnTo>
                <a:lnTo>
                  <a:pt x="942" y="122"/>
                </a:lnTo>
                <a:lnTo>
                  <a:pt x="919" y="105"/>
                </a:lnTo>
                <a:lnTo>
                  <a:pt x="896" y="93"/>
                </a:lnTo>
                <a:lnTo>
                  <a:pt x="872" y="76"/>
                </a:lnTo>
                <a:lnTo>
                  <a:pt x="849" y="64"/>
                </a:lnTo>
                <a:lnTo>
                  <a:pt x="825" y="52"/>
                </a:lnTo>
                <a:lnTo>
                  <a:pt x="796" y="40"/>
                </a:lnTo>
                <a:lnTo>
                  <a:pt x="773" y="29"/>
                </a:lnTo>
                <a:lnTo>
                  <a:pt x="749" y="23"/>
                </a:lnTo>
                <a:lnTo>
                  <a:pt x="720" y="17"/>
                </a:lnTo>
                <a:lnTo>
                  <a:pt x="691" y="11"/>
                </a:lnTo>
                <a:lnTo>
                  <a:pt x="667" y="5"/>
                </a:lnTo>
                <a:lnTo>
                  <a:pt x="638" y="0"/>
                </a:lnTo>
                <a:lnTo>
                  <a:pt x="609" y="0"/>
                </a:lnTo>
                <a:lnTo>
                  <a:pt x="579" y="0"/>
                </a:lnTo>
                <a:lnTo>
                  <a:pt x="555" y="0"/>
                </a:lnTo>
                <a:lnTo>
                  <a:pt x="526" y="0"/>
                </a:lnTo>
                <a:lnTo>
                  <a:pt x="497" y="5"/>
                </a:lnTo>
                <a:lnTo>
                  <a:pt x="468" y="11"/>
                </a:lnTo>
                <a:lnTo>
                  <a:pt x="444" y="17"/>
                </a:lnTo>
                <a:lnTo>
                  <a:pt x="415" y="23"/>
                </a:lnTo>
                <a:lnTo>
                  <a:pt x="391" y="29"/>
                </a:lnTo>
                <a:lnTo>
                  <a:pt x="362" y="40"/>
                </a:lnTo>
                <a:lnTo>
                  <a:pt x="339" y="52"/>
                </a:lnTo>
                <a:lnTo>
                  <a:pt x="315" y="64"/>
                </a:lnTo>
                <a:lnTo>
                  <a:pt x="292" y="76"/>
                </a:lnTo>
                <a:lnTo>
                  <a:pt x="269" y="93"/>
                </a:lnTo>
                <a:lnTo>
                  <a:pt x="245" y="105"/>
                </a:lnTo>
                <a:lnTo>
                  <a:pt x="222" y="122"/>
                </a:lnTo>
                <a:lnTo>
                  <a:pt x="198" y="140"/>
                </a:lnTo>
                <a:lnTo>
                  <a:pt x="181" y="157"/>
                </a:lnTo>
                <a:lnTo>
                  <a:pt x="157" y="181"/>
                </a:lnTo>
                <a:lnTo>
                  <a:pt x="140" y="198"/>
                </a:lnTo>
                <a:lnTo>
                  <a:pt x="122" y="222"/>
                </a:lnTo>
                <a:lnTo>
                  <a:pt x="105" y="245"/>
                </a:lnTo>
                <a:lnTo>
                  <a:pt x="87" y="269"/>
                </a:lnTo>
                <a:lnTo>
                  <a:pt x="76" y="292"/>
                </a:lnTo>
                <a:lnTo>
                  <a:pt x="64" y="315"/>
                </a:lnTo>
                <a:lnTo>
                  <a:pt x="52" y="339"/>
                </a:lnTo>
                <a:lnTo>
                  <a:pt x="40" y="362"/>
                </a:lnTo>
                <a:lnTo>
                  <a:pt x="29" y="391"/>
                </a:lnTo>
                <a:lnTo>
                  <a:pt x="23" y="421"/>
                </a:lnTo>
                <a:lnTo>
                  <a:pt x="11" y="444"/>
                </a:lnTo>
                <a:lnTo>
                  <a:pt x="5" y="473"/>
                </a:lnTo>
                <a:lnTo>
                  <a:pt x="5" y="497"/>
                </a:lnTo>
                <a:lnTo>
                  <a:pt x="0" y="526"/>
                </a:lnTo>
                <a:lnTo>
                  <a:pt x="0" y="555"/>
                </a:lnTo>
                <a:lnTo>
                  <a:pt x="0" y="586"/>
                </a:lnTo>
                <a:lnTo>
                  <a:pt x="0" y="609"/>
                </a:lnTo>
                <a:lnTo>
                  <a:pt x="0" y="638"/>
                </a:lnTo>
                <a:lnTo>
                  <a:pt x="5" y="667"/>
                </a:lnTo>
                <a:lnTo>
                  <a:pt x="5" y="691"/>
                </a:lnTo>
                <a:lnTo>
                  <a:pt x="11" y="720"/>
                </a:lnTo>
                <a:lnTo>
                  <a:pt x="23" y="749"/>
                </a:lnTo>
                <a:lnTo>
                  <a:pt x="29" y="773"/>
                </a:lnTo>
                <a:lnTo>
                  <a:pt x="40" y="802"/>
                </a:lnTo>
                <a:lnTo>
                  <a:pt x="52" y="825"/>
                </a:lnTo>
                <a:lnTo>
                  <a:pt x="64" y="849"/>
                </a:lnTo>
                <a:lnTo>
                  <a:pt x="76" y="878"/>
                </a:lnTo>
                <a:lnTo>
                  <a:pt x="87" y="901"/>
                </a:lnTo>
                <a:lnTo>
                  <a:pt x="105" y="925"/>
                </a:lnTo>
                <a:lnTo>
                  <a:pt x="122" y="942"/>
                </a:lnTo>
                <a:lnTo>
                  <a:pt x="140" y="966"/>
                </a:lnTo>
                <a:lnTo>
                  <a:pt x="157" y="983"/>
                </a:lnTo>
                <a:lnTo>
                  <a:pt x="181" y="1007"/>
                </a:lnTo>
                <a:lnTo>
                  <a:pt x="198" y="1024"/>
                </a:lnTo>
                <a:lnTo>
                  <a:pt x="222" y="1042"/>
                </a:lnTo>
                <a:lnTo>
                  <a:pt x="245" y="1059"/>
                </a:lnTo>
                <a:lnTo>
                  <a:pt x="269" y="1077"/>
                </a:lnTo>
                <a:lnTo>
                  <a:pt x="292" y="1089"/>
                </a:lnTo>
                <a:lnTo>
                  <a:pt x="315" y="1100"/>
                </a:lnTo>
                <a:lnTo>
                  <a:pt x="339" y="1112"/>
                </a:lnTo>
                <a:lnTo>
                  <a:pt x="362" y="1124"/>
                </a:lnTo>
                <a:lnTo>
                  <a:pt x="391" y="1135"/>
                </a:lnTo>
                <a:lnTo>
                  <a:pt x="415" y="1141"/>
                </a:lnTo>
                <a:lnTo>
                  <a:pt x="444" y="1153"/>
                </a:lnTo>
                <a:lnTo>
                  <a:pt x="468" y="1159"/>
                </a:lnTo>
                <a:lnTo>
                  <a:pt x="497" y="1159"/>
                </a:lnTo>
                <a:lnTo>
                  <a:pt x="526" y="1165"/>
                </a:lnTo>
                <a:lnTo>
                  <a:pt x="555" y="1165"/>
                </a:lnTo>
                <a:lnTo>
                  <a:pt x="579" y="1165"/>
                </a:lnTo>
                <a:lnTo>
                  <a:pt x="609" y="1165"/>
                </a:lnTo>
                <a:lnTo>
                  <a:pt x="638" y="1165"/>
                </a:lnTo>
                <a:lnTo>
                  <a:pt x="667" y="1159"/>
                </a:lnTo>
                <a:lnTo>
                  <a:pt x="691" y="1159"/>
                </a:lnTo>
                <a:lnTo>
                  <a:pt x="720" y="1153"/>
                </a:lnTo>
                <a:lnTo>
                  <a:pt x="749" y="1141"/>
                </a:lnTo>
                <a:lnTo>
                  <a:pt x="773" y="1135"/>
                </a:lnTo>
                <a:lnTo>
                  <a:pt x="796" y="1124"/>
                </a:lnTo>
                <a:lnTo>
                  <a:pt x="825" y="1112"/>
                </a:lnTo>
                <a:lnTo>
                  <a:pt x="849" y="1100"/>
                </a:lnTo>
                <a:lnTo>
                  <a:pt x="872" y="1089"/>
                </a:lnTo>
                <a:lnTo>
                  <a:pt x="896" y="1077"/>
                </a:lnTo>
                <a:lnTo>
                  <a:pt x="919" y="1059"/>
                </a:lnTo>
                <a:lnTo>
                  <a:pt x="942" y="1042"/>
                </a:lnTo>
                <a:lnTo>
                  <a:pt x="966" y="1024"/>
                </a:lnTo>
                <a:lnTo>
                  <a:pt x="983" y="1007"/>
                </a:lnTo>
                <a:lnTo>
                  <a:pt x="1007" y="983"/>
                </a:lnTo>
                <a:lnTo>
                  <a:pt x="1024" y="966"/>
                </a:lnTo>
                <a:lnTo>
                  <a:pt x="1042" y="942"/>
                </a:lnTo>
                <a:lnTo>
                  <a:pt x="1059" y="925"/>
                </a:lnTo>
                <a:lnTo>
                  <a:pt x="1071" y="901"/>
                </a:lnTo>
                <a:lnTo>
                  <a:pt x="1089" y="878"/>
                </a:lnTo>
                <a:lnTo>
                  <a:pt x="1100" y="849"/>
                </a:lnTo>
                <a:lnTo>
                  <a:pt x="1112" y="825"/>
                </a:lnTo>
                <a:lnTo>
                  <a:pt x="1124" y="802"/>
                </a:lnTo>
                <a:lnTo>
                  <a:pt x="1135" y="773"/>
                </a:lnTo>
                <a:lnTo>
                  <a:pt x="1141" y="749"/>
                </a:lnTo>
                <a:lnTo>
                  <a:pt x="1147" y="720"/>
                </a:lnTo>
                <a:lnTo>
                  <a:pt x="1153" y="691"/>
                </a:lnTo>
                <a:lnTo>
                  <a:pt x="1159" y="667"/>
                </a:lnTo>
                <a:lnTo>
                  <a:pt x="1165" y="638"/>
                </a:lnTo>
                <a:lnTo>
                  <a:pt x="1165" y="609"/>
                </a:lnTo>
                <a:lnTo>
                  <a:pt x="1165" y="586"/>
                </a:ln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"/>
          <p:cNvSpPr/>
          <p:nvPr/>
        </p:nvSpPr>
        <p:spPr>
          <a:xfrm>
            <a:off x="4456080" y="6176880"/>
            <a:ext cx="419400" cy="421200"/>
          </a:xfrm>
          <a:custGeom>
            <a:avLst/>
            <a:gdLst/>
            <a:ahLst/>
            <a:rect l="0" t="0" r="r" b="b"/>
            <a:pathLst>
              <a:path fill="none" w="1165" h="1170">
                <a:moveTo>
                  <a:pt x="1165" y="585"/>
                </a:moveTo>
                <a:lnTo>
                  <a:pt x="1165" y="556"/>
                </a:lnTo>
                <a:lnTo>
                  <a:pt x="1165" y="526"/>
                </a:lnTo>
                <a:lnTo>
                  <a:pt x="1159" y="503"/>
                </a:lnTo>
                <a:lnTo>
                  <a:pt x="1159" y="474"/>
                </a:lnTo>
                <a:lnTo>
                  <a:pt x="1153" y="445"/>
                </a:lnTo>
                <a:lnTo>
                  <a:pt x="1141" y="421"/>
                </a:lnTo>
                <a:lnTo>
                  <a:pt x="1135" y="392"/>
                </a:lnTo>
                <a:lnTo>
                  <a:pt x="1124" y="369"/>
                </a:lnTo>
                <a:lnTo>
                  <a:pt x="1112" y="339"/>
                </a:lnTo>
                <a:lnTo>
                  <a:pt x="1100" y="316"/>
                </a:lnTo>
                <a:lnTo>
                  <a:pt x="1089" y="293"/>
                </a:lnTo>
                <a:lnTo>
                  <a:pt x="1077" y="268"/>
                </a:lnTo>
                <a:lnTo>
                  <a:pt x="1059" y="245"/>
                </a:lnTo>
                <a:lnTo>
                  <a:pt x="1042" y="222"/>
                </a:lnTo>
                <a:lnTo>
                  <a:pt x="1024" y="204"/>
                </a:lnTo>
                <a:lnTo>
                  <a:pt x="1007" y="181"/>
                </a:lnTo>
                <a:lnTo>
                  <a:pt x="983" y="163"/>
                </a:lnTo>
                <a:lnTo>
                  <a:pt x="966" y="146"/>
                </a:lnTo>
                <a:lnTo>
                  <a:pt x="942" y="122"/>
                </a:lnTo>
                <a:lnTo>
                  <a:pt x="925" y="111"/>
                </a:lnTo>
                <a:lnTo>
                  <a:pt x="901" y="93"/>
                </a:lnTo>
                <a:lnTo>
                  <a:pt x="878" y="75"/>
                </a:lnTo>
                <a:lnTo>
                  <a:pt x="849" y="64"/>
                </a:lnTo>
                <a:lnTo>
                  <a:pt x="825" y="52"/>
                </a:lnTo>
                <a:lnTo>
                  <a:pt x="802" y="40"/>
                </a:lnTo>
                <a:lnTo>
                  <a:pt x="773" y="35"/>
                </a:lnTo>
                <a:lnTo>
                  <a:pt x="749" y="23"/>
                </a:lnTo>
                <a:lnTo>
                  <a:pt x="720" y="17"/>
                </a:lnTo>
                <a:lnTo>
                  <a:pt x="697" y="11"/>
                </a:lnTo>
                <a:lnTo>
                  <a:pt x="667" y="5"/>
                </a:lnTo>
                <a:lnTo>
                  <a:pt x="638" y="5"/>
                </a:lnTo>
                <a:lnTo>
                  <a:pt x="609" y="0"/>
                </a:lnTo>
                <a:lnTo>
                  <a:pt x="586" y="0"/>
                </a:lnTo>
                <a:lnTo>
                  <a:pt x="555" y="0"/>
                </a:lnTo>
                <a:lnTo>
                  <a:pt x="526" y="5"/>
                </a:lnTo>
                <a:lnTo>
                  <a:pt x="497" y="5"/>
                </a:lnTo>
                <a:lnTo>
                  <a:pt x="473" y="11"/>
                </a:lnTo>
                <a:lnTo>
                  <a:pt x="444" y="17"/>
                </a:lnTo>
                <a:lnTo>
                  <a:pt x="421" y="23"/>
                </a:lnTo>
                <a:lnTo>
                  <a:pt x="391" y="35"/>
                </a:lnTo>
                <a:lnTo>
                  <a:pt x="368" y="40"/>
                </a:lnTo>
                <a:lnTo>
                  <a:pt x="339" y="52"/>
                </a:lnTo>
                <a:lnTo>
                  <a:pt x="315" y="64"/>
                </a:lnTo>
                <a:lnTo>
                  <a:pt x="292" y="75"/>
                </a:lnTo>
                <a:lnTo>
                  <a:pt x="269" y="93"/>
                </a:lnTo>
                <a:lnTo>
                  <a:pt x="245" y="111"/>
                </a:lnTo>
                <a:lnTo>
                  <a:pt x="222" y="122"/>
                </a:lnTo>
                <a:lnTo>
                  <a:pt x="198" y="146"/>
                </a:lnTo>
                <a:lnTo>
                  <a:pt x="181" y="163"/>
                </a:lnTo>
                <a:lnTo>
                  <a:pt x="157" y="181"/>
                </a:lnTo>
                <a:lnTo>
                  <a:pt x="140" y="204"/>
                </a:lnTo>
                <a:lnTo>
                  <a:pt x="122" y="222"/>
                </a:lnTo>
                <a:lnTo>
                  <a:pt x="105" y="245"/>
                </a:lnTo>
                <a:lnTo>
                  <a:pt x="93" y="268"/>
                </a:lnTo>
                <a:lnTo>
                  <a:pt x="76" y="293"/>
                </a:lnTo>
                <a:lnTo>
                  <a:pt x="64" y="316"/>
                </a:lnTo>
                <a:lnTo>
                  <a:pt x="52" y="339"/>
                </a:lnTo>
                <a:lnTo>
                  <a:pt x="40" y="369"/>
                </a:lnTo>
                <a:lnTo>
                  <a:pt x="29" y="392"/>
                </a:lnTo>
                <a:lnTo>
                  <a:pt x="23" y="421"/>
                </a:lnTo>
                <a:lnTo>
                  <a:pt x="17" y="445"/>
                </a:lnTo>
                <a:lnTo>
                  <a:pt x="11" y="474"/>
                </a:lnTo>
                <a:lnTo>
                  <a:pt x="5" y="503"/>
                </a:lnTo>
                <a:lnTo>
                  <a:pt x="0" y="526"/>
                </a:lnTo>
                <a:lnTo>
                  <a:pt x="0" y="556"/>
                </a:lnTo>
                <a:lnTo>
                  <a:pt x="0" y="585"/>
                </a:lnTo>
                <a:lnTo>
                  <a:pt x="0" y="614"/>
                </a:lnTo>
                <a:lnTo>
                  <a:pt x="0" y="637"/>
                </a:lnTo>
                <a:lnTo>
                  <a:pt x="5" y="667"/>
                </a:lnTo>
                <a:lnTo>
                  <a:pt x="11" y="696"/>
                </a:lnTo>
                <a:lnTo>
                  <a:pt x="17" y="719"/>
                </a:lnTo>
                <a:lnTo>
                  <a:pt x="23" y="748"/>
                </a:lnTo>
                <a:lnTo>
                  <a:pt x="29" y="772"/>
                </a:lnTo>
                <a:lnTo>
                  <a:pt x="40" y="801"/>
                </a:lnTo>
                <a:lnTo>
                  <a:pt x="52" y="824"/>
                </a:lnTo>
                <a:lnTo>
                  <a:pt x="64" y="854"/>
                </a:lnTo>
                <a:lnTo>
                  <a:pt x="76" y="878"/>
                </a:lnTo>
                <a:lnTo>
                  <a:pt x="93" y="901"/>
                </a:lnTo>
                <a:lnTo>
                  <a:pt x="105" y="925"/>
                </a:lnTo>
                <a:lnTo>
                  <a:pt x="122" y="942"/>
                </a:lnTo>
                <a:lnTo>
                  <a:pt x="140" y="966"/>
                </a:lnTo>
                <a:lnTo>
                  <a:pt x="157" y="989"/>
                </a:lnTo>
                <a:lnTo>
                  <a:pt x="181" y="1006"/>
                </a:lnTo>
                <a:lnTo>
                  <a:pt x="198" y="1024"/>
                </a:lnTo>
                <a:lnTo>
                  <a:pt x="222" y="1042"/>
                </a:lnTo>
                <a:lnTo>
                  <a:pt x="245" y="1059"/>
                </a:lnTo>
                <a:lnTo>
                  <a:pt x="269" y="1077"/>
                </a:lnTo>
                <a:lnTo>
                  <a:pt x="292" y="1088"/>
                </a:lnTo>
                <a:lnTo>
                  <a:pt x="315" y="1106"/>
                </a:lnTo>
                <a:lnTo>
                  <a:pt x="339" y="1117"/>
                </a:lnTo>
                <a:lnTo>
                  <a:pt x="368" y="1129"/>
                </a:lnTo>
                <a:lnTo>
                  <a:pt x="391" y="1135"/>
                </a:lnTo>
                <a:lnTo>
                  <a:pt x="421" y="1147"/>
                </a:lnTo>
                <a:lnTo>
                  <a:pt x="444" y="1153"/>
                </a:lnTo>
                <a:lnTo>
                  <a:pt x="473" y="1158"/>
                </a:lnTo>
                <a:lnTo>
                  <a:pt x="497" y="1164"/>
                </a:lnTo>
                <a:lnTo>
                  <a:pt x="526" y="1164"/>
                </a:lnTo>
                <a:lnTo>
                  <a:pt x="555" y="1170"/>
                </a:lnTo>
                <a:lnTo>
                  <a:pt x="586" y="1170"/>
                </a:lnTo>
                <a:lnTo>
                  <a:pt x="609" y="1170"/>
                </a:lnTo>
                <a:lnTo>
                  <a:pt x="638" y="1164"/>
                </a:lnTo>
                <a:lnTo>
                  <a:pt x="667" y="1164"/>
                </a:lnTo>
                <a:lnTo>
                  <a:pt x="697" y="1158"/>
                </a:lnTo>
                <a:lnTo>
                  <a:pt x="720" y="1153"/>
                </a:lnTo>
                <a:lnTo>
                  <a:pt x="749" y="1147"/>
                </a:lnTo>
                <a:lnTo>
                  <a:pt x="773" y="1135"/>
                </a:lnTo>
                <a:lnTo>
                  <a:pt x="802" y="1129"/>
                </a:lnTo>
                <a:lnTo>
                  <a:pt x="825" y="1117"/>
                </a:lnTo>
                <a:lnTo>
                  <a:pt x="849" y="1106"/>
                </a:lnTo>
                <a:lnTo>
                  <a:pt x="878" y="1088"/>
                </a:lnTo>
                <a:lnTo>
                  <a:pt x="901" y="1077"/>
                </a:lnTo>
                <a:lnTo>
                  <a:pt x="925" y="1059"/>
                </a:lnTo>
                <a:lnTo>
                  <a:pt x="942" y="1042"/>
                </a:lnTo>
                <a:lnTo>
                  <a:pt x="966" y="1024"/>
                </a:lnTo>
                <a:lnTo>
                  <a:pt x="983" y="1006"/>
                </a:lnTo>
                <a:lnTo>
                  <a:pt x="1007" y="989"/>
                </a:lnTo>
                <a:lnTo>
                  <a:pt x="1024" y="966"/>
                </a:lnTo>
                <a:lnTo>
                  <a:pt x="1042" y="942"/>
                </a:lnTo>
                <a:lnTo>
                  <a:pt x="1059" y="925"/>
                </a:lnTo>
                <a:lnTo>
                  <a:pt x="1077" y="901"/>
                </a:lnTo>
                <a:lnTo>
                  <a:pt x="1089" y="878"/>
                </a:lnTo>
                <a:lnTo>
                  <a:pt x="1100" y="854"/>
                </a:lnTo>
                <a:lnTo>
                  <a:pt x="1112" y="824"/>
                </a:lnTo>
                <a:lnTo>
                  <a:pt x="1124" y="801"/>
                </a:lnTo>
                <a:lnTo>
                  <a:pt x="1135" y="772"/>
                </a:lnTo>
                <a:lnTo>
                  <a:pt x="1141" y="748"/>
                </a:lnTo>
                <a:lnTo>
                  <a:pt x="1153" y="719"/>
                </a:lnTo>
                <a:lnTo>
                  <a:pt x="1159" y="696"/>
                </a:lnTo>
                <a:lnTo>
                  <a:pt x="1159" y="667"/>
                </a:lnTo>
                <a:lnTo>
                  <a:pt x="1165" y="637"/>
                </a:lnTo>
                <a:lnTo>
                  <a:pt x="1165" y="614"/>
                </a:lnTo>
                <a:lnTo>
                  <a:pt x="1165" y="585"/>
                </a:lnTo>
              </a:path>
            </a:pathLst>
          </a:custGeom>
          <a:ln w="12600">
            <a:solidFill>
              <a:srgbClr val="ffff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"/>
          <p:cNvSpPr/>
          <p:nvPr/>
        </p:nvSpPr>
        <p:spPr>
          <a:xfrm>
            <a:off x="4456080" y="6388200"/>
            <a:ext cx="41904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"/>
          <p:cNvSpPr/>
          <p:nvPr/>
        </p:nvSpPr>
        <p:spPr>
          <a:xfrm flipH="1">
            <a:off x="4746600" y="5688000"/>
            <a:ext cx="290520" cy="49680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"/>
          <p:cNvSpPr/>
          <p:nvPr/>
        </p:nvSpPr>
        <p:spPr>
          <a:xfrm flipH="1">
            <a:off x="4637160" y="5567400"/>
            <a:ext cx="366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"/>
          <p:cNvSpPr/>
          <p:nvPr/>
        </p:nvSpPr>
        <p:spPr>
          <a:xfrm flipH="1">
            <a:off x="4637160" y="5803920"/>
            <a:ext cx="366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 flipV="1">
            <a:off x="4714920" y="526104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4687920" y="5413320"/>
            <a:ext cx="51120" cy="154440"/>
          </a:xfrm>
          <a:custGeom>
            <a:avLst/>
            <a:gdLst/>
            <a:ahLst/>
            <a:rect l="0" t="0" r="r" b="b"/>
            <a:pathLst>
              <a:path w="142" h="429">
                <a:moveTo>
                  <a:pt x="0" y="0"/>
                </a:moveTo>
                <a:lnTo>
                  <a:pt x="142" y="0"/>
                </a:lnTo>
                <a:lnTo>
                  <a:pt x="70" y="42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"/>
          <p:cNvSpPr/>
          <p:nvPr/>
        </p:nvSpPr>
        <p:spPr>
          <a:xfrm>
            <a:off x="4687920" y="5803920"/>
            <a:ext cx="51120" cy="152640"/>
          </a:xfrm>
          <a:custGeom>
            <a:avLst/>
            <a:gdLst/>
            <a:ahLst/>
            <a:rect l="0" t="0" r="r" b="b"/>
            <a:pathLst>
              <a:path w="142" h="424">
                <a:moveTo>
                  <a:pt x="0" y="424"/>
                </a:moveTo>
                <a:lnTo>
                  <a:pt x="142" y="424"/>
                </a:lnTo>
                <a:lnTo>
                  <a:pt x="70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"/>
          <p:cNvSpPr/>
          <p:nvPr/>
        </p:nvSpPr>
        <p:spPr>
          <a:xfrm>
            <a:off x="4184640" y="5148360"/>
            <a:ext cx="367200" cy="228960"/>
          </a:xfrm>
          <a:custGeom>
            <a:avLst/>
            <a:gdLst/>
            <a:ahLst/>
            <a:rect l="0" t="0" r="r" b="b"/>
            <a:pathLst>
              <a:path fill="none" w="1020" h="636">
                <a:moveTo>
                  <a:pt x="0" y="636"/>
                </a:moveTo>
                <a:lnTo>
                  <a:pt x="0" y="0"/>
                </a:lnTo>
                <a:lnTo>
                  <a:pt x="1020" y="0"/>
                </a:lnTo>
                <a:lnTo>
                  <a:pt x="1020" y="636"/>
                </a:lnTo>
                <a:lnTo>
                  <a:pt x="0" y="636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"/>
          <p:cNvSpPr/>
          <p:nvPr/>
        </p:nvSpPr>
        <p:spPr>
          <a:xfrm flipH="1" flipV="1">
            <a:off x="4960800" y="5446800"/>
            <a:ext cx="241560" cy="23976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"/>
          <p:cNvSpPr/>
          <p:nvPr/>
        </p:nvSpPr>
        <p:spPr>
          <a:xfrm flipH="1">
            <a:off x="4960800" y="5446800"/>
            <a:ext cx="241560" cy="23976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"/>
          <p:cNvSpPr/>
          <p:nvPr/>
        </p:nvSpPr>
        <p:spPr>
          <a:xfrm flipV="1">
            <a:off x="5079960" y="590400"/>
            <a:ext cx="374760" cy="57960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"/>
          <p:cNvSpPr/>
          <p:nvPr/>
        </p:nvSpPr>
        <p:spPr>
          <a:xfrm flipH="1">
            <a:off x="4546440" y="11700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"/>
          <p:cNvSpPr/>
          <p:nvPr/>
        </p:nvSpPr>
        <p:spPr>
          <a:xfrm flipH="1">
            <a:off x="4546440" y="9460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4626000" y="13255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"/>
          <p:cNvSpPr/>
          <p:nvPr/>
        </p:nvSpPr>
        <p:spPr>
          <a:xfrm>
            <a:off x="4626000" y="638280"/>
            <a:ext cx="154440" cy="154440"/>
          </a:xfrm>
          <a:custGeom>
            <a:avLst/>
            <a:gdLst/>
            <a:ahLst/>
            <a:rect l="0" t="0" r="r" b="b"/>
            <a:pathLst>
              <a:path fill="none" w="429" h="429">
                <a:moveTo>
                  <a:pt x="0" y="429"/>
                </a:moveTo>
                <a:lnTo>
                  <a:pt x="0" y="0"/>
                </a:lnTo>
                <a:lnTo>
                  <a:pt x="429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"/>
          <p:cNvSpPr/>
          <p:nvPr/>
        </p:nvSpPr>
        <p:spPr>
          <a:xfrm>
            <a:off x="4599000" y="1170000"/>
            <a:ext cx="54360" cy="155880"/>
          </a:xfrm>
          <a:custGeom>
            <a:avLst/>
            <a:gdLst/>
            <a:ahLst/>
            <a:rect l="0" t="0" r="r" b="b"/>
            <a:pathLst>
              <a:path w="151" h="433">
                <a:moveTo>
                  <a:pt x="0" y="433"/>
                </a:moveTo>
                <a:lnTo>
                  <a:pt x="151" y="433"/>
                </a:lnTo>
                <a:lnTo>
                  <a:pt x="75" y="0"/>
                </a:lnTo>
                <a:lnTo>
                  <a:pt x="0" y="43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"/>
          <p:cNvSpPr/>
          <p:nvPr/>
        </p:nvSpPr>
        <p:spPr>
          <a:xfrm>
            <a:off x="4599000" y="792000"/>
            <a:ext cx="54360" cy="154440"/>
          </a:xfrm>
          <a:custGeom>
            <a:avLst/>
            <a:gdLst/>
            <a:ahLst/>
            <a:rect l="0" t="0" r="r" b="b"/>
            <a:pathLst>
              <a:path w="151" h="429">
                <a:moveTo>
                  <a:pt x="0" y="0"/>
                </a:moveTo>
                <a:lnTo>
                  <a:pt x="151" y="0"/>
                </a:lnTo>
                <a:lnTo>
                  <a:pt x="75" y="42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/>
          <p:nvPr/>
        </p:nvSpPr>
        <p:spPr>
          <a:xfrm flipH="1" flipV="1">
            <a:off x="4960800" y="1050840"/>
            <a:ext cx="241560" cy="23976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"/>
          <p:cNvSpPr/>
          <p:nvPr/>
        </p:nvSpPr>
        <p:spPr>
          <a:xfrm flipH="1">
            <a:off x="4960800" y="1050840"/>
            <a:ext cx="241560" cy="239760"/>
          </a:xfrm>
          <a:prstGeom prst="line">
            <a:avLst/>
          </a:prstGeom>
          <a:ln w="255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4780080" y="504720"/>
            <a:ext cx="368640" cy="219600"/>
          </a:xfrm>
          <a:custGeom>
            <a:avLst/>
            <a:gdLst/>
            <a:ahLst/>
            <a:rect l="0" t="0" r="r" b="b"/>
            <a:pathLst>
              <a:path fill="none" w="1024" h="610">
                <a:moveTo>
                  <a:pt x="0" y="610"/>
                </a:moveTo>
                <a:lnTo>
                  <a:pt x="0" y="0"/>
                </a:lnTo>
                <a:lnTo>
                  <a:pt x="1024" y="0"/>
                </a:lnTo>
                <a:lnTo>
                  <a:pt x="1024" y="610"/>
                </a:lnTo>
                <a:lnTo>
                  <a:pt x="0" y="6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"/>
          <p:cNvSpPr/>
          <p:nvPr/>
        </p:nvSpPr>
        <p:spPr>
          <a:xfrm>
            <a:off x="5361120" y="415800"/>
            <a:ext cx="419040" cy="0"/>
          </a:xfrm>
          <a:prstGeom prst="line">
            <a:avLst/>
          </a:prstGeom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 flipH="1">
            <a:off x="3797280" y="1312920"/>
            <a:ext cx="730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"/>
          <p:cNvSpPr txBox="1"/>
          <p:nvPr/>
        </p:nvSpPr>
        <p:spPr>
          <a:xfrm>
            <a:off x="6373800" y="252720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"/>
          <p:cNvSpPr txBox="1"/>
          <p:nvPr/>
        </p:nvSpPr>
        <p:spPr>
          <a:xfrm>
            <a:off x="4491000" y="162864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"/>
          <p:cNvSpPr txBox="1"/>
          <p:nvPr/>
        </p:nvSpPr>
        <p:spPr>
          <a:xfrm>
            <a:off x="7050240" y="280368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"/>
          <p:cNvSpPr txBox="1"/>
          <p:nvPr/>
        </p:nvSpPr>
        <p:spPr>
          <a:xfrm>
            <a:off x="4091040" y="327492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"/>
          <p:cNvSpPr txBox="1"/>
          <p:nvPr/>
        </p:nvSpPr>
        <p:spPr>
          <a:xfrm>
            <a:off x="4556160" y="411624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"/>
          <p:cNvSpPr txBox="1"/>
          <p:nvPr/>
        </p:nvSpPr>
        <p:spPr>
          <a:xfrm>
            <a:off x="4059360" y="454644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"/>
          <p:cNvSpPr txBox="1"/>
          <p:nvPr/>
        </p:nvSpPr>
        <p:spPr>
          <a:xfrm>
            <a:off x="6405480" y="57960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"/>
          <p:cNvSpPr txBox="1"/>
          <p:nvPr/>
        </p:nvSpPr>
        <p:spPr>
          <a:xfrm>
            <a:off x="6915240" y="118728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"/>
          <p:cNvSpPr txBox="1"/>
          <p:nvPr/>
        </p:nvSpPr>
        <p:spPr>
          <a:xfrm>
            <a:off x="5940360" y="300996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"/>
          <p:cNvSpPr txBox="1"/>
          <p:nvPr/>
        </p:nvSpPr>
        <p:spPr>
          <a:xfrm>
            <a:off x="6361200" y="300996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"/>
          <p:cNvSpPr txBox="1"/>
          <p:nvPr/>
        </p:nvSpPr>
        <p:spPr>
          <a:xfrm>
            <a:off x="5403960" y="363600"/>
            <a:ext cx="344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"/>
          <p:cNvSpPr txBox="1"/>
          <p:nvPr/>
        </p:nvSpPr>
        <p:spPr>
          <a:xfrm>
            <a:off x="4495680" y="6364440"/>
            <a:ext cx="344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4705200" y="5965920"/>
            <a:ext cx="0" cy="66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 flipH="1">
            <a:off x="4549680" y="525636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5477040" y="5392800"/>
            <a:ext cx="0" cy="86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6195960" y="4697280"/>
            <a:ext cx="0" cy="1557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4" name=""/>
          <p:cNvGrpSpPr/>
          <p:nvPr/>
        </p:nvGrpSpPr>
        <p:grpSpPr>
          <a:xfrm>
            <a:off x="5146560" y="6138720"/>
            <a:ext cx="311760" cy="52920"/>
            <a:chOff x="5146560" y="6138720"/>
            <a:chExt cx="311760" cy="52920"/>
          </a:xfrm>
        </p:grpSpPr>
        <p:sp>
          <p:nvSpPr>
            <p:cNvPr id="2245" name=""/>
            <p:cNvSpPr/>
            <p:nvPr/>
          </p:nvSpPr>
          <p:spPr>
            <a:xfrm flipH="1">
              <a:off x="5146560" y="616572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300640" y="6138720"/>
              <a:ext cx="157680" cy="52920"/>
            </a:xfrm>
            <a:custGeom>
              <a:avLst/>
              <a:gdLst/>
              <a:ahLst/>
              <a:rect l="0" t="0" r="r" b="b"/>
              <a:pathLst>
                <a:path w="438" h="147">
                  <a:moveTo>
                    <a:pt x="0" y="0"/>
                  </a:moveTo>
                  <a:lnTo>
                    <a:pt x="0" y="147"/>
                  </a:lnTo>
                  <a:lnTo>
                    <a:pt x="438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7" name=""/>
          <p:cNvGrpSpPr/>
          <p:nvPr/>
        </p:nvGrpSpPr>
        <p:grpSpPr>
          <a:xfrm>
            <a:off x="6208560" y="6149880"/>
            <a:ext cx="308160" cy="52920"/>
            <a:chOff x="6208560" y="6149880"/>
            <a:chExt cx="308160" cy="52920"/>
          </a:xfrm>
        </p:grpSpPr>
        <p:sp>
          <p:nvSpPr>
            <p:cNvPr id="2248" name=""/>
            <p:cNvSpPr/>
            <p:nvPr/>
          </p:nvSpPr>
          <p:spPr>
            <a:xfrm>
              <a:off x="6362640" y="61768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208560" y="6149880"/>
              <a:ext cx="154440" cy="52920"/>
            </a:xfrm>
            <a:custGeom>
              <a:avLst/>
              <a:gdLst/>
              <a:ahLst/>
              <a:rect l="0" t="0" r="r" b="b"/>
              <a:pathLst>
                <a:path w="429" h="147">
                  <a:moveTo>
                    <a:pt x="429" y="0"/>
                  </a:moveTo>
                  <a:lnTo>
                    <a:pt x="429" y="147"/>
                  </a:lnTo>
                  <a:lnTo>
                    <a:pt x="0" y="76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0" name=""/>
          <p:cNvSpPr/>
          <p:nvPr/>
        </p:nvSpPr>
        <p:spPr>
          <a:xfrm>
            <a:off x="5656320" y="6091200"/>
            <a:ext cx="367200" cy="217800"/>
          </a:xfrm>
          <a:custGeom>
            <a:avLst/>
            <a:gdLst/>
            <a:ahLst/>
            <a:rect l="0" t="0" r="r" b="b"/>
            <a:pathLst>
              <a:path fill="none" w="1020" h="605">
                <a:moveTo>
                  <a:pt x="0" y="605"/>
                </a:moveTo>
                <a:lnTo>
                  <a:pt x="0" y="0"/>
                </a:lnTo>
                <a:lnTo>
                  <a:pt x="1020" y="0"/>
                </a:lnTo>
                <a:lnTo>
                  <a:pt x="1020" y="605"/>
                </a:lnTo>
                <a:lnTo>
                  <a:pt x="0" y="60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"/>
          <p:cNvSpPr txBox="1"/>
          <p:nvPr/>
        </p:nvSpPr>
        <p:spPr>
          <a:xfrm>
            <a:off x="399960" y="237960"/>
            <a:ext cx="38973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Planes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y Datum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"/>
          <p:cNvSpPr txBox="1"/>
          <p:nvPr/>
        </p:nvSpPr>
        <p:spPr>
          <a:xfrm>
            <a:off x="563400" y="1282680"/>
            <a:ext cx="287172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As shown, the prim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datum D is establish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3 datum targets;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secondary datum 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established by 2 dat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targets; the terti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datum F is established b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1 datum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6872400" y="1025640"/>
            <a:ext cx="421200" cy="421200"/>
          </a:xfrm>
          <a:custGeom>
            <a:avLst/>
            <a:gdLst/>
            <a:ahLst/>
            <a:rect l="0" t="0" r="r" b="b"/>
            <a:pathLst>
              <a:path fill="none" w="1170" h="1170">
                <a:moveTo>
                  <a:pt x="0" y="582"/>
                </a:moveTo>
                <a:lnTo>
                  <a:pt x="1170" y="582"/>
                </a:lnTo>
                <a:lnTo>
                  <a:pt x="1170" y="558"/>
                </a:lnTo>
                <a:lnTo>
                  <a:pt x="1164" y="529"/>
                </a:lnTo>
                <a:lnTo>
                  <a:pt x="1164" y="500"/>
                </a:lnTo>
                <a:lnTo>
                  <a:pt x="1158" y="476"/>
                </a:lnTo>
                <a:lnTo>
                  <a:pt x="1153" y="447"/>
                </a:lnTo>
                <a:lnTo>
                  <a:pt x="1147" y="417"/>
                </a:lnTo>
                <a:lnTo>
                  <a:pt x="1135" y="394"/>
                </a:lnTo>
                <a:lnTo>
                  <a:pt x="1129" y="365"/>
                </a:lnTo>
                <a:lnTo>
                  <a:pt x="1117" y="341"/>
                </a:lnTo>
                <a:lnTo>
                  <a:pt x="1106" y="318"/>
                </a:lnTo>
                <a:lnTo>
                  <a:pt x="1088" y="294"/>
                </a:lnTo>
                <a:lnTo>
                  <a:pt x="1077" y="270"/>
                </a:lnTo>
                <a:lnTo>
                  <a:pt x="1059" y="246"/>
                </a:lnTo>
                <a:lnTo>
                  <a:pt x="1042" y="223"/>
                </a:lnTo>
                <a:lnTo>
                  <a:pt x="1024" y="199"/>
                </a:lnTo>
                <a:lnTo>
                  <a:pt x="1006" y="182"/>
                </a:lnTo>
                <a:lnTo>
                  <a:pt x="989" y="158"/>
                </a:lnTo>
                <a:lnTo>
                  <a:pt x="966" y="140"/>
                </a:lnTo>
                <a:lnTo>
                  <a:pt x="948" y="123"/>
                </a:lnTo>
                <a:lnTo>
                  <a:pt x="925" y="105"/>
                </a:lnTo>
                <a:lnTo>
                  <a:pt x="901" y="93"/>
                </a:lnTo>
                <a:lnTo>
                  <a:pt x="878" y="76"/>
                </a:lnTo>
                <a:lnTo>
                  <a:pt x="854" y="64"/>
                </a:lnTo>
                <a:lnTo>
                  <a:pt x="830" y="52"/>
                </a:lnTo>
                <a:lnTo>
                  <a:pt x="801" y="41"/>
                </a:lnTo>
                <a:lnTo>
                  <a:pt x="778" y="29"/>
                </a:lnTo>
                <a:lnTo>
                  <a:pt x="748" y="23"/>
                </a:lnTo>
                <a:lnTo>
                  <a:pt x="725" y="11"/>
                </a:lnTo>
                <a:lnTo>
                  <a:pt x="696" y="11"/>
                </a:lnTo>
                <a:lnTo>
                  <a:pt x="667" y="5"/>
                </a:lnTo>
                <a:lnTo>
                  <a:pt x="643" y="0"/>
                </a:lnTo>
                <a:lnTo>
                  <a:pt x="614" y="0"/>
                </a:lnTo>
                <a:lnTo>
                  <a:pt x="585" y="0"/>
                </a:lnTo>
                <a:lnTo>
                  <a:pt x="556" y="0"/>
                </a:lnTo>
                <a:lnTo>
                  <a:pt x="532" y="0"/>
                </a:lnTo>
                <a:lnTo>
                  <a:pt x="503" y="5"/>
                </a:lnTo>
                <a:lnTo>
                  <a:pt x="474" y="11"/>
                </a:lnTo>
                <a:lnTo>
                  <a:pt x="450" y="11"/>
                </a:lnTo>
                <a:lnTo>
                  <a:pt x="421" y="23"/>
                </a:lnTo>
                <a:lnTo>
                  <a:pt x="392" y="29"/>
                </a:lnTo>
                <a:lnTo>
                  <a:pt x="369" y="41"/>
                </a:lnTo>
                <a:lnTo>
                  <a:pt x="345" y="52"/>
                </a:lnTo>
                <a:lnTo>
                  <a:pt x="316" y="64"/>
                </a:lnTo>
                <a:lnTo>
                  <a:pt x="293" y="76"/>
                </a:lnTo>
                <a:lnTo>
                  <a:pt x="268" y="93"/>
                </a:lnTo>
                <a:lnTo>
                  <a:pt x="245" y="105"/>
                </a:lnTo>
                <a:lnTo>
                  <a:pt x="222" y="123"/>
                </a:lnTo>
                <a:lnTo>
                  <a:pt x="204" y="140"/>
                </a:lnTo>
                <a:lnTo>
                  <a:pt x="181" y="158"/>
                </a:lnTo>
                <a:lnTo>
                  <a:pt x="163" y="182"/>
                </a:lnTo>
                <a:lnTo>
                  <a:pt x="146" y="199"/>
                </a:lnTo>
                <a:lnTo>
                  <a:pt x="128" y="223"/>
                </a:lnTo>
                <a:lnTo>
                  <a:pt x="111" y="246"/>
                </a:lnTo>
                <a:lnTo>
                  <a:pt x="93" y="270"/>
                </a:lnTo>
                <a:lnTo>
                  <a:pt x="81" y="294"/>
                </a:lnTo>
                <a:lnTo>
                  <a:pt x="70" y="318"/>
                </a:lnTo>
                <a:lnTo>
                  <a:pt x="52" y="341"/>
                </a:lnTo>
                <a:lnTo>
                  <a:pt x="46" y="365"/>
                </a:lnTo>
                <a:lnTo>
                  <a:pt x="35" y="394"/>
                </a:lnTo>
                <a:lnTo>
                  <a:pt x="23" y="417"/>
                </a:lnTo>
                <a:lnTo>
                  <a:pt x="17" y="447"/>
                </a:lnTo>
                <a:lnTo>
                  <a:pt x="11" y="476"/>
                </a:lnTo>
                <a:lnTo>
                  <a:pt x="5" y="500"/>
                </a:lnTo>
                <a:lnTo>
                  <a:pt x="5" y="529"/>
                </a:lnTo>
                <a:lnTo>
                  <a:pt x="0" y="558"/>
                </a:lnTo>
                <a:lnTo>
                  <a:pt x="0" y="582"/>
                </a:lnTo>
                <a:lnTo>
                  <a:pt x="0" y="611"/>
                </a:lnTo>
                <a:lnTo>
                  <a:pt x="5" y="641"/>
                </a:lnTo>
                <a:lnTo>
                  <a:pt x="5" y="670"/>
                </a:lnTo>
                <a:lnTo>
                  <a:pt x="11" y="693"/>
                </a:lnTo>
                <a:lnTo>
                  <a:pt x="17" y="723"/>
                </a:lnTo>
                <a:lnTo>
                  <a:pt x="23" y="752"/>
                </a:lnTo>
                <a:lnTo>
                  <a:pt x="35" y="776"/>
                </a:lnTo>
                <a:lnTo>
                  <a:pt x="46" y="805"/>
                </a:lnTo>
                <a:lnTo>
                  <a:pt x="52" y="828"/>
                </a:lnTo>
                <a:lnTo>
                  <a:pt x="70" y="852"/>
                </a:lnTo>
                <a:lnTo>
                  <a:pt x="81" y="875"/>
                </a:lnTo>
                <a:lnTo>
                  <a:pt x="93" y="906"/>
                </a:lnTo>
                <a:lnTo>
                  <a:pt x="111" y="923"/>
                </a:lnTo>
                <a:lnTo>
                  <a:pt x="128" y="947"/>
                </a:lnTo>
                <a:lnTo>
                  <a:pt x="146" y="970"/>
                </a:lnTo>
                <a:lnTo>
                  <a:pt x="163" y="988"/>
                </a:lnTo>
                <a:lnTo>
                  <a:pt x="181" y="1012"/>
                </a:lnTo>
                <a:lnTo>
                  <a:pt x="204" y="1029"/>
                </a:lnTo>
                <a:lnTo>
                  <a:pt x="222" y="1047"/>
                </a:lnTo>
                <a:lnTo>
                  <a:pt x="245" y="1064"/>
                </a:lnTo>
                <a:lnTo>
                  <a:pt x="268" y="1076"/>
                </a:lnTo>
                <a:lnTo>
                  <a:pt x="293" y="1094"/>
                </a:lnTo>
                <a:lnTo>
                  <a:pt x="316" y="1105"/>
                </a:lnTo>
                <a:lnTo>
                  <a:pt x="345" y="1117"/>
                </a:lnTo>
                <a:lnTo>
                  <a:pt x="369" y="1129"/>
                </a:lnTo>
                <a:lnTo>
                  <a:pt x="392" y="1141"/>
                </a:lnTo>
                <a:lnTo>
                  <a:pt x="421" y="1147"/>
                </a:lnTo>
                <a:lnTo>
                  <a:pt x="450" y="1152"/>
                </a:lnTo>
                <a:lnTo>
                  <a:pt x="474" y="1158"/>
                </a:lnTo>
                <a:lnTo>
                  <a:pt x="503" y="1164"/>
                </a:lnTo>
                <a:lnTo>
                  <a:pt x="532" y="1170"/>
                </a:lnTo>
                <a:lnTo>
                  <a:pt x="556" y="1170"/>
                </a:lnTo>
                <a:lnTo>
                  <a:pt x="585" y="1170"/>
                </a:lnTo>
                <a:lnTo>
                  <a:pt x="614" y="1170"/>
                </a:lnTo>
                <a:lnTo>
                  <a:pt x="643" y="1170"/>
                </a:lnTo>
                <a:lnTo>
                  <a:pt x="667" y="1164"/>
                </a:lnTo>
                <a:lnTo>
                  <a:pt x="696" y="1158"/>
                </a:lnTo>
                <a:lnTo>
                  <a:pt x="725" y="1152"/>
                </a:lnTo>
                <a:lnTo>
                  <a:pt x="748" y="1147"/>
                </a:lnTo>
                <a:lnTo>
                  <a:pt x="778" y="1141"/>
                </a:lnTo>
                <a:lnTo>
                  <a:pt x="801" y="1129"/>
                </a:lnTo>
                <a:lnTo>
                  <a:pt x="830" y="1117"/>
                </a:lnTo>
                <a:lnTo>
                  <a:pt x="854" y="1105"/>
                </a:lnTo>
                <a:lnTo>
                  <a:pt x="878" y="1094"/>
                </a:lnTo>
                <a:lnTo>
                  <a:pt x="901" y="1076"/>
                </a:lnTo>
                <a:lnTo>
                  <a:pt x="925" y="1064"/>
                </a:lnTo>
                <a:lnTo>
                  <a:pt x="948" y="1047"/>
                </a:lnTo>
                <a:lnTo>
                  <a:pt x="966" y="1029"/>
                </a:lnTo>
                <a:lnTo>
                  <a:pt x="989" y="1012"/>
                </a:lnTo>
                <a:lnTo>
                  <a:pt x="1006" y="988"/>
                </a:lnTo>
                <a:lnTo>
                  <a:pt x="1024" y="970"/>
                </a:lnTo>
                <a:lnTo>
                  <a:pt x="1042" y="947"/>
                </a:lnTo>
                <a:lnTo>
                  <a:pt x="1059" y="923"/>
                </a:lnTo>
                <a:lnTo>
                  <a:pt x="1077" y="906"/>
                </a:lnTo>
                <a:lnTo>
                  <a:pt x="1088" y="875"/>
                </a:lnTo>
                <a:lnTo>
                  <a:pt x="1106" y="852"/>
                </a:lnTo>
                <a:lnTo>
                  <a:pt x="1117" y="828"/>
                </a:lnTo>
                <a:lnTo>
                  <a:pt x="1129" y="805"/>
                </a:lnTo>
                <a:lnTo>
                  <a:pt x="1135" y="776"/>
                </a:lnTo>
                <a:lnTo>
                  <a:pt x="1147" y="752"/>
                </a:lnTo>
                <a:lnTo>
                  <a:pt x="1153" y="723"/>
                </a:lnTo>
                <a:lnTo>
                  <a:pt x="1158" y="693"/>
                </a:lnTo>
                <a:lnTo>
                  <a:pt x="1164" y="670"/>
                </a:lnTo>
                <a:lnTo>
                  <a:pt x="1164" y="641"/>
                </a:lnTo>
                <a:lnTo>
                  <a:pt x="1170" y="611"/>
                </a:lnTo>
                <a:lnTo>
                  <a:pt x="1170" y="582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"/>
          <p:cNvSpPr/>
          <p:nvPr/>
        </p:nvSpPr>
        <p:spPr>
          <a:xfrm flipV="1">
            <a:off x="5491080" y="1325520"/>
            <a:ext cx="1405080" cy="65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5491080" y="1378080"/>
            <a:ext cx="0" cy="538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"/>
          <p:cNvSpPr/>
          <p:nvPr/>
        </p:nvSpPr>
        <p:spPr>
          <a:xfrm>
            <a:off x="5095800" y="946080"/>
            <a:ext cx="1572120" cy="1238760"/>
          </a:xfrm>
          <a:custGeom>
            <a:avLst/>
            <a:gdLst/>
            <a:ahLst/>
            <a:rect l="0" t="0" r="r" b="b"/>
            <a:pathLst>
              <a:path fill="none" w="4367" h="3441">
                <a:moveTo>
                  <a:pt x="0" y="3441"/>
                </a:moveTo>
                <a:lnTo>
                  <a:pt x="0" y="0"/>
                </a:lnTo>
                <a:lnTo>
                  <a:pt x="4367" y="0"/>
                </a:lnTo>
                <a:lnTo>
                  <a:pt x="4367" y="3441"/>
                </a:lnTo>
                <a:lnTo>
                  <a:pt x="0" y="344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"/>
          <p:cNvSpPr/>
          <p:nvPr/>
        </p:nvSpPr>
        <p:spPr>
          <a:xfrm flipH="1">
            <a:off x="4767120" y="1733400"/>
            <a:ext cx="209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"/>
          <p:cNvSpPr/>
          <p:nvPr/>
        </p:nvSpPr>
        <p:spPr>
          <a:xfrm flipV="1">
            <a:off x="5095800" y="1666800"/>
            <a:ext cx="0" cy="138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"/>
          <p:cNvSpPr/>
          <p:nvPr/>
        </p:nvSpPr>
        <p:spPr>
          <a:xfrm flipH="1" flipV="1">
            <a:off x="4976640" y="1733400"/>
            <a:ext cx="119160" cy="71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0520" bIns="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"/>
          <p:cNvSpPr/>
          <p:nvPr/>
        </p:nvSpPr>
        <p:spPr>
          <a:xfrm>
            <a:off x="4976640" y="1666800"/>
            <a:ext cx="119520" cy="138600"/>
          </a:xfrm>
          <a:custGeom>
            <a:avLst/>
            <a:gdLst/>
            <a:ahLst/>
            <a:rect l="0" t="0" r="r" b="b"/>
            <a:pathLst>
              <a:path w="332" h="385">
                <a:moveTo>
                  <a:pt x="332" y="385"/>
                </a:moveTo>
                <a:lnTo>
                  <a:pt x="0" y="192"/>
                </a:lnTo>
                <a:lnTo>
                  <a:pt x="332" y="0"/>
                </a:lnTo>
                <a:lnTo>
                  <a:pt x="332" y="385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"/>
          <p:cNvSpPr/>
          <p:nvPr/>
        </p:nvSpPr>
        <p:spPr>
          <a:xfrm flipH="1">
            <a:off x="4976640" y="1666800"/>
            <a:ext cx="119160" cy="66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"/>
          <p:cNvSpPr/>
          <p:nvPr/>
        </p:nvSpPr>
        <p:spPr>
          <a:xfrm>
            <a:off x="6546960" y="2305080"/>
            <a:ext cx="0" cy="218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"/>
          <p:cNvSpPr/>
          <p:nvPr/>
        </p:nvSpPr>
        <p:spPr>
          <a:xfrm>
            <a:off x="6426360" y="2523960"/>
            <a:ext cx="241560" cy="236880"/>
          </a:xfrm>
          <a:custGeom>
            <a:avLst/>
            <a:gdLst/>
            <a:ahLst/>
            <a:rect l="0" t="0" r="r" b="b"/>
            <a:pathLst>
              <a:path fill="none" w="671" h="658">
                <a:moveTo>
                  <a:pt x="0" y="658"/>
                </a:moveTo>
                <a:lnTo>
                  <a:pt x="0" y="0"/>
                </a:lnTo>
                <a:lnTo>
                  <a:pt x="671" y="0"/>
                </a:lnTo>
                <a:lnTo>
                  <a:pt x="671" y="658"/>
                </a:lnTo>
                <a:lnTo>
                  <a:pt x="0" y="658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"/>
          <p:cNvSpPr/>
          <p:nvPr/>
        </p:nvSpPr>
        <p:spPr>
          <a:xfrm flipH="1" flipV="1">
            <a:off x="5372280" y="1855800"/>
            <a:ext cx="239400" cy="241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 flipH="1">
            <a:off x="5372280" y="1855800"/>
            <a:ext cx="239400" cy="241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 flipH="1">
            <a:off x="6478560" y="2184480"/>
            <a:ext cx="139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 flipH="1">
            <a:off x="6546960" y="2184480"/>
            <a:ext cx="71280" cy="12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6478560" y="2184480"/>
            <a:ext cx="140040" cy="120960"/>
          </a:xfrm>
          <a:custGeom>
            <a:avLst/>
            <a:gdLst/>
            <a:ahLst/>
            <a:rect l="0" t="0" r="r" b="b"/>
            <a:pathLst>
              <a:path w="389" h="336">
                <a:moveTo>
                  <a:pt x="389" y="0"/>
                </a:moveTo>
                <a:lnTo>
                  <a:pt x="195" y="336"/>
                </a:lnTo>
                <a:lnTo>
                  <a:pt x="0" y="0"/>
                </a:lnTo>
                <a:lnTo>
                  <a:pt x="389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6478560" y="2184480"/>
            <a:ext cx="68400" cy="120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 flipV="1">
            <a:off x="5491080" y="739800"/>
            <a:ext cx="917640" cy="585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 flipH="1" flipV="1">
            <a:off x="5372280" y="1204920"/>
            <a:ext cx="239400" cy="241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"/>
          <p:cNvSpPr/>
          <p:nvPr/>
        </p:nvSpPr>
        <p:spPr>
          <a:xfrm flipH="1">
            <a:off x="5372280" y="1204920"/>
            <a:ext cx="239400" cy="241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"/>
          <p:cNvSpPr/>
          <p:nvPr/>
        </p:nvSpPr>
        <p:spPr>
          <a:xfrm>
            <a:off x="6377040" y="415800"/>
            <a:ext cx="417960" cy="422640"/>
          </a:xfrm>
          <a:custGeom>
            <a:avLst/>
            <a:gdLst/>
            <a:ahLst/>
            <a:rect l="0" t="0" r="r" b="b"/>
            <a:pathLst>
              <a:path fill="none" w="1161" h="1174">
                <a:moveTo>
                  <a:pt x="1161" y="587"/>
                </a:moveTo>
                <a:lnTo>
                  <a:pt x="1161" y="558"/>
                </a:lnTo>
                <a:lnTo>
                  <a:pt x="1161" y="534"/>
                </a:lnTo>
                <a:lnTo>
                  <a:pt x="1155" y="505"/>
                </a:lnTo>
                <a:lnTo>
                  <a:pt x="1150" y="476"/>
                </a:lnTo>
                <a:lnTo>
                  <a:pt x="1144" y="452"/>
                </a:lnTo>
                <a:lnTo>
                  <a:pt x="1138" y="423"/>
                </a:lnTo>
                <a:lnTo>
                  <a:pt x="1132" y="399"/>
                </a:lnTo>
                <a:lnTo>
                  <a:pt x="1120" y="370"/>
                </a:lnTo>
                <a:lnTo>
                  <a:pt x="1109" y="347"/>
                </a:lnTo>
                <a:lnTo>
                  <a:pt x="1097" y="323"/>
                </a:lnTo>
                <a:lnTo>
                  <a:pt x="1085" y="294"/>
                </a:lnTo>
                <a:lnTo>
                  <a:pt x="1068" y="269"/>
                </a:lnTo>
                <a:lnTo>
                  <a:pt x="1056" y="246"/>
                </a:lnTo>
                <a:lnTo>
                  <a:pt x="1039" y="228"/>
                </a:lnTo>
                <a:lnTo>
                  <a:pt x="1021" y="205"/>
                </a:lnTo>
                <a:lnTo>
                  <a:pt x="998" y="181"/>
                </a:lnTo>
                <a:lnTo>
                  <a:pt x="981" y="164"/>
                </a:lnTo>
                <a:lnTo>
                  <a:pt x="963" y="146"/>
                </a:lnTo>
                <a:lnTo>
                  <a:pt x="940" y="129"/>
                </a:lnTo>
                <a:lnTo>
                  <a:pt x="916" y="111"/>
                </a:lnTo>
                <a:lnTo>
                  <a:pt x="893" y="93"/>
                </a:lnTo>
                <a:lnTo>
                  <a:pt x="869" y="82"/>
                </a:lnTo>
                <a:lnTo>
                  <a:pt x="846" y="64"/>
                </a:lnTo>
                <a:lnTo>
                  <a:pt x="822" y="58"/>
                </a:lnTo>
                <a:lnTo>
                  <a:pt x="793" y="46"/>
                </a:lnTo>
                <a:lnTo>
                  <a:pt x="770" y="35"/>
                </a:lnTo>
                <a:lnTo>
                  <a:pt x="746" y="23"/>
                </a:lnTo>
                <a:lnTo>
                  <a:pt x="717" y="17"/>
                </a:lnTo>
                <a:lnTo>
                  <a:pt x="688" y="11"/>
                </a:lnTo>
                <a:lnTo>
                  <a:pt x="665" y="5"/>
                </a:lnTo>
                <a:lnTo>
                  <a:pt x="636" y="5"/>
                </a:lnTo>
                <a:lnTo>
                  <a:pt x="607" y="0"/>
                </a:lnTo>
                <a:lnTo>
                  <a:pt x="577" y="0"/>
                </a:lnTo>
                <a:lnTo>
                  <a:pt x="554" y="0"/>
                </a:lnTo>
                <a:lnTo>
                  <a:pt x="525" y="5"/>
                </a:lnTo>
                <a:lnTo>
                  <a:pt x="496" y="5"/>
                </a:lnTo>
                <a:lnTo>
                  <a:pt x="467" y="11"/>
                </a:lnTo>
                <a:lnTo>
                  <a:pt x="443" y="17"/>
                </a:lnTo>
                <a:lnTo>
                  <a:pt x="414" y="23"/>
                </a:lnTo>
                <a:lnTo>
                  <a:pt x="391" y="35"/>
                </a:lnTo>
                <a:lnTo>
                  <a:pt x="362" y="46"/>
                </a:lnTo>
                <a:lnTo>
                  <a:pt x="339" y="58"/>
                </a:lnTo>
                <a:lnTo>
                  <a:pt x="315" y="64"/>
                </a:lnTo>
                <a:lnTo>
                  <a:pt x="292" y="82"/>
                </a:lnTo>
                <a:lnTo>
                  <a:pt x="262" y="93"/>
                </a:lnTo>
                <a:lnTo>
                  <a:pt x="244" y="111"/>
                </a:lnTo>
                <a:lnTo>
                  <a:pt x="221" y="129"/>
                </a:lnTo>
                <a:lnTo>
                  <a:pt x="198" y="146"/>
                </a:lnTo>
                <a:lnTo>
                  <a:pt x="180" y="164"/>
                </a:lnTo>
                <a:lnTo>
                  <a:pt x="157" y="181"/>
                </a:lnTo>
                <a:lnTo>
                  <a:pt x="139" y="205"/>
                </a:lnTo>
                <a:lnTo>
                  <a:pt x="122" y="228"/>
                </a:lnTo>
                <a:lnTo>
                  <a:pt x="104" y="246"/>
                </a:lnTo>
                <a:lnTo>
                  <a:pt x="87" y="269"/>
                </a:lnTo>
                <a:lnTo>
                  <a:pt x="75" y="294"/>
                </a:lnTo>
                <a:lnTo>
                  <a:pt x="64" y="323"/>
                </a:lnTo>
                <a:lnTo>
                  <a:pt x="52" y="347"/>
                </a:lnTo>
                <a:lnTo>
                  <a:pt x="40" y="370"/>
                </a:lnTo>
                <a:lnTo>
                  <a:pt x="29" y="399"/>
                </a:lnTo>
                <a:lnTo>
                  <a:pt x="23" y="423"/>
                </a:lnTo>
                <a:lnTo>
                  <a:pt x="11" y="452"/>
                </a:lnTo>
                <a:lnTo>
                  <a:pt x="5" y="476"/>
                </a:lnTo>
                <a:lnTo>
                  <a:pt x="5" y="505"/>
                </a:lnTo>
                <a:lnTo>
                  <a:pt x="0" y="534"/>
                </a:lnTo>
                <a:lnTo>
                  <a:pt x="0" y="558"/>
                </a:lnTo>
                <a:lnTo>
                  <a:pt x="0" y="587"/>
                </a:lnTo>
                <a:lnTo>
                  <a:pt x="0" y="616"/>
                </a:lnTo>
                <a:lnTo>
                  <a:pt x="0" y="646"/>
                </a:lnTo>
                <a:lnTo>
                  <a:pt x="5" y="669"/>
                </a:lnTo>
                <a:lnTo>
                  <a:pt x="5" y="698"/>
                </a:lnTo>
                <a:lnTo>
                  <a:pt x="11" y="728"/>
                </a:lnTo>
                <a:lnTo>
                  <a:pt x="23" y="751"/>
                </a:lnTo>
                <a:lnTo>
                  <a:pt x="29" y="781"/>
                </a:lnTo>
                <a:lnTo>
                  <a:pt x="40" y="804"/>
                </a:lnTo>
                <a:lnTo>
                  <a:pt x="52" y="833"/>
                </a:lnTo>
                <a:lnTo>
                  <a:pt x="64" y="857"/>
                </a:lnTo>
                <a:lnTo>
                  <a:pt x="75" y="880"/>
                </a:lnTo>
                <a:lnTo>
                  <a:pt x="87" y="905"/>
                </a:lnTo>
                <a:lnTo>
                  <a:pt x="104" y="928"/>
                </a:lnTo>
                <a:lnTo>
                  <a:pt x="122" y="952"/>
                </a:lnTo>
                <a:lnTo>
                  <a:pt x="139" y="975"/>
                </a:lnTo>
                <a:lnTo>
                  <a:pt x="157" y="993"/>
                </a:lnTo>
                <a:lnTo>
                  <a:pt x="180" y="1010"/>
                </a:lnTo>
                <a:lnTo>
                  <a:pt x="198" y="1034"/>
                </a:lnTo>
                <a:lnTo>
                  <a:pt x="221" y="1051"/>
                </a:lnTo>
                <a:lnTo>
                  <a:pt x="244" y="1063"/>
                </a:lnTo>
                <a:lnTo>
                  <a:pt x="262" y="1081"/>
                </a:lnTo>
                <a:lnTo>
                  <a:pt x="292" y="1098"/>
                </a:lnTo>
                <a:lnTo>
                  <a:pt x="315" y="1110"/>
                </a:lnTo>
                <a:lnTo>
                  <a:pt x="339" y="1122"/>
                </a:lnTo>
                <a:lnTo>
                  <a:pt x="362" y="1133"/>
                </a:lnTo>
                <a:lnTo>
                  <a:pt x="391" y="1139"/>
                </a:lnTo>
                <a:lnTo>
                  <a:pt x="414" y="1151"/>
                </a:lnTo>
                <a:lnTo>
                  <a:pt x="443" y="1157"/>
                </a:lnTo>
                <a:lnTo>
                  <a:pt x="467" y="1163"/>
                </a:lnTo>
                <a:lnTo>
                  <a:pt x="496" y="1169"/>
                </a:lnTo>
                <a:lnTo>
                  <a:pt x="525" y="1169"/>
                </a:lnTo>
                <a:lnTo>
                  <a:pt x="554" y="1174"/>
                </a:lnTo>
                <a:lnTo>
                  <a:pt x="577" y="1174"/>
                </a:lnTo>
                <a:lnTo>
                  <a:pt x="607" y="1174"/>
                </a:lnTo>
                <a:lnTo>
                  <a:pt x="636" y="1169"/>
                </a:lnTo>
                <a:lnTo>
                  <a:pt x="665" y="1169"/>
                </a:lnTo>
                <a:lnTo>
                  <a:pt x="688" y="1163"/>
                </a:lnTo>
                <a:lnTo>
                  <a:pt x="717" y="1157"/>
                </a:lnTo>
                <a:lnTo>
                  <a:pt x="746" y="1151"/>
                </a:lnTo>
                <a:lnTo>
                  <a:pt x="770" y="1139"/>
                </a:lnTo>
                <a:lnTo>
                  <a:pt x="793" y="1133"/>
                </a:lnTo>
                <a:lnTo>
                  <a:pt x="822" y="1122"/>
                </a:lnTo>
                <a:lnTo>
                  <a:pt x="846" y="1110"/>
                </a:lnTo>
                <a:lnTo>
                  <a:pt x="869" y="1098"/>
                </a:lnTo>
                <a:lnTo>
                  <a:pt x="893" y="1081"/>
                </a:lnTo>
                <a:lnTo>
                  <a:pt x="916" y="1063"/>
                </a:lnTo>
                <a:lnTo>
                  <a:pt x="940" y="1051"/>
                </a:lnTo>
                <a:lnTo>
                  <a:pt x="963" y="1034"/>
                </a:lnTo>
                <a:lnTo>
                  <a:pt x="981" y="1010"/>
                </a:lnTo>
                <a:lnTo>
                  <a:pt x="998" y="993"/>
                </a:lnTo>
                <a:lnTo>
                  <a:pt x="1021" y="975"/>
                </a:lnTo>
                <a:lnTo>
                  <a:pt x="1039" y="952"/>
                </a:lnTo>
                <a:lnTo>
                  <a:pt x="1056" y="928"/>
                </a:lnTo>
                <a:lnTo>
                  <a:pt x="1068" y="905"/>
                </a:lnTo>
                <a:lnTo>
                  <a:pt x="1085" y="880"/>
                </a:lnTo>
                <a:lnTo>
                  <a:pt x="1097" y="857"/>
                </a:lnTo>
                <a:lnTo>
                  <a:pt x="1109" y="833"/>
                </a:lnTo>
                <a:lnTo>
                  <a:pt x="1120" y="804"/>
                </a:lnTo>
                <a:lnTo>
                  <a:pt x="1132" y="781"/>
                </a:lnTo>
                <a:lnTo>
                  <a:pt x="1138" y="751"/>
                </a:lnTo>
                <a:lnTo>
                  <a:pt x="1144" y="728"/>
                </a:lnTo>
                <a:lnTo>
                  <a:pt x="1150" y="698"/>
                </a:lnTo>
                <a:lnTo>
                  <a:pt x="1155" y="669"/>
                </a:lnTo>
                <a:lnTo>
                  <a:pt x="1161" y="646"/>
                </a:lnTo>
                <a:lnTo>
                  <a:pt x="1161" y="616"/>
                </a:lnTo>
                <a:lnTo>
                  <a:pt x="1161" y="58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"/>
          <p:cNvSpPr/>
          <p:nvPr/>
        </p:nvSpPr>
        <p:spPr>
          <a:xfrm>
            <a:off x="6377040" y="625320"/>
            <a:ext cx="417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"/>
          <p:cNvSpPr/>
          <p:nvPr/>
        </p:nvSpPr>
        <p:spPr>
          <a:xfrm flipH="1">
            <a:off x="4721400" y="1324080"/>
            <a:ext cx="677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"/>
          <p:cNvSpPr/>
          <p:nvPr/>
        </p:nvSpPr>
        <p:spPr>
          <a:xfrm flipH="1">
            <a:off x="3835440" y="1978200"/>
            <a:ext cx="1563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"/>
          <p:cNvSpPr/>
          <p:nvPr/>
        </p:nvSpPr>
        <p:spPr>
          <a:xfrm flipH="1">
            <a:off x="3813120" y="2178000"/>
            <a:ext cx="12096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"/>
          <p:cNvSpPr/>
          <p:nvPr/>
        </p:nvSpPr>
        <p:spPr>
          <a:xfrm>
            <a:off x="4516560" y="1616040"/>
            <a:ext cx="240120" cy="238320"/>
          </a:xfrm>
          <a:custGeom>
            <a:avLst/>
            <a:gdLst/>
            <a:ahLst/>
            <a:rect l="0" t="0" r="r" b="b"/>
            <a:pathLst>
              <a:path fill="none" w="667" h="662">
                <a:moveTo>
                  <a:pt x="0" y="662"/>
                </a:moveTo>
                <a:lnTo>
                  <a:pt x="0" y="0"/>
                </a:lnTo>
                <a:lnTo>
                  <a:pt x="667" y="0"/>
                </a:lnTo>
                <a:lnTo>
                  <a:pt x="667" y="662"/>
                </a:lnTo>
                <a:lnTo>
                  <a:pt x="0" y="662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3924360" y="2178000"/>
            <a:ext cx="0" cy="3873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"/>
          <p:cNvSpPr/>
          <p:nvPr/>
        </p:nvSpPr>
        <p:spPr>
          <a:xfrm flipV="1">
            <a:off x="3924360" y="1324080"/>
            <a:ext cx="0" cy="64296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"/>
          <p:cNvSpPr/>
          <p:nvPr/>
        </p:nvSpPr>
        <p:spPr>
          <a:xfrm flipV="1">
            <a:off x="3924360" y="981000"/>
            <a:ext cx="0" cy="320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"/>
          <p:cNvSpPr/>
          <p:nvPr/>
        </p:nvSpPr>
        <p:spPr>
          <a:xfrm>
            <a:off x="3935520" y="981000"/>
            <a:ext cx="155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"/>
          <p:cNvSpPr/>
          <p:nvPr/>
        </p:nvSpPr>
        <p:spPr>
          <a:xfrm>
            <a:off x="3924360" y="2565360"/>
            <a:ext cx="133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>
            <a:off x="4091040" y="870120"/>
            <a:ext cx="353880" cy="233280"/>
          </a:xfrm>
          <a:prstGeom prst="rect">
            <a:avLst/>
          </a:prstGeom>
          <a:solidFill>
            <a:srgbClr val="114ffb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>
            <a:off x="4057560" y="2454120"/>
            <a:ext cx="353880" cy="2444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H="1">
            <a:off x="6908760" y="2924280"/>
            <a:ext cx="185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V="1">
            <a:off x="6840360" y="3201840"/>
            <a:ext cx="68400" cy="120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>
            <a:off x="6840360" y="3201840"/>
            <a:ext cx="140040" cy="120960"/>
          </a:xfrm>
          <a:custGeom>
            <a:avLst/>
            <a:gdLst/>
            <a:ahLst/>
            <a:rect l="0" t="0" r="r" b="b"/>
            <a:pathLst>
              <a:path w="389" h="336">
                <a:moveTo>
                  <a:pt x="0" y="336"/>
                </a:moveTo>
                <a:lnTo>
                  <a:pt x="195" y="0"/>
                </a:lnTo>
                <a:lnTo>
                  <a:pt x="389" y="336"/>
                </a:lnTo>
                <a:lnTo>
                  <a:pt x="0" y="33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 flipH="1" flipV="1">
            <a:off x="6908760" y="3201840"/>
            <a:ext cx="71640" cy="120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>
            <a:off x="6746760" y="3322800"/>
            <a:ext cx="1176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 flipV="1">
            <a:off x="6908760" y="2924280"/>
            <a:ext cx="0" cy="277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 flipV="1">
            <a:off x="5491080" y="2770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 flipV="1">
            <a:off x="5095800" y="2770200"/>
            <a:ext cx="0" cy="476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5645160" y="2846520"/>
            <a:ext cx="154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 flipH="1">
            <a:off x="4791240" y="284652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5491080" y="2820960"/>
            <a:ext cx="154440" cy="54360"/>
          </a:xfrm>
          <a:custGeom>
            <a:avLst/>
            <a:gdLst/>
            <a:ahLst/>
            <a:rect l="0" t="0" r="r" b="b"/>
            <a:pathLst>
              <a:path w="429" h="151">
                <a:moveTo>
                  <a:pt x="429" y="0"/>
                </a:moveTo>
                <a:lnTo>
                  <a:pt x="429" y="151"/>
                </a:lnTo>
                <a:lnTo>
                  <a:pt x="0" y="72"/>
                </a:lnTo>
                <a:lnTo>
                  <a:pt x="429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4943520" y="2820960"/>
            <a:ext cx="152640" cy="54360"/>
          </a:xfrm>
          <a:custGeom>
            <a:avLst/>
            <a:gdLst/>
            <a:ahLst/>
            <a:rect l="0" t="0" r="r" b="b"/>
            <a:pathLst>
              <a:path w="424" h="151">
                <a:moveTo>
                  <a:pt x="0" y="0"/>
                </a:moveTo>
                <a:lnTo>
                  <a:pt x="0" y="151"/>
                </a:lnTo>
                <a:lnTo>
                  <a:pt x="424" y="7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 flipV="1">
            <a:off x="5543640" y="3138480"/>
            <a:ext cx="372960" cy="190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6316560" y="2833560"/>
            <a:ext cx="417960" cy="419400"/>
          </a:xfrm>
          <a:custGeom>
            <a:avLst/>
            <a:gdLst/>
            <a:ahLst/>
            <a:rect l="0" t="0" r="r" b="b"/>
            <a:pathLst>
              <a:path fill="none" w="1161" h="1165">
                <a:moveTo>
                  <a:pt x="1161" y="579"/>
                </a:moveTo>
                <a:lnTo>
                  <a:pt x="1161" y="555"/>
                </a:lnTo>
                <a:lnTo>
                  <a:pt x="1161" y="526"/>
                </a:lnTo>
                <a:lnTo>
                  <a:pt x="1155" y="497"/>
                </a:lnTo>
                <a:lnTo>
                  <a:pt x="1150" y="468"/>
                </a:lnTo>
                <a:lnTo>
                  <a:pt x="1144" y="444"/>
                </a:lnTo>
                <a:lnTo>
                  <a:pt x="1138" y="415"/>
                </a:lnTo>
                <a:lnTo>
                  <a:pt x="1132" y="391"/>
                </a:lnTo>
                <a:lnTo>
                  <a:pt x="1120" y="362"/>
                </a:lnTo>
                <a:lnTo>
                  <a:pt x="1109" y="339"/>
                </a:lnTo>
                <a:lnTo>
                  <a:pt x="1097" y="315"/>
                </a:lnTo>
                <a:lnTo>
                  <a:pt x="1085" y="292"/>
                </a:lnTo>
                <a:lnTo>
                  <a:pt x="1068" y="263"/>
                </a:lnTo>
                <a:lnTo>
                  <a:pt x="1056" y="245"/>
                </a:lnTo>
                <a:lnTo>
                  <a:pt x="1039" y="222"/>
                </a:lnTo>
                <a:lnTo>
                  <a:pt x="1021" y="198"/>
                </a:lnTo>
                <a:lnTo>
                  <a:pt x="1004" y="175"/>
                </a:lnTo>
                <a:lnTo>
                  <a:pt x="981" y="157"/>
                </a:lnTo>
                <a:lnTo>
                  <a:pt x="963" y="140"/>
                </a:lnTo>
                <a:lnTo>
                  <a:pt x="940" y="122"/>
                </a:lnTo>
                <a:lnTo>
                  <a:pt x="916" y="105"/>
                </a:lnTo>
                <a:lnTo>
                  <a:pt x="893" y="87"/>
                </a:lnTo>
                <a:lnTo>
                  <a:pt x="869" y="76"/>
                </a:lnTo>
                <a:lnTo>
                  <a:pt x="846" y="64"/>
                </a:lnTo>
                <a:lnTo>
                  <a:pt x="822" y="52"/>
                </a:lnTo>
                <a:lnTo>
                  <a:pt x="799" y="40"/>
                </a:lnTo>
                <a:lnTo>
                  <a:pt x="770" y="29"/>
                </a:lnTo>
                <a:lnTo>
                  <a:pt x="746" y="23"/>
                </a:lnTo>
                <a:lnTo>
                  <a:pt x="717" y="11"/>
                </a:lnTo>
                <a:lnTo>
                  <a:pt x="688" y="5"/>
                </a:lnTo>
                <a:lnTo>
                  <a:pt x="665" y="5"/>
                </a:lnTo>
                <a:lnTo>
                  <a:pt x="636" y="0"/>
                </a:lnTo>
                <a:lnTo>
                  <a:pt x="607" y="0"/>
                </a:lnTo>
                <a:lnTo>
                  <a:pt x="577" y="0"/>
                </a:lnTo>
                <a:lnTo>
                  <a:pt x="554" y="0"/>
                </a:lnTo>
                <a:lnTo>
                  <a:pt x="525" y="0"/>
                </a:lnTo>
                <a:lnTo>
                  <a:pt x="496" y="5"/>
                </a:lnTo>
                <a:lnTo>
                  <a:pt x="473" y="5"/>
                </a:lnTo>
                <a:lnTo>
                  <a:pt x="443" y="11"/>
                </a:lnTo>
                <a:lnTo>
                  <a:pt x="414" y="23"/>
                </a:lnTo>
                <a:lnTo>
                  <a:pt x="391" y="29"/>
                </a:lnTo>
                <a:lnTo>
                  <a:pt x="362" y="40"/>
                </a:lnTo>
                <a:lnTo>
                  <a:pt x="339" y="52"/>
                </a:lnTo>
                <a:lnTo>
                  <a:pt x="315" y="64"/>
                </a:lnTo>
                <a:lnTo>
                  <a:pt x="292" y="76"/>
                </a:lnTo>
                <a:lnTo>
                  <a:pt x="268" y="87"/>
                </a:lnTo>
                <a:lnTo>
                  <a:pt x="244" y="105"/>
                </a:lnTo>
                <a:lnTo>
                  <a:pt x="221" y="122"/>
                </a:lnTo>
                <a:lnTo>
                  <a:pt x="198" y="140"/>
                </a:lnTo>
                <a:lnTo>
                  <a:pt x="180" y="157"/>
                </a:lnTo>
                <a:lnTo>
                  <a:pt x="157" y="175"/>
                </a:lnTo>
                <a:lnTo>
                  <a:pt x="139" y="198"/>
                </a:lnTo>
                <a:lnTo>
                  <a:pt x="122" y="222"/>
                </a:lnTo>
                <a:lnTo>
                  <a:pt x="104" y="245"/>
                </a:lnTo>
                <a:lnTo>
                  <a:pt x="87" y="263"/>
                </a:lnTo>
                <a:lnTo>
                  <a:pt x="75" y="292"/>
                </a:lnTo>
                <a:lnTo>
                  <a:pt x="64" y="315"/>
                </a:lnTo>
                <a:lnTo>
                  <a:pt x="52" y="339"/>
                </a:lnTo>
                <a:lnTo>
                  <a:pt x="40" y="362"/>
                </a:lnTo>
                <a:lnTo>
                  <a:pt x="29" y="391"/>
                </a:lnTo>
                <a:lnTo>
                  <a:pt x="23" y="415"/>
                </a:lnTo>
                <a:lnTo>
                  <a:pt x="11" y="444"/>
                </a:lnTo>
                <a:lnTo>
                  <a:pt x="11" y="468"/>
                </a:lnTo>
                <a:lnTo>
                  <a:pt x="5" y="497"/>
                </a:lnTo>
                <a:lnTo>
                  <a:pt x="0" y="526"/>
                </a:lnTo>
                <a:lnTo>
                  <a:pt x="0" y="555"/>
                </a:lnTo>
                <a:lnTo>
                  <a:pt x="0" y="579"/>
                </a:lnTo>
                <a:lnTo>
                  <a:pt x="0" y="609"/>
                </a:lnTo>
                <a:lnTo>
                  <a:pt x="0" y="638"/>
                </a:lnTo>
                <a:lnTo>
                  <a:pt x="5" y="662"/>
                </a:lnTo>
                <a:lnTo>
                  <a:pt x="11" y="691"/>
                </a:lnTo>
                <a:lnTo>
                  <a:pt x="11" y="720"/>
                </a:lnTo>
                <a:lnTo>
                  <a:pt x="23" y="743"/>
                </a:lnTo>
                <a:lnTo>
                  <a:pt x="29" y="773"/>
                </a:lnTo>
                <a:lnTo>
                  <a:pt x="40" y="796"/>
                </a:lnTo>
                <a:lnTo>
                  <a:pt x="52" y="825"/>
                </a:lnTo>
                <a:lnTo>
                  <a:pt x="64" y="849"/>
                </a:lnTo>
                <a:lnTo>
                  <a:pt x="75" y="872"/>
                </a:lnTo>
                <a:lnTo>
                  <a:pt x="87" y="896"/>
                </a:lnTo>
                <a:lnTo>
                  <a:pt x="104" y="919"/>
                </a:lnTo>
                <a:lnTo>
                  <a:pt x="122" y="942"/>
                </a:lnTo>
                <a:lnTo>
                  <a:pt x="139" y="966"/>
                </a:lnTo>
                <a:lnTo>
                  <a:pt x="157" y="983"/>
                </a:lnTo>
                <a:lnTo>
                  <a:pt x="180" y="1007"/>
                </a:lnTo>
                <a:lnTo>
                  <a:pt x="198" y="1024"/>
                </a:lnTo>
                <a:lnTo>
                  <a:pt x="221" y="1042"/>
                </a:lnTo>
                <a:lnTo>
                  <a:pt x="244" y="1059"/>
                </a:lnTo>
                <a:lnTo>
                  <a:pt x="268" y="1071"/>
                </a:lnTo>
                <a:lnTo>
                  <a:pt x="292" y="1089"/>
                </a:lnTo>
                <a:lnTo>
                  <a:pt x="315" y="1100"/>
                </a:lnTo>
                <a:lnTo>
                  <a:pt x="339" y="1112"/>
                </a:lnTo>
                <a:lnTo>
                  <a:pt x="362" y="1124"/>
                </a:lnTo>
                <a:lnTo>
                  <a:pt x="391" y="1135"/>
                </a:lnTo>
                <a:lnTo>
                  <a:pt x="414" y="1141"/>
                </a:lnTo>
                <a:lnTo>
                  <a:pt x="443" y="1147"/>
                </a:lnTo>
                <a:lnTo>
                  <a:pt x="473" y="1153"/>
                </a:lnTo>
                <a:lnTo>
                  <a:pt x="496" y="1159"/>
                </a:lnTo>
                <a:lnTo>
                  <a:pt x="525" y="1165"/>
                </a:lnTo>
                <a:lnTo>
                  <a:pt x="554" y="1165"/>
                </a:lnTo>
                <a:lnTo>
                  <a:pt x="577" y="1165"/>
                </a:lnTo>
                <a:lnTo>
                  <a:pt x="607" y="1165"/>
                </a:lnTo>
                <a:lnTo>
                  <a:pt x="636" y="1165"/>
                </a:lnTo>
                <a:lnTo>
                  <a:pt x="665" y="1159"/>
                </a:lnTo>
                <a:lnTo>
                  <a:pt x="688" y="1153"/>
                </a:lnTo>
                <a:lnTo>
                  <a:pt x="717" y="1147"/>
                </a:lnTo>
                <a:lnTo>
                  <a:pt x="746" y="1141"/>
                </a:lnTo>
                <a:lnTo>
                  <a:pt x="770" y="1135"/>
                </a:lnTo>
                <a:lnTo>
                  <a:pt x="799" y="1124"/>
                </a:lnTo>
                <a:lnTo>
                  <a:pt x="822" y="1112"/>
                </a:lnTo>
                <a:lnTo>
                  <a:pt x="846" y="1100"/>
                </a:lnTo>
                <a:lnTo>
                  <a:pt x="869" y="1089"/>
                </a:lnTo>
                <a:lnTo>
                  <a:pt x="893" y="1071"/>
                </a:lnTo>
                <a:lnTo>
                  <a:pt x="916" y="1059"/>
                </a:lnTo>
                <a:lnTo>
                  <a:pt x="940" y="1042"/>
                </a:lnTo>
                <a:lnTo>
                  <a:pt x="963" y="1024"/>
                </a:lnTo>
                <a:lnTo>
                  <a:pt x="981" y="1007"/>
                </a:lnTo>
                <a:lnTo>
                  <a:pt x="1004" y="983"/>
                </a:lnTo>
                <a:lnTo>
                  <a:pt x="1021" y="966"/>
                </a:lnTo>
                <a:lnTo>
                  <a:pt x="1039" y="942"/>
                </a:lnTo>
                <a:lnTo>
                  <a:pt x="1056" y="919"/>
                </a:lnTo>
                <a:lnTo>
                  <a:pt x="1068" y="896"/>
                </a:lnTo>
                <a:lnTo>
                  <a:pt x="1085" y="872"/>
                </a:lnTo>
                <a:lnTo>
                  <a:pt x="1097" y="849"/>
                </a:lnTo>
                <a:lnTo>
                  <a:pt x="1109" y="825"/>
                </a:lnTo>
                <a:lnTo>
                  <a:pt x="1120" y="796"/>
                </a:lnTo>
                <a:lnTo>
                  <a:pt x="1132" y="773"/>
                </a:lnTo>
                <a:lnTo>
                  <a:pt x="1138" y="743"/>
                </a:lnTo>
                <a:lnTo>
                  <a:pt x="1144" y="720"/>
                </a:lnTo>
                <a:lnTo>
                  <a:pt x="1150" y="691"/>
                </a:lnTo>
                <a:lnTo>
                  <a:pt x="1155" y="662"/>
                </a:lnTo>
                <a:lnTo>
                  <a:pt x="1161" y="638"/>
                </a:lnTo>
                <a:lnTo>
                  <a:pt x="1161" y="609"/>
                </a:lnTo>
                <a:lnTo>
                  <a:pt x="1161" y="57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5892840" y="2833560"/>
            <a:ext cx="424080" cy="419400"/>
          </a:xfrm>
          <a:custGeom>
            <a:avLst/>
            <a:gdLst/>
            <a:ahLst/>
            <a:rect l="0" t="0" r="r" b="b"/>
            <a:pathLst>
              <a:path fill="none" w="1178" h="1165">
                <a:moveTo>
                  <a:pt x="1178" y="579"/>
                </a:moveTo>
                <a:lnTo>
                  <a:pt x="1178" y="555"/>
                </a:lnTo>
                <a:lnTo>
                  <a:pt x="1172" y="526"/>
                </a:lnTo>
                <a:lnTo>
                  <a:pt x="1172" y="497"/>
                </a:lnTo>
                <a:lnTo>
                  <a:pt x="1166" y="468"/>
                </a:lnTo>
                <a:lnTo>
                  <a:pt x="1160" y="444"/>
                </a:lnTo>
                <a:lnTo>
                  <a:pt x="1154" y="415"/>
                </a:lnTo>
                <a:lnTo>
                  <a:pt x="1143" y="391"/>
                </a:lnTo>
                <a:lnTo>
                  <a:pt x="1137" y="362"/>
                </a:lnTo>
                <a:lnTo>
                  <a:pt x="1125" y="339"/>
                </a:lnTo>
                <a:lnTo>
                  <a:pt x="1113" y="315"/>
                </a:lnTo>
                <a:lnTo>
                  <a:pt x="1095" y="292"/>
                </a:lnTo>
                <a:lnTo>
                  <a:pt x="1084" y="263"/>
                </a:lnTo>
                <a:lnTo>
                  <a:pt x="1066" y="245"/>
                </a:lnTo>
                <a:lnTo>
                  <a:pt x="1048" y="222"/>
                </a:lnTo>
                <a:lnTo>
                  <a:pt x="1031" y="198"/>
                </a:lnTo>
                <a:lnTo>
                  <a:pt x="1013" y="175"/>
                </a:lnTo>
                <a:lnTo>
                  <a:pt x="995" y="157"/>
                </a:lnTo>
                <a:lnTo>
                  <a:pt x="972" y="140"/>
                </a:lnTo>
                <a:lnTo>
                  <a:pt x="954" y="122"/>
                </a:lnTo>
                <a:lnTo>
                  <a:pt x="931" y="105"/>
                </a:lnTo>
                <a:lnTo>
                  <a:pt x="907" y="87"/>
                </a:lnTo>
                <a:lnTo>
                  <a:pt x="884" y="76"/>
                </a:lnTo>
                <a:lnTo>
                  <a:pt x="860" y="64"/>
                </a:lnTo>
                <a:lnTo>
                  <a:pt x="831" y="52"/>
                </a:lnTo>
                <a:lnTo>
                  <a:pt x="807" y="40"/>
                </a:lnTo>
                <a:lnTo>
                  <a:pt x="783" y="29"/>
                </a:lnTo>
                <a:lnTo>
                  <a:pt x="754" y="23"/>
                </a:lnTo>
                <a:lnTo>
                  <a:pt x="725" y="11"/>
                </a:lnTo>
                <a:lnTo>
                  <a:pt x="701" y="5"/>
                </a:lnTo>
                <a:lnTo>
                  <a:pt x="672" y="5"/>
                </a:lnTo>
                <a:lnTo>
                  <a:pt x="648" y="0"/>
                </a:lnTo>
                <a:lnTo>
                  <a:pt x="619" y="0"/>
                </a:lnTo>
                <a:lnTo>
                  <a:pt x="588" y="0"/>
                </a:lnTo>
                <a:lnTo>
                  <a:pt x="559" y="0"/>
                </a:lnTo>
                <a:lnTo>
                  <a:pt x="529" y="0"/>
                </a:lnTo>
                <a:lnTo>
                  <a:pt x="506" y="5"/>
                </a:lnTo>
                <a:lnTo>
                  <a:pt x="476" y="5"/>
                </a:lnTo>
                <a:lnTo>
                  <a:pt x="453" y="11"/>
                </a:lnTo>
                <a:lnTo>
                  <a:pt x="423" y="23"/>
                </a:lnTo>
                <a:lnTo>
                  <a:pt x="394" y="29"/>
                </a:lnTo>
                <a:lnTo>
                  <a:pt x="370" y="40"/>
                </a:lnTo>
                <a:lnTo>
                  <a:pt x="341" y="52"/>
                </a:lnTo>
                <a:lnTo>
                  <a:pt x="317" y="64"/>
                </a:lnTo>
                <a:lnTo>
                  <a:pt x="294" y="76"/>
                </a:lnTo>
                <a:lnTo>
                  <a:pt x="270" y="87"/>
                </a:lnTo>
                <a:lnTo>
                  <a:pt x="247" y="105"/>
                </a:lnTo>
                <a:lnTo>
                  <a:pt x="223" y="122"/>
                </a:lnTo>
                <a:lnTo>
                  <a:pt x="206" y="140"/>
                </a:lnTo>
                <a:lnTo>
                  <a:pt x="182" y="157"/>
                </a:lnTo>
                <a:lnTo>
                  <a:pt x="164" y="175"/>
                </a:lnTo>
                <a:lnTo>
                  <a:pt x="147" y="198"/>
                </a:lnTo>
                <a:lnTo>
                  <a:pt x="129" y="222"/>
                </a:lnTo>
                <a:lnTo>
                  <a:pt x="111" y="245"/>
                </a:lnTo>
                <a:lnTo>
                  <a:pt x="94" y="263"/>
                </a:lnTo>
                <a:lnTo>
                  <a:pt x="82" y="292"/>
                </a:lnTo>
                <a:lnTo>
                  <a:pt x="64" y="315"/>
                </a:lnTo>
                <a:lnTo>
                  <a:pt x="52" y="339"/>
                </a:lnTo>
                <a:lnTo>
                  <a:pt x="41" y="362"/>
                </a:lnTo>
                <a:lnTo>
                  <a:pt x="35" y="391"/>
                </a:lnTo>
                <a:lnTo>
                  <a:pt x="23" y="415"/>
                </a:lnTo>
                <a:lnTo>
                  <a:pt x="17" y="444"/>
                </a:lnTo>
                <a:lnTo>
                  <a:pt x="11" y="468"/>
                </a:lnTo>
                <a:lnTo>
                  <a:pt x="5" y="497"/>
                </a:lnTo>
                <a:lnTo>
                  <a:pt x="5" y="526"/>
                </a:lnTo>
                <a:lnTo>
                  <a:pt x="0" y="555"/>
                </a:lnTo>
                <a:lnTo>
                  <a:pt x="0" y="579"/>
                </a:lnTo>
                <a:lnTo>
                  <a:pt x="0" y="609"/>
                </a:lnTo>
                <a:lnTo>
                  <a:pt x="5" y="638"/>
                </a:lnTo>
                <a:lnTo>
                  <a:pt x="5" y="662"/>
                </a:lnTo>
                <a:lnTo>
                  <a:pt x="11" y="691"/>
                </a:lnTo>
                <a:lnTo>
                  <a:pt x="17" y="720"/>
                </a:lnTo>
                <a:lnTo>
                  <a:pt x="23" y="743"/>
                </a:lnTo>
                <a:lnTo>
                  <a:pt x="35" y="773"/>
                </a:lnTo>
                <a:lnTo>
                  <a:pt x="41" y="796"/>
                </a:lnTo>
                <a:lnTo>
                  <a:pt x="52" y="825"/>
                </a:lnTo>
                <a:lnTo>
                  <a:pt x="64" y="849"/>
                </a:lnTo>
                <a:lnTo>
                  <a:pt x="82" y="872"/>
                </a:lnTo>
                <a:lnTo>
                  <a:pt x="94" y="896"/>
                </a:lnTo>
                <a:lnTo>
                  <a:pt x="111" y="919"/>
                </a:lnTo>
                <a:lnTo>
                  <a:pt x="129" y="942"/>
                </a:lnTo>
                <a:lnTo>
                  <a:pt x="147" y="966"/>
                </a:lnTo>
                <a:lnTo>
                  <a:pt x="164" y="983"/>
                </a:lnTo>
                <a:lnTo>
                  <a:pt x="182" y="1007"/>
                </a:lnTo>
                <a:lnTo>
                  <a:pt x="206" y="1024"/>
                </a:lnTo>
                <a:lnTo>
                  <a:pt x="223" y="1042"/>
                </a:lnTo>
                <a:lnTo>
                  <a:pt x="247" y="1059"/>
                </a:lnTo>
                <a:lnTo>
                  <a:pt x="270" y="1071"/>
                </a:lnTo>
                <a:lnTo>
                  <a:pt x="294" y="1089"/>
                </a:lnTo>
                <a:lnTo>
                  <a:pt x="317" y="1100"/>
                </a:lnTo>
                <a:lnTo>
                  <a:pt x="341" y="1112"/>
                </a:lnTo>
                <a:lnTo>
                  <a:pt x="370" y="1124"/>
                </a:lnTo>
                <a:lnTo>
                  <a:pt x="394" y="1135"/>
                </a:lnTo>
                <a:lnTo>
                  <a:pt x="423" y="1141"/>
                </a:lnTo>
                <a:lnTo>
                  <a:pt x="453" y="1147"/>
                </a:lnTo>
                <a:lnTo>
                  <a:pt x="476" y="1153"/>
                </a:lnTo>
                <a:lnTo>
                  <a:pt x="506" y="1159"/>
                </a:lnTo>
                <a:lnTo>
                  <a:pt x="529" y="1165"/>
                </a:lnTo>
                <a:lnTo>
                  <a:pt x="559" y="1165"/>
                </a:lnTo>
                <a:lnTo>
                  <a:pt x="588" y="1165"/>
                </a:lnTo>
                <a:lnTo>
                  <a:pt x="619" y="1165"/>
                </a:lnTo>
                <a:lnTo>
                  <a:pt x="648" y="1165"/>
                </a:lnTo>
                <a:lnTo>
                  <a:pt x="672" y="1159"/>
                </a:lnTo>
                <a:lnTo>
                  <a:pt x="701" y="1153"/>
                </a:lnTo>
                <a:lnTo>
                  <a:pt x="725" y="1147"/>
                </a:lnTo>
                <a:lnTo>
                  <a:pt x="754" y="1141"/>
                </a:lnTo>
                <a:lnTo>
                  <a:pt x="783" y="1135"/>
                </a:lnTo>
                <a:lnTo>
                  <a:pt x="807" y="1124"/>
                </a:lnTo>
                <a:lnTo>
                  <a:pt x="831" y="1112"/>
                </a:lnTo>
                <a:lnTo>
                  <a:pt x="860" y="1100"/>
                </a:lnTo>
                <a:lnTo>
                  <a:pt x="884" y="1089"/>
                </a:lnTo>
                <a:lnTo>
                  <a:pt x="907" y="1071"/>
                </a:lnTo>
                <a:lnTo>
                  <a:pt x="931" y="1059"/>
                </a:lnTo>
                <a:lnTo>
                  <a:pt x="954" y="1042"/>
                </a:lnTo>
                <a:lnTo>
                  <a:pt x="972" y="1024"/>
                </a:lnTo>
                <a:lnTo>
                  <a:pt x="995" y="1007"/>
                </a:lnTo>
                <a:lnTo>
                  <a:pt x="1013" y="983"/>
                </a:lnTo>
                <a:lnTo>
                  <a:pt x="1031" y="966"/>
                </a:lnTo>
                <a:lnTo>
                  <a:pt x="1048" y="942"/>
                </a:lnTo>
                <a:lnTo>
                  <a:pt x="1066" y="919"/>
                </a:lnTo>
                <a:lnTo>
                  <a:pt x="1084" y="896"/>
                </a:lnTo>
                <a:lnTo>
                  <a:pt x="1095" y="872"/>
                </a:lnTo>
                <a:lnTo>
                  <a:pt x="1113" y="849"/>
                </a:lnTo>
                <a:lnTo>
                  <a:pt x="1125" y="825"/>
                </a:lnTo>
                <a:lnTo>
                  <a:pt x="1137" y="796"/>
                </a:lnTo>
                <a:lnTo>
                  <a:pt x="1143" y="773"/>
                </a:lnTo>
                <a:lnTo>
                  <a:pt x="1154" y="743"/>
                </a:lnTo>
                <a:lnTo>
                  <a:pt x="1160" y="720"/>
                </a:lnTo>
                <a:lnTo>
                  <a:pt x="1166" y="691"/>
                </a:lnTo>
                <a:lnTo>
                  <a:pt x="1172" y="662"/>
                </a:lnTo>
                <a:lnTo>
                  <a:pt x="1172" y="638"/>
                </a:lnTo>
                <a:lnTo>
                  <a:pt x="1178" y="609"/>
                </a:lnTo>
                <a:lnTo>
                  <a:pt x="1178" y="57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4056120" y="3103560"/>
            <a:ext cx="421200" cy="422640"/>
          </a:xfrm>
          <a:custGeom>
            <a:avLst/>
            <a:gdLst/>
            <a:ahLst/>
            <a:rect l="0" t="0" r="r" b="b"/>
            <a:pathLst>
              <a:path fill="none" w="1170" h="1174">
                <a:moveTo>
                  <a:pt x="1170" y="587"/>
                </a:moveTo>
                <a:lnTo>
                  <a:pt x="1170" y="558"/>
                </a:lnTo>
                <a:lnTo>
                  <a:pt x="1164" y="534"/>
                </a:lnTo>
                <a:lnTo>
                  <a:pt x="1164" y="505"/>
                </a:lnTo>
                <a:lnTo>
                  <a:pt x="1158" y="476"/>
                </a:lnTo>
                <a:lnTo>
                  <a:pt x="1153" y="452"/>
                </a:lnTo>
                <a:lnTo>
                  <a:pt x="1147" y="423"/>
                </a:lnTo>
                <a:lnTo>
                  <a:pt x="1135" y="399"/>
                </a:lnTo>
                <a:lnTo>
                  <a:pt x="1129" y="370"/>
                </a:lnTo>
                <a:lnTo>
                  <a:pt x="1117" y="347"/>
                </a:lnTo>
                <a:lnTo>
                  <a:pt x="1106" y="317"/>
                </a:lnTo>
                <a:lnTo>
                  <a:pt x="1088" y="294"/>
                </a:lnTo>
                <a:lnTo>
                  <a:pt x="1077" y="269"/>
                </a:lnTo>
                <a:lnTo>
                  <a:pt x="1059" y="246"/>
                </a:lnTo>
                <a:lnTo>
                  <a:pt x="1042" y="228"/>
                </a:lnTo>
                <a:lnTo>
                  <a:pt x="1024" y="205"/>
                </a:lnTo>
                <a:lnTo>
                  <a:pt x="1006" y="181"/>
                </a:lnTo>
                <a:lnTo>
                  <a:pt x="989" y="164"/>
                </a:lnTo>
                <a:lnTo>
                  <a:pt x="966" y="146"/>
                </a:lnTo>
                <a:lnTo>
                  <a:pt x="948" y="129"/>
                </a:lnTo>
                <a:lnTo>
                  <a:pt x="925" y="111"/>
                </a:lnTo>
                <a:lnTo>
                  <a:pt x="901" y="93"/>
                </a:lnTo>
                <a:lnTo>
                  <a:pt x="878" y="82"/>
                </a:lnTo>
                <a:lnTo>
                  <a:pt x="854" y="64"/>
                </a:lnTo>
                <a:lnTo>
                  <a:pt x="830" y="52"/>
                </a:lnTo>
                <a:lnTo>
                  <a:pt x="801" y="46"/>
                </a:lnTo>
                <a:lnTo>
                  <a:pt x="778" y="35"/>
                </a:lnTo>
                <a:lnTo>
                  <a:pt x="748" y="23"/>
                </a:lnTo>
                <a:lnTo>
                  <a:pt x="725" y="17"/>
                </a:lnTo>
                <a:lnTo>
                  <a:pt x="696" y="11"/>
                </a:lnTo>
                <a:lnTo>
                  <a:pt x="667" y="5"/>
                </a:lnTo>
                <a:lnTo>
                  <a:pt x="643" y="5"/>
                </a:lnTo>
                <a:lnTo>
                  <a:pt x="614" y="0"/>
                </a:lnTo>
                <a:lnTo>
                  <a:pt x="585" y="0"/>
                </a:lnTo>
                <a:lnTo>
                  <a:pt x="556" y="0"/>
                </a:lnTo>
                <a:lnTo>
                  <a:pt x="532" y="5"/>
                </a:lnTo>
                <a:lnTo>
                  <a:pt x="503" y="5"/>
                </a:lnTo>
                <a:lnTo>
                  <a:pt x="474" y="11"/>
                </a:lnTo>
                <a:lnTo>
                  <a:pt x="450" y="17"/>
                </a:lnTo>
                <a:lnTo>
                  <a:pt x="421" y="23"/>
                </a:lnTo>
                <a:lnTo>
                  <a:pt x="392" y="35"/>
                </a:lnTo>
                <a:lnTo>
                  <a:pt x="369" y="46"/>
                </a:lnTo>
                <a:lnTo>
                  <a:pt x="345" y="52"/>
                </a:lnTo>
                <a:lnTo>
                  <a:pt x="316" y="64"/>
                </a:lnTo>
                <a:lnTo>
                  <a:pt x="293" y="82"/>
                </a:lnTo>
                <a:lnTo>
                  <a:pt x="268" y="93"/>
                </a:lnTo>
                <a:lnTo>
                  <a:pt x="245" y="111"/>
                </a:lnTo>
                <a:lnTo>
                  <a:pt x="222" y="129"/>
                </a:lnTo>
                <a:lnTo>
                  <a:pt x="204" y="146"/>
                </a:lnTo>
                <a:lnTo>
                  <a:pt x="181" y="164"/>
                </a:lnTo>
                <a:lnTo>
                  <a:pt x="163" y="181"/>
                </a:lnTo>
                <a:lnTo>
                  <a:pt x="146" y="205"/>
                </a:lnTo>
                <a:lnTo>
                  <a:pt x="128" y="228"/>
                </a:lnTo>
                <a:lnTo>
                  <a:pt x="111" y="246"/>
                </a:lnTo>
                <a:lnTo>
                  <a:pt x="93" y="269"/>
                </a:lnTo>
                <a:lnTo>
                  <a:pt x="81" y="294"/>
                </a:lnTo>
                <a:lnTo>
                  <a:pt x="64" y="317"/>
                </a:lnTo>
                <a:lnTo>
                  <a:pt x="52" y="347"/>
                </a:lnTo>
                <a:lnTo>
                  <a:pt x="40" y="370"/>
                </a:lnTo>
                <a:lnTo>
                  <a:pt x="35" y="399"/>
                </a:lnTo>
                <a:lnTo>
                  <a:pt x="23" y="423"/>
                </a:lnTo>
                <a:lnTo>
                  <a:pt x="17" y="452"/>
                </a:lnTo>
                <a:lnTo>
                  <a:pt x="11" y="476"/>
                </a:lnTo>
                <a:lnTo>
                  <a:pt x="5" y="505"/>
                </a:lnTo>
                <a:lnTo>
                  <a:pt x="5" y="534"/>
                </a:lnTo>
                <a:lnTo>
                  <a:pt x="5" y="558"/>
                </a:lnTo>
                <a:lnTo>
                  <a:pt x="0" y="587"/>
                </a:lnTo>
                <a:lnTo>
                  <a:pt x="5" y="616"/>
                </a:lnTo>
                <a:lnTo>
                  <a:pt x="5" y="646"/>
                </a:lnTo>
                <a:lnTo>
                  <a:pt x="5" y="669"/>
                </a:lnTo>
                <a:lnTo>
                  <a:pt x="11" y="698"/>
                </a:lnTo>
                <a:lnTo>
                  <a:pt x="17" y="728"/>
                </a:lnTo>
                <a:lnTo>
                  <a:pt x="23" y="751"/>
                </a:lnTo>
                <a:lnTo>
                  <a:pt x="35" y="781"/>
                </a:lnTo>
                <a:lnTo>
                  <a:pt x="40" y="804"/>
                </a:lnTo>
                <a:lnTo>
                  <a:pt x="52" y="833"/>
                </a:lnTo>
                <a:lnTo>
                  <a:pt x="64" y="857"/>
                </a:lnTo>
                <a:lnTo>
                  <a:pt x="81" y="880"/>
                </a:lnTo>
                <a:lnTo>
                  <a:pt x="93" y="905"/>
                </a:lnTo>
                <a:lnTo>
                  <a:pt x="111" y="928"/>
                </a:lnTo>
                <a:lnTo>
                  <a:pt x="128" y="952"/>
                </a:lnTo>
                <a:lnTo>
                  <a:pt x="146" y="975"/>
                </a:lnTo>
                <a:lnTo>
                  <a:pt x="163" y="993"/>
                </a:lnTo>
                <a:lnTo>
                  <a:pt x="181" y="1010"/>
                </a:lnTo>
                <a:lnTo>
                  <a:pt x="204" y="1034"/>
                </a:lnTo>
                <a:lnTo>
                  <a:pt x="222" y="1051"/>
                </a:lnTo>
                <a:lnTo>
                  <a:pt x="245" y="1063"/>
                </a:lnTo>
                <a:lnTo>
                  <a:pt x="268" y="1081"/>
                </a:lnTo>
                <a:lnTo>
                  <a:pt x="293" y="1098"/>
                </a:lnTo>
                <a:lnTo>
                  <a:pt x="316" y="1110"/>
                </a:lnTo>
                <a:lnTo>
                  <a:pt x="345" y="1122"/>
                </a:lnTo>
                <a:lnTo>
                  <a:pt x="369" y="1133"/>
                </a:lnTo>
                <a:lnTo>
                  <a:pt x="392" y="1139"/>
                </a:lnTo>
                <a:lnTo>
                  <a:pt x="421" y="1151"/>
                </a:lnTo>
                <a:lnTo>
                  <a:pt x="450" y="1157"/>
                </a:lnTo>
                <a:lnTo>
                  <a:pt x="474" y="1163"/>
                </a:lnTo>
                <a:lnTo>
                  <a:pt x="503" y="1169"/>
                </a:lnTo>
                <a:lnTo>
                  <a:pt x="532" y="1169"/>
                </a:lnTo>
                <a:lnTo>
                  <a:pt x="556" y="1174"/>
                </a:lnTo>
                <a:lnTo>
                  <a:pt x="585" y="1174"/>
                </a:lnTo>
                <a:lnTo>
                  <a:pt x="614" y="1174"/>
                </a:lnTo>
                <a:lnTo>
                  <a:pt x="643" y="1169"/>
                </a:lnTo>
                <a:lnTo>
                  <a:pt x="667" y="1169"/>
                </a:lnTo>
                <a:lnTo>
                  <a:pt x="696" y="1163"/>
                </a:lnTo>
                <a:lnTo>
                  <a:pt x="725" y="1157"/>
                </a:lnTo>
                <a:lnTo>
                  <a:pt x="748" y="1151"/>
                </a:lnTo>
                <a:lnTo>
                  <a:pt x="778" y="1139"/>
                </a:lnTo>
                <a:lnTo>
                  <a:pt x="801" y="1133"/>
                </a:lnTo>
                <a:lnTo>
                  <a:pt x="830" y="1122"/>
                </a:lnTo>
                <a:lnTo>
                  <a:pt x="854" y="1110"/>
                </a:lnTo>
                <a:lnTo>
                  <a:pt x="878" y="1098"/>
                </a:lnTo>
                <a:lnTo>
                  <a:pt x="901" y="1081"/>
                </a:lnTo>
                <a:lnTo>
                  <a:pt x="925" y="1063"/>
                </a:lnTo>
                <a:lnTo>
                  <a:pt x="948" y="1051"/>
                </a:lnTo>
                <a:lnTo>
                  <a:pt x="966" y="1034"/>
                </a:lnTo>
                <a:lnTo>
                  <a:pt x="989" y="1010"/>
                </a:lnTo>
                <a:lnTo>
                  <a:pt x="1006" y="993"/>
                </a:lnTo>
                <a:lnTo>
                  <a:pt x="1024" y="975"/>
                </a:lnTo>
                <a:lnTo>
                  <a:pt x="1042" y="952"/>
                </a:lnTo>
                <a:lnTo>
                  <a:pt x="1059" y="928"/>
                </a:lnTo>
                <a:lnTo>
                  <a:pt x="1077" y="905"/>
                </a:lnTo>
                <a:lnTo>
                  <a:pt x="1088" y="880"/>
                </a:lnTo>
                <a:lnTo>
                  <a:pt x="1106" y="857"/>
                </a:lnTo>
                <a:lnTo>
                  <a:pt x="1117" y="833"/>
                </a:lnTo>
                <a:lnTo>
                  <a:pt x="1129" y="804"/>
                </a:lnTo>
                <a:lnTo>
                  <a:pt x="1135" y="781"/>
                </a:lnTo>
                <a:lnTo>
                  <a:pt x="1147" y="751"/>
                </a:lnTo>
                <a:lnTo>
                  <a:pt x="1153" y="728"/>
                </a:lnTo>
                <a:lnTo>
                  <a:pt x="1158" y="698"/>
                </a:lnTo>
                <a:lnTo>
                  <a:pt x="1164" y="669"/>
                </a:lnTo>
                <a:lnTo>
                  <a:pt x="1164" y="646"/>
                </a:lnTo>
                <a:lnTo>
                  <a:pt x="1170" y="616"/>
                </a:lnTo>
                <a:lnTo>
                  <a:pt x="1170" y="58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5491080" y="4068720"/>
            <a:ext cx="0" cy="1144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 flipH="1" flipV="1">
            <a:off x="4448160" y="4668840"/>
            <a:ext cx="977760" cy="5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4056120" y="4354560"/>
            <a:ext cx="421200" cy="421200"/>
          </a:xfrm>
          <a:custGeom>
            <a:avLst/>
            <a:gdLst/>
            <a:ahLst/>
            <a:rect l="0" t="0" r="r" b="b"/>
            <a:pathLst>
              <a:path fill="none" w="1170" h="1170">
                <a:moveTo>
                  <a:pt x="1170" y="585"/>
                </a:moveTo>
                <a:lnTo>
                  <a:pt x="1170" y="556"/>
                </a:lnTo>
                <a:lnTo>
                  <a:pt x="1164" y="532"/>
                </a:lnTo>
                <a:lnTo>
                  <a:pt x="1164" y="503"/>
                </a:lnTo>
                <a:lnTo>
                  <a:pt x="1158" y="474"/>
                </a:lnTo>
                <a:lnTo>
                  <a:pt x="1153" y="450"/>
                </a:lnTo>
                <a:lnTo>
                  <a:pt x="1147" y="421"/>
                </a:lnTo>
                <a:lnTo>
                  <a:pt x="1135" y="398"/>
                </a:lnTo>
                <a:lnTo>
                  <a:pt x="1129" y="369"/>
                </a:lnTo>
                <a:lnTo>
                  <a:pt x="1117" y="345"/>
                </a:lnTo>
                <a:lnTo>
                  <a:pt x="1106" y="322"/>
                </a:lnTo>
                <a:lnTo>
                  <a:pt x="1088" y="293"/>
                </a:lnTo>
                <a:lnTo>
                  <a:pt x="1077" y="268"/>
                </a:lnTo>
                <a:lnTo>
                  <a:pt x="1059" y="245"/>
                </a:lnTo>
                <a:lnTo>
                  <a:pt x="1042" y="227"/>
                </a:lnTo>
                <a:lnTo>
                  <a:pt x="1024" y="204"/>
                </a:lnTo>
                <a:lnTo>
                  <a:pt x="1006" y="181"/>
                </a:lnTo>
                <a:lnTo>
                  <a:pt x="989" y="163"/>
                </a:lnTo>
                <a:lnTo>
                  <a:pt x="966" y="146"/>
                </a:lnTo>
                <a:lnTo>
                  <a:pt x="948" y="128"/>
                </a:lnTo>
                <a:lnTo>
                  <a:pt x="925" y="111"/>
                </a:lnTo>
                <a:lnTo>
                  <a:pt x="901" y="93"/>
                </a:lnTo>
                <a:lnTo>
                  <a:pt x="878" y="81"/>
                </a:lnTo>
                <a:lnTo>
                  <a:pt x="854" y="64"/>
                </a:lnTo>
                <a:lnTo>
                  <a:pt x="830" y="52"/>
                </a:lnTo>
                <a:lnTo>
                  <a:pt x="801" y="46"/>
                </a:lnTo>
                <a:lnTo>
                  <a:pt x="778" y="35"/>
                </a:lnTo>
                <a:lnTo>
                  <a:pt x="748" y="23"/>
                </a:lnTo>
                <a:lnTo>
                  <a:pt x="725" y="17"/>
                </a:lnTo>
                <a:lnTo>
                  <a:pt x="696" y="11"/>
                </a:lnTo>
                <a:lnTo>
                  <a:pt x="667" y="5"/>
                </a:lnTo>
                <a:lnTo>
                  <a:pt x="643" y="5"/>
                </a:lnTo>
                <a:lnTo>
                  <a:pt x="614" y="0"/>
                </a:lnTo>
                <a:lnTo>
                  <a:pt x="585" y="0"/>
                </a:lnTo>
                <a:lnTo>
                  <a:pt x="556" y="0"/>
                </a:lnTo>
                <a:lnTo>
                  <a:pt x="532" y="5"/>
                </a:lnTo>
                <a:lnTo>
                  <a:pt x="503" y="5"/>
                </a:lnTo>
                <a:lnTo>
                  <a:pt x="474" y="11"/>
                </a:lnTo>
                <a:lnTo>
                  <a:pt x="450" y="17"/>
                </a:lnTo>
                <a:lnTo>
                  <a:pt x="421" y="23"/>
                </a:lnTo>
                <a:lnTo>
                  <a:pt x="392" y="35"/>
                </a:lnTo>
                <a:lnTo>
                  <a:pt x="369" y="46"/>
                </a:lnTo>
                <a:lnTo>
                  <a:pt x="345" y="52"/>
                </a:lnTo>
                <a:lnTo>
                  <a:pt x="316" y="64"/>
                </a:lnTo>
                <a:lnTo>
                  <a:pt x="293" y="81"/>
                </a:lnTo>
                <a:lnTo>
                  <a:pt x="268" y="93"/>
                </a:lnTo>
                <a:lnTo>
                  <a:pt x="245" y="111"/>
                </a:lnTo>
                <a:lnTo>
                  <a:pt x="222" y="128"/>
                </a:lnTo>
                <a:lnTo>
                  <a:pt x="204" y="146"/>
                </a:lnTo>
                <a:lnTo>
                  <a:pt x="181" y="163"/>
                </a:lnTo>
                <a:lnTo>
                  <a:pt x="163" y="181"/>
                </a:lnTo>
                <a:lnTo>
                  <a:pt x="146" y="204"/>
                </a:lnTo>
                <a:lnTo>
                  <a:pt x="128" y="227"/>
                </a:lnTo>
                <a:lnTo>
                  <a:pt x="111" y="245"/>
                </a:lnTo>
                <a:lnTo>
                  <a:pt x="93" y="268"/>
                </a:lnTo>
                <a:lnTo>
                  <a:pt x="81" y="293"/>
                </a:lnTo>
                <a:lnTo>
                  <a:pt x="64" y="322"/>
                </a:lnTo>
                <a:lnTo>
                  <a:pt x="52" y="345"/>
                </a:lnTo>
                <a:lnTo>
                  <a:pt x="40" y="369"/>
                </a:lnTo>
                <a:lnTo>
                  <a:pt x="35" y="398"/>
                </a:lnTo>
                <a:lnTo>
                  <a:pt x="23" y="421"/>
                </a:lnTo>
                <a:lnTo>
                  <a:pt x="17" y="450"/>
                </a:lnTo>
                <a:lnTo>
                  <a:pt x="11" y="474"/>
                </a:lnTo>
                <a:lnTo>
                  <a:pt x="5" y="503"/>
                </a:lnTo>
                <a:lnTo>
                  <a:pt x="5" y="532"/>
                </a:lnTo>
                <a:lnTo>
                  <a:pt x="5" y="556"/>
                </a:lnTo>
                <a:lnTo>
                  <a:pt x="0" y="585"/>
                </a:lnTo>
                <a:lnTo>
                  <a:pt x="5" y="614"/>
                </a:lnTo>
                <a:lnTo>
                  <a:pt x="5" y="643"/>
                </a:lnTo>
                <a:lnTo>
                  <a:pt x="5" y="667"/>
                </a:lnTo>
                <a:lnTo>
                  <a:pt x="11" y="696"/>
                </a:lnTo>
                <a:lnTo>
                  <a:pt x="17" y="725"/>
                </a:lnTo>
                <a:lnTo>
                  <a:pt x="23" y="748"/>
                </a:lnTo>
                <a:lnTo>
                  <a:pt x="35" y="778"/>
                </a:lnTo>
                <a:lnTo>
                  <a:pt x="40" y="801"/>
                </a:lnTo>
                <a:lnTo>
                  <a:pt x="52" y="830"/>
                </a:lnTo>
                <a:lnTo>
                  <a:pt x="64" y="854"/>
                </a:lnTo>
                <a:lnTo>
                  <a:pt x="81" y="878"/>
                </a:lnTo>
                <a:lnTo>
                  <a:pt x="93" y="901"/>
                </a:lnTo>
                <a:lnTo>
                  <a:pt x="111" y="925"/>
                </a:lnTo>
                <a:lnTo>
                  <a:pt x="128" y="948"/>
                </a:lnTo>
                <a:lnTo>
                  <a:pt x="146" y="971"/>
                </a:lnTo>
                <a:lnTo>
                  <a:pt x="163" y="989"/>
                </a:lnTo>
                <a:lnTo>
                  <a:pt x="181" y="1006"/>
                </a:lnTo>
                <a:lnTo>
                  <a:pt x="204" y="1030"/>
                </a:lnTo>
                <a:lnTo>
                  <a:pt x="222" y="1047"/>
                </a:lnTo>
                <a:lnTo>
                  <a:pt x="245" y="1059"/>
                </a:lnTo>
                <a:lnTo>
                  <a:pt x="268" y="1077"/>
                </a:lnTo>
                <a:lnTo>
                  <a:pt x="293" y="1094"/>
                </a:lnTo>
                <a:lnTo>
                  <a:pt x="316" y="1106"/>
                </a:lnTo>
                <a:lnTo>
                  <a:pt x="345" y="1117"/>
                </a:lnTo>
                <a:lnTo>
                  <a:pt x="369" y="1129"/>
                </a:lnTo>
                <a:lnTo>
                  <a:pt x="392" y="1135"/>
                </a:lnTo>
                <a:lnTo>
                  <a:pt x="421" y="1147"/>
                </a:lnTo>
                <a:lnTo>
                  <a:pt x="450" y="1153"/>
                </a:lnTo>
                <a:lnTo>
                  <a:pt x="474" y="1158"/>
                </a:lnTo>
                <a:lnTo>
                  <a:pt x="503" y="1164"/>
                </a:lnTo>
                <a:lnTo>
                  <a:pt x="532" y="1164"/>
                </a:lnTo>
                <a:lnTo>
                  <a:pt x="556" y="1170"/>
                </a:lnTo>
                <a:lnTo>
                  <a:pt x="585" y="1170"/>
                </a:lnTo>
                <a:lnTo>
                  <a:pt x="614" y="1170"/>
                </a:lnTo>
                <a:lnTo>
                  <a:pt x="643" y="1164"/>
                </a:lnTo>
                <a:lnTo>
                  <a:pt x="667" y="1164"/>
                </a:lnTo>
                <a:lnTo>
                  <a:pt x="696" y="1158"/>
                </a:lnTo>
                <a:lnTo>
                  <a:pt x="725" y="1153"/>
                </a:lnTo>
                <a:lnTo>
                  <a:pt x="748" y="1147"/>
                </a:lnTo>
                <a:lnTo>
                  <a:pt x="778" y="1135"/>
                </a:lnTo>
                <a:lnTo>
                  <a:pt x="801" y="1129"/>
                </a:lnTo>
                <a:lnTo>
                  <a:pt x="830" y="1117"/>
                </a:lnTo>
                <a:lnTo>
                  <a:pt x="854" y="1106"/>
                </a:lnTo>
                <a:lnTo>
                  <a:pt x="878" y="1094"/>
                </a:lnTo>
                <a:lnTo>
                  <a:pt x="901" y="1077"/>
                </a:lnTo>
                <a:lnTo>
                  <a:pt x="925" y="1059"/>
                </a:lnTo>
                <a:lnTo>
                  <a:pt x="948" y="1047"/>
                </a:lnTo>
                <a:lnTo>
                  <a:pt x="966" y="1030"/>
                </a:lnTo>
                <a:lnTo>
                  <a:pt x="989" y="1006"/>
                </a:lnTo>
                <a:lnTo>
                  <a:pt x="1006" y="989"/>
                </a:lnTo>
                <a:lnTo>
                  <a:pt x="1024" y="971"/>
                </a:lnTo>
                <a:lnTo>
                  <a:pt x="1042" y="948"/>
                </a:lnTo>
                <a:lnTo>
                  <a:pt x="1059" y="925"/>
                </a:lnTo>
                <a:lnTo>
                  <a:pt x="1077" y="901"/>
                </a:lnTo>
                <a:lnTo>
                  <a:pt x="1088" y="878"/>
                </a:lnTo>
                <a:lnTo>
                  <a:pt x="1106" y="854"/>
                </a:lnTo>
                <a:lnTo>
                  <a:pt x="1117" y="830"/>
                </a:lnTo>
                <a:lnTo>
                  <a:pt x="1129" y="801"/>
                </a:lnTo>
                <a:lnTo>
                  <a:pt x="1135" y="778"/>
                </a:lnTo>
                <a:lnTo>
                  <a:pt x="1147" y="748"/>
                </a:lnTo>
                <a:lnTo>
                  <a:pt x="1153" y="725"/>
                </a:lnTo>
                <a:lnTo>
                  <a:pt x="1158" y="696"/>
                </a:lnTo>
                <a:lnTo>
                  <a:pt x="1164" y="667"/>
                </a:lnTo>
                <a:lnTo>
                  <a:pt x="1164" y="643"/>
                </a:lnTo>
                <a:lnTo>
                  <a:pt x="1170" y="614"/>
                </a:lnTo>
                <a:lnTo>
                  <a:pt x="1170" y="58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 flipH="1" flipV="1">
            <a:off x="6089760" y="4500720"/>
            <a:ext cx="241200" cy="241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 flipH="1">
            <a:off x="6089760" y="4500720"/>
            <a:ext cx="241200" cy="241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5095800" y="3322800"/>
            <a:ext cx="1572120" cy="2481480"/>
          </a:xfrm>
          <a:custGeom>
            <a:avLst/>
            <a:gdLst/>
            <a:ahLst/>
            <a:rect l="0" t="0" r="r" b="b"/>
            <a:pathLst>
              <a:path fill="none" w="4367" h="6893">
                <a:moveTo>
                  <a:pt x="0" y="6893"/>
                </a:moveTo>
                <a:lnTo>
                  <a:pt x="0" y="0"/>
                </a:lnTo>
                <a:lnTo>
                  <a:pt x="4367" y="0"/>
                </a:lnTo>
                <a:lnTo>
                  <a:pt x="4367" y="6893"/>
                </a:lnTo>
                <a:lnTo>
                  <a:pt x="0" y="689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 flipH="1" flipV="1">
            <a:off x="5372280" y="5127480"/>
            <a:ext cx="239400" cy="2397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 flipH="1">
            <a:off x="5372280" y="5127480"/>
            <a:ext cx="239400" cy="2397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 flipH="1" flipV="1">
            <a:off x="4933800" y="4222800"/>
            <a:ext cx="1227240" cy="398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 flipH="1" flipV="1">
            <a:off x="4448160" y="3419640"/>
            <a:ext cx="977760" cy="569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4056120" y="4564080"/>
            <a:ext cx="420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4521240" y="3946680"/>
            <a:ext cx="422640" cy="422640"/>
          </a:xfrm>
          <a:custGeom>
            <a:avLst/>
            <a:gdLst/>
            <a:ahLst/>
            <a:rect l="0" t="0" r="r" b="b"/>
            <a:pathLst>
              <a:path fill="none" w="1174" h="1174">
                <a:moveTo>
                  <a:pt x="1174" y="587"/>
                </a:moveTo>
                <a:lnTo>
                  <a:pt x="1169" y="558"/>
                </a:lnTo>
                <a:lnTo>
                  <a:pt x="1169" y="528"/>
                </a:lnTo>
                <a:lnTo>
                  <a:pt x="1163" y="505"/>
                </a:lnTo>
                <a:lnTo>
                  <a:pt x="1163" y="476"/>
                </a:lnTo>
                <a:lnTo>
                  <a:pt x="1157" y="446"/>
                </a:lnTo>
                <a:lnTo>
                  <a:pt x="1151" y="423"/>
                </a:lnTo>
                <a:lnTo>
                  <a:pt x="1139" y="393"/>
                </a:lnTo>
                <a:lnTo>
                  <a:pt x="1128" y="370"/>
                </a:lnTo>
                <a:lnTo>
                  <a:pt x="1116" y="341"/>
                </a:lnTo>
                <a:lnTo>
                  <a:pt x="1104" y="317"/>
                </a:lnTo>
                <a:lnTo>
                  <a:pt x="1092" y="294"/>
                </a:lnTo>
                <a:lnTo>
                  <a:pt x="1081" y="269"/>
                </a:lnTo>
                <a:lnTo>
                  <a:pt x="1063" y="246"/>
                </a:lnTo>
                <a:lnTo>
                  <a:pt x="1045" y="222"/>
                </a:lnTo>
                <a:lnTo>
                  <a:pt x="1028" y="199"/>
                </a:lnTo>
                <a:lnTo>
                  <a:pt x="1010" y="181"/>
                </a:lnTo>
                <a:lnTo>
                  <a:pt x="993" y="158"/>
                </a:lnTo>
                <a:lnTo>
                  <a:pt x="969" y="140"/>
                </a:lnTo>
                <a:lnTo>
                  <a:pt x="946" y="123"/>
                </a:lnTo>
                <a:lnTo>
                  <a:pt x="928" y="105"/>
                </a:lnTo>
                <a:lnTo>
                  <a:pt x="905" y="93"/>
                </a:lnTo>
                <a:lnTo>
                  <a:pt x="880" y="76"/>
                </a:lnTo>
                <a:lnTo>
                  <a:pt x="857" y="64"/>
                </a:lnTo>
                <a:lnTo>
                  <a:pt x="827" y="52"/>
                </a:lnTo>
                <a:lnTo>
                  <a:pt x="804" y="41"/>
                </a:lnTo>
                <a:lnTo>
                  <a:pt x="775" y="29"/>
                </a:lnTo>
                <a:lnTo>
                  <a:pt x="751" y="23"/>
                </a:lnTo>
                <a:lnTo>
                  <a:pt x="722" y="17"/>
                </a:lnTo>
                <a:lnTo>
                  <a:pt x="698" y="11"/>
                </a:lnTo>
                <a:lnTo>
                  <a:pt x="669" y="5"/>
                </a:lnTo>
                <a:lnTo>
                  <a:pt x="640" y="0"/>
                </a:lnTo>
                <a:lnTo>
                  <a:pt x="616" y="0"/>
                </a:lnTo>
                <a:lnTo>
                  <a:pt x="587" y="0"/>
                </a:lnTo>
                <a:lnTo>
                  <a:pt x="558" y="0"/>
                </a:lnTo>
                <a:lnTo>
                  <a:pt x="528" y="0"/>
                </a:lnTo>
                <a:lnTo>
                  <a:pt x="505" y="5"/>
                </a:lnTo>
                <a:lnTo>
                  <a:pt x="476" y="11"/>
                </a:lnTo>
                <a:lnTo>
                  <a:pt x="446" y="17"/>
                </a:lnTo>
                <a:lnTo>
                  <a:pt x="423" y="23"/>
                </a:lnTo>
                <a:lnTo>
                  <a:pt x="393" y="29"/>
                </a:lnTo>
                <a:lnTo>
                  <a:pt x="370" y="41"/>
                </a:lnTo>
                <a:lnTo>
                  <a:pt x="341" y="52"/>
                </a:lnTo>
                <a:lnTo>
                  <a:pt x="317" y="64"/>
                </a:lnTo>
                <a:lnTo>
                  <a:pt x="294" y="76"/>
                </a:lnTo>
                <a:lnTo>
                  <a:pt x="269" y="93"/>
                </a:lnTo>
                <a:lnTo>
                  <a:pt x="246" y="105"/>
                </a:lnTo>
                <a:lnTo>
                  <a:pt x="222" y="123"/>
                </a:lnTo>
                <a:lnTo>
                  <a:pt x="205" y="140"/>
                </a:lnTo>
                <a:lnTo>
                  <a:pt x="181" y="158"/>
                </a:lnTo>
                <a:lnTo>
                  <a:pt x="164" y="181"/>
                </a:lnTo>
                <a:lnTo>
                  <a:pt x="140" y="199"/>
                </a:lnTo>
                <a:lnTo>
                  <a:pt x="123" y="222"/>
                </a:lnTo>
                <a:lnTo>
                  <a:pt x="111" y="246"/>
                </a:lnTo>
                <a:lnTo>
                  <a:pt x="93" y="269"/>
                </a:lnTo>
                <a:lnTo>
                  <a:pt x="82" y="294"/>
                </a:lnTo>
                <a:lnTo>
                  <a:pt x="64" y="317"/>
                </a:lnTo>
                <a:lnTo>
                  <a:pt x="52" y="341"/>
                </a:lnTo>
                <a:lnTo>
                  <a:pt x="41" y="370"/>
                </a:lnTo>
                <a:lnTo>
                  <a:pt x="35" y="393"/>
                </a:lnTo>
                <a:lnTo>
                  <a:pt x="23" y="423"/>
                </a:lnTo>
                <a:lnTo>
                  <a:pt x="17" y="446"/>
                </a:lnTo>
                <a:lnTo>
                  <a:pt x="11" y="476"/>
                </a:lnTo>
                <a:lnTo>
                  <a:pt x="5" y="505"/>
                </a:lnTo>
                <a:lnTo>
                  <a:pt x="0" y="528"/>
                </a:lnTo>
                <a:lnTo>
                  <a:pt x="0" y="558"/>
                </a:lnTo>
                <a:lnTo>
                  <a:pt x="0" y="587"/>
                </a:lnTo>
                <a:lnTo>
                  <a:pt x="0" y="610"/>
                </a:lnTo>
                <a:lnTo>
                  <a:pt x="0" y="640"/>
                </a:lnTo>
                <a:lnTo>
                  <a:pt x="5" y="669"/>
                </a:lnTo>
                <a:lnTo>
                  <a:pt x="11" y="698"/>
                </a:lnTo>
                <a:lnTo>
                  <a:pt x="17" y="722"/>
                </a:lnTo>
                <a:lnTo>
                  <a:pt x="23" y="751"/>
                </a:lnTo>
                <a:lnTo>
                  <a:pt x="35" y="775"/>
                </a:lnTo>
                <a:lnTo>
                  <a:pt x="41" y="804"/>
                </a:lnTo>
                <a:lnTo>
                  <a:pt x="52" y="827"/>
                </a:lnTo>
                <a:lnTo>
                  <a:pt x="64" y="851"/>
                </a:lnTo>
                <a:lnTo>
                  <a:pt x="82" y="880"/>
                </a:lnTo>
                <a:lnTo>
                  <a:pt x="93" y="905"/>
                </a:lnTo>
                <a:lnTo>
                  <a:pt x="111" y="928"/>
                </a:lnTo>
                <a:lnTo>
                  <a:pt x="123" y="946"/>
                </a:lnTo>
                <a:lnTo>
                  <a:pt x="140" y="969"/>
                </a:lnTo>
                <a:lnTo>
                  <a:pt x="164" y="993"/>
                </a:lnTo>
                <a:lnTo>
                  <a:pt x="181" y="1010"/>
                </a:lnTo>
                <a:lnTo>
                  <a:pt x="205" y="1028"/>
                </a:lnTo>
                <a:lnTo>
                  <a:pt x="222" y="1045"/>
                </a:lnTo>
                <a:lnTo>
                  <a:pt x="246" y="1063"/>
                </a:lnTo>
                <a:lnTo>
                  <a:pt x="269" y="1081"/>
                </a:lnTo>
                <a:lnTo>
                  <a:pt x="294" y="1092"/>
                </a:lnTo>
                <a:lnTo>
                  <a:pt x="317" y="1104"/>
                </a:lnTo>
                <a:lnTo>
                  <a:pt x="341" y="1122"/>
                </a:lnTo>
                <a:lnTo>
                  <a:pt x="370" y="1128"/>
                </a:lnTo>
                <a:lnTo>
                  <a:pt x="393" y="1139"/>
                </a:lnTo>
                <a:lnTo>
                  <a:pt x="423" y="1151"/>
                </a:lnTo>
                <a:lnTo>
                  <a:pt x="446" y="1157"/>
                </a:lnTo>
                <a:lnTo>
                  <a:pt x="476" y="1163"/>
                </a:lnTo>
                <a:lnTo>
                  <a:pt x="505" y="1163"/>
                </a:lnTo>
                <a:lnTo>
                  <a:pt x="528" y="1169"/>
                </a:lnTo>
                <a:lnTo>
                  <a:pt x="558" y="1169"/>
                </a:lnTo>
                <a:lnTo>
                  <a:pt x="587" y="1174"/>
                </a:lnTo>
                <a:lnTo>
                  <a:pt x="616" y="1169"/>
                </a:lnTo>
                <a:lnTo>
                  <a:pt x="640" y="1169"/>
                </a:lnTo>
                <a:lnTo>
                  <a:pt x="669" y="1163"/>
                </a:lnTo>
                <a:lnTo>
                  <a:pt x="698" y="1163"/>
                </a:lnTo>
                <a:lnTo>
                  <a:pt x="722" y="1157"/>
                </a:lnTo>
                <a:lnTo>
                  <a:pt x="751" y="1151"/>
                </a:lnTo>
                <a:lnTo>
                  <a:pt x="775" y="1139"/>
                </a:lnTo>
                <a:lnTo>
                  <a:pt x="804" y="1128"/>
                </a:lnTo>
                <a:lnTo>
                  <a:pt x="827" y="1122"/>
                </a:lnTo>
                <a:lnTo>
                  <a:pt x="857" y="1104"/>
                </a:lnTo>
                <a:lnTo>
                  <a:pt x="880" y="1092"/>
                </a:lnTo>
                <a:lnTo>
                  <a:pt x="905" y="1081"/>
                </a:lnTo>
                <a:lnTo>
                  <a:pt x="928" y="1063"/>
                </a:lnTo>
                <a:lnTo>
                  <a:pt x="946" y="1045"/>
                </a:lnTo>
                <a:lnTo>
                  <a:pt x="969" y="1028"/>
                </a:lnTo>
                <a:lnTo>
                  <a:pt x="993" y="1010"/>
                </a:lnTo>
                <a:lnTo>
                  <a:pt x="1010" y="993"/>
                </a:lnTo>
                <a:lnTo>
                  <a:pt x="1028" y="969"/>
                </a:lnTo>
                <a:lnTo>
                  <a:pt x="1045" y="946"/>
                </a:lnTo>
                <a:lnTo>
                  <a:pt x="1063" y="928"/>
                </a:lnTo>
                <a:lnTo>
                  <a:pt x="1081" y="905"/>
                </a:lnTo>
                <a:lnTo>
                  <a:pt x="1092" y="880"/>
                </a:lnTo>
                <a:lnTo>
                  <a:pt x="1104" y="851"/>
                </a:lnTo>
                <a:lnTo>
                  <a:pt x="1116" y="827"/>
                </a:lnTo>
                <a:lnTo>
                  <a:pt x="1128" y="804"/>
                </a:lnTo>
                <a:lnTo>
                  <a:pt x="1139" y="775"/>
                </a:lnTo>
                <a:lnTo>
                  <a:pt x="1151" y="751"/>
                </a:lnTo>
                <a:lnTo>
                  <a:pt x="1157" y="722"/>
                </a:lnTo>
                <a:lnTo>
                  <a:pt x="1163" y="698"/>
                </a:lnTo>
                <a:lnTo>
                  <a:pt x="1163" y="669"/>
                </a:lnTo>
                <a:lnTo>
                  <a:pt x="1169" y="640"/>
                </a:lnTo>
                <a:lnTo>
                  <a:pt x="1169" y="610"/>
                </a:lnTo>
                <a:lnTo>
                  <a:pt x="1174" y="58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4521240" y="4157640"/>
            <a:ext cx="422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4056120" y="3314880"/>
            <a:ext cx="420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5491080" y="3357720"/>
            <a:ext cx="0" cy="614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 flipH="1" flipV="1">
            <a:off x="5372280" y="3875040"/>
            <a:ext cx="239400" cy="241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 flipH="1">
            <a:off x="5372280" y="3875040"/>
            <a:ext cx="239400" cy="2412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 flipH="1" flipV="1">
            <a:off x="5372280" y="3201840"/>
            <a:ext cx="239400" cy="241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 flipH="1">
            <a:off x="5372280" y="3201840"/>
            <a:ext cx="239400" cy="2415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4424400" y="2751120"/>
            <a:ext cx="356040" cy="224280"/>
          </a:xfrm>
          <a:custGeom>
            <a:avLst/>
            <a:gdLst/>
            <a:ahLst/>
            <a:rect l="0" t="0" r="r" b="b"/>
            <a:pathLst>
              <a:path fill="none" w="989" h="623">
                <a:moveTo>
                  <a:pt x="0" y="623"/>
                </a:moveTo>
                <a:lnTo>
                  <a:pt x="0" y="0"/>
                </a:lnTo>
                <a:lnTo>
                  <a:pt x="989" y="0"/>
                </a:lnTo>
                <a:lnTo>
                  <a:pt x="989" y="623"/>
                </a:lnTo>
                <a:lnTo>
                  <a:pt x="0" y="62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5892840" y="3043080"/>
            <a:ext cx="841320" cy="0"/>
          </a:xfrm>
          <a:custGeom>
            <a:avLst/>
            <a:gdLst/>
            <a:ahLst/>
            <a:rect l="0" t="0" r="r" b="b"/>
            <a:pathLst>
              <a:path fill="none" w="2337" h="0">
                <a:moveTo>
                  <a:pt x="0" y="0"/>
                </a:moveTo>
                <a:lnTo>
                  <a:pt x="1171" y="0"/>
                </a:lnTo>
                <a:lnTo>
                  <a:pt x="2337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7094520" y="2805120"/>
            <a:ext cx="241560" cy="238320"/>
          </a:xfrm>
          <a:custGeom>
            <a:avLst/>
            <a:gdLst/>
            <a:ahLst/>
            <a:rect l="0" t="0" r="r" b="b"/>
            <a:pathLst>
              <a:path fill="none" w="671" h="662">
                <a:moveTo>
                  <a:pt x="0" y="662"/>
                </a:moveTo>
                <a:lnTo>
                  <a:pt x="0" y="0"/>
                </a:lnTo>
                <a:lnTo>
                  <a:pt x="671" y="0"/>
                </a:lnTo>
                <a:lnTo>
                  <a:pt x="671" y="662"/>
                </a:lnTo>
                <a:lnTo>
                  <a:pt x="0" y="662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5543640" y="5251320"/>
            <a:ext cx="1914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5543640" y="4000680"/>
            <a:ext cx="1888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7326360" y="3848040"/>
            <a:ext cx="51120" cy="152640"/>
          </a:xfrm>
          <a:custGeom>
            <a:avLst/>
            <a:gdLst/>
            <a:ahLst/>
            <a:rect l="0" t="0" r="r" b="b"/>
            <a:pathLst>
              <a:path w="142" h="424">
                <a:moveTo>
                  <a:pt x="0" y="0"/>
                </a:moveTo>
                <a:lnTo>
                  <a:pt x="142" y="0"/>
                </a:lnTo>
                <a:lnTo>
                  <a:pt x="70" y="4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7664400" y="4086360"/>
            <a:ext cx="302040" cy="184680"/>
          </a:xfrm>
          <a:custGeom>
            <a:avLst/>
            <a:gdLst/>
            <a:ahLst/>
            <a:rect l="0" t="0" r="r" b="b"/>
            <a:pathLst>
              <a:path fill="none" w="839" h="513">
                <a:moveTo>
                  <a:pt x="0" y="513"/>
                </a:moveTo>
                <a:lnTo>
                  <a:pt x="0" y="0"/>
                </a:lnTo>
                <a:lnTo>
                  <a:pt x="839" y="0"/>
                </a:lnTo>
                <a:lnTo>
                  <a:pt x="839" y="513"/>
                </a:lnTo>
                <a:lnTo>
                  <a:pt x="0" y="513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7788240" y="4470480"/>
            <a:ext cx="49680" cy="155880"/>
          </a:xfrm>
          <a:custGeom>
            <a:avLst/>
            <a:gdLst/>
            <a:ahLst/>
            <a:rect l="0" t="0" r="r" b="b"/>
            <a:pathLst>
              <a:path w="138" h="433">
                <a:moveTo>
                  <a:pt x="0" y="0"/>
                </a:moveTo>
                <a:lnTo>
                  <a:pt x="138" y="0"/>
                </a:lnTo>
                <a:lnTo>
                  <a:pt x="69" y="43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 flipV="1">
            <a:off x="7812000" y="4270320"/>
            <a:ext cx="0" cy="2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7788240" y="3344760"/>
            <a:ext cx="49680" cy="157680"/>
          </a:xfrm>
          <a:custGeom>
            <a:avLst/>
            <a:gdLst/>
            <a:ahLst/>
            <a:rect l="0" t="0" r="r" b="b"/>
            <a:pathLst>
              <a:path w="138" h="438">
                <a:moveTo>
                  <a:pt x="0" y="438"/>
                </a:moveTo>
                <a:lnTo>
                  <a:pt x="138" y="438"/>
                </a:lnTo>
                <a:lnTo>
                  <a:pt x="69" y="0"/>
                </a:lnTo>
                <a:lnTo>
                  <a:pt x="0" y="43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7812000" y="3451320"/>
            <a:ext cx="0" cy="631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 flipV="1">
            <a:off x="7353360" y="3772080"/>
            <a:ext cx="0" cy="75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7326360" y="3327480"/>
            <a:ext cx="51120" cy="155880"/>
          </a:xfrm>
          <a:custGeom>
            <a:avLst/>
            <a:gdLst/>
            <a:ahLst/>
            <a:rect l="0" t="0" r="r" b="b"/>
            <a:pathLst>
              <a:path w="142" h="433">
                <a:moveTo>
                  <a:pt x="0" y="433"/>
                </a:moveTo>
                <a:lnTo>
                  <a:pt x="142" y="433"/>
                </a:lnTo>
                <a:lnTo>
                  <a:pt x="70" y="0"/>
                </a:lnTo>
                <a:lnTo>
                  <a:pt x="0" y="43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7209000" y="4838760"/>
            <a:ext cx="302040" cy="187560"/>
          </a:xfrm>
          <a:custGeom>
            <a:avLst/>
            <a:gdLst/>
            <a:ahLst/>
            <a:rect l="0" t="0" r="r" b="b"/>
            <a:pathLst>
              <a:path fill="none" w="839" h="521">
                <a:moveTo>
                  <a:pt x="0" y="521"/>
                </a:moveTo>
                <a:lnTo>
                  <a:pt x="0" y="0"/>
                </a:lnTo>
                <a:lnTo>
                  <a:pt x="839" y="0"/>
                </a:lnTo>
                <a:lnTo>
                  <a:pt x="839" y="521"/>
                </a:lnTo>
                <a:lnTo>
                  <a:pt x="0" y="52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6264360" y="4626000"/>
            <a:ext cx="1649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7203960" y="3557520"/>
            <a:ext cx="330480" cy="214560"/>
          </a:xfrm>
          <a:custGeom>
            <a:avLst/>
            <a:gdLst/>
            <a:ahLst/>
            <a:rect l="0" t="0" r="r" b="b"/>
            <a:pathLst>
              <a:path fill="none" w="918" h="596">
                <a:moveTo>
                  <a:pt x="0" y="596"/>
                </a:moveTo>
                <a:lnTo>
                  <a:pt x="0" y="0"/>
                </a:lnTo>
                <a:lnTo>
                  <a:pt x="918" y="0"/>
                </a:lnTo>
                <a:lnTo>
                  <a:pt x="918" y="596"/>
                </a:lnTo>
                <a:lnTo>
                  <a:pt x="0" y="596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7327800" y="4003560"/>
            <a:ext cx="51120" cy="154440"/>
          </a:xfrm>
          <a:custGeom>
            <a:avLst/>
            <a:gdLst/>
            <a:ahLst/>
            <a:rect l="0" t="0" r="r" b="b"/>
            <a:pathLst>
              <a:path w="142" h="429">
                <a:moveTo>
                  <a:pt x="0" y="429"/>
                </a:moveTo>
                <a:lnTo>
                  <a:pt x="142" y="429"/>
                </a:lnTo>
                <a:lnTo>
                  <a:pt x="70" y="0"/>
                </a:lnTo>
                <a:lnTo>
                  <a:pt x="0" y="429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 flipV="1">
            <a:off x="7343640" y="5041800"/>
            <a:ext cx="0" cy="54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7327800" y="5095800"/>
            <a:ext cx="51120" cy="155880"/>
          </a:xfrm>
          <a:custGeom>
            <a:avLst/>
            <a:gdLst/>
            <a:ahLst/>
            <a:rect l="0" t="0" r="r" b="b"/>
            <a:pathLst>
              <a:path w="142" h="433">
                <a:moveTo>
                  <a:pt x="0" y="0"/>
                </a:moveTo>
                <a:lnTo>
                  <a:pt x="142" y="0"/>
                </a:lnTo>
                <a:lnTo>
                  <a:pt x="70" y="43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7359480" y="3462480"/>
            <a:ext cx="0" cy="99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600" bIns="48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7359480" y="4005360"/>
            <a:ext cx="0" cy="814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5376960" y="206280"/>
            <a:ext cx="419400" cy="419400"/>
          </a:xfrm>
          <a:custGeom>
            <a:avLst/>
            <a:gdLst/>
            <a:ahLst/>
            <a:rect l="0" t="0" r="r" b="b"/>
            <a:pathLst>
              <a:path fill="none" w="1165" h="1165">
                <a:moveTo>
                  <a:pt x="1165" y="586"/>
                </a:moveTo>
                <a:lnTo>
                  <a:pt x="1165" y="555"/>
                </a:lnTo>
                <a:lnTo>
                  <a:pt x="1165" y="526"/>
                </a:lnTo>
                <a:lnTo>
                  <a:pt x="1159" y="497"/>
                </a:lnTo>
                <a:lnTo>
                  <a:pt x="1153" y="473"/>
                </a:lnTo>
                <a:lnTo>
                  <a:pt x="1147" y="444"/>
                </a:lnTo>
                <a:lnTo>
                  <a:pt x="1141" y="421"/>
                </a:lnTo>
                <a:lnTo>
                  <a:pt x="1135" y="391"/>
                </a:lnTo>
                <a:lnTo>
                  <a:pt x="1124" y="362"/>
                </a:lnTo>
                <a:lnTo>
                  <a:pt x="1112" y="339"/>
                </a:lnTo>
                <a:lnTo>
                  <a:pt x="1100" y="315"/>
                </a:lnTo>
                <a:lnTo>
                  <a:pt x="1089" y="292"/>
                </a:lnTo>
                <a:lnTo>
                  <a:pt x="1071" y="269"/>
                </a:lnTo>
                <a:lnTo>
                  <a:pt x="1059" y="245"/>
                </a:lnTo>
                <a:lnTo>
                  <a:pt x="1042" y="222"/>
                </a:lnTo>
                <a:lnTo>
                  <a:pt x="1024" y="198"/>
                </a:lnTo>
                <a:lnTo>
                  <a:pt x="1007" y="181"/>
                </a:lnTo>
                <a:lnTo>
                  <a:pt x="983" y="157"/>
                </a:lnTo>
                <a:lnTo>
                  <a:pt x="966" y="140"/>
                </a:lnTo>
                <a:lnTo>
                  <a:pt x="942" y="122"/>
                </a:lnTo>
                <a:lnTo>
                  <a:pt x="919" y="105"/>
                </a:lnTo>
                <a:lnTo>
                  <a:pt x="896" y="93"/>
                </a:lnTo>
                <a:lnTo>
                  <a:pt x="872" y="76"/>
                </a:lnTo>
                <a:lnTo>
                  <a:pt x="849" y="64"/>
                </a:lnTo>
                <a:lnTo>
                  <a:pt x="825" y="52"/>
                </a:lnTo>
                <a:lnTo>
                  <a:pt x="796" y="40"/>
                </a:lnTo>
                <a:lnTo>
                  <a:pt x="773" y="29"/>
                </a:lnTo>
                <a:lnTo>
                  <a:pt x="749" y="23"/>
                </a:lnTo>
                <a:lnTo>
                  <a:pt x="720" y="17"/>
                </a:lnTo>
                <a:lnTo>
                  <a:pt x="691" y="11"/>
                </a:lnTo>
                <a:lnTo>
                  <a:pt x="667" y="5"/>
                </a:lnTo>
                <a:lnTo>
                  <a:pt x="638" y="0"/>
                </a:lnTo>
                <a:lnTo>
                  <a:pt x="609" y="0"/>
                </a:lnTo>
                <a:lnTo>
                  <a:pt x="579" y="0"/>
                </a:lnTo>
                <a:lnTo>
                  <a:pt x="555" y="0"/>
                </a:lnTo>
                <a:lnTo>
                  <a:pt x="526" y="0"/>
                </a:lnTo>
                <a:lnTo>
                  <a:pt x="497" y="5"/>
                </a:lnTo>
                <a:lnTo>
                  <a:pt x="468" y="11"/>
                </a:lnTo>
                <a:lnTo>
                  <a:pt x="444" y="17"/>
                </a:lnTo>
                <a:lnTo>
                  <a:pt x="415" y="23"/>
                </a:lnTo>
                <a:lnTo>
                  <a:pt x="391" y="29"/>
                </a:lnTo>
                <a:lnTo>
                  <a:pt x="362" y="40"/>
                </a:lnTo>
                <a:lnTo>
                  <a:pt x="339" y="52"/>
                </a:lnTo>
                <a:lnTo>
                  <a:pt x="315" y="64"/>
                </a:lnTo>
                <a:lnTo>
                  <a:pt x="292" y="76"/>
                </a:lnTo>
                <a:lnTo>
                  <a:pt x="269" y="93"/>
                </a:lnTo>
                <a:lnTo>
                  <a:pt x="245" y="105"/>
                </a:lnTo>
                <a:lnTo>
                  <a:pt x="222" y="122"/>
                </a:lnTo>
                <a:lnTo>
                  <a:pt x="198" y="140"/>
                </a:lnTo>
                <a:lnTo>
                  <a:pt x="181" y="157"/>
                </a:lnTo>
                <a:lnTo>
                  <a:pt x="157" y="181"/>
                </a:lnTo>
                <a:lnTo>
                  <a:pt x="140" y="198"/>
                </a:lnTo>
                <a:lnTo>
                  <a:pt x="122" y="222"/>
                </a:lnTo>
                <a:lnTo>
                  <a:pt x="105" y="245"/>
                </a:lnTo>
                <a:lnTo>
                  <a:pt x="87" y="269"/>
                </a:lnTo>
                <a:lnTo>
                  <a:pt x="76" y="292"/>
                </a:lnTo>
                <a:lnTo>
                  <a:pt x="64" y="315"/>
                </a:lnTo>
                <a:lnTo>
                  <a:pt x="52" y="339"/>
                </a:lnTo>
                <a:lnTo>
                  <a:pt x="40" y="362"/>
                </a:lnTo>
                <a:lnTo>
                  <a:pt x="29" y="391"/>
                </a:lnTo>
                <a:lnTo>
                  <a:pt x="23" y="421"/>
                </a:lnTo>
                <a:lnTo>
                  <a:pt x="11" y="444"/>
                </a:lnTo>
                <a:lnTo>
                  <a:pt x="5" y="473"/>
                </a:lnTo>
                <a:lnTo>
                  <a:pt x="5" y="497"/>
                </a:lnTo>
                <a:lnTo>
                  <a:pt x="0" y="526"/>
                </a:lnTo>
                <a:lnTo>
                  <a:pt x="0" y="555"/>
                </a:lnTo>
                <a:lnTo>
                  <a:pt x="0" y="586"/>
                </a:lnTo>
                <a:lnTo>
                  <a:pt x="0" y="609"/>
                </a:lnTo>
                <a:lnTo>
                  <a:pt x="0" y="638"/>
                </a:lnTo>
                <a:lnTo>
                  <a:pt x="5" y="667"/>
                </a:lnTo>
                <a:lnTo>
                  <a:pt x="5" y="691"/>
                </a:lnTo>
                <a:lnTo>
                  <a:pt x="11" y="720"/>
                </a:lnTo>
                <a:lnTo>
                  <a:pt x="23" y="749"/>
                </a:lnTo>
                <a:lnTo>
                  <a:pt x="29" y="773"/>
                </a:lnTo>
                <a:lnTo>
                  <a:pt x="40" y="802"/>
                </a:lnTo>
                <a:lnTo>
                  <a:pt x="52" y="825"/>
                </a:lnTo>
                <a:lnTo>
                  <a:pt x="64" y="849"/>
                </a:lnTo>
                <a:lnTo>
                  <a:pt x="76" y="878"/>
                </a:lnTo>
                <a:lnTo>
                  <a:pt x="87" y="901"/>
                </a:lnTo>
                <a:lnTo>
                  <a:pt x="105" y="925"/>
                </a:lnTo>
                <a:lnTo>
                  <a:pt x="122" y="942"/>
                </a:lnTo>
                <a:lnTo>
                  <a:pt x="140" y="966"/>
                </a:lnTo>
                <a:lnTo>
                  <a:pt x="157" y="983"/>
                </a:lnTo>
                <a:lnTo>
                  <a:pt x="181" y="1007"/>
                </a:lnTo>
                <a:lnTo>
                  <a:pt x="198" y="1024"/>
                </a:lnTo>
                <a:lnTo>
                  <a:pt x="222" y="1042"/>
                </a:lnTo>
                <a:lnTo>
                  <a:pt x="245" y="1059"/>
                </a:lnTo>
                <a:lnTo>
                  <a:pt x="269" y="1077"/>
                </a:lnTo>
                <a:lnTo>
                  <a:pt x="292" y="1089"/>
                </a:lnTo>
                <a:lnTo>
                  <a:pt x="315" y="1100"/>
                </a:lnTo>
                <a:lnTo>
                  <a:pt x="339" y="1112"/>
                </a:lnTo>
                <a:lnTo>
                  <a:pt x="362" y="1124"/>
                </a:lnTo>
                <a:lnTo>
                  <a:pt x="391" y="1135"/>
                </a:lnTo>
                <a:lnTo>
                  <a:pt x="415" y="1141"/>
                </a:lnTo>
                <a:lnTo>
                  <a:pt x="444" y="1153"/>
                </a:lnTo>
                <a:lnTo>
                  <a:pt x="468" y="1159"/>
                </a:lnTo>
                <a:lnTo>
                  <a:pt x="497" y="1159"/>
                </a:lnTo>
                <a:lnTo>
                  <a:pt x="526" y="1165"/>
                </a:lnTo>
                <a:lnTo>
                  <a:pt x="555" y="1165"/>
                </a:lnTo>
                <a:lnTo>
                  <a:pt x="579" y="1165"/>
                </a:lnTo>
                <a:lnTo>
                  <a:pt x="609" y="1165"/>
                </a:lnTo>
                <a:lnTo>
                  <a:pt x="638" y="1165"/>
                </a:lnTo>
                <a:lnTo>
                  <a:pt x="667" y="1159"/>
                </a:lnTo>
                <a:lnTo>
                  <a:pt x="691" y="1159"/>
                </a:lnTo>
                <a:lnTo>
                  <a:pt x="720" y="1153"/>
                </a:lnTo>
                <a:lnTo>
                  <a:pt x="749" y="1141"/>
                </a:lnTo>
                <a:lnTo>
                  <a:pt x="773" y="1135"/>
                </a:lnTo>
                <a:lnTo>
                  <a:pt x="796" y="1124"/>
                </a:lnTo>
                <a:lnTo>
                  <a:pt x="825" y="1112"/>
                </a:lnTo>
                <a:lnTo>
                  <a:pt x="849" y="1100"/>
                </a:lnTo>
                <a:lnTo>
                  <a:pt x="872" y="1089"/>
                </a:lnTo>
                <a:lnTo>
                  <a:pt x="896" y="1077"/>
                </a:lnTo>
                <a:lnTo>
                  <a:pt x="919" y="1059"/>
                </a:lnTo>
                <a:lnTo>
                  <a:pt x="942" y="1042"/>
                </a:lnTo>
                <a:lnTo>
                  <a:pt x="966" y="1024"/>
                </a:lnTo>
                <a:lnTo>
                  <a:pt x="983" y="1007"/>
                </a:lnTo>
                <a:lnTo>
                  <a:pt x="1007" y="983"/>
                </a:lnTo>
                <a:lnTo>
                  <a:pt x="1024" y="966"/>
                </a:lnTo>
                <a:lnTo>
                  <a:pt x="1042" y="942"/>
                </a:lnTo>
                <a:lnTo>
                  <a:pt x="1059" y="925"/>
                </a:lnTo>
                <a:lnTo>
                  <a:pt x="1071" y="901"/>
                </a:lnTo>
                <a:lnTo>
                  <a:pt x="1089" y="878"/>
                </a:lnTo>
                <a:lnTo>
                  <a:pt x="1100" y="849"/>
                </a:lnTo>
                <a:lnTo>
                  <a:pt x="1112" y="825"/>
                </a:lnTo>
                <a:lnTo>
                  <a:pt x="1124" y="802"/>
                </a:lnTo>
                <a:lnTo>
                  <a:pt x="1135" y="773"/>
                </a:lnTo>
                <a:lnTo>
                  <a:pt x="1141" y="749"/>
                </a:lnTo>
                <a:lnTo>
                  <a:pt x="1147" y="720"/>
                </a:lnTo>
                <a:lnTo>
                  <a:pt x="1153" y="691"/>
                </a:lnTo>
                <a:lnTo>
                  <a:pt x="1159" y="667"/>
                </a:lnTo>
                <a:lnTo>
                  <a:pt x="1165" y="638"/>
                </a:lnTo>
                <a:lnTo>
                  <a:pt x="1165" y="609"/>
                </a:lnTo>
                <a:lnTo>
                  <a:pt x="1165" y="586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4471920" y="6176880"/>
            <a:ext cx="419400" cy="421200"/>
          </a:xfrm>
          <a:custGeom>
            <a:avLst/>
            <a:gdLst/>
            <a:ahLst/>
            <a:rect l="0" t="0" r="r" b="b"/>
            <a:pathLst>
              <a:path fill="none" w="1165" h="1170">
                <a:moveTo>
                  <a:pt x="1165" y="585"/>
                </a:moveTo>
                <a:lnTo>
                  <a:pt x="1165" y="556"/>
                </a:lnTo>
                <a:lnTo>
                  <a:pt x="1165" y="526"/>
                </a:lnTo>
                <a:lnTo>
                  <a:pt x="1159" y="503"/>
                </a:lnTo>
                <a:lnTo>
                  <a:pt x="1159" y="474"/>
                </a:lnTo>
                <a:lnTo>
                  <a:pt x="1153" y="445"/>
                </a:lnTo>
                <a:lnTo>
                  <a:pt x="1141" y="421"/>
                </a:lnTo>
                <a:lnTo>
                  <a:pt x="1135" y="392"/>
                </a:lnTo>
                <a:lnTo>
                  <a:pt x="1124" y="369"/>
                </a:lnTo>
                <a:lnTo>
                  <a:pt x="1112" y="339"/>
                </a:lnTo>
                <a:lnTo>
                  <a:pt x="1100" y="316"/>
                </a:lnTo>
                <a:lnTo>
                  <a:pt x="1089" y="293"/>
                </a:lnTo>
                <a:lnTo>
                  <a:pt x="1077" y="268"/>
                </a:lnTo>
                <a:lnTo>
                  <a:pt x="1059" y="245"/>
                </a:lnTo>
                <a:lnTo>
                  <a:pt x="1042" y="222"/>
                </a:lnTo>
                <a:lnTo>
                  <a:pt x="1024" y="204"/>
                </a:lnTo>
                <a:lnTo>
                  <a:pt x="1007" y="181"/>
                </a:lnTo>
                <a:lnTo>
                  <a:pt x="983" y="163"/>
                </a:lnTo>
                <a:lnTo>
                  <a:pt x="966" y="146"/>
                </a:lnTo>
                <a:lnTo>
                  <a:pt x="942" y="122"/>
                </a:lnTo>
                <a:lnTo>
                  <a:pt x="925" y="111"/>
                </a:lnTo>
                <a:lnTo>
                  <a:pt x="901" y="93"/>
                </a:lnTo>
                <a:lnTo>
                  <a:pt x="878" y="75"/>
                </a:lnTo>
                <a:lnTo>
                  <a:pt x="849" y="64"/>
                </a:lnTo>
                <a:lnTo>
                  <a:pt x="825" y="52"/>
                </a:lnTo>
                <a:lnTo>
                  <a:pt x="802" y="40"/>
                </a:lnTo>
                <a:lnTo>
                  <a:pt x="773" y="35"/>
                </a:lnTo>
                <a:lnTo>
                  <a:pt x="749" y="23"/>
                </a:lnTo>
                <a:lnTo>
                  <a:pt x="720" y="17"/>
                </a:lnTo>
                <a:lnTo>
                  <a:pt x="697" y="11"/>
                </a:lnTo>
                <a:lnTo>
                  <a:pt x="667" y="5"/>
                </a:lnTo>
                <a:lnTo>
                  <a:pt x="638" y="5"/>
                </a:lnTo>
                <a:lnTo>
                  <a:pt x="609" y="0"/>
                </a:lnTo>
                <a:lnTo>
                  <a:pt x="586" y="0"/>
                </a:lnTo>
                <a:lnTo>
                  <a:pt x="555" y="0"/>
                </a:lnTo>
                <a:lnTo>
                  <a:pt x="526" y="5"/>
                </a:lnTo>
                <a:lnTo>
                  <a:pt x="497" y="5"/>
                </a:lnTo>
                <a:lnTo>
                  <a:pt x="473" y="11"/>
                </a:lnTo>
                <a:lnTo>
                  <a:pt x="444" y="17"/>
                </a:lnTo>
                <a:lnTo>
                  <a:pt x="421" y="23"/>
                </a:lnTo>
                <a:lnTo>
                  <a:pt x="391" y="35"/>
                </a:lnTo>
                <a:lnTo>
                  <a:pt x="368" y="40"/>
                </a:lnTo>
                <a:lnTo>
                  <a:pt x="339" y="52"/>
                </a:lnTo>
                <a:lnTo>
                  <a:pt x="315" y="64"/>
                </a:lnTo>
                <a:lnTo>
                  <a:pt x="292" y="75"/>
                </a:lnTo>
                <a:lnTo>
                  <a:pt x="269" y="93"/>
                </a:lnTo>
                <a:lnTo>
                  <a:pt x="245" y="111"/>
                </a:lnTo>
                <a:lnTo>
                  <a:pt x="222" y="122"/>
                </a:lnTo>
                <a:lnTo>
                  <a:pt x="198" y="146"/>
                </a:lnTo>
                <a:lnTo>
                  <a:pt x="181" y="163"/>
                </a:lnTo>
                <a:lnTo>
                  <a:pt x="157" y="181"/>
                </a:lnTo>
                <a:lnTo>
                  <a:pt x="140" y="204"/>
                </a:lnTo>
                <a:lnTo>
                  <a:pt x="122" y="222"/>
                </a:lnTo>
                <a:lnTo>
                  <a:pt x="105" y="245"/>
                </a:lnTo>
                <a:lnTo>
                  <a:pt x="93" y="268"/>
                </a:lnTo>
                <a:lnTo>
                  <a:pt x="76" y="293"/>
                </a:lnTo>
                <a:lnTo>
                  <a:pt x="64" y="316"/>
                </a:lnTo>
                <a:lnTo>
                  <a:pt x="52" y="339"/>
                </a:lnTo>
                <a:lnTo>
                  <a:pt x="40" y="369"/>
                </a:lnTo>
                <a:lnTo>
                  <a:pt x="29" y="392"/>
                </a:lnTo>
                <a:lnTo>
                  <a:pt x="23" y="421"/>
                </a:lnTo>
                <a:lnTo>
                  <a:pt x="17" y="445"/>
                </a:lnTo>
                <a:lnTo>
                  <a:pt x="11" y="474"/>
                </a:lnTo>
                <a:lnTo>
                  <a:pt x="5" y="503"/>
                </a:lnTo>
                <a:lnTo>
                  <a:pt x="0" y="526"/>
                </a:lnTo>
                <a:lnTo>
                  <a:pt x="0" y="556"/>
                </a:lnTo>
                <a:lnTo>
                  <a:pt x="0" y="585"/>
                </a:lnTo>
                <a:lnTo>
                  <a:pt x="0" y="614"/>
                </a:lnTo>
                <a:lnTo>
                  <a:pt x="0" y="637"/>
                </a:lnTo>
                <a:lnTo>
                  <a:pt x="5" y="667"/>
                </a:lnTo>
                <a:lnTo>
                  <a:pt x="11" y="696"/>
                </a:lnTo>
                <a:lnTo>
                  <a:pt x="17" y="719"/>
                </a:lnTo>
                <a:lnTo>
                  <a:pt x="23" y="748"/>
                </a:lnTo>
                <a:lnTo>
                  <a:pt x="29" y="772"/>
                </a:lnTo>
                <a:lnTo>
                  <a:pt x="40" y="801"/>
                </a:lnTo>
                <a:lnTo>
                  <a:pt x="52" y="824"/>
                </a:lnTo>
                <a:lnTo>
                  <a:pt x="64" y="854"/>
                </a:lnTo>
                <a:lnTo>
                  <a:pt x="76" y="878"/>
                </a:lnTo>
                <a:lnTo>
                  <a:pt x="93" y="901"/>
                </a:lnTo>
                <a:lnTo>
                  <a:pt x="105" y="925"/>
                </a:lnTo>
                <a:lnTo>
                  <a:pt x="122" y="942"/>
                </a:lnTo>
                <a:lnTo>
                  <a:pt x="140" y="966"/>
                </a:lnTo>
                <a:lnTo>
                  <a:pt x="157" y="989"/>
                </a:lnTo>
                <a:lnTo>
                  <a:pt x="181" y="1006"/>
                </a:lnTo>
                <a:lnTo>
                  <a:pt x="198" y="1024"/>
                </a:lnTo>
                <a:lnTo>
                  <a:pt x="222" y="1042"/>
                </a:lnTo>
                <a:lnTo>
                  <a:pt x="245" y="1059"/>
                </a:lnTo>
                <a:lnTo>
                  <a:pt x="269" y="1077"/>
                </a:lnTo>
                <a:lnTo>
                  <a:pt x="292" y="1088"/>
                </a:lnTo>
                <a:lnTo>
                  <a:pt x="315" y="1106"/>
                </a:lnTo>
                <a:lnTo>
                  <a:pt x="339" y="1117"/>
                </a:lnTo>
                <a:lnTo>
                  <a:pt x="368" y="1129"/>
                </a:lnTo>
                <a:lnTo>
                  <a:pt x="391" y="1135"/>
                </a:lnTo>
                <a:lnTo>
                  <a:pt x="421" y="1147"/>
                </a:lnTo>
                <a:lnTo>
                  <a:pt x="444" y="1153"/>
                </a:lnTo>
                <a:lnTo>
                  <a:pt x="473" y="1158"/>
                </a:lnTo>
                <a:lnTo>
                  <a:pt x="497" y="1164"/>
                </a:lnTo>
                <a:lnTo>
                  <a:pt x="526" y="1164"/>
                </a:lnTo>
                <a:lnTo>
                  <a:pt x="555" y="1170"/>
                </a:lnTo>
                <a:lnTo>
                  <a:pt x="586" y="1170"/>
                </a:lnTo>
                <a:lnTo>
                  <a:pt x="609" y="1170"/>
                </a:lnTo>
                <a:lnTo>
                  <a:pt x="638" y="1164"/>
                </a:lnTo>
                <a:lnTo>
                  <a:pt x="667" y="1164"/>
                </a:lnTo>
                <a:lnTo>
                  <a:pt x="697" y="1158"/>
                </a:lnTo>
                <a:lnTo>
                  <a:pt x="720" y="1153"/>
                </a:lnTo>
                <a:lnTo>
                  <a:pt x="749" y="1147"/>
                </a:lnTo>
                <a:lnTo>
                  <a:pt x="773" y="1135"/>
                </a:lnTo>
                <a:lnTo>
                  <a:pt x="802" y="1129"/>
                </a:lnTo>
                <a:lnTo>
                  <a:pt x="825" y="1117"/>
                </a:lnTo>
                <a:lnTo>
                  <a:pt x="849" y="1106"/>
                </a:lnTo>
                <a:lnTo>
                  <a:pt x="878" y="1088"/>
                </a:lnTo>
                <a:lnTo>
                  <a:pt x="901" y="1077"/>
                </a:lnTo>
                <a:lnTo>
                  <a:pt x="925" y="1059"/>
                </a:lnTo>
                <a:lnTo>
                  <a:pt x="942" y="1042"/>
                </a:lnTo>
                <a:lnTo>
                  <a:pt x="966" y="1024"/>
                </a:lnTo>
                <a:lnTo>
                  <a:pt x="983" y="1006"/>
                </a:lnTo>
                <a:lnTo>
                  <a:pt x="1007" y="989"/>
                </a:lnTo>
                <a:lnTo>
                  <a:pt x="1024" y="966"/>
                </a:lnTo>
                <a:lnTo>
                  <a:pt x="1042" y="942"/>
                </a:lnTo>
                <a:lnTo>
                  <a:pt x="1059" y="925"/>
                </a:lnTo>
                <a:lnTo>
                  <a:pt x="1077" y="901"/>
                </a:lnTo>
                <a:lnTo>
                  <a:pt x="1089" y="878"/>
                </a:lnTo>
                <a:lnTo>
                  <a:pt x="1100" y="854"/>
                </a:lnTo>
                <a:lnTo>
                  <a:pt x="1112" y="824"/>
                </a:lnTo>
                <a:lnTo>
                  <a:pt x="1124" y="801"/>
                </a:lnTo>
                <a:lnTo>
                  <a:pt x="1135" y="772"/>
                </a:lnTo>
                <a:lnTo>
                  <a:pt x="1141" y="748"/>
                </a:lnTo>
                <a:lnTo>
                  <a:pt x="1153" y="719"/>
                </a:lnTo>
                <a:lnTo>
                  <a:pt x="1159" y="696"/>
                </a:lnTo>
                <a:lnTo>
                  <a:pt x="1159" y="667"/>
                </a:lnTo>
                <a:lnTo>
                  <a:pt x="1165" y="637"/>
                </a:lnTo>
                <a:lnTo>
                  <a:pt x="1165" y="614"/>
                </a:lnTo>
                <a:lnTo>
                  <a:pt x="1165" y="58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4471920" y="638820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 flipH="1">
            <a:off x="4762440" y="5688000"/>
            <a:ext cx="290520" cy="496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 flipH="1">
            <a:off x="4653000" y="5567400"/>
            <a:ext cx="366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 flipH="1">
            <a:off x="4653000" y="5803920"/>
            <a:ext cx="3668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 flipV="1">
            <a:off x="4730760" y="526104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4703760" y="5413320"/>
            <a:ext cx="51120" cy="154440"/>
          </a:xfrm>
          <a:custGeom>
            <a:avLst/>
            <a:gdLst/>
            <a:ahLst/>
            <a:rect l="0" t="0" r="r" b="b"/>
            <a:pathLst>
              <a:path w="142" h="429">
                <a:moveTo>
                  <a:pt x="0" y="0"/>
                </a:moveTo>
                <a:lnTo>
                  <a:pt x="142" y="0"/>
                </a:lnTo>
                <a:lnTo>
                  <a:pt x="70" y="42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4703760" y="5803920"/>
            <a:ext cx="51120" cy="152640"/>
          </a:xfrm>
          <a:custGeom>
            <a:avLst/>
            <a:gdLst/>
            <a:ahLst/>
            <a:rect l="0" t="0" r="r" b="b"/>
            <a:pathLst>
              <a:path w="142" h="424">
                <a:moveTo>
                  <a:pt x="0" y="424"/>
                </a:moveTo>
                <a:lnTo>
                  <a:pt x="142" y="424"/>
                </a:lnTo>
                <a:lnTo>
                  <a:pt x="70" y="0"/>
                </a:lnTo>
                <a:lnTo>
                  <a:pt x="0" y="42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4200480" y="5148360"/>
            <a:ext cx="367200" cy="228960"/>
          </a:xfrm>
          <a:custGeom>
            <a:avLst/>
            <a:gdLst/>
            <a:ahLst/>
            <a:rect l="0" t="0" r="r" b="b"/>
            <a:pathLst>
              <a:path fill="none" w="1020" h="636">
                <a:moveTo>
                  <a:pt x="0" y="636"/>
                </a:moveTo>
                <a:lnTo>
                  <a:pt x="0" y="0"/>
                </a:lnTo>
                <a:lnTo>
                  <a:pt x="1020" y="0"/>
                </a:lnTo>
                <a:lnTo>
                  <a:pt x="1020" y="636"/>
                </a:lnTo>
                <a:lnTo>
                  <a:pt x="0" y="636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 flipH="1" flipV="1">
            <a:off x="4976640" y="5446800"/>
            <a:ext cx="241560" cy="23976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 flipH="1">
            <a:off x="4976640" y="5446800"/>
            <a:ext cx="241560" cy="23976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 flipV="1">
            <a:off x="5095800" y="590400"/>
            <a:ext cx="374760" cy="579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 flipH="1">
            <a:off x="4562640" y="117000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 flipH="1">
            <a:off x="4562640" y="946080"/>
            <a:ext cx="457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4641840" y="132552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4641840" y="638280"/>
            <a:ext cx="154440" cy="154440"/>
          </a:xfrm>
          <a:custGeom>
            <a:avLst/>
            <a:gdLst/>
            <a:ahLst/>
            <a:rect l="0" t="0" r="r" b="b"/>
            <a:pathLst>
              <a:path fill="none" w="429" h="429">
                <a:moveTo>
                  <a:pt x="0" y="429"/>
                </a:moveTo>
                <a:lnTo>
                  <a:pt x="0" y="0"/>
                </a:lnTo>
                <a:lnTo>
                  <a:pt x="429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4614840" y="1170000"/>
            <a:ext cx="54360" cy="155880"/>
          </a:xfrm>
          <a:custGeom>
            <a:avLst/>
            <a:gdLst/>
            <a:ahLst/>
            <a:rect l="0" t="0" r="r" b="b"/>
            <a:pathLst>
              <a:path w="151" h="433">
                <a:moveTo>
                  <a:pt x="0" y="433"/>
                </a:moveTo>
                <a:lnTo>
                  <a:pt x="151" y="433"/>
                </a:lnTo>
                <a:lnTo>
                  <a:pt x="75" y="0"/>
                </a:lnTo>
                <a:lnTo>
                  <a:pt x="0" y="43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4614840" y="792000"/>
            <a:ext cx="54360" cy="154440"/>
          </a:xfrm>
          <a:custGeom>
            <a:avLst/>
            <a:gdLst/>
            <a:ahLst/>
            <a:rect l="0" t="0" r="r" b="b"/>
            <a:pathLst>
              <a:path w="151" h="429">
                <a:moveTo>
                  <a:pt x="0" y="0"/>
                </a:moveTo>
                <a:lnTo>
                  <a:pt x="151" y="0"/>
                </a:lnTo>
                <a:lnTo>
                  <a:pt x="75" y="42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H="1" flipV="1">
            <a:off x="4976640" y="1050840"/>
            <a:ext cx="241560" cy="23976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 flipH="1">
            <a:off x="4976640" y="1050840"/>
            <a:ext cx="241560" cy="23976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4795920" y="504720"/>
            <a:ext cx="368640" cy="219600"/>
          </a:xfrm>
          <a:custGeom>
            <a:avLst/>
            <a:gdLst/>
            <a:ahLst/>
            <a:rect l="0" t="0" r="r" b="b"/>
            <a:pathLst>
              <a:path fill="none" w="1024" h="610">
                <a:moveTo>
                  <a:pt x="0" y="610"/>
                </a:moveTo>
                <a:lnTo>
                  <a:pt x="0" y="0"/>
                </a:lnTo>
                <a:lnTo>
                  <a:pt x="1024" y="0"/>
                </a:lnTo>
                <a:lnTo>
                  <a:pt x="1024" y="610"/>
                </a:lnTo>
                <a:lnTo>
                  <a:pt x="0" y="61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5376960" y="415800"/>
            <a:ext cx="419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 txBox="1"/>
          <p:nvPr/>
        </p:nvSpPr>
        <p:spPr>
          <a:xfrm>
            <a:off x="415800" y="237960"/>
            <a:ext cx="389736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Planes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y Datum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 flipH="1">
            <a:off x="3813120" y="1312920"/>
            <a:ext cx="7304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 txBox="1"/>
          <p:nvPr/>
        </p:nvSpPr>
        <p:spPr>
          <a:xfrm>
            <a:off x="6437160" y="251136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 txBox="1"/>
          <p:nvPr/>
        </p:nvSpPr>
        <p:spPr>
          <a:xfrm>
            <a:off x="4506840" y="1628640"/>
            <a:ext cx="268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 txBox="1"/>
          <p:nvPr/>
        </p:nvSpPr>
        <p:spPr>
          <a:xfrm>
            <a:off x="7097760" y="2803680"/>
            <a:ext cx="277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 txBox="1"/>
          <p:nvPr/>
        </p:nvSpPr>
        <p:spPr>
          <a:xfrm>
            <a:off x="4091040" y="327492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"/>
          <p:cNvSpPr txBox="1"/>
          <p:nvPr/>
        </p:nvSpPr>
        <p:spPr>
          <a:xfrm>
            <a:off x="4556160" y="413244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 txBox="1"/>
          <p:nvPr/>
        </p:nvSpPr>
        <p:spPr>
          <a:xfrm>
            <a:off x="4091040" y="454644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 txBox="1"/>
          <p:nvPr/>
        </p:nvSpPr>
        <p:spPr>
          <a:xfrm>
            <a:off x="6421320" y="57960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"/>
          <p:cNvSpPr txBox="1"/>
          <p:nvPr/>
        </p:nvSpPr>
        <p:spPr>
          <a:xfrm>
            <a:off x="6915240" y="118728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"/>
          <p:cNvSpPr txBox="1"/>
          <p:nvPr/>
        </p:nvSpPr>
        <p:spPr>
          <a:xfrm>
            <a:off x="5940360" y="300996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"/>
          <p:cNvSpPr txBox="1"/>
          <p:nvPr/>
        </p:nvSpPr>
        <p:spPr>
          <a:xfrm>
            <a:off x="6361200" y="3009960"/>
            <a:ext cx="35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"/>
          <p:cNvSpPr txBox="1"/>
          <p:nvPr/>
        </p:nvSpPr>
        <p:spPr>
          <a:xfrm>
            <a:off x="5419800" y="363600"/>
            <a:ext cx="344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"/>
          <p:cNvSpPr txBox="1"/>
          <p:nvPr/>
        </p:nvSpPr>
        <p:spPr>
          <a:xfrm>
            <a:off x="4511520" y="6362640"/>
            <a:ext cx="3445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"/>
          <p:cNvSpPr/>
          <p:nvPr/>
        </p:nvSpPr>
        <p:spPr>
          <a:xfrm>
            <a:off x="4721400" y="5965920"/>
            <a:ext cx="0" cy="66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"/>
          <p:cNvSpPr/>
          <p:nvPr/>
        </p:nvSpPr>
        <p:spPr>
          <a:xfrm flipH="1">
            <a:off x="4565520" y="5256360"/>
            <a:ext cx="166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1" name=""/>
          <p:cNvSpPr/>
          <p:nvPr/>
        </p:nvSpPr>
        <p:spPr>
          <a:xfrm>
            <a:off x="5492880" y="5392800"/>
            <a:ext cx="0" cy="860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"/>
          <p:cNvSpPr/>
          <p:nvPr/>
        </p:nvSpPr>
        <p:spPr>
          <a:xfrm>
            <a:off x="6211800" y="4697280"/>
            <a:ext cx="0" cy="1557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3" name=""/>
          <p:cNvGrpSpPr/>
          <p:nvPr/>
        </p:nvGrpSpPr>
        <p:grpSpPr>
          <a:xfrm>
            <a:off x="5162400" y="6138720"/>
            <a:ext cx="311760" cy="52920"/>
            <a:chOff x="5162400" y="6138720"/>
            <a:chExt cx="311760" cy="52920"/>
          </a:xfrm>
        </p:grpSpPr>
        <p:sp>
          <p:nvSpPr>
            <p:cNvPr id="2384" name=""/>
            <p:cNvSpPr/>
            <p:nvPr/>
          </p:nvSpPr>
          <p:spPr>
            <a:xfrm flipH="1">
              <a:off x="5162400" y="616572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316480" y="6138720"/>
              <a:ext cx="157680" cy="52920"/>
            </a:xfrm>
            <a:custGeom>
              <a:avLst/>
              <a:gdLst/>
              <a:ahLst/>
              <a:rect l="0" t="0" r="r" b="b"/>
              <a:pathLst>
                <a:path w="438" h="147">
                  <a:moveTo>
                    <a:pt x="0" y="0"/>
                  </a:moveTo>
                  <a:lnTo>
                    <a:pt x="0" y="147"/>
                  </a:lnTo>
                  <a:lnTo>
                    <a:pt x="438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6" name=""/>
          <p:cNvGrpSpPr/>
          <p:nvPr/>
        </p:nvGrpSpPr>
        <p:grpSpPr>
          <a:xfrm>
            <a:off x="6224760" y="6149880"/>
            <a:ext cx="307800" cy="52920"/>
            <a:chOff x="6224760" y="6149880"/>
            <a:chExt cx="307800" cy="52920"/>
          </a:xfrm>
        </p:grpSpPr>
        <p:sp>
          <p:nvSpPr>
            <p:cNvPr id="2387" name=""/>
            <p:cNvSpPr/>
            <p:nvPr/>
          </p:nvSpPr>
          <p:spPr>
            <a:xfrm>
              <a:off x="6378480" y="6176880"/>
              <a:ext cx="1540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224760" y="6149880"/>
              <a:ext cx="154440" cy="52920"/>
            </a:xfrm>
            <a:custGeom>
              <a:avLst/>
              <a:gdLst/>
              <a:ahLst/>
              <a:rect l="0" t="0" r="r" b="b"/>
              <a:pathLst>
                <a:path w="429" h="147">
                  <a:moveTo>
                    <a:pt x="429" y="0"/>
                  </a:moveTo>
                  <a:lnTo>
                    <a:pt x="429" y="147"/>
                  </a:lnTo>
                  <a:lnTo>
                    <a:pt x="0" y="76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fffff"/>
              </a:solidFill>
              <a:round/>
            </a:ln>
          </p:spPr>
          <p:txBody>
            <a:bodyPr lIns="96120" rIns="9612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9" name=""/>
          <p:cNvSpPr/>
          <p:nvPr/>
        </p:nvSpPr>
        <p:spPr>
          <a:xfrm>
            <a:off x="5672160" y="6091200"/>
            <a:ext cx="367200" cy="217800"/>
          </a:xfrm>
          <a:custGeom>
            <a:avLst/>
            <a:gdLst/>
            <a:ahLst/>
            <a:rect l="0" t="0" r="r" b="b"/>
            <a:pathLst>
              <a:path fill="none" w="1020" h="605">
                <a:moveTo>
                  <a:pt x="0" y="605"/>
                </a:moveTo>
                <a:lnTo>
                  <a:pt x="0" y="0"/>
                </a:lnTo>
                <a:lnTo>
                  <a:pt x="1020" y="0"/>
                </a:lnTo>
                <a:lnTo>
                  <a:pt x="1020" y="605"/>
                </a:lnTo>
                <a:lnTo>
                  <a:pt x="0" y="605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"/>
          <p:cNvSpPr txBox="1"/>
          <p:nvPr/>
        </p:nvSpPr>
        <p:spPr>
          <a:xfrm>
            <a:off x="719280" y="1855800"/>
            <a:ext cx="777240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Target Planar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"/>
          <p:cNvSpPr/>
          <p:nvPr/>
        </p:nvSpPr>
        <p:spPr>
          <a:xfrm>
            <a:off x="1638360" y="2189160"/>
            <a:ext cx="5987880" cy="184464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2" name=""/>
          <p:cNvGrpSpPr/>
          <p:nvPr/>
        </p:nvGrpSpPr>
        <p:grpSpPr>
          <a:xfrm>
            <a:off x="1363680" y="1278000"/>
            <a:ext cx="6691320" cy="4664160"/>
            <a:chOff x="1363680" y="1278000"/>
            <a:chExt cx="6691320" cy="4664160"/>
          </a:xfrm>
        </p:grpSpPr>
        <p:sp>
          <p:nvSpPr>
            <p:cNvPr id="2393" name=""/>
            <p:cNvSpPr/>
            <p:nvPr/>
          </p:nvSpPr>
          <p:spPr>
            <a:xfrm>
              <a:off x="7124760" y="1893960"/>
              <a:ext cx="9302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124760" y="5135400"/>
              <a:ext cx="9302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V="1">
              <a:off x="2014560" y="1360440"/>
              <a:ext cx="0" cy="4478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V="1">
              <a:off x="2906640" y="1360440"/>
              <a:ext cx="0" cy="1193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H="1">
              <a:off x="1668600" y="1446120"/>
              <a:ext cx="17136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081240" y="1446120"/>
              <a:ext cx="17172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839960" y="1417680"/>
              <a:ext cx="174960" cy="57600"/>
            </a:xfrm>
            <a:custGeom>
              <a:avLst/>
              <a:gdLst/>
              <a:ahLst/>
              <a:rect l="0" t="0" r="r" b="b"/>
              <a:pathLst>
                <a:path w="486" h="160">
                  <a:moveTo>
                    <a:pt x="0" y="0"/>
                  </a:moveTo>
                  <a:lnTo>
                    <a:pt x="0" y="160"/>
                  </a:lnTo>
                  <a:lnTo>
                    <a:pt x="486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906640" y="1417680"/>
              <a:ext cx="174960" cy="57600"/>
            </a:xfrm>
            <a:custGeom>
              <a:avLst/>
              <a:gdLst/>
              <a:ahLst/>
              <a:rect l="0" t="0" r="r" b="b"/>
              <a:pathLst>
                <a:path w="486" h="160">
                  <a:moveTo>
                    <a:pt x="486" y="0"/>
                  </a:moveTo>
                  <a:lnTo>
                    <a:pt x="486" y="160"/>
                  </a:lnTo>
                  <a:lnTo>
                    <a:pt x="0" y="8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217600" y="1278000"/>
              <a:ext cx="486000" cy="336960"/>
            </a:xfrm>
            <a:custGeom>
              <a:avLst/>
              <a:gdLst/>
              <a:ahLst/>
              <a:rect l="0" t="0" r="r" b="b"/>
              <a:pathLst>
                <a:path fill="none" w="1350" h="936">
                  <a:moveTo>
                    <a:pt x="0" y="936"/>
                  </a:moveTo>
                  <a:lnTo>
                    <a:pt x="1350" y="936"/>
                  </a:lnTo>
                  <a:lnTo>
                    <a:pt x="1350" y="0"/>
                  </a:lnTo>
                  <a:lnTo>
                    <a:pt x="0" y="0"/>
                  </a:lnTo>
                  <a:lnTo>
                    <a:pt x="0" y="936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H="1">
              <a:off x="1525680" y="4389480"/>
              <a:ext cx="12952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1611360" y="2814480"/>
              <a:ext cx="0" cy="5335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V="1">
              <a:off x="1611360" y="3684600"/>
              <a:ext cx="0" cy="5302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1582560" y="2643120"/>
              <a:ext cx="57600" cy="171720"/>
            </a:xfrm>
            <a:custGeom>
              <a:avLst/>
              <a:gdLst/>
              <a:ahLst/>
              <a:rect l="0" t="0" r="r" b="b"/>
              <a:pathLst>
                <a:path w="160" h="477">
                  <a:moveTo>
                    <a:pt x="0" y="477"/>
                  </a:moveTo>
                  <a:lnTo>
                    <a:pt x="160" y="477"/>
                  </a:lnTo>
                  <a:lnTo>
                    <a:pt x="80" y="0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582560" y="4214880"/>
              <a:ext cx="57600" cy="174960"/>
            </a:xfrm>
            <a:custGeom>
              <a:avLst/>
              <a:gdLst/>
              <a:ahLst/>
              <a:rect l="0" t="0" r="r" b="b"/>
              <a:pathLst>
                <a:path w="160" h="486">
                  <a:moveTo>
                    <a:pt x="0" y="0"/>
                  </a:moveTo>
                  <a:lnTo>
                    <a:pt x="160" y="0"/>
                  </a:lnTo>
                  <a:lnTo>
                    <a:pt x="8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366920" y="3348000"/>
              <a:ext cx="489240" cy="336960"/>
            </a:xfrm>
            <a:custGeom>
              <a:avLst/>
              <a:gdLst/>
              <a:ahLst/>
              <a:rect l="0" t="0" r="r" b="b"/>
              <a:pathLst>
                <a:path fill="none" w="1359" h="936">
                  <a:moveTo>
                    <a:pt x="0" y="936"/>
                  </a:moveTo>
                  <a:lnTo>
                    <a:pt x="1359" y="936"/>
                  </a:lnTo>
                  <a:lnTo>
                    <a:pt x="1359" y="0"/>
                  </a:lnTo>
                  <a:lnTo>
                    <a:pt x="0" y="0"/>
                  </a:lnTo>
                  <a:lnTo>
                    <a:pt x="0" y="936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H="1">
              <a:off x="1525680" y="1893960"/>
              <a:ext cx="40320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1525680" y="2643120"/>
              <a:ext cx="12952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V="1">
              <a:off x="1611360" y="1547640"/>
              <a:ext cx="0" cy="1749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611360" y="2814480"/>
              <a:ext cx="0" cy="1749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582560" y="1722600"/>
              <a:ext cx="57600" cy="171720"/>
            </a:xfrm>
            <a:custGeom>
              <a:avLst/>
              <a:gdLst/>
              <a:ahLst/>
              <a:rect l="0" t="0" r="r" b="b"/>
              <a:pathLst>
                <a:path w="160" h="477">
                  <a:moveTo>
                    <a:pt x="0" y="0"/>
                  </a:moveTo>
                  <a:lnTo>
                    <a:pt x="160" y="0"/>
                  </a:lnTo>
                  <a:lnTo>
                    <a:pt x="80" y="4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582560" y="2643120"/>
              <a:ext cx="57600" cy="171720"/>
            </a:xfrm>
            <a:custGeom>
              <a:avLst/>
              <a:gdLst/>
              <a:ahLst/>
              <a:rect l="0" t="0" r="r" b="b"/>
              <a:pathLst>
                <a:path w="160" h="477">
                  <a:moveTo>
                    <a:pt x="0" y="477"/>
                  </a:moveTo>
                  <a:lnTo>
                    <a:pt x="160" y="477"/>
                  </a:lnTo>
                  <a:lnTo>
                    <a:pt x="80" y="0"/>
                  </a:lnTo>
                  <a:lnTo>
                    <a:pt x="0" y="47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363680" y="2100240"/>
              <a:ext cx="498960" cy="336960"/>
            </a:xfrm>
            <a:custGeom>
              <a:avLst/>
              <a:gdLst/>
              <a:ahLst/>
              <a:rect l="0" t="0" r="r" b="b"/>
              <a:pathLst>
                <a:path fill="none" w="1386" h="936">
                  <a:moveTo>
                    <a:pt x="0" y="936"/>
                  </a:moveTo>
                  <a:lnTo>
                    <a:pt x="1386" y="936"/>
                  </a:lnTo>
                  <a:lnTo>
                    <a:pt x="1386" y="0"/>
                  </a:lnTo>
                  <a:lnTo>
                    <a:pt x="0" y="0"/>
                  </a:lnTo>
                  <a:lnTo>
                    <a:pt x="0" y="936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H="1">
              <a:off x="2014560" y="5135400"/>
              <a:ext cx="342900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014560" y="1893960"/>
              <a:ext cx="3429360" cy="3242160"/>
            </a:xfrm>
            <a:custGeom>
              <a:avLst/>
              <a:gdLst/>
              <a:ahLst/>
              <a:rect l="0" t="0" r="r" b="b"/>
              <a:pathLst>
                <a:path fill="none" w="9526" h="9006">
                  <a:moveTo>
                    <a:pt x="9526" y="0"/>
                  </a:moveTo>
                  <a:lnTo>
                    <a:pt x="0" y="0"/>
                  </a:lnTo>
                  <a:lnTo>
                    <a:pt x="0" y="9006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659560" y="4471920"/>
              <a:ext cx="0" cy="1364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5659560" y="4471920"/>
              <a:ext cx="89280" cy="70200"/>
            </a:xfrm>
            <a:custGeom>
              <a:avLst/>
              <a:gdLst/>
              <a:ahLst/>
              <a:rect l="0" t="0" r="r" b="b"/>
              <a:pathLst>
                <a:path fill="none" w="248" h="195">
                  <a:moveTo>
                    <a:pt x="0" y="0"/>
                  </a:moveTo>
                  <a:lnTo>
                    <a:pt x="159" y="0"/>
                  </a:lnTo>
                  <a:lnTo>
                    <a:pt x="213" y="17"/>
                  </a:lnTo>
                  <a:lnTo>
                    <a:pt x="231" y="35"/>
                  </a:lnTo>
                  <a:lnTo>
                    <a:pt x="248" y="70"/>
                  </a:lnTo>
                  <a:lnTo>
                    <a:pt x="248" y="124"/>
                  </a:lnTo>
                  <a:lnTo>
                    <a:pt x="231" y="159"/>
                  </a:lnTo>
                  <a:lnTo>
                    <a:pt x="213" y="177"/>
                  </a:lnTo>
                  <a:lnTo>
                    <a:pt x="159" y="195"/>
                  </a:lnTo>
                  <a:lnTo>
                    <a:pt x="0" y="195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5805360" y="4471920"/>
              <a:ext cx="35280" cy="136800"/>
            </a:xfrm>
            <a:custGeom>
              <a:avLst/>
              <a:gdLst/>
              <a:ahLst/>
              <a:rect l="0" t="0" r="r" b="b"/>
              <a:pathLst>
                <a:path fill="none" w="98" h="380">
                  <a:moveTo>
                    <a:pt x="0" y="70"/>
                  </a:moveTo>
                  <a:lnTo>
                    <a:pt x="35" y="52"/>
                  </a:lnTo>
                  <a:lnTo>
                    <a:pt x="98" y="0"/>
                  </a:lnTo>
                  <a:lnTo>
                    <a:pt x="98" y="38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3081240" y="2932200"/>
              <a:ext cx="1279800" cy="25621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532480" y="4195800"/>
              <a:ext cx="473400" cy="473400"/>
            </a:xfrm>
            <a:custGeom>
              <a:avLst/>
              <a:gdLst/>
              <a:ahLst/>
              <a:rect l="0" t="0" r="r" b="b"/>
              <a:pathLst>
                <a:path fill="none" w="1315" h="1315">
                  <a:moveTo>
                    <a:pt x="1315" y="652"/>
                  </a:moveTo>
                  <a:lnTo>
                    <a:pt x="1315" y="626"/>
                  </a:lnTo>
                  <a:lnTo>
                    <a:pt x="1315" y="599"/>
                  </a:lnTo>
                  <a:lnTo>
                    <a:pt x="1315" y="573"/>
                  </a:lnTo>
                  <a:lnTo>
                    <a:pt x="1306" y="555"/>
                  </a:lnTo>
                  <a:lnTo>
                    <a:pt x="1306" y="529"/>
                  </a:lnTo>
                  <a:lnTo>
                    <a:pt x="1297" y="502"/>
                  </a:lnTo>
                  <a:lnTo>
                    <a:pt x="1288" y="476"/>
                  </a:lnTo>
                  <a:lnTo>
                    <a:pt x="1288" y="449"/>
                  </a:lnTo>
                  <a:lnTo>
                    <a:pt x="1279" y="423"/>
                  </a:lnTo>
                  <a:lnTo>
                    <a:pt x="1262" y="396"/>
                  </a:lnTo>
                  <a:lnTo>
                    <a:pt x="1253" y="370"/>
                  </a:lnTo>
                  <a:lnTo>
                    <a:pt x="1244" y="352"/>
                  </a:lnTo>
                  <a:lnTo>
                    <a:pt x="1226" y="326"/>
                  </a:lnTo>
                  <a:lnTo>
                    <a:pt x="1218" y="308"/>
                  </a:lnTo>
                  <a:lnTo>
                    <a:pt x="1200" y="282"/>
                  </a:lnTo>
                  <a:lnTo>
                    <a:pt x="1182" y="264"/>
                  </a:lnTo>
                  <a:lnTo>
                    <a:pt x="1173" y="238"/>
                  </a:lnTo>
                  <a:lnTo>
                    <a:pt x="1156" y="220"/>
                  </a:lnTo>
                  <a:lnTo>
                    <a:pt x="1138" y="202"/>
                  </a:lnTo>
                  <a:lnTo>
                    <a:pt x="1112" y="176"/>
                  </a:lnTo>
                  <a:lnTo>
                    <a:pt x="1094" y="158"/>
                  </a:lnTo>
                  <a:lnTo>
                    <a:pt x="1076" y="149"/>
                  </a:lnTo>
                  <a:lnTo>
                    <a:pt x="1059" y="132"/>
                  </a:lnTo>
                  <a:lnTo>
                    <a:pt x="1032" y="114"/>
                  </a:lnTo>
                  <a:lnTo>
                    <a:pt x="1015" y="97"/>
                  </a:lnTo>
                  <a:lnTo>
                    <a:pt x="988" y="88"/>
                  </a:lnTo>
                  <a:lnTo>
                    <a:pt x="962" y="70"/>
                  </a:lnTo>
                  <a:lnTo>
                    <a:pt x="944" y="61"/>
                  </a:lnTo>
                  <a:lnTo>
                    <a:pt x="918" y="52"/>
                  </a:lnTo>
                  <a:lnTo>
                    <a:pt x="891" y="44"/>
                  </a:lnTo>
                  <a:lnTo>
                    <a:pt x="865" y="35"/>
                  </a:lnTo>
                  <a:lnTo>
                    <a:pt x="847" y="26"/>
                  </a:lnTo>
                  <a:lnTo>
                    <a:pt x="821" y="17"/>
                  </a:lnTo>
                  <a:lnTo>
                    <a:pt x="794" y="8"/>
                  </a:lnTo>
                  <a:lnTo>
                    <a:pt x="768" y="8"/>
                  </a:lnTo>
                  <a:lnTo>
                    <a:pt x="741" y="0"/>
                  </a:lnTo>
                  <a:lnTo>
                    <a:pt x="715" y="0"/>
                  </a:lnTo>
                  <a:lnTo>
                    <a:pt x="688" y="0"/>
                  </a:lnTo>
                  <a:lnTo>
                    <a:pt x="662" y="0"/>
                  </a:lnTo>
                  <a:lnTo>
                    <a:pt x="635" y="0"/>
                  </a:lnTo>
                  <a:lnTo>
                    <a:pt x="608" y="0"/>
                  </a:lnTo>
                  <a:lnTo>
                    <a:pt x="582" y="0"/>
                  </a:lnTo>
                  <a:lnTo>
                    <a:pt x="555" y="8"/>
                  </a:lnTo>
                  <a:lnTo>
                    <a:pt x="529" y="8"/>
                  </a:lnTo>
                  <a:lnTo>
                    <a:pt x="502" y="17"/>
                  </a:lnTo>
                  <a:lnTo>
                    <a:pt x="476" y="26"/>
                  </a:lnTo>
                  <a:lnTo>
                    <a:pt x="449" y="35"/>
                  </a:lnTo>
                  <a:lnTo>
                    <a:pt x="423" y="44"/>
                  </a:lnTo>
                  <a:lnTo>
                    <a:pt x="396" y="52"/>
                  </a:lnTo>
                  <a:lnTo>
                    <a:pt x="379" y="61"/>
                  </a:lnTo>
                  <a:lnTo>
                    <a:pt x="352" y="70"/>
                  </a:lnTo>
                  <a:lnTo>
                    <a:pt x="326" y="88"/>
                  </a:lnTo>
                  <a:lnTo>
                    <a:pt x="308" y="97"/>
                  </a:lnTo>
                  <a:lnTo>
                    <a:pt x="282" y="114"/>
                  </a:lnTo>
                  <a:lnTo>
                    <a:pt x="264" y="132"/>
                  </a:lnTo>
                  <a:lnTo>
                    <a:pt x="238" y="149"/>
                  </a:lnTo>
                  <a:lnTo>
                    <a:pt x="220" y="158"/>
                  </a:lnTo>
                  <a:lnTo>
                    <a:pt x="202" y="176"/>
                  </a:lnTo>
                  <a:lnTo>
                    <a:pt x="185" y="202"/>
                  </a:lnTo>
                  <a:lnTo>
                    <a:pt x="167" y="220"/>
                  </a:lnTo>
                  <a:lnTo>
                    <a:pt x="149" y="238"/>
                  </a:lnTo>
                  <a:lnTo>
                    <a:pt x="132" y="264"/>
                  </a:lnTo>
                  <a:lnTo>
                    <a:pt x="114" y="282"/>
                  </a:lnTo>
                  <a:lnTo>
                    <a:pt x="105" y="308"/>
                  </a:lnTo>
                  <a:lnTo>
                    <a:pt x="88" y="326"/>
                  </a:lnTo>
                  <a:lnTo>
                    <a:pt x="79" y="352"/>
                  </a:lnTo>
                  <a:lnTo>
                    <a:pt x="61" y="370"/>
                  </a:lnTo>
                  <a:lnTo>
                    <a:pt x="52" y="396"/>
                  </a:lnTo>
                  <a:lnTo>
                    <a:pt x="44" y="423"/>
                  </a:lnTo>
                  <a:lnTo>
                    <a:pt x="35" y="449"/>
                  </a:lnTo>
                  <a:lnTo>
                    <a:pt x="26" y="476"/>
                  </a:lnTo>
                  <a:lnTo>
                    <a:pt x="17" y="502"/>
                  </a:lnTo>
                  <a:lnTo>
                    <a:pt x="8" y="529"/>
                  </a:lnTo>
                  <a:lnTo>
                    <a:pt x="8" y="555"/>
                  </a:lnTo>
                  <a:lnTo>
                    <a:pt x="8" y="573"/>
                  </a:lnTo>
                  <a:lnTo>
                    <a:pt x="0" y="599"/>
                  </a:lnTo>
                  <a:lnTo>
                    <a:pt x="0" y="626"/>
                  </a:lnTo>
                  <a:lnTo>
                    <a:pt x="0" y="652"/>
                  </a:lnTo>
                  <a:lnTo>
                    <a:pt x="0" y="688"/>
                  </a:lnTo>
                  <a:lnTo>
                    <a:pt x="0" y="706"/>
                  </a:lnTo>
                  <a:lnTo>
                    <a:pt x="8" y="733"/>
                  </a:lnTo>
                  <a:lnTo>
                    <a:pt x="8" y="759"/>
                  </a:lnTo>
                  <a:lnTo>
                    <a:pt x="8" y="785"/>
                  </a:lnTo>
                  <a:lnTo>
                    <a:pt x="17" y="812"/>
                  </a:lnTo>
                  <a:lnTo>
                    <a:pt x="26" y="838"/>
                  </a:lnTo>
                  <a:lnTo>
                    <a:pt x="35" y="865"/>
                  </a:lnTo>
                  <a:lnTo>
                    <a:pt x="44" y="891"/>
                  </a:lnTo>
                  <a:lnTo>
                    <a:pt x="52" y="918"/>
                  </a:lnTo>
                  <a:lnTo>
                    <a:pt x="61" y="944"/>
                  </a:lnTo>
                  <a:lnTo>
                    <a:pt x="79" y="962"/>
                  </a:lnTo>
                  <a:lnTo>
                    <a:pt x="88" y="988"/>
                  </a:lnTo>
                  <a:lnTo>
                    <a:pt x="105" y="1006"/>
                  </a:lnTo>
                  <a:lnTo>
                    <a:pt x="114" y="1032"/>
                  </a:lnTo>
                  <a:lnTo>
                    <a:pt x="132" y="1050"/>
                  </a:lnTo>
                  <a:lnTo>
                    <a:pt x="149" y="1076"/>
                  </a:lnTo>
                  <a:lnTo>
                    <a:pt x="167" y="1094"/>
                  </a:lnTo>
                  <a:lnTo>
                    <a:pt x="185" y="1112"/>
                  </a:lnTo>
                  <a:lnTo>
                    <a:pt x="202" y="1129"/>
                  </a:lnTo>
                  <a:lnTo>
                    <a:pt x="220" y="1147"/>
                  </a:lnTo>
                  <a:lnTo>
                    <a:pt x="238" y="1165"/>
                  </a:lnTo>
                  <a:lnTo>
                    <a:pt x="264" y="1182"/>
                  </a:lnTo>
                  <a:lnTo>
                    <a:pt x="282" y="1200"/>
                  </a:lnTo>
                  <a:lnTo>
                    <a:pt x="308" y="1218"/>
                  </a:lnTo>
                  <a:lnTo>
                    <a:pt x="326" y="1226"/>
                  </a:lnTo>
                  <a:lnTo>
                    <a:pt x="352" y="1244"/>
                  </a:lnTo>
                  <a:lnTo>
                    <a:pt x="379" y="1253"/>
                  </a:lnTo>
                  <a:lnTo>
                    <a:pt x="396" y="1262"/>
                  </a:lnTo>
                  <a:lnTo>
                    <a:pt x="423" y="1271"/>
                  </a:lnTo>
                  <a:lnTo>
                    <a:pt x="449" y="1279"/>
                  </a:lnTo>
                  <a:lnTo>
                    <a:pt x="476" y="1288"/>
                  </a:lnTo>
                  <a:lnTo>
                    <a:pt x="502" y="1297"/>
                  </a:lnTo>
                  <a:lnTo>
                    <a:pt x="529" y="1306"/>
                  </a:lnTo>
                  <a:lnTo>
                    <a:pt x="555" y="1306"/>
                  </a:lnTo>
                  <a:lnTo>
                    <a:pt x="582" y="1315"/>
                  </a:lnTo>
                  <a:lnTo>
                    <a:pt x="608" y="1315"/>
                  </a:lnTo>
                  <a:lnTo>
                    <a:pt x="635" y="1315"/>
                  </a:lnTo>
                  <a:lnTo>
                    <a:pt x="662" y="1315"/>
                  </a:lnTo>
                  <a:lnTo>
                    <a:pt x="688" y="1315"/>
                  </a:lnTo>
                  <a:lnTo>
                    <a:pt x="715" y="1315"/>
                  </a:lnTo>
                  <a:lnTo>
                    <a:pt x="741" y="1315"/>
                  </a:lnTo>
                  <a:lnTo>
                    <a:pt x="768" y="1306"/>
                  </a:lnTo>
                  <a:lnTo>
                    <a:pt x="794" y="1306"/>
                  </a:lnTo>
                  <a:lnTo>
                    <a:pt x="821" y="1297"/>
                  </a:lnTo>
                  <a:lnTo>
                    <a:pt x="847" y="1288"/>
                  </a:lnTo>
                  <a:lnTo>
                    <a:pt x="865" y="1279"/>
                  </a:lnTo>
                  <a:lnTo>
                    <a:pt x="891" y="1271"/>
                  </a:lnTo>
                  <a:lnTo>
                    <a:pt x="918" y="1262"/>
                  </a:lnTo>
                  <a:lnTo>
                    <a:pt x="944" y="1253"/>
                  </a:lnTo>
                  <a:lnTo>
                    <a:pt x="962" y="1244"/>
                  </a:lnTo>
                  <a:lnTo>
                    <a:pt x="988" y="1226"/>
                  </a:lnTo>
                  <a:lnTo>
                    <a:pt x="1015" y="1218"/>
                  </a:lnTo>
                  <a:lnTo>
                    <a:pt x="1032" y="1200"/>
                  </a:lnTo>
                  <a:lnTo>
                    <a:pt x="1059" y="1182"/>
                  </a:lnTo>
                  <a:lnTo>
                    <a:pt x="1076" y="1165"/>
                  </a:lnTo>
                  <a:lnTo>
                    <a:pt x="1094" y="1147"/>
                  </a:lnTo>
                  <a:lnTo>
                    <a:pt x="1112" y="1129"/>
                  </a:lnTo>
                  <a:lnTo>
                    <a:pt x="1138" y="1112"/>
                  </a:lnTo>
                  <a:lnTo>
                    <a:pt x="1156" y="1094"/>
                  </a:lnTo>
                  <a:lnTo>
                    <a:pt x="1173" y="1076"/>
                  </a:lnTo>
                  <a:lnTo>
                    <a:pt x="1182" y="1050"/>
                  </a:lnTo>
                  <a:lnTo>
                    <a:pt x="1200" y="1032"/>
                  </a:lnTo>
                  <a:lnTo>
                    <a:pt x="1218" y="1006"/>
                  </a:lnTo>
                  <a:lnTo>
                    <a:pt x="1226" y="988"/>
                  </a:lnTo>
                  <a:lnTo>
                    <a:pt x="1244" y="962"/>
                  </a:lnTo>
                  <a:lnTo>
                    <a:pt x="1253" y="944"/>
                  </a:lnTo>
                  <a:lnTo>
                    <a:pt x="1262" y="918"/>
                  </a:lnTo>
                  <a:lnTo>
                    <a:pt x="1279" y="891"/>
                  </a:lnTo>
                  <a:lnTo>
                    <a:pt x="1288" y="865"/>
                  </a:lnTo>
                  <a:lnTo>
                    <a:pt x="1288" y="838"/>
                  </a:lnTo>
                  <a:lnTo>
                    <a:pt x="1297" y="812"/>
                  </a:lnTo>
                  <a:lnTo>
                    <a:pt x="1306" y="785"/>
                  </a:lnTo>
                  <a:lnTo>
                    <a:pt x="1306" y="759"/>
                  </a:lnTo>
                  <a:lnTo>
                    <a:pt x="1315" y="733"/>
                  </a:lnTo>
                  <a:lnTo>
                    <a:pt x="1315" y="706"/>
                  </a:lnTo>
                  <a:lnTo>
                    <a:pt x="1315" y="688"/>
                  </a:lnTo>
                  <a:lnTo>
                    <a:pt x="1315" y="652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671920" y="4246560"/>
              <a:ext cx="377640" cy="3780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637000" y="4341960"/>
              <a:ext cx="317160" cy="3175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649600" y="4484520"/>
              <a:ext cx="162000" cy="1620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728800" y="4176720"/>
              <a:ext cx="390600" cy="3906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811600" y="4129200"/>
              <a:ext cx="355320" cy="3553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925720" y="4113360"/>
              <a:ext cx="257040" cy="2570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3129120" y="4227480"/>
              <a:ext cx="54360" cy="162360"/>
            </a:xfrm>
            <a:custGeom>
              <a:avLst/>
              <a:gdLst/>
              <a:ahLst/>
              <a:rect l="0" t="0" r="r" b="b"/>
              <a:pathLst>
                <a:path fill="none" w="151" h="451">
                  <a:moveTo>
                    <a:pt x="151" y="451"/>
                  </a:moveTo>
                  <a:lnTo>
                    <a:pt x="151" y="425"/>
                  </a:lnTo>
                  <a:lnTo>
                    <a:pt x="151" y="390"/>
                  </a:lnTo>
                  <a:lnTo>
                    <a:pt x="143" y="363"/>
                  </a:lnTo>
                  <a:lnTo>
                    <a:pt x="143" y="336"/>
                  </a:lnTo>
                  <a:lnTo>
                    <a:pt x="134" y="309"/>
                  </a:lnTo>
                  <a:lnTo>
                    <a:pt x="134" y="283"/>
                  </a:lnTo>
                  <a:lnTo>
                    <a:pt x="125" y="247"/>
                  </a:lnTo>
                  <a:lnTo>
                    <a:pt x="116" y="221"/>
                  </a:lnTo>
                  <a:lnTo>
                    <a:pt x="106" y="195"/>
                  </a:lnTo>
                  <a:lnTo>
                    <a:pt x="98" y="168"/>
                  </a:lnTo>
                  <a:lnTo>
                    <a:pt x="89" y="142"/>
                  </a:lnTo>
                  <a:lnTo>
                    <a:pt x="71" y="115"/>
                  </a:lnTo>
                  <a:lnTo>
                    <a:pt x="62" y="88"/>
                  </a:lnTo>
                  <a:lnTo>
                    <a:pt x="45" y="70"/>
                  </a:lnTo>
                  <a:lnTo>
                    <a:pt x="35" y="44"/>
                  </a:lnTo>
                  <a:lnTo>
                    <a:pt x="17" y="1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3081240" y="4176720"/>
              <a:ext cx="25920" cy="22680"/>
            </a:xfrm>
            <a:custGeom>
              <a:avLst/>
              <a:gdLst/>
              <a:ahLst/>
              <a:rect l="0" t="0" r="r" b="b"/>
              <a:pathLst>
                <a:path fill="none" w="72" h="63">
                  <a:moveTo>
                    <a:pt x="72" y="63"/>
                  </a:moveTo>
                  <a:lnTo>
                    <a:pt x="53" y="54"/>
                  </a:lnTo>
                  <a:lnTo>
                    <a:pt x="36" y="27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3024360" y="4138560"/>
              <a:ext cx="32040" cy="19440"/>
            </a:xfrm>
            <a:custGeom>
              <a:avLst/>
              <a:gdLst/>
              <a:ahLst/>
              <a:rect l="0" t="0" r="r" b="b"/>
              <a:pathLst>
                <a:path fill="none" w="89" h="54">
                  <a:moveTo>
                    <a:pt x="89" y="54"/>
                  </a:moveTo>
                  <a:lnTo>
                    <a:pt x="80" y="46"/>
                  </a:lnTo>
                  <a:lnTo>
                    <a:pt x="53" y="36"/>
                  </a:lnTo>
                  <a:lnTo>
                    <a:pt x="35" y="18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820960" y="4113360"/>
              <a:ext cx="171720" cy="12960"/>
            </a:xfrm>
            <a:custGeom>
              <a:avLst/>
              <a:gdLst/>
              <a:ahLst/>
              <a:rect l="0" t="0" r="r" b="b"/>
              <a:pathLst>
                <a:path fill="none" w="477" h="36">
                  <a:moveTo>
                    <a:pt x="477" y="36"/>
                  </a:moveTo>
                  <a:lnTo>
                    <a:pt x="468" y="36"/>
                  </a:lnTo>
                  <a:lnTo>
                    <a:pt x="441" y="27"/>
                  </a:lnTo>
                  <a:lnTo>
                    <a:pt x="406" y="17"/>
                  </a:lnTo>
                  <a:lnTo>
                    <a:pt x="380" y="17"/>
                  </a:lnTo>
                  <a:lnTo>
                    <a:pt x="353" y="8"/>
                  </a:lnTo>
                  <a:lnTo>
                    <a:pt x="327" y="8"/>
                  </a:lnTo>
                  <a:lnTo>
                    <a:pt x="300" y="0"/>
                  </a:lnTo>
                  <a:lnTo>
                    <a:pt x="265" y="0"/>
                  </a:lnTo>
                  <a:lnTo>
                    <a:pt x="239" y="0"/>
                  </a:lnTo>
                  <a:lnTo>
                    <a:pt x="211" y="0"/>
                  </a:lnTo>
                  <a:lnTo>
                    <a:pt x="185" y="0"/>
                  </a:lnTo>
                  <a:lnTo>
                    <a:pt x="149" y="8"/>
                  </a:lnTo>
                  <a:lnTo>
                    <a:pt x="123" y="8"/>
                  </a:lnTo>
                  <a:lnTo>
                    <a:pt x="97" y="17"/>
                  </a:lnTo>
                  <a:lnTo>
                    <a:pt x="70" y="17"/>
                  </a:lnTo>
                  <a:lnTo>
                    <a:pt x="44" y="27"/>
                  </a:lnTo>
                  <a:lnTo>
                    <a:pt x="17" y="36"/>
                  </a:lnTo>
                  <a:lnTo>
                    <a:pt x="0" y="36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760840" y="4138560"/>
              <a:ext cx="28800" cy="19440"/>
            </a:xfrm>
            <a:custGeom>
              <a:avLst/>
              <a:gdLst/>
              <a:ahLst/>
              <a:rect l="0" t="0" r="r" b="b"/>
              <a:pathLst>
                <a:path fill="none" w="80" h="54">
                  <a:moveTo>
                    <a:pt x="80" y="0"/>
                  </a:moveTo>
                  <a:lnTo>
                    <a:pt x="71" y="8"/>
                  </a:lnTo>
                  <a:lnTo>
                    <a:pt x="53" y="18"/>
                  </a:lnTo>
                  <a:lnTo>
                    <a:pt x="26" y="36"/>
                  </a:lnTo>
                  <a:lnTo>
                    <a:pt x="0" y="46"/>
                  </a:lnTo>
                  <a:lnTo>
                    <a:pt x="0" y="54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2706840" y="4176720"/>
              <a:ext cx="25920" cy="22680"/>
            </a:xfrm>
            <a:custGeom>
              <a:avLst/>
              <a:gdLst/>
              <a:ahLst/>
              <a:rect l="0" t="0" r="r" b="b"/>
              <a:pathLst>
                <a:path fill="none" w="72" h="63">
                  <a:moveTo>
                    <a:pt x="72" y="0"/>
                  </a:moveTo>
                  <a:lnTo>
                    <a:pt x="63" y="8"/>
                  </a:lnTo>
                  <a:lnTo>
                    <a:pt x="36" y="27"/>
                  </a:lnTo>
                  <a:lnTo>
                    <a:pt x="17" y="54"/>
                  </a:lnTo>
                  <a:lnTo>
                    <a:pt x="0" y="63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630520" y="4227480"/>
              <a:ext cx="54360" cy="162360"/>
            </a:xfrm>
            <a:custGeom>
              <a:avLst/>
              <a:gdLst/>
              <a:ahLst/>
              <a:rect l="0" t="0" r="r" b="b"/>
              <a:pathLst>
                <a:path fill="none" w="151" h="451">
                  <a:moveTo>
                    <a:pt x="151" y="0"/>
                  </a:moveTo>
                  <a:lnTo>
                    <a:pt x="134" y="17"/>
                  </a:lnTo>
                  <a:lnTo>
                    <a:pt x="125" y="44"/>
                  </a:lnTo>
                  <a:lnTo>
                    <a:pt x="106" y="70"/>
                  </a:lnTo>
                  <a:lnTo>
                    <a:pt x="89" y="88"/>
                  </a:lnTo>
                  <a:lnTo>
                    <a:pt x="80" y="115"/>
                  </a:lnTo>
                  <a:lnTo>
                    <a:pt x="71" y="142"/>
                  </a:lnTo>
                  <a:lnTo>
                    <a:pt x="53" y="168"/>
                  </a:lnTo>
                  <a:lnTo>
                    <a:pt x="45" y="195"/>
                  </a:lnTo>
                  <a:lnTo>
                    <a:pt x="35" y="221"/>
                  </a:lnTo>
                  <a:lnTo>
                    <a:pt x="26" y="247"/>
                  </a:lnTo>
                  <a:lnTo>
                    <a:pt x="26" y="283"/>
                  </a:lnTo>
                  <a:lnTo>
                    <a:pt x="17" y="309"/>
                  </a:lnTo>
                  <a:lnTo>
                    <a:pt x="8" y="336"/>
                  </a:lnTo>
                  <a:lnTo>
                    <a:pt x="8" y="363"/>
                  </a:lnTo>
                  <a:lnTo>
                    <a:pt x="8" y="390"/>
                  </a:lnTo>
                  <a:lnTo>
                    <a:pt x="0" y="425"/>
                  </a:lnTo>
                  <a:lnTo>
                    <a:pt x="0" y="451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633760" y="4424400"/>
              <a:ext cx="6840" cy="32040"/>
            </a:xfrm>
            <a:custGeom>
              <a:avLst/>
              <a:gdLst/>
              <a:ahLst/>
              <a:rect l="0" t="0" r="r" b="b"/>
              <a:pathLst>
                <a:path fill="none" w="19" h="89">
                  <a:moveTo>
                    <a:pt x="0" y="0"/>
                  </a:moveTo>
                  <a:lnTo>
                    <a:pt x="0" y="17"/>
                  </a:lnTo>
                  <a:lnTo>
                    <a:pt x="9" y="45"/>
                  </a:lnTo>
                  <a:lnTo>
                    <a:pt x="19" y="71"/>
                  </a:lnTo>
                  <a:lnTo>
                    <a:pt x="19" y="89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652840" y="4491000"/>
              <a:ext cx="12960" cy="32040"/>
            </a:xfrm>
            <a:custGeom>
              <a:avLst/>
              <a:gdLst/>
              <a:ahLst/>
              <a:rect l="0" t="0" r="r" b="b"/>
              <a:pathLst>
                <a:path fill="none" w="36" h="89">
                  <a:moveTo>
                    <a:pt x="0" y="0"/>
                  </a:moveTo>
                  <a:lnTo>
                    <a:pt x="8" y="26"/>
                  </a:lnTo>
                  <a:lnTo>
                    <a:pt x="17" y="45"/>
                  </a:lnTo>
                  <a:lnTo>
                    <a:pt x="27" y="71"/>
                  </a:lnTo>
                  <a:lnTo>
                    <a:pt x="36" y="89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684520" y="4551480"/>
              <a:ext cx="136800" cy="98640"/>
            </a:xfrm>
            <a:custGeom>
              <a:avLst/>
              <a:gdLst/>
              <a:ahLst/>
              <a:rect l="0" t="0" r="r" b="b"/>
              <a:pathLst>
                <a:path fill="none" w="380" h="274">
                  <a:moveTo>
                    <a:pt x="0" y="0"/>
                  </a:moveTo>
                  <a:lnTo>
                    <a:pt x="0" y="0"/>
                  </a:lnTo>
                  <a:lnTo>
                    <a:pt x="17" y="26"/>
                  </a:lnTo>
                  <a:lnTo>
                    <a:pt x="35" y="44"/>
                  </a:lnTo>
                  <a:lnTo>
                    <a:pt x="61" y="70"/>
                  </a:lnTo>
                  <a:lnTo>
                    <a:pt x="79" y="88"/>
                  </a:lnTo>
                  <a:lnTo>
                    <a:pt x="97" y="105"/>
                  </a:lnTo>
                  <a:lnTo>
                    <a:pt x="123" y="132"/>
                  </a:lnTo>
                  <a:lnTo>
                    <a:pt x="141" y="150"/>
                  </a:lnTo>
                  <a:lnTo>
                    <a:pt x="167" y="168"/>
                  </a:lnTo>
                  <a:lnTo>
                    <a:pt x="185" y="177"/>
                  </a:lnTo>
                  <a:lnTo>
                    <a:pt x="212" y="195"/>
                  </a:lnTo>
                  <a:lnTo>
                    <a:pt x="239" y="212"/>
                  </a:lnTo>
                  <a:lnTo>
                    <a:pt x="265" y="230"/>
                  </a:lnTo>
                  <a:lnTo>
                    <a:pt x="283" y="239"/>
                  </a:lnTo>
                  <a:lnTo>
                    <a:pt x="309" y="247"/>
                  </a:lnTo>
                  <a:lnTo>
                    <a:pt x="336" y="265"/>
                  </a:lnTo>
                  <a:lnTo>
                    <a:pt x="371" y="274"/>
                  </a:lnTo>
                  <a:lnTo>
                    <a:pt x="380" y="274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855880" y="4659480"/>
              <a:ext cx="35280" cy="3600"/>
            </a:xfrm>
            <a:custGeom>
              <a:avLst/>
              <a:gdLst/>
              <a:ahLst/>
              <a:rect l="0" t="0" r="r" b="b"/>
              <a:pathLst>
                <a:path fill="none" w="98" h="10">
                  <a:moveTo>
                    <a:pt x="0" y="0"/>
                  </a:moveTo>
                  <a:lnTo>
                    <a:pt x="0" y="0"/>
                  </a:lnTo>
                  <a:lnTo>
                    <a:pt x="26" y="10"/>
                  </a:lnTo>
                  <a:lnTo>
                    <a:pt x="53" y="10"/>
                  </a:lnTo>
                  <a:lnTo>
                    <a:pt x="89" y="10"/>
                  </a:lnTo>
                  <a:lnTo>
                    <a:pt x="98" y="1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925720" y="4659480"/>
              <a:ext cx="32040" cy="3600"/>
            </a:xfrm>
            <a:custGeom>
              <a:avLst/>
              <a:gdLst/>
              <a:ahLst/>
              <a:rect l="0" t="0" r="r" b="b"/>
              <a:pathLst>
                <a:path fill="none" w="89" h="10">
                  <a:moveTo>
                    <a:pt x="0" y="10"/>
                  </a:moveTo>
                  <a:lnTo>
                    <a:pt x="8" y="10"/>
                  </a:lnTo>
                  <a:lnTo>
                    <a:pt x="35" y="10"/>
                  </a:lnTo>
                  <a:lnTo>
                    <a:pt x="62" y="10"/>
                  </a:lnTo>
                  <a:lnTo>
                    <a:pt x="89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2992320" y="4551480"/>
              <a:ext cx="136800" cy="98640"/>
            </a:xfrm>
            <a:custGeom>
              <a:avLst/>
              <a:gdLst/>
              <a:ahLst/>
              <a:rect l="0" t="0" r="r" b="b"/>
              <a:pathLst>
                <a:path fill="none" w="380" h="274">
                  <a:moveTo>
                    <a:pt x="0" y="274"/>
                  </a:moveTo>
                  <a:lnTo>
                    <a:pt x="17" y="274"/>
                  </a:lnTo>
                  <a:lnTo>
                    <a:pt x="44" y="265"/>
                  </a:lnTo>
                  <a:lnTo>
                    <a:pt x="70" y="247"/>
                  </a:lnTo>
                  <a:lnTo>
                    <a:pt x="97" y="239"/>
                  </a:lnTo>
                  <a:lnTo>
                    <a:pt x="123" y="230"/>
                  </a:lnTo>
                  <a:lnTo>
                    <a:pt x="141" y="212"/>
                  </a:lnTo>
                  <a:lnTo>
                    <a:pt x="167" y="195"/>
                  </a:lnTo>
                  <a:lnTo>
                    <a:pt x="195" y="177"/>
                  </a:lnTo>
                  <a:lnTo>
                    <a:pt x="221" y="168"/>
                  </a:lnTo>
                  <a:lnTo>
                    <a:pt x="239" y="150"/>
                  </a:lnTo>
                  <a:lnTo>
                    <a:pt x="265" y="132"/>
                  </a:lnTo>
                  <a:lnTo>
                    <a:pt x="283" y="105"/>
                  </a:lnTo>
                  <a:lnTo>
                    <a:pt x="300" y="88"/>
                  </a:lnTo>
                  <a:lnTo>
                    <a:pt x="327" y="70"/>
                  </a:lnTo>
                  <a:lnTo>
                    <a:pt x="344" y="44"/>
                  </a:lnTo>
                  <a:lnTo>
                    <a:pt x="362" y="26"/>
                  </a:lnTo>
                  <a:lnTo>
                    <a:pt x="380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147840" y="449100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0" y="89"/>
                  </a:moveTo>
                  <a:lnTo>
                    <a:pt x="8" y="71"/>
                  </a:lnTo>
                  <a:lnTo>
                    <a:pt x="17" y="45"/>
                  </a:lnTo>
                  <a:lnTo>
                    <a:pt x="36" y="26"/>
                  </a:lnTo>
                  <a:lnTo>
                    <a:pt x="45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73400" y="4424400"/>
              <a:ext cx="6840" cy="32040"/>
            </a:xfrm>
            <a:custGeom>
              <a:avLst/>
              <a:gdLst/>
              <a:ahLst/>
              <a:rect l="0" t="0" r="r" b="b"/>
              <a:pathLst>
                <a:path fill="none" w="19" h="89">
                  <a:moveTo>
                    <a:pt x="0" y="89"/>
                  </a:moveTo>
                  <a:lnTo>
                    <a:pt x="9" y="71"/>
                  </a:lnTo>
                  <a:lnTo>
                    <a:pt x="9" y="45"/>
                  </a:lnTo>
                  <a:lnTo>
                    <a:pt x="19" y="17"/>
                  </a:lnTo>
                  <a:lnTo>
                    <a:pt x="19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V="1">
              <a:off x="7124760" y="1893960"/>
              <a:ext cx="0" cy="32414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V="1">
              <a:off x="5443560" y="1893960"/>
              <a:ext cx="0" cy="32414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068640" y="4665600"/>
              <a:ext cx="409680" cy="8287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471840" y="5745240"/>
              <a:ext cx="0" cy="1364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471840" y="5745240"/>
              <a:ext cx="92520" cy="70200"/>
            </a:xfrm>
            <a:custGeom>
              <a:avLst/>
              <a:gdLst/>
              <a:ahLst/>
              <a:rect l="0" t="0" r="r" b="b"/>
              <a:pathLst>
                <a:path fill="none" w="257" h="195">
                  <a:moveTo>
                    <a:pt x="0" y="0"/>
                  </a:moveTo>
                  <a:lnTo>
                    <a:pt x="168" y="0"/>
                  </a:lnTo>
                  <a:lnTo>
                    <a:pt x="222" y="17"/>
                  </a:lnTo>
                  <a:lnTo>
                    <a:pt x="240" y="35"/>
                  </a:lnTo>
                  <a:lnTo>
                    <a:pt x="257" y="70"/>
                  </a:lnTo>
                  <a:lnTo>
                    <a:pt x="257" y="124"/>
                  </a:lnTo>
                  <a:lnTo>
                    <a:pt x="240" y="159"/>
                  </a:lnTo>
                  <a:lnTo>
                    <a:pt x="222" y="177"/>
                  </a:lnTo>
                  <a:lnTo>
                    <a:pt x="168" y="195"/>
                  </a:lnTo>
                  <a:lnTo>
                    <a:pt x="0" y="195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3602160" y="5745240"/>
              <a:ext cx="92520" cy="136800"/>
            </a:xfrm>
            <a:custGeom>
              <a:avLst/>
              <a:gdLst/>
              <a:ahLst/>
              <a:rect l="0" t="0" r="r" b="b"/>
              <a:pathLst>
                <a:path fill="none" w="257" h="380">
                  <a:moveTo>
                    <a:pt x="35" y="0"/>
                  </a:moveTo>
                  <a:lnTo>
                    <a:pt x="240" y="0"/>
                  </a:lnTo>
                  <a:lnTo>
                    <a:pt x="124" y="141"/>
                  </a:lnTo>
                  <a:lnTo>
                    <a:pt x="177" y="141"/>
                  </a:lnTo>
                  <a:lnTo>
                    <a:pt x="222" y="158"/>
                  </a:lnTo>
                  <a:lnTo>
                    <a:pt x="240" y="176"/>
                  </a:lnTo>
                  <a:lnTo>
                    <a:pt x="257" y="230"/>
                  </a:lnTo>
                  <a:lnTo>
                    <a:pt x="257" y="265"/>
                  </a:lnTo>
                  <a:lnTo>
                    <a:pt x="240" y="318"/>
                  </a:lnTo>
                  <a:lnTo>
                    <a:pt x="204" y="362"/>
                  </a:lnTo>
                  <a:lnTo>
                    <a:pt x="142" y="380"/>
                  </a:lnTo>
                  <a:lnTo>
                    <a:pt x="89" y="380"/>
                  </a:lnTo>
                  <a:lnTo>
                    <a:pt x="35" y="362"/>
                  </a:lnTo>
                  <a:lnTo>
                    <a:pt x="17" y="344"/>
                  </a:lnTo>
                  <a:lnTo>
                    <a:pt x="0" y="30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3348000" y="5468760"/>
              <a:ext cx="473400" cy="473400"/>
            </a:xfrm>
            <a:custGeom>
              <a:avLst/>
              <a:gdLst/>
              <a:ahLst/>
              <a:rect l="0" t="0" r="r" b="b"/>
              <a:pathLst>
                <a:path fill="none" w="1315" h="1315">
                  <a:moveTo>
                    <a:pt x="1315" y="662"/>
                  </a:moveTo>
                  <a:lnTo>
                    <a:pt x="1315" y="635"/>
                  </a:lnTo>
                  <a:lnTo>
                    <a:pt x="1315" y="608"/>
                  </a:lnTo>
                  <a:lnTo>
                    <a:pt x="1315" y="582"/>
                  </a:lnTo>
                  <a:lnTo>
                    <a:pt x="1306" y="555"/>
                  </a:lnTo>
                  <a:lnTo>
                    <a:pt x="1306" y="529"/>
                  </a:lnTo>
                  <a:lnTo>
                    <a:pt x="1297" y="502"/>
                  </a:lnTo>
                  <a:lnTo>
                    <a:pt x="1288" y="476"/>
                  </a:lnTo>
                  <a:lnTo>
                    <a:pt x="1288" y="449"/>
                  </a:lnTo>
                  <a:lnTo>
                    <a:pt x="1279" y="423"/>
                  </a:lnTo>
                  <a:lnTo>
                    <a:pt x="1262" y="396"/>
                  </a:lnTo>
                  <a:lnTo>
                    <a:pt x="1253" y="370"/>
                  </a:lnTo>
                  <a:lnTo>
                    <a:pt x="1244" y="352"/>
                  </a:lnTo>
                  <a:lnTo>
                    <a:pt x="1226" y="326"/>
                  </a:lnTo>
                  <a:lnTo>
                    <a:pt x="1218" y="308"/>
                  </a:lnTo>
                  <a:lnTo>
                    <a:pt x="1200" y="282"/>
                  </a:lnTo>
                  <a:lnTo>
                    <a:pt x="1182" y="264"/>
                  </a:lnTo>
                  <a:lnTo>
                    <a:pt x="1173" y="238"/>
                  </a:lnTo>
                  <a:lnTo>
                    <a:pt x="1156" y="220"/>
                  </a:lnTo>
                  <a:lnTo>
                    <a:pt x="1138" y="202"/>
                  </a:lnTo>
                  <a:lnTo>
                    <a:pt x="1112" y="185"/>
                  </a:lnTo>
                  <a:lnTo>
                    <a:pt x="1094" y="167"/>
                  </a:lnTo>
                  <a:lnTo>
                    <a:pt x="1076" y="149"/>
                  </a:lnTo>
                  <a:lnTo>
                    <a:pt x="1059" y="132"/>
                  </a:lnTo>
                  <a:lnTo>
                    <a:pt x="1032" y="114"/>
                  </a:lnTo>
                  <a:lnTo>
                    <a:pt x="1015" y="97"/>
                  </a:lnTo>
                  <a:lnTo>
                    <a:pt x="988" y="88"/>
                  </a:lnTo>
                  <a:lnTo>
                    <a:pt x="962" y="70"/>
                  </a:lnTo>
                  <a:lnTo>
                    <a:pt x="944" y="61"/>
                  </a:lnTo>
                  <a:lnTo>
                    <a:pt x="918" y="52"/>
                  </a:lnTo>
                  <a:lnTo>
                    <a:pt x="891" y="44"/>
                  </a:lnTo>
                  <a:lnTo>
                    <a:pt x="865" y="35"/>
                  </a:lnTo>
                  <a:lnTo>
                    <a:pt x="838" y="26"/>
                  </a:lnTo>
                  <a:lnTo>
                    <a:pt x="821" y="17"/>
                  </a:lnTo>
                  <a:lnTo>
                    <a:pt x="794" y="8"/>
                  </a:lnTo>
                  <a:lnTo>
                    <a:pt x="768" y="8"/>
                  </a:lnTo>
                  <a:lnTo>
                    <a:pt x="741" y="0"/>
                  </a:lnTo>
                  <a:lnTo>
                    <a:pt x="715" y="0"/>
                  </a:lnTo>
                  <a:lnTo>
                    <a:pt x="688" y="0"/>
                  </a:lnTo>
                  <a:lnTo>
                    <a:pt x="662" y="0"/>
                  </a:lnTo>
                  <a:lnTo>
                    <a:pt x="635" y="0"/>
                  </a:lnTo>
                  <a:lnTo>
                    <a:pt x="608" y="0"/>
                  </a:lnTo>
                  <a:lnTo>
                    <a:pt x="582" y="0"/>
                  </a:lnTo>
                  <a:lnTo>
                    <a:pt x="555" y="8"/>
                  </a:lnTo>
                  <a:lnTo>
                    <a:pt x="529" y="8"/>
                  </a:lnTo>
                  <a:lnTo>
                    <a:pt x="502" y="17"/>
                  </a:lnTo>
                  <a:lnTo>
                    <a:pt x="476" y="26"/>
                  </a:lnTo>
                  <a:lnTo>
                    <a:pt x="449" y="35"/>
                  </a:lnTo>
                  <a:lnTo>
                    <a:pt x="423" y="44"/>
                  </a:lnTo>
                  <a:lnTo>
                    <a:pt x="396" y="52"/>
                  </a:lnTo>
                  <a:lnTo>
                    <a:pt x="379" y="61"/>
                  </a:lnTo>
                  <a:lnTo>
                    <a:pt x="352" y="70"/>
                  </a:lnTo>
                  <a:lnTo>
                    <a:pt x="326" y="88"/>
                  </a:lnTo>
                  <a:lnTo>
                    <a:pt x="308" y="97"/>
                  </a:lnTo>
                  <a:lnTo>
                    <a:pt x="282" y="114"/>
                  </a:lnTo>
                  <a:lnTo>
                    <a:pt x="264" y="132"/>
                  </a:lnTo>
                  <a:lnTo>
                    <a:pt x="238" y="149"/>
                  </a:lnTo>
                  <a:lnTo>
                    <a:pt x="220" y="167"/>
                  </a:lnTo>
                  <a:lnTo>
                    <a:pt x="202" y="185"/>
                  </a:lnTo>
                  <a:lnTo>
                    <a:pt x="185" y="202"/>
                  </a:lnTo>
                  <a:lnTo>
                    <a:pt x="167" y="220"/>
                  </a:lnTo>
                  <a:lnTo>
                    <a:pt x="149" y="238"/>
                  </a:lnTo>
                  <a:lnTo>
                    <a:pt x="132" y="264"/>
                  </a:lnTo>
                  <a:lnTo>
                    <a:pt x="114" y="282"/>
                  </a:lnTo>
                  <a:lnTo>
                    <a:pt x="97" y="308"/>
                  </a:lnTo>
                  <a:lnTo>
                    <a:pt x="88" y="326"/>
                  </a:lnTo>
                  <a:lnTo>
                    <a:pt x="70" y="352"/>
                  </a:lnTo>
                  <a:lnTo>
                    <a:pt x="61" y="370"/>
                  </a:lnTo>
                  <a:lnTo>
                    <a:pt x="52" y="396"/>
                  </a:lnTo>
                  <a:lnTo>
                    <a:pt x="44" y="423"/>
                  </a:lnTo>
                  <a:lnTo>
                    <a:pt x="35" y="449"/>
                  </a:lnTo>
                  <a:lnTo>
                    <a:pt x="26" y="476"/>
                  </a:lnTo>
                  <a:lnTo>
                    <a:pt x="17" y="502"/>
                  </a:lnTo>
                  <a:lnTo>
                    <a:pt x="8" y="529"/>
                  </a:lnTo>
                  <a:lnTo>
                    <a:pt x="8" y="555"/>
                  </a:lnTo>
                  <a:lnTo>
                    <a:pt x="0" y="582"/>
                  </a:lnTo>
                  <a:lnTo>
                    <a:pt x="0" y="608"/>
                  </a:lnTo>
                  <a:lnTo>
                    <a:pt x="0" y="635"/>
                  </a:lnTo>
                  <a:lnTo>
                    <a:pt x="0" y="662"/>
                  </a:lnTo>
                  <a:lnTo>
                    <a:pt x="0" y="688"/>
                  </a:lnTo>
                  <a:lnTo>
                    <a:pt x="0" y="715"/>
                  </a:lnTo>
                  <a:lnTo>
                    <a:pt x="0" y="741"/>
                  </a:lnTo>
                  <a:lnTo>
                    <a:pt x="8" y="768"/>
                  </a:lnTo>
                  <a:lnTo>
                    <a:pt x="8" y="785"/>
                  </a:lnTo>
                  <a:lnTo>
                    <a:pt x="17" y="812"/>
                  </a:lnTo>
                  <a:lnTo>
                    <a:pt x="26" y="838"/>
                  </a:lnTo>
                  <a:lnTo>
                    <a:pt x="35" y="865"/>
                  </a:lnTo>
                  <a:lnTo>
                    <a:pt x="44" y="891"/>
                  </a:lnTo>
                  <a:lnTo>
                    <a:pt x="52" y="918"/>
                  </a:lnTo>
                  <a:lnTo>
                    <a:pt x="61" y="944"/>
                  </a:lnTo>
                  <a:lnTo>
                    <a:pt x="70" y="962"/>
                  </a:lnTo>
                  <a:lnTo>
                    <a:pt x="88" y="988"/>
                  </a:lnTo>
                  <a:lnTo>
                    <a:pt x="97" y="1006"/>
                  </a:lnTo>
                  <a:lnTo>
                    <a:pt x="114" y="1032"/>
                  </a:lnTo>
                  <a:lnTo>
                    <a:pt x="132" y="1050"/>
                  </a:lnTo>
                  <a:lnTo>
                    <a:pt x="149" y="1076"/>
                  </a:lnTo>
                  <a:lnTo>
                    <a:pt x="167" y="1094"/>
                  </a:lnTo>
                  <a:lnTo>
                    <a:pt x="185" y="1112"/>
                  </a:lnTo>
                  <a:lnTo>
                    <a:pt x="202" y="1129"/>
                  </a:lnTo>
                  <a:lnTo>
                    <a:pt x="220" y="1156"/>
                  </a:lnTo>
                  <a:lnTo>
                    <a:pt x="238" y="1165"/>
                  </a:lnTo>
                  <a:lnTo>
                    <a:pt x="264" y="1182"/>
                  </a:lnTo>
                  <a:lnTo>
                    <a:pt x="282" y="1200"/>
                  </a:lnTo>
                  <a:lnTo>
                    <a:pt x="308" y="1218"/>
                  </a:lnTo>
                  <a:lnTo>
                    <a:pt x="326" y="1226"/>
                  </a:lnTo>
                  <a:lnTo>
                    <a:pt x="352" y="1244"/>
                  </a:lnTo>
                  <a:lnTo>
                    <a:pt x="379" y="1253"/>
                  </a:lnTo>
                  <a:lnTo>
                    <a:pt x="396" y="1262"/>
                  </a:lnTo>
                  <a:lnTo>
                    <a:pt x="423" y="1271"/>
                  </a:lnTo>
                  <a:lnTo>
                    <a:pt x="449" y="1279"/>
                  </a:lnTo>
                  <a:lnTo>
                    <a:pt x="476" y="1288"/>
                  </a:lnTo>
                  <a:lnTo>
                    <a:pt x="502" y="1297"/>
                  </a:lnTo>
                  <a:lnTo>
                    <a:pt x="529" y="1306"/>
                  </a:lnTo>
                  <a:lnTo>
                    <a:pt x="555" y="1306"/>
                  </a:lnTo>
                  <a:lnTo>
                    <a:pt x="582" y="1315"/>
                  </a:lnTo>
                  <a:lnTo>
                    <a:pt x="608" y="1315"/>
                  </a:lnTo>
                  <a:lnTo>
                    <a:pt x="635" y="1315"/>
                  </a:lnTo>
                  <a:lnTo>
                    <a:pt x="662" y="1315"/>
                  </a:lnTo>
                  <a:lnTo>
                    <a:pt x="688" y="1315"/>
                  </a:lnTo>
                  <a:lnTo>
                    <a:pt x="715" y="1315"/>
                  </a:lnTo>
                  <a:lnTo>
                    <a:pt x="741" y="1315"/>
                  </a:lnTo>
                  <a:lnTo>
                    <a:pt x="768" y="1306"/>
                  </a:lnTo>
                  <a:lnTo>
                    <a:pt x="794" y="1306"/>
                  </a:lnTo>
                  <a:lnTo>
                    <a:pt x="821" y="1297"/>
                  </a:lnTo>
                  <a:lnTo>
                    <a:pt x="838" y="1288"/>
                  </a:lnTo>
                  <a:lnTo>
                    <a:pt x="865" y="1279"/>
                  </a:lnTo>
                  <a:lnTo>
                    <a:pt x="891" y="1271"/>
                  </a:lnTo>
                  <a:lnTo>
                    <a:pt x="918" y="1262"/>
                  </a:lnTo>
                  <a:lnTo>
                    <a:pt x="944" y="1253"/>
                  </a:lnTo>
                  <a:lnTo>
                    <a:pt x="962" y="1244"/>
                  </a:lnTo>
                  <a:lnTo>
                    <a:pt x="988" y="1226"/>
                  </a:lnTo>
                  <a:lnTo>
                    <a:pt x="1015" y="1218"/>
                  </a:lnTo>
                  <a:lnTo>
                    <a:pt x="1032" y="1200"/>
                  </a:lnTo>
                  <a:lnTo>
                    <a:pt x="1059" y="1182"/>
                  </a:lnTo>
                  <a:lnTo>
                    <a:pt x="1076" y="1165"/>
                  </a:lnTo>
                  <a:lnTo>
                    <a:pt x="1094" y="1156"/>
                  </a:lnTo>
                  <a:lnTo>
                    <a:pt x="1112" y="1129"/>
                  </a:lnTo>
                  <a:lnTo>
                    <a:pt x="1138" y="1112"/>
                  </a:lnTo>
                  <a:lnTo>
                    <a:pt x="1156" y="1094"/>
                  </a:lnTo>
                  <a:lnTo>
                    <a:pt x="1173" y="1076"/>
                  </a:lnTo>
                  <a:lnTo>
                    <a:pt x="1182" y="1050"/>
                  </a:lnTo>
                  <a:lnTo>
                    <a:pt x="1200" y="1032"/>
                  </a:lnTo>
                  <a:lnTo>
                    <a:pt x="1218" y="1006"/>
                  </a:lnTo>
                  <a:lnTo>
                    <a:pt x="1226" y="988"/>
                  </a:lnTo>
                  <a:lnTo>
                    <a:pt x="1244" y="962"/>
                  </a:lnTo>
                  <a:lnTo>
                    <a:pt x="1253" y="944"/>
                  </a:lnTo>
                  <a:lnTo>
                    <a:pt x="1262" y="918"/>
                  </a:lnTo>
                  <a:lnTo>
                    <a:pt x="1279" y="891"/>
                  </a:lnTo>
                  <a:lnTo>
                    <a:pt x="1288" y="865"/>
                  </a:lnTo>
                  <a:lnTo>
                    <a:pt x="1288" y="838"/>
                  </a:lnTo>
                  <a:lnTo>
                    <a:pt x="1297" y="812"/>
                  </a:lnTo>
                  <a:lnTo>
                    <a:pt x="1306" y="785"/>
                  </a:lnTo>
                  <a:lnTo>
                    <a:pt x="1306" y="768"/>
                  </a:lnTo>
                  <a:lnTo>
                    <a:pt x="1315" y="741"/>
                  </a:lnTo>
                  <a:lnTo>
                    <a:pt x="1315" y="715"/>
                  </a:lnTo>
                  <a:lnTo>
                    <a:pt x="1315" y="688"/>
                  </a:lnTo>
                  <a:lnTo>
                    <a:pt x="1315" y="662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V="1">
              <a:off x="3440160" y="5535720"/>
              <a:ext cx="95040" cy="1616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421080" y="5548320"/>
              <a:ext cx="133560" cy="136800"/>
            </a:xfrm>
            <a:custGeom>
              <a:avLst/>
              <a:gdLst/>
              <a:ahLst/>
              <a:rect l="0" t="0" r="r" b="b"/>
              <a:pathLst>
                <a:path fill="none" w="371" h="380">
                  <a:moveTo>
                    <a:pt x="371" y="185"/>
                  </a:moveTo>
                  <a:lnTo>
                    <a:pt x="371" y="176"/>
                  </a:lnTo>
                  <a:lnTo>
                    <a:pt x="371" y="158"/>
                  </a:lnTo>
                  <a:lnTo>
                    <a:pt x="371" y="149"/>
                  </a:lnTo>
                  <a:lnTo>
                    <a:pt x="362" y="132"/>
                  </a:lnTo>
                  <a:lnTo>
                    <a:pt x="362" y="114"/>
                  </a:lnTo>
                  <a:lnTo>
                    <a:pt x="353" y="105"/>
                  </a:lnTo>
                  <a:lnTo>
                    <a:pt x="344" y="97"/>
                  </a:lnTo>
                  <a:lnTo>
                    <a:pt x="344" y="79"/>
                  </a:lnTo>
                  <a:lnTo>
                    <a:pt x="336" y="70"/>
                  </a:lnTo>
                  <a:lnTo>
                    <a:pt x="327" y="61"/>
                  </a:lnTo>
                  <a:lnTo>
                    <a:pt x="309" y="52"/>
                  </a:lnTo>
                  <a:lnTo>
                    <a:pt x="300" y="44"/>
                  </a:lnTo>
                  <a:lnTo>
                    <a:pt x="292" y="35"/>
                  </a:lnTo>
                  <a:lnTo>
                    <a:pt x="283" y="26"/>
                  </a:lnTo>
                  <a:lnTo>
                    <a:pt x="265" y="17"/>
                  </a:lnTo>
                  <a:lnTo>
                    <a:pt x="256" y="8"/>
                  </a:lnTo>
                  <a:lnTo>
                    <a:pt x="239" y="8"/>
                  </a:lnTo>
                  <a:lnTo>
                    <a:pt x="230" y="0"/>
                  </a:lnTo>
                  <a:lnTo>
                    <a:pt x="212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67" y="0"/>
                  </a:lnTo>
                  <a:lnTo>
                    <a:pt x="158" y="0"/>
                  </a:lnTo>
                  <a:lnTo>
                    <a:pt x="141" y="0"/>
                  </a:lnTo>
                  <a:lnTo>
                    <a:pt x="132" y="8"/>
                  </a:lnTo>
                  <a:lnTo>
                    <a:pt x="114" y="8"/>
                  </a:lnTo>
                  <a:lnTo>
                    <a:pt x="105" y="17"/>
                  </a:lnTo>
                  <a:lnTo>
                    <a:pt x="88" y="26"/>
                  </a:lnTo>
                  <a:lnTo>
                    <a:pt x="79" y="35"/>
                  </a:lnTo>
                  <a:lnTo>
                    <a:pt x="70" y="44"/>
                  </a:lnTo>
                  <a:lnTo>
                    <a:pt x="52" y="52"/>
                  </a:lnTo>
                  <a:lnTo>
                    <a:pt x="44" y="61"/>
                  </a:lnTo>
                  <a:lnTo>
                    <a:pt x="35" y="70"/>
                  </a:lnTo>
                  <a:lnTo>
                    <a:pt x="26" y="79"/>
                  </a:lnTo>
                  <a:lnTo>
                    <a:pt x="17" y="97"/>
                  </a:lnTo>
                  <a:lnTo>
                    <a:pt x="17" y="105"/>
                  </a:lnTo>
                  <a:lnTo>
                    <a:pt x="8" y="114"/>
                  </a:lnTo>
                  <a:lnTo>
                    <a:pt x="8" y="132"/>
                  </a:lnTo>
                  <a:lnTo>
                    <a:pt x="0" y="149"/>
                  </a:lnTo>
                  <a:lnTo>
                    <a:pt x="0" y="158"/>
                  </a:lnTo>
                  <a:lnTo>
                    <a:pt x="0" y="176"/>
                  </a:lnTo>
                  <a:lnTo>
                    <a:pt x="0" y="185"/>
                  </a:lnTo>
                  <a:lnTo>
                    <a:pt x="0" y="203"/>
                  </a:lnTo>
                  <a:lnTo>
                    <a:pt x="0" y="221"/>
                  </a:lnTo>
                  <a:lnTo>
                    <a:pt x="0" y="230"/>
                  </a:lnTo>
                  <a:lnTo>
                    <a:pt x="8" y="247"/>
                  </a:lnTo>
                  <a:lnTo>
                    <a:pt x="8" y="256"/>
                  </a:lnTo>
                  <a:lnTo>
                    <a:pt x="17" y="274"/>
                  </a:lnTo>
                  <a:lnTo>
                    <a:pt x="17" y="283"/>
                  </a:lnTo>
                  <a:lnTo>
                    <a:pt x="26" y="292"/>
                  </a:lnTo>
                  <a:lnTo>
                    <a:pt x="35" y="309"/>
                  </a:lnTo>
                  <a:lnTo>
                    <a:pt x="44" y="318"/>
                  </a:lnTo>
                  <a:lnTo>
                    <a:pt x="52" y="327"/>
                  </a:lnTo>
                  <a:lnTo>
                    <a:pt x="70" y="336"/>
                  </a:lnTo>
                  <a:lnTo>
                    <a:pt x="79" y="344"/>
                  </a:lnTo>
                  <a:lnTo>
                    <a:pt x="88" y="353"/>
                  </a:lnTo>
                  <a:lnTo>
                    <a:pt x="105" y="362"/>
                  </a:lnTo>
                  <a:lnTo>
                    <a:pt x="114" y="362"/>
                  </a:lnTo>
                  <a:lnTo>
                    <a:pt x="132" y="371"/>
                  </a:lnTo>
                  <a:lnTo>
                    <a:pt x="141" y="371"/>
                  </a:lnTo>
                  <a:lnTo>
                    <a:pt x="158" y="371"/>
                  </a:lnTo>
                  <a:lnTo>
                    <a:pt x="167" y="380"/>
                  </a:lnTo>
                  <a:lnTo>
                    <a:pt x="186" y="380"/>
                  </a:lnTo>
                  <a:lnTo>
                    <a:pt x="203" y="380"/>
                  </a:lnTo>
                  <a:lnTo>
                    <a:pt x="212" y="371"/>
                  </a:lnTo>
                  <a:lnTo>
                    <a:pt x="230" y="371"/>
                  </a:lnTo>
                  <a:lnTo>
                    <a:pt x="239" y="371"/>
                  </a:lnTo>
                  <a:lnTo>
                    <a:pt x="256" y="362"/>
                  </a:lnTo>
                  <a:lnTo>
                    <a:pt x="265" y="362"/>
                  </a:lnTo>
                  <a:lnTo>
                    <a:pt x="283" y="353"/>
                  </a:lnTo>
                  <a:lnTo>
                    <a:pt x="292" y="344"/>
                  </a:lnTo>
                  <a:lnTo>
                    <a:pt x="300" y="336"/>
                  </a:lnTo>
                  <a:lnTo>
                    <a:pt x="309" y="327"/>
                  </a:lnTo>
                  <a:lnTo>
                    <a:pt x="327" y="318"/>
                  </a:lnTo>
                  <a:lnTo>
                    <a:pt x="336" y="309"/>
                  </a:lnTo>
                  <a:lnTo>
                    <a:pt x="344" y="292"/>
                  </a:lnTo>
                  <a:lnTo>
                    <a:pt x="344" y="283"/>
                  </a:lnTo>
                  <a:lnTo>
                    <a:pt x="353" y="274"/>
                  </a:lnTo>
                  <a:lnTo>
                    <a:pt x="362" y="256"/>
                  </a:lnTo>
                  <a:lnTo>
                    <a:pt x="362" y="247"/>
                  </a:lnTo>
                  <a:lnTo>
                    <a:pt x="371" y="230"/>
                  </a:lnTo>
                  <a:lnTo>
                    <a:pt x="371" y="221"/>
                  </a:lnTo>
                  <a:lnTo>
                    <a:pt x="371" y="203"/>
                  </a:lnTo>
                  <a:lnTo>
                    <a:pt x="371" y="185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348000" y="5707080"/>
              <a:ext cx="4730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906640" y="4583160"/>
              <a:ext cx="0" cy="1778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354560" y="5745240"/>
              <a:ext cx="0" cy="1364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354560" y="5745240"/>
              <a:ext cx="92520" cy="70200"/>
            </a:xfrm>
            <a:custGeom>
              <a:avLst/>
              <a:gdLst/>
              <a:ahLst/>
              <a:rect l="0" t="0" r="r" b="b"/>
              <a:pathLst>
                <a:path fill="none" w="257" h="195">
                  <a:moveTo>
                    <a:pt x="0" y="0"/>
                  </a:moveTo>
                  <a:lnTo>
                    <a:pt x="168" y="0"/>
                  </a:lnTo>
                  <a:lnTo>
                    <a:pt x="222" y="17"/>
                  </a:lnTo>
                  <a:lnTo>
                    <a:pt x="240" y="35"/>
                  </a:lnTo>
                  <a:lnTo>
                    <a:pt x="257" y="70"/>
                  </a:lnTo>
                  <a:lnTo>
                    <a:pt x="257" y="124"/>
                  </a:lnTo>
                  <a:lnTo>
                    <a:pt x="240" y="159"/>
                  </a:lnTo>
                  <a:lnTo>
                    <a:pt x="222" y="177"/>
                  </a:lnTo>
                  <a:lnTo>
                    <a:pt x="168" y="195"/>
                  </a:lnTo>
                  <a:lnTo>
                    <a:pt x="0" y="195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484520" y="5745240"/>
              <a:ext cx="89280" cy="136800"/>
            </a:xfrm>
            <a:custGeom>
              <a:avLst/>
              <a:gdLst/>
              <a:ahLst/>
              <a:rect l="0" t="0" r="r" b="b"/>
              <a:pathLst>
                <a:path fill="none" w="248" h="380">
                  <a:moveTo>
                    <a:pt x="17" y="88"/>
                  </a:moveTo>
                  <a:lnTo>
                    <a:pt x="17" y="70"/>
                  </a:lnTo>
                  <a:lnTo>
                    <a:pt x="35" y="35"/>
                  </a:lnTo>
                  <a:lnTo>
                    <a:pt x="52" y="17"/>
                  </a:lnTo>
                  <a:lnTo>
                    <a:pt x="89" y="0"/>
                  </a:lnTo>
                  <a:lnTo>
                    <a:pt x="159" y="0"/>
                  </a:lnTo>
                  <a:lnTo>
                    <a:pt x="196" y="17"/>
                  </a:lnTo>
                  <a:lnTo>
                    <a:pt x="213" y="35"/>
                  </a:lnTo>
                  <a:lnTo>
                    <a:pt x="231" y="70"/>
                  </a:lnTo>
                  <a:lnTo>
                    <a:pt x="231" y="105"/>
                  </a:lnTo>
                  <a:lnTo>
                    <a:pt x="213" y="141"/>
                  </a:lnTo>
                  <a:lnTo>
                    <a:pt x="177" y="195"/>
                  </a:lnTo>
                  <a:lnTo>
                    <a:pt x="0" y="380"/>
                  </a:lnTo>
                  <a:lnTo>
                    <a:pt x="248" y="38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4230720" y="5468760"/>
              <a:ext cx="473400" cy="473400"/>
            </a:xfrm>
            <a:custGeom>
              <a:avLst/>
              <a:gdLst/>
              <a:ahLst/>
              <a:rect l="0" t="0" r="r" b="b"/>
              <a:pathLst>
                <a:path fill="none" w="1315" h="1315">
                  <a:moveTo>
                    <a:pt x="0" y="662"/>
                  </a:moveTo>
                  <a:lnTo>
                    <a:pt x="1315" y="662"/>
                  </a:lnTo>
                  <a:lnTo>
                    <a:pt x="1315" y="635"/>
                  </a:lnTo>
                  <a:lnTo>
                    <a:pt x="1315" y="608"/>
                  </a:lnTo>
                  <a:lnTo>
                    <a:pt x="1315" y="582"/>
                  </a:lnTo>
                  <a:lnTo>
                    <a:pt x="1306" y="555"/>
                  </a:lnTo>
                  <a:lnTo>
                    <a:pt x="1306" y="529"/>
                  </a:lnTo>
                  <a:lnTo>
                    <a:pt x="1297" y="502"/>
                  </a:lnTo>
                  <a:lnTo>
                    <a:pt x="1288" y="476"/>
                  </a:lnTo>
                  <a:lnTo>
                    <a:pt x="1279" y="449"/>
                  </a:lnTo>
                  <a:lnTo>
                    <a:pt x="1271" y="423"/>
                  </a:lnTo>
                  <a:lnTo>
                    <a:pt x="1262" y="396"/>
                  </a:lnTo>
                  <a:lnTo>
                    <a:pt x="1253" y="370"/>
                  </a:lnTo>
                  <a:lnTo>
                    <a:pt x="1244" y="352"/>
                  </a:lnTo>
                  <a:lnTo>
                    <a:pt x="1226" y="326"/>
                  </a:lnTo>
                  <a:lnTo>
                    <a:pt x="1218" y="308"/>
                  </a:lnTo>
                  <a:lnTo>
                    <a:pt x="1200" y="282"/>
                  </a:lnTo>
                  <a:lnTo>
                    <a:pt x="1182" y="264"/>
                  </a:lnTo>
                  <a:lnTo>
                    <a:pt x="1165" y="238"/>
                  </a:lnTo>
                  <a:lnTo>
                    <a:pt x="1147" y="220"/>
                  </a:lnTo>
                  <a:lnTo>
                    <a:pt x="1129" y="202"/>
                  </a:lnTo>
                  <a:lnTo>
                    <a:pt x="1112" y="185"/>
                  </a:lnTo>
                  <a:lnTo>
                    <a:pt x="1094" y="167"/>
                  </a:lnTo>
                  <a:lnTo>
                    <a:pt x="1076" y="149"/>
                  </a:lnTo>
                  <a:lnTo>
                    <a:pt x="1050" y="132"/>
                  </a:lnTo>
                  <a:lnTo>
                    <a:pt x="1032" y="114"/>
                  </a:lnTo>
                  <a:lnTo>
                    <a:pt x="1006" y="97"/>
                  </a:lnTo>
                  <a:lnTo>
                    <a:pt x="988" y="88"/>
                  </a:lnTo>
                  <a:lnTo>
                    <a:pt x="962" y="70"/>
                  </a:lnTo>
                  <a:lnTo>
                    <a:pt x="944" y="61"/>
                  </a:lnTo>
                  <a:lnTo>
                    <a:pt x="918" y="52"/>
                  </a:lnTo>
                  <a:lnTo>
                    <a:pt x="891" y="44"/>
                  </a:lnTo>
                  <a:lnTo>
                    <a:pt x="865" y="35"/>
                  </a:lnTo>
                  <a:lnTo>
                    <a:pt x="838" y="26"/>
                  </a:lnTo>
                  <a:lnTo>
                    <a:pt x="812" y="17"/>
                  </a:lnTo>
                  <a:lnTo>
                    <a:pt x="785" y="8"/>
                  </a:lnTo>
                  <a:lnTo>
                    <a:pt x="759" y="8"/>
                  </a:lnTo>
                  <a:lnTo>
                    <a:pt x="733" y="0"/>
                  </a:lnTo>
                  <a:lnTo>
                    <a:pt x="715" y="0"/>
                  </a:lnTo>
                  <a:lnTo>
                    <a:pt x="688" y="0"/>
                  </a:lnTo>
                  <a:lnTo>
                    <a:pt x="662" y="0"/>
                  </a:lnTo>
                  <a:lnTo>
                    <a:pt x="626" y="0"/>
                  </a:lnTo>
                  <a:lnTo>
                    <a:pt x="608" y="0"/>
                  </a:lnTo>
                  <a:lnTo>
                    <a:pt x="582" y="0"/>
                  </a:lnTo>
                  <a:lnTo>
                    <a:pt x="555" y="8"/>
                  </a:lnTo>
                  <a:lnTo>
                    <a:pt x="529" y="8"/>
                  </a:lnTo>
                  <a:lnTo>
                    <a:pt x="502" y="17"/>
                  </a:lnTo>
                  <a:lnTo>
                    <a:pt x="476" y="26"/>
                  </a:lnTo>
                  <a:lnTo>
                    <a:pt x="449" y="35"/>
                  </a:lnTo>
                  <a:lnTo>
                    <a:pt x="423" y="44"/>
                  </a:lnTo>
                  <a:lnTo>
                    <a:pt x="396" y="52"/>
                  </a:lnTo>
                  <a:lnTo>
                    <a:pt x="370" y="61"/>
                  </a:lnTo>
                  <a:lnTo>
                    <a:pt x="352" y="70"/>
                  </a:lnTo>
                  <a:lnTo>
                    <a:pt x="326" y="88"/>
                  </a:lnTo>
                  <a:lnTo>
                    <a:pt x="308" y="97"/>
                  </a:lnTo>
                  <a:lnTo>
                    <a:pt x="282" y="114"/>
                  </a:lnTo>
                  <a:lnTo>
                    <a:pt x="264" y="132"/>
                  </a:lnTo>
                  <a:lnTo>
                    <a:pt x="238" y="149"/>
                  </a:lnTo>
                  <a:lnTo>
                    <a:pt x="220" y="167"/>
                  </a:lnTo>
                  <a:lnTo>
                    <a:pt x="202" y="185"/>
                  </a:lnTo>
                  <a:lnTo>
                    <a:pt x="185" y="202"/>
                  </a:lnTo>
                  <a:lnTo>
                    <a:pt x="167" y="220"/>
                  </a:lnTo>
                  <a:lnTo>
                    <a:pt x="149" y="238"/>
                  </a:lnTo>
                  <a:lnTo>
                    <a:pt x="132" y="264"/>
                  </a:lnTo>
                  <a:lnTo>
                    <a:pt x="114" y="282"/>
                  </a:lnTo>
                  <a:lnTo>
                    <a:pt x="97" y="308"/>
                  </a:lnTo>
                  <a:lnTo>
                    <a:pt x="88" y="326"/>
                  </a:lnTo>
                  <a:lnTo>
                    <a:pt x="70" y="352"/>
                  </a:lnTo>
                  <a:lnTo>
                    <a:pt x="61" y="370"/>
                  </a:lnTo>
                  <a:lnTo>
                    <a:pt x="52" y="396"/>
                  </a:lnTo>
                  <a:lnTo>
                    <a:pt x="44" y="423"/>
                  </a:lnTo>
                  <a:lnTo>
                    <a:pt x="35" y="449"/>
                  </a:lnTo>
                  <a:lnTo>
                    <a:pt x="26" y="476"/>
                  </a:lnTo>
                  <a:lnTo>
                    <a:pt x="17" y="502"/>
                  </a:lnTo>
                  <a:lnTo>
                    <a:pt x="8" y="529"/>
                  </a:lnTo>
                  <a:lnTo>
                    <a:pt x="8" y="555"/>
                  </a:lnTo>
                  <a:lnTo>
                    <a:pt x="0" y="582"/>
                  </a:lnTo>
                  <a:lnTo>
                    <a:pt x="0" y="608"/>
                  </a:lnTo>
                  <a:lnTo>
                    <a:pt x="0" y="635"/>
                  </a:lnTo>
                  <a:lnTo>
                    <a:pt x="0" y="662"/>
                  </a:lnTo>
                  <a:lnTo>
                    <a:pt x="0" y="688"/>
                  </a:lnTo>
                  <a:lnTo>
                    <a:pt x="0" y="715"/>
                  </a:lnTo>
                  <a:lnTo>
                    <a:pt x="0" y="741"/>
                  </a:lnTo>
                  <a:lnTo>
                    <a:pt x="8" y="768"/>
                  </a:lnTo>
                  <a:lnTo>
                    <a:pt x="8" y="785"/>
                  </a:lnTo>
                  <a:lnTo>
                    <a:pt x="17" y="812"/>
                  </a:lnTo>
                  <a:lnTo>
                    <a:pt x="26" y="838"/>
                  </a:lnTo>
                  <a:lnTo>
                    <a:pt x="35" y="865"/>
                  </a:lnTo>
                  <a:lnTo>
                    <a:pt x="44" y="891"/>
                  </a:lnTo>
                  <a:lnTo>
                    <a:pt x="52" y="918"/>
                  </a:lnTo>
                  <a:lnTo>
                    <a:pt x="61" y="944"/>
                  </a:lnTo>
                  <a:lnTo>
                    <a:pt x="70" y="962"/>
                  </a:lnTo>
                  <a:lnTo>
                    <a:pt x="88" y="988"/>
                  </a:lnTo>
                  <a:lnTo>
                    <a:pt x="97" y="1006"/>
                  </a:lnTo>
                  <a:lnTo>
                    <a:pt x="114" y="1032"/>
                  </a:lnTo>
                  <a:lnTo>
                    <a:pt x="132" y="1050"/>
                  </a:lnTo>
                  <a:lnTo>
                    <a:pt x="149" y="1076"/>
                  </a:lnTo>
                  <a:lnTo>
                    <a:pt x="167" y="1094"/>
                  </a:lnTo>
                  <a:lnTo>
                    <a:pt x="185" y="1112"/>
                  </a:lnTo>
                  <a:lnTo>
                    <a:pt x="202" y="1129"/>
                  </a:lnTo>
                  <a:lnTo>
                    <a:pt x="220" y="1156"/>
                  </a:lnTo>
                  <a:lnTo>
                    <a:pt x="238" y="1165"/>
                  </a:lnTo>
                  <a:lnTo>
                    <a:pt x="264" y="1182"/>
                  </a:lnTo>
                  <a:lnTo>
                    <a:pt x="282" y="1200"/>
                  </a:lnTo>
                  <a:lnTo>
                    <a:pt x="308" y="1218"/>
                  </a:lnTo>
                  <a:lnTo>
                    <a:pt x="326" y="1226"/>
                  </a:lnTo>
                  <a:lnTo>
                    <a:pt x="352" y="1244"/>
                  </a:lnTo>
                  <a:lnTo>
                    <a:pt x="370" y="1253"/>
                  </a:lnTo>
                  <a:lnTo>
                    <a:pt x="396" y="1262"/>
                  </a:lnTo>
                  <a:lnTo>
                    <a:pt x="423" y="1271"/>
                  </a:lnTo>
                  <a:lnTo>
                    <a:pt x="449" y="1279"/>
                  </a:lnTo>
                  <a:lnTo>
                    <a:pt x="476" y="1288"/>
                  </a:lnTo>
                  <a:lnTo>
                    <a:pt x="502" y="1297"/>
                  </a:lnTo>
                  <a:lnTo>
                    <a:pt x="529" y="1306"/>
                  </a:lnTo>
                  <a:lnTo>
                    <a:pt x="555" y="1306"/>
                  </a:lnTo>
                  <a:lnTo>
                    <a:pt x="582" y="1315"/>
                  </a:lnTo>
                  <a:lnTo>
                    <a:pt x="608" y="1315"/>
                  </a:lnTo>
                  <a:lnTo>
                    <a:pt x="626" y="1315"/>
                  </a:lnTo>
                  <a:lnTo>
                    <a:pt x="662" y="1315"/>
                  </a:lnTo>
                  <a:lnTo>
                    <a:pt x="688" y="1315"/>
                  </a:lnTo>
                  <a:lnTo>
                    <a:pt x="715" y="1315"/>
                  </a:lnTo>
                  <a:lnTo>
                    <a:pt x="733" y="1315"/>
                  </a:lnTo>
                  <a:lnTo>
                    <a:pt x="759" y="1306"/>
                  </a:lnTo>
                  <a:lnTo>
                    <a:pt x="785" y="1306"/>
                  </a:lnTo>
                  <a:lnTo>
                    <a:pt x="812" y="1297"/>
                  </a:lnTo>
                  <a:lnTo>
                    <a:pt x="838" y="1288"/>
                  </a:lnTo>
                  <a:lnTo>
                    <a:pt x="865" y="1279"/>
                  </a:lnTo>
                  <a:lnTo>
                    <a:pt x="891" y="1271"/>
                  </a:lnTo>
                  <a:lnTo>
                    <a:pt x="918" y="1262"/>
                  </a:lnTo>
                  <a:lnTo>
                    <a:pt x="944" y="1253"/>
                  </a:lnTo>
                  <a:lnTo>
                    <a:pt x="962" y="1244"/>
                  </a:lnTo>
                  <a:lnTo>
                    <a:pt x="988" y="1226"/>
                  </a:lnTo>
                  <a:lnTo>
                    <a:pt x="1006" y="1218"/>
                  </a:lnTo>
                  <a:lnTo>
                    <a:pt x="1032" y="1200"/>
                  </a:lnTo>
                  <a:lnTo>
                    <a:pt x="1050" y="1182"/>
                  </a:lnTo>
                  <a:lnTo>
                    <a:pt x="1076" y="1165"/>
                  </a:lnTo>
                  <a:lnTo>
                    <a:pt x="1094" y="1156"/>
                  </a:lnTo>
                  <a:lnTo>
                    <a:pt x="1112" y="1129"/>
                  </a:lnTo>
                  <a:lnTo>
                    <a:pt x="1129" y="1112"/>
                  </a:lnTo>
                  <a:lnTo>
                    <a:pt x="1147" y="1094"/>
                  </a:lnTo>
                  <a:lnTo>
                    <a:pt x="1165" y="1076"/>
                  </a:lnTo>
                  <a:lnTo>
                    <a:pt x="1182" y="1050"/>
                  </a:lnTo>
                  <a:lnTo>
                    <a:pt x="1200" y="1032"/>
                  </a:lnTo>
                  <a:lnTo>
                    <a:pt x="1218" y="1006"/>
                  </a:lnTo>
                  <a:lnTo>
                    <a:pt x="1226" y="988"/>
                  </a:lnTo>
                  <a:lnTo>
                    <a:pt x="1244" y="962"/>
                  </a:lnTo>
                  <a:lnTo>
                    <a:pt x="1253" y="944"/>
                  </a:lnTo>
                  <a:lnTo>
                    <a:pt x="1262" y="918"/>
                  </a:lnTo>
                  <a:lnTo>
                    <a:pt x="1271" y="891"/>
                  </a:lnTo>
                  <a:lnTo>
                    <a:pt x="1279" y="865"/>
                  </a:lnTo>
                  <a:lnTo>
                    <a:pt x="1288" y="838"/>
                  </a:lnTo>
                  <a:lnTo>
                    <a:pt x="1297" y="812"/>
                  </a:lnTo>
                  <a:lnTo>
                    <a:pt x="1306" y="785"/>
                  </a:lnTo>
                  <a:lnTo>
                    <a:pt x="1306" y="768"/>
                  </a:lnTo>
                  <a:lnTo>
                    <a:pt x="1315" y="741"/>
                  </a:lnTo>
                  <a:lnTo>
                    <a:pt x="1315" y="715"/>
                  </a:lnTo>
                  <a:lnTo>
                    <a:pt x="1315" y="688"/>
                  </a:lnTo>
                  <a:lnTo>
                    <a:pt x="1315" y="662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V="1">
              <a:off x="4322880" y="5535720"/>
              <a:ext cx="91800" cy="1616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4300560" y="5548320"/>
              <a:ext cx="136800" cy="136800"/>
            </a:xfrm>
            <a:custGeom>
              <a:avLst/>
              <a:gdLst/>
              <a:ahLst/>
              <a:rect l="0" t="0" r="r" b="b"/>
              <a:pathLst>
                <a:path fill="none" w="380" h="380">
                  <a:moveTo>
                    <a:pt x="380" y="185"/>
                  </a:moveTo>
                  <a:lnTo>
                    <a:pt x="380" y="176"/>
                  </a:lnTo>
                  <a:lnTo>
                    <a:pt x="380" y="158"/>
                  </a:lnTo>
                  <a:lnTo>
                    <a:pt x="380" y="149"/>
                  </a:lnTo>
                  <a:lnTo>
                    <a:pt x="371" y="132"/>
                  </a:lnTo>
                  <a:lnTo>
                    <a:pt x="371" y="114"/>
                  </a:lnTo>
                  <a:lnTo>
                    <a:pt x="362" y="105"/>
                  </a:lnTo>
                  <a:lnTo>
                    <a:pt x="353" y="97"/>
                  </a:lnTo>
                  <a:lnTo>
                    <a:pt x="344" y="79"/>
                  </a:lnTo>
                  <a:lnTo>
                    <a:pt x="336" y="70"/>
                  </a:lnTo>
                  <a:lnTo>
                    <a:pt x="327" y="61"/>
                  </a:lnTo>
                  <a:lnTo>
                    <a:pt x="318" y="52"/>
                  </a:lnTo>
                  <a:lnTo>
                    <a:pt x="309" y="44"/>
                  </a:lnTo>
                  <a:lnTo>
                    <a:pt x="300" y="35"/>
                  </a:lnTo>
                  <a:lnTo>
                    <a:pt x="283" y="26"/>
                  </a:lnTo>
                  <a:lnTo>
                    <a:pt x="274" y="17"/>
                  </a:lnTo>
                  <a:lnTo>
                    <a:pt x="265" y="8"/>
                  </a:lnTo>
                  <a:lnTo>
                    <a:pt x="247" y="8"/>
                  </a:lnTo>
                  <a:lnTo>
                    <a:pt x="239" y="0"/>
                  </a:lnTo>
                  <a:lnTo>
                    <a:pt x="221" y="0"/>
                  </a:lnTo>
                  <a:lnTo>
                    <a:pt x="203" y="0"/>
                  </a:lnTo>
                  <a:lnTo>
                    <a:pt x="195" y="0"/>
                  </a:lnTo>
                  <a:lnTo>
                    <a:pt x="176" y="0"/>
                  </a:lnTo>
                  <a:lnTo>
                    <a:pt x="167" y="0"/>
                  </a:lnTo>
                  <a:lnTo>
                    <a:pt x="149" y="0"/>
                  </a:lnTo>
                  <a:lnTo>
                    <a:pt x="132" y="8"/>
                  </a:lnTo>
                  <a:lnTo>
                    <a:pt x="123" y="8"/>
                  </a:lnTo>
                  <a:lnTo>
                    <a:pt x="105" y="17"/>
                  </a:lnTo>
                  <a:lnTo>
                    <a:pt x="97" y="26"/>
                  </a:lnTo>
                  <a:lnTo>
                    <a:pt x="88" y="35"/>
                  </a:lnTo>
                  <a:lnTo>
                    <a:pt x="70" y="44"/>
                  </a:lnTo>
                  <a:lnTo>
                    <a:pt x="61" y="52"/>
                  </a:lnTo>
                  <a:lnTo>
                    <a:pt x="52" y="61"/>
                  </a:lnTo>
                  <a:lnTo>
                    <a:pt x="44" y="70"/>
                  </a:lnTo>
                  <a:lnTo>
                    <a:pt x="35" y="79"/>
                  </a:lnTo>
                  <a:lnTo>
                    <a:pt x="26" y="97"/>
                  </a:lnTo>
                  <a:lnTo>
                    <a:pt x="17" y="105"/>
                  </a:lnTo>
                  <a:lnTo>
                    <a:pt x="17" y="114"/>
                  </a:lnTo>
                  <a:lnTo>
                    <a:pt x="8" y="132"/>
                  </a:lnTo>
                  <a:lnTo>
                    <a:pt x="8" y="149"/>
                  </a:lnTo>
                  <a:lnTo>
                    <a:pt x="8" y="158"/>
                  </a:lnTo>
                  <a:lnTo>
                    <a:pt x="0" y="176"/>
                  </a:lnTo>
                  <a:lnTo>
                    <a:pt x="0" y="185"/>
                  </a:lnTo>
                  <a:lnTo>
                    <a:pt x="0" y="203"/>
                  </a:lnTo>
                  <a:lnTo>
                    <a:pt x="8" y="221"/>
                  </a:lnTo>
                  <a:lnTo>
                    <a:pt x="8" y="230"/>
                  </a:lnTo>
                  <a:lnTo>
                    <a:pt x="8" y="247"/>
                  </a:lnTo>
                  <a:lnTo>
                    <a:pt x="17" y="256"/>
                  </a:lnTo>
                  <a:lnTo>
                    <a:pt x="17" y="274"/>
                  </a:lnTo>
                  <a:lnTo>
                    <a:pt x="26" y="283"/>
                  </a:lnTo>
                  <a:lnTo>
                    <a:pt x="35" y="292"/>
                  </a:lnTo>
                  <a:lnTo>
                    <a:pt x="44" y="309"/>
                  </a:lnTo>
                  <a:lnTo>
                    <a:pt x="52" y="318"/>
                  </a:lnTo>
                  <a:lnTo>
                    <a:pt x="61" y="327"/>
                  </a:lnTo>
                  <a:lnTo>
                    <a:pt x="70" y="336"/>
                  </a:lnTo>
                  <a:lnTo>
                    <a:pt x="88" y="344"/>
                  </a:lnTo>
                  <a:lnTo>
                    <a:pt x="97" y="353"/>
                  </a:lnTo>
                  <a:lnTo>
                    <a:pt x="105" y="362"/>
                  </a:lnTo>
                  <a:lnTo>
                    <a:pt x="123" y="362"/>
                  </a:lnTo>
                  <a:lnTo>
                    <a:pt x="132" y="371"/>
                  </a:lnTo>
                  <a:lnTo>
                    <a:pt x="149" y="371"/>
                  </a:lnTo>
                  <a:lnTo>
                    <a:pt x="167" y="371"/>
                  </a:lnTo>
                  <a:lnTo>
                    <a:pt x="176" y="380"/>
                  </a:lnTo>
                  <a:lnTo>
                    <a:pt x="195" y="380"/>
                  </a:lnTo>
                  <a:lnTo>
                    <a:pt x="203" y="380"/>
                  </a:lnTo>
                  <a:lnTo>
                    <a:pt x="221" y="371"/>
                  </a:lnTo>
                  <a:lnTo>
                    <a:pt x="239" y="371"/>
                  </a:lnTo>
                  <a:lnTo>
                    <a:pt x="247" y="371"/>
                  </a:lnTo>
                  <a:lnTo>
                    <a:pt x="265" y="362"/>
                  </a:lnTo>
                  <a:lnTo>
                    <a:pt x="274" y="362"/>
                  </a:lnTo>
                  <a:lnTo>
                    <a:pt x="283" y="353"/>
                  </a:lnTo>
                  <a:lnTo>
                    <a:pt x="300" y="344"/>
                  </a:lnTo>
                  <a:lnTo>
                    <a:pt x="309" y="336"/>
                  </a:lnTo>
                  <a:lnTo>
                    <a:pt x="318" y="327"/>
                  </a:lnTo>
                  <a:lnTo>
                    <a:pt x="327" y="318"/>
                  </a:lnTo>
                  <a:lnTo>
                    <a:pt x="336" y="309"/>
                  </a:lnTo>
                  <a:lnTo>
                    <a:pt x="344" y="292"/>
                  </a:lnTo>
                  <a:lnTo>
                    <a:pt x="353" y="283"/>
                  </a:lnTo>
                  <a:lnTo>
                    <a:pt x="362" y="274"/>
                  </a:lnTo>
                  <a:lnTo>
                    <a:pt x="371" y="256"/>
                  </a:lnTo>
                  <a:lnTo>
                    <a:pt x="371" y="247"/>
                  </a:lnTo>
                  <a:lnTo>
                    <a:pt x="380" y="230"/>
                  </a:lnTo>
                  <a:lnTo>
                    <a:pt x="380" y="221"/>
                  </a:lnTo>
                  <a:lnTo>
                    <a:pt x="380" y="203"/>
                  </a:lnTo>
                  <a:lnTo>
                    <a:pt x="380" y="185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5529240" y="1893960"/>
              <a:ext cx="51120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748040" y="3516480"/>
              <a:ext cx="129240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954760" y="2068560"/>
              <a:ext cx="0" cy="4698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 flipV="1">
              <a:off x="5954760" y="2874960"/>
              <a:ext cx="0" cy="4665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925960" y="1893960"/>
              <a:ext cx="57600" cy="174960"/>
            </a:xfrm>
            <a:custGeom>
              <a:avLst/>
              <a:gdLst/>
              <a:ahLst/>
              <a:rect l="0" t="0" r="r" b="b"/>
              <a:pathLst>
                <a:path w="160" h="486">
                  <a:moveTo>
                    <a:pt x="0" y="486"/>
                  </a:moveTo>
                  <a:lnTo>
                    <a:pt x="160" y="486"/>
                  </a:lnTo>
                  <a:lnTo>
                    <a:pt x="80" y="0"/>
                  </a:lnTo>
                  <a:lnTo>
                    <a:pt x="0" y="48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925960" y="3341520"/>
              <a:ext cx="57600" cy="174960"/>
            </a:xfrm>
            <a:custGeom>
              <a:avLst/>
              <a:gdLst/>
              <a:ahLst/>
              <a:rect l="0" t="0" r="r" b="b"/>
              <a:pathLst>
                <a:path w="160" h="486">
                  <a:moveTo>
                    <a:pt x="0" y="0"/>
                  </a:moveTo>
                  <a:lnTo>
                    <a:pt x="160" y="0"/>
                  </a:lnTo>
                  <a:lnTo>
                    <a:pt x="80" y="4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707080" y="2538360"/>
              <a:ext cx="492480" cy="336960"/>
            </a:xfrm>
            <a:custGeom>
              <a:avLst/>
              <a:gdLst/>
              <a:ahLst/>
              <a:rect l="0" t="0" r="r" b="b"/>
              <a:pathLst>
                <a:path fill="none" w="1368" h="936">
                  <a:moveTo>
                    <a:pt x="0" y="936"/>
                  </a:moveTo>
                  <a:lnTo>
                    <a:pt x="1368" y="936"/>
                  </a:lnTo>
                  <a:lnTo>
                    <a:pt x="1368" y="0"/>
                  </a:lnTo>
                  <a:lnTo>
                    <a:pt x="0" y="0"/>
                  </a:lnTo>
                  <a:lnTo>
                    <a:pt x="0" y="936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4888080" y="3713040"/>
              <a:ext cx="698400" cy="5684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671920" y="2500200"/>
              <a:ext cx="377640" cy="3780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2638440" y="2597040"/>
              <a:ext cx="317520" cy="3175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639880" y="2739960"/>
              <a:ext cx="162000" cy="1620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728800" y="2430360"/>
              <a:ext cx="390600" cy="3873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801880" y="2384280"/>
              <a:ext cx="355680" cy="3556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925720" y="2367000"/>
              <a:ext cx="257040" cy="2570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 flipV="1">
              <a:off x="4662360" y="1360440"/>
              <a:ext cx="0" cy="20671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3081240" y="1446120"/>
              <a:ext cx="45720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 flipH="1">
              <a:off x="4030560" y="1446120"/>
              <a:ext cx="45720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906640" y="1417680"/>
              <a:ext cx="174960" cy="57600"/>
            </a:xfrm>
            <a:custGeom>
              <a:avLst/>
              <a:gdLst/>
              <a:ahLst/>
              <a:rect l="0" t="0" r="r" b="b"/>
              <a:pathLst>
                <a:path w="486" h="160">
                  <a:moveTo>
                    <a:pt x="486" y="0"/>
                  </a:moveTo>
                  <a:lnTo>
                    <a:pt x="486" y="160"/>
                  </a:lnTo>
                  <a:lnTo>
                    <a:pt x="0" y="8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4487760" y="1417680"/>
              <a:ext cx="174960" cy="57600"/>
            </a:xfrm>
            <a:custGeom>
              <a:avLst/>
              <a:gdLst/>
              <a:ahLst/>
              <a:rect l="0" t="0" r="r" b="b"/>
              <a:pathLst>
                <a:path w="486" h="160">
                  <a:moveTo>
                    <a:pt x="0" y="0"/>
                  </a:moveTo>
                  <a:lnTo>
                    <a:pt x="0" y="160"/>
                  </a:lnTo>
                  <a:lnTo>
                    <a:pt x="486" y="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3538440" y="1278000"/>
              <a:ext cx="492480" cy="336960"/>
            </a:xfrm>
            <a:custGeom>
              <a:avLst/>
              <a:gdLst/>
              <a:ahLst/>
              <a:rect l="0" t="0" r="r" b="b"/>
              <a:pathLst>
                <a:path fill="none" w="1368" h="936">
                  <a:moveTo>
                    <a:pt x="0" y="936"/>
                  </a:moveTo>
                  <a:lnTo>
                    <a:pt x="1368" y="936"/>
                  </a:lnTo>
                  <a:lnTo>
                    <a:pt x="1368" y="0"/>
                  </a:lnTo>
                  <a:lnTo>
                    <a:pt x="0" y="0"/>
                  </a:lnTo>
                  <a:lnTo>
                    <a:pt x="0" y="936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119400" y="2482920"/>
              <a:ext cx="54360" cy="162360"/>
            </a:xfrm>
            <a:custGeom>
              <a:avLst/>
              <a:gdLst/>
              <a:ahLst/>
              <a:rect l="0" t="0" r="r" b="b"/>
              <a:pathLst>
                <a:path fill="none" w="151" h="451">
                  <a:moveTo>
                    <a:pt x="151" y="451"/>
                  </a:moveTo>
                  <a:lnTo>
                    <a:pt x="151" y="425"/>
                  </a:lnTo>
                  <a:lnTo>
                    <a:pt x="151" y="390"/>
                  </a:lnTo>
                  <a:lnTo>
                    <a:pt x="143" y="363"/>
                  </a:lnTo>
                  <a:lnTo>
                    <a:pt x="143" y="336"/>
                  </a:lnTo>
                  <a:lnTo>
                    <a:pt x="134" y="309"/>
                  </a:lnTo>
                  <a:lnTo>
                    <a:pt x="134" y="274"/>
                  </a:lnTo>
                  <a:lnTo>
                    <a:pt x="125" y="247"/>
                  </a:lnTo>
                  <a:lnTo>
                    <a:pt x="116" y="221"/>
                  </a:lnTo>
                  <a:lnTo>
                    <a:pt x="106" y="195"/>
                  </a:lnTo>
                  <a:lnTo>
                    <a:pt x="98" y="168"/>
                  </a:lnTo>
                  <a:lnTo>
                    <a:pt x="89" y="142"/>
                  </a:lnTo>
                  <a:lnTo>
                    <a:pt x="71" y="115"/>
                  </a:lnTo>
                  <a:lnTo>
                    <a:pt x="62" y="88"/>
                  </a:lnTo>
                  <a:lnTo>
                    <a:pt x="45" y="61"/>
                  </a:lnTo>
                  <a:lnTo>
                    <a:pt x="35" y="44"/>
                  </a:lnTo>
                  <a:lnTo>
                    <a:pt x="17" y="1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2432160"/>
              <a:ext cx="25920" cy="22680"/>
            </a:xfrm>
            <a:custGeom>
              <a:avLst/>
              <a:gdLst/>
              <a:ahLst/>
              <a:rect l="0" t="0" r="r" b="b"/>
              <a:pathLst>
                <a:path fill="none" w="72" h="63">
                  <a:moveTo>
                    <a:pt x="72" y="63"/>
                  </a:moveTo>
                  <a:lnTo>
                    <a:pt x="53" y="45"/>
                  </a:lnTo>
                  <a:lnTo>
                    <a:pt x="36" y="27"/>
                  </a:lnTo>
                  <a:lnTo>
                    <a:pt x="17" y="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14640" y="2394000"/>
              <a:ext cx="32040" cy="19440"/>
            </a:xfrm>
            <a:custGeom>
              <a:avLst/>
              <a:gdLst/>
              <a:ahLst/>
              <a:rect l="0" t="0" r="r" b="b"/>
              <a:pathLst>
                <a:path fill="none" w="89" h="54">
                  <a:moveTo>
                    <a:pt x="89" y="54"/>
                  </a:moveTo>
                  <a:lnTo>
                    <a:pt x="80" y="46"/>
                  </a:lnTo>
                  <a:lnTo>
                    <a:pt x="53" y="36"/>
                  </a:lnTo>
                  <a:lnTo>
                    <a:pt x="35" y="18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811600" y="2368440"/>
              <a:ext cx="171720" cy="12960"/>
            </a:xfrm>
            <a:custGeom>
              <a:avLst/>
              <a:gdLst/>
              <a:ahLst/>
              <a:rect l="0" t="0" r="r" b="b"/>
              <a:pathLst>
                <a:path fill="none" w="477" h="36">
                  <a:moveTo>
                    <a:pt x="477" y="36"/>
                  </a:moveTo>
                  <a:lnTo>
                    <a:pt x="468" y="36"/>
                  </a:lnTo>
                  <a:lnTo>
                    <a:pt x="441" y="27"/>
                  </a:lnTo>
                  <a:lnTo>
                    <a:pt x="406" y="17"/>
                  </a:lnTo>
                  <a:lnTo>
                    <a:pt x="380" y="17"/>
                  </a:lnTo>
                  <a:lnTo>
                    <a:pt x="353" y="8"/>
                  </a:lnTo>
                  <a:lnTo>
                    <a:pt x="327" y="8"/>
                  </a:lnTo>
                  <a:lnTo>
                    <a:pt x="300" y="0"/>
                  </a:lnTo>
                  <a:lnTo>
                    <a:pt x="265" y="0"/>
                  </a:lnTo>
                  <a:lnTo>
                    <a:pt x="239" y="0"/>
                  </a:lnTo>
                  <a:lnTo>
                    <a:pt x="211" y="0"/>
                  </a:lnTo>
                  <a:lnTo>
                    <a:pt x="185" y="0"/>
                  </a:lnTo>
                  <a:lnTo>
                    <a:pt x="149" y="8"/>
                  </a:lnTo>
                  <a:lnTo>
                    <a:pt x="123" y="8"/>
                  </a:lnTo>
                  <a:lnTo>
                    <a:pt x="97" y="17"/>
                  </a:lnTo>
                  <a:lnTo>
                    <a:pt x="70" y="17"/>
                  </a:lnTo>
                  <a:lnTo>
                    <a:pt x="44" y="27"/>
                  </a:lnTo>
                  <a:lnTo>
                    <a:pt x="17" y="36"/>
                  </a:lnTo>
                  <a:lnTo>
                    <a:pt x="0" y="36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751120" y="2394000"/>
              <a:ext cx="28800" cy="19440"/>
            </a:xfrm>
            <a:custGeom>
              <a:avLst/>
              <a:gdLst/>
              <a:ahLst/>
              <a:rect l="0" t="0" r="r" b="b"/>
              <a:pathLst>
                <a:path fill="none" w="80" h="54">
                  <a:moveTo>
                    <a:pt x="80" y="0"/>
                  </a:moveTo>
                  <a:lnTo>
                    <a:pt x="71" y="8"/>
                  </a:lnTo>
                  <a:lnTo>
                    <a:pt x="53" y="18"/>
                  </a:lnTo>
                  <a:lnTo>
                    <a:pt x="26" y="36"/>
                  </a:lnTo>
                  <a:lnTo>
                    <a:pt x="0" y="46"/>
                  </a:lnTo>
                  <a:lnTo>
                    <a:pt x="0" y="54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697120" y="2432160"/>
              <a:ext cx="25920" cy="22680"/>
            </a:xfrm>
            <a:custGeom>
              <a:avLst/>
              <a:gdLst/>
              <a:ahLst/>
              <a:rect l="0" t="0" r="r" b="b"/>
              <a:pathLst>
                <a:path fill="none" w="72" h="63">
                  <a:moveTo>
                    <a:pt x="72" y="0"/>
                  </a:moveTo>
                  <a:lnTo>
                    <a:pt x="63" y="8"/>
                  </a:lnTo>
                  <a:lnTo>
                    <a:pt x="36" y="27"/>
                  </a:lnTo>
                  <a:lnTo>
                    <a:pt x="17" y="45"/>
                  </a:lnTo>
                  <a:lnTo>
                    <a:pt x="0" y="63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2620800" y="2482920"/>
              <a:ext cx="54360" cy="162360"/>
            </a:xfrm>
            <a:custGeom>
              <a:avLst/>
              <a:gdLst/>
              <a:ahLst/>
              <a:rect l="0" t="0" r="r" b="b"/>
              <a:pathLst>
                <a:path fill="none" w="151" h="451">
                  <a:moveTo>
                    <a:pt x="151" y="0"/>
                  </a:moveTo>
                  <a:lnTo>
                    <a:pt x="134" y="17"/>
                  </a:lnTo>
                  <a:lnTo>
                    <a:pt x="125" y="44"/>
                  </a:lnTo>
                  <a:lnTo>
                    <a:pt x="106" y="61"/>
                  </a:lnTo>
                  <a:lnTo>
                    <a:pt x="89" y="88"/>
                  </a:lnTo>
                  <a:lnTo>
                    <a:pt x="80" y="115"/>
                  </a:lnTo>
                  <a:lnTo>
                    <a:pt x="71" y="142"/>
                  </a:lnTo>
                  <a:lnTo>
                    <a:pt x="53" y="168"/>
                  </a:lnTo>
                  <a:lnTo>
                    <a:pt x="45" y="195"/>
                  </a:lnTo>
                  <a:lnTo>
                    <a:pt x="35" y="221"/>
                  </a:lnTo>
                  <a:lnTo>
                    <a:pt x="26" y="247"/>
                  </a:lnTo>
                  <a:lnTo>
                    <a:pt x="26" y="274"/>
                  </a:lnTo>
                  <a:lnTo>
                    <a:pt x="17" y="309"/>
                  </a:lnTo>
                  <a:lnTo>
                    <a:pt x="8" y="336"/>
                  </a:lnTo>
                  <a:lnTo>
                    <a:pt x="8" y="363"/>
                  </a:lnTo>
                  <a:lnTo>
                    <a:pt x="8" y="390"/>
                  </a:lnTo>
                  <a:lnTo>
                    <a:pt x="0" y="425"/>
                  </a:lnTo>
                  <a:lnTo>
                    <a:pt x="0" y="451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2624040" y="2679840"/>
              <a:ext cx="6840" cy="32040"/>
            </a:xfrm>
            <a:custGeom>
              <a:avLst/>
              <a:gdLst/>
              <a:ahLst/>
              <a:rect l="0" t="0" r="r" b="b"/>
              <a:pathLst>
                <a:path fill="none" w="19" h="89">
                  <a:moveTo>
                    <a:pt x="0" y="0"/>
                  </a:moveTo>
                  <a:lnTo>
                    <a:pt x="0" y="17"/>
                  </a:lnTo>
                  <a:lnTo>
                    <a:pt x="9" y="45"/>
                  </a:lnTo>
                  <a:lnTo>
                    <a:pt x="19" y="71"/>
                  </a:lnTo>
                  <a:lnTo>
                    <a:pt x="19" y="89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2643120" y="2746440"/>
              <a:ext cx="12960" cy="32040"/>
            </a:xfrm>
            <a:custGeom>
              <a:avLst/>
              <a:gdLst/>
              <a:ahLst/>
              <a:rect l="0" t="0" r="r" b="b"/>
              <a:pathLst>
                <a:path fill="none" w="36" h="89">
                  <a:moveTo>
                    <a:pt x="0" y="0"/>
                  </a:moveTo>
                  <a:lnTo>
                    <a:pt x="8" y="17"/>
                  </a:lnTo>
                  <a:lnTo>
                    <a:pt x="17" y="45"/>
                  </a:lnTo>
                  <a:lnTo>
                    <a:pt x="27" y="71"/>
                  </a:lnTo>
                  <a:lnTo>
                    <a:pt x="36" y="89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2674800" y="2806560"/>
              <a:ext cx="136800" cy="98640"/>
            </a:xfrm>
            <a:custGeom>
              <a:avLst/>
              <a:gdLst/>
              <a:ahLst/>
              <a:rect l="0" t="0" r="r" b="b"/>
              <a:pathLst>
                <a:path fill="none" w="380" h="274">
                  <a:moveTo>
                    <a:pt x="0" y="0"/>
                  </a:moveTo>
                  <a:lnTo>
                    <a:pt x="0" y="0"/>
                  </a:lnTo>
                  <a:lnTo>
                    <a:pt x="17" y="26"/>
                  </a:lnTo>
                  <a:lnTo>
                    <a:pt x="35" y="44"/>
                  </a:lnTo>
                  <a:lnTo>
                    <a:pt x="61" y="70"/>
                  </a:lnTo>
                  <a:lnTo>
                    <a:pt x="79" y="88"/>
                  </a:lnTo>
                  <a:lnTo>
                    <a:pt x="97" y="105"/>
                  </a:lnTo>
                  <a:lnTo>
                    <a:pt x="123" y="123"/>
                  </a:lnTo>
                  <a:lnTo>
                    <a:pt x="141" y="150"/>
                  </a:lnTo>
                  <a:lnTo>
                    <a:pt x="167" y="159"/>
                  </a:lnTo>
                  <a:lnTo>
                    <a:pt x="185" y="177"/>
                  </a:lnTo>
                  <a:lnTo>
                    <a:pt x="212" y="195"/>
                  </a:lnTo>
                  <a:lnTo>
                    <a:pt x="239" y="212"/>
                  </a:lnTo>
                  <a:lnTo>
                    <a:pt x="265" y="221"/>
                  </a:lnTo>
                  <a:lnTo>
                    <a:pt x="283" y="239"/>
                  </a:lnTo>
                  <a:lnTo>
                    <a:pt x="309" y="247"/>
                  </a:lnTo>
                  <a:lnTo>
                    <a:pt x="336" y="256"/>
                  </a:lnTo>
                  <a:lnTo>
                    <a:pt x="371" y="274"/>
                  </a:lnTo>
                  <a:lnTo>
                    <a:pt x="380" y="274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2846520" y="2914560"/>
              <a:ext cx="35280" cy="3600"/>
            </a:xfrm>
            <a:custGeom>
              <a:avLst/>
              <a:gdLst/>
              <a:ahLst/>
              <a:rect l="0" t="0" r="r" b="b"/>
              <a:pathLst>
                <a:path fill="none" w="98" h="10">
                  <a:moveTo>
                    <a:pt x="0" y="0"/>
                  </a:moveTo>
                  <a:lnTo>
                    <a:pt x="0" y="0"/>
                  </a:lnTo>
                  <a:lnTo>
                    <a:pt x="26" y="10"/>
                  </a:lnTo>
                  <a:lnTo>
                    <a:pt x="53" y="10"/>
                  </a:lnTo>
                  <a:lnTo>
                    <a:pt x="89" y="10"/>
                  </a:lnTo>
                  <a:lnTo>
                    <a:pt x="98" y="1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2916360" y="2914560"/>
              <a:ext cx="32040" cy="3600"/>
            </a:xfrm>
            <a:custGeom>
              <a:avLst/>
              <a:gdLst/>
              <a:ahLst/>
              <a:rect l="0" t="0" r="r" b="b"/>
              <a:pathLst>
                <a:path fill="none" w="89" h="10">
                  <a:moveTo>
                    <a:pt x="0" y="10"/>
                  </a:moveTo>
                  <a:lnTo>
                    <a:pt x="8" y="10"/>
                  </a:lnTo>
                  <a:lnTo>
                    <a:pt x="35" y="10"/>
                  </a:lnTo>
                  <a:lnTo>
                    <a:pt x="62" y="10"/>
                  </a:lnTo>
                  <a:lnTo>
                    <a:pt x="89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982960" y="2806560"/>
              <a:ext cx="136800" cy="98640"/>
            </a:xfrm>
            <a:custGeom>
              <a:avLst/>
              <a:gdLst/>
              <a:ahLst/>
              <a:rect l="0" t="0" r="r" b="b"/>
              <a:pathLst>
                <a:path fill="none" w="380" h="274">
                  <a:moveTo>
                    <a:pt x="0" y="274"/>
                  </a:moveTo>
                  <a:lnTo>
                    <a:pt x="17" y="274"/>
                  </a:lnTo>
                  <a:lnTo>
                    <a:pt x="44" y="256"/>
                  </a:lnTo>
                  <a:lnTo>
                    <a:pt x="70" y="247"/>
                  </a:lnTo>
                  <a:lnTo>
                    <a:pt x="97" y="239"/>
                  </a:lnTo>
                  <a:lnTo>
                    <a:pt x="123" y="221"/>
                  </a:lnTo>
                  <a:lnTo>
                    <a:pt x="141" y="212"/>
                  </a:lnTo>
                  <a:lnTo>
                    <a:pt x="167" y="195"/>
                  </a:lnTo>
                  <a:lnTo>
                    <a:pt x="195" y="177"/>
                  </a:lnTo>
                  <a:lnTo>
                    <a:pt x="221" y="159"/>
                  </a:lnTo>
                  <a:lnTo>
                    <a:pt x="239" y="150"/>
                  </a:lnTo>
                  <a:lnTo>
                    <a:pt x="265" y="123"/>
                  </a:lnTo>
                  <a:lnTo>
                    <a:pt x="283" y="105"/>
                  </a:lnTo>
                  <a:lnTo>
                    <a:pt x="300" y="88"/>
                  </a:lnTo>
                  <a:lnTo>
                    <a:pt x="327" y="70"/>
                  </a:lnTo>
                  <a:lnTo>
                    <a:pt x="344" y="44"/>
                  </a:lnTo>
                  <a:lnTo>
                    <a:pt x="362" y="26"/>
                  </a:lnTo>
                  <a:lnTo>
                    <a:pt x="380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138480" y="274644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0" y="89"/>
                  </a:moveTo>
                  <a:lnTo>
                    <a:pt x="8" y="71"/>
                  </a:lnTo>
                  <a:lnTo>
                    <a:pt x="17" y="45"/>
                  </a:lnTo>
                  <a:lnTo>
                    <a:pt x="36" y="17"/>
                  </a:lnTo>
                  <a:lnTo>
                    <a:pt x="45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3164040" y="2679840"/>
              <a:ext cx="6840" cy="32040"/>
            </a:xfrm>
            <a:custGeom>
              <a:avLst/>
              <a:gdLst/>
              <a:ahLst/>
              <a:rect l="0" t="0" r="r" b="b"/>
              <a:pathLst>
                <a:path fill="none" w="19" h="89">
                  <a:moveTo>
                    <a:pt x="0" y="89"/>
                  </a:moveTo>
                  <a:lnTo>
                    <a:pt x="9" y="71"/>
                  </a:lnTo>
                  <a:lnTo>
                    <a:pt x="9" y="45"/>
                  </a:lnTo>
                  <a:lnTo>
                    <a:pt x="19" y="17"/>
                  </a:lnTo>
                  <a:lnTo>
                    <a:pt x="19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906640" y="2836800"/>
              <a:ext cx="0" cy="11779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3103560" y="4389480"/>
              <a:ext cx="1778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V="1">
              <a:off x="2906640" y="4014720"/>
              <a:ext cx="0" cy="1778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 flipH="1">
              <a:off x="2535120" y="4389480"/>
              <a:ext cx="1778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 flipV="1">
              <a:off x="2906640" y="4290840"/>
              <a:ext cx="0" cy="1969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808360" y="4389480"/>
              <a:ext cx="19692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4884840" y="3354480"/>
              <a:ext cx="54360" cy="162360"/>
            </a:xfrm>
            <a:custGeom>
              <a:avLst/>
              <a:gdLst/>
              <a:ahLst/>
              <a:rect l="0" t="0" r="r" b="b"/>
              <a:pathLst>
                <a:path fill="none" w="151" h="451">
                  <a:moveTo>
                    <a:pt x="151" y="451"/>
                  </a:moveTo>
                  <a:lnTo>
                    <a:pt x="143" y="425"/>
                  </a:lnTo>
                  <a:lnTo>
                    <a:pt x="143" y="390"/>
                  </a:lnTo>
                  <a:lnTo>
                    <a:pt x="143" y="363"/>
                  </a:lnTo>
                  <a:lnTo>
                    <a:pt x="143" y="336"/>
                  </a:lnTo>
                  <a:lnTo>
                    <a:pt x="134" y="309"/>
                  </a:lnTo>
                  <a:lnTo>
                    <a:pt x="125" y="283"/>
                  </a:lnTo>
                  <a:lnTo>
                    <a:pt x="125" y="247"/>
                  </a:lnTo>
                  <a:lnTo>
                    <a:pt x="116" y="221"/>
                  </a:lnTo>
                  <a:lnTo>
                    <a:pt x="106" y="195"/>
                  </a:lnTo>
                  <a:lnTo>
                    <a:pt x="89" y="168"/>
                  </a:lnTo>
                  <a:lnTo>
                    <a:pt x="80" y="142"/>
                  </a:lnTo>
                  <a:lnTo>
                    <a:pt x="71" y="115"/>
                  </a:lnTo>
                  <a:lnTo>
                    <a:pt x="53" y="88"/>
                  </a:lnTo>
                  <a:lnTo>
                    <a:pt x="45" y="61"/>
                  </a:lnTo>
                  <a:lnTo>
                    <a:pt x="26" y="44"/>
                  </a:lnTo>
                  <a:lnTo>
                    <a:pt x="8" y="17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4836960" y="3303720"/>
              <a:ext cx="25920" cy="22680"/>
            </a:xfrm>
            <a:custGeom>
              <a:avLst/>
              <a:gdLst/>
              <a:ahLst/>
              <a:rect l="0" t="0" r="r" b="b"/>
              <a:pathLst>
                <a:path fill="none" w="72" h="63">
                  <a:moveTo>
                    <a:pt x="72" y="63"/>
                  </a:moveTo>
                  <a:lnTo>
                    <a:pt x="53" y="54"/>
                  </a:lnTo>
                  <a:lnTo>
                    <a:pt x="36" y="27"/>
                  </a:lnTo>
                  <a:lnTo>
                    <a:pt x="8" y="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4780080" y="3265560"/>
              <a:ext cx="28800" cy="19440"/>
            </a:xfrm>
            <a:custGeom>
              <a:avLst/>
              <a:gdLst/>
              <a:ahLst/>
              <a:rect l="0" t="0" r="r" b="b"/>
              <a:pathLst>
                <a:path fill="none" w="80" h="54">
                  <a:moveTo>
                    <a:pt x="80" y="54"/>
                  </a:moveTo>
                  <a:lnTo>
                    <a:pt x="80" y="46"/>
                  </a:lnTo>
                  <a:lnTo>
                    <a:pt x="53" y="36"/>
                  </a:lnTo>
                  <a:lnTo>
                    <a:pt x="26" y="1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4576680" y="3240000"/>
              <a:ext cx="171720" cy="12960"/>
            </a:xfrm>
            <a:custGeom>
              <a:avLst/>
              <a:gdLst/>
              <a:ahLst/>
              <a:rect l="0" t="0" r="r" b="b"/>
              <a:pathLst>
                <a:path fill="none" w="477" h="36">
                  <a:moveTo>
                    <a:pt x="477" y="36"/>
                  </a:moveTo>
                  <a:lnTo>
                    <a:pt x="459" y="36"/>
                  </a:lnTo>
                  <a:lnTo>
                    <a:pt x="433" y="27"/>
                  </a:lnTo>
                  <a:lnTo>
                    <a:pt x="406" y="17"/>
                  </a:lnTo>
                  <a:lnTo>
                    <a:pt x="380" y="17"/>
                  </a:lnTo>
                  <a:lnTo>
                    <a:pt x="353" y="8"/>
                  </a:lnTo>
                  <a:lnTo>
                    <a:pt x="318" y="8"/>
                  </a:lnTo>
                  <a:lnTo>
                    <a:pt x="292" y="0"/>
                  </a:lnTo>
                  <a:lnTo>
                    <a:pt x="265" y="0"/>
                  </a:lnTo>
                  <a:lnTo>
                    <a:pt x="239" y="0"/>
                  </a:lnTo>
                  <a:lnTo>
                    <a:pt x="211" y="0"/>
                  </a:lnTo>
                  <a:lnTo>
                    <a:pt x="176" y="0"/>
                  </a:lnTo>
                  <a:lnTo>
                    <a:pt x="149" y="8"/>
                  </a:lnTo>
                  <a:lnTo>
                    <a:pt x="123" y="8"/>
                  </a:lnTo>
                  <a:lnTo>
                    <a:pt x="97" y="17"/>
                  </a:lnTo>
                  <a:lnTo>
                    <a:pt x="70" y="17"/>
                  </a:lnTo>
                  <a:lnTo>
                    <a:pt x="35" y="27"/>
                  </a:lnTo>
                  <a:lnTo>
                    <a:pt x="8" y="36"/>
                  </a:lnTo>
                  <a:lnTo>
                    <a:pt x="0" y="36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4513320" y="3265560"/>
              <a:ext cx="32040" cy="19440"/>
            </a:xfrm>
            <a:custGeom>
              <a:avLst/>
              <a:gdLst/>
              <a:ahLst/>
              <a:rect l="0" t="0" r="r" b="b"/>
              <a:pathLst>
                <a:path fill="none" w="89" h="54">
                  <a:moveTo>
                    <a:pt x="89" y="0"/>
                  </a:moveTo>
                  <a:lnTo>
                    <a:pt x="80" y="8"/>
                  </a:lnTo>
                  <a:lnTo>
                    <a:pt x="53" y="18"/>
                  </a:lnTo>
                  <a:lnTo>
                    <a:pt x="26" y="36"/>
                  </a:lnTo>
                  <a:lnTo>
                    <a:pt x="8" y="46"/>
                  </a:lnTo>
                  <a:lnTo>
                    <a:pt x="0" y="54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4462560" y="3303720"/>
              <a:ext cx="25920" cy="22680"/>
            </a:xfrm>
            <a:custGeom>
              <a:avLst/>
              <a:gdLst/>
              <a:ahLst/>
              <a:rect l="0" t="0" r="r" b="b"/>
              <a:pathLst>
                <a:path fill="none" w="72" h="63">
                  <a:moveTo>
                    <a:pt x="72" y="0"/>
                  </a:moveTo>
                  <a:lnTo>
                    <a:pt x="53" y="8"/>
                  </a:lnTo>
                  <a:lnTo>
                    <a:pt x="36" y="27"/>
                  </a:lnTo>
                  <a:lnTo>
                    <a:pt x="8" y="54"/>
                  </a:lnTo>
                  <a:lnTo>
                    <a:pt x="0" y="63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4386240" y="3354480"/>
              <a:ext cx="54360" cy="162360"/>
            </a:xfrm>
            <a:custGeom>
              <a:avLst/>
              <a:gdLst/>
              <a:ahLst/>
              <a:rect l="0" t="0" r="r" b="b"/>
              <a:pathLst>
                <a:path fill="none" w="151" h="451">
                  <a:moveTo>
                    <a:pt x="151" y="0"/>
                  </a:moveTo>
                  <a:lnTo>
                    <a:pt x="134" y="17"/>
                  </a:lnTo>
                  <a:lnTo>
                    <a:pt x="116" y="44"/>
                  </a:lnTo>
                  <a:lnTo>
                    <a:pt x="106" y="61"/>
                  </a:lnTo>
                  <a:lnTo>
                    <a:pt x="89" y="88"/>
                  </a:lnTo>
                  <a:lnTo>
                    <a:pt x="80" y="115"/>
                  </a:lnTo>
                  <a:lnTo>
                    <a:pt x="62" y="142"/>
                  </a:lnTo>
                  <a:lnTo>
                    <a:pt x="53" y="168"/>
                  </a:lnTo>
                  <a:lnTo>
                    <a:pt x="45" y="195"/>
                  </a:lnTo>
                  <a:lnTo>
                    <a:pt x="35" y="221"/>
                  </a:lnTo>
                  <a:lnTo>
                    <a:pt x="26" y="247"/>
                  </a:lnTo>
                  <a:lnTo>
                    <a:pt x="17" y="283"/>
                  </a:lnTo>
                  <a:lnTo>
                    <a:pt x="17" y="309"/>
                  </a:lnTo>
                  <a:lnTo>
                    <a:pt x="8" y="336"/>
                  </a:lnTo>
                  <a:lnTo>
                    <a:pt x="8" y="363"/>
                  </a:lnTo>
                  <a:lnTo>
                    <a:pt x="0" y="390"/>
                  </a:lnTo>
                  <a:lnTo>
                    <a:pt x="0" y="425"/>
                  </a:lnTo>
                  <a:lnTo>
                    <a:pt x="0" y="451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4389480" y="3551400"/>
              <a:ext cx="6840" cy="32040"/>
            </a:xfrm>
            <a:custGeom>
              <a:avLst/>
              <a:gdLst/>
              <a:ahLst/>
              <a:rect l="0" t="0" r="r" b="b"/>
              <a:pathLst>
                <a:path fill="none" w="19" h="89">
                  <a:moveTo>
                    <a:pt x="0" y="0"/>
                  </a:moveTo>
                  <a:lnTo>
                    <a:pt x="0" y="17"/>
                  </a:lnTo>
                  <a:lnTo>
                    <a:pt x="9" y="45"/>
                  </a:lnTo>
                  <a:lnTo>
                    <a:pt x="9" y="71"/>
                  </a:lnTo>
                  <a:lnTo>
                    <a:pt x="19" y="89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4405320" y="3618000"/>
              <a:ext cx="16200" cy="32040"/>
            </a:xfrm>
            <a:custGeom>
              <a:avLst/>
              <a:gdLst/>
              <a:ahLst/>
              <a:rect l="0" t="0" r="r" b="b"/>
              <a:pathLst>
                <a:path fill="none" w="45" h="89">
                  <a:moveTo>
                    <a:pt x="0" y="0"/>
                  </a:moveTo>
                  <a:lnTo>
                    <a:pt x="8" y="17"/>
                  </a:lnTo>
                  <a:lnTo>
                    <a:pt x="27" y="45"/>
                  </a:lnTo>
                  <a:lnTo>
                    <a:pt x="36" y="71"/>
                  </a:lnTo>
                  <a:lnTo>
                    <a:pt x="45" y="89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4440240" y="3678120"/>
              <a:ext cx="136800" cy="98640"/>
            </a:xfrm>
            <a:custGeom>
              <a:avLst/>
              <a:gdLst/>
              <a:ahLst/>
              <a:rect l="0" t="0" r="r" b="b"/>
              <a:pathLst>
                <a:path fill="none" w="380" h="274">
                  <a:moveTo>
                    <a:pt x="0" y="0"/>
                  </a:moveTo>
                  <a:lnTo>
                    <a:pt x="0" y="0"/>
                  </a:lnTo>
                  <a:lnTo>
                    <a:pt x="17" y="26"/>
                  </a:lnTo>
                  <a:lnTo>
                    <a:pt x="35" y="44"/>
                  </a:lnTo>
                  <a:lnTo>
                    <a:pt x="52" y="70"/>
                  </a:lnTo>
                  <a:lnTo>
                    <a:pt x="70" y="88"/>
                  </a:lnTo>
                  <a:lnTo>
                    <a:pt x="97" y="105"/>
                  </a:lnTo>
                  <a:lnTo>
                    <a:pt x="114" y="132"/>
                  </a:lnTo>
                  <a:lnTo>
                    <a:pt x="141" y="150"/>
                  </a:lnTo>
                  <a:lnTo>
                    <a:pt x="158" y="168"/>
                  </a:lnTo>
                  <a:lnTo>
                    <a:pt x="185" y="177"/>
                  </a:lnTo>
                  <a:lnTo>
                    <a:pt x="212" y="195"/>
                  </a:lnTo>
                  <a:lnTo>
                    <a:pt x="230" y="212"/>
                  </a:lnTo>
                  <a:lnTo>
                    <a:pt x="256" y="221"/>
                  </a:lnTo>
                  <a:lnTo>
                    <a:pt x="283" y="239"/>
                  </a:lnTo>
                  <a:lnTo>
                    <a:pt x="309" y="247"/>
                  </a:lnTo>
                  <a:lnTo>
                    <a:pt x="336" y="265"/>
                  </a:lnTo>
                  <a:lnTo>
                    <a:pt x="362" y="274"/>
                  </a:lnTo>
                  <a:lnTo>
                    <a:pt x="380" y="274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4611600" y="3786120"/>
              <a:ext cx="32040" cy="3600"/>
            </a:xfrm>
            <a:custGeom>
              <a:avLst/>
              <a:gdLst/>
              <a:ahLst/>
              <a:rect l="0" t="0" r="r" b="b"/>
              <a:pathLst>
                <a:path fill="none" w="89" h="10">
                  <a:moveTo>
                    <a:pt x="0" y="0"/>
                  </a:moveTo>
                  <a:lnTo>
                    <a:pt x="0" y="0"/>
                  </a:lnTo>
                  <a:lnTo>
                    <a:pt x="26" y="10"/>
                  </a:lnTo>
                  <a:lnTo>
                    <a:pt x="53" y="10"/>
                  </a:lnTo>
                  <a:lnTo>
                    <a:pt x="80" y="10"/>
                  </a:lnTo>
                  <a:lnTo>
                    <a:pt x="89" y="1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678200" y="3786120"/>
              <a:ext cx="35280" cy="3600"/>
            </a:xfrm>
            <a:custGeom>
              <a:avLst/>
              <a:gdLst/>
              <a:ahLst/>
              <a:rect l="0" t="0" r="r" b="b"/>
              <a:pathLst>
                <a:path fill="none" w="98" h="10">
                  <a:moveTo>
                    <a:pt x="0" y="10"/>
                  </a:moveTo>
                  <a:lnTo>
                    <a:pt x="8" y="10"/>
                  </a:lnTo>
                  <a:lnTo>
                    <a:pt x="35" y="10"/>
                  </a:lnTo>
                  <a:lnTo>
                    <a:pt x="71" y="10"/>
                  </a:lnTo>
                  <a:lnTo>
                    <a:pt x="98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748040" y="3678120"/>
              <a:ext cx="136800" cy="98640"/>
            </a:xfrm>
            <a:custGeom>
              <a:avLst/>
              <a:gdLst/>
              <a:ahLst/>
              <a:rect l="0" t="0" r="r" b="b"/>
              <a:pathLst>
                <a:path fill="none" w="380" h="274">
                  <a:moveTo>
                    <a:pt x="0" y="274"/>
                  </a:moveTo>
                  <a:lnTo>
                    <a:pt x="8" y="274"/>
                  </a:lnTo>
                  <a:lnTo>
                    <a:pt x="35" y="265"/>
                  </a:lnTo>
                  <a:lnTo>
                    <a:pt x="61" y="247"/>
                  </a:lnTo>
                  <a:lnTo>
                    <a:pt x="88" y="239"/>
                  </a:lnTo>
                  <a:lnTo>
                    <a:pt x="114" y="221"/>
                  </a:lnTo>
                  <a:lnTo>
                    <a:pt x="141" y="212"/>
                  </a:lnTo>
                  <a:lnTo>
                    <a:pt x="167" y="195"/>
                  </a:lnTo>
                  <a:lnTo>
                    <a:pt x="195" y="177"/>
                  </a:lnTo>
                  <a:lnTo>
                    <a:pt x="212" y="168"/>
                  </a:lnTo>
                  <a:lnTo>
                    <a:pt x="239" y="150"/>
                  </a:lnTo>
                  <a:lnTo>
                    <a:pt x="256" y="132"/>
                  </a:lnTo>
                  <a:lnTo>
                    <a:pt x="283" y="105"/>
                  </a:lnTo>
                  <a:lnTo>
                    <a:pt x="300" y="88"/>
                  </a:lnTo>
                  <a:lnTo>
                    <a:pt x="318" y="70"/>
                  </a:lnTo>
                  <a:lnTo>
                    <a:pt x="344" y="44"/>
                  </a:lnTo>
                  <a:lnTo>
                    <a:pt x="362" y="26"/>
                  </a:lnTo>
                  <a:lnTo>
                    <a:pt x="380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903920" y="3618000"/>
              <a:ext cx="12960" cy="32040"/>
            </a:xfrm>
            <a:custGeom>
              <a:avLst/>
              <a:gdLst/>
              <a:ahLst/>
              <a:rect l="0" t="0" r="r" b="b"/>
              <a:pathLst>
                <a:path fill="none" w="36" h="89">
                  <a:moveTo>
                    <a:pt x="0" y="89"/>
                  </a:moveTo>
                  <a:lnTo>
                    <a:pt x="0" y="71"/>
                  </a:lnTo>
                  <a:lnTo>
                    <a:pt x="17" y="45"/>
                  </a:lnTo>
                  <a:lnTo>
                    <a:pt x="27" y="17"/>
                  </a:lnTo>
                  <a:lnTo>
                    <a:pt x="36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29120" y="3551400"/>
              <a:ext cx="6840" cy="32040"/>
            </a:xfrm>
            <a:custGeom>
              <a:avLst/>
              <a:gdLst/>
              <a:ahLst/>
              <a:rect l="0" t="0" r="r" b="b"/>
              <a:pathLst>
                <a:path fill="none" w="19" h="89">
                  <a:moveTo>
                    <a:pt x="0" y="89"/>
                  </a:moveTo>
                  <a:lnTo>
                    <a:pt x="0" y="71"/>
                  </a:lnTo>
                  <a:lnTo>
                    <a:pt x="9" y="45"/>
                  </a:lnTo>
                  <a:lnTo>
                    <a:pt x="19" y="17"/>
                  </a:lnTo>
                  <a:lnTo>
                    <a:pt x="19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424400" y="3373560"/>
              <a:ext cx="377640" cy="3776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4389480" y="3468600"/>
              <a:ext cx="320760" cy="3175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4402080" y="3611520"/>
              <a:ext cx="165240" cy="1620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4484520" y="3303720"/>
              <a:ext cx="387360" cy="3873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4567320" y="3255840"/>
              <a:ext cx="352440" cy="3556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678200" y="3240000"/>
              <a:ext cx="257400" cy="2574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4662360" y="3710160"/>
              <a:ext cx="0" cy="1774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 flipH="1">
              <a:off x="4287960" y="3516480"/>
              <a:ext cx="1778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 flipV="1">
              <a:off x="4662360" y="3141720"/>
              <a:ext cx="0" cy="1778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4856040" y="3516480"/>
              <a:ext cx="1778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 flipV="1">
              <a:off x="4662360" y="3417840"/>
              <a:ext cx="0" cy="1969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4564080" y="3516480"/>
              <a:ext cx="19692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3094200" y="2644920"/>
              <a:ext cx="1774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V="1">
              <a:off x="2908440" y="2270160"/>
              <a:ext cx="0" cy="1778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H="1">
              <a:off x="2536920" y="2644920"/>
              <a:ext cx="1778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V="1">
              <a:off x="2908440" y="2546280"/>
              <a:ext cx="0" cy="1936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809800" y="2644920"/>
              <a:ext cx="19692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532480" y="4430880"/>
              <a:ext cx="4730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V="1">
              <a:off x="5624640" y="4262400"/>
              <a:ext cx="95040" cy="1620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605560" y="4275000"/>
              <a:ext cx="133560" cy="136800"/>
            </a:xfrm>
            <a:custGeom>
              <a:avLst/>
              <a:gdLst/>
              <a:ahLst/>
              <a:rect l="0" t="0" r="r" b="b"/>
              <a:pathLst>
                <a:path fill="none" w="371" h="380">
                  <a:moveTo>
                    <a:pt x="371" y="185"/>
                  </a:moveTo>
                  <a:lnTo>
                    <a:pt x="371" y="176"/>
                  </a:lnTo>
                  <a:lnTo>
                    <a:pt x="371" y="158"/>
                  </a:lnTo>
                  <a:lnTo>
                    <a:pt x="371" y="141"/>
                  </a:lnTo>
                  <a:lnTo>
                    <a:pt x="362" y="132"/>
                  </a:lnTo>
                  <a:lnTo>
                    <a:pt x="362" y="114"/>
                  </a:lnTo>
                  <a:lnTo>
                    <a:pt x="353" y="105"/>
                  </a:lnTo>
                  <a:lnTo>
                    <a:pt x="344" y="88"/>
                  </a:lnTo>
                  <a:lnTo>
                    <a:pt x="344" y="79"/>
                  </a:lnTo>
                  <a:lnTo>
                    <a:pt x="336" y="70"/>
                  </a:lnTo>
                  <a:lnTo>
                    <a:pt x="327" y="61"/>
                  </a:lnTo>
                  <a:lnTo>
                    <a:pt x="318" y="44"/>
                  </a:lnTo>
                  <a:lnTo>
                    <a:pt x="300" y="44"/>
                  </a:lnTo>
                  <a:lnTo>
                    <a:pt x="292" y="35"/>
                  </a:lnTo>
                  <a:lnTo>
                    <a:pt x="283" y="26"/>
                  </a:lnTo>
                  <a:lnTo>
                    <a:pt x="265" y="17"/>
                  </a:lnTo>
                  <a:lnTo>
                    <a:pt x="256" y="8"/>
                  </a:lnTo>
                  <a:lnTo>
                    <a:pt x="239" y="8"/>
                  </a:lnTo>
                  <a:lnTo>
                    <a:pt x="230" y="0"/>
                  </a:lnTo>
                  <a:lnTo>
                    <a:pt x="212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67" y="0"/>
                  </a:lnTo>
                  <a:lnTo>
                    <a:pt x="158" y="0"/>
                  </a:lnTo>
                  <a:lnTo>
                    <a:pt x="141" y="0"/>
                  </a:lnTo>
                  <a:lnTo>
                    <a:pt x="132" y="8"/>
                  </a:lnTo>
                  <a:lnTo>
                    <a:pt x="114" y="8"/>
                  </a:lnTo>
                  <a:lnTo>
                    <a:pt x="105" y="17"/>
                  </a:lnTo>
                  <a:lnTo>
                    <a:pt x="88" y="26"/>
                  </a:lnTo>
                  <a:lnTo>
                    <a:pt x="79" y="35"/>
                  </a:lnTo>
                  <a:lnTo>
                    <a:pt x="70" y="44"/>
                  </a:lnTo>
                  <a:lnTo>
                    <a:pt x="52" y="44"/>
                  </a:lnTo>
                  <a:lnTo>
                    <a:pt x="44" y="61"/>
                  </a:lnTo>
                  <a:lnTo>
                    <a:pt x="35" y="70"/>
                  </a:lnTo>
                  <a:lnTo>
                    <a:pt x="26" y="79"/>
                  </a:lnTo>
                  <a:lnTo>
                    <a:pt x="17" y="88"/>
                  </a:lnTo>
                  <a:lnTo>
                    <a:pt x="17" y="105"/>
                  </a:lnTo>
                  <a:lnTo>
                    <a:pt x="8" y="114"/>
                  </a:lnTo>
                  <a:lnTo>
                    <a:pt x="8" y="132"/>
                  </a:lnTo>
                  <a:lnTo>
                    <a:pt x="0" y="141"/>
                  </a:lnTo>
                  <a:lnTo>
                    <a:pt x="0" y="158"/>
                  </a:lnTo>
                  <a:lnTo>
                    <a:pt x="0" y="176"/>
                  </a:lnTo>
                  <a:lnTo>
                    <a:pt x="0" y="185"/>
                  </a:lnTo>
                  <a:lnTo>
                    <a:pt x="0" y="203"/>
                  </a:lnTo>
                  <a:lnTo>
                    <a:pt x="0" y="212"/>
                  </a:lnTo>
                  <a:lnTo>
                    <a:pt x="0" y="230"/>
                  </a:lnTo>
                  <a:lnTo>
                    <a:pt x="8" y="247"/>
                  </a:lnTo>
                  <a:lnTo>
                    <a:pt x="8" y="256"/>
                  </a:lnTo>
                  <a:lnTo>
                    <a:pt x="17" y="265"/>
                  </a:lnTo>
                  <a:lnTo>
                    <a:pt x="17" y="283"/>
                  </a:lnTo>
                  <a:lnTo>
                    <a:pt x="26" y="292"/>
                  </a:lnTo>
                  <a:lnTo>
                    <a:pt x="35" y="309"/>
                  </a:lnTo>
                  <a:lnTo>
                    <a:pt x="44" y="318"/>
                  </a:lnTo>
                  <a:lnTo>
                    <a:pt x="52" y="327"/>
                  </a:lnTo>
                  <a:lnTo>
                    <a:pt x="70" y="336"/>
                  </a:lnTo>
                  <a:lnTo>
                    <a:pt x="79" y="344"/>
                  </a:lnTo>
                  <a:lnTo>
                    <a:pt x="88" y="353"/>
                  </a:lnTo>
                  <a:lnTo>
                    <a:pt x="105" y="353"/>
                  </a:lnTo>
                  <a:lnTo>
                    <a:pt x="114" y="362"/>
                  </a:lnTo>
                  <a:lnTo>
                    <a:pt x="132" y="371"/>
                  </a:lnTo>
                  <a:lnTo>
                    <a:pt x="141" y="371"/>
                  </a:lnTo>
                  <a:lnTo>
                    <a:pt x="158" y="371"/>
                  </a:lnTo>
                  <a:lnTo>
                    <a:pt x="167" y="380"/>
                  </a:lnTo>
                  <a:lnTo>
                    <a:pt x="186" y="380"/>
                  </a:lnTo>
                  <a:lnTo>
                    <a:pt x="203" y="380"/>
                  </a:lnTo>
                  <a:lnTo>
                    <a:pt x="212" y="371"/>
                  </a:lnTo>
                  <a:lnTo>
                    <a:pt x="230" y="371"/>
                  </a:lnTo>
                  <a:lnTo>
                    <a:pt x="239" y="371"/>
                  </a:lnTo>
                  <a:lnTo>
                    <a:pt x="256" y="362"/>
                  </a:lnTo>
                  <a:lnTo>
                    <a:pt x="265" y="353"/>
                  </a:lnTo>
                  <a:lnTo>
                    <a:pt x="283" y="353"/>
                  </a:lnTo>
                  <a:lnTo>
                    <a:pt x="292" y="344"/>
                  </a:lnTo>
                  <a:lnTo>
                    <a:pt x="300" y="336"/>
                  </a:lnTo>
                  <a:lnTo>
                    <a:pt x="318" y="327"/>
                  </a:lnTo>
                  <a:lnTo>
                    <a:pt x="327" y="318"/>
                  </a:lnTo>
                  <a:lnTo>
                    <a:pt x="336" y="309"/>
                  </a:lnTo>
                  <a:lnTo>
                    <a:pt x="344" y="292"/>
                  </a:lnTo>
                  <a:lnTo>
                    <a:pt x="344" y="283"/>
                  </a:lnTo>
                  <a:lnTo>
                    <a:pt x="353" y="265"/>
                  </a:lnTo>
                  <a:lnTo>
                    <a:pt x="362" y="256"/>
                  </a:lnTo>
                  <a:lnTo>
                    <a:pt x="362" y="247"/>
                  </a:lnTo>
                  <a:lnTo>
                    <a:pt x="371" y="230"/>
                  </a:lnTo>
                  <a:lnTo>
                    <a:pt x="371" y="212"/>
                  </a:lnTo>
                  <a:lnTo>
                    <a:pt x="371" y="203"/>
                  </a:lnTo>
                  <a:lnTo>
                    <a:pt x="371" y="185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6" name=""/>
            <p:cNvGrpSpPr/>
            <p:nvPr/>
          </p:nvGrpSpPr>
          <p:grpSpPr>
            <a:xfrm>
              <a:off x="6469200" y="4695840"/>
              <a:ext cx="644760" cy="273240"/>
              <a:chOff x="6469200" y="4695840"/>
              <a:chExt cx="644760" cy="273240"/>
            </a:xfrm>
          </p:grpSpPr>
          <p:sp>
            <p:nvSpPr>
              <p:cNvPr id="2537" name=""/>
              <p:cNvSpPr/>
              <p:nvPr/>
            </p:nvSpPr>
            <p:spPr>
              <a:xfrm flipH="1">
                <a:off x="6742080" y="4832280"/>
                <a:ext cx="238320" cy="0"/>
              </a:xfrm>
              <a:prstGeom prst="line">
                <a:avLst/>
              </a:prstGeom>
              <a:ln w="12600">
                <a:solidFill>
                  <a:srgbClr val="f2fe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6469200" y="4695840"/>
                <a:ext cx="273240" cy="273240"/>
              </a:xfrm>
              <a:custGeom>
                <a:avLst/>
                <a:gdLst/>
                <a:ahLst/>
                <a:rect l="0" t="0" r="r" b="b"/>
                <a:pathLst>
                  <a:path fill="none" w="759" h="759">
                    <a:moveTo>
                      <a:pt x="0" y="759"/>
                    </a:moveTo>
                    <a:lnTo>
                      <a:pt x="0" y="0"/>
                    </a:lnTo>
                    <a:lnTo>
                      <a:pt x="759" y="0"/>
                    </a:lnTo>
                    <a:lnTo>
                      <a:pt x="759" y="759"/>
                    </a:lnTo>
                    <a:lnTo>
                      <a:pt x="0" y="759"/>
                    </a:lnTo>
                  </a:path>
                </a:pathLst>
              </a:custGeom>
              <a:ln w="12600">
                <a:solidFill>
                  <a:srgbClr val="f2fef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H="1">
                <a:off x="6558120" y="4772160"/>
                <a:ext cx="50760" cy="133200"/>
              </a:xfrm>
              <a:prstGeom prst="line">
                <a:avLst/>
              </a:prstGeom>
              <a:ln w="12600">
                <a:solidFill>
                  <a:srgbClr val="f2fe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6608880" y="4772160"/>
                <a:ext cx="50760" cy="133200"/>
              </a:xfrm>
              <a:prstGeom prst="line">
                <a:avLst/>
              </a:prstGeom>
              <a:ln w="12600">
                <a:solidFill>
                  <a:srgbClr val="f2fe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6576840" y="4861080"/>
                <a:ext cx="63720" cy="0"/>
              </a:xfrm>
              <a:prstGeom prst="line">
                <a:avLst/>
              </a:prstGeom>
              <a:ln w="12600">
                <a:solidFill>
                  <a:srgbClr val="f2fe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 flipV="1">
                <a:off x="7113600" y="4753080"/>
                <a:ext cx="0" cy="158760"/>
              </a:xfrm>
              <a:prstGeom prst="line">
                <a:avLst/>
              </a:prstGeom>
              <a:ln w="12600">
                <a:solidFill>
                  <a:srgbClr val="f2fe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 flipV="1">
                <a:off x="6980400" y="4832280"/>
                <a:ext cx="133200" cy="79560"/>
              </a:xfrm>
              <a:prstGeom prst="line">
                <a:avLst/>
              </a:prstGeom>
              <a:ln w="12600">
                <a:solidFill>
                  <a:srgbClr val="f2fe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6980400" y="4753080"/>
                <a:ext cx="133560" cy="159120"/>
              </a:xfrm>
              <a:custGeom>
                <a:avLst/>
                <a:gdLst/>
                <a:ahLst/>
                <a:rect l="0" t="0" r="r" b="b"/>
                <a:pathLst>
                  <a:path w="371" h="442">
                    <a:moveTo>
                      <a:pt x="371" y="442"/>
                    </a:moveTo>
                    <a:lnTo>
                      <a:pt x="0" y="221"/>
                    </a:lnTo>
                    <a:lnTo>
                      <a:pt x="371" y="0"/>
                    </a:lnTo>
                    <a:lnTo>
                      <a:pt x="371" y="442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f2fef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 flipH="1">
                <a:off x="6980400" y="4753080"/>
                <a:ext cx="133200" cy="79200"/>
              </a:xfrm>
              <a:prstGeom prst="line">
                <a:avLst/>
              </a:prstGeom>
              <a:ln w="12600">
                <a:solidFill>
                  <a:srgbClr val="f2fe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6" name=""/>
            <p:cNvSpPr/>
            <p:nvPr/>
          </p:nvSpPr>
          <p:spPr>
            <a:xfrm>
              <a:off x="8055000" y="1893960"/>
              <a:ext cx="0" cy="32414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7" name=""/>
          <p:cNvSpPr txBox="1"/>
          <p:nvPr/>
        </p:nvSpPr>
        <p:spPr>
          <a:xfrm>
            <a:off x="1881360" y="388800"/>
            <a:ext cx="533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 Interpre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5410080" y="5624640"/>
            <a:ext cx="12891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 u="sng">
                <a:solidFill>
                  <a:srgbClr val="00dfca"/>
                </a:solidFill>
                <a:uFillTx/>
                <a:latin typeface="Times New Roman"/>
                <a:ea typeface="Times New Roman"/>
              </a:rPr>
              <a:t>DRA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5664240" y="41972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3490920" y="54878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"/>
          <p:cNvSpPr txBox="1"/>
          <p:nvPr/>
        </p:nvSpPr>
        <p:spPr>
          <a:xfrm>
            <a:off x="4373640" y="548640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"/>
          <p:cNvSpPr txBox="1"/>
          <p:nvPr/>
        </p:nvSpPr>
        <p:spPr>
          <a:xfrm>
            <a:off x="1881360" y="388800"/>
            <a:ext cx="533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 Interpre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"/>
          <p:cNvSpPr/>
          <p:nvPr/>
        </p:nvSpPr>
        <p:spPr>
          <a:xfrm flipH="1">
            <a:off x="5610240" y="3317760"/>
            <a:ext cx="3841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"/>
          <p:cNvSpPr/>
          <p:nvPr/>
        </p:nvSpPr>
        <p:spPr>
          <a:xfrm flipH="1">
            <a:off x="5456160" y="33177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"/>
          <p:cNvSpPr/>
          <p:nvPr/>
        </p:nvSpPr>
        <p:spPr>
          <a:xfrm flipH="1">
            <a:off x="5300640" y="3317760"/>
            <a:ext cx="7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"/>
          <p:cNvSpPr/>
          <p:nvPr/>
        </p:nvSpPr>
        <p:spPr>
          <a:xfrm flipH="1">
            <a:off x="4838760" y="3317760"/>
            <a:ext cx="385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"/>
          <p:cNvSpPr/>
          <p:nvPr/>
        </p:nvSpPr>
        <p:spPr>
          <a:xfrm flipH="1">
            <a:off x="4530600" y="33177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8" name=""/>
          <p:cNvSpPr/>
          <p:nvPr/>
        </p:nvSpPr>
        <p:spPr>
          <a:xfrm flipH="1">
            <a:off x="4068720" y="3317760"/>
            <a:ext cx="385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"/>
          <p:cNvSpPr/>
          <p:nvPr/>
        </p:nvSpPr>
        <p:spPr>
          <a:xfrm flipH="1">
            <a:off x="3916440" y="3317760"/>
            <a:ext cx="75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 flipH="1">
            <a:off x="3144960" y="3317760"/>
            <a:ext cx="77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"/>
          <p:cNvSpPr/>
          <p:nvPr/>
        </p:nvSpPr>
        <p:spPr>
          <a:xfrm flipH="1">
            <a:off x="2992320" y="331776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/>
          <p:nvPr/>
        </p:nvSpPr>
        <p:spPr>
          <a:xfrm flipH="1">
            <a:off x="2530440" y="3317760"/>
            <a:ext cx="385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 flipH="1">
            <a:off x="2374920" y="3317760"/>
            <a:ext cx="79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"/>
          <p:cNvSpPr/>
          <p:nvPr/>
        </p:nvSpPr>
        <p:spPr>
          <a:xfrm>
            <a:off x="2365200" y="2262240"/>
            <a:ext cx="36766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"/>
          <p:cNvSpPr/>
          <p:nvPr/>
        </p:nvSpPr>
        <p:spPr>
          <a:xfrm flipH="1">
            <a:off x="2301840" y="6008760"/>
            <a:ext cx="39434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"/>
          <p:cNvSpPr/>
          <p:nvPr/>
        </p:nvSpPr>
        <p:spPr>
          <a:xfrm flipH="1">
            <a:off x="2301840" y="4313160"/>
            <a:ext cx="39434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/>
          <p:nvPr/>
        </p:nvSpPr>
        <p:spPr>
          <a:xfrm flipV="1">
            <a:off x="2365200" y="2262240"/>
            <a:ext cx="0" cy="9856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 flipV="1">
            <a:off x="2301840" y="4313160"/>
            <a:ext cx="0" cy="1697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>
            <a:off x="6251400" y="3117960"/>
            <a:ext cx="143280" cy="178200"/>
          </a:xfrm>
          <a:custGeom>
            <a:avLst/>
            <a:gdLst/>
            <a:ahLst/>
            <a:rect l="0" t="0" r="r" b="b"/>
            <a:pathLst>
              <a:path w="398" h="495">
                <a:moveTo>
                  <a:pt x="249" y="0"/>
                </a:moveTo>
                <a:lnTo>
                  <a:pt x="0" y="495"/>
                </a:lnTo>
                <a:lnTo>
                  <a:pt x="398" y="105"/>
                </a:lnTo>
                <a:lnTo>
                  <a:pt x="249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 flipH="1" flipV="1">
            <a:off x="4883040" y="1881360"/>
            <a:ext cx="155520" cy="13618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 flipV="1">
            <a:off x="6041880" y="2262240"/>
            <a:ext cx="0" cy="11286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2" name=""/>
          <p:cNvGrpSpPr/>
          <p:nvPr/>
        </p:nvGrpSpPr>
        <p:grpSpPr>
          <a:xfrm>
            <a:off x="1459080" y="3301920"/>
            <a:ext cx="5333760" cy="0"/>
            <a:chOff x="1459080" y="3301920"/>
            <a:chExt cx="5333760" cy="0"/>
          </a:xfrm>
        </p:grpSpPr>
        <p:sp>
          <p:nvSpPr>
            <p:cNvPr id="2573" name=""/>
            <p:cNvSpPr/>
            <p:nvPr/>
          </p:nvSpPr>
          <p:spPr>
            <a:xfrm flipH="1">
              <a:off x="6383160" y="3301920"/>
              <a:ext cx="40968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 flipH="1">
              <a:off x="6227640" y="3301920"/>
              <a:ext cx="763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H="1">
              <a:off x="6095880" y="3301920"/>
              <a:ext cx="7956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>
              <a:off x="4689360" y="3301920"/>
              <a:ext cx="763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3765600" y="3301920"/>
              <a:ext cx="763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H="1">
              <a:off x="1920960" y="3301920"/>
              <a:ext cx="7596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H="1">
              <a:off x="1459080" y="3301920"/>
              <a:ext cx="40608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3894120" y="3301920"/>
              <a:ext cx="68904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216160" y="3301920"/>
              <a:ext cx="137484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4811760" y="3301920"/>
              <a:ext cx="123336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H="1">
              <a:off x="2058840" y="3301920"/>
              <a:ext cx="763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H="1">
              <a:off x="3635280" y="3301920"/>
              <a:ext cx="76320" cy="0"/>
            </a:xfrm>
            <a:prstGeom prst="line">
              <a:avLst/>
            </a:prstGeom>
            <a:ln w="255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5" name=""/>
          <p:cNvSpPr/>
          <p:nvPr/>
        </p:nvSpPr>
        <p:spPr>
          <a:xfrm>
            <a:off x="4884840" y="187956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"/>
          <p:cNvSpPr/>
          <p:nvPr/>
        </p:nvSpPr>
        <p:spPr>
          <a:xfrm>
            <a:off x="2367000" y="3247920"/>
            <a:ext cx="3673800" cy="157680"/>
          </a:xfrm>
          <a:custGeom>
            <a:avLst/>
            <a:gdLst/>
            <a:ahLst/>
            <a:rect l="0" t="0" r="r" b="b"/>
            <a:pathLst>
              <a:path fill="none" w="10205" h="438">
                <a:moveTo>
                  <a:pt x="0" y="0"/>
                </a:moveTo>
                <a:lnTo>
                  <a:pt x="74" y="0"/>
                </a:lnTo>
                <a:lnTo>
                  <a:pt x="148" y="46"/>
                </a:lnTo>
                <a:lnTo>
                  <a:pt x="222" y="95"/>
                </a:lnTo>
                <a:lnTo>
                  <a:pt x="296" y="95"/>
                </a:lnTo>
                <a:lnTo>
                  <a:pt x="370" y="70"/>
                </a:lnTo>
                <a:lnTo>
                  <a:pt x="469" y="46"/>
                </a:lnTo>
                <a:lnTo>
                  <a:pt x="543" y="46"/>
                </a:lnTo>
                <a:lnTo>
                  <a:pt x="663" y="46"/>
                </a:lnTo>
                <a:lnTo>
                  <a:pt x="737" y="46"/>
                </a:lnTo>
                <a:lnTo>
                  <a:pt x="811" y="70"/>
                </a:lnTo>
                <a:lnTo>
                  <a:pt x="885" y="70"/>
                </a:lnTo>
                <a:lnTo>
                  <a:pt x="959" y="121"/>
                </a:lnTo>
                <a:lnTo>
                  <a:pt x="1033" y="146"/>
                </a:lnTo>
                <a:lnTo>
                  <a:pt x="1156" y="171"/>
                </a:lnTo>
                <a:lnTo>
                  <a:pt x="1230" y="196"/>
                </a:lnTo>
                <a:lnTo>
                  <a:pt x="1305" y="196"/>
                </a:lnTo>
                <a:lnTo>
                  <a:pt x="1403" y="196"/>
                </a:lnTo>
                <a:lnTo>
                  <a:pt x="1477" y="196"/>
                </a:lnTo>
                <a:lnTo>
                  <a:pt x="1551" y="196"/>
                </a:lnTo>
                <a:lnTo>
                  <a:pt x="1647" y="171"/>
                </a:lnTo>
                <a:lnTo>
                  <a:pt x="1830" y="185"/>
                </a:lnTo>
                <a:lnTo>
                  <a:pt x="1936" y="185"/>
                </a:lnTo>
                <a:lnTo>
                  <a:pt x="2049" y="160"/>
                </a:lnTo>
                <a:lnTo>
                  <a:pt x="2155" y="160"/>
                </a:lnTo>
                <a:lnTo>
                  <a:pt x="2342" y="160"/>
                </a:lnTo>
                <a:lnTo>
                  <a:pt x="2430" y="185"/>
                </a:lnTo>
                <a:lnTo>
                  <a:pt x="2472" y="185"/>
                </a:lnTo>
                <a:lnTo>
                  <a:pt x="2578" y="185"/>
                </a:lnTo>
                <a:lnTo>
                  <a:pt x="2677" y="185"/>
                </a:lnTo>
                <a:lnTo>
                  <a:pt x="2782" y="185"/>
                </a:lnTo>
                <a:lnTo>
                  <a:pt x="2913" y="160"/>
                </a:lnTo>
                <a:lnTo>
                  <a:pt x="3001" y="221"/>
                </a:lnTo>
                <a:lnTo>
                  <a:pt x="3075" y="221"/>
                </a:lnTo>
                <a:lnTo>
                  <a:pt x="3252" y="192"/>
                </a:lnTo>
                <a:lnTo>
                  <a:pt x="3357" y="213"/>
                </a:lnTo>
                <a:lnTo>
                  <a:pt x="3396" y="245"/>
                </a:lnTo>
                <a:lnTo>
                  <a:pt x="3717" y="320"/>
                </a:lnTo>
                <a:lnTo>
                  <a:pt x="3812" y="346"/>
                </a:lnTo>
                <a:lnTo>
                  <a:pt x="3886" y="371"/>
                </a:lnTo>
                <a:lnTo>
                  <a:pt x="3961" y="371"/>
                </a:lnTo>
                <a:lnTo>
                  <a:pt x="4035" y="395"/>
                </a:lnTo>
                <a:lnTo>
                  <a:pt x="4109" y="395"/>
                </a:lnTo>
                <a:lnTo>
                  <a:pt x="4183" y="395"/>
                </a:lnTo>
                <a:lnTo>
                  <a:pt x="4306" y="395"/>
                </a:lnTo>
                <a:lnTo>
                  <a:pt x="4380" y="395"/>
                </a:lnTo>
                <a:lnTo>
                  <a:pt x="4454" y="371"/>
                </a:lnTo>
                <a:lnTo>
                  <a:pt x="4528" y="371"/>
                </a:lnTo>
                <a:lnTo>
                  <a:pt x="4677" y="371"/>
                </a:lnTo>
                <a:lnTo>
                  <a:pt x="4775" y="371"/>
                </a:lnTo>
                <a:lnTo>
                  <a:pt x="4969" y="320"/>
                </a:lnTo>
                <a:lnTo>
                  <a:pt x="5043" y="295"/>
                </a:lnTo>
                <a:lnTo>
                  <a:pt x="5147" y="284"/>
                </a:lnTo>
                <a:lnTo>
                  <a:pt x="5235" y="274"/>
                </a:lnTo>
                <a:lnTo>
                  <a:pt x="5358" y="267"/>
                </a:lnTo>
                <a:lnTo>
                  <a:pt x="5390" y="245"/>
                </a:lnTo>
                <a:lnTo>
                  <a:pt x="5464" y="245"/>
                </a:lnTo>
                <a:lnTo>
                  <a:pt x="5538" y="245"/>
                </a:lnTo>
                <a:lnTo>
                  <a:pt x="5612" y="245"/>
                </a:lnTo>
                <a:lnTo>
                  <a:pt x="5711" y="245"/>
                </a:lnTo>
                <a:lnTo>
                  <a:pt x="5785" y="245"/>
                </a:lnTo>
                <a:lnTo>
                  <a:pt x="5880" y="221"/>
                </a:lnTo>
                <a:lnTo>
                  <a:pt x="5954" y="221"/>
                </a:lnTo>
                <a:lnTo>
                  <a:pt x="6028" y="221"/>
                </a:lnTo>
                <a:lnTo>
                  <a:pt x="6103" y="221"/>
                </a:lnTo>
                <a:lnTo>
                  <a:pt x="6177" y="245"/>
                </a:lnTo>
                <a:lnTo>
                  <a:pt x="6251" y="270"/>
                </a:lnTo>
                <a:lnTo>
                  <a:pt x="6374" y="270"/>
                </a:lnTo>
                <a:lnTo>
                  <a:pt x="6448" y="270"/>
                </a:lnTo>
                <a:lnTo>
                  <a:pt x="6522" y="270"/>
                </a:lnTo>
                <a:lnTo>
                  <a:pt x="6596" y="270"/>
                </a:lnTo>
                <a:lnTo>
                  <a:pt x="6670" y="270"/>
                </a:lnTo>
                <a:lnTo>
                  <a:pt x="6769" y="270"/>
                </a:lnTo>
                <a:lnTo>
                  <a:pt x="6850" y="235"/>
                </a:lnTo>
                <a:lnTo>
                  <a:pt x="6967" y="203"/>
                </a:lnTo>
                <a:lnTo>
                  <a:pt x="7051" y="171"/>
                </a:lnTo>
                <a:lnTo>
                  <a:pt x="7111" y="171"/>
                </a:lnTo>
                <a:lnTo>
                  <a:pt x="7210" y="171"/>
                </a:lnTo>
                <a:lnTo>
                  <a:pt x="7309" y="171"/>
                </a:lnTo>
                <a:lnTo>
                  <a:pt x="7397" y="178"/>
                </a:lnTo>
                <a:lnTo>
                  <a:pt x="7492" y="150"/>
                </a:lnTo>
                <a:lnTo>
                  <a:pt x="7598" y="185"/>
                </a:lnTo>
                <a:lnTo>
                  <a:pt x="7609" y="178"/>
                </a:lnTo>
                <a:lnTo>
                  <a:pt x="7721" y="178"/>
                </a:lnTo>
                <a:lnTo>
                  <a:pt x="7803" y="95"/>
                </a:lnTo>
                <a:lnTo>
                  <a:pt x="7877" y="95"/>
                </a:lnTo>
                <a:lnTo>
                  <a:pt x="7951" y="121"/>
                </a:lnTo>
                <a:lnTo>
                  <a:pt x="8021" y="178"/>
                </a:lnTo>
                <a:lnTo>
                  <a:pt x="8155" y="185"/>
                </a:lnTo>
                <a:lnTo>
                  <a:pt x="8258" y="171"/>
                </a:lnTo>
                <a:lnTo>
                  <a:pt x="8363" y="182"/>
                </a:lnTo>
                <a:lnTo>
                  <a:pt x="8448" y="182"/>
                </a:lnTo>
                <a:lnTo>
                  <a:pt x="8543" y="150"/>
                </a:lnTo>
                <a:lnTo>
                  <a:pt x="8596" y="128"/>
                </a:lnTo>
                <a:lnTo>
                  <a:pt x="8670" y="171"/>
                </a:lnTo>
                <a:lnTo>
                  <a:pt x="8744" y="171"/>
                </a:lnTo>
                <a:lnTo>
                  <a:pt x="8797" y="192"/>
                </a:lnTo>
                <a:lnTo>
                  <a:pt x="8882" y="203"/>
                </a:lnTo>
                <a:lnTo>
                  <a:pt x="9009" y="245"/>
                </a:lnTo>
                <a:lnTo>
                  <a:pt x="9154" y="267"/>
                </a:lnTo>
                <a:lnTo>
                  <a:pt x="9154" y="267"/>
                </a:lnTo>
                <a:lnTo>
                  <a:pt x="9231" y="295"/>
                </a:lnTo>
                <a:lnTo>
                  <a:pt x="9295" y="323"/>
                </a:lnTo>
                <a:lnTo>
                  <a:pt x="9492" y="353"/>
                </a:lnTo>
                <a:lnTo>
                  <a:pt x="9520" y="353"/>
                </a:lnTo>
                <a:lnTo>
                  <a:pt x="9619" y="367"/>
                </a:lnTo>
                <a:lnTo>
                  <a:pt x="9746" y="420"/>
                </a:lnTo>
                <a:lnTo>
                  <a:pt x="9820" y="420"/>
                </a:lnTo>
                <a:lnTo>
                  <a:pt x="9919" y="420"/>
                </a:lnTo>
                <a:lnTo>
                  <a:pt x="9993" y="420"/>
                </a:lnTo>
                <a:lnTo>
                  <a:pt x="10138" y="420"/>
                </a:lnTo>
                <a:lnTo>
                  <a:pt x="10205" y="438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"/>
          <p:cNvSpPr/>
          <p:nvPr/>
        </p:nvSpPr>
        <p:spPr>
          <a:xfrm flipV="1">
            <a:off x="3443400" y="1873080"/>
            <a:ext cx="1439640" cy="1425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"/>
          <p:cNvSpPr/>
          <p:nvPr/>
        </p:nvSpPr>
        <p:spPr>
          <a:xfrm>
            <a:off x="4203720" y="3359160"/>
            <a:ext cx="195480" cy="97200"/>
          </a:xfrm>
          <a:custGeom>
            <a:avLst/>
            <a:gdLst/>
            <a:ahLst/>
            <a:rect l="0" t="0" r="r" b="b"/>
            <a:pathLst>
              <a:path w="543" h="270">
                <a:moveTo>
                  <a:pt x="543" y="161"/>
                </a:moveTo>
                <a:lnTo>
                  <a:pt x="0" y="0"/>
                </a:lnTo>
                <a:lnTo>
                  <a:pt x="439" y="270"/>
                </a:lnTo>
                <a:lnTo>
                  <a:pt x="543" y="16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"/>
          <p:cNvSpPr/>
          <p:nvPr/>
        </p:nvSpPr>
        <p:spPr>
          <a:xfrm>
            <a:off x="5699160" y="4005360"/>
            <a:ext cx="142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"/>
          <p:cNvSpPr/>
          <p:nvPr/>
        </p:nvSpPr>
        <p:spPr>
          <a:xfrm flipV="1">
            <a:off x="6370560" y="2697120"/>
            <a:ext cx="319320" cy="433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"/>
          <p:cNvSpPr/>
          <p:nvPr/>
        </p:nvSpPr>
        <p:spPr>
          <a:xfrm>
            <a:off x="6699240" y="2692440"/>
            <a:ext cx="1522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/>
          <p:nvPr/>
        </p:nvSpPr>
        <p:spPr>
          <a:xfrm>
            <a:off x="6240600" y="4314960"/>
            <a:ext cx="133560" cy="1706760"/>
          </a:xfrm>
          <a:custGeom>
            <a:avLst/>
            <a:gdLst/>
            <a:ahLst/>
            <a:rect l="0" t="0" r="r" b="b"/>
            <a:pathLst>
              <a:path fill="none" w="371" h="4741">
                <a:moveTo>
                  <a:pt x="0" y="0"/>
                </a:moveTo>
                <a:lnTo>
                  <a:pt x="92" y="246"/>
                </a:lnTo>
                <a:lnTo>
                  <a:pt x="92" y="339"/>
                </a:lnTo>
                <a:lnTo>
                  <a:pt x="92" y="463"/>
                </a:lnTo>
                <a:lnTo>
                  <a:pt x="123" y="555"/>
                </a:lnTo>
                <a:lnTo>
                  <a:pt x="123" y="648"/>
                </a:lnTo>
                <a:lnTo>
                  <a:pt x="123" y="740"/>
                </a:lnTo>
                <a:lnTo>
                  <a:pt x="92" y="890"/>
                </a:lnTo>
                <a:lnTo>
                  <a:pt x="92" y="1106"/>
                </a:lnTo>
                <a:lnTo>
                  <a:pt x="92" y="1230"/>
                </a:lnTo>
                <a:lnTo>
                  <a:pt x="123" y="1415"/>
                </a:lnTo>
                <a:lnTo>
                  <a:pt x="154" y="1508"/>
                </a:lnTo>
                <a:lnTo>
                  <a:pt x="247" y="1693"/>
                </a:lnTo>
                <a:lnTo>
                  <a:pt x="340" y="1785"/>
                </a:lnTo>
                <a:lnTo>
                  <a:pt x="371" y="1878"/>
                </a:lnTo>
                <a:lnTo>
                  <a:pt x="371" y="2094"/>
                </a:lnTo>
                <a:lnTo>
                  <a:pt x="371" y="2244"/>
                </a:lnTo>
                <a:lnTo>
                  <a:pt x="371" y="2368"/>
                </a:lnTo>
                <a:lnTo>
                  <a:pt x="371" y="2461"/>
                </a:lnTo>
                <a:lnTo>
                  <a:pt x="309" y="2615"/>
                </a:lnTo>
                <a:lnTo>
                  <a:pt x="309" y="2770"/>
                </a:lnTo>
                <a:lnTo>
                  <a:pt x="278" y="2924"/>
                </a:lnTo>
                <a:lnTo>
                  <a:pt x="278" y="3017"/>
                </a:lnTo>
                <a:lnTo>
                  <a:pt x="247" y="3171"/>
                </a:lnTo>
                <a:lnTo>
                  <a:pt x="247" y="3387"/>
                </a:lnTo>
                <a:lnTo>
                  <a:pt x="247" y="3537"/>
                </a:lnTo>
                <a:lnTo>
                  <a:pt x="247" y="3661"/>
                </a:lnTo>
                <a:lnTo>
                  <a:pt x="247" y="3846"/>
                </a:lnTo>
                <a:lnTo>
                  <a:pt x="247" y="3938"/>
                </a:lnTo>
                <a:lnTo>
                  <a:pt x="154" y="4031"/>
                </a:lnTo>
                <a:lnTo>
                  <a:pt x="123" y="4124"/>
                </a:lnTo>
                <a:lnTo>
                  <a:pt x="123" y="4278"/>
                </a:lnTo>
                <a:lnTo>
                  <a:pt x="92" y="4371"/>
                </a:lnTo>
                <a:lnTo>
                  <a:pt x="61" y="4463"/>
                </a:lnTo>
                <a:lnTo>
                  <a:pt x="0" y="4556"/>
                </a:lnTo>
                <a:lnTo>
                  <a:pt x="0" y="4648"/>
                </a:lnTo>
                <a:lnTo>
                  <a:pt x="0" y="474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/>
          <p:nvPr/>
        </p:nvSpPr>
        <p:spPr>
          <a:xfrm>
            <a:off x="3187800" y="4957920"/>
            <a:ext cx="1627200" cy="331920"/>
          </a:xfrm>
          <a:prstGeom prst="rect">
            <a:avLst/>
          </a:prstGeom>
          <a:gradFill rotWithShape="0">
            <a:gsLst>
              <a:gs pos="0">
                <a:srgbClr val="a2c1fe"/>
              </a:gs>
              <a:gs pos="100000">
                <a:srgbClr val="30394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"/>
          <p:cNvSpPr txBox="1"/>
          <p:nvPr/>
        </p:nvSpPr>
        <p:spPr>
          <a:xfrm>
            <a:off x="3235320" y="4903920"/>
            <a:ext cx="153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face 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"/>
          <p:cNvSpPr/>
          <p:nvPr/>
        </p:nvSpPr>
        <p:spPr>
          <a:xfrm>
            <a:off x="2567160" y="2521080"/>
            <a:ext cx="665280" cy="320760"/>
          </a:xfrm>
          <a:prstGeom prst="rect">
            <a:avLst/>
          </a:prstGeom>
          <a:gradFill rotWithShape="0">
            <a:gsLst>
              <a:gs pos="0">
                <a:srgbClr val="a2c1fe"/>
              </a:gs>
              <a:gs pos="100000">
                <a:srgbClr val="30394c"/>
              </a:gs>
            </a:gsLst>
            <a:lin ang="810000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"/>
          <p:cNvSpPr txBox="1"/>
          <p:nvPr/>
        </p:nvSpPr>
        <p:spPr>
          <a:xfrm>
            <a:off x="2603520" y="2467080"/>
            <a:ext cx="5936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"/>
          <p:cNvSpPr txBox="1"/>
          <p:nvPr/>
        </p:nvSpPr>
        <p:spPr>
          <a:xfrm>
            <a:off x="5019840" y="1677960"/>
            <a:ext cx="3471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ge pins (P1, P2, P3;    10m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"/>
          <p:cNvSpPr/>
          <p:nvPr/>
        </p:nvSpPr>
        <p:spPr>
          <a:xfrm>
            <a:off x="3006720" y="3317760"/>
            <a:ext cx="365040" cy="993600"/>
          </a:xfrm>
          <a:prstGeom prst="rect">
            <a:avLst/>
          </a:prstGeom>
          <a:gradFill rotWithShape="0">
            <a:gsLst>
              <a:gs pos="0">
                <a:srgbClr val="30394c"/>
              </a:gs>
              <a:gs pos="50000">
                <a:srgbClr val="a2c1fe"/>
              </a:gs>
              <a:gs pos="100000">
                <a:srgbClr val="30394c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9" name=""/>
          <p:cNvGrpSpPr/>
          <p:nvPr/>
        </p:nvGrpSpPr>
        <p:grpSpPr>
          <a:xfrm>
            <a:off x="3192480" y="3121200"/>
            <a:ext cx="0" cy="1334880"/>
            <a:chOff x="3192480" y="3121200"/>
            <a:chExt cx="0" cy="1334880"/>
          </a:xfrm>
        </p:grpSpPr>
        <p:sp>
          <p:nvSpPr>
            <p:cNvPr id="2600" name=""/>
            <p:cNvSpPr/>
            <p:nvPr/>
          </p:nvSpPr>
          <p:spPr>
            <a:xfrm flipV="1">
              <a:off x="3192480" y="4054320"/>
              <a:ext cx="0" cy="401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 flipV="1">
              <a:off x="3192480" y="3890880"/>
              <a:ext cx="0" cy="1000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V="1">
              <a:off x="3192480" y="3121200"/>
              <a:ext cx="0" cy="7174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3" name=""/>
          <p:cNvSpPr/>
          <p:nvPr/>
        </p:nvSpPr>
        <p:spPr>
          <a:xfrm>
            <a:off x="5000760" y="3321000"/>
            <a:ext cx="352440" cy="990720"/>
          </a:xfrm>
          <a:prstGeom prst="rect">
            <a:avLst/>
          </a:prstGeom>
          <a:gradFill rotWithShape="0">
            <a:gsLst>
              <a:gs pos="0">
                <a:srgbClr val="30394c"/>
              </a:gs>
              <a:gs pos="50000">
                <a:srgbClr val="a2c1fe"/>
              </a:gs>
              <a:gs pos="100000">
                <a:srgbClr val="30394c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4" name=""/>
          <p:cNvGrpSpPr/>
          <p:nvPr/>
        </p:nvGrpSpPr>
        <p:grpSpPr>
          <a:xfrm>
            <a:off x="5178600" y="3102120"/>
            <a:ext cx="0" cy="1334880"/>
            <a:chOff x="5178600" y="3102120"/>
            <a:chExt cx="0" cy="1334880"/>
          </a:xfrm>
        </p:grpSpPr>
        <p:sp>
          <p:nvSpPr>
            <p:cNvPr id="2605" name=""/>
            <p:cNvSpPr/>
            <p:nvPr/>
          </p:nvSpPr>
          <p:spPr>
            <a:xfrm flipV="1">
              <a:off x="5178600" y="4035600"/>
              <a:ext cx="0" cy="4014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V="1">
              <a:off x="5178600" y="3871800"/>
              <a:ext cx="0" cy="1000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8960" bIns="48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 flipV="1">
              <a:off x="5178600" y="3102120"/>
              <a:ext cx="0" cy="7174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8" name=""/>
          <p:cNvSpPr/>
          <p:nvPr/>
        </p:nvSpPr>
        <p:spPr>
          <a:xfrm>
            <a:off x="4349880" y="3424320"/>
            <a:ext cx="1339560" cy="581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"/>
          <p:cNvSpPr txBox="1"/>
          <p:nvPr/>
        </p:nvSpPr>
        <p:spPr>
          <a:xfrm>
            <a:off x="5870520" y="3811680"/>
            <a:ext cx="1700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"/>
          <p:cNvSpPr/>
          <p:nvPr/>
        </p:nvSpPr>
        <p:spPr>
          <a:xfrm>
            <a:off x="3338640" y="3243240"/>
            <a:ext cx="160560" cy="165600"/>
          </a:xfrm>
          <a:custGeom>
            <a:avLst/>
            <a:gdLst/>
            <a:ahLst/>
            <a:rect l="0" t="0" r="r" b="b"/>
            <a:pathLst>
              <a:path w="446" h="460">
                <a:moveTo>
                  <a:pt x="312" y="0"/>
                </a:moveTo>
                <a:lnTo>
                  <a:pt x="0" y="460"/>
                </a:lnTo>
                <a:lnTo>
                  <a:pt x="446" y="135"/>
                </a:lnTo>
                <a:lnTo>
                  <a:pt x="312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"/>
          <p:cNvSpPr txBox="1"/>
          <p:nvPr/>
        </p:nvSpPr>
        <p:spPr>
          <a:xfrm>
            <a:off x="6816600" y="2484360"/>
            <a:ext cx="1749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Plan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"/>
          <p:cNvSpPr/>
          <p:nvPr/>
        </p:nvSpPr>
        <p:spPr>
          <a:xfrm>
            <a:off x="5000760" y="3203640"/>
            <a:ext cx="65520" cy="198720"/>
          </a:xfrm>
          <a:custGeom>
            <a:avLst/>
            <a:gdLst/>
            <a:ahLst/>
            <a:rect l="0" t="0" r="r" b="b"/>
            <a:pathLst>
              <a:path w="182" h="552">
                <a:moveTo>
                  <a:pt x="0" y="21"/>
                </a:moveTo>
                <a:lnTo>
                  <a:pt x="161" y="552"/>
                </a:lnTo>
                <a:lnTo>
                  <a:pt x="182" y="0"/>
                </a:lnTo>
                <a:lnTo>
                  <a:pt x="0" y="2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3" name=""/>
          <p:cNvGrpSpPr/>
          <p:nvPr/>
        </p:nvGrpSpPr>
        <p:grpSpPr>
          <a:xfrm>
            <a:off x="7464600" y="1806480"/>
            <a:ext cx="160200" cy="160560"/>
            <a:chOff x="7464600" y="1806480"/>
            <a:chExt cx="160200" cy="160560"/>
          </a:xfrm>
        </p:grpSpPr>
        <p:sp>
          <p:nvSpPr>
            <p:cNvPr id="2614" name=""/>
            <p:cNvSpPr/>
            <p:nvPr/>
          </p:nvSpPr>
          <p:spPr>
            <a:xfrm>
              <a:off x="7481880" y="1816200"/>
              <a:ext cx="133200" cy="133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 flipH="1">
              <a:off x="7464600" y="1806480"/>
              <a:ext cx="160200" cy="160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6" name=""/>
          <p:cNvSpPr txBox="1"/>
          <p:nvPr/>
        </p:nvSpPr>
        <p:spPr>
          <a:xfrm>
            <a:off x="1881360" y="388800"/>
            <a:ext cx="533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 Interpre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4703760" y="1658880"/>
            <a:ext cx="3705480" cy="4108680"/>
            <a:chOff x="4703760" y="1658880"/>
            <a:chExt cx="3705480" cy="4108680"/>
          </a:xfrm>
        </p:grpSpPr>
        <p:sp>
          <p:nvSpPr>
            <p:cNvPr id="2618" name=""/>
            <p:cNvSpPr/>
            <p:nvPr/>
          </p:nvSpPr>
          <p:spPr>
            <a:xfrm>
              <a:off x="8408880" y="225252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 flipV="1">
              <a:off x="4703760" y="2502000"/>
              <a:ext cx="0" cy="67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 flipH="1">
              <a:off x="4703760" y="2344680"/>
              <a:ext cx="1438200" cy="836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703760" y="1658880"/>
              <a:ext cx="1438560" cy="843480"/>
            </a:xfrm>
            <a:custGeom>
              <a:avLst/>
              <a:gdLst/>
              <a:ahLst/>
              <a:rect l="0" t="0" r="r" b="b"/>
              <a:pathLst>
                <a:path fill="none" w="3996" h="2343">
                  <a:moveTo>
                    <a:pt x="0" y="2343"/>
                  </a:moveTo>
                  <a:lnTo>
                    <a:pt x="3996" y="0"/>
                  </a:lnTo>
                  <a:lnTo>
                    <a:pt x="3996" y="190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6141960" y="1658880"/>
              <a:ext cx="2266920" cy="593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H="1">
              <a:off x="7386480" y="2938320"/>
              <a:ext cx="1022400" cy="601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H="1" flipV="1">
              <a:off x="4703760" y="3181320"/>
              <a:ext cx="708120" cy="187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 flipH="1" flipV="1">
              <a:off x="5842080" y="348300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6141960" y="2344680"/>
              <a:ext cx="2266920" cy="593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 flipH="1">
              <a:off x="4840200" y="3189240"/>
              <a:ext cx="8568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4789440" y="3132000"/>
              <a:ext cx="136440" cy="57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4703760" y="3132000"/>
              <a:ext cx="136800" cy="86040"/>
            </a:xfrm>
            <a:custGeom>
              <a:avLst/>
              <a:gdLst/>
              <a:ahLst/>
              <a:rect l="0" t="0" r="r" b="b"/>
              <a:pathLst>
                <a:path fill="none" w="380" h="239">
                  <a:moveTo>
                    <a:pt x="380" y="239"/>
                  </a:moveTo>
                  <a:lnTo>
                    <a:pt x="0" y="137"/>
                  </a:lnTo>
                  <a:lnTo>
                    <a:pt x="239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 flipH="1">
              <a:off x="4948200" y="3224160"/>
              <a:ext cx="8568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4925880" y="3189240"/>
              <a:ext cx="10800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H="1" flipV="1">
              <a:off x="4840200" y="3218040"/>
              <a:ext cx="10800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4948200" y="3246480"/>
              <a:ext cx="171720" cy="20880"/>
            </a:xfrm>
            <a:custGeom>
              <a:avLst/>
              <a:gdLst/>
              <a:ahLst/>
              <a:rect l="0" t="0" r="r" b="b"/>
              <a:pathLst>
                <a:path fill="none" w="477" h="58">
                  <a:moveTo>
                    <a:pt x="477" y="0"/>
                  </a:moveTo>
                  <a:lnTo>
                    <a:pt x="239" y="58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 flipH="1">
              <a:off x="5105520" y="3252960"/>
              <a:ext cx="8568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119560" y="3246480"/>
              <a:ext cx="7164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 flipH="1" flipV="1">
              <a:off x="5033880" y="3267000"/>
              <a:ext cx="716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 flipH="1">
              <a:off x="5168880" y="3267000"/>
              <a:ext cx="85680" cy="36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191200" y="3252960"/>
              <a:ext cx="633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 flipH="1" flipV="1">
              <a:off x="5105520" y="3289320"/>
              <a:ext cx="63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 flipH="1">
              <a:off x="5226120" y="3274920"/>
              <a:ext cx="85680" cy="5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254560" y="3267000"/>
              <a:ext cx="572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 flipH="1" flipV="1">
              <a:off x="5168880" y="3303720"/>
              <a:ext cx="5724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H="1">
              <a:off x="5283360" y="3289320"/>
              <a:ext cx="85680" cy="4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5311800" y="327492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 flipH="1" flipV="1">
              <a:off x="5226120" y="3325680"/>
              <a:ext cx="57240" cy="12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 flipH="1">
              <a:off x="5334120" y="3303720"/>
              <a:ext cx="7776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369040" y="3289320"/>
              <a:ext cx="4284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 flipH="1" flipV="1">
              <a:off x="5283360" y="3338640"/>
              <a:ext cx="507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5334120" y="3346560"/>
              <a:ext cx="78120" cy="14760"/>
            </a:xfrm>
            <a:custGeom>
              <a:avLst/>
              <a:gdLst/>
              <a:ahLst/>
              <a:rect l="0" t="0" r="r" b="b"/>
              <a:pathLst>
                <a:path fill="none" w="217" h="41">
                  <a:moveTo>
                    <a:pt x="217" y="0"/>
                  </a:moveTo>
                  <a:lnTo>
                    <a:pt x="137" y="4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 flipH="1" flipV="1">
              <a:off x="5383080" y="3360600"/>
              <a:ext cx="2880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 flipH="1">
              <a:off x="5842080" y="341784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5842080" y="3409920"/>
              <a:ext cx="349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 flipH="1">
              <a:off x="5842080" y="3432240"/>
              <a:ext cx="85680" cy="5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877000" y="34178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 flipH="1">
              <a:off x="5891040" y="3446640"/>
              <a:ext cx="86040" cy="5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5927760" y="343224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 flipH="1" flipV="1">
              <a:off x="5842080" y="348300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 flipH="1">
              <a:off x="4925880" y="3160800"/>
              <a:ext cx="6516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4854600" y="3095640"/>
              <a:ext cx="136440" cy="65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 flipV="1">
              <a:off x="4789440" y="3095640"/>
              <a:ext cx="6516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 flipH="1">
              <a:off x="5033880" y="3195720"/>
              <a:ext cx="6372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4991040" y="3160800"/>
              <a:ext cx="10656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 flipH="1">
              <a:off x="5119560" y="3209760"/>
              <a:ext cx="71640" cy="36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097600" y="3195720"/>
              <a:ext cx="9360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 flipH="1" flipV="1">
              <a:off x="5033880" y="3224160"/>
              <a:ext cx="8568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 flipH="1">
              <a:off x="5191200" y="3218040"/>
              <a:ext cx="7128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191200" y="3209760"/>
              <a:ext cx="71280" cy="8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 flipH="1">
              <a:off x="5254560" y="3224160"/>
              <a:ext cx="7164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262480" y="3218040"/>
              <a:ext cx="6372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 flipH="1">
              <a:off x="5311800" y="3238560"/>
              <a:ext cx="7128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5326200" y="3224160"/>
              <a:ext cx="568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 flipH="1">
              <a:off x="5369040" y="3260880"/>
              <a:ext cx="428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383080" y="3238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H="1">
              <a:off x="5842080" y="3368520"/>
              <a:ext cx="4896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842080" y="3352680"/>
              <a:ext cx="4896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H="1">
              <a:off x="5877000" y="3382920"/>
              <a:ext cx="6516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891040" y="3368520"/>
              <a:ext cx="511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H="1">
              <a:off x="5927760" y="3389400"/>
              <a:ext cx="6336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942160" y="3382920"/>
              <a:ext cx="4896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 flipH="1">
              <a:off x="5977080" y="3403440"/>
              <a:ext cx="64800" cy="43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5991120" y="3389400"/>
              <a:ext cx="57600" cy="14760"/>
            </a:xfrm>
            <a:custGeom>
              <a:avLst/>
              <a:gdLst/>
              <a:ahLst/>
              <a:rect l="0" t="0" r="r" b="b"/>
              <a:pathLst>
                <a:path fill="none" w="160" h="41">
                  <a:moveTo>
                    <a:pt x="0" y="0"/>
                  </a:moveTo>
                  <a:lnTo>
                    <a:pt x="143" y="41"/>
                  </a:lnTo>
                  <a:lnTo>
                    <a:pt x="160" y="4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 flipH="1">
              <a:off x="4991040" y="3124080"/>
              <a:ext cx="57240" cy="36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4911840" y="3060720"/>
              <a:ext cx="136440" cy="63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V="1">
              <a:off x="4854600" y="3060720"/>
              <a:ext cx="5724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H="1">
              <a:off x="5097600" y="3152880"/>
              <a:ext cx="5688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048280" y="3124080"/>
              <a:ext cx="10620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5191200" y="3174840"/>
              <a:ext cx="4896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154480" y="3152880"/>
              <a:ext cx="8568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>
              <a:off x="5262480" y="3181320"/>
              <a:ext cx="49320" cy="36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5240160" y="3174840"/>
              <a:ext cx="7164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 flipH="1">
              <a:off x="5326200" y="3195720"/>
              <a:ext cx="5076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5311800" y="3181320"/>
              <a:ext cx="651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H="1">
              <a:off x="5383080" y="3218040"/>
              <a:ext cx="288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5376960" y="3195720"/>
              <a:ext cx="34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H="1">
              <a:off x="5842080" y="3303720"/>
              <a:ext cx="612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842080" y="3303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 flipH="1">
              <a:off x="5842080" y="3317760"/>
              <a:ext cx="5724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848200" y="3303720"/>
              <a:ext cx="511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 flipH="1">
              <a:off x="5891040" y="3332160"/>
              <a:ext cx="5724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899320" y="331776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 flipH="1">
              <a:off x="5942160" y="3346560"/>
              <a:ext cx="5688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48280" y="33321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5991120" y="3360600"/>
              <a:ext cx="5724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5999040" y="334656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6041880" y="3375000"/>
              <a:ext cx="572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048360" y="336060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>
              <a:off x="5048280" y="3089160"/>
              <a:ext cx="4284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 flipV="1">
              <a:off x="4911840" y="3032280"/>
              <a:ext cx="428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 flipH="1">
              <a:off x="5154480" y="3117960"/>
              <a:ext cx="5076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091120" y="3089160"/>
              <a:ext cx="11412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 flipH="1">
              <a:off x="5240160" y="3138480"/>
              <a:ext cx="5112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205240" y="3117960"/>
              <a:ext cx="860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 flipH="1">
              <a:off x="5311800" y="3152880"/>
              <a:ext cx="5076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291280" y="3138480"/>
              <a:ext cx="712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 flipH="1">
              <a:off x="5376960" y="3174840"/>
              <a:ext cx="349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362560" y="315288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H="1">
              <a:off x="5848200" y="3281400"/>
              <a:ext cx="428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842080" y="326700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 flipH="1">
              <a:off x="5899320" y="3295800"/>
              <a:ext cx="4284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891040" y="3281400"/>
              <a:ext cx="511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 flipH="1">
              <a:off x="5948280" y="3303720"/>
              <a:ext cx="428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942160" y="3295800"/>
              <a:ext cx="489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 flipH="1">
              <a:off x="5999040" y="3317760"/>
              <a:ext cx="4284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5991120" y="330372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>
              <a:off x="6048360" y="3332160"/>
              <a:ext cx="428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041880" y="331776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 flipH="1">
              <a:off x="6099120" y="3346560"/>
              <a:ext cx="428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091200" y="3332160"/>
              <a:ext cx="93960" cy="20880"/>
            </a:xfrm>
            <a:custGeom>
              <a:avLst/>
              <a:gdLst/>
              <a:ahLst/>
              <a:rect l="0" t="0" r="r" b="b"/>
              <a:pathLst>
                <a:path fill="none" w="261" h="58">
                  <a:moveTo>
                    <a:pt x="0" y="0"/>
                  </a:moveTo>
                  <a:lnTo>
                    <a:pt x="142" y="40"/>
                  </a:lnTo>
                  <a:lnTo>
                    <a:pt x="261" y="5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 flipH="1">
              <a:off x="6642000" y="348300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613560" y="3468600"/>
              <a:ext cx="36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 flipH="1">
              <a:off x="6692760" y="349740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649920" y="348300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 flipH="1">
              <a:off x="6756480" y="35114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707160" y="3497400"/>
              <a:ext cx="572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 flipH="1">
              <a:off x="6813720" y="3525840"/>
              <a:ext cx="1404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6764400" y="3511440"/>
              <a:ext cx="63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H="1">
              <a:off x="6885000" y="354636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827760" y="3525840"/>
              <a:ext cx="128880" cy="35280"/>
            </a:xfrm>
            <a:custGeom>
              <a:avLst/>
              <a:gdLst/>
              <a:ahLst/>
              <a:rect l="0" t="0" r="r" b="b"/>
              <a:pathLst>
                <a:path fill="none" w="358" h="98">
                  <a:moveTo>
                    <a:pt x="0" y="0"/>
                  </a:moveTo>
                  <a:lnTo>
                    <a:pt x="199" y="58"/>
                  </a:lnTo>
                  <a:lnTo>
                    <a:pt x="358" y="9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H="1">
              <a:off x="5091120" y="3052800"/>
              <a:ext cx="4284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4997520" y="3009960"/>
              <a:ext cx="13644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4954680" y="3009960"/>
              <a:ext cx="136800" cy="79560"/>
            </a:xfrm>
            <a:custGeom>
              <a:avLst/>
              <a:gdLst/>
              <a:ahLst/>
              <a:rect l="0" t="0" r="r" b="b"/>
              <a:pathLst>
                <a:path fill="none" w="380" h="221">
                  <a:moveTo>
                    <a:pt x="380" y="221"/>
                  </a:moveTo>
                  <a:lnTo>
                    <a:pt x="0" y="61"/>
                  </a:lnTo>
                  <a:lnTo>
                    <a:pt x="119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 flipH="1">
              <a:off x="5205240" y="3089160"/>
              <a:ext cx="3492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5133960" y="3052800"/>
              <a:ext cx="10620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H="1">
              <a:off x="5291280" y="311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240160" y="3089160"/>
              <a:ext cx="860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H="1">
              <a:off x="5362560" y="3124080"/>
              <a:ext cx="3492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5326200" y="3110040"/>
              <a:ext cx="86040" cy="14760"/>
            </a:xfrm>
            <a:custGeom>
              <a:avLst/>
              <a:gdLst/>
              <a:ahLst/>
              <a:rect l="0" t="0" r="r" b="b"/>
              <a:pathLst>
                <a:path fill="none" w="239" h="41">
                  <a:moveTo>
                    <a:pt x="0" y="0"/>
                  </a:moveTo>
                  <a:lnTo>
                    <a:pt x="199" y="41"/>
                  </a:lnTo>
                  <a:lnTo>
                    <a:pt x="239" y="4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H="1">
              <a:off x="5842080" y="3246480"/>
              <a:ext cx="428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5842080" y="3232080"/>
              <a:ext cx="428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 flipH="1">
              <a:off x="5891040" y="3252960"/>
              <a:ext cx="4320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5884920" y="3246480"/>
              <a:ext cx="4932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 flipH="1">
              <a:off x="5942160" y="3267000"/>
              <a:ext cx="4284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934240" y="325296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 flipH="1">
              <a:off x="5991120" y="3281400"/>
              <a:ext cx="428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5985000" y="326700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H="1">
              <a:off x="6041880" y="3295800"/>
              <a:ext cx="4284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033960" y="328140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 flipH="1">
              <a:off x="6091200" y="3309840"/>
              <a:ext cx="428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084720" y="329580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 flipH="1">
              <a:off x="6141960" y="3325680"/>
              <a:ext cx="428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134040" y="3309840"/>
              <a:ext cx="5076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 flipH="1">
              <a:off x="6613560" y="3440160"/>
              <a:ext cx="22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613560" y="3432240"/>
              <a:ext cx="223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 flipH="1">
              <a:off x="6649920" y="3454560"/>
              <a:ext cx="428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635880" y="3440160"/>
              <a:ext cx="568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 flipH="1">
              <a:off x="6707160" y="3468600"/>
              <a:ext cx="3492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692760" y="345456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 flipH="1">
              <a:off x="6764400" y="348300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6742080" y="346860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 flipH="1">
              <a:off x="6827760" y="3503520"/>
              <a:ext cx="367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6799320" y="3483000"/>
              <a:ext cx="651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H="1">
              <a:off x="6899400" y="3517920"/>
              <a:ext cx="3636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6864480" y="3503520"/>
              <a:ext cx="92520" cy="22680"/>
            </a:xfrm>
            <a:custGeom>
              <a:avLst/>
              <a:gdLst/>
              <a:ahLst/>
              <a:rect l="0" t="0" r="r" b="b"/>
              <a:pathLst>
                <a:path fill="none" w="257" h="63">
                  <a:moveTo>
                    <a:pt x="0" y="0"/>
                  </a:moveTo>
                  <a:lnTo>
                    <a:pt x="200" y="40"/>
                  </a:lnTo>
                  <a:lnTo>
                    <a:pt x="257" y="6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 flipH="1">
              <a:off x="5133960" y="303228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5033880" y="2989440"/>
              <a:ext cx="13500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 flipV="1">
              <a:off x="4997520" y="298944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 flipH="1">
              <a:off x="5240160" y="3060720"/>
              <a:ext cx="3672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 flipH="1">
              <a:off x="5326200" y="3081240"/>
              <a:ext cx="3636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5276880" y="3060720"/>
              <a:ext cx="8568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 flipH="1">
              <a:off x="5397480" y="3095640"/>
              <a:ext cx="428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5362560" y="3081240"/>
              <a:ext cx="77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 flipH="1">
              <a:off x="5842080" y="320976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5842080" y="3203640"/>
              <a:ext cx="2844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 flipH="1">
              <a:off x="5884920" y="322416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5870520" y="320976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 flipH="1">
              <a:off x="5934240" y="3232080"/>
              <a:ext cx="3636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919840" y="3224160"/>
              <a:ext cx="507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 flipH="1">
              <a:off x="5985000" y="324648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5970600" y="323208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H="1">
              <a:off x="6033960" y="3260880"/>
              <a:ext cx="367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6019920" y="32464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 flipH="1">
              <a:off x="6084720" y="3274920"/>
              <a:ext cx="349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070680" y="3260880"/>
              <a:ext cx="489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 flipH="1">
              <a:off x="6134040" y="3289320"/>
              <a:ext cx="367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6119640" y="3274920"/>
              <a:ext cx="65520" cy="14760"/>
            </a:xfrm>
            <a:custGeom>
              <a:avLst/>
              <a:gdLst/>
              <a:ahLst/>
              <a:rect l="0" t="0" r="r" b="b"/>
              <a:pathLst>
                <a:path fill="none" w="182" h="41">
                  <a:moveTo>
                    <a:pt x="0" y="0"/>
                  </a:moveTo>
                  <a:lnTo>
                    <a:pt x="143" y="41"/>
                  </a:lnTo>
                  <a:lnTo>
                    <a:pt x="182" y="4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H="1">
              <a:off x="6613560" y="3403440"/>
              <a:ext cx="792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6613560" y="34034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H="1">
              <a:off x="6635880" y="3417840"/>
              <a:ext cx="428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6621480" y="340344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>
              <a:off x="6692760" y="343224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678720" y="341784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6742080" y="3446640"/>
              <a:ext cx="3672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6727680" y="3432240"/>
              <a:ext cx="511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 flipH="1">
              <a:off x="6799320" y="3460680"/>
              <a:ext cx="428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6778800" y="3446640"/>
              <a:ext cx="633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 flipH="1">
              <a:off x="6864480" y="34830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6842160" y="3460680"/>
              <a:ext cx="572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 flipH="1">
              <a:off x="6935760" y="351144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899400" y="3483000"/>
              <a:ext cx="568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 flipH="1">
              <a:off x="5168880" y="3003480"/>
              <a:ext cx="3636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068800" y="2967120"/>
              <a:ext cx="13644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 flipV="1">
              <a:off x="5033880" y="296712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 flipH="1">
              <a:off x="5276880" y="303228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5205240" y="3003480"/>
              <a:ext cx="10656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 flipH="1" flipV="1">
              <a:off x="5168880" y="3032280"/>
              <a:ext cx="10800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 flipH="1">
              <a:off x="5362560" y="306072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 flipH="1">
              <a:off x="5440320" y="307512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5397480" y="3060720"/>
              <a:ext cx="86040" cy="20880"/>
            </a:xfrm>
            <a:custGeom>
              <a:avLst/>
              <a:gdLst/>
              <a:ahLst/>
              <a:rect l="0" t="0" r="r" b="b"/>
              <a:pathLst>
                <a:path fill="none" w="239" h="58">
                  <a:moveTo>
                    <a:pt x="0" y="0"/>
                  </a:moveTo>
                  <a:lnTo>
                    <a:pt x="199" y="40"/>
                  </a:lnTo>
                  <a:lnTo>
                    <a:pt x="239" y="5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 flipH="1">
              <a:off x="5842080" y="3174840"/>
              <a:ext cx="612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5842080" y="317484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 flipH="1">
              <a:off x="5870520" y="3189240"/>
              <a:ext cx="288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5848200" y="3174840"/>
              <a:ext cx="511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 flipH="1">
              <a:off x="5919840" y="320364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5899320" y="318924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 flipH="1">
              <a:off x="5970600" y="3218040"/>
              <a:ext cx="349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5948280" y="320364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 flipH="1">
              <a:off x="6019920" y="322416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6005520" y="3218040"/>
              <a:ext cx="5076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 flipH="1">
              <a:off x="6070680" y="323856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6056280" y="322416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 flipH="1">
              <a:off x="6119640" y="3252960"/>
              <a:ext cx="3672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6105600" y="32385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 flipH="1">
              <a:off x="6170760" y="3281400"/>
              <a:ext cx="140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6156360" y="3252960"/>
              <a:ext cx="284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 flipH="1">
              <a:off x="6621480" y="3389400"/>
              <a:ext cx="349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6613560" y="3375000"/>
              <a:ext cx="428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 flipH="1">
              <a:off x="6678720" y="340344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6656400" y="338940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 flipH="1">
              <a:off x="6727680" y="3409920"/>
              <a:ext cx="367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6707160" y="3403440"/>
              <a:ext cx="5724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 flipH="1">
              <a:off x="6778800" y="3425760"/>
              <a:ext cx="349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6764400" y="3409920"/>
              <a:ext cx="4932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 flipH="1">
              <a:off x="6842160" y="344664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6813720" y="3425760"/>
              <a:ext cx="5688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H="1">
              <a:off x="6899400" y="346068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870600" y="3446640"/>
              <a:ext cx="86040" cy="22680"/>
            </a:xfrm>
            <a:custGeom>
              <a:avLst/>
              <a:gdLst/>
              <a:ahLst/>
              <a:rect l="0" t="0" r="r" b="b"/>
              <a:pathLst>
                <a:path fill="none" w="239" h="63">
                  <a:moveTo>
                    <a:pt x="0" y="0"/>
                  </a:moveTo>
                  <a:lnTo>
                    <a:pt x="181" y="40"/>
                  </a:lnTo>
                  <a:lnTo>
                    <a:pt x="239" y="6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H="1">
              <a:off x="5205240" y="2989440"/>
              <a:ext cx="349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5105520" y="2952720"/>
              <a:ext cx="134640" cy="36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flipV="1">
              <a:off x="5068800" y="2952720"/>
              <a:ext cx="367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H="1">
              <a:off x="5311800" y="3017880"/>
              <a:ext cx="36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5240160" y="2989440"/>
              <a:ext cx="10800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flipH="1">
              <a:off x="5397480" y="303840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348160" y="3017880"/>
              <a:ext cx="8568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 flipH="1" flipV="1">
              <a:off x="5311800" y="3032280"/>
              <a:ext cx="8568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 flipH="1">
              <a:off x="5468760" y="3052800"/>
              <a:ext cx="367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5505480" y="3052800"/>
              <a:ext cx="428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>
              <a:off x="5848200" y="3152880"/>
              <a:ext cx="3672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842080" y="3146400"/>
              <a:ext cx="4284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flipH="1">
              <a:off x="5899320" y="316692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884920" y="315288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flipH="1">
              <a:off x="5948280" y="3181320"/>
              <a:ext cx="367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934240" y="316692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 flipH="1">
              <a:off x="6005520" y="319572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985000" y="318132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 flipH="1">
              <a:off x="6056280" y="320976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033960" y="319572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>
              <a:off x="6105600" y="322416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084720" y="320976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6156360" y="323856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134040" y="3224160"/>
              <a:ext cx="507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 flipH="1">
              <a:off x="6613560" y="3352680"/>
              <a:ext cx="2844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6613560" y="3346560"/>
              <a:ext cx="2844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 flipH="1">
              <a:off x="6656400" y="3368520"/>
              <a:ext cx="3636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6642000" y="3352680"/>
              <a:ext cx="5076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 flipH="1">
              <a:off x="6707160" y="338292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6692760" y="336852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H="1">
              <a:off x="6764400" y="3397320"/>
              <a:ext cx="2844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742080" y="338292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 flipH="1">
              <a:off x="6813720" y="3409920"/>
              <a:ext cx="3636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792840" y="3397320"/>
              <a:ext cx="5724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 flipH="1">
              <a:off x="6870600" y="3425760"/>
              <a:ext cx="367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6850080" y="3409920"/>
              <a:ext cx="5724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 flipH="1">
              <a:off x="6935760" y="3446640"/>
              <a:ext cx="205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6907320" y="342576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 flipH="1">
              <a:off x="5240160" y="2967120"/>
              <a:ext cx="288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5133960" y="2932200"/>
              <a:ext cx="13500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 flipV="1">
              <a:off x="5105520" y="293220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 flipH="1">
              <a:off x="5348160" y="2995560"/>
              <a:ext cx="288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5268960" y="2967120"/>
              <a:ext cx="10800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 flipH="1">
              <a:off x="5433840" y="3017880"/>
              <a:ext cx="288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5376960" y="2995560"/>
              <a:ext cx="8568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 flipH="1">
              <a:off x="5505480" y="303840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5462640" y="3017880"/>
              <a:ext cx="7128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 flipH="1" flipV="1">
              <a:off x="5433840" y="3038400"/>
              <a:ext cx="716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 flipH="1">
              <a:off x="5591160" y="3052800"/>
              <a:ext cx="648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5597640" y="3052800"/>
              <a:ext cx="2988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 flipH="1">
              <a:off x="5842080" y="3124080"/>
              <a:ext cx="205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5827680" y="3110040"/>
              <a:ext cx="349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 flipH="1">
              <a:off x="5884920" y="313848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5862600" y="31240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 flipH="1">
              <a:off x="5934240" y="315288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5913360" y="313848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 flipH="1">
              <a:off x="5985000" y="3160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5962680" y="3152880"/>
              <a:ext cx="572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 flipH="1">
              <a:off x="6033960" y="3174840"/>
              <a:ext cx="367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6019920" y="316080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H="1">
              <a:off x="6084720" y="318924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070680" y="317484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H="1">
              <a:off x="6134040" y="3203640"/>
              <a:ext cx="367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6119640" y="3189240"/>
              <a:ext cx="65520" cy="20880"/>
            </a:xfrm>
            <a:custGeom>
              <a:avLst/>
              <a:gdLst/>
              <a:ahLst/>
              <a:rect l="0" t="0" r="r" b="b"/>
              <a:pathLst>
                <a:path fill="none" w="182" h="58">
                  <a:moveTo>
                    <a:pt x="0" y="0"/>
                  </a:moveTo>
                  <a:lnTo>
                    <a:pt x="143" y="40"/>
                  </a:lnTo>
                  <a:lnTo>
                    <a:pt x="182" y="5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 flipH="1">
              <a:off x="6613560" y="332568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6613560" y="3317760"/>
              <a:ext cx="79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H="1">
              <a:off x="6642000" y="3338640"/>
              <a:ext cx="2880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6621480" y="3325680"/>
              <a:ext cx="49320" cy="12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 flipH="1">
              <a:off x="6692760" y="3346560"/>
              <a:ext cx="2880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6670800" y="3338640"/>
              <a:ext cx="507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 flipH="1">
              <a:off x="6742080" y="336060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6721560" y="3346560"/>
              <a:ext cx="489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 flipH="1">
              <a:off x="6792840" y="337500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6770520" y="336060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 flipH="1">
              <a:off x="6850080" y="338940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6827760" y="337500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 flipH="1">
              <a:off x="6907320" y="340344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6878520" y="3389400"/>
              <a:ext cx="78120" cy="20880"/>
            </a:xfrm>
            <a:custGeom>
              <a:avLst/>
              <a:gdLst/>
              <a:ahLst/>
              <a:rect l="0" t="0" r="r" b="b"/>
              <a:pathLst>
                <a:path fill="none" w="217" h="58">
                  <a:moveTo>
                    <a:pt x="0" y="0"/>
                  </a:moveTo>
                  <a:lnTo>
                    <a:pt x="159" y="40"/>
                  </a:lnTo>
                  <a:lnTo>
                    <a:pt x="217" y="5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 flipH="1">
              <a:off x="7386480" y="3525840"/>
              <a:ext cx="208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7386480" y="352584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 flipH="1">
              <a:off x="5268960" y="2946240"/>
              <a:ext cx="284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5168880" y="2909880"/>
              <a:ext cx="12852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 flipV="1">
              <a:off x="5133960" y="290988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 flipH="1">
              <a:off x="5376960" y="297504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5297400" y="2946240"/>
              <a:ext cx="11448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 flipH="1">
              <a:off x="5462640" y="300348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5411880" y="2975040"/>
              <a:ext cx="8568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 flipH="1">
              <a:off x="5533920" y="301788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5497560" y="3003480"/>
              <a:ext cx="712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 flipH="1">
              <a:off x="5597640" y="3038400"/>
              <a:ext cx="36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568840" y="3017880"/>
              <a:ext cx="651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 flipH="1" flipV="1">
              <a:off x="5533920" y="3038400"/>
              <a:ext cx="637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 flipH="1">
              <a:off x="5670720" y="3052800"/>
              <a:ext cx="205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 flipH="1">
              <a:off x="5734080" y="3067200"/>
              <a:ext cx="79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5691240" y="305280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 flipH="1">
              <a:off x="5784840" y="3081240"/>
              <a:ext cx="1440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5742000" y="3067200"/>
              <a:ext cx="572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 flipH="1">
              <a:off x="5819760" y="3089160"/>
              <a:ext cx="284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5799240" y="3081240"/>
              <a:ext cx="489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 flipH="1">
              <a:off x="5862600" y="3103560"/>
              <a:ext cx="367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5848200" y="3089160"/>
              <a:ext cx="511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 flipH="1">
              <a:off x="5913360" y="311796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5899320" y="310356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H="1">
              <a:off x="5962680" y="3132000"/>
              <a:ext cx="3636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5948280" y="311796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 flipH="1">
              <a:off x="6019920" y="314640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5999040" y="313200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 flipH="1">
              <a:off x="6070680" y="316080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6048360" y="314640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 flipH="1">
              <a:off x="6119640" y="3174840"/>
              <a:ext cx="288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6099120" y="316080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 flipH="1">
              <a:off x="6170760" y="3195720"/>
              <a:ext cx="140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6148440" y="317484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 flipH="1">
              <a:off x="6621480" y="3303720"/>
              <a:ext cx="3492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6613560" y="3295800"/>
              <a:ext cx="428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 flipH="1">
              <a:off x="6670800" y="3317760"/>
              <a:ext cx="3636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6656400" y="330372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 flipH="1">
              <a:off x="6721560" y="333216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6707160" y="331776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 flipH="1">
              <a:off x="6770520" y="3346560"/>
              <a:ext cx="367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756480" y="33321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 flipH="1">
              <a:off x="6827760" y="3360600"/>
              <a:ext cx="288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6807240" y="334656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 flipH="1">
              <a:off x="6878520" y="337500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6856560" y="3360600"/>
              <a:ext cx="568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 flipH="1">
              <a:off x="6935760" y="3397320"/>
              <a:ext cx="2052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6913440" y="3375000"/>
              <a:ext cx="428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 flipH="1">
              <a:off x="7407360" y="351144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7386480" y="349740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 flipH="1">
              <a:off x="5297400" y="2932200"/>
              <a:ext cx="367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5197320" y="2895480"/>
              <a:ext cx="136800" cy="36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 flipV="1">
              <a:off x="5168880" y="289548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H="1">
              <a:off x="5411880" y="296064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5334120" y="2932200"/>
              <a:ext cx="10620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H="1">
              <a:off x="5497560" y="298116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5440320" y="2960640"/>
              <a:ext cx="8568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 flipH="1">
              <a:off x="5568840" y="3003480"/>
              <a:ext cx="288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5526000" y="2981160"/>
              <a:ext cx="716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 flipH="1">
              <a:off x="5634000" y="301788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5597640" y="3003480"/>
              <a:ext cx="648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 flipH="1">
              <a:off x="5691240" y="303228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662440" y="301788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 flipH="1" flipV="1">
              <a:off x="5634000" y="303840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 flipH="1">
              <a:off x="5742000" y="3046320"/>
              <a:ext cx="349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 flipH="1">
              <a:off x="5799240" y="306072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5776920" y="304632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 flipH="1">
              <a:off x="5848200" y="3075120"/>
              <a:ext cx="2880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827680" y="306072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 flipH="1">
              <a:off x="5899320" y="308916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5877000" y="307512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 flipH="1">
              <a:off x="5948280" y="3095640"/>
              <a:ext cx="288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5927760" y="3089160"/>
              <a:ext cx="4932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 flipH="1">
              <a:off x="5999040" y="3110040"/>
              <a:ext cx="2880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5977080" y="30956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 flipH="1">
              <a:off x="6048360" y="312408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027840" y="3110040"/>
              <a:ext cx="489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 flipH="1">
              <a:off x="6099120" y="313848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6076800" y="312408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 flipH="1">
              <a:off x="6148440" y="3152880"/>
              <a:ext cx="3636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134040" y="31384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 flipH="1">
              <a:off x="6613560" y="3274920"/>
              <a:ext cx="2232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613560" y="3267000"/>
              <a:ext cx="223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 flipH="1">
              <a:off x="6656400" y="328140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635880" y="3274920"/>
              <a:ext cx="4896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 flipH="1">
              <a:off x="6707160" y="3295800"/>
              <a:ext cx="2844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6684840" y="328140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 flipH="1">
              <a:off x="6756480" y="330984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6735600" y="329580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H="1">
              <a:off x="6807240" y="3325680"/>
              <a:ext cx="284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6784920" y="3309840"/>
              <a:ext cx="5076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 flipH="1">
              <a:off x="6856560" y="3338640"/>
              <a:ext cx="3636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835680" y="3325680"/>
              <a:ext cx="57240" cy="12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 flipH="1">
              <a:off x="6913440" y="3352680"/>
              <a:ext cx="288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892920" y="3338640"/>
              <a:ext cx="63720" cy="14760"/>
            </a:xfrm>
            <a:custGeom>
              <a:avLst/>
              <a:gdLst/>
              <a:ahLst/>
              <a:rect l="0" t="0" r="r" b="b"/>
              <a:pathLst>
                <a:path fill="none" w="177" h="41">
                  <a:moveTo>
                    <a:pt x="0" y="0"/>
                  </a:moveTo>
                  <a:lnTo>
                    <a:pt x="137" y="41"/>
                  </a:lnTo>
                  <a:lnTo>
                    <a:pt x="177" y="4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 flipH="1">
              <a:off x="7435800" y="3489480"/>
              <a:ext cx="2880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7386480" y="3468600"/>
              <a:ext cx="781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 flipH="1">
              <a:off x="5334120" y="290988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5226120" y="2874960"/>
              <a:ext cx="13644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V="1">
              <a:off x="5197320" y="2874960"/>
              <a:ext cx="288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 flipH="1">
              <a:off x="5440320" y="2946240"/>
              <a:ext cx="367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5362560" y="2909880"/>
              <a:ext cx="11448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 flipH="1">
              <a:off x="5526000" y="2967120"/>
              <a:ext cx="367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477040" y="2946240"/>
              <a:ext cx="8568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H="1">
              <a:off x="5597640" y="298116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5562720" y="2967120"/>
              <a:ext cx="7128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 flipH="1">
              <a:off x="5662440" y="2995560"/>
              <a:ext cx="367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5634000" y="2981160"/>
              <a:ext cx="651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>
              <a:off x="5719680" y="3009960"/>
              <a:ext cx="367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5699160" y="299556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 flipH="1">
              <a:off x="5776920" y="3024360"/>
              <a:ext cx="2844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756400" y="300996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 flipH="1" flipV="1">
              <a:off x="5719680" y="3032280"/>
              <a:ext cx="572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 flipH="1">
              <a:off x="5827680" y="303840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H="1">
              <a:off x="5877000" y="305280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 flipH="1">
              <a:off x="5927760" y="3067200"/>
              <a:ext cx="3492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5913360" y="305280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 flipH="1">
              <a:off x="5977080" y="3081240"/>
              <a:ext cx="36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5962680" y="306720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H="1">
              <a:off x="6027840" y="309564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6013440" y="308124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H="1">
              <a:off x="6076800" y="3110040"/>
              <a:ext cx="367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6062760" y="30956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 flipH="1">
              <a:off x="6134040" y="3117960"/>
              <a:ext cx="288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6113520" y="3110040"/>
              <a:ext cx="71640" cy="14760"/>
            </a:xfrm>
            <a:custGeom>
              <a:avLst/>
              <a:gdLst/>
              <a:ahLst/>
              <a:rect l="0" t="0" r="r" b="b"/>
              <a:pathLst>
                <a:path fill="none" w="199" h="41">
                  <a:moveTo>
                    <a:pt x="0" y="0"/>
                  </a:moveTo>
                  <a:lnTo>
                    <a:pt x="137" y="23"/>
                  </a:lnTo>
                  <a:lnTo>
                    <a:pt x="199" y="4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 flipH="1">
              <a:off x="6635880" y="3252960"/>
              <a:ext cx="3492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6613560" y="323856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 flipH="1">
              <a:off x="6684840" y="3267000"/>
              <a:ext cx="367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670800" y="325296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 flipH="1">
              <a:off x="6735600" y="328140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6721560" y="326700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 flipH="1">
              <a:off x="6784920" y="3295800"/>
              <a:ext cx="367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6770520" y="3281400"/>
              <a:ext cx="511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 flipH="1">
              <a:off x="6835680" y="3303720"/>
              <a:ext cx="3492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6821640" y="3295800"/>
              <a:ext cx="489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 flipH="1">
              <a:off x="6892920" y="3317760"/>
              <a:ext cx="284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870600" y="330372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H="1">
              <a:off x="6942240" y="3346560"/>
              <a:ext cx="1404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6921360" y="331776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 flipH="1">
              <a:off x="7464600" y="3475080"/>
              <a:ext cx="36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386480" y="3446640"/>
              <a:ext cx="11448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 flipH="1">
              <a:off x="5362560" y="289548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5262480" y="2860560"/>
              <a:ext cx="13500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 flipV="1">
              <a:off x="5226120" y="2860560"/>
              <a:ext cx="36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 flipH="1">
              <a:off x="5477040" y="2924280"/>
              <a:ext cx="2844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5397480" y="2895480"/>
              <a:ext cx="10800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H="1">
              <a:off x="5562720" y="295272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5505480" y="2924280"/>
              <a:ext cx="8568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H="1">
              <a:off x="5634000" y="296712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5591160" y="2952720"/>
              <a:ext cx="712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 flipH="1">
              <a:off x="5699160" y="298116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5662440" y="2967120"/>
              <a:ext cx="651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H="1">
              <a:off x="5756400" y="299556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727600" y="298116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 flipH="1">
              <a:off x="5805360" y="3009960"/>
              <a:ext cx="367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5784840" y="299556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H="1">
              <a:off x="5862600" y="302436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5842080" y="300996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H="1" flipV="1">
              <a:off x="5805360" y="3024360"/>
              <a:ext cx="572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H="1">
              <a:off x="5913360" y="3038400"/>
              <a:ext cx="288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5891040" y="3024360"/>
              <a:ext cx="511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H="1" flipV="1">
              <a:off x="5862600" y="303840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H="1">
              <a:off x="5962680" y="3046320"/>
              <a:ext cx="284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5942160" y="3038400"/>
              <a:ext cx="489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 flipH="1">
              <a:off x="6013440" y="306072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5991120" y="304632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 flipH="1">
              <a:off x="6062760" y="307512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6041880" y="306072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 flipH="1">
              <a:off x="6113520" y="3089160"/>
              <a:ext cx="284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091200" y="307512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 flipH="1">
              <a:off x="6162840" y="3110040"/>
              <a:ext cx="219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6141960" y="3089160"/>
              <a:ext cx="4284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 flipH="1">
              <a:off x="6613560" y="321804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6613560" y="3209760"/>
              <a:ext cx="36360" cy="8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 flipH="1">
              <a:off x="6670800" y="3232080"/>
              <a:ext cx="284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6649920" y="321804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 flipH="1">
              <a:off x="6721560" y="324648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699240" y="32320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flipH="1">
              <a:off x="6770520" y="3260880"/>
              <a:ext cx="288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6750000" y="324648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flipH="1">
              <a:off x="6821640" y="3274920"/>
              <a:ext cx="284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6799320" y="326088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flipH="1">
              <a:off x="6870600" y="3289320"/>
              <a:ext cx="288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6850080" y="327492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flipH="1">
              <a:off x="6921360" y="3303720"/>
              <a:ext cx="349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6899400" y="3289320"/>
              <a:ext cx="568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flipH="1">
              <a:off x="7386480" y="34257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7386480" y="3417840"/>
              <a:ext cx="648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 flipH="1">
              <a:off x="7500960" y="345456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 flipH="1">
              <a:off x="5397480" y="288144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flipV="1">
              <a:off x="5262480" y="2838600"/>
              <a:ext cx="2880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 flipH="1">
              <a:off x="5505480" y="2917800"/>
              <a:ext cx="2844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425920" y="2881440"/>
              <a:ext cx="10800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flipH="1">
              <a:off x="5591160" y="2938320"/>
              <a:ext cx="36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533920" y="2917800"/>
              <a:ext cx="936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 flipH="1">
              <a:off x="5662440" y="2952720"/>
              <a:ext cx="367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627520" y="2938320"/>
              <a:ext cx="716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 flipH="1">
              <a:off x="5727600" y="2967120"/>
              <a:ext cx="349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699160" y="2952720"/>
              <a:ext cx="63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 flipH="1">
              <a:off x="5784840" y="297504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5762520" y="2967120"/>
              <a:ext cx="572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 flipH="1">
              <a:off x="5842080" y="298944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5819760" y="29750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 flipH="1">
              <a:off x="5891040" y="3003480"/>
              <a:ext cx="367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870520" y="2989440"/>
              <a:ext cx="572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H="1">
              <a:off x="5942160" y="301788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5927760" y="300348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 flipH="1">
              <a:off x="5991120" y="3032280"/>
              <a:ext cx="367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5977080" y="30178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 flipH="1">
              <a:off x="6041880" y="304632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027840" y="3032280"/>
              <a:ext cx="489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 flipH="1">
              <a:off x="6091200" y="3052800"/>
              <a:ext cx="367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076800" y="3046320"/>
              <a:ext cx="5112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 flipH="1">
              <a:off x="6141960" y="3067200"/>
              <a:ext cx="3492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127920" y="3052800"/>
              <a:ext cx="57600" cy="22680"/>
            </a:xfrm>
            <a:custGeom>
              <a:avLst/>
              <a:gdLst/>
              <a:ahLst/>
              <a:rect l="0" t="0" r="r" b="b"/>
              <a:pathLst>
                <a:path fill="none" w="160" h="63">
                  <a:moveTo>
                    <a:pt x="0" y="0"/>
                  </a:moveTo>
                  <a:lnTo>
                    <a:pt x="138" y="40"/>
                  </a:lnTo>
                  <a:lnTo>
                    <a:pt x="160" y="6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 flipH="1">
              <a:off x="6613560" y="3189240"/>
              <a:ext cx="1440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6613560" y="3181320"/>
              <a:ext cx="1440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H="1">
              <a:off x="6649920" y="3203640"/>
              <a:ext cx="288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6627960" y="31892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H="1">
              <a:off x="6699240" y="321804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6678720" y="320364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H="1">
              <a:off x="6750000" y="323208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6727680" y="3218040"/>
              <a:ext cx="572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H="1">
              <a:off x="6799320" y="323856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784920" y="3232080"/>
              <a:ext cx="5076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H="1">
              <a:off x="6850080" y="3252960"/>
              <a:ext cx="3492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835680" y="323856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6899400" y="326700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6885000" y="325296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6956280" y="32958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6935760" y="3267000"/>
              <a:ext cx="205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H="1">
              <a:off x="7392960" y="3409920"/>
              <a:ext cx="3672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7386480" y="3397320"/>
              <a:ext cx="4320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>
              <a:off x="7529400" y="343224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7429680" y="3409920"/>
              <a:ext cx="1346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 flipH="1" flipV="1">
              <a:off x="7392960" y="3425760"/>
              <a:ext cx="13644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 flipH="1">
              <a:off x="5425920" y="2874960"/>
              <a:ext cx="3672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5326200" y="2817720"/>
              <a:ext cx="136440" cy="57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5291280" y="2817720"/>
              <a:ext cx="135360" cy="63720"/>
            </a:xfrm>
            <a:custGeom>
              <a:avLst/>
              <a:gdLst/>
              <a:ahLst/>
              <a:rect l="0" t="0" r="r" b="b"/>
              <a:pathLst>
                <a:path fill="none" w="376" h="177">
                  <a:moveTo>
                    <a:pt x="376" y="177"/>
                  </a:moveTo>
                  <a:lnTo>
                    <a:pt x="0" y="57"/>
                  </a:lnTo>
                  <a:lnTo>
                    <a:pt x="98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 flipH="1">
              <a:off x="5533920" y="290340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5462640" y="2874960"/>
              <a:ext cx="10620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 flipH="1">
              <a:off x="5627520" y="2924280"/>
              <a:ext cx="2700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5568840" y="2903400"/>
              <a:ext cx="8568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5699160" y="293832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654520" y="2924280"/>
              <a:ext cx="7308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 flipH="1">
              <a:off x="5762520" y="294624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5727600" y="2938320"/>
              <a:ext cx="637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H="1">
              <a:off x="5819760" y="296064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5791320" y="2946240"/>
              <a:ext cx="568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 flipH="1">
              <a:off x="5870520" y="297504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5848200" y="296064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H="1">
              <a:off x="5927760" y="298116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5905440" y="2975040"/>
              <a:ext cx="5076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H="1">
              <a:off x="5977080" y="299556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5956200" y="298116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6027840" y="300996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6005520" y="29955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 flipH="1">
              <a:off x="6076800" y="3024360"/>
              <a:ext cx="2880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6056280" y="300996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H="1">
              <a:off x="6127920" y="303840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6105600" y="302436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 flipH="1">
              <a:off x="6176880" y="306720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6156360" y="3038400"/>
              <a:ext cx="284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 flipH="1">
              <a:off x="6627960" y="316692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6613560" y="3160800"/>
              <a:ext cx="5076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 flipH="1">
              <a:off x="6678720" y="318132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664320" y="316692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 flipH="1">
              <a:off x="6727680" y="3195720"/>
              <a:ext cx="367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713640" y="318132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H="1">
              <a:off x="6784920" y="3209760"/>
              <a:ext cx="288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6764400" y="319572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 flipH="1">
              <a:off x="6835680" y="3224160"/>
              <a:ext cx="288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6813720" y="32097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 flipH="1">
              <a:off x="6885000" y="323856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6864480" y="322416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 flipH="1">
              <a:off x="6935760" y="3252960"/>
              <a:ext cx="205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 flipH="1">
              <a:off x="7429680" y="3397320"/>
              <a:ext cx="2844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7386480" y="3382920"/>
              <a:ext cx="716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 flipH="1">
              <a:off x="7564320" y="3417840"/>
              <a:ext cx="288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7458120" y="3397320"/>
              <a:ext cx="1350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 flipH="1">
              <a:off x="5462640" y="286056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5354640" y="2803680"/>
              <a:ext cx="136440" cy="56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 flipV="1">
              <a:off x="5326200" y="280368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 flipH="1">
              <a:off x="5568840" y="2895480"/>
              <a:ext cx="2880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5491080" y="2860560"/>
              <a:ext cx="10656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 flipH="1">
              <a:off x="5654520" y="2917800"/>
              <a:ext cx="3672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597640" y="2895480"/>
              <a:ext cx="936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 flipH="1">
              <a:off x="5727600" y="2924280"/>
              <a:ext cx="349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5691240" y="2917800"/>
              <a:ext cx="7128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 flipH="1">
              <a:off x="5791320" y="293220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5762520" y="2924280"/>
              <a:ext cx="572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 flipH="1">
              <a:off x="5848200" y="2938320"/>
              <a:ext cx="367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5819760" y="2932200"/>
              <a:ext cx="6516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 flipH="1">
              <a:off x="5905440" y="2952720"/>
              <a:ext cx="288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5884920" y="293832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 flipH="1">
              <a:off x="5956200" y="2967120"/>
              <a:ext cx="2880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5934240" y="295272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 flipH="1">
              <a:off x="6005520" y="2981160"/>
              <a:ext cx="36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5985000" y="2967120"/>
              <a:ext cx="5688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 flipH="1">
              <a:off x="6056280" y="299556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6041880" y="298116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 flipH="1">
              <a:off x="6105600" y="3003480"/>
              <a:ext cx="3636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6091200" y="2995560"/>
              <a:ext cx="507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 flipH="1">
              <a:off x="6156360" y="302436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6141960" y="3003480"/>
              <a:ext cx="428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 flipH="1">
              <a:off x="6613560" y="313848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613560" y="3132000"/>
              <a:ext cx="2844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 flipH="1">
              <a:off x="6664320" y="315288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6642000" y="31384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 flipH="1">
              <a:off x="6713640" y="316692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6692760" y="315288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 flipH="1">
              <a:off x="6764400" y="3174840"/>
              <a:ext cx="284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6742080" y="3166920"/>
              <a:ext cx="507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 flipH="1">
              <a:off x="6813720" y="318924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6792840" y="317484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 flipH="1">
              <a:off x="6864480" y="320364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6842160" y="31892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 flipH="1">
              <a:off x="6913440" y="3218040"/>
              <a:ext cx="367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6892920" y="3203640"/>
              <a:ext cx="63720" cy="14760"/>
            </a:xfrm>
            <a:custGeom>
              <a:avLst/>
              <a:gdLst/>
              <a:ahLst/>
              <a:rect l="0" t="0" r="r" b="b"/>
              <a:pathLst>
                <a:path fill="none" w="177" h="41">
                  <a:moveTo>
                    <a:pt x="0" y="0"/>
                  </a:moveTo>
                  <a:lnTo>
                    <a:pt x="159" y="41"/>
                  </a:lnTo>
                  <a:lnTo>
                    <a:pt x="177" y="4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 flipH="1" flipV="1">
              <a:off x="6913440" y="3238560"/>
              <a:ext cx="428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 flipH="1">
              <a:off x="7458120" y="338292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7386480" y="3360600"/>
              <a:ext cx="1065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 flipH="1">
              <a:off x="7593120" y="339732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7493040" y="3382920"/>
              <a:ext cx="136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 flipH="1">
              <a:off x="5491080" y="2846520"/>
              <a:ext cx="349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5391000" y="2781360"/>
              <a:ext cx="135000" cy="65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 flipV="1">
              <a:off x="5354640" y="278136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 flipH="1">
              <a:off x="5597640" y="2881440"/>
              <a:ext cx="363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5526000" y="2846520"/>
              <a:ext cx="10800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 flipH="1">
              <a:off x="5691240" y="290340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5634000" y="2881440"/>
              <a:ext cx="8568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 flipH="1">
              <a:off x="5762520" y="2909880"/>
              <a:ext cx="288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5719680" y="2903400"/>
              <a:ext cx="7164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 flipH="1">
              <a:off x="5819760" y="2917800"/>
              <a:ext cx="36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5791320" y="2909880"/>
              <a:ext cx="6480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 flipH="1">
              <a:off x="5884920" y="292428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5856120" y="2917800"/>
              <a:ext cx="5724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 flipH="1">
              <a:off x="5934240" y="2938320"/>
              <a:ext cx="36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5913360" y="2924280"/>
              <a:ext cx="572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 flipH="1">
              <a:off x="5985000" y="2946240"/>
              <a:ext cx="349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5970600" y="293832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 flipH="1">
              <a:off x="6041880" y="2960640"/>
              <a:ext cx="288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6019920" y="29462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 flipH="1">
              <a:off x="6091200" y="297504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6070680" y="296064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 flipH="1">
              <a:off x="6141960" y="2989440"/>
              <a:ext cx="2880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6119640" y="2975040"/>
              <a:ext cx="65520" cy="14760"/>
            </a:xfrm>
            <a:custGeom>
              <a:avLst/>
              <a:gdLst/>
              <a:ahLst/>
              <a:rect l="0" t="0" r="r" b="b"/>
              <a:pathLst>
                <a:path fill="none" w="182" h="41">
                  <a:moveTo>
                    <a:pt x="0" y="0"/>
                  </a:moveTo>
                  <a:lnTo>
                    <a:pt x="143" y="41"/>
                  </a:lnTo>
                  <a:lnTo>
                    <a:pt x="182" y="4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 flipH="1">
              <a:off x="6613560" y="3103560"/>
              <a:ext cx="1440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6613560" y="310356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6642000" y="3117960"/>
              <a:ext cx="367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6627960" y="31035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 flipH="1">
              <a:off x="6692760" y="3132000"/>
              <a:ext cx="349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6678720" y="3117960"/>
              <a:ext cx="489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H="1">
              <a:off x="6742080" y="3146400"/>
              <a:ext cx="367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6727680" y="3132000"/>
              <a:ext cx="511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 flipH="1">
              <a:off x="6792840" y="3160800"/>
              <a:ext cx="349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6778800" y="314640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 flipH="1">
              <a:off x="6842160" y="3174840"/>
              <a:ext cx="36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6827760" y="316080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H="1">
              <a:off x="6892920" y="318924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6878520" y="317484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 flipH="1">
              <a:off x="6950160" y="3209760"/>
              <a:ext cx="6120" cy="8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6927840" y="3189240"/>
              <a:ext cx="4284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 flipH="1">
              <a:off x="7386480" y="3352680"/>
              <a:ext cx="2880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386480" y="3338640"/>
              <a:ext cx="2880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 flipH="1">
              <a:off x="7493040" y="336852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415280" y="3352680"/>
              <a:ext cx="10620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 flipH="1">
              <a:off x="7629480" y="3375000"/>
              <a:ext cx="288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7521480" y="3368520"/>
              <a:ext cx="13680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 flipH="1">
              <a:off x="5526000" y="2832120"/>
              <a:ext cx="30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5419800" y="2760840"/>
              <a:ext cx="136440" cy="71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 flipV="1">
              <a:off x="5391000" y="2760840"/>
              <a:ext cx="288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 flipH="1">
              <a:off x="5634000" y="286704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 flipH="1">
              <a:off x="5719680" y="2881440"/>
              <a:ext cx="2880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5662440" y="2867040"/>
              <a:ext cx="860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 flipH="1">
              <a:off x="5791320" y="288936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5748480" y="2881440"/>
              <a:ext cx="7920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 flipH="1">
              <a:off x="5856120" y="2895480"/>
              <a:ext cx="288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827680" y="288936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 flipH="1">
              <a:off x="5913360" y="290340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5884920" y="2895480"/>
              <a:ext cx="572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 flipH="1">
              <a:off x="5970600" y="291780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5942160" y="2903400"/>
              <a:ext cx="568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 flipH="1">
              <a:off x="6019920" y="293220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5999040" y="291780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 flipH="1">
              <a:off x="6070680" y="293832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6048360" y="2932200"/>
              <a:ext cx="5076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 flipH="1">
              <a:off x="6119640" y="2952720"/>
              <a:ext cx="288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6099120" y="293832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 flipH="1">
              <a:off x="6170760" y="2981160"/>
              <a:ext cx="14040" cy="8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6148440" y="2952720"/>
              <a:ext cx="363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 flipH="1">
              <a:off x="6627960" y="308916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6613560" y="3075120"/>
              <a:ext cx="428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 flipH="1">
              <a:off x="6678720" y="310356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6656400" y="30891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 flipH="1">
              <a:off x="6727680" y="3117960"/>
              <a:ext cx="2880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6707160" y="310356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 flipH="1">
              <a:off x="6778800" y="312408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6756480" y="3117960"/>
              <a:ext cx="5076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H="1">
              <a:off x="6827760" y="3138480"/>
              <a:ext cx="288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6807240" y="312408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 flipH="1">
              <a:off x="6878520" y="3152880"/>
              <a:ext cx="2880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6856560" y="31384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 flipH="1">
              <a:off x="6927840" y="316692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6907320" y="3152880"/>
              <a:ext cx="86040" cy="22680"/>
            </a:xfrm>
            <a:custGeom>
              <a:avLst/>
              <a:gdLst/>
              <a:ahLst/>
              <a:rect l="0" t="0" r="r" b="b"/>
              <a:pathLst>
                <a:path fill="none" w="239" h="63">
                  <a:moveTo>
                    <a:pt x="0" y="0"/>
                  </a:moveTo>
                  <a:lnTo>
                    <a:pt x="137" y="40"/>
                  </a:lnTo>
                  <a:lnTo>
                    <a:pt x="239" y="6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 flipH="1">
              <a:off x="7415280" y="333216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7386480" y="3317760"/>
              <a:ext cx="637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 flipH="1">
              <a:off x="7521480" y="3352680"/>
              <a:ext cx="3672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7450200" y="3332160"/>
              <a:ext cx="1080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 flipH="1">
              <a:off x="7658280" y="336060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7558200" y="3352680"/>
              <a:ext cx="13500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 flipH="1">
              <a:off x="5556240" y="280980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5454720" y="2746440"/>
              <a:ext cx="136440" cy="63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 flipV="1">
              <a:off x="5419800" y="274644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 flipH="1">
              <a:off x="5662440" y="2846520"/>
              <a:ext cx="367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5591160" y="2809800"/>
              <a:ext cx="108000" cy="36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 flipH="1" flipV="1">
              <a:off x="5556240" y="2832120"/>
              <a:ext cx="10620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 flipH="1">
              <a:off x="5748480" y="2860560"/>
              <a:ext cx="3636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 flipH="1">
              <a:off x="5827680" y="287496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5784840" y="2860560"/>
              <a:ext cx="712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 flipH="1">
              <a:off x="5884920" y="287496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856120" y="2874960"/>
              <a:ext cx="637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 flipH="1">
              <a:off x="5942160" y="2889360"/>
              <a:ext cx="349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5919840" y="287496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 flipH="1">
              <a:off x="5999040" y="289548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5977080" y="2889360"/>
              <a:ext cx="5688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 flipH="1">
              <a:off x="6048360" y="290988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6033960" y="28954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 flipH="1">
              <a:off x="6099120" y="2924280"/>
              <a:ext cx="349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6084720" y="290988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 flipH="1">
              <a:off x="6148440" y="2938320"/>
              <a:ext cx="36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6134040" y="292428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 flipH="1">
              <a:off x="6613560" y="3052800"/>
              <a:ext cx="22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6613560" y="3046320"/>
              <a:ext cx="2232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 flipH="1">
              <a:off x="6656400" y="3067200"/>
              <a:ext cx="3636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6635880" y="3052800"/>
              <a:ext cx="568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 flipH="1">
              <a:off x="6707160" y="308124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6692760" y="306720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 flipH="1">
              <a:off x="6756480" y="309564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6742080" y="30812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 flipH="1">
              <a:off x="6807240" y="3110040"/>
              <a:ext cx="349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6792840" y="309564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 flipH="1">
              <a:off x="6856560" y="3124080"/>
              <a:ext cx="36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6842160" y="311004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 flipH="1">
              <a:off x="6907320" y="3132000"/>
              <a:ext cx="349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6892920" y="312408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 flipH="1">
              <a:off x="6956280" y="3146400"/>
              <a:ext cx="367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6942240" y="3132000"/>
              <a:ext cx="93960" cy="28800"/>
            </a:xfrm>
            <a:custGeom>
              <a:avLst/>
              <a:gdLst/>
              <a:ahLst/>
              <a:rect l="0" t="0" r="r" b="b"/>
              <a:pathLst>
                <a:path fill="none" w="261" h="80">
                  <a:moveTo>
                    <a:pt x="0" y="0"/>
                  </a:moveTo>
                  <a:lnTo>
                    <a:pt x="142" y="39"/>
                  </a:lnTo>
                  <a:lnTo>
                    <a:pt x="261" y="8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 flipH="1">
              <a:off x="7386480" y="3289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7386480" y="3281400"/>
              <a:ext cx="648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 flipH="1">
              <a:off x="7450200" y="330984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392960" y="3289320"/>
              <a:ext cx="8568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 flipH="1">
              <a:off x="7558200" y="333216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7478640" y="3309840"/>
              <a:ext cx="1080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"/>
            <p:cNvSpPr/>
            <p:nvPr/>
          </p:nvSpPr>
          <p:spPr>
            <a:xfrm flipH="1">
              <a:off x="7693200" y="3338640"/>
              <a:ext cx="2844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586640" y="3332160"/>
              <a:ext cx="13500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5591160" y="278928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5483160" y="2724120"/>
              <a:ext cx="136440" cy="65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4" name=""/>
            <p:cNvSpPr/>
            <p:nvPr/>
          </p:nvSpPr>
          <p:spPr>
            <a:xfrm flipV="1">
              <a:off x="5454720" y="272412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5" name=""/>
            <p:cNvSpPr/>
            <p:nvPr/>
          </p:nvSpPr>
          <p:spPr>
            <a:xfrm flipH="1">
              <a:off x="5699160" y="2817720"/>
              <a:ext cx="2844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5619600" y="2789280"/>
              <a:ext cx="10800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 flipH="1">
              <a:off x="5784840" y="2838600"/>
              <a:ext cx="2844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5727600" y="2817720"/>
              <a:ext cx="8568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 flipH="1" flipV="1">
              <a:off x="5699160" y="2846520"/>
              <a:ext cx="8568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 flipH="1">
              <a:off x="5856120" y="2846520"/>
              <a:ext cx="2880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 flipH="1">
              <a:off x="5919840" y="286056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5884920" y="2846520"/>
              <a:ext cx="633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 flipH="1">
              <a:off x="5977080" y="286704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5948280" y="2860560"/>
              <a:ext cx="5724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 flipH="1">
              <a:off x="6033960" y="2881440"/>
              <a:ext cx="2880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6005520" y="286704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 flipH="1">
              <a:off x="6084720" y="2889360"/>
              <a:ext cx="288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6062760" y="2881440"/>
              <a:ext cx="507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 flipH="1">
              <a:off x="6134040" y="290340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6113520" y="2889360"/>
              <a:ext cx="71640" cy="20880"/>
            </a:xfrm>
            <a:custGeom>
              <a:avLst/>
              <a:gdLst/>
              <a:ahLst/>
              <a:rect l="0" t="0" r="r" b="b"/>
              <a:pathLst>
                <a:path fill="none" w="199" h="58">
                  <a:moveTo>
                    <a:pt x="0" y="0"/>
                  </a:moveTo>
                  <a:lnTo>
                    <a:pt x="137" y="40"/>
                  </a:lnTo>
                  <a:lnTo>
                    <a:pt x="199" y="5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6613560" y="3024360"/>
              <a:ext cx="7920" cy="0"/>
            </a:xfrm>
            <a:custGeom>
              <a:avLst/>
              <a:gdLst/>
              <a:ahLst/>
              <a:rect l="0" t="0" r="r" b="b"/>
              <a:pathLst>
                <a:path fill="none" w="22" h="0">
                  <a:moveTo>
                    <a:pt x="22" y="0"/>
                  </a:moveTo>
                  <a:lnTo>
                    <a:pt x="0" y="0"/>
                  </a:lnTo>
                  <a:lnTo>
                    <a:pt x="22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 flipH="1">
              <a:off x="6635880" y="303840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6621480" y="302436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 flipH="1">
              <a:off x="6692760" y="3052800"/>
              <a:ext cx="288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6670800" y="303840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 flipH="1">
              <a:off x="6742080" y="306072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6721560" y="3052800"/>
              <a:ext cx="489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 flipH="1">
              <a:off x="6792840" y="3075120"/>
              <a:ext cx="288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6770520" y="3060720"/>
              <a:ext cx="511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 flipH="1">
              <a:off x="6842160" y="3089160"/>
              <a:ext cx="284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6821640" y="3075120"/>
              <a:ext cx="489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 flipH="1">
              <a:off x="6892920" y="310356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6870600" y="30891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 flipH="1">
              <a:off x="6942240" y="311796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6921360" y="310356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 flipH="1">
              <a:off x="6993000" y="313200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6970680" y="311796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 flipH="1">
              <a:off x="7064280" y="3146400"/>
              <a:ext cx="648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7021440" y="3132000"/>
              <a:ext cx="63720" cy="14760"/>
            </a:xfrm>
            <a:custGeom>
              <a:avLst/>
              <a:gdLst/>
              <a:ahLst/>
              <a:rect l="0" t="0" r="r" b="b"/>
              <a:pathLst>
                <a:path fill="none" w="177" h="41">
                  <a:moveTo>
                    <a:pt x="0" y="0"/>
                  </a:moveTo>
                  <a:lnTo>
                    <a:pt x="137" y="41"/>
                  </a:lnTo>
                  <a:lnTo>
                    <a:pt x="177" y="4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 flipH="1">
              <a:off x="7392960" y="3260880"/>
              <a:ext cx="284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 flipH="1">
              <a:off x="7478640" y="3289320"/>
              <a:ext cx="367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7421400" y="3260880"/>
              <a:ext cx="9396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H="1">
              <a:off x="7586640" y="330984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7515360" y="3289320"/>
              <a:ext cx="1062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 flipH="1">
              <a:off x="7721640" y="3325680"/>
              <a:ext cx="36360" cy="12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7621560" y="3309840"/>
              <a:ext cx="13644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H="1">
              <a:off x="5619600" y="27608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5519880" y="2709720"/>
              <a:ext cx="134640" cy="51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 flipV="1">
              <a:off x="5483160" y="2709720"/>
              <a:ext cx="367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 flipH="1">
              <a:off x="5727600" y="2795760"/>
              <a:ext cx="3492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654520" y="2760840"/>
              <a:ext cx="10800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 flipH="1">
              <a:off x="5813280" y="2809800"/>
              <a:ext cx="3492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5762520" y="2795760"/>
              <a:ext cx="8568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 flipH="1">
              <a:off x="5884920" y="282420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5848200" y="2809800"/>
              <a:ext cx="716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 flipH="1" flipV="1">
              <a:off x="5813280" y="2838600"/>
              <a:ext cx="716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 flipH="1">
              <a:off x="5948280" y="2838600"/>
              <a:ext cx="3672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 flipH="1">
              <a:off x="6005520" y="284652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 flipH="1">
              <a:off x="6062760" y="2860560"/>
              <a:ext cx="284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6041880" y="284652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 flipH="1">
              <a:off x="6113520" y="287496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6091200" y="286056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 flipH="1">
              <a:off x="6162840" y="2895480"/>
              <a:ext cx="219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6148440" y="28749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 flipH="1">
              <a:off x="6621480" y="3003480"/>
              <a:ext cx="284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6613560" y="2995560"/>
              <a:ext cx="363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 flipH="1">
              <a:off x="6670800" y="301788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6649920" y="300348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H="1">
              <a:off x="6721560" y="303228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6699240" y="30178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"/>
            <p:cNvSpPr/>
            <p:nvPr/>
          </p:nvSpPr>
          <p:spPr>
            <a:xfrm flipH="1">
              <a:off x="6770520" y="3046320"/>
              <a:ext cx="288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6750000" y="303228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 flipH="1">
              <a:off x="6821640" y="306072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6799320" y="304632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 flipH="1">
              <a:off x="6870600" y="3075120"/>
              <a:ext cx="367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6856560" y="306072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 flipH="1">
              <a:off x="6921360" y="308124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6907320" y="3075120"/>
              <a:ext cx="4896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 flipH="1">
              <a:off x="6970680" y="3095640"/>
              <a:ext cx="367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6956280" y="3081240"/>
              <a:ext cx="511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 flipH="1">
              <a:off x="7021440" y="3110040"/>
              <a:ext cx="3492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007400" y="309564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 flipH="1">
              <a:off x="7070760" y="312408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056360" y="3110040"/>
              <a:ext cx="108360" cy="28800"/>
            </a:xfrm>
            <a:custGeom>
              <a:avLst/>
              <a:gdLst/>
              <a:ahLst/>
              <a:rect l="0" t="0" r="r" b="b"/>
              <a:pathLst>
                <a:path fill="none" w="301" h="80">
                  <a:moveTo>
                    <a:pt x="0" y="0"/>
                  </a:moveTo>
                  <a:lnTo>
                    <a:pt x="142" y="39"/>
                  </a:lnTo>
                  <a:lnTo>
                    <a:pt x="279" y="80"/>
                  </a:lnTo>
                  <a:lnTo>
                    <a:pt x="301" y="8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 flipH="1">
              <a:off x="7421400" y="3232080"/>
              <a:ext cx="3672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386480" y="3209760"/>
              <a:ext cx="716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 flipH="1" flipV="1">
              <a:off x="7386480" y="324648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 flipH="1">
              <a:off x="7515360" y="3260880"/>
              <a:ext cx="284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H="1">
              <a:off x="7621560" y="3281400"/>
              <a:ext cx="284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7543800" y="3260880"/>
              <a:ext cx="1062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 flipH="1">
              <a:off x="7758000" y="3303720"/>
              <a:ext cx="2880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650000" y="3281400"/>
              <a:ext cx="1368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H="1">
              <a:off x="5654520" y="2732040"/>
              <a:ext cx="3024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5548320" y="2689200"/>
              <a:ext cx="13644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 flipV="1">
              <a:off x="5519880" y="268920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 flipH="1">
              <a:off x="5762520" y="2766960"/>
              <a:ext cx="2880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5684760" y="2732040"/>
              <a:ext cx="10656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 flipH="1">
              <a:off x="5848200" y="2789280"/>
              <a:ext cx="288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5791320" y="2766960"/>
              <a:ext cx="8568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 flipH="1">
              <a:off x="5919840" y="280368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5877000" y="2789280"/>
              <a:ext cx="712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 flipH="1">
              <a:off x="5985000" y="2817720"/>
              <a:ext cx="284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5948280" y="2803680"/>
              <a:ext cx="651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 flipH="1" flipV="1">
              <a:off x="5919840" y="2824200"/>
              <a:ext cx="651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 flipH="1">
              <a:off x="6041880" y="2824200"/>
              <a:ext cx="288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6013440" y="2817720"/>
              <a:ext cx="5724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 flipH="1" flipV="1">
              <a:off x="5985000" y="2838600"/>
              <a:ext cx="5688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 flipH="1">
              <a:off x="6091200" y="2838600"/>
              <a:ext cx="3672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 flipH="1">
              <a:off x="6148440" y="285264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6176880" y="28526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 flipH="1">
              <a:off x="6613560" y="2975040"/>
              <a:ext cx="2232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6613560" y="2967120"/>
              <a:ext cx="223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 flipH="1">
              <a:off x="6649920" y="2989440"/>
              <a:ext cx="349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6635880" y="297504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 flipH="1">
              <a:off x="6699240" y="3003480"/>
              <a:ext cx="36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6684840" y="298944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 flipH="1">
              <a:off x="6750000" y="300996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6735600" y="3003480"/>
              <a:ext cx="4932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 flipH="1">
              <a:off x="6799320" y="3024360"/>
              <a:ext cx="3636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6784920" y="30099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 flipH="1">
              <a:off x="6856560" y="303840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6835680" y="302436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 flipH="1">
              <a:off x="6907320" y="305280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6885000" y="303840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 flipH="1">
              <a:off x="6956280" y="3067200"/>
              <a:ext cx="2880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6935760" y="305280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H="1">
              <a:off x="7007400" y="308124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6985080" y="306720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 flipH="1">
              <a:off x="7056360" y="308916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7035840" y="308124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H="1">
              <a:off x="7107120" y="3103560"/>
              <a:ext cx="288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7085160" y="30891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 flipH="1">
              <a:off x="7156440" y="311796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135920" y="310356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 flipH="1">
              <a:off x="7227720" y="3132000"/>
              <a:ext cx="1620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7184880" y="3117960"/>
              <a:ext cx="590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7292880" y="314640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7243920" y="313200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9" name=""/>
            <p:cNvSpPr/>
            <p:nvPr/>
          </p:nvSpPr>
          <p:spPr>
            <a:xfrm flipH="1">
              <a:off x="7342200" y="3166920"/>
              <a:ext cx="79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7292880" y="3146400"/>
              <a:ext cx="572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 flipH="1">
              <a:off x="7386480" y="3189240"/>
              <a:ext cx="288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7350120" y="3166920"/>
              <a:ext cx="651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 flipH="1">
              <a:off x="7458120" y="320976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7415280" y="3189240"/>
              <a:ext cx="7128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 flipH="1">
              <a:off x="7543800" y="3232080"/>
              <a:ext cx="2844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7486560" y="3209760"/>
              <a:ext cx="8568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 flipH="1" flipV="1">
              <a:off x="7458120" y="3232080"/>
              <a:ext cx="8568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 flipH="1">
              <a:off x="7650000" y="3260880"/>
              <a:ext cx="367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 flipH="1">
              <a:off x="7786800" y="328140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7686720" y="3260880"/>
              <a:ext cx="1350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 flipH="1">
              <a:off x="5684760" y="270972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5576760" y="2666880"/>
              <a:ext cx="13500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 flipV="1">
              <a:off x="5548320" y="266688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 flipH="1">
              <a:off x="5791320" y="2738520"/>
              <a:ext cx="3636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5711760" y="2709720"/>
              <a:ext cx="11592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 flipH="1">
              <a:off x="5877000" y="2760840"/>
              <a:ext cx="3636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5827680" y="2738520"/>
              <a:ext cx="8568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 flipH="1">
              <a:off x="5948280" y="2781360"/>
              <a:ext cx="367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5913360" y="2760840"/>
              <a:ext cx="716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 flipH="1">
              <a:off x="6013440" y="2795760"/>
              <a:ext cx="3492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5985000" y="2781360"/>
              <a:ext cx="63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 flipH="1">
              <a:off x="6070680" y="280980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6048360" y="2795760"/>
              <a:ext cx="572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 flipH="1">
              <a:off x="6127920" y="282420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6105600" y="280980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 flipH="1" flipV="1">
              <a:off x="6070680" y="282420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 flipH="1">
              <a:off x="6176880" y="28526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6156360" y="2824200"/>
              <a:ext cx="284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 flipH="1" flipV="1">
              <a:off x="6127920" y="2838600"/>
              <a:ext cx="489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 flipH="1">
              <a:off x="6635880" y="295272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6613560" y="293832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 flipH="1">
              <a:off x="6684840" y="2967120"/>
              <a:ext cx="288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6664320" y="295272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 flipH="1">
              <a:off x="6735600" y="2981160"/>
              <a:ext cx="288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6713640" y="296712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 flipH="1">
              <a:off x="6784920" y="2995560"/>
              <a:ext cx="288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6764400" y="298116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 flipH="1">
              <a:off x="6835680" y="3009960"/>
              <a:ext cx="288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6813720" y="29955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 flipH="1">
              <a:off x="6885000" y="301788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6864480" y="3009960"/>
              <a:ext cx="489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 flipH="1">
              <a:off x="6935760" y="303228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6913440" y="301788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 flipH="1">
              <a:off x="6985080" y="3046320"/>
              <a:ext cx="3636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 flipH="1">
              <a:off x="7035840" y="306072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7021440" y="304632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 flipH="1">
              <a:off x="7085160" y="3075120"/>
              <a:ext cx="363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7070760" y="306072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 flipH="1">
              <a:off x="7135920" y="308916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7121520" y="307512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 flipH="1">
              <a:off x="7184880" y="3103560"/>
              <a:ext cx="367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7170840" y="30891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 flipH="1">
              <a:off x="7243920" y="3117960"/>
              <a:ext cx="2700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7221600" y="310356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 flipH="1">
              <a:off x="7292880" y="313200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7270920" y="3117960"/>
              <a:ext cx="5688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 flipH="1">
              <a:off x="7350120" y="314640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7327800" y="3132000"/>
              <a:ext cx="586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 flipH="1">
              <a:off x="7415280" y="316080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7386480" y="3146400"/>
              <a:ext cx="637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 flipH="1">
              <a:off x="7486560" y="318132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7450200" y="3160800"/>
              <a:ext cx="7128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 flipH="1">
              <a:off x="7572240" y="320976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7521480" y="3181320"/>
              <a:ext cx="8568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"/>
            <p:cNvSpPr/>
            <p:nvPr/>
          </p:nvSpPr>
          <p:spPr>
            <a:xfrm flipH="1">
              <a:off x="7686720" y="3232080"/>
              <a:ext cx="2844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7607160" y="3209760"/>
              <a:ext cx="1080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 flipH="1" flipV="1">
              <a:off x="7572240" y="3232080"/>
              <a:ext cx="11448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 flipH="1">
              <a:off x="7821720" y="326700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 flipH="1">
              <a:off x="5711760" y="2689200"/>
              <a:ext cx="367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5613480" y="2652840"/>
              <a:ext cx="13500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 flipV="1">
              <a:off x="5576760" y="2652840"/>
              <a:ext cx="367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 flipH="1">
              <a:off x="5827680" y="2717640"/>
              <a:ext cx="284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5748480" y="2689200"/>
              <a:ext cx="1076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 flipH="1">
              <a:off x="5913360" y="2738520"/>
              <a:ext cx="288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5856120" y="2717640"/>
              <a:ext cx="860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 flipH="1">
              <a:off x="5985000" y="276084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5942160" y="2738520"/>
              <a:ext cx="7128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 flipH="1">
              <a:off x="6048360" y="2774880"/>
              <a:ext cx="284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013440" y="2760840"/>
              <a:ext cx="633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 flipH="1">
              <a:off x="6105600" y="278928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6076800" y="277488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 flipH="1">
              <a:off x="6156360" y="280980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6134040" y="27892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 flipH="1">
              <a:off x="6613560" y="2924280"/>
              <a:ext cx="363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6613560" y="291780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 flipH="1">
              <a:off x="6664320" y="293832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649920" y="292428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"/>
            <p:cNvSpPr/>
            <p:nvPr/>
          </p:nvSpPr>
          <p:spPr>
            <a:xfrm flipH="1">
              <a:off x="6713640" y="2946240"/>
              <a:ext cx="3636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6699240" y="2938320"/>
              <a:ext cx="507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 flipH="1">
              <a:off x="6764400" y="296064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750000" y="294624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 flipH="1">
              <a:off x="6813720" y="297504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799320" y="29606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 flipH="1">
              <a:off x="6864480" y="298944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850080" y="297504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 flipH="1">
              <a:off x="6913440" y="3003480"/>
              <a:ext cx="367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899400" y="298944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 flipH="1">
              <a:off x="6970680" y="301788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950160" y="300348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 flipH="1">
              <a:off x="7021440" y="3032280"/>
              <a:ext cx="2880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6999120" y="3017880"/>
              <a:ext cx="511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"/>
            <p:cNvSpPr/>
            <p:nvPr/>
          </p:nvSpPr>
          <p:spPr>
            <a:xfrm flipH="1" flipV="1">
              <a:off x="6970680" y="303228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 flipH="1">
              <a:off x="7070760" y="303840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 flipH="1">
              <a:off x="7121520" y="305280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7099200" y="303840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 flipH="1">
              <a:off x="7170840" y="3067200"/>
              <a:ext cx="2844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7149960" y="305280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 flipH="1">
              <a:off x="7221600" y="308124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7199280" y="306720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 flipH="1">
              <a:off x="7270920" y="309564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7250040" y="308124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"/>
            <p:cNvSpPr/>
            <p:nvPr/>
          </p:nvSpPr>
          <p:spPr>
            <a:xfrm flipH="1">
              <a:off x="7327800" y="3110040"/>
              <a:ext cx="3024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7307280" y="30956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 flipH="1">
              <a:off x="7386480" y="3124080"/>
              <a:ext cx="288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7358040" y="3110040"/>
              <a:ext cx="572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 flipH="1">
              <a:off x="7450200" y="314640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7415280" y="3124080"/>
              <a:ext cx="63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 flipH="1">
              <a:off x="7521480" y="3160800"/>
              <a:ext cx="288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7478640" y="3146400"/>
              <a:ext cx="716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 flipH="1">
              <a:off x="7607160" y="3189240"/>
              <a:ext cx="288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7550280" y="3160800"/>
              <a:ext cx="8568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 flipH="1">
              <a:off x="7715160" y="320976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7635960" y="3189240"/>
              <a:ext cx="1141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"/>
            <p:cNvSpPr/>
            <p:nvPr/>
          </p:nvSpPr>
          <p:spPr>
            <a:xfrm flipH="1">
              <a:off x="7850160" y="324648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7750080" y="3209760"/>
              <a:ext cx="128520" cy="36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"/>
            <p:cNvSpPr/>
            <p:nvPr/>
          </p:nvSpPr>
          <p:spPr>
            <a:xfrm flipH="1" flipV="1">
              <a:off x="7715160" y="3232080"/>
              <a:ext cx="13500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"/>
            <p:cNvSpPr/>
            <p:nvPr/>
          </p:nvSpPr>
          <p:spPr>
            <a:xfrm flipH="1">
              <a:off x="5748480" y="266688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 flipV="1">
              <a:off x="5613480" y="2631960"/>
              <a:ext cx="2700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"/>
            <p:cNvSpPr/>
            <p:nvPr/>
          </p:nvSpPr>
          <p:spPr>
            <a:xfrm flipH="1">
              <a:off x="5856120" y="2695680"/>
              <a:ext cx="2880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5776920" y="2666880"/>
              <a:ext cx="10800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 flipH="1">
              <a:off x="5942160" y="2717640"/>
              <a:ext cx="349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5884920" y="2695680"/>
              <a:ext cx="9216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"/>
            <p:cNvSpPr/>
            <p:nvPr/>
          </p:nvSpPr>
          <p:spPr>
            <a:xfrm flipH="1">
              <a:off x="6013440" y="273852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5977080" y="2717640"/>
              <a:ext cx="7128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"/>
            <p:cNvSpPr/>
            <p:nvPr/>
          </p:nvSpPr>
          <p:spPr>
            <a:xfrm flipH="1">
              <a:off x="6076800" y="2752560"/>
              <a:ext cx="367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6048360" y="2738520"/>
              <a:ext cx="651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 flipH="1">
              <a:off x="6134040" y="2766960"/>
              <a:ext cx="367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6113520" y="2752560"/>
              <a:ext cx="71640" cy="22680"/>
            </a:xfrm>
            <a:custGeom>
              <a:avLst/>
              <a:gdLst/>
              <a:ahLst/>
              <a:rect l="0" t="0" r="r" b="b"/>
              <a:pathLst>
                <a:path fill="none" w="199" h="63">
                  <a:moveTo>
                    <a:pt x="0" y="0"/>
                  </a:moveTo>
                  <a:lnTo>
                    <a:pt x="159" y="40"/>
                  </a:lnTo>
                  <a:lnTo>
                    <a:pt x="199" y="6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"/>
            <p:cNvSpPr/>
            <p:nvPr/>
          </p:nvSpPr>
          <p:spPr>
            <a:xfrm flipH="1">
              <a:off x="6613560" y="2889360"/>
              <a:ext cx="1440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6613560" y="288936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 flipH="1">
              <a:off x="6649920" y="290340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6627960" y="288936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 flipH="1">
              <a:off x="6699240" y="291780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6678720" y="290340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"/>
            <p:cNvSpPr/>
            <p:nvPr/>
          </p:nvSpPr>
          <p:spPr>
            <a:xfrm flipH="1">
              <a:off x="6750000" y="2932200"/>
              <a:ext cx="2880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6727680" y="2917800"/>
              <a:ext cx="511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 flipH="1">
              <a:off x="6799320" y="294624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6778800" y="2932200"/>
              <a:ext cx="489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 flipH="1">
              <a:off x="6850080" y="296064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6827760" y="29462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 flipH="1">
              <a:off x="6899400" y="296712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878520" y="2960640"/>
              <a:ext cx="4932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 flipH="1">
              <a:off x="6950160" y="298116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6927840" y="296712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 flipH="1">
              <a:off x="6999120" y="2995560"/>
              <a:ext cx="288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6978600" y="298116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"/>
            <p:cNvSpPr/>
            <p:nvPr/>
          </p:nvSpPr>
          <p:spPr>
            <a:xfrm flipH="1">
              <a:off x="7050240" y="300996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7027920" y="299556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 flipH="1">
              <a:off x="7099200" y="3024360"/>
              <a:ext cx="367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7085160" y="30099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 flipH="1" flipV="1">
              <a:off x="7050240" y="3032280"/>
              <a:ext cx="4896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 flipH="1">
              <a:off x="7149960" y="303840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 flipH="1">
              <a:off x="7199280" y="3052800"/>
              <a:ext cx="367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 flipH="1">
              <a:off x="7250040" y="3067200"/>
              <a:ext cx="349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7236000" y="305280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 flipH="1">
              <a:off x="7307280" y="307512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7284960" y="3067200"/>
              <a:ext cx="507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 flipH="1">
              <a:off x="7358040" y="3089160"/>
              <a:ext cx="349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7335720" y="3075120"/>
              <a:ext cx="572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 flipH="1">
              <a:off x="7415280" y="3110040"/>
              <a:ext cx="349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7392960" y="3089160"/>
              <a:ext cx="572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 flipH="1">
              <a:off x="7478640" y="3124080"/>
              <a:ext cx="367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7450200" y="3110040"/>
              <a:ext cx="651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 flipH="1">
              <a:off x="7550280" y="313848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7515360" y="3124080"/>
              <a:ext cx="712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 flipH="1">
              <a:off x="7635960" y="316692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7586640" y="3138480"/>
              <a:ext cx="8568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 flipH="1">
              <a:off x="7750080" y="3195720"/>
              <a:ext cx="2880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7672320" y="3166920"/>
              <a:ext cx="10656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 flipH="1">
              <a:off x="7878600" y="3224160"/>
              <a:ext cx="367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7778880" y="3195720"/>
              <a:ext cx="1364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 flipH="1">
              <a:off x="5776920" y="2652840"/>
              <a:ext cx="363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5676840" y="2617920"/>
              <a:ext cx="13644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5640480" y="2617920"/>
              <a:ext cx="136800" cy="49680"/>
            </a:xfrm>
            <a:custGeom>
              <a:avLst/>
              <a:gdLst/>
              <a:ahLst/>
              <a:rect l="0" t="0" r="r" b="b"/>
              <a:pathLst>
                <a:path fill="none" w="380" h="138">
                  <a:moveTo>
                    <a:pt x="380" y="138"/>
                  </a:moveTo>
                  <a:lnTo>
                    <a:pt x="0" y="40"/>
                  </a:lnTo>
                  <a:lnTo>
                    <a:pt x="101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 flipH="1">
              <a:off x="5884920" y="2674800"/>
              <a:ext cx="349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813280" y="2652840"/>
              <a:ext cx="10656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 flipH="1">
              <a:off x="5977080" y="270360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5919840" y="2674800"/>
              <a:ext cx="8568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 flipH="1">
              <a:off x="6048360" y="2717640"/>
              <a:ext cx="284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6005520" y="2703600"/>
              <a:ext cx="7128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 flipH="1">
              <a:off x="6113520" y="273852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6076800" y="2717640"/>
              <a:ext cx="6516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 flipH="1">
              <a:off x="6170760" y="2760840"/>
              <a:ext cx="1404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6141960" y="2738520"/>
              <a:ext cx="428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 flipH="1">
              <a:off x="6627960" y="287496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6613560" y="2860560"/>
              <a:ext cx="428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"/>
            <p:cNvSpPr/>
            <p:nvPr/>
          </p:nvSpPr>
          <p:spPr>
            <a:xfrm flipH="1">
              <a:off x="6678720" y="2881440"/>
              <a:ext cx="3492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6656400" y="2874960"/>
              <a:ext cx="5724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 flipH="1">
              <a:off x="6727680" y="2895480"/>
              <a:ext cx="367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6713640" y="288144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 flipH="1">
              <a:off x="6778800" y="290988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6764400" y="289548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 flipH="1">
              <a:off x="6827760" y="2924280"/>
              <a:ext cx="3672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6813720" y="29098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 flipH="1">
              <a:off x="6878520" y="293832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6864480" y="2924280"/>
              <a:ext cx="489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"/>
            <p:cNvSpPr/>
            <p:nvPr/>
          </p:nvSpPr>
          <p:spPr>
            <a:xfrm flipH="1">
              <a:off x="6927840" y="2952720"/>
              <a:ext cx="36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6913440" y="293832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"/>
            <p:cNvSpPr/>
            <p:nvPr/>
          </p:nvSpPr>
          <p:spPr>
            <a:xfrm flipH="1">
              <a:off x="6978600" y="2967120"/>
              <a:ext cx="349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6964200" y="295272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"/>
            <p:cNvSpPr/>
            <p:nvPr/>
          </p:nvSpPr>
          <p:spPr>
            <a:xfrm flipH="1">
              <a:off x="7027920" y="2981160"/>
              <a:ext cx="36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7013520" y="296712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 flipH="1">
              <a:off x="7085160" y="299556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7064280" y="298116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 flipH="1">
              <a:off x="7135920" y="300996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7113600" y="29955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 flipH="1">
              <a:off x="7184880" y="3024360"/>
              <a:ext cx="2880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7164360" y="300996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 flipH="1" flipV="1">
              <a:off x="7135920" y="3024360"/>
              <a:ext cx="489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 flipH="1">
              <a:off x="7236000" y="303840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7213680" y="302436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 flipH="1" flipV="1">
              <a:off x="7184880" y="3038400"/>
              <a:ext cx="511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 flipH="1">
              <a:off x="7284960" y="3046320"/>
              <a:ext cx="302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7264440" y="3038400"/>
              <a:ext cx="507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 flipH="1">
              <a:off x="7335720" y="3060720"/>
              <a:ext cx="288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7315200" y="304632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 flipH="1">
              <a:off x="7392960" y="307512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7364520" y="3060720"/>
              <a:ext cx="568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 flipH="1">
              <a:off x="7450200" y="3089160"/>
              <a:ext cx="284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7421400" y="3075120"/>
              <a:ext cx="572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 flipH="1">
              <a:off x="7515360" y="310356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7478640" y="3089160"/>
              <a:ext cx="651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 flipH="1">
              <a:off x="7586640" y="312408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7543800" y="3103560"/>
              <a:ext cx="7128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 flipH="1">
              <a:off x="7672320" y="3146400"/>
              <a:ext cx="288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7615080" y="3124080"/>
              <a:ext cx="860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 flipH="1">
              <a:off x="7778880" y="3174840"/>
              <a:ext cx="284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7701120" y="3146400"/>
              <a:ext cx="10620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 flipH="1">
              <a:off x="7915320" y="320976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7807320" y="3174840"/>
              <a:ext cx="13644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 flipH="1">
              <a:off x="5813280" y="263196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5705640" y="2595600"/>
              <a:ext cx="13644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 flipV="1">
              <a:off x="5676840" y="2595600"/>
              <a:ext cx="288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 flipH="1">
              <a:off x="5919840" y="266076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 flipH="1">
              <a:off x="6005520" y="268128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5948280" y="2660760"/>
              <a:ext cx="936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 flipH="1">
              <a:off x="6076800" y="2703600"/>
              <a:ext cx="367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6041880" y="2681280"/>
              <a:ext cx="716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H="1">
              <a:off x="6141960" y="2717640"/>
              <a:ext cx="349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6113520" y="2703600"/>
              <a:ext cx="71640" cy="14760"/>
            </a:xfrm>
            <a:custGeom>
              <a:avLst/>
              <a:gdLst/>
              <a:ahLst/>
              <a:rect l="0" t="0" r="r" b="b"/>
              <a:pathLst>
                <a:path fill="none" w="199" h="41">
                  <a:moveTo>
                    <a:pt x="0" y="0"/>
                  </a:moveTo>
                  <a:lnTo>
                    <a:pt x="177" y="41"/>
                  </a:lnTo>
                  <a:lnTo>
                    <a:pt x="199" y="4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 flipH="1">
              <a:off x="6613560" y="283860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6613560" y="2832120"/>
              <a:ext cx="2844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 flipH="1">
              <a:off x="6656400" y="285264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6642000" y="283860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 flipH="1">
              <a:off x="6713640" y="286704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6692760" y="285264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 flipH="1">
              <a:off x="6764400" y="288144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6742080" y="28670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 flipH="1">
              <a:off x="6813720" y="289548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6792840" y="288144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 flipH="1">
              <a:off x="6864480" y="2903400"/>
              <a:ext cx="284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6842160" y="2895480"/>
              <a:ext cx="507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H="1">
              <a:off x="6913440" y="2917800"/>
              <a:ext cx="288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6892920" y="290340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 flipH="1">
              <a:off x="6964200" y="2932200"/>
              <a:ext cx="288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6942240" y="291780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 flipH="1">
              <a:off x="7013520" y="294624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6993000" y="293220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 flipH="1">
              <a:off x="7064280" y="2960640"/>
              <a:ext cx="288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7042320" y="29462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 flipH="1">
              <a:off x="7113600" y="298116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7093080" y="2960640"/>
              <a:ext cx="489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 flipH="1">
              <a:off x="7164360" y="299556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7142040" y="29811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 flipH="1">
              <a:off x="7213680" y="3009960"/>
              <a:ext cx="36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7192800" y="299556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"/>
            <p:cNvSpPr/>
            <p:nvPr/>
          </p:nvSpPr>
          <p:spPr>
            <a:xfrm flipH="1">
              <a:off x="7264440" y="3024360"/>
              <a:ext cx="363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7250040" y="30099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"/>
            <p:cNvSpPr/>
            <p:nvPr/>
          </p:nvSpPr>
          <p:spPr>
            <a:xfrm flipH="1">
              <a:off x="7315200" y="3038400"/>
              <a:ext cx="349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 flipH="1">
              <a:off x="7364520" y="304632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7350120" y="303840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 flipH="1">
              <a:off x="7421400" y="3060720"/>
              <a:ext cx="367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7399440" y="3046320"/>
              <a:ext cx="586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 flipH="1">
              <a:off x="7478640" y="3075120"/>
              <a:ext cx="367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7458120" y="306072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 flipH="1">
              <a:off x="7543800" y="308916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7515360" y="3075120"/>
              <a:ext cx="633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 flipH="1">
              <a:off x="7615080" y="310356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7578720" y="3089160"/>
              <a:ext cx="712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 flipH="1">
              <a:off x="7701120" y="312408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7650000" y="3103560"/>
              <a:ext cx="860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 flipH="1">
              <a:off x="7807320" y="3152880"/>
              <a:ext cx="3636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7736040" y="3124080"/>
              <a:ext cx="10764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 flipH="1">
              <a:off x="7943760" y="318924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7843680" y="3152880"/>
              <a:ext cx="13500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 flipH="1">
              <a:off x="5842080" y="2610000"/>
              <a:ext cx="3492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5742000" y="2573280"/>
              <a:ext cx="135000" cy="36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 flipV="1">
              <a:off x="5705640" y="257328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 flipH="1">
              <a:off x="5948280" y="2638440"/>
              <a:ext cx="367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5877000" y="2610000"/>
              <a:ext cx="10800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 flipH="1" flipV="1">
              <a:off x="5842080" y="2631960"/>
              <a:ext cx="10620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 flipH="1">
              <a:off x="6041880" y="2660760"/>
              <a:ext cx="288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 flipH="1">
              <a:off x="6113520" y="268128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6070680" y="2660760"/>
              <a:ext cx="7128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 flipH="1">
              <a:off x="6176880" y="2709720"/>
              <a:ext cx="79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6141960" y="2681280"/>
              <a:ext cx="428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 flipH="1">
              <a:off x="6613560" y="280980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6613560" y="2803680"/>
              <a:ext cx="792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 flipH="1">
              <a:off x="6642000" y="2824200"/>
              <a:ext cx="288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6621480" y="280980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 flipH="1">
              <a:off x="6692760" y="2832120"/>
              <a:ext cx="2880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6670800" y="2824200"/>
              <a:ext cx="507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 flipH="1">
              <a:off x="6742080" y="284652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6721560" y="283212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 flipH="1">
              <a:off x="6792840" y="2860560"/>
              <a:ext cx="349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6770520" y="2846520"/>
              <a:ext cx="572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 flipH="1">
              <a:off x="6842160" y="287496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6827760" y="28605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 flipH="1">
              <a:off x="6892920" y="2889360"/>
              <a:ext cx="349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6878520" y="287496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 flipH="1">
              <a:off x="6942240" y="2903400"/>
              <a:ext cx="36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6927840" y="288936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 flipH="1">
              <a:off x="6993000" y="291780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6978600" y="290340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 flipH="1">
              <a:off x="7042320" y="2932200"/>
              <a:ext cx="363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7027920" y="291780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 flipH="1">
              <a:off x="7093080" y="294624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7078680" y="293220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 flipH="1">
              <a:off x="7142040" y="2967120"/>
              <a:ext cx="367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7128000" y="2946240"/>
              <a:ext cx="5076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 flipH="1">
              <a:off x="7192800" y="298116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7178760" y="2967120"/>
              <a:ext cx="489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 flipH="1">
              <a:off x="7250040" y="2995560"/>
              <a:ext cx="288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7227720" y="2981160"/>
              <a:ext cx="511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 flipH="1">
              <a:off x="7300800" y="300996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7278840" y="299556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 flipH="1">
              <a:off x="7350120" y="302436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7327800" y="30099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 flipH="1" flipV="1">
              <a:off x="7300800" y="302436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 flipH="1">
              <a:off x="7399440" y="3038400"/>
              <a:ext cx="302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 flipH="1">
              <a:off x="7458120" y="304632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7429680" y="3038400"/>
              <a:ext cx="5688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"/>
            <p:cNvSpPr/>
            <p:nvPr/>
          </p:nvSpPr>
          <p:spPr>
            <a:xfrm flipH="1">
              <a:off x="7515360" y="305280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"/>
            <p:cNvSpPr/>
            <p:nvPr/>
          </p:nvSpPr>
          <p:spPr>
            <a:xfrm>
              <a:off x="7486560" y="3046320"/>
              <a:ext cx="5724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"/>
            <p:cNvSpPr/>
            <p:nvPr/>
          </p:nvSpPr>
          <p:spPr>
            <a:xfrm flipH="1">
              <a:off x="7578720" y="3067200"/>
              <a:ext cx="2844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"/>
            <p:cNvSpPr/>
            <p:nvPr/>
          </p:nvSpPr>
          <p:spPr>
            <a:xfrm>
              <a:off x="7543800" y="3052800"/>
              <a:ext cx="63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 flipH="1">
              <a:off x="7650000" y="3089160"/>
              <a:ext cx="288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7607160" y="3067200"/>
              <a:ext cx="7164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 flipH="1">
              <a:off x="7736040" y="311004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7678800" y="3089160"/>
              <a:ext cx="8568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 flipH="1">
              <a:off x="7843680" y="3138480"/>
              <a:ext cx="288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7764480" y="3110040"/>
              <a:ext cx="10800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 flipH="1">
              <a:off x="7978680" y="3174840"/>
              <a:ext cx="288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7872480" y="3138480"/>
              <a:ext cx="13500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 flipH="1">
              <a:off x="5877000" y="259560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5770440" y="2560680"/>
              <a:ext cx="13500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 flipV="1">
              <a:off x="5742000" y="2560680"/>
              <a:ext cx="2844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 flipH="1">
              <a:off x="5985000" y="262404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5905440" y="2595600"/>
              <a:ext cx="10800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 flipH="1">
              <a:off x="6070680" y="264636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6013440" y="2624040"/>
              <a:ext cx="921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 flipH="1" flipV="1">
              <a:off x="5985000" y="2638440"/>
              <a:ext cx="8568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 flipH="1">
              <a:off x="6141960" y="266076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6176880" y="2660760"/>
              <a:ext cx="1440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 flipH="1">
              <a:off x="6621480" y="278928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6613560" y="2774880"/>
              <a:ext cx="428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 flipH="1">
              <a:off x="6670800" y="280368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6656400" y="27892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 flipH="1">
              <a:off x="6721560" y="281772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6707160" y="280368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 flipH="1">
              <a:off x="6770520" y="2832120"/>
              <a:ext cx="367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6756480" y="281772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 flipH="1">
              <a:off x="6827760" y="2838600"/>
              <a:ext cx="2880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6807240" y="2832120"/>
              <a:ext cx="4932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 flipH="1">
              <a:off x="6878520" y="2852640"/>
              <a:ext cx="2880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6856560" y="283860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 flipH="1">
              <a:off x="6927840" y="286704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6907320" y="285264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 flipH="1">
              <a:off x="6978600" y="2881440"/>
              <a:ext cx="2880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6956280" y="2867040"/>
              <a:ext cx="511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 flipH="1">
              <a:off x="7027920" y="289548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7007400" y="2881440"/>
              <a:ext cx="489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 flipH="1">
              <a:off x="7078680" y="290988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7056360" y="28954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 flipH="1">
              <a:off x="7128000" y="293220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7107120" y="2909880"/>
              <a:ext cx="493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 flipH="1">
              <a:off x="7178760" y="295272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7156440" y="2932200"/>
              <a:ext cx="507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 flipH="1">
              <a:off x="7227720" y="2967120"/>
              <a:ext cx="367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7207200" y="295272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 flipH="1">
              <a:off x="7278840" y="2989440"/>
              <a:ext cx="3636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7264440" y="2967120"/>
              <a:ext cx="507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 flipH="1">
              <a:off x="7327800" y="3003480"/>
              <a:ext cx="3672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7315200" y="298944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 flipH="1">
              <a:off x="7378560" y="3017880"/>
              <a:ext cx="3672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7364520" y="30034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 flipH="1">
              <a:off x="7429680" y="3024360"/>
              <a:ext cx="349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7415280" y="3017880"/>
              <a:ext cx="4932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 flipH="1" flipV="1">
              <a:off x="7378560" y="3024360"/>
              <a:ext cx="511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"/>
            <p:cNvSpPr/>
            <p:nvPr/>
          </p:nvSpPr>
          <p:spPr>
            <a:xfrm flipH="1">
              <a:off x="7486560" y="3032280"/>
              <a:ext cx="349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"/>
            <p:cNvSpPr/>
            <p:nvPr/>
          </p:nvSpPr>
          <p:spPr>
            <a:xfrm flipH="1">
              <a:off x="7543800" y="303840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 flipH="1">
              <a:off x="7607160" y="3052800"/>
              <a:ext cx="367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7578720" y="3038400"/>
              <a:ext cx="651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 flipH="1">
              <a:off x="7678800" y="3067200"/>
              <a:ext cx="3636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7643880" y="3052800"/>
              <a:ext cx="712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"/>
            <p:cNvSpPr/>
            <p:nvPr/>
          </p:nvSpPr>
          <p:spPr>
            <a:xfrm flipH="1">
              <a:off x="7764480" y="3089160"/>
              <a:ext cx="3636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7715160" y="3067200"/>
              <a:ext cx="8568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 flipH="1">
              <a:off x="7872480" y="311796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7800840" y="3089160"/>
              <a:ext cx="10656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"/>
            <p:cNvSpPr/>
            <p:nvPr/>
          </p:nvSpPr>
          <p:spPr>
            <a:xfrm flipH="1">
              <a:off x="8007480" y="3152880"/>
              <a:ext cx="3636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7907400" y="3117960"/>
              <a:ext cx="13644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"/>
            <p:cNvSpPr/>
            <p:nvPr/>
          </p:nvSpPr>
          <p:spPr>
            <a:xfrm flipH="1">
              <a:off x="5905440" y="2573280"/>
              <a:ext cx="367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5805360" y="2538360"/>
              <a:ext cx="13680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 flipV="1">
              <a:off x="5770440" y="253836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 flipH="1">
              <a:off x="6013440" y="260352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5942160" y="2573280"/>
              <a:ext cx="106200" cy="30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 flipH="1">
              <a:off x="6105600" y="2624040"/>
              <a:ext cx="284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6048360" y="2603520"/>
              <a:ext cx="8568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 flipH="1">
              <a:off x="6176880" y="2646360"/>
              <a:ext cx="367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6134040" y="2624040"/>
              <a:ext cx="795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 flipH="1" flipV="1">
              <a:off x="6105600" y="2646360"/>
              <a:ext cx="712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 flipH="1">
              <a:off x="6613560" y="275256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6613560" y="2746440"/>
              <a:ext cx="2844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 flipH="1">
              <a:off x="6656400" y="276696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6642000" y="27525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 flipH="1">
              <a:off x="6707160" y="278136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6692760" y="276696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 flipH="1">
              <a:off x="6756480" y="2795760"/>
              <a:ext cx="3636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6742080" y="27813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 flipH="1">
              <a:off x="6807240" y="280980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6792840" y="279576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"/>
            <p:cNvSpPr/>
            <p:nvPr/>
          </p:nvSpPr>
          <p:spPr>
            <a:xfrm flipH="1">
              <a:off x="6856560" y="2824200"/>
              <a:ext cx="36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6842160" y="280980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"/>
            <p:cNvSpPr/>
            <p:nvPr/>
          </p:nvSpPr>
          <p:spPr>
            <a:xfrm flipH="1">
              <a:off x="6907320" y="283212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6892920" y="282420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 flipH="1">
              <a:off x="6956280" y="2846520"/>
              <a:ext cx="367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 flipH="1">
              <a:off x="7007400" y="2860560"/>
              <a:ext cx="349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6993000" y="284652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 flipH="1">
              <a:off x="7056360" y="2874960"/>
              <a:ext cx="367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7042320" y="28605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 flipH="1">
              <a:off x="7107120" y="289548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7093080" y="2874960"/>
              <a:ext cx="489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 flipH="1">
              <a:off x="7156440" y="290988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7142040" y="28954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"/>
            <p:cNvSpPr/>
            <p:nvPr/>
          </p:nvSpPr>
          <p:spPr>
            <a:xfrm flipH="1">
              <a:off x="7207200" y="2932200"/>
              <a:ext cx="367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7192800" y="2909880"/>
              <a:ext cx="511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 flipH="1">
              <a:off x="7264440" y="2952720"/>
              <a:ext cx="284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7243920" y="2932200"/>
              <a:ext cx="489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"/>
            <p:cNvSpPr/>
            <p:nvPr/>
          </p:nvSpPr>
          <p:spPr>
            <a:xfrm flipH="1">
              <a:off x="7315200" y="297504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7292880" y="2952720"/>
              <a:ext cx="493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 flipH="1">
              <a:off x="7364520" y="2989440"/>
              <a:ext cx="284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7342200" y="29750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 flipH="1">
              <a:off x="7415280" y="300348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7392960" y="2989440"/>
              <a:ext cx="572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"/>
            <p:cNvSpPr/>
            <p:nvPr/>
          </p:nvSpPr>
          <p:spPr>
            <a:xfrm flipH="1">
              <a:off x="7464600" y="3009960"/>
              <a:ext cx="36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7450200" y="3003480"/>
              <a:ext cx="5076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 flipH="1">
              <a:off x="7521480" y="3017880"/>
              <a:ext cx="2880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7500960" y="300996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 flipH="1" flipV="1">
              <a:off x="7464600" y="3024360"/>
              <a:ext cx="5688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/>
            <p:nvPr/>
          </p:nvSpPr>
          <p:spPr>
            <a:xfrm flipH="1">
              <a:off x="7578720" y="3024360"/>
              <a:ext cx="363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7550280" y="3017880"/>
              <a:ext cx="6480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 flipH="1" flipV="1">
              <a:off x="7521480" y="30322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 flipH="1">
              <a:off x="7643880" y="3032280"/>
              <a:ext cx="284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 flipH="1">
              <a:off x="7715160" y="304632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"/>
            <p:cNvSpPr/>
            <p:nvPr/>
          </p:nvSpPr>
          <p:spPr>
            <a:xfrm flipH="1">
              <a:off x="7800840" y="3067200"/>
              <a:ext cx="3492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7743960" y="3046320"/>
              <a:ext cx="9180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 flipH="1">
              <a:off x="7907400" y="309564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7835760" y="3067200"/>
              <a:ext cx="10800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"/>
            <p:cNvSpPr/>
            <p:nvPr/>
          </p:nvSpPr>
          <p:spPr>
            <a:xfrm flipH="1">
              <a:off x="8043840" y="3132000"/>
              <a:ext cx="349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7943760" y="3095640"/>
              <a:ext cx="13500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"/>
            <p:cNvSpPr/>
            <p:nvPr/>
          </p:nvSpPr>
          <p:spPr>
            <a:xfrm flipH="1">
              <a:off x="5942160" y="255276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5842080" y="2516040"/>
              <a:ext cx="135000" cy="36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 flipV="1">
              <a:off x="5805360" y="2516040"/>
              <a:ext cx="367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/>
            <p:nvPr/>
          </p:nvSpPr>
          <p:spPr>
            <a:xfrm flipH="1">
              <a:off x="6048360" y="258120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5977080" y="2552760"/>
              <a:ext cx="1076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 flipH="1">
              <a:off x="6134040" y="2610000"/>
              <a:ext cx="428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6084720" y="2581200"/>
              <a:ext cx="9216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"/>
            <p:cNvSpPr/>
            <p:nvPr/>
          </p:nvSpPr>
          <p:spPr>
            <a:xfrm flipH="1">
              <a:off x="6213600" y="262404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6176880" y="2610000"/>
              <a:ext cx="79560" cy="14760"/>
            </a:xfrm>
            <a:custGeom>
              <a:avLst/>
              <a:gdLst/>
              <a:ahLst/>
              <a:rect l="0" t="0" r="r" b="b"/>
              <a:pathLst>
                <a:path fill="none" w="221" h="41">
                  <a:moveTo>
                    <a:pt x="0" y="0"/>
                  </a:moveTo>
                  <a:lnTo>
                    <a:pt x="199" y="41"/>
                  </a:lnTo>
                  <a:lnTo>
                    <a:pt x="221" y="4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 flipH="1">
              <a:off x="6613560" y="2717640"/>
              <a:ext cx="1440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6613560" y="271764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 flipH="1">
              <a:off x="6642000" y="2732040"/>
              <a:ext cx="367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6627960" y="27176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 flipH="1">
              <a:off x="6692760" y="274644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6678720" y="273204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 flipH="1">
              <a:off x="6742080" y="2760840"/>
              <a:ext cx="367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6727680" y="2746440"/>
              <a:ext cx="511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 flipH="1">
              <a:off x="6792840" y="2774880"/>
              <a:ext cx="349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6778800" y="2760840"/>
              <a:ext cx="489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 flipH="1">
              <a:off x="6842160" y="278928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6827760" y="27748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 flipH="1">
              <a:off x="6892920" y="280368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6878520" y="278928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 flipH="1">
              <a:off x="6942240" y="280980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6927840" y="2803680"/>
              <a:ext cx="5076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 flipH="1">
              <a:off x="6993000" y="282420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6978600" y="280980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 flipH="1" flipV="1">
              <a:off x="6942240" y="283212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"/>
            <p:cNvSpPr/>
            <p:nvPr/>
          </p:nvSpPr>
          <p:spPr>
            <a:xfrm flipH="1">
              <a:off x="7042320" y="2838600"/>
              <a:ext cx="3636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"/>
            <p:cNvSpPr/>
            <p:nvPr/>
          </p:nvSpPr>
          <p:spPr>
            <a:xfrm flipH="1">
              <a:off x="7093080" y="285264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 flipH="1">
              <a:off x="7142040" y="2874960"/>
              <a:ext cx="367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7128000" y="2852640"/>
              <a:ext cx="507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 flipH="1">
              <a:off x="7192800" y="289548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7178760" y="2874960"/>
              <a:ext cx="489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 flipH="1">
              <a:off x="7243920" y="291780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7227720" y="2895480"/>
              <a:ext cx="511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 flipH="1">
              <a:off x="7292880" y="2938320"/>
              <a:ext cx="349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7278840" y="2917800"/>
              <a:ext cx="489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 flipH="1">
              <a:off x="7342200" y="2952720"/>
              <a:ext cx="4428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7327800" y="2938320"/>
              <a:ext cx="586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 flipH="1">
              <a:off x="7392960" y="2975040"/>
              <a:ext cx="428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7386480" y="2952720"/>
              <a:ext cx="493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/>
            <p:nvPr/>
          </p:nvSpPr>
          <p:spPr>
            <a:xfrm flipH="1">
              <a:off x="7450200" y="2981160"/>
              <a:ext cx="363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7435800" y="2975040"/>
              <a:ext cx="5076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 flipH="1">
              <a:off x="7500960" y="298944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7486560" y="2981160"/>
              <a:ext cx="49320" cy="8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 flipH="1">
              <a:off x="7550280" y="2995560"/>
              <a:ext cx="428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7535880" y="298944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 flipH="1">
              <a:off x="7615080" y="3003480"/>
              <a:ext cx="349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7593120" y="2995560"/>
              <a:ext cx="5688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 flipH="1">
              <a:off x="7672320" y="3009960"/>
              <a:ext cx="428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7650000" y="3003480"/>
              <a:ext cx="6516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 flipH="1" flipV="1">
              <a:off x="7615080" y="3024360"/>
              <a:ext cx="572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 flipH="1">
              <a:off x="7743960" y="3024360"/>
              <a:ext cx="4284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7715160" y="3009960"/>
              <a:ext cx="716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 flipH="1" flipV="1">
              <a:off x="7672320" y="3032280"/>
              <a:ext cx="716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 flipH="1">
              <a:off x="7835760" y="3046320"/>
              <a:ext cx="367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 flipH="1">
              <a:off x="7943760" y="307512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7872480" y="3046320"/>
              <a:ext cx="10620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 flipH="1">
              <a:off x="8078760" y="3110040"/>
              <a:ext cx="3672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7978680" y="3075120"/>
              <a:ext cx="13680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 flipH="1">
              <a:off x="5977080" y="2538360"/>
              <a:ext cx="428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5884920" y="2489040"/>
              <a:ext cx="135000" cy="4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 flipV="1">
              <a:off x="5842080" y="2489040"/>
              <a:ext cx="42840" cy="270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 flipH="1">
              <a:off x="6084720" y="2567160"/>
              <a:ext cx="4320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6019920" y="2538360"/>
              <a:ext cx="10800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 flipH="1">
              <a:off x="6176880" y="2589120"/>
              <a:ext cx="367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6127920" y="2567160"/>
              <a:ext cx="8568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 flipH="1">
              <a:off x="6248520" y="260352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6213600" y="2589120"/>
              <a:ext cx="114840" cy="20880"/>
            </a:xfrm>
            <a:custGeom>
              <a:avLst/>
              <a:gdLst/>
              <a:ahLst/>
              <a:rect l="0" t="0" r="r" b="b"/>
              <a:pathLst>
                <a:path fill="none" w="319" h="58">
                  <a:moveTo>
                    <a:pt x="0" y="0"/>
                  </a:moveTo>
                  <a:lnTo>
                    <a:pt x="199" y="40"/>
                  </a:lnTo>
                  <a:lnTo>
                    <a:pt x="319" y="5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 flipH="1">
              <a:off x="6627960" y="2695680"/>
              <a:ext cx="3636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6613560" y="26812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 flipH="1">
              <a:off x="6678720" y="270972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6664320" y="269568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 flipH="1">
              <a:off x="6727680" y="2724120"/>
              <a:ext cx="367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6713640" y="270972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 flipH="1">
              <a:off x="6778800" y="2738520"/>
              <a:ext cx="349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764400" y="272412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 flipH="1">
              <a:off x="6827760" y="2752560"/>
              <a:ext cx="428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6813720" y="2738520"/>
              <a:ext cx="5688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 flipH="1">
              <a:off x="6878520" y="2760840"/>
              <a:ext cx="428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870600" y="2752560"/>
              <a:ext cx="50760" cy="8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 flipH="1">
              <a:off x="6927840" y="2774880"/>
              <a:ext cx="4284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6921360" y="276084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 flipH="1">
              <a:off x="6978600" y="2789280"/>
              <a:ext cx="428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6970680" y="27748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 flipH="1">
              <a:off x="7027920" y="2803680"/>
              <a:ext cx="428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7021440" y="278928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 flipH="1">
              <a:off x="7078680" y="2817720"/>
              <a:ext cx="428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7070760" y="280368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/>
            <p:nvPr/>
          </p:nvSpPr>
          <p:spPr>
            <a:xfrm flipH="1" flipV="1">
              <a:off x="7027920" y="282420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 flipH="1">
              <a:off x="7128000" y="2832120"/>
              <a:ext cx="428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7121520" y="281772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 flipH="1" flipV="1">
              <a:off x="7078680" y="283860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H="1">
              <a:off x="7178760" y="2846520"/>
              <a:ext cx="428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 flipH="1">
              <a:off x="7227720" y="2867040"/>
              <a:ext cx="4320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 flipH="1">
              <a:off x="7278840" y="2889360"/>
              <a:ext cx="428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7270920" y="2867040"/>
              <a:ext cx="507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 flipH="1">
              <a:off x="7327800" y="2909880"/>
              <a:ext cx="446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7321680" y="2889360"/>
              <a:ext cx="507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 flipH="1">
              <a:off x="7386480" y="29322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7372440" y="2909880"/>
              <a:ext cx="489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 flipH="1">
              <a:off x="7435800" y="2946240"/>
              <a:ext cx="3672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421400" y="2932200"/>
              <a:ext cx="511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 flipH="1">
              <a:off x="7486560" y="295272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7472520" y="2946240"/>
              <a:ext cx="4896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 flipH="1">
              <a:off x="7535880" y="2960640"/>
              <a:ext cx="4284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7521480" y="2952720"/>
              <a:ext cx="572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 flipH="1">
              <a:off x="7593120" y="2967120"/>
              <a:ext cx="3636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7578720" y="2960640"/>
              <a:ext cx="5076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 flipH="1">
              <a:off x="7650000" y="2975040"/>
              <a:ext cx="3672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7629480" y="2967120"/>
              <a:ext cx="572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 flipH="1">
              <a:off x="7715160" y="298944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7686720" y="2975040"/>
              <a:ext cx="63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 flipH="1">
              <a:off x="7786800" y="3003480"/>
              <a:ext cx="349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7750080" y="2989440"/>
              <a:ext cx="716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7872480" y="3024360"/>
              <a:ext cx="3492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7821720" y="3003480"/>
              <a:ext cx="8568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 flipH="1" flipV="1">
              <a:off x="7786800" y="3024360"/>
              <a:ext cx="8568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 flipH="1">
              <a:off x="7978680" y="3052800"/>
              <a:ext cx="367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 flipH="1">
              <a:off x="8115480" y="3089160"/>
              <a:ext cx="349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8015400" y="3052800"/>
              <a:ext cx="13500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 flipH="1">
              <a:off x="6019920" y="2509920"/>
              <a:ext cx="428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5927760" y="2467080"/>
              <a:ext cx="13500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 flipV="1">
              <a:off x="5884920" y="2467080"/>
              <a:ext cx="4284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 flipH="1">
              <a:off x="6127920" y="2546280"/>
              <a:ext cx="4284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6062760" y="2509920"/>
              <a:ext cx="10800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 flipH="1">
              <a:off x="6213600" y="2567160"/>
              <a:ext cx="4896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6170760" y="2546280"/>
              <a:ext cx="9180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 flipH="1">
              <a:off x="6284880" y="2581200"/>
              <a:ext cx="4932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6262560" y="2567160"/>
              <a:ext cx="716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"/>
            <p:cNvSpPr/>
            <p:nvPr/>
          </p:nvSpPr>
          <p:spPr>
            <a:xfrm flipH="1">
              <a:off x="6356520" y="2589120"/>
              <a:ext cx="3492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6334200" y="2581200"/>
              <a:ext cx="572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 flipH="1">
              <a:off x="6442200" y="2603520"/>
              <a:ext cx="1404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6391440" y="2589120"/>
              <a:ext cx="165600" cy="43200"/>
            </a:xfrm>
            <a:custGeom>
              <a:avLst/>
              <a:gdLst/>
              <a:ahLst/>
              <a:rect l="0" t="0" r="r" b="b"/>
              <a:pathLst>
                <a:path fill="none" w="460" h="120">
                  <a:moveTo>
                    <a:pt x="0" y="0"/>
                  </a:moveTo>
                  <a:lnTo>
                    <a:pt x="181" y="39"/>
                  </a:lnTo>
                  <a:lnTo>
                    <a:pt x="322" y="80"/>
                  </a:lnTo>
                  <a:lnTo>
                    <a:pt x="460" y="12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 flipH="1">
              <a:off x="6591240" y="2646360"/>
              <a:ext cx="2232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 flipH="1">
              <a:off x="6613560" y="2660760"/>
              <a:ext cx="507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613560" y="26463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 flipH="1">
              <a:off x="6664320" y="2666880"/>
              <a:ext cx="4932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6664320" y="2660760"/>
              <a:ext cx="4932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1" name=""/>
            <p:cNvSpPr/>
            <p:nvPr/>
          </p:nvSpPr>
          <p:spPr>
            <a:xfrm flipH="1">
              <a:off x="6713640" y="2681280"/>
              <a:ext cx="5076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6713640" y="26668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3" name=""/>
            <p:cNvSpPr/>
            <p:nvPr/>
          </p:nvSpPr>
          <p:spPr>
            <a:xfrm flipH="1">
              <a:off x="6764400" y="2695680"/>
              <a:ext cx="4932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6764400" y="268128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"/>
            <p:cNvSpPr/>
            <p:nvPr/>
          </p:nvSpPr>
          <p:spPr>
            <a:xfrm flipH="1">
              <a:off x="6813720" y="2709720"/>
              <a:ext cx="5076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6813720" y="269568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7" name=""/>
            <p:cNvSpPr/>
            <p:nvPr/>
          </p:nvSpPr>
          <p:spPr>
            <a:xfrm flipH="1">
              <a:off x="6870600" y="2724120"/>
              <a:ext cx="428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6864480" y="270972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 flipH="1">
              <a:off x="6921360" y="2738520"/>
              <a:ext cx="428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6913440" y="272412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 flipH="1">
              <a:off x="6970680" y="2752560"/>
              <a:ext cx="4284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6964200" y="273852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 flipH="1">
              <a:off x="7021440" y="2760840"/>
              <a:ext cx="428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7013520" y="2752560"/>
              <a:ext cx="50760" cy="8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 flipH="1">
              <a:off x="7070760" y="2774880"/>
              <a:ext cx="4284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7064280" y="276084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 flipH="1">
              <a:off x="7121520" y="2789280"/>
              <a:ext cx="428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7113600" y="27748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 flipH="1">
              <a:off x="7170840" y="2803680"/>
              <a:ext cx="428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7164360" y="278928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 flipH="1">
              <a:off x="7221600" y="2817720"/>
              <a:ext cx="4284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7213680" y="280368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 flipH="1" flipV="1">
              <a:off x="7170840" y="283212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 flipH="1">
              <a:off x="7270920" y="2838600"/>
              <a:ext cx="4428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7264440" y="2817720"/>
              <a:ext cx="5076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 flipH="1" flipV="1">
              <a:off x="7221600" y="2846520"/>
              <a:ext cx="4932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 flipH="1">
              <a:off x="7321680" y="2860560"/>
              <a:ext cx="4284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 flipH="1">
              <a:off x="7372440" y="2874960"/>
              <a:ext cx="4284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 flipH="1">
              <a:off x="7421400" y="2895480"/>
              <a:ext cx="51120" cy="36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415280" y="2874960"/>
              <a:ext cx="5724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 flipH="1">
              <a:off x="7472520" y="2909880"/>
              <a:ext cx="4896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7472520" y="289548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 flipH="1">
              <a:off x="7521480" y="2917800"/>
              <a:ext cx="5076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7521480" y="2909880"/>
              <a:ext cx="507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 flipH="1">
              <a:off x="7578720" y="2932200"/>
              <a:ext cx="428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7572240" y="291780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 flipH="1">
              <a:off x="7629480" y="2938320"/>
              <a:ext cx="4932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7621560" y="293220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 flipH="1">
              <a:off x="7686720" y="2946240"/>
              <a:ext cx="4932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7678800" y="2938320"/>
              <a:ext cx="572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 flipH="1">
              <a:off x="7750080" y="2960640"/>
              <a:ext cx="4284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7736040" y="2946240"/>
              <a:ext cx="568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 flipH="1">
              <a:off x="7821720" y="2975040"/>
              <a:ext cx="5076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7792920" y="2960640"/>
              <a:ext cx="795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 flipH="1">
              <a:off x="7907400" y="2995560"/>
              <a:ext cx="5076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7872480" y="2975040"/>
              <a:ext cx="8568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 flipH="1">
              <a:off x="8015400" y="3024360"/>
              <a:ext cx="4896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7958160" y="2995560"/>
              <a:ext cx="10620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 flipH="1" flipV="1">
              <a:off x="7907400" y="3024360"/>
              <a:ext cx="10800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 flipH="1">
              <a:off x="8150400" y="3060720"/>
              <a:ext cx="5076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 flipH="1">
              <a:off x="6062760" y="2481120"/>
              <a:ext cx="5688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 flipV="1">
              <a:off x="5927760" y="2430360"/>
              <a:ext cx="57240" cy="36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 flipH="1">
              <a:off x="6170760" y="2516040"/>
              <a:ext cx="56880" cy="30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6119640" y="2481120"/>
              <a:ext cx="10800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 flipH="1">
              <a:off x="6262560" y="2538360"/>
              <a:ext cx="5076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6227640" y="2516040"/>
              <a:ext cx="8568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 flipH="1">
              <a:off x="6334200" y="2546280"/>
              <a:ext cx="5076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6313320" y="2538360"/>
              <a:ext cx="7164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 flipH="1">
              <a:off x="6391440" y="2560680"/>
              <a:ext cx="5688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6384960" y="2546280"/>
              <a:ext cx="63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 flipH="1">
              <a:off x="6456240" y="257328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6448320" y="2560680"/>
              <a:ext cx="5868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 flipH="1">
              <a:off x="6507000" y="2589120"/>
              <a:ext cx="5724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6507000" y="2573280"/>
              <a:ext cx="5724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 flipH="1">
              <a:off x="6556320" y="2595600"/>
              <a:ext cx="5724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6564240" y="2589120"/>
              <a:ext cx="4932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 flipH="1">
              <a:off x="6613560" y="2610000"/>
              <a:ext cx="5076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6613560" y="259560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 flipH="1" flipV="1">
              <a:off x="6556320" y="263196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 flipH="1">
              <a:off x="6664320" y="2624040"/>
              <a:ext cx="49320" cy="36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6664320" y="261000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"/>
            <p:cNvSpPr/>
            <p:nvPr/>
          </p:nvSpPr>
          <p:spPr>
            <a:xfrm flipH="1">
              <a:off x="6713640" y="2638440"/>
              <a:ext cx="5076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6713640" y="26240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"/>
            <p:cNvSpPr/>
            <p:nvPr/>
          </p:nvSpPr>
          <p:spPr>
            <a:xfrm flipH="1">
              <a:off x="6764400" y="2652840"/>
              <a:ext cx="4932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6764400" y="263844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"/>
            <p:cNvSpPr/>
            <p:nvPr/>
          </p:nvSpPr>
          <p:spPr>
            <a:xfrm flipH="1">
              <a:off x="6813720" y="2666880"/>
              <a:ext cx="5076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6813720" y="265284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"/>
            <p:cNvSpPr/>
            <p:nvPr/>
          </p:nvSpPr>
          <p:spPr>
            <a:xfrm flipH="1">
              <a:off x="6864480" y="2674800"/>
              <a:ext cx="5688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6864480" y="2666880"/>
              <a:ext cx="5688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 flipH="1">
              <a:off x="6913440" y="2689200"/>
              <a:ext cx="5724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6921360" y="267480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 flipH="1">
              <a:off x="6964200" y="2703600"/>
              <a:ext cx="5724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6970680" y="268920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4" name=""/>
            <p:cNvSpPr/>
            <p:nvPr/>
          </p:nvSpPr>
          <p:spPr>
            <a:xfrm flipH="1">
              <a:off x="7013520" y="2717640"/>
              <a:ext cx="5724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7021440" y="270360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6" name=""/>
            <p:cNvSpPr/>
            <p:nvPr/>
          </p:nvSpPr>
          <p:spPr>
            <a:xfrm flipH="1">
              <a:off x="7064280" y="2732040"/>
              <a:ext cx="5724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7070760" y="27176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8" name=""/>
            <p:cNvSpPr/>
            <p:nvPr/>
          </p:nvSpPr>
          <p:spPr>
            <a:xfrm flipH="1">
              <a:off x="7113600" y="2746440"/>
              <a:ext cx="572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7121520" y="273204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0" name=""/>
            <p:cNvSpPr/>
            <p:nvPr/>
          </p:nvSpPr>
          <p:spPr>
            <a:xfrm flipH="1">
              <a:off x="7164360" y="2760840"/>
              <a:ext cx="572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7170840" y="27464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 flipH="1">
              <a:off x="7213680" y="2774880"/>
              <a:ext cx="5724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7221600" y="276084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4" name=""/>
            <p:cNvSpPr/>
            <p:nvPr/>
          </p:nvSpPr>
          <p:spPr>
            <a:xfrm flipH="1">
              <a:off x="7264440" y="2789280"/>
              <a:ext cx="5724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7270920" y="27748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"/>
            <p:cNvSpPr/>
            <p:nvPr/>
          </p:nvSpPr>
          <p:spPr>
            <a:xfrm flipH="1">
              <a:off x="7315200" y="2803680"/>
              <a:ext cx="5724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7321680" y="27892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 flipH="1">
              <a:off x="7364520" y="2817720"/>
              <a:ext cx="5688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7372440" y="2803680"/>
              <a:ext cx="489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"/>
            <p:cNvSpPr/>
            <p:nvPr/>
          </p:nvSpPr>
          <p:spPr>
            <a:xfrm flipH="1" flipV="1">
              <a:off x="7315200" y="2838600"/>
              <a:ext cx="4932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"/>
            <p:cNvSpPr/>
            <p:nvPr/>
          </p:nvSpPr>
          <p:spPr>
            <a:xfrm flipH="1">
              <a:off x="7415280" y="2832120"/>
              <a:ext cx="5724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7421400" y="2817720"/>
              <a:ext cx="511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"/>
            <p:cNvSpPr/>
            <p:nvPr/>
          </p:nvSpPr>
          <p:spPr>
            <a:xfrm flipH="1" flipV="1">
              <a:off x="7364520" y="286056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"/>
            <p:cNvSpPr/>
            <p:nvPr/>
          </p:nvSpPr>
          <p:spPr>
            <a:xfrm flipH="1">
              <a:off x="7472520" y="2852640"/>
              <a:ext cx="4896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7472520" y="2832120"/>
              <a:ext cx="4896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 flipH="1">
              <a:off x="7521480" y="2867040"/>
              <a:ext cx="5076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7521480" y="28526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"/>
            <p:cNvSpPr/>
            <p:nvPr/>
          </p:nvSpPr>
          <p:spPr>
            <a:xfrm flipH="1">
              <a:off x="7572240" y="2874960"/>
              <a:ext cx="4932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7572240" y="286704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"/>
            <p:cNvSpPr/>
            <p:nvPr/>
          </p:nvSpPr>
          <p:spPr>
            <a:xfrm flipH="1">
              <a:off x="7621560" y="2889360"/>
              <a:ext cx="5724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7621560" y="287496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"/>
            <p:cNvSpPr/>
            <p:nvPr/>
          </p:nvSpPr>
          <p:spPr>
            <a:xfrm flipH="1">
              <a:off x="7678800" y="2895480"/>
              <a:ext cx="5076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7678800" y="2889360"/>
              <a:ext cx="5076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"/>
            <p:cNvSpPr/>
            <p:nvPr/>
          </p:nvSpPr>
          <p:spPr>
            <a:xfrm flipH="1">
              <a:off x="7736040" y="2909880"/>
              <a:ext cx="5076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7729560" y="289548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"/>
            <p:cNvSpPr/>
            <p:nvPr/>
          </p:nvSpPr>
          <p:spPr>
            <a:xfrm flipH="1">
              <a:off x="7792920" y="2924280"/>
              <a:ext cx="5724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7786800" y="2909880"/>
              <a:ext cx="633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"/>
            <p:cNvSpPr/>
            <p:nvPr/>
          </p:nvSpPr>
          <p:spPr>
            <a:xfrm flipH="1">
              <a:off x="7872480" y="2946240"/>
              <a:ext cx="4932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7850160" y="2924280"/>
              <a:ext cx="7164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"/>
            <p:cNvSpPr/>
            <p:nvPr/>
          </p:nvSpPr>
          <p:spPr>
            <a:xfrm flipH="1">
              <a:off x="7958160" y="2967120"/>
              <a:ext cx="4932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7921800" y="2946240"/>
              <a:ext cx="8568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2" name=""/>
            <p:cNvSpPr/>
            <p:nvPr/>
          </p:nvSpPr>
          <p:spPr>
            <a:xfrm flipH="1">
              <a:off x="8064360" y="2995560"/>
              <a:ext cx="5904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8007480" y="2967120"/>
              <a:ext cx="11592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"/>
            <p:cNvSpPr/>
            <p:nvPr/>
          </p:nvSpPr>
          <p:spPr>
            <a:xfrm flipH="1">
              <a:off x="8201160" y="3032280"/>
              <a:ext cx="5688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8123400" y="2995560"/>
              <a:ext cx="134640" cy="36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6" name=""/>
            <p:cNvSpPr/>
            <p:nvPr/>
          </p:nvSpPr>
          <p:spPr>
            <a:xfrm flipH="1" flipV="1">
              <a:off x="8064360" y="3024360"/>
              <a:ext cx="13680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7" name=""/>
            <p:cNvSpPr/>
            <p:nvPr/>
          </p:nvSpPr>
          <p:spPr>
            <a:xfrm flipH="1">
              <a:off x="6119640" y="2438280"/>
              <a:ext cx="7164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6056280" y="2395440"/>
              <a:ext cx="13500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5985000" y="2395440"/>
              <a:ext cx="135360" cy="86040"/>
            </a:xfrm>
            <a:custGeom>
              <a:avLst/>
              <a:gdLst/>
              <a:ahLst/>
              <a:rect l="0" t="0" r="r" b="b"/>
              <a:pathLst>
                <a:path fill="none" w="376" h="239">
                  <a:moveTo>
                    <a:pt x="376" y="239"/>
                  </a:moveTo>
                  <a:lnTo>
                    <a:pt x="0" y="97"/>
                  </a:lnTo>
                  <a:lnTo>
                    <a:pt x="199" y="0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0" name=""/>
            <p:cNvSpPr/>
            <p:nvPr/>
          </p:nvSpPr>
          <p:spPr>
            <a:xfrm flipH="1">
              <a:off x="6227640" y="2467080"/>
              <a:ext cx="71640" cy="48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 flipH="1">
              <a:off x="6313320" y="2489040"/>
              <a:ext cx="71640" cy="4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"/>
            <p:cNvSpPr/>
            <p:nvPr/>
          </p:nvSpPr>
          <p:spPr>
            <a:xfrm flipH="1">
              <a:off x="6384960" y="2509920"/>
              <a:ext cx="7128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"/>
            <p:cNvSpPr/>
            <p:nvPr/>
          </p:nvSpPr>
          <p:spPr>
            <a:xfrm flipH="1">
              <a:off x="6448320" y="2516040"/>
              <a:ext cx="71640" cy="44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6456240" y="2509920"/>
              <a:ext cx="6372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5" name=""/>
            <p:cNvSpPr/>
            <p:nvPr/>
          </p:nvSpPr>
          <p:spPr>
            <a:xfrm flipH="1">
              <a:off x="6507000" y="2530440"/>
              <a:ext cx="7164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6519960" y="2516040"/>
              <a:ext cx="586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"/>
            <p:cNvSpPr/>
            <p:nvPr/>
          </p:nvSpPr>
          <p:spPr>
            <a:xfrm flipH="1">
              <a:off x="6564240" y="2546280"/>
              <a:ext cx="6372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6578640" y="2530440"/>
              <a:ext cx="4932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"/>
            <p:cNvSpPr/>
            <p:nvPr/>
          </p:nvSpPr>
          <p:spPr>
            <a:xfrm flipH="1">
              <a:off x="6613560" y="2560680"/>
              <a:ext cx="7128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6627960" y="2546280"/>
              <a:ext cx="568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"/>
            <p:cNvSpPr/>
            <p:nvPr/>
          </p:nvSpPr>
          <p:spPr>
            <a:xfrm flipH="1">
              <a:off x="6664320" y="2573280"/>
              <a:ext cx="71280" cy="36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6684840" y="2560680"/>
              <a:ext cx="5076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"/>
            <p:cNvSpPr/>
            <p:nvPr/>
          </p:nvSpPr>
          <p:spPr>
            <a:xfrm flipH="1">
              <a:off x="6713640" y="2581200"/>
              <a:ext cx="7128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6735600" y="257328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5" name=""/>
            <p:cNvSpPr/>
            <p:nvPr/>
          </p:nvSpPr>
          <p:spPr>
            <a:xfrm flipH="1">
              <a:off x="6764400" y="2595600"/>
              <a:ext cx="7128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6784920" y="258120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7" name=""/>
            <p:cNvSpPr/>
            <p:nvPr/>
          </p:nvSpPr>
          <p:spPr>
            <a:xfrm flipH="1">
              <a:off x="6813720" y="2610000"/>
              <a:ext cx="7128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6835680" y="259560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"/>
            <p:cNvSpPr/>
            <p:nvPr/>
          </p:nvSpPr>
          <p:spPr>
            <a:xfrm flipH="1">
              <a:off x="6864480" y="2624040"/>
              <a:ext cx="7128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6885000" y="261000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"/>
            <p:cNvSpPr/>
            <p:nvPr/>
          </p:nvSpPr>
          <p:spPr>
            <a:xfrm flipH="1">
              <a:off x="6921360" y="2638440"/>
              <a:ext cx="6372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6935760" y="262404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"/>
            <p:cNvSpPr/>
            <p:nvPr/>
          </p:nvSpPr>
          <p:spPr>
            <a:xfrm flipH="1">
              <a:off x="6970680" y="2652840"/>
              <a:ext cx="65160" cy="36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6985080" y="26384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5" name=""/>
            <p:cNvSpPr/>
            <p:nvPr/>
          </p:nvSpPr>
          <p:spPr>
            <a:xfrm flipH="1">
              <a:off x="7021440" y="2666880"/>
              <a:ext cx="63720" cy="36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6" name=""/>
            <p:cNvSpPr/>
            <p:nvPr/>
          </p:nvSpPr>
          <p:spPr>
            <a:xfrm>
              <a:off x="7035840" y="265284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7" name=""/>
            <p:cNvSpPr/>
            <p:nvPr/>
          </p:nvSpPr>
          <p:spPr>
            <a:xfrm flipH="1">
              <a:off x="7070760" y="2674800"/>
              <a:ext cx="6516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8" name=""/>
            <p:cNvSpPr/>
            <p:nvPr/>
          </p:nvSpPr>
          <p:spPr>
            <a:xfrm>
              <a:off x="7085160" y="2666880"/>
              <a:ext cx="5076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9" name=""/>
            <p:cNvSpPr/>
            <p:nvPr/>
          </p:nvSpPr>
          <p:spPr>
            <a:xfrm flipH="1">
              <a:off x="7121520" y="2689200"/>
              <a:ext cx="6336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0" name=""/>
            <p:cNvSpPr/>
            <p:nvPr/>
          </p:nvSpPr>
          <p:spPr>
            <a:xfrm>
              <a:off x="7135920" y="267480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 flipH="1">
              <a:off x="7170840" y="2703600"/>
              <a:ext cx="6516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2" name=""/>
            <p:cNvSpPr/>
            <p:nvPr/>
          </p:nvSpPr>
          <p:spPr>
            <a:xfrm>
              <a:off x="7184880" y="2689200"/>
              <a:ext cx="511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3" name=""/>
            <p:cNvSpPr/>
            <p:nvPr/>
          </p:nvSpPr>
          <p:spPr>
            <a:xfrm flipH="1">
              <a:off x="7221600" y="2717640"/>
              <a:ext cx="63360" cy="43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4" name=""/>
            <p:cNvSpPr/>
            <p:nvPr/>
          </p:nvSpPr>
          <p:spPr>
            <a:xfrm>
              <a:off x="7236000" y="2703600"/>
              <a:ext cx="489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5" name=""/>
            <p:cNvSpPr/>
            <p:nvPr/>
          </p:nvSpPr>
          <p:spPr>
            <a:xfrm flipH="1">
              <a:off x="7270920" y="2732040"/>
              <a:ext cx="6480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6" name=""/>
            <p:cNvSpPr/>
            <p:nvPr/>
          </p:nvSpPr>
          <p:spPr>
            <a:xfrm>
              <a:off x="7284960" y="27176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7" name=""/>
            <p:cNvSpPr/>
            <p:nvPr/>
          </p:nvSpPr>
          <p:spPr>
            <a:xfrm flipH="1">
              <a:off x="7321680" y="2746440"/>
              <a:ext cx="7128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8" name=""/>
            <p:cNvSpPr/>
            <p:nvPr/>
          </p:nvSpPr>
          <p:spPr>
            <a:xfrm>
              <a:off x="7335720" y="273204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9" name=""/>
            <p:cNvSpPr/>
            <p:nvPr/>
          </p:nvSpPr>
          <p:spPr>
            <a:xfrm flipH="1">
              <a:off x="7372440" y="2760840"/>
              <a:ext cx="7128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0" name=""/>
            <p:cNvSpPr/>
            <p:nvPr/>
          </p:nvSpPr>
          <p:spPr>
            <a:xfrm>
              <a:off x="7392960" y="27464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1" name=""/>
            <p:cNvSpPr/>
            <p:nvPr/>
          </p:nvSpPr>
          <p:spPr>
            <a:xfrm flipH="1">
              <a:off x="7421400" y="2774880"/>
              <a:ext cx="7164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2" name=""/>
            <p:cNvSpPr/>
            <p:nvPr/>
          </p:nvSpPr>
          <p:spPr>
            <a:xfrm>
              <a:off x="7443720" y="276084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3" name=""/>
            <p:cNvSpPr/>
            <p:nvPr/>
          </p:nvSpPr>
          <p:spPr>
            <a:xfrm flipH="1">
              <a:off x="7472520" y="2789280"/>
              <a:ext cx="7128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4" name=""/>
            <p:cNvSpPr/>
            <p:nvPr/>
          </p:nvSpPr>
          <p:spPr>
            <a:xfrm>
              <a:off x="7493040" y="27748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5" name=""/>
            <p:cNvSpPr/>
            <p:nvPr/>
          </p:nvSpPr>
          <p:spPr>
            <a:xfrm flipH="1">
              <a:off x="7521480" y="2803680"/>
              <a:ext cx="71640" cy="48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6" name=""/>
            <p:cNvSpPr/>
            <p:nvPr/>
          </p:nvSpPr>
          <p:spPr>
            <a:xfrm>
              <a:off x="7543800" y="278928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7" name=""/>
            <p:cNvSpPr/>
            <p:nvPr/>
          </p:nvSpPr>
          <p:spPr>
            <a:xfrm flipH="1">
              <a:off x="7572240" y="2817720"/>
              <a:ext cx="71640" cy="4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8" name=""/>
            <p:cNvSpPr/>
            <p:nvPr/>
          </p:nvSpPr>
          <p:spPr>
            <a:xfrm>
              <a:off x="7593120" y="280368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"/>
            <p:cNvSpPr/>
            <p:nvPr/>
          </p:nvSpPr>
          <p:spPr>
            <a:xfrm flipH="1">
              <a:off x="7621560" y="2824200"/>
              <a:ext cx="71640" cy="5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"/>
            <p:cNvSpPr/>
            <p:nvPr/>
          </p:nvSpPr>
          <p:spPr>
            <a:xfrm>
              <a:off x="7643880" y="2817720"/>
              <a:ext cx="4932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"/>
            <p:cNvSpPr/>
            <p:nvPr/>
          </p:nvSpPr>
          <p:spPr>
            <a:xfrm flipH="1">
              <a:off x="7678800" y="2838600"/>
              <a:ext cx="65160" cy="5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"/>
            <p:cNvSpPr/>
            <p:nvPr/>
          </p:nvSpPr>
          <p:spPr>
            <a:xfrm>
              <a:off x="7693200" y="282420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"/>
            <p:cNvSpPr/>
            <p:nvPr/>
          </p:nvSpPr>
          <p:spPr>
            <a:xfrm flipH="1">
              <a:off x="7729560" y="2852640"/>
              <a:ext cx="7128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"/>
            <p:cNvSpPr/>
            <p:nvPr/>
          </p:nvSpPr>
          <p:spPr>
            <a:xfrm>
              <a:off x="7743960" y="2838600"/>
              <a:ext cx="5688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"/>
            <p:cNvSpPr/>
            <p:nvPr/>
          </p:nvSpPr>
          <p:spPr>
            <a:xfrm flipH="1">
              <a:off x="7786800" y="2867040"/>
              <a:ext cx="7128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"/>
            <p:cNvSpPr/>
            <p:nvPr/>
          </p:nvSpPr>
          <p:spPr>
            <a:xfrm>
              <a:off x="7800840" y="285264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"/>
            <p:cNvSpPr/>
            <p:nvPr/>
          </p:nvSpPr>
          <p:spPr>
            <a:xfrm flipH="1">
              <a:off x="7850160" y="2881440"/>
              <a:ext cx="7164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"/>
            <p:cNvSpPr/>
            <p:nvPr/>
          </p:nvSpPr>
          <p:spPr>
            <a:xfrm>
              <a:off x="7858080" y="2867040"/>
              <a:ext cx="637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"/>
            <p:cNvSpPr/>
            <p:nvPr/>
          </p:nvSpPr>
          <p:spPr>
            <a:xfrm flipH="1">
              <a:off x="7921800" y="2903400"/>
              <a:ext cx="7128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"/>
            <p:cNvSpPr/>
            <p:nvPr/>
          </p:nvSpPr>
          <p:spPr>
            <a:xfrm>
              <a:off x="7921800" y="2881440"/>
              <a:ext cx="7128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"/>
            <p:cNvSpPr/>
            <p:nvPr/>
          </p:nvSpPr>
          <p:spPr>
            <a:xfrm flipH="1">
              <a:off x="8007480" y="2924280"/>
              <a:ext cx="7128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7993080" y="2903400"/>
              <a:ext cx="8568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"/>
            <p:cNvSpPr/>
            <p:nvPr/>
          </p:nvSpPr>
          <p:spPr>
            <a:xfrm flipH="1">
              <a:off x="8123400" y="2952720"/>
              <a:ext cx="6336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"/>
            <p:cNvSpPr/>
            <p:nvPr/>
          </p:nvSpPr>
          <p:spPr>
            <a:xfrm>
              <a:off x="8078760" y="2924280"/>
              <a:ext cx="10800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5" name=""/>
            <p:cNvSpPr/>
            <p:nvPr/>
          </p:nvSpPr>
          <p:spPr>
            <a:xfrm flipH="1">
              <a:off x="8258040" y="2989440"/>
              <a:ext cx="65160" cy="42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6" name=""/>
            <p:cNvSpPr/>
            <p:nvPr/>
          </p:nvSpPr>
          <p:spPr>
            <a:xfrm>
              <a:off x="8186760" y="2952720"/>
              <a:ext cx="136440" cy="36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7" name=""/>
            <p:cNvSpPr/>
            <p:nvPr/>
          </p:nvSpPr>
          <p:spPr>
            <a:xfrm flipH="1">
              <a:off x="6191280" y="2381400"/>
              <a:ext cx="79200" cy="56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8" name=""/>
            <p:cNvSpPr/>
            <p:nvPr/>
          </p:nvSpPr>
          <p:spPr>
            <a:xfrm>
              <a:off x="6141960" y="2344680"/>
              <a:ext cx="128520" cy="367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9" name=""/>
            <p:cNvSpPr/>
            <p:nvPr/>
          </p:nvSpPr>
          <p:spPr>
            <a:xfrm flipV="1">
              <a:off x="6056280" y="2344680"/>
              <a:ext cx="85680" cy="5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0" name=""/>
            <p:cNvSpPr/>
            <p:nvPr/>
          </p:nvSpPr>
          <p:spPr>
            <a:xfrm flipH="1">
              <a:off x="6299280" y="2409840"/>
              <a:ext cx="85680" cy="57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1" name=""/>
            <p:cNvSpPr/>
            <p:nvPr/>
          </p:nvSpPr>
          <p:spPr>
            <a:xfrm>
              <a:off x="6270480" y="2381400"/>
              <a:ext cx="11448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2" name=""/>
            <p:cNvSpPr/>
            <p:nvPr/>
          </p:nvSpPr>
          <p:spPr>
            <a:xfrm flipH="1" flipV="1">
              <a:off x="6191280" y="2438280"/>
              <a:ext cx="10800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"/>
            <p:cNvSpPr/>
            <p:nvPr/>
          </p:nvSpPr>
          <p:spPr>
            <a:xfrm flipH="1">
              <a:off x="6384960" y="2430360"/>
              <a:ext cx="85680" cy="58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"/>
            <p:cNvSpPr/>
            <p:nvPr/>
          </p:nvSpPr>
          <p:spPr>
            <a:xfrm>
              <a:off x="6384960" y="2409840"/>
              <a:ext cx="8568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5" name=""/>
            <p:cNvSpPr/>
            <p:nvPr/>
          </p:nvSpPr>
          <p:spPr>
            <a:xfrm flipH="1" flipV="1">
              <a:off x="6299280" y="2467080"/>
              <a:ext cx="8568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6" name=""/>
            <p:cNvSpPr/>
            <p:nvPr/>
          </p:nvSpPr>
          <p:spPr>
            <a:xfrm flipH="1">
              <a:off x="6456240" y="2444760"/>
              <a:ext cx="85680" cy="65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7" name=""/>
            <p:cNvSpPr/>
            <p:nvPr/>
          </p:nvSpPr>
          <p:spPr>
            <a:xfrm>
              <a:off x="6470640" y="2430360"/>
              <a:ext cx="712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8" name=""/>
            <p:cNvSpPr/>
            <p:nvPr/>
          </p:nvSpPr>
          <p:spPr>
            <a:xfrm flipH="1" flipV="1">
              <a:off x="6384960" y="2489040"/>
              <a:ext cx="71280" cy="2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"/>
            <p:cNvSpPr/>
            <p:nvPr/>
          </p:nvSpPr>
          <p:spPr>
            <a:xfrm flipH="1">
              <a:off x="6519960" y="2467080"/>
              <a:ext cx="87120" cy="48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6541920" y="2444760"/>
              <a:ext cx="651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1" name=""/>
            <p:cNvSpPr/>
            <p:nvPr/>
          </p:nvSpPr>
          <p:spPr>
            <a:xfrm flipH="1">
              <a:off x="6578640" y="2481120"/>
              <a:ext cx="85680" cy="4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"/>
            <p:cNvSpPr/>
            <p:nvPr/>
          </p:nvSpPr>
          <p:spPr>
            <a:xfrm>
              <a:off x="6607080" y="2467080"/>
              <a:ext cx="5724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"/>
            <p:cNvSpPr/>
            <p:nvPr/>
          </p:nvSpPr>
          <p:spPr>
            <a:xfrm flipH="1">
              <a:off x="6627960" y="2495520"/>
              <a:ext cx="85680" cy="5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4" name=""/>
            <p:cNvSpPr/>
            <p:nvPr/>
          </p:nvSpPr>
          <p:spPr>
            <a:xfrm>
              <a:off x="6664320" y="248112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5" name=""/>
            <p:cNvSpPr/>
            <p:nvPr/>
          </p:nvSpPr>
          <p:spPr>
            <a:xfrm flipH="1">
              <a:off x="6684840" y="2509920"/>
              <a:ext cx="85680" cy="5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6" name=""/>
            <p:cNvSpPr/>
            <p:nvPr/>
          </p:nvSpPr>
          <p:spPr>
            <a:xfrm>
              <a:off x="6713640" y="2495520"/>
              <a:ext cx="5688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7" name=""/>
            <p:cNvSpPr/>
            <p:nvPr/>
          </p:nvSpPr>
          <p:spPr>
            <a:xfrm flipH="1">
              <a:off x="6735600" y="2523960"/>
              <a:ext cx="86040" cy="4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"/>
            <p:cNvSpPr/>
            <p:nvPr/>
          </p:nvSpPr>
          <p:spPr>
            <a:xfrm>
              <a:off x="6770520" y="2509920"/>
              <a:ext cx="511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9" name=""/>
            <p:cNvSpPr/>
            <p:nvPr/>
          </p:nvSpPr>
          <p:spPr>
            <a:xfrm flipH="1">
              <a:off x="6784920" y="2530440"/>
              <a:ext cx="85680" cy="5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0" name=""/>
            <p:cNvSpPr/>
            <p:nvPr/>
          </p:nvSpPr>
          <p:spPr>
            <a:xfrm>
              <a:off x="6821640" y="2523960"/>
              <a:ext cx="48960" cy="64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"/>
            <p:cNvSpPr/>
            <p:nvPr/>
          </p:nvSpPr>
          <p:spPr>
            <a:xfrm flipH="1">
              <a:off x="6835680" y="2546280"/>
              <a:ext cx="85680" cy="4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"/>
            <p:cNvSpPr/>
            <p:nvPr/>
          </p:nvSpPr>
          <p:spPr>
            <a:xfrm>
              <a:off x="6870600" y="2530440"/>
              <a:ext cx="5076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3" name=""/>
            <p:cNvSpPr/>
            <p:nvPr/>
          </p:nvSpPr>
          <p:spPr>
            <a:xfrm flipH="1">
              <a:off x="6885000" y="2560680"/>
              <a:ext cx="85680" cy="4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4" name=""/>
            <p:cNvSpPr/>
            <p:nvPr/>
          </p:nvSpPr>
          <p:spPr>
            <a:xfrm>
              <a:off x="6921360" y="254628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5" name=""/>
            <p:cNvSpPr/>
            <p:nvPr/>
          </p:nvSpPr>
          <p:spPr>
            <a:xfrm flipH="1">
              <a:off x="6935760" y="2573280"/>
              <a:ext cx="85680" cy="5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6970680" y="2560680"/>
              <a:ext cx="50760" cy="12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 flipH="1">
              <a:off x="6985080" y="2589120"/>
              <a:ext cx="85680" cy="4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7021440" y="2573280"/>
              <a:ext cx="49320" cy="15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 flipH="1">
              <a:off x="7035840" y="2603520"/>
              <a:ext cx="85680" cy="4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0" name=""/>
            <p:cNvSpPr/>
            <p:nvPr/>
          </p:nvSpPr>
          <p:spPr>
            <a:xfrm>
              <a:off x="7070760" y="258912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1" name=""/>
            <p:cNvSpPr/>
            <p:nvPr/>
          </p:nvSpPr>
          <p:spPr>
            <a:xfrm flipH="1">
              <a:off x="7085160" y="2617920"/>
              <a:ext cx="85680" cy="48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7121520" y="260352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 flipH="1">
              <a:off x="7135920" y="2624040"/>
              <a:ext cx="85680" cy="5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7170840" y="2617920"/>
              <a:ext cx="50760" cy="6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 flipH="1">
              <a:off x="7184880" y="2638440"/>
              <a:ext cx="86040" cy="5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6" name=""/>
            <p:cNvSpPr/>
            <p:nvPr/>
          </p:nvSpPr>
          <p:spPr>
            <a:xfrm>
              <a:off x="7221600" y="262404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7" name=""/>
            <p:cNvSpPr/>
            <p:nvPr/>
          </p:nvSpPr>
          <p:spPr>
            <a:xfrm flipH="1">
              <a:off x="7236000" y="2652840"/>
              <a:ext cx="85680" cy="5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7270920" y="26384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 flipH="1">
              <a:off x="7284960" y="2666880"/>
              <a:ext cx="87480" cy="5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7321680" y="265284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 flipH="1">
              <a:off x="7335720" y="2681280"/>
              <a:ext cx="85680" cy="5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2" name=""/>
            <p:cNvSpPr/>
            <p:nvPr/>
          </p:nvSpPr>
          <p:spPr>
            <a:xfrm>
              <a:off x="7372440" y="266688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3" name=""/>
            <p:cNvSpPr/>
            <p:nvPr/>
          </p:nvSpPr>
          <p:spPr>
            <a:xfrm flipH="1">
              <a:off x="7392960" y="2695680"/>
              <a:ext cx="85680" cy="5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7421400" y="268128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 flipH="1">
              <a:off x="7443720" y="2709720"/>
              <a:ext cx="85680" cy="51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7478640" y="2695680"/>
              <a:ext cx="5076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 flipH="1">
              <a:off x="7493040" y="2717640"/>
              <a:ext cx="85680" cy="57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8" name=""/>
            <p:cNvSpPr/>
            <p:nvPr/>
          </p:nvSpPr>
          <p:spPr>
            <a:xfrm>
              <a:off x="7529400" y="270972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9" name=""/>
            <p:cNvSpPr/>
            <p:nvPr/>
          </p:nvSpPr>
          <p:spPr>
            <a:xfrm flipH="1">
              <a:off x="7543800" y="2732040"/>
              <a:ext cx="85680" cy="57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0" name=""/>
            <p:cNvSpPr/>
            <p:nvPr/>
          </p:nvSpPr>
          <p:spPr>
            <a:xfrm>
              <a:off x="7578720" y="27176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1" name=""/>
            <p:cNvSpPr/>
            <p:nvPr/>
          </p:nvSpPr>
          <p:spPr>
            <a:xfrm flipH="1">
              <a:off x="7593120" y="2746440"/>
              <a:ext cx="85680" cy="57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2" name=""/>
            <p:cNvSpPr/>
            <p:nvPr/>
          </p:nvSpPr>
          <p:spPr>
            <a:xfrm>
              <a:off x="7629480" y="2732040"/>
              <a:ext cx="493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3" name=""/>
            <p:cNvSpPr/>
            <p:nvPr/>
          </p:nvSpPr>
          <p:spPr>
            <a:xfrm flipH="1">
              <a:off x="7643880" y="2760840"/>
              <a:ext cx="85680" cy="56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4" name=""/>
            <p:cNvSpPr/>
            <p:nvPr/>
          </p:nvSpPr>
          <p:spPr>
            <a:xfrm>
              <a:off x="7678800" y="274644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"/>
            <p:cNvSpPr/>
            <p:nvPr/>
          </p:nvSpPr>
          <p:spPr>
            <a:xfrm flipH="1">
              <a:off x="7693200" y="2774880"/>
              <a:ext cx="85680" cy="4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"/>
            <p:cNvSpPr/>
            <p:nvPr/>
          </p:nvSpPr>
          <p:spPr>
            <a:xfrm>
              <a:off x="7729560" y="2760840"/>
              <a:ext cx="4932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"/>
            <p:cNvSpPr/>
            <p:nvPr/>
          </p:nvSpPr>
          <p:spPr>
            <a:xfrm flipH="1">
              <a:off x="7743960" y="2789280"/>
              <a:ext cx="85680" cy="4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"/>
            <p:cNvSpPr/>
            <p:nvPr/>
          </p:nvSpPr>
          <p:spPr>
            <a:xfrm>
              <a:off x="7778880" y="2774880"/>
              <a:ext cx="50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"/>
            <p:cNvSpPr/>
            <p:nvPr/>
          </p:nvSpPr>
          <p:spPr>
            <a:xfrm flipH="1">
              <a:off x="7800840" y="2803680"/>
              <a:ext cx="86040" cy="48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"/>
            <p:cNvSpPr/>
            <p:nvPr/>
          </p:nvSpPr>
          <p:spPr>
            <a:xfrm>
              <a:off x="7829640" y="2789280"/>
              <a:ext cx="5724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1" name=""/>
            <p:cNvSpPr/>
            <p:nvPr/>
          </p:nvSpPr>
          <p:spPr>
            <a:xfrm flipH="1">
              <a:off x="7858080" y="2817720"/>
              <a:ext cx="85680" cy="4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2" name=""/>
            <p:cNvSpPr/>
            <p:nvPr/>
          </p:nvSpPr>
          <p:spPr>
            <a:xfrm>
              <a:off x="7886880" y="2803680"/>
              <a:ext cx="56880" cy="14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3" name=""/>
            <p:cNvSpPr/>
            <p:nvPr/>
          </p:nvSpPr>
          <p:spPr>
            <a:xfrm flipH="1">
              <a:off x="7921800" y="2832120"/>
              <a:ext cx="85680" cy="4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"/>
            <p:cNvSpPr/>
            <p:nvPr/>
          </p:nvSpPr>
          <p:spPr>
            <a:xfrm>
              <a:off x="7943760" y="2817720"/>
              <a:ext cx="6372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"/>
            <p:cNvSpPr/>
            <p:nvPr/>
          </p:nvSpPr>
          <p:spPr>
            <a:xfrm flipH="1">
              <a:off x="7993080" y="2852640"/>
              <a:ext cx="85680" cy="507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"/>
            <p:cNvSpPr/>
            <p:nvPr/>
          </p:nvSpPr>
          <p:spPr>
            <a:xfrm>
              <a:off x="8007480" y="2832120"/>
              <a:ext cx="71280" cy="20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"/>
            <p:cNvSpPr/>
            <p:nvPr/>
          </p:nvSpPr>
          <p:spPr>
            <a:xfrm flipH="1">
              <a:off x="8078760" y="2874960"/>
              <a:ext cx="85680" cy="4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"/>
            <p:cNvSpPr/>
            <p:nvPr/>
          </p:nvSpPr>
          <p:spPr>
            <a:xfrm>
              <a:off x="8078760" y="2852640"/>
              <a:ext cx="8568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9" name=""/>
            <p:cNvSpPr/>
            <p:nvPr/>
          </p:nvSpPr>
          <p:spPr>
            <a:xfrm flipH="1">
              <a:off x="8186760" y="2903400"/>
              <a:ext cx="85680" cy="4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"/>
            <p:cNvSpPr/>
            <p:nvPr/>
          </p:nvSpPr>
          <p:spPr>
            <a:xfrm>
              <a:off x="8164440" y="2874960"/>
              <a:ext cx="10800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"/>
            <p:cNvSpPr/>
            <p:nvPr/>
          </p:nvSpPr>
          <p:spPr>
            <a:xfrm flipH="1">
              <a:off x="8323200" y="2938320"/>
              <a:ext cx="85680" cy="51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"/>
            <p:cNvSpPr/>
            <p:nvPr/>
          </p:nvSpPr>
          <p:spPr>
            <a:xfrm>
              <a:off x="8272440" y="2903400"/>
              <a:ext cx="13644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"/>
            <p:cNvSpPr/>
            <p:nvPr/>
          </p:nvSpPr>
          <p:spPr>
            <a:xfrm>
              <a:off x="6141960" y="2344680"/>
              <a:ext cx="2266920" cy="593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"/>
            <p:cNvSpPr/>
            <p:nvPr/>
          </p:nvSpPr>
          <p:spPr>
            <a:xfrm flipH="1" flipV="1">
              <a:off x="4703760" y="3181320"/>
              <a:ext cx="708120" cy="187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5" name=""/>
            <p:cNvSpPr/>
            <p:nvPr/>
          </p:nvSpPr>
          <p:spPr>
            <a:xfrm flipH="1" flipV="1">
              <a:off x="5842080" y="3483000"/>
              <a:ext cx="489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6" name=""/>
            <p:cNvSpPr/>
            <p:nvPr/>
          </p:nvSpPr>
          <p:spPr>
            <a:xfrm flipV="1">
              <a:off x="4703760" y="2344680"/>
              <a:ext cx="1438200" cy="836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"/>
            <p:cNvSpPr/>
            <p:nvPr/>
          </p:nvSpPr>
          <p:spPr>
            <a:xfrm flipH="1">
              <a:off x="7386480" y="2938320"/>
              <a:ext cx="1022400" cy="601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8" name=""/>
            <p:cNvSpPr/>
            <p:nvPr/>
          </p:nvSpPr>
          <p:spPr>
            <a:xfrm>
              <a:off x="5842080" y="3132000"/>
              <a:ext cx="0" cy="393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9" name=""/>
            <p:cNvSpPr/>
            <p:nvPr/>
          </p:nvSpPr>
          <p:spPr>
            <a:xfrm>
              <a:off x="5842080" y="3132000"/>
              <a:ext cx="0" cy="3938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"/>
            <p:cNvSpPr/>
            <p:nvPr/>
          </p:nvSpPr>
          <p:spPr>
            <a:xfrm>
              <a:off x="5805360" y="3095640"/>
              <a:ext cx="14760" cy="451080"/>
            </a:xfrm>
            <a:custGeom>
              <a:avLst/>
              <a:gdLst/>
              <a:ahLst/>
              <a:rect l="0" t="0" r="r" b="b"/>
              <a:pathLst>
                <a:path fill="none" w="41" h="1253">
                  <a:moveTo>
                    <a:pt x="41" y="1235"/>
                  </a:moveTo>
                  <a:lnTo>
                    <a:pt x="0" y="0"/>
                  </a:lnTo>
                  <a:lnTo>
                    <a:pt x="0" y="125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"/>
            <p:cNvSpPr/>
            <p:nvPr/>
          </p:nvSpPr>
          <p:spPr>
            <a:xfrm>
              <a:off x="5748480" y="3075120"/>
              <a:ext cx="28800" cy="508320"/>
            </a:xfrm>
            <a:custGeom>
              <a:avLst/>
              <a:gdLst/>
              <a:ahLst/>
              <a:rect l="0" t="0" r="r" b="b"/>
              <a:pathLst>
                <a:path fill="none" w="80" h="1412">
                  <a:moveTo>
                    <a:pt x="80" y="1372"/>
                  </a:moveTo>
                  <a:lnTo>
                    <a:pt x="0" y="0"/>
                  </a:lnTo>
                  <a:lnTo>
                    <a:pt x="0" y="141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"/>
            <p:cNvSpPr/>
            <p:nvPr/>
          </p:nvSpPr>
          <p:spPr>
            <a:xfrm>
              <a:off x="5670720" y="3060720"/>
              <a:ext cx="41760" cy="565560"/>
            </a:xfrm>
            <a:custGeom>
              <a:avLst/>
              <a:gdLst/>
              <a:ahLst/>
              <a:rect l="0" t="0" r="r" b="b"/>
              <a:pathLst>
                <a:path fill="none" w="116" h="1571">
                  <a:moveTo>
                    <a:pt x="116" y="1510"/>
                  </a:moveTo>
                  <a:lnTo>
                    <a:pt x="0" y="0"/>
                  </a:lnTo>
                  <a:lnTo>
                    <a:pt x="0" y="1571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3" name=""/>
            <p:cNvSpPr/>
            <p:nvPr/>
          </p:nvSpPr>
          <p:spPr>
            <a:xfrm>
              <a:off x="5583240" y="3060720"/>
              <a:ext cx="51120" cy="614880"/>
            </a:xfrm>
            <a:custGeom>
              <a:avLst/>
              <a:gdLst/>
              <a:ahLst/>
              <a:rect l="0" t="0" r="r" b="b"/>
              <a:pathLst>
                <a:path fill="none" w="142" h="1708">
                  <a:moveTo>
                    <a:pt x="142" y="1629"/>
                  </a:moveTo>
                  <a:lnTo>
                    <a:pt x="0" y="0"/>
                  </a:lnTo>
                  <a:lnTo>
                    <a:pt x="0" y="1708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"/>
            <p:cNvSpPr/>
            <p:nvPr/>
          </p:nvSpPr>
          <p:spPr>
            <a:xfrm flipV="1">
              <a:off x="5505480" y="3060720"/>
              <a:ext cx="77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"/>
            <p:cNvSpPr/>
            <p:nvPr/>
          </p:nvSpPr>
          <p:spPr>
            <a:xfrm>
              <a:off x="5505480" y="3075120"/>
              <a:ext cx="51120" cy="651240"/>
            </a:xfrm>
            <a:custGeom>
              <a:avLst/>
              <a:gdLst/>
              <a:ahLst/>
              <a:rect l="0" t="0" r="r" b="b"/>
              <a:pathLst>
                <a:path fill="none" w="142" h="1809">
                  <a:moveTo>
                    <a:pt x="142" y="1730"/>
                  </a:moveTo>
                  <a:lnTo>
                    <a:pt x="0" y="0"/>
                  </a:lnTo>
                  <a:lnTo>
                    <a:pt x="0" y="180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6" name=""/>
            <p:cNvSpPr/>
            <p:nvPr/>
          </p:nvSpPr>
          <p:spPr>
            <a:xfrm flipH="1" flipV="1">
              <a:off x="5440320" y="3095640"/>
              <a:ext cx="42840" cy="64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7" name=""/>
            <p:cNvSpPr/>
            <p:nvPr/>
          </p:nvSpPr>
          <p:spPr>
            <a:xfrm flipV="1">
              <a:off x="5411880" y="3132000"/>
              <a:ext cx="0" cy="65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"/>
            <p:cNvSpPr/>
            <p:nvPr/>
          </p:nvSpPr>
          <p:spPr>
            <a:xfrm>
              <a:off x="5440320" y="3095640"/>
              <a:ext cx="0" cy="665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"/>
            <p:cNvSpPr/>
            <p:nvPr/>
          </p:nvSpPr>
          <p:spPr>
            <a:xfrm flipV="1">
              <a:off x="5419800" y="3095640"/>
              <a:ext cx="20520" cy="679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0" name=""/>
            <p:cNvSpPr/>
            <p:nvPr/>
          </p:nvSpPr>
          <p:spPr>
            <a:xfrm flipV="1">
              <a:off x="5411880" y="3132000"/>
              <a:ext cx="0" cy="6508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"/>
            <p:cNvSpPr/>
            <p:nvPr/>
          </p:nvSpPr>
          <p:spPr>
            <a:xfrm>
              <a:off x="5583240" y="3060720"/>
              <a:ext cx="259200" cy="71640"/>
            </a:xfrm>
            <a:custGeom>
              <a:avLst/>
              <a:gdLst/>
              <a:ahLst/>
              <a:rect l="0" t="0" r="r" b="b"/>
              <a:pathLst>
                <a:path fill="none" w="720" h="199">
                  <a:moveTo>
                    <a:pt x="0" y="0"/>
                  </a:moveTo>
                  <a:lnTo>
                    <a:pt x="243" y="0"/>
                  </a:lnTo>
                  <a:lnTo>
                    <a:pt x="459" y="39"/>
                  </a:lnTo>
                  <a:lnTo>
                    <a:pt x="619" y="97"/>
                  </a:lnTo>
                  <a:lnTo>
                    <a:pt x="720" y="19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"/>
            <p:cNvSpPr/>
            <p:nvPr/>
          </p:nvSpPr>
          <p:spPr>
            <a:xfrm>
              <a:off x="6613560" y="2674800"/>
              <a:ext cx="0" cy="800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"/>
            <p:cNvSpPr/>
            <p:nvPr/>
          </p:nvSpPr>
          <p:spPr>
            <a:xfrm>
              <a:off x="6613560" y="2674800"/>
              <a:ext cx="0" cy="8002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"/>
            <p:cNvSpPr/>
            <p:nvPr/>
          </p:nvSpPr>
          <p:spPr>
            <a:xfrm>
              <a:off x="6578640" y="2646360"/>
              <a:ext cx="28800" cy="829080"/>
            </a:xfrm>
            <a:custGeom>
              <a:avLst/>
              <a:gdLst/>
              <a:ahLst/>
              <a:rect l="0" t="0" r="r" b="b"/>
              <a:pathLst>
                <a:path fill="none" w="80" h="2303">
                  <a:moveTo>
                    <a:pt x="80" y="2303"/>
                  </a:moveTo>
                  <a:lnTo>
                    <a:pt x="0" y="0"/>
                  </a:lnTo>
                  <a:lnTo>
                    <a:pt x="0" y="22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"/>
            <p:cNvSpPr/>
            <p:nvPr/>
          </p:nvSpPr>
          <p:spPr>
            <a:xfrm>
              <a:off x="6519960" y="2617920"/>
              <a:ext cx="51120" cy="851400"/>
            </a:xfrm>
            <a:custGeom>
              <a:avLst/>
              <a:gdLst/>
              <a:ahLst/>
              <a:rect l="0" t="0" r="r" b="b"/>
              <a:pathLst>
                <a:path fill="none" w="142" h="2365">
                  <a:moveTo>
                    <a:pt x="142" y="2365"/>
                  </a:moveTo>
                  <a:lnTo>
                    <a:pt x="0" y="0"/>
                  </a:lnTo>
                  <a:lnTo>
                    <a:pt x="0" y="232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"/>
            <p:cNvSpPr/>
            <p:nvPr/>
          </p:nvSpPr>
          <p:spPr>
            <a:xfrm>
              <a:off x="6442200" y="2610000"/>
              <a:ext cx="65520" cy="837000"/>
            </a:xfrm>
            <a:custGeom>
              <a:avLst/>
              <a:gdLst/>
              <a:ahLst/>
              <a:rect l="0" t="0" r="r" b="b"/>
              <a:pathLst>
                <a:path fill="none" w="182" h="2325">
                  <a:moveTo>
                    <a:pt x="182" y="2325"/>
                  </a:moveTo>
                  <a:lnTo>
                    <a:pt x="0" y="0"/>
                  </a:lnTo>
                  <a:lnTo>
                    <a:pt x="0" y="228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"/>
            <p:cNvSpPr/>
            <p:nvPr/>
          </p:nvSpPr>
          <p:spPr>
            <a:xfrm>
              <a:off x="6356520" y="2610000"/>
              <a:ext cx="71640" cy="816480"/>
            </a:xfrm>
            <a:custGeom>
              <a:avLst/>
              <a:gdLst/>
              <a:ahLst/>
              <a:rect l="0" t="0" r="r" b="b"/>
              <a:pathLst>
                <a:path fill="none" w="199" h="2268">
                  <a:moveTo>
                    <a:pt x="199" y="2268"/>
                  </a:moveTo>
                  <a:lnTo>
                    <a:pt x="0" y="0"/>
                  </a:lnTo>
                  <a:lnTo>
                    <a:pt x="0" y="222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"/>
            <p:cNvSpPr/>
            <p:nvPr/>
          </p:nvSpPr>
          <p:spPr>
            <a:xfrm>
              <a:off x="6276960" y="2617920"/>
              <a:ext cx="65520" cy="786240"/>
            </a:xfrm>
            <a:custGeom>
              <a:avLst/>
              <a:gdLst/>
              <a:ahLst/>
              <a:rect l="0" t="0" r="r" b="b"/>
              <a:pathLst>
                <a:path fill="none" w="182" h="2184">
                  <a:moveTo>
                    <a:pt x="182" y="2184"/>
                  </a:moveTo>
                  <a:lnTo>
                    <a:pt x="0" y="0"/>
                  </a:lnTo>
                  <a:lnTo>
                    <a:pt x="0" y="2145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"/>
            <p:cNvSpPr/>
            <p:nvPr/>
          </p:nvSpPr>
          <p:spPr>
            <a:xfrm flipH="1" flipV="1">
              <a:off x="6213600" y="2646360"/>
              <a:ext cx="48960" cy="736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"/>
            <p:cNvSpPr/>
            <p:nvPr/>
          </p:nvSpPr>
          <p:spPr>
            <a:xfrm flipV="1">
              <a:off x="6184800" y="2666880"/>
              <a:ext cx="6480" cy="7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1" name=""/>
            <p:cNvSpPr/>
            <p:nvPr/>
          </p:nvSpPr>
          <p:spPr>
            <a:xfrm flipV="1">
              <a:off x="6184800" y="267480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2" name=""/>
            <p:cNvSpPr/>
            <p:nvPr/>
          </p:nvSpPr>
          <p:spPr>
            <a:xfrm>
              <a:off x="6213600" y="2646360"/>
              <a:ext cx="0" cy="728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"/>
            <p:cNvSpPr/>
            <p:nvPr/>
          </p:nvSpPr>
          <p:spPr>
            <a:xfrm flipV="1">
              <a:off x="6191280" y="2646360"/>
              <a:ext cx="22320" cy="7221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"/>
            <p:cNvSpPr/>
            <p:nvPr/>
          </p:nvSpPr>
          <p:spPr>
            <a:xfrm flipV="1">
              <a:off x="6184800" y="2674800"/>
              <a:ext cx="0" cy="685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"/>
            <p:cNvSpPr/>
            <p:nvPr/>
          </p:nvSpPr>
          <p:spPr>
            <a:xfrm>
              <a:off x="6578640" y="264636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"/>
            <p:cNvSpPr/>
            <p:nvPr/>
          </p:nvSpPr>
          <p:spPr>
            <a:xfrm>
              <a:off x="6527880" y="2624040"/>
              <a:ext cx="50760" cy="22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7" name=""/>
            <p:cNvSpPr/>
            <p:nvPr/>
          </p:nvSpPr>
          <p:spPr>
            <a:xfrm>
              <a:off x="7386480" y="321804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8" name=""/>
            <p:cNvSpPr/>
            <p:nvPr/>
          </p:nvSpPr>
          <p:spPr>
            <a:xfrm>
              <a:off x="7386480" y="3218040"/>
              <a:ext cx="0" cy="465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9" name=""/>
            <p:cNvSpPr/>
            <p:nvPr/>
          </p:nvSpPr>
          <p:spPr>
            <a:xfrm>
              <a:off x="7358040" y="3174840"/>
              <a:ext cx="14760" cy="500400"/>
            </a:xfrm>
            <a:custGeom>
              <a:avLst/>
              <a:gdLst/>
              <a:ahLst/>
              <a:rect l="0" t="0" r="r" b="b"/>
              <a:pathLst>
                <a:path fill="none" w="41" h="1390">
                  <a:moveTo>
                    <a:pt x="41" y="1390"/>
                  </a:moveTo>
                  <a:lnTo>
                    <a:pt x="0" y="0"/>
                  </a:lnTo>
                  <a:lnTo>
                    <a:pt x="0" y="137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0" name=""/>
            <p:cNvSpPr/>
            <p:nvPr/>
          </p:nvSpPr>
          <p:spPr>
            <a:xfrm>
              <a:off x="7292880" y="3152880"/>
              <a:ext cx="35280" cy="508320"/>
            </a:xfrm>
            <a:custGeom>
              <a:avLst/>
              <a:gdLst/>
              <a:ahLst/>
              <a:rect l="0" t="0" r="r" b="b"/>
              <a:pathLst>
                <a:path fill="none" w="98" h="1412">
                  <a:moveTo>
                    <a:pt x="98" y="1412"/>
                  </a:moveTo>
                  <a:lnTo>
                    <a:pt x="0" y="0"/>
                  </a:lnTo>
                  <a:lnTo>
                    <a:pt x="0" y="1394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1" name=""/>
            <p:cNvSpPr/>
            <p:nvPr/>
          </p:nvSpPr>
          <p:spPr>
            <a:xfrm>
              <a:off x="7213680" y="3138480"/>
              <a:ext cx="43200" cy="508320"/>
            </a:xfrm>
            <a:custGeom>
              <a:avLst/>
              <a:gdLst/>
              <a:ahLst/>
              <a:rect l="0" t="0" r="r" b="b"/>
              <a:pathLst>
                <a:path fill="none" w="120" h="1412">
                  <a:moveTo>
                    <a:pt x="120" y="1412"/>
                  </a:moveTo>
                  <a:lnTo>
                    <a:pt x="0" y="0"/>
                  </a:lnTo>
                  <a:lnTo>
                    <a:pt x="0" y="1372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2" name=""/>
            <p:cNvSpPr/>
            <p:nvPr/>
          </p:nvSpPr>
          <p:spPr>
            <a:xfrm>
              <a:off x="7128000" y="3138480"/>
              <a:ext cx="43200" cy="487800"/>
            </a:xfrm>
            <a:custGeom>
              <a:avLst/>
              <a:gdLst/>
              <a:ahLst/>
              <a:rect l="0" t="0" r="r" b="b"/>
              <a:pathLst>
                <a:path fill="none" w="120" h="1355">
                  <a:moveTo>
                    <a:pt x="120" y="1355"/>
                  </a:moveTo>
                  <a:lnTo>
                    <a:pt x="0" y="0"/>
                  </a:lnTo>
                  <a:lnTo>
                    <a:pt x="0" y="131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3" name=""/>
            <p:cNvSpPr/>
            <p:nvPr/>
          </p:nvSpPr>
          <p:spPr>
            <a:xfrm flipV="1">
              <a:off x="7050240" y="3138480"/>
              <a:ext cx="77760" cy="144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4" name=""/>
            <p:cNvSpPr/>
            <p:nvPr/>
          </p:nvSpPr>
          <p:spPr>
            <a:xfrm>
              <a:off x="7050240" y="3152880"/>
              <a:ext cx="35280" cy="451080"/>
            </a:xfrm>
            <a:custGeom>
              <a:avLst/>
              <a:gdLst/>
              <a:ahLst/>
              <a:rect l="0" t="0" r="r" b="b"/>
              <a:pathLst>
                <a:path fill="none" w="98" h="1253">
                  <a:moveTo>
                    <a:pt x="98" y="1253"/>
                  </a:moveTo>
                  <a:lnTo>
                    <a:pt x="0" y="0"/>
                  </a:lnTo>
                  <a:lnTo>
                    <a:pt x="0" y="1213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"/>
            <p:cNvSpPr/>
            <p:nvPr/>
          </p:nvSpPr>
          <p:spPr>
            <a:xfrm flipV="1">
              <a:off x="6993000" y="3152880"/>
              <a:ext cx="57240" cy="219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6" name=""/>
            <p:cNvSpPr/>
            <p:nvPr/>
          </p:nvSpPr>
          <p:spPr>
            <a:xfrm flipH="1" flipV="1">
              <a:off x="6993000" y="3174840"/>
              <a:ext cx="20520" cy="4082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7" name=""/>
            <p:cNvSpPr/>
            <p:nvPr/>
          </p:nvSpPr>
          <p:spPr>
            <a:xfrm flipV="1">
              <a:off x="6956280" y="3174840"/>
              <a:ext cx="36720" cy="28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8" name=""/>
            <p:cNvSpPr/>
            <p:nvPr/>
          </p:nvSpPr>
          <p:spPr>
            <a:xfrm flipV="1">
              <a:off x="6956280" y="320364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9" name=""/>
            <p:cNvSpPr/>
            <p:nvPr/>
          </p:nvSpPr>
          <p:spPr>
            <a:xfrm>
              <a:off x="6993000" y="3174840"/>
              <a:ext cx="0" cy="400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0" name=""/>
            <p:cNvSpPr/>
            <p:nvPr/>
          </p:nvSpPr>
          <p:spPr>
            <a:xfrm flipV="1">
              <a:off x="6978600" y="3174840"/>
              <a:ext cx="14400" cy="4003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1" name=""/>
            <p:cNvSpPr/>
            <p:nvPr/>
          </p:nvSpPr>
          <p:spPr>
            <a:xfrm flipV="1">
              <a:off x="6956280" y="3203640"/>
              <a:ext cx="0" cy="3650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"/>
            <p:cNvSpPr/>
            <p:nvPr/>
          </p:nvSpPr>
          <p:spPr>
            <a:xfrm>
              <a:off x="6956280" y="3238560"/>
              <a:ext cx="0" cy="330120"/>
            </a:xfrm>
            <a:custGeom>
              <a:avLst/>
              <a:gdLst/>
              <a:ahLst/>
              <a:rect l="0" t="0" r="r" b="b"/>
              <a:pathLst>
                <a:path fill="none" w="0" h="917">
                  <a:moveTo>
                    <a:pt x="0" y="917"/>
                  </a:moveTo>
                  <a:lnTo>
                    <a:pt x="0" y="0"/>
                  </a:lnTo>
                  <a:lnTo>
                    <a:pt x="0" y="39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"/>
            <p:cNvSpPr/>
            <p:nvPr/>
          </p:nvSpPr>
          <p:spPr>
            <a:xfrm>
              <a:off x="6956280" y="3238560"/>
              <a:ext cx="0" cy="330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"/>
            <p:cNvSpPr/>
            <p:nvPr/>
          </p:nvSpPr>
          <p:spPr>
            <a:xfrm>
              <a:off x="6956280" y="3203640"/>
              <a:ext cx="0" cy="365040"/>
            </a:xfrm>
            <a:custGeom>
              <a:avLst/>
              <a:gdLst/>
              <a:ahLst/>
              <a:rect l="0" t="0" r="r" b="b"/>
              <a:pathLst>
                <a:path fill="none" w="0" h="1014">
                  <a:moveTo>
                    <a:pt x="0" y="0"/>
                  </a:moveTo>
                  <a:lnTo>
                    <a:pt x="0" y="97"/>
                  </a:lnTo>
                  <a:lnTo>
                    <a:pt x="0" y="1014"/>
                  </a:lnTo>
                  <a:lnTo>
                    <a:pt x="0" y="9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>
              <a:off x="7128000" y="3138480"/>
              <a:ext cx="856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"/>
            <p:cNvSpPr/>
            <p:nvPr/>
          </p:nvSpPr>
          <p:spPr>
            <a:xfrm flipV="1">
              <a:off x="6956280" y="3203640"/>
              <a:ext cx="0" cy="34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6141960" y="3352680"/>
              <a:ext cx="2267280" cy="938520"/>
            </a:xfrm>
            <a:custGeom>
              <a:avLst/>
              <a:gdLst/>
              <a:ahLst/>
              <a:rect l="0" t="0" r="r" b="b"/>
              <a:pathLst>
                <a:path fill="none" w="6298" h="2607">
                  <a:moveTo>
                    <a:pt x="0" y="0"/>
                  </a:moveTo>
                  <a:lnTo>
                    <a:pt x="6298" y="1650"/>
                  </a:lnTo>
                  <a:lnTo>
                    <a:pt x="6298" y="260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 flipV="1">
              <a:off x="4703760" y="4197240"/>
              <a:ext cx="0" cy="3366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 flipH="1">
              <a:off x="4703760" y="4330800"/>
              <a:ext cx="1438200" cy="836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4703760" y="3352680"/>
              <a:ext cx="1438560" cy="844920"/>
            </a:xfrm>
            <a:custGeom>
              <a:avLst/>
              <a:gdLst/>
              <a:ahLst/>
              <a:rect l="0" t="0" r="r" b="b"/>
              <a:pathLst>
                <a:path fill="none" w="3996" h="2347">
                  <a:moveTo>
                    <a:pt x="0" y="2347"/>
                  </a:moveTo>
                  <a:lnTo>
                    <a:pt x="3996" y="0"/>
                  </a:lnTo>
                  <a:lnTo>
                    <a:pt x="3996" y="957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 flipH="1" flipV="1">
              <a:off x="4703760" y="5167440"/>
              <a:ext cx="2266920" cy="600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"/>
            <p:cNvSpPr/>
            <p:nvPr/>
          </p:nvSpPr>
          <p:spPr>
            <a:xfrm flipH="1">
              <a:off x="6970680" y="4924440"/>
              <a:ext cx="1438200" cy="8431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"/>
            <p:cNvSpPr/>
            <p:nvPr/>
          </p:nvSpPr>
          <p:spPr>
            <a:xfrm>
              <a:off x="6141960" y="4330800"/>
              <a:ext cx="2266920" cy="5936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4" name=""/>
            <p:cNvSpPr/>
            <p:nvPr/>
          </p:nvSpPr>
          <p:spPr>
            <a:xfrm>
              <a:off x="8404200" y="4292640"/>
              <a:ext cx="0" cy="631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5" name=""/>
            <p:cNvSpPr/>
            <p:nvPr/>
          </p:nvSpPr>
          <p:spPr>
            <a:xfrm>
              <a:off x="6145200" y="3705120"/>
              <a:ext cx="0" cy="6318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"/>
            <p:cNvSpPr/>
            <p:nvPr/>
          </p:nvSpPr>
          <p:spPr>
            <a:xfrm>
              <a:off x="4705200" y="4525920"/>
              <a:ext cx="0" cy="6415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7" name=""/>
          <p:cNvSpPr txBox="1"/>
          <p:nvPr/>
        </p:nvSpPr>
        <p:spPr>
          <a:xfrm>
            <a:off x="447840" y="2166840"/>
            <a:ext cx="358308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ory, the accuracy of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face plate (or simulated da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face) is transferred to the 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 using gage pins and da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8" name=""/>
          <p:cNvSpPr txBox="1"/>
          <p:nvPr/>
        </p:nvSpPr>
        <p:spPr>
          <a:xfrm>
            <a:off x="685800" y="843120"/>
            <a:ext cx="77724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Targets Used To Establish A Primary Datum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x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"/>
          <p:cNvSpPr/>
          <p:nvPr/>
        </p:nvSpPr>
        <p:spPr>
          <a:xfrm>
            <a:off x="504720" y="2325600"/>
            <a:ext cx="8178840" cy="20098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"/>
          <p:cNvSpPr txBox="1"/>
          <p:nvPr/>
        </p:nvSpPr>
        <p:spPr>
          <a:xfrm>
            <a:off x="685800" y="706320"/>
            <a:ext cx="7772400" cy="151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s </a:t>
            </a:r>
            <a:br>
              <a:rPr sz="3600"/>
            </a:b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mary Datum 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xi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ingle Cylinde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"/>
          <p:cNvSpPr txBox="1"/>
          <p:nvPr/>
        </p:nvSpPr>
        <p:spPr>
          <a:xfrm>
            <a:off x="500040" y="2212920"/>
            <a:ext cx="8236080" cy="333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sets of three equally spaced targets may be used to establish a datum axis for a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singl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lindrical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prima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feature (RF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two target sets are spaced as far apart as practicable and dimensioned from the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secondary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planar) dat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sets of targets use th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sa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tum identifying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3" name=""/>
          <p:cNvSpPr/>
          <p:nvPr/>
        </p:nvSpPr>
        <p:spPr>
          <a:xfrm>
            <a:off x="5241960" y="5165640"/>
            <a:ext cx="395640" cy="395640"/>
          </a:xfrm>
          <a:custGeom>
            <a:avLst/>
            <a:gdLst/>
            <a:ahLst/>
            <a:rect l="0" t="0" r="r" b="b"/>
            <a:pathLst>
              <a:path fill="none" w="1099" h="1099">
                <a:moveTo>
                  <a:pt x="0" y="550"/>
                </a:moveTo>
                <a:lnTo>
                  <a:pt x="1099" y="550"/>
                </a:lnTo>
                <a:lnTo>
                  <a:pt x="1092" y="476"/>
                </a:lnTo>
                <a:lnTo>
                  <a:pt x="1079" y="403"/>
                </a:lnTo>
                <a:lnTo>
                  <a:pt x="1059" y="337"/>
                </a:lnTo>
                <a:lnTo>
                  <a:pt x="1026" y="271"/>
                </a:lnTo>
                <a:lnTo>
                  <a:pt x="986" y="211"/>
                </a:lnTo>
                <a:lnTo>
                  <a:pt x="940" y="158"/>
                </a:lnTo>
                <a:lnTo>
                  <a:pt x="887" y="112"/>
                </a:lnTo>
                <a:lnTo>
                  <a:pt x="827" y="72"/>
                </a:lnTo>
                <a:lnTo>
                  <a:pt x="761" y="39"/>
                </a:lnTo>
                <a:lnTo>
                  <a:pt x="695" y="19"/>
                </a:lnTo>
                <a:lnTo>
                  <a:pt x="622" y="6"/>
                </a:lnTo>
                <a:lnTo>
                  <a:pt x="550" y="0"/>
                </a:lnTo>
                <a:lnTo>
                  <a:pt x="476" y="6"/>
                </a:lnTo>
                <a:lnTo>
                  <a:pt x="410" y="19"/>
                </a:lnTo>
                <a:lnTo>
                  <a:pt x="337" y="39"/>
                </a:lnTo>
                <a:lnTo>
                  <a:pt x="277" y="72"/>
                </a:lnTo>
                <a:lnTo>
                  <a:pt x="218" y="112"/>
                </a:lnTo>
                <a:lnTo>
                  <a:pt x="165" y="158"/>
                </a:lnTo>
                <a:lnTo>
                  <a:pt x="112" y="211"/>
                </a:lnTo>
                <a:lnTo>
                  <a:pt x="72" y="271"/>
                </a:lnTo>
                <a:lnTo>
                  <a:pt x="46" y="337"/>
                </a:lnTo>
                <a:lnTo>
                  <a:pt x="19" y="403"/>
                </a:lnTo>
                <a:lnTo>
                  <a:pt x="6" y="476"/>
                </a:lnTo>
                <a:lnTo>
                  <a:pt x="0" y="550"/>
                </a:lnTo>
                <a:lnTo>
                  <a:pt x="6" y="622"/>
                </a:lnTo>
                <a:lnTo>
                  <a:pt x="19" y="688"/>
                </a:lnTo>
                <a:lnTo>
                  <a:pt x="46" y="761"/>
                </a:lnTo>
                <a:lnTo>
                  <a:pt x="72" y="821"/>
                </a:lnTo>
                <a:lnTo>
                  <a:pt x="112" y="880"/>
                </a:lnTo>
                <a:lnTo>
                  <a:pt x="165" y="933"/>
                </a:lnTo>
                <a:lnTo>
                  <a:pt x="218" y="986"/>
                </a:lnTo>
                <a:lnTo>
                  <a:pt x="277" y="1026"/>
                </a:lnTo>
                <a:lnTo>
                  <a:pt x="337" y="1052"/>
                </a:lnTo>
                <a:lnTo>
                  <a:pt x="410" y="1079"/>
                </a:lnTo>
                <a:lnTo>
                  <a:pt x="476" y="1092"/>
                </a:lnTo>
                <a:lnTo>
                  <a:pt x="550" y="1099"/>
                </a:lnTo>
                <a:lnTo>
                  <a:pt x="622" y="1092"/>
                </a:lnTo>
                <a:lnTo>
                  <a:pt x="695" y="1079"/>
                </a:lnTo>
                <a:lnTo>
                  <a:pt x="761" y="1052"/>
                </a:lnTo>
                <a:lnTo>
                  <a:pt x="827" y="1026"/>
                </a:lnTo>
                <a:lnTo>
                  <a:pt x="887" y="986"/>
                </a:lnTo>
                <a:lnTo>
                  <a:pt x="940" y="933"/>
                </a:lnTo>
                <a:lnTo>
                  <a:pt x="986" y="880"/>
                </a:lnTo>
                <a:lnTo>
                  <a:pt x="1026" y="821"/>
                </a:lnTo>
                <a:lnTo>
                  <a:pt x="1059" y="761"/>
                </a:lnTo>
                <a:lnTo>
                  <a:pt x="1079" y="688"/>
                </a:lnTo>
                <a:lnTo>
                  <a:pt x="1092" y="622"/>
                </a:lnTo>
                <a:lnTo>
                  <a:pt x="1099" y="55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"/>
          <p:cNvSpPr/>
          <p:nvPr/>
        </p:nvSpPr>
        <p:spPr>
          <a:xfrm flipH="1" flipV="1">
            <a:off x="5567400" y="2604960"/>
            <a:ext cx="793800" cy="6382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5" name=""/>
          <p:cNvSpPr/>
          <p:nvPr/>
        </p:nvSpPr>
        <p:spPr>
          <a:xfrm>
            <a:off x="6824520" y="4981680"/>
            <a:ext cx="0" cy="2476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"/>
          <p:cNvSpPr/>
          <p:nvPr/>
        </p:nvSpPr>
        <p:spPr>
          <a:xfrm>
            <a:off x="5284800" y="2766960"/>
            <a:ext cx="254520" cy="1375200"/>
          </a:xfrm>
          <a:custGeom>
            <a:avLst/>
            <a:gdLst/>
            <a:ahLst/>
            <a:rect l="0" t="0" r="r" b="b"/>
            <a:pathLst>
              <a:path fill="none" w="707" h="3820">
                <a:moveTo>
                  <a:pt x="707" y="0"/>
                </a:moveTo>
                <a:lnTo>
                  <a:pt x="602" y="165"/>
                </a:lnTo>
                <a:lnTo>
                  <a:pt x="502" y="344"/>
                </a:lnTo>
                <a:lnTo>
                  <a:pt x="409" y="522"/>
                </a:lnTo>
                <a:lnTo>
                  <a:pt x="330" y="701"/>
                </a:lnTo>
                <a:lnTo>
                  <a:pt x="258" y="886"/>
                </a:lnTo>
                <a:lnTo>
                  <a:pt x="192" y="1079"/>
                </a:lnTo>
                <a:lnTo>
                  <a:pt x="138" y="1271"/>
                </a:lnTo>
                <a:lnTo>
                  <a:pt x="92" y="1463"/>
                </a:lnTo>
                <a:lnTo>
                  <a:pt x="52" y="1662"/>
                </a:lnTo>
                <a:lnTo>
                  <a:pt x="26" y="1860"/>
                </a:lnTo>
                <a:lnTo>
                  <a:pt x="6" y="2059"/>
                </a:lnTo>
                <a:lnTo>
                  <a:pt x="0" y="2257"/>
                </a:lnTo>
                <a:lnTo>
                  <a:pt x="0" y="2456"/>
                </a:lnTo>
                <a:lnTo>
                  <a:pt x="6" y="2654"/>
                </a:lnTo>
                <a:lnTo>
                  <a:pt x="26" y="2853"/>
                </a:lnTo>
                <a:lnTo>
                  <a:pt x="52" y="3053"/>
                </a:lnTo>
                <a:lnTo>
                  <a:pt x="85" y="3251"/>
                </a:lnTo>
                <a:lnTo>
                  <a:pt x="131" y="3443"/>
                </a:lnTo>
                <a:lnTo>
                  <a:pt x="185" y="3635"/>
                </a:lnTo>
                <a:lnTo>
                  <a:pt x="251" y="382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"/>
          <p:cNvSpPr/>
          <p:nvPr/>
        </p:nvSpPr>
        <p:spPr>
          <a:xfrm>
            <a:off x="5510160" y="4422600"/>
            <a:ext cx="1170360" cy="729000"/>
          </a:xfrm>
          <a:custGeom>
            <a:avLst/>
            <a:gdLst/>
            <a:ahLst/>
            <a:rect l="0" t="0" r="r" b="b"/>
            <a:pathLst>
              <a:path fill="none" w="3251" h="2025">
                <a:moveTo>
                  <a:pt x="0" y="0"/>
                </a:moveTo>
                <a:lnTo>
                  <a:pt x="105" y="165"/>
                </a:lnTo>
                <a:lnTo>
                  <a:pt x="218" y="324"/>
                </a:lnTo>
                <a:lnTo>
                  <a:pt x="344" y="482"/>
                </a:lnTo>
                <a:lnTo>
                  <a:pt x="469" y="635"/>
                </a:lnTo>
                <a:lnTo>
                  <a:pt x="608" y="780"/>
                </a:lnTo>
                <a:lnTo>
                  <a:pt x="754" y="912"/>
                </a:lnTo>
                <a:lnTo>
                  <a:pt x="901" y="1046"/>
                </a:lnTo>
                <a:lnTo>
                  <a:pt x="1060" y="1171"/>
                </a:lnTo>
                <a:lnTo>
                  <a:pt x="1218" y="1290"/>
                </a:lnTo>
                <a:lnTo>
                  <a:pt x="1384" y="1396"/>
                </a:lnTo>
                <a:lnTo>
                  <a:pt x="1556" y="1495"/>
                </a:lnTo>
                <a:lnTo>
                  <a:pt x="1728" y="1588"/>
                </a:lnTo>
                <a:lnTo>
                  <a:pt x="1913" y="1674"/>
                </a:lnTo>
                <a:lnTo>
                  <a:pt x="2092" y="1753"/>
                </a:lnTo>
                <a:lnTo>
                  <a:pt x="2284" y="1820"/>
                </a:lnTo>
                <a:lnTo>
                  <a:pt x="2470" y="1879"/>
                </a:lnTo>
                <a:lnTo>
                  <a:pt x="2662" y="1925"/>
                </a:lnTo>
                <a:lnTo>
                  <a:pt x="2861" y="1972"/>
                </a:lnTo>
                <a:lnTo>
                  <a:pt x="3053" y="2005"/>
                </a:lnTo>
                <a:lnTo>
                  <a:pt x="3251" y="2025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"/>
          <p:cNvSpPr/>
          <p:nvPr/>
        </p:nvSpPr>
        <p:spPr>
          <a:xfrm>
            <a:off x="5519880" y="2651040"/>
            <a:ext cx="105120" cy="130680"/>
          </a:xfrm>
          <a:custGeom>
            <a:avLst/>
            <a:gdLst/>
            <a:ahLst/>
            <a:rect l="0" t="0" r="r" b="b"/>
            <a:pathLst>
              <a:path w="292" h="363">
                <a:moveTo>
                  <a:pt x="0" y="284"/>
                </a:moveTo>
                <a:lnTo>
                  <a:pt x="105" y="363"/>
                </a:lnTo>
                <a:lnTo>
                  <a:pt x="292" y="0"/>
                </a:lnTo>
                <a:lnTo>
                  <a:pt x="0" y="28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"/>
          <p:cNvSpPr/>
          <p:nvPr/>
        </p:nvSpPr>
        <p:spPr>
          <a:xfrm>
            <a:off x="6680160" y="5127480"/>
            <a:ext cx="144720" cy="47880"/>
          </a:xfrm>
          <a:custGeom>
            <a:avLst/>
            <a:gdLst/>
            <a:ahLst/>
            <a:rect l="0" t="0" r="r" b="b"/>
            <a:pathLst>
              <a:path w="402" h="133">
                <a:moveTo>
                  <a:pt x="6" y="0"/>
                </a:moveTo>
                <a:lnTo>
                  <a:pt x="0" y="133"/>
                </a:lnTo>
                <a:lnTo>
                  <a:pt x="402" y="86"/>
                </a:lnTo>
                <a:lnTo>
                  <a:pt x="6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>
            <a:off x="5175360" y="4141800"/>
            <a:ext cx="519480" cy="281520"/>
          </a:xfrm>
          <a:custGeom>
            <a:avLst/>
            <a:gdLst/>
            <a:ahLst/>
            <a:rect l="0" t="0" r="r" b="b"/>
            <a:pathLst>
              <a:path fill="none" w="1443" h="782">
                <a:moveTo>
                  <a:pt x="0" y="782"/>
                </a:moveTo>
                <a:lnTo>
                  <a:pt x="1443" y="782"/>
                </a:lnTo>
                <a:lnTo>
                  <a:pt x="1443" y="0"/>
                </a:lnTo>
                <a:lnTo>
                  <a:pt x="0" y="0"/>
                </a:lnTo>
                <a:lnTo>
                  <a:pt x="0" y="782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"/>
          <p:cNvSpPr/>
          <p:nvPr/>
        </p:nvSpPr>
        <p:spPr>
          <a:xfrm flipV="1">
            <a:off x="4641840" y="3238560"/>
            <a:ext cx="0" cy="7603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"/>
          <p:cNvSpPr/>
          <p:nvPr/>
        </p:nvSpPr>
        <p:spPr>
          <a:xfrm flipH="1" flipV="1">
            <a:off x="3070080" y="4141800"/>
            <a:ext cx="149400" cy="149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"/>
          <p:cNvSpPr/>
          <p:nvPr/>
        </p:nvSpPr>
        <p:spPr>
          <a:xfrm flipH="1" flipV="1">
            <a:off x="1870200" y="2943360"/>
            <a:ext cx="149040" cy="150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"/>
          <p:cNvSpPr/>
          <p:nvPr/>
        </p:nvSpPr>
        <p:spPr>
          <a:xfrm flipH="1" flipV="1">
            <a:off x="3824280" y="4737240"/>
            <a:ext cx="50760" cy="522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"/>
          <p:cNvSpPr/>
          <p:nvPr/>
        </p:nvSpPr>
        <p:spPr>
          <a:xfrm flipH="1" flipV="1">
            <a:off x="2028960" y="2943360"/>
            <a:ext cx="150840" cy="150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"/>
          <p:cNvSpPr/>
          <p:nvPr/>
        </p:nvSpPr>
        <p:spPr>
          <a:xfrm flipH="1" flipV="1">
            <a:off x="3228840" y="4141800"/>
            <a:ext cx="150840" cy="149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"/>
          <p:cNvSpPr/>
          <p:nvPr/>
        </p:nvSpPr>
        <p:spPr>
          <a:xfrm flipH="1" flipV="1">
            <a:off x="3852720" y="4605480"/>
            <a:ext cx="185760" cy="185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"/>
          <p:cNvSpPr/>
          <p:nvPr/>
        </p:nvSpPr>
        <p:spPr>
          <a:xfrm flipH="1" flipV="1">
            <a:off x="2189160" y="2943360"/>
            <a:ext cx="149400" cy="150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"/>
          <p:cNvSpPr/>
          <p:nvPr/>
        </p:nvSpPr>
        <p:spPr>
          <a:xfrm flipH="1" flipV="1">
            <a:off x="3389400" y="4141800"/>
            <a:ext cx="149040" cy="149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"/>
          <p:cNvSpPr/>
          <p:nvPr/>
        </p:nvSpPr>
        <p:spPr>
          <a:xfrm flipH="1" flipV="1">
            <a:off x="4013280" y="4605480"/>
            <a:ext cx="137880" cy="1378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"/>
          <p:cNvSpPr/>
          <p:nvPr/>
        </p:nvSpPr>
        <p:spPr>
          <a:xfrm flipH="1" flipV="1">
            <a:off x="2347920" y="2943360"/>
            <a:ext cx="150840" cy="150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"/>
          <p:cNvSpPr/>
          <p:nvPr/>
        </p:nvSpPr>
        <p:spPr>
          <a:xfrm flipH="1" flipV="1">
            <a:off x="3822840" y="4414680"/>
            <a:ext cx="61920" cy="619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"/>
          <p:cNvSpPr/>
          <p:nvPr/>
        </p:nvSpPr>
        <p:spPr>
          <a:xfrm flipH="1" flipV="1">
            <a:off x="3548160" y="4141800"/>
            <a:ext cx="150840" cy="149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"/>
          <p:cNvSpPr/>
          <p:nvPr/>
        </p:nvSpPr>
        <p:spPr>
          <a:xfrm flipH="1" flipV="1">
            <a:off x="3708360" y="4141800"/>
            <a:ext cx="335160" cy="3348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"/>
          <p:cNvSpPr/>
          <p:nvPr/>
        </p:nvSpPr>
        <p:spPr>
          <a:xfrm flipH="1" flipV="1">
            <a:off x="2508120" y="2943360"/>
            <a:ext cx="149400" cy="150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"/>
          <p:cNvSpPr/>
          <p:nvPr/>
        </p:nvSpPr>
        <p:spPr>
          <a:xfrm flipH="1" flipV="1">
            <a:off x="3867120" y="4141800"/>
            <a:ext cx="284040" cy="2826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"/>
          <p:cNvSpPr/>
          <p:nvPr/>
        </p:nvSpPr>
        <p:spPr>
          <a:xfrm flipH="1" flipV="1">
            <a:off x="2666880" y="2943360"/>
            <a:ext cx="150840" cy="150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"/>
          <p:cNvSpPr/>
          <p:nvPr/>
        </p:nvSpPr>
        <p:spPr>
          <a:xfrm flipH="1" flipV="1">
            <a:off x="4027320" y="4141800"/>
            <a:ext cx="123840" cy="1252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"/>
          <p:cNvSpPr/>
          <p:nvPr/>
        </p:nvSpPr>
        <p:spPr>
          <a:xfrm flipH="1" flipV="1">
            <a:off x="2827440" y="2943360"/>
            <a:ext cx="149040" cy="150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"/>
          <p:cNvSpPr/>
          <p:nvPr/>
        </p:nvSpPr>
        <p:spPr>
          <a:xfrm flipH="1" flipV="1">
            <a:off x="2986200" y="2943360"/>
            <a:ext cx="150840" cy="150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"/>
          <p:cNvSpPr/>
          <p:nvPr/>
        </p:nvSpPr>
        <p:spPr>
          <a:xfrm flipH="1" flipV="1">
            <a:off x="3146400" y="2943360"/>
            <a:ext cx="149400" cy="150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"/>
          <p:cNvSpPr/>
          <p:nvPr/>
        </p:nvSpPr>
        <p:spPr>
          <a:xfrm flipH="1" flipV="1">
            <a:off x="3305160" y="2943360"/>
            <a:ext cx="150840" cy="150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"/>
          <p:cNvSpPr/>
          <p:nvPr/>
        </p:nvSpPr>
        <p:spPr>
          <a:xfrm flipH="1" flipV="1">
            <a:off x="3465360" y="2943360"/>
            <a:ext cx="149400" cy="150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"/>
          <p:cNvSpPr/>
          <p:nvPr/>
        </p:nvSpPr>
        <p:spPr>
          <a:xfrm flipH="1" flipV="1">
            <a:off x="3624120" y="2943360"/>
            <a:ext cx="150840" cy="150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"/>
          <p:cNvSpPr/>
          <p:nvPr/>
        </p:nvSpPr>
        <p:spPr>
          <a:xfrm flipH="1" flipV="1">
            <a:off x="3776760" y="2936880"/>
            <a:ext cx="156960" cy="1573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"/>
          <p:cNvSpPr/>
          <p:nvPr/>
        </p:nvSpPr>
        <p:spPr>
          <a:xfrm flipH="1" flipV="1">
            <a:off x="3822840" y="2822400"/>
            <a:ext cx="271440" cy="2718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"/>
          <p:cNvSpPr/>
          <p:nvPr/>
        </p:nvSpPr>
        <p:spPr>
          <a:xfrm flipH="1" flipV="1">
            <a:off x="3917880" y="2757600"/>
            <a:ext cx="233280" cy="2332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"/>
          <p:cNvSpPr/>
          <p:nvPr/>
        </p:nvSpPr>
        <p:spPr>
          <a:xfrm flipH="1" flipV="1">
            <a:off x="4076640" y="2757600"/>
            <a:ext cx="74520" cy="745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"/>
          <p:cNvSpPr/>
          <p:nvPr/>
        </p:nvSpPr>
        <p:spPr>
          <a:xfrm flipH="1" flipV="1">
            <a:off x="3822840" y="2505240"/>
            <a:ext cx="125280" cy="123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"/>
          <p:cNvSpPr/>
          <p:nvPr/>
        </p:nvSpPr>
        <p:spPr>
          <a:xfrm flipH="1" flipV="1">
            <a:off x="3922560" y="2443320"/>
            <a:ext cx="185760" cy="185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"/>
          <p:cNvSpPr/>
          <p:nvPr/>
        </p:nvSpPr>
        <p:spPr>
          <a:xfrm flipH="1" flipV="1">
            <a:off x="4081320" y="2443320"/>
            <a:ext cx="69840" cy="69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"/>
          <p:cNvSpPr/>
          <p:nvPr/>
        </p:nvSpPr>
        <p:spPr>
          <a:xfrm flipH="1" flipV="1">
            <a:off x="2909880" y="4141800"/>
            <a:ext cx="150840" cy="149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"/>
          <p:cNvSpPr/>
          <p:nvPr/>
        </p:nvSpPr>
        <p:spPr>
          <a:xfrm flipH="1" flipV="1">
            <a:off x="1209600" y="2443320"/>
            <a:ext cx="84240" cy="838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"/>
          <p:cNvSpPr/>
          <p:nvPr/>
        </p:nvSpPr>
        <p:spPr>
          <a:xfrm flipH="1" flipV="1">
            <a:off x="1709640" y="2943360"/>
            <a:ext cx="150840" cy="150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"/>
          <p:cNvSpPr/>
          <p:nvPr/>
        </p:nvSpPr>
        <p:spPr>
          <a:xfrm flipH="1" flipV="1">
            <a:off x="2751120" y="4141800"/>
            <a:ext cx="149400" cy="149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"/>
          <p:cNvSpPr/>
          <p:nvPr/>
        </p:nvSpPr>
        <p:spPr>
          <a:xfrm flipH="1" flipV="1">
            <a:off x="1050840" y="2443320"/>
            <a:ext cx="185760" cy="185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"/>
          <p:cNvSpPr/>
          <p:nvPr/>
        </p:nvSpPr>
        <p:spPr>
          <a:xfrm flipH="1" flipV="1">
            <a:off x="1550880" y="2943360"/>
            <a:ext cx="149400" cy="150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"/>
          <p:cNvSpPr/>
          <p:nvPr/>
        </p:nvSpPr>
        <p:spPr>
          <a:xfrm flipH="1" flipV="1">
            <a:off x="2590920" y="4141800"/>
            <a:ext cx="150840" cy="149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"/>
          <p:cNvSpPr/>
          <p:nvPr/>
        </p:nvSpPr>
        <p:spPr>
          <a:xfrm flipH="1" flipV="1">
            <a:off x="961920" y="2514600"/>
            <a:ext cx="114480" cy="1144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"/>
          <p:cNvSpPr/>
          <p:nvPr/>
        </p:nvSpPr>
        <p:spPr>
          <a:xfrm flipH="1" flipV="1">
            <a:off x="1390680" y="2943360"/>
            <a:ext cx="150840" cy="1508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"/>
          <p:cNvSpPr/>
          <p:nvPr/>
        </p:nvSpPr>
        <p:spPr>
          <a:xfrm flipH="1" flipV="1">
            <a:off x="1204920" y="2757600"/>
            <a:ext cx="88920" cy="889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"/>
          <p:cNvSpPr/>
          <p:nvPr/>
        </p:nvSpPr>
        <p:spPr>
          <a:xfrm flipH="1" flipV="1">
            <a:off x="2432160" y="4141800"/>
            <a:ext cx="149040" cy="149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"/>
          <p:cNvSpPr/>
          <p:nvPr/>
        </p:nvSpPr>
        <p:spPr>
          <a:xfrm flipH="1" flipV="1">
            <a:off x="1046160" y="2757600"/>
            <a:ext cx="334800" cy="3366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"/>
          <p:cNvSpPr/>
          <p:nvPr/>
        </p:nvSpPr>
        <p:spPr>
          <a:xfrm flipH="1" flipV="1">
            <a:off x="2271600" y="4141800"/>
            <a:ext cx="150840" cy="149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"/>
          <p:cNvSpPr/>
          <p:nvPr/>
        </p:nvSpPr>
        <p:spPr>
          <a:xfrm flipH="1" flipV="1">
            <a:off x="961920" y="2833560"/>
            <a:ext cx="260280" cy="2606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"/>
          <p:cNvSpPr/>
          <p:nvPr/>
        </p:nvSpPr>
        <p:spPr>
          <a:xfrm flipH="1" flipV="1">
            <a:off x="2112840" y="4141800"/>
            <a:ext cx="149400" cy="149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"/>
          <p:cNvSpPr/>
          <p:nvPr/>
        </p:nvSpPr>
        <p:spPr>
          <a:xfrm flipH="1" flipV="1">
            <a:off x="961920" y="2994120"/>
            <a:ext cx="100080" cy="1000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48960" bIns="48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"/>
          <p:cNvSpPr/>
          <p:nvPr/>
        </p:nvSpPr>
        <p:spPr>
          <a:xfrm flipH="1" flipV="1">
            <a:off x="1952640" y="4141800"/>
            <a:ext cx="150840" cy="149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"/>
          <p:cNvSpPr/>
          <p:nvPr/>
        </p:nvSpPr>
        <p:spPr>
          <a:xfrm flipH="1" flipV="1">
            <a:off x="1793880" y="4141800"/>
            <a:ext cx="149400" cy="149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"/>
          <p:cNvSpPr/>
          <p:nvPr/>
        </p:nvSpPr>
        <p:spPr>
          <a:xfrm flipH="1" flipV="1">
            <a:off x="1633680" y="4141800"/>
            <a:ext cx="150840" cy="149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"/>
          <p:cNvSpPr/>
          <p:nvPr/>
        </p:nvSpPr>
        <p:spPr>
          <a:xfrm flipH="1" flipV="1">
            <a:off x="1474920" y="4141800"/>
            <a:ext cx="149040" cy="149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"/>
          <p:cNvSpPr/>
          <p:nvPr/>
        </p:nvSpPr>
        <p:spPr>
          <a:xfrm flipH="1" flipV="1">
            <a:off x="1314360" y="4141800"/>
            <a:ext cx="150840" cy="149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"/>
          <p:cNvSpPr/>
          <p:nvPr/>
        </p:nvSpPr>
        <p:spPr>
          <a:xfrm flipH="1" flipV="1">
            <a:off x="1155600" y="4141800"/>
            <a:ext cx="166680" cy="1666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"/>
          <p:cNvSpPr/>
          <p:nvPr/>
        </p:nvSpPr>
        <p:spPr>
          <a:xfrm flipH="1" flipV="1">
            <a:off x="995400" y="4141800"/>
            <a:ext cx="298440" cy="2970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 flipH="1" flipV="1">
            <a:off x="961920" y="4267080"/>
            <a:ext cx="209520" cy="2095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 flipH="1" flipV="1">
            <a:off x="1141560" y="4605480"/>
            <a:ext cx="142560" cy="1425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 flipH="1" flipV="1">
            <a:off x="961920" y="4427640"/>
            <a:ext cx="50760" cy="489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 flipH="1" flipV="1">
            <a:off x="981000" y="4605480"/>
            <a:ext cx="185760" cy="185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 flipH="1" flipV="1">
            <a:off x="961920" y="4746600"/>
            <a:ext cx="46080" cy="446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6480" bIns="-6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"/>
          <p:cNvSpPr/>
          <p:nvPr/>
        </p:nvSpPr>
        <p:spPr>
          <a:xfrm flipV="1">
            <a:off x="4151160" y="2443320"/>
            <a:ext cx="0" cy="23479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"/>
          <p:cNvSpPr/>
          <p:nvPr/>
        </p:nvSpPr>
        <p:spPr>
          <a:xfrm flipV="1">
            <a:off x="961920" y="2443320"/>
            <a:ext cx="0" cy="23479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"/>
          <p:cNvSpPr/>
          <p:nvPr/>
        </p:nvSpPr>
        <p:spPr>
          <a:xfrm>
            <a:off x="685800" y="3618000"/>
            <a:ext cx="3556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"/>
          <p:cNvSpPr/>
          <p:nvPr/>
        </p:nvSpPr>
        <p:spPr>
          <a:xfrm>
            <a:off x="1155600" y="3618000"/>
            <a:ext cx="1112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"/>
          <p:cNvSpPr/>
          <p:nvPr/>
        </p:nvSpPr>
        <p:spPr>
          <a:xfrm>
            <a:off x="1379520" y="3618000"/>
            <a:ext cx="563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"/>
          <p:cNvSpPr/>
          <p:nvPr/>
        </p:nvSpPr>
        <p:spPr>
          <a:xfrm>
            <a:off x="2057400" y="3618000"/>
            <a:ext cx="1126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"/>
          <p:cNvSpPr/>
          <p:nvPr/>
        </p:nvSpPr>
        <p:spPr>
          <a:xfrm>
            <a:off x="2281320" y="3618000"/>
            <a:ext cx="5652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"/>
          <p:cNvSpPr/>
          <p:nvPr/>
        </p:nvSpPr>
        <p:spPr>
          <a:xfrm>
            <a:off x="2960640" y="3618000"/>
            <a:ext cx="1112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8" name=""/>
          <p:cNvSpPr/>
          <p:nvPr/>
        </p:nvSpPr>
        <p:spPr>
          <a:xfrm>
            <a:off x="3184560" y="3618000"/>
            <a:ext cx="5634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"/>
          <p:cNvSpPr/>
          <p:nvPr/>
        </p:nvSpPr>
        <p:spPr>
          <a:xfrm>
            <a:off x="3862440" y="3618000"/>
            <a:ext cx="1126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"/>
          <p:cNvSpPr/>
          <p:nvPr/>
        </p:nvSpPr>
        <p:spPr>
          <a:xfrm>
            <a:off x="4086360" y="3618000"/>
            <a:ext cx="3571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"/>
          <p:cNvSpPr/>
          <p:nvPr/>
        </p:nvSpPr>
        <p:spPr>
          <a:xfrm flipH="1">
            <a:off x="2860560" y="4160880"/>
            <a:ext cx="671760" cy="347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"/>
          <p:cNvSpPr/>
          <p:nvPr/>
        </p:nvSpPr>
        <p:spPr>
          <a:xfrm>
            <a:off x="2489040" y="4400640"/>
            <a:ext cx="392400" cy="395640"/>
          </a:xfrm>
          <a:custGeom>
            <a:avLst/>
            <a:gdLst/>
            <a:ahLst/>
            <a:rect l="0" t="0" r="r" b="b"/>
            <a:pathLst>
              <a:path fill="none" w="1090" h="1099">
                <a:moveTo>
                  <a:pt x="0" y="550"/>
                </a:moveTo>
                <a:lnTo>
                  <a:pt x="1090" y="550"/>
                </a:lnTo>
                <a:lnTo>
                  <a:pt x="1090" y="476"/>
                </a:lnTo>
                <a:lnTo>
                  <a:pt x="1076" y="410"/>
                </a:lnTo>
                <a:lnTo>
                  <a:pt x="1050" y="337"/>
                </a:lnTo>
                <a:lnTo>
                  <a:pt x="1017" y="271"/>
                </a:lnTo>
                <a:lnTo>
                  <a:pt x="977" y="211"/>
                </a:lnTo>
                <a:lnTo>
                  <a:pt x="931" y="158"/>
                </a:lnTo>
                <a:lnTo>
                  <a:pt x="878" y="112"/>
                </a:lnTo>
                <a:lnTo>
                  <a:pt x="819" y="72"/>
                </a:lnTo>
                <a:lnTo>
                  <a:pt x="753" y="39"/>
                </a:lnTo>
                <a:lnTo>
                  <a:pt x="687" y="19"/>
                </a:lnTo>
                <a:lnTo>
                  <a:pt x="614" y="6"/>
                </a:lnTo>
                <a:lnTo>
                  <a:pt x="541" y="0"/>
                </a:lnTo>
                <a:lnTo>
                  <a:pt x="475" y="6"/>
                </a:lnTo>
                <a:lnTo>
                  <a:pt x="402" y="19"/>
                </a:lnTo>
                <a:lnTo>
                  <a:pt x="336" y="39"/>
                </a:lnTo>
                <a:lnTo>
                  <a:pt x="270" y="72"/>
                </a:lnTo>
                <a:lnTo>
                  <a:pt x="211" y="112"/>
                </a:lnTo>
                <a:lnTo>
                  <a:pt x="158" y="158"/>
                </a:lnTo>
                <a:lnTo>
                  <a:pt x="112" y="211"/>
                </a:lnTo>
                <a:lnTo>
                  <a:pt x="72" y="271"/>
                </a:lnTo>
                <a:lnTo>
                  <a:pt x="39" y="337"/>
                </a:lnTo>
                <a:lnTo>
                  <a:pt x="13" y="410"/>
                </a:lnTo>
                <a:lnTo>
                  <a:pt x="0" y="476"/>
                </a:lnTo>
                <a:lnTo>
                  <a:pt x="0" y="550"/>
                </a:lnTo>
                <a:lnTo>
                  <a:pt x="0" y="622"/>
                </a:lnTo>
                <a:lnTo>
                  <a:pt x="13" y="688"/>
                </a:lnTo>
                <a:lnTo>
                  <a:pt x="39" y="761"/>
                </a:lnTo>
                <a:lnTo>
                  <a:pt x="72" y="821"/>
                </a:lnTo>
                <a:lnTo>
                  <a:pt x="112" y="880"/>
                </a:lnTo>
                <a:lnTo>
                  <a:pt x="158" y="940"/>
                </a:lnTo>
                <a:lnTo>
                  <a:pt x="211" y="986"/>
                </a:lnTo>
                <a:lnTo>
                  <a:pt x="270" y="1026"/>
                </a:lnTo>
                <a:lnTo>
                  <a:pt x="336" y="1052"/>
                </a:lnTo>
                <a:lnTo>
                  <a:pt x="402" y="1079"/>
                </a:lnTo>
                <a:lnTo>
                  <a:pt x="475" y="1092"/>
                </a:lnTo>
                <a:lnTo>
                  <a:pt x="541" y="1099"/>
                </a:lnTo>
                <a:lnTo>
                  <a:pt x="614" y="1092"/>
                </a:lnTo>
                <a:lnTo>
                  <a:pt x="687" y="1079"/>
                </a:lnTo>
                <a:lnTo>
                  <a:pt x="753" y="1052"/>
                </a:lnTo>
                <a:lnTo>
                  <a:pt x="819" y="1026"/>
                </a:lnTo>
                <a:lnTo>
                  <a:pt x="878" y="986"/>
                </a:lnTo>
                <a:lnTo>
                  <a:pt x="931" y="940"/>
                </a:lnTo>
                <a:lnTo>
                  <a:pt x="977" y="880"/>
                </a:lnTo>
                <a:lnTo>
                  <a:pt x="1017" y="821"/>
                </a:lnTo>
                <a:lnTo>
                  <a:pt x="1050" y="761"/>
                </a:lnTo>
                <a:lnTo>
                  <a:pt x="1076" y="688"/>
                </a:lnTo>
                <a:lnTo>
                  <a:pt x="1090" y="622"/>
                </a:lnTo>
                <a:lnTo>
                  <a:pt x="1090" y="55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"/>
          <p:cNvSpPr/>
          <p:nvPr/>
        </p:nvSpPr>
        <p:spPr>
          <a:xfrm>
            <a:off x="961920" y="4141800"/>
            <a:ext cx="31892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"/>
          <p:cNvSpPr/>
          <p:nvPr/>
        </p:nvSpPr>
        <p:spPr>
          <a:xfrm>
            <a:off x="1370160" y="4290840"/>
            <a:ext cx="23731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"/>
          <p:cNvSpPr/>
          <p:nvPr/>
        </p:nvSpPr>
        <p:spPr>
          <a:xfrm>
            <a:off x="1486080" y="4175280"/>
            <a:ext cx="261720" cy="5061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"/>
          <p:cNvSpPr/>
          <p:nvPr/>
        </p:nvSpPr>
        <p:spPr>
          <a:xfrm>
            <a:off x="1293840" y="4290840"/>
            <a:ext cx="76680" cy="79560"/>
          </a:xfrm>
          <a:custGeom>
            <a:avLst/>
            <a:gdLst/>
            <a:ahLst/>
            <a:rect l="0" t="0" r="r" b="b"/>
            <a:pathLst>
              <a:path fill="none" w="213" h="221">
                <a:moveTo>
                  <a:pt x="213" y="0"/>
                </a:moveTo>
                <a:lnTo>
                  <a:pt x="173" y="6"/>
                </a:lnTo>
                <a:lnTo>
                  <a:pt x="133" y="20"/>
                </a:lnTo>
                <a:lnTo>
                  <a:pt x="93" y="40"/>
                </a:lnTo>
                <a:lnTo>
                  <a:pt x="60" y="66"/>
                </a:lnTo>
                <a:lnTo>
                  <a:pt x="33" y="100"/>
                </a:lnTo>
                <a:lnTo>
                  <a:pt x="13" y="134"/>
                </a:lnTo>
                <a:lnTo>
                  <a:pt x="0" y="174"/>
                </a:lnTo>
                <a:lnTo>
                  <a:pt x="0" y="221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"/>
          <p:cNvSpPr/>
          <p:nvPr/>
        </p:nvSpPr>
        <p:spPr>
          <a:xfrm flipH="1">
            <a:off x="1260360" y="4541760"/>
            <a:ext cx="239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"/>
          <p:cNvSpPr/>
          <p:nvPr/>
        </p:nvSpPr>
        <p:spPr>
          <a:xfrm flipH="1">
            <a:off x="1090440" y="4541760"/>
            <a:ext cx="860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"/>
          <p:cNvSpPr/>
          <p:nvPr/>
        </p:nvSpPr>
        <p:spPr>
          <a:xfrm flipH="1">
            <a:off x="766800" y="4541760"/>
            <a:ext cx="2412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"/>
          <p:cNvSpPr/>
          <p:nvPr/>
        </p:nvSpPr>
        <p:spPr>
          <a:xfrm>
            <a:off x="1214280" y="4714920"/>
            <a:ext cx="79560" cy="76680"/>
          </a:xfrm>
          <a:custGeom>
            <a:avLst/>
            <a:gdLst/>
            <a:ahLst/>
            <a:rect l="0" t="0" r="r" b="b"/>
            <a:pathLst>
              <a:path fill="none" w="221" h="213">
                <a:moveTo>
                  <a:pt x="0" y="213"/>
                </a:moveTo>
                <a:lnTo>
                  <a:pt x="46" y="207"/>
                </a:lnTo>
                <a:lnTo>
                  <a:pt x="86" y="200"/>
                </a:lnTo>
                <a:lnTo>
                  <a:pt x="121" y="180"/>
                </a:lnTo>
                <a:lnTo>
                  <a:pt x="154" y="153"/>
                </a:lnTo>
                <a:lnTo>
                  <a:pt x="181" y="120"/>
                </a:lnTo>
                <a:lnTo>
                  <a:pt x="201" y="80"/>
                </a:lnTo>
                <a:lnTo>
                  <a:pt x="214" y="39"/>
                </a:lnTo>
                <a:lnTo>
                  <a:pt x="221" y="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"/>
          <p:cNvSpPr/>
          <p:nvPr/>
        </p:nvSpPr>
        <p:spPr>
          <a:xfrm>
            <a:off x="961920" y="4791240"/>
            <a:ext cx="2523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"/>
          <p:cNvSpPr/>
          <p:nvPr/>
        </p:nvSpPr>
        <p:spPr>
          <a:xfrm flipH="1">
            <a:off x="961920" y="4476600"/>
            <a:ext cx="3319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"/>
          <p:cNvSpPr/>
          <p:nvPr/>
        </p:nvSpPr>
        <p:spPr>
          <a:xfrm flipH="1">
            <a:off x="961920" y="4605480"/>
            <a:ext cx="3319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"/>
          <p:cNvSpPr/>
          <p:nvPr/>
        </p:nvSpPr>
        <p:spPr>
          <a:xfrm>
            <a:off x="1293840" y="4370400"/>
            <a:ext cx="0" cy="3445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"/>
          <p:cNvSpPr/>
          <p:nvPr/>
        </p:nvSpPr>
        <p:spPr>
          <a:xfrm>
            <a:off x="1360440" y="4029120"/>
            <a:ext cx="225360" cy="22680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"/>
          <p:cNvSpPr/>
          <p:nvPr/>
        </p:nvSpPr>
        <p:spPr>
          <a:xfrm flipH="1">
            <a:off x="1360440" y="4029120"/>
            <a:ext cx="225360" cy="22680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"/>
          <p:cNvSpPr/>
          <p:nvPr/>
        </p:nvSpPr>
        <p:spPr>
          <a:xfrm>
            <a:off x="1641600" y="4660920"/>
            <a:ext cx="395640" cy="395640"/>
          </a:xfrm>
          <a:custGeom>
            <a:avLst/>
            <a:gdLst/>
            <a:ahLst/>
            <a:rect l="0" t="0" r="r" b="b"/>
            <a:pathLst>
              <a:path fill="none" w="1099" h="1099">
                <a:moveTo>
                  <a:pt x="1099" y="550"/>
                </a:moveTo>
                <a:lnTo>
                  <a:pt x="1092" y="476"/>
                </a:lnTo>
                <a:lnTo>
                  <a:pt x="1079" y="410"/>
                </a:lnTo>
                <a:lnTo>
                  <a:pt x="1059" y="337"/>
                </a:lnTo>
                <a:lnTo>
                  <a:pt x="1026" y="277"/>
                </a:lnTo>
                <a:lnTo>
                  <a:pt x="986" y="218"/>
                </a:lnTo>
                <a:lnTo>
                  <a:pt x="940" y="165"/>
                </a:lnTo>
                <a:lnTo>
                  <a:pt x="880" y="112"/>
                </a:lnTo>
                <a:lnTo>
                  <a:pt x="827" y="72"/>
                </a:lnTo>
                <a:lnTo>
                  <a:pt x="761" y="46"/>
                </a:lnTo>
                <a:lnTo>
                  <a:pt x="688" y="19"/>
                </a:lnTo>
                <a:lnTo>
                  <a:pt x="622" y="6"/>
                </a:lnTo>
                <a:lnTo>
                  <a:pt x="550" y="0"/>
                </a:lnTo>
                <a:lnTo>
                  <a:pt x="476" y="6"/>
                </a:lnTo>
                <a:lnTo>
                  <a:pt x="410" y="19"/>
                </a:lnTo>
                <a:lnTo>
                  <a:pt x="337" y="46"/>
                </a:lnTo>
                <a:lnTo>
                  <a:pt x="277" y="72"/>
                </a:lnTo>
                <a:lnTo>
                  <a:pt x="218" y="112"/>
                </a:lnTo>
                <a:lnTo>
                  <a:pt x="158" y="165"/>
                </a:lnTo>
                <a:lnTo>
                  <a:pt x="112" y="218"/>
                </a:lnTo>
                <a:lnTo>
                  <a:pt x="72" y="277"/>
                </a:lnTo>
                <a:lnTo>
                  <a:pt x="39" y="337"/>
                </a:lnTo>
                <a:lnTo>
                  <a:pt x="19" y="410"/>
                </a:lnTo>
                <a:lnTo>
                  <a:pt x="6" y="476"/>
                </a:lnTo>
                <a:lnTo>
                  <a:pt x="0" y="550"/>
                </a:lnTo>
                <a:lnTo>
                  <a:pt x="6" y="622"/>
                </a:lnTo>
                <a:lnTo>
                  <a:pt x="19" y="695"/>
                </a:lnTo>
                <a:lnTo>
                  <a:pt x="39" y="761"/>
                </a:lnTo>
                <a:lnTo>
                  <a:pt x="72" y="821"/>
                </a:lnTo>
                <a:lnTo>
                  <a:pt x="112" y="880"/>
                </a:lnTo>
                <a:lnTo>
                  <a:pt x="158" y="940"/>
                </a:lnTo>
                <a:lnTo>
                  <a:pt x="218" y="986"/>
                </a:lnTo>
                <a:lnTo>
                  <a:pt x="277" y="1026"/>
                </a:lnTo>
                <a:lnTo>
                  <a:pt x="337" y="1059"/>
                </a:lnTo>
                <a:lnTo>
                  <a:pt x="410" y="1079"/>
                </a:lnTo>
                <a:lnTo>
                  <a:pt x="476" y="1092"/>
                </a:lnTo>
                <a:lnTo>
                  <a:pt x="550" y="1099"/>
                </a:lnTo>
                <a:lnTo>
                  <a:pt x="622" y="1092"/>
                </a:lnTo>
                <a:lnTo>
                  <a:pt x="688" y="1079"/>
                </a:lnTo>
                <a:lnTo>
                  <a:pt x="761" y="1059"/>
                </a:lnTo>
                <a:lnTo>
                  <a:pt x="827" y="1026"/>
                </a:lnTo>
                <a:lnTo>
                  <a:pt x="880" y="986"/>
                </a:lnTo>
                <a:lnTo>
                  <a:pt x="940" y="940"/>
                </a:lnTo>
                <a:lnTo>
                  <a:pt x="986" y="880"/>
                </a:lnTo>
                <a:lnTo>
                  <a:pt x="1026" y="821"/>
                </a:lnTo>
                <a:lnTo>
                  <a:pt x="1059" y="761"/>
                </a:lnTo>
                <a:lnTo>
                  <a:pt x="1079" y="695"/>
                </a:lnTo>
                <a:lnTo>
                  <a:pt x="1092" y="622"/>
                </a:lnTo>
                <a:lnTo>
                  <a:pt x="1099" y="55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"/>
          <p:cNvSpPr/>
          <p:nvPr/>
        </p:nvSpPr>
        <p:spPr>
          <a:xfrm>
            <a:off x="1641600" y="4857840"/>
            <a:ext cx="3952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"/>
          <p:cNvSpPr/>
          <p:nvPr/>
        </p:nvSpPr>
        <p:spPr>
          <a:xfrm>
            <a:off x="3614760" y="5029200"/>
            <a:ext cx="227520" cy="227520"/>
          </a:xfrm>
          <a:custGeom>
            <a:avLst/>
            <a:gdLst/>
            <a:ahLst/>
            <a:rect l="0" t="0" r="r" b="b"/>
            <a:pathLst>
              <a:path fill="none" w="632" h="632">
                <a:moveTo>
                  <a:pt x="0" y="632"/>
                </a:moveTo>
                <a:lnTo>
                  <a:pt x="0" y="0"/>
                </a:lnTo>
                <a:lnTo>
                  <a:pt x="632" y="0"/>
                </a:lnTo>
                <a:lnTo>
                  <a:pt x="632" y="632"/>
                </a:lnTo>
                <a:lnTo>
                  <a:pt x="0" y="632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"/>
          <p:cNvSpPr/>
          <p:nvPr/>
        </p:nvSpPr>
        <p:spPr>
          <a:xfrm flipV="1">
            <a:off x="4151160" y="5076720"/>
            <a:ext cx="0" cy="131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 flipH="1" flipV="1">
            <a:off x="4038480" y="5143680"/>
            <a:ext cx="112680" cy="648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>
            <a:off x="4038480" y="5076720"/>
            <a:ext cx="113040" cy="132120"/>
          </a:xfrm>
          <a:custGeom>
            <a:avLst/>
            <a:gdLst/>
            <a:ahLst/>
            <a:rect l="0" t="0" r="r" b="b"/>
            <a:pathLst>
              <a:path w="314" h="367">
                <a:moveTo>
                  <a:pt x="314" y="367"/>
                </a:moveTo>
                <a:lnTo>
                  <a:pt x="0" y="187"/>
                </a:lnTo>
                <a:lnTo>
                  <a:pt x="314" y="0"/>
                </a:lnTo>
                <a:lnTo>
                  <a:pt x="314" y="367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"/>
          <p:cNvSpPr/>
          <p:nvPr/>
        </p:nvSpPr>
        <p:spPr>
          <a:xfrm flipH="1">
            <a:off x="4038480" y="5076720"/>
            <a:ext cx="112680" cy="669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"/>
          <p:cNvSpPr/>
          <p:nvPr/>
        </p:nvSpPr>
        <p:spPr>
          <a:xfrm>
            <a:off x="4151160" y="4791240"/>
            <a:ext cx="0" cy="6285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"/>
          <p:cNvSpPr/>
          <p:nvPr/>
        </p:nvSpPr>
        <p:spPr>
          <a:xfrm flipH="1">
            <a:off x="3841920" y="5143680"/>
            <a:ext cx="1965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 flipH="1">
            <a:off x="4119480" y="4541760"/>
            <a:ext cx="2415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"/>
          <p:cNvSpPr/>
          <p:nvPr/>
        </p:nvSpPr>
        <p:spPr>
          <a:xfrm flipH="1">
            <a:off x="3951360" y="4541760"/>
            <a:ext cx="824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"/>
          <p:cNvSpPr/>
          <p:nvPr/>
        </p:nvSpPr>
        <p:spPr>
          <a:xfrm flipH="1">
            <a:off x="3627360" y="4541760"/>
            <a:ext cx="2383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"/>
          <p:cNvSpPr/>
          <p:nvPr/>
        </p:nvSpPr>
        <p:spPr>
          <a:xfrm>
            <a:off x="3743280" y="4290840"/>
            <a:ext cx="79560" cy="79560"/>
          </a:xfrm>
          <a:custGeom>
            <a:avLst/>
            <a:gdLst/>
            <a:ahLst/>
            <a:rect l="0" t="0" r="r" b="b"/>
            <a:pathLst>
              <a:path fill="none" w="221" h="221">
                <a:moveTo>
                  <a:pt x="221" y="221"/>
                </a:moveTo>
                <a:lnTo>
                  <a:pt x="214" y="174"/>
                </a:lnTo>
                <a:lnTo>
                  <a:pt x="201" y="134"/>
                </a:lnTo>
                <a:lnTo>
                  <a:pt x="181" y="100"/>
                </a:lnTo>
                <a:lnTo>
                  <a:pt x="154" y="66"/>
                </a:lnTo>
                <a:lnTo>
                  <a:pt x="121" y="40"/>
                </a:lnTo>
                <a:lnTo>
                  <a:pt x="86" y="20"/>
                </a:lnTo>
                <a:lnTo>
                  <a:pt x="46" y="6"/>
                </a:lnTo>
                <a:lnTo>
                  <a:pt x="0" y="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"/>
          <p:cNvSpPr/>
          <p:nvPr/>
        </p:nvSpPr>
        <p:spPr>
          <a:xfrm>
            <a:off x="3822840" y="4714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0"/>
                </a:moveTo>
                <a:lnTo>
                  <a:pt x="0" y="39"/>
                </a:lnTo>
                <a:lnTo>
                  <a:pt x="13" y="80"/>
                </a:lnTo>
                <a:lnTo>
                  <a:pt x="33" y="120"/>
                </a:lnTo>
                <a:lnTo>
                  <a:pt x="60" y="153"/>
                </a:lnTo>
                <a:lnTo>
                  <a:pt x="93" y="180"/>
                </a:lnTo>
                <a:lnTo>
                  <a:pt x="133" y="200"/>
                </a:lnTo>
                <a:lnTo>
                  <a:pt x="173" y="207"/>
                </a:lnTo>
                <a:lnTo>
                  <a:pt x="213" y="213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"/>
          <p:cNvSpPr/>
          <p:nvPr/>
        </p:nvSpPr>
        <p:spPr>
          <a:xfrm flipH="1">
            <a:off x="3898800" y="4791240"/>
            <a:ext cx="2523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"/>
          <p:cNvSpPr/>
          <p:nvPr/>
        </p:nvSpPr>
        <p:spPr>
          <a:xfrm flipH="1">
            <a:off x="3822840" y="4476600"/>
            <a:ext cx="3283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"/>
          <p:cNvSpPr/>
          <p:nvPr/>
        </p:nvSpPr>
        <p:spPr>
          <a:xfrm flipH="1">
            <a:off x="3822840" y="4605480"/>
            <a:ext cx="3283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"/>
          <p:cNvSpPr/>
          <p:nvPr/>
        </p:nvSpPr>
        <p:spPr>
          <a:xfrm>
            <a:off x="3822840" y="4370400"/>
            <a:ext cx="0" cy="3445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"/>
          <p:cNvSpPr/>
          <p:nvPr/>
        </p:nvSpPr>
        <p:spPr>
          <a:xfrm flipH="1">
            <a:off x="3479760" y="4029120"/>
            <a:ext cx="223920" cy="22680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"/>
          <p:cNvSpPr/>
          <p:nvPr/>
        </p:nvSpPr>
        <p:spPr>
          <a:xfrm>
            <a:off x="3479760" y="4029120"/>
            <a:ext cx="223920" cy="22680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"/>
          <p:cNvSpPr/>
          <p:nvPr/>
        </p:nvSpPr>
        <p:spPr>
          <a:xfrm>
            <a:off x="4224240" y="4141800"/>
            <a:ext cx="4906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"/>
          <p:cNvSpPr/>
          <p:nvPr/>
        </p:nvSpPr>
        <p:spPr>
          <a:xfrm>
            <a:off x="4618080" y="3998880"/>
            <a:ext cx="49680" cy="143280"/>
          </a:xfrm>
          <a:custGeom>
            <a:avLst/>
            <a:gdLst/>
            <a:ahLst/>
            <a:rect l="0" t="0" r="r" b="b"/>
            <a:pathLst>
              <a:path w="138" h="398">
                <a:moveTo>
                  <a:pt x="0" y="0"/>
                </a:moveTo>
                <a:lnTo>
                  <a:pt x="138" y="0"/>
                </a:lnTo>
                <a:lnTo>
                  <a:pt x="66" y="39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"/>
          <p:cNvSpPr/>
          <p:nvPr/>
        </p:nvSpPr>
        <p:spPr>
          <a:xfrm flipV="1">
            <a:off x="1474920" y="1765440"/>
            <a:ext cx="0" cy="14526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"/>
          <p:cNvSpPr/>
          <p:nvPr/>
        </p:nvSpPr>
        <p:spPr>
          <a:xfrm flipH="1">
            <a:off x="2736720" y="1836720"/>
            <a:ext cx="7099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"/>
          <p:cNvSpPr/>
          <p:nvPr/>
        </p:nvSpPr>
        <p:spPr>
          <a:xfrm>
            <a:off x="1617840" y="1836720"/>
            <a:ext cx="7110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"/>
          <p:cNvSpPr/>
          <p:nvPr/>
        </p:nvSpPr>
        <p:spPr>
          <a:xfrm>
            <a:off x="3446640" y="1812960"/>
            <a:ext cx="144720" cy="47880"/>
          </a:xfrm>
          <a:custGeom>
            <a:avLst/>
            <a:gdLst/>
            <a:ahLst/>
            <a:rect l="0" t="0" r="r" b="b"/>
            <a:pathLst>
              <a:path w="402" h="133">
                <a:moveTo>
                  <a:pt x="0" y="0"/>
                </a:moveTo>
                <a:lnTo>
                  <a:pt x="0" y="133"/>
                </a:lnTo>
                <a:lnTo>
                  <a:pt x="402" y="67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3" name=""/>
          <p:cNvSpPr/>
          <p:nvPr/>
        </p:nvSpPr>
        <p:spPr>
          <a:xfrm>
            <a:off x="1474920" y="1812960"/>
            <a:ext cx="143280" cy="47880"/>
          </a:xfrm>
          <a:custGeom>
            <a:avLst/>
            <a:gdLst/>
            <a:ahLst/>
            <a:rect l="0" t="0" r="r" b="b"/>
            <a:pathLst>
              <a:path w="398" h="133">
                <a:moveTo>
                  <a:pt x="398" y="0"/>
                </a:moveTo>
                <a:lnTo>
                  <a:pt x="398" y="133"/>
                </a:lnTo>
                <a:lnTo>
                  <a:pt x="0" y="67"/>
                </a:lnTo>
                <a:lnTo>
                  <a:pt x="398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"/>
          <p:cNvSpPr/>
          <p:nvPr/>
        </p:nvSpPr>
        <p:spPr>
          <a:xfrm>
            <a:off x="2328840" y="1695600"/>
            <a:ext cx="408240" cy="281520"/>
          </a:xfrm>
          <a:custGeom>
            <a:avLst/>
            <a:gdLst/>
            <a:ahLst/>
            <a:rect l="0" t="0" r="r" b="b"/>
            <a:pathLst>
              <a:path fill="none" w="1134" h="782">
                <a:moveTo>
                  <a:pt x="0" y="782"/>
                </a:moveTo>
                <a:lnTo>
                  <a:pt x="1134" y="782"/>
                </a:lnTo>
                <a:lnTo>
                  <a:pt x="1134" y="0"/>
                </a:lnTo>
                <a:lnTo>
                  <a:pt x="0" y="0"/>
                </a:lnTo>
                <a:lnTo>
                  <a:pt x="0" y="782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"/>
          <p:cNvSpPr/>
          <p:nvPr/>
        </p:nvSpPr>
        <p:spPr>
          <a:xfrm>
            <a:off x="2489040" y="2155680"/>
            <a:ext cx="392400" cy="395640"/>
          </a:xfrm>
          <a:custGeom>
            <a:avLst/>
            <a:gdLst/>
            <a:ahLst/>
            <a:rect l="0" t="0" r="r" b="b"/>
            <a:pathLst>
              <a:path fill="none" w="1090" h="1099">
                <a:moveTo>
                  <a:pt x="0" y="550"/>
                </a:moveTo>
                <a:lnTo>
                  <a:pt x="1090" y="550"/>
                </a:lnTo>
                <a:lnTo>
                  <a:pt x="1090" y="476"/>
                </a:lnTo>
                <a:lnTo>
                  <a:pt x="1076" y="410"/>
                </a:lnTo>
                <a:lnTo>
                  <a:pt x="1050" y="337"/>
                </a:lnTo>
                <a:lnTo>
                  <a:pt x="1017" y="277"/>
                </a:lnTo>
                <a:lnTo>
                  <a:pt x="977" y="218"/>
                </a:lnTo>
                <a:lnTo>
                  <a:pt x="931" y="165"/>
                </a:lnTo>
                <a:lnTo>
                  <a:pt x="878" y="112"/>
                </a:lnTo>
                <a:lnTo>
                  <a:pt x="819" y="72"/>
                </a:lnTo>
                <a:lnTo>
                  <a:pt x="753" y="46"/>
                </a:lnTo>
                <a:lnTo>
                  <a:pt x="687" y="19"/>
                </a:lnTo>
                <a:lnTo>
                  <a:pt x="614" y="6"/>
                </a:lnTo>
                <a:lnTo>
                  <a:pt x="541" y="0"/>
                </a:lnTo>
                <a:lnTo>
                  <a:pt x="475" y="6"/>
                </a:lnTo>
                <a:lnTo>
                  <a:pt x="402" y="19"/>
                </a:lnTo>
                <a:lnTo>
                  <a:pt x="336" y="46"/>
                </a:lnTo>
                <a:lnTo>
                  <a:pt x="270" y="72"/>
                </a:lnTo>
                <a:lnTo>
                  <a:pt x="211" y="112"/>
                </a:lnTo>
                <a:lnTo>
                  <a:pt x="158" y="165"/>
                </a:lnTo>
                <a:lnTo>
                  <a:pt x="112" y="218"/>
                </a:lnTo>
                <a:lnTo>
                  <a:pt x="72" y="277"/>
                </a:lnTo>
                <a:lnTo>
                  <a:pt x="39" y="337"/>
                </a:lnTo>
                <a:lnTo>
                  <a:pt x="13" y="410"/>
                </a:lnTo>
                <a:lnTo>
                  <a:pt x="0" y="476"/>
                </a:lnTo>
                <a:lnTo>
                  <a:pt x="0" y="550"/>
                </a:lnTo>
                <a:lnTo>
                  <a:pt x="0" y="622"/>
                </a:lnTo>
                <a:lnTo>
                  <a:pt x="13" y="695"/>
                </a:lnTo>
                <a:lnTo>
                  <a:pt x="39" y="761"/>
                </a:lnTo>
                <a:lnTo>
                  <a:pt x="72" y="821"/>
                </a:lnTo>
                <a:lnTo>
                  <a:pt x="112" y="887"/>
                </a:lnTo>
                <a:lnTo>
                  <a:pt x="158" y="940"/>
                </a:lnTo>
                <a:lnTo>
                  <a:pt x="211" y="986"/>
                </a:lnTo>
                <a:lnTo>
                  <a:pt x="270" y="1026"/>
                </a:lnTo>
                <a:lnTo>
                  <a:pt x="336" y="1059"/>
                </a:lnTo>
                <a:lnTo>
                  <a:pt x="402" y="1079"/>
                </a:lnTo>
                <a:lnTo>
                  <a:pt x="475" y="1092"/>
                </a:lnTo>
                <a:lnTo>
                  <a:pt x="541" y="1099"/>
                </a:lnTo>
                <a:lnTo>
                  <a:pt x="614" y="1092"/>
                </a:lnTo>
                <a:lnTo>
                  <a:pt x="687" y="1079"/>
                </a:lnTo>
                <a:lnTo>
                  <a:pt x="753" y="1059"/>
                </a:lnTo>
                <a:lnTo>
                  <a:pt x="819" y="1026"/>
                </a:lnTo>
                <a:lnTo>
                  <a:pt x="878" y="986"/>
                </a:lnTo>
                <a:lnTo>
                  <a:pt x="931" y="940"/>
                </a:lnTo>
                <a:lnTo>
                  <a:pt x="977" y="887"/>
                </a:lnTo>
                <a:lnTo>
                  <a:pt x="1017" y="821"/>
                </a:lnTo>
                <a:lnTo>
                  <a:pt x="1050" y="761"/>
                </a:lnTo>
                <a:lnTo>
                  <a:pt x="1076" y="695"/>
                </a:lnTo>
                <a:lnTo>
                  <a:pt x="1090" y="622"/>
                </a:lnTo>
                <a:lnTo>
                  <a:pt x="1090" y="55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"/>
          <p:cNvSpPr/>
          <p:nvPr/>
        </p:nvSpPr>
        <p:spPr>
          <a:xfrm flipH="1">
            <a:off x="961920" y="3094200"/>
            <a:ext cx="31892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"/>
          <p:cNvSpPr/>
          <p:nvPr/>
        </p:nvSpPr>
        <p:spPr>
          <a:xfrm flipH="1">
            <a:off x="1370160" y="2943360"/>
            <a:ext cx="23731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"/>
          <p:cNvSpPr/>
          <p:nvPr/>
        </p:nvSpPr>
        <p:spPr>
          <a:xfrm flipV="1">
            <a:off x="1488960" y="2781360"/>
            <a:ext cx="249480" cy="4237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"/>
          <p:cNvSpPr/>
          <p:nvPr/>
        </p:nvSpPr>
        <p:spPr>
          <a:xfrm>
            <a:off x="1293840" y="2522520"/>
            <a:ext cx="0" cy="3445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"/>
          <p:cNvSpPr/>
          <p:nvPr/>
        </p:nvSpPr>
        <p:spPr>
          <a:xfrm flipH="1">
            <a:off x="1231920" y="2693880"/>
            <a:ext cx="2142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"/>
          <p:cNvSpPr/>
          <p:nvPr/>
        </p:nvSpPr>
        <p:spPr>
          <a:xfrm flipH="1">
            <a:off x="1062000" y="2693880"/>
            <a:ext cx="856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"/>
          <p:cNvSpPr/>
          <p:nvPr/>
        </p:nvSpPr>
        <p:spPr>
          <a:xfrm flipH="1">
            <a:off x="765000" y="2693880"/>
            <a:ext cx="2145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>
            <a:off x="1360440" y="3176640"/>
            <a:ext cx="225360" cy="2239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"/>
          <p:cNvSpPr/>
          <p:nvPr/>
        </p:nvSpPr>
        <p:spPr>
          <a:xfrm flipH="1">
            <a:off x="1360440" y="3176640"/>
            <a:ext cx="225360" cy="2239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"/>
          <p:cNvSpPr/>
          <p:nvPr/>
        </p:nvSpPr>
        <p:spPr>
          <a:xfrm flipH="1">
            <a:off x="961920" y="2757600"/>
            <a:ext cx="3319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>
            <a:off x="1293840" y="286704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0"/>
                </a:moveTo>
                <a:lnTo>
                  <a:pt x="0" y="39"/>
                </a:lnTo>
                <a:lnTo>
                  <a:pt x="13" y="80"/>
                </a:lnTo>
                <a:lnTo>
                  <a:pt x="33" y="120"/>
                </a:lnTo>
                <a:lnTo>
                  <a:pt x="60" y="153"/>
                </a:lnTo>
                <a:lnTo>
                  <a:pt x="93" y="180"/>
                </a:lnTo>
                <a:lnTo>
                  <a:pt x="133" y="200"/>
                </a:lnTo>
                <a:lnTo>
                  <a:pt x="173" y="207"/>
                </a:lnTo>
                <a:lnTo>
                  <a:pt x="213" y="213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"/>
          <p:cNvSpPr/>
          <p:nvPr/>
        </p:nvSpPr>
        <p:spPr>
          <a:xfrm flipH="1">
            <a:off x="961920" y="2629080"/>
            <a:ext cx="3319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"/>
          <p:cNvSpPr/>
          <p:nvPr/>
        </p:nvSpPr>
        <p:spPr>
          <a:xfrm>
            <a:off x="1214280" y="2443320"/>
            <a:ext cx="79560" cy="79560"/>
          </a:xfrm>
          <a:custGeom>
            <a:avLst/>
            <a:gdLst/>
            <a:ahLst/>
            <a:rect l="0" t="0" r="r" b="b"/>
            <a:pathLst>
              <a:path fill="none" w="221" h="221">
                <a:moveTo>
                  <a:pt x="221" y="221"/>
                </a:moveTo>
                <a:lnTo>
                  <a:pt x="214" y="174"/>
                </a:lnTo>
                <a:lnTo>
                  <a:pt x="201" y="134"/>
                </a:lnTo>
                <a:lnTo>
                  <a:pt x="181" y="100"/>
                </a:lnTo>
                <a:lnTo>
                  <a:pt x="154" y="66"/>
                </a:lnTo>
                <a:lnTo>
                  <a:pt x="121" y="40"/>
                </a:lnTo>
                <a:lnTo>
                  <a:pt x="86" y="20"/>
                </a:lnTo>
                <a:lnTo>
                  <a:pt x="46" y="6"/>
                </a:lnTo>
                <a:lnTo>
                  <a:pt x="0" y="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"/>
          <p:cNvSpPr/>
          <p:nvPr/>
        </p:nvSpPr>
        <p:spPr>
          <a:xfrm>
            <a:off x="961920" y="2443320"/>
            <a:ext cx="2523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"/>
          <p:cNvSpPr/>
          <p:nvPr/>
        </p:nvSpPr>
        <p:spPr>
          <a:xfrm>
            <a:off x="1641600" y="2414520"/>
            <a:ext cx="395640" cy="395640"/>
          </a:xfrm>
          <a:custGeom>
            <a:avLst/>
            <a:gdLst/>
            <a:ahLst/>
            <a:rect l="0" t="0" r="r" b="b"/>
            <a:pathLst>
              <a:path fill="none" w="1099" h="1099">
                <a:moveTo>
                  <a:pt x="1099" y="550"/>
                </a:moveTo>
                <a:lnTo>
                  <a:pt x="1092" y="476"/>
                </a:lnTo>
                <a:lnTo>
                  <a:pt x="1079" y="410"/>
                </a:lnTo>
                <a:lnTo>
                  <a:pt x="1059" y="337"/>
                </a:lnTo>
                <a:lnTo>
                  <a:pt x="1026" y="277"/>
                </a:lnTo>
                <a:lnTo>
                  <a:pt x="986" y="218"/>
                </a:lnTo>
                <a:lnTo>
                  <a:pt x="940" y="165"/>
                </a:lnTo>
                <a:lnTo>
                  <a:pt x="880" y="112"/>
                </a:lnTo>
                <a:lnTo>
                  <a:pt x="827" y="72"/>
                </a:lnTo>
                <a:lnTo>
                  <a:pt x="761" y="46"/>
                </a:lnTo>
                <a:lnTo>
                  <a:pt x="688" y="19"/>
                </a:lnTo>
                <a:lnTo>
                  <a:pt x="622" y="6"/>
                </a:lnTo>
                <a:lnTo>
                  <a:pt x="550" y="0"/>
                </a:lnTo>
                <a:lnTo>
                  <a:pt x="476" y="6"/>
                </a:lnTo>
                <a:lnTo>
                  <a:pt x="410" y="19"/>
                </a:lnTo>
                <a:lnTo>
                  <a:pt x="337" y="46"/>
                </a:lnTo>
                <a:lnTo>
                  <a:pt x="277" y="72"/>
                </a:lnTo>
                <a:lnTo>
                  <a:pt x="218" y="112"/>
                </a:lnTo>
                <a:lnTo>
                  <a:pt x="158" y="165"/>
                </a:lnTo>
                <a:lnTo>
                  <a:pt x="112" y="218"/>
                </a:lnTo>
                <a:lnTo>
                  <a:pt x="72" y="277"/>
                </a:lnTo>
                <a:lnTo>
                  <a:pt x="39" y="337"/>
                </a:lnTo>
                <a:lnTo>
                  <a:pt x="19" y="410"/>
                </a:lnTo>
                <a:lnTo>
                  <a:pt x="6" y="476"/>
                </a:lnTo>
                <a:lnTo>
                  <a:pt x="0" y="550"/>
                </a:lnTo>
                <a:lnTo>
                  <a:pt x="6" y="622"/>
                </a:lnTo>
                <a:lnTo>
                  <a:pt x="19" y="695"/>
                </a:lnTo>
                <a:lnTo>
                  <a:pt x="39" y="761"/>
                </a:lnTo>
                <a:lnTo>
                  <a:pt x="72" y="827"/>
                </a:lnTo>
                <a:lnTo>
                  <a:pt x="112" y="887"/>
                </a:lnTo>
                <a:lnTo>
                  <a:pt x="158" y="940"/>
                </a:lnTo>
                <a:lnTo>
                  <a:pt x="218" y="986"/>
                </a:lnTo>
                <a:lnTo>
                  <a:pt x="277" y="1026"/>
                </a:lnTo>
                <a:lnTo>
                  <a:pt x="337" y="1059"/>
                </a:lnTo>
                <a:lnTo>
                  <a:pt x="410" y="1079"/>
                </a:lnTo>
                <a:lnTo>
                  <a:pt x="476" y="1092"/>
                </a:lnTo>
                <a:lnTo>
                  <a:pt x="550" y="1099"/>
                </a:lnTo>
                <a:lnTo>
                  <a:pt x="622" y="1092"/>
                </a:lnTo>
                <a:lnTo>
                  <a:pt x="688" y="1079"/>
                </a:lnTo>
                <a:lnTo>
                  <a:pt x="761" y="1059"/>
                </a:lnTo>
                <a:lnTo>
                  <a:pt x="827" y="1026"/>
                </a:lnTo>
                <a:lnTo>
                  <a:pt x="880" y="986"/>
                </a:lnTo>
                <a:lnTo>
                  <a:pt x="940" y="940"/>
                </a:lnTo>
                <a:lnTo>
                  <a:pt x="986" y="887"/>
                </a:lnTo>
                <a:lnTo>
                  <a:pt x="1026" y="827"/>
                </a:lnTo>
                <a:lnTo>
                  <a:pt x="1059" y="761"/>
                </a:lnTo>
                <a:lnTo>
                  <a:pt x="1079" y="695"/>
                </a:lnTo>
                <a:lnTo>
                  <a:pt x="1092" y="622"/>
                </a:lnTo>
                <a:lnTo>
                  <a:pt x="1099" y="55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"/>
          <p:cNvSpPr/>
          <p:nvPr/>
        </p:nvSpPr>
        <p:spPr>
          <a:xfrm>
            <a:off x="2036880" y="2414520"/>
            <a:ext cx="395640" cy="395640"/>
          </a:xfrm>
          <a:custGeom>
            <a:avLst/>
            <a:gdLst/>
            <a:ahLst/>
            <a:rect l="0" t="0" r="r" b="b"/>
            <a:pathLst>
              <a:path fill="none" w="1099" h="1099">
                <a:moveTo>
                  <a:pt x="1099" y="550"/>
                </a:moveTo>
                <a:lnTo>
                  <a:pt x="1092" y="476"/>
                </a:lnTo>
                <a:lnTo>
                  <a:pt x="1079" y="410"/>
                </a:lnTo>
                <a:lnTo>
                  <a:pt x="1052" y="337"/>
                </a:lnTo>
                <a:lnTo>
                  <a:pt x="1026" y="277"/>
                </a:lnTo>
                <a:lnTo>
                  <a:pt x="986" y="218"/>
                </a:lnTo>
                <a:lnTo>
                  <a:pt x="933" y="165"/>
                </a:lnTo>
                <a:lnTo>
                  <a:pt x="880" y="112"/>
                </a:lnTo>
                <a:lnTo>
                  <a:pt x="821" y="72"/>
                </a:lnTo>
                <a:lnTo>
                  <a:pt x="761" y="46"/>
                </a:lnTo>
                <a:lnTo>
                  <a:pt x="688" y="19"/>
                </a:lnTo>
                <a:lnTo>
                  <a:pt x="622" y="6"/>
                </a:lnTo>
                <a:lnTo>
                  <a:pt x="550" y="0"/>
                </a:lnTo>
                <a:lnTo>
                  <a:pt x="476" y="6"/>
                </a:lnTo>
                <a:lnTo>
                  <a:pt x="403" y="19"/>
                </a:lnTo>
                <a:lnTo>
                  <a:pt x="337" y="46"/>
                </a:lnTo>
                <a:lnTo>
                  <a:pt x="271" y="72"/>
                </a:lnTo>
                <a:lnTo>
                  <a:pt x="211" y="112"/>
                </a:lnTo>
                <a:lnTo>
                  <a:pt x="158" y="165"/>
                </a:lnTo>
                <a:lnTo>
                  <a:pt x="112" y="218"/>
                </a:lnTo>
                <a:lnTo>
                  <a:pt x="72" y="277"/>
                </a:lnTo>
                <a:lnTo>
                  <a:pt x="39" y="337"/>
                </a:lnTo>
                <a:lnTo>
                  <a:pt x="19" y="410"/>
                </a:lnTo>
                <a:lnTo>
                  <a:pt x="6" y="476"/>
                </a:lnTo>
                <a:lnTo>
                  <a:pt x="0" y="550"/>
                </a:lnTo>
                <a:lnTo>
                  <a:pt x="6" y="622"/>
                </a:lnTo>
                <a:lnTo>
                  <a:pt x="19" y="695"/>
                </a:lnTo>
                <a:lnTo>
                  <a:pt x="39" y="761"/>
                </a:lnTo>
                <a:lnTo>
                  <a:pt x="72" y="827"/>
                </a:lnTo>
                <a:lnTo>
                  <a:pt x="112" y="887"/>
                </a:lnTo>
                <a:lnTo>
                  <a:pt x="158" y="940"/>
                </a:lnTo>
                <a:lnTo>
                  <a:pt x="211" y="986"/>
                </a:lnTo>
                <a:lnTo>
                  <a:pt x="271" y="1026"/>
                </a:lnTo>
                <a:lnTo>
                  <a:pt x="337" y="1059"/>
                </a:lnTo>
                <a:lnTo>
                  <a:pt x="403" y="1079"/>
                </a:lnTo>
                <a:lnTo>
                  <a:pt x="476" y="1092"/>
                </a:lnTo>
                <a:lnTo>
                  <a:pt x="550" y="1099"/>
                </a:lnTo>
                <a:lnTo>
                  <a:pt x="622" y="1092"/>
                </a:lnTo>
                <a:lnTo>
                  <a:pt x="688" y="1079"/>
                </a:lnTo>
                <a:lnTo>
                  <a:pt x="761" y="1059"/>
                </a:lnTo>
                <a:lnTo>
                  <a:pt x="821" y="1026"/>
                </a:lnTo>
                <a:lnTo>
                  <a:pt x="880" y="986"/>
                </a:lnTo>
                <a:lnTo>
                  <a:pt x="933" y="940"/>
                </a:lnTo>
                <a:lnTo>
                  <a:pt x="986" y="887"/>
                </a:lnTo>
                <a:lnTo>
                  <a:pt x="1026" y="827"/>
                </a:lnTo>
                <a:lnTo>
                  <a:pt x="1052" y="761"/>
                </a:lnTo>
                <a:lnTo>
                  <a:pt x="1079" y="695"/>
                </a:lnTo>
                <a:lnTo>
                  <a:pt x="1092" y="622"/>
                </a:lnTo>
                <a:lnTo>
                  <a:pt x="1099" y="55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"/>
          <p:cNvSpPr/>
          <p:nvPr/>
        </p:nvSpPr>
        <p:spPr>
          <a:xfrm>
            <a:off x="2036880" y="2612880"/>
            <a:ext cx="3952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"/>
          <p:cNvSpPr/>
          <p:nvPr/>
        </p:nvSpPr>
        <p:spPr>
          <a:xfrm>
            <a:off x="1641600" y="2612880"/>
            <a:ext cx="3952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"/>
          <p:cNvSpPr/>
          <p:nvPr/>
        </p:nvSpPr>
        <p:spPr>
          <a:xfrm flipV="1">
            <a:off x="4151160" y="1765440"/>
            <a:ext cx="0" cy="6062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"/>
          <p:cNvSpPr/>
          <p:nvPr/>
        </p:nvSpPr>
        <p:spPr>
          <a:xfrm flipV="1">
            <a:off x="3591000" y="1765440"/>
            <a:ext cx="0" cy="14526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"/>
          <p:cNvSpPr/>
          <p:nvPr/>
        </p:nvSpPr>
        <p:spPr>
          <a:xfrm>
            <a:off x="4295880" y="1836720"/>
            <a:ext cx="1429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"/>
          <p:cNvSpPr/>
          <p:nvPr/>
        </p:nvSpPr>
        <p:spPr>
          <a:xfrm flipH="1">
            <a:off x="3303720" y="1836720"/>
            <a:ext cx="1429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"/>
          <p:cNvSpPr/>
          <p:nvPr/>
        </p:nvSpPr>
        <p:spPr>
          <a:xfrm>
            <a:off x="4151160" y="1812960"/>
            <a:ext cx="144720" cy="47880"/>
          </a:xfrm>
          <a:custGeom>
            <a:avLst/>
            <a:gdLst/>
            <a:ahLst/>
            <a:rect l="0" t="0" r="r" b="b"/>
            <a:pathLst>
              <a:path w="402" h="133">
                <a:moveTo>
                  <a:pt x="402" y="0"/>
                </a:moveTo>
                <a:lnTo>
                  <a:pt x="402" y="133"/>
                </a:lnTo>
                <a:lnTo>
                  <a:pt x="0" y="67"/>
                </a:lnTo>
                <a:lnTo>
                  <a:pt x="402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"/>
          <p:cNvSpPr/>
          <p:nvPr/>
        </p:nvSpPr>
        <p:spPr>
          <a:xfrm>
            <a:off x="3446640" y="1812960"/>
            <a:ext cx="144720" cy="47880"/>
          </a:xfrm>
          <a:custGeom>
            <a:avLst/>
            <a:gdLst/>
            <a:ahLst/>
            <a:rect l="0" t="0" r="r" b="b"/>
            <a:pathLst>
              <a:path w="402" h="133">
                <a:moveTo>
                  <a:pt x="0" y="0"/>
                </a:moveTo>
                <a:lnTo>
                  <a:pt x="0" y="133"/>
                </a:lnTo>
                <a:lnTo>
                  <a:pt x="402" y="6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"/>
          <p:cNvSpPr/>
          <p:nvPr/>
        </p:nvSpPr>
        <p:spPr>
          <a:xfrm>
            <a:off x="3666960" y="1695600"/>
            <a:ext cx="408240" cy="281520"/>
          </a:xfrm>
          <a:custGeom>
            <a:avLst/>
            <a:gdLst/>
            <a:ahLst/>
            <a:rect l="0" t="0" r="r" b="b"/>
            <a:pathLst>
              <a:path fill="none" w="1134" h="782">
                <a:moveTo>
                  <a:pt x="0" y="782"/>
                </a:moveTo>
                <a:lnTo>
                  <a:pt x="1134" y="782"/>
                </a:lnTo>
                <a:lnTo>
                  <a:pt x="1134" y="0"/>
                </a:lnTo>
                <a:lnTo>
                  <a:pt x="0" y="0"/>
                </a:lnTo>
                <a:lnTo>
                  <a:pt x="0" y="782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1" name=""/>
          <p:cNvSpPr/>
          <p:nvPr/>
        </p:nvSpPr>
        <p:spPr>
          <a:xfrm flipH="1">
            <a:off x="4119480" y="2693880"/>
            <a:ext cx="2415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2" name=""/>
          <p:cNvSpPr/>
          <p:nvPr/>
        </p:nvSpPr>
        <p:spPr>
          <a:xfrm flipH="1">
            <a:off x="3951360" y="2693880"/>
            <a:ext cx="824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"/>
          <p:cNvSpPr/>
          <p:nvPr/>
        </p:nvSpPr>
        <p:spPr>
          <a:xfrm flipH="1">
            <a:off x="3627360" y="2693880"/>
            <a:ext cx="2383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"/>
          <p:cNvSpPr/>
          <p:nvPr/>
        </p:nvSpPr>
        <p:spPr>
          <a:xfrm flipH="1" flipV="1">
            <a:off x="3171960" y="2527200"/>
            <a:ext cx="419040" cy="7066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"/>
          <p:cNvSpPr/>
          <p:nvPr/>
        </p:nvSpPr>
        <p:spPr>
          <a:xfrm>
            <a:off x="3822840" y="2522520"/>
            <a:ext cx="0" cy="3445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6" name=""/>
          <p:cNvSpPr/>
          <p:nvPr/>
        </p:nvSpPr>
        <p:spPr>
          <a:xfrm flipH="1">
            <a:off x="3479760" y="3176640"/>
            <a:ext cx="223920" cy="2239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"/>
          <p:cNvSpPr/>
          <p:nvPr/>
        </p:nvSpPr>
        <p:spPr>
          <a:xfrm>
            <a:off x="3479760" y="3176640"/>
            <a:ext cx="223920" cy="22392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"/>
          <p:cNvSpPr/>
          <p:nvPr/>
        </p:nvSpPr>
        <p:spPr>
          <a:xfrm flipH="1">
            <a:off x="3822840" y="2757600"/>
            <a:ext cx="3283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"/>
          <p:cNvSpPr/>
          <p:nvPr/>
        </p:nvSpPr>
        <p:spPr>
          <a:xfrm>
            <a:off x="3743280" y="2867040"/>
            <a:ext cx="79560" cy="76680"/>
          </a:xfrm>
          <a:custGeom>
            <a:avLst/>
            <a:gdLst/>
            <a:ahLst/>
            <a:rect l="0" t="0" r="r" b="b"/>
            <a:pathLst>
              <a:path fill="none" w="221" h="213">
                <a:moveTo>
                  <a:pt x="0" y="213"/>
                </a:moveTo>
                <a:lnTo>
                  <a:pt x="46" y="207"/>
                </a:lnTo>
                <a:lnTo>
                  <a:pt x="86" y="200"/>
                </a:lnTo>
                <a:lnTo>
                  <a:pt x="121" y="180"/>
                </a:lnTo>
                <a:lnTo>
                  <a:pt x="154" y="153"/>
                </a:lnTo>
                <a:lnTo>
                  <a:pt x="181" y="120"/>
                </a:lnTo>
                <a:lnTo>
                  <a:pt x="201" y="80"/>
                </a:lnTo>
                <a:lnTo>
                  <a:pt x="214" y="39"/>
                </a:lnTo>
                <a:lnTo>
                  <a:pt x="221" y="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"/>
          <p:cNvSpPr/>
          <p:nvPr/>
        </p:nvSpPr>
        <p:spPr>
          <a:xfrm>
            <a:off x="2881440" y="2155680"/>
            <a:ext cx="395640" cy="395640"/>
          </a:xfrm>
          <a:custGeom>
            <a:avLst/>
            <a:gdLst/>
            <a:ahLst/>
            <a:rect l="0" t="0" r="r" b="b"/>
            <a:pathLst>
              <a:path fill="none" w="1099" h="1099">
                <a:moveTo>
                  <a:pt x="1099" y="550"/>
                </a:moveTo>
                <a:lnTo>
                  <a:pt x="1092" y="476"/>
                </a:lnTo>
                <a:lnTo>
                  <a:pt x="1079" y="410"/>
                </a:lnTo>
                <a:lnTo>
                  <a:pt x="1059" y="337"/>
                </a:lnTo>
                <a:lnTo>
                  <a:pt x="1026" y="277"/>
                </a:lnTo>
                <a:lnTo>
                  <a:pt x="986" y="218"/>
                </a:lnTo>
                <a:lnTo>
                  <a:pt x="940" y="165"/>
                </a:lnTo>
                <a:lnTo>
                  <a:pt x="887" y="112"/>
                </a:lnTo>
                <a:lnTo>
                  <a:pt x="827" y="72"/>
                </a:lnTo>
                <a:lnTo>
                  <a:pt x="761" y="46"/>
                </a:lnTo>
                <a:lnTo>
                  <a:pt x="695" y="19"/>
                </a:lnTo>
                <a:lnTo>
                  <a:pt x="622" y="6"/>
                </a:lnTo>
                <a:lnTo>
                  <a:pt x="550" y="0"/>
                </a:lnTo>
                <a:lnTo>
                  <a:pt x="476" y="6"/>
                </a:lnTo>
                <a:lnTo>
                  <a:pt x="410" y="19"/>
                </a:lnTo>
                <a:lnTo>
                  <a:pt x="343" y="46"/>
                </a:lnTo>
                <a:lnTo>
                  <a:pt x="277" y="72"/>
                </a:lnTo>
                <a:lnTo>
                  <a:pt x="218" y="112"/>
                </a:lnTo>
                <a:lnTo>
                  <a:pt x="165" y="165"/>
                </a:lnTo>
                <a:lnTo>
                  <a:pt x="112" y="218"/>
                </a:lnTo>
                <a:lnTo>
                  <a:pt x="79" y="277"/>
                </a:lnTo>
                <a:lnTo>
                  <a:pt x="46" y="337"/>
                </a:lnTo>
                <a:lnTo>
                  <a:pt x="19" y="410"/>
                </a:lnTo>
                <a:lnTo>
                  <a:pt x="6" y="476"/>
                </a:lnTo>
                <a:lnTo>
                  <a:pt x="0" y="550"/>
                </a:lnTo>
                <a:lnTo>
                  <a:pt x="6" y="622"/>
                </a:lnTo>
                <a:lnTo>
                  <a:pt x="19" y="695"/>
                </a:lnTo>
                <a:lnTo>
                  <a:pt x="46" y="761"/>
                </a:lnTo>
                <a:lnTo>
                  <a:pt x="79" y="821"/>
                </a:lnTo>
                <a:lnTo>
                  <a:pt x="112" y="887"/>
                </a:lnTo>
                <a:lnTo>
                  <a:pt x="165" y="940"/>
                </a:lnTo>
                <a:lnTo>
                  <a:pt x="218" y="986"/>
                </a:lnTo>
                <a:lnTo>
                  <a:pt x="277" y="1026"/>
                </a:lnTo>
                <a:lnTo>
                  <a:pt x="343" y="1059"/>
                </a:lnTo>
                <a:lnTo>
                  <a:pt x="410" y="1079"/>
                </a:lnTo>
                <a:lnTo>
                  <a:pt x="476" y="1092"/>
                </a:lnTo>
                <a:lnTo>
                  <a:pt x="550" y="1099"/>
                </a:lnTo>
                <a:lnTo>
                  <a:pt x="622" y="1092"/>
                </a:lnTo>
                <a:lnTo>
                  <a:pt x="695" y="1079"/>
                </a:lnTo>
                <a:lnTo>
                  <a:pt x="761" y="1059"/>
                </a:lnTo>
                <a:lnTo>
                  <a:pt x="827" y="1026"/>
                </a:lnTo>
                <a:lnTo>
                  <a:pt x="887" y="986"/>
                </a:lnTo>
                <a:lnTo>
                  <a:pt x="940" y="940"/>
                </a:lnTo>
                <a:lnTo>
                  <a:pt x="986" y="887"/>
                </a:lnTo>
                <a:lnTo>
                  <a:pt x="1026" y="821"/>
                </a:lnTo>
                <a:lnTo>
                  <a:pt x="1059" y="761"/>
                </a:lnTo>
                <a:lnTo>
                  <a:pt x="1079" y="695"/>
                </a:lnTo>
                <a:lnTo>
                  <a:pt x="1092" y="622"/>
                </a:lnTo>
                <a:lnTo>
                  <a:pt x="1099" y="55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"/>
          <p:cNvSpPr/>
          <p:nvPr/>
        </p:nvSpPr>
        <p:spPr>
          <a:xfrm>
            <a:off x="2881440" y="2352600"/>
            <a:ext cx="3952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"/>
          <p:cNvSpPr/>
          <p:nvPr/>
        </p:nvSpPr>
        <p:spPr>
          <a:xfrm flipH="1">
            <a:off x="3822840" y="2629080"/>
            <a:ext cx="3283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"/>
          <p:cNvSpPr/>
          <p:nvPr/>
        </p:nvSpPr>
        <p:spPr>
          <a:xfrm>
            <a:off x="3822840" y="2443320"/>
            <a:ext cx="76680" cy="79560"/>
          </a:xfrm>
          <a:custGeom>
            <a:avLst/>
            <a:gdLst/>
            <a:ahLst/>
            <a:rect l="0" t="0" r="r" b="b"/>
            <a:pathLst>
              <a:path fill="none" w="213" h="221">
                <a:moveTo>
                  <a:pt x="213" y="0"/>
                </a:moveTo>
                <a:lnTo>
                  <a:pt x="173" y="6"/>
                </a:lnTo>
                <a:lnTo>
                  <a:pt x="133" y="20"/>
                </a:lnTo>
                <a:lnTo>
                  <a:pt x="93" y="40"/>
                </a:lnTo>
                <a:lnTo>
                  <a:pt x="60" y="66"/>
                </a:lnTo>
                <a:lnTo>
                  <a:pt x="33" y="100"/>
                </a:lnTo>
                <a:lnTo>
                  <a:pt x="13" y="134"/>
                </a:lnTo>
                <a:lnTo>
                  <a:pt x="0" y="174"/>
                </a:lnTo>
                <a:lnTo>
                  <a:pt x="0" y="221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"/>
          <p:cNvSpPr/>
          <p:nvPr/>
        </p:nvSpPr>
        <p:spPr>
          <a:xfrm flipH="1">
            <a:off x="3898800" y="2443320"/>
            <a:ext cx="2523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"/>
          <p:cNvSpPr/>
          <p:nvPr/>
        </p:nvSpPr>
        <p:spPr>
          <a:xfrm>
            <a:off x="4529160" y="2575080"/>
            <a:ext cx="227520" cy="224280"/>
          </a:xfrm>
          <a:custGeom>
            <a:avLst/>
            <a:gdLst/>
            <a:ahLst/>
            <a:rect l="0" t="0" r="r" b="b"/>
            <a:pathLst>
              <a:path fill="none" w="632" h="623">
                <a:moveTo>
                  <a:pt x="0" y="623"/>
                </a:moveTo>
                <a:lnTo>
                  <a:pt x="0" y="0"/>
                </a:lnTo>
                <a:lnTo>
                  <a:pt x="632" y="0"/>
                </a:lnTo>
                <a:lnTo>
                  <a:pt x="632" y="623"/>
                </a:lnTo>
                <a:lnTo>
                  <a:pt x="0" y="623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"/>
          <p:cNvSpPr/>
          <p:nvPr/>
        </p:nvSpPr>
        <p:spPr>
          <a:xfrm>
            <a:off x="4618080" y="3094200"/>
            <a:ext cx="49680" cy="144720"/>
          </a:xfrm>
          <a:custGeom>
            <a:avLst/>
            <a:gdLst/>
            <a:ahLst/>
            <a:rect l="0" t="0" r="r" b="b"/>
            <a:pathLst>
              <a:path w="138" h="402">
                <a:moveTo>
                  <a:pt x="0" y="402"/>
                </a:moveTo>
                <a:lnTo>
                  <a:pt x="138" y="402"/>
                </a:lnTo>
                <a:lnTo>
                  <a:pt x="66" y="0"/>
                </a:lnTo>
                <a:lnTo>
                  <a:pt x="0" y="40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"/>
          <p:cNvSpPr/>
          <p:nvPr/>
        </p:nvSpPr>
        <p:spPr>
          <a:xfrm>
            <a:off x="4224240" y="3094200"/>
            <a:ext cx="4906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"/>
          <p:cNvSpPr/>
          <p:nvPr/>
        </p:nvSpPr>
        <p:spPr>
          <a:xfrm>
            <a:off x="4576680" y="3094200"/>
            <a:ext cx="1317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"/>
          <p:cNvSpPr/>
          <p:nvPr/>
        </p:nvSpPr>
        <p:spPr>
          <a:xfrm flipV="1">
            <a:off x="4576680" y="2981160"/>
            <a:ext cx="65160" cy="113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"/>
          <p:cNvSpPr/>
          <p:nvPr/>
        </p:nvSpPr>
        <p:spPr>
          <a:xfrm>
            <a:off x="4576680" y="2981160"/>
            <a:ext cx="132120" cy="113040"/>
          </a:xfrm>
          <a:custGeom>
            <a:avLst/>
            <a:gdLst/>
            <a:ahLst/>
            <a:rect l="0" t="0" r="r" b="b"/>
            <a:pathLst>
              <a:path w="367" h="314">
                <a:moveTo>
                  <a:pt x="0" y="314"/>
                </a:moveTo>
                <a:lnTo>
                  <a:pt x="179" y="0"/>
                </a:lnTo>
                <a:lnTo>
                  <a:pt x="367" y="314"/>
                </a:lnTo>
                <a:lnTo>
                  <a:pt x="0" y="314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"/>
          <p:cNvSpPr/>
          <p:nvPr/>
        </p:nvSpPr>
        <p:spPr>
          <a:xfrm flipH="1" flipV="1">
            <a:off x="4641840" y="2981160"/>
            <a:ext cx="66600" cy="113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"/>
          <p:cNvSpPr/>
          <p:nvPr/>
        </p:nvSpPr>
        <p:spPr>
          <a:xfrm flipV="1">
            <a:off x="4641840" y="2798640"/>
            <a:ext cx="0" cy="2955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3" name=""/>
          <p:cNvSpPr/>
          <p:nvPr/>
        </p:nvSpPr>
        <p:spPr>
          <a:xfrm>
            <a:off x="6299280" y="3094200"/>
            <a:ext cx="1049760" cy="1047960"/>
          </a:xfrm>
          <a:custGeom>
            <a:avLst/>
            <a:gdLst/>
            <a:ahLst/>
            <a:rect l="0" t="0" r="r" b="b"/>
            <a:pathLst>
              <a:path fill="none" w="2916" h="2911">
                <a:moveTo>
                  <a:pt x="2916" y="1456"/>
                </a:moveTo>
                <a:lnTo>
                  <a:pt x="2910" y="1342"/>
                </a:lnTo>
                <a:lnTo>
                  <a:pt x="2896" y="1230"/>
                </a:lnTo>
                <a:lnTo>
                  <a:pt x="2877" y="1117"/>
                </a:lnTo>
                <a:lnTo>
                  <a:pt x="2844" y="1005"/>
                </a:lnTo>
                <a:lnTo>
                  <a:pt x="2804" y="899"/>
                </a:lnTo>
                <a:lnTo>
                  <a:pt x="2758" y="793"/>
                </a:lnTo>
                <a:lnTo>
                  <a:pt x="2705" y="694"/>
                </a:lnTo>
                <a:lnTo>
                  <a:pt x="2639" y="601"/>
                </a:lnTo>
                <a:lnTo>
                  <a:pt x="2566" y="509"/>
                </a:lnTo>
                <a:lnTo>
                  <a:pt x="2493" y="429"/>
                </a:lnTo>
                <a:lnTo>
                  <a:pt x="2407" y="350"/>
                </a:lnTo>
                <a:lnTo>
                  <a:pt x="2315" y="277"/>
                </a:lnTo>
                <a:lnTo>
                  <a:pt x="2222" y="218"/>
                </a:lnTo>
                <a:lnTo>
                  <a:pt x="2122" y="158"/>
                </a:lnTo>
                <a:lnTo>
                  <a:pt x="2016" y="112"/>
                </a:lnTo>
                <a:lnTo>
                  <a:pt x="1911" y="72"/>
                </a:lnTo>
                <a:lnTo>
                  <a:pt x="1798" y="39"/>
                </a:lnTo>
                <a:lnTo>
                  <a:pt x="1686" y="19"/>
                </a:lnTo>
                <a:lnTo>
                  <a:pt x="1574" y="6"/>
                </a:lnTo>
                <a:lnTo>
                  <a:pt x="1461" y="0"/>
                </a:lnTo>
                <a:lnTo>
                  <a:pt x="1342" y="6"/>
                </a:lnTo>
                <a:lnTo>
                  <a:pt x="1230" y="19"/>
                </a:lnTo>
                <a:lnTo>
                  <a:pt x="1118" y="39"/>
                </a:lnTo>
                <a:lnTo>
                  <a:pt x="1012" y="72"/>
                </a:lnTo>
                <a:lnTo>
                  <a:pt x="899" y="112"/>
                </a:lnTo>
                <a:lnTo>
                  <a:pt x="800" y="158"/>
                </a:lnTo>
                <a:lnTo>
                  <a:pt x="694" y="218"/>
                </a:lnTo>
                <a:lnTo>
                  <a:pt x="601" y="277"/>
                </a:lnTo>
                <a:lnTo>
                  <a:pt x="515" y="350"/>
                </a:lnTo>
                <a:lnTo>
                  <a:pt x="429" y="429"/>
                </a:lnTo>
                <a:lnTo>
                  <a:pt x="350" y="509"/>
                </a:lnTo>
                <a:lnTo>
                  <a:pt x="277" y="601"/>
                </a:lnTo>
                <a:lnTo>
                  <a:pt x="218" y="694"/>
                </a:lnTo>
                <a:lnTo>
                  <a:pt x="158" y="793"/>
                </a:lnTo>
                <a:lnTo>
                  <a:pt x="112" y="899"/>
                </a:lnTo>
                <a:lnTo>
                  <a:pt x="72" y="1005"/>
                </a:lnTo>
                <a:lnTo>
                  <a:pt x="39" y="1117"/>
                </a:lnTo>
                <a:lnTo>
                  <a:pt x="19" y="1230"/>
                </a:lnTo>
                <a:lnTo>
                  <a:pt x="6" y="1342"/>
                </a:lnTo>
                <a:lnTo>
                  <a:pt x="0" y="1456"/>
                </a:lnTo>
                <a:lnTo>
                  <a:pt x="6" y="1575"/>
                </a:lnTo>
                <a:lnTo>
                  <a:pt x="19" y="1687"/>
                </a:lnTo>
                <a:lnTo>
                  <a:pt x="39" y="1800"/>
                </a:lnTo>
                <a:lnTo>
                  <a:pt x="72" y="1906"/>
                </a:lnTo>
                <a:lnTo>
                  <a:pt x="112" y="2018"/>
                </a:lnTo>
                <a:lnTo>
                  <a:pt x="158" y="2117"/>
                </a:lnTo>
                <a:lnTo>
                  <a:pt x="218" y="2216"/>
                </a:lnTo>
                <a:lnTo>
                  <a:pt x="277" y="2316"/>
                </a:lnTo>
                <a:lnTo>
                  <a:pt x="350" y="2402"/>
                </a:lnTo>
                <a:lnTo>
                  <a:pt x="429" y="2488"/>
                </a:lnTo>
                <a:lnTo>
                  <a:pt x="515" y="2567"/>
                </a:lnTo>
                <a:lnTo>
                  <a:pt x="601" y="2633"/>
                </a:lnTo>
                <a:lnTo>
                  <a:pt x="694" y="2699"/>
                </a:lnTo>
                <a:lnTo>
                  <a:pt x="800" y="2759"/>
                </a:lnTo>
                <a:lnTo>
                  <a:pt x="899" y="2805"/>
                </a:lnTo>
                <a:lnTo>
                  <a:pt x="1012" y="2845"/>
                </a:lnTo>
                <a:lnTo>
                  <a:pt x="1118" y="2871"/>
                </a:lnTo>
                <a:lnTo>
                  <a:pt x="1230" y="2898"/>
                </a:lnTo>
                <a:lnTo>
                  <a:pt x="1342" y="2911"/>
                </a:lnTo>
                <a:lnTo>
                  <a:pt x="1461" y="2911"/>
                </a:lnTo>
                <a:lnTo>
                  <a:pt x="1574" y="2911"/>
                </a:lnTo>
                <a:lnTo>
                  <a:pt x="1686" y="2898"/>
                </a:lnTo>
                <a:lnTo>
                  <a:pt x="1798" y="2871"/>
                </a:lnTo>
                <a:lnTo>
                  <a:pt x="1911" y="2845"/>
                </a:lnTo>
                <a:lnTo>
                  <a:pt x="2016" y="2805"/>
                </a:lnTo>
                <a:lnTo>
                  <a:pt x="2122" y="2759"/>
                </a:lnTo>
                <a:lnTo>
                  <a:pt x="2222" y="2699"/>
                </a:lnTo>
                <a:lnTo>
                  <a:pt x="2315" y="2633"/>
                </a:lnTo>
                <a:lnTo>
                  <a:pt x="2407" y="2567"/>
                </a:lnTo>
                <a:lnTo>
                  <a:pt x="2493" y="2488"/>
                </a:lnTo>
                <a:lnTo>
                  <a:pt x="2566" y="2402"/>
                </a:lnTo>
                <a:lnTo>
                  <a:pt x="2639" y="2316"/>
                </a:lnTo>
                <a:lnTo>
                  <a:pt x="2705" y="2216"/>
                </a:lnTo>
                <a:lnTo>
                  <a:pt x="2758" y="2117"/>
                </a:lnTo>
                <a:lnTo>
                  <a:pt x="2804" y="2018"/>
                </a:lnTo>
                <a:lnTo>
                  <a:pt x="2844" y="1906"/>
                </a:lnTo>
                <a:lnTo>
                  <a:pt x="2877" y="1800"/>
                </a:lnTo>
                <a:lnTo>
                  <a:pt x="2896" y="1687"/>
                </a:lnTo>
                <a:lnTo>
                  <a:pt x="2910" y="1575"/>
                </a:lnTo>
                <a:lnTo>
                  <a:pt x="2916" y="1456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"/>
          <p:cNvSpPr/>
          <p:nvPr/>
        </p:nvSpPr>
        <p:spPr>
          <a:xfrm>
            <a:off x="7300800" y="3141720"/>
            <a:ext cx="198720" cy="476640"/>
          </a:xfrm>
          <a:custGeom>
            <a:avLst/>
            <a:gdLst/>
            <a:ahLst/>
            <a:rect l="0" t="0" r="r" b="b"/>
            <a:pathLst>
              <a:path fill="none" w="552" h="1324">
                <a:moveTo>
                  <a:pt x="552" y="1324"/>
                </a:moveTo>
                <a:lnTo>
                  <a:pt x="545" y="1199"/>
                </a:lnTo>
                <a:lnTo>
                  <a:pt x="532" y="1073"/>
                </a:lnTo>
                <a:lnTo>
                  <a:pt x="512" y="946"/>
                </a:lnTo>
                <a:lnTo>
                  <a:pt x="485" y="821"/>
                </a:lnTo>
                <a:lnTo>
                  <a:pt x="445" y="695"/>
                </a:lnTo>
                <a:lnTo>
                  <a:pt x="399" y="576"/>
                </a:lnTo>
                <a:lnTo>
                  <a:pt x="339" y="464"/>
                </a:lnTo>
                <a:lnTo>
                  <a:pt x="279" y="351"/>
                </a:lnTo>
                <a:lnTo>
                  <a:pt x="205" y="244"/>
                </a:lnTo>
                <a:lnTo>
                  <a:pt x="132" y="145"/>
                </a:lnTo>
                <a:lnTo>
                  <a:pt x="46" y="46"/>
                </a:lnTo>
                <a:lnTo>
                  <a:pt x="0" y="0"/>
                </a:lnTo>
              </a:path>
            </a:pathLst>
          </a:custGeom>
          <a:ln w="12600">
            <a:solidFill>
              <a:srgbClr val="f2fefd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"/>
          <p:cNvSpPr/>
          <p:nvPr/>
        </p:nvSpPr>
        <p:spPr>
          <a:xfrm>
            <a:off x="7129440" y="3017880"/>
            <a:ext cx="90720" cy="54360"/>
          </a:xfrm>
          <a:custGeom>
            <a:avLst/>
            <a:gdLst/>
            <a:ahLst/>
            <a:rect l="0" t="0" r="r" b="b"/>
            <a:pathLst>
              <a:path fill="none" w="252" h="151">
                <a:moveTo>
                  <a:pt x="252" y="151"/>
                </a:moveTo>
                <a:lnTo>
                  <a:pt x="232" y="138"/>
                </a:lnTo>
                <a:lnTo>
                  <a:pt x="125" y="66"/>
                </a:lnTo>
                <a:lnTo>
                  <a:pt x="13" y="6"/>
                </a:lnTo>
                <a:lnTo>
                  <a:pt x="0" y="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3240" bIns="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"/>
          <p:cNvSpPr/>
          <p:nvPr/>
        </p:nvSpPr>
        <p:spPr>
          <a:xfrm>
            <a:off x="6518160" y="2943360"/>
            <a:ext cx="514800" cy="74880"/>
          </a:xfrm>
          <a:custGeom>
            <a:avLst/>
            <a:gdLst/>
            <a:ahLst/>
            <a:rect l="0" t="0" r="r" b="b"/>
            <a:pathLst>
              <a:path fill="none" w="1430" h="208">
                <a:moveTo>
                  <a:pt x="1430" y="93"/>
                </a:moveTo>
                <a:lnTo>
                  <a:pt x="1357" y="73"/>
                </a:lnTo>
                <a:lnTo>
                  <a:pt x="1232" y="40"/>
                </a:lnTo>
                <a:lnTo>
                  <a:pt x="1106" y="20"/>
                </a:lnTo>
                <a:lnTo>
                  <a:pt x="979" y="6"/>
                </a:lnTo>
                <a:lnTo>
                  <a:pt x="854" y="0"/>
                </a:lnTo>
                <a:lnTo>
                  <a:pt x="721" y="6"/>
                </a:lnTo>
                <a:lnTo>
                  <a:pt x="596" y="20"/>
                </a:lnTo>
                <a:lnTo>
                  <a:pt x="470" y="40"/>
                </a:lnTo>
                <a:lnTo>
                  <a:pt x="343" y="73"/>
                </a:lnTo>
                <a:lnTo>
                  <a:pt x="224" y="107"/>
                </a:lnTo>
                <a:lnTo>
                  <a:pt x="105" y="154"/>
                </a:lnTo>
                <a:lnTo>
                  <a:pt x="0" y="208"/>
                </a:lnTo>
              </a:path>
            </a:pathLst>
          </a:custGeom>
          <a:ln w="12600">
            <a:solidFill>
              <a:srgbClr val="f2fefd"/>
            </a:solidFill>
            <a:custDash>
              <a:ds d="402857" sp="402857"/>
            </a:custDash>
            <a:round/>
          </a:ln>
        </p:spPr>
        <p:txBody>
          <a:bodyPr lIns="96120" rIns="96120" tIns="23760" bIns="23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"/>
          <p:cNvSpPr/>
          <p:nvPr/>
        </p:nvSpPr>
        <p:spPr>
          <a:xfrm>
            <a:off x="6346800" y="3071880"/>
            <a:ext cx="81360" cy="70200"/>
          </a:xfrm>
          <a:custGeom>
            <a:avLst/>
            <a:gdLst/>
            <a:ahLst/>
            <a:rect l="0" t="0" r="r" b="b"/>
            <a:pathLst>
              <a:path fill="none" w="226" h="195">
                <a:moveTo>
                  <a:pt x="226" y="0"/>
                </a:moveTo>
                <a:lnTo>
                  <a:pt x="146" y="66"/>
                </a:lnTo>
                <a:lnTo>
                  <a:pt x="46" y="148"/>
                </a:lnTo>
                <a:lnTo>
                  <a:pt x="0" y="195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19080" bIns="19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"/>
          <p:cNvSpPr/>
          <p:nvPr/>
        </p:nvSpPr>
        <p:spPr>
          <a:xfrm>
            <a:off x="6148440" y="3222720"/>
            <a:ext cx="128880" cy="501840"/>
          </a:xfrm>
          <a:custGeom>
            <a:avLst/>
            <a:gdLst/>
            <a:ahLst/>
            <a:rect l="0" t="0" r="r" b="b"/>
            <a:pathLst>
              <a:path fill="none" w="358" h="1394">
                <a:moveTo>
                  <a:pt x="358" y="0"/>
                </a:moveTo>
                <a:lnTo>
                  <a:pt x="344" y="19"/>
                </a:lnTo>
                <a:lnTo>
                  <a:pt x="272" y="125"/>
                </a:lnTo>
                <a:lnTo>
                  <a:pt x="212" y="237"/>
                </a:lnTo>
                <a:lnTo>
                  <a:pt x="158" y="350"/>
                </a:lnTo>
                <a:lnTo>
                  <a:pt x="112" y="468"/>
                </a:lnTo>
                <a:lnTo>
                  <a:pt x="72" y="594"/>
                </a:lnTo>
                <a:lnTo>
                  <a:pt x="39" y="720"/>
                </a:lnTo>
                <a:lnTo>
                  <a:pt x="19" y="846"/>
                </a:lnTo>
                <a:lnTo>
                  <a:pt x="6" y="971"/>
                </a:lnTo>
                <a:lnTo>
                  <a:pt x="0" y="1097"/>
                </a:lnTo>
                <a:lnTo>
                  <a:pt x="6" y="1229"/>
                </a:lnTo>
                <a:lnTo>
                  <a:pt x="19" y="1354"/>
                </a:lnTo>
                <a:lnTo>
                  <a:pt x="26" y="1394"/>
                </a:lnTo>
              </a:path>
            </a:pathLst>
          </a:custGeom>
          <a:ln w="12600">
            <a:solidFill>
              <a:srgbClr val="f2fefd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"/>
          <p:cNvSpPr/>
          <p:nvPr/>
        </p:nvSpPr>
        <p:spPr>
          <a:xfrm>
            <a:off x="6181560" y="3827520"/>
            <a:ext cx="41760" cy="97200"/>
          </a:xfrm>
          <a:custGeom>
            <a:avLst/>
            <a:gdLst/>
            <a:ahLst/>
            <a:rect l="0" t="0" r="r" b="b"/>
            <a:pathLst>
              <a:path fill="none" w="116" h="270">
                <a:moveTo>
                  <a:pt x="0" y="0"/>
                </a:moveTo>
                <a:lnTo>
                  <a:pt x="20" y="45"/>
                </a:lnTo>
                <a:lnTo>
                  <a:pt x="68" y="165"/>
                </a:lnTo>
                <a:lnTo>
                  <a:pt x="116" y="27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46080" bIns="46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"/>
          <p:cNvSpPr/>
          <p:nvPr/>
        </p:nvSpPr>
        <p:spPr>
          <a:xfrm>
            <a:off x="6276960" y="4014720"/>
            <a:ext cx="441720" cy="270360"/>
          </a:xfrm>
          <a:custGeom>
            <a:avLst/>
            <a:gdLst/>
            <a:ahLst/>
            <a:rect l="0" t="0" r="r" b="b"/>
            <a:pathLst>
              <a:path fill="none" w="1227" h="751">
                <a:moveTo>
                  <a:pt x="0" y="0"/>
                </a:moveTo>
                <a:lnTo>
                  <a:pt x="66" y="79"/>
                </a:lnTo>
                <a:lnTo>
                  <a:pt x="152" y="172"/>
                </a:lnTo>
                <a:lnTo>
                  <a:pt x="238" y="266"/>
                </a:lnTo>
                <a:lnTo>
                  <a:pt x="338" y="352"/>
                </a:lnTo>
                <a:lnTo>
                  <a:pt x="438" y="432"/>
                </a:lnTo>
                <a:lnTo>
                  <a:pt x="544" y="498"/>
                </a:lnTo>
                <a:lnTo>
                  <a:pt x="657" y="565"/>
                </a:lnTo>
                <a:lnTo>
                  <a:pt x="776" y="618"/>
                </a:lnTo>
                <a:lnTo>
                  <a:pt x="895" y="665"/>
                </a:lnTo>
                <a:lnTo>
                  <a:pt x="1015" y="705"/>
                </a:lnTo>
                <a:lnTo>
                  <a:pt x="1141" y="731"/>
                </a:lnTo>
                <a:lnTo>
                  <a:pt x="1227" y="751"/>
                </a:lnTo>
              </a:path>
            </a:pathLst>
          </a:custGeom>
          <a:ln w="12600">
            <a:solidFill>
              <a:srgbClr val="f2fefd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"/>
          <p:cNvSpPr/>
          <p:nvPr/>
        </p:nvSpPr>
        <p:spPr>
          <a:xfrm>
            <a:off x="6824520" y="4284720"/>
            <a:ext cx="105120" cy="6840"/>
          </a:xfrm>
          <a:custGeom>
            <a:avLst/>
            <a:gdLst/>
            <a:ahLst/>
            <a:rect l="0" t="0" r="r" b="b"/>
            <a:pathLst>
              <a:path fill="none" w="292" h="19">
                <a:moveTo>
                  <a:pt x="0" y="19"/>
                </a:moveTo>
                <a:lnTo>
                  <a:pt x="125" y="19"/>
                </a:lnTo>
                <a:lnTo>
                  <a:pt x="252" y="6"/>
                </a:lnTo>
                <a:lnTo>
                  <a:pt x="292" y="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-44280" bIns="-44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"/>
          <p:cNvSpPr/>
          <p:nvPr/>
        </p:nvSpPr>
        <p:spPr>
          <a:xfrm>
            <a:off x="7032600" y="3924360"/>
            <a:ext cx="392400" cy="333720"/>
          </a:xfrm>
          <a:custGeom>
            <a:avLst/>
            <a:gdLst/>
            <a:ahLst/>
            <a:rect l="0" t="0" r="r" b="b"/>
            <a:pathLst>
              <a:path fill="none" w="1090" h="927">
                <a:moveTo>
                  <a:pt x="0" y="927"/>
                </a:moveTo>
                <a:lnTo>
                  <a:pt x="52" y="913"/>
                </a:lnTo>
                <a:lnTo>
                  <a:pt x="171" y="867"/>
                </a:lnTo>
                <a:lnTo>
                  <a:pt x="283" y="814"/>
                </a:lnTo>
                <a:lnTo>
                  <a:pt x="396" y="748"/>
                </a:lnTo>
                <a:lnTo>
                  <a:pt x="501" y="682"/>
                </a:lnTo>
                <a:lnTo>
                  <a:pt x="608" y="602"/>
                </a:lnTo>
                <a:lnTo>
                  <a:pt x="700" y="516"/>
                </a:lnTo>
                <a:lnTo>
                  <a:pt x="793" y="423"/>
                </a:lnTo>
                <a:lnTo>
                  <a:pt x="878" y="330"/>
                </a:lnTo>
                <a:lnTo>
                  <a:pt x="951" y="231"/>
                </a:lnTo>
                <a:lnTo>
                  <a:pt x="1024" y="119"/>
                </a:lnTo>
                <a:lnTo>
                  <a:pt x="1083" y="6"/>
                </a:lnTo>
                <a:lnTo>
                  <a:pt x="1090" y="0"/>
                </a:lnTo>
              </a:path>
            </a:pathLst>
          </a:custGeom>
          <a:ln w="12600">
            <a:solidFill>
              <a:srgbClr val="f2fefd"/>
            </a:solidFill>
            <a:custDash>
              <a:ds d="402857" sp="402857"/>
            </a:custDash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"/>
          <p:cNvSpPr/>
          <p:nvPr/>
        </p:nvSpPr>
        <p:spPr>
          <a:xfrm>
            <a:off x="7466040" y="3724200"/>
            <a:ext cx="24120" cy="103680"/>
          </a:xfrm>
          <a:custGeom>
            <a:avLst/>
            <a:gdLst/>
            <a:ahLst/>
            <a:rect l="0" t="0" r="r" b="b"/>
            <a:pathLst>
              <a:path fill="none" w="67" h="288">
                <a:moveTo>
                  <a:pt x="0" y="288"/>
                </a:moveTo>
                <a:lnTo>
                  <a:pt x="26" y="214"/>
                </a:lnTo>
                <a:lnTo>
                  <a:pt x="53" y="87"/>
                </a:lnTo>
                <a:lnTo>
                  <a:pt x="67" y="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"/>
          <p:cNvSpPr/>
          <p:nvPr/>
        </p:nvSpPr>
        <p:spPr>
          <a:xfrm flipV="1">
            <a:off x="6824520" y="3500280"/>
            <a:ext cx="0" cy="2336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"/>
          <p:cNvSpPr/>
          <p:nvPr/>
        </p:nvSpPr>
        <p:spPr>
          <a:xfrm flipV="1">
            <a:off x="5899320" y="3500280"/>
            <a:ext cx="0" cy="889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"/>
          <p:cNvSpPr/>
          <p:nvPr/>
        </p:nvSpPr>
        <p:spPr>
          <a:xfrm flipV="1">
            <a:off x="7748640" y="3500280"/>
            <a:ext cx="0" cy="889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"/>
          <p:cNvSpPr/>
          <p:nvPr/>
        </p:nvSpPr>
        <p:spPr>
          <a:xfrm flipV="1">
            <a:off x="6824520" y="3289320"/>
            <a:ext cx="408240" cy="3286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"/>
          <p:cNvSpPr/>
          <p:nvPr/>
        </p:nvSpPr>
        <p:spPr>
          <a:xfrm>
            <a:off x="6824520" y="4981680"/>
            <a:ext cx="0" cy="2476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"/>
          <p:cNvSpPr/>
          <p:nvPr/>
        </p:nvSpPr>
        <p:spPr>
          <a:xfrm flipV="1">
            <a:off x="7289640" y="2604960"/>
            <a:ext cx="790560" cy="6382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"/>
          <p:cNvSpPr/>
          <p:nvPr/>
        </p:nvSpPr>
        <p:spPr>
          <a:xfrm>
            <a:off x="6967440" y="4422600"/>
            <a:ext cx="1170360" cy="729000"/>
          </a:xfrm>
          <a:custGeom>
            <a:avLst/>
            <a:gdLst/>
            <a:ahLst/>
            <a:rect l="0" t="0" r="r" b="b"/>
            <a:pathLst>
              <a:path fill="none" w="3251" h="2025">
                <a:moveTo>
                  <a:pt x="0" y="2025"/>
                </a:moveTo>
                <a:lnTo>
                  <a:pt x="198" y="1998"/>
                </a:lnTo>
                <a:lnTo>
                  <a:pt x="397" y="1965"/>
                </a:lnTo>
                <a:lnTo>
                  <a:pt x="589" y="1925"/>
                </a:lnTo>
                <a:lnTo>
                  <a:pt x="781" y="1872"/>
                </a:lnTo>
                <a:lnTo>
                  <a:pt x="974" y="1813"/>
                </a:lnTo>
                <a:lnTo>
                  <a:pt x="1159" y="1747"/>
                </a:lnTo>
                <a:lnTo>
                  <a:pt x="1338" y="1674"/>
                </a:lnTo>
                <a:lnTo>
                  <a:pt x="1523" y="1588"/>
                </a:lnTo>
                <a:lnTo>
                  <a:pt x="1695" y="1495"/>
                </a:lnTo>
                <a:lnTo>
                  <a:pt x="1867" y="1390"/>
                </a:lnTo>
                <a:lnTo>
                  <a:pt x="2033" y="1284"/>
                </a:lnTo>
                <a:lnTo>
                  <a:pt x="2191" y="1165"/>
                </a:lnTo>
                <a:lnTo>
                  <a:pt x="2350" y="1046"/>
                </a:lnTo>
                <a:lnTo>
                  <a:pt x="2497" y="912"/>
                </a:lnTo>
                <a:lnTo>
                  <a:pt x="2643" y="773"/>
                </a:lnTo>
                <a:lnTo>
                  <a:pt x="2775" y="628"/>
                </a:lnTo>
                <a:lnTo>
                  <a:pt x="2907" y="482"/>
                </a:lnTo>
                <a:lnTo>
                  <a:pt x="3026" y="324"/>
                </a:lnTo>
                <a:lnTo>
                  <a:pt x="3146" y="165"/>
                </a:lnTo>
                <a:lnTo>
                  <a:pt x="3251" y="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"/>
          <p:cNvSpPr/>
          <p:nvPr/>
        </p:nvSpPr>
        <p:spPr>
          <a:xfrm>
            <a:off x="8109000" y="2766960"/>
            <a:ext cx="254520" cy="1375200"/>
          </a:xfrm>
          <a:custGeom>
            <a:avLst/>
            <a:gdLst/>
            <a:ahLst/>
            <a:rect l="0" t="0" r="r" b="b"/>
            <a:pathLst>
              <a:path fill="none" w="707" h="3820">
                <a:moveTo>
                  <a:pt x="455" y="3820"/>
                </a:moveTo>
                <a:lnTo>
                  <a:pt x="515" y="3635"/>
                </a:lnTo>
                <a:lnTo>
                  <a:pt x="569" y="3443"/>
                </a:lnTo>
                <a:lnTo>
                  <a:pt x="615" y="3245"/>
                </a:lnTo>
                <a:lnTo>
                  <a:pt x="654" y="3053"/>
                </a:lnTo>
                <a:lnTo>
                  <a:pt x="681" y="2853"/>
                </a:lnTo>
                <a:lnTo>
                  <a:pt x="700" y="2654"/>
                </a:lnTo>
                <a:lnTo>
                  <a:pt x="707" y="2456"/>
                </a:lnTo>
                <a:lnTo>
                  <a:pt x="707" y="2257"/>
                </a:lnTo>
                <a:lnTo>
                  <a:pt x="700" y="2059"/>
                </a:lnTo>
                <a:lnTo>
                  <a:pt x="681" y="1860"/>
                </a:lnTo>
                <a:lnTo>
                  <a:pt x="648" y="1662"/>
                </a:lnTo>
                <a:lnTo>
                  <a:pt x="615" y="1463"/>
                </a:lnTo>
                <a:lnTo>
                  <a:pt x="569" y="1271"/>
                </a:lnTo>
                <a:lnTo>
                  <a:pt x="508" y="1079"/>
                </a:lnTo>
                <a:lnTo>
                  <a:pt x="449" y="886"/>
                </a:lnTo>
                <a:lnTo>
                  <a:pt x="376" y="701"/>
                </a:lnTo>
                <a:lnTo>
                  <a:pt x="291" y="522"/>
                </a:lnTo>
                <a:lnTo>
                  <a:pt x="205" y="344"/>
                </a:lnTo>
                <a:lnTo>
                  <a:pt x="105" y="172"/>
                </a:lnTo>
                <a:lnTo>
                  <a:pt x="0" y="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"/>
          <p:cNvSpPr/>
          <p:nvPr/>
        </p:nvSpPr>
        <p:spPr>
          <a:xfrm>
            <a:off x="6824520" y="5124600"/>
            <a:ext cx="146520" cy="51120"/>
          </a:xfrm>
          <a:custGeom>
            <a:avLst/>
            <a:gdLst/>
            <a:ahLst/>
            <a:rect l="0" t="0" r="r" b="b"/>
            <a:pathLst>
              <a:path w="407" h="142">
                <a:moveTo>
                  <a:pt x="407" y="142"/>
                </a:moveTo>
                <a:lnTo>
                  <a:pt x="401" y="0"/>
                </a:lnTo>
                <a:lnTo>
                  <a:pt x="0" y="88"/>
                </a:lnTo>
                <a:lnTo>
                  <a:pt x="407" y="142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"/>
          <p:cNvSpPr/>
          <p:nvPr/>
        </p:nvSpPr>
        <p:spPr>
          <a:xfrm>
            <a:off x="8023320" y="2652840"/>
            <a:ext cx="105120" cy="128880"/>
          </a:xfrm>
          <a:custGeom>
            <a:avLst/>
            <a:gdLst/>
            <a:ahLst/>
            <a:rect l="0" t="0" r="r" b="b"/>
            <a:pathLst>
              <a:path w="292" h="358">
                <a:moveTo>
                  <a:pt x="186" y="358"/>
                </a:moveTo>
                <a:lnTo>
                  <a:pt x="292" y="278"/>
                </a:lnTo>
                <a:lnTo>
                  <a:pt x="0" y="0"/>
                </a:lnTo>
                <a:lnTo>
                  <a:pt x="186" y="358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"/>
          <p:cNvSpPr/>
          <p:nvPr/>
        </p:nvSpPr>
        <p:spPr>
          <a:xfrm>
            <a:off x="7953480" y="4141800"/>
            <a:ext cx="519480" cy="281520"/>
          </a:xfrm>
          <a:custGeom>
            <a:avLst/>
            <a:gdLst/>
            <a:ahLst/>
            <a:rect l="0" t="0" r="r" b="b"/>
            <a:pathLst>
              <a:path fill="none" w="1443" h="782">
                <a:moveTo>
                  <a:pt x="0" y="782"/>
                </a:moveTo>
                <a:lnTo>
                  <a:pt x="1443" y="782"/>
                </a:lnTo>
                <a:lnTo>
                  <a:pt x="1443" y="0"/>
                </a:lnTo>
                <a:lnTo>
                  <a:pt x="0" y="0"/>
                </a:lnTo>
                <a:lnTo>
                  <a:pt x="0" y="782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"/>
          <p:cNvSpPr/>
          <p:nvPr/>
        </p:nvSpPr>
        <p:spPr>
          <a:xfrm>
            <a:off x="5648400" y="2443320"/>
            <a:ext cx="2351520" cy="2348280"/>
          </a:xfrm>
          <a:custGeom>
            <a:avLst/>
            <a:gdLst/>
            <a:ahLst/>
            <a:rect l="0" t="0" r="r" b="b"/>
            <a:pathLst>
              <a:path fill="none" w="6532" h="6523">
                <a:moveTo>
                  <a:pt x="6532" y="3261"/>
                </a:moveTo>
                <a:lnTo>
                  <a:pt x="6526" y="3090"/>
                </a:lnTo>
                <a:lnTo>
                  <a:pt x="6512" y="2924"/>
                </a:lnTo>
                <a:lnTo>
                  <a:pt x="6493" y="2752"/>
                </a:lnTo>
                <a:lnTo>
                  <a:pt x="6460" y="2587"/>
                </a:lnTo>
                <a:lnTo>
                  <a:pt x="6420" y="2421"/>
                </a:lnTo>
                <a:lnTo>
                  <a:pt x="6373" y="2256"/>
                </a:lnTo>
                <a:lnTo>
                  <a:pt x="6314" y="2097"/>
                </a:lnTo>
                <a:lnTo>
                  <a:pt x="6248" y="1939"/>
                </a:lnTo>
                <a:lnTo>
                  <a:pt x="6175" y="1786"/>
                </a:lnTo>
                <a:lnTo>
                  <a:pt x="6096" y="1634"/>
                </a:lnTo>
                <a:lnTo>
                  <a:pt x="6003" y="1488"/>
                </a:lnTo>
                <a:lnTo>
                  <a:pt x="5910" y="1349"/>
                </a:lnTo>
                <a:lnTo>
                  <a:pt x="5804" y="1210"/>
                </a:lnTo>
                <a:lnTo>
                  <a:pt x="5692" y="1078"/>
                </a:lnTo>
                <a:lnTo>
                  <a:pt x="5573" y="959"/>
                </a:lnTo>
                <a:lnTo>
                  <a:pt x="5454" y="840"/>
                </a:lnTo>
                <a:lnTo>
                  <a:pt x="5321" y="727"/>
                </a:lnTo>
                <a:lnTo>
                  <a:pt x="5189" y="628"/>
                </a:lnTo>
                <a:lnTo>
                  <a:pt x="5044" y="529"/>
                </a:lnTo>
                <a:lnTo>
                  <a:pt x="4897" y="436"/>
                </a:lnTo>
                <a:lnTo>
                  <a:pt x="4751" y="357"/>
                </a:lnTo>
                <a:lnTo>
                  <a:pt x="4593" y="284"/>
                </a:lnTo>
                <a:lnTo>
                  <a:pt x="4434" y="218"/>
                </a:lnTo>
                <a:lnTo>
                  <a:pt x="4275" y="165"/>
                </a:lnTo>
                <a:lnTo>
                  <a:pt x="4110" y="112"/>
                </a:lnTo>
                <a:lnTo>
                  <a:pt x="3944" y="72"/>
                </a:lnTo>
                <a:lnTo>
                  <a:pt x="3779" y="46"/>
                </a:lnTo>
                <a:lnTo>
                  <a:pt x="3607" y="19"/>
                </a:lnTo>
                <a:lnTo>
                  <a:pt x="3435" y="6"/>
                </a:lnTo>
                <a:lnTo>
                  <a:pt x="3269" y="0"/>
                </a:lnTo>
                <a:lnTo>
                  <a:pt x="3097" y="6"/>
                </a:lnTo>
                <a:lnTo>
                  <a:pt x="2925" y="19"/>
                </a:lnTo>
                <a:lnTo>
                  <a:pt x="2760" y="46"/>
                </a:lnTo>
                <a:lnTo>
                  <a:pt x="2588" y="72"/>
                </a:lnTo>
                <a:lnTo>
                  <a:pt x="2422" y="112"/>
                </a:lnTo>
                <a:lnTo>
                  <a:pt x="2257" y="165"/>
                </a:lnTo>
                <a:lnTo>
                  <a:pt x="2098" y="218"/>
                </a:lnTo>
                <a:lnTo>
                  <a:pt x="1939" y="284"/>
                </a:lnTo>
                <a:lnTo>
                  <a:pt x="1787" y="357"/>
                </a:lnTo>
                <a:lnTo>
                  <a:pt x="1635" y="436"/>
                </a:lnTo>
                <a:lnTo>
                  <a:pt x="1488" y="529"/>
                </a:lnTo>
                <a:lnTo>
                  <a:pt x="1349" y="628"/>
                </a:lnTo>
                <a:lnTo>
                  <a:pt x="1210" y="727"/>
                </a:lnTo>
                <a:lnTo>
                  <a:pt x="1085" y="840"/>
                </a:lnTo>
                <a:lnTo>
                  <a:pt x="959" y="959"/>
                </a:lnTo>
                <a:lnTo>
                  <a:pt x="840" y="1078"/>
                </a:lnTo>
                <a:lnTo>
                  <a:pt x="727" y="1210"/>
                </a:lnTo>
                <a:lnTo>
                  <a:pt x="628" y="1349"/>
                </a:lnTo>
                <a:lnTo>
                  <a:pt x="529" y="1488"/>
                </a:lnTo>
                <a:lnTo>
                  <a:pt x="436" y="1634"/>
                </a:lnTo>
                <a:lnTo>
                  <a:pt x="357" y="1786"/>
                </a:lnTo>
                <a:lnTo>
                  <a:pt x="284" y="1939"/>
                </a:lnTo>
                <a:lnTo>
                  <a:pt x="218" y="2097"/>
                </a:lnTo>
                <a:lnTo>
                  <a:pt x="165" y="2256"/>
                </a:lnTo>
                <a:lnTo>
                  <a:pt x="112" y="2421"/>
                </a:lnTo>
                <a:lnTo>
                  <a:pt x="72" y="2587"/>
                </a:lnTo>
                <a:lnTo>
                  <a:pt x="39" y="2752"/>
                </a:lnTo>
                <a:lnTo>
                  <a:pt x="19" y="2924"/>
                </a:lnTo>
                <a:lnTo>
                  <a:pt x="6" y="3090"/>
                </a:lnTo>
                <a:lnTo>
                  <a:pt x="0" y="3261"/>
                </a:lnTo>
                <a:lnTo>
                  <a:pt x="6" y="3433"/>
                </a:lnTo>
                <a:lnTo>
                  <a:pt x="19" y="3605"/>
                </a:lnTo>
                <a:lnTo>
                  <a:pt x="39" y="3771"/>
                </a:lnTo>
                <a:lnTo>
                  <a:pt x="72" y="3943"/>
                </a:lnTo>
                <a:lnTo>
                  <a:pt x="112" y="4108"/>
                </a:lnTo>
                <a:lnTo>
                  <a:pt x="165" y="4274"/>
                </a:lnTo>
                <a:lnTo>
                  <a:pt x="218" y="4432"/>
                </a:lnTo>
                <a:lnTo>
                  <a:pt x="284" y="4591"/>
                </a:lnTo>
                <a:lnTo>
                  <a:pt x="357" y="4743"/>
                </a:lnTo>
                <a:lnTo>
                  <a:pt x="436" y="4896"/>
                </a:lnTo>
                <a:lnTo>
                  <a:pt x="529" y="5042"/>
                </a:lnTo>
                <a:lnTo>
                  <a:pt x="628" y="5181"/>
                </a:lnTo>
                <a:lnTo>
                  <a:pt x="727" y="5313"/>
                </a:lnTo>
                <a:lnTo>
                  <a:pt x="840" y="5445"/>
                </a:lnTo>
                <a:lnTo>
                  <a:pt x="959" y="5571"/>
                </a:lnTo>
                <a:lnTo>
                  <a:pt x="1085" y="5683"/>
                </a:lnTo>
                <a:lnTo>
                  <a:pt x="1210" y="5796"/>
                </a:lnTo>
                <a:lnTo>
                  <a:pt x="1349" y="5902"/>
                </a:lnTo>
                <a:lnTo>
                  <a:pt x="1488" y="6001"/>
                </a:lnTo>
                <a:lnTo>
                  <a:pt x="1635" y="6087"/>
                </a:lnTo>
                <a:lnTo>
                  <a:pt x="1787" y="6166"/>
                </a:lnTo>
                <a:lnTo>
                  <a:pt x="1939" y="6239"/>
                </a:lnTo>
                <a:lnTo>
                  <a:pt x="2098" y="6305"/>
                </a:lnTo>
                <a:lnTo>
                  <a:pt x="2257" y="6365"/>
                </a:lnTo>
                <a:lnTo>
                  <a:pt x="2422" y="6411"/>
                </a:lnTo>
                <a:lnTo>
                  <a:pt x="2588" y="6451"/>
                </a:lnTo>
                <a:lnTo>
                  <a:pt x="2760" y="6484"/>
                </a:lnTo>
                <a:lnTo>
                  <a:pt x="2925" y="6504"/>
                </a:lnTo>
                <a:lnTo>
                  <a:pt x="3097" y="6517"/>
                </a:lnTo>
                <a:lnTo>
                  <a:pt x="3269" y="6523"/>
                </a:lnTo>
                <a:lnTo>
                  <a:pt x="3435" y="6517"/>
                </a:lnTo>
                <a:lnTo>
                  <a:pt x="3607" y="6504"/>
                </a:lnTo>
                <a:lnTo>
                  <a:pt x="3779" y="6484"/>
                </a:lnTo>
                <a:lnTo>
                  <a:pt x="3944" y="6451"/>
                </a:lnTo>
                <a:lnTo>
                  <a:pt x="4110" y="6411"/>
                </a:lnTo>
                <a:lnTo>
                  <a:pt x="4275" y="6365"/>
                </a:lnTo>
                <a:lnTo>
                  <a:pt x="4434" y="6305"/>
                </a:lnTo>
                <a:lnTo>
                  <a:pt x="4593" y="6239"/>
                </a:lnTo>
                <a:lnTo>
                  <a:pt x="4751" y="6166"/>
                </a:lnTo>
                <a:lnTo>
                  <a:pt x="4897" y="6087"/>
                </a:lnTo>
                <a:lnTo>
                  <a:pt x="5044" y="6001"/>
                </a:lnTo>
                <a:lnTo>
                  <a:pt x="5189" y="5902"/>
                </a:lnTo>
                <a:lnTo>
                  <a:pt x="5321" y="5796"/>
                </a:lnTo>
                <a:lnTo>
                  <a:pt x="5454" y="5683"/>
                </a:lnTo>
                <a:lnTo>
                  <a:pt x="5573" y="5571"/>
                </a:lnTo>
                <a:lnTo>
                  <a:pt x="5692" y="5445"/>
                </a:lnTo>
                <a:lnTo>
                  <a:pt x="5804" y="5313"/>
                </a:lnTo>
                <a:lnTo>
                  <a:pt x="5910" y="5181"/>
                </a:lnTo>
                <a:lnTo>
                  <a:pt x="6003" y="5042"/>
                </a:lnTo>
                <a:lnTo>
                  <a:pt x="6096" y="4896"/>
                </a:lnTo>
                <a:lnTo>
                  <a:pt x="6175" y="4743"/>
                </a:lnTo>
                <a:lnTo>
                  <a:pt x="6248" y="4591"/>
                </a:lnTo>
                <a:lnTo>
                  <a:pt x="6314" y="4432"/>
                </a:lnTo>
                <a:lnTo>
                  <a:pt x="6373" y="4274"/>
                </a:lnTo>
                <a:lnTo>
                  <a:pt x="6420" y="4108"/>
                </a:lnTo>
                <a:lnTo>
                  <a:pt x="6460" y="3943"/>
                </a:lnTo>
                <a:lnTo>
                  <a:pt x="6493" y="3771"/>
                </a:lnTo>
                <a:lnTo>
                  <a:pt x="6512" y="3605"/>
                </a:lnTo>
                <a:lnTo>
                  <a:pt x="6526" y="3433"/>
                </a:lnTo>
                <a:lnTo>
                  <a:pt x="6532" y="3261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"/>
          <p:cNvSpPr/>
          <p:nvPr/>
        </p:nvSpPr>
        <p:spPr>
          <a:xfrm>
            <a:off x="7777080" y="3618000"/>
            <a:ext cx="33840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"/>
          <p:cNvSpPr/>
          <p:nvPr/>
        </p:nvSpPr>
        <p:spPr>
          <a:xfrm flipH="1">
            <a:off x="5942160" y="4191120"/>
            <a:ext cx="866520" cy="10047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"/>
          <p:cNvSpPr/>
          <p:nvPr/>
        </p:nvSpPr>
        <p:spPr>
          <a:xfrm>
            <a:off x="5637240" y="5165640"/>
            <a:ext cx="395640" cy="395640"/>
          </a:xfrm>
          <a:custGeom>
            <a:avLst/>
            <a:gdLst/>
            <a:ahLst/>
            <a:rect l="0" t="0" r="r" b="b"/>
            <a:pathLst>
              <a:path fill="none" w="1099" h="1099">
                <a:moveTo>
                  <a:pt x="1099" y="550"/>
                </a:moveTo>
                <a:lnTo>
                  <a:pt x="1092" y="476"/>
                </a:lnTo>
                <a:lnTo>
                  <a:pt x="1079" y="403"/>
                </a:lnTo>
                <a:lnTo>
                  <a:pt x="1059" y="337"/>
                </a:lnTo>
                <a:lnTo>
                  <a:pt x="1026" y="271"/>
                </a:lnTo>
                <a:lnTo>
                  <a:pt x="986" y="211"/>
                </a:lnTo>
                <a:lnTo>
                  <a:pt x="940" y="158"/>
                </a:lnTo>
                <a:lnTo>
                  <a:pt x="880" y="112"/>
                </a:lnTo>
                <a:lnTo>
                  <a:pt x="821" y="72"/>
                </a:lnTo>
                <a:lnTo>
                  <a:pt x="761" y="39"/>
                </a:lnTo>
                <a:lnTo>
                  <a:pt x="688" y="19"/>
                </a:lnTo>
                <a:lnTo>
                  <a:pt x="622" y="6"/>
                </a:lnTo>
                <a:lnTo>
                  <a:pt x="550" y="0"/>
                </a:lnTo>
                <a:lnTo>
                  <a:pt x="476" y="6"/>
                </a:lnTo>
                <a:lnTo>
                  <a:pt x="410" y="19"/>
                </a:lnTo>
                <a:lnTo>
                  <a:pt x="337" y="39"/>
                </a:lnTo>
                <a:lnTo>
                  <a:pt x="277" y="72"/>
                </a:lnTo>
                <a:lnTo>
                  <a:pt x="211" y="112"/>
                </a:lnTo>
                <a:lnTo>
                  <a:pt x="158" y="158"/>
                </a:lnTo>
                <a:lnTo>
                  <a:pt x="112" y="211"/>
                </a:lnTo>
                <a:lnTo>
                  <a:pt x="72" y="271"/>
                </a:lnTo>
                <a:lnTo>
                  <a:pt x="39" y="337"/>
                </a:lnTo>
                <a:lnTo>
                  <a:pt x="19" y="403"/>
                </a:lnTo>
                <a:lnTo>
                  <a:pt x="6" y="476"/>
                </a:lnTo>
                <a:lnTo>
                  <a:pt x="0" y="550"/>
                </a:lnTo>
                <a:lnTo>
                  <a:pt x="6" y="622"/>
                </a:lnTo>
                <a:lnTo>
                  <a:pt x="19" y="688"/>
                </a:lnTo>
                <a:lnTo>
                  <a:pt x="39" y="761"/>
                </a:lnTo>
                <a:lnTo>
                  <a:pt x="72" y="821"/>
                </a:lnTo>
                <a:lnTo>
                  <a:pt x="112" y="880"/>
                </a:lnTo>
                <a:lnTo>
                  <a:pt x="158" y="933"/>
                </a:lnTo>
                <a:lnTo>
                  <a:pt x="211" y="986"/>
                </a:lnTo>
                <a:lnTo>
                  <a:pt x="277" y="1026"/>
                </a:lnTo>
                <a:lnTo>
                  <a:pt x="337" y="1052"/>
                </a:lnTo>
                <a:lnTo>
                  <a:pt x="410" y="1079"/>
                </a:lnTo>
                <a:lnTo>
                  <a:pt x="476" y="1092"/>
                </a:lnTo>
                <a:lnTo>
                  <a:pt x="550" y="1099"/>
                </a:lnTo>
                <a:lnTo>
                  <a:pt x="622" y="1092"/>
                </a:lnTo>
                <a:lnTo>
                  <a:pt x="688" y="1079"/>
                </a:lnTo>
                <a:lnTo>
                  <a:pt x="761" y="1052"/>
                </a:lnTo>
                <a:lnTo>
                  <a:pt x="821" y="1026"/>
                </a:lnTo>
                <a:lnTo>
                  <a:pt x="880" y="986"/>
                </a:lnTo>
                <a:lnTo>
                  <a:pt x="940" y="933"/>
                </a:lnTo>
                <a:lnTo>
                  <a:pt x="986" y="880"/>
                </a:lnTo>
                <a:lnTo>
                  <a:pt x="1026" y="821"/>
                </a:lnTo>
                <a:lnTo>
                  <a:pt x="1059" y="761"/>
                </a:lnTo>
                <a:lnTo>
                  <a:pt x="1079" y="688"/>
                </a:lnTo>
                <a:lnTo>
                  <a:pt x="1092" y="622"/>
                </a:lnTo>
                <a:lnTo>
                  <a:pt x="1099" y="55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"/>
          <p:cNvSpPr/>
          <p:nvPr/>
        </p:nvSpPr>
        <p:spPr>
          <a:xfrm>
            <a:off x="5637240" y="5362560"/>
            <a:ext cx="3952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"/>
          <p:cNvSpPr/>
          <p:nvPr/>
        </p:nvSpPr>
        <p:spPr>
          <a:xfrm>
            <a:off x="6705720" y="3618000"/>
            <a:ext cx="2365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"/>
          <p:cNvSpPr/>
          <p:nvPr/>
        </p:nvSpPr>
        <p:spPr>
          <a:xfrm flipH="1">
            <a:off x="6710400" y="4029120"/>
            <a:ext cx="226800" cy="22680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"/>
          <p:cNvSpPr/>
          <p:nvPr/>
        </p:nvSpPr>
        <p:spPr>
          <a:xfrm>
            <a:off x="6710400" y="4029120"/>
            <a:ext cx="226800" cy="22680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"/>
          <p:cNvSpPr/>
          <p:nvPr/>
        </p:nvSpPr>
        <p:spPr>
          <a:xfrm>
            <a:off x="6705720" y="4541760"/>
            <a:ext cx="889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"/>
          <p:cNvSpPr/>
          <p:nvPr/>
        </p:nvSpPr>
        <p:spPr>
          <a:xfrm flipH="1">
            <a:off x="5927760" y="3618000"/>
            <a:ext cx="6620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"/>
          <p:cNvSpPr/>
          <p:nvPr/>
        </p:nvSpPr>
        <p:spPr>
          <a:xfrm flipH="1">
            <a:off x="5532480" y="3618000"/>
            <a:ext cx="3380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"/>
          <p:cNvSpPr/>
          <p:nvPr/>
        </p:nvSpPr>
        <p:spPr>
          <a:xfrm>
            <a:off x="5834160" y="3552840"/>
            <a:ext cx="128880" cy="128880"/>
          </a:xfrm>
          <a:custGeom>
            <a:avLst/>
            <a:gdLst/>
            <a:ahLst/>
            <a:rect l="0" t="0" r="r" b="b"/>
            <a:pathLst>
              <a:path fill="none" w="358" h="358">
                <a:moveTo>
                  <a:pt x="358" y="178"/>
                </a:moveTo>
                <a:lnTo>
                  <a:pt x="358" y="138"/>
                </a:lnTo>
                <a:lnTo>
                  <a:pt x="344" y="105"/>
                </a:lnTo>
                <a:lnTo>
                  <a:pt x="318" y="66"/>
                </a:lnTo>
                <a:lnTo>
                  <a:pt x="292" y="39"/>
                </a:lnTo>
                <a:lnTo>
                  <a:pt x="258" y="19"/>
                </a:lnTo>
                <a:lnTo>
                  <a:pt x="219" y="6"/>
                </a:lnTo>
                <a:lnTo>
                  <a:pt x="178" y="0"/>
                </a:lnTo>
                <a:lnTo>
                  <a:pt x="138" y="6"/>
                </a:lnTo>
                <a:lnTo>
                  <a:pt x="105" y="19"/>
                </a:lnTo>
                <a:lnTo>
                  <a:pt x="72" y="39"/>
                </a:lnTo>
                <a:lnTo>
                  <a:pt x="39" y="66"/>
                </a:lnTo>
                <a:lnTo>
                  <a:pt x="19" y="105"/>
                </a:lnTo>
                <a:lnTo>
                  <a:pt x="6" y="138"/>
                </a:lnTo>
                <a:lnTo>
                  <a:pt x="0" y="178"/>
                </a:lnTo>
                <a:lnTo>
                  <a:pt x="6" y="219"/>
                </a:lnTo>
                <a:lnTo>
                  <a:pt x="19" y="258"/>
                </a:lnTo>
                <a:lnTo>
                  <a:pt x="39" y="292"/>
                </a:lnTo>
                <a:lnTo>
                  <a:pt x="72" y="318"/>
                </a:lnTo>
                <a:lnTo>
                  <a:pt x="105" y="344"/>
                </a:lnTo>
                <a:lnTo>
                  <a:pt x="138" y="358"/>
                </a:lnTo>
                <a:lnTo>
                  <a:pt x="178" y="358"/>
                </a:lnTo>
                <a:lnTo>
                  <a:pt x="219" y="358"/>
                </a:lnTo>
                <a:lnTo>
                  <a:pt x="258" y="344"/>
                </a:lnTo>
                <a:lnTo>
                  <a:pt x="292" y="318"/>
                </a:lnTo>
                <a:lnTo>
                  <a:pt x="318" y="292"/>
                </a:lnTo>
                <a:lnTo>
                  <a:pt x="344" y="258"/>
                </a:lnTo>
                <a:lnTo>
                  <a:pt x="358" y="219"/>
                </a:lnTo>
                <a:lnTo>
                  <a:pt x="358" y="178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"/>
          <p:cNvSpPr/>
          <p:nvPr/>
        </p:nvSpPr>
        <p:spPr>
          <a:xfrm flipV="1">
            <a:off x="5899320" y="3646440"/>
            <a:ext cx="0" cy="874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"/>
          <p:cNvSpPr/>
          <p:nvPr/>
        </p:nvSpPr>
        <p:spPr>
          <a:xfrm flipH="1">
            <a:off x="5880240" y="3618000"/>
            <a:ext cx="349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"/>
          <p:cNvSpPr/>
          <p:nvPr/>
        </p:nvSpPr>
        <p:spPr>
          <a:xfrm flipV="1">
            <a:off x="5899320" y="3598920"/>
            <a:ext cx="0" cy="349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"/>
          <p:cNvSpPr/>
          <p:nvPr/>
        </p:nvSpPr>
        <p:spPr>
          <a:xfrm>
            <a:off x="6824520" y="3852720"/>
            <a:ext cx="0" cy="66060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"/>
          <p:cNvSpPr/>
          <p:nvPr/>
        </p:nvSpPr>
        <p:spPr>
          <a:xfrm>
            <a:off x="6824520" y="4570560"/>
            <a:ext cx="0" cy="338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"/>
          <p:cNvSpPr/>
          <p:nvPr/>
        </p:nvSpPr>
        <p:spPr>
          <a:xfrm>
            <a:off x="6761160" y="4476600"/>
            <a:ext cx="128880" cy="128880"/>
          </a:xfrm>
          <a:custGeom>
            <a:avLst/>
            <a:gdLst/>
            <a:ahLst/>
            <a:rect l="0" t="0" r="r" b="b"/>
            <a:pathLst>
              <a:path fill="none" w="358" h="358">
                <a:moveTo>
                  <a:pt x="358" y="178"/>
                </a:moveTo>
                <a:lnTo>
                  <a:pt x="351" y="138"/>
                </a:lnTo>
                <a:lnTo>
                  <a:pt x="338" y="105"/>
                </a:lnTo>
                <a:lnTo>
                  <a:pt x="318" y="66"/>
                </a:lnTo>
                <a:lnTo>
                  <a:pt x="285" y="39"/>
                </a:lnTo>
                <a:lnTo>
                  <a:pt x="252" y="19"/>
                </a:lnTo>
                <a:lnTo>
                  <a:pt x="219" y="6"/>
                </a:lnTo>
                <a:lnTo>
                  <a:pt x="178" y="0"/>
                </a:lnTo>
                <a:lnTo>
                  <a:pt x="138" y="6"/>
                </a:lnTo>
                <a:lnTo>
                  <a:pt x="99" y="19"/>
                </a:lnTo>
                <a:lnTo>
                  <a:pt x="66" y="39"/>
                </a:lnTo>
                <a:lnTo>
                  <a:pt x="39" y="66"/>
                </a:lnTo>
                <a:lnTo>
                  <a:pt x="13" y="105"/>
                </a:lnTo>
                <a:lnTo>
                  <a:pt x="0" y="138"/>
                </a:lnTo>
                <a:lnTo>
                  <a:pt x="0" y="178"/>
                </a:lnTo>
                <a:lnTo>
                  <a:pt x="0" y="219"/>
                </a:lnTo>
                <a:lnTo>
                  <a:pt x="13" y="258"/>
                </a:lnTo>
                <a:lnTo>
                  <a:pt x="39" y="292"/>
                </a:lnTo>
                <a:lnTo>
                  <a:pt x="66" y="318"/>
                </a:lnTo>
                <a:lnTo>
                  <a:pt x="99" y="338"/>
                </a:lnTo>
                <a:lnTo>
                  <a:pt x="138" y="351"/>
                </a:lnTo>
                <a:lnTo>
                  <a:pt x="178" y="358"/>
                </a:lnTo>
                <a:lnTo>
                  <a:pt x="219" y="351"/>
                </a:lnTo>
                <a:lnTo>
                  <a:pt x="252" y="338"/>
                </a:lnTo>
                <a:lnTo>
                  <a:pt x="285" y="318"/>
                </a:lnTo>
                <a:lnTo>
                  <a:pt x="318" y="292"/>
                </a:lnTo>
                <a:lnTo>
                  <a:pt x="338" y="258"/>
                </a:lnTo>
                <a:lnTo>
                  <a:pt x="351" y="219"/>
                </a:lnTo>
                <a:lnTo>
                  <a:pt x="358" y="178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"/>
          <p:cNvSpPr/>
          <p:nvPr/>
        </p:nvSpPr>
        <p:spPr>
          <a:xfrm flipV="1">
            <a:off x="6824520" y="4424400"/>
            <a:ext cx="0" cy="889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"/>
          <p:cNvSpPr/>
          <p:nvPr/>
        </p:nvSpPr>
        <p:spPr>
          <a:xfrm flipV="1">
            <a:off x="6824520" y="4570560"/>
            <a:ext cx="0" cy="871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"/>
          <p:cNvSpPr/>
          <p:nvPr/>
        </p:nvSpPr>
        <p:spPr>
          <a:xfrm>
            <a:off x="6851520" y="4541760"/>
            <a:ext cx="907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>
            <a:off x="6808680" y="4541760"/>
            <a:ext cx="334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"/>
          <p:cNvSpPr/>
          <p:nvPr/>
        </p:nvSpPr>
        <p:spPr>
          <a:xfrm flipV="1">
            <a:off x="6824520" y="4524480"/>
            <a:ext cx="0" cy="363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"/>
          <p:cNvSpPr/>
          <p:nvPr/>
        </p:nvSpPr>
        <p:spPr>
          <a:xfrm flipV="1">
            <a:off x="6824520" y="4527720"/>
            <a:ext cx="0" cy="298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"/>
          <p:cNvSpPr/>
          <p:nvPr/>
        </p:nvSpPr>
        <p:spPr>
          <a:xfrm>
            <a:off x="7058160" y="3618000"/>
            <a:ext cx="66024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"/>
          <p:cNvSpPr/>
          <p:nvPr/>
        </p:nvSpPr>
        <p:spPr>
          <a:xfrm>
            <a:off x="7684920" y="3552840"/>
            <a:ext cx="128880" cy="128880"/>
          </a:xfrm>
          <a:custGeom>
            <a:avLst/>
            <a:gdLst/>
            <a:ahLst/>
            <a:rect l="0" t="0" r="r" b="b"/>
            <a:pathLst>
              <a:path fill="none" w="358" h="358">
                <a:moveTo>
                  <a:pt x="358" y="178"/>
                </a:moveTo>
                <a:lnTo>
                  <a:pt x="351" y="138"/>
                </a:lnTo>
                <a:lnTo>
                  <a:pt x="338" y="105"/>
                </a:lnTo>
                <a:lnTo>
                  <a:pt x="318" y="66"/>
                </a:lnTo>
                <a:lnTo>
                  <a:pt x="292" y="39"/>
                </a:lnTo>
                <a:lnTo>
                  <a:pt x="258" y="19"/>
                </a:lnTo>
                <a:lnTo>
                  <a:pt x="219" y="6"/>
                </a:lnTo>
                <a:lnTo>
                  <a:pt x="178" y="0"/>
                </a:lnTo>
                <a:lnTo>
                  <a:pt x="138" y="6"/>
                </a:lnTo>
                <a:lnTo>
                  <a:pt x="99" y="19"/>
                </a:lnTo>
                <a:lnTo>
                  <a:pt x="66" y="39"/>
                </a:lnTo>
                <a:lnTo>
                  <a:pt x="39" y="66"/>
                </a:lnTo>
                <a:lnTo>
                  <a:pt x="19" y="105"/>
                </a:lnTo>
                <a:lnTo>
                  <a:pt x="6" y="138"/>
                </a:lnTo>
                <a:lnTo>
                  <a:pt x="0" y="178"/>
                </a:lnTo>
                <a:lnTo>
                  <a:pt x="6" y="219"/>
                </a:lnTo>
                <a:lnTo>
                  <a:pt x="19" y="258"/>
                </a:lnTo>
                <a:lnTo>
                  <a:pt x="39" y="292"/>
                </a:lnTo>
                <a:lnTo>
                  <a:pt x="66" y="318"/>
                </a:lnTo>
                <a:lnTo>
                  <a:pt x="99" y="344"/>
                </a:lnTo>
                <a:lnTo>
                  <a:pt x="138" y="358"/>
                </a:lnTo>
                <a:lnTo>
                  <a:pt x="178" y="358"/>
                </a:lnTo>
                <a:lnTo>
                  <a:pt x="219" y="358"/>
                </a:lnTo>
                <a:lnTo>
                  <a:pt x="258" y="344"/>
                </a:lnTo>
                <a:lnTo>
                  <a:pt x="292" y="318"/>
                </a:lnTo>
                <a:lnTo>
                  <a:pt x="318" y="292"/>
                </a:lnTo>
                <a:lnTo>
                  <a:pt x="338" y="258"/>
                </a:lnTo>
                <a:lnTo>
                  <a:pt x="351" y="219"/>
                </a:lnTo>
                <a:lnTo>
                  <a:pt x="358" y="178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"/>
          <p:cNvSpPr/>
          <p:nvPr/>
        </p:nvSpPr>
        <p:spPr>
          <a:xfrm>
            <a:off x="7632720" y="3618000"/>
            <a:ext cx="856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"/>
          <p:cNvSpPr/>
          <p:nvPr/>
        </p:nvSpPr>
        <p:spPr>
          <a:xfrm>
            <a:off x="7777080" y="3618000"/>
            <a:ext cx="889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"/>
          <p:cNvSpPr/>
          <p:nvPr/>
        </p:nvSpPr>
        <p:spPr>
          <a:xfrm flipV="1">
            <a:off x="7748640" y="3646440"/>
            <a:ext cx="0" cy="874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4" name=""/>
          <p:cNvSpPr/>
          <p:nvPr/>
        </p:nvSpPr>
        <p:spPr>
          <a:xfrm>
            <a:off x="7729560" y="3618000"/>
            <a:ext cx="363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"/>
          <p:cNvSpPr/>
          <p:nvPr/>
        </p:nvSpPr>
        <p:spPr>
          <a:xfrm>
            <a:off x="7729560" y="3618000"/>
            <a:ext cx="3636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6" name=""/>
          <p:cNvSpPr/>
          <p:nvPr/>
        </p:nvSpPr>
        <p:spPr>
          <a:xfrm flipV="1">
            <a:off x="7748640" y="3598920"/>
            <a:ext cx="0" cy="349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"/>
          <p:cNvSpPr/>
          <p:nvPr/>
        </p:nvSpPr>
        <p:spPr>
          <a:xfrm>
            <a:off x="7918560" y="2098800"/>
            <a:ext cx="395640" cy="392400"/>
          </a:xfrm>
          <a:custGeom>
            <a:avLst/>
            <a:gdLst/>
            <a:ahLst/>
            <a:rect l="0" t="0" r="r" b="b"/>
            <a:pathLst>
              <a:path fill="none" w="1099" h="1090">
                <a:moveTo>
                  <a:pt x="1099" y="548"/>
                </a:moveTo>
                <a:lnTo>
                  <a:pt x="1092" y="475"/>
                </a:lnTo>
                <a:lnTo>
                  <a:pt x="1079" y="402"/>
                </a:lnTo>
                <a:lnTo>
                  <a:pt x="1059" y="336"/>
                </a:lnTo>
                <a:lnTo>
                  <a:pt x="1026" y="270"/>
                </a:lnTo>
                <a:lnTo>
                  <a:pt x="986" y="211"/>
                </a:lnTo>
                <a:lnTo>
                  <a:pt x="940" y="158"/>
                </a:lnTo>
                <a:lnTo>
                  <a:pt x="880" y="112"/>
                </a:lnTo>
                <a:lnTo>
                  <a:pt x="821" y="72"/>
                </a:lnTo>
                <a:lnTo>
                  <a:pt x="761" y="39"/>
                </a:lnTo>
                <a:lnTo>
                  <a:pt x="695" y="19"/>
                </a:lnTo>
                <a:lnTo>
                  <a:pt x="622" y="0"/>
                </a:lnTo>
                <a:lnTo>
                  <a:pt x="550" y="0"/>
                </a:lnTo>
                <a:lnTo>
                  <a:pt x="476" y="0"/>
                </a:lnTo>
                <a:lnTo>
                  <a:pt x="410" y="19"/>
                </a:lnTo>
                <a:lnTo>
                  <a:pt x="337" y="39"/>
                </a:lnTo>
                <a:lnTo>
                  <a:pt x="277" y="72"/>
                </a:lnTo>
                <a:lnTo>
                  <a:pt x="218" y="112"/>
                </a:lnTo>
                <a:lnTo>
                  <a:pt x="158" y="158"/>
                </a:lnTo>
                <a:lnTo>
                  <a:pt x="112" y="211"/>
                </a:lnTo>
                <a:lnTo>
                  <a:pt x="72" y="270"/>
                </a:lnTo>
                <a:lnTo>
                  <a:pt x="39" y="336"/>
                </a:lnTo>
                <a:lnTo>
                  <a:pt x="19" y="402"/>
                </a:lnTo>
                <a:lnTo>
                  <a:pt x="6" y="475"/>
                </a:lnTo>
                <a:lnTo>
                  <a:pt x="0" y="548"/>
                </a:lnTo>
                <a:lnTo>
                  <a:pt x="6" y="614"/>
                </a:lnTo>
                <a:lnTo>
                  <a:pt x="19" y="687"/>
                </a:lnTo>
                <a:lnTo>
                  <a:pt x="39" y="753"/>
                </a:lnTo>
                <a:lnTo>
                  <a:pt x="72" y="819"/>
                </a:lnTo>
                <a:lnTo>
                  <a:pt x="112" y="878"/>
                </a:lnTo>
                <a:lnTo>
                  <a:pt x="158" y="931"/>
                </a:lnTo>
                <a:lnTo>
                  <a:pt x="218" y="977"/>
                </a:lnTo>
                <a:lnTo>
                  <a:pt x="277" y="1017"/>
                </a:lnTo>
                <a:lnTo>
                  <a:pt x="337" y="1050"/>
                </a:lnTo>
                <a:lnTo>
                  <a:pt x="410" y="1076"/>
                </a:lnTo>
                <a:lnTo>
                  <a:pt x="476" y="1090"/>
                </a:lnTo>
                <a:lnTo>
                  <a:pt x="550" y="1090"/>
                </a:lnTo>
                <a:lnTo>
                  <a:pt x="622" y="1090"/>
                </a:lnTo>
                <a:lnTo>
                  <a:pt x="695" y="1076"/>
                </a:lnTo>
                <a:lnTo>
                  <a:pt x="761" y="1050"/>
                </a:lnTo>
                <a:lnTo>
                  <a:pt x="821" y="1017"/>
                </a:lnTo>
                <a:lnTo>
                  <a:pt x="880" y="977"/>
                </a:lnTo>
                <a:lnTo>
                  <a:pt x="940" y="931"/>
                </a:lnTo>
                <a:lnTo>
                  <a:pt x="986" y="878"/>
                </a:lnTo>
                <a:lnTo>
                  <a:pt x="1026" y="819"/>
                </a:lnTo>
                <a:lnTo>
                  <a:pt x="1059" y="753"/>
                </a:lnTo>
                <a:lnTo>
                  <a:pt x="1079" y="687"/>
                </a:lnTo>
                <a:lnTo>
                  <a:pt x="1092" y="614"/>
                </a:lnTo>
                <a:lnTo>
                  <a:pt x="1099" y="548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"/>
          <p:cNvSpPr/>
          <p:nvPr/>
        </p:nvSpPr>
        <p:spPr>
          <a:xfrm>
            <a:off x="7918560" y="2295360"/>
            <a:ext cx="3952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"/>
          <p:cNvSpPr/>
          <p:nvPr/>
        </p:nvSpPr>
        <p:spPr>
          <a:xfrm>
            <a:off x="6705720" y="2693880"/>
            <a:ext cx="889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"/>
          <p:cNvSpPr/>
          <p:nvPr/>
        </p:nvSpPr>
        <p:spPr>
          <a:xfrm flipH="1" flipV="1">
            <a:off x="5904000" y="2352600"/>
            <a:ext cx="496800" cy="8272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"/>
          <p:cNvSpPr/>
          <p:nvPr/>
        </p:nvSpPr>
        <p:spPr>
          <a:xfrm>
            <a:off x="6415200" y="3129120"/>
            <a:ext cx="0" cy="31896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"/>
          <p:cNvSpPr/>
          <p:nvPr/>
        </p:nvSpPr>
        <p:spPr>
          <a:xfrm>
            <a:off x="6256440" y="3289320"/>
            <a:ext cx="318960" cy="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"/>
          <p:cNvSpPr/>
          <p:nvPr/>
        </p:nvSpPr>
        <p:spPr>
          <a:xfrm>
            <a:off x="6010200" y="1981080"/>
            <a:ext cx="394200" cy="395640"/>
          </a:xfrm>
          <a:custGeom>
            <a:avLst/>
            <a:gdLst/>
            <a:ahLst/>
            <a:rect l="0" t="0" r="r" b="b"/>
            <a:pathLst>
              <a:path fill="none" w="1095" h="1099">
                <a:moveTo>
                  <a:pt x="0" y="550"/>
                </a:moveTo>
                <a:lnTo>
                  <a:pt x="1095" y="550"/>
                </a:lnTo>
                <a:lnTo>
                  <a:pt x="1095" y="476"/>
                </a:lnTo>
                <a:lnTo>
                  <a:pt x="1082" y="403"/>
                </a:lnTo>
                <a:lnTo>
                  <a:pt x="1055" y="337"/>
                </a:lnTo>
                <a:lnTo>
                  <a:pt x="1022" y="271"/>
                </a:lnTo>
                <a:lnTo>
                  <a:pt x="982" y="211"/>
                </a:lnTo>
                <a:lnTo>
                  <a:pt x="936" y="158"/>
                </a:lnTo>
                <a:lnTo>
                  <a:pt x="883" y="112"/>
                </a:lnTo>
                <a:lnTo>
                  <a:pt x="823" y="72"/>
                </a:lnTo>
                <a:lnTo>
                  <a:pt x="756" y="39"/>
                </a:lnTo>
                <a:lnTo>
                  <a:pt x="690" y="19"/>
                </a:lnTo>
                <a:lnTo>
                  <a:pt x="617" y="6"/>
                </a:lnTo>
                <a:lnTo>
                  <a:pt x="544" y="0"/>
                </a:lnTo>
                <a:lnTo>
                  <a:pt x="478" y="6"/>
                </a:lnTo>
                <a:lnTo>
                  <a:pt x="405" y="19"/>
                </a:lnTo>
                <a:lnTo>
                  <a:pt x="339" y="39"/>
                </a:lnTo>
                <a:lnTo>
                  <a:pt x="271" y="72"/>
                </a:lnTo>
                <a:lnTo>
                  <a:pt x="212" y="112"/>
                </a:lnTo>
                <a:lnTo>
                  <a:pt x="159" y="158"/>
                </a:lnTo>
                <a:lnTo>
                  <a:pt x="112" y="211"/>
                </a:lnTo>
                <a:lnTo>
                  <a:pt x="72" y="271"/>
                </a:lnTo>
                <a:lnTo>
                  <a:pt x="39" y="337"/>
                </a:lnTo>
                <a:lnTo>
                  <a:pt x="13" y="403"/>
                </a:lnTo>
                <a:lnTo>
                  <a:pt x="0" y="476"/>
                </a:lnTo>
                <a:lnTo>
                  <a:pt x="0" y="550"/>
                </a:lnTo>
                <a:lnTo>
                  <a:pt x="0" y="622"/>
                </a:lnTo>
                <a:lnTo>
                  <a:pt x="13" y="688"/>
                </a:lnTo>
                <a:lnTo>
                  <a:pt x="39" y="761"/>
                </a:lnTo>
                <a:lnTo>
                  <a:pt x="72" y="821"/>
                </a:lnTo>
                <a:lnTo>
                  <a:pt x="112" y="880"/>
                </a:lnTo>
                <a:lnTo>
                  <a:pt x="159" y="933"/>
                </a:lnTo>
                <a:lnTo>
                  <a:pt x="212" y="986"/>
                </a:lnTo>
                <a:lnTo>
                  <a:pt x="271" y="1026"/>
                </a:lnTo>
                <a:lnTo>
                  <a:pt x="339" y="1052"/>
                </a:lnTo>
                <a:lnTo>
                  <a:pt x="405" y="1079"/>
                </a:lnTo>
                <a:lnTo>
                  <a:pt x="478" y="1092"/>
                </a:lnTo>
                <a:lnTo>
                  <a:pt x="544" y="1099"/>
                </a:lnTo>
                <a:lnTo>
                  <a:pt x="617" y="1092"/>
                </a:lnTo>
                <a:lnTo>
                  <a:pt x="690" y="1079"/>
                </a:lnTo>
                <a:lnTo>
                  <a:pt x="756" y="1052"/>
                </a:lnTo>
                <a:lnTo>
                  <a:pt x="823" y="1026"/>
                </a:lnTo>
                <a:lnTo>
                  <a:pt x="883" y="986"/>
                </a:lnTo>
                <a:lnTo>
                  <a:pt x="936" y="933"/>
                </a:lnTo>
                <a:lnTo>
                  <a:pt x="982" y="880"/>
                </a:lnTo>
                <a:lnTo>
                  <a:pt x="1022" y="821"/>
                </a:lnTo>
                <a:lnTo>
                  <a:pt x="1055" y="761"/>
                </a:lnTo>
                <a:lnTo>
                  <a:pt x="1082" y="688"/>
                </a:lnTo>
                <a:lnTo>
                  <a:pt x="1095" y="622"/>
                </a:lnTo>
                <a:lnTo>
                  <a:pt x="1095" y="55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"/>
          <p:cNvSpPr/>
          <p:nvPr/>
        </p:nvSpPr>
        <p:spPr>
          <a:xfrm>
            <a:off x="5614920" y="1981080"/>
            <a:ext cx="395640" cy="395640"/>
          </a:xfrm>
          <a:custGeom>
            <a:avLst/>
            <a:gdLst/>
            <a:ahLst/>
            <a:rect l="0" t="0" r="r" b="b"/>
            <a:pathLst>
              <a:path fill="none" w="1099" h="1099">
                <a:moveTo>
                  <a:pt x="1099" y="550"/>
                </a:moveTo>
                <a:lnTo>
                  <a:pt x="1092" y="476"/>
                </a:lnTo>
                <a:lnTo>
                  <a:pt x="1079" y="403"/>
                </a:lnTo>
                <a:lnTo>
                  <a:pt x="1052" y="337"/>
                </a:lnTo>
                <a:lnTo>
                  <a:pt x="1026" y="271"/>
                </a:lnTo>
                <a:lnTo>
                  <a:pt x="979" y="211"/>
                </a:lnTo>
                <a:lnTo>
                  <a:pt x="933" y="158"/>
                </a:lnTo>
                <a:lnTo>
                  <a:pt x="880" y="112"/>
                </a:lnTo>
                <a:lnTo>
                  <a:pt x="821" y="72"/>
                </a:lnTo>
                <a:lnTo>
                  <a:pt x="755" y="39"/>
                </a:lnTo>
                <a:lnTo>
                  <a:pt x="688" y="19"/>
                </a:lnTo>
                <a:lnTo>
                  <a:pt x="616" y="6"/>
                </a:lnTo>
                <a:lnTo>
                  <a:pt x="550" y="0"/>
                </a:lnTo>
                <a:lnTo>
                  <a:pt x="476" y="6"/>
                </a:lnTo>
                <a:lnTo>
                  <a:pt x="403" y="19"/>
                </a:lnTo>
                <a:lnTo>
                  <a:pt x="337" y="39"/>
                </a:lnTo>
                <a:lnTo>
                  <a:pt x="271" y="72"/>
                </a:lnTo>
                <a:lnTo>
                  <a:pt x="211" y="112"/>
                </a:lnTo>
                <a:lnTo>
                  <a:pt x="158" y="158"/>
                </a:lnTo>
                <a:lnTo>
                  <a:pt x="112" y="211"/>
                </a:lnTo>
                <a:lnTo>
                  <a:pt x="72" y="271"/>
                </a:lnTo>
                <a:lnTo>
                  <a:pt x="39" y="337"/>
                </a:lnTo>
                <a:lnTo>
                  <a:pt x="19" y="403"/>
                </a:lnTo>
                <a:lnTo>
                  <a:pt x="0" y="476"/>
                </a:lnTo>
                <a:lnTo>
                  <a:pt x="0" y="550"/>
                </a:lnTo>
                <a:lnTo>
                  <a:pt x="0" y="622"/>
                </a:lnTo>
                <a:lnTo>
                  <a:pt x="19" y="688"/>
                </a:lnTo>
                <a:lnTo>
                  <a:pt x="39" y="761"/>
                </a:lnTo>
                <a:lnTo>
                  <a:pt x="72" y="821"/>
                </a:lnTo>
                <a:lnTo>
                  <a:pt x="112" y="880"/>
                </a:lnTo>
                <a:lnTo>
                  <a:pt x="158" y="933"/>
                </a:lnTo>
                <a:lnTo>
                  <a:pt x="211" y="986"/>
                </a:lnTo>
                <a:lnTo>
                  <a:pt x="271" y="1026"/>
                </a:lnTo>
                <a:lnTo>
                  <a:pt x="337" y="1052"/>
                </a:lnTo>
                <a:lnTo>
                  <a:pt x="403" y="1079"/>
                </a:lnTo>
                <a:lnTo>
                  <a:pt x="476" y="1092"/>
                </a:lnTo>
                <a:lnTo>
                  <a:pt x="550" y="1099"/>
                </a:lnTo>
                <a:lnTo>
                  <a:pt x="616" y="1092"/>
                </a:lnTo>
                <a:lnTo>
                  <a:pt x="688" y="1079"/>
                </a:lnTo>
                <a:lnTo>
                  <a:pt x="755" y="1052"/>
                </a:lnTo>
                <a:lnTo>
                  <a:pt x="821" y="1026"/>
                </a:lnTo>
                <a:lnTo>
                  <a:pt x="880" y="986"/>
                </a:lnTo>
                <a:lnTo>
                  <a:pt x="933" y="933"/>
                </a:lnTo>
                <a:lnTo>
                  <a:pt x="979" y="880"/>
                </a:lnTo>
                <a:lnTo>
                  <a:pt x="1026" y="821"/>
                </a:lnTo>
                <a:lnTo>
                  <a:pt x="1052" y="761"/>
                </a:lnTo>
                <a:lnTo>
                  <a:pt x="1079" y="688"/>
                </a:lnTo>
                <a:lnTo>
                  <a:pt x="1092" y="622"/>
                </a:lnTo>
                <a:lnTo>
                  <a:pt x="1099" y="550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"/>
          <p:cNvSpPr/>
          <p:nvPr/>
        </p:nvSpPr>
        <p:spPr>
          <a:xfrm>
            <a:off x="5614920" y="2179800"/>
            <a:ext cx="3952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"/>
          <p:cNvSpPr/>
          <p:nvPr/>
        </p:nvSpPr>
        <p:spPr>
          <a:xfrm flipV="1">
            <a:off x="7246800" y="2475000"/>
            <a:ext cx="390600" cy="6872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"/>
          <p:cNvSpPr/>
          <p:nvPr/>
        </p:nvSpPr>
        <p:spPr>
          <a:xfrm>
            <a:off x="6761160" y="2628720"/>
            <a:ext cx="128880" cy="128880"/>
          </a:xfrm>
          <a:custGeom>
            <a:avLst/>
            <a:gdLst/>
            <a:ahLst/>
            <a:rect l="0" t="0" r="r" b="b"/>
            <a:pathLst>
              <a:path fill="none" w="358" h="358">
                <a:moveTo>
                  <a:pt x="358" y="178"/>
                </a:moveTo>
                <a:lnTo>
                  <a:pt x="351" y="138"/>
                </a:lnTo>
                <a:lnTo>
                  <a:pt x="338" y="105"/>
                </a:lnTo>
                <a:lnTo>
                  <a:pt x="318" y="66"/>
                </a:lnTo>
                <a:lnTo>
                  <a:pt x="285" y="39"/>
                </a:lnTo>
                <a:lnTo>
                  <a:pt x="252" y="19"/>
                </a:lnTo>
                <a:lnTo>
                  <a:pt x="219" y="6"/>
                </a:lnTo>
                <a:lnTo>
                  <a:pt x="178" y="0"/>
                </a:lnTo>
                <a:lnTo>
                  <a:pt x="138" y="6"/>
                </a:lnTo>
                <a:lnTo>
                  <a:pt x="99" y="19"/>
                </a:lnTo>
                <a:lnTo>
                  <a:pt x="66" y="39"/>
                </a:lnTo>
                <a:lnTo>
                  <a:pt x="39" y="66"/>
                </a:lnTo>
                <a:lnTo>
                  <a:pt x="13" y="105"/>
                </a:lnTo>
                <a:lnTo>
                  <a:pt x="0" y="138"/>
                </a:lnTo>
                <a:lnTo>
                  <a:pt x="0" y="178"/>
                </a:lnTo>
                <a:lnTo>
                  <a:pt x="0" y="219"/>
                </a:lnTo>
                <a:lnTo>
                  <a:pt x="13" y="258"/>
                </a:lnTo>
                <a:lnTo>
                  <a:pt x="39" y="292"/>
                </a:lnTo>
                <a:lnTo>
                  <a:pt x="66" y="318"/>
                </a:lnTo>
                <a:lnTo>
                  <a:pt x="99" y="344"/>
                </a:lnTo>
                <a:lnTo>
                  <a:pt x="138" y="358"/>
                </a:lnTo>
                <a:lnTo>
                  <a:pt x="178" y="358"/>
                </a:lnTo>
                <a:lnTo>
                  <a:pt x="219" y="358"/>
                </a:lnTo>
                <a:lnTo>
                  <a:pt x="252" y="344"/>
                </a:lnTo>
                <a:lnTo>
                  <a:pt x="285" y="318"/>
                </a:lnTo>
                <a:lnTo>
                  <a:pt x="318" y="292"/>
                </a:lnTo>
                <a:lnTo>
                  <a:pt x="338" y="258"/>
                </a:lnTo>
                <a:lnTo>
                  <a:pt x="351" y="219"/>
                </a:lnTo>
                <a:lnTo>
                  <a:pt x="358" y="178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"/>
          <p:cNvSpPr/>
          <p:nvPr/>
        </p:nvSpPr>
        <p:spPr>
          <a:xfrm flipV="1">
            <a:off x="6824520" y="2676600"/>
            <a:ext cx="0" cy="3636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"/>
          <p:cNvSpPr/>
          <p:nvPr/>
        </p:nvSpPr>
        <p:spPr>
          <a:xfrm flipV="1">
            <a:off x="6824520" y="2679840"/>
            <a:ext cx="0" cy="2988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"/>
          <p:cNvSpPr/>
          <p:nvPr/>
        </p:nvSpPr>
        <p:spPr>
          <a:xfrm flipV="1">
            <a:off x="6824520" y="2722680"/>
            <a:ext cx="0" cy="662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"/>
          <p:cNvSpPr/>
          <p:nvPr/>
        </p:nvSpPr>
        <p:spPr>
          <a:xfrm>
            <a:off x="7232760" y="3129120"/>
            <a:ext cx="0" cy="31896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"/>
          <p:cNvSpPr/>
          <p:nvPr/>
        </p:nvSpPr>
        <p:spPr>
          <a:xfrm>
            <a:off x="7072200" y="3289320"/>
            <a:ext cx="319320" cy="0"/>
          </a:xfrm>
          <a:prstGeom prst="line">
            <a:avLst/>
          </a:prstGeom>
          <a:ln w="2556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"/>
          <p:cNvSpPr/>
          <p:nvPr/>
        </p:nvSpPr>
        <p:spPr>
          <a:xfrm>
            <a:off x="6851520" y="2693880"/>
            <a:ext cx="9072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"/>
          <p:cNvSpPr/>
          <p:nvPr/>
        </p:nvSpPr>
        <p:spPr>
          <a:xfrm flipV="1">
            <a:off x="6824520" y="2722680"/>
            <a:ext cx="0" cy="871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"/>
          <p:cNvSpPr/>
          <p:nvPr/>
        </p:nvSpPr>
        <p:spPr>
          <a:xfrm>
            <a:off x="6808680" y="2693880"/>
            <a:ext cx="334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"/>
          <p:cNvSpPr/>
          <p:nvPr/>
        </p:nvSpPr>
        <p:spPr>
          <a:xfrm flipV="1">
            <a:off x="6824520" y="2576520"/>
            <a:ext cx="0" cy="8892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"/>
          <p:cNvSpPr/>
          <p:nvPr/>
        </p:nvSpPr>
        <p:spPr>
          <a:xfrm flipV="1">
            <a:off x="6824520" y="2327400"/>
            <a:ext cx="0" cy="33804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"/>
          <p:cNvSpPr/>
          <p:nvPr/>
        </p:nvSpPr>
        <p:spPr>
          <a:xfrm>
            <a:off x="7523280" y="2098800"/>
            <a:ext cx="395640" cy="392400"/>
          </a:xfrm>
          <a:custGeom>
            <a:avLst/>
            <a:gdLst/>
            <a:ahLst/>
            <a:rect l="0" t="0" r="r" b="b"/>
            <a:pathLst>
              <a:path fill="none" w="1099" h="1090">
                <a:moveTo>
                  <a:pt x="1099" y="548"/>
                </a:moveTo>
                <a:lnTo>
                  <a:pt x="1092" y="475"/>
                </a:lnTo>
                <a:lnTo>
                  <a:pt x="1079" y="402"/>
                </a:lnTo>
                <a:lnTo>
                  <a:pt x="1059" y="336"/>
                </a:lnTo>
                <a:lnTo>
                  <a:pt x="1026" y="270"/>
                </a:lnTo>
                <a:lnTo>
                  <a:pt x="986" y="211"/>
                </a:lnTo>
                <a:lnTo>
                  <a:pt x="940" y="158"/>
                </a:lnTo>
                <a:lnTo>
                  <a:pt x="887" y="112"/>
                </a:lnTo>
                <a:lnTo>
                  <a:pt x="827" y="72"/>
                </a:lnTo>
                <a:lnTo>
                  <a:pt x="761" y="39"/>
                </a:lnTo>
                <a:lnTo>
                  <a:pt x="695" y="19"/>
                </a:lnTo>
                <a:lnTo>
                  <a:pt x="622" y="0"/>
                </a:lnTo>
                <a:lnTo>
                  <a:pt x="550" y="0"/>
                </a:lnTo>
                <a:lnTo>
                  <a:pt x="476" y="0"/>
                </a:lnTo>
                <a:lnTo>
                  <a:pt x="410" y="19"/>
                </a:lnTo>
                <a:lnTo>
                  <a:pt x="343" y="39"/>
                </a:lnTo>
                <a:lnTo>
                  <a:pt x="277" y="72"/>
                </a:lnTo>
                <a:lnTo>
                  <a:pt x="218" y="112"/>
                </a:lnTo>
                <a:lnTo>
                  <a:pt x="165" y="158"/>
                </a:lnTo>
                <a:lnTo>
                  <a:pt x="119" y="211"/>
                </a:lnTo>
                <a:lnTo>
                  <a:pt x="72" y="270"/>
                </a:lnTo>
                <a:lnTo>
                  <a:pt x="46" y="336"/>
                </a:lnTo>
                <a:lnTo>
                  <a:pt x="19" y="402"/>
                </a:lnTo>
                <a:lnTo>
                  <a:pt x="6" y="475"/>
                </a:lnTo>
                <a:lnTo>
                  <a:pt x="0" y="548"/>
                </a:lnTo>
                <a:lnTo>
                  <a:pt x="6" y="614"/>
                </a:lnTo>
                <a:lnTo>
                  <a:pt x="19" y="687"/>
                </a:lnTo>
                <a:lnTo>
                  <a:pt x="46" y="753"/>
                </a:lnTo>
                <a:lnTo>
                  <a:pt x="72" y="819"/>
                </a:lnTo>
                <a:lnTo>
                  <a:pt x="119" y="878"/>
                </a:lnTo>
                <a:lnTo>
                  <a:pt x="165" y="931"/>
                </a:lnTo>
                <a:lnTo>
                  <a:pt x="218" y="977"/>
                </a:lnTo>
                <a:lnTo>
                  <a:pt x="277" y="1017"/>
                </a:lnTo>
                <a:lnTo>
                  <a:pt x="343" y="1050"/>
                </a:lnTo>
                <a:lnTo>
                  <a:pt x="410" y="1076"/>
                </a:lnTo>
                <a:lnTo>
                  <a:pt x="476" y="1090"/>
                </a:lnTo>
                <a:lnTo>
                  <a:pt x="550" y="1090"/>
                </a:lnTo>
                <a:lnTo>
                  <a:pt x="622" y="1090"/>
                </a:lnTo>
                <a:lnTo>
                  <a:pt x="695" y="1076"/>
                </a:lnTo>
                <a:lnTo>
                  <a:pt x="761" y="1050"/>
                </a:lnTo>
                <a:lnTo>
                  <a:pt x="827" y="1017"/>
                </a:lnTo>
                <a:lnTo>
                  <a:pt x="887" y="977"/>
                </a:lnTo>
                <a:lnTo>
                  <a:pt x="940" y="931"/>
                </a:lnTo>
                <a:lnTo>
                  <a:pt x="986" y="878"/>
                </a:lnTo>
                <a:lnTo>
                  <a:pt x="1026" y="819"/>
                </a:lnTo>
                <a:lnTo>
                  <a:pt x="1059" y="753"/>
                </a:lnTo>
                <a:lnTo>
                  <a:pt x="1079" y="687"/>
                </a:lnTo>
                <a:lnTo>
                  <a:pt x="1092" y="614"/>
                </a:lnTo>
                <a:lnTo>
                  <a:pt x="1099" y="548"/>
                </a:lnTo>
              </a:path>
            </a:pathLst>
          </a:custGeom>
          <a:ln w="12600">
            <a:solidFill>
              <a:srgbClr val="f2fefd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"/>
          <p:cNvSpPr/>
          <p:nvPr/>
        </p:nvSpPr>
        <p:spPr>
          <a:xfrm>
            <a:off x="7523280" y="2295360"/>
            <a:ext cx="395280" cy="0"/>
          </a:xfrm>
          <a:prstGeom prst="line">
            <a:avLst/>
          </a:prstGeom>
          <a:ln w="12600">
            <a:solidFill>
              <a:srgbClr val="f2fef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"/>
          <p:cNvSpPr txBox="1"/>
          <p:nvPr/>
        </p:nvSpPr>
        <p:spPr>
          <a:xfrm>
            <a:off x="1674720" y="2576520"/>
            <a:ext cx="361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"/>
          <p:cNvSpPr txBox="1"/>
          <p:nvPr/>
        </p:nvSpPr>
        <p:spPr>
          <a:xfrm>
            <a:off x="1662120" y="4824360"/>
            <a:ext cx="361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"/>
          <p:cNvSpPr txBox="1"/>
          <p:nvPr/>
        </p:nvSpPr>
        <p:spPr>
          <a:xfrm>
            <a:off x="2054160" y="2576520"/>
            <a:ext cx="361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"/>
          <p:cNvSpPr txBox="1"/>
          <p:nvPr/>
        </p:nvSpPr>
        <p:spPr>
          <a:xfrm>
            <a:off x="2523960" y="2322360"/>
            <a:ext cx="361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B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"/>
          <p:cNvSpPr txBox="1"/>
          <p:nvPr/>
        </p:nvSpPr>
        <p:spPr>
          <a:xfrm>
            <a:off x="2917800" y="2309760"/>
            <a:ext cx="361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B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"/>
          <p:cNvSpPr txBox="1"/>
          <p:nvPr/>
        </p:nvSpPr>
        <p:spPr>
          <a:xfrm>
            <a:off x="2523960" y="4570560"/>
            <a:ext cx="361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"/>
          <p:cNvSpPr txBox="1"/>
          <p:nvPr/>
        </p:nvSpPr>
        <p:spPr>
          <a:xfrm>
            <a:off x="5280120" y="5345280"/>
            <a:ext cx="361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B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"/>
          <p:cNvSpPr txBox="1"/>
          <p:nvPr/>
        </p:nvSpPr>
        <p:spPr>
          <a:xfrm>
            <a:off x="5686560" y="5332320"/>
            <a:ext cx="361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"/>
          <p:cNvSpPr txBox="1"/>
          <p:nvPr/>
        </p:nvSpPr>
        <p:spPr>
          <a:xfrm>
            <a:off x="5648400" y="2144880"/>
            <a:ext cx="361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B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"/>
          <p:cNvSpPr txBox="1"/>
          <p:nvPr/>
        </p:nvSpPr>
        <p:spPr>
          <a:xfrm>
            <a:off x="6054840" y="2157480"/>
            <a:ext cx="361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"/>
          <p:cNvSpPr txBox="1"/>
          <p:nvPr/>
        </p:nvSpPr>
        <p:spPr>
          <a:xfrm>
            <a:off x="7540560" y="2259000"/>
            <a:ext cx="361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B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"/>
          <p:cNvSpPr txBox="1"/>
          <p:nvPr/>
        </p:nvSpPr>
        <p:spPr>
          <a:xfrm>
            <a:off x="7972560" y="2259000"/>
            <a:ext cx="3618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"/>
          <p:cNvSpPr txBox="1"/>
          <p:nvPr/>
        </p:nvSpPr>
        <p:spPr>
          <a:xfrm>
            <a:off x="4505400" y="2550960"/>
            <a:ext cx="285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"/>
          <p:cNvSpPr txBox="1"/>
          <p:nvPr/>
        </p:nvSpPr>
        <p:spPr>
          <a:xfrm>
            <a:off x="357120" y="293760"/>
            <a:ext cx="83358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mary Datum Axis -- Datum Target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 a Single Cylindrical Fea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"/>
          <p:cNvSpPr txBox="1"/>
          <p:nvPr/>
        </p:nvSpPr>
        <p:spPr>
          <a:xfrm>
            <a:off x="3603600" y="5030640"/>
            <a:ext cx="2937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"/>
          <p:cNvSpPr txBox="1"/>
          <p:nvPr/>
        </p:nvSpPr>
        <p:spPr>
          <a:xfrm>
            <a:off x="2717640" y="5589720"/>
            <a:ext cx="59529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ice that both sets of equally spaced datum tar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ints on datum feature B use the same datum refer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tter to establish the datum ax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701640" y="257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333520" y="2446200"/>
            <a:ext cx="4537080" cy="14670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"/>
          <p:cNvSpPr txBox="1"/>
          <p:nvPr/>
        </p:nvSpPr>
        <p:spPr>
          <a:xfrm>
            <a:off x="685800" y="798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mary Datum </a:t>
            </a:r>
            <a:r>
              <a:rPr b="0" lang="en-US" sz="36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xi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Two Cylind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"/>
          <p:cNvSpPr txBox="1"/>
          <p:nvPr/>
        </p:nvSpPr>
        <p:spPr>
          <a:xfrm>
            <a:off x="701640" y="2327400"/>
            <a:ext cx="7772400" cy="30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re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tw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ylindrical datum features are used to establish a single datum feature axis, each datum feature is identified with a different datum feature symb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target set contains different datum identifying 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9" name=""/>
          <p:cNvSpPr/>
          <p:nvPr/>
        </p:nvSpPr>
        <p:spPr>
          <a:xfrm>
            <a:off x="4870440" y="2567160"/>
            <a:ext cx="205200" cy="205200"/>
          </a:xfrm>
          <a:custGeom>
            <a:avLst/>
            <a:gdLst/>
            <a:ahLst/>
            <a:rect l="0" t="0" r="r" b="b"/>
            <a:pathLst>
              <a:path fill="none" w="570" h="570">
                <a:moveTo>
                  <a:pt x="0" y="0"/>
                </a:moveTo>
                <a:lnTo>
                  <a:pt x="570" y="0"/>
                </a:lnTo>
                <a:lnTo>
                  <a:pt x="570" y="570"/>
                </a:lnTo>
                <a:lnTo>
                  <a:pt x="0" y="57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"/>
          <p:cNvSpPr/>
          <p:nvPr/>
        </p:nvSpPr>
        <p:spPr>
          <a:xfrm flipV="1">
            <a:off x="7515360" y="2378160"/>
            <a:ext cx="626760" cy="438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"/>
          <p:cNvSpPr/>
          <p:nvPr/>
        </p:nvSpPr>
        <p:spPr>
          <a:xfrm flipH="1" flipV="1">
            <a:off x="3492360" y="2649600"/>
            <a:ext cx="403200" cy="239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"/>
          <p:cNvSpPr/>
          <p:nvPr/>
        </p:nvSpPr>
        <p:spPr>
          <a:xfrm flipH="1">
            <a:off x="7299360" y="2655720"/>
            <a:ext cx="206280" cy="2048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"/>
          <p:cNvSpPr/>
          <p:nvPr/>
        </p:nvSpPr>
        <p:spPr>
          <a:xfrm>
            <a:off x="7299360" y="2655720"/>
            <a:ext cx="206280" cy="2048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"/>
          <p:cNvSpPr/>
          <p:nvPr/>
        </p:nvSpPr>
        <p:spPr>
          <a:xfrm>
            <a:off x="8210520" y="4135320"/>
            <a:ext cx="442800" cy="274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"/>
          <p:cNvSpPr/>
          <p:nvPr/>
        </p:nvSpPr>
        <p:spPr>
          <a:xfrm flipV="1">
            <a:off x="7402680" y="2171880"/>
            <a:ext cx="0" cy="518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"/>
          <p:cNvSpPr/>
          <p:nvPr/>
        </p:nvSpPr>
        <p:spPr>
          <a:xfrm>
            <a:off x="8661240" y="3081240"/>
            <a:ext cx="146520" cy="1179720"/>
          </a:xfrm>
          <a:custGeom>
            <a:avLst/>
            <a:gdLst/>
            <a:ahLst/>
            <a:rect l="0" t="0" r="r" b="b"/>
            <a:pathLst>
              <a:path fill="none" w="407" h="3277">
                <a:moveTo>
                  <a:pt x="0" y="3277"/>
                </a:moveTo>
                <a:lnTo>
                  <a:pt x="78" y="3093"/>
                </a:lnTo>
                <a:lnTo>
                  <a:pt x="158" y="2909"/>
                </a:lnTo>
                <a:lnTo>
                  <a:pt x="220" y="2719"/>
                </a:lnTo>
                <a:lnTo>
                  <a:pt x="277" y="2529"/>
                </a:lnTo>
                <a:lnTo>
                  <a:pt x="323" y="2339"/>
                </a:lnTo>
                <a:lnTo>
                  <a:pt x="362" y="2144"/>
                </a:lnTo>
                <a:lnTo>
                  <a:pt x="385" y="1943"/>
                </a:lnTo>
                <a:lnTo>
                  <a:pt x="402" y="1748"/>
                </a:lnTo>
                <a:lnTo>
                  <a:pt x="407" y="1546"/>
                </a:lnTo>
                <a:lnTo>
                  <a:pt x="402" y="1350"/>
                </a:lnTo>
                <a:lnTo>
                  <a:pt x="385" y="1149"/>
                </a:lnTo>
                <a:lnTo>
                  <a:pt x="356" y="954"/>
                </a:lnTo>
                <a:lnTo>
                  <a:pt x="323" y="759"/>
                </a:lnTo>
                <a:lnTo>
                  <a:pt x="277" y="563"/>
                </a:lnTo>
                <a:lnTo>
                  <a:pt x="220" y="373"/>
                </a:lnTo>
                <a:lnTo>
                  <a:pt x="153" y="184"/>
                </a:lnTo>
                <a:lnTo>
                  <a:pt x="78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"/>
          <p:cNvSpPr/>
          <p:nvPr/>
        </p:nvSpPr>
        <p:spPr>
          <a:xfrm>
            <a:off x="7534440" y="2241720"/>
            <a:ext cx="1013040" cy="587880"/>
          </a:xfrm>
          <a:custGeom>
            <a:avLst/>
            <a:gdLst/>
            <a:ahLst/>
            <a:rect l="0" t="0" r="r" b="b"/>
            <a:pathLst>
              <a:path fill="none" w="2814" h="1633">
                <a:moveTo>
                  <a:pt x="2814" y="1633"/>
                </a:moveTo>
                <a:lnTo>
                  <a:pt x="2691" y="1471"/>
                </a:lnTo>
                <a:lnTo>
                  <a:pt x="2569" y="1320"/>
                </a:lnTo>
                <a:lnTo>
                  <a:pt x="2435" y="1174"/>
                </a:lnTo>
                <a:lnTo>
                  <a:pt x="2296" y="1034"/>
                </a:lnTo>
                <a:lnTo>
                  <a:pt x="2145" y="906"/>
                </a:lnTo>
                <a:lnTo>
                  <a:pt x="1995" y="783"/>
                </a:lnTo>
                <a:lnTo>
                  <a:pt x="1833" y="665"/>
                </a:lnTo>
                <a:lnTo>
                  <a:pt x="1666" y="559"/>
                </a:lnTo>
                <a:lnTo>
                  <a:pt x="1499" y="459"/>
                </a:lnTo>
                <a:lnTo>
                  <a:pt x="1320" y="368"/>
                </a:lnTo>
                <a:lnTo>
                  <a:pt x="1142" y="290"/>
                </a:lnTo>
                <a:lnTo>
                  <a:pt x="958" y="217"/>
                </a:lnTo>
                <a:lnTo>
                  <a:pt x="774" y="156"/>
                </a:lnTo>
                <a:lnTo>
                  <a:pt x="584" y="100"/>
                </a:lnTo>
                <a:lnTo>
                  <a:pt x="389" y="61"/>
                </a:lnTo>
                <a:lnTo>
                  <a:pt x="194" y="27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"/>
          <p:cNvSpPr/>
          <p:nvPr/>
        </p:nvSpPr>
        <p:spPr>
          <a:xfrm>
            <a:off x="8597880" y="4248000"/>
            <a:ext cx="81360" cy="127440"/>
          </a:xfrm>
          <a:custGeom>
            <a:avLst/>
            <a:gdLst/>
            <a:ahLst/>
            <a:rect l="0" t="0" r="r" b="b"/>
            <a:pathLst>
              <a:path w="226" h="354">
                <a:moveTo>
                  <a:pt x="226" y="61"/>
                </a:moveTo>
                <a:lnTo>
                  <a:pt x="121" y="0"/>
                </a:lnTo>
                <a:lnTo>
                  <a:pt x="0" y="354"/>
                </a:lnTo>
                <a:lnTo>
                  <a:pt x="226" y="6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"/>
          <p:cNvSpPr/>
          <p:nvPr/>
        </p:nvSpPr>
        <p:spPr>
          <a:xfrm>
            <a:off x="7402680" y="2220840"/>
            <a:ext cx="133560" cy="41760"/>
          </a:xfrm>
          <a:custGeom>
            <a:avLst/>
            <a:gdLst/>
            <a:ahLst/>
            <a:rect l="0" t="0" r="r" b="b"/>
            <a:pathLst>
              <a:path w="371" h="116">
                <a:moveTo>
                  <a:pt x="365" y="116"/>
                </a:moveTo>
                <a:lnTo>
                  <a:pt x="371" y="0"/>
                </a:lnTo>
                <a:lnTo>
                  <a:pt x="0" y="39"/>
                </a:lnTo>
                <a:lnTo>
                  <a:pt x="365" y="116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9360" bIns="-9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"/>
          <p:cNvSpPr/>
          <p:nvPr/>
        </p:nvSpPr>
        <p:spPr>
          <a:xfrm>
            <a:off x="8391600" y="2828880"/>
            <a:ext cx="471960" cy="252720"/>
          </a:xfrm>
          <a:custGeom>
            <a:avLst/>
            <a:gdLst/>
            <a:ahLst/>
            <a:rect l="0" t="0" r="r" b="b"/>
            <a:pathLst>
              <a:path fill="none" w="1311" h="702">
                <a:moveTo>
                  <a:pt x="0" y="702"/>
                </a:moveTo>
                <a:lnTo>
                  <a:pt x="1311" y="702"/>
                </a:lnTo>
                <a:lnTo>
                  <a:pt x="1311" y="0"/>
                </a:lnTo>
                <a:lnTo>
                  <a:pt x="0" y="0"/>
                </a:lnTo>
                <a:lnTo>
                  <a:pt x="0" y="702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"/>
          <p:cNvSpPr/>
          <p:nvPr/>
        </p:nvSpPr>
        <p:spPr>
          <a:xfrm flipV="1">
            <a:off x="7402680" y="2173320"/>
            <a:ext cx="0" cy="517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"/>
          <p:cNvSpPr/>
          <p:nvPr/>
        </p:nvSpPr>
        <p:spPr>
          <a:xfrm flipH="1">
            <a:off x="6154560" y="4135320"/>
            <a:ext cx="441360" cy="271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"/>
          <p:cNvSpPr/>
          <p:nvPr/>
        </p:nvSpPr>
        <p:spPr>
          <a:xfrm>
            <a:off x="6261120" y="2244600"/>
            <a:ext cx="1011600" cy="584640"/>
          </a:xfrm>
          <a:custGeom>
            <a:avLst/>
            <a:gdLst/>
            <a:ahLst/>
            <a:rect l="0" t="0" r="r" b="b"/>
            <a:pathLst>
              <a:path fill="none" w="2810" h="1624">
                <a:moveTo>
                  <a:pt x="2810" y="0"/>
                </a:moveTo>
                <a:lnTo>
                  <a:pt x="2610" y="22"/>
                </a:lnTo>
                <a:lnTo>
                  <a:pt x="2420" y="55"/>
                </a:lnTo>
                <a:lnTo>
                  <a:pt x="2225" y="100"/>
                </a:lnTo>
                <a:lnTo>
                  <a:pt x="2035" y="151"/>
                </a:lnTo>
                <a:lnTo>
                  <a:pt x="1851" y="212"/>
                </a:lnTo>
                <a:lnTo>
                  <a:pt x="1667" y="285"/>
                </a:lnTo>
                <a:lnTo>
                  <a:pt x="1489" y="369"/>
                </a:lnTo>
                <a:lnTo>
                  <a:pt x="1310" y="459"/>
                </a:lnTo>
                <a:lnTo>
                  <a:pt x="1143" y="554"/>
                </a:lnTo>
                <a:lnTo>
                  <a:pt x="976" y="666"/>
                </a:lnTo>
                <a:lnTo>
                  <a:pt x="820" y="778"/>
                </a:lnTo>
                <a:lnTo>
                  <a:pt x="663" y="901"/>
                </a:lnTo>
                <a:lnTo>
                  <a:pt x="518" y="1036"/>
                </a:lnTo>
                <a:lnTo>
                  <a:pt x="378" y="1170"/>
                </a:lnTo>
                <a:lnTo>
                  <a:pt x="245" y="1317"/>
                </a:lnTo>
                <a:lnTo>
                  <a:pt x="117" y="1468"/>
                </a:lnTo>
                <a:lnTo>
                  <a:pt x="0" y="162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"/>
          <p:cNvSpPr/>
          <p:nvPr/>
        </p:nvSpPr>
        <p:spPr>
          <a:xfrm>
            <a:off x="6000840" y="3084480"/>
            <a:ext cx="144720" cy="1175040"/>
          </a:xfrm>
          <a:custGeom>
            <a:avLst/>
            <a:gdLst/>
            <a:ahLst/>
            <a:rect l="0" t="0" r="r" b="b"/>
            <a:pathLst>
              <a:path fill="none" w="402" h="3264">
                <a:moveTo>
                  <a:pt x="324" y="0"/>
                </a:moveTo>
                <a:lnTo>
                  <a:pt x="251" y="184"/>
                </a:lnTo>
                <a:lnTo>
                  <a:pt x="183" y="368"/>
                </a:lnTo>
                <a:lnTo>
                  <a:pt x="128" y="563"/>
                </a:lnTo>
                <a:lnTo>
                  <a:pt x="83" y="753"/>
                </a:lnTo>
                <a:lnTo>
                  <a:pt x="50" y="948"/>
                </a:lnTo>
                <a:lnTo>
                  <a:pt x="22" y="1143"/>
                </a:lnTo>
                <a:lnTo>
                  <a:pt x="5" y="1344"/>
                </a:lnTo>
                <a:lnTo>
                  <a:pt x="0" y="1539"/>
                </a:lnTo>
                <a:lnTo>
                  <a:pt x="5" y="1741"/>
                </a:lnTo>
                <a:lnTo>
                  <a:pt x="22" y="1936"/>
                </a:lnTo>
                <a:lnTo>
                  <a:pt x="44" y="2131"/>
                </a:lnTo>
                <a:lnTo>
                  <a:pt x="83" y="2327"/>
                </a:lnTo>
                <a:lnTo>
                  <a:pt x="128" y="2522"/>
                </a:lnTo>
                <a:lnTo>
                  <a:pt x="183" y="2711"/>
                </a:lnTo>
                <a:lnTo>
                  <a:pt x="246" y="2901"/>
                </a:lnTo>
                <a:lnTo>
                  <a:pt x="318" y="3080"/>
                </a:lnTo>
                <a:lnTo>
                  <a:pt x="402" y="326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"/>
          <p:cNvSpPr/>
          <p:nvPr/>
        </p:nvSpPr>
        <p:spPr>
          <a:xfrm>
            <a:off x="7270920" y="2222640"/>
            <a:ext cx="132120" cy="46440"/>
          </a:xfrm>
          <a:custGeom>
            <a:avLst/>
            <a:gdLst/>
            <a:ahLst/>
            <a:rect l="0" t="0" r="r" b="b"/>
            <a:pathLst>
              <a:path w="367" h="129">
                <a:moveTo>
                  <a:pt x="0" y="0"/>
                </a:moveTo>
                <a:lnTo>
                  <a:pt x="5" y="129"/>
                </a:lnTo>
                <a:lnTo>
                  <a:pt x="367" y="4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4680" bIns="-4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"/>
          <p:cNvSpPr/>
          <p:nvPr/>
        </p:nvSpPr>
        <p:spPr>
          <a:xfrm>
            <a:off x="6127920" y="4246560"/>
            <a:ext cx="82800" cy="125640"/>
          </a:xfrm>
          <a:custGeom>
            <a:avLst/>
            <a:gdLst/>
            <a:ahLst/>
            <a:rect l="0" t="0" r="r" b="b"/>
            <a:pathLst>
              <a:path w="230" h="349">
                <a:moveTo>
                  <a:pt x="106" y="0"/>
                </a:moveTo>
                <a:lnTo>
                  <a:pt x="0" y="60"/>
                </a:lnTo>
                <a:lnTo>
                  <a:pt x="230" y="349"/>
                </a:lnTo>
                <a:lnTo>
                  <a:pt x="106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"/>
          <p:cNvSpPr/>
          <p:nvPr/>
        </p:nvSpPr>
        <p:spPr>
          <a:xfrm>
            <a:off x="5943600" y="2828880"/>
            <a:ext cx="473400" cy="255960"/>
          </a:xfrm>
          <a:custGeom>
            <a:avLst/>
            <a:gdLst/>
            <a:ahLst/>
            <a:rect l="0" t="0" r="r" b="b"/>
            <a:pathLst>
              <a:path fill="none" w="1315" h="711">
                <a:moveTo>
                  <a:pt x="0" y="711"/>
                </a:moveTo>
                <a:lnTo>
                  <a:pt x="1315" y="711"/>
                </a:lnTo>
                <a:lnTo>
                  <a:pt x="1315" y="0"/>
                </a:lnTo>
                <a:lnTo>
                  <a:pt x="0" y="0"/>
                </a:lnTo>
                <a:lnTo>
                  <a:pt x="0" y="71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"/>
          <p:cNvSpPr/>
          <p:nvPr/>
        </p:nvSpPr>
        <p:spPr>
          <a:xfrm flipV="1">
            <a:off x="1216080" y="2143080"/>
            <a:ext cx="0" cy="547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"/>
          <p:cNvSpPr/>
          <p:nvPr/>
        </p:nvSpPr>
        <p:spPr>
          <a:xfrm flipV="1">
            <a:off x="3965400" y="214308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"/>
          <p:cNvSpPr/>
          <p:nvPr/>
        </p:nvSpPr>
        <p:spPr>
          <a:xfrm>
            <a:off x="1346040" y="2208240"/>
            <a:ext cx="1060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"/>
          <p:cNvSpPr/>
          <p:nvPr/>
        </p:nvSpPr>
        <p:spPr>
          <a:xfrm flipH="1">
            <a:off x="2778120" y="2208240"/>
            <a:ext cx="1058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"/>
          <p:cNvSpPr/>
          <p:nvPr/>
        </p:nvSpPr>
        <p:spPr>
          <a:xfrm>
            <a:off x="1216080" y="2187720"/>
            <a:ext cx="130680" cy="43200"/>
          </a:xfrm>
          <a:custGeom>
            <a:avLst/>
            <a:gdLst/>
            <a:ahLst/>
            <a:rect l="0" t="0" r="r" b="b"/>
            <a:pathLst>
              <a:path w="363" h="120">
                <a:moveTo>
                  <a:pt x="363" y="0"/>
                </a:moveTo>
                <a:lnTo>
                  <a:pt x="363" y="120"/>
                </a:lnTo>
                <a:lnTo>
                  <a:pt x="0" y="63"/>
                </a:lnTo>
                <a:lnTo>
                  <a:pt x="363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"/>
          <p:cNvSpPr/>
          <p:nvPr/>
        </p:nvSpPr>
        <p:spPr>
          <a:xfrm>
            <a:off x="3836880" y="2187720"/>
            <a:ext cx="128880" cy="43200"/>
          </a:xfrm>
          <a:custGeom>
            <a:avLst/>
            <a:gdLst/>
            <a:ahLst/>
            <a:rect l="0" t="0" r="r" b="b"/>
            <a:pathLst>
              <a:path w="358" h="120">
                <a:moveTo>
                  <a:pt x="0" y="0"/>
                </a:moveTo>
                <a:lnTo>
                  <a:pt x="0" y="120"/>
                </a:lnTo>
                <a:lnTo>
                  <a:pt x="358" y="63"/>
                </a:lnTo>
                <a:lnTo>
                  <a:pt x="0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"/>
          <p:cNvSpPr/>
          <p:nvPr/>
        </p:nvSpPr>
        <p:spPr>
          <a:xfrm>
            <a:off x="2406600" y="2081160"/>
            <a:ext cx="371880" cy="255960"/>
          </a:xfrm>
          <a:custGeom>
            <a:avLst/>
            <a:gdLst/>
            <a:ahLst/>
            <a:rect l="0" t="0" r="r" b="b"/>
            <a:pathLst>
              <a:path fill="none" w="1033" h="711">
                <a:moveTo>
                  <a:pt x="0" y="711"/>
                </a:moveTo>
                <a:lnTo>
                  <a:pt x="1033" y="711"/>
                </a:lnTo>
                <a:lnTo>
                  <a:pt x="1033" y="0"/>
                </a:lnTo>
                <a:lnTo>
                  <a:pt x="0" y="0"/>
                </a:lnTo>
                <a:lnTo>
                  <a:pt x="0" y="711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"/>
          <p:cNvSpPr/>
          <p:nvPr/>
        </p:nvSpPr>
        <p:spPr>
          <a:xfrm flipV="1">
            <a:off x="4603680" y="2143080"/>
            <a:ext cx="0" cy="70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"/>
          <p:cNvSpPr/>
          <p:nvPr/>
        </p:nvSpPr>
        <p:spPr>
          <a:xfrm>
            <a:off x="4098960" y="2208240"/>
            <a:ext cx="37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7" name=""/>
          <p:cNvSpPr/>
          <p:nvPr/>
        </p:nvSpPr>
        <p:spPr>
          <a:xfrm>
            <a:off x="4284720" y="1941480"/>
            <a:ext cx="228960" cy="267120"/>
          </a:xfrm>
          <a:custGeom>
            <a:avLst/>
            <a:gdLst/>
            <a:ahLst/>
            <a:rect l="0" t="0" r="r" b="b"/>
            <a:pathLst>
              <a:path fill="none" w="636" h="742">
                <a:moveTo>
                  <a:pt x="0" y="742"/>
                </a:moveTo>
                <a:lnTo>
                  <a:pt x="222" y="0"/>
                </a:lnTo>
                <a:lnTo>
                  <a:pt x="636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8" name=""/>
          <p:cNvSpPr/>
          <p:nvPr/>
        </p:nvSpPr>
        <p:spPr>
          <a:xfrm>
            <a:off x="4513320" y="1816200"/>
            <a:ext cx="371880" cy="252720"/>
          </a:xfrm>
          <a:custGeom>
            <a:avLst/>
            <a:gdLst/>
            <a:ahLst/>
            <a:rect l="0" t="0" r="r" b="b"/>
            <a:pathLst>
              <a:path fill="none" w="1033" h="702">
                <a:moveTo>
                  <a:pt x="0" y="702"/>
                </a:moveTo>
                <a:lnTo>
                  <a:pt x="1033" y="702"/>
                </a:lnTo>
                <a:lnTo>
                  <a:pt x="1033" y="0"/>
                </a:lnTo>
                <a:lnTo>
                  <a:pt x="0" y="0"/>
                </a:lnTo>
                <a:lnTo>
                  <a:pt x="0" y="702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9" name=""/>
          <p:cNvSpPr/>
          <p:nvPr/>
        </p:nvSpPr>
        <p:spPr>
          <a:xfrm>
            <a:off x="3965400" y="2187720"/>
            <a:ext cx="133560" cy="43200"/>
          </a:xfrm>
          <a:custGeom>
            <a:avLst/>
            <a:gdLst/>
            <a:ahLst/>
            <a:rect l="0" t="0" r="r" b="b"/>
            <a:pathLst>
              <a:path w="371" h="120">
                <a:moveTo>
                  <a:pt x="371" y="0"/>
                </a:moveTo>
                <a:lnTo>
                  <a:pt x="371" y="120"/>
                </a:lnTo>
                <a:lnTo>
                  <a:pt x="0" y="63"/>
                </a:lnTo>
                <a:lnTo>
                  <a:pt x="371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0" name=""/>
          <p:cNvSpPr/>
          <p:nvPr/>
        </p:nvSpPr>
        <p:spPr>
          <a:xfrm>
            <a:off x="4470480" y="2187720"/>
            <a:ext cx="133560" cy="43200"/>
          </a:xfrm>
          <a:custGeom>
            <a:avLst/>
            <a:gdLst/>
            <a:ahLst/>
            <a:rect l="0" t="0" r="r" b="b"/>
            <a:pathLst>
              <a:path w="371" h="120">
                <a:moveTo>
                  <a:pt x="0" y="0"/>
                </a:moveTo>
                <a:lnTo>
                  <a:pt x="0" y="120"/>
                </a:lnTo>
                <a:lnTo>
                  <a:pt x="371" y="63"/>
                </a:lnTo>
                <a:lnTo>
                  <a:pt x="0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-7920" bIns="-7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1" name=""/>
          <p:cNvSpPr/>
          <p:nvPr/>
        </p:nvSpPr>
        <p:spPr>
          <a:xfrm flipH="1">
            <a:off x="1112760" y="2655720"/>
            <a:ext cx="206280" cy="2048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2" name=""/>
          <p:cNvSpPr/>
          <p:nvPr/>
        </p:nvSpPr>
        <p:spPr>
          <a:xfrm>
            <a:off x="1112760" y="2655720"/>
            <a:ext cx="206280" cy="2048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3" name=""/>
          <p:cNvSpPr/>
          <p:nvPr/>
        </p:nvSpPr>
        <p:spPr>
          <a:xfrm>
            <a:off x="8175600" y="4668840"/>
            <a:ext cx="357480" cy="359280"/>
          </a:xfrm>
          <a:custGeom>
            <a:avLst/>
            <a:gdLst/>
            <a:ahLst/>
            <a:rect l="0" t="0" r="r" b="b"/>
            <a:pathLst>
              <a:path fill="none" w="993" h="998">
                <a:moveTo>
                  <a:pt x="0" y="499"/>
                </a:moveTo>
                <a:lnTo>
                  <a:pt x="993" y="499"/>
                </a:lnTo>
                <a:lnTo>
                  <a:pt x="987" y="426"/>
                </a:lnTo>
                <a:lnTo>
                  <a:pt x="971" y="359"/>
                </a:lnTo>
                <a:lnTo>
                  <a:pt x="948" y="292"/>
                </a:lnTo>
                <a:lnTo>
                  <a:pt x="910" y="229"/>
                </a:lnTo>
                <a:lnTo>
                  <a:pt x="871" y="167"/>
                </a:lnTo>
                <a:lnTo>
                  <a:pt x="821" y="117"/>
                </a:lnTo>
                <a:lnTo>
                  <a:pt x="765" y="78"/>
                </a:lnTo>
                <a:lnTo>
                  <a:pt x="699" y="44"/>
                </a:lnTo>
                <a:lnTo>
                  <a:pt x="632" y="16"/>
                </a:lnTo>
                <a:lnTo>
                  <a:pt x="566" y="5"/>
                </a:lnTo>
                <a:lnTo>
                  <a:pt x="493" y="0"/>
                </a:lnTo>
                <a:lnTo>
                  <a:pt x="421" y="5"/>
                </a:lnTo>
                <a:lnTo>
                  <a:pt x="354" y="16"/>
                </a:lnTo>
                <a:lnTo>
                  <a:pt x="288" y="44"/>
                </a:lnTo>
                <a:lnTo>
                  <a:pt x="227" y="78"/>
                </a:lnTo>
                <a:lnTo>
                  <a:pt x="171" y="117"/>
                </a:lnTo>
                <a:lnTo>
                  <a:pt x="121" y="167"/>
                </a:lnTo>
                <a:lnTo>
                  <a:pt x="77" y="229"/>
                </a:lnTo>
                <a:lnTo>
                  <a:pt x="44" y="292"/>
                </a:lnTo>
                <a:lnTo>
                  <a:pt x="22" y="359"/>
                </a:lnTo>
                <a:lnTo>
                  <a:pt x="5" y="426"/>
                </a:lnTo>
                <a:lnTo>
                  <a:pt x="0" y="499"/>
                </a:lnTo>
                <a:lnTo>
                  <a:pt x="5" y="572"/>
                </a:lnTo>
                <a:lnTo>
                  <a:pt x="22" y="639"/>
                </a:lnTo>
                <a:lnTo>
                  <a:pt x="44" y="706"/>
                </a:lnTo>
                <a:lnTo>
                  <a:pt x="77" y="769"/>
                </a:lnTo>
                <a:lnTo>
                  <a:pt x="121" y="825"/>
                </a:lnTo>
                <a:lnTo>
                  <a:pt x="171" y="875"/>
                </a:lnTo>
                <a:lnTo>
                  <a:pt x="227" y="920"/>
                </a:lnTo>
                <a:lnTo>
                  <a:pt x="288" y="953"/>
                </a:lnTo>
                <a:lnTo>
                  <a:pt x="354" y="981"/>
                </a:lnTo>
                <a:lnTo>
                  <a:pt x="421" y="992"/>
                </a:lnTo>
                <a:lnTo>
                  <a:pt x="493" y="998"/>
                </a:lnTo>
                <a:lnTo>
                  <a:pt x="566" y="992"/>
                </a:lnTo>
                <a:lnTo>
                  <a:pt x="632" y="981"/>
                </a:lnTo>
                <a:lnTo>
                  <a:pt x="699" y="953"/>
                </a:lnTo>
                <a:lnTo>
                  <a:pt x="765" y="920"/>
                </a:lnTo>
                <a:lnTo>
                  <a:pt x="821" y="875"/>
                </a:lnTo>
                <a:lnTo>
                  <a:pt x="871" y="825"/>
                </a:lnTo>
                <a:lnTo>
                  <a:pt x="910" y="769"/>
                </a:lnTo>
                <a:lnTo>
                  <a:pt x="948" y="706"/>
                </a:lnTo>
                <a:lnTo>
                  <a:pt x="971" y="639"/>
                </a:lnTo>
                <a:lnTo>
                  <a:pt x="987" y="572"/>
                </a:lnTo>
                <a:lnTo>
                  <a:pt x="993" y="49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4" name=""/>
          <p:cNvSpPr/>
          <p:nvPr/>
        </p:nvSpPr>
        <p:spPr>
          <a:xfrm flipH="1">
            <a:off x="3449520" y="4211640"/>
            <a:ext cx="460440" cy="504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"/>
          <p:cNvSpPr/>
          <p:nvPr/>
        </p:nvSpPr>
        <p:spPr>
          <a:xfrm>
            <a:off x="636480" y="3638520"/>
            <a:ext cx="279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"/>
          <p:cNvSpPr/>
          <p:nvPr/>
        </p:nvSpPr>
        <p:spPr>
          <a:xfrm>
            <a:off x="1015920" y="3638520"/>
            <a:ext cx="103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"/>
          <p:cNvSpPr/>
          <p:nvPr/>
        </p:nvSpPr>
        <p:spPr>
          <a:xfrm>
            <a:off x="1220760" y="3638520"/>
            <a:ext cx="5158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"/>
          <p:cNvSpPr/>
          <p:nvPr/>
        </p:nvSpPr>
        <p:spPr>
          <a:xfrm>
            <a:off x="1839960" y="3638520"/>
            <a:ext cx="100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"/>
          <p:cNvSpPr/>
          <p:nvPr/>
        </p:nvSpPr>
        <p:spPr>
          <a:xfrm>
            <a:off x="2043000" y="3638520"/>
            <a:ext cx="5130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0" name=""/>
          <p:cNvSpPr/>
          <p:nvPr/>
        </p:nvSpPr>
        <p:spPr>
          <a:xfrm>
            <a:off x="2657520" y="363852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1" name=""/>
          <p:cNvSpPr/>
          <p:nvPr/>
        </p:nvSpPr>
        <p:spPr>
          <a:xfrm>
            <a:off x="2862360" y="363852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2" name=""/>
          <p:cNvSpPr/>
          <p:nvPr/>
        </p:nvSpPr>
        <p:spPr>
          <a:xfrm>
            <a:off x="3479760" y="3638520"/>
            <a:ext cx="10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3" name=""/>
          <p:cNvSpPr/>
          <p:nvPr/>
        </p:nvSpPr>
        <p:spPr>
          <a:xfrm>
            <a:off x="3683160" y="3638520"/>
            <a:ext cx="514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4" name=""/>
          <p:cNvSpPr/>
          <p:nvPr/>
        </p:nvSpPr>
        <p:spPr>
          <a:xfrm>
            <a:off x="4297320" y="3638520"/>
            <a:ext cx="103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5" name=""/>
          <p:cNvSpPr/>
          <p:nvPr/>
        </p:nvSpPr>
        <p:spPr>
          <a:xfrm>
            <a:off x="4505400" y="3638520"/>
            <a:ext cx="277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6" name=""/>
          <p:cNvSpPr/>
          <p:nvPr/>
        </p:nvSpPr>
        <p:spPr>
          <a:xfrm>
            <a:off x="3332160" y="2914560"/>
            <a:ext cx="127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7" name=""/>
          <p:cNvSpPr/>
          <p:nvPr/>
        </p:nvSpPr>
        <p:spPr>
          <a:xfrm>
            <a:off x="3332160" y="4363920"/>
            <a:ext cx="1271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8" name=""/>
          <p:cNvSpPr/>
          <p:nvPr/>
        </p:nvSpPr>
        <p:spPr>
          <a:xfrm>
            <a:off x="277920" y="4788000"/>
            <a:ext cx="205200" cy="205200"/>
          </a:xfrm>
          <a:custGeom>
            <a:avLst/>
            <a:gdLst/>
            <a:ahLst/>
            <a:rect l="0" t="0" r="r" b="b"/>
            <a:pathLst>
              <a:path fill="none" w="570" h="570">
                <a:moveTo>
                  <a:pt x="0" y="570"/>
                </a:moveTo>
                <a:lnTo>
                  <a:pt x="0" y="0"/>
                </a:lnTo>
                <a:lnTo>
                  <a:pt x="570" y="0"/>
                </a:lnTo>
                <a:lnTo>
                  <a:pt x="570" y="570"/>
                </a:lnTo>
                <a:lnTo>
                  <a:pt x="0" y="57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9" name=""/>
          <p:cNvSpPr/>
          <p:nvPr/>
        </p:nvSpPr>
        <p:spPr>
          <a:xfrm>
            <a:off x="3147840" y="4668840"/>
            <a:ext cx="359280" cy="359280"/>
          </a:xfrm>
          <a:custGeom>
            <a:avLst/>
            <a:gdLst/>
            <a:ahLst/>
            <a:rect l="0" t="0" r="r" b="b"/>
            <a:pathLst>
              <a:path fill="none" w="998" h="998">
                <a:moveTo>
                  <a:pt x="998" y="499"/>
                </a:moveTo>
                <a:lnTo>
                  <a:pt x="993" y="426"/>
                </a:lnTo>
                <a:lnTo>
                  <a:pt x="976" y="359"/>
                </a:lnTo>
                <a:lnTo>
                  <a:pt x="954" y="292"/>
                </a:lnTo>
                <a:lnTo>
                  <a:pt x="920" y="229"/>
                </a:lnTo>
                <a:lnTo>
                  <a:pt x="876" y="167"/>
                </a:lnTo>
                <a:lnTo>
                  <a:pt x="826" y="117"/>
                </a:lnTo>
                <a:lnTo>
                  <a:pt x="770" y="78"/>
                </a:lnTo>
                <a:lnTo>
                  <a:pt x="708" y="44"/>
                </a:lnTo>
                <a:lnTo>
                  <a:pt x="641" y="16"/>
                </a:lnTo>
                <a:lnTo>
                  <a:pt x="568" y="5"/>
                </a:lnTo>
                <a:lnTo>
                  <a:pt x="496" y="0"/>
                </a:lnTo>
                <a:lnTo>
                  <a:pt x="429" y="5"/>
                </a:lnTo>
                <a:lnTo>
                  <a:pt x="357" y="16"/>
                </a:lnTo>
                <a:lnTo>
                  <a:pt x="290" y="44"/>
                </a:lnTo>
                <a:lnTo>
                  <a:pt x="228" y="78"/>
                </a:lnTo>
                <a:lnTo>
                  <a:pt x="172" y="117"/>
                </a:lnTo>
                <a:lnTo>
                  <a:pt x="122" y="167"/>
                </a:lnTo>
                <a:lnTo>
                  <a:pt x="77" y="229"/>
                </a:lnTo>
                <a:lnTo>
                  <a:pt x="44" y="292"/>
                </a:lnTo>
                <a:lnTo>
                  <a:pt x="22" y="359"/>
                </a:lnTo>
                <a:lnTo>
                  <a:pt x="5" y="426"/>
                </a:lnTo>
                <a:lnTo>
                  <a:pt x="0" y="499"/>
                </a:lnTo>
                <a:lnTo>
                  <a:pt x="5" y="572"/>
                </a:lnTo>
                <a:lnTo>
                  <a:pt x="22" y="639"/>
                </a:lnTo>
                <a:lnTo>
                  <a:pt x="44" y="706"/>
                </a:lnTo>
                <a:lnTo>
                  <a:pt x="77" y="769"/>
                </a:lnTo>
                <a:lnTo>
                  <a:pt x="122" y="825"/>
                </a:lnTo>
                <a:lnTo>
                  <a:pt x="172" y="875"/>
                </a:lnTo>
                <a:lnTo>
                  <a:pt x="228" y="920"/>
                </a:lnTo>
                <a:lnTo>
                  <a:pt x="290" y="953"/>
                </a:lnTo>
                <a:lnTo>
                  <a:pt x="357" y="981"/>
                </a:lnTo>
                <a:lnTo>
                  <a:pt x="429" y="992"/>
                </a:lnTo>
                <a:lnTo>
                  <a:pt x="496" y="998"/>
                </a:lnTo>
                <a:lnTo>
                  <a:pt x="568" y="992"/>
                </a:lnTo>
                <a:lnTo>
                  <a:pt x="641" y="981"/>
                </a:lnTo>
                <a:lnTo>
                  <a:pt x="708" y="953"/>
                </a:lnTo>
                <a:lnTo>
                  <a:pt x="770" y="920"/>
                </a:lnTo>
                <a:lnTo>
                  <a:pt x="826" y="875"/>
                </a:lnTo>
                <a:lnTo>
                  <a:pt x="876" y="825"/>
                </a:lnTo>
                <a:lnTo>
                  <a:pt x="920" y="769"/>
                </a:lnTo>
                <a:lnTo>
                  <a:pt x="954" y="706"/>
                </a:lnTo>
                <a:lnTo>
                  <a:pt x="976" y="639"/>
                </a:lnTo>
                <a:lnTo>
                  <a:pt x="993" y="572"/>
                </a:lnTo>
                <a:lnTo>
                  <a:pt x="998" y="49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"/>
          <p:cNvSpPr/>
          <p:nvPr/>
        </p:nvSpPr>
        <p:spPr>
          <a:xfrm>
            <a:off x="2787480" y="4668840"/>
            <a:ext cx="360720" cy="359280"/>
          </a:xfrm>
          <a:custGeom>
            <a:avLst/>
            <a:gdLst/>
            <a:ahLst/>
            <a:rect l="0" t="0" r="r" b="b"/>
            <a:pathLst>
              <a:path fill="none" w="1002" h="998">
                <a:moveTo>
                  <a:pt x="1002" y="499"/>
                </a:moveTo>
                <a:lnTo>
                  <a:pt x="996" y="426"/>
                </a:lnTo>
                <a:lnTo>
                  <a:pt x="985" y="359"/>
                </a:lnTo>
                <a:lnTo>
                  <a:pt x="957" y="292"/>
                </a:lnTo>
                <a:lnTo>
                  <a:pt x="923" y="229"/>
                </a:lnTo>
                <a:lnTo>
                  <a:pt x="878" y="167"/>
                </a:lnTo>
                <a:lnTo>
                  <a:pt x="828" y="117"/>
                </a:lnTo>
                <a:lnTo>
                  <a:pt x="772" y="78"/>
                </a:lnTo>
                <a:lnTo>
                  <a:pt x="711" y="44"/>
                </a:lnTo>
                <a:lnTo>
                  <a:pt x="644" y="16"/>
                </a:lnTo>
                <a:lnTo>
                  <a:pt x="576" y="5"/>
                </a:lnTo>
                <a:lnTo>
                  <a:pt x="504" y="0"/>
                </a:lnTo>
                <a:lnTo>
                  <a:pt x="430" y="5"/>
                </a:lnTo>
                <a:lnTo>
                  <a:pt x="363" y="16"/>
                </a:lnTo>
                <a:lnTo>
                  <a:pt x="296" y="44"/>
                </a:lnTo>
                <a:lnTo>
                  <a:pt x="229" y="78"/>
                </a:lnTo>
                <a:lnTo>
                  <a:pt x="173" y="117"/>
                </a:lnTo>
                <a:lnTo>
                  <a:pt x="123" y="167"/>
                </a:lnTo>
                <a:lnTo>
                  <a:pt x="83" y="229"/>
                </a:lnTo>
                <a:lnTo>
                  <a:pt x="50" y="292"/>
                </a:lnTo>
                <a:lnTo>
                  <a:pt x="22" y="359"/>
                </a:lnTo>
                <a:lnTo>
                  <a:pt x="5" y="426"/>
                </a:lnTo>
                <a:lnTo>
                  <a:pt x="0" y="499"/>
                </a:lnTo>
                <a:lnTo>
                  <a:pt x="5" y="572"/>
                </a:lnTo>
                <a:lnTo>
                  <a:pt x="22" y="639"/>
                </a:lnTo>
                <a:lnTo>
                  <a:pt x="50" y="706"/>
                </a:lnTo>
                <a:lnTo>
                  <a:pt x="83" y="769"/>
                </a:lnTo>
                <a:lnTo>
                  <a:pt x="123" y="825"/>
                </a:lnTo>
                <a:lnTo>
                  <a:pt x="173" y="875"/>
                </a:lnTo>
                <a:lnTo>
                  <a:pt x="229" y="920"/>
                </a:lnTo>
                <a:lnTo>
                  <a:pt x="296" y="953"/>
                </a:lnTo>
                <a:lnTo>
                  <a:pt x="363" y="981"/>
                </a:lnTo>
                <a:lnTo>
                  <a:pt x="430" y="992"/>
                </a:lnTo>
                <a:lnTo>
                  <a:pt x="504" y="998"/>
                </a:lnTo>
                <a:lnTo>
                  <a:pt x="576" y="992"/>
                </a:lnTo>
                <a:lnTo>
                  <a:pt x="644" y="981"/>
                </a:lnTo>
                <a:lnTo>
                  <a:pt x="711" y="953"/>
                </a:lnTo>
                <a:lnTo>
                  <a:pt x="772" y="920"/>
                </a:lnTo>
                <a:lnTo>
                  <a:pt x="828" y="875"/>
                </a:lnTo>
                <a:lnTo>
                  <a:pt x="878" y="825"/>
                </a:lnTo>
                <a:lnTo>
                  <a:pt x="923" y="769"/>
                </a:lnTo>
                <a:lnTo>
                  <a:pt x="957" y="706"/>
                </a:lnTo>
                <a:lnTo>
                  <a:pt x="985" y="639"/>
                </a:lnTo>
                <a:lnTo>
                  <a:pt x="996" y="572"/>
                </a:lnTo>
                <a:lnTo>
                  <a:pt x="1002" y="49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1" name=""/>
          <p:cNvSpPr/>
          <p:nvPr/>
        </p:nvSpPr>
        <p:spPr>
          <a:xfrm>
            <a:off x="1428840" y="4668840"/>
            <a:ext cx="359280" cy="359280"/>
          </a:xfrm>
          <a:custGeom>
            <a:avLst/>
            <a:gdLst/>
            <a:ahLst/>
            <a:rect l="0" t="0" r="r" b="b"/>
            <a:pathLst>
              <a:path fill="none" w="998" h="998">
                <a:moveTo>
                  <a:pt x="998" y="499"/>
                </a:moveTo>
                <a:lnTo>
                  <a:pt x="992" y="426"/>
                </a:lnTo>
                <a:lnTo>
                  <a:pt x="981" y="359"/>
                </a:lnTo>
                <a:lnTo>
                  <a:pt x="953" y="292"/>
                </a:lnTo>
                <a:lnTo>
                  <a:pt x="920" y="229"/>
                </a:lnTo>
                <a:lnTo>
                  <a:pt x="881" y="167"/>
                </a:lnTo>
                <a:lnTo>
                  <a:pt x="825" y="117"/>
                </a:lnTo>
                <a:lnTo>
                  <a:pt x="769" y="78"/>
                </a:lnTo>
                <a:lnTo>
                  <a:pt x="706" y="44"/>
                </a:lnTo>
                <a:lnTo>
                  <a:pt x="639" y="16"/>
                </a:lnTo>
                <a:lnTo>
                  <a:pt x="572" y="5"/>
                </a:lnTo>
                <a:lnTo>
                  <a:pt x="499" y="0"/>
                </a:lnTo>
                <a:lnTo>
                  <a:pt x="426" y="5"/>
                </a:lnTo>
                <a:lnTo>
                  <a:pt x="359" y="16"/>
                </a:lnTo>
                <a:lnTo>
                  <a:pt x="292" y="44"/>
                </a:lnTo>
                <a:lnTo>
                  <a:pt x="229" y="78"/>
                </a:lnTo>
                <a:lnTo>
                  <a:pt x="167" y="117"/>
                </a:lnTo>
                <a:lnTo>
                  <a:pt x="117" y="167"/>
                </a:lnTo>
                <a:lnTo>
                  <a:pt x="78" y="229"/>
                </a:lnTo>
                <a:lnTo>
                  <a:pt x="44" y="292"/>
                </a:lnTo>
                <a:lnTo>
                  <a:pt x="16" y="359"/>
                </a:lnTo>
                <a:lnTo>
                  <a:pt x="5" y="426"/>
                </a:lnTo>
                <a:lnTo>
                  <a:pt x="0" y="499"/>
                </a:lnTo>
                <a:lnTo>
                  <a:pt x="5" y="572"/>
                </a:lnTo>
                <a:lnTo>
                  <a:pt x="16" y="639"/>
                </a:lnTo>
                <a:lnTo>
                  <a:pt x="44" y="706"/>
                </a:lnTo>
                <a:lnTo>
                  <a:pt x="78" y="769"/>
                </a:lnTo>
                <a:lnTo>
                  <a:pt x="117" y="825"/>
                </a:lnTo>
                <a:lnTo>
                  <a:pt x="167" y="875"/>
                </a:lnTo>
                <a:lnTo>
                  <a:pt x="229" y="920"/>
                </a:lnTo>
                <a:lnTo>
                  <a:pt x="292" y="953"/>
                </a:lnTo>
                <a:lnTo>
                  <a:pt x="359" y="981"/>
                </a:lnTo>
                <a:lnTo>
                  <a:pt x="426" y="992"/>
                </a:lnTo>
                <a:lnTo>
                  <a:pt x="499" y="998"/>
                </a:lnTo>
                <a:lnTo>
                  <a:pt x="572" y="992"/>
                </a:lnTo>
                <a:lnTo>
                  <a:pt x="639" y="981"/>
                </a:lnTo>
                <a:lnTo>
                  <a:pt x="706" y="953"/>
                </a:lnTo>
                <a:lnTo>
                  <a:pt x="769" y="920"/>
                </a:lnTo>
                <a:lnTo>
                  <a:pt x="825" y="875"/>
                </a:lnTo>
                <a:lnTo>
                  <a:pt x="881" y="825"/>
                </a:lnTo>
                <a:lnTo>
                  <a:pt x="920" y="769"/>
                </a:lnTo>
                <a:lnTo>
                  <a:pt x="953" y="706"/>
                </a:lnTo>
                <a:lnTo>
                  <a:pt x="981" y="639"/>
                </a:lnTo>
                <a:lnTo>
                  <a:pt x="992" y="572"/>
                </a:lnTo>
                <a:lnTo>
                  <a:pt x="998" y="49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2" name=""/>
          <p:cNvSpPr/>
          <p:nvPr/>
        </p:nvSpPr>
        <p:spPr>
          <a:xfrm>
            <a:off x="1787400" y="4668840"/>
            <a:ext cx="357480" cy="359280"/>
          </a:xfrm>
          <a:custGeom>
            <a:avLst/>
            <a:gdLst/>
            <a:ahLst/>
            <a:rect l="0" t="0" r="r" b="b"/>
            <a:pathLst>
              <a:path fill="none" w="993" h="998">
                <a:moveTo>
                  <a:pt x="993" y="499"/>
                </a:moveTo>
                <a:lnTo>
                  <a:pt x="987" y="426"/>
                </a:lnTo>
                <a:lnTo>
                  <a:pt x="971" y="359"/>
                </a:lnTo>
                <a:lnTo>
                  <a:pt x="948" y="292"/>
                </a:lnTo>
                <a:lnTo>
                  <a:pt x="915" y="229"/>
                </a:lnTo>
                <a:lnTo>
                  <a:pt x="871" y="167"/>
                </a:lnTo>
                <a:lnTo>
                  <a:pt x="821" y="117"/>
                </a:lnTo>
                <a:lnTo>
                  <a:pt x="765" y="78"/>
                </a:lnTo>
                <a:lnTo>
                  <a:pt x="704" y="44"/>
                </a:lnTo>
                <a:lnTo>
                  <a:pt x="638" y="16"/>
                </a:lnTo>
                <a:lnTo>
                  <a:pt x="566" y="5"/>
                </a:lnTo>
                <a:lnTo>
                  <a:pt x="499" y="0"/>
                </a:lnTo>
                <a:lnTo>
                  <a:pt x="426" y="5"/>
                </a:lnTo>
                <a:lnTo>
                  <a:pt x="360" y="16"/>
                </a:lnTo>
                <a:lnTo>
                  <a:pt x="293" y="44"/>
                </a:lnTo>
                <a:lnTo>
                  <a:pt x="227" y="78"/>
                </a:lnTo>
                <a:lnTo>
                  <a:pt x="171" y="117"/>
                </a:lnTo>
                <a:lnTo>
                  <a:pt x="121" y="167"/>
                </a:lnTo>
                <a:lnTo>
                  <a:pt x="77" y="229"/>
                </a:lnTo>
                <a:lnTo>
                  <a:pt x="44" y="292"/>
                </a:lnTo>
                <a:lnTo>
                  <a:pt x="22" y="359"/>
                </a:lnTo>
                <a:lnTo>
                  <a:pt x="5" y="426"/>
                </a:lnTo>
                <a:lnTo>
                  <a:pt x="0" y="499"/>
                </a:lnTo>
                <a:lnTo>
                  <a:pt x="5" y="572"/>
                </a:lnTo>
                <a:lnTo>
                  <a:pt x="22" y="639"/>
                </a:lnTo>
                <a:lnTo>
                  <a:pt x="44" y="706"/>
                </a:lnTo>
                <a:lnTo>
                  <a:pt x="77" y="769"/>
                </a:lnTo>
                <a:lnTo>
                  <a:pt x="121" y="825"/>
                </a:lnTo>
                <a:lnTo>
                  <a:pt x="171" y="875"/>
                </a:lnTo>
                <a:lnTo>
                  <a:pt x="227" y="920"/>
                </a:lnTo>
                <a:lnTo>
                  <a:pt x="293" y="953"/>
                </a:lnTo>
                <a:lnTo>
                  <a:pt x="360" y="981"/>
                </a:lnTo>
                <a:lnTo>
                  <a:pt x="426" y="992"/>
                </a:lnTo>
                <a:lnTo>
                  <a:pt x="499" y="998"/>
                </a:lnTo>
                <a:lnTo>
                  <a:pt x="566" y="992"/>
                </a:lnTo>
                <a:lnTo>
                  <a:pt x="638" y="981"/>
                </a:lnTo>
                <a:lnTo>
                  <a:pt x="704" y="953"/>
                </a:lnTo>
                <a:lnTo>
                  <a:pt x="765" y="920"/>
                </a:lnTo>
                <a:lnTo>
                  <a:pt x="821" y="875"/>
                </a:lnTo>
                <a:lnTo>
                  <a:pt x="871" y="825"/>
                </a:lnTo>
                <a:lnTo>
                  <a:pt x="915" y="769"/>
                </a:lnTo>
                <a:lnTo>
                  <a:pt x="948" y="706"/>
                </a:lnTo>
                <a:lnTo>
                  <a:pt x="971" y="639"/>
                </a:lnTo>
                <a:lnTo>
                  <a:pt x="987" y="572"/>
                </a:lnTo>
                <a:lnTo>
                  <a:pt x="993" y="49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3" name=""/>
          <p:cNvSpPr/>
          <p:nvPr/>
        </p:nvSpPr>
        <p:spPr>
          <a:xfrm flipH="1">
            <a:off x="1112760" y="3916440"/>
            <a:ext cx="206280" cy="2048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4" name=""/>
          <p:cNvSpPr/>
          <p:nvPr/>
        </p:nvSpPr>
        <p:spPr>
          <a:xfrm>
            <a:off x="1112760" y="3916440"/>
            <a:ext cx="206280" cy="2048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5" name=""/>
          <p:cNvSpPr/>
          <p:nvPr/>
        </p:nvSpPr>
        <p:spPr>
          <a:xfrm>
            <a:off x="911160" y="2757600"/>
            <a:ext cx="608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6" name=""/>
          <p:cNvSpPr/>
          <p:nvPr/>
        </p:nvSpPr>
        <p:spPr>
          <a:xfrm>
            <a:off x="911160" y="4521240"/>
            <a:ext cx="608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7" name=""/>
          <p:cNvSpPr/>
          <p:nvPr/>
        </p:nvSpPr>
        <p:spPr>
          <a:xfrm>
            <a:off x="380880" y="2887560"/>
            <a:ext cx="0" cy="1501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"/>
          <p:cNvSpPr/>
          <p:nvPr/>
        </p:nvSpPr>
        <p:spPr>
          <a:xfrm flipV="1">
            <a:off x="911160" y="2757600"/>
            <a:ext cx="0" cy="176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9" name=""/>
          <p:cNvSpPr/>
          <p:nvPr/>
        </p:nvSpPr>
        <p:spPr>
          <a:xfrm flipH="1">
            <a:off x="254160" y="4521240"/>
            <a:ext cx="595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0" name=""/>
          <p:cNvSpPr/>
          <p:nvPr/>
        </p:nvSpPr>
        <p:spPr>
          <a:xfrm>
            <a:off x="380880" y="452124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1" name=""/>
          <p:cNvSpPr/>
          <p:nvPr/>
        </p:nvSpPr>
        <p:spPr>
          <a:xfrm>
            <a:off x="360360" y="4389480"/>
            <a:ext cx="41760" cy="132120"/>
          </a:xfrm>
          <a:custGeom>
            <a:avLst/>
            <a:gdLst/>
            <a:ahLst/>
            <a:rect l="0" t="0" r="r" b="b"/>
            <a:pathLst>
              <a:path w="116" h="367">
                <a:moveTo>
                  <a:pt x="0" y="0"/>
                </a:moveTo>
                <a:lnTo>
                  <a:pt x="116" y="0"/>
                </a:lnTo>
                <a:lnTo>
                  <a:pt x="55" y="36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"/>
          <p:cNvSpPr/>
          <p:nvPr/>
        </p:nvSpPr>
        <p:spPr>
          <a:xfrm flipH="1">
            <a:off x="322200" y="4521240"/>
            <a:ext cx="117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"/>
          <p:cNvSpPr/>
          <p:nvPr/>
        </p:nvSpPr>
        <p:spPr>
          <a:xfrm flipH="1">
            <a:off x="380880" y="4521240"/>
            <a:ext cx="58680" cy="103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4" name=""/>
          <p:cNvSpPr/>
          <p:nvPr/>
        </p:nvSpPr>
        <p:spPr>
          <a:xfrm>
            <a:off x="322200" y="4521240"/>
            <a:ext cx="117720" cy="103680"/>
          </a:xfrm>
          <a:custGeom>
            <a:avLst/>
            <a:gdLst/>
            <a:ahLst/>
            <a:rect l="0" t="0" r="r" b="b"/>
            <a:pathLst>
              <a:path w="327" h="288">
                <a:moveTo>
                  <a:pt x="327" y="0"/>
                </a:moveTo>
                <a:lnTo>
                  <a:pt x="160" y="288"/>
                </a:lnTo>
                <a:lnTo>
                  <a:pt x="0" y="0"/>
                </a:lnTo>
                <a:lnTo>
                  <a:pt x="327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5" name=""/>
          <p:cNvSpPr/>
          <p:nvPr/>
        </p:nvSpPr>
        <p:spPr>
          <a:xfrm>
            <a:off x="322200" y="4521240"/>
            <a:ext cx="58680" cy="103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6" name=""/>
          <p:cNvSpPr/>
          <p:nvPr/>
        </p:nvSpPr>
        <p:spPr>
          <a:xfrm flipH="1">
            <a:off x="254160" y="2757600"/>
            <a:ext cx="595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"/>
          <p:cNvSpPr/>
          <p:nvPr/>
        </p:nvSpPr>
        <p:spPr>
          <a:xfrm>
            <a:off x="360360" y="2757600"/>
            <a:ext cx="41760" cy="130680"/>
          </a:xfrm>
          <a:custGeom>
            <a:avLst/>
            <a:gdLst/>
            <a:ahLst/>
            <a:rect l="0" t="0" r="r" b="b"/>
            <a:pathLst>
              <a:path w="116" h="363">
                <a:moveTo>
                  <a:pt x="0" y="363"/>
                </a:moveTo>
                <a:lnTo>
                  <a:pt x="116" y="363"/>
                </a:lnTo>
                <a:lnTo>
                  <a:pt x="55" y="0"/>
                </a:lnTo>
                <a:lnTo>
                  <a:pt x="0" y="363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8" name=""/>
          <p:cNvSpPr/>
          <p:nvPr/>
        </p:nvSpPr>
        <p:spPr>
          <a:xfrm>
            <a:off x="1216080" y="2825640"/>
            <a:ext cx="0" cy="113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9" name=""/>
          <p:cNvSpPr/>
          <p:nvPr/>
        </p:nvSpPr>
        <p:spPr>
          <a:xfrm flipV="1">
            <a:off x="3332160" y="2914560"/>
            <a:ext cx="0" cy="1449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0" name=""/>
          <p:cNvSpPr/>
          <p:nvPr/>
        </p:nvSpPr>
        <p:spPr>
          <a:xfrm flipV="1">
            <a:off x="1519200" y="2757600"/>
            <a:ext cx="0" cy="1763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1" name=""/>
          <p:cNvSpPr/>
          <p:nvPr/>
        </p:nvSpPr>
        <p:spPr>
          <a:xfrm>
            <a:off x="1519200" y="4208400"/>
            <a:ext cx="1812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2" name=""/>
          <p:cNvSpPr/>
          <p:nvPr/>
        </p:nvSpPr>
        <p:spPr>
          <a:xfrm>
            <a:off x="1284120" y="4122720"/>
            <a:ext cx="249480" cy="560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3" name=""/>
          <p:cNvSpPr/>
          <p:nvPr/>
        </p:nvSpPr>
        <p:spPr>
          <a:xfrm>
            <a:off x="1787400" y="4849920"/>
            <a:ext cx="357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4" name=""/>
          <p:cNvSpPr/>
          <p:nvPr/>
        </p:nvSpPr>
        <p:spPr>
          <a:xfrm>
            <a:off x="1428840" y="4849920"/>
            <a:ext cx="358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5" name=""/>
          <p:cNvSpPr/>
          <p:nvPr/>
        </p:nvSpPr>
        <p:spPr>
          <a:xfrm>
            <a:off x="2787480" y="4849920"/>
            <a:ext cx="718920" cy="0"/>
          </a:xfrm>
          <a:custGeom>
            <a:avLst/>
            <a:gdLst/>
            <a:ahLst/>
            <a:rect l="0" t="0" r="r" b="b"/>
            <a:pathLst>
              <a:path fill="none" w="1997" h="0">
                <a:moveTo>
                  <a:pt x="0" y="0"/>
                </a:moveTo>
                <a:lnTo>
                  <a:pt x="998" y="0"/>
                </a:lnTo>
                <a:lnTo>
                  <a:pt x="1997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6" name=""/>
          <p:cNvSpPr/>
          <p:nvPr/>
        </p:nvSpPr>
        <p:spPr>
          <a:xfrm>
            <a:off x="1519200" y="3071880"/>
            <a:ext cx="18129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7" name=""/>
          <p:cNvSpPr/>
          <p:nvPr/>
        </p:nvSpPr>
        <p:spPr>
          <a:xfrm>
            <a:off x="7453440" y="4605480"/>
            <a:ext cx="360720" cy="359280"/>
          </a:xfrm>
          <a:custGeom>
            <a:avLst/>
            <a:gdLst/>
            <a:ahLst/>
            <a:rect l="0" t="0" r="r" b="b"/>
            <a:pathLst>
              <a:path fill="none" w="1002" h="998">
                <a:moveTo>
                  <a:pt x="1002" y="496"/>
                </a:moveTo>
                <a:lnTo>
                  <a:pt x="996" y="429"/>
                </a:lnTo>
                <a:lnTo>
                  <a:pt x="979" y="357"/>
                </a:lnTo>
                <a:lnTo>
                  <a:pt x="957" y="290"/>
                </a:lnTo>
                <a:lnTo>
                  <a:pt x="918" y="228"/>
                </a:lnTo>
                <a:lnTo>
                  <a:pt x="878" y="172"/>
                </a:lnTo>
                <a:lnTo>
                  <a:pt x="828" y="122"/>
                </a:lnTo>
                <a:lnTo>
                  <a:pt x="772" y="77"/>
                </a:lnTo>
                <a:lnTo>
                  <a:pt x="705" y="44"/>
                </a:lnTo>
                <a:lnTo>
                  <a:pt x="638" y="22"/>
                </a:lnTo>
                <a:lnTo>
                  <a:pt x="571" y="5"/>
                </a:lnTo>
                <a:lnTo>
                  <a:pt x="497" y="0"/>
                </a:lnTo>
                <a:lnTo>
                  <a:pt x="430" y="5"/>
                </a:lnTo>
                <a:lnTo>
                  <a:pt x="357" y="22"/>
                </a:lnTo>
                <a:lnTo>
                  <a:pt x="290" y="44"/>
                </a:lnTo>
                <a:lnTo>
                  <a:pt x="229" y="77"/>
                </a:lnTo>
                <a:lnTo>
                  <a:pt x="173" y="122"/>
                </a:lnTo>
                <a:lnTo>
                  <a:pt x="123" y="172"/>
                </a:lnTo>
                <a:lnTo>
                  <a:pt x="78" y="228"/>
                </a:lnTo>
                <a:lnTo>
                  <a:pt x="44" y="290"/>
                </a:lnTo>
                <a:lnTo>
                  <a:pt x="16" y="357"/>
                </a:lnTo>
                <a:lnTo>
                  <a:pt x="5" y="429"/>
                </a:lnTo>
                <a:lnTo>
                  <a:pt x="0" y="496"/>
                </a:lnTo>
                <a:lnTo>
                  <a:pt x="5" y="568"/>
                </a:lnTo>
                <a:lnTo>
                  <a:pt x="16" y="635"/>
                </a:lnTo>
                <a:lnTo>
                  <a:pt x="44" y="702"/>
                </a:lnTo>
                <a:lnTo>
                  <a:pt x="78" y="770"/>
                </a:lnTo>
                <a:lnTo>
                  <a:pt x="123" y="826"/>
                </a:lnTo>
                <a:lnTo>
                  <a:pt x="173" y="876"/>
                </a:lnTo>
                <a:lnTo>
                  <a:pt x="229" y="915"/>
                </a:lnTo>
                <a:lnTo>
                  <a:pt x="290" y="954"/>
                </a:lnTo>
                <a:lnTo>
                  <a:pt x="357" y="976"/>
                </a:lnTo>
                <a:lnTo>
                  <a:pt x="430" y="993"/>
                </a:lnTo>
                <a:lnTo>
                  <a:pt x="497" y="998"/>
                </a:lnTo>
                <a:lnTo>
                  <a:pt x="571" y="993"/>
                </a:lnTo>
                <a:lnTo>
                  <a:pt x="638" y="976"/>
                </a:lnTo>
                <a:lnTo>
                  <a:pt x="705" y="954"/>
                </a:lnTo>
                <a:lnTo>
                  <a:pt x="772" y="915"/>
                </a:lnTo>
                <a:lnTo>
                  <a:pt x="828" y="876"/>
                </a:lnTo>
                <a:lnTo>
                  <a:pt x="878" y="826"/>
                </a:lnTo>
                <a:lnTo>
                  <a:pt x="918" y="770"/>
                </a:lnTo>
                <a:lnTo>
                  <a:pt x="957" y="702"/>
                </a:lnTo>
                <a:lnTo>
                  <a:pt x="979" y="635"/>
                </a:lnTo>
                <a:lnTo>
                  <a:pt x="996" y="568"/>
                </a:lnTo>
                <a:lnTo>
                  <a:pt x="1002" y="496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8" name=""/>
          <p:cNvSpPr/>
          <p:nvPr/>
        </p:nvSpPr>
        <p:spPr>
          <a:xfrm>
            <a:off x="6858000" y="4605480"/>
            <a:ext cx="360720" cy="359280"/>
          </a:xfrm>
          <a:custGeom>
            <a:avLst/>
            <a:gdLst/>
            <a:ahLst/>
            <a:rect l="0" t="0" r="r" b="b"/>
            <a:pathLst>
              <a:path fill="none" w="1002" h="998">
                <a:moveTo>
                  <a:pt x="1002" y="496"/>
                </a:moveTo>
                <a:lnTo>
                  <a:pt x="996" y="429"/>
                </a:lnTo>
                <a:lnTo>
                  <a:pt x="979" y="357"/>
                </a:lnTo>
                <a:lnTo>
                  <a:pt x="957" y="290"/>
                </a:lnTo>
                <a:lnTo>
                  <a:pt x="923" y="228"/>
                </a:lnTo>
                <a:lnTo>
                  <a:pt x="878" y="172"/>
                </a:lnTo>
                <a:lnTo>
                  <a:pt x="828" y="122"/>
                </a:lnTo>
                <a:lnTo>
                  <a:pt x="772" y="77"/>
                </a:lnTo>
                <a:lnTo>
                  <a:pt x="711" y="44"/>
                </a:lnTo>
                <a:lnTo>
                  <a:pt x="644" y="22"/>
                </a:lnTo>
                <a:lnTo>
                  <a:pt x="571" y="5"/>
                </a:lnTo>
                <a:lnTo>
                  <a:pt x="504" y="0"/>
                </a:lnTo>
                <a:lnTo>
                  <a:pt x="430" y="5"/>
                </a:lnTo>
                <a:lnTo>
                  <a:pt x="363" y="22"/>
                </a:lnTo>
                <a:lnTo>
                  <a:pt x="296" y="44"/>
                </a:lnTo>
                <a:lnTo>
                  <a:pt x="229" y="77"/>
                </a:lnTo>
                <a:lnTo>
                  <a:pt x="173" y="122"/>
                </a:lnTo>
                <a:lnTo>
                  <a:pt x="123" y="172"/>
                </a:lnTo>
                <a:lnTo>
                  <a:pt x="83" y="228"/>
                </a:lnTo>
                <a:lnTo>
                  <a:pt x="44" y="290"/>
                </a:lnTo>
                <a:lnTo>
                  <a:pt x="22" y="357"/>
                </a:lnTo>
                <a:lnTo>
                  <a:pt x="5" y="429"/>
                </a:lnTo>
                <a:lnTo>
                  <a:pt x="0" y="496"/>
                </a:lnTo>
                <a:lnTo>
                  <a:pt x="5" y="568"/>
                </a:lnTo>
                <a:lnTo>
                  <a:pt x="22" y="635"/>
                </a:lnTo>
                <a:lnTo>
                  <a:pt x="44" y="702"/>
                </a:lnTo>
                <a:lnTo>
                  <a:pt x="83" y="770"/>
                </a:lnTo>
                <a:lnTo>
                  <a:pt x="123" y="826"/>
                </a:lnTo>
                <a:lnTo>
                  <a:pt x="173" y="876"/>
                </a:lnTo>
                <a:lnTo>
                  <a:pt x="229" y="915"/>
                </a:lnTo>
                <a:lnTo>
                  <a:pt x="296" y="954"/>
                </a:lnTo>
                <a:lnTo>
                  <a:pt x="363" y="976"/>
                </a:lnTo>
                <a:lnTo>
                  <a:pt x="430" y="993"/>
                </a:lnTo>
                <a:lnTo>
                  <a:pt x="504" y="998"/>
                </a:lnTo>
                <a:lnTo>
                  <a:pt x="571" y="993"/>
                </a:lnTo>
                <a:lnTo>
                  <a:pt x="644" y="976"/>
                </a:lnTo>
                <a:lnTo>
                  <a:pt x="711" y="954"/>
                </a:lnTo>
                <a:lnTo>
                  <a:pt x="772" y="915"/>
                </a:lnTo>
                <a:lnTo>
                  <a:pt x="828" y="876"/>
                </a:lnTo>
                <a:lnTo>
                  <a:pt x="878" y="826"/>
                </a:lnTo>
                <a:lnTo>
                  <a:pt x="923" y="770"/>
                </a:lnTo>
                <a:lnTo>
                  <a:pt x="957" y="702"/>
                </a:lnTo>
                <a:lnTo>
                  <a:pt x="979" y="635"/>
                </a:lnTo>
                <a:lnTo>
                  <a:pt x="996" y="568"/>
                </a:lnTo>
                <a:lnTo>
                  <a:pt x="1002" y="496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9" name=""/>
          <p:cNvSpPr/>
          <p:nvPr/>
        </p:nvSpPr>
        <p:spPr>
          <a:xfrm>
            <a:off x="5157720" y="3044880"/>
            <a:ext cx="0" cy="11905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0" name=""/>
          <p:cNvSpPr/>
          <p:nvPr/>
        </p:nvSpPr>
        <p:spPr>
          <a:xfrm>
            <a:off x="3965400" y="2989440"/>
            <a:ext cx="0" cy="988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1" name=""/>
          <p:cNvSpPr/>
          <p:nvPr/>
        </p:nvSpPr>
        <p:spPr>
          <a:xfrm flipV="1">
            <a:off x="4603680" y="2914560"/>
            <a:ext cx="0" cy="1449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"/>
          <p:cNvSpPr/>
          <p:nvPr/>
        </p:nvSpPr>
        <p:spPr>
          <a:xfrm>
            <a:off x="4668840" y="4363920"/>
            <a:ext cx="619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3" name=""/>
          <p:cNvSpPr/>
          <p:nvPr/>
        </p:nvSpPr>
        <p:spPr>
          <a:xfrm>
            <a:off x="3865680" y="3998880"/>
            <a:ext cx="203040" cy="2048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4" name=""/>
          <p:cNvSpPr/>
          <p:nvPr/>
        </p:nvSpPr>
        <p:spPr>
          <a:xfrm flipV="1">
            <a:off x="3865680" y="3998880"/>
            <a:ext cx="203040" cy="2048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5" name=""/>
          <p:cNvSpPr/>
          <p:nvPr/>
        </p:nvSpPr>
        <p:spPr>
          <a:xfrm>
            <a:off x="5099040" y="4363920"/>
            <a:ext cx="119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"/>
          <p:cNvSpPr/>
          <p:nvPr/>
        </p:nvSpPr>
        <p:spPr>
          <a:xfrm>
            <a:off x="5099040" y="4363920"/>
            <a:ext cx="58680" cy="103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"/>
          <p:cNvSpPr/>
          <p:nvPr/>
        </p:nvSpPr>
        <p:spPr>
          <a:xfrm>
            <a:off x="5099040" y="4363920"/>
            <a:ext cx="119520" cy="103680"/>
          </a:xfrm>
          <a:custGeom>
            <a:avLst/>
            <a:gdLst/>
            <a:ahLst/>
            <a:rect l="0" t="0" r="r" b="b"/>
            <a:pathLst>
              <a:path w="332" h="288">
                <a:moveTo>
                  <a:pt x="0" y="0"/>
                </a:moveTo>
                <a:lnTo>
                  <a:pt x="163" y="288"/>
                </a:lnTo>
                <a:lnTo>
                  <a:pt x="33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"/>
          <p:cNvSpPr/>
          <p:nvPr/>
        </p:nvSpPr>
        <p:spPr>
          <a:xfrm flipH="1">
            <a:off x="5157720" y="4363920"/>
            <a:ext cx="60480" cy="103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"/>
          <p:cNvSpPr/>
          <p:nvPr/>
        </p:nvSpPr>
        <p:spPr>
          <a:xfrm>
            <a:off x="5157720" y="4363920"/>
            <a:ext cx="0" cy="266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"/>
          <p:cNvSpPr/>
          <p:nvPr/>
        </p:nvSpPr>
        <p:spPr>
          <a:xfrm>
            <a:off x="5056200" y="4630680"/>
            <a:ext cx="205200" cy="206640"/>
          </a:xfrm>
          <a:custGeom>
            <a:avLst/>
            <a:gdLst/>
            <a:ahLst/>
            <a:rect l="0" t="0" r="r" b="b"/>
            <a:pathLst>
              <a:path fill="none" w="570" h="574">
                <a:moveTo>
                  <a:pt x="0" y="0"/>
                </a:moveTo>
                <a:lnTo>
                  <a:pt x="0" y="574"/>
                </a:lnTo>
                <a:lnTo>
                  <a:pt x="570" y="574"/>
                </a:lnTo>
                <a:lnTo>
                  <a:pt x="570" y="0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"/>
          <p:cNvSpPr/>
          <p:nvPr/>
        </p:nvSpPr>
        <p:spPr>
          <a:xfrm>
            <a:off x="5135400" y="4235400"/>
            <a:ext cx="44640" cy="128880"/>
          </a:xfrm>
          <a:custGeom>
            <a:avLst/>
            <a:gdLst/>
            <a:ahLst/>
            <a:rect l="0" t="0" r="r" b="b"/>
            <a:pathLst>
              <a:path w="124" h="358">
                <a:moveTo>
                  <a:pt x="0" y="0"/>
                </a:moveTo>
                <a:lnTo>
                  <a:pt x="124" y="0"/>
                </a:lnTo>
                <a:lnTo>
                  <a:pt x="61" y="35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2" name=""/>
          <p:cNvSpPr/>
          <p:nvPr/>
        </p:nvSpPr>
        <p:spPr>
          <a:xfrm>
            <a:off x="4668840" y="2914560"/>
            <a:ext cx="619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3" name=""/>
          <p:cNvSpPr/>
          <p:nvPr/>
        </p:nvSpPr>
        <p:spPr>
          <a:xfrm flipH="1">
            <a:off x="3865680" y="2811600"/>
            <a:ext cx="203040" cy="2062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4" name=""/>
          <p:cNvSpPr/>
          <p:nvPr/>
        </p:nvSpPr>
        <p:spPr>
          <a:xfrm>
            <a:off x="3865680" y="2811600"/>
            <a:ext cx="203040" cy="2062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5" name=""/>
          <p:cNvSpPr/>
          <p:nvPr/>
        </p:nvSpPr>
        <p:spPr>
          <a:xfrm>
            <a:off x="5135400" y="2914560"/>
            <a:ext cx="44640" cy="130680"/>
          </a:xfrm>
          <a:custGeom>
            <a:avLst/>
            <a:gdLst/>
            <a:ahLst/>
            <a:rect l="0" t="0" r="r" b="b"/>
            <a:pathLst>
              <a:path w="124" h="363">
                <a:moveTo>
                  <a:pt x="0" y="363"/>
                </a:moveTo>
                <a:lnTo>
                  <a:pt x="124" y="363"/>
                </a:lnTo>
                <a:lnTo>
                  <a:pt x="61" y="0"/>
                </a:lnTo>
                <a:lnTo>
                  <a:pt x="0" y="363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6" name=""/>
          <p:cNvSpPr/>
          <p:nvPr/>
        </p:nvSpPr>
        <p:spPr>
          <a:xfrm>
            <a:off x="6678720" y="2914560"/>
            <a:ext cx="1449720" cy="1449720"/>
          </a:xfrm>
          <a:custGeom>
            <a:avLst/>
            <a:gdLst/>
            <a:ahLst/>
            <a:rect l="0" t="0" r="r" b="b"/>
            <a:pathLst>
              <a:path fill="none" w="4027" h="4027">
                <a:moveTo>
                  <a:pt x="4027" y="2014"/>
                </a:moveTo>
                <a:lnTo>
                  <a:pt x="4021" y="1868"/>
                </a:lnTo>
                <a:lnTo>
                  <a:pt x="4004" y="1723"/>
                </a:lnTo>
                <a:lnTo>
                  <a:pt x="3982" y="1583"/>
                </a:lnTo>
                <a:lnTo>
                  <a:pt x="3943" y="1444"/>
                </a:lnTo>
                <a:lnTo>
                  <a:pt x="3898" y="1310"/>
                </a:lnTo>
                <a:lnTo>
                  <a:pt x="3843" y="1176"/>
                </a:lnTo>
                <a:lnTo>
                  <a:pt x="3781" y="1048"/>
                </a:lnTo>
                <a:lnTo>
                  <a:pt x="3709" y="925"/>
                </a:lnTo>
                <a:lnTo>
                  <a:pt x="3625" y="808"/>
                </a:lnTo>
                <a:lnTo>
                  <a:pt x="3536" y="697"/>
                </a:lnTo>
                <a:lnTo>
                  <a:pt x="3435" y="591"/>
                </a:lnTo>
                <a:lnTo>
                  <a:pt x="3330" y="490"/>
                </a:lnTo>
                <a:lnTo>
                  <a:pt x="3218" y="401"/>
                </a:lnTo>
                <a:lnTo>
                  <a:pt x="3101" y="317"/>
                </a:lnTo>
                <a:lnTo>
                  <a:pt x="2978" y="245"/>
                </a:lnTo>
                <a:lnTo>
                  <a:pt x="2850" y="184"/>
                </a:lnTo>
                <a:lnTo>
                  <a:pt x="2716" y="128"/>
                </a:lnTo>
                <a:lnTo>
                  <a:pt x="2577" y="83"/>
                </a:lnTo>
                <a:lnTo>
                  <a:pt x="2443" y="44"/>
                </a:lnTo>
                <a:lnTo>
                  <a:pt x="2298" y="22"/>
                </a:lnTo>
                <a:lnTo>
                  <a:pt x="2159" y="5"/>
                </a:lnTo>
                <a:lnTo>
                  <a:pt x="2014" y="0"/>
                </a:lnTo>
                <a:lnTo>
                  <a:pt x="1868" y="5"/>
                </a:lnTo>
                <a:lnTo>
                  <a:pt x="1723" y="22"/>
                </a:lnTo>
                <a:lnTo>
                  <a:pt x="1583" y="44"/>
                </a:lnTo>
                <a:lnTo>
                  <a:pt x="1444" y="83"/>
                </a:lnTo>
                <a:lnTo>
                  <a:pt x="1310" y="128"/>
                </a:lnTo>
                <a:lnTo>
                  <a:pt x="1176" y="184"/>
                </a:lnTo>
                <a:lnTo>
                  <a:pt x="1048" y="245"/>
                </a:lnTo>
                <a:lnTo>
                  <a:pt x="920" y="317"/>
                </a:lnTo>
                <a:lnTo>
                  <a:pt x="802" y="401"/>
                </a:lnTo>
                <a:lnTo>
                  <a:pt x="691" y="490"/>
                </a:lnTo>
                <a:lnTo>
                  <a:pt x="585" y="591"/>
                </a:lnTo>
                <a:lnTo>
                  <a:pt x="490" y="697"/>
                </a:lnTo>
                <a:lnTo>
                  <a:pt x="401" y="808"/>
                </a:lnTo>
                <a:lnTo>
                  <a:pt x="317" y="925"/>
                </a:lnTo>
                <a:lnTo>
                  <a:pt x="245" y="1048"/>
                </a:lnTo>
                <a:lnTo>
                  <a:pt x="178" y="1176"/>
                </a:lnTo>
                <a:lnTo>
                  <a:pt x="122" y="1310"/>
                </a:lnTo>
                <a:lnTo>
                  <a:pt x="78" y="1444"/>
                </a:lnTo>
                <a:lnTo>
                  <a:pt x="44" y="1583"/>
                </a:lnTo>
                <a:lnTo>
                  <a:pt x="16" y="1723"/>
                </a:lnTo>
                <a:lnTo>
                  <a:pt x="5" y="1868"/>
                </a:lnTo>
                <a:lnTo>
                  <a:pt x="0" y="2014"/>
                </a:lnTo>
                <a:lnTo>
                  <a:pt x="5" y="2159"/>
                </a:lnTo>
                <a:lnTo>
                  <a:pt x="16" y="2298"/>
                </a:lnTo>
                <a:lnTo>
                  <a:pt x="44" y="2443"/>
                </a:lnTo>
                <a:lnTo>
                  <a:pt x="78" y="2582"/>
                </a:lnTo>
                <a:lnTo>
                  <a:pt x="122" y="2716"/>
                </a:lnTo>
                <a:lnTo>
                  <a:pt x="178" y="2850"/>
                </a:lnTo>
                <a:lnTo>
                  <a:pt x="245" y="2978"/>
                </a:lnTo>
                <a:lnTo>
                  <a:pt x="317" y="3101"/>
                </a:lnTo>
                <a:lnTo>
                  <a:pt x="401" y="3218"/>
                </a:lnTo>
                <a:lnTo>
                  <a:pt x="490" y="3330"/>
                </a:lnTo>
                <a:lnTo>
                  <a:pt x="585" y="3435"/>
                </a:lnTo>
                <a:lnTo>
                  <a:pt x="691" y="3536"/>
                </a:lnTo>
                <a:lnTo>
                  <a:pt x="802" y="3625"/>
                </a:lnTo>
                <a:lnTo>
                  <a:pt x="920" y="3709"/>
                </a:lnTo>
                <a:lnTo>
                  <a:pt x="1048" y="3781"/>
                </a:lnTo>
                <a:lnTo>
                  <a:pt x="1176" y="3843"/>
                </a:lnTo>
                <a:lnTo>
                  <a:pt x="1310" y="3898"/>
                </a:lnTo>
                <a:lnTo>
                  <a:pt x="1444" y="3943"/>
                </a:lnTo>
                <a:lnTo>
                  <a:pt x="1583" y="3982"/>
                </a:lnTo>
                <a:lnTo>
                  <a:pt x="1723" y="4004"/>
                </a:lnTo>
                <a:lnTo>
                  <a:pt x="1868" y="4021"/>
                </a:lnTo>
                <a:lnTo>
                  <a:pt x="2014" y="4027"/>
                </a:lnTo>
                <a:lnTo>
                  <a:pt x="2159" y="4021"/>
                </a:lnTo>
                <a:lnTo>
                  <a:pt x="2298" y="4004"/>
                </a:lnTo>
                <a:lnTo>
                  <a:pt x="2443" y="3982"/>
                </a:lnTo>
                <a:lnTo>
                  <a:pt x="2577" y="3943"/>
                </a:lnTo>
                <a:lnTo>
                  <a:pt x="2716" y="3898"/>
                </a:lnTo>
                <a:lnTo>
                  <a:pt x="2850" y="3843"/>
                </a:lnTo>
                <a:lnTo>
                  <a:pt x="2978" y="3781"/>
                </a:lnTo>
                <a:lnTo>
                  <a:pt x="3101" y="3709"/>
                </a:lnTo>
                <a:lnTo>
                  <a:pt x="3218" y="3625"/>
                </a:lnTo>
                <a:lnTo>
                  <a:pt x="3330" y="3536"/>
                </a:lnTo>
                <a:lnTo>
                  <a:pt x="3435" y="3435"/>
                </a:lnTo>
                <a:lnTo>
                  <a:pt x="3536" y="3330"/>
                </a:lnTo>
                <a:lnTo>
                  <a:pt x="3625" y="3218"/>
                </a:lnTo>
                <a:lnTo>
                  <a:pt x="3709" y="3101"/>
                </a:lnTo>
                <a:lnTo>
                  <a:pt x="3781" y="2978"/>
                </a:lnTo>
                <a:lnTo>
                  <a:pt x="3843" y="2850"/>
                </a:lnTo>
                <a:lnTo>
                  <a:pt x="3898" y="2716"/>
                </a:lnTo>
                <a:lnTo>
                  <a:pt x="3943" y="2582"/>
                </a:lnTo>
                <a:lnTo>
                  <a:pt x="3982" y="2443"/>
                </a:lnTo>
                <a:lnTo>
                  <a:pt x="4004" y="2298"/>
                </a:lnTo>
                <a:lnTo>
                  <a:pt x="4021" y="2159"/>
                </a:lnTo>
                <a:lnTo>
                  <a:pt x="4027" y="201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7" name=""/>
          <p:cNvSpPr/>
          <p:nvPr/>
        </p:nvSpPr>
        <p:spPr>
          <a:xfrm>
            <a:off x="6519960" y="2757600"/>
            <a:ext cx="1765800" cy="1764000"/>
          </a:xfrm>
          <a:custGeom>
            <a:avLst/>
            <a:gdLst/>
            <a:ahLst/>
            <a:rect l="0" t="0" r="r" b="b"/>
            <a:pathLst>
              <a:path fill="none" w="4905" h="4900">
                <a:moveTo>
                  <a:pt x="4905" y="2449"/>
                </a:moveTo>
                <a:lnTo>
                  <a:pt x="4900" y="2293"/>
                </a:lnTo>
                <a:lnTo>
                  <a:pt x="4888" y="2142"/>
                </a:lnTo>
                <a:lnTo>
                  <a:pt x="4860" y="1992"/>
                </a:lnTo>
                <a:lnTo>
                  <a:pt x="4827" y="1841"/>
                </a:lnTo>
                <a:lnTo>
                  <a:pt x="4788" y="1690"/>
                </a:lnTo>
                <a:lnTo>
                  <a:pt x="4732" y="1545"/>
                </a:lnTo>
                <a:lnTo>
                  <a:pt x="4671" y="1406"/>
                </a:lnTo>
                <a:lnTo>
                  <a:pt x="4604" y="1266"/>
                </a:lnTo>
                <a:lnTo>
                  <a:pt x="4526" y="1138"/>
                </a:lnTo>
                <a:lnTo>
                  <a:pt x="4437" y="1009"/>
                </a:lnTo>
                <a:lnTo>
                  <a:pt x="4342" y="887"/>
                </a:lnTo>
                <a:lnTo>
                  <a:pt x="4241" y="770"/>
                </a:lnTo>
                <a:lnTo>
                  <a:pt x="4135" y="664"/>
                </a:lnTo>
                <a:lnTo>
                  <a:pt x="4018" y="563"/>
                </a:lnTo>
                <a:lnTo>
                  <a:pt x="3895" y="468"/>
                </a:lnTo>
                <a:lnTo>
                  <a:pt x="3767" y="379"/>
                </a:lnTo>
                <a:lnTo>
                  <a:pt x="3632" y="301"/>
                </a:lnTo>
                <a:lnTo>
                  <a:pt x="3498" y="234"/>
                </a:lnTo>
                <a:lnTo>
                  <a:pt x="3359" y="172"/>
                </a:lnTo>
                <a:lnTo>
                  <a:pt x="3214" y="117"/>
                </a:lnTo>
                <a:lnTo>
                  <a:pt x="3063" y="78"/>
                </a:lnTo>
                <a:lnTo>
                  <a:pt x="2913" y="39"/>
                </a:lnTo>
                <a:lnTo>
                  <a:pt x="2762" y="16"/>
                </a:lnTo>
                <a:lnTo>
                  <a:pt x="2606" y="5"/>
                </a:lnTo>
                <a:lnTo>
                  <a:pt x="2455" y="0"/>
                </a:lnTo>
                <a:lnTo>
                  <a:pt x="2299" y="5"/>
                </a:lnTo>
                <a:lnTo>
                  <a:pt x="2148" y="16"/>
                </a:lnTo>
                <a:lnTo>
                  <a:pt x="1992" y="39"/>
                </a:lnTo>
                <a:lnTo>
                  <a:pt x="1847" y="78"/>
                </a:lnTo>
                <a:lnTo>
                  <a:pt x="1696" y="117"/>
                </a:lnTo>
                <a:lnTo>
                  <a:pt x="1551" y="172"/>
                </a:lnTo>
                <a:lnTo>
                  <a:pt x="1412" y="234"/>
                </a:lnTo>
                <a:lnTo>
                  <a:pt x="1272" y="301"/>
                </a:lnTo>
                <a:lnTo>
                  <a:pt x="1138" y="379"/>
                </a:lnTo>
                <a:lnTo>
                  <a:pt x="1009" y="468"/>
                </a:lnTo>
                <a:lnTo>
                  <a:pt x="892" y="563"/>
                </a:lnTo>
                <a:lnTo>
                  <a:pt x="775" y="664"/>
                </a:lnTo>
                <a:lnTo>
                  <a:pt x="669" y="770"/>
                </a:lnTo>
                <a:lnTo>
                  <a:pt x="563" y="887"/>
                </a:lnTo>
                <a:lnTo>
                  <a:pt x="468" y="1009"/>
                </a:lnTo>
                <a:lnTo>
                  <a:pt x="384" y="1138"/>
                </a:lnTo>
                <a:lnTo>
                  <a:pt x="306" y="1266"/>
                </a:lnTo>
                <a:lnTo>
                  <a:pt x="234" y="1406"/>
                </a:lnTo>
                <a:lnTo>
                  <a:pt x="172" y="1545"/>
                </a:lnTo>
                <a:lnTo>
                  <a:pt x="122" y="1690"/>
                </a:lnTo>
                <a:lnTo>
                  <a:pt x="78" y="1841"/>
                </a:lnTo>
                <a:lnTo>
                  <a:pt x="44" y="1992"/>
                </a:lnTo>
                <a:lnTo>
                  <a:pt x="22" y="2142"/>
                </a:lnTo>
                <a:lnTo>
                  <a:pt x="5" y="2293"/>
                </a:lnTo>
                <a:lnTo>
                  <a:pt x="0" y="2449"/>
                </a:lnTo>
                <a:lnTo>
                  <a:pt x="5" y="2606"/>
                </a:lnTo>
                <a:lnTo>
                  <a:pt x="22" y="2757"/>
                </a:lnTo>
                <a:lnTo>
                  <a:pt x="44" y="2908"/>
                </a:lnTo>
                <a:lnTo>
                  <a:pt x="78" y="3058"/>
                </a:lnTo>
                <a:lnTo>
                  <a:pt x="122" y="3209"/>
                </a:lnTo>
                <a:lnTo>
                  <a:pt x="172" y="3354"/>
                </a:lnTo>
                <a:lnTo>
                  <a:pt x="234" y="3494"/>
                </a:lnTo>
                <a:lnTo>
                  <a:pt x="306" y="3633"/>
                </a:lnTo>
                <a:lnTo>
                  <a:pt x="384" y="3761"/>
                </a:lnTo>
                <a:lnTo>
                  <a:pt x="468" y="3890"/>
                </a:lnTo>
                <a:lnTo>
                  <a:pt x="563" y="4012"/>
                </a:lnTo>
                <a:lnTo>
                  <a:pt x="669" y="4124"/>
                </a:lnTo>
                <a:lnTo>
                  <a:pt x="775" y="4236"/>
                </a:lnTo>
                <a:lnTo>
                  <a:pt x="892" y="4336"/>
                </a:lnTo>
                <a:lnTo>
                  <a:pt x="1009" y="4431"/>
                </a:lnTo>
                <a:lnTo>
                  <a:pt x="1138" y="4520"/>
                </a:lnTo>
                <a:lnTo>
                  <a:pt x="1272" y="4598"/>
                </a:lnTo>
                <a:lnTo>
                  <a:pt x="1412" y="4665"/>
                </a:lnTo>
                <a:lnTo>
                  <a:pt x="1551" y="4727"/>
                </a:lnTo>
                <a:lnTo>
                  <a:pt x="1696" y="4783"/>
                </a:lnTo>
                <a:lnTo>
                  <a:pt x="1847" y="4822"/>
                </a:lnTo>
                <a:lnTo>
                  <a:pt x="1992" y="4855"/>
                </a:lnTo>
                <a:lnTo>
                  <a:pt x="2148" y="4883"/>
                </a:lnTo>
                <a:lnTo>
                  <a:pt x="2299" y="4894"/>
                </a:lnTo>
                <a:lnTo>
                  <a:pt x="2455" y="4900"/>
                </a:lnTo>
                <a:lnTo>
                  <a:pt x="2606" y="4894"/>
                </a:lnTo>
                <a:lnTo>
                  <a:pt x="2762" y="4883"/>
                </a:lnTo>
                <a:lnTo>
                  <a:pt x="2913" y="4855"/>
                </a:lnTo>
                <a:lnTo>
                  <a:pt x="3063" y="4822"/>
                </a:lnTo>
                <a:lnTo>
                  <a:pt x="3214" y="4783"/>
                </a:lnTo>
                <a:lnTo>
                  <a:pt x="3359" y="4727"/>
                </a:lnTo>
                <a:lnTo>
                  <a:pt x="3498" y="4665"/>
                </a:lnTo>
                <a:lnTo>
                  <a:pt x="3632" y="4598"/>
                </a:lnTo>
                <a:lnTo>
                  <a:pt x="3767" y="4520"/>
                </a:lnTo>
                <a:lnTo>
                  <a:pt x="3895" y="4431"/>
                </a:lnTo>
                <a:lnTo>
                  <a:pt x="4018" y="4336"/>
                </a:lnTo>
                <a:lnTo>
                  <a:pt x="4135" y="4236"/>
                </a:lnTo>
                <a:lnTo>
                  <a:pt x="4241" y="4124"/>
                </a:lnTo>
                <a:lnTo>
                  <a:pt x="4342" y="4012"/>
                </a:lnTo>
                <a:lnTo>
                  <a:pt x="4437" y="3890"/>
                </a:lnTo>
                <a:lnTo>
                  <a:pt x="4526" y="3761"/>
                </a:lnTo>
                <a:lnTo>
                  <a:pt x="4604" y="3633"/>
                </a:lnTo>
                <a:lnTo>
                  <a:pt x="4671" y="3494"/>
                </a:lnTo>
                <a:lnTo>
                  <a:pt x="4732" y="3354"/>
                </a:lnTo>
                <a:lnTo>
                  <a:pt x="4788" y="3209"/>
                </a:lnTo>
                <a:lnTo>
                  <a:pt x="4827" y="3058"/>
                </a:lnTo>
                <a:lnTo>
                  <a:pt x="4860" y="2908"/>
                </a:lnTo>
                <a:lnTo>
                  <a:pt x="4888" y="2757"/>
                </a:lnTo>
                <a:lnTo>
                  <a:pt x="4900" y="2606"/>
                </a:lnTo>
                <a:lnTo>
                  <a:pt x="4905" y="244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8" name=""/>
          <p:cNvSpPr/>
          <p:nvPr/>
        </p:nvSpPr>
        <p:spPr>
          <a:xfrm>
            <a:off x="6799320" y="4156200"/>
            <a:ext cx="176040" cy="460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9" name=""/>
          <p:cNvSpPr/>
          <p:nvPr/>
        </p:nvSpPr>
        <p:spPr>
          <a:xfrm flipH="1">
            <a:off x="6408720" y="4195800"/>
            <a:ext cx="22716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0" name=""/>
          <p:cNvSpPr/>
          <p:nvPr/>
        </p:nvSpPr>
        <p:spPr>
          <a:xfrm>
            <a:off x="6138720" y="4554360"/>
            <a:ext cx="357480" cy="356040"/>
          </a:xfrm>
          <a:custGeom>
            <a:avLst/>
            <a:gdLst/>
            <a:ahLst/>
            <a:rect l="0" t="0" r="r" b="b"/>
            <a:pathLst>
              <a:path fill="none" w="993" h="989">
                <a:moveTo>
                  <a:pt x="993" y="494"/>
                </a:moveTo>
                <a:lnTo>
                  <a:pt x="987" y="422"/>
                </a:lnTo>
                <a:lnTo>
                  <a:pt x="976" y="356"/>
                </a:lnTo>
                <a:lnTo>
                  <a:pt x="948" y="289"/>
                </a:lnTo>
                <a:lnTo>
                  <a:pt x="915" y="227"/>
                </a:lnTo>
                <a:lnTo>
                  <a:pt x="871" y="166"/>
                </a:lnTo>
                <a:lnTo>
                  <a:pt x="821" y="116"/>
                </a:lnTo>
                <a:lnTo>
                  <a:pt x="765" y="77"/>
                </a:lnTo>
                <a:lnTo>
                  <a:pt x="704" y="44"/>
                </a:lnTo>
                <a:lnTo>
                  <a:pt x="638" y="16"/>
                </a:lnTo>
                <a:lnTo>
                  <a:pt x="566" y="0"/>
                </a:lnTo>
                <a:lnTo>
                  <a:pt x="499" y="0"/>
                </a:lnTo>
                <a:lnTo>
                  <a:pt x="426" y="0"/>
                </a:lnTo>
                <a:lnTo>
                  <a:pt x="360" y="16"/>
                </a:lnTo>
                <a:lnTo>
                  <a:pt x="293" y="44"/>
                </a:lnTo>
                <a:lnTo>
                  <a:pt x="227" y="77"/>
                </a:lnTo>
                <a:lnTo>
                  <a:pt x="171" y="116"/>
                </a:lnTo>
                <a:lnTo>
                  <a:pt x="121" y="166"/>
                </a:lnTo>
                <a:lnTo>
                  <a:pt x="83" y="227"/>
                </a:lnTo>
                <a:lnTo>
                  <a:pt x="44" y="289"/>
                </a:lnTo>
                <a:lnTo>
                  <a:pt x="22" y="356"/>
                </a:lnTo>
                <a:lnTo>
                  <a:pt x="5" y="422"/>
                </a:lnTo>
                <a:lnTo>
                  <a:pt x="0" y="494"/>
                </a:lnTo>
                <a:lnTo>
                  <a:pt x="5" y="567"/>
                </a:lnTo>
                <a:lnTo>
                  <a:pt x="22" y="633"/>
                </a:lnTo>
                <a:lnTo>
                  <a:pt x="44" y="700"/>
                </a:lnTo>
                <a:lnTo>
                  <a:pt x="83" y="762"/>
                </a:lnTo>
                <a:lnTo>
                  <a:pt x="121" y="817"/>
                </a:lnTo>
                <a:lnTo>
                  <a:pt x="171" y="867"/>
                </a:lnTo>
                <a:lnTo>
                  <a:pt x="227" y="912"/>
                </a:lnTo>
                <a:lnTo>
                  <a:pt x="293" y="945"/>
                </a:lnTo>
                <a:lnTo>
                  <a:pt x="360" y="973"/>
                </a:lnTo>
                <a:lnTo>
                  <a:pt x="426" y="984"/>
                </a:lnTo>
                <a:lnTo>
                  <a:pt x="499" y="989"/>
                </a:lnTo>
                <a:lnTo>
                  <a:pt x="566" y="984"/>
                </a:lnTo>
                <a:lnTo>
                  <a:pt x="638" y="973"/>
                </a:lnTo>
                <a:lnTo>
                  <a:pt x="704" y="945"/>
                </a:lnTo>
                <a:lnTo>
                  <a:pt x="765" y="912"/>
                </a:lnTo>
                <a:lnTo>
                  <a:pt x="821" y="867"/>
                </a:lnTo>
                <a:lnTo>
                  <a:pt x="871" y="817"/>
                </a:lnTo>
                <a:lnTo>
                  <a:pt x="915" y="762"/>
                </a:lnTo>
                <a:lnTo>
                  <a:pt x="948" y="700"/>
                </a:lnTo>
                <a:lnTo>
                  <a:pt x="976" y="633"/>
                </a:lnTo>
                <a:lnTo>
                  <a:pt x="987" y="567"/>
                </a:lnTo>
                <a:lnTo>
                  <a:pt x="993" y="49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1" name=""/>
          <p:cNvSpPr/>
          <p:nvPr/>
        </p:nvSpPr>
        <p:spPr>
          <a:xfrm>
            <a:off x="6138720" y="4732200"/>
            <a:ext cx="3574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2" name=""/>
          <p:cNvSpPr/>
          <p:nvPr/>
        </p:nvSpPr>
        <p:spPr>
          <a:xfrm>
            <a:off x="6858000" y="4784760"/>
            <a:ext cx="36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3" name=""/>
          <p:cNvSpPr/>
          <p:nvPr/>
        </p:nvSpPr>
        <p:spPr>
          <a:xfrm flipH="1">
            <a:off x="6667560" y="4025880"/>
            <a:ext cx="108000" cy="65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4" name=""/>
          <p:cNvSpPr/>
          <p:nvPr/>
        </p:nvSpPr>
        <p:spPr>
          <a:xfrm>
            <a:off x="6784920" y="3875040"/>
            <a:ext cx="0" cy="2872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5" name=""/>
          <p:cNvSpPr/>
          <p:nvPr/>
        </p:nvSpPr>
        <p:spPr>
          <a:xfrm>
            <a:off x="6640560" y="4019400"/>
            <a:ext cx="2887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6" name=""/>
          <p:cNvSpPr/>
          <p:nvPr/>
        </p:nvSpPr>
        <p:spPr>
          <a:xfrm>
            <a:off x="6651720" y="3957480"/>
            <a:ext cx="0" cy="289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7" name=""/>
          <p:cNvSpPr/>
          <p:nvPr/>
        </p:nvSpPr>
        <p:spPr>
          <a:xfrm>
            <a:off x="6505560" y="4102200"/>
            <a:ext cx="29196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8" name=""/>
          <p:cNvSpPr/>
          <p:nvPr/>
        </p:nvSpPr>
        <p:spPr>
          <a:xfrm>
            <a:off x="7402680" y="3852720"/>
            <a:ext cx="0" cy="774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9" name=""/>
          <p:cNvSpPr/>
          <p:nvPr/>
        </p:nvSpPr>
        <p:spPr>
          <a:xfrm>
            <a:off x="8169120" y="4229280"/>
            <a:ext cx="133560" cy="447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0" name=""/>
          <p:cNvSpPr/>
          <p:nvPr/>
        </p:nvSpPr>
        <p:spPr>
          <a:xfrm flipH="1">
            <a:off x="7723080" y="4135320"/>
            <a:ext cx="285840" cy="493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1" name=""/>
          <p:cNvSpPr/>
          <p:nvPr/>
        </p:nvSpPr>
        <p:spPr>
          <a:xfrm>
            <a:off x="7453440" y="4784760"/>
            <a:ext cx="36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2" name=""/>
          <p:cNvSpPr/>
          <p:nvPr/>
        </p:nvSpPr>
        <p:spPr>
          <a:xfrm>
            <a:off x="8020080" y="3875040"/>
            <a:ext cx="0" cy="2872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3" name=""/>
          <p:cNvSpPr/>
          <p:nvPr/>
        </p:nvSpPr>
        <p:spPr>
          <a:xfrm>
            <a:off x="7873920" y="4019400"/>
            <a:ext cx="2923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4" name=""/>
          <p:cNvSpPr/>
          <p:nvPr/>
        </p:nvSpPr>
        <p:spPr>
          <a:xfrm>
            <a:off x="8153280" y="3957480"/>
            <a:ext cx="0" cy="289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5" name=""/>
          <p:cNvSpPr/>
          <p:nvPr/>
        </p:nvSpPr>
        <p:spPr>
          <a:xfrm>
            <a:off x="8008920" y="4102200"/>
            <a:ext cx="29052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6" name=""/>
          <p:cNvSpPr/>
          <p:nvPr/>
        </p:nvSpPr>
        <p:spPr>
          <a:xfrm>
            <a:off x="8029440" y="4025880"/>
            <a:ext cx="106560" cy="65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7" name=""/>
          <p:cNvSpPr/>
          <p:nvPr/>
        </p:nvSpPr>
        <p:spPr>
          <a:xfrm>
            <a:off x="7296120" y="3638520"/>
            <a:ext cx="212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8" name=""/>
          <p:cNvSpPr/>
          <p:nvPr/>
        </p:nvSpPr>
        <p:spPr>
          <a:xfrm flipH="1">
            <a:off x="6413400" y="3638520"/>
            <a:ext cx="7765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9" name=""/>
          <p:cNvSpPr/>
          <p:nvPr/>
        </p:nvSpPr>
        <p:spPr>
          <a:xfrm flipV="1">
            <a:off x="7402680" y="2757600"/>
            <a:ext cx="0" cy="668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0" name=""/>
          <p:cNvSpPr/>
          <p:nvPr/>
        </p:nvSpPr>
        <p:spPr>
          <a:xfrm>
            <a:off x="7616880" y="3638520"/>
            <a:ext cx="774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1" name=""/>
          <p:cNvSpPr/>
          <p:nvPr/>
        </p:nvSpPr>
        <p:spPr>
          <a:xfrm flipV="1">
            <a:off x="7402680" y="3532320"/>
            <a:ext cx="0" cy="212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2" name=""/>
          <p:cNvSpPr/>
          <p:nvPr/>
        </p:nvSpPr>
        <p:spPr>
          <a:xfrm flipH="1">
            <a:off x="7299360" y="2811600"/>
            <a:ext cx="206280" cy="2062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3" name=""/>
          <p:cNvSpPr/>
          <p:nvPr/>
        </p:nvSpPr>
        <p:spPr>
          <a:xfrm>
            <a:off x="7299360" y="2811600"/>
            <a:ext cx="206280" cy="2062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4" name=""/>
          <p:cNvSpPr/>
          <p:nvPr/>
        </p:nvSpPr>
        <p:spPr>
          <a:xfrm>
            <a:off x="436680" y="1935000"/>
            <a:ext cx="360720" cy="359280"/>
          </a:xfrm>
          <a:custGeom>
            <a:avLst/>
            <a:gdLst/>
            <a:ahLst/>
            <a:rect l="0" t="0" r="r" b="b"/>
            <a:pathLst>
              <a:path fill="none" w="1002" h="998">
                <a:moveTo>
                  <a:pt x="1002" y="496"/>
                </a:moveTo>
                <a:lnTo>
                  <a:pt x="996" y="429"/>
                </a:lnTo>
                <a:lnTo>
                  <a:pt x="979" y="357"/>
                </a:lnTo>
                <a:lnTo>
                  <a:pt x="957" y="290"/>
                </a:lnTo>
                <a:lnTo>
                  <a:pt x="923" y="228"/>
                </a:lnTo>
                <a:lnTo>
                  <a:pt x="878" y="172"/>
                </a:lnTo>
                <a:lnTo>
                  <a:pt x="828" y="122"/>
                </a:lnTo>
                <a:lnTo>
                  <a:pt x="772" y="77"/>
                </a:lnTo>
                <a:lnTo>
                  <a:pt x="705" y="44"/>
                </a:lnTo>
                <a:lnTo>
                  <a:pt x="644" y="22"/>
                </a:lnTo>
                <a:lnTo>
                  <a:pt x="571" y="5"/>
                </a:lnTo>
                <a:lnTo>
                  <a:pt x="497" y="0"/>
                </a:lnTo>
                <a:lnTo>
                  <a:pt x="430" y="5"/>
                </a:lnTo>
                <a:lnTo>
                  <a:pt x="357" y="22"/>
                </a:lnTo>
                <a:lnTo>
                  <a:pt x="290" y="44"/>
                </a:lnTo>
                <a:lnTo>
                  <a:pt x="229" y="77"/>
                </a:lnTo>
                <a:lnTo>
                  <a:pt x="173" y="122"/>
                </a:lnTo>
                <a:lnTo>
                  <a:pt x="123" y="172"/>
                </a:lnTo>
                <a:lnTo>
                  <a:pt x="78" y="228"/>
                </a:lnTo>
                <a:lnTo>
                  <a:pt x="44" y="290"/>
                </a:lnTo>
                <a:lnTo>
                  <a:pt x="22" y="357"/>
                </a:lnTo>
                <a:lnTo>
                  <a:pt x="5" y="429"/>
                </a:lnTo>
                <a:lnTo>
                  <a:pt x="0" y="496"/>
                </a:lnTo>
                <a:lnTo>
                  <a:pt x="5" y="568"/>
                </a:lnTo>
                <a:lnTo>
                  <a:pt x="22" y="641"/>
                </a:lnTo>
                <a:lnTo>
                  <a:pt x="44" y="708"/>
                </a:lnTo>
                <a:lnTo>
                  <a:pt x="78" y="770"/>
                </a:lnTo>
                <a:lnTo>
                  <a:pt x="123" y="826"/>
                </a:lnTo>
                <a:lnTo>
                  <a:pt x="173" y="876"/>
                </a:lnTo>
                <a:lnTo>
                  <a:pt x="229" y="920"/>
                </a:lnTo>
                <a:lnTo>
                  <a:pt x="290" y="954"/>
                </a:lnTo>
                <a:lnTo>
                  <a:pt x="357" y="976"/>
                </a:lnTo>
                <a:lnTo>
                  <a:pt x="430" y="993"/>
                </a:lnTo>
                <a:lnTo>
                  <a:pt x="497" y="998"/>
                </a:lnTo>
                <a:lnTo>
                  <a:pt x="571" y="993"/>
                </a:lnTo>
                <a:lnTo>
                  <a:pt x="644" y="976"/>
                </a:lnTo>
                <a:lnTo>
                  <a:pt x="705" y="954"/>
                </a:lnTo>
                <a:lnTo>
                  <a:pt x="772" y="920"/>
                </a:lnTo>
                <a:lnTo>
                  <a:pt x="828" y="876"/>
                </a:lnTo>
                <a:lnTo>
                  <a:pt x="878" y="826"/>
                </a:lnTo>
                <a:lnTo>
                  <a:pt x="923" y="770"/>
                </a:lnTo>
                <a:lnTo>
                  <a:pt x="957" y="708"/>
                </a:lnTo>
                <a:lnTo>
                  <a:pt x="979" y="641"/>
                </a:lnTo>
                <a:lnTo>
                  <a:pt x="996" y="568"/>
                </a:lnTo>
                <a:lnTo>
                  <a:pt x="1002" y="496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5" name=""/>
          <p:cNvSpPr/>
          <p:nvPr/>
        </p:nvSpPr>
        <p:spPr>
          <a:xfrm flipH="1" flipV="1">
            <a:off x="735120" y="2247840"/>
            <a:ext cx="368280" cy="4017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6" name=""/>
          <p:cNvSpPr/>
          <p:nvPr/>
        </p:nvSpPr>
        <p:spPr>
          <a:xfrm>
            <a:off x="436680" y="2112840"/>
            <a:ext cx="360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7" name=""/>
          <p:cNvSpPr/>
          <p:nvPr/>
        </p:nvSpPr>
        <p:spPr>
          <a:xfrm>
            <a:off x="3159000" y="2378160"/>
            <a:ext cx="359280" cy="360720"/>
          </a:xfrm>
          <a:custGeom>
            <a:avLst/>
            <a:gdLst/>
            <a:ahLst/>
            <a:rect l="0" t="0" r="r" b="b"/>
            <a:pathLst>
              <a:path fill="none" w="998" h="1002">
                <a:moveTo>
                  <a:pt x="998" y="497"/>
                </a:moveTo>
                <a:lnTo>
                  <a:pt x="992" y="430"/>
                </a:lnTo>
                <a:lnTo>
                  <a:pt x="981" y="357"/>
                </a:lnTo>
                <a:lnTo>
                  <a:pt x="953" y="290"/>
                </a:lnTo>
                <a:lnTo>
                  <a:pt x="920" y="229"/>
                </a:lnTo>
                <a:lnTo>
                  <a:pt x="881" y="173"/>
                </a:lnTo>
                <a:lnTo>
                  <a:pt x="825" y="123"/>
                </a:lnTo>
                <a:lnTo>
                  <a:pt x="769" y="78"/>
                </a:lnTo>
                <a:lnTo>
                  <a:pt x="706" y="44"/>
                </a:lnTo>
                <a:lnTo>
                  <a:pt x="639" y="22"/>
                </a:lnTo>
                <a:lnTo>
                  <a:pt x="572" y="5"/>
                </a:lnTo>
                <a:lnTo>
                  <a:pt x="499" y="0"/>
                </a:lnTo>
                <a:lnTo>
                  <a:pt x="426" y="5"/>
                </a:lnTo>
                <a:lnTo>
                  <a:pt x="359" y="22"/>
                </a:lnTo>
                <a:lnTo>
                  <a:pt x="292" y="44"/>
                </a:lnTo>
                <a:lnTo>
                  <a:pt x="229" y="78"/>
                </a:lnTo>
                <a:lnTo>
                  <a:pt x="173" y="123"/>
                </a:lnTo>
                <a:lnTo>
                  <a:pt x="117" y="173"/>
                </a:lnTo>
                <a:lnTo>
                  <a:pt x="78" y="229"/>
                </a:lnTo>
                <a:lnTo>
                  <a:pt x="44" y="290"/>
                </a:lnTo>
                <a:lnTo>
                  <a:pt x="16" y="357"/>
                </a:lnTo>
                <a:lnTo>
                  <a:pt x="5" y="430"/>
                </a:lnTo>
                <a:lnTo>
                  <a:pt x="0" y="497"/>
                </a:lnTo>
                <a:lnTo>
                  <a:pt x="5" y="571"/>
                </a:lnTo>
                <a:lnTo>
                  <a:pt x="16" y="638"/>
                </a:lnTo>
                <a:lnTo>
                  <a:pt x="44" y="705"/>
                </a:lnTo>
                <a:lnTo>
                  <a:pt x="78" y="772"/>
                </a:lnTo>
                <a:lnTo>
                  <a:pt x="117" y="828"/>
                </a:lnTo>
                <a:lnTo>
                  <a:pt x="173" y="878"/>
                </a:lnTo>
                <a:lnTo>
                  <a:pt x="229" y="918"/>
                </a:lnTo>
                <a:lnTo>
                  <a:pt x="292" y="951"/>
                </a:lnTo>
                <a:lnTo>
                  <a:pt x="359" y="979"/>
                </a:lnTo>
                <a:lnTo>
                  <a:pt x="426" y="996"/>
                </a:lnTo>
                <a:lnTo>
                  <a:pt x="499" y="1002"/>
                </a:lnTo>
                <a:lnTo>
                  <a:pt x="572" y="996"/>
                </a:lnTo>
                <a:lnTo>
                  <a:pt x="639" y="979"/>
                </a:lnTo>
                <a:lnTo>
                  <a:pt x="706" y="951"/>
                </a:lnTo>
                <a:lnTo>
                  <a:pt x="769" y="918"/>
                </a:lnTo>
                <a:lnTo>
                  <a:pt x="825" y="878"/>
                </a:lnTo>
                <a:lnTo>
                  <a:pt x="881" y="828"/>
                </a:lnTo>
                <a:lnTo>
                  <a:pt x="920" y="772"/>
                </a:lnTo>
                <a:lnTo>
                  <a:pt x="953" y="705"/>
                </a:lnTo>
                <a:lnTo>
                  <a:pt x="981" y="638"/>
                </a:lnTo>
                <a:lnTo>
                  <a:pt x="992" y="571"/>
                </a:lnTo>
                <a:lnTo>
                  <a:pt x="998" y="49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8" name=""/>
          <p:cNvSpPr/>
          <p:nvPr/>
        </p:nvSpPr>
        <p:spPr>
          <a:xfrm>
            <a:off x="3159000" y="2556000"/>
            <a:ext cx="358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9" name=""/>
          <p:cNvSpPr/>
          <p:nvPr/>
        </p:nvSpPr>
        <p:spPr>
          <a:xfrm>
            <a:off x="4603680" y="2670120"/>
            <a:ext cx="2667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0" name=""/>
          <p:cNvSpPr/>
          <p:nvPr/>
        </p:nvSpPr>
        <p:spPr>
          <a:xfrm>
            <a:off x="4603680" y="2610000"/>
            <a:ext cx="0" cy="118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1" name=""/>
          <p:cNvSpPr/>
          <p:nvPr/>
        </p:nvSpPr>
        <p:spPr>
          <a:xfrm>
            <a:off x="4603680" y="2610000"/>
            <a:ext cx="103320" cy="60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2" name=""/>
          <p:cNvSpPr/>
          <p:nvPr/>
        </p:nvSpPr>
        <p:spPr>
          <a:xfrm>
            <a:off x="4603680" y="2610000"/>
            <a:ext cx="103680" cy="119520"/>
          </a:xfrm>
          <a:custGeom>
            <a:avLst/>
            <a:gdLst/>
            <a:ahLst/>
            <a:rect l="0" t="0" r="r" b="b"/>
            <a:pathLst>
              <a:path w="288" h="332">
                <a:moveTo>
                  <a:pt x="0" y="0"/>
                </a:moveTo>
                <a:lnTo>
                  <a:pt x="288" y="163"/>
                </a:lnTo>
                <a:lnTo>
                  <a:pt x="0" y="332"/>
                </a:lnTo>
                <a:lnTo>
                  <a:pt x="0" y="0"/>
                </a:lnTo>
                <a:close/>
              </a:path>
            </a:pathLst>
          </a:custGeom>
          <a:solidFill>
            <a:srgbClr val="f2fefd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3" name=""/>
          <p:cNvSpPr/>
          <p:nvPr/>
        </p:nvSpPr>
        <p:spPr>
          <a:xfrm flipV="1">
            <a:off x="4603680" y="2670120"/>
            <a:ext cx="103320" cy="586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7560" bIns="7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4" name=""/>
          <p:cNvSpPr/>
          <p:nvPr/>
        </p:nvSpPr>
        <p:spPr>
          <a:xfrm flipV="1">
            <a:off x="7502400" y="2189160"/>
            <a:ext cx="320760" cy="447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5" name=""/>
          <p:cNvSpPr/>
          <p:nvPr/>
        </p:nvSpPr>
        <p:spPr>
          <a:xfrm>
            <a:off x="8110440" y="2097000"/>
            <a:ext cx="359280" cy="357480"/>
          </a:xfrm>
          <a:custGeom>
            <a:avLst/>
            <a:gdLst/>
            <a:ahLst/>
            <a:rect l="0" t="0" r="r" b="b"/>
            <a:pathLst>
              <a:path fill="none" w="998" h="993">
                <a:moveTo>
                  <a:pt x="998" y="497"/>
                </a:moveTo>
                <a:lnTo>
                  <a:pt x="993" y="423"/>
                </a:lnTo>
                <a:lnTo>
                  <a:pt x="976" y="356"/>
                </a:lnTo>
                <a:lnTo>
                  <a:pt x="954" y="289"/>
                </a:lnTo>
                <a:lnTo>
                  <a:pt x="920" y="228"/>
                </a:lnTo>
                <a:lnTo>
                  <a:pt x="876" y="167"/>
                </a:lnTo>
                <a:lnTo>
                  <a:pt x="826" y="117"/>
                </a:lnTo>
                <a:lnTo>
                  <a:pt x="770" y="78"/>
                </a:lnTo>
                <a:lnTo>
                  <a:pt x="708" y="44"/>
                </a:lnTo>
                <a:lnTo>
                  <a:pt x="641" y="16"/>
                </a:lnTo>
                <a:lnTo>
                  <a:pt x="568" y="0"/>
                </a:lnTo>
                <a:lnTo>
                  <a:pt x="502" y="0"/>
                </a:lnTo>
                <a:lnTo>
                  <a:pt x="429" y="0"/>
                </a:lnTo>
                <a:lnTo>
                  <a:pt x="357" y="16"/>
                </a:lnTo>
                <a:lnTo>
                  <a:pt x="290" y="44"/>
                </a:lnTo>
                <a:lnTo>
                  <a:pt x="228" y="78"/>
                </a:lnTo>
                <a:lnTo>
                  <a:pt x="172" y="117"/>
                </a:lnTo>
                <a:lnTo>
                  <a:pt x="122" y="167"/>
                </a:lnTo>
                <a:lnTo>
                  <a:pt x="77" y="228"/>
                </a:lnTo>
                <a:lnTo>
                  <a:pt x="44" y="289"/>
                </a:lnTo>
                <a:lnTo>
                  <a:pt x="22" y="356"/>
                </a:lnTo>
                <a:lnTo>
                  <a:pt x="5" y="423"/>
                </a:lnTo>
                <a:lnTo>
                  <a:pt x="0" y="497"/>
                </a:lnTo>
                <a:lnTo>
                  <a:pt x="5" y="563"/>
                </a:lnTo>
                <a:lnTo>
                  <a:pt x="22" y="636"/>
                </a:lnTo>
                <a:lnTo>
                  <a:pt x="44" y="703"/>
                </a:lnTo>
                <a:lnTo>
                  <a:pt x="77" y="764"/>
                </a:lnTo>
                <a:lnTo>
                  <a:pt x="122" y="820"/>
                </a:lnTo>
                <a:lnTo>
                  <a:pt x="172" y="870"/>
                </a:lnTo>
                <a:lnTo>
                  <a:pt x="228" y="915"/>
                </a:lnTo>
                <a:lnTo>
                  <a:pt x="290" y="948"/>
                </a:lnTo>
                <a:lnTo>
                  <a:pt x="357" y="976"/>
                </a:lnTo>
                <a:lnTo>
                  <a:pt x="429" y="987"/>
                </a:lnTo>
                <a:lnTo>
                  <a:pt x="502" y="993"/>
                </a:lnTo>
                <a:lnTo>
                  <a:pt x="568" y="987"/>
                </a:lnTo>
                <a:lnTo>
                  <a:pt x="641" y="976"/>
                </a:lnTo>
                <a:lnTo>
                  <a:pt x="708" y="948"/>
                </a:lnTo>
                <a:lnTo>
                  <a:pt x="770" y="915"/>
                </a:lnTo>
                <a:lnTo>
                  <a:pt x="826" y="870"/>
                </a:lnTo>
                <a:lnTo>
                  <a:pt x="876" y="820"/>
                </a:lnTo>
                <a:lnTo>
                  <a:pt x="920" y="764"/>
                </a:lnTo>
                <a:lnTo>
                  <a:pt x="954" y="703"/>
                </a:lnTo>
                <a:lnTo>
                  <a:pt x="976" y="636"/>
                </a:lnTo>
                <a:lnTo>
                  <a:pt x="993" y="563"/>
                </a:lnTo>
                <a:lnTo>
                  <a:pt x="998" y="497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6" name=""/>
          <p:cNvSpPr/>
          <p:nvPr/>
        </p:nvSpPr>
        <p:spPr>
          <a:xfrm>
            <a:off x="7750080" y="1860480"/>
            <a:ext cx="359280" cy="360720"/>
          </a:xfrm>
          <a:custGeom>
            <a:avLst/>
            <a:gdLst/>
            <a:ahLst/>
            <a:rect l="0" t="0" r="r" b="b"/>
            <a:pathLst>
              <a:path fill="none" w="998" h="1002">
                <a:moveTo>
                  <a:pt x="998" y="504"/>
                </a:moveTo>
                <a:lnTo>
                  <a:pt x="998" y="430"/>
                </a:lnTo>
                <a:lnTo>
                  <a:pt x="981" y="363"/>
                </a:lnTo>
                <a:lnTo>
                  <a:pt x="953" y="296"/>
                </a:lnTo>
                <a:lnTo>
                  <a:pt x="920" y="229"/>
                </a:lnTo>
                <a:lnTo>
                  <a:pt x="881" y="173"/>
                </a:lnTo>
                <a:lnTo>
                  <a:pt x="830" y="123"/>
                </a:lnTo>
                <a:lnTo>
                  <a:pt x="769" y="83"/>
                </a:lnTo>
                <a:lnTo>
                  <a:pt x="706" y="50"/>
                </a:lnTo>
                <a:lnTo>
                  <a:pt x="639" y="22"/>
                </a:lnTo>
                <a:lnTo>
                  <a:pt x="572" y="5"/>
                </a:lnTo>
                <a:lnTo>
                  <a:pt x="499" y="0"/>
                </a:lnTo>
                <a:lnTo>
                  <a:pt x="426" y="5"/>
                </a:lnTo>
                <a:lnTo>
                  <a:pt x="359" y="22"/>
                </a:lnTo>
                <a:lnTo>
                  <a:pt x="292" y="50"/>
                </a:lnTo>
                <a:lnTo>
                  <a:pt x="229" y="83"/>
                </a:lnTo>
                <a:lnTo>
                  <a:pt x="173" y="123"/>
                </a:lnTo>
                <a:lnTo>
                  <a:pt x="123" y="173"/>
                </a:lnTo>
                <a:lnTo>
                  <a:pt x="78" y="229"/>
                </a:lnTo>
                <a:lnTo>
                  <a:pt x="44" y="296"/>
                </a:lnTo>
                <a:lnTo>
                  <a:pt x="16" y="363"/>
                </a:lnTo>
                <a:lnTo>
                  <a:pt x="5" y="430"/>
                </a:lnTo>
                <a:lnTo>
                  <a:pt x="0" y="504"/>
                </a:lnTo>
                <a:lnTo>
                  <a:pt x="5" y="576"/>
                </a:lnTo>
                <a:lnTo>
                  <a:pt x="16" y="644"/>
                </a:lnTo>
                <a:lnTo>
                  <a:pt x="44" y="711"/>
                </a:lnTo>
                <a:lnTo>
                  <a:pt x="78" y="772"/>
                </a:lnTo>
                <a:lnTo>
                  <a:pt x="123" y="828"/>
                </a:lnTo>
                <a:lnTo>
                  <a:pt x="173" y="878"/>
                </a:lnTo>
                <a:lnTo>
                  <a:pt x="229" y="923"/>
                </a:lnTo>
                <a:lnTo>
                  <a:pt x="292" y="957"/>
                </a:lnTo>
                <a:lnTo>
                  <a:pt x="359" y="985"/>
                </a:lnTo>
                <a:lnTo>
                  <a:pt x="426" y="996"/>
                </a:lnTo>
                <a:lnTo>
                  <a:pt x="499" y="1002"/>
                </a:lnTo>
                <a:lnTo>
                  <a:pt x="572" y="996"/>
                </a:lnTo>
                <a:lnTo>
                  <a:pt x="639" y="985"/>
                </a:lnTo>
                <a:lnTo>
                  <a:pt x="706" y="957"/>
                </a:lnTo>
                <a:lnTo>
                  <a:pt x="769" y="923"/>
                </a:lnTo>
                <a:lnTo>
                  <a:pt x="830" y="878"/>
                </a:lnTo>
                <a:lnTo>
                  <a:pt x="881" y="828"/>
                </a:lnTo>
                <a:lnTo>
                  <a:pt x="920" y="772"/>
                </a:lnTo>
                <a:lnTo>
                  <a:pt x="953" y="711"/>
                </a:lnTo>
                <a:lnTo>
                  <a:pt x="981" y="644"/>
                </a:lnTo>
                <a:lnTo>
                  <a:pt x="998" y="576"/>
                </a:lnTo>
                <a:lnTo>
                  <a:pt x="998" y="504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7" name=""/>
          <p:cNvSpPr/>
          <p:nvPr/>
        </p:nvSpPr>
        <p:spPr>
          <a:xfrm>
            <a:off x="8110440" y="2274840"/>
            <a:ext cx="358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8" name=""/>
          <p:cNvSpPr/>
          <p:nvPr/>
        </p:nvSpPr>
        <p:spPr>
          <a:xfrm>
            <a:off x="7750080" y="2043000"/>
            <a:ext cx="3589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9" name=""/>
          <p:cNvSpPr txBox="1"/>
          <p:nvPr/>
        </p:nvSpPr>
        <p:spPr>
          <a:xfrm>
            <a:off x="436680" y="2070000"/>
            <a:ext cx="37476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A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0" name=""/>
          <p:cNvSpPr txBox="1"/>
          <p:nvPr/>
        </p:nvSpPr>
        <p:spPr>
          <a:xfrm>
            <a:off x="1428840" y="4794120"/>
            <a:ext cx="37476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A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1" name=""/>
          <p:cNvSpPr txBox="1"/>
          <p:nvPr/>
        </p:nvSpPr>
        <p:spPr>
          <a:xfrm>
            <a:off x="1778040" y="4808520"/>
            <a:ext cx="37476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A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2" name=""/>
          <p:cNvSpPr txBox="1"/>
          <p:nvPr/>
        </p:nvSpPr>
        <p:spPr>
          <a:xfrm>
            <a:off x="3174840" y="2516040"/>
            <a:ext cx="36684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B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3" name=""/>
          <p:cNvSpPr txBox="1"/>
          <p:nvPr/>
        </p:nvSpPr>
        <p:spPr>
          <a:xfrm>
            <a:off x="2797200" y="4808520"/>
            <a:ext cx="36684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B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4" name=""/>
          <p:cNvSpPr txBox="1"/>
          <p:nvPr/>
        </p:nvSpPr>
        <p:spPr>
          <a:xfrm>
            <a:off x="3146400" y="4808520"/>
            <a:ext cx="36684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B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5" name=""/>
          <p:cNvSpPr txBox="1"/>
          <p:nvPr/>
        </p:nvSpPr>
        <p:spPr>
          <a:xfrm>
            <a:off x="241200" y="4751280"/>
            <a:ext cx="30492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6" name=""/>
          <p:cNvSpPr txBox="1"/>
          <p:nvPr/>
        </p:nvSpPr>
        <p:spPr>
          <a:xfrm>
            <a:off x="5019840" y="4599000"/>
            <a:ext cx="29700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7" name=""/>
          <p:cNvSpPr txBox="1"/>
          <p:nvPr/>
        </p:nvSpPr>
        <p:spPr>
          <a:xfrm>
            <a:off x="4836960" y="2530440"/>
            <a:ext cx="29700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8" name=""/>
          <p:cNvSpPr txBox="1"/>
          <p:nvPr/>
        </p:nvSpPr>
        <p:spPr>
          <a:xfrm>
            <a:off x="7756560" y="2000160"/>
            <a:ext cx="37476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A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9" name=""/>
          <p:cNvSpPr txBox="1"/>
          <p:nvPr/>
        </p:nvSpPr>
        <p:spPr>
          <a:xfrm>
            <a:off x="8120160" y="2236680"/>
            <a:ext cx="36684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B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0" name=""/>
          <p:cNvSpPr txBox="1"/>
          <p:nvPr/>
        </p:nvSpPr>
        <p:spPr>
          <a:xfrm>
            <a:off x="6149880" y="4695840"/>
            <a:ext cx="37476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A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1" name=""/>
          <p:cNvSpPr txBox="1"/>
          <p:nvPr/>
        </p:nvSpPr>
        <p:spPr>
          <a:xfrm>
            <a:off x="6862680" y="4751280"/>
            <a:ext cx="36684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B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2" name=""/>
          <p:cNvSpPr txBox="1"/>
          <p:nvPr/>
        </p:nvSpPr>
        <p:spPr>
          <a:xfrm>
            <a:off x="7464600" y="4751280"/>
            <a:ext cx="36684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B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3" name=""/>
          <p:cNvSpPr txBox="1"/>
          <p:nvPr/>
        </p:nvSpPr>
        <p:spPr>
          <a:xfrm>
            <a:off x="8204040" y="4808520"/>
            <a:ext cx="374760" cy="27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2fefd"/>
                </a:solidFill>
                <a:latin typeface="Times New Roman"/>
                <a:ea typeface="Times New Roman"/>
              </a:rPr>
              <a:t>A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4" name=""/>
          <p:cNvSpPr txBox="1"/>
          <p:nvPr/>
        </p:nvSpPr>
        <p:spPr>
          <a:xfrm>
            <a:off x="299880" y="274680"/>
            <a:ext cx="835488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imary Datum Axis -- Datum Target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n Two Cylindrical Surf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5" name=""/>
          <p:cNvSpPr txBox="1"/>
          <p:nvPr/>
        </p:nvSpPr>
        <p:spPr>
          <a:xfrm>
            <a:off x="771480" y="2590920"/>
            <a:ext cx="7772400" cy="176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ondary Datum Axis (RF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6" name=""/>
          <p:cNvSpPr/>
          <p:nvPr/>
        </p:nvSpPr>
        <p:spPr>
          <a:xfrm>
            <a:off x="973080" y="2809800"/>
            <a:ext cx="7348680" cy="14209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7" name=""/>
          <p:cNvSpPr txBox="1"/>
          <p:nvPr/>
        </p:nvSpPr>
        <p:spPr>
          <a:xfrm>
            <a:off x="685800" y="60948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ondary Datum Axis R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8" name=""/>
          <p:cNvSpPr txBox="1"/>
          <p:nvPr/>
        </p:nvSpPr>
        <p:spPr>
          <a:xfrm>
            <a:off x="822240" y="2597040"/>
            <a:ext cx="757548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atum axis may be established from a set of three equally spaced target points on a secondary cylindrical datum feature (RFS) in relationship to a primary datum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9" name=""/>
          <p:cNvGrpSpPr/>
          <p:nvPr/>
        </p:nvGrpSpPr>
        <p:grpSpPr>
          <a:xfrm>
            <a:off x="162000" y="804960"/>
            <a:ext cx="8813880" cy="4991040"/>
            <a:chOff x="162000" y="804960"/>
            <a:chExt cx="8813880" cy="4991040"/>
          </a:xfrm>
        </p:grpSpPr>
        <p:sp>
          <p:nvSpPr>
            <p:cNvPr id="4900" name=""/>
            <p:cNvSpPr/>
            <p:nvPr/>
          </p:nvSpPr>
          <p:spPr>
            <a:xfrm flipV="1">
              <a:off x="2592360" y="2052720"/>
              <a:ext cx="295200" cy="3301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"/>
            <p:cNvSpPr/>
            <p:nvPr/>
          </p:nvSpPr>
          <p:spPr>
            <a:xfrm flipH="1">
              <a:off x="2689200" y="4251240"/>
              <a:ext cx="365040" cy="11448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"/>
            <p:cNvSpPr/>
            <p:nvPr/>
          </p:nvSpPr>
          <p:spPr>
            <a:xfrm>
              <a:off x="2827440" y="1739880"/>
              <a:ext cx="354240" cy="356040"/>
            </a:xfrm>
            <a:custGeom>
              <a:avLst/>
              <a:gdLst/>
              <a:ahLst/>
              <a:rect l="0" t="0" r="r" b="b"/>
              <a:pathLst>
                <a:path fill="none" w="984" h="989">
                  <a:moveTo>
                    <a:pt x="0" y="494"/>
                  </a:moveTo>
                  <a:lnTo>
                    <a:pt x="984" y="494"/>
                  </a:lnTo>
                  <a:lnTo>
                    <a:pt x="977" y="414"/>
                  </a:lnTo>
                  <a:lnTo>
                    <a:pt x="962" y="342"/>
                  </a:lnTo>
                  <a:lnTo>
                    <a:pt x="933" y="269"/>
                  </a:lnTo>
                  <a:lnTo>
                    <a:pt x="890" y="203"/>
                  </a:lnTo>
                  <a:lnTo>
                    <a:pt x="839" y="137"/>
                  </a:lnTo>
                  <a:lnTo>
                    <a:pt x="781" y="94"/>
                  </a:lnTo>
                  <a:lnTo>
                    <a:pt x="716" y="50"/>
                  </a:lnTo>
                  <a:lnTo>
                    <a:pt x="644" y="21"/>
                  </a:lnTo>
                  <a:lnTo>
                    <a:pt x="572" y="0"/>
                  </a:lnTo>
                  <a:lnTo>
                    <a:pt x="491" y="0"/>
                  </a:lnTo>
                  <a:lnTo>
                    <a:pt x="412" y="0"/>
                  </a:lnTo>
                  <a:lnTo>
                    <a:pt x="339" y="21"/>
                  </a:lnTo>
                  <a:lnTo>
                    <a:pt x="267" y="50"/>
                  </a:lnTo>
                  <a:lnTo>
                    <a:pt x="202" y="94"/>
                  </a:lnTo>
                  <a:lnTo>
                    <a:pt x="144" y="137"/>
                  </a:lnTo>
                  <a:lnTo>
                    <a:pt x="93" y="203"/>
                  </a:lnTo>
                  <a:lnTo>
                    <a:pt x="50" y="269"/>
                  </a:lnTo>
                  <a:lnTo>
                    <a:pt x="21" y="342"/>
                  </a:lnTo>
                  <a:lnTo>
                    <a:pt x="7" y="414"/>
                  </a:lnTo>
                  <a:lnTo>
                    <a:pt x="0" y="494"/>
                  </a:lnTo>
                  <a:lnTo>
                    <a:pt x="7" y="567"/>
                  </a:lnTo>
                  <a:lnTo>
                    <a:pt x="21" y="647"/>
                  </a:lnTo>
                  <a:lnTo>
                    <a:pt x="50" y="720"/>
                  </a:lnTo>
                  <a:lnTo>
                    <a:pt x="93" y="786"/>
                  </a:lnTo>
                  <a:lnTo>
                    <a:pt x="144" y="844"/>
                  </a:lnTo>
                  <a:lnTo>
                    <a:pt x="202" y="895"/>
                  </a:lnTo>
                  <a:lnTo>
                    <a:pt x="267" y="931"/>
                  </a:lnTo>
                  <a:lnTo>
                    <a:pt x="339" y="960"/>
                  </a:lnTo>
                  <a:lnTo>
                    <a:pt x="412" y="982"/>
                  </a:lnTo>
                  <a:lnTo>
                    <a:pt x="491" y="989"/>
                  </a:lnTo>
                  <a:lnTo>
                    <a:pt x="572" y="982"/>
                  </a:lnTo>
                  <a:lnTo>
                    <a:pt x="644" y="960"/>
                  </a:lnTo>
                  <a:lnTo>
                    <a:pt x="716" y="931"/>
                  </a:lnTo>
                  <a:lnTo>
                    <a:pt x="781" y="895"/>
                  </a:lnTo>
                  <a:lnTo>
                    <a:pt x="839" y="844"/>
                  </a:lnTo>
                  <a:lnTo>
                    <a:pt x="890" y="786"/>
                  </a:lnTo>
                  <a:lnTo>
                    <a:pt x="933" y="720"/>
                  </a:lnTo>
                  <a:lnTo>
                    <a:pt x="962" y="647"/>
                  </a:lnTo>
                  <a:lnTo>
                    <a:pt x="977" y="567"/>
                  </a:lnTo>
                  <a:lnTo>
                    <a:pt x="984" y="494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"/>
            <p:cNvSpPr/>
            <p:nvPr/>
          </p:nvSpPr>
          <p:spPr>
            <a:xfrm flipH="1">
              <a:off x="1522440" y="3298680"/>
              <a:ext cx="1905120" cy="6778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"/>
            <p:cNvSpPr/>
            <p:nvPr/>
          </p:nvSpPr>
          <p:spPr>
            <a:xfrm>
              <a:off x="822240" y="4019400"/>
              <a:ext cx="578160" cy="157680"/>
            </a:xfrm>
            <a:custGeom>
              <a:avLst/>
              <a:gdLst/>
              <a:ahLst/>
              <a:rect l="0" t="0" r="r" b="b"/>
              <a:pathLst>
                <a:path fill="none" w="1606" h="438">
                  <a:moveTo>
                    <a:pt x="1606" y="0"/>
                  </a:moveTo>
                  <a:lnTo>
                    <a:pt x="363" y="438"/>
                  </a:lnTo>
                  <a:lnTo>
                    <a:pt x="0" y="438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5" name=""/>
            <p:cNvSpPr/>
            <p:nvPr/>
          </p:nvSpPr>
          <p:spPr>
            <a:xfrm>
              <a:off x="3424320" y="3254400"/>
              <a:ext cx="125640" cy="66960"/>
            </a:xfrm>
            <a:custGeom>
              <a:avLst/>
              <a:gdLst/>
              <a:ahLst/>
              <a:rect l="0" t="0" r="r" b="b"/>
              <a:pathLst>
                <a:path w="349" h="186">
                  <a:moveTo>
                    <a:pt x="0" y="66"/>
                  </a:moveTo>
                  <a:lnTo>
                    <a:pt x="35" y="186"/>
                  </a:lnTo>
                  <a:lnTo>
                    <a:pt x="349" y="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6" name=""/>
            <p:cNvSpPr/>
            <p:nvPr/>
          </p:nvSpPr>
          <p:spPr>
            <a:xfrm>
              <a:off x="1400040" y="3956040"/>
              <a:ext cx="127440" cy="63720"/>
            </a:xfrm>
            <a:custGeom>
              <a:avLst/>
              <a:gdLst/>
              <a:ahLst/>
              <a:rect l="0" t="0" r="r" b="b"/>
              <a:pathLst>
                <a:path w="354" h="177">
                  <a:moveTo>
                    <a:pt x="318" y="0"/>
                  </a:moveTo>
                  <a:lnTo>
                    <a:pt x="354" y="113"/>
                  </a:lnTo>
                  <a:lnTo>
                    <a:pt x="0" y="177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7" name=""/>
            <p:cNvSpPr/>
            <p:nvPr/>
          </p:nvSpPr>
          <p:spPr>
            <a:xfrm>
              <a:off x="304920" y="4052880"/>
              <a:ext cx="518040" cy="252720"/>
            </a:xfrm>
            <a:custGeom>
              <a:avLst/>
              <a:gdLst/>
              <a:ahLst/>
              <a:rect l="0" t="0" r="r" b="b"/>
              <a:pathLst>
                <a:path fill="none" w="1439" h="702">
                  <a:moveTo>
                    <a:pt x="0" y="702"/>
                  </a:moveTo>
                  <a:lnTo>
                    <a:pt x="1439" y="702"/>
                  </a:lnTo>
                  <a:lnTo>
                    <a:pt x="1439" y="0"/>
                  </a:lnTo>
                  <a:lnTo>
                    <a:pt x="0" y="0"/>
                  </a:lnTo>
                  <a:lnTo>
                    <a:pt x="0" y="702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8" name=""/>
            <p:cNvSpPr/>
            <p:nvPr/>
          </p:nvSpPr>
          <p:spPr>
            <a:xfrm>
              <a:off x="3419640" y="4386240"/>
              <a:ext cx="912600" cy="7286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9" name=""/>
            <p:cNvSpPr/>
            <p:nvPr/>
          </p:nvSpPr>
          <p:spPr>
            <a:xfrm flipV="1">
              <a:off x="2475000" y="1268280"/>
              <a:ext cx="0" cy="11620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0" name=""/>
            <p:cNvSpPr/>
            <p:nvPr/>
          </p:nvSpPr>
          <p:spPr>
            <a:xfrm>
              <a:off x="4359240" y="2760840"/>
              <a:ext cx="421200" cy="2207160"/>
            </a:xfrm>
            <a:custGeom>
              <a:avLst/>
              <a:gdLst/>
              <a:ahLst/>
              <a:rect l="0" t="0" r="r" b="b"/>
              <a:pathLst>
                <a:path fill="none" w="1170" h="6131">
                  <a:moveTo>
                    <a:pt x="0" y="6131"/>
                  </a:moveTo>
                  <a:lnTo>
                    <a:pt x="145" y="5913"/>
                  </a:lnTo>
                  <a:lnTo>
                    <a:pt x="290" y="5681"/>
                  </a:lnTo>
                  <a:lnTo>
                    <a:pt x="421" y="5449"/>
                  </a:lnTo>
                  <a:lnTo>
                    <a:pt x="538" y="5210"/>
                  </a:lnTo>
                  <a:lnTo>
                    <a:pt x="654" y="4963"/>
                  </a:lnTo>
                  <a:lnTo>
                    <a:pt x="755" y="4717"/>
                  </a:lnTo>
                  <a:lnTo>
                    <a:pt x="842" y="4462"/>
                  </a:lnTo>
                  <a:lnTo>
                    <a:pt x="923" y="4208"/>
                  </a:lnTo>
                  <a:lnTo>
                    <a:pt x="996" y="3947"/>
                  </a:lnTo>
                  <a:lnTo>
                    <a:pt x="1054" y="3685"/>
                  </a:lnTo>
                  <a:lnTo>
                    <a:pt x="1097" y="3424"/>
                  </a:lnTo>
                  <a:lnTo>
                    <a:pt x="1134" y="3156"/>
                  </a:lnTo>
                  <a:lnTo>
                    <a:pt x="1156" y="2888"/>
                  </a:lnTo>
                  <a:lnTo>
                    <a:pt x="1170" y="2619"/>
                  </a:lnTo>
                  <a:lnTo>
                    <a:pt x="1170" y="2351"/>
                  </a:lnTo>
                  <a:lnTo>
                    <a:pt x="1163" y="2082"/>
                  </a:lnTo>
                  <a:lnTo>
                    <a:pt x="1141" y="1814"/>
                  </a:lnTo>
                  <a:lnTo>
                    <a:pt x="1112" y="1553"/>
                  </a:lnTo>
                  <a:lnTo>
                    <a:pt x="1068" y="1283"/>
                  </a:lnTo>
                  <a:lnTo>
                    <a:pt x="1018" y="1022"/>
                  </a:lnTo>
                  <a:lnTo>
                    <a:pt x="952" y="761"/>
                  </a:lnTo>
                  <a:lnTo>
                    <a:pt x="880" y="507"/>
                  </a:lnTo>
                  <a:lnTo>
                    <a:pt x="792" y="253"/>
                  </a:lnTo>
                  <a:lnTo>
                    <a:pt x="690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1" name=""/>
            <p:cNvSpPr/>
            <p:nvPr/>
          </p:nvSpPr>
          <p:spPr>
            <a:xfrm>
              <a:off x="2606760" y="1336680"/>
              <a:ext cx="1881720" cy="1175040"/>
            </a:xfrm>
            <a:custGeom>
              <a:avLst/>
              <a:gdLst/>
              <a:ahLst/>
              <a:rect l="0" t="0" r="r" b="b"/>
              <a:pathLst>
                <a:path fill="none" w="5227" h="3264">
                  <a:moveTo>
                    <a:pt x="5227" y="3264"/>
                  </a:moveTo>
                  <a:lnTo>
                    <a:pt x="5089" y="3032"/>
                  </a:lnTo>
                  <a:lnTo>
                    <a:pt x="4944" y="2807"/>
                  </a:lnTo>
                  <a:lnTo>
                    <a:pt x="4792" y="2589"/>
                  </a:lnTo>
                  <a:lnTo>
                    <a:pt x="4625" y="2372"/>
                  </a:lnTo>
                  <a:lnTo>
                    <a:pt x="4452" y="2169"/>
                  </a:lnTo>
                  <a:lnTo>
                    <a:pt x="4270" y="1973"/>
                  </a:lnTo>
                  <a:lnTo>
                    <a:pt x="4082" y="1784"/>
                  </a:lnTo>
                  <a:lnTo>
                    <a:pt x="3885" y="1602"/>
                  </a:lnTo>
                  <a:lnTo>
                    <a:pt x="3682" y="1428"/>
                  </a:lnTo>
                  <a:lnTo>
                    <a:pt x="3472" y="1261"/>
                  </a:lnTo>
                  <a:lnTo>
                    <a:pt x="3255" y="1109"/>
                  </a:lnTo>
                  <a:lnTo>
                    <a:pt x="3030" y="957"/>
                  </a:lnTo>
                  <a:lnTo>
                    <a:pt x="2798" y="826"/>
                  </a:lnTo>
                  <a:lnTo>
                    <a:pt x="2566" y="696"/>
                  </a:lnTo>
                  <a:lnTo>
                    <a:pt x="2320" y="580"/>
                  </a:lnTo>
                  <a:lnTo>
                    <a:pt x="2081" y="471"/>
                  </a:lnTo>
                  <a:lnTo>
                    <a:pt x="1827" y="377"/>
                  </a:lnTo>
                  <a:lnTo>
                    <a:pt x="1573" y="290"/>
                  </a:lnTo>
                  <a:lnTo>
                    <a:pt x="1320" y="210"/>
                  </a:lnTo>
                  <a:lnTo>
                    <a:pt x="1058" y="145"/>
                  </a:lnTo>
                  <a:lnTo>
                    <a:pt x="797" y="94"/>
                  </a:lnTo>
                  <a:lnTo>
                    <a:pt x="529" y="50"/>
                  </a:lnTo>
                  <a:lnTo>
                    <a:pt x="268" y="2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2" name=""/>
            <p:cNvSpPr/>
            <p:nvPr/>
          </p:nvSpPr>
          <p:spPr>
            <a:xfrm>
              <a:off x="4280040" y="4954680"/>
              <a:ext cx="95760" cy="119520"/>
            </a:xfrm>
            <a:custGeom>
              <a:avLst/>
              <a:gdLst/>
              <a:ahLst/>
              <a:rect l="0" t="0" r="r" b="b"/>
              <a:pathLst>
                <a:path w="266" h="332">
                  <a:moveTo>
                    <a:pt x="266" y="73"/>
                  </a:moveTo>
                  <a:lnTo>
                    <a:pt x="170" y="0"/>
                  </a:lnTo>
                  <a:lnTo>
                    <a:pt x="0" y="332"/>
                  </a:lnTo>
                  <a:lnTo>
                    <a:pt x="266" y="7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3" name=""/>
            <p:cNvSpPr/>
            <p:nvPr/>
          </p:nvSpPr>
          <p:spPr>
            <a:xfrm>
              <a:off x="2475000" y="1314360"/>
              <a:ext cx="132120" cy="41760"/>
            </a:xfrm>
            <a:custGeom>
              <a:avLst/>
              <a:gdLst/>
              <a:ahLst/>
              <a:rect l="0" t="0" r="r" b="b"/>
              <a:pathLst>
                <a:path w="367" h="116">
                  <a:moveTo>
                    <a:pt x="367" y="116"/>
                  </a:moveTo>
                  <a:lnTo>
                    <a:pt x="367" y="0"/>
                  </a:lnTo>
                  <a:lnTo>
                    <a:pt x="0" y="43"/>
                  </a:lnTo>
                  <a:lnTo>
                    <a:pt x="367" y="11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4" name=""/>
            <p:cNvSpPr/>
            <p:nvPr/>
          </p:nvSpPr>
          <p:spPr>
            <a:xfrm>
              <a:off x="4317840" y="2511360"/>
              <a:ext cx="466920" cy="249480"/>
            </a:xfrm>
            <a:custGeom>
              <a:avLst/>
              <a:gdLst/>
              <a:ahLst/>
              <a:rect l="0" t="0" r="r" b="b"/>
              <a:pathLst>
                <a:path fill="none" w="1297" h="693">
                  <a:moveTo>
                    <a:pt x="0" y="693"/>
                  </a:moveTo>
                  <a:lnTo>
                    <a:pt x="1297" y="693"/>
                  </a:lnTo>
                  <a:lnTo>
                    <a:pt x="1297" y="0"/>
                  </a:lnTo>
                  <a:lnTo>
                    <a:pt x="0" y="0"/>
                  </a:lnTo>
                  <a:lnTo>
                    <a:pt x="0" y="693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5" name=""/>
            <p:cNvSpPr/>
            <p:nvPr/>
          </p:nvSpPr>
          <p:spPr>
            <a:xfrm>
              <a:off x="3510000" y="3156120"/>
              <a:ext cx="108360" cy="483120"/>
            </a:xfrm>
            <a:custGeom>
              <a:avLst/>
              <a:gdLst/>
              <a:ahLst/>
              <a:rect l="0" t="0" r="r" b="b"/>
              <a:pathLst>
                <a:path fill="none" w="301" h="1342">
                  <a:moveTo>
                    <a:pt x="301" y="1342"/>
                  </a:moveTo>
                  <a:lnTo>
                    <a:pt x="294" y="1146"/>
                  </a:lnTo>
                  <a:lnTo>
                    <a:pt x="273" y="957"/>
                  </a:lnTo>
                  <a:lnTo>
                    <a:pt x="244" y="769"/>
                  </a:lnTo>
                  <a:lnTo>
                    <a:pt x="208" y="580"/>
                  </a:lnTo>
                  <a:lnTo>
                    <a:pt x="158" y="392"/>
                  </a:lnTo>
                  <a:lnTo>
                    <a:pt x="93" y="210"/>
                  </a:lnTo>
                  <a:lnTo>
                    <a:pt x="21" y="36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6" name=""/>
            <p:cNvSpPr/>
            <p:nvPr/>
          </p:nvSpPr>
          <p:spPr>
            <a:xfrm>
              <a:off x="3409920" y="2982960"/>
              <a:ext cx="55800" cy="86040"/>
            </a:xfrm>
            <a:custGeom>
              <a:avLst/>
              <a:gdLst/>
              <a:ahLst/>
              <a:rect l="0" t="0" r="r" b="b"/>
              <a:pathLst>
                <a:path fill="none" w="155" h="239">
                  <a:moveTo>
                    <a:pt x="155" y="239"/>
                  </a:moveTo>
                  <a:lnTo>
                    <a:pt x="118" y="179"/>
                  </a:lnTo>
                  <a:lnTo>
                    <a:pt x="14" y="1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7" name=""/>
            <p:cNvSpPr/>
            <p:nvPr/>
          </p:nvSpPr>
          <p:spPr>
            <a:xfrm>
              <a:off x="2957400" y="2602080"/>
              <a:ext cx="392400" cy="303480"/>
            </a:xfrm>
            <a:custGeom>
              <a:avLst/>
              <a:gdLst/>
              <a:ahLst/>
              <a:rect l="0" t="0" r="r" b="b"/>
              <a:pathLst>
                <a:path fill="none" w="1090" h="843">
                  <a:moveTo>
                    <a:pt x="1090" y="843"/>
                  </a:moveTo>
                  <a:lnTo>
                    <a:pt x="1032" y="777"/>
                  </a:lnTo>
                  <a:lnTo>
                    <a:pt x="901" y="632"/>
                  </a:lnTo>
                  <a:lnTo>
                    <a:pt x="763" y="501"/>
                  </a:lnTo>
                  <a:lnTo>
                    <a:pt x="618" y="377"/>
                  </a:lnTo>
                  <a:lnTo>
                    <a:pt x="464" y="268"/>
                  </a:lnTo>
                  <a:lnTo>
                    <a:pt x="297" y="159"/>
                  </a:lnTo>
                  <a:lnTo>
                    <a:pt x="130" y="6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8" name=""/>
            <p:cNvSpPr/>
            <p:nvPr/>
          </p:nvSpPr>
          <p:spPr>
            <a:xfrm>
              <a:off x="2770200" y="2533680"/>
              <a:ext cx="97200" cy="33840"/>
            </a:xfrm>
            <a:custGeom>
              <a:avLst/>
              <a:gdLst/>
              <a:ahLst/>
              <a:rect l="0" t="0" r="r" b="b"/>
              <a:pathLst>
                <a:path fill="none" w="270" h="94">
                  <a:moveTo>
                    <a:pt x="270" y="94"/>
                  </a:moveTo>
                  <a:lnTo>
                    <a:pt x="124" y="39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9" name=""/>
            <p:cNvSpPr/>
            <p:nvPr/>
          </p:nvSpPr>
          <p:spPr>
            <a:xfrm>
              <a:off x="2181240" y="2495520"/>
              <a:ext cx="492480" cy="38520"/>
            </a:xfrm>
            <a:custGeom>
              <a:avLst/>
              <a:gdLst/>
              <a:ahLst/>
              <a:rect l="0" t="0" r="r" b="b"/>
              <a:pathLst>
                <a:path fill="none" w="1368" h="107">
                  <a:moveTo>
                    <a:pt x="1368" y="50"/>
                  </a:moveTo>
                  <a:lnTo>
                    <a:pt x="1201" y="21"/>
                  </a:lnTo>
                  <a:lnTo>
                    <a:pt x="1006" y="7"/>
                  </a:lnTo>
                  <a:lnTo>
                    <a:pt x="818" y="0"/>
                  </a:lnTo>
                  <a:lnTo>
                    <a:pt x="629" y="7"/>
                  </a:lnTo>
                  <a:lnTo>
                    <a:pt x="433" y="21"/>
                  </a:lnTo>
                  <a:lnTo>
                    <a:pt x="245" y="50"/>
                  </a:lnTo>
                  <a:lnTo>
                    <a:pt x="57" y="93"/>
                  </a:lnTo>
                  <a:lnTo>
                    <a:pt x="0" y="107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0" name=""/>
            <p:cNvSpPr/>
            <p:nvPr/>
          </p:nvSpPr>
          <p:spPr>
            <a:xfrm>
              <a:off x="1990800" y="2567160"/>
              <a:ext cx="93960" cy="35280"/>
            </a:xfrm>
            <a:custGeom>
              <a:avLst/>
              <a:gdLst/>
              <a:ahLst/>
              <a:rect l="0" t="0" r="r" b="b"/>
              <a:pathLst>
                <a:path fill="none" w="261" h="98">
                  <a:moveTo>
                    <a:pt x="261" y="0"/>
                  </a:moveTo>
                  <a:lnTo>
                    <a:pt x="224" y="13"/>
                  </a:lnTo>
                  <a:lnTo>
                    <a:pt x="37" y="84"/>
                  </a:lnTo>
                  <a:lnTo>
                    <a:pt x="0" y="98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1" name=""/>
            <p:cNvSpPr/>
            <p:nvPr/>
          </p:nvSpPr>
          <p:spPr>
            <a:xfrm>
              <a:off x="1539720" y="2651040"/>
              <a:ext cx="363960" cy="332280"/>
            </a:xfrm>
            <a:custGeom>
              <a:avLst/>
              <a:gdLst/>
              <a:ahLst/>
              <a:rect l="0" t="0" r="r" b="b"/>
              <a:pathLst>
                <a:path fill="none" w="1011" h="923">
                  <a:moveTo>
                    <a:pt x="1011" y="0"/>
                  </a:moveTo>
                  <a:lnTo>
                    <a:pt x="960" y="28"/>
                  </a:lnTo>
                  <a:lnTo>
                    <a:pt x="801" y="136"/>
                  </a:lnTo>
                  <a:lnTo>
                    <a:pt x="640" y="245"/>
                  </a:lnTo>
                  <a:lnTo>
                    <a:pt x="495" y="368"/>
                  </a:lnTo>
                  <a:lnTo>
                    <a:pt x="356" y="497"/>
                  </a:lnTo>
                  <a:lnTo>
                    <a:pt x="225" y="641"/>
                  </a:lnTo>
                  <a:lnTo>
                    <a:pt x="101" y="786"/>
                  </a:lnTo>
                  <a:lnTo>
                    <a:pt x="0" y="923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2" name=""/>
            <p:cNvSpPr/>
            <p:nvPr/>
          </p:nvSpPr>
          <p:spPr>
            <a:xfrm>
              <a:off x="1441440" y="3068640"/>
              <a:ext cx="44640" cy="87840"/>
            </a:xfrm>
            <a:custGeom>
              <a:avLst/>
              <a:gdLst/>
              <a:ahLst/>
              <a:rect l="0" t="0" r="r" b="b"/>
              <a:pathLst>
                <a:path fill="none" w="124" h="244">
                  <a:moveTo>
                    <a:pt x="124" y="0"/>
                  </a:moveTo>
                  <a:lnTo>
                    <a:pt x="66" y="108"/>
                  </a:lnTo>
                  <a:lnTo>
                    <a:pt x="0" y="244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3" name=""/>
            <p:cNvSpPr/>
            <p:nvPr/>
          </p:nvSpPr>
          <p:spPr>
            <a:xfrm>
              <a:off x="1333440" y="3246480"/>
              <a:ext cx="70200" cy="492480"/>
            </a:xfrm>
            <a:custGeom>
              <a:avLst/>
              <a:gdLst/>
              <a:ahLst/>
              <a:rect l="0" t="0" r="r" b="b"/>
              <a:pathLst>
                <a:path fill="none" w="195" h="1368">
                  <a:moveTo>
                    <a:pt x="195" y="0"/>
                  </a:moveTo>
                  <a:lnTo>
                    <a:pt x="142" y="138"/>
                  </a:lnTo>
                  <a:lnTo>
                    <a:pt x="89" y="327"/>
                  </a:lnTo>
                  <a:lnTo>
                    <a:pt x="52" y="516"/>
                  </a:lnTo>
                  <a:lnTo>
                    <a:pt x="22" y="706"/>
                  </a:lnTo>
                  <a:lnTo>
                    <a:pt x="0" y="895"/>
                  </a:lnTo>
                  <a:lnTo>
                    <a:pt x="0" y="1091"/>
                  </a:lnTo>
                  <a:lnTo>
                    <a:pt x="0" y="1280"/>
                  </a:lnTo>
                  <a:lnTo>
                    <a:pt x="7" y="1368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4" name=""/>
            <p:cNvSpPr/>
            <p:nvPr/>
          </p:nvSpPr>
          <p:spPr>
            <a:xfrm>
              <a:off x="1351080" y="3835440"/>
              <a:ext cx="20880" cy="98640"/>
            </a:xfrm>
            <a:custGeom>
              <a:avLst/>
              <a:gdLst/>
              <a:ahLst/>
              <a:rect l="0" t="0" r="r" b="b"/>
              <a:pathLst>
                <a:path fill="none" w="58" h="274">
                  <a:moveTo>
                    <a:pt x="0" y="0"/>
                  </a:moveTo>
                  <a:lnTo>
                    <a:pt x="6" y="21"/>
                  </a:lnTo>
                  <a:lnTo>
                    <a:pt x="39" y="209"/>
                  </a:lnTo>
                  <a:lnTo>
                    <a:pt x="58" y="274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47520" bIns="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5" name=""/>
            <p:cNvSpPr/>
            <p:nvPr/>
          </p:nvSpPr>
          <p:spPr>
            <a:xfrm>
              <a:off x="1403280" y="4027320"/>
              <a:ext cx="265320" cy="417960"/>
            </a:xfrm>
            <a:custGeom>
              <a:avLst/>
              <a:gdLst/>
              <a:ahLst/>
              <a:rect l="0" t="0" r="r" b="b"/>
              <a:pathLst>
                <a:path fill="none" w="737" h="1161">
                  <a:moveTo>
                    <a:pt x="0" y="0"/>
                  </a:moveTo>
                  <a:lnTo>
                    <a:pt x="14" y="43"/>
                  </a:lnTo>
                  <a:lnTo>
                    <a:pt x="86" y="217"/>
                  </a:lnTo>
                  <a:lnTo>
                    <a:pt x="173" y="392"/>
                  </a:lnTo>
                  <a:lnTo>
                    <a:pt x="267" y="559"/>
                  </a:lnTo>
                  <a:lnTo>
                    <a:pt x="369" y="718"/>
                  </a:lnTo>
                  <a:lnTo>
                    <a:pt x="484" y="870"/>
                  </a:lnTo>
                  <a:lnTo>
                    <a:pt x="607" y="1016"/>
                  </a:lnTo>
                  <a:lnTo>
                    <a:pt x="737" y="1161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6" name=""/>
            <p:cNvSpPr/>
            <p:nvPr/>
          </p:nvSpPr>
          <p:spPr>
            <a:xfrm>
              <a:off x="1743120" y="4508640"/>
              <a:ext cx="78120" cy="66960"/>
            </a:xfrm>
            <a:custGeom>
              <a:avLst/>
              <a:gdLst/>
              <a:ahLst/>
              <a:rect l="0" t="0" r="r" b="b"/>
              <a:pathLst>
                <a:path fill="none" w="217" h="186">
                  <a:moveTo>
                    <a:pt x="0" y="0"/>
                  </a:moveTo>
                  <a:lnTo>
                    <a:pt x="79" y="77"/>
                  </a:lnTo>
                  <a:lnTo>
                    <a:pt x="217" y="186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7" name=""/>
            <p:cNvSpPr/>
            <p:nvPr/>
          </p:nvSpPr>
          <p:spPr>
            <a:xfrm>
              <a:off x="1903320" y="4626000"/>
              <a:ext cx="471960" cy="149760"/>
            </a:xfrm>
            <a:custGeom>
              <a:avLst/>
              <a:gdLst/>
              <a:ahLst/>
              <a:rect l="0" t="0" r="r" b="b"/>
              <a:pathLst>
                <a:path fill="none" w="1311" h="416">
                  <a:moveTo>
                    <a:pt x="0" y="0"/>
                  </a:moveTo>
                  <a:lnTo>
                    <a:pt x="115" y="65"/>
                  </a:lnTo>
                  <a:lnTo>
                    <a:pt x="282" y="146"/>
                  </a:lnTo>
                  <a:lnTo>
                    <a:pt x="464" y="219"/>
                  </a:lnTo>
                  <a:lnTo>
                    <a:pt x="644" y="284"/>
                  </a:lnTo>
                  <a:lnTo>
                    <a:pt x="825" y="336"/>
                  </a:lnTo>
                  <a:lnTo>
                    <a:pt x="1015" y="380"/>
                  </a:lnTo>
                  <a:lnTo>
                    <a:pt x="1203" y="409"/>
                  </a:lnTo>
                  <a:lnTo>
                    <a:pt x="1311" y="416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8" name=""/>
            <p:cNvSpPr/>
            <p:nvPr/>
          </p:nvSpPr>
          <p:spPr>
            <a:xfrm>
              <a:off x="2475000" y="4775040"/>
              <a:ext cx="98640" cy="5040"/>
            </a:xfrm>
            <a:custGeom>
              <a:avLst/>
              <a:gdLst/>
              <a:ahLst/>
              <a:rect l="0" t="0" r="r" b="b"/>
              <a:pathLst>
                <a:path fill="none" w="274" h="14">
                  <a:moveTo>
                    <a:pt x="0" y="14"/>
                  </a:moveTo>
                  <a:lnTo>
                    <a:pt x="188" y="6"/>
                  </a:lnTo>
                  <a:lnTo>
                    <a:pt x="274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9" name=""/>
            <p:cNvSpPr/>
            <p:nvPr/>
          </p:nvSpPr>
          <p:spPr>
            <a:xfrm>
              <a:off x="2673360" y="4575240"/>
              <a:ext cx="457560" cy="186120"/>
            </a:xfrm>
            <a:custGeom>
              <a:avLst/>
              <a:gdLst/>
              <a:ahLst/>
              <a:rect l="0" t="0" r="r" b="b"/>
              <a:pathLst>
                <a:path fill="none" w="1271" h="517">
                  <a:moveTo>
                    <a:pt x="0" y="517"/>
                  </a:moveTo>
                  <a:lnTo>
                    <a:pt x="21" y="517"/>
                  </a:lnTo>
                  <a:lnTo>
                    <a:pt x="210" y="474"/>
                  </a:lnTo>
                  <a:lnTo>
                    <a:pt x="391" y="424"/>
                  </a:lnTo>
                  <a:lnTo>
                    <a:pt x="573" y="359"/>
                  </a:lnTo>
                  <a:lnTo>
                    <a:pt x="755" y="287"/>
                  </a:lnTo>
                  <a:lnTo>
                    <a:pt x="922" y="208"/>
                  </a:lnTo>
                  <a:lnTo>
                    <a:pt x="1089" y="114"/>
                  </a:lnTo>
                  <a:lnTo>
                    <a:pt x="1256" y="7"/>
                  </a:lnTo>
                  <a:lnTo>
                    <a:pt x="1271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0" name=""/>
            <p:cNvSpPr/>
            <p:nvPr/>
          </p:nvSpPr>
          <p:spPr>
            <a:xfrm>
              <a:off x="3208320" y="4444920"/>
              <a:ext cx="73440" cy="63720"/>
            </a:xfrm>
            <a:custGeom>
              <a:avLst/>
              <a:gdLst/>
              <a:ahLst/>
              <a:rect l="0" t="0" r="r" b="b"/>
              <a:pathLst>
                <a:path fill="none" w="204" h="177">
                  <a:moveTo>
                    <a:pt x="0" y="177"/>
                  </a:moveTo>
                  <a:lnTo>
                    <a:pt x="66" y="127"/>
                  </a:lnTo>
                  <a:lnTo>
                    <a:pt x="204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1" name=""/>
            <p:cNvSpPr/>
            <p:nvPr/>
          </p:nvSpPr>
          <p:spPr>
            <a:xfrm>
              <a:off x="3349800" y="3933720"/>
              <a:ext cx="225720" cy="435240"/>
            </a:xfrm>
            <a:custGeom>
              <a:avLst/>
              <a:gdLst/>
              <a:ahLst/>
              <a:rect l="0" t="0" r="r" b="b"/>
              <a:pathLst>
                <a:path fill="none" w="627" h="1209">
                  <a:moveTo>
                    <a:pt x="0" y="1209"/>
                  </a:moveTo>
                  <a:lnTo>
                    <a:pt x="64" y="1129"/>
                  </a:lnTo>
                  <a:lnTo>
                    <a:pt x="179" y="977"/>
                  </a:lnTo>
                  <a:lnTo>
                    <a:pt x="280" y="818"/>
                  </a:lnTo>
                  <a:lnTo>
                    <a:pt x="375" y="652"/>
                  </a:lnTo>
                  <a:lnTo>
                    <a:pt x="461" y="477"/>
                  </a:lnTo>
                  <a:lnTo>
                    <a:pt x="533" y="303"/>
                  </a:lnTo>
                  <a:lnTo>
                    <a:pt x="598" y="122"/>
                  </a:lnTo>
                  <a:lnTo>
                    <a:pt x="627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2" name=""/>
            <p:cNvSpPr/>
            <p:nvPr/>
          </p:nvSpPr>
          <p:spPr>
            <a:xfrm>
              <a:off x="3598920" y="3738600"/>
              <a:ext cx="16200" cy="97200"/>
            </a:xfrm>
            <a:custGeom>
              <a:avLst/>
              <a:gdLst/>
              <a:ahLst/>
              <a:rect l="0" t="0" r="r" b="b"/>
              <a:pathLst>
                <a:path fill="none" w="45" h="270">
                  <a:moveTo>
                    <a:pt x="0" y="270"/>
                  </a:moveTo>
                  <a:lnTo>
                    <a:pt x="27" y="102"/>
                  </a:lnTo>
                  <a:lnTo>
                    <a:pt x="45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3" name=""/>
            <p:cNvSpPr/>
            <p:nvPr/>
          </p:nvSpPr>
          <p:spPr>
            <a:xfrm>
              <a:off x="1822320" y="2984400"/>
              <a:ext cx="1306800" cy="1303560"/>
            </a:xfrm>
            <a:custGeom>
              <a:avLst/>
              <a:gdLst/>
              <a:ahLst/>
              <a:rect l="0" t="0" r="r" b="b"/>
              <a:pathLst>
                <a:path fill="none" w="3630" h="3621">
                  <a:moveTo>
                    <a:pt x="3630" y="1814"/>
                  </a:moveTo>
                  <a:lnTo>
                    <a:pt x="3622" y="1668"/>
                  </a:lnTo>
                  <a:lnTo>
                    <a:pt x="3608" y="1523"/>
                  </a:lnTo>
                  <a:lnTo>
                    <a:pt x="3579" y="1385"/>
                  </a:lnTo>
                  <a:lnTo>
                    <a:pt x="3543" y="1247"/>
                  </a:lnTo>
                  <a:lnTo>
                    <a:pt x="3492" y="1117"/>
                  </a:lnTo>
                  <a:lnTo>
                    <a:pt x="3434" y="986"/>
                  </a:lnTo>
                  <a:lnTo>
                    <a:pt x="3361" y="863"/>
                  </a:lnTo>
                  <a:lnTo>
                    <a:pt x="3281" y="747"/>
                  </a:lnTo>
                  <a:lnTo>
                    <a:pt x="3194" y="631"/>
                  </a:lnTo>
                  <a:lnTo>
                    <a:pt x="3100" y="529"/>
                  </a:lnTo>
                  <a:lnTo>
                    <a:pt x="2991" y="435"/>
                  </a:lnTo>
                  <a:lnTo>
                    <a:pt x="2882" y="340"/>
                  </a:lnTo>
                  <a:lnTo>
                    <a:pt x="2766" y="261"/>
                  </a:lnTo>
                  <a:lnTo>
                    <a:pt x="2635" y="195"/>
                  </a:lnTo>
                  <a:lnTo>
                    <a:pt x="2512" y="137"/>
                  </a:lnTo>
                  <a:lnTo>
                    <a:pt x="2374" y="87"/>
                  </a:lnTo>
                  <a:lnTo>
                    <a:pt x="2236" y="50"/>
                  </a:lnTo>
                  <a:lnTo>
                    <a:pt x="2098" y="21"/>
                  </a:lnTo>
                  <a:lnTo>
                    <a:pt x="1960" y="0"/>
                  </a:lnTo>
                  <a:lnTo>
                    <a:pt x="1814" y="0"/>
                  </a:lnTo>
                  <a:lnTo>
                    <a:pt x="1669" y="0"/>
                  </a:lnTo>
                  <a:lnTo>
                    <a:pt x="1531" y="21"/>
                  </a:lnTo>
                  <a:lnTo>
                    <a:pt x="1393" y="50"/>
                  </a:lnTo>
                  <a:lnTo>
                    <a:pt x="1255" y="87"/>
                  </a:lnTo>
                  <a:lnTo>
                    <a:pt x="1117" y="137"/>
                  </a:lnTo>
                  <a:lnTo>
                    <a:pt x="987" y="195"/>
                  </a:lnTo>
                  <a:lnTo>
                    <a:pt x="863" y="261"/>
                  </a:lnTo>
                  <a:lnTo>
                    <a:pt x="747" y="340"/>
                  </a:lnTo>
                  <a:lnTo>
                    <a:pt x="638" y="435"/>
                  </a:lnTo>
                  <a:lnTo>
                    <a:pt x="529" y="529"/>
                  </a:lnTo>
                  <a:lnTo>
                    <a:pt x="435" y="631"/>
                  </a:lnTo>
                  <a:lnTo>
                    <a:pt x="348" y="747"/>
                  </a:lnTo>
                  <a:lnTo>
                    <a:pt x="268" y="863"/>
                  </a:lnTo>
                  <a:lnTo>
                    <a:pt x="195" y="986"/>
                  </a:lnTo>
                  <a:lnTo>
                    <a:pt x="137" y="1117"/>
                  </a:lnTo>
                  <a:lnTo>
                    <a:pt x="87" y="1247"/>
                  </a:lnTo>
                  <a:lnTo>
                    <a:pt x="50" y="1385"/>
                  </a:lnTo>
                  <a:lnTo>
                    <a:pt x="21" y="1523"/>
                  </a:lnTo>
                  <a:lnTo>
                    <a:pt x="7" y="1668"/>
                  </a:lnTo>
                  <a:lnTo>
                    <a:pt x="0" y="1814"/>
                  </a:lnTo>
                  <a:lnTo>
                    <a:pt x="7" y="1952"/>
                  </a:lnTo>
                  <a:lnTo>
                    <a:pt x="21" y="2097"/>
                  </a:lnTo>
                  <a:lnTo>
                    <a:pt x="50" y="2235"/>
                  </a:lnTo>
                  <a:lnTo>
                    <a:pt x="87" y="2373"/>
                  </a:lnTo>
                  <a:lnTo>
                    <a:pt x="137" y="2504"/>
                  </a:lnTo>
                  <a:lnTo>
                    <a:pt x="195" y="2634"/>
                  </a:lnTo>
                  <a:lnTo>
                    <a:pt x="268" y="2758"/>
                  </a:lnTo>
                  <a:lnTo>
                    <a:pt x="348" y="2874"/>
                  </a:lnTo>
                  <a:lnTo>
                    <a:pt x="435" y="2990"/>
                  </a:lnTo>
                  <a:lnTo>
                    <a:pt x="529" y="3091"/>
                  </a:lnTo>
                  <a:lnTo>
                    <a:pt x="638" y="3186"/>
                  </a:lnTo>
                  <a:lnTo>
                    <a:pt x="747" y="3280"/>
                  </a:lnTo>
                  <a:lnTo>
                    <a:pt x="863" y="3360"/>
                  </a:lnTo>
                  <a:lnTo>
                    <a:pt x="987" y="3425"/>
                  </a:lnTo>
                  <a:lnTo>
                    <a:pt x="1117" y="3483"/>
                  </a:lnTo>
                  <a:lnTo>
                    <a:pt x="1255" y="3534"/>
                  </a:lnTo>
                  <a:lnTo>
                    <a:pt x="1393" y="3570"/>
                  </a:lnTo>
                  <a:lnTo>
                    <a:pt x="1531" y="3599"/>
                  </a:lnTo>
                  <a:lnTo>
                    <a:pt x="1669" y="3621"/>
                  </a:lnTo>
                  <a:lnTo>
                    <a:pt x="1814" y="3621"/>
                  </a:lnTo>
                  <a:lnTo>
                    <a:pt x="1960" y="3621"/>
                  </a:lnTo>
                  <a:lnTo>
                    <a:pt x="2098" y="3599"/>
                  </a:lnTo>
                  <a:lnTo>
                    <a:pt x="2236" y="3570"/>
                  </a:lnTo>
                  <a:lnTo>
                    <a:pt x="2374" y="3534"/>
                  </a:lnTo>
                  <a:lnTo>
                    <a:pt x="2512" y="3483"/>
                  </a:lnTo>
                  <a:lnTo>
                    <a:pt x="2635" y="3425"/>
                  </a:lnTo>
                  <a:lnTo>
                    <a:pt x="2766" y="3360"/>
                  </a:lnTo>
                  <a:lnTo>
                    <a:pt x="2882" y="3280"/>
                  </a:lnTo>
                  <a:lnTo>
                    <a:pt x="2991" y="3186"/>
                  </a:lnTo>
                  <a:lnTo>
                    <a:pt x="3100" y="3091"/>
                  </a:lnTo>
                  <a:lnTo>
                    <a:pt x="3194" y="2990"/>
                  </a:lnTo>
                  <a:lnTo>
                    <a:pt x="3281" y="2874"/>
                  </a:lnTo>
                  <a:lnTo>
                    <a:pt x="3361" y="2758"/>
                  </a:lnTo>
                  <a:lnTo>
                    <a:pt x="3434" y="2634"/>
                  </a:lnTo>
                  <a:lnTo>
                    <a:pt x="3492" y="2504"/>
                  </a:lnTo>
                  <a:lnTo>
                    <a:pt x="3543" y="2373"/>
                  </a:lnTo>
                  <a:lnTo>
                    <a:pt x="3579" y="2235"/>
                  </a:lnTo>
                  <a:lnTo>
                    <a:pt x="3608" y="2097"/>
                  </a:lnTo>
                  <a:lnTo>
                    <a:pt x="3622" y="1952"/>
                  </a:lnTo>
                  <a:lnTo>
                    <a:pt x="3630" y="1814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4" name=""/>
            <p:cNvSpPr/>
            <p:nvPr/>
          </p:nvSpPr>
          <p:spPr>
            <a:xfrm>
              <a:off x="1666800" y="2828880"/>
              <a:ext cx="1619640" cy="1618200"/>
            </a:xfrm>
            <a:custGeom>
              <a:avLst/>
              <a:gdLst/>
              <a:ahLst/>
              <a:rect l="0" t="0" r="r" b="b"/>
              <a:pathLst>
                <a:path fill="none" w="4499" h="4495">
                  <a:moveTo>
                    <a:pt x="4499" y="2247"/>
                  </a:moveTo>
                  <a:lnTo>
                    <a:pt x="4492" y="2081"/>
                  </a:lnTo>
                  <a:lnTo>
                    <a:pt x="4478" y="1921"/>
                  </a:lnTo>
                  <a:lnTo>
                    <a:pt x="4449" y="1769"/>
                  </a:lnTo>
                  <a:lnTo>
                    <a:pt x="4412" y="1609"/>
                  </a:lnTo>
                  <a:lnTo>
                    <a:pt x="4362" y="1457"/>
                  </a:lnTo>
                  <a:lnTo>
                    <a:pt x="4296" y="1312"/>
                  </a:lnTo>
                  <a:lnTo>
                    <a:pt x="4224" y="1167"/>
                  </a:lnTo>
                  <a:lnTo>
                    <a:pt x="4144" y="1029"/>
                  </a:lnTo>
                  <a:lnTo>
                    <a:pt x="4050" y="898"/>
                  </a:lnTo>
                  <a:lnTo>
                    <a:pt x="3948" y="775"/>
                  </a:lnTo>
                  <a:lnTo>
                    <a:pt x="3839" y="652"/>
                  </a:lnTo>
                  <a:lnTo>
                    <a:pt x="3723" y="543"/>
                  </a:lnTo>
                  <a:lnTo>
                    <a:pt x="3600" y="442"/>
                  </a:lnTo>
                  <a:lnTo>
                    <a:pt x="3469" y="355"/>
                  </a:lnTo>
                  <a:lnTo>
                    <a:pt x="3330" y="268"/>
                  </a:lnTo>
                  <a:lnTo>
                    <a:pt x="3185" y="202"/>
                  </a:lnTo>
                  <a:lnTo>
                    <a:pt x="3033" y="137"/>
                  </a:lnTo>
                  <a:lnTo>
                    <a:pt x="2881" y="86"/>
                  </a:lnTo>
                  <a:lnTo>
                    <a:pt x="2728" y="50"/>
                  </a:lnTo>
                  <a:lnTo>
                    <a:pt x="2569" y="21"/>
                  </a:lnTo>
                  <a:lnTo>
                    <a:pt x="2409" y="0"/>
                  </a:lnTo>
                  <a:lnTo>
                    <a:pt x="2249" y="0"/>
                  </a:lnTo>
                  <a:lnTo>
                    <a:pt x="2090" y="0"/>
                  </a:lnTo>
                  <a:lnTo>
                    <a:pt x="1930" y="21"/>
                  </a:lnTo>
                  <a:lnTo>
                    <a:pt x="1771" y="50"/>
                  </a:lnTo>
                  <a:lnTo>
                    <a:pt x="1618" y="86"/>
                  </a:lnTo>
                  <a:lnTo>
                    <a:pt x="1466" y="137"/>
                  </a:lnTo>
                  <a:lnTo>
                    <a:pt x="1314" y="202"/>
                  </a:lnTo>
                  <a:lnTo>
                    <a:pt x="1169" y="268"/>
                  </a:lnTo>
                  <a:lnTo>
                    <a:pt x="1030" y="355"/>
                  </a:lnTo>
                  <a:lnTo>
                    <a:pt x="899" y="442"/>
                  </a:lnTo>
                  <a:lnTo>
                    <a:pt x="776" y="543"/>
                  </a:lnTo>
                  <a:lnTo>
                    <a:pt x="660" y="652"/>
                  </a:lnTo>
                  <a:lnTo>
                    <a:pt x="551" y="775"/>
                  </a:lnTo>
                  <a:lnTo>
                    <a:pt x="449" y="898"/>
                  </a:lnTo>
                  <a:lnTo>
                    <a:pt x="355" y="1029"/>
                  </a:lnTo>
                  <a:lnTo>
                    <a:pt x="275" y="1167"/>
                  </a:lnTo>
                  <a:lnTo>
                    <a:pt x="203" y="1312"/>
                  </a:lnTo>
                  <a:lnTo>
                    <a:pt x="137" y="1457"/>
                  </a:lnTo>
                  <a:lnTo>
                    <a:pt x="87" y="1609"/>
                  </a:lnTo>
                  <a:lnTo>
                    <a:pt x="50" y="1769"/>
                  </a:lnTo>
                  <a:lnTo>
                    <a:pt x="21" y="1921"/>
                  </a:lnTo>
                  <a:lnTo>
                    <a:pt x="7" y="2081"/>
                  </a:lnTo>
                  <a:lnTo>
                    <a:pt x="0" y="2247"/>
                  </a:lnTo>
                  <a:lnTo>
                    <a:pt x="7" y="2407"/>
                  </a:lnTo>
                  <a:lnTo>
                    <a:pt x="21" y="2566"/>
                  </a:lnTo>
                  <a:lnTo>
                    <a:pt x="50" y="2718"/>
                  </a:lnTo>
                  <a:lnTo>
                    <a:pt x="87" y="2878"/>
                  </a:lnTo>
                  <a:lnTo>
                    <a:pt x="137" y="3030"/>
                  </a:lnTo>
                  <a:lnTo>
                    <a:pt x="203" y="3175"/>
                  </a:lnTo>
                  <a:lnTo>
                    <a:pt x="275" y="3320"/>
                  </a:lnTo>
                  <a:lnTo>
                    <a:pt x="355" y="3459"/>
                  </a:lnTo>
                  <a:lnTo>
                    <a:pt x="449" y="3589"/>
                  </a:lnTo>
                  <a:lnTo>
                    <a:pt x="551" y="3720"/>
                  </a:lnTo>
                  <a:lnTo>
                    <a:pt x="660" y="3835"/>
                  </a:lnTo>
                  <a:lnTo>
                    <a:pt x="776" y="3944"/>
                  </a:lnTo>
                  <a:lnTo>
                    <a:pt x="899" y="4046"/>
                  </a:lnTo>
                  <a:lnTo>
                    <a:pt x="1030" y="4133"/>
                  </a:lnTo>
                  <a:lnTo>
                    <a:pt x="1169" y="4220"/>
                  </a:lnTo>
                  <a:lnTo>
                    <a:pt x="1314" y="4285"/>
                  </a:lnTo>
                  <a:lnTo>
                    <a:pt x="1466" y="4350"/>
                  </a:lnTo>
                  <a:lnTo>
                    <a:pt x="1618" y="4401"/>
                  </a:lnTo>
                  <a:lnTo>
                    <a:pt x="1771" y="4437"/>
                  </a:lnTo>
                  <a:lnTo>
                    <a:pt x="1930" y="4466"/>
                  </a:lnTo>
                  <a:lnTo>
                    <a:pt x="2090" y="4488"/>
                  </a:lnTo>
                  <a:lnTo>
                    <a:pt x="2249" y="4495"/>
                  </a:lnTo>
                  <a:lnTo>
                    <a:pt x="2409" y="4488"/>
                  </a:lnTo>
                  <a:lnTo>
                    <a:pt x="2569" y="4466"/>
                  </a:lnTo>
                  <a:lnTo>
                    <a:pt x="2728" y="4437"/>
                  </a:lnTo>
                  <a:lnTo>
                    <a:pt x="2881" y="4401"/>
                  </a:lnTo>
                  <a:lnTo>
                    <a:pt x="3033" y="4350"/>
                  </a:lnTo>
                  <a:lnTo>
                    <a:pt x="3185" y="4285"/>
                  </a:lnTo>
                  <a:lnTo>
                    <a:pt x="3330" y="4220"/>
                  </a:lnTo>
                  <a:lnTo>
                    <a:pt x="3469" y="4133"/>
                  </a:lnTo>
                  <a:lnTo>
                    <a:pt x="3600" y="4046"/>
                  </a:lnTo>
                  <a:lnTo>
                    <a:pt x="3723" y="3944"/>
                  </a:lnTo>
                  <a:lnTo>
                    <a:pt x="3839" y="3835"/>
                  </a:lnTo>
                  <a:lnTo>
                    <a:pt x="3948" y="3720"/>
                  </a:lnTo>
                  <a:lnTo>
                    <a:pt x="4050" y="3589"/>
                  </a:lnTo>
                  <a:lnTo>
                    <a:pt x="4144" y="3459"/>
                  </a:lnTo>
                  <a:lnTo>
                    <a:pt x="4224" y="3320"/>
                  </a:lnTo>
                  <a:lnTo>
                    <a:pt x="4296" y="3175"/>
                  </a:lnTo>
                  <a:lnTo>
                    <a:pt x="4362" y="3030"/>
                  </a:lnTo>
                  <a:lnTo>
                    <a:pt x="4412" y="2878"/>
                  </a:lnTo>
                  <a:lnTo>
                    <a:pt x="4449" y="2718"/>
                  </a:lnTo>
                  <a:lnTo>
                    <a:pt x="4478" y="2566"/>
                  </a:lnTo>
                  <a:lnTo>
                    <a:pt x="4492" y="2407"/>
                  </a:lnTo>
                  <a:lnTo>
                    <a:pt x="4499" y="2247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5" name=""/>
            <p:cNvSpPr/>
            <p:nvPr/>
          </p:nvSpPr>
          <p:spPr>
            <a:xfrm>
              <a:off x="1000080" y="2163600"/>
              <a:ext cx="2949840" cy="2946600"/>
            </a:xfrm>
            <a:custGeom>
              <a:avLst/>
              <a:gdLst/>
              <a:ahLst/>
              <a:rect l="0" t="0" r="r" b="b"/>
              <a:pathLst>
                <a:path fill="none" w="8194" h="8185">
                  <a:moveTo>
                    <a:pt x="8194" y="4096"/>
                  </a:moveTo>
                  <a:lnTo>
                    <a:pt x="8187" y="3871"/>
                  </a:lnTo>
                  <a:lnTo>
                    <a:pt x="8165" y="3646"/>
                  </a:lnTo>
                  <a:lnTo>
                    <a:pt x="8136" y="3428"/>
                  </a:lnTo>
                  <a:lnTo>
                    <a:pt x="8100" y="3211"/>
                  </a:lnTo>
                  <a:lnTo>
                    <a:pt x="8041" y="2993"/>
                  </a:lnTo>
                  <a:lnTo>
                    <a:pt x="7976" y="2783"/>
                  </a:lnTo>
                  <a:lnTo>
                    <a:pt x="7904" y="2580"/>
                  </a:lnTo>
                  <a:lnTo>
                    <a:pt x="7817" y="2370"/>
                  </a:lnTo>
                  <a:lnTo>
                    <a:pt x="7715" y="2174"/>
                  </a:lnTo>
                  <a:lnTo>
                    <a:pt x="7606" y="1979"/>
                  </a:lnTo>
                  <a:lnTo>
                    <a:pt x="7490" y="1797"/>
                  </a:lnTo>
                  <a:lnTo>
                    <a:pt x="7360" y="1616"/>
                  </a:lnTo>
                  <a:lnTo>
                    <a:pt x="7222" y="1442"/>
                  </a:lnTo>
                  <a:lnTo>
                    <a:pt x="7070" y="1275"/>
                  </a:lnTo>
                  <a:lnTo>
                    <a:pt x="6910" y="1123"/>
                  </a:lnTo>
                  <a:lnTo>
                    <a:pt x="6751" y="971"/>
                  </a:lnTo>
                  <a:lnTo>
                    <a:pt x="6577" y="833"/>
                  </a:lnTo>
                  <a:lnTo>
                    <a:pt x="6396" y="703"/>
                  </a:lnTo>
                  <a:lnTo>
                    <a:pt x="6207" y="587"/>
                  </a:lnTo>
                  <a:lnTo>
                    <a:pt x="6019" y="478"/>
                  </a:lnTo>
                  <a:lnTo>
                    <a:pt x="5816" y="376"/>
                  </a:lnTo>
                  <a:lnTo>
                    <a:pt x="5613" y="289"/>
                  </a:lnTo>
                  <a:lnTo>
                    <a:pt x="5402" y="217"/>
                  </a:lnTo>
                  <a:lnTo>
                    <a:pt x="5192" y="152"/>
                  </a:lnTo>
                  <a:lnTo>
                    <a:pt x="4974" y="94"/>
                  </a:lnTo>
                  <a:lnTo>
                    <a:pt x="4757" y="50"/>
                  </a:lnTo>
                  <a:lnTo>
                    <a:pt x="4539" y="21"/>
                  </a:lnTo>
                  <a:lnTo>
                    <a:pt x="4322" y="7"/>
                  </a:lnTo>
                  <a:lnTo>
                    <a:pt x="4096" y="0"/>
                  </a:lnTo>
                  <a:lnTo>
                    <a:pt x="3871" y="7"/>
                  </a:lnTo>
                  <a:lnTo>
                    <a:pt x="3654" y="21"/>
                  </a:lnTo>
                  <a:lnTo>
                    <a:pt x="3436" y="50"/>
                  </a:lnTo>
                  <a:lnTo>
                    <a:pt x="3219" y="94"/>
                  </a:lnTo>
                  <a:lnTo>
                    <a:pt x="3001" y="152"/>
                  </a:lnTo>
                  <a:lnTo>
                    <a:pt x="2791" y="217"/>
                  </a:lnTo>
                  <a:lnTo>
                    <a:pt x="2581" y="289"/>
                  </a:lnTo>
                  <a:lnTo>
                    <a:pt x="2378" y="376"/>
                  </a:lnTo>
                  <a:lnTo>
                    <a:pt x="2175" y="478"/>
                  </a:lnTo>
                  <a:lnTo>
                    <a:pt x="1986" y="587"/>
                  </a:lnTo>
                  <a:lnTo>
                    <a:pt x="1798" y="703"/>
                  </a:lnTo>
                  <a:lnTo>
                    <a:pt x="1616" y="833"/>
                  </a:lnTo>
                  <a:lnTo>
                    <a:pt x="1442" y="971"/>
                  </a:lnTo>
                  <a:lnTo>
                    <a:pt x="1283" y="1123"/>
                  </a:lnTo>
                  <a:lnTo>
                    <a:pt x="1123" y="1275"/>
                  </a:lnTo>
                  <a:lnTo>
                    <a:pt x="978" y="1442"/>
                  </a:lnTo>
                  <a:lnTo>
                    <a:pt x="833" y="1616"/>
                  </a:lnTo>
                  <a:lnTo>
                    <a:pt x="710" y="1797"/>
                  </a:lnTo>
                  <a:lnTo>
                    <a:pt x="587" y="1979"/>
                  </a:lnTo>
                  <a:lnTo>
                    <a:pt x="478" y="2174"/>
                  </a:lnTo>
                  <a:lnTo>
                    <a:pt x="377" y="2370"/>
                  </a:lnTo>
                  <a:lnTo>
                    <a:pt x="290" y="2580"/>
                  </a:lnTo>
                  <a:lnTo>
                    <a:pt x="217" y="2783"/>
                  </a:lnTo>
                  <a:lnTo>
                    <a:pt x="152" y="2993"/>
                  </a:lnTo>
                  <a:lnTo>
                    <a:pt x="94" y="3211"/>
                  </a:lnTo>
                  <a:lnTo>
                    <a:pt x="58" y="3428"/>
                  </a:lnTo>
                  <a:lnTo>
                    <a:pt x="29" y="3646"/>
                  </a:lnTo>
                  <a:lnTo>
                    <a:pt x="7" y="3871"/>
                  </a:lnTo>
                  <a:lnTo>
                    <a:pt x="0" y="4096"/>
                  </a:lnTo>
                  <a:lnTo>
                    <a:pt x="7" y="4314"/>
                  </a:lnTo>
                  <a:lnTo>
                    <a:pt x="29" y="4539"/>
                  </a:lnTo>
                  <a:lnTo>
                    <a:pt x="58" y="4756"/>
                  </a:lnTo>
                  <a:lnTo>
                    <a:pt x="94" y="4974"/>
                  </a:lnTo>
                  <a:lnTo>
                    <a:pt x="152" y="5191"/>
                  </a:lnTo>
                  <a:lnTo>
                    <a:pt x="217" y="5401"/>
                  </a:lnTo>
                  <a:lnTo>
                    <a:pt x="290" y="5604"/>
                  </a:lnTo>
                  <a:lnTo>
                    <a:pt x="377" y="5814"/>
                  </a:lnTo>
                  <a:lnTo>
                    <a:pt x="478" y="6010"/>
                  </a:lnTo>
                  <a:lnTo>
                    <a:pt x="587" y="6206"/>
                  </a:lnTo>
                  <a:lnTo>
                    <a:pt x="710" y="6387"/>
                  </a:lnTo>
                  <a:lnTo>
                    <a:pt x="833" y="6568"/>
                  </a:lnTo>
                  <a:lnTo>
                    <a:pt x="978" y="6742"/>
                  </a:lnTo>
                  <a:lnTo>
                    <a:pt x="1123" y="6909"/>
                  </a:lnTo>
                  <a:lnTo>
                    <a:pt x="1283" y="7061"/>
                  </a:lnTo>
                  <a:lnTo>
                    <a:pt x="1442" y="7214"/>
                  </a:lnTo>
                  <a:lnTo>
                    <a:pt x="1616" y="7351"/>
                  </a:lnTo>
                  <a:lnTo>
                    <a:pt x="1798" y="7482"/>
                  </a:lnTo>
                  <a:lnTo>
                    <a:pt x="1986" y="7598"/>
                  </a:lnTo>
                  <a:lnTo>
                    <a:pt x="2175" y="7706"/>
                  </a:lnTo>
                  <a:lnTo>
                    <a:pt x="2378" y="7808"/>
                  </a:lnTo>
                  <a:lnTo>
                    <a:pt x="2581" y="7895"/>
                  </a:lnTo>
                  <a:lnTo>
                    <a:pt x="2791" y="7967"/>
                  </a:lnTo>
                  <a:lnTo>
                    <a:pt x="3001" y="8033"/>
                  </a:lnTo>
                  <a:lnTo>
                    <a:pt x="3219" y="8091"/>
                  </a:lnTo>
                  <a:lnTo>
                    <a:pt x="3436" y="8134"/>
                  </a:lnTo>
                  <a:lnTo>
                    <a:pt x="3654" y="8163"/>
                  </a:lnTo>
                  <a:lnTo>
                    <a:pt x="3871" y="8178"/>
                  </a:lnTo>
                  <a:lnTo>
                    <a:pt x="4096" y="8185"/>
                  </a:lnTo>
                  <a:lnTo>
                    <a:pt x="4322" y="8178"/>
                  </a:lnTo>
                  <a:lnTo>
                    <a:pt x="4539" y="8163"/>
                  </a:lnTo>
                  <a:lnTo>
                    <a:pt x="4757" y="8134"/>
                  </a:lnTo>
                  <a:lnTo>
                    <a:pt x="4974" y="8091"/>
                  </a:lnTo>
                  <a:lnTo>
                    <a:pt x="5192" y="8033"/>
                  </a:lnTo>
                  <a:lnTo>
                    <a:pt x="5402" y="7967"/>
                  </a:lnTo>
                  <a:lnTo>
                    <a:pt x="5613" y="7895"/>
                  </a:lnTo>
                  <a:lnTo>
                    <a:pt x="5816" y="7808"/>
                  </a:lnTo>
                  <a:lnTo>
                    <a:pt x="6019" y="7706"/>
                  </a:lnTo>
                  <a:lnTo>
                    <a:pt x="6207" y="7598"/>
                  </a:lnTo>
                  <a:lnTo>
                    <a:pt x="6396" y="7482"/>
                  </a:lnTo>
                  <a:lnTo>
                    <a:pt x="6577" y="7351"/>
                  </a:lnTo>
                  <a:lnTo>
                    <a:pt x="6751" y="7214"/>
                  </a:lnTo>
                  <a:lnTo>
                    <a:pt x="6910" y="7061"/>
                  </a:lnTo>
                  <a:lnTo>
                    <a:pt x="7070" y="6909"/>
                  </a:lnTo>
                  <a:lnTo>
                    <a:pt x="7222" y="6742"/>
                  </a:lnTo>
                  <a:lnTo>
                    <a:pt x="7360" y="6568"/>
                  </a:lnTo>
                  <a:lnTo>
                    <a:pt x="7490" y="6387"/>
                  </a:lnTo>
                  <a:lnTo>
                    <a:pt x="7606" y="6206"/>
                  </a:lnTo>
                  <a:lnTo>
                    <a:pt x="7715" y="6010"/>
                  </a:lnTo>
                  <a:lnTo>
                    <a:pt x="7817" y="5814"/>
                  </a:lnTo>
                  <a:lnTo>
                    <a:pt x="7904" y="5604"/>
                  </a:lnTo>
                  <a:lnTo>
                    <a:pt x="7976" y="5401"/>
                  </a:lnTo>
                  <a:lnTo>
                    <a:pt x="8041" y="5191"/>
                  </a:lnTo>
                  <a:lnTo>
                    <a:pt x="8100" y="4974"/>
                  </a:lnTo>
                  <a:lnTo>
                    <a:pt x="8136" y="4756"/>
                  </a:lnTo>
                  <a:lnTo>
                    <a:pt x="8165" y="4539"/>
                  </a:lnTo>
                  <a:lnTo>
                    <a:pt x="8187" y="4314"/>
                  </a:lnTo>
                  <a:lnTo>
                    <a:pt x="8194" y="4096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6" name=""/>
            <p:cNvSpPr/>
            <p:nvPr/>
          </p:nvSpPr>
          <p:spPr>
            <a:xfrm flipV="1">
              <a:off x="2475000" y="1266840"/>
              <a:ext cx="0" cy="11635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7" name=""/>
            <p:cNvSpPr/>
            <p:nvPr/>
          </p:nvSpPr>
          <p:spPr>
            <a:xfrm flipH="1">
              <a:off x="615960" y="4386240"/>
              <a:ext cx="912960" cy="7286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8" name=""/>
            <p:cNvSpPr/>
            <p:nvPr/>
          </p:nvSpPr>
          <p:spPr>
            <a:xfrm>
              <a:off x="463680" y="1332000"/>
              <a:ext cx="1881720" cy="1176840"/>
            </a:xfrm>
            <a:custGeom>
              <a:avLst/>
              <a:gdLst/>
              <a:ahLst/>
              <a:rect l="0" t="0" r="r" b="b"/>
              <a:pathLst>
                <a:path fill="none" w="5227" h="3269">
                  <a:moveTo>
                    <a:pt x="5227" y="0"/>
                  </a:moveTo>
                  <a:lnTo>
                    <a:pt x="4959" y="21"/>
                  </a:lnTo>
                  <a:lnTo>
                    <a:pt x="4698" y="50"/>
                  </a:lnTo>
                  <a:lnTo>
                    <a:pt x="4430" y="94"/>
                  </a:lnTo>
                  <a:lnTo>
                    <a:pt x="4169" y="152"/>
                  </a:lnTo>
                  <a:lnTo>
                    <a:pt x="3907" y="217"/>
                  </a:lnTo>
                  <a:lnTo>
                    <a:pt x="3653" y="290"/>
                  </a:lnTo>
                  <a:lnTo>
                    <a:pt x="3400" y="377"/>
                  </a:lnTo>
                  <a:lnTo>
                    <a:pt x="3146" y="471"/>
                  </a:lnTo>
                  <a:lnTo>
                    <a:pt x="2900" y="580"/>
                  </a:lnTo>
                  <a:lnTo>
                    <a:pt x="2660" y="697"/>
                  </a:lnTo>
                  <a:lnTo>
                    <a:pt x="2428" y="828"/>
                  </a:lnTo>
                  <a:lnTo>
                    <a:pt x="2197" y="966"/>
                  </a:lnTo>
                  <a:lnTo>
                    <a:pt x="1972" y="1111"/>
                  </a:lnTo>
                  <a:lnTo>
                    <a:pt x="1754" y="1271"/>
                  </a:lnTo>
                  <a:lnTo>
                    <a:pt x="1544" y="1431"/>
                  </a:lnTo>
                  <a:lnTo>
                    <a:pt x="1334" y="1605"/>
                  </a:lnTo>
                  <a:lnTo>
                    <a:pt x="1137" y="1787"/>
                  </a:lnTo>
                  <a:lnTo>
                    <a:pt x="949" y="1976"/>
                  </a:lnTo>
                  <a:lnTo>
                    <a:pt x="768" y="2179"/>
                  </a:lnTo>
                  <a:lnTo>
                    <a:pt x="594" y="2382"/>
                  </a:lnTo>
                  <a:lnTo>
                    <a:pt x="434" y="2594"/>
                  </a:lnTo>
                  <a:lnTo>
                    <a:pt x="282" y="2812"/>
                  </a:lnTo>
                  <a:lnTo>
                    <a:pt x="130" y="3037"/>
                  </a:lnTo>
                  <a:lnTo>
                    <a:pt x="0" y="3269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9" name=""/>
            <p:cNvSpPr/>
            <p:nvPr/>
          </p:nvSpPr>
          <p:spPr>
            <a:xfrm>
              <a:off x="166680" y="2760840"/>
              <a:ext cx="422640" cy="2208600"/>
            </a:xfrm>
            <a:custGeom>
              <a:avLst/>
              <a:gdLst/>
              <a:ahLst/>
              <a:rect l="0" t="0" r="r" b="b"/>
              <a:pathLst>
                <a:path fill="none" w="1174" h="6135">
                  <a:moveTo>
                    <a:pt x="478" y="0"/>
                  </a:moveTo>
                  <a:lnTo>
                    <a:pt x="384" y="246"/>
                  </a:lnTo>
                  <a:lnTo>
                    <a:pt x="297" y="500"/>
                  </a:lnTo>
                  <a:lnTo>
                    <a:pt x="217" y="761"/>
                  </a:lnTo>
                  <a:lnTo>
                    <a:pt x="152" y="1022"/>
                  </a:lnTo>
                  <a:lnTo>
                    <a:pt x="101" y="1283"/>
                  </a:lnTo>
                  <a:lnTo>
                    <a:pt x="57" y="1552"/>
                  </a:lnTo>
                  <a:lnTo>
                    <a:pt x="28" y="1813"/>
                  </a:lnTo>
                  <a:lnTo>
                    <a:pt x="7" y="2081"/>
                  </a:lnTo>
                  <a:lnTo>
                    <a:pt x="0" y="2350"/>
                  </a:lnTo>
                  <a:lnTo>
                    <a:pt x="0" y="2618"/>
                  </a:lnTo>
                  <a:lnTo>
                    <a:pt x="14" y="2886"/>
                  </a:lnTo>
                  <a:lnTo>
                    <a:pt x="36" y="3154"/>
                  </a:lnTo>
                  <a:lnTo>
                    <a:pt x="72" y="3423"/>
                  </a:lnTo>
                  <a:lnTo>
                    <a:pt x="123" y="3684"/>
                  </a:lnTo>
                  <a:lnTo>
                    <a:pt x="181" y="3945"/>
                  </a:lnTo>
                  <a:lnTo>
                    <a:pt x="246" y="4206"/>
                  </a:lnTo>
                  <a:lnTo>
                    <a:pt x="326" y="4460"/>
                  </a:lnTo>
                  <a:lnTo>
                    <a:pt x="420" y="4714"/>
                  </a:lnTo>
                  <a:lnTo>
                    <a:pt x="522" y="4968"/>
                  </a:lnTo>
                  <a:lnTo>
                    <a:pt x="630" y="5207"/>
                  </a:lnTo>
                  <a:lnTo>
                    <a:pt x="754" y="5447"/>
                  </a:lnTo>
                  <a:lnTo>
                    <a:pt x="885" y="5686"/>
                  </a:lnTo>
                  <a:lnTo>
                    <a:pt x="1022" y="5911"/>
                  </a:lnTo>
                  <a:lnTo>
                    <a:pt x="1174" y="6135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0" name=""/>
            <p:cNvSpPr/>
            <p:nvPr/>
          </p:nvSpPr>
          <p:spPr>
            <a:xfrm>
              <a:off x="2344680" y="1312920"/>
              <a:ext cx="130680" cy="41760"/>
            </a:xfrm>
            <a:custGeom>
              <a:avLst/>
              <a:gdLst/>
              <a:ahLst/>
              <a:rect l="0" t="0" r="r" b="b"/>
              <a:pathLst>
                <a:path w="363" h="116">
                  <a:moveTo>
                    <a:pt x="0" y="0"/>
                  </a:moveTo>
                  <a:lnTo>
                    <a:pt x="0" y="116"/>
                  </a:lnTo>
                  <a:lnTo>
                    <a:pt x="363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1" name=""/>
            <p:cNvSpPr/>
            <p:nvPr/>
          </p:nvSpPr>
          <p:spPr>
            <a:xfrm>
              <a:off x="571680" y="4957920"/>
              <a:ext cx="97200" cy="117720"/>
            </a:xfrm>
            <a:custGeom>
              <a:avLst/>
              <a:gdLst/>
              <a:ahLst/>
              <a:rect l="0" t="0" r="r" b="b"/>
              <a:pathLst>
                <a:path w="270" h="327">
                  <a:moveTo>
                    <a:pt x="102" y="0"/>
                  </a:moveTo>
                  <a:lnTo>
                    <a:pt x="0" y="72"/>
                  </a:lnTo>
                  <a:lnTo>
                    <a:pt x="270" y="327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2" name=""/>
            <p:cNvSpPr/>
            <p:nvPr/>
          </p:nvSpPr>
          <p:spPr>
            <a:xfrm>
              <a:off x="162000" y="2508120"/>
              <a:ext cx="466920" cy="252720"/>
            </a:xfrm>
            <a:custGeom>
              <a:avLst/>
              <a:gdLst/>
              <a:ahLst/>
              <a:rect l="0" t="0" r="r" b="b"/>
              <a:pathLst>
                <a:path fill="none" w="1297" h="702">
                  <a:moveTo>
                    <a:pt x="0" y="702"/>
                  </a:moveTo>
                  <a:lnTo>
                    <a:pt x="1297" y="702"/>
                  </a:lnTo>
                  <a:lnTo>
                    <a:pt x="1297" y="0"/>
                  </a:lnTo>
                  <a:lnTo>
                    <a:pt x="0" y="0"/>
                  </a:lnTo>
                  <a:lnTo>
                    <a:pt x="0" y="702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3" name=""/>
            <p:cNvSpPr/>
            <p:nvPr/>
          </p:nvSpPr>
          <p:spPr>
            <a:xfrm>
              <a:off x="1849320" y="4255920"/>
              <a:ext cx="98640" cy="11271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4" name=""/>
            <p:cNvSpPr/>
            <p:nvPr/>
          </p:nvSpPr>
          <p:spPr>
            <a:xfrm flipH="1">
              <a:off x="1339920" y="4559400"/>
              <a:ext cx="156960" cy="6206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5" name=""/>
            <p:cNvSpPr/>
            <p:nvPr/>
          </p:nvSpPr>
          <p:spPr>
            <a:xfrm>
              <a:off x="1119240" y="5175360"/>
              <a:ext cx="354240" cy="352800"/>
            </a:xfrm>
            <a:custGeom>
              <a:avLst/>
              <a:gdLst/>
              <a:ahLst/>
              <a:rect l="0" t="0" r="r" b="b"/>
              <a:pathLst>
                <a:path fill="none" w="984" h="980">
                  <a:moveTo>
                    <a:pt x="984" y="490"/>
                  </a:moveTo>
                  <a:lnTo>
                    <a:pt x="977" y="418"/>
                  </a:lnTo>
                  <a:lnTo>
                    <a:pt x="962" y="339"/>
                  </a:lnTo>
                  <a:lnTo>
                    <a:pt x="933" y="267"/>
                  </a:lnTo>
                  <a:lnTo>
                    <a:pt x="890" y="201"/>
                  </a:lnTo>
                  <a:lnTo>
                    <a:pt x="839" y="143"/>
                  </a:lnTo>
                  <a:lnTo>
                    <a:pt x="781" y="93"/>
                  </a:lnTo>
                  <a:lnTo>
                    <a:pt x="716" y="57"/>
                  </a:lnTo>
                  <a:lnTo>
                    <a:pt x="644" y="21"/>
                  </a:lnTo>
                  <a:lnTo>
                    <a:pt x="572" y="7"/>
                  </a:lnTo>
                  <a:lnTo>
                    <a:pt x="491" y="0"/>
                  </a:lnTo>
                  <a:lnTo>
                    <a:pt x="412" y="7"/>
                  </a:lnTo>
                  <a:lnTo>
                    <a:pt x="339" y="21"/>
                  </a:lnTo>
                  <a:lnTo>
                    <a:pt x="267" y="57"/>
                  </a:lnTo>
                  <a:lnTo>
                    <a:pt x="202" y="93"/>
                  </a:lnTo>
                  <a:lnTo>
                    <a:pt x="144" y="143"/>
                  </a:lnTo>
                  <a:lnTo>
                    <a:pt x="93" y="201"/>
                  </a:lnTo>
                  <a:lnTo>
                    <a:pt x="50" y="267"/>
                  </a:lnTo>
                  <a:lnTo>
                    <a:pt x="21" y="339"/>
                  </a:lnTo>
                  <a:lnTo>
                    <a:pt x="7" y="418"/>
                  </a:lnTo>
                  <a:lnTo>
                    <a:pt x="0" y="490"/>
                  </a:lnTo>
                  <a:lnTo>
                    <a:pt x="7" y="569"/>
                  </a:lnTo>
                  <a:lnTo>
                    <a:pt x="21" y="641"/>
                  </a:lnTo>
                  <a:lnTo>
                    <a:pt x="50" y="713"/>
                  </a:lnTo>
                  <a:lnTo>
                    <a:pt x="93" y="779"/>
                  </a:lnTo>
                  <a:lnTo>
                    <a:pt x="144" y="836"/>
                  </a:lnTo>
                  <a:lnTo>
                    <a:pt x="202" y="887"/>
                  </a:lnTo>
                  <a:lnTo>
                    <a:pt x="267" y="930"/>
                  </a:lnTo>
                  <a:lnTo>
                    <a:pt x="339" y="959"/>
                  </a:lnTo>
                  <a:lnTo>
                    <a:pt x="412" y="973"/>
                  </a:lnTo>
                  <a:lnTo>
                    <a:pt x="491" y="980"/>
                  </a:lnTo>
                  <a:lnTo>
                    <a:pt x="572" y="973"/>
                  </a:lnTo>
                  <a:lnTo>
                    <a:pt x="644" y="959"/>
                  </a:lnTo>
                  <a:lnTo>
                    <a:pt x="716" y="930"/>
                  </a:lnTo>
                  <a:lnTo>
                    <a:pt x="781" y="887"/>
                  </a:lnTo>
                  <a:lnTo>
                    <a:pt x="839" y="836"/>
                  </a:lnTo>
                  <a:lnTo>
                    <a:pt x="890" y="779"/>
                  </a:lnTo>
                  <a:lnTo>
                    <a:pt x="933" y="713"/>
                  </a:lnTo>
                  <a:lnTo>
                    <a:pt x="962" y="641"/>
                  </a:lnTo>
                  <a:lnTo>
                    <a:pt x="977" y="569"/>
                  </a:lnTo>
                  <a:lnTo>
                    <a:pt x="984" y="49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6" name=""/>
            <p:cNvSpPr/>
            <p:nvPr/>
          </p:nvSpPr>
          <p:spPr>
            <a:xfrm>
              <a:off x="2452680" y="5388120"/>
              <a:ext cx="360720" cy="356040"/>
            </a:xfrm>
            <a:custGeom>
              <a:avLst/>
              <a:gdLst/>
              <a:ahLst/>
              <a:rect l="0" t="0" r="r" b="b"/>
              <a:pathLst>
                <a:path fill="none" w="1002" h="989">
                  <a:moveTo>
                    <a:pt x="1002" y="494"/>
                  </a:moveTo>
                  <a:lnTo>
                    <a:pt x="994" y="414"/>
                  </a:lnTo>
                  <a:lnTo>
                    <a:pt x="972" y="342"/>
                  </a:lnTo>
                  <a:lnTo>
                    <a:pt x="943" y="269"/>
                  </a:lnTo>
                  <a:lnTo>
                    <a:pt x="907" y="203"/>
                  </a:lnTo>
                  <a:lnTo>
                    <a:pt x="855" y="145"/>
                  </a:lnTo>
                  <a:lnTo>
                    <a:pt x="797" y="94"/>
                  </a:lnTo>
                  <a:lnTo>
                    <a:pt x="724" y="50"/>
                  </a:lnTo>
                  <a:lnTo>
                    <a:pt x="658" y="21"/>
                  </a:lnTo>
                  <a:lnTo>
                    <a:pt x="578" y="7"/>
                  </a:lnTo>
                  <a:lnTo>
                    <a:pt x="496" y="0"/>
                  </a:lnTo>
                  <a:lnTo>
                    <a:pt x="423" y="7"/>
                  </a:lnTo>
                  <a:lnTo>
                    <a:pt x="343" y="21"/>
                  </a:lnTo>
                  <a:lnTo>
                    <a:pt x="277" y="50"/>
                  </a:lnTo>
                  <a:lnTo>
                    <a:pt x="204" y="94"/>
                  </a:lnTo>
                  <a:lnTo>
                    <a:pt x="146" y="145"/>
                  </a:lnTo>
                  <a:lnTo>
                    <a:pt x="94" y="203"/>
                  </a:lnTo>
                  <a:lnTo>
                    <a:pt x="58" y="269"/>
                  </a:lnTo>
                  <a:lnTo>
                    <a:pt x="29" y="342"/>
                  </a:lnTo>
                  <a:lnTo>
                    <a:pt x="7" y="414"/>
                  </a:lnTo>
                  <a:lnTo>
                    <a:pt x="0" y="494"/>
                  </a:lnTo>
                  <a:lnTo>
                    <a:pt x="7" y="567"/>
                  </a:lnTo>
                  <a:lnTo>
                    <a:pt x="29" y="647"/>
                  </a:lnTo>
                  <a:lnTo>
                    <a:pt x="58" y="720"/>
                  </a:lnTo>
                  <a:lnTo>
                    <a:pt x="94" y="786"/>
                  </a:lnTo>
                  <a:lnTo>
                    <a:pt x="146" y="844"/>
                  </a:lnTo>
                  <a:lnTo>
                    <a:pt x="204" y="895"/>
                  </a:lnTo>
                  <a:lnTo>
                    <a:pt x="277" y="938"/>
                  </a:lnTo>
                  <a:lnTo>
                    <a:pt x="343" y="967"/>
                  </a:lnTo>
                  <a:lnTo>
                    <a:pt x="423" y="982"/>
                  </a:lnTo>
                  <a:lnTo>
                    <a:pt x="496" y="989"/>
                  </a:lnTo>
                  <a:lnTo>
                    <a:pt x="578" y="982"/>
                  </a:lnTo>
                  <a:lnTo>
                    <a:pt x="658" y="967"/>
                  </a:lnTo>
                  <a:lnTo>
                    <a:pt x="724" y="938"/>
                  </a:lnTo>
                  <a:lnTo>
                    <a:pt x="797" y="895"/>
                  </a:lnTo>
                  <a:lnTo>
                    <a:pt x="855" y="844"/>
                  </a:lnTo>
                  <a:lnTo>
                    <a:pt x="907" y="786"/>
                  </a:lnTo>
                  <a:lnTo>
                    <a:pt x="943" y="720"/>
                  </a:lnTo>
                  <a:lnTo>
                    <a:pt x="972" y="647"/>
                  </a:lnTo>
                  <a:lnTo>
                    <a:pt x="994" y="567"/>
                  </a:lnTo>
                  <a:lnTo>
                    <a:pt x="1002" y="494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7" name=""/>
            <p:cNvSpPr/>
            <p:nvPr/>
          </p:nvSpPr>
          <p:spPr>
            <a:xfrm>
              <a:off x="1785960" y="5383080"/>
              <a:ext cx="356040" cy="354240"/>
            </a:xfrm>
            <a:custGeom>
              <a:avLst/>
              <a:gdLst/>
              <a:ahLst/>
              <a:rect l="0" t="0" r="r" b="b"/>
              <a:pathLst>
                <a:path fill="none" w="989" h="984">
                  <a:moveTo>
                    <a:pt x="989" y="491"/>
                  </a:moveTo>
                  <a:lnTo>
                    <a:pt x="989" y="412"/>
                  </a:lnTo>
                  <a:lnTo>
                    <a:pt x="967" y="339"/>
                  </a:lnTo>
                  <a:lnTo>
                    <a:pt x="938" y="267"/>
                  </a:lnTo>
                  <a:lnTo>
                    <a:pt x="895" y="202"/>
                  </a:lnTo>
                  <a:lnTo>
                    <a:pt x="844" y="137"/>
                  </a:lnTo>
                  <a:lnTo>
                    <a:pt x="786" y="93"/>
                  </a:lnTo>
                  <a:lnTo>
                    <a:pt x="720" y="50"/>
                  </a:lnTo>
                  <a:lnTo>
                    <a:pt x="647" y="21"/>
                  </a:lnTo>
                  <a:lnTo>
                    <a:pt x="574" y="0"/>
                  </a:lnTo>
                  <a:lnTo>
                    <a:pt x="494" y="0"/>
                  </a:lnTo>
                  <a:lnTo>
                    <a:pt x="422" y="0"/>
                  </a:lnTo>
                  <a:lnTo>
                    <a:pt x="342" y="21"/>
                  </a:lnTo>
                  <a:lnTo>
                    <a:pt x="269" y="50"/>
                  </a:lnTo>
                  <a:lnTo>
                    <a:pt x="203" y="93"/>
                  </a:lnTo>
                  <a:lnTo>
                    <a:pt x="145" y="137"/>
                  </a:lnTo>
                  <a:lnTo>
                    <a:pt x="94" y="202"/>
                  </a:lnTo>
                  <a:lnTo>
                    <a:pt x="58" y="267"/>
                  </a:lnTo>
                  <a:lnTo>
                    <a:pt x="29" y="339"/>
                  </a:lnTo>
                  <a:lnTo>
                    <a:pt x="7" y="412"/>
                  </a:lnTo>
                  <a:lnTo>
                    <a:pt x="0" y="491"/>
                  </a:lnTo>
                  <a:lnTo>
                    <a:pt x="7" y="564"/>
                  </a:lnTo>
                  <a:lnTo>
                    <a:pt x="29" y="644"/>
                  </a:lnTo>
                  <a:lnTo>
                    <a:pt x="58" y="716"/>
                  </a:lnTo>
                  <a:lnTo>
                    <a:pt x="94" y="781"/>
                  </a:lnTo>
                  <a:lnTo>
                    <a:pt x="145" y="839"/>
                  </a:lnTo>
                  <a:lnTo>
                    <a:pt x="203" y="890"/>
                  </a:lnTo>
                  <a:lnTo>
                    <a:pt x="269" y="926"/>
                  </a:lnTo>
                  <a:lnTo>
                    <a:pt x="342" y="955"/>
                  </a:lnTo>
                  <a:lnTo>
                    <a:pt x="422" y="977"/>
                  </a:lnTo>
                  <a:lnTo>
                    <a:pt x="494" y="984"/>
                  </a:lnTo>
                  <a:lnTo>
                    <a:pt x="574" y="977"/>
                  </a:lnTo>
                  <a:lnTo>
                    <a:pt x="647" y="955"/>
                  </a:lnTo>
                  <a:lnTo>
                    <a:pt x="720" y="926"/>
                  </a:lnTo>
                  <a:lnTo>
                    <a:pt x="786" y="890"/>
                  </a:lnTo>
                  <a:lnTo>
                    <a:pt x="844" y="839"/>
                  </a:lnTo>
                  <a:lnTo>
                    <a:pt x="895" y="781"/>
                  </a:lnTo>
                  <a:lnTo>
                    <a:pt x="938" y="716"/>
                  </a:lnTo>
                  <a:lnTo>
                    <a:pt x="967" y="644"/>
                  </a:lnTo>
                  <a:lnTo>
                    <a:pt x="989" y="564"/>
                  </a:lnTo>
                  <a:lnTo>
                    <a:pt x="989" y="491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8" name=""/>
            <p:cNvSpPr/>
            <p:nvPr/>
          </p:nvSpPr>
          <p:spPr>
            <a:xfrm>
              <a:off x="1785960" y="5560920"/>
              <a:ext cx="3556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9" name=""/>
            <p:cNvSpPr/>
            <p:nvPr/>
          </p:nvSpPr>
          <p:spPr>
            <a:xfrm>
              <a:off x="2452680" y="5565600"/>
              <a:ext cx="36036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1119240" y="5351400"/>
              <a:ext cx="3538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"/>
            <p:cNvSpPr/>
            <p:nvPr/>
          </p:nvSpPr>
          <p:spPr>
            <a:xfrm flipH="1">
              <a:off x="1509840" y="4222800"/>
              <a:ext cx="141120" cy="24912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2" name=""/>
            <p:cNvSpPr/>
            <p:nvPr/>
          </p:nvSpPr>
          <p:spPr>
            <a:xfrm>
              <a:off x="1457280" y="4275000"/>
              <a:ext cx="247680" cy="14472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3" name=""/>
            <p:cNvSpPr/>
            <p:nvPr/>
          </p:nvSpPr>
          <p:spPr>
            <a:xfrm flipH="1">
              <a:off x="1770120" y="4017960"/>
              <a:ext cx="142920" cy="24624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4" name=""/>
            <p:cNvSpPr/>
            <p:nvPr/>
          </p:nvSpPr>
          <p:spPr>
            <a:xfrm>
              <a:off x="1719360" y="4070520"/>
              <a:ext cx="245880" cy="14256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5" name=""/>
            <p:cNvSpPr/>
            <p:nvPr/>
          </p:nvSpPr>
          <p:spPr>
            <a:xfrm flipH="1">
              <a:off x="2373480" y="2728800"/>
              <a:ext cx="203040" cy="20160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2373480" y="2728800"/>
              <a:ext cx="203040" cy="20160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7" name=""/>
            <p:cNvSpPr/>
            <p:nvPr/>
          </p:nvSpPr>
          <p:spPr>
            <a:xfrm flipH="1" flipV="1">
              <a:off x="1755720" y="2216160"/>
              <a:ext cx="598680" cy="5000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8" name=""/>
            <p:cNvSpPr/>
            <p:nvPr/>
          </p:nvSpPr>
          <p:spPr>
            <a:xfrm flipH="1">
              <a:off x="2373480" y="2394000"/>
              <a:ext cx="203040" cy="20304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2373480" y="2394000"/>
              <a:ext cx="203040" cy="20304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0" name=""/>
            <p:cNvSpPr/>
            <p:nvPr/>
          </p:nvSpPr>
          <p:spPr>
            <a:xfrm>
              <a:off x="1442880" y="1922400"/>
              <a:ext cx="357480" cy="356040"/>
            </a:xfrm>
            <a:custGeom>
              <a:avLst/>
              <a:gdLst/>
              <a:ahLst/>
              <a:rect l="0" t="0" r="r" b="b"/>
              <a:pathLst>
                <a:path fill="none" w="993" h="989">
                  <a:moveTo>
                    <a:pt x="993" y="494"/>
                  </a:moveTo>
                  <a:lnTo>
                    <a:pt x="985" y="422"/>
                  </a:lnTo>
                  <a:lnTo>
                    <a:pt x="971" y="342"/>
                  </a:lnTo>
                  <a:lnTo>
                    <a:pt x="942" y="269"/>
                  </a:lnTo>
                  <a:lnTo>
                    <a:pt x="898" y="203"/>
                  </a:lnTo>
                  <a:lnTo>
                    <a:pt x="847" y="145"/>
                  </a:lnTo>
                  <a:lnTo>
                    <a:pt x="788" y="94"/>
                  </a:lnTo>
                  <a:lnTo>
                    <a:pt x="723" y="58"/>
                  </a:lnTo>
                  <a:lnTo>
                    <a:pt x="650" y="21"/>
                  </a:lnTo>
                  <a:lnTo>
                    <a:pt x="577" y="7"/>
                  </a:lnTo>
                  <a:lnTo>
                    <a:pt x="497" y="0"/>
                  </a:lnTo>
                  <a:lnTo>
                    <a:pt x="415" y="7"/>
                  </a:lnTo>
                  <a:lnTo>
                    <a:pt x="342" y="21"/>
                  </a:lnTo>
                  <a:lnTo>
                    <a:pt x="269" y="58"/>
                  </a:lnTo>
                  <a:lnTo>
                    <a:pt x="204" y="94"/>
                  </a:lnTo>
                  <a:lnTo>
                    <a:pt x="145" y="145"/>
                  </a:lnTo>
                  <a:lnTo>
                    <a:pt x="94" y="203"/>
                  </a:lnTo>
                  <a:lnTo>
                    <a:pt x="51" y="269"/>
                  </a:lnTo>
                  <a:lnTo>
                    <a:pt x="21" y="342"/>
                  </a:lnTo>
                  <a:lnTo>
                    <a:pt x="7" y="422"/>
                  </a:lnTo>
                  <a:lnTo>
                    <a:pt x="0" y="494"/>
                  </a:lnTo>
                  <a:lnTo>
                    <a:pt x="7" y="574"/>
                  </a:lnTo>
                  <a:lnTo>
                    <a:pt x="21" y="647"/>
                  </a:lnTo>
                  <a:lnTo>
                    <a:pt x="51" y="720"/>
                  </a:lnTo>
                  <a:lnTo>
                    <a:pt x="94" y="786"/>
                  </a:lnTo>
                  <a:lnTo>
                    <a:pt x="145" y="844"/>
                  </a:lnTo>
                  <a:lnTo>
                    <a:pt x="204" y="895"/>
                  </a:lnTo>
                  <a:lnTo>
                    <a:pt x="269" y="938"/>
                  </a:lnTo>
                  <a:lnTo>
                    <a:pt x="342" y="967"/>
                  </a:lnTo>
                  <a:lnTo>
                    <a:pt x="415" y="982"/>
                  </a:lnTo>
                  <a:lnTo>
                    <a:pt x="497" y="989"/>
                  </a:lnTo>
                  <a:lnTo>
                    <a:pt x="577" y="982"/>
                  </a:lnTo>
                  <a:lnTo>
                    <a:pt x="650" y="967"/>
                  </a:lnTo>
                  <a:lnTo>
                    <a:pt x="723" y="938"/>
                  </a:lnTo>
                  <a:lnTo>
                    <a:pt x="788" y="895"/>
                  </a:lnTo>
                  <a:lnTo>
                    <a:pt x="847" y="844"/>
                  </a:lnTo>
                  <a:lnTo>
                    <a:pt x="898" y="786"/>
                  </a:lnTo>
                  <a:lnTo>
                    <a:pt x="942" y="720"/>
                  </a:lnTo>
                  <a:lnTo>
                    <a:pt x="971" y="647"/>
                  </a:lnTo>
                  <a:lnTo>
                    <a:pt x="985" y="574"/>
                  </a:lnTo>
                  <a:lnTo>
                    <a:pt x="993" y="494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1" name=""/>
            <p:cNvSpPr/>
            <p:nvPr/>
          </p:nvSpPr>
          <p:spPr>
            <a:xfrm>
              <a:off x="1442880" y="2101680"/>
              <a:ext cx="3574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2" name=""/>
            <p:cNvSpPr/>
            <p:nvPr/>
          </p:nvSpPr>
          <p:spPr>
            <a:xfrm flipV="1">
              <a:off x="7566120" y="866880"/>
              <a:ext cx="0" cy="18748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"/>
            <p:cNvSpPr/>
            <p:nvPr/>
          </p:nvSpPr>
          <p:spPr>
            <a:xfrm flipV="1">
              <a:off x="8253360" y="855720"/>
              <a:ext cx="0" cy="12351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4" name=""/>
            <p:cNvSpPr/>
            <p:nvPr/>
          </p:nvSpPr>
          <p:spPr>
            <a:xfrm flipH="1">
              <a:off x="7305840" y="930240"/>
              <a:ext cx="12852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8383680" y="930240"/>
              <a:ext cx="12996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6" name=""/>
            <p:cNvSpPr/>
            <p:nvPr/>
          </p:nvSpPr>
          <p:spPr>
            <a:xfrm>
              <a:off x="7434360" y="906480"/>
              <a:ext cx="132120" cy="44640"/>
            </a:xfrm>
            <a:custGeom>
              <a:avLst/>
              <a:gdLst/>
              <a:ahLst/>
              <a:rect l="0" t="0" r="r" b="b"/>
              <a:pathLst>
                <a:path w="367" h="124">
                  <a:moveTo>
                    <a:pt x="0" y="0"/>
                  </a:moveTo>
                  <a:lnTo>
                    <a:pt x="0" y="124"/>
                  </a:lnTo>
                  <a:lnTo>
                    <a:pt x="367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7" name=""/>
            <p:cNvSpPr/>
            <p:nvPr/>
          </p:nvSpPr>
          <p:spPr>
            <a:xfrm>
              <a:off x="8253360" y="906480"/>
              <a:ext cx="130680" cy="44640"/>
            </a:xfrm>
            <a:custGeom>
              <a:avLst/>
              <a:gdLst/>
              <a:ahLst/>
              <a:rect l="0" t="0" r="r" b="b"/>
              <a:pathLst>
                <a:path w="363" h="124">
                  <a:moveTo>
                    <a:pt x="363" y="0"/>
                  </a:moveTo>
                  <a:lnTo>
                    <a:pt x="363" y="124"/>
                  </a:lnTo>
                  <a:lnTo>
                    <a:pt x="0" y="66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8" name=""/>
            <p:cNvSpPr/>
            <p:nvPr/>
          </p:nvSpPr>
          <p:spPr>
            <a:xfrm>
              <a:off x="7724880" y="804960"/>
              <a:ext cx="367200" cy="252720"/>
            </a:xfrm>
            <a:custGeom>
              <a:avLst/>
              <a:gdLst/>
              <a:ahLst/>
              <a:rect l="0" t="0" r="r" b="b"/>
              <a:pathLst>
                <a:path fill="none" w="1020" h="702">
                  <a:moveTo>
                    <a:pt x="0" y="702"/>
                  </a:moveTo>
                  <a:lnTo>
                    <a:pt x="1020" y="702"/>
                  </a:lnTo>
                  <a:lnTo>
                    <a:pt x="1020" y="0"/>
                  </a:lnTo>
                  <a:lnTo>
                    <a:pt x="0" y="0"/>
                  </a:lnTo>
                  <a:lnTo>
                    <a:pt x="0" y="702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9" name=""/>
            <p:cNvSpPr/>
            <p:nvPr/>
          </p:nvSpPr>
          <p:spPr>
            <a:xfrm flipV="1">
              <a:off x="6470640" y="4287960"/>
              <a:ext cx="157320" cy="158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0" name=""/>
            <p:cNvSpPr/>
            <p:nvPr/>
          </p:nvSpPr>
          <p:spPr>
            <a:xfrm flipV="1">
              <a:off x="8253360" y="2357280"/>
              <a:ext cx="309600" cy="3067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1" name=""/>
            <p:cNvSpPr/>
            <p:nvPr/>
          </p:nvSpPr>
          <p:spPr>
            <a:xfrm flipV="1">
              <a:off x="7932600" y="2828880"/>
              <a:ext cx="157320" cy="1555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2" name=""/>
            <p:cNvSpPr/>
            <p:nvPr/>
          </p:nvSpPr>
          <p:spPr>
            <a:xfrm flipV="1">
              <a:off x="6329520" y="4287960"/>
              <a:ext cx="155520" cy="158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3" name=""/>
            <p:cNvSpPr/>
            <p:nvPr/>
          </p:nvSpPr>
          <p:spPr>
            <a:xfrm flipV="1">
              <a:off x="8253360" y="2212920"/>
              <a:ext cx="309600" cy="3081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4" name=""/>
            <p:cNvSpPr/>
            <p:nvPr/>
          </p:nvSpPr>
          <p:spPr>
            <a:xfrm flipV="1">
              <a:off x="7791480" y="2828880"/>
              <a:ext cx="156960" cy="1555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5" name=""/>
            <p:cNvSpPr/>
            <p:nvPr/>
          </p:nvSpPr>
          <p:spPr>
            <a:xfrm flipV="1">
              <a:off x="6183360" y="4287960"/>
              <a:ext cx="158760" cy="158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6" name=""/>
            <p:cNvSpPr/>
            <p:nvPr/>
          </p:nvSpPr>
          <p:spPr>
            <a:xfrm flipV="1">
              <a:off x="8253360" y="2163600"/>
              <a:ext cx="212760" cy="212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7" name=""/>
            <p:cNvSpPr/>
            <p:nvPr/>
          </p:nvSpPr>
          <p:spPr>
            <a:xfrm flipV="1">
              <a:off x="7647120" y="2828880"/>
              <a:ext cx="156960" cy="1555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8" name=""/>
            <p:cNvSpPr/>
            <p:nvPr/>
          </p:nvSpPr>
          <p:spPr>
            <a:xfrm flipV="1">
              <a:off x="6039000" y="4287960"/>
              <a:ext cx="160200" cy="158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9" name=""/>
            <p:cNvSpPr/>
            <p:nvPr/>
          </p:nvSpPr>
          <p:spPr>
            <a:xfrm flipV="1">
              <a:off x="8253360" y="2163600"/>
              <a:ext cx="69840" cy="716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0" name=""/>
            <p:cNvSpPr/>
            <p:nvPr/>
          </p:nvSpPr>
          <p:spPr>
            <a:xfrm flipV="1">
              <a:off x="7504200" y="2828880"/>
              <a:ext cx="156960" cy="1555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1" name=""/>
            <p:cNvSpPr/>
            <p:nvPr/>
          </p:nvSpPr>
          <p:spPr>
            <a:xfrm flipV="1">
              <a:off x="6018120" y="4287960"/>
              <a:ext cx="33480" cy="349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2" name=""/>
            <p:cNvSpPr/>
            <p:nvPr/>
          </p:nvSpPr>
          <p:spPr>
            <a:xfrm flipV="1">
              <a:off x="7358040" y="2828880"/>
              <a:ext cx="157320" cy="1555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3" name=""/>
            <p:cNvSpPr/>
            <p:nvPr/>
          </p:nvSpPr>
          <p:spPr>
            <a:xfrm flipV="1">
              <a:off x="7211880" y="2828880"/>
              <a:ext cx="160560" cy="1555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4" name=""/>
            <p:cNvSpPr/>
            <p:nvPr/>
          </p:nvSpPr>
          <p:spPr>
            <a:xfrm flipV="1">
              <a:off x="7068960" y="2828880"/>
              <a:ext cx="158760" cy="1555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5" name=""/>
            <p:cNvSpPr/>
            <p:nvPr/>
          </p:nvSpPr>
          <p:spPr>
            <a:xfrm flipV="1">
              <a:off x="6926400" y="2828880"/>
              <a:ext cx="155520" cy="1555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6" name=""/>
            <p:cNvSpPr/>
            <p:nvPr/>
          </p:nvSpPr>
          <p:spPr>
            <a:xfrm flipV="1">
              <a:off x="6783480" y="2828880"/>
              <a:ext cx="156960" cy="1555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7" name=""/>
            <p:cNvSpPr/>
            <p:nvPr/>
          </p:nvSpPr>
          <p:spPr>
            <a:xfrm flipV="1">
              <a:off x="6638760" y="2828880"/>
              <a:ext cx="157320" cy="1555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8" name=""/>
            <p:cNvSpPr/>
            <p:nvPr/>
          </p:nvSpPr>
          <p:spPr>
            <a:xfrm flipV="1">
              <a:off x="6496200" y="2828880"/>
              <a:ext cx="155520" cy="1555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9" name=""/>
            <p:cNvSpPr/>
            <p:nvPr/>
          </p:nvSpPr>
          <p:spPr>
            <a:xfrm flipV="1">
              <a:off x="6350040" y="2828880"/>
              <a:ext cx="156960" cy="1555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0" name=""/>
            <p:cNvSpPr/>
            <p:nvPr/>
          </p:nvSpPr>
          <p:spPr>
            <a:xfrm flipV="1">
              <a:off x="6208560" y="2828880"/>
              <a:ext cx="157320" cy="1555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1" name=""/>
            <p:cNvSpPr/>
            <p:nvPr/>
          </p:nvSpPr>
          <p:spPr>
            <a:xfrm flipV="1">
              <a:off x="6064200" y="2828880"/>
              <a:ext cx="157320" cy="1555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2" name=""/>
            <p:cNvSpPr/>
            <p:nvPr/>
          </p:nvSpPr>
          <p:spPr>
            <a:xfrm flipV="1">
              <a:off x="6018120" y="2828880"/>
              <a:ext cx="60480" cy="586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7560" bIns="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3" name=""/>
            <p:cNvSpPr/>
            <p:nvPr/>
          </p:nvSpPr>
          <p:spPr>
            <a:xfrm flipV="1">
              <a:off x="6616800" y="4287960"/>
              <a:ext cx="155520" cy="158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4" name=""/>
            <p:cNvSpPr/>
            <p:nvPr/>
          </p:nvSpPr>
          <p:spPr>
            <a:xfrm flipV="1">
              <a:off x="8253360" y="2498760"/>
              <a:ext cx="309600" cy="3110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5" name=""/>
            <p:cNvSpPr/>
            <p:nvPr/>
          </p:nvSpPr>
          <p:spPr>
            <a:xfrm flipV="1">
              <a:off x="8077320" y="2828880"/>
              <a:ext cx="156960" cy="1555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6" name=""/>
            <p:cNvSpPr/>
            <p:nvPr/>
          </p:nvSpPr>
          <p:spPr>
            <a:xfrm flipV="1">
              <a:off x="6759720" y="4287960"/>
              <a:ext cx="156960" cy="158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7" name=""/>
            <p:cNvSpPr/>
            <p:nvPr/>
          </p:nvSpPr>
          <p:spPr>
            <a:xfrm flipV="1">
              <a:off x="8221680" y="2643120"/>
              <a:ext cx="341280" cy="3412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8" name=""/>
            <p:cNvSpPr/>
            <p:nvPr/>
          </p:nvSpPr>
          <p:spPr>
            <a:xfrm flipV="1">
              <a:off x="6904080" y="4287960"/>
              <a:ext cx="156960" cy="158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9" name=""/>
            <p:cNvSpPr/>
            <p:nvPr/>
          </p:nvSpPr>
          <p:spPr>
            <a:xfrm flipV="1">
              <a:off x="8366040" y="2787480"/>
              <a:ext cx="196920" cy="1969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0" name=""/>
            <p:cNvSpPr/>
            <p:nvPr/>
          </p:nvSpPr>
          <p:spPr>
            <a:xfrm flipV="1">
              <a:off x="7045200" y="4287960"/>
              <a:ext cx="157320" cy="158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1" name=""/>
            <p:cNvSpPr/>
            <p:nvPr/>
          </p:nvSpPr>
          <p:spPr>
            <a:xfrm flipV="1">
              <a:off x="8508960" y="2932200"/>
              <a:ext cx="54000" cy="522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2" name=""/>
            <p:cNvSpPr/>
            <p:nvPr/>
          </p:nvSpPr>
          <p:spPr>
            <a:xfrm flipV="1">
              <a:off x="7189920" y="4287960"/>
              <a:ext cx="156960" cy="158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3" name=""/>
            <p:cNvSpPr/>
            <p:nvPr/>
          </p:nvSpPr>
          <p:spPr>
            <a:xfrm flipV="1">
              <a:off x="7332840" y="4287960"/>
              <a:ext cx="156960" cy="158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4" name=""/>
            <p:cNvSpPr/>
            <p:nvPr/>
          </p:nvSpPr>
          <p:spPr>
            <a:xfrm flipV="1">
              <a:off x="7478640" y="4287960"/>
              <a:ext cx="155520" cy="158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5" name=""/>
            <p:cNvSpPr/>
            <p:nvPr/>
          </p:nvSpPr>
          <p:spPr>
            <a:xfrm flipV="1">
              <a:off x="7621560" y="4287960"/>
              <a:ext cx="154080" cy="158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6" name=""/>
            <p:cNvSpPr/>
            <p:nvPr/>
          </p:nvSpPr>
          <p:spPr>
            <a:xfrm flipV="1">
              <a:off x="7765920" y="4287960"/>
              <a:ext cx="155880" cy="158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7" name=""/>
            <p:cNvSpPr/>
            <p:nvPr/>
          </p:nvSpPr>
          <p:spPr>
            <a:xfrm flipV="1">
              <a:off x="7907400" y="4287960"/>
              <a:ext cx="156960" cy="158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8" name=""/>
            <p:cNvSpPr/>
            <p:nvPr/>
          </p:nvSpPr>
          <p:spPr>
            <a:xfrm flipV="1">
              <a:off x="8051760" y="4287960"/>
              <a:ext cx="158760" cy="158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9" name=""/>
            <p:cNvSpPr/>
            <p:nvPr/>
          </p:nvSpPr>
          <p:spPr>
            <a:xfrm flipV="1">
              <a:off x="8194680" y="4287960"/>
              <a:ext cx="158760" cy="158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0" name=""/>
            <p:cNvSpPr/>
            <p:nvPr/>
          </p:nvSpPr>
          <p:spPr>
            <a:xfrm flipV="1">
              <a:off x="8253360" y="4287960"/>
              <a:ext cx="244440" cy="2476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1" name=""/>
            <p:cNvSpPr/>
            <p:nvPr/>
          </p:nvSpPr>
          <p:spPr>
            <a:xfrm flipV="1">
              <a:off x="8253360" y="4367160"/>
              <a:ext cx="309600" cy="3110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2" name=""/>
            <p:cNvSpPr/>
            <p:nvPr/>
          </p:nvSpPr>
          <p:spPr>
            <a:xfrm flipV="1">
              <a:off x="8253360" y="4508640"/>
              <a:ext cx="309600" cy="3124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3" name=""/>
            <p:cNvSpPr/>
            <p:nvPr/>
          </p:nvSpPr>
          <p:spPr>
            <a:xfrm flipV="1">
              <a:off x="8253360" y="4656240"/>
              <a:ext cx="309600" cy="3096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4" name=""/>
            <p:cNvSpPr/>
            <p:nvPr/>
          </p:nvSpPr>
          <p:spPr>
            <a:xfrm flipV="1">
              <a:off x="8253360" y="4797360"/>
              <a:ext cx="309600" cy="3110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5" name=""/>
            <p:cNvSpPr/>
            <p:nvPr/>
          </p:nvSpPr>
          <p:spPr>
            <a:xfrm flipV="1">
              <a:off x="8393040" y="4941720"/>
              <a:ext cx="169920" cy="1684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6" name=""/>
            <p:cNvSpPr/>
            <p:nvPr/>
          </p:nvSpPr>
          <p:spPr>
            <a:xfrm>
              <a:off x="5435640" y="2957400"/>
              <a:ext cx="0" cy="14893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7" name=""/>
            <p:cNvSpPr/>
            <p:nvPr/>
          </p:nvSpPr>
          <p:spPr>
            <a:xfrm>
              <a:off x="8562960" y="2206800"/>
              <a:ext cx="0" cy="28638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8" name=""/>
            <p:cNvSpPr/>
            <p:nvPr/>
          </p:nvSpPr>
          <p:spPr>
            <a:xfrm>
              <a:off x="3575160" y="3649680"/>
              <a:ext cx="824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9" name=""/>
            <p:cNvSpPr/>
            <p:nvPr/>
          </p:nvSpPr>
          <p:spPr>
            <a:xfrm flipV="1">
              <a:off x="3618000" y="3606840"/>
              <a:ext cx="0" cy="824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0" name=""/>
            <p:cNvSpPr/>
            <p:nvPr/>
          </p:nvSpPr>
          <p:spPr>
            <a:xfrm flipH="1">
              <a:off x="3262320" y="3649680"/>
              <a:ext cx="2728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1" name=""/>
            <p:cNvSpPr/>
            <p:nvPr/>
          </p:nvSpPr>
          <p:spPr>
            <a:xfrm>
              <a:off x="3700440" y="3649680"/>
              <a:ext cx="2080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2" name=""/>
            <p:cNvSpPr/>
            <p:nvPr/>
          </p:nvSpPr>
          <p:spPr>
            <a:xfrm>
              <a:off x="3618000" y="3732120"/>
              <a:ext cx="0" cy="77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3" name=""/>
            <p:cNvSpPr/>
            <p:nvPr/>
          </p:nvSpPr>
          <p:spPr>
            <a:xfrm flipV="1">
              <a:off x="3618000" y="3489480"/>
              <a:ext cx="0" cy="777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4" name=""/>
            <p:cNvSpPr/>
            <p:nvPr/>
          </p:nvSpPr>
          <p:spPr>
            <a:xfrm>
              <a:off x="6018120" y="2828880"/>
              <a:ext cx="0" cy="16178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5" name=""/>
            <p:cNvSpPr/>
            <p:nvPr/>
          </p:nvSpPr>
          <p:spPr>
            <a:xfrm>
              <a:off x="8253360" y="5110200"/>
              <a:ext cx="27000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6" name=""/>
            <p:cNvSpPr/>
            <p:nvPr/>
          </p:nvSpPr>
          <p:spPr>
            <a:xfrm>
              <a:off x="6018120" y="4287960"/>
              <a:ext cx="25448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7" name=""/>
            <p:cNvSpPr/>
            <p:nvPr/>
          </p:nvSpPr>
          <p:spPr>
            <a:xfrm flipH="1">
              <a:off x="3292560" y="4470480"/>
              <a:ext cx="73080" cy="7239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8" name=""/>
            <p:cNvSpPr/>
            <p:nvPr/>
          </p:nvSpPr>
          <p:spPr>
            <a:xfrm>
              <a:off x="8253360" y="4446720"/>
              <a:ext cx="0" cy="6634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9" name=""/>
            <p:cNvSpPr/>
            <p:nvPr/>
          </p:nvSpPr>
          <p:spPr>
            <a:xfrm>
              <a:off x="3095640" y="5194440"/>
              <a:ext cx="356040" cy="354240"/>
            </a:xfrm>
            <a:custGeom>
              <a:avLst/>
              <a:gdLst/>
              <a:ahLst/>
              <a:rect l="0" t="0" r="r" b="b"/>
              <a:pathLst>
                <a:path fill="none" w="989" h="984">
                  <a:moveTo>
                    <a:pt x="989" y="491"/>
                  </a:moveTo>
                  <a:lnTo>
                    <a:pt x="982" y="412"/>
                  </a:lnTo>
                  <a:lnTo>
                    <a:pt x="960" y="339"/>
                  </a:lnTo>
                  <a:lnTo>
                    <a:pt x="931" y="267"/>
                  </a:lnTo>
                  <a:lnTo>
                    <a:pt x="895" y="202"/>
                  </a:lnTo>
                  <a:lnTo>
                    <a:pt x="844" y="144"/>
                  </a:lnTo>
                  <a:lnTo>
                    <a:pt x="786" y="93"/>
                  </a:lnTo>
                  <a:lnTo>
                    <a:pt x="720" y="50"/>
                  </a:lnTo>
                  <a:lnTo>
                    <a:pt x="647" y="21"/>
                  </a:lnTo>
                  <a:lnTo>
                    <a:pt x="567" y="7"/>
                  </a:lnTo>
                  <a:lnTo>
                    <a:pt x="494" y="0"/>
                  </a:lnTo>
                  <a:lnTo>
                    <a:pt x="414" y="7"/>
                  </a:lnTo>
                  <a:lnTo>
                    <a:pt x="342" y="21"/>
                  </a:lnTo>
                  <a:lnTo>
                    <a:pt x="269" y="50"/>
                  </a:lnTo>
                  <a:lnTo>
                    <a:pt x="203" y="93"/>
                  </a:lnTo>
                  <a:lnTo>
                    <a:pt x="145" y="144"/>
                  </a:lnTo>
                  <a:lnTo>
                    <a:pt x="94" y="202"/>
                  </a:lnTo>
                  <a:lnTo>
                    <a:pt x="50" y="267"/>
                  </a:lnTo>
                  <a:lnTo>
                    <a:pt x="21" y="339"/>
                  </a:lnTo>
                  <a:lnTo>
                    <a:pt x="0" y="412"/>
                  </a:lnTo>
                  <a:lnTo>
                    <a:pt x="0" y="491"/>
                  </a:lnTo>
                  <a:lnTo>
                    <a:pt x="0" y="564"/>
                  </a:lnTo>
                  <a:lnTo>
                    <a:pt x="21" y="644"/>
                  </a:lnTo>
                  <a:lnTo>
                    <a:pt x="50" y="716"/>
                  </a:lnTo>
                  <a:lnTo>
                    <a:pt x="94" y="781"/>
                  </a:lnTo>
                  <a:lnTo>
                    <a:pt x="145" y="839"/>
                  </a:lnTo>
                  <a:lnTo>
                    <a:pt x="203" y="890"/>
                  </a:lnTo>
                  <a:lnTo>
                    <a:pt x="269" y="933"/>
                  </a:lnTo>
                  <a:lnTo>
                    <a:pt x="342" y="962"/>
                  </a:lnTo>
                  <a:lnTo>
                    <a:pt x="414" y="977"/>
                  </a:lnTo>
                  <a:lnTo>
                    <a:pt x="494" y="984"/>
                  </a:lnTo>
                  <a:lnTo>
                    <a:pt x="567" y="977"/>
                  </a:lnTo>
                  <a:lnTo>
                    <a:pt x="647" y="962"/>
                  </a:lnTo>
                  <a:lnTo>
                    <a:pt x="720" y="933"/>
                  </a:lnTo>
                  <a:lnTo>
                    <a:pt x="786" y="890"/>
                  </a:lnTo>
                  <a:lnTo>
                    <a:pt x="844" y="839"/>
                  </a:lnTo>
                  <a:lnTo>
                    <a:pt x="895" y="781"/>
                  </a:lnTo>
                  <a:lnTo>
                    <a:pt x="931" y="716"/>
                  </a:lnTo>
                  <a:lnTo>
                    <a:pt x="960" y="644"/>
                  </a:lnTo>
                  <a:lnTo>
                    <a:pt x="982" y="564"/>
                  </a:lnTo>
                  <a:lnTo>
                    <a:pt x="989" y="491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0" name=""/>
            <p:cNvSpPr/>
            <p:nvPr/>
          </p:nvSpPr>
          <p:spPr>
            <a:xfrm>
              <a:off x="3095640" y="5369040"/>
              <a:ext cx="3556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1" name=""/>
            <p:cNvSpPr/>
            <p:nvPr/>
          </p:nvSpPr>
          <p:spPr>
            <a:xfrm>
              <a:off x="7853400" y="5452920"/>
              <a:ext cx="200520" cy="203400"/>
            </a:xfrm>
            <a:custGeom>
              <a:avLst/>
              <a:gdLst/>
              <a:ahLst/>
              <a:rect l="0" t="0" r="r" b="b"/>
              <a:pathLst>
                <a:path fill="none" w="557" h="565">
                  <a:moveTo>
                    <a:pt x="557" y="565"/>
                  </a:moveTo>
                  <a:lnTo>
                    <a:pt x="557" y="0"/>
                  </a:lnTo>
                  <a:lnTo>
                    <a:pt x="0" y="0"/>
                  </a:lnTo>
                  <a:lnTo>
                    <a:pt x="0" y="565"/>
                  </a:lnTo>
                  <a:lnTo>
                    <a:pt x="557" y="565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2" name=""/>
            <p:cNvSpPr/>
            <p:nvPr/>
          </p:nvSpPr>
          <p:spPr>
            <a:xfrm>
              <a:off x="8253360" y="5499000"/>
              <a:ext cx="0" cy="1126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3" name=""/>
            <p:cNvSpPr/>
            <p:nvPr/>
          </p:nvSpPr>
          <p:spPr>
            <a:xfrm flipH="1">
              <a:off x="8150400" y="5499000"/>
              <a:ext cx="102960" cy="558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4" name=""/>
            <p:cNvSpPr/>
            <p:nvPr/>
          </p:nvSpPr>
          <p:spPr>
            <a:xfrm>
              <a:off x="8150400" y="5499000"/>
              <a:ext cx="103680" cy="113040"/>
            </a:xfrm>
            <a:custGeom>
              <a:avLst/>
              <a:gdLst/>
              <a:ahLst/>
              <a:rect l="0" t="0" r="r" b="b"/>
              <a:pathLst>
                <a:path w="288" h="314">
                  <a:moveTo>
                    <a:pt x="288" y="0"/>
                  </a:moveTo>
                  <a:lnTo>
                    <a:pt x="0" y="156"/>
                  </a:lnTo>
                  <a:lnTo>
                    <a:pt x="288" y="314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5" name=""/>
            <p:cNvSpPr/>
            <p:nvPr/>
          </p:nvSpPr>
          <p:spPr>
            <a:xfrm flipH="1" flipV="1">
              <a:off x="8150400" y="5554800"/>
              <a:ext cx="102960" cy="568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8253360" y="5173560"/>
              <a:ext cx="0" cy="58284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7" name=""/>
            <p:cNvSpPr/>
            <p:nvPr/>
          </p:nvSpPr>
          <p:spPr>
            <a:xfrm flipH="1">
              <a:off x="8053560" y="5554800"/>
              <a:ext cx="19980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8" name=""/>
            <p:cNvSpPr/>
            <p:nvPr/>
          </p:nvSpPr>
          <p:spPr>
            <a:xfrm flipH="1">
              <a:off x="5324400" y="4446720"/>
              <a:ext cx="63180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"/>
            <p:cNvSpPr/>
            <p:nvPr/>
          </p:nvSpPr>
          <p:spPr>
            <a:xfrm>
              <a:off x="5411880" y="4317840"/>
              <a:ext cx="44640" cy="128880"/>
            </a:xfrm>
            <a:custGeom>
              <a:avLst/>
              <a:gdLst/>
              <a:ahLst/>
              <a:rect l="0" t="0" r="r" b="b"/>
              <a:pathLst>
                <a:path w="124" h="358">
                  <a:moveTo>
                    <a:pt x="0" y="0"/>
                  </a:moveTo>
                  <a:lnTo>
                    <a:pt x="124" y="0"/>
                  </a:lnTo>
                  <a:lnTo>
                    <a:pt x="66" y="35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0" name=""/>
            <p:cNvSpPr/>
            <p:nvPr/>
          </p:nvSpPr>
          <p:spPr>
            <a:xfrm flipH="1">
              <a:off x="3244680" y="4275000"/>
              <a:ext cx="249480" cy="14472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3295800" y="4222800"/>
              <a:ext cx="144360" cy="24912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5435640" y="4446720"/>
              <a:ext cx="0" cy="19836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5334120" y="4645080"/>
              <a:ext cx="205200" cy="201960"/>
            </a:xfrm>
            <a:custGeom>
              <a:avLst/>
              <a:gdLst/>
              <a:ahLst/>
              <a:rect l="0" t="0" r="r" b="b"/>
              <a:pathLst>
                <a:path fill="none" w="570" h="561">
                  <a:moveTo>
                    <a:pt x="0" y="0"/>
                  </a:moveTo>
                  <a:lnTo>
                    <a:pt x="0" y="561"/>
                  </a:lnTo>
                  <a:lnTo>
                    <a:pt x="570" y="561"/>
                  </a:lnTo>
                  <a:lnTo>
                    <a:pt x="570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4" name=""/>
            <p:cNvSpPr/>
            <p:nvPr/>
          </p:nvSpPr>
          <p:spPr>
            <a:xfrm>
              <a:off x="5375160" y="4446720"/>
              <a:ext cx="11916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5" name=""/>
            <p:cNvSpPr/>
            <p:nvPr/>
          </p:nvSpPr>
          <p:spPr>
            <a:xfrm>
              <a:off x="5375160" y="4446720"/>
              <a:ext cx="60480" cy="1015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6" name=""/>
            <p:cNvSpPr/>
            <p:nvPr/>
          </p:nvSpPr>
          <p:spPr>
            <a:xfrm>
              <a:off x="5375160" y="4446720"/>
              <a:ext cx="119520" cy="101880"/>
            </a:xfrm>
            <a:custGeom>
              <a:avLst/>
              <a:gdLst/>
              <a:ahLst/>
              <a:rect l="0" t="0" r="r" b="b"/>
              <a:pathLst>
                <a:path w="332" h="283">
                  <a:moveTo>
                    <a:pt x="0" y="0"/>
                  </a:moveTo>
                  <a:lnTo>
                    <a:pt x="170" y="283"/>
                  </a:lnTo>
                  <a:lnTo>
                    <a:pt x="3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0760" bIns="50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7" name=""/>
            <p:cNvSpPr/>
            <p:nvPr/>
          </p:nvSpPr>
          <p:spPr>
            <a:xfrm flipH="1">
              <a:off x="5435640" y="4446720"/>
              <a:ext cx="58680" cy="10152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8" name=""/>
            <p:cNvSpPr/>
            <p:nvPr/>
          </p:nvSpPr>
          <p:spPr>
            <a:xfrm flipH="1">
              <a:off x="2984400" y="4070520"/>
              <a:ext cx="247680" cy="14256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9" name=""/>
            <p:cNvSpPr/>
            <p:nvPr/>
          </p:nvSpPr>
          <p:spPr>
            <a:xfrm>
              <a:off x="3035160" y="4017960"/>
              <a:ext cx="144720" cy="24624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0" name=""/>
            <p:cNvSpPr/>
            <p:nvPr/>
          </p:nvSpPr>
          <p:spPr>
            <a:xfrm>
              <a:off x="6018120" y="4446720"/>
              <a:ext cx="22352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1" name=""/>
            <p:cNvSpPr/>
            <p:nvPr/>
          </p:nvSpPr>
          <p:spPr>
            <a:xfrm flipV="1">
              <a:off x="8523360" y="5070600"/>
              <a:ext cx="39600" cy="396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2" name=""/>
            <p:cNvSpPr/>
            <p:nvPr/>
          </p:nvSpPr>
          <p:spPr>
            <a:xfrm>
              <a:off x="5684760" y="3638520"/>
              <a:ext cx="2732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3" name=""/>
            <p:cNvSpPr/>
            <p:nvPr/>
          </p:nvSpPr>
          <p:spPr>
            <a:xfrm>
              <a:off x="6060960" y="3638520"/>
              <a:ext cx="1000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4" name=""/>
            <p:cNvSpPr/>
            <p:nvPr/>
          </p:nvSpPr>
          <p:spPr>
            <a:xfrm>
              <a:off x="6262560" y="3638520"/>
              <a:ext cx="50652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5" name=""/>
            <p:cNvSpPr/>
            <p:nvPr/>
          </p:nvSpPr>
          <p:spPr>
            <a:xfrm>
              <a:off x="6870600" y="3638520"/>
              <a:ext cx="1018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6" name=""/>
            <p:cNvSpPr/>
            <p:nvPr/>
          </p:nvSpPr>
          <p:spPr>
            <a:xfrm>
              <a:off x="7074000" y="3638520"/>
              <a:ext cx="51120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7" name=""/>
            <p:cNvSpPr/>
            <p:nvPr/>
          </p:nvSpPr>
          <p:spPr>
            <a:xfrm>
              <a:off x="7686720" y="3638520"/>
              <a:ext cx="1000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"/>
            <p:cNvSpPr/>
            <p:nvPr/>
          </p:nvSpPr>
          <p:spPr>
            <a:xfrm>
              <a:off x="7889760" y="3638520"/>
              <a:ext cx="5050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9" name=""/>
            <p:cNvSpPr/>
            <p:nvPr/>
          </p:nvSpPr>
          <p:spPr>
            <a:xfrm>
              <a:off x="8497800" y="3638520"/>
              <a:ext cx="10152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0" name=""/>
            <p:cNvSpPr/>
            <p:nvPr/>
          </p:nvSpPr>
          <p:spPr>
            <a:xfrm>
              <a:off x="8699400" y="3638520"/>
              <a:ext cx="27648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1" name=""/>
            <p:cNvSpPr/>
            <p:nvPr/>
          </p:nvSpPr>
          <p:spPr>
            <a:xfrm>
              <a:off x="8253360" y="2163600"/>
              <a:ext cx="27000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"/>
            <p:cNvSpPr/>
            <p:nvPr/>
          </p:nvSpPr>
          <p:spPr>
            <a:xfrm>
              <a:off x="6018120" y="2984400"/>
              <a:ext cx="25448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"/>
            <p:cNvSpPr/>
            <p:nvPr/>
          </p:nvSpPr>
          <p:spPr>
            <a:xfrm flipH="1">
              <a:off x="7464600" y="2728800"/>
              <a:ext cx="204480" cy="20160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4" name=""/>
            <p:cNvSpPr/>
            <p:nvPr/>
          </p:nvSpPr>
          <p:spPr>
            <a:xfrm>
              <a:off x="7464600" y="2728800"/>
              <a:ext cx="204480" cy="201600"/>
            </a:xfrm>
            <a:prstGeom prst="line">
              <a:avLst/>
            </a:prstGeom>
            <a:ln w="2556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5" name=""/>
            <p:cNvSpPr/>
            <p:nvPr/>
          </p:nvSpPr>
          <p:spPr>
            <a:xfrm>
              <a:off x="5411880" y="2828880"/>
              <a:ext cx="44640" cy="128880"/>
            </a:xfrm>
            <a:custGeom>
              <a:avLst/>
              <a:gdLst/>
              <a:ahLst/>
              <a:rect l="0" t="0" r="r" b="b"/>
              <a:pathLst>
                <a:path w="124" h="358">
                  <a:moveTo>
                    <a:pt x="0" y="358"/>
                  </a:moveTo>
                  <a:lnTo>
                    <a:pt x="124" y="358"/>
                  </a:lnTo>
                  <a:lnTo>
                    <a:pt x="66" y="0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"/>
            <p:cNvSpPr/>
            <p:nvPr/>
          </p:nvSpPr>
          <p:spPr>
            <a:xfrm flipH="1">
              <a:off x="5324400" y="2828880"/>
              <a:ext cx="63180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"/>
            <p:cNvSpPr/>
            <p:nvPr/>
          </p:nvSpPr>
          <p:spPr>
            <a:xfrm>
              <a:off x="6249960" y="2158920"/>
              <a:ext cx="356040" cy="357480"/>
            </a:xfrm>
            <a:custGeom>
              <a:avLst/>
              <a:gdLst/>
              <a:ahLst/>
              <a:rect l="0" t="0" r="r" b="b"/>
              <a:pathLst>
                <a:path fill="none" w="989" h="993">
                  <a:moveTo>
                    <a:pt x="989" y="497"/>
                  </a:moveTo>
                  <a:lnTo>
                    <a:pt x="982" y="415"/>
                  </a:lnTo>
                  <a:lnTo>
                    <a:pt x="967" y="342"/>
                  </a:lnTo>
                  <a:lnTo>
                    <a:pt x="938" y="269"/>
                  </a:lnTo>
                  <a:lnTo>
                    <a:pt x="895" y="204"/>
                  </a:lnTo>
                  <a:lnTo>
                    <a:pt x="844" y="145"/>
                  </a:lnTo>
                  <a:lnTo>
                    <a:pt x="786" y="94"/>
                  </a:lnTo>
                  <a:lnTo>
                    <a:pt x="720" y="51"/>
                  </a:lnTo>
                  <a:lnTo>
                    <a:pt x="647" y="21"/>
                  </a:lnTo>
                  <a:lnTo>
                    <a:pt x="574" y="7"/>
                  </a:lnTo>
                  <a:lnTo>
                    <a:pt x="494" y="0"/>
                  </a:lnTo>
                  <a:lnTo>
                    <a:pt x="414" y="7"/>
                  </a:lnTo>
                  <a:lnTo>
                    <a:pt x="342" y="21"/>
                  </a:lnTo>
                  <a:lnTo>
                    <a:pt x="269" y="51"/>
                  </a:lnTo>
                  <a:lnTo>
                    <a:pt x="203" y="94"/>
                  </a:lnTo>
                  <a:lnTo>
                    <a:pt x="145" y="145"/>
                  </a:lnTo>
                  <a:lnTo>
                    <a:pt x="94" y="204"/>
                  </a:lnTo>
                  <a:lnTo>
                    <a:pt x="50" y="269"/>
                  </a:lnTo>
                  <a:lnTo>
                    <a:pt x="21" y="342"/>
                  </a:lnTo>
                  <a:lnTo>
                    <a:pt x="7" y="415"/>
                  </a:lnTo>
                  <a:lnTo>
                    <a:pt x="0" y="497"/>
                  </a:lnTo>
                  <a:lnTo>
                    <a:pt x="7" y="577"/>
                  </a:lnTo>
                  <a:lnTo>
                    <a:pt x="21" y="650"/>
                  </a:lnTo>
                  <a:lnTo>
                    <a:pt x="50" y="723"/>
                  </a:lnTo>
                  <a:lnTo>
                    <a:pt x="94" y="788"/>
                  </a:lnTo>
                  <a:lnTo>
                    <a:pt x="145" y="847"/>
                  </a:lnTo>
                  <a:lnTo>
                    <a:pt x="203" y="898"/>
                  </a:lnTo>
                  <a:lnTo>
                    <a:pt x="269" y="942"/>
                  </a:lnTo>
                  <a:lnTo>
                    <a:pt x="342" y="971"/>
                  </a:lnTo>
                  <a:lnTo>
                    <a:pt x="414" y="985"/>
                  </a:lnTo>
                  <a:lnTo>
                    <a:pt x="494" y="993"/>
                  </a:lnTo>
                  <a:lnTo>
                    <a:pt x="574" y="985"/>
                  </a:lnTo>
                  <a:lnTo>
                    <a:pt x="647" y="971"/>
                  </a:lnTo>
                  <a:lnTo>
                    <a:pt x="720" y="942"/>
                  </a:lnTo>
                  <a:lnTo>
                    <a:pt x="786" y="898"/>
                  </a:lnTo>
                  <a:lnTo>
                    <a:pt x="844" y="847"/>
                  </a:lnTo>
                  <a:lnTo>
                    <a:pt x="895" y="788"/>
                  </a:lnTo>
                  <a:lnTo>
                    <a:pt x="938" y="723"/>
                  </a:lnTo>
                  <a:lnTo>
                    <a:pt x="967" y="650"/>
                  </a:lnTo>
                  <a:lnTo>
                    <a:pt x="982" y="577"/>
                  </a:lnTo>
                  <a:lnTo>
                    <a:pt x="989" y="497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8" name=""/>
            <p:cNvSpPr/>
            <p:nvPr/>
          </p:nvSpPr>
          <p:spPr>
            <a:xfrm>
              <a:off x="6962760" y="2158920"/>
              <a:ext cx="357480" cy="357480"/>
            </a:xfrm>
            <a:custGeom>
              <a:avLst/>
              <a:gdLst/>
              <a:ahLst/>
              <a:rect l="0" t="0" r="r" b="b"/>
              <a:pathLst>
                <a:path fill="none" w="993" h="993">
                  <a:moveTo>
                    <a:pt x="993" y="497"/>
                  </a:moveTo>
                  <a:lnTo>
                    <a:pt x="985" y="415"/>
                  </a:lnTo>
                  <a:lnTo>
                    <a:pt x="964" y="342"/>
                  </a:lnTo>
                  <a:lnTo>
                    <a:pt x="935" y="269"/>
                  </a:lnTo>
                  <a:lnTo>
                    <a:pt x="899" y="204"/>
                  </a:lnTo>
                  <a:lnTo>
                    <a:pt x="848" y="145"/>
                  </a:lnTo>
                  <a:lnTo>
                    <a:pt x="783" y="94"/>
                  </a:lnTo>
                  <a:lnTo>
                    <a:pt x="717" y="51"/>
                  </a:lnTo>
                  <a:lnTo>
                    <a:pt x="645" y="21"/>
                  </a:lnTo>
                  <a:lnTo>
                    <a:pt x="573" y="7"/>
                  </a:lnTo>
                  <a:lnTo>
                    <a:pt x="492" y="0"/>
                  </a:lnTo>
                  <a:lnTo>
                    <a:pt x="420" y="7"/>
                  </a:lnTo>
                  <a:lnTo>
                    <a:pt x="340" y="21"/>
                  </a:lnTo>
                  <a:lnTo>
                    <a:pt x="267" y="51"/>
                  </a:lnTo>
                  <a:lnTo>
                    <a:pt x="202" y="94"/>
                  </a:lnTo>
                  <a:lnTo>
                    <a:pt x="144" y="145"/>
                  </a:lnTo>
                  <a:lnTo>
                    <a:pt x="94" y="204"/>
                  </a:lnTo>
                  <a:lnTo>
                    <a:pt x="57" y="269"/>
                  </a:lnTo>
                  <a:lnTo>
                    <a:pt x="28" y="342"/>
                  </a:lnTo>
                  <a:lnTo>
                    <a:pt x="7" y="415"/>
                  </a:lnTo>
                  <a:lnTo>
                    <a:pt x="0" y="497"/>
                  </a:lnTo>
                  <a:lnTo>
                    <a:pt x="7" y="577"/>
                  </a:lnTo>
                  <a:lnTo>
                    <a:pt x="28" y="650"/>
                  </a:lnTo>
                  <a:lnTo>
                    <a:pt x="57" y="723"/>
                  </a:lnTo>
                  <a:lnTo>
                    <a:pt x="94" y="788"/>
                  </a:lnTo>
                  <a:lnTo>
                    <a:pt x="144" y="847"/>
                  </a:lnTo>
                  <a:lnTo>
                    <a:pt x="202" y="898"/>
                  </a:lnTo>
                  <a:lnTo>
                    <a:pt x="267" y="942"/>
                  </a:lnTo>
                  <a:lnTo>
                    <a:pt x="340" y="971"/>
                  </a:lnTo>
                  <a:lnTo>
                    <a:pt x="420" y="985"/>
                  </a:lnTo>
                  <a:lnTo>
                    <a:pt x="492" y="993"/>
                  </a:lnTo>
                  <a:lnTo>
                    <a:pt x="573" y="985"/>
                  </a:lnTo>
                  <a:lnTo>
                    <a:pt x="645" y="971"/>
                  </a:lnTo>
                  <a:lnTo>
                    <a:pt x="717" y="942"/>
                  </a:lnTo>
                  <a:lnTo>
                    <a:pt x="783" y="898"/>
                  </a:lnTo>
                  <a:lnTo>
                    <a:pt x="848" y="847"/>
                  </a:lnTo>
                  <a:lnTo>
                    <a:pt x="899" y="788"/>
                  </a:lnTo>
                  <a:lnTo>
                    <a:pt x="935" y="723"/>
                  </a:lnTo>
                  <a:lnTo>
                    <a:pt x="964" y="650"/>
                  </a:lnTo>
                  <a:lnTo>
                    <a:pt x="985" y="577"/>
                  </a:lnTo>
                  <a:lnTo>
                    <a:pt x="993" y="497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9" name=""/>
            <p:cNvSpPr/>
            <p:nvPr/>
          </p:nvSpPr>
          <p:spPr>
            <a:xfrm>
              <a:off x="6605640" y="2158920"/>
              <a:ext cx="357480" cy="357480"/>
            </a:xfrm>
            <a:custGeom>
              <a:avLst/>
              <a:gdLst/>
              <a:ahLst/>
              <a:rect l="0" t="0" r="r" b="b"/>
              <a:pathLst>
                <a:path fill="none" w="993" h="993">
                  <a:moveTo>
                    <a:pt x="993" y="497"/>
                  </a:moveTo>
                  <a:lnTo>
                    <a:pt x="985" y="415"/>
                  </a:lnTo>
                  <a:lnTo>
                    <a:pt x="971" y="342"/>
                  </a:lnTo>
                  <a:lnTo>
                    <a:pt x="942" y="269"/>
                  </a:lnTo>
                  <a:lnTo>
                    <a:pt x="898" y="204"/>
                  </a:lnTo>
                  <a:lnTo>
                    <a:pt x="847" y="145"/>
                  </a:lnTo>
                  <a:lnTo>
                    <a:pt x="788" y="94"/>
                  </a:lnTo>
                  <a:lnTo>
                    <a:pt x="723" y="51"/>
                  </a:lnTo>
                  <a:lnTo>
                    <a:pt x="650" y="21"/>
                  </a:lnTo>
                  <a:lnTo>
                    <a:pt x="577" y="7"/>
                  </a:lnTo>
                  <a:lnTo>
                    <a:pt x="497" y="0"/>
                  </a:lnTo>
                  <a:lnTo>
                    <a:pt x="415" y="7"/>
                  </a:lnTo>
                  <a:lnTo>
                    <a:pt x="342" y="21"/>
                  </a:lnTo>
                  <a:lnTo>
                    <a:pt x="269" y="51"/>
                  </a:lnTo>
                  <a:lnTo>
                    <a:pt x="204" y="94"/>
                  </a:lnTo>
                  <a:lnTo>
                    <a:pt x="145" y="145"/>
                  </a:lnTo>
                  <a:lnTo>
                    <a:pt x="94" y="204"/>
                  </a:lnTo>
                  <a:lnTo>
                    <a:pt x="51" y="269"/>
                  </a:lnTo>
                  <a:lnTo>
                    <a:pt x="21" y="342"/>
                  </a:lnTo>
                  <a:lnTo>
                    <a:pt x="7" y="415"/>
                  </a:lnTo>
                  <a:lnTo>
                    <a:pt x="0" y="497"/>
                  </a:lnTo>
                  <a:lnTo>
                    <a:pt x="7" y="577"/>
                  </a:lnTo>
                  <a:lnTo>
                    <a:pt x="21" y="650"/>
                  </a:lnTo>
                  <a:lnTo>
                    <a:pt x="51" y="723"/>
                  </a:lnTo>
                  <a:lnTo>
                    <a:pt x="94" y="788"/>
                  </a:lnTo>
                  <a:lnTo>
                    <a:pt x="145" y="847"/>
                  </a:lnTo>
                  <a:lnTo>
                    <a:pt x="204" y="898"/>
                  </a:lnTo>
                  <a:lnTo>
                    <a:pt x="269" y="942"/>
                  </a:lnTo>
                  <a:lnTo>
                    <a:pt x="342" y="971"/>
                  </a:lnTo>
                  <a:lnTo>
                    <a:pt x="415" y="985"/>
                  </a:lnTo>
                  <a:lnTo>
                    <a:pt x="497" y="993"/>
                  </a:lnTo>
                  <a:lnTo>
                    <a:pt x="577" y="985"/>
                  </a:lnTo>
                  <a:lnTo>
                    <a:pt x="650" y="971"/>
                  </a:lnTo>
                  <a:lnTo>
                    <a:pt x="723" y="942"/>
                  </a:lnTo>
                  <a:lnTo>
                    <a:pt x="788" y="898"/>
                  </a:lnTo>
                  <a:lnTo>
                    <a:pt x="847" y="847"/>
                  </a:lnTo>
                  <a:lnTo>
                    <a:pt x="898" y="788"/>
                  </a:lnTo>
                  <a:lnTo>
                    <a:pt x="942" y="723"/>
                  </a:lnTo>
                  <a:lnTo>
                    <a:pt x="971" y="650"/>
                  </a:lnTo>
                  <a:lnTo>
                    <a:pt x="985" y="577"/>
                  </a:lnTo>
                  <a:lnTo>
                    <a:pt x="993" y="497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0" name=""/>
            <p:cNvSpPr/>
            <p:nvPr/>
          </p:nvSpPr>
          <p:spPr>
            <a:xfrm>
              <a:off x="8253360" y="2163600"/>
              <a:ext cx="0" cy="6652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1" name=""/>
            <p:cNvSpPr/>
            <p:nvPr/>
          </p:nvSpPr>
          <p:spPr>
            <a:xfrm>
              <a:off x="6018120" y="2828880"/>
              <a:ext cx="223524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2" name=""/>
            <p:cNvSpPr/>
            <p:nvPr/>
          </p:nvSpPr>
          <p:spPr>
            <a:xfrm flipH="1" flipV="1">
              <a:off x="7242120" y="2484360"/>
              <a:ext cx="174600" cy="20808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3" name=""/>
            <p:cNvSpPr/>
            <p:nvPr/>
          </p:nvSpPr>
          <p:spPr>
            <a:xfrm>
              <a:off x="6962760" y="2336760"/>
              <a:ext cx="357120" cy="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4" name=""/>
            <p:cNvSpPr/>
            <p:nvPr/>
          </p:nvSpPr>
          <p:spPr>
            <a:xfrm>
              <a:off x="6249960" y="2336760"/>
              <a:ext cx="712440" cy="0"/>
            </a:xfrm>
            <a:custGeom>
              <a:avLst/>
              <a:gdLst/>
              <a:ahLst/>
              <a:rect l="0" t="0" r="r" b="b"/>
              <a:pathLst>
                <a:path fill="none" w="1979" h="0">
                  <a:moveTo>
                    <a:pt x="0" y="0"/>
                  </a:moveTo>
                  <a:lnTo>
                    <a:pt x="989" y="0"/>
                  </a:lnTo>
                  <a:lnTo>
                    <a:pt x="1979" y="0"/>
                  </a:lnTo>
                </a:path>
              </a:pathLst>
            </a:custGeom>
            <a:ln w="12600">
              <a:solidFill>
                <a:srgbClr val="f2fefd"/>
              </a:solidFill>
              <a:round/>
            </a:ln>
          </p:spPr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5" name=""/>
            <p:cNvGrpSpPr/>
            <p:nvPr/>
          </p:nvGrpSpPr>
          <p:grpSpPr>
            <a:xfrm>
              <a:off x="8158320" y="2403360"/>
              <a:ext cx="195120" cy="198720"/>
              <a:chOff x="8158320" y="2403360"/>
              <a:chExt cx="195120" cy="198720"/>
            </a:xfrm>
          </p:grpSpPr>
          <p:sp>
            <p:nvSpPr>
              <p:cNvPr id="5076" name=""/>
              <p:cNvSpPr/>
              <p:nvPr/>
            </p:nvSpPr>
            <p:spPr>
              <a:xfrm>
                <a:off x="8158320" y="2403360"/>
                <a:ext cx="195120" cy="198720"/>
              </a:xfrm>
              <a:prstGeom prst="line">
                <a:avLst/>
              </a:prstGeom>
              <a:ln w="25560">
                <a:solidFill>
                  <a:srgbClr val="f2fe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 flipH="1">
                <a:off x="8158320" y="2403360"/>
                <a:ext cx="195120" cy="198720"/>
              </a:xfrm>
              <a:prstGeom prst="line">
                <a:avLst/>
              </a:prstGeom>
              <a:ln w="25560">
                <a:solidFill>
                  <a:srgbClr val="f2fe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78" name=""/>
            <p:cNvGrpSpPr/>
            <p:nvPr/>
          </p:nvGrpSpPr>
          <p:grpSpPr>
            <a:xfrm>
              <a:off x="6367320" y="1606680"/>
              <a:ext cx="1033920" cy="344880"/>
              <a:chOff x="6367320" y="1606680"/>
              <a:chExt cx="1033920" cy="344880"/>
            </a:xfrm>
          </p:grpSpPr>
          <p:sp>
            <p:nvSpPr>
              <p:cNvPr id="5079" name=""/>
              <p:cNvSpPr/>
              <p:nvPr/>
            </p:nvSpPr>
            <p:spPr>
              <a:xfrm>
                <a:off x="6723000" y="1606680"/>
                <a:ext cx="346320" cy="344880"/>
              </a:xfrm>
              <a:custGeom>
                <a:avLst/>
                <a:gdLst/>
                <a:ahLst/>
                <a:rect l="0" t="0" r="r" b="b"/>
                <a:pathLst>
                  <a:path fill="none" w="962" h="958">
                    <a:moveTo>
                      <a:pt x="0" y="479"/>
                    </a:moveTo>
                    <a:lnTo>
                      <a:pt x="7" y="402"/>
                    </a:lnTo>
                    <a:lnTo>
                      <a:pt x="28" y="331"/>
                    </a:lnTo>
                    <a:lnTo>
                      <a:pt x="56" y="261"/>
                    </a:lnTo>
                    <a:lnTo>
                      <a:pt x="91" y="197"/>
                    </a:lnTo>
                    <a:lnTo>
                      <a:pt x="140" y="140"/>
                    </a:lnTo>
                    <a:lnTo>
                      <a:pt x="196" y="91"/>
                    </a:lnTo>
                    <a:lnTo>
                      <a:pt x="266" y="49"/>
                    </a:lnTo>
                    <a:lnTo>
                      <a:pt x="329" y="21"/>
                    </a:lnTo>
                    <a:lnTo>
                      <a:pt x="406" y="7"/>
                    </a:lnTo>
                    <a:lnTo>
                      <a:pt x="485" y="0"/>
                    </a:lnTo>
                    <a:lnTo>
                      <a:pt x="555" y="7"/>
                    </a:lnTo>
                    <a:lnTo>
                      <a:pt x="632" y="21"/>
                    </a:lnTo>
                    <a:lnTo>
                      <a:pt x="695" y="49"/>
                    </a:lnTo>
                    <a:lnTo>
                      <a:pt x="765" y="91"/>
                    </a:lnTo>
                    <a:lnTo>
                      <a:pt x="821" y="140"/>
                    </a:lnTo>
                    <a:lnTo>
                      <a:pt x="871" y="197"/>
                    </a:lnTo>
                    <a:lnTo>
                      <a:pt x="906" y="261"/>
                    </a:lnTo>
                    <a:lnTo>
                      <a:pt x="934" y="331"/>
                    </a:lnTo>
                    <a:lnTo>
                      <a:pt x="955" y="402"/>
                    </a:lnTo>
                    <a:lnTo>
                      <a:pt x="962" y="479"/>
                    </a:lnTo>
                    <a:lnTo>
                      <a:pt x="955" y="556"/>
                    </a:lnTo>
                    <a:lnTo>
                      <a:pt x="934" y="627"/>
                    </a:lnTo>
                    <a:lnTo>
                      <a:pt x="906" y="697"/>
                    </a:lnTo>
                    <a:lnTo>
                      <a:pt x="871" y="761"/>
                    </a:lnTo>
                    <a:lnTo>
                      <a:pt x="821" y="818"/>
                    </a:lnTo>
                    <a:lnTo>
                      <a:pt x="765" y="867"/>
                    </a:lnTo>
                    <a:lnTo>
                      <a:pt x="695" y="909"/>
                    </a:lnTo>
                    <a:lnTo>
                      <a:pt x="632" y="937"/>
                    </a:lnTo>
                    <a:lnTo>
                      <a:pt x="555" y="951"/>
                    </a:lnTo>
                    <a:lnTo>
                      <a:pt x="485" y="958"/>
                    </a:lnTo>
                    <a:lnTo>
                      <a:pt x="406" y="951"/>
                    </a:lnTo>
                    <a:lnTo>
                      <a:pt x="329" y="937"/>
                    </a:lnTo>
                    <a:lnTo>
                      <a:pt x="266" y="909"/>
                    </a:lnTo>
                    <a:lnTo>
                      <a:pt x="196" y="867"/>
                    </a:lnTo>
                    <a:lnTo>
                      <a:pt x="140" y="818"/>
                    </a:lnTo>
                    <a:lnTo>
                      <a:pt x="91" y="761"/>
                    </a:lnTo>
                    <a:lnTo>
                      <a:pt x="56" y="697"/>
                    </a:lnTo>
                    <a:lnTo>
                      <a:pt x="28" y="627"/>
                    </a:lnTo>
                    <a:lnTo>
                      <a:pt x="7" y="556"/>
                    </a:lnTo>
                    <a:lnTo>
                      <a:pt x="0" y="479"/>
                    </a:lnTo>
                  </a:path>
                </a:pathLst>
              </a:custGeom>
              <a:ln w="12600">
                <a:solidFill>
                  <a:srgbClr val="f2fef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6367320" y="1606680"/>
                <a:ext cx="344880" cy="344880"/>
              </a:xfrm>
              <a:custGeom>
                <a:avLst/>
                <a:gdLst/>
                <a:ahLst/>
                <a:rect l="0" t="0" r="r" b="b"/>
                <a:pathLst>
                  <a:path fill="none" w="958" h="958">
                    <a:moveTo>
                      <a:pt x="0" y="479"/>
                    </a:moveTo>
                    <a:lnTo>
                      <a:pt x="7" y="402"/>
                    </a:lnTo>
                    <a:lnTo>
                      <a:pt x="21" y="331"/>
                    </a:lnTo>
                    <a:lnTo>
                      <a:pt x="56" y="261"/>
                    </a:lnTo>
                    <a:lnTo>
                      <a:pt x="91" y="197"/>
                    </a:lnTo>
                    <a:lnTo>
                      <a:pt x="140" y="140"/>
                    </a:lnTo>
                    <a:lnTo>
                      <a:pt x="197" y="91"/>
                    </a:lnTo>
                    <a:lnTo>
                      <a:pt x="261" y="49"/>
                    </a:lnTo>
                    <a:lnTo>
                      <a:pt x="331" y="21"/>
                    </a:lnTo>
                    <a:lnTo>
                      <a:pt x="409" y="7"/>
                    </a:lnTo>
                    <a:lnTo>
                      <a:pt x="479" y="0"/>
                    </a:lnTo>
                    <a:lnTo>
                      <a:pt x="556" y="7"/>
                    </a:lnTo>
                    <a:lnTo>
                      <a:pt x="627" y="21"/>
                    </a:lnTo>
                    <a:lnTo>
                      <a:pt x="697" y="49"/>
                    </a:lnTo>
                    <a:lnTo>
                      <a:pt x="761" y="91"/>
                    </a:lnTo>
                    <a:lnTo>
                      <a:pt x="818" y="140"/>
                    </a:lnTo>
                    <a:lnTo>
                      <a:pt x="867" y="197"/>
                    </a:lnTo>
                    <a:lnTo>
                      <a:pt x="909" y="261"/>
                    </a:lnTo>
                    <a:lnTo>
                      <a:pt x="937" y="331"/>
                    </a:lnTo>
                    <a:lnTo>
                      <a:pt x="951" y="402"/>
                    </a:lnTo>
                    <a:lnTo>
                      <a:pt x="958" y="479"/>
                    </a:lnTo>
                    <a:lnTo>
                      <a:pt x="951" y="556"/>
                    </a:lnTo>
                    <a:lnTo>
                      <a:pt x="937" y="627"/>
                    </a:lnTo>
                    <a:lnTo>
                      <a:pt x="909" y="697"/>
                    </a:lnTo>
                    <a:lnTo>
                      <a:pt x="867" y="761"/>
                    </a:lnTo>
                    <a:lnTo>
                      <a:pt x="818" y="818"/>
                    </a:lnTo>
                    <a:lnTo>
                      <a:pt x="761" y="867"/>
                    </a:lnTo>
                    <a:lnTo>
                      <a:pt x="697" y="909"/>
                    </a:lnTo>
                    <a:lnTo>
                      <a:pt x="627" y="937"/>
                    </a:lnTo>
                    <a:lnTo>
                      <a:pt x="556" y="951"/>
                    </a:lnTo>
                    <a:lnTo>
                      <a:pt x="479" y="958"/>
                    </a:lnTo>
                    <a:lnTo>
                      <a:pt x="409" y="951"/>
                    </a:lnTo>
                    <a:lnTo>
                      <a:pt x="331" y="937"/>
                    </a:lnTo>
                    <a:lnTo>
                      <a:pt x="261" y="909"/>
                    </a:lnTo>
                    <a:lnTo>
                      <a:pt x="197" y="867"/>
                    </a:lnTo>
                    <a:lnTo>
                      <a:pt x="140" y="818"/>
                    </a:lnTo>
                    <a:lnTo>
                      <a:pt x="91" y="761"/>
                    </a:lnTo>
                    <a:lnTo>
                      <a:pt x="56" y="697"/>
                    </a:lnTo>
                    <a:lnTo>
                      <a:pt x="21" y="627"/>
                    </a:lnTo>
                    <a:lnTo>
                      <a:pt x="7" y="556"/>
                    </a:lnTo>
                    <a:lnTo>
                      <a:pt x="0" y="479"/>
                    </a:lnTo>
                  </a:path>
                </a:pathLst>
              </a:custGeom>
              <a:ln w="12600">
                <a:solidFill>
                  <a:srgbClr val="f2fef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711840" y="1606680"/>
                <a:ext cx="689400" cy="344880"/>
              </a:xfrm>
              <a:custGeom>
                <a:avLst/>
                <a:gdLst/>
                <a:ahLst/>
                <a:rect l="0" t="0" r="r" b="b"/>
                <a:pathLst>
                  <a:path fill="none" w="1915" h="958">
                    <a:moveTo>
                      <a:pt x="961" y="479"/>
                    </a:moveTo>
                    <a:lnTo>
                      <a:pt x="961" y="402"/>
                    </a:lnTo>
                    <a:lnTo>
                      <a:pt x="982" y="331"/>
                    </a:lnTo>
                    <a:lnTo>
                      <a:pt x="1010" y="261"/>
                    </a:lnTo>
                    <a:lnTo>
                      <a:pt x="1052" y="197"/>
                    </a:lnTo>
                    <a:lnTo>
                      <a:pt x="1101" y="140"/>
                    </a:lnTo>
                    <a:lnTo>
                      <a:pt x="1157" y="91"/>
                    </a:lnTo>
                    <a:lnTo>
                      <a:pt x="1220" y="49"/>
                    </a:lnTo>
                    <a:lnTo>
                      <a:pt x="1290" y="21"/>
                    </a:lnTo>
                    <a:lnTo>
                      <a:pt x="1361" y="7"/>
                    </a:lnTo>
                    <a:lnTo>
                      <a:pt x="1439" y="0"/>
                    </a:lnTo>
                    <a:lnTo>
                      <a:pt x="1509" y="7"/>
                    </a:lnTo>
                    <a:lnTo>
                      <a:pt x="1586" y="21"/>
                    </a:lnTo>
                    <a:lnTo>
                      <a:pt x="1656" y="49"/>
                    </a:lnTo>
                    <a:lnTo>
                      <a:pt x="1719" y="91"/>
                    </a:lnTo>
                    <a:lnTo>
                      <a:pt x="1775" y="140"/>
                    </a:lnTo>
                    <a:lnTo>
                      <a:pt x="1824" y="197"/>
                    </a:lnTo>
                    <a:lnTo>
                      <a:pt x="1866" y="261"/>
                    </a:lnTo>
                    <a:lnTo>
                      <a:pt x="1894" y="331"/>
                    </a:lnTo>
                    <a:lnTo>
                      <a:pt x="1908" y="402"/>
                    </a:lnTo>
                    <a:lnTo>
                      <a:pt x="1915" y="479"/>
                    </a:lnTo>
                    <a:lnTo>
                      <a:pt x="1908" y="556"/>
                    </a:lnTo>
                    <a:lnTo>
                      <a:pt x="1894" y="627"/>
                    </a:lnTo>
                    <a:lnTo>
                      <a:pt x="1866" y="697"/>
                    </a:lnTo>
                    <a:lnTo>
                      <a:pt x="1824" y="761"/>
                    </a:lnTo>
                    <a:lnTo>
                      <a:pt x="1775" y="818"/>
                    </a:lnTo>
                    <a:lnTo>
                      <a:pt x="1719" y="867"/>
                    </a:lnTo>
                    <a:lnTo>
                      <a:pt x="1656" y="909"/>
                    </a:lnTo>
                    <a:lnTo>
                      <a:pt x="1586" y="937"/>
                    </a:lnTo>
                    <a:lnTo>
                      <a:pt x="1509" y="951"/>
                    </a:lnTo>
                    <a:lnTo>
                      <a:pt x="1439" y="958"/>
                    </a:lnTo>
                    <a:lnTo>
                      <a:pt x="1361" y="951"/>
                    </a:lnTo>
                    <a:lnTo>
                      <a:pt x="1290" y="937"/>
                    </a:lnTo>
                    <a:lnTo>
                      <a:pt x="1220" y="909"/>
                    </a:lnTo>
                    <a:lnTo>
                      <a:pt x="1157" y="867"/>
                    </a:lnTo>
                    <a:lnTo>
                      <a:pt x="1101" y="818"/>
                    </a:lnTo>
                    <a:lnTo>
                      <a:pt x="1052" y="761"/>
                    </a:lnTo>
                    <a:lnTo>
                      <a:pt x="1010" y="697"/>
                    </a:lnTo>
                    <a:lnTo>
                      <a:pt x="982" y="627"/>
                    </a:lnTo>
                    <a:lnTo>
                      <a:pt x="961" y="556"/>
                    </a:lnTo>
                    <a:lnTo>
                      <a:pt x="961" y="479"/>
                    </a:lnTo>
                    <a:lnTo>
                      <a:pt x="0" y="479"/>
                    </a:lnTo>
                  </a:path>
                </a:pathLst>
              </a:custGeom>
              <a:ln w="12600">
                <a:solidFill>
                  <a:srgbClr val="f2fefd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 flipH="1">
                <a:off x="7059600" y="1778040"/>
                <a:ext cx="341280" cy="0"/>
              </a:xfrm>
              <a:prstGeom prst="line">
                <a:avLst/>
              </a:prstGeom>
              <a:ln w="12600">
                <a:solidFill>
                  <a:srgbClr val="f2fe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 flipH="1">
                <a:off x="6367320" y="1778040"/>
                <a:ext cx="344520" cy="0"/>
              </a:xfrm>
              <a:prstGeom prst="line">
                <a:avLst/>
              </a:prstGeom>
              <a:ln w="12600">
                <a:solidFill>
                  <a:srgbClr val="f2fef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4" name=""/>
            <p:cNvSpPr/>
            <p:nvPr/>
          </p:nvSpPr>
          <p:spPr>
            <a:xfrm>
              <a:off x="8523360" y="2163600"/>
              <a:ext cx="39600" cy="43200"/>
            </a:xfrm>
            <a:prstGeom prst="line">
              <a:avLst/>
            </a:prstGeom>
            <a:ln w="12600">
              <a:solidFill>
                <a:srgbClr val="f2fef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"/>
            <p:cNvSpPr/>
            <p:nvPr/>
          </p:nvSpPr>
          <p:spPr>
            <a:xfrm>
              <a:off x="365040" y="4114800"/>
              <a:ext cx="106200" cy="108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6" name=""/>
            <p:cNvSpPr/>
            <p:nvPr/>
          </p:nvSpPr>
          <p:spPr>
            <a:xfrm flipH="1">
              <a:off x="365040" y="4106880"/>
              <a:ext cx="115920" cy="1173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7" name=""/>
            <p:cNvSpPr/>
            <p:nvPr/>
          </p:nvSpPr>
          <p:spPr>
            <a:xfrm>
              <a:off x="2473200" y="2608200"/>
              <a:ext cx="0" cy="18756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"/>
            <p:cNvSpPr/>
            <p:nvPr/>
          </p:nvSpPr>
          <p:spPr>
            <a:xfrm>
              <a:off x="2473200" y="2914560"/>
              <a:ext cx="0" cy="625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9" name=""/>
            <p:cNvSpPr/>
            <p:nvPr/>
          </p:nvSpPr>
          <p:spPr>
            <a:xfrm>
              <a:off x="2473200" y="3594240"/>
              <a:ext cx="0" cy="8892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0" name=""/>
            <p:cNvSpPr/>
            <p:nvPr/>
          </p:nvSpPr>
          <p:spPr>
            <a:xfrm>
              <a:off x="2473200" y="3759120"/>
              <a:ext cx="0" cy="1522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1" name=""/>
            <p:cNvSpPr/>
            <p:nvPr/>
          </p:nvSpPr>
          <p:spPr>
            <a:xfrm>
              <a:off x="2428920" y="3649680"/>
              <a:ext cx="666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2" name=""/>
            <p:cNvSpPr/>
            <p:nvPr/>
          </p:nvSpPr>
          <p:spPr>
            <a:xfrm>
              <a:off x="2583000" y="3649680"/>
              <a:ext cx="7668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3" name=""/>
            <p:cNvSpPr/>
            <p:nvPr/>
          </p:nvSpPr>
          <p:spPr>
            <a:xfrm>
              <a:off x="3897360" y="3649680"/>
              <a:ext cx="44928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4" name=""/>
            <p:cNvSpPr/>
            <p:nvPr/>
          </p:nvSpPr>
          <p:spPr>
            <a:xfrm flipH="1">
              <a:off x="863640" y="3649680"/>
              <a:ext cx="14666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5" name=""/>
            <p:cNvSpPr/>
            <p:nvPr/>
          </p:nvSpPr>
          <p:spPr>
            <a:xfrm>
              <a:off x="7380360" y="1863720"/>
              <a:ext cx="701640" cy="51444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6" name=""/>
            <p:cNvSpPr txBox="1"/>
            <p:nvPr/>
          </p:nvSpPr>
          <p:spPr>
            <a:xfrm>
              <a:off x="6364440" y="1719360"/>
              <a:ext cx="39852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7" name=""/>
            <p:cNvSpPr txBox="1"/>
            <p:nvPr/>
          </p:nvSpPr>
          <p:spPr>
            <a:xfrm>
              <a:off x="2838600" y="1860480"/>
              <a:ext cx="39852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8" name=""/>
            <p:cNvSpPr txBox="1"/>
            <p:nvPr/>
          </p:nvSpPr>
          <p:spPr>
            <a:xfrm>
              <a:off x="1446120" y="2048040"/>
              <a:ext cx="39060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9" name=""/>
            <p:cNvSpPr txBox="1"/>
            <p:nvPr/>
          </p:nvSpPr>
          <p:spPr>
            <a:xfrm>
              <a:off x="1106640" y="5289480"/>
              <a:ext cx="39852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0" name=""/>
            <p:cNvSpPr txBox="1"/>
            <p:nvPr/>
          </p:nvSpPr>
          <p:spPr>
            <a:xfrm>
              <a:off x="3100320" y="5311800"/>
              <a:ext cx="39852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1" name=""/>
            <p:cNvSpPr txBox="1"/>
            <p:nvPr/>
          </p:nvSpPr>
          <p:spPr>
            <a:xfrm>
              <a:off x="6715080" y="1719360"/>
              <a:ext cx="39852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2" name=""/>
            <p:cNvSpPr txBox="1"/>
            <p:nvPr/>
          </p:nvSpPr>
          <p:spPr>
            <a:xfrm>
              <a:off x="7043760" y="1719360"/>
              <a:ext cx="39852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"/>
            <p:cNvSpPr txBox="1"/>
            <p:nvPr/>
          </p:nvSpPr>
          <p:spPr>
            <a:xfrm>
              <a:off x="1785960" y="5508720"/>
              <a:ext cx="39060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4" name=""/>
            <p:cNvSpPr txBox="1"/>
            <p:nvPr/>
          </p:nvSpPr>
          <p:spPr>
            <a:xfrm>
              <a:off x="6605640" y="2287440"/>
              <a:ext cx="39060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5" name=""/>
            <p:cNvSpPr txBox="1"/>
            <p:nvPr/>
          </p:nvSpPr>
          <p:spPr>
            <a:xfrm>
              <a:off x="6265800" y="2287440"/>
              <a:ext cx="39060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6" name=""/>
            <p:cNvSpPr txBox="1"/>
            <p:nvPr/>
          </p:nvSpPr>
          <p:spPr>
            <a:xfrm>
              <a:off x="2454120" y="5508720"/>
              <a:ext cx="39060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"/>
            <p:cNvSpPr txBox="1"/>
            <p:nvPr/>
          </p:nvSpPr>
          <p:spPr>
            <a:xfrm>
              <a:off x="6967440" y="2287440"/>
              <a:ext cx="39060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"/>
            <p:cNvSpPr txBox="1"/>
            <p:nvPr/>
          </p:nvSpPr>
          <p:spPr>
            <a:xfrm>
              <a:off x="7810560" y="5421240"/>
              <a:ext cx="32220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9" name=""/>
            <p:cNvSpPr txBox="1"/>
            <p:nvPr/>
          </p:nvSpPr>
          <p:spPr>
            <a:xfrm>
              <a:off x="5291280" y="4610160"/>
              <a:ext cx="314280" cy="2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0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ircular and Cylindrical Tar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2" name=""/>
          <p:cNvSpPr txBox="1"/>
          <p:nvPr/>
        </p:nvSpPr>
        <p:spPr>
          <a:xfrm>
            <a:off x="685800" y="266688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 target lines and cylindrical target areas may be used to establish a datum axis on rotating pa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3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4" name=""/>
          <p:cNvSpPr/>
          <p:nvPr/>
        </p:nvSpPr>
        <p:spPr>
          <a:xfrm>
            <a:off x="2589120" y="2384280"/>
            <a:ext cx="2873520" cy="1889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5" name=""/>
          <p:cNvSpPr/>
          <p:nvPr/>
        </p:nvSpPr>
        <p:spPr>
          <a:xfrm>
            <a:off x="5462640" y="2660760"/>
            <a:ext cx="1596960" cy="133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"/>
          <p:cNvSpPr/>
          <p:nvPr/>
        </p:nvSpPr>
        <p:spPr>
          <a:xfrm>
            <a:off x="1790640" y="2658960"/>
            <a:ext cx="797040" cy="133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7" name=""/>
          <p:cNvSpPr/>
          <p:nvPr/>
        </p:nvSpPr>
        <p:spPr>
          <a:xfrm>
            <a:off x="1606680" y="3321000"/>
            <a:ext cx="1304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8" name=""/>
          <p:cNvSpPr/>
          <p:nvPr/>
        </p:nvSpPr>
        <p:spPr>
          <a:xfrm>
            <a:off x="2989440" y="3321000"/>
            <a:ext cx="106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9" name=""/>
          <p:cNvSpPr/>
          <p:nvPr/>
        </p:nvSpPr>
        <p:spPr>
          <a:xfrm>
            <a:off x="3203640" y="3321000"/>
            <a:ext cx="16286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0" name=""/>
          <p:cNvSpPr/>
          <p:nvPr/>
        </p:nvSpPr>
        <p:spPr>
          <a:xfrm>
            <a:off x="4940280" y="3321000"/>
            <a:ext cx="122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1" name=""/>
          <p:cNvGrpSpPr/>
          <p:nvPr/>
        </p:nvGrpSpPr>
        <p:grpSpPr>
          <a:xfrm>
            <a:off x="2021040" y="2538360"/>
            <a:ext cx="260280" cy="260280"/>
            <a:chOff x="2021040" y="2538360"/>
            <a:chExt cx="260280" cy="260280"/>
          </a:xfrm>
        </p:grpSpPr>
        <p:sp>
          <p:nvSpPr>
            <p:cNvPr id="5122" name=""/>
            <p:cNvSpPr/>
            <p:nvPr/>
          </p:nvSpPr>
          <p:spPr>
            <a:xfrm>
              <a:off x="2021040" y="2538360"/>
              <a:ext cx="260280" cy="260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3" name=""/>
            <p:cNvSpPr/>
            <p:nvPr/>
          </p:nvSpPr>
          <p:spPr>
            <a:xfrm flipH="1">
              <a:off x="2021040" y="2538360"/>
              <a:ext cx="260280" cy="26028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4" name=""/>
          <p:cNvSpPr/>
          <p:nvPr/>
        </p:nvSpPr>
        <p:spPr>
          <a:xfrm>
            <a:off x="6753240" y="2660760"/>
            <a:ext cx="306360" cy="133668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"/>
          <p:cNvSpPr/>
          <p:nvPr/>
        </p:nvSpPr>
        <p:spPr>
          <a:xfrm>
            <a:off x="6643800" y="2941560"/>
            <a:ext cx="108000" cy="730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"/>
          <p:cNvSpPr/>
          <p:nvPr/>
        </p:nvSpPr>
        <p:spPr>
          <a:xfrm>
            <a:off x="5154480" y="3321000"/>
            <a:ext cx="21970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"/>
          <p:cNvSpPr/>
          <p:nvPr/>
        </p:nvSpPr>
        <p:spPr>
          <a:xfrm>
            <a:off x="6643800" y="3081240"/>
            <a:ext cx="108000" cy="730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"/>
          <p:cNvSpPr/>
          <p:nvPr/>
        </p:nvSpPr>
        <p:spPr>
          <a:xfrm>
            <a:off x="6643800" y="3218040"/>
            <a:ext cx="108000" cy="730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"/>
          <p:cNvSpPr/>
          <p:nvPr/>
        </p:nvSpPr>
        <p:spPr>
          <a:xfrm>
            <a:off x="6647040" y="3557520"/>
            <a:ext cx="108000" cy="730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"/>
          <p:cNvSpPr/>
          <p:nvPr/>
        </p:nvSpPr>
        <p:spPr>
          <a:xfrm>
            <a:off x="6647040" y="3697200"/>
            <a:ext cx="108000" cy="730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"/>
          <p:cNvSpPr/>
          <p:nvPr/>
        </p:nvSpPr>
        <p:spPr>
          <a:xfrm>
            <a:off x="6647040" y="3833640"/>
            <a:ext cx="108000" cy="7308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"/>
          <p:cNvSpPr/>
          <p:nvPr/>
        </p:nvSpPr>
        <p:spPr>
          <a:xfrm>
            <a:off x="2143080" y="2768760"/>
            <a:ext cx="0" cy="306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"/>
          <p:cNvSpPr/>
          <p:nvPr/>
        </p:nvSpPr>
        <p:spPr>
          <a:xfrm>
            <a:off x="2143080" y="318276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"/>
          <p:cNvSpPr/>
          <p:nvPr/>
        </p:nvSpPr>
        <p:spPr>
          <a:xfrm>
            <a:off x="2143080" y="3367080"/>
            <a:ext cx="0" cy="108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"/>
          <p:cNvSpPr/>
          <p:nvPr/>
        </p:nvSpPr>
        <p:spPr>
          <a:xfrm>
            <a:off x="2143080" y="4060800"/>
            <a:ext cx="0" cy="9968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"/>
          <p:cNvSpPr/>
          <p:nvPr/>
        </p:nvSpPr>
        <p:spPr>
          <a:xfrm>
            <a:off x="7059600" y="4119480"/>
            <a:ext cx="0" cy="92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"/>
          <p:cNvSpPr/>
          <p:nvPr/>
        </p:nvSpPr>
        <p:spPr>
          <a:xfrm>
            <a:off x="6753240" y="4105440"/>
            <a:ext cx="0" cy="9522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"/>
          <p:cNvSpPr/>
          <p:nvPr/>
        </p:nvSpPr>
        <p:spPr>
          <a:xfrm>
            <a:off x="3956040" y="4765680"/>
            <a:ext cx="507960" cy="33804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"/>
          <p:cNvSpPr/>
          <p:nvPr/>
        </p:nvSpPr>
        <p:spPr>
          <a:xfrm flipH="1">
            <a:off x="2143080" y="4933800"/>
            <a:ext cx="181296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"/>
          <p:cNvSpPr/>
          <p:nvPr/>
        </p:nvSpPr>
        <p:spPr>
          <a:xfrm>
            <a:off x="4464000" y="4950000"/>
            <a:ext cx="228924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"/>
          <p:cNvSpPr/>
          <p:nvPr/>
        </p:nvSpPr>
        <p:spPr>
          <a:xfrm>
            <a:off x="7059600" y="4950000"/>
            <a:ext cx="476280" cy="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"/>
          <p:cNvSpPr/>
          <p:nvPr/>
        </p:nvSpPr>
        <p:spPr>
          <a:xfrm>
            <a:off x="2470320" y="1047600"/>
            <a:ext cx="538200" cy="538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"/>
          <p:cNvSpPr/>
          <p:nvPr/>
        </p:nvSpPr>
        <p:spPr>
          <a:xfrm>
            <a:off x="5675400" y="1185840"/>
            <a:ext cx="538200" cy="53820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"/>
          <p:cNvSpPr/>
          <p:nvPr/>
        </p:nvSpPr>
        <p:spPr>
          <a:xfrm flipH="1">
            <a:off x="2144880" y="1569960"/>
            <a:ext cx="446040" cy="1090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"/>
          <p:cNvSpPr/>
          <p:nvPr/>
        </p:nvSpPr>
        <p:spPr>
          <a:xfrm>
            <a:off x="2467080" y="1324080"/>
            <a:ext cx="538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6" name=""/>
          <p:cNvSpPr/>
          <p:nvPr/>
        </p:nvSpPr>
        <p:spPr>
          <a:xfrm>
            <a:off x="5692680" y="1447920"/>
            <a:ext cx="5223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7" name=""/>
          <p:cNvSpPr/>
          <p:nvPr/>
        </p:nvSpPr>
        <p:spPr>
          <a:xfrm>
            <a:off x="6122880" y="1662120"/>
            <a:ext cx="800280" cy="9986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"/>
          <p:cNvSpPr/>
          <p:nvPr/>
        </p:nvSpPr>
        <p:spPr>
          <a:xfrm>
            <a:off x="7183440" y="2660760"/>
            <a:ext cx="9367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9" name=""/>
          <p:cNvSpPr/>
          <p:nvPr/>
        </p:nvSpPr>
        <p:spPr>
          <a:xfrm>
            <a:off x="7167600" y="3997440"/>
            <a:ext cx="9684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0" name=""/>
          <p:cNvSpPr/>
          <p:nvPr/>
        </p:nvSpPr>
        <p:spPr>
          <a:xfrm>
            <a:off x="7997760" y="2660760"/>
            <a:ext cx="0" cy="133668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1" name=""/>
          <p:cNvSpPr/>
          <p:nvPr/>
        </p:nvSpPr>
        <p:spPr>
          <a:xfrm flipH="1">
            <a:off x="1084320" y="2660760"/>
            <a:ext cx="6141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2" name=""/>
          <p:cNvSpPr/>
          <p:nvPr/>
        </p:nvSpPr>
        <p:spPr>
          <a:xfrm flipH="1">
            <a:off x="1100160" y="3997440"/>
            <a:ext cx="598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3" name=""/>
          <p:cNvSpPr/>
          <p:nvPr/>
        </p:nvSpPr>
        <p:spPr>
          <a:xfrm>
            <a:off x="1227240" y="2668680"/>
            <a:ext cx="0" cy="133344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4" name=""/>
          <p:cNvSpPr/>
          <p:nvPr/>
        </p:nvSpPr>
        <p:spPr>
          <a:xfrm>
            <a:off x="7553160" y="4797360"/>
            <a:ext cx="460440" cy="306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5" name=""/>
          <p:cNvSpPr/>
          <p:nvPr/>
        </p:nvSpPr>
        <p:spPr>
          <a:xfrm>
            <a:off x="1052640" y="4419720"/>
            <a:ext cx="306360" cy="306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6" name=""/>
          <p:cNvSpPr/>
          <p:nvPr/>
        </p:nvSpPr>
        <p:spPr>
          <a:xfrm>
            <a:off x="7827840" y="4317840"/>
            <a:ext cx="306360" cy="30636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7" name=""/>
          <p:cNvSpPr txBox="1"/>
          <p:nvPr/>
        </p:nvSpPr>
        <p:spPr>
          <a:xfrm>
            <a:off x="7535880" y="4803840"/>
            <a:ext cx="406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8" name=""/>
          <p:cNvSpPr/>
          <p:nvPr/>
        </p:nvSpPr>
        <p:spPr>
          <a:xfrm>
            <a:off x="1130400" y="3995640"/>
            <a:ext cx="138600" cy="138600"/>
          </a:xfrm>
          <a:custGeom>
            <a:avLst/>
            <a:gdLst/>
            <a:ahLst/>
            <a:rect l="0" t="0" r="r" b="b"/>
            <a:pathLst>
              <a:path fill="none" w="385" h="385">
                <a:moveTo>
                  <a:pt x="0" y="0"/>
                </a:moveTo>
                <a:lnTo>
                  <a:pt x="385" y="0"/>
                </a:lnTo>
                <a:lnTo>
                  <a:pt x="192" y="385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9" name=""/>
          <p:cNvSpPr/>
          <p:nvPr/>
        </p:nvSpPr>
        <p:spPr>
          <a:xfrm>
            <a:off x="7920000" y="3995640"/>
            <a:ext cx="138600" cy="138600"/>
          </a:xfrm>
          <a:custGeom>
            <a:avLst/>
            <a:gdLst/>
            <a:ahLst/>
            <a:rect l="0" t="0" r="r" b="b"/>
            <a:pathLst>
              <a:path fill="none" w="385" h="385">
                <a:moveTo>
                  <a:pt x="0" y="0"/>
                </a:moveTo>
                <a:lnTo>
                  <a:pt x="385" y="0"/>
                </a:lnTo>
                <a:lnTo>
                  <a:pt x="192" y="385"/>
                </a:ln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0" name=""/>
          <p:cNvSpPr/>
          <p:nvPr/>
        </p:nvSpPr>
        <p:spPr>
          <a:xfrm>
            <a:off x="1201680" y="412740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1" name=""/>
          <p:cNvSpPr/>
          <p:nvPr/>
        </p:nvSpPr>
        <p:spPr>
          <a:xfrm>
            <a:off x="7991640" y="4119480"/>
            <a:ext cx="0" cy="200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2" name=""/>
          <p:cNvSpPr txBox="1"/>
          <p:nvPr/>
        </p:nvSpPr>
        <p:spPr>
          <a:xfrm>
            <a:off x="1046160" y="4441680"/>
            <a:ext cx="3128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3" name=""/>
          <p:cNvSpPr txBox="1"/>
          <p:nvPr/>
        </p:nvSpPr>
        <p:spPr>
          <a:xfrm>
            <a:off x="7818480" y="4335480"/>
            <a:ext cx="3031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4" name=""/>
          <p:cNvSpPr txBox="1"/>
          <p:nvPr/>
        </p:nvSpPr>
        <p:spPr>
          <a:xfrm>
            <a:off x="2514600" y="1336680"/>
            <a:ext cx="446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5" name=""/>
          <p:cNvSpPr txBox="1"/>
          <p:nvPr/>
        </p:nvSpPr>
        <p:spPr>
          <a:xfrm>
            <a:off x="5740560" y="1473120"/>
            <a:ext cx="436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6" name=""/>
          <p:cNvSpPr txBox="1"/>
          <p:nvPr/>
        </p:nvSpPr>
        <p:spPr>
          <a:xfrm>
            <a:off x="4025880" y="47912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7" name=""/>
          <p:cNvSpPr txBox="1"/>
          <p:nvPr/>
        </p:nvSpPr>
        <p:spPr>
          <a:xfrm>
            <a:off x="6713640" y="1092240"/>
            <a:ext cx="2025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ylindrical da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"/>
          <p:cNvSpPr txBox="1"/>
          <p:nvPr/>
        </p:nvSpPr>
        <p:spPr>
          <a:xfrm>
            <a:off x="1468440" y="5300640"/>
            <a:ext cx="17146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rcular dat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rge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9" name=""/>
          <p:cNvSpPr/>
          <p:nvPr/>
        </p:nvSpPr>
        <p:spPr>
          <a:xfrm>
            <a:off x="1282680" y="5518080"/>
            <a:ext cx="184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0" name=""/>
          <p:cNvSpPr/>
          <p:nvPr/>
        </p:nvSpPr>
        <p:spPr>
          <a:xfrm flipV="1">
            <a:off x="1284120" y="4167360"/>
            <a:ext cx="860760" cy="1352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1" name=""/>
          <p:cNvSpPr/>
          <p:nvPr/>
        </p:nvSpPr>
        <p:spPr>
          <a:xfrm>
            <a:off x="7905600" y="1616040"/>
            <a:ext cx="214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2" name=""/>
          <p:cNvSpPr/>
          <p:nvPr/>
        </p:nvSpPr>
        <p:spPr>
          <a:xfrm flipH="1">
            <a:off x="6929280" y="1616040"/>
            <a:ext cx="1206720" cy="14511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"/>
          <p:cNvSpPr/>
          <p:nvPr/>
        </p:nvSpPr>
        <p:spPr>
          <a:xfrm>
            <a:off x="6861240" y="3048120"/>
            <a:ext cx="92160" cy="9216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a2c1fe"/>
            </a:solidFill>
            <a:round/>
          </a:ln>
        </p:spPr>
        <p:txBody>
          <a:bodyPr lIns="96120" rIns="9612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4" name=""/>
          <p:cNvSpPr/>
          <p:nvPr/>
        </p:nvSpPr>
        <p:spPr>
          <a:xfrm>
            <a:off x="3189240" y="2384280"/>
            <a:ext cx="0" cy="1889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5" name=""/>
          <p:cNvSpPr/>
          <p:nvPr/>
        </p:nvSpPr>
        <p:spPr>
          <a:xfrm>
            <a:off x="4873680" y="2386080"/>
            <a:ext cx="0" cy="18860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6" name=""/>
          <p:cNvSpPr/>
          <p:nvPr/>
        </p:nvSpPr>
        <p:spPr>
          <a:xfrm>
            <a:off x="3184560" y="2527200"/>
            <a:ext cx="168732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7" name=""/>
          <p:cNvSpPr/>
          <p:nvPr/>
        </p:nvSpPr>
        <p:spPr>
          <a:xfrm>
            <a:off x="3201840" y="4152960"/>
            <a:ext cx="167004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8" name=""/>
          <p:cNvSpPr/>
          <p:nvPr/>
        </p:nvSpPr>
        <p:spPr>
          <a:xfrm>
            <a:off x="3200400" y="2324160"/>
            <a:ext cx="1652760" cy="1080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9" name=""/>
          <p:cNvSpPr/>
          <p:nvPr/>
        </p:nvSpPr>
        <p:spPr>
          <a:xfrm>
            <a:off x="3205080" y="4210200"/>
            <a:ext cx="1652760" cy="108000"/>
          </a:xfrm>
          <a:prstGeom prst="rect">
            <a:avLst/>
          </a:prstGeom>
          <a:solidFill>
            <a:srgbClr val="114f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"/>
          <p:cNvSpPr/>
          <p:nvPr/>
        </p:nvSpPr>
        <p:spPr>
          <a:xfrm>
            <a:off x="2146320" y="3562200"/>
            <a:ext cx="0" cy="4320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1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700200" y="177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surface types,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y themselv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uch as nonplanar or uneven surfaces produced by casting, forging, or molding, surfaces of weldments; and thin section surfaces subject to bowing, warping, or other inherent or induced distortions, cannot be effectively used as a datum feature.  In such cases, 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s may be combined to establish a datum reference fram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2457360" y="961920"/>
            <a:ext cx="4146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 TAR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um targets designate specific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point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,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line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, or </a:t>
            </a:r>
            <a:r>
              <a:rPr b="0" lang="en-US" sz="2800" spc="-1" strike="noStrike" u="sng">
                <a:solidFill>
                  <a:srgbClr val="fafd00"/>
                </a:solidFill>
                <a:uFillTx/>
                <a:latin typeface="Times New Roman"/>
                <a:ea typeface="Times New Roman"/>
              </a:rPr>
              <a:t>areas</a:t>
            </a:r>
            <a:r>
              <a:rPr b="0" lang="en-US" sz="2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 contact on a part that are used in establishing a datum reference fr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73320" y="793800"/>
            <a:ext cx="2913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3073320" y="793800"/>
            <a:ext cx="2913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atum Tar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Max Raisor</dc:creator>
  <dc:description/>
  <dc:language>en-US</dc:language>
  <cp:lastModifiedBy>E. Max Raisor</cp:lastModifiedBy>
  <cp:revision>0</cp:revision>
  <dc:subject>Geometric Dimensioning and Tolerancing</dc:subject>
  <dc:title>Datums and Datum Referencing</dc:title>
</cp:coreProperties>
</file>