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5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39.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66.xml" ContentType="application/vnd.openxmlformats-officedocument.presentationml.notesSlide+xml"/>
  <Override PartName="/ppt/notesSlides/notesSlide11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13.xml" ContentType="application/vnd.openxmlformats-officedocument.presentationml.notesSlide+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9.xml.rels" ContentType="application/vnd.openxmlformats-package.relationships+xml"/>
  <Override PartName="/ppt/notesSlides/_rels/notesSlide140.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3.xml.rels" ContentType="application/vnd.openxmlformats-package.relationships+xml"/>
  <Override PartName="/ppt/notesSlides/_rels/notesSlide102.xml.rels" ContentType="application/vnd.openxmlformats-package.relationships+xml"/>
  <Override PartName="/ppt/notesSlides/_rels/notesSlide155.xml.rels" ContentType="application/vnd.openxmlformats-package.relationships+xml"/>
  <Override PartName="/ppt/notesSlides/_rels/notesSlide89.xml.rels" ContentType="application/vnd.openxmlformats-package.relationships+xml"/>
  <Override PartName="/ppt/notesSlides/_rels/notesSlide94.xml.rels" ContentType="application/vnd.openxmlformats-package.relationships+xml"/>
  <Override PartName="/ppt/notesSlides/_rels/notesSlide156.xml.rels" ContentType="application/vnd.openxmlformats-package.relationships+xml"/>
  <Override PartName="/ppt/notesSlides/_rels/notesSlide103.xml.rels" ContentType="application/vnd.openxmlformats-package.relationships+xml"/>
  <Override PartName="/ppt/notesSlides/_rels/notesSlide95.xml.rels" ContentType="application/vnd.openxmlformats-package.relationships+xml"/>
  <Override PartName="/ppt/notesSlides/_rels/notesSlide157.xml.rels" ContentType="application/vnd.openxmlformats-package.relationships+xml"/>
  <Override PartName="/ppt/notesSlides/_rels/notesSlide90.xml.rels" ContentType="application/vnd.openxmlformats-package.relationships+xml"/>
  <Override PartName="/ppt/notesSlides/_rels/notesSlide127.xml.rels" ContentType="application/vnd.openxmlformats-package.relationships+xml"/>
  <Override PartName="/ppt/notesSlides/_rels/notesSlide146.xml.rels" ContentType="application/vnd.openxmlformats-package.relationships+xml"/>
  <Override PartName="/ppt/notesSlides/_rels/notesSlide137.xml.rels" ContentType="application/vnd.openxmlformats-package.relationships+xml"/>
  <Override PartName="/ppt/notesSlides/_rels/notesSlide75.xml.rels" ContentType="application/vnd.openxmlformats-package.relationships+xml"/>
  <Override PartName="/ppt/notesSlides/_rels/notesSlide153.xml.rels" ContentType="application/vnd.openxmlformats-package.relationships+xml"/>
  <Override PartName="/ppt/notesSlides/_rels/notesSlide145.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149.xml.rels" ContentType="application/vnd.openxmlformats-package.relationships+xml"/>
  <Override PartName="/ppt/notesSlides/_rels/notesSlide91.xml.rels" ContentType="application/vnd.openxmlformats-package.relationships+xml"/>
  <Override PartName="/ppt/notesSlides/_rels/notesSlide100.xml.rels" ContentType="application/vnd.openxmlformats-package.relationships+xml"/>
  <Override PartName="/ppt/notesSlides/_rels/notesSlide143.xml.rels" ContentType="application/vnd.openxmlformats-package.relationships+xml"/>
  <Override PartName="/ppt/notesSlides/_rels/notesSlide139.xml.rels" ContentType="application/vnd.openxmlformats-package.relationships+xml"/>
  <Override PartName="/ppt/notesSlides/_rels/notesSlide150.xml.rels" ContentType="application/vnd.openxmlformats-package.relationships+xml"/>
  <Override PartName="/ppt/notesSlides/_rels/notesSlide165.xml.rels" ContentType="application/vnd.openxmlformats-package.relationships+xml"/>
  <Override PartName="/ppt/notesSlides/_rels/notesSlide172.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151.xml.rels" ContentType="application/vnd.openxmlformats-package.relationships+xml"/>
  <Override PartName="/ppt/notesSlides/_rels/notesSlide142.xml.rels" ContentType="application/vnd.openxmlformats-package.relationships+xml"/>
  <Override PartName="/ppt/notesSlides/_rels/notesSlide138.xml.rels" ContentType="application/vnd.openxmlformats-package.relationships+xml"/>
  <Override PartName="/ppt/notesSlides/_rels/notesSlide97.xml.rels" ContentType="application/vnd.openxmlformats-package.relationships+xml"/>
  <Override PartName="/ppt/notesSlides/_rels/notesSlide135.xml.rels" ContentType="application/vnd.openxmlformats-package.relationships+xml"/>
  <Override PartName="/ppt/notesSlides/_rels/notesSlide47.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1.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55.xml.rels" ContentType="application/vnd.openxmlformats-package.relationships+xml"/>
  <Override PartName="/ppt/notesSlides/_rels/notesSlide117.xml.rels" ContentType="application/vnd.openxmlformats-package.relationships+xml"/>
  <Override PartName="/ppt/notesSlides/_rels/notesSlide148.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109.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59.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61.xml.rels" ContentType="application/vnd.openxmlformats-package.relationships+xml"/>
  <Override PartName="/ppt/notesSlides/_rels/notesSlide123.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32.xml.rels" ContentType="application/vnd.openxmlformats-package.relationships+xml"/>
  <Override PartName="/ppt/notesSlides/_rels/notesSlide128.xml.rels" ContentType="application/vnd.openxmlformats-package.relationships+xml"/>
  <Override PartName="/ppt/notesSlides/_rels/notesSlide108.xml.rels" ContentType="application/vnd.openxmlformats-package.relationships+xml"/>
  <Override PartName="/ppt/notesSlides/_rels/notesSlide115.xml.rels" ContentType="application/vnd.openxmlformats-package.relationships+xml"/>
  <Override PartName="/ppt/notesSlides/_rels/notesSlide118.xml.rels" ContentType="application/vnd.openxmlformats-package.relationships+xml"/>
  <Override PartName="/ppt/notesSlides/_rels/notesSlide141.xml.rels" ContentType="application/vnd.openxmlformats-package.relationships+xml"/>
  <Override PartName="/ppt/notesSlides/_rels/notesSlide126.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20.xml" ContentType="application/vnd.openxmlformats-officedocument.presentationml.notesSlide+xml"/>
  <Override PartName="/ppt/notesSlides/notesSlide10.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6.xml" ContentType="application/vnd.openxmlformats-officedocument.presentationml.notesSlide+xml"/>
  <Override PartName="/ppt/notesSlides/notesSlide108.xml" ContentType="application/vnd.openxmlformats-officedocument.presentationml.notesSlide+xml"/>
  <Override PartName="/ppt/notesSlides/notesSlide150.xml" ContentType="application/vnd.openxmlformats-officedocument.presentationml.notesSlide+xml"/>
  <Override PartName="/ppt/notesSlides/notesSlide109.xml" ContentType="application/vnd.openxmlformats-officedocument.presentationml.notesSlide+xml"/>
  <Override PartName="/ppt/notesSlides/notesSlide151.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126.xml" ContentType="application/vnd.openxmlformats-officedocument.presentationml.notesSlide+xml"/>
  <Override PartName="/ppt/notesSlides/notesSlide153.xml" ContentType="application/vnd.openxmlformats-officedocument.presentationml.notesSlide+xml"/>
  <Override PartName="/ppt/notesSlides/notesSlide157.xml" ContentType="application/vnd.openxmlformats-officedocument.presentationml.notesSlide+xml"/>
  <Override PartName="/ppt/notesSlides/notesSlide119.xml" ContentType="application/vnd.openxmlformats-officedocument.presentationml.notesSlide+xml"/>
  <Override PartName="/ppt/notesSlides/notesSlide156.xml" ContentType="application/vnd.openxmlformats-officedocument.presentationml.notesSlide+xml"/>
  <Override PartName="/ppt/notesSlides/notesSlide118.xml" ContentType="application/vnd.openxmlformats-officedocument.presentationml.notesSlide+xml"/>
  <Override PartName="/ppt/notesSlides/notesSlide155.xml" ContentType="application/vnd.openxmlformats-officedocument.presentationml.notesSlide+xml"/>
  <Override PartName="/ppt/notesSlides/notesSlide115.xml" ContentType="application/vnd.openxmlformats-officedocument.presentationml.notesSlide+xml"/>
  <Override PartName="/ppt/notesSlides/notesSlide152.xml" ContentType="application/vnd.openxmlformats-officedocument.presentationml.notesSlide+xml"/>
  <Override PartName="/ppt/notesSlides/notesSlide165.xml" ContentType="application/vnd.openxmlformats-officedocument.presentationml.notesSlide+xml"/>
  <Override PartName="/ppt/notesSlides/notesSlide128.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27.xml" ContentType="application/vnd.openxmlformats-officedocument.presentationml.notesSlide+xml"/>
  <Override PartName="/ppt/notesSlides/notesSlide137.xml" ContentType="application/vnd.openxmlformats-officedocument.presentationml.notesSlide+xml"/>
  <Override PartName="/ppt/notesSlides/notesSlide13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07.xml" ContentType="application/vnd.openxmlformats-officedocument.presentationml.notesSlide+xml"/>
  <Override PartName="/ppt/notesSlides/notesSlide172.xml" ContentType="application/vnd.openxmlformats-officedocument.presentationml.notesSlide+xml"/>
  <Override PartName="/ppt/notesSlides/notesSlide135.xml" ContentType="application/vnd.openxmlformats-officedocument.presentationml.notesSlide+xml"/>
  <Override PartName="/ppt/notesSlides/notesSlide147.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46.xml" ContentType="application/vnd.openxmlformats-officedocument.presentationml.notesSlide+xml"/>
  <Override PartName="/ppt/notesSlides/notesSlide145.xml" ContentType="application/vnd.openxmlformats-officedocument.presentationml.notesSlide+xml"/>
  <Override PartName="/ppt/notesSlides/notesSlide95.xml" ContentType="application/vnd.openxmlformats-officedocument.presentationml.notesSlide+xml"/>
  <Override PartName="/ppt/notesSlides/notesSlide144.xml" ContentType="application/vnd.openxmlformats-officedocument.presentationml.notesSlide+xml"/>
  <Override PartName="/ppt/notesSlides/notesSlide94.xml" ContentType="application/vnd.openxmlformats-officedocument.presentationml.notesSlide+xml"/>
  <Override PartName="/ppt/notesSlides/notesSlide143.xml" ContentType="application/vnd.openxmlformats-officedocument.presentationml.notesSlide+xml"/>
  <Override PartName="/ppt/notesSlides/notesSlide93.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149.xml" ContentType="application/vnd.openxmlformats-officedocument.presentationml.notesSlid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8.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E1C8BAE-1DF2-4E62-AF1D-FF78AFF3D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5.xml.rels><?xml version="1.0" encoding="UTF-8"?>
<Relationships xmlns="http://schemas.openxmlformats.org/package/2006/relationships"><Relationship Id="rId1" Type="http://schemas.openxmlformats.org/officeDocument/2006/relationships/slide" Target="../slides/slide145.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1.xml.rels><?xml version="1.0" encoding="UTF-8"?>
<Relationships xmlns="http://schemas.openxmlformats.org/package/2006/relationships"><Relationship Id="rId1" Type="http://schemas.openxmlformats.org/officeDocument/2006/relationships/slide" Target="../slides/slide151.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3.xml.rels><?xml version="1.0" encoding="UTF-8"?>
<Relationships xmlns="http://schemas.openxmlformats.org/package/2006/relationships"><Relationship Id="rId1" Type="http://schemas.openxmlformats.org/officeDocument/2006/relationships/slide" Target="../slides/slide153.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6.xml.rels><?xml version="1.0" encoding="UTF-8"?>
<Relationships xmlns="http://schemas.openxmlformats.org/package/2006/relationships"><Relationship Id="rId1" Type="http://schemas.openxmlformats.org/officeDocument/2006/relationships/slide" Target="../slides/slide156.xml"/><Relationship Id="rId2" Type="http://schemas.openxmlformats.org/officeDocument/2006/relationships/notesMaster" Target="../notesMasters/notesMaster1.xml"/>
</Relationships>
</file>

<file path=ppt/notesSlides/_rels/notesSlide157.xml.rels><?xml version="1.0" encoding="UTF-8"?>
<Relationships xmlns="http://schemas.openxmlformats.org/package/2006/relationships"><Relationship Id="rId1" Type="http://schemas.openxmlformats.org/officeDocument/2006/relationships/slide" Target="../slides/slide157.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65.xml.rels><?xml version="1.0" encoding="UTF-8"?>
<Relationships xmlns="http://schemas.openxmlformats.org/package/2006/relationships"><Relationship Id="rId1" Type="http://schemas.openxmlformats.org/officeDocument/2006/relationships/slide" Target="../slides/slide16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2.xml.rels><?xml version="1.0" encoding="UTF-8"?>
<Relationships xmlns="http://schemas.openxmlformats.org/package/2006/relationships"><Relationship Id="rId1" Type="http://schemas.openxmlformats.org/officeDocument/2006/relationships/slide" Target="../slides/slide17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8" name="PlaceHolder 1"/>
          <p:cNvSpPr>
            <a:spLocks noGrp="1"/>
          </p:cNvSpPr>
          <p:nvPr>
            <p:ph type="sldImg"/>
          </p:nvPr>
        </p:nvSpPr>
        <p:spPr>
          <a:xfrm>
            <a:off x="1371600" y="768240"/>
            <a:ext cx="5029200" cy="3767400"/>
          </a:xfrm>
          <a:prstGeom prst="rect">
            <a:avLst/>
          </a:prstGeom>
          <a:ln w="0">
            <a:noFill/>
          </a:ln>
        </p:spPr>
      </p:sp>
      <p:sp>
        <p:nvSpPr>
          <p:cNvPr id="96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4</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4" name="PlaceHolder 1"/>
          <p:cNvSpPr>
            <a:spLocks noGrp="1"/>
          </p:cNvSpPr>
          <p:nvPr>
            <p:ph type="sldImg"/>
          </p:nvPr>
        </p:nvSpPr>
        <p:spPr>
          <a:xfrm>
            <a:off x="1371600" y="768240"/>
            <a:ext cx="5029200" cy="3767400"/>
          </a:xfrm>
          <a:prstGeom prst="rect">
            <a:avLst/>
          </a:prstGeom>
          <a:ln w="0">
            <a:noFill/>
          </a:ln>
        </p:spPr>
      </p:sp>
      <p:sp>
        <p:nvSpPr>
          <p:cNvPr id="97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1</a:t>
            </a:r>
            <a:endParaRPr b="0" lang="en-US" sz="10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6" name="PlaceHolder 1"/>
          <p:cNvSpPr>
            <a:spLocks noGrp="1"/>
          </p:cNvSpPr>
          <p:nvPr>
            <p:ph type="sldImg"/>
          </p:nvPr>
        </p:nvSpPr>
        <p:spPr>
          <a:xfrm>
            <a:off x="1371600" y="768240"/>
            <a:ext cx="5029200" cy="3767400"/>
          </a:xfrm>
          <a:prstGeom prst="rect">
            <a:avLst/>
          </a:prstGeom>
          <a:ln w="0">
            <a:noFill/>
          </a:ln>
        </p:spPr>
      </p:sp>
      <p:sp>
        <p:nvSpPr>
          <p:cNvPr id="97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2</a:t>
            </a:r>
            <a:endParaRPr b="0" lang="en-US" sz="10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8" name="PlaceHolder 1"/>
          <p:cNvSpPr>
            <a:spLocks noGrp="1"/>
          </p:cNvSpPr>
          <p:nvPr>
            <p:ph type="sldImg"/>
          </p:nvPr>
        </p:nvSpPr>
        <p:spPr>
          <a:xfrm>
            <a:off x="1371600" y="768240"/>
            <a:ext cx="5029200" cy="3767400"/>
          </a:xfrm>
          <a:prstGeom prst="rect">
            <a:avLst/>
          </a:prstGeom>
          <a:ln w="0">
            <a:noFill/>
          </a:ln>
        </p:spPr>
      </p:sp>
      <p:sp>
        <p:nvSpPr>
          <p:cNvPr id="97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3</a:t>
            </a:r>
            <a:endParaRPr b="0" lang="en-US" sz="10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0" name="PlaceHolder 1"/>
          <p:cNvSpPr>
            <a:spLocks noGrp="1"/>
          </p:cNvSpPr>
          <p:nvPr>
            <p:ph type="sldImg"/>
          </p:nvPr>
        </p:nvSpPr>
        <p:spPr>
          <a:xfrm>
            <a:off x="1371600" y="768240"/>
            <a:ext cx="5029200" cy="3767400"/>
          </a:xfrm>
          <a:prstGeom prst="rect">
            <a:avLst/>
          </a:prstGeom>
          <a:ln w="0">
            <a:noFill/>
          </a:ln>
        </p:spPr>
      </p:sp>
      <p:sp>
        <p:nvSpPr>
          <p:cNvPr id="97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4</a:t>
            </a:r>
            <a:endParaRPr b="0" lang="en-US" sz="10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2" name="PlaceHolder 1"/>
          <p:cNvSpPr>
            <a:spLocks noGrp="1"/>
          </p:cNvSpPr>
          <p:nvPr>
            <p:ph type="sldImg"/>
          </p:nvPr>
        </p:nvSpPr>
        <p:spPr>
          <a:xfrm>
            <a:off x="1371600" y="768240"/>
            <a:ext cx="5029200" cy="3767400"/>
          </a:xfrm>
          <a:prstGeom prst="rect">
            <a:avLst/>
          </a:prstGeom>
          <a:ln w="0">
            <a:noFill/>
          </a:ln>
        </p:spPr>
      </p:sp>
      <p:sp>
        <p:nvSpPr>
          <p:cNvPr id="97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5</a:t>
            </a:r>
            <a:endParaRPr b="0" lang="en-US" sz="10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4" name="PlaceHolder 1"/>
          <p:cNvSpPr>
            <a:spLocks noGrp="1"/>
          </p:cNvSpPr>
          <p:nvPr>
            <p:ph type="sldImg"/>
          </p:nvPr>
        </p:nvSpPr>
        <p:spPr>
          <a:xfrm>
            <a:off x="1371600" y="768240"/>
            <a:ext cx="5029200" cy="3767400"/>
          </a:xfrm>
          <a:prstGeom prst="rect">
            <a:avLst/>
          </a:prstGeom>
          <a:ln w="0">
            <a:noFill/>
          </a:ln>
        </p:spPr>
      </p:sp>
      <p:sp>
        <p:nvSpPr>
          <p:cNvPr id="97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3</a:t>
            </a:r>
            <a:endParaRPr b="0" lang="en-US" sz="10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6" name="PlaceHolder 1"/>
          <p:cNvSpPr>
            <a:spLocks noGrp="1"/>
          </p:cNvSpPr>
          <p:nvPr>
            <p:ph type="sldImg"/>
          </p:nvPr>
        </p:nvSpPr>
        <p:spPr>
          <a:xfrm>
            <a:off x="1371600" y="768240"/>
            <a:ext cx="5029200" cy="3767400"/>
          </a:xfrm>
          <a:prstGeom prst="rect">
            <a:avLst/>
          </a:prstGeom>
          <a:ln w="0">
            <a:noFill/>
          </a:ln>
        </p:spPr>
      </p:sp>
      <p:sp>
        <p:nvSpPr>
          <p:cNvPr id="97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4</a:t>
            </a:r>
            <a:endParaRPr b="0" lang="en-US" sz="10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8" name="PlaceHolder 1"/>
          <p:cNvSpPr>
            <a:spLocks noGrp="1"/>
          </p:cNvSpPr>
          <p:nvPr>
            <p:ph type="sldImg"/>
          </p:nvPr>
        </p:nvSpPr>
        <p:spPr>
          <a:xfrm>
            <a:off x="1371600" y="768240"/>
            <a:ext cx="5029200" cy="3767400"/>
          </a:xfrm>
          <a:prstGeom prst="rect">
            <a:avLst/>
          </a:prstGeom>
          <a:ln w="0">
            <a:noFill/>
          </a:ln>
        </p:spPr>
      </p:sp>
      <p:sp>
        <p:nvSpPr>
          <p:cNvPr id="97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6</a:t>
            </a:r>
            <a:endParaRPr b="0" lang="en-US" sz="10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0" name="PlaceHolder 1"/>
          <p:cNvSpPr>
            <a:spLocks noGrp="1"/>
          </p:cNvSpPr>
          <p:nvPr>
            <p:ph type="sldImg"/>
          </p:nvPr>
        </p:nvSpPr>
        <p:spPr>
          <a:xfrm>
            <a:off x="1371600" y="768240"/>
            <a:ext cx="5029200" cy="3767400"/>
          </a:xfrm>
          <a:prstGeom prst="rect">
            <a:avLst/>
          </a:prstGeom>
          <a:ln w="0">
            <a:noFill/>
          </a:ln>
        </p:spPr>
      </p:sp>
      <p:sp>
        <p:nvSpPr>
          <p:cNvPr id="97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2" name="PlaceHolder 1"/>
          <p:cNvSpPr>
            <a:spLocks noGrp="1"/>
          </p:cNvSpPr>
          <p:nvPr>
            <p:ph type="sldImg"/>
          </p:nvPr>
        </p:nvSpPr>
        <p:spPr>
          <a:xfrm>
            <a:off x="1371600" y="768240"/>
            <a:ext cx="5029200" cy="3767400"/>
          </a:xfrm>
          <a:prstGeom prst="rect">
            <a:avLst/>
          </a:prstGeom>
          <a:ln w="0">
            <a:noFill/>
          </a:ln>
        </p:spPr>
      </p:sp>
      <p:sp>
        <p:nvSpPr>
          <p:cNvPr id="97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4" name="PlaceHolder 1"/>
          <p:cNvSpPr>
            <a:spLocks noGrp="1"/>
          </p:cNvSpPr>
          <p:nvPr>
            <p:ph type="sldImg"/>
          </p:nvPr>
        </p:nvSpPr>
        <p:spPr>
          <a:xfrm>
            <a:off x="1371600" y="768240"/>
            <a:ext cx="5029200" cy="3767400"/>
          </a:xfrm>
          <a:prstGeom prst="rect">
            <a:avLst/>
          </a:prstGeom>
          <a:ln w="0">
            <a:noFill/>
          </a:ln>
        </p:spPr>
      </p:sp>
      <p:sp>
        <p:nvSpPr>
          <p:cNvPr id="97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6" name="PlaceHolder 1"/>
          <p:cNvSpPr>
            <a:spLocks noGrp="1"/>
          </p:cNvSpPr>
          <p:nvPr>
            <p:ph type="sldImg"/>
          </p:nvPr>
        </p:nvSpPr>
        <p:spPr>
          <a:xfrm>
            <a:off x="1371600" y="768240"/>
            <a:ext cx="5029200" cy="3767400"/>
          </a:xfrm>
          <a:prstGeom prst="rect">
            <a:avLst/>
          </a:prstGeom>
          <a:ln w="0">
            <a:noFill/>
          </a:ln>
        </p:spPr>
      </p:sp>
      <p:sp>
        <p:nvSpPr>
          <p:cNvPr id="97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8" name="PlaceHolder 1"/>
          <p:cNvSpPr>
            <a:spLocks noGrp="1"/>
          </p:cNvSpPr>
          <p:nvPr>
            <p:ph type="sldImg"/>
          </p:nvPr>
        </p:nvSpPr>
        <p:spPr>
          <a:xfrm>
            <a:off x="1371600" y="768240"/>
            <a:ext cx="5029200" cy="3767400"/>
          </a:xfrm>
          <a:prstGeom prst="rect">
            <a:avLst/>
          </a:prstGeom>
          <a:ln w="0">
            <a:noFill/>
          </a:ln>
        </p:spPr>
      </p:sp>
      <p:sp>
        <p:nvSpPr>
          <p:cNvPr id="97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5</a:t>
            </a:r>
            <a:endParaRPr b="0" lang="en-US" sz="10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0" name="PlaceHolder 1"/>
          <p:cNvSpPr>
            <a:spLocks noGrp="1"/>
          </p:cNvSpPr>
          <p:nvPr>
            <p:ph type="sldImg"/>
          </p:nvPr>
        </p:nvSpPr>
        <p:spPr>
          <a:xfrm>
            <a:off x="1371600" y="768240"/>
            <a:ext cx="5029200" cy="3767400"/>
          </a:xfrm>
          <a:prstGeom prst="rect">
            <a:avLst/>
          </a:prstGeom>
          <a:ln w="0">
            <a:noFill/>
          </a:ln>
        </p:spPr>
      </p:sp>
      <p:sp>
        <p:nvSpPr>
          <p:cNvPr id="97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6</a:t>
            </a:r>
            <a:endParaRPr b="0" lang="en-US" sz="10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2" name="PlaceHolder 1"/>
          <p:cNvSpPr>
            <a:spLocks noGrp="1"/>
          </p:cNvSpPr>
          <p:nvPr>
            <p:ph type="sldImg"/>
          </p:nvPr>
        </p:nvSpPr>
        <p:spPr>
          <a:xfrm>
            <a:off x="1371600" y="768240"/>
            <a:ext cx="5029200" cy="3767400"/>
          </a:xfrm>
          <a:prstGeom prst="rect">
            <a:avLst/>
          </a:prstGeom>
          <a:ln w="0">
            <a:noFill/>
          </a:ln>
        </p:spPr>
      </p:sp>
      <p:sp>
        <p:nvSpPr>
          <p:cNvPr id="97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4" name="PlaceHolder 1"/>
          <p:cNvSpPr>
            <a:spLocks noGrp="1"/>
          </p:cNvSpPr>
          <p:nvPr>
            <p:ph type="sldImg"/>
          </p:nvPr>
        </p:nvSpPr>
        <p:spPr>
          <a:xfrm>
            <a:off x="1371600" y="768240"/>
            <a:ext cx="5029200" cy="3767400"/>
          </a:xfrm>
          <a:prstGeom prst="rect">
            <a:avLst/>
          </a:prstGeom>
          <a:ln w="0">
            <a:noFill/>
          </a:ln>
        </p:spPr>
      </p:sp>
      <p:sp>
        <p:nvSpPr>
          <p:cNvPr id="97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6" name="PlaceHolder 1"/>
          <p:cNvSpPr>
            <a:spLocks noGrp="1"/>
          </p:cNvSpPr>
          <p:nvPr>
            <p:ph type="sldImg"/>
          </p:nvPr>
        </p:nvSpPr>
        <p:spPr>
          <a:xfrm>
            <a:off x="1371600" y="768240"/>
            <a:ext cx="5029200" cy="3767400"/>
          </a:xfrm>
          <a:prstGeom prst="rect">
            <a:avLst/>
          </a:prstGeom>
          <a:ln w="0">
            <a:noFill/>
          </a:ln>
        </p:spPr>
      </p:sp>
      <p:sp>
        <p:nvSpPr>
          <p:cNvPr id="97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8" name="PlaceHolder 1"/>
          <p:cNvSpPr>
            <a:spLocks noGrp="1"/>
          </p:cNvSpPr>
          <p:nvPr>
            <p:ph type="sldImg"/>
          </p:nvPr>
        </p:nvSpPr>
        <p:spPr>
          <a:xfrm>
            <a:off x="1371600" y="768240"/>
            <a:ext cx="5029200" cy="3767400"/>
          </a:xfrm>
          <a:prstGeom prst="rect">
            <a:avLst/>
          </a:prstGeom>
          <a:ln w="0">
            <a:noFill/>
          </a:ln>
        </p:spPr>
      </p:sp>
      <p:sp>
        <p:nvSpPr>
          <p:cNvPr id="97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0" name="PlaceHolder 1"/>
          <p:cNvSpPr>
            <a:spLocks noGrp="1"/>
          </p:cNvSpPr>
          <p:nvPr>
            <p:ph type="sldImg"/>
          </p:nvPr>
        </p:nvSpPr>
        <p:spPr>
          <a:xfrm>
            <a:off x="1371600" y="768240"/>
            <a:ext cx="5029200" cy="3767400"/>
          </a:xfrm>
          <a:prstGeom prst="rect">
            <a:avLst/>
          </a:prstGeom>
          <a:ln w="0">
            <a:noFill/>
          </a:ln>
        </p:spPr>
      </p:sp>
      <p:sp>
        <p:nvSpPr>
          <p:cNvPr id="96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5</a:t>
            </a:r>
            <a:endParaRPr b="0" lang="en-US" sz="10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0" name="PlaceHolder 1"/>
          <p:cNvSpPr>
            <a:spLocks noGrp="1"/>
          </p:cNvSpPr>
          <p:nvPr>
            <p:ph type="sldImg"/>
          </p:nvPr>
        </p:nvSpPr>
        <p:spPr>
          <a:xfrm>
            <a:off x="1371600" y="768240"/>
            <a:ext cx="5029200" cy="3767400"/>
          </a:xfrm>
          <a:prstGeom prst="rect">
            <a:avLst/>
          </a:prstGeom>
          <a:ln w="0">
            <a:noFill/>
          </a:ln>
        </p:spPr>
      </p:sp>
      <p:sp>
        <p:nvSpPr>
          <p:cNvPr id="98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2" name="PlaceHolder 1"/>
          <p:cNvSpPr>
            <a:spLocks noGrp="1"/>
          </p:cNvSpPr>
          <p:nvPr>
            <p:ph type="sldImg"/>
          </p:nvPr>
        </p:nvSpPr>
        <p:spPr>
          <a:xfrm>
            <a:off x="1371600" y="768240"/>
            <a:ext cx="5029200" cy="3767400"/>
          </a:xfrm>
          <a:prstGeom prst="rect">
            <a:avLst/>
          </a:prstGeom>
          <a:ln w="0">
            <a:noFill/>
          </a:ln>
        </p:spPr>
      </p:sp>
      <p:sp>
        <p:nvSpPr>
          <p:cNvPr id="98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6</a:t>
            </a:r>
            <a:endParaRPr b="0" lang="en-US" sz="10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4" name="PlaceHolder 1"/>
          <p:cNvSpPr>
            <a:spLocks noGrp="1"/>
          </p:cNvSpPr>
          <p:nvPr>
            <p:ph type="sldImg"/>
          </p:nvPr>
        </p:nvSpPr>
        <p:spPr>
          <a:xfrm>
            <a:off x="1371600" y="768240"/>
            <a:ext cx="5029200" cy="3767400"/>
          </a:xfrm>
          <a:prstGeom prst="rect">
            <a:avLst/>
          </a:prstGeom>
          <a:ln w="0">
            <a:noFill/>
          </a:ln>
        </p:spPr>
      </p:sp>
      <p:sp>
        <p:nvSpPr>
          <p:cNvPr id="98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6" name="PlaceHolder 1"/>
          <p:cNvSpPr>
            <a:spLocks noGrp="1"/>
          </p:cNvSpPr>
          <p:nvPr>
            <p:ph type="sldImg"/>
          </p:nvPr>
        </p:nvSpPr>
        <p:spPr>
          <a:xfrm>
            <a:off x="1371600" y="768240"/>
            <a:ext cx="5029200" cy="3767400"/>
          </a:xfrm>
          <a:prstGeom prst="rect">
            <a:avLst/>
          </a:prstGeom>
          <a:ln w="0">
            <a:noFill/>
          </a:ln>
        </p:spPr>
      </p:sp>
      <p:sp>
        <p:nvSpPr>
          <p:cNvPr id="98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8" name="PlaceHolder 1"/>
          <p:cNvSpPr>
            <a:spLocks noGrp="1"/>
          </p:cNvSpPr>
          <p:nvPr>
            <p:ph type="sldImg"/>
          </p:nvPr>
        </p:nvSpPr>
        <p:spPr>
          <a:xfrm>
            <a:off x="1371600" y="768240"/>
            <a:ext cx="5029200" cy="3767400"/>
          </a:xfrm>
          <a:prstGeom prst="rect">
            <a:avLst/>
          </a:prstGeom>
          <a:ln w="0">
            <a:noFill/>
          </a:ln>
        </p:spPr>
      </p:sp>
      <p:sp>
        <p:nvSpPr>
          <p:cNvPr id="98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0" name="PlaceHolder 1"/>
          <p:cNvSpPr>
            <a:spLocks noGrp="1"/>
          </p:cNvSpPr>
          <p:nvPr>
            <p:ph type="sldImg"/>
          </p:nvPr>
        </p:nvSpPr>
        <p:spPr>
          <a:xfrm>
            <a:off x="1371600" y="768240"/>
            <a:ext cx="5029200" cy="3767400"/>
          </a:xfrm>
          <a:prstGeom prst="rect">
            <a:avLst/>
          </a:prstGeom>
          <a:ln w="0">
            <a:noFill/>
          </a:ln>
        </p:spPr>
      </p:sp>
      <p:sp>
        <p:nvSpPr>
          <p:cNvPr id="98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8</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2" name="PlaceHolder 1"/>
          <p:cNvSpPr>
            <a:spLocks noGrp="1"/>
          </p:cNvSpPr>
          <p:nvPr>
            <p:ph type="sldImg"/>
          </p:nvPr>
        </p:nvSpPr>
        <p:spPr>
          <a:xfrm>
            <a:off x="1371600" y="768240"/>
            <a:ext cx="5029200" cy="3767400"/>
          </a:xfrm>
          <a:prstGeom prst="rect">
            <a:avLst/>
          </a:prstGeom>
          <a:ln w="0">
            <a:noFill/>
          </a:ln>
        </p:spPr>
      </p:sp>
      <p:sp>
        <p:nvSpPr>
          <p:cNvPr id="96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5</a:t>
            </a:r>
            <a:endParaRPr b="0" lang="en-US" sz="10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2" name="PlaceHolder 1"/>
          <p:cNvSpPr>
            <a:spLocks noGrp="1"/>
          </p:cNvSpPr>
          <p:nvPr>
            <p:ph type="sldImg"/>
          </p:nvPr>
        </p:nvSpPr>
        <p:spPr>
          <a:xfrm>
            <a:off x="1371600" y="768240"/>
            <a:ext cx="5029200" cy="3767400"/>
          </a:xfrm>
          <a:prstGeom prst="rect">
            <a:avLst/>
          </a:prstGeom>
          <a:ln w="0">
            <a:noFill/>
          </a:ln>
        </p:spPr>
      </p:sp>
      <p:sp>
        <p:nvSpPr>
          <p:cNvPr id="98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7</a:t>
            </a:r>
            <a:endParaRPr b="0" lang="en-US" sz="1000" spc="-1" strike="noStrike">
              <a:solidFill>
                <a:srgbClr val="000000"/>
              </a:solidFill>
              <a:latin typeface="Arial"/>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4" name="PlaceHolder 1"/>
          <p:cNvSpPr>
            <a:spLocks noGrp="1"/>
          </p:cNvSpPr>
          <p:nvPr>
            <p:ph type="sldImg"/>
          </p:nvPr>
        </p:nvSpPr>
        <p:spPr>
          <a:xfrm>
            <a:off x="1371600" y="768240"/>
            <a:ext cx="5029200" cy="3767400"/>
          </a:xfrm>
          <a:prstGeom prst="rect">
            <a:avLst/>
          </a:prstGeom>
          <a:ln w="0">
            <a:noFill/>
          </a:ln>
        </p:spPr>
      </p:sp>
      <p:sp>
        <p:nvSpPr>
          <p:cNvPr id="98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8</a:t>
            </a:r>
            <a:endParaRPr b="0" lang="en-US" sz="10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6" name="PlaceHolder 1"/>
          <p:cNvSpPr>
            <a:spLocks noGrp="1"/>
          </p:cNvSpPr>
          <p:nvPr>
            <p:ph type="sldImg"/>
          </p:nvPr>
        </p:nvSpPr>
        <p:spPr>
          <a:xfrm>
            <a:off x="1371600" y="768240"/>
            <a:ext cx="5029200" cy="3767400"/>
          </a:xfrm>
          <a:prstGeom prst="rect">
            <a:avLst/>
          </a:prstGeom>
          <a:ln w="0">
            <a:noFill/>
          </a:ln>
        </p:spPr>
      </p:sp>
      <p:sp>
        <p:nvSpPr>
          <p:cNvPr id="98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9</a:t>
            </a:r>
            <a:endParaRPr b="0" lang="en-US" sz="10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8" name="PlaceHolder 1"/>
          <p:cNvSpPr>
            <a:spLocks noGrp="1"/>
          </p:cNvSpPr>
          <p:nvPr>
            <p:ph type="sldImg"/>
          </p:nvPr>
        </p:nvSpPr>
        <p:spPr>
          <a:xfrm>
            <a:off x="1371600" y="768240"/>
            <a:ext cx="5029200" cy="3767400"/>
          </a:xfrm>
          <a:prstGeom prst="rect">
            <a:avLst/>
          </a:prstGeom>
          <a:ln w="0">
            <a:noFill/>
          </a:ln>
        </p:spPr>
      </p:sp>
      <p:sp>
        <p:nvSpPr>
          <p:cNvPr id="98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9</a:t>
            </a:r>
            <a:endParaRPr b="0" lang="en-US" sz="10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0" name="PlaceHolder 1"/>
          <p:cNvSpPr>
            <a:spLocks noGrp="1"/>
          </p:cNvSpPr>
          <p:nvPr>
            <p:ph type="sldImg"/>
          </p:nvPr>
        </p:nvSpPr>
        <p:spPr>
          <a:xfrm>
            <a:off x="1371600" y="768240"/>
            <a:ext cx="5029200" cy="3767400"/>
          </a:xfrm>
          <a:prstGeom prst="rect">
            <a:avLst/>
          </a:prstGeom>
          <a:ln w="0">
            <a:noFill/>
          </a:ln>
        </p:spPr>
      </p:sp>
      <p:sp>
        <p:nvSpPr>
          <p:cNvPr id="98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9</a:t>
            </a:r>
            <a:endParaRPr b="0" lang="en-US" sz="10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2" name="PlaceHolder 1"/>
          <p:cNvSpPr>
            <a:spLocks noGrp="1"/>
          </p:cNvSpPr>
          <p:nvPr>
            <p:ph type="sldImg"/>
          </p:nvPr>
        </p:nvSpPr>
        <p:spPr>
          <a:xfrm>
            <a:off x="1371600" y="768240"/>
            <a:ext cx="5029200" cy="3767400"/>
          </a:xfrm>
          <a:prstGeom prst="rect">
            <a:avLst/>
          </a:prstGeom>
          <a:ln w="0">
            <a:noFill/>
          </a:ln>
        </p:spPr>
      </p:sp>
      <p:sp>
        <p:nvSpPr>
          <p:cNvPr id="98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9</a:t>
            </a:r>
            <a:endParaRPr b="0" lang="en-US" sz="1000" spc="-1" strike="noStrike">
              <a:solidFill>
                <a:srgbClr val="000000"/>
              </a:solidFill>
              <a:latin typeface="Arial"/>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4" name="PlaceHolder 1"/>
          <p:cNvSpPr>
            <a:spLocks noGrp="1"/>
          </p:cNvSpPr>
          <p:nvPr>
            <p:ph type="sldImg"/>
          </p:nvPr>
        </p:nvSpPr>
        <p:spPr>
          <a:xfrm>
            <a:off x="1371600" y="768240"/>
            <a:ext cx="5029200" cy="3767400"/>
          </a:xfrm>
          <a:prstGeom prst="rect">
            <a:avLst/>
          </a:prstGeom>
          <a:ln w="0">
            <a:noFill/>
          </a:ln>
        </p:spPr>
      </p:sp>
      <p:sp>
        <p:nvSpPr>
          <p:cNvPr id="98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9</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4" name="PlaceHolder 1"/>
          <p:cNvSpPr>
            <a:spLocks noGrp="1"/>
          </p:cNvSpPr>
          <p:nvPr>
            <p:ph type="sldImg"/>
          </p:nvPr>
        </p:nvSpPr>
        <p:spPr>
          <a:xfrm>
            <a:off x="1371600" y="768240"/>
            <a:ext cx="5029200" cy="3767400"/>
          </a:xfrm>
          <a:prstGeom prst="rect">
            <a:avLst/>
          </a:prstGeom>
          <a:ln w="0">
            <a:noFill/>
          </a:ln>
        </p:spPr>
      </p:sp>
      <p:sp>
        <p:nvSpPr>
          <p:cNvPr id="96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5</a:t>
            </a:r>
            <a:endParaRPr b="0" lang="en-US" sz="1000" spc="-1" strike="noStrike">
              <a:solidFill>
                <a:srgbClr val="000000"/>
              </a:solidFill>
              <a:latin typeface="Arial"/>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6" name="PlaceHolder 1"/>
          <p:cNvSpPr>
            <a:spLocks noGrp="1"/>
          </p:cNvSpPr>
          <p:nvPr>
            <p:ph type="sldImg"/>
          </p:nvPr>
        </p:nvSpPr>
        <p:spPr>
          <a:xfrm>
            <a:off x="1371600" y="768240"/>
            <a:ext cx="5029200" cy="3767400"/>
          </a:xfrm>
          <a:prstGeom prst="rect">
            <a:avLst/>
          </a:prstGeom>
          <a:ln w="0">
            <a:noFill/>
          </a:ln>
        </p:spPr>
      </p:sp>
      <p:sp>
        <p:nvSpPr>
          <p:cNvPr id="98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9</a:t>
            </a:r>
            <a:endParaRPr b="0" lang="en-US" sz="10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8" name="PlaceHolder 1"/>
          <p:cNvSpPr>
            <a:spLocks noGrp="1"/>
          </p:cNvSpPr>
          <p:nvPr>
            <p:ph type="sldImg"/>
          </p:nvPr>
        </p:nvSpPr>
        <p:spPr>
          <a:xfrm>
            <a:off x="1371600" y="768240"/>
            <a:ext cx="5029200" cy="3767400"/>
          </a:xfrm>
          <a:prstGeom prst="rect">
            <a:avLst/>
          </a:prstGeom>
          <a:ln w="0">
            <a:noFill/>
          </a:ln>
        </p:spPr>
      </p:sp>
      <p:sp>
        <p:nvSpPr>
          <p:cNvPr id="98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0</a:t>
            </a:r>
            <a:endParaRPr b="0" lang="en-US" sz="1000" spc="-1" strike="noStrike">
              <a:solidFill>
                <a:srgbClr val="000000"/>
              </a:solidFill>
              <a:latin typeface="Arial"/>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0" name="PlaceHolder 1"/>
          <p:cNvSpPr>
            <a:spLocks noGrp="1"/>
          </p:cNvSpPr>
          <p:nvPr>
            <p:ph type="sldImg"/>
          </p:nvPr>
        </p:nvSpPr>
        <p:spPr>
          <a:xfrm>
            <a:off x="1371600" y="768240"/>
            <a:ext cx="5029200" cy="3767400"/>
          </a:xfrm>
          <a:prstGeom prst="rect">
            <a:avLst/>
          </a:prstGeom>
          <a:ln w="0">
            <a:noFill/>
          </a:ln>
        </p:spPr>
      </p:sp>
      <p:sp>
        <p:nvSpPr>
          <p:cNvPr id="98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0</a:t>
            </a:r>
            <a:endParaRPr b="0" lang="en-US" sz="10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2" name="PlaceHolder 1"/>
          <p:cNvSpPr>
            <a:spLocks noGrp="1"/>
          </p:cNvSpPr>
          <p:nvPr>
            <p:ph type="sldImg"/>
          </p:nvPr>
        </p:nvSpPr>
        <p:spPr>
          <a:xfrm>
            <a:off x="1371600" y="768240"/>
            <a:ext cx="5029200" cy="3767400"/>
          </a:xfrm>
          <a:prstGeom prst="rect">
            <a:avLst/>
          </a:prstGeom>
          <a:ln w="0">
            <a:noFill/>
          </a:ln>
        </p:spPr>
      </p:sp>
      <p:sp>
        <p:nvSpPr>
          <p:cNvPr id="98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0</a:t>
            </a:r>
            <a:endParaRPr b="0" lang="en-US" sz="10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4" name="PlaceHolder 1"/>
          <p:cNvSpPr>
            <a:spLocks noGrp="1"/>
          </p:cNvSpPr>
          <p:nvPr>
            <p:ph type="sldImg"/>
          </p:nvPr>
        </p:nvSpPr>
        <p:spPr>
          <a:xfrm>
            <a:off x="1371600" y="768240"/>
            <a:ext cx="5029200" cy="3767400"/>
          </a:xfrm>
          <a:prstGeom prst="rect">
            <a:avLst/>
          </a:prstGeom>
          <a:ln w="0">
            <a:noFill/>
          </a:ln>
        </p:spPr>
      </p:sp>
      <p:sp>
        <p:nvSpPr>
          <p:cNvPr id="98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0</a:t>
            </a:r>
            <a:endParaRPr b="0" lang="en-US" sz="1000" spc="-1" strike="noStrike">
              <a:solidFill>
                <a:srgbClr val="000000"/>
              </a:solidFill>
              <a:latin typeface="Arial"/>
            </a:endParaRPr>
          </a:p>
        </p:txBody>
      </p:sp>
    </p:spTree>
  </p:cSld>
</p:notes>
</file>

<file path=ppt/notesSlides/notesSlide1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6" name="PlaceHolder 1"/>
          <p:cNvSpPr>
            <a:spLocks noGrp="1"/>
          </p:cNvSpPr>
          <p:nvPr>
            <p:ph type="sldImg"/>
          </p:nvPr>
        </p:nvSpPr>
        <p:spPr>
          <a:xfrm>
            <a:off x="1371600" y="768240"/>
            <a:ext cx="5029200" cy="3767400"/>
          </a:xfrm>
          <a:prstGeom prst="rect">
            <a:avLst/>
          </a:prstGeom>
          <a:ln w="0">
            <a:noFill/>
          </a:ln>
        </p:spPr>
      </p:sp>
      <p:sp>
        <p:nvSpPr>
          <p:cNvPr id="98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0</a:t>
            </a:r>
            <a:endParaRPr b="0" lang="en-US" sz="1000" spc="-1" strike="noStrike">
              <a:solidFill>
                <a:srgbClr val="000000"/>
              </a:solidFill>
              <a:latin typeface="Arial"/>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8" name="PlaceHolder 1"/>
          <p:cNvSpPr>
            <a:spLocks noGrp="1"/>
          </p:cNvSpPr>
          <p:nvPr>
            <p:ph type="sldImg"/>
          </p:nvPr>
        </p:nvSpPr>
        <p:spPr>
          <a:xfrm>
            <a:off x="1371600" y="768240"/>
            <a:ext cx="5029200" cy="3767400"/>
          </a:xfrm>
          <a:prstGeom prst="rect">
            <a:avLst/>
          </a:prstGeom>
          <a:ln w="0">
            <a:noFill/>
          </a:ln>
        </p:spPr>
      </p:sp>
      <p:sp>
        <p:nvSpPr>
          <p:cNvPr id="98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0</a:t>
            </a:r>
            <a:endParaRPr b="0" lang="en-US" sz="1000" spc="-1" strike="noStrike">
              <a:solidFill>
                <a:srgbClr val="000000"/>
              </a:solidFill>
              <a:latin typeface="Arial"/>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0" name="PlaceHolder 1"/>
          <p:cNvSpPr>
            <a:spLocks noGrp="1"/>
          </p:cNvSpPr>
          <p:nvPr>
            <p:ph type="sldImg"/>
          </p:nvPr>
        </p:nvSpPr>
        <p:spPr>
          <a:xfrm>
            <a:off x="1371600" y="768240"/>
            <a:ext cx="5029200" cy="3767400"/>
          </a:xfrm>
          <a:prstGeom prst="rect">
            <a:avLst/>
          </a:prstGeom>
          <a:ln w="0">
            <a:noFill/>
          </a:ln>
        </p:spPr>
      </p:sp>
      <p:sp>
        <p:nvSpPr>
          <p:cNvPr id="98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0</a:t>
            </a:r>
            <a:endParaRPr b="0" lang="en-US" sz="1000" spc="-1" strike="noStrike">
              <a:solidFill>
                <a:srgbClr val="000000"/>
              </a:solidFill>
              <a:latin typeface="Arial"/>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2" name="PlaceHolder 1"/>
          <p:cNvSpPr>
            <a:spLocks noGrp="1"/>
          </p:cNvSpPr>
          <p:nvPr>
            <p:ph type="sldImg"/>
          </p:nvPr>
        </p:nvSpPr>
        <p:spPr>
          <a:xfrm>
            <a:off x="1371600" y="768240"/>
            <a:ext cx="5029200" cy="3767400"/>
          </a:xfrm>
          <a:prstGeom prst="rect">
            <a:avLst/>
          </a:prstGeom>
          <a:ln w="0">
            <a:noFill/>
          </a:ln>
        </p:spPr>
      </p:sp>
      <p:sp>
        <p:nvSpPr>
          <p:cNvPr id="98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1</a:t>
            </a:r>
            <a:endParaRPr b="0" lang="en-US" sz="10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4" name="PlaceHolder 1"/>
          <p:cNvSpPr>
            <a:spLocks noGrp="1"/>
          </p:cNvSpPr>
          <p:nvPr>
            <p:ph type="sldImg"/>
          </p:nvPr>
        </p:nvSpPr>
        <p:spPr>
          <a:xfrm>
            <a:off x="1371600" y="768240"/>
            <a:ext cx="5029200" cy="3767400"/>
          </a:xfrm>
          <a:prstGeom prst="rect">
            <a:avLst/>
          </a:prstGeom>
          <a:ln w="0">
            <a:noFill/>
          </a:ln>
        </p:spPr>
      </p:sp>
      <p:sp>
        <p:nvSpPr>
          <p:cNvPr id="98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1</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6" name="PlaceHolder 1"/>
          <p:cNvSpPr>
            <a:spLocks noGrp="1"/>
          </p:cNvSpPr>
          <p:nvPr>
            <p:ph type="sldImg"/>
          </p:nvPr>
        </p:nvSpPr>
        <p:spPr>
          <a:xfrm>
            <a:off x="1371600" y="768240"/>
            <a:ext cx="5029200" cy="3767400"/>
          </a:xfrm>
          <a:prstGeom prst="rect">
            <a:avLst/>
          </a:prstGeom>
          <a:ln w="0">
            <a:noFill/>
          </a:ln>
        </p:spPr>
      </p:sp>
      <p:sp>
        <p:nvSpPr>
          <p:cNvPr id="96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5</a:t>
            </a:r>
            <a:endParaRPr b="0" lang="en-US" sz="1000" spc="-1" strike="noStrike">
              <a:solidFill>
                <a:srgbClr val="000000"/>
              </a:solidFill>
              <a:latin typeface="Arial"/>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6" name="PlaceHolder 1"/>
          <p:cNvSpPr>
            <a:spLocks noGrp="1"/>
          </p:cNvSpPr>
          <p:nvPr>
            <p:ph type="sldImg"/>
          </p:nvPr>
        </p:nvSpPr>
        <p:spPr>
          <a:xfrm>
            <a:off x="1371600" y="768240"/>
            <a:ext cx="5029200" cy="3767400"/>
          </a:xfrm>
          <a:prstGeom prst="rect">
            <a:avLst/>
          </a:prstGeom>
          <a:ln w="0">
            <a:noFill/>
          </a:ln>
        </p:spPr>
      </p:sp>
      <p:sp>
        <p:nvSpPr>
          <p:cNvPr id="98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1</a:t>
            </a:r>
            <a:endParaRPr b="0" lang="en-US" sz="1000" spc="-1" strike="noStrike">
              <a:solidFill>
                <a:srgbClr val="000000"/>
              </a:solidFill>
              <a:latin typeface="Arial"/>
            </a:endParaRPr>
          </a:p>
        </p:txBody>
      </p:sp>
    </p:spTree>
  </p:cSld>
</p:notes>
</file>

<file path=ppt/notesSlides/notesSlide1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8" name="PlaceHolder 1"/>
          <p:cNvSpPr>
            <a:spLocks noGrp="1"/>
          </p:cNvSpPr>
          <p:nvPr>
            <p:ph type="sldImg"/>
          </p:nvPr>
        </p:nvSpPr>
        <p:spPr>
          <a:xfrm>
            <a:off x="1371600" y="768240"/>
            <a:ext cx="5029200" cy="3767400"/>
          </a:xfrm>
          <a:prstGeom prst="rect">
            <a:avLst/>
          </a:prstGeom>
          <a:ln w="0">
            <a:noFill/>
          </a:ln>
        </p:spPr>
      </p:sp>
      <p:sp>
        <p:nvSpPr>
          <p:cNvPr id="98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1</a:t>
            </a:r>
            <a:endParaRPr b="0" lang="en-US" sz="10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0" name="PlaceHolder 1"/>
          <p:cNvSpPr>
            <a:spLocks noGrp="1"/>
          </p:cNvSpPr>
          <p:nvPr>
            <p:ph type="sldImg"/>
          </p:nvPr>
        </p:nvSpPr>
        <p:spPr>
          <a:xfrm>
            <a:off x="1371600" y="768240"/>
            <a:ext cx="5029200" cy="3767400"/>
          </a:xfrm>
          <a:prstGeom prst="rect">
            <a:avLst/>
          </a:prstGeom>
          <a:ln w="0">
            <a:noFill/>
          </a:ln>
        </p:spPr>
      </p:sp>
      <p:sp>
        <p:nvSpPr>
          <p:cNvPr id="98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1</a:t>
            </a:r>
            <a:endParaRPr b="0" lang="en-US" sz="1000" spc="-1" strike="noStrike">
              <a:solidFill>
                <a:srgbClr val="000000"/>
              </a:solidFill>
              <a:latin typeface="Arial"/>
            </a:endParaRPr>
          </a:p>
        </p:txBody>
      </p:sp>
    </p:spTree>
  </p:cSld>
</p:notes>
</file>

<file path=ppt/notesSlides/notesSlide1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2" name="PlaceHolder 1"/>
          <p:cNvSpPr>
            <a:spLocks noGrp="1"/>
          </p:cNvSpPr>
          <p:nvPr>
            <p:ph type="sldImg"/>
          </p:nvPr>
        </p:nvSpPr>
        <p:spPr>
          <a:xfrm>
            <a:off x="1371600" y="768240"/>
            <a:ext cx="5029200" cy="3767400"/>
          </a:xfrm>
          <a:prstGeom prst="rect">
            <a:avLst/>
          </a:prstGeom>
          <a:ln w="0">
            <a:noFill/>
          </a:ln>
        </p:spPr>
      </p:sp>
      <p:sp>
        <p:nvSpPr>
          <p:cNvPr id="98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1</a:t>
            </a:r>
            <a:endParaRPr b="0" lang="en-US" sz="1000" spc="-1" strike="noStrike">
              <a:solidFill>
                <a:srgbClr val="000000"/>
              </a:solidFill>
              <a:latin typeface="Arial"/>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4" name="PlaceHolder 1"/>
          <p:cNvSpPr>
            <a:spLocks noGrp="1"/>
          </p:cNvSpPr>
          <p:nvPr>
            <p:ph type="sldImg"/>
          </p:nvPr>
        </p:nvSpPr>
        <p:spPr>
          <a:xfrm>
            <a:off x="1371600" y="768240"/>
            <a:ext cx="5029200" cy="3767400"/>
          </a:xfrm>
          <a:prstGeom prst="rect">
            <a:avLst/>
          </a:prstGeom>
          <a:ln w="0">
            <a:noFill/>
          </a:ln>
        </p:spPr>
      </p:sp>
      <p:sp>
        <p:nvSpPr>
          <p:cNvPr id="98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2</a:t>
            </a:r>
            <a:endParaRPr b="0" lang="en-US" sz="1000" spc="-1" strike="noStrike">
              <a:solidFill>
                <a:srgbClr val="000000"/>
              </a:solidFill>
              <a:latin typeface="Arial"/>
            </a:endParaRPr>
          </a:p>
        </p:txBody>
      </p:sp>
    </p:spTree>
  </p:cSld>
</p:notes>
</file>

<file path=ppt/notesSlides/notesSlide1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6" name="PlaceHolder 1"/>
          <p:cNvSpPr>
            <a:spLocks noGrp="1"/>
          </p:cNvSpPr>
          <p:nvPr>
            <p:ph type="sldImg"/>
          </p:nvPr>
        </p:nvSpPr>
        <p:spPr>
          <a:xfrm>
            <a:off x="1371600" y="768240"/>
            <a:ext cx="5029200" cy="3767400"/>
          </a:xfrm>
          <a:prstGeom prst="rect">
            <a:avLst/>
          </a:prstGeom>
          <a:ln w="0">
            <a:noFill/>
          </a:ln>
        </p:spPr>
      </p:sp>
      <p:sp>
        <p:nvSpPr>
          <p:cNvPr id="98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3</a:t>
            </a:r>
            <a:endParaRPr b="0" lang="en-US" sz="1000" spc="-1" strike="noStrike">
              <a:solidFill>
                <a:srgbClr val="000000"/>
              </a:solidFill>
              <a:latin typeface="Arial"/>
            </a:endParaRPr>
          </a:p>
        </p:txBody>
      </p:sp>
    </p:spTree>
  </p:cSld>
</p:notes>
</file>

<file path=ppt/notesSlides/notesSlide1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8" name="PlaceHolder 1"/>
          <p:cNvSpPr>
            <a:spLocks noGrp="1"/>
          </p:cNvSpPr>
          <p:nvPr>
            <p:ph type="sldImg"/>
          </p:nvPr>
        </p:nvSpPr>
        <p:spPr>
          <a:xfrm>
            <a:off x="1371600" y="768240"/>
            <a:ext cx="5029200" cy="3767400"/>
          </a:xfrm>
          <a:prstGeom prst="rect">
            <a:avLst/>
          </a:prstGeom>
          <a:ln w="0">
            <a:noFill/>
          </a:ln>
        </p:spPr>
      </p:sp>
      <p:sp>
        <p:nvSpPr>
          <p:cNvPr id="98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4</a:t>
            </a:r>
            <a:endParaRPr b="0" lang="en-US" sz="1000" spc="-1" strike="noStrike">
              <a:solidFill>
                <a:srgbClr val="000000"/>
              </a:solidFill>
              <a:latin typeface="Arial"/>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0" name="PlaceHolder 1"/>
          <p:cNvSpPr>
            <a:spLocks noGrp="1"/>
          </p:cNvSpPr>
          <p:nvPr>
            <p:ph type="sldImg"/>
          </p:nvPr>
        </p:nvSpPr>
        <p:spPr>
          <a:xfrm>
            <a:off x="1371600" y="768240"/>
            <a:ext cx="5029200" cy="3767400"/>
          </a:xfrm>
          <a:prstGeom prst="rect">
            <a:avLst/>
          </a:prstGeom>
          <a:ln w="0">
            <a:noFill/>
          </a:ln>
        </p:spPr>
      </p:sp>
      <p:sp>
        <p:nvSpPr>
          <p:cNvPr id="98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5</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8" name="PlaceHolder 1"/>
          <p:cNvSpPr>
            <a:spLocks noGrp="1"/>
          </p:cNvSpPr>
          <p:nvPr>
            <p:ph type="sldImg"/>
          </p:nvPr>
        </p:nvSpPr>
        <p:spPr>
          <a:xfrm>
            <a:off x="1371600" y="768240"/>
            <a:ext cx="5029200" cy="3767400"/>
          </a:xfrm>
          <a:prstGeom prst="rect">
            <a:avLst/>
          </a:prstGeom>
          <a:ln w="0">
            <a:noFill/>
          </a:ln>
        </p:spPr>
      </p:sp>
      <p:sp>
        <p:nvSpPr>
          <p:cNvPr id="96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5</a:t>
            </a:r>
            <a:endParaRPr b="0" lang="en-US" sz="1000" spc="-1" strike="noStrike">
              <a:solidFill>
                <a:srgbClr val="000000"/>
              </a:solidFill>
              <a:latin typeface="Arial"/>
            </a:endParaRPr>
          </a:p>
        </p:txBody>
      </p:sp>
    </p:spTree>
  </p:cSld>
</p:notes>
</file>

<file path=ppt/notesSlides/notesSlide1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2" name="PlaceHolder 1"/>
          <p:cNvSpPr>
            <a:spLocks noGrp="1"/>
          </p:cNvSpPr>
          <p:nvPr>
            <p:ph type="sldImg"/>
          </p:nvPr>
        </p:nvSpPr>
        <p:spPr>
          <a:xfrm>
            <a:off x="1371600" y="768240"/>
            <a:ext cx="5029200" cy="3767400"/>
          </a:xfrm>
          <a:prstGeom prst="rect">
            <a:avLst/>
          </a:prstGeom>
          <a:ln w="0">
            <a:noFill/>
          </a:ln>
        </p:spPr>
      </p:sp>
      <p:sp>
        <p:nvSpPr>
          <p:cNvPr id="98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6</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0" name="PlaceHolder 1"/>
          <p:cNvSpPr>
            <a:spLocks noGrp="1"/>
          </p:cNvSpPr>
          <p:nvPr>
            <p:ph type="sldImg"/>
          </p:nvPr>
        </p:nvSpPr>
        <p:spPr>
          <a:xfrm>
            <a:off x="1371600" y="768240"/>
            <a:ext cx="5029200" cy="3767400"/>
          </a:xfrm>
          <a:prstGeom prst="rect">
            <a:avLst/>
          </a:prstGeom>
          <a:ln w="0">
            <a:noFill/>
          </a:ln>
        </p:spPr>
      </p:sp>
      <p:sp>
        <p:nvSpPr>
          <p:cNvPr id="96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p:txBody>
      </p:sp>
    </p:spTree>
  </p:cSld>
</p:notes>
</file>

<file path=ppt/notesSlides/notesSlide1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4" name="PlaceHolder 1"/>
          <p:cNvSpPr>
            <a:spLocks noGrp="1"/>
          </p:cNvSpPr>
          <p:nvPr>
            <p:ph type="sldImg"/>
          </p:nvPr>
        </p:nvSpPr>
        <p:spPr>
          <a:xfrm>
            <a:off x="1371600" y="768240"/>
            <a:ext cx="5029200" cy="3767400"/>
          </a:xfrm>
          <a:prstGeom prst="rect">
            <a:avLst/>
          </a:prstGeom>
          <a:ln w="0">
            <a:noFill/>
          </a:ln>
        </p:spPr>
      </p:sp>
      <p:sp>
        <p:nvSpPr>
          <p:cNvPr id="98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7</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2" name="PlaceHolder 1"/>
          <p:cNvSpPr>
            <a:spLocks noGrp="1"/>
          </p:cNvSpPr>
          <p:nvPr>
            <p:ph type="sldImg"/>
          </p:nvPr>
        </p:nvSpPr>
        <p:spPr>
          <a:xfrm>
            <a:off x="1371600" y="768240"/>
            <a:ext cx="5029200" cy="3767400"/>
          </a:xfrm>
          <a:prstGeom prst="rect">
            <a:avLst/>
          </a:prstGeom>
          <a:ln w="0">
            <a:noFill/>
          </a:ln>
        </p:spPr>
      </p:sp>
      <p:sp>
        <p:nvSpPr>
          <p:cNvPr id="96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8</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4" name="PlaceHolder 1"/>
          <p:cNvSpPr>
            <a:spLocks noGrp="1"/>
          </p:cNvSpPr>
          <p:nvPr>
            <p:ph type="sldImg"/>
          </p:nvPr>
        </p:nvSpPr>
        <p:spPr>
          <a:xfrm>
            <a:off x="1371600" y="768240"/>
            <a:ext cx="5029200" cy="3767400"/>
          </a:xfrm>
          <a:prstGeom prst="rect">
            <a:avLst/>
          </a:prstGeom>
          <a:ln w="0">
            <a:noFill/>
          </a:ln>
        </p:spPr>
      </p:sp>
      <p:sp>
        <p:nvSpPr>
          <p:cNvPr id="96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6" name="PlaceHolder 1"/>
          <p:cNvSpPr>
            <a:spLocks noGrp="1"/>
          </p:cNvSpPr>
          <p:nvPr>
            <p:ph type="sldImg"/>
          </p:nvPr>
        </p:nvSpPr>
        <p:spPr>
          <a:xfrm>
            <a:off x="1371600" y="768240"/>
            <a:ext cx="5029200" cy="3767400"/>
          </a:xfrm>
          <a:prstGeom prst="rect">
            <a:avLst/>
          </a:prstGeom>
          <a:ln w="0">
            <a:noFill/>
          </a:ln>
        </p:spPr>
      </p:sp>
      <p:sp>
        <p:nvSpPr>
          <p:cNvPr id="96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0</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8" name="PlaceHolder 1"/>
          <p:cNvSpPr>
            <a:spLocks noGrp="1"/>
          </p:cNvSpPr>
          <p:nvPr>
            <p:ph type="sldImg"/>
          </p:nvPr>
        </p:nvSpPr>
        <p:spPr>
          <a:xfrm>
            <a:off x="1371600" y="768240"/>
            <a:ext cx="5029200" cy="3767400"/>
          </a:xfrm>
          <a:prstGeom prst="rect">
            <a:avLst/>
          </a:prstGeom>
          <a:ln w="0">
            <a:noFill/>
          </a:ln>
        </p:spPr>
      </p:sp>
      <p:sp>
        <p:nvSpPr>
          <p:cNvPr id="96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1</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0" name="PlaceHolder 1"/>
          <p:cNvSpPr>
            <a:spLocks noGrp="1"/>
          </p:cNvSpPr>
          <p:nvPr>
            <p:ph type="sldImg"/>
          </p:nvPr>
        </p:nvSpPr>
        <p:spPr>
          <a:xfrm>
            <a:off x="1371600" y="768240"/>
            <a:ext cx="5029200" cy="3767400"/>
          </a:xfrm>
          <a:prstGeom prst="rect">
            <a:avLst/>
          </a:prstGeom>
          <a:ln w="0">
            <a:noFill/>
          </a:ln>
        </p:spPr>
      </p:sp>
      <p:sp>
        <p:nvSpPr>
          <p:cNvPr id="96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3</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2" name="PlaceHolder 1"/>
          <p:cNvSpPr>
            <a:spLocks noGrp="1"/>
          </p:cNvSpPr>
          <p:nvPr>
            <p:ph type="sldImg"/>
          </p:nvPr>
        </p:nvSpPr>
        <p:spPr>
          <a:xfrm>
            <a:off x="1371600" y="768240"/>
            <a:ext cx="5029200" cy="3767400"/>
          </a:xfrm>
          <a:prstGeom prst="rect">
            <a:avLst/>
          </a:prstGeom>
          <a:ln w="0">
            <a:noFill/>
          </a:ln>
        </p:spPr>
      </p:sp>
      <p:sp>
        <p:nvSpPr>
          <p:cNvPr id="96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5</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4" name="PlaceHolder 1"/>
          <p:cNvSpPr>
            <a:spLocks noGrp="1"/>
          </p:cNvSpPr>
          <p:nvPr>
            <p:ph type="sldImg"/>
          </p:nvPr>
        </p:nvSpPr>
        <p:spPr>
          <a:xfrm>
            <a:off x="1371600" y="768240"/>
            <a:ext cx="5029200" cy="3767400"/>
          </a:xfrm>
          <a:prstGeom prst="rect">
            <a:avLst/>
          </a:prstGeom>
          <a:ln w="0">
            <a:noFill/>
          </a:ln>
        </p:spPr>
      </p:sp>
      <p:sp>
        <p:nvSpPr>
          <p:cNvPr id="96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6</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6" name="PlaceHolder 1"/>
          <p:cNvSpPr>
            <a:spLocks noGrp="1"/>
          </p:cNvSpPr>
          <p:nvPr>
            <p:ph type="sldImg"/>
          </p:nvPr>
        </p:nvSpPr>
        <p:spPr>
          <a:xfrm>
            <a:off x="1371600" y="768240"/>
            <a:ext cx="5029200" cy="3767400"/>
          </a:xfrm>
          <a:prstGeom prst="rect">
            <a:avLst/>
          </a:prstGeom>
          <a:ln w="0">
            <a:noFill/>
          </a:ln>
        </p:spPr>
      </p:sp>
      <p:sp>
        <p:nvSpPr>
          <p:cNvPr id="96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8" name="PlaceHolder 1"/>
          <p:cNvSpPr>
            <a:spLocks noGrp="1"/>
          </p:cNvSpPr>
          <p:nvPr>
            <p:ph type="sldImg"/>
          </p:nvPr>
        </p:nvSpPr>
        <p:spPr>
          <a:xfrm>
            <a:off x="1371600" y="768240"/>
            <a:ext cx="5029200" cy="3767400"/>
          </a:xfrm>
          <a:prstGeom prst="rect">
            <a:avLst/>
          </a:prstGeom>
          <a:ln w="0">
            <a:noFill/>
          </a:ln>
        </p:spPr>
      </p:sp>
      <p:sp>
        <p:nvSpPr>
          <p:cNvPr id="96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0" name="PlaceHolder 1"/>
          <p:cNvSpPr>
            <a:spLocks noGrp="1"/>
          </p:cNvSpPr>
          <p:nvPr>
            <p:ph type="sldImg"/>
          </p:nvPr>
        </p:nvSpPr>
        <p:spPr>
          <a:xfrm>
            <a:off x="1371600" y="768240"/>
            <a:ext cx="5029200" cy="3767400"/>
          </a:xfrm>
          <a:prstGeom prst="rect">
            <a:avLst/>
          </a:prstGeom>
          <a:ln w="0">
            <a:noFill/>
          </a:ln>
        </p:spPr>
      </p:sp>
      <p:sp>
        <p:nvSpPr>
          <p:cNvPr id="96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2" name="PlaceHolder 1"/>
          <p:cNvSpPr>
            <a:spLocks noGrp="1"/>
          </p:cNvSpPr>
          <p:nvPr>
            <p:ph type="sldImg"/>
          </p:nvPr>
        </p:nvSpPr>
        <p:spPr>
          <a:xfrm>
            <a:off x="1371600" y="768240"/>
            <a:ext cx="5029200" cy="3767400"/>
          </a:xfrm>
          <a:prstGeom prst="rect">
            <a:avLst/>
          </a:prstGeom>
          <a:ln w="0">
            <a:noFill/>
          </a:ln>
        </p:spPr>
      </p:sp>
      <p:sp>
        <p:nvSpPr>
          <p:cNvPr id="96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4" name="PlaceHolder 1"/>
          <p:cNvSpPr>
            <a:spLocks noGrp="1"/>
          </p:cNvSpPr>
          <p:nvPr>
            <p:ph type="sldImg"/>
          </p:nvPr>
        </p:nvSpPr>
        <p:spPr>
          <a:xfrm>
            <a:off x="1371600" y="768240"/>
            <a:ext cx="5029200" cy="3767400"/>
          </a:xfrm>
          <a:prstGeom prst="rect">
            <a:avLst/>
          </a:prstGeom>
          <a:ln w="0">
            <a:noFill/>
          </a:ln>
        </p:spPr>
      </p:sp>
      <p:sp>
        <p:nvSpPr>
          <p:cNvPr id="966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6" name="PlaceHolder 1"/>
          <p:cNvSpPr>
            <a:spLocks noGrp="1"/>
          </p:cNvSpPr>
          <p:nvPr>
            <p:ph type="sldImg"/>
          </p:nvPr>
        </p:nvSpPr>
        <p:spPr>
          <a:xfrm>
            <a:off x="1371600" y="768240"/>
            <a:ext cx="5029200" cy="3767400"/>
          </a:xfrm>
          <a:prstGeom prst="rect">
            <a:avLst/>
          </a:prstGeom>
          <a:ln w="0">
            <a:noFill/>
          </a:ln>
        </p:spPr>
      </p:sp>
      <p:sp>
        <p:nvSpPr>
          <p:cNvPr id="966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1</a:t>
            </a:r>
            <a:endParaRPr b="0" lang="en-US" sz="10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8" name="PlaceHolder 1"/>
          <p:cNvSpPr>
            <a:spLocks noGrp="1"/>
          </p:cNvSpPr>
          <p:nvPr>
            <p:ph type="sldImg"/>
          </p:nvPr>
        </p:nvSpPr>
        <p:spPr>
          <a:xfrm>
            <a:off x="1371600" y="768240"/>
            <a:ext cx="5029200" cy="3767400"/>
          </a:xfrm>
          <a:prstGeom prst="rect">
            <a:avLst/>
          </a:prstGeom>
          <a:ln w="0">
            <a:noFill/>
          </a:ln>
        </p:spPr>
      </p:sp>
      <p:sp>
        <p:nvSpPr>
          <p:cNvPr id="966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0" name="PlaceHolder 1"/>
          <p:cNvSpPr>
            <a:spLocks noGrp="1"/>
          </p:cNvSpPr>
          <p:nvPr>
            <p:ph type="sldImg"/>
          </p:nvPr>
        </p:nvSpPr>
        <p:spPr>
          <a:xfrm>
            <a:off x="1371600" y="768240"/>
            <a:ext cx="5029200" cy="3767400"/>
          </a:xfrm>
          <a:prstGeom prst="rect">
            <a:avLst/>
          </a:prstGeom>
          <a:ln w="0">
            <a:noFill/>
          </a:ln>
        </p:spPr>
      </p:sp>
      <p:sp>
        <p:nvSpPr>
          <p:cNvPr id="967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2" name="PlaceHolder 1"/>
          <p:cNvSpPr>
            <a:spLocks noGrp="1"/>
          </p:cNvSpPr>
          <p:nvPr>
            <p:ph type="sldImg"/>
          </p:nvPr>
        </p:nvSpPr>
        <p:spPr>
          <a:xfrm>
            <a:off x="1371600" y="768240"/>
            <a:ext cx="5029200" cy="3767400"/>
          </a:xfrm>
          <a:prstGeom prst="rect">
            <a:avLst/>
          </a:prstGeom>
          <a:ln w="0">
            <a:noFill/>
          </a:ln>
        </p:spPr>
      </p:sp>
      <p:sp>
        <p:nvSpPr>
          <p:cNvPr id="967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4" name="PlaceHolder 1"/>
          <p:cNvSpPr>
            <a:spLocks noGrp="1"/>
          </p:cNvSpPr>
          <p:nvPr>
            <p:ph type="sldImg"/>
          </p:nvPr>
        </p:nvSpPr>
        <p:spPr>
          <a:xfrm>
            <a:off x="1371600" y="768240"/>
            <a:ext cx="5029200" cy="3767400"/>
          </a:xfrm>
          <a:prstGeom prst="rect">
            <a:avLst/>
          </a:prstGeom>
          <a:ln w="0">
            <a:noFill/>
          </a:ln>
        </p:spPr>
      </p:sp>
      <p:sp>
        <p:nvSpPr>
          <p:cNvPr id="967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6" name="PlaceHolder 1"/>
          <p:cNvSpPr>
            <a:spLocks noGrp="1"/>
          </p:cNvSpPr>
          <p:nvPr>
            <p:ph type="sldImg"/>
          </p:nvPr>
        </p:nvSpPr>
        <p:spPr>
          <a:xfrm>
            <a:off x="1371600" y="768240"/>
            <a:ext cx="5029200" cy="3767400"/>
          </a:xfrm>
          <a:prstGeom prst="rect">
            <a:avLst/>
          </a:prstGeom>
          <a:ln w="0">
            <a:noFill/>
          </a:ln>
        </p:spPr>
      </p:sp>
      <p:sp>
        <p:nvSpPr>
          <p:cNvPr id="967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8" name="PlaceHolder 1"/>
          <p:cNvSpPr>
            <a:spLocks noGrp="1"/>
          </p:cNvSpPr>
          <p:nvPr>
            <p:ph type="sldImg"/>
          </p:nvPr>
        </p:nvSpPr>
        <p:spPr>
          <a:xfrm>
            <a:off x="1371600" y="768240"/>
            <a:ext cx="5029200" cy="3767400"/>
          </a:xfrm>
          <a:prstGeom prst="rect">
            <a:avLst/>
          </a:prstGeom>
          <a:ln w="0">
            <a:noFill/>
          </a:ln>
        </p:spPr>
      </p:sp>
      <p:sp>
        <p:nvSpPr>
          <p:cNvPr id="967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0" name="PlaceHolder 1"/>
          <p:cNvSpPr>
            <a:spLocks noGrp="1"/>
          </p:cNvSpPr>
          <p:nvPr>
            <p:ph type="sldImg"/>
          </p:nvPr>
        </p:nvSpPr>
        <p:spPr>
          <a:xfrm>
            <a:off x="1371600" y="768240"/>
            <a:ext cx="5029200" cy="3767400"/>
          </a:xfrm>
          <a:prstGeom prst="rect">
            <a:avLst/>
          </a:prstGeom>
          <a:ln w="0">
            <a:noFill/>
          </a:ln>
        </p:spPr>
      </p:sp>
      <p:sp>
        <p:nvSpPr>
          <p:cNvPr id="968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2" name="PlaceHolder 1"/>
          <p:cNvSpPr>
            <a:spLocks noGrp="1"/>
          </p:cNvSpPr>
          <p:nvPr>
            <p:ph type="sldImg"/>
          </p:nvPr>
        </p:nvSpPr>
        <p:spPr>
          <a:xfrm>
            <a:off x="1371600" y="768240"/>
            <a:ext cx="5029200" cy="3767400"/>
          </a:xfrm>
          <a:prstGeom prst="rect">
            <a:avLst/>
          </a:prstGeom>
          <a:ln w="0">
            <a:noFill/>
          </a:ln>
        </p:spPr>
      </p:sp>
      <p:sp>
        <p:nvSpPr>
          <p:cNvPr id="96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2" name="PlaceHolder 1"/>
          <p:cNvSpPr>
            <a:spLocks noGrp="1"/>
          </p:cNvSpPr>
          <p:nvPr>
            <p:ph type="sldImg"/>
          </p:nvPr>
        </p:nvSpPr>
        <p:spPr>
          <a:xfrm>
            <a:off x="1371600" y="768240"/>
            <a:ext cx="5029200" cy="3767400"/>
          </a:xfrm>
          <a:prstGeom prst="rect">
            <a:avLst/>
          </a:prstGeom>
          <a:ln w="0">
            <a:noFill/>
          </a:ln>
        </p:spPr>
      </p:sp>
      <p:sp>
        <p:nvSpPr>
          <p:cNvPr id="968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5</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4" name="PlaceHolder 1"/>
          <p:cNvSpPr>
            <a:spLocks noGrp="1"/>
          </p:cNvSpPr>
          <p:nvPr>
            <p:ph type="sldImg"/>
          </p:nvPr>
        </p:nvSpPr>
        <p:spPr>
          <a:xfrm>
            <a:off x="1371600" y="768240"/>
            <a:ext cx="5029200" cy="3767400"/>
          </a:xfrm>
          <a:prstGeom prst="rect">
            <a:avLst/>
          </a:prstGeom>
          <a:ln w="0">
            <a:noFill/>
          </a:ln>
        </p:spPr>
      </p:sp>
      <p:sp>
        <p:nvSpPr>
          <p:cNvPr id="968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6</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6" name="PlaceHolder 1"/>
          <p:cNvSpPr>
            <a:spLocks noGrp="1"/>
          </p:cNvSpPr>
          <p:nvPr>
            <p:ph type="sldImg"/>
          </p:nvPr>
        </p:nvSpPr>
        <p:spPr>
          <a:xfrm>
            <a:off x="1371600" y="768240"/>
            <a:ext cx="5029200" cy="3767400"/>
          </a:xfrm>
          <a:prstGeom prst="rect">
            <a:avLst/>
          </a:prstGeom>
          <a:ln w="0">
            <a:noFill/>
          </a:ln>
        </p:spPr>
      </p:sp>
      <p:sp>
        <p:nvSpPr>
          <p:cNvPr id="968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7</a:t>
            </a:r>
            <a:endParaRPr b="0" lang="en-US" sz="10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8" name="PlaceHolder 1"/>
          <p:cNvSpPr>
            <a:spLocks noGrp="1"/>
          </p:cNvSpPr>
          <p:nvPr>
            <p:ph type="sldImg"/>
          </p:nvPr>
        </p:nvSpPr>
        <p:spPr>
          <a:xfrm>
            <a:off x="1371600" y="768240"/>
            <a:ext cx="5029200" cy="3767400"/>
          </a:xfrm>
          <a:prstGeom prst="rect">
            <a:avLst/>
          </a:prstGeom>
          <a:ln w="0">
            <a:noFill/>
          </a:ln>
        </p:spPr>
      </p:sp>
      <p:sp>
        <p:nvSpPr>
          <p:cNvPr id="968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8</a:t>
            </a:r>
            <a:endParaRPr b="0" lang="en-US" sz="10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0" name="PlaceHolder 1"/>
          <p:cNvSpPr>
            <a:spLocks noGrp="1"/>
          </p:cNvSpPr>
          <p:nvPr>
            <p:ph type="sldImg"/>
          </p:nvPr>
        </p:nvSpPr>
        <p:spPr>
          <a:xfrm>
            <a:off x="1371600" y="768240"/>
            <a:ext cx="5029200" cy="3767400"/>
          </a:xfrm>
          <a:prstGeom prst="rect">
            <a:avLst/>
          </a:prstGeom>
          <a:ln w="0">
            <a:noFill/>
          </a:ln>
        </p:spPr>
      </p:sp>
      <p:sp>
        <p:nvSpPr>
          <p:cNvPr id="969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2" name="PlaceHolder 1"/>
          <p:cNvSpPr>
            <a:spLocks noGrp="1"/>
          </p:cNvSpPr>
          <p:nvPr>
            <p:ph type="sldImg"/>
          </p:nvPr>
        </p:nvSpPr>
        <p:spPr>
          <a:xfrm>
            <a:off x="1371600" y="768240"/>
            <a:ext cx="5029200" cy="3767400"/>
          </a:xfrm>
          <a:prstGeom prst="rect">
            <a:avLst/>
          </a:prstGeom>
          <a:ln w="0">
            <a:noFill/>
          </a:ln>
        </p:spPr>
      </p:sp>
      <p:sp>
        <p:nvSpPr>
          <p:cNvPr id="969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4" name="PlaceHolder 1"/>
          <p:cNvSpPr>
            <a:spLocks noGrp="1"/>
          </p:cNvSpPr>
          <p:nvPr>
            <p:ph type="sldImg"/>
          </p:nvPr>
        </p:nvSpPr>
        <p:spPr>
          <a:xfrm>
            <a:off x="1371600" y="768240"/>
            <a:ext cx="5029200" cy="3767400"/>
          </a:xfrm>
          <a:prstGeom prst="rect">
            <a:avLst/>
          </a:prstGeom>
          <a:ln w="0">
            <a:noFill/>
          </a:ln>
        </p:spPr>
      </p:sp>
      <p:sp>
        <p:nvSpPr>
          <p:cNvPr id="969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6" name="PlaceHolder 1"/>
          <p:cNvSpPr>
            <a:spLocks noGrp="1"/>
          </p:cNvSpPr>
          <p:nvPr>
            <p:ph type="sldImg"/>
          </p:nvPr>
        </p:nvSpPr>
        <p:spPr>
          <a:xfrm>
            <a:off x="1371600" y="768240"/>
            <a:ext cx="5029200" cy="3767400"/>
          </a:xfrm>
          <a:prstGeom prst="rect">
            <a:avLst/>
          </a:prstGeom>
          <a:ln w="0">
            <a:noFill/>
          </a:ln>
        </p:spPr>
      </p:sp>
      <p:sp>
        <p:nvSpPr>
          <p:cNvPr id="969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8" name="PlaceHolder 1"/>
          <p:cNvSpPr>
            <a:spLocks noGrp="1"/>
          </p:cNvSpPr>
          <p:nvPr>
            <p:ph type="sldImg"/>
          </p:nvPr>
        </p:nvSpPr>
        <p:spPr>
          <a:xfrm>
            <a:off x="1371600" y="768240"/>
            <a:ext cx="5029200" cy="3767400"/>
          </a:xfrm>
          <a:prstGeom prst="rect">
            <a:avLst/>
          </a:prstGeom>
          <a:ln w="0">
            <a:noFill/>
          </a:ln>
        </p:spPr>
      </p:sp>
      <p:sp>
        <p:nvSpPr>
          <p:cNvPr id="969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0" name="PlaceHolder 1"/>
          <p:cNvSpPr>
            <a:spLocks noGrp="1"/>
          </p:cNvSpPr>
          <p:nvPr>
            <p:ph type="sldImg"/>
          </p:nvPr>
        </p:nvSpPr>
        <p:spPr>
          <a:xfrm>
            <a:off x="1371600" y="768240"/>
            <a:ext cx="5029200" cy="3767400"/>
          </a:xfrm>
          <a:prstGeom prst="rect">
            <a:avLst/>
          </a:prstGeom>
          <a:ln w="0">
            <a:noFill/>
          </a:ln>
        </p:spPr>
      </p:sp>
      <p:sp>
        <p:nvSpPr>
          <p:cNvPr id="97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9</a:t>
            </a:r>
            <a:endParaRPr b="0" lang="en-US" sz="10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2" name="PlaceHolder 1"/>
          <p:cNvSpPr>
            <a:spLocks noGrp="1"/>
          </p:cNvSpPr>
          <p:nvPr>
            <p:ph type="sldImg"/>
          </p:nvPr>
        </p:nvSpPr>
        <p:spPr>
          <a:xfrm>
            <a:off x="1371600" y="768240"/>
            <a:ext cx="5029200" cy="3767400"/>
          </a:xfrm>
          <a:prstGeom prst="rect">
            <a:avLst/>
          </a:prstGeom>
          <a:ln w="0">
            <a:noFill/>
          </a:ln>
        </p:spPr>
      </p:sp>
      <p:sp>
        <p:nvSpPr>
          <p:cNvPr id="97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3</a:t>
            </a:r>
            <a:endParaRPr b="0" lang="en-US" sz="10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4" name="PlaceHolder 1"/>
          <p:cNvSpPr>
            <a:spLocks noGrp="1"/>
          </p:cNvSpPr>
          <p:nvPr>
            <p:ph type="sldImg"/>
          </p:nvPr>
        </p:nvSpPr>
        <p:spPr>
          <a:xfrm>
            <a:off x="1371600" y="768240"/>
            <a:ext cx="5029200" cy="3767400"/>
          </a:xfrm>
          <a:prstGeom prst="rect">
            <a:avLst/>
          </a:prstGeom>
          <a:ln w="0">
            <a:noFill/>
          </a:ln>
        </p:spPr>
      </p:sp>
      <p:sp>
        <p:nvSpPr>
          <p:cNvPr id="970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9</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6" name="PlaceHolder 1"/>
          <p:cNvSpPr>
            <a:spLocks noGrp="1"/>
          </p:cNvSpPr>
          <p:nvPr>
            <p:ph type="sldImg"/>
          </p:nvPr>
        </p:nvSpPr>
        <p:spPr>
          <a:xfrm>
            <a:off x="1371600" y="768240"/>
            <a:ext cx="5029200" cy="3767400"/>
          </a:xfrm>
          <a:prstGeom prst="rect">
            <a:avLst/>
          </a:prstGeom>
          <a:ln w="0">
            <a:noFill/>
          </a:ln>
        </p:spPr>
      </p:sp>
      <p:sp>
        <p:nvSpPr>
          <p:cNvPr id="97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0</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8" name="PlaceHolder 1"/>
          <p:cNvSpPr>
            <a:spLocks noGrp="1"/>
          </p:cNvSpPr>
          <p:nvPr>
            <p:ph type="sldImg"/>
          </p:nvPr>
        </p:nvSpPr>
        <p:spPr>
          <a:xfrm>
            <a:off x="1371600" y="768240"/>
            <a:ext cx="5029200" cy="3767400"/>
          </a:xfrm>
          <a:prstGeom prst="rect">
            <a:avLst/>
          </a:prstGeom>
          <a:ln w="0">
            <a:noFill/>
          </a:ln>
        </p:spPr>
      </p:sp>
      <p:sp>
        <p:nvSpPr>
          <p:cNvPr id="97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1</a:t>
            </a:r>
            <a:endParaRPr b="0" lang="en-US" sz="10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0" name="PlaceHolder 1"/>
          <p:cNvSpPr>
            <a:spLocks noGrp="1"/>
          </p:cNvSpPr>
          <p:nvPr>
            <p:ph type="sldImg"/>
          </p:nvPr>
        </p:nvSpPr>
        <p:spPr>
          <a:xfrm>
            <a:off x="1371600" y="768240"/>
            <a:ext cx="5029200" cy="3767400"/>
          </a:xfrm>
          <a:prstGeom prst="rect">
            <a:avLst/>
          </a:prstGeom>
          <a:ln w="0">
            <a:noFill/>
          </a:ln>
        </p:spPr>
      </p:sp>
      <p:sp>
        <p:nvSpPr>
          <p:cNvPr id="97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2</a:t>
            </a:r>
            <a:endParaRPr b="0" lang="en-US" sz="10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2" name="PlaceHolder 1"/>
          <p:cNvSpPr>
            <a:spLocks noGrp="1"/>
          </p:cNvSpPr>
          <p:nvPr>
            <p:ph type="sldImg"/>
          </p:nvPr>
        </p:nvSpPr>
        <p:spPr>
          <a:xfrm>
            <a:off x="1371600" y="768240"/>
            <a:ext cx="5029200" cy="3767400"/>
          </a:xfrm>
          <a:prstGeom prst="rect">
            <a:avLst/>
          </a:prstGeom>
          <a:ln w="0">
            <a:noFill/>
          </a:ln>
        </p:spPr>
      </p:sp>
      <p:sp>
        <p:nvSpPr>
          <p:cNvPr id="971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3</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4" name="PlaceHolder 1"/>
          <p:cNvSpPr>
            <a:spLocks noGrp="1"/>
          </p:cNvSpPr>
          <p:nvPr>
            <p:ph type="sldImg"/>
          </p:nvPr>
        </p:nvSpPr>
        <p:spPr>
          <a:xfrm>
            <a:off x="1371600" y="768240"/>
            <a:ext cx="5029200" cy="3767400"/>
          </a:xfrm>
          <a:prstGeom prst="rect">
            <a:avLst/>
          </a:prstGeom>
          <a:ln w="0">
            <a:noFill/>
          </a:ln>
        </p:spPr>
      </p:sp>
      <p:sp>
        <p:nvSpPr>
          <p:cNvPr id="97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4</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6" name="PlaceHolder 1"/>
          <p:cNvSpPr>
            <a:spLocks noGrp="1"/>
          </p:cNvSpPr>
          <p:nvPr>
            <p:ph type="sldImg"/>
          </p:nvPr>
        </p:nvSpPr>
        <p:spPr>
          <a:xfrm>
            <a:off x="1371600" y="768240"/>
            <a:ext cx="5029200" cy="3767400"/>
          </a:xfrm>
          <a:prstGeom prst="rect">
            <a:avLst/>
          </a:prstGeom>
          <a:ln w="0">
            <a:noFill/>
          </a:ln>
        </p:spPr>
      </p:sp>
      <p:sp>
        <p:nvSpPr>
          <p:cNvPr id="97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5</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8" name="PlaceHolder 1"/>
          <p:cNvSpPr>
            <a:spLocks noGrp="1"/>
          </p:cNvSpPr>
          <p:nvPr>
            <p:ph type="sldImg"/>
          </p:nvPr>
        </p:nvSpPr>
        <p:spPr>
          <a:xfrm>
            <a:off x="1371600" y="768240"/>
            <a:ext cx="5029200" cy="3767400"/>
          </a:xfrm>
          <a:prstGeom prst="rect">
            <a:avLst/>
          </a:prstGeom>
          <a:ln w="0">
            <a:noFill/>
          </a:ln>
        </p:spPr>
      </p:sp>
      <p:sp>
        <p:nvSpPr>
          <p:cNvPr id="97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6</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4" name="PlaceHolder 1"/>
          <p:cNvSpPr>
            <a:spLocks noGrp="1"/>
          </p:cNvSpPr>
          <p:nvPr>
            <p:ph type="sldImg"/>
          </p:nvPr>
        </p:nvSpPr>
        <p:spPr>
          <a:xfrm>
            <a:off x="1371600" y="768240"/>
            <a:ext cx="5029200" cy="3767400"/>
          </a:xfrm>
          <a:prstGeom prst="rect">
            <a:avLst/>
          </a:prstGeom>
          <a:ln w="0">
            <a:noFill/>
          </a:ln>
        </p:spPr>
      </p:sp>
      <p:sp>
        <p:nvSpPr>
          <p:cNvPr id="96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2</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0" name="PlaceHolder 1"/>
          <p:cNvSpPr>
            <a:spLocks noGrp="1"/>
          </p:cNvSpPr>
          <p:nvPr>
            <p:ph type="sldImg"/>
          </p:nvPr>
        </p:nvSpPr>
        <p:spPr>
          <a:xfrm>
            <a:off x="1371600" y="768240"/>
            <a:ext cx="5029200" cy="3767400"/>
          </a:xfrm>
          <a:prstGeom prst="rect">
            <a:avLst/>
          </a:prstGeom>
          <a:ln w="0">
            <a:noFill/>
          </a:ln>
        </p:spPr>
      </p:sp>
      <p:sp>
        <p:nvSpPr>
          <p:cNvPr id="97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6</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2" name="PlaceHolder 1"/>
          <p:cNvSpPr>
            <a:spLocks noGrp="1"/>
          </p:cNvSpPr>
          <p:nvPr>
            <p:ph type="sldImg"/>
          </p:nvPr>
        </p:nvSpPr>
        <p:spPr>
          <a:xfrm>
            <a:off x="1371600" y="768240"/>
            <a:ext cx="5029200" cy="3767400"/>
          </a:xfrm>
          <a:prstGeom prst="rect">
            <a:avLst/>
          </a:prstGeom>
          <a:ln w="0">
            <a:noFill/>
          </a:ln>
        </p:spPr>
      </p:sp>
      <p:sp>
        <p:nvSpPr>
          <p:cNvPr id="97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6</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4" name="PlaceHolder 1"/>
          <p:cNvSpPr>
            <a:spLocks noGrp="1"/>
          </p:cNvSpPr>
          <p:nvPr>
            <p:ph type="sldImg"/>
          </p:nvPr>
        </p:nvSpPr>
        <p:spPr>
          <a:xfrm>
            <a:off x="1371600" y="768240"/>
            <a:ext cx="5029200" cy="3767400"/>
          </a:xfrm>
          <a:prstGeom prst="rect">
            <a:avLst/>
          </a:prstGeom>
          <a:ln w="0">
            <a:noFill/>
          </a:ln>
        </p:spPr>
      </p:sp>
      <p:sp>
        <p:nvSpPr>
          <p:cNvPr id="97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6</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6" name="PlaceHolder 1"/>
          <p:cNvSpPr>
            <a:spLocks noGrp="1"/>
          </p:cNvSpPr>
          <p:nvPr>
            <p:ph type="sldImg"/>
          </p:nvPr>
        </p:nvSpPr>
        <p:spPr>
          <a:xfrm>
            <a:off x="1371600" y="768240"/>
            <a:ext cx="5029200" cy="3767400"/>
          </a:xfrm>
          <a:prstGeom prst="rect">
            <a:avLst/>
          </a:prstGeom>
          <a:ln w="0">
            <a:noFill/>
          </a:ln>
        </p:spPr>
      </p:sp>
      <p:sp>
        <p:nvSpPr>
          <p:cNvPr id="97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7</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8" name="PlaceHolder 1"/>
          <p:cNvSpPr>
            <a:spLocks noGrp="1"/>
          </p:cNvSpPr>
          <p:nvPr>
            <p:ph type="sldImg"/>
          </p:nvPr>
        </p:nvSpPr>
        <p:spPr>
          <a:xfrm>
            <a:off x="1371600" y="768240"/>
            <a:ext cx="5029200" cy="3767400"/>
          </a:xfrm>
          <a:prstGeom prst="rect">
            <a:avLst/>
          </a:prstGeom>
          <a:ln w="0">
            <a:noFill/>
          </a:ln>
        </p:spPr>
      </p:sp>
      <p:sp>
        <p:nvSpPr>
          <p:cNvPr id="97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8</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0" name="PlaceHolder 1"/>
          <p:cNvSpPr>
            <a:spLocks noGrp="1"/>
          </p:cNvSpPr>
          <p:nvPr>
            <p:ph type="sldImg"/>
          </p:nvPr>
        </p:nvSpPr>
        <p:spPr>
          <a:xfrm>
            <a:off x="1371600" y="768240"/>
            <a:ext cx="5029200" cy="3767400"/>
          </a:xfrm>
          <a:prstGeom prst="rect">
            <a:avLst/>
          </a:prstGeom>
          <a:ln w="0">
            <a:noFill/>
          </a:ln>
        </p:spPr>
      </p:sp>
      <p:sp>
        <p:nvSpPr>
          <p:cNvPr id="97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0</a:t>
            </a:r>
            <a:endParaRPr b="0" lang="en-US" sz="10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2" name="PlaceHolder 1"/>
          <p:cNvSpPr>
            <a:spLocks noGrp="1"/>
          </p:cNvSpPr>
          <p:nvPr>
            <p:ph type="sldImg"/>
          </p:nvPr>
        </p:nvSpPr>
        <p:spPr>
          <a:xfrm>
            <a:off x="1371600" y="768240"/>
            <a:ext cx="5029200" cy="3767400"/>
          </a:xfrm>
          <a:prstGeom prst="rect">
            <a:avLst/>
          </a:prstGeom>
          <a:ln w="0">
            <a:noFill/>
          </a:ln>
        </p:spPr>
      </p:sp>
      <p:sp>
        <p:nvSpPr>
          <p:cNvPr id="97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2</a:t>
            </a:r>
            <a:endParaRPr b="0" lang="en-US" sz="10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4" name="PlaceHolder 1"/>
          <p:cNvSpPr>
            <a:spLocks noGrp="1"/>
          </p:cNvSpPr>
          <p:nvPr>
            <p:ph type="sldImg"/>
          </p:nvPr>
        </p:nvSpPr>
        <p:spPr>
          <a:xfrm>
            <a:off x="1371600" y="768240"/>
            <a:ext cx="5029200" cy="3767400"/>
          </a:xfrm>
          <a:prstGeom prst="rect">
            <a:avLst/>
          </a:prstGeom>
          <a:ln w="0">
            <a:noFill/>
          </a:ln>
        </p:spPr>
      </p:sp>
      <p:sp>
        <p:nvSpPr>
          <p:cNvPr id="97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2</a:t>
            </a: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6" name="PlaceHolder 1"/>
          <p:cNvSpPr>
            <a:spLocks noGrp="1"/>
          </p:cNvSpPr>
          <p:nvPr>
            <p:ph type="sldImg"/>
          </p:nvPr>
        </p:nvSpPr>
        <p:spPr>
          <a:xfrm>
            <a:off x="1371600" y="768240"/>
            <a:ext cx="5029200" cy="3767400"/>
          </a:xfrm>
          <a:prstGeom prst="rect">
            <a:avLst/>
          </a:prstGeom>
          <a:ln w="0">
            <a:noFill/>
          </a:ln>
        </p:spPr>
      </p:sp>
      <p:sp>
        <p:nvSpPr>
          <p:cNvPr id="97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1</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8" name="PlaceHolder 1"/>
          <p:cNvSpPr>
            <a:spLocks noGrp="1"/>
          </p:cNvSpPr>
          <p:nvPr>
            <p:ph type="sldImg"/>
          </p:nvPr>
        </p:nvSpPr>
        <p:spPr>
          <a:xfrm>
            <a:off x="1371600" y="768240"/>
            <a:ext cx="5029200" cy="3767400"/>
          </a:xfrm>
          <a:prstGeom prst="rect">
            <a:avLst/>
          </a:prstGeom>
          <a:ln w="0">
            <a:noFill/>
          </a:ln>
        </p:spPr>
      </p:sp>
      <p:sp>
        <p:nvSpPr>
          <p:cNvPr id="97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1</a:t>
            </a:r>
            <a:endParaRPr b="0" lang="en-US" sz="10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0" name="PlaceHolder 1"/>
          <p:cNvSpPr>
            <a:spLocks noGrp="1"/>
          </p:cNvSpPr>
          <p:nvPr>
            <p:ph type="sldImg"/>
          </p:nvPr>
        </p:nvSpPr>
        <p:spPr>
          <a:xfrm>
            <a:off x="1371600" y="768240"/>
            <a:ext cx="5029200" cy="3767400"/>
          </a:xfrm>
          <a:prstGeom prst="rect">
            <a:avLst/>
          </a:prstGeom>
          <a:ln w="0">
            <a:noFill/>
          </a:ln>
        </p:spPr>
      </p:sp>
      <p:sp>
        <p:nvSpPr>
          <p:cNvPr id="97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6</a:t>
            </a:r>
            <a:endParaRPr b="0" lang="en-US" sz="10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2" name="PlaceHolder 1"/>
          <p:cNvSpPr>
            <a:spLocks noGrp="1"/>
          </p:cNvSpPr>
          <p:nvPr>
            <p:ph type="sldImg"/>
          </p:nvPr>
        </p:nvSpPr>
        <p:spPr>
          <a:xfrm>
            <a:off x="1371600" y="768240"/>
            <a:ext cx="5029200" cy="3767400"/>
          </a:xfrm>
          <a:prstGeom prst="rect">
            <a:avLst/>
          </a:prstGeom>
          <a:ln w="0">
            <a:noFill/>
          </a:ln>
        </p:spPr>
      </p:sp>
      <p:sp>
        <p:nvSpPr>
          <p:cNvPr id="97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9</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6" name="PlaceHolder 1"/>
          <p:cNvSpPr>
            <a:spLocks noGrp="1"/>
          </p:cNvSpPr>
          <p:nvPr>
            <p:ph type="sldImg"/>
          </p:nvPr>
        </p:nvSpPr>
        <p:spPr>
          <a:xfrm>
            <a:off x="1371600" y="768240"/>
            <a:ext cx="5029200" cy="3767400"/>
          </a:xfrm>
          <a:prstGeom prst="rect">
            <a:avLst/>
          </a:prstGeom>
          <a:ln w="0">
            <a:noFill/>
          </a:ln>
        </p:spPr>
      </p:sp>
      <p:sp>
        <p:nvSpPr>
          <p:cNvPr id="96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4</a:t>
            </a:r>
            <a:endParaRPr b="0" lang="en-US" sz="10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4" name="PlaceHolder 1"/>
          <p:cNvSpPr>
            <a:spLocks noGrp="1"/>
          </p:cNvSpPr>
          <p:nvPr>
            <p:ph type="sldImg"/>
          </p:nvPr>
        </p:nvSpPr>
        <p:spPr>
          <a:xfrm>
            <a:off x="1371600" y="768240"/>
            <a:ext cx="5029200" cy="3767400"/>
          </a:xfrm>
          <a:prstGeom prst="rect">
            <a:avLst/>
          </a:prstGeom>
          <a:ln w="0">
            <a:noFill/>
          </a:ln>
        </p:spPr>
      </p:sp>
      <p:sp>
        <p:nvSpPr>
          <p:cNvPr id="974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0</a:t>
            </a:r>
            <a:endParaRPr b="0" lang="en-US" sz="10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6" name="PlaceHolder 1"/>
          <p:cNvSpPr>
            <a:spLocks noGrp="1"/>
          </p:cNvSpPr>
          <p:nvPr>
            <p:ph type="sldImg"/>
          </p:nvPr>
        </p:nvSpPr>
        <p:spPr>
          <a:xfrm>
            <a:off x="1371600" y="768240"/>
            <a:ext cx="5029200" cy="3767400"/>
          </a:xfrm>
          <a:prstGeom prst="rect">
            <a:avLst/>
          </a:prstGeom>
          <a:ln w="0">
            <a:noFill/>
          </a:ln>
        </p:spPr>
      </p:sp>
      <p:sp>
        <p:nvSpPr>
          <p:cNvPr id="974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1</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8" name="PlaceHolder 1"/>
          <p:cNvSpPr>
            <a:spLocks noGrp="1"/>
          </p:cNvSpPr>
          <p:nvPr>
            <p:ph type="sldImg"/>
          </p:nvPr>
        </p:nvSpPr>
        <p:spPr>
          <a:xfrm>
            <a:off x="1371600" y="768240"/>
            <a:ext cx="5029200" cy="3767400"/>
          </a:xfrm>
          <a:prstGeom prst="rect">
            <a:avLst/>
          </a:prstGeom>
          <a:ln w="0">
            <a:noFill/>
          </a:ln>
        </p:spPr>
      </p:sp>
      <p:sp>
        <p:nvSpPr>
          <p:cNvPr id="974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2</a:t>
            </a:r>
            <a:endParaRPr b="0" lang="en-US" sz="10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0" name="PlaceHolder 1"/>
          <p:cNvSpPr>
            <a:spLocks noGrp="1"/>
          </p:cNvSpPr>
          <p:nvPr>
            <p:ph type="sldImg"/>
          </p:nvPr>
        </p:nvSpPr>
        <p:spPr>
          <a:xfrm>
            <a:off x="1371600" y="768240"/>
            <a:ext cx="5029200" cy="3767400"/>
          </a:xfrm>
          <a:prstGeom prst="rect">
            <a:avLst/>
          </a:prstGeom>
          <a:ln w="0">
            <a:noFill/>
          </a:ln>
        </p:spPr>
      </p:sp>
      <p:sp>
        <p:nvSpPr>
          <p:cNvPr id="975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3</a:t>
            </a:r>
            <a:endParaRPr b="0" lang="en-US" sz="10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2" name="PlaceHolder 1"/>
          <p:cNvSpPr>
            <a:spLocks noGrp="1"/>
          </p:cNvSpPr>
          <p:nvPr>
            <p:ph type="sldImg"/>
          </p:nvPr>
        </p:nvSpPr>
        <p:spPr>
          <a:xfrm>
            <a:off x="1371600" y="768240"/>
            <a:ext cx="5029200" cy="3767400"/>
          </a:xfrm>
          <a:prstGeom prst="rect">
            <a:avLst/>
          </a:prstGeom>
          <a:ln w="0">
            <a:noFill/>
          </a:ln>
        </p:spPr>
      </p:sp>
      <p:sp>
        <p:nvSpPr>
          <p:cNvPr id="975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4</a:t>
            </a:r>
            <a:endParaRPr b="0" lang="en-US" sz="10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4" name="PlaceHolder 1"/>
          <p:cNvSpPr>
            <a:spLocks noGrp="1"/>
          </p:cNvSpPr>
          <p:nvPr>
            <p:ph type="sldImg"/>
          </p:nvPr>
        </p:nvSpPr>
        <p:spPr>
          <a:xfrm>
            <a:off x="1371600" y="768240"/>
            <a:ext cx="5029200" cy="3767400"/>
          </a:xfrm>
          <a:prstGeom prst="rect">
            <a:avLst/>
          </a:prstGeom>
          <a:ln w="0">
            <a:noFill/>
          </a:ln>
        </p:spPr>
      </p:sp>
      <p:sp>
        <p:nvSpPr>
          <p:cNvPr id="975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5</a:t>
            </a:r>
            <a:endParaRPr b="0" lang="en-US" sz="10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6" name="PlaceHolder 1"/>
          <p:cNvSpPr>
            <a:spLocks noGrp="1"/>
          </p:cNvSpPr>
          <p:nvPr>
            <p:ph type="sldImg"/>
          </p:nvPr>
        </p:nvSpPr>
        <p:spPr>
          <a:xfrm>
            <a:off x="1371600" y="768240"/>
            <a:ext cx="5029200" cy="3767400"/>
          </a:xfrm>
          <a:prstGeom prst="rect">
            <a:avLst/>
          </a:prstGeom>
          <a:ln w="0">
            <a:noFill/>
          </a:ln>
        </p:spPr>
      </p:sp>
      <p:sp>
        <p:nvSpPr>
          <p:cNvPr id="975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6</a:t>
            </a:r>
            <a:endParaRPr b="0" lang="en-US" sz="10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8" name="PlaceHolder 1"/>
          <p:cNvSpPr>
            <a:spLocks noGrp="1"/>
          </p:cNvSpPr>
          <p:nvPr>
            <p:ph type="sldImg"/>
          </p:nvPr>
        </p:nvSpPr>
        <p:spPr>
          <a:xfrm>
            <a:off x="1371600" y="768240"/>
            <a:ext cx="5029200" cy="3767400"/>
          </a:xfrm>
          <a:prstGeom prst="rect">
            <a:avLst/>
          </a:prstGeom>
          <a:ln w="0">
            <a:noFill/>
          </a:ln>
        </p:spPr>
      </p:sp>
      <p:sp>
        <p:nvSpPr>
          <p:cNvPr id="975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7</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0" name="PlaceHolder 1"/>
          <p:cNvSpPr>
            <a:spLocks noGrp="1"/>
          </p:cNvSpPr>
          <p:nvPr>
            <p:ph type="sldImg"/>
          </p:nvPr>
        </p:nvSpPr>
        <p:spPr>
          <a:xfrm>
            <a:off x="1371600" y="768240"/>
            <a:ext cx="5029200" cy="3767400"/>
          </a:xfrm>
          <a:prstGeom prst="rect">
            <a:avLst/>
          </a:prstGeom>
          <a:ln w="0">
            <a:noFill/>
          </a:ln>
        </p:spPr>
      </p:sp>
      <p:sp>
        <p:nvSpPr>
          <p:cNvPr id="976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8</a:t>
            </a: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2" name="PlaceHolder 1"/>
          <p:cNvSpPr>
            <a:spLocks noGrp="1"/>
          </p:cNvSpPr>
          <p:nvPr>
            <p:ph type="sldImg"/>
          </p:nvPr>
        </p:nvSpPr>
        <p:spPr>
          <a:xfrm>
            <a:off x="1371600" y="768240"/>
            <a:ext cx="5029200" cy="3767400"/>
          </a:xfrm>
          <a:prstGeom prst="rect">
            <a:avLst/>
          </a:prstGeom>
          <a:ln w="0">
            <a:noFill/>
          </a:ln>
        </p:spPr>
      </p:sp>
      <p:sp>
        <p:nvSpPr>
          <p:cNvPr id="976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0</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6.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7.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2.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
          <p:cNvSpPr/>
          <p:nvPr/>
        </p:nvSpPr>
        <p:spPr>
          <a:xfrm>
            <a:off x="71280" y="23760"/>
            <a:ext cx="8977320" cy="68216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txBox="1"/>
          <p:nvPr/>
        </p:nvSpPr>
        <p:spPr>
          <a:xfrm>
            <a:off x="560520" y="447840"/>
            <a:ext cx="3852720" cy="1190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1" lang="en-US" sz="3600" spc="-1" strike="noStrike">
                <a:solidFill>
                  <a:srgbClr val="ffffff"/>
                </a:solidFill>
                <a:latin typeface="Times New Roman"/>
                <a:ea typeface="Times New Roman"/>
              </a:rPr>
              <a:t>Applications</a:t>
            </a:r>
            <a:endParaRPr b="0" lang="en-US" sz="3600" spc="-1" strike="noStrike">
              <a:solidFill>
                <a:srgbClr val="000000"/>
              </a:solidFill>
              <a:latin typeface="Arial"/>
            </a:endParaRPr>
          </a:p>
        </p:txBody>
      </p:sp>
      <p:sp>
        <p:nvSpPr>
          <p:cNvPr id="626" name=""/>
          <p:cNvSpPr txBox="1"/>
          <p:nvPr/>
        </p:nvSpPr>
        <p:spPr>
          <a:xfrm>
            <a:off x="2308320" y="4676760"/>
            <a:ext cx="6508800" cy="1189080"/>
          </a:xfrm>
          <a:prstGeom prst="rect">
            <a:avLst/>
          </a:prstGeom>
          <a:noFill/>
          <a:ln w="0">
            <a:noFill/>
          </a:ln>
        </p:spPr>
        <p:txBody>
          <a:bodyPr lIns="0" rIns="0" tIns="0" bIns="0" anchor="t">
            <a:noAutofit/>
          </a:bodyPr>
          <a:p>
            <a:pPr algn="ctr">
              <a:lnSpc>
                <a:spcPct val="100000"/>
              </a:lnSpc>
            </a:pPr>
            <a:r>
              <a:rPr b="1" lang="en-US" sz="7200" spc="-1" strike="noStrike">
                <a:solidFill>
                  <a:srgbClr val="ffffff"/>
                </a:solidFill>
                <a:latin typeface="Times New Roman"/>
                <a:ea typeface="Times New Roman"/>
              </a:rPr>
              <a:t>Implied Datum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Rotational Orientation</a:t>
            </a:r>
            <a:endParaRPr b="0" lang="en-US" sz="3600" spc="-1" strike="noStrike">
              <a:solidFill>
                <a:srgbClr val="000000"/>
              </a:solidFill>
              <a:latin typeface="Arial"/>
            </a:endParaRPr>
          </a:p>
        </p:txBody>
      </p:sp>
      <p:sp>
        <p:nvSpPr>
          <p:cNvPr id="3751" name=""/>
          <p:cNvSpPr txBox="1"/>
          <p:nvPr/>
        </p:nvSpPr>
        <p:spPr>
          <a:xfrm>
            <a:off x="457200" y="1981080"/>
            <a:ext cx="83059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otational orientation of two planes about an axis, in a cylindrical datum reference frame, can be established by referencing a third or tertiary datum feature in the feature control fr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tertiary datum is a datum axis or center plane aligned with the primary datum axis and one of the two reference pla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53" name=""/>
          <p:cNvGrpSpPr/>
          <p:nvPr/>
        </p:nvGrpSpPr>
        <p:grpSpPr>
          <a:xfrm>
            <a:off x="7172280" y="509760"/>
            <a:ext cx="1498680" cy="3998880"/>
            <a:chOff x="7172280" y="509760"/>
            <a:chExt cx="1498680" cy="3998880"/>
          </a:xfrm>
        </p:grpSpPr>
        <p:sp>
          <p:nvSpPr>
            <p:cNvPr id="3754" name=""/>
            <p:cNvSpPr/>
            <p:nvPr/>
          </p:nvSpPr>
          <p:spPr>
            <a:xfrm>
              <a:off x="7921800" y="1444680"/>
              <a:ext cx="571680" cy="306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55" name=""/>
            <p:cNvGrpSpPr/>
            <p:nvPr/>
          </p:nvGrpSpPr>
          <p:grpSpPr>
            <a:xfrm>
              <a:off x="7340760" y="2952720"/>
              <a:ext cx="1311120" cy="0"/>
              <a:chOff x="7340760" y="2952720"/>
              <a:chExt cx="1311120" cy="0"/>
            </a:xfrm>
          </p:grpSpPr>
          <p:sp>
            <p:nvSpPr>
              <p:cNvPr id="3756" name=""/>
              <p:cNvSpPr/>
              <p:nvPr/>
            </p:nvSpPr>
            <p:spPr>
              <a:xfrm>
                <a:off x="7340760" y="2952720"/>
                <a:ext cx="73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7" name=""/>
              <p:cNvSpPr/>
              <p:nvPr/>
            </p:nvSpPr>
            <p:spPr>
              <a:xfrm>
                <a:off x="8175600" y="2952720"/>
                <a:ext cx="79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8" name=""/>
              <p:cNvSpPr/>
              <p:nvPr/>
            </p:nvSpPr>
            <p:spPr>
              <a:xfrm>
                <a:off x="8334360" y="295272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59" name=""/>
            <p:cNvGrpSpPr/>
            <p:nvPr/>
          </p:nvGrpSpPr>
          <p:grpSpPr>
            <a:xfrm>
              <a:off x="7693200" y="1882800"/>
              <a:ext cx="952200" cy="0"/>
              <a:chOff x="7693200" y="1882800"/>
              <a:chExt cx="952200" cy="0"/>
            </a:xfrm>
          </p:grpSpPr>
          <p:sp>
            <p:nvSpPr>
              <p:cNvPr id="3760" name=""/>
              <p:cNvSpPr/>
              <p:nvPr/>
            </p:nvSpPr>
            <p:spPr>
              <a:xfrm>
                <a:off x="7693200" y="1882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1" name=""/>
              <p:cNvSpPr/>
              <p:nvPr/>
            </p:nvSpPr>
            <p:spPr>
              <a:xfrm>
                <a:off x="8169120" y="1882800"/>
                <a:ext cx="79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2" name=""/>
              <p:cNvSpPr/>
              <p:nvPr/>
            </p:nvSpPr>
            <p:spPr>
              <a:xfrm>
                <a:off x="8327880" y="188280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63" name=""/>
            <p:cNvGrpSpPr/>
            <p:nvPr/>
          </p:nvGrpSpPr>
          <p:grpSpPr>
            <a:xfrm>
              <a:off x="7718400" y="4083120"/>
              <a:ext cx="952560" cy="0"/>
              <a:chOff x="7718400" y="4083120"/>
              <a:chExt cx="952560" cy="0"/>
            </a:xfrm>
          </p:grpSpPr>
          <p:sp>
            <p:nvSpPr>
              <p:cNvPr id="3764" name=""/>
              <p:cNvSpPr/>
              <p:nvPr/>
            </p:nvSpPr>
            <p:spPr>
              <a:xfrm>
                <a:off x="7718400" y="408312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5" name=""/>
              <p:cNvSpPr/>
              <p:nvPr/>
            </p:nvSpPr>
            <p:spPr>
              <a:xfrm>
                <a:off x="8194680" y="408312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6" name=""/>
              <p:cNvSpPr/>
              <p:nvPr/>
            </p:nvSpPr>
            <p:spPr>
              <a:xfrm>
                <a:off x="8353440" y="408312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67" name=""/>
            <p:cNvSpPr/>
            <p:nvPr/>
          </p:nvSpPr>
          <p:spPr>
            <a:xfrm flipV="1">
              <a:off x="7924680" y="546120"/>
              <a:ext cx="0" cy="78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8" name=""/>
            <p:cNvSpPr/>
            <p:nvPr/>
          </p:nvSpPr>
          <p:spPr>
            <a:xfrm>
              <a:off x="7188120" y="517680"/>
              <a:ext cx="30492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9" name=""/>
            <p:cNvSpPr/>
            <p:nvPr/>
          </p:nvSpPr>
          <p:spPr>
            <a:xfrm>
              <a:off x="7493040" y="679320"/>
              <a:ext cx="27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0" name=""/>
            <p:cNvSpPr/>
            <p:nvPr/>
          </p:nvSpPr>
          <p:spPr>
            <a:xfrm>
              <a:off x="7759800" y="596880"/>
              <a:ext cx="165600" cy="165600"/>
            </a:xfrm>
            <a:custGeom>
              <a:avLst/>
              <a:gdLst/>
              <a:ahLst/>
              <a:rect l="0" t="0" r="r" b="b"/>
              <a:pathLst>
                <a:path fill="none" w="460" h="460">
                  <a:moveTo>
                    <a:pt x="460" y="460"/>
                  </a:moveTo>
                  <a:lnTo>
                    <a:pt x="460" y="0"/>
                  </a:lnTo>
                  <a:lnTo>
                    <a:pt x="0" y="230"/>
                  </a:lnTo>
                  <a:lnTo>
                    <a:pt x="46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1" name=""/>
            <p:cNvSpPr txBox="1"/>
            <p:nvPr/>
          </p:nvSpPr>
          <p:spPr>
            <a:xfrm>
              <a:off x="7172280" y="5097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772" name=""/>
            <p:cNvSpPr/>
            <p:nvPr/>
          </p:nvSpPr>
          <p:spPr>
            <a:xfrm>
              <a:off x="7632720" y="251928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3" name=""/>
            <p:cNvSpPr/>
            <p:nvPr/>
          </p:nvSpPr>
          <p:spPr>
            <a:xfrm>
              <a:off x="7632720" y="341136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4" name=""/>
            <p:cNvSpPr/>
            <p:nvPr/>
          </p:nvSpPr>
          <p:spPr>
            <a:xfrm>
              <a:off x="7540560" y="2611440"/>
              <a:ext cx="0" cy="70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5" name=""/>
            <p:cNvSpPr/>
            <p:nvPr/>
          </p:nvSpPr>
          <p:spPr>
            <a:xfrm>
              <a:off x="7632720" y="2519280"/>
              <a:ext cx="0" cy="892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6" name=""/>
            <p:cNvSpPr/>
            <p:nvPr/>
          </p:nvSpPr>
          <p:spPr>
            <a:xfrm flipH="1">
              <a:off x="7543800" y="2514600"/>
              <a:ext cx="8892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777" name=""/>
            <p:cNvSpPr/>
            <p:nvPr/>
          </p:nvSpPr>
          <p:spPr>
            <a:xfrm flipH="1" flipV="1">
              <a:off x="7543800" y="3321000"/>
              <a:ext cx="8244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3778" name=""/>
            <p:cNvSpPr/>
            <p:nvPr/>
          </p:nvSpPr>
          <p:spPr>
            <a:xfrm>
              <a:off x="7931160" y="2616120"/>
              <a:ext cx="55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9" name=""/>
            <p:cNvSpPr/>
            <p:nvPr/>
          </p:nvSpPr>
          <p:spPr>
            <a:xfrm>
              <a:off x="7937640" y="3327480"/>
              <a:ext cx="552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80" name=""/>
          <p:cNvSpPr/>
          <p:nvPr/>
        </p:nvSpPr>
        <p:spPr>
          <a:xfrm>
            <a:off x="1730520" y="1446120"/>
            <a:ext cx="3222720" cy="3189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1" name=""/>
          <p:cNvSpPr/>
          <p:nvPr/>
        </p:nvSpPr>
        <p:spPr>
          <a:xfrm>
            <a:off x="2057400" y="2867040"/>
            <a:ext cx="317520" cy="338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2" name=""/>
          <p:cNvSpPr/>
          <p:nvPr/>
        </p:nvSpPr>
        <p:spPr>
          <a:xfrm>
            <a:off x="3159000" y="3987720"/>
            <a:ext cx="355680" cy="338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3" name=""/>
          <p:cNvSpPr/>
          <p:nvPr/>
        </p:nvSpPr>
        <p:spPr>
          <a:xfrm>
            <a:off x="920880" y="3032280"/>
            <a:ext cx="225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4" name=""/>
          <p:cNvSpPr/>
          <p:nvPr/>
        </p:nvSpPr>
        <p:spPr>
          <a:xfrm>
            <a:off x="3286080" y="3032280"/>
            <a:ext cx="111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5" name=""/>
          <p:cNvSpPr/>
          <p:nvPr/>
        </p:nvSpPr>
        <p:spPr>
          <a:xfrm>
            <a:off x="3333600" y="571680"/>
            <a:ext cx="0" cy="230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6" name=""/>
          <p:cNvSpPr/>
          <p:nvPr/>
        </p:nvSpPr>
        <p:spPr>
          <a:xfrm>
            <a:off x="3333600" y="298440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3787" name=""/>
          <p:cNvSpPr/>
          <p:nvPr/>
        </p:nvSpPr>
        <p:spPr>
          <a:xfrm>
            <a:off x="3333600" y="3174840"/>
            <a:ext cx="0" cy="170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8" name=""/>
          <p:cNvSpPr/>
          <p:nvPr/>
        </p:nvSpPr>
        <p:spPr>
          <a:xfrm>
            <a:off x="3171960" y="1774800"/>
            <a:ext cx="317520" cy="338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89" name=""/>
          <p:cNvSpPr/>
          <p:nvPr/>
        </p:nvSpPr>
        <p:spPr>
          <a:xfrm flipH="1">
            <a:off x="3429000" y="19209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0" name=""/>
          <p:cNvSpPr/>
          <p:nvPr/>
        </p:nvSpPr>
        <p:spPr>
          <a:xfrm flipH="1">
            <a:off x="3301920" y="192096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1" name=""/>
          <p:cNvSpPr/>
          <p:nvPr/>
        </p:nvSpPr>
        <p:spPr>
          <a:xfrm flipH="1">
            <a:off x="905040" y="1920960"/>
            <a:ext cx="23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92" name=""/>
          <p:cNvGrpSpPr/>
          <p:nvPr/>
        </p:nvGrpSpPr>
        <p:grpSpPr>
          <a:xfrm>
            <a:off x="882720" y="4168800"/>
            <a:ext cx="2666880" cy="0"/>
            <a:chOff x="882720" y="4168800"/>
            <a:chExt cx="2666880" cy="0"/>
          </a:xfrm>
        </p:grpSpPr>
        <p:sp>
          <p:nvSpPr>
            <p:cNvPr id="3793" name=""/>
            <p:cNvSpPr/>
            <p:nvPr/>
          </p:nvSpPr>
          <p:spPr>
            <a:xfrm flipH="1">
              <a:off x="3422520" y="41688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4" name=""/>
            <p:cNvSpPr/>
            <p:nvPr/>
          </p:nvSpPr>
          <p:spPr>
            <a:xfrm flipH="1">
              <a:off x="3295800" y="41688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5" name=""/>
            <p:cNvSpPr/>
            <p:nvPr/>
          </p:nvSpPr>
          <p:spPr>
            <a:xfrm flipH="1">
              <a:off x="882720" y="4168800"/>
              <a:ext cx="23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96" name=""/>
          <p:cNvGrpSpPr/>
          <p:nvPr/>
        </p:nvGrpSpPr>
        <p:grpSpPr>
          <a:xfrm>
            <a:off x="2225520" y="585720"/>
            <a:ext cx="0" cy="2838600"/>
            <a:chOff x="2225520" y="585720"/>
            <a:chExt cx="0" cy="2838600"/>
          </a:xfrm>
        </p:grpSpPr>
        <p:sp>
          <p:nvSpPr>
            <p:cNvPr id="3797" name=""/>
            <p:cNvSpPr/>
            <p:nvPr/>
          </p:nvSpPr>
          <p:spPr>
            <a:xfrm flipV="1">
              <a:off x="2225520" y="3289320"/>
              <a:ext cx="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8" name=""/>
            <p:cNvSpPr/>
            <p:nvPr/>
          </p:nvSpPr>
          <p:spPr>
            <a:xfrm flipV="1">
              <a:off x="2225520" y="3154320"/>
              <a:ext cx="0" cy="66600"/>
            </a:xfrm>
            <a:prstGeom prst="line">
              <a:avLst/>
            </a:prstGeom>
            <a:ln w="12600">
              <a:solidFill>
                <a:srgbClr val="ffffff"/>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3799" name=""/>
            <p:cNvSpPr/>
            <p:nvPr/>
          </p:nvSpPr>
          <p:spPr>
            <a:xfrm flipV="1">
              <a:off x="2225520" y="585720"/>
              <a:ext cx="0" cy="246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00" name=""/>
          <p:cNvSpPr/>
          <p:nvPr/>
        </p:nvSpPr>
        <p:spPr>
          <a:xfrm flipH="1">
            <a:off x="2698920" y="4286160"/>
            <a:ext cx="555480" cy="1231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1" name=""/>
          <p:cNvSpPr/>
          <p:nvPr/>
        </p:nvSpPr>
        <p:spPr>
          <a:xfrm>
            <a:off x="2698920" y="5524560"/>
            <a:ext cx="2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2" name=""/>
          <p:cNvSpPr/>
          <p:nvPr/>
        </p:nvSpPr>
        <p:spPr>
          <a:xfrm>
            <a:off x="2892600" y="5345280"/>
            <a:ext cx="311040" cy="4222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3" name=""/>
          <p:cNvSpPr txBox="1"/>
          <p:nvPr/>
        </p:nvSpPr>
        <p:spPr>
          <a:xfrm>
            <a:off x="2955960" y="5389560"/>
            <a:ext cx="1414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X      8.4 - 8.6</a:t>
            </a:r>
            <a:endParaRPr b="0" lang="en-US" sz="1600" spc="-1" strike="noStrike">
              <a:solidFill>
                <a:srgbClr val="000000"/>
              </a:solidFill>
              <a:latin typeface="Arial"/>
            </a:endParaRPr>
          </a:p>
        </p:txBody>
      </p:sp>
      <p:grpSp>
        <p:nvGrpSpPr>
          <p:cNvPr id="3804" name=""/>
          <p:cNvGrpSpPr/>
          <p:nvPr/>
        </p:nvGrpSpPr>
        <p:grpSpPr>
          <a:xfrm>
            <a:off x="3301920" y="5492880"/>
            <a:ext cx="142920" cy="152280"/>
            <a:chOff x="3301920" y="5492880"/>
            <a:chExt cx="142920" cy="152280"/>
          </a:xfrm>
        </p:grpSpPr>
        <p:sp>
          <p:nvSpPr>
            <p:cNvPr id="3805" name=""/>
            <p:cNvSpPr/>
            <p:nvPr/>
          </p:nvSpPr>
          <p:spPr>
            <a:xfrm>
              <a:off x="3317760" y="5510160"/>
              <a:ext cx="11124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06" name=""/>
            <p:cNvSpPr/>
            <p:nvPr/>
          </p:nvSpPr>
          <p:spPr>
            <a:xfrm flipH="1">
              <a:off x="3301920" y="5492880"/>
              <a:ext cx="142920" cy="15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07" name=""/>
          <p:cNvSpPr/>
          <p:nvPr/>
        </p:nvSpPr>
        <p:spPr>
          <a:xfrm>
            <a:off x="2222640" y="714240"/>
            <a:ext cx="11109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8" name=""/>
          <p:cNvSpPr/>
          <p:nvPr/>
        </p:nvSpPr>
        <p:spPr>
          <a:xfrm flipH="1">
            <a:off x="2048040" y="7142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9" name=""/>
          <p:cNvSpPr/>
          <p:nvPr/>
        </p:nvSpPr>
        <p:spPr>
          <a:xfrm>
            <a:off x="1555920" y="571680"/>
            <a:ext cx="492120" cy="30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0" name=""/>
          <p:cNvSpPr txBox="1"/>
          <p:nvPr/>
        </p:nvSpPr>
        <p:spPr>
          <a:xfrm>
            <a:off x="1673280" y="58896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8</a:t>
            </a:r>
            <a:endParaRPr b="0" lang="en-US" sz="1600" spc="-1" strike="noStrike">
              <a:solidFill>
                <a:srgbClr val="000000"/>
              </a:solidFill>
              <a:latin typeface="Arial"/>
            </a:endParaRPr>
          </a:p>
        </p:txBody>
      </p:sp>
      <p:sp>
        <p:nvSpPr>
          <p:cNvPr id="3811" name=""/>
          <p:cNvSpPr/>
          <p:nvPr/>
        </p:nvSpPr>
        <p:spPr>
          <a:xfrm>
            <a:off x="1111320" y="1447920"/>
            <a:ext cx="0" cy="49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2" name=""/>
          <p:cNvSpPr/>
          <p:nvPr/>
        </p:nvSpPr>
        <p:spPr>
          <a:xfrm>
            <a:off x="1111320" y="1917720"/>
            <a:ext cx="0" cy="1174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3" name=""/>
          <p:cNvSpPr/>
          <p:nvPr/>
        </p:nvSpPr>
        <p:spPr>
          <a:xfrm>
            <a:off x="1111320" y="3029040"/>
            <a:ext cx="0" cy="117468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4" name=""/>
          <p:cNvSpPr/>
          <p:nvPr/>
        </p:nvSpPr>
        <p:spPr>
          <a:xfrm>
            <a:off x="1111320" y="4140360"/>
            <a:ext cx="0" cy="458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5" name=""/>
          <p:cNvSpPr/>
          <p:nvPr/>
        </p:nvSpPr>
        <p:spPr>
          <a:xfrm flipH="1">
            <a:off x="952560" y="14479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6" name=""/>
          <p:cNvSpPr/>
          <p:nvPr/>
        </p:nvSpPr>
        <p:spPr>
          <a:xfrm>
            <a:off x="457200" y="1327320"/>
            <a:ext cx="4888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7" name=""/>
          <p:cNvSpPr/>
          <p:nvPr/>
        </p:nvSpPr>
        <p:spPr>
          <a:xfrm flipH="1">
            <a:off x="984240" y="460368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8" name=""/>
          <p:cNvSpPr/>
          <p:nvPr/>
        </p:nvSpPr>
        <p:spPr>
          <a:xfrm>
            <a:off x="520560" y="4476600"/>
            <a:ext cx="457200" cy="257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9" name=""/>
          <p:cNvSpPr/>
          <p:nvPr/>
        </p:nvSpPr>
        <p:spPr>
          <a:xfrm>
            <a:off x="4863960" y="2679840"/>
            <a:ext cx="171360" cy="7351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0" name=""/>
          <p:cNvSpPr txBox="1"/>
          <p:nvPr/>
        </p:nvSpPr>
        <p:spPr>
          <a:xfrm>
            <a:off x="574560" y="44370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8</a:t>
            </a:r>
            <a:endParaRPr b="0" lang="en-US" sz="1600" spc="-1" strike="noStrike">
              <a:solidFill>
                <a:srgbClr val="000000"/>
              </a:solidFill>
              <a:latin typeface="Arial"/>
            </a:endParaRPr>
          </a:p>
        </p:txBody>
      </p:sp>
      <p:sp>
        <p:nvSpPr>
          <p:cNvPr id="3821" name=""/>
          <p:cNvSpPr txBox="1"/>
          <p:nvPr/>
        </p:nvSpPr>
        <p:spPr>
          <a:xfrm>
            <a:off x="530280" y="132552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8</a:t>
            </a:r>
            <a:endParaRPr b="0" lang="en-US" sz="1600" spc="-1" strike="noStrike">
              <a:solidFill>
                <a:srgbClr val="000000"/>
              </a:solidFill>
              <a:latin typeface="Arial"/>
            </a:endParaRPr>
          </a:p>
        </p:txBody>
      </p:sp>
      <p:sp>
        <p:nvSpPr>
          <p:cNvPr id="3822" name=""/>
          <p:cNvSpPr/>
          <p:nvPr/>
        </p:nvSpPr>
        <p:spPr>
          <a:xfrm>
            <a:off x="3508200" y="3032280"/>
            <a:ext cx="152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3" name=""/>
          <p:cNvSpPr/>
          <p:nvPr/>
        </p:nvSpPr>
        <p:spPr>
          <a:xfrm>
            <a:off x="2873520" y="2571840"/>
            <a:ext cx="957240" cy="957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4" name=""/>
          <p:cNvSpPr/>
          <p:nvPr/>
        </p:nvSpPr>
        <p:spPr>
          <a:xfrm>
            <a:off x="2952720" y="2657520"/>
            <a:ext cx="793800" cy="7873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5" name=""/>
          <p:cNvSpPr/>
          <p:nvPr/>
        </p:nvSpPr>
        <p:spPr>
          <a:xfrm>
            <a:off x="4597560" y="267336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6" name=""/>
          <p:cNvSpPr/>
          <p:nvPr/>
        </p:nvSpPr>
        <p:spPr>
          <a:xfrm>
            <a:off x="4597560" y="2673360"/>
            <a:ext cx="298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7" name=""/>
          <p:cNvSpPr/>
          <p:nvPr/>
        </p:nvSpPr>
        <p:spPr>
          <a:xfrm>
            <a:off x="4597560" y="3432240"/>
            <a:ext cx="30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28" name=""/>
          <p:cNvGrpSpPr/>
          <p:nvPr/>
        </p:nvGrpSpPr>
        <p:grpSpPr>
          <a:xfrm>
            <a:off x="2968560" y="5732640"/>
            <a:ext cx="3222720" cy="358560"/>
            <a:chOff x="2968560" y="5732640"/>
            <a:chExt cx="3222720" cy="358560"/>
          </a:xfrm>
        </p:grpSpPr>
        <p:sp>
          <p:nvSpPr>
            <p:cNvPr id="3829" name=""/>
            <p:cNvSpPr/>
            <p:nvPr/>
          </p:nvSpPr>
          <p:spPr>
            <a:xfrm>
              <a:off x="2968560" y="5762520"/>
              <a:ext cx="3222720" cy="320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0" name=""/>
            <p:cNvSpPr/>
            <p:nvPr/>
          </p:nvSpPr>
          <p:spPr>
            <a:xfrm>
              <a:off x="3368520" y="576900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1" name=""/>
            <p:cNvSpPr/>
            <p:nvPr/>
          </p:nvSpPr>
          <p:spPr>
            <a:xfrm>
              <a:off x="4505400" y="576900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2" name=""/>
            <p:cNvSpPr/>
            <p:nvPr/>
          </p:nvSpPr>
          <p:spPr>
            <a:xfrm>
              <a:off x="4861080" y="576900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33" name=""/>
            <p:cNvGrpSpPr/>
            <p:nvPr/>
          </p:nvGrpSpPr>
          <p:grpSpPr>
            <a:xfrm>
              <a:off x="3041640" y="5797440"/>
              <a:ext cx="247680" cy="263520"/>
              <a:chOff x="3041640" y="5797440"/>
              <a:chExt cx="247680" cy="263520"/>
            </a:xfrm>
          </p:grpSpPr>
          <p:sp>
            <p:nvSpPr>
              <p:cNvPr id="3834" name=""/>
              <p:cNvSpPr/>
              <p:nvPr/>
            </p:nvSpPr>
            <p:spPr>
              <a:xfrm>
                <a:off x="3076560" y="5838840"/>
                <a:ext cx="17784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5" name=""/>
              <p:cNvSpPr/>
              <p:nvPr/>
            </p:nvSpPr>
            <p:spPr>
              <a:xfrm>
                <a:off x="3168720" y="57974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6" name=""/>
              <p:cNvSpPr/>
              <p:nvPr/>
            </p:nvSpPr>
            <p:spPr>
              <a:xfrm>
                <a:off x="3041640" y="593244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837" name=""/>
            <p:cNvGrpSpPr/>
            <p:nvPr/>
          </p:nvGrpSpPr>
          <p:grpSpPr>
            <a:xfrm>
              <a:off x="3436920" y="5819760"/>
              <a:ext cx="206280" cy="203040"/>
              <a:chOff x="3436920" y="5819760"/>
              <a:chExt cx="206280" cy="203040"/>
            </a:xfrm>
          </p:grpSpPr>
          <p:sp>
            <p:nvSpPr>
              <p:cNvPr id="3838" name=""/>
              <p:cNvSpPr/>
              <p:nvPr/>
            </p:nvSpPr>
            <p:spPr>
              <a:xfrm>
                <a:off x="3463920" y="5846760"/>
                <a:ext cx="15228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39" name=""/>
              <p:cNvSpPr/>
              <p:nvPr/>
            </p:nvSpPr>
            <p:spPr>
              <a:xfrm flipH="1">
                <a:off x="3436920" y="5819760"/>
                <a:ext cx="206280" cy="20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40" name=""/>
            <p:cNvSpPr txBox="1"/>
            <p:nvPr/>
          </p:nvSpPr>
          <p:spPr>
            <a:xfrm>
              <a:off x="3657600" y="5748480"/>
              <a:ext cx="782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841" name=""/>
            <p:cNvSpPr/>
            <p:nvPr/>
          </p:nvSpPr>
          <p:spPr>
            <a:xfrm>
              <a:off x="4122720" y="5794200"/>
              <a:ext cx="26352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2" name=""/>
            <p:cNvSpPr txBox="1"/>
            <p:nvPr/>
          </p:nvSpPr>
          <p:spPr>
            <a:xfrm>
              <a:off x="4546440" y="57420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843" name=""/>
            <p:cNvSpPr txBox="1"/>
            <p:nvPr/>
          </p:nvSpPr>
          <p:spPr>
            <a:xfrm>
              <a:off x="4889520" y="573552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3844" name=""/>
            <p:cNvSpPr/>
            <p:nvPr/>
          </p:nvSpPr>
          <p:spPr>
            <a:xfrm>
              <a:off x="5200560" y="5794200"/>
              <a:ext cx="26676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5" name=""/>
            <p:cNvSpPr txBox="1"/>
            <p:nvPr/>
          </p:nvSpPr>
          <p:spPr>
            <a:xfrm>
              <a:off x="5143320" y="5748480"/>
              <a:ext cx="376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3846" name=""/>
            <p:cNvSpPr/>
            <p:nvPr/>
          </p:nvSpPr>
          <p:spPr>
            <a:xfrm>
              <a:off x="5842080" y="5803920"/>
              <a:ext cx="27288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7" name=""/>
            <p:cNvSpPr/>
            <p:nvPr/>
          </p:nvSpPr>
          <p:spPr>
            <a:xfrm>
              <a:off x="5556240" y="576252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8" name=""/>
            <p:cNvSpPr txBox="1"/>
            <p:nvPr/>
          </p:nvSpPr>
          <p:spPr>
            <a:xfrm>
              <a:off x="5527800" y="5732640"/>
              <a:ext cx="349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849" name=""/>
            <p:cNvSpPr txBox="1"/>
            <p:nvPr/>
          </p:nvSpPr>
          <p:spPr>
            <a:xfrm>
              <a:off x="5791320" y="5754600"/>
              <a:ext cx="376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3850" name=""/>
          <p:cNvSpPr/>
          <p:nvPr/>
        </p:nvSpPr>
        <p:spPr>
          <a:xfrm>
            <a:off x="5032440" y="2666880"/>
            <a:ext cx="53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1" name=""/>
          <p:cNvSpPr/>
          <p:nvPr/>
        </p:nvSpPr>
        <p:spPr>
          <a:xfrm>
            <a:off x="5048280" y="3429000"/>
            <a:ext cx="53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2" name=""/>
          <p:cNvSpPr/>
          <p:nvPr/>
        </p:nvSpPr>
        <p:spPr>
          <a:xfrm flipV="1">
            <a:off x="5477040" y="2301840"/>
            <a:ext cx="0" cy="36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3" name=""/>
          <p:cNvSpPr/>
          <p:nvPr/>
        </p:nvSpPr>
        <p:spPr>
          <a:xfrm>
            <a:off x="5477040" y="3444840"/>
            <a:ext cx="0" cy="444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4" name=""/>
          <p:cNvSpPr/>
          <p:nvPr/>
        </p:nvSpPr>
        <p:spPr>
          <a:xfrm>
            <a:off x="5477040" y="38894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5" name=""/>
          <p:cNvSpPr txBox="1"/>
          <p:nvPr/>
        </p:nvSpPr>
        <p:spPr>
          <a:xfrm>
            <a:off x="5654520" y="3595680"/>
            <a:ext cx="38736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11</a:t>
            </a:r>
            <a:endParaRPr b="0" lang="en-US" sz="1600" spc="-1" strike="noStrike">
              <a:solidFill>
                <a:srgbClr val="000000"/>
              </a:solidFill>
              <a:latin typeface="Arial"/>
            </a:endParaRPr>
          </a:p>
        </p:txBody>
      </p:sp>
      <p:sp>
        <p:nvSpPr>
          <p:cNvPr id="3856" name=""/>
          <p:cNvSpPr/>
          <p:nvPr/>
        </p:nvSpPr>
        <p:spPr>
          <a:xfrm>
            <a:off x="5153040" y="4216320"/>
            <a:ext cx="2292480" cy="320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7" name=""/>
          <p:cNvSpPr/>
          <p:nvPr/>
        </p:nvSpPr>
        <p:spPr>
          <a:xfrm>
            <a:off x="5553000" y="422280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8" name=""/>
          <p:cNvSpPr/>
          <p:nvPr/>
        </p:nvSpPr>
        <p:spPr>
          <a:xfrm>
            <a:off x="6372360" y="422280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9" name=""/>
          <p:cNvSpPr/>
          <p:nvPr/>
        </p:nvSpPr>
        <p:spPr>
          <a:xfrm>
            <a:off x="6696000" y="422280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860" name=""/>
          <p:cNvGrpSpPr/>
          <p:nvPr/>
        </p:nvGrpSpPr>
        <p:grpSpPr>
          <a:xfrm>
            <a:off x="5226120" y="4251240"/>
            <a:ext cx="247680" cy="263520"/>
            <a:chOff x="5226120" y="4251240"/>
            <a:chExt cx="247680" cy="263520"/>
          </a:xfrm>
        </p:grpSpPr>
        <p:sp>
          <p:nvSpPr>
            <p:cNvPr id="3861" name=""/>
            <p:cNvSpPr/>
            <p:nvPr/>
          </p:nvSpPr>
          <p:spPr>
            <a:xfrm>
              <a:off x="5261040" y="4292640"/>
              <a:ext cx="17784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2" name=""/>
            <p:cNvSpPr/>
            <p:nvPr/>
          </p:nvSpPr>
          <p:spPr>
            <a:xfrm>
              <a:off x="5353200" y="425124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3" name=""/>
            <p:cNvSpPr/>
            <p:nvPr/>
          </p:nvSpPr>
          <p:spPr>
            <a:xfrm>
              <a:off x="5226120" y="438624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64" name=""/>
          <p:cNvSpPr txBox="1"/>
          <p:nvPr/>
        </p:nvSpPr>
        <p:spPr>
          <a:xfrm>
            <a:off x="5540400" y="4202280"/>
            <a:ext cx="782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865" name=""/>
          <p:cNvSpPr/>
          <p:nvPr/>
        </p:nvSpPr>
        <p:spPr>
          <a:xfrm>
            <a:off x="6005520" y="4248000"/>
            <a:ext cx="26352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6" name=""/>
          <p:cNvSpPr txBox="1"/>
          <p:nvPr/>
        </p:nvSpPr>
        <p:spPr>
          <a:xfrm>
            <a:off x="6365880" y="4195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867" name=""/>
          <p:cNvSpPr txBox="1"/>
          <p:nvPr/>
        </p:nvSpPr>
        <p:spPr>
          <a:xfrm>
            <a:off x="6708600" y="418932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3868" name=""/>
          <p:cNvSpPr/>
          <p:nvPr/>
        </p:nvSpPr>
        <p:spPr>
          <a:xfrm>
            <a:off x="7083360" y="4248000"/>
            <a:ext cx="26676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9" name=""/>
          <p:cNvSpPr txBox="1"/>
          <p:nvPr/>
        </p:nvSpPr>
        <p:spPr>
          <a:xfrm>
            <a:off x="7010280" y="4202280"/>
            <a:ext cx="376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3870" name=""/>
          <p:cNvSpPr/>
          <p:nvPr/>
        </p:nvSpPr>
        <p:spPr>
          <a:xfrm flipV="1">
            <a:off x="3587760" y="619200"/>
            <a:ext cx="873000" cy="2000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1" name=""/>
          <p:cNvSpPr/>
          <p:nvPr/>
        </p:nvSpPr>
        <p:spPr>
          <a:xfrm>
            <a:off x="4460760" y="619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2" name=""/>
          <p:cNvSpPr txBox="1"/>
          <p:nvPr/>
        </p:nvSpPr>
        <p:spPr>
          <a:xfrm>
            <a:off x="4940280" y="30492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6.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16.4</a:t>
            </a:r>
            <a:endParaRPr b="0" lang="en-US" sz="1600" spc="-1" strike="noStrike">
              <a:solidFill>
                <a:srgbClr val="000000"/>
              </a:solidFill>
              <a:latin typeface="Arial"/>
            </a:endParaRPr>
          </a:p>
        </p:txBody>
      </p:sp>
      <p:grpSp>
        <p:nvGrpSpPr>
          <p:cNvPr id="3873" name=""/>
          <p:cNvGrpSpPr/>
          <p:nvPr/>
        </p:nvGrpSpPr>
        <p:grpSpPr>
          <a:xfrm>
            <a:off x="4764240" y="495360"/>
            <a:ext cx="206280" cy="203040"/>
            <a:chOff x="4764240" y="495360"/>
            <a:chExt cx="206280" cy="203040"/>
          </a:xfrm>
        </p:grpSpPr>
        <p:sp>
          <p:nvSpPr>
            <p:cNvPr id="3874" name=""/>
            <p:cNvSpPr/>
            <p:nvPr/>
          </p:nvSpPr>
          <p:spPr>
            <a:xfrm>
              <a:off x="4791240" y="522360"/>
              <a:ext cx="15228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5" name=""/>
            <p:cNvSpPr/>
            <p:nvPr/>
          </p:nvSpPr>
          <p:spPr>
            <a:xfrm flipH="1">
              <a:off x="4764240" y="495360"/>
              <a:ext cx="206280" cy="20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76" name=""/>
          <p:cNvSpPr/>
          <p:nvPr/>
        </p:nvSpPr>
        <p:spPr>
          <a:xfrm>
            <a:off x="4714920" y="920880"/>
            <a:ext cx="165096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7" name=""/>
          <p:cNvSpPr/>
          <p:nvPr/>
        </p:nvSpPr>
        <p:spPr>
          <a:xfrm>
            <a:off x="4905360" y="98424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8" name=""/>
          <p:cNvSpPr/>
          <p:nvPr/>
        </p:nvSpPr>
        <p:spPr>
          <a:xfrm>
            <a:off x="4809960" y="114300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9" name=""/>
          <p:cNvSpPr/>
          <p:nvPr/>
        </p:nvSpPr>
        <p:spPr>
          <a:xfrm>
            <a:off x="5095800" y="936720"/>
            <a:ext cx="0" cy="26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0" name=""/>
          <p:cNvSpPr/>
          <p:nvPr/>
        </p:nvSpPr>
        <p:spPr>
          <a:xfrm>
            <a:off x="6095880" y="936720"/>
            <a:ext cx="0" cy="26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1" name=""/>
          <p:cNvSpPr txBox="1"/>
          <p:nvPr/>
        </p:nvSpPr>
        <p:spPr>
          <a:xfrm>
            <a:off x="5321160" y="930240"/>
            <a:ext cx="10699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   M   A</a:t>
            </a:r>
            <a:endParaRPr b="0" lang="en-US" sz="1600" spc="-1" strike="noStrike">
              <a:solidFill>
                <a:srgbClr val="000000"/>
              </a:solidFill>
              <a:latin typeface="Arial"/>
            </a:endParaRPr>
          </a:p>
        </p:txBody>
      </p:sp>
      <p:grpSp>
        <p:nvGrpSpPr>
          <p:cNvPr id="3882" name=""/>
          <p:cNvGrpSpPr/>
          <p:nvPr/>
        </p:nvGrpSpPr>
        <p:grpSpPr>
          <a:xfrm>
            <a:off x="5138640" y="981000"/>
            <a:ext cx="206640" cy="203400"/>
            <a:chOff x="5138640" y="981000"/>
            <a:chExt cx="206640" cy="203400"/>
          </a:xfrm>
        </p:grpSpPr>
        <p:sp>
          <p:nvSpPr>
            <p:cNvPr id="3883" name=""/>
            <p:cNvSpPr/>
            <p:nvPr/>
          </p:nvSpPr>
          <p:spPr>
            <a:xfrm>
              <a:off x="5165640" y="1008000"/>
              <a:ext cx="15228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84" name=""/>
            <p:cNvSpPr/>
            <p:nvPr/>
          </p:nvSpPr>
          <p:spPr>
            <a:xfrm flipH="1">
              <a:off x="5138640" y="981000"/>
              <a:ext cx="206640" cy="203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885" name=""/>
          <p:cNvSpPr/>
          <p:nvPr/>
        </p:nvSpPr>
        <p:spPr>
          <a:xfrm>
            <a:off x="5776920" y="939960"/>
            <a:ext cx="26352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886" name=""/>
          <p:cNvGrpSpPr/>
          <p:nvPr/>
        </p:nvGrpSpPr>
        <p:grpSpPr>
          <a:xfrm>
            <a:off x="5543640" y="1220760"/>
            <a:ext cx="318960" cy="776520"/>
            <a:chOff x="5543640" y="1220760"/>
            <a:chExt cx="318960" cy="776520"/>
          </a:xfrm>
        </p:grpSpPr>
        <p:sp>
          <p:nvSpPr>
            <p:cNvPr id="3887" name=""/>
            <p:cNvSpPr/>
            <p:nvPr/>
          </p:nvSpPr>
          <p:spPr>
            <a:xfrm>
              <a:off x="5553000" y="1652760"/>
              <a:ext cx="30492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88" name=""/>
            <p:cNvSpPr/>
            <p:nvPr/>
          </p:nvSpPr>
          <p:spPr>
            <a:xfrm flipV="1">
              <a:off x="5699160" y="1373040"/>
              <a:ext cx="0" cy="279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9" name=""/>
            <p:cNvSpPr/>
            <p:nvPr/>
          </p:nvSpPr>
          <p:spPr>
            <a:xfrm>
              <a:off x="5616720" y="1220760"/>
              <a:ext cx="165600" cy="165600"/>
            </a:xfrm>
            <a:custGeom>
              <a:avLst/>
              <a:gdLst/>
              <a:ahLst/>
              <a:rect l="0" t="0" r="r" b="b"/>
              <a:pathLst>
                <a:path fill="none" w="460" h="460">
                  <a:moveTo>
                    <a:pt x="460" y="0"/>
                  </a:moveTo>
                  <a:lnTo>
                    <a:pt x="0" y="0"/>
                  </a:lnTo>
                  <a:lnTo>
                    <a:pt x="230" y="460"/>
                  </a:lnTo>
                  <a:lnTo>
                    <a:pt x="46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0" name=""/>
            <p:cNvSpPr txBox="1"/>
            <p:nvPr/>
          </p:nvSpPr>
          <p:spPr>
            <a:xfrm>
              <a:off x="5543640" y="16606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grpSp>
      <p:grpSp>
        <p:nvGrpSpPr>
          <p:cNvPr id="3891" name=""/>
          <p:cNvGrpSpPr/>
          <p:nvPr/>
        </p:nvGrpSpPr>
        <p:grpSpPr>
          <a:xfrm>
            <a:off x="5797440" y="4533840"/>
            <a:ext cx="318960" cy="747720"/>
            <a:chOff x="5797440" y="4533840"/>
            <a:chExt cx="318960" cy="747720"/>
          </a:xfrm>
        </p:grpSpPr>
        <p:sp>
          <p:nvSpPr>
            <p:cNvPr id="3892" name=""/>
            <p:cNvSpPr/>
            <p:nvPr/>
          </p:nvSpPr>
          <p:spPr>
            <a:xfrm>
              <a:off x="5810400" y="4965840"/>
              <a:ext cx="30492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3" name=""/>
            <p:cNvSpPr/>
            <p:nvPr/>
          </p:nvSpPr>
          <p:spPr>
            <a:xfrm flipV="1">
              <a:off x="5962680" y="4686480"/>
              <a:ext cx="0" cy="27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4" name=""/>
            <p:cNvSpPr/>
            <p:nvPr/>
          </p:nvSpPr>
          <p:spPr>
            <a:xfrm>
              <a:off x="5880240" y="4533840"/>
              <a:ext cx="165600" cy="165600"/>
            </a:xfrm>
            <a:custGeom>
              <a:avLst/>
              <a:gdLst/>
              <a:ahLst/>
              <a:rect l="0" t="0" r="r" b="b"/>
              <a:pathLst>
                <a:path fill="none" w="460" h="460">
                  <a:moveTo>
                    <a:pt x="460" y="0"/>
                  </a:moveTo>
                  <a:lnTo>
                    <a:pt x="0" y="0"/>
                  </a:lnTo>
                  <a:lnTo>
                    <a:pt x="230" y="460"/>
                  </a:lnTo>
                  <a:lnTo>
                    <a:pt x="46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5" name=""/>
            <p:cNvSpPr txBox="1"/>
            <p:nvPr/>
          </p:nvSpPr>
          <p:spPr>
            <a:xfrm>
              <a:off x="5797440" y="49449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grpSp>
      <p:sp>
        <p:nvSpPr>
          <p:cNvPr id="3896" name=""/>
          <p:cNvSpPr/>
          <p:nvPr/>
        </p:nvSpPr>
        <p:spPr>
          <a:xfrm>
            <a:off x="7921800" y="3905280"/>
            <a:ext cx="5713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7" name=""/>
          <p:cNvSpPr/>
          <p:nvPr/>
        </p:nvSpPr>
        <p:spPr>
          <a:xfrm>
            <a:off x="7937640" y="4254480"/>
            <a:ext cx="555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8" name=""/>
          <p:cNvSpPr/>
          <p:nvPr/>
        </p:nvSpPr>
        <p:spPr>
          <a:xfrm>
            <a:off x="7937640" y="1730520"/>
            <a:ext cx="555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9" name=""/>
          <p:cNvSpPr/>
          <p:nvPr/>
        </p:nvSpPr>
        <p:spPr>
          <a:xfrm>
            <a:off x="7937640" y="2063880"/>
            <a:ext cx="555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00" name=""/>
          <p:cNvSpPr/>
          <p:nvPr/>
        </p:nvSpPr>
        <p:spPr>
          <a:xfrm>
            <a:off x="3156120" y="626436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1" name=""/>
          <p:cNvSpPr/>
          <p:nvPr/>
        </p:nvSpPr>
        <p:spPr>
          <a:xfrm>
            <a:off x="2841480" y="3168720"/>
            <a:ext cx="3286080" cy="166680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2" name=""/>
          <p:cNvSpPr/>
          <p:nvPr/>
        </p:nvSpPr>
        <p:spPr>
          <a:xfrm>
            <a:off x="2841480" y="2809800"/>
            <a:ext cx="3286080" cy="166680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3" name=""/>
          <p:cNvSpPr/>
          <p:nvPr/>
        </p:nvSpPr>
        <p:spPr>
          <a:xfrm>
            <a:off x="2841480" y="36511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4" name=""/>
          <p:cNvSpPr/>
          <p:nvPr/>
        </p:nvSpPr>
        <p:spPr>
          <a:xfrm>
            <a:off x="6124680" y="366696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5" name=""/>
          <p:cNvSpPr/>
          <p:nvPr/>
        </p:nvSpPr>
        <p:spPr>
          <a:xfrm>
            <a:off x="2841480" y="3651120"/>
            <a:ext cx="38520" cy="330480"/>
          </a:xfrm>
          <a:custGeom>
            <a:avLst/>
            <a:gdLst/>
            <a:ahLst/>
            <a:rect l="0" t="0" r="r" b="b"/>
            <a:pathLst>
              <a:path w="107" h="918">
                <a:moveTo>
                  <a:pt x="0" y="0"/>
                </a:moveTo>
                <a:lnTo>
                  <a:pt x="0" y="26"/>
                </a:lnTo>
                <a:lnTo>
                  <a:pt x="8" y="52"/>
                </a:lnTo>
                <a:lnTo>
                  <a:pt x="8" y="79"/>
                </a:lnTo>
                <a:lnTo>
                  <a:pt x="8" y="105"/>
                </a:lnTo>
                <a:lnTo>
                  <a:pt x="8" y="132"/>
                </a:lnTo>
                <a:lnTo>
                  <a:pt x="8" y="158"/>
                </a:lnTo>
                <a:lnTo>
                  <a:pt x="8" y="185"/>
                </a:lnTo>
                <a:lnTo>
                  <a:pt x="17" y="211"/>
                </a:lnTo>
                <a:lnTo>
                  <a:pt x="26" y="238"/>
                </a:lnTo>
                <a:lnTo>
                  <a:pt x="36" y="264"/>
                </a:lnTo>
                <a:lnTo>
                  <a:pt x="45" y="291"/>
                </a:lnTo>
                <a:lnTo>
                  <a:pt x="62" y="317"/>
                </a:lnTo>
                <a:lnTo>
                  <a:pt x="71" y="343"/>
                </a:lnTo>
                <a:lnTo>
                  <a:pt x="71" y="370"/>
                </a:lnTo>
                <a:lnTo>
                  <a:pt x="81" y="396"/>
                </a:lnTo>
                <a:lnTo>
                  <a:pt x="90" y="423"/>
                </a:lnTo>
                <a:lnTo>
                  <a:pt x="99" y="449"/>
                </a:lnTo>
                <a:lnTo>
                  <a:pt x="107" y="477"/>
                </a:lnTo>
                <a:lnTo>
                  <a:pt x="107" y="503"/>
                </a:lnTo>
                <a:lnTo>
                  <a:pt x="99" y="530"/>
                </a:lnTo>
                <a:lnTo>
                  <a:pt x="90" y="556"/>
                </a:lnTo>
                <a:lnTo>
                  <a:pt x="81" y="583"/>
                </a:lnTo>
                <a:lnTo>
                  <a:pt x="71" y="609"/>
                </a:lnTo>
                <a:lnTo>
                  <a:pt x="62" y="636"/>
                </a:lnTo>
                <a:lnTo>
                  <a:pt x="53" y="662"/>
                </a:lnTo>
                <a:lnTo>
                  <a:pt x="53" y="688"/>
                </a:lnTo>
                <a:lnTo>
                  <a:pt x="45" y="715"/>
                </a:lnTo>
                <a:lnTo>
                  <a:pt x="36" y="741"/>
                </a:lnTo>
                <a:lnTo>
                  <a:pt x="26" y="777"/>
                </a:lnTo>
                <a:lnTo>
                  <a:pt x="17" y="803"/>
                </a:lnTo>
                <a:lnTo>
                  <a:pt x="8" y="830"/>
                </a:lnTo>
                <a:lnTo>
                  <a:pt x="0" y="865"/>
                </a:lnTo>
                <a:lnTo>
                  <a:pt x="0" y="891"/>
                </a:lnTo>
                <a:lnTo>
                  <a:pt x="0" y="918"/>
                </a:lnTo>
                <a:lnTo>
                  <a:pt x="8" y="891"/>
                </a:lnTo>
                <a:lnTo>
                  <a:pt x="17" y="865"/>
                </a:lnTo>
                <a:lnTo>
                  <a:pt x="17" y="838"/>
                </a:lnTo>
                <a:lnTo>
                  <a:pt x="17" y="812"/>
                </a:lnTo>
                <a:lnTo>
                  <a:pt x="17" y="785"/>
                </a:lnTo>
                <a:lnTo>
                  <a:pt x="0" y="812"/>
                </a:lnTo>
                <a:lnTo>
                  <a:pt x="0" y="80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6" name=""/>
          <p:cNvSpPr/>
          <p:nvPr/>
        </p:nvSpPr>
        <p:spPr>
          <a:xfrm>
            <a:off x="2854440" y="3838680"/>
            <a:ext cx="31680" cy="1494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07" name=""/>
          <p:cNvSpPr/>
          <p:nvPr/>
        </p:nvSpPr>
        <p:spPr>
          <a:xfrm>
            <a:off x="6089760" y="3740040"/>
            <a:ext cx="32040" cy="174960"/>
          </a:xfrm>
          <a:custGeom>
            <a:avLst/>
            <a:gdLst/>
            <a:ahLst/>
            <a:rect l="0" t="0" r="r" b="b"/>
            <a:pathLst>
              <a:path w="89" h="486">
                <a:moveTo>
                  <a:pt x="89" y="0"/>
                </a:moveTo>
                <a:lnTo>
                  <a:pt x="89" y="486"/>
                </a:lnTo>
                <a:lnTo>
                  <a:pt x="89" y="477"/>
                </a:lnTo>
                <a:lnTo>
                  <a:pt x="71" y="450"/>
                </a:lnTo>
                <a:lnTo>
                  <a:pt x="62" y="424"/>
                </a:lnTo>
                <a:lnTo>
                  <a:pt x="53" y="397"/>
                </a:lnTo>
                <a:lnTo>
                  <a:pt x="45" y="371"/>
                </a:lnTo>
                <a:lnTo>
                  <a:pt x="35" y="344"/>
                </a:lnTo>
                <a:lnTo>
                  <a:pt x="26" y="318"/>
                </a:lnTo>
                <a:lnTo>
                  <a:pt x="17" y="292"/>
                </a:lnTo>
                <a:lnTo>
                  <a:pt x="0" y="265"/>
                </a:lnTo>
                <a:lnTo>
                  <a:pt x="8" y="238"/>
                </a:lnTo>
                <a:lnTo>
                  <a:pt x="26" y="211"/>
                </a:lnTo>
                <a:lnTo>
                  <a:pt x="26" y="185"/>
                </a:lnTo>
                <a:lnTo>
                  <a:pt x="35" y="158"/>
                </a:lnTo>
                <a:lnTo>
                  <a:pt x="45" y="132"/>
                </a:lnTo>
                <a:lnTo>
                  <a:pt x="53" y="105"/>
                </a:lnTo>
                <a:lnTo>
                  <a:pt x="62" y="79"/>
                </a:lnTo>
                <a:lnTo>
                  <a:pt x="71" y="52"/>
                </a:lnTo>
                <a:lnTo>
                  <a:pt x="80" y="26"/>
                </a:lnTo>
                <a:lnTo>
                  <a:pt x="89"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8" name=""/>
          <p:cNvSpPr/>
          <p:nvPr/>
        </p:nvSpPr>
        <p:spPr>
          <a:xfrm>
            <a:off x="6086520" y="3838680"/>
            <a:ext cx="284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909" name=""/>
          <p:cNvSpPr/>
          <p:nvPr/>
        </p:nvSpPr>
        <p:spPr>
          <a:xfrm flipV="1">
            <a:off x="6032520" y="1690560"/>
            <a:ext cx="0" cy="11160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0" name=""/>
          <p:cNvSpPr/>
          <p:nvPr/>
        </p:nvSpPr>
        <p:spPr>
          <a:xfrm>
            <a:off x="3048120" y="3174840"/>
            <a:ext cx="0" cy="11494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1" name=""/>
          <p:cNvSpPr/>
          <p:nvPr/>
        </p:nvSpPr>
        <p:spPr>
          <a:xfrm>
            <a:off x="5667480" y="4222800"/>
            <a:ext cx="0" cy="38088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2" name=""/>
          <p:cNvSpPr/>
          <p:nvPr/>
        </p:nvSpPr>
        <p:spPr>
          <a:xfrm flipH="1">
            <a:off x="3048120" y="3719520"/>
            <a:ext cx="1201680" cy="60012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3" name=""/>
          <p:cNvSpPr/>
          <p:nvPr/>
        </p:nvSpPr>
        <p:spPr>
          <a:xfrm>
            <a:off x="3460680" y="3921120"/>
            <a:ext cx="365040" cy="19044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4" name=""/>
          <p:cNvSpPr/>
          <p:nvPr/>
        </p:nvSpPr>
        <p:spPr>
          <a:xfrm>
            <a:off x="5105520" y="3114720"/>
            <a:ext cx="365040" cy="17136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5" name=""/>
          <p:cNvSpPr/>
          <p:nvPr/>
        </p:nvSpPr>
        <p:spPr>
          <a:xfrm>
            <a:off x="3606840" y="3102120"/>
            <a:ext cx="365040" cy="15228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16" name=""/>
          <p:cNvGrpSpPr/>
          <p:nvPr/>
        </p:nvGrpSpPr>
        <p:grpSpPr>
          <a:xfrm>
            <a:off x="4149720" y="1457280"/>
            <a:ext cx="777960" cy="444600"/>
            <a:chOff x="4149720" y="1457280"/>
            <a:chExt cx="777960" cy="444600"/>
          </a:xfrm>
        </p:grpSpPr>
        <p:sp>
          <p:nvSpPr>
            <p:cNvPr id="3917" name=""/>
            <p:cNvSpPr/>
            <p:nvPr/>
          </p:nvSpPr>
          <p:spPr>
            <a:xfrm>
              <a:off x="4149720" y="1457280"/>
              <a:ext cx="777960" cy="44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18" name=""/>
            <p:cNvSpPr/>
            <p:nvPr/>
          </p:nvSpPr>
          <p:spPr>
            <a:xfrm flipH="1">
              <a:off x="4348080" y="1468440"/>
              <a:ext cx="114480" cy="23760"/>
            </a:xfrm>
            <a:prstGeom prst="line">
              <a:avLst/>
            </a:prstGeom>
            <a:ln w="12600">
              <a:solidFill>
                <a:srgbClr val="ffffff"/>
              </a:solidFill>
              <a:round/>
              <a:headEnd len="med" type="triangle" w="me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3919" name=""/>
            <p:cNvSpPr/>
            <p:nvPr/>
          </p:nvSpPr>
          <p:spPr>
            <a:xfrm>
              <a:off x="4660920" y="1465200"/>
              <a:ext cx="38160" cy="14400"/>
            </a:xfrm>
            <a:prstGeom prst="line">
              <a:avLst/>
            </a:prstGeom>
            <a:ln w="12600">
              <a:solidFill>
                <a:srgbClr val="ffffff"/>
              </a:solidFill>
              <a:round/>
              <a:head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grpSp>
      <p:sp>
        <p:nvSpPr>
          <p:cNvPr id="3920" name=""/>
          <p:cNvSpPr/>
          <p:nvPr/>
        </p:nvSpPr>
        <p:spPr>
          <a:xfrm>
            <a:off x="4465800" y="1407960"/>
            <a:ext cx="20304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1" name=""/>
          <p:cNvSpPr txBox="1"/>
          <p:nvPr/>
        </p:nvSpPr>
        <p:spPr>
          <a:xfrm>
            <a:off x="5067360" y="511200"/>
            <a:ext cx="34783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Secondary Datum)</a:t>
            </a:r>
            <a:endParaRPr b="0" lang="en-US" sz="2000" spc="-1" strike="noStrike">
              <a:solidFill>
                <a:srgbClr val="000000"/>
              </a:solidFill>
              <a:latin typeface="Arial"/>
            </a:endParaRPr>
          </a:p>
        </p:txBody>
      </p:sp>
      <p:sp>
        <p:nvSpPr>
          <p:cNvPr id="3922" name=""/>
          <p:cNvSpPr txBox="1"/>
          <p:nvPr/>
        </p:nvSpPr>
        <p:spPr>
          <a:xfrm>
            <a:off x="4559400" y="5541840"/>
            <a:ext cx="26319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rimary Datum Plane A</a:t>
            </a:r>
            <a:endParaRPr b="0" lang="en-US" sz="2000" spc="-1" strike="noStrike">
              <a:solidFill>
                <a:srgbClr val="000000"/>
              </a:solidFill>
              <a:latin typeface="Arial"/>
            </a:endParaRPr>
          </a:p>
        </p:txBody>
      </p:sp>
      <p:sp>
        <p:nvSpPr>
          <p:cNvPr id="3923" name=""/>
          <p:cNvSpPr txBox="1"/>
          <p:nvPr/>
        </p:nvSpPr>
        <p:spPr>
          <a:xfrm>
            <a:off x="550800" y="1747800"/>
            <a:ext cx="2370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irst Reference Plane</a:t>
            </a:r>
            <a:endParaRPr b="0" lang="en-US" sz="2000" spc="-1" strike="noStrike">
              <a:solidFill>
                <a:srgbClr val="000000"/>
              </a:solidFill>
              <a:latin typeface="Arial"/>
            </a:endParaRPr>
          </a:p>
        </p:txBody>
      </p:sp>
      <p:sp>
        <p:nvSpPr>
          <p:cNvPr id="3924" name=""/>
          <p:cNvSpPr txBox="1"/>
          <p:nvPr/>
        </p:nvSpPr>
        <p:spPr>
          <a:xfrm>
            <a:off x="6654960" y="1654200"/>
            <a:ext cx="20876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econd Referenc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a:t>
            </a:r>
            <a:endParaRPr b="0" lang="en-US" sz="2000" spc="-1" strike="noStrike">
              <a:solidFill>
                <a:srgbClr val="000000"/>
              </a:solidFill>
              <a:latin typeface="Arial"/>
            </a:endParaRPr>
          </a:p>
        </p:txBody>
      </p:sp>
      <p:sp>
        <p:nvSpPr>
          <p:cNvPr id="3925" name=""/>
          <p:cNvSpPr/>
          <p:nvPr/>
        </p:nvSpPr>
        <p:spPr>
          <a:xfrm flipH="1">
            <a:off x="4921200" y="666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6" name=""/>
          <p:cNvSpPr/>
          <p:nvPr/>
        </p:nvSpPr>
        <p:spPr>
          <a:xfrm flipH="1">
            <a:off x="4540320" y="666720"/>
            <a:ext cx="38088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7" name=""/>
          <p:cNvSpPr/>
          <p:nvPr/>
        </p:nvSpPr>
        <p:spPr>
          <a:xfrm flipH="1">
            <a:off x="6524640" y="1809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8" name=""/>
          <p:cNvSpPr/>
          <p:nvPr/>
        </p:nvSpPr>
        <p:spPr>
          <a:xfrm flipH="1">
            <a:off x="4349880" y="56991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9" name=""/>
          <p:cNvSpPr/>
          <p:nvPr/>
        </p:nvSpPr>
        <p:spPr>
          <a:xfrm flipV="1">
            <a:off x="4351320" y="5000760"/>
            <a:ext cx="271440" cy="69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0" name=""/>
          <p:cNvSpPr/>
          <p:nvPr/>
        </p:nvSpPr>
        <p:spPr>
          <a:xfrm>
            <a:off x="2841480" y="192096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1" name=""/>
          <p:cNvSpPr/>
          <p:nvPr/>
        </p:nvSpPr>
        <p:spPr>
          <a:xfrm>
            <a:off x="3032280" y="192096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2" name=""/>
          <p:cNvSpPr/>
          <p:nvPr/>
        </p:nvSpPr>
        <p:spPr>
          <a:xfrm>
            <a:off x="5624640" y="24177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933" name=""/>
          <p:cNvSpPr/>
          <p:nvPr/>
        </p:nvSpPr>
        <p:spPr>
          <a:xfrm>
            <a:off x="3502080" y="24066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934" name=""/>
          <p:cNvSpPr/>
          <p:nvPr/>
        </p:nvSpPr>
        <p:spPr>
          <a:xfrm>
            <a:off x="4592520" y="49608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935" name=""/>
          <p:cNvSpPr/>
          <p:nvPr/>
        </p:nvSpPr>
        <p:spPr>
          <a:xfrm>
            <a:off x="5070600" y="3908520"/>
            <a:ext cx="830520" cy="491040"/>
          </a:xfrm>
          <a:custGeom>
            <a:avLst/>
            <a:gdLst/>
            <a:ahLst/>
            <a:rect l="0" t="0" r="r" b="b"/>
            <a:pathLst>
              <a:path w="2307" h="1364">
                <a:moveTo>
                  <a:pt x="782" y="1364"/>
                </a:moveTo>
                <a:lnTo>
                  <a:pt x="0" y="826"/>
                </a:lnTo>
                <a:lnTo>
                  <a:pt x="1607" y="0"/>
                </a:lnTo>
                <a:lnTo>
                  <a:pt x="2307" y="413"/>
                </a:lnTo>
                <a:lnTo>
                  <a:pt x="2307" y="1323"/>
                </a:lnTo>
                <a:lnTo>
                  <a:pt x="1607" y="909"/>
                </a:lnTo>
                <a:lnTo>
                  <a:pt x="1607" y="41"/>
                </a:lnTo>
                <a:lnTo>
                  <a:pt x="1607" y="909"/>
                </a:lnTo>
                <a:lnTo>
                  <a:pt x="782" y="1364"/>
                </a:lnTo>
                <a:close/>
              </a:path>
            </a:pathLst>
          </a:custGeom>
          <a:gradFill rotWithShape="0">
            <a:gsLst>
              <a:gs pos="0">
                <a:srgbClr val="002622"/>
              </a:gs>
              <a:gs pos="100000">
                <a:srgbClr val="008074"/>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36" name=""/>
          <p:cNvSpPr/>
          <p:nvPr/>
        </p:nvSpPr>
        <p:spPr>
          <a:xfrm>
            <a:off x="5303880" y="4357800"/>
            <a:ext cx="0" cy="36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7" name=""/>
          <p:cNvSpPr/>
          <p:nvPr/>
        </p:nvSpPr>
        <p:spPr>
          <a:xfrm>
            <a:off x="5318280" y="4270320"/>
            <a:ext cx="603720" cy="460800"/>
          </a:xfrm>
          <a:custGeom>
            <a:avLst/>
            <a:gdLst/>
            <a:ahLst/>
            <a:rect l="0" t="0" r="r" b="b"/>
            <a:pathLst>
              <a:path w="1677" h="1280">
                <a:moveTo>
                  <a:pt x="0" y="530"/>
                </a:moveTo>
                <a:lnTo>
                  <a:pt x="927" y="0"/>
                </a:lnTo>
                <a:lnTo>
                  <a:pt x="1677" y="441"/>
                </a:lnTo>
                <a:lnTo>
                  <a:pt x="971" y="1016"/>
                </a:lnTo>
                <a:lnTo>
                  <a:pt x="0" y="1280"/>
                </a:lnTo>
                <a:lnTo>
                  <a:pt x="0" y="53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38" name=""/>
          <p:cNvSpPr/>
          <p:nvPr/>
        </p:nvSpPr>
        <p:spPr>
          <a:xfrm flipH="1">
            <a:off x="5613480" y="2809800"/>
            <a:ext cx="431640" cy="2127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9" name=""/>
          <p:cNvSpPr/>
          <p:nvPr/>
        </p:nvSpPr>
        <p:spPr>
          <a:xfrm>
            <a:off x="1735200" y="3441600"/>
            <a:ext cx="2757600" cy="185112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0" name=""/>
          <p:cNvSpPr/>
          <p:nvPr/>
        </p:nvSpPr>
        <p:spPr>
          <a:xfrm flipH="1" flipV="1">
            <a:off x="6032520" y="2811600"/>
            <a:ext cx="1384200" cy="80784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1" name=""/>
          <p:cNvSpPr/>
          <p:nvPr/>
        </p:nvSpPr>
        <p:spPr>
          <a:xfrm flipV="1">
            <a:off x="1739880" y="2771640"/>
            <a:ext cx="1301760" cy="65736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2" name=""/>
          <p:cNvSpPr/>
          <p:nvPr/>
        </p:nvSpPr>
        <p:spPr>
          <a:xfrm flipH="1" flipV="1">
            <a:off x="4476600" y="1946160"/>
            <a:ext cx="493920" cy="26352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3" name=""/>
          <p:cNvSpPr/>
          <p:nvPr/>
        </p:nvSpPr>
        <p:spPr>
          <a:xfrm flipV="1">
            <a:off x="4492800" y="3619440"/>
            <a:ext cx="2920680" cy="167976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4" name=""/>
          <p:cNvSpPr/>
          <p:nvPr/>
        </p:nvSpPr>
        <p:spPr>
          <a:xfrm>
            <a:off x="4175280" y="3111480"/>
            <a:ext cx="730080" cy="41292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5" name=""/>
          <p:cNvSpPr/>
          <p:nvPr/>
        </p:nvSpPr>
        <p:spPr>
          <a:xfrm>
            <a:off x="4111560" y="3111480"/>
            <a:ext cx="857160" cy="476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6" name=""/>
          <p:cNvSpPr/>
          <p:nvPr/>
        </p:nvSpPr>
        <p:spPr>
          <a:xfrm>
            <a:off x="4105440" y="3311640"/>
            <a:ext cx="857160" cy="476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7" name=""/>
          <p:cNvSpPr/>
          <p:nvPr/>
        </p:nvSpPr>
        <p:spPr>
          <a:xfrm>
            <a:off x="4965840" y="33656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8" name=""/>
          <p:cNvSpPr/>
          <p:nvPr/>
        </p:nvSpPr>
        <p:spPr>
          <a:xfrm>
            <a:off x="4111560" y="336564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9" name=""/>
          <p:cNvSpPr/>
          <p:nvPr/>
        </p:nvSpPr>
        <p:spPr>
          <a:xfrm>
            <a:off x="4152960" y="3390840"/>
            <a:ext cx="57600" cy="62280"/>
          </a:xfrm>
          <a:custGeom>
            <a:avLst/>
            <a:gdLst/>
            <a:ahLst/>
            <a:rect l="0" t="0" r="r" b="b"/>
            <a:pathLst>
              <a:path w="160" h="173">
                <a:moveTo>
                  <a:pt x="160" y="80"/>
                </a:moveTo>
                <a:lnTo>
                  <a:pt x="121" y="0"/>
                </a:lnTo>
                <a:lnTo>
                  <a:pt x="0" y="106"/>
                </a:lnTo>
                <a:lnTo>
                  <a:pt x="53" y="173"/>
                </a:lnTo>
                <a:lnTo>
                  <a:pt x="160" y="80"/>
                </a:lnTo>
                <a:close/>
              </a:path>
            </a:pathLst>
          </a:custGeom>
          <a:solidFill>
            <a:srgbClr val="a2c1fe"/>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3950" name=""/>
          <p:cNvSpPr/>
          <p:nvPr/>
        </p:nvSpPr>
        <p:spPr>
          <a:xfrm>
            <a:off x="4119480" y="3429000"/>
            <a:ext cx="71640" cy="105120"/>
          </a:xfrm>
          <a:custGeom>
            <a:avLst/>
            <a:gdLst/>
            <a:ahLst/>
            <a:rect l="0" t="0" r="r" b="b"/>
            <a:pathLst>
              <a:path w="199" h="292">
                <a:moveTo>
                  <a:pt x="26" y="0"/>
                </a:moveTo>
                <a:lnTo>
                  <a:pt x="199" y="212"/>
                </a:lnTo>
                <a:lnTo>
                  <a:pt x="0" y="292"/>
                </a:lnTo>
                <a:lnTo>
                  <a:pt x="0" y="119"/>
                </a:lnTo>
                <a:lnTo>
                  <a:pt x="26" y="0"/>
                </a:lnTo>
                <a:close/>
              </a:path>
            </a:pathLst>
          </a:custGeom>
          <a:gradFill rotWithShape="0">
            <a:gsLst>
              <a:gs pos="0">
                <a:srgbClr val="00423c"/>
              </a:gs>
              <a:gs pos="100000">
                <a:srgbClr val="00dfc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1" name=""/>
          <p:cNvSpPr/>
          <p:nvPr/>
        </p:nvSpPr>
        <p:spPr>
          <a:xfrm>
            <a:off x="4857840" y="3386160"/>
            <a:ext cx="76680" cy="71640"/>
          </a:xfrm>
          <a:custGeom>
            <a:avLst/>
            <a:gdLst/>
            <a:ahLst/>
            <a:rect l="0" t="0" r="r" b="b"/>
            <a:pathLst>
              <a:path w="213" h="199">
                <a:moveTo>
                  <a:pt x="106" y="0"/>
                </a:moveTo>
                <a:lnTo>
                  <a:pt x="0" y="133"/>
                </a:lnTo>
                <a:lnTo>
                  <a:pt x="133" y="199"/>
                </a:lnTo>
                <a:lnTo>
                  <a:pt x="213" y="106"/>
                </a:lnTo>
                <a:lnTo>
                  <a:pt x="106" y="0"/>
                </a:lnTo>
                <a:close/>
              </a:path>
            </a:pathLst>
          </a:custGeom>
          <a:gradFill rotWithShape="0">
            <a:gsLst>
              <a:gs pos="0">
                <a:srgbClr val="00423c"/>
              </a:gs>
              <a:gs pos="100000">
                <a:srgbClr val="00dfca"/>
              </a:gs>
            </a:gsLst>
            <a:lin ang="5400000"/>
          </a:gradFill>
          <a:ln w="0">
            <a:noFill/>
          </a:ln>
        </p:spPr>
        <p:txBody>
          <a:bodyPr lIns="90000" rIns="90000" tIns="26640" bIns="26640" anchor="t">
            <a:noAutofit/>
          </a:bodyPr>
          <a:p>
            <a:endParaRPr b="0" lang="en-US" sz="1800" spc="-1" strike="noStrike">
              <a:solidFill>
                <a:srgbClr val="000000"/>
              </a:solidFill>
              <a:latin typeface="Arial"/>
            </a:endParaRPr>
          </a:p>
        </p:txBody>
      </p:sp>
      <p:sp>
        <p:nvSpPr>
          <p:cNvPr id="3952" name=""/>
          <p:cNvSpPr/>
          <p:nvPr/>
        </p:nvSpPr>
        <p:spPr>
          <a:xfrm>
            <a:off x="4913280" y="3451320"/>
            <a:ext cx="49680" cy="128880"/>
          </a:xfrm>
          <a:custGeom>
            <a:avLst/>
            <a:gdLst/>
            <a:ahLst/>
            <a:rect l="0" t="0" r="r" b="b"/>
            <a:pathLst>
              <a:path w="138" h="358">
                <a:moveTo>
                  <a:pt x="0" y="70"/>
                </a:moveTo>
                <a:lnTo>
                  <a:pt x="67" y="0"/>
                </a:lnTo>
                <a:lnTo>
                  <a:pt x="138" y="203"/>
                </a:lnTo>
                <a:lnTo>
                  <a:pt x="98" y="358"/>
                </a:lnTo>
                <a:lnTo>
                  <a:pt x="0" y="70"/>
                </a:lnTo>
                <a:close/>
              </a:path>
            </a:pathLst>
          </a:custGeom>
          <a:gradFill rotWithShape="0">
            <a:gsLst>
              <a:gs pos="0">
                <a:srgbClr val="00dfca"/>
              </a:gs>
              <a:gs pos="100000">
                <a:srgbClr val="00423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3" name=""/>
          <p:cNvSpPr/>
          <p:nvPr/>
        </p:nvSpPr>
        <p:spPr>
          <a:xfrm>
            <a:off x="4540320" y="3116160"/>
            <a:ext cx="0" cy="41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4" name=""/>
          <p:cNvSpPr/>
          <p:nvPr/>
        </p:nvSpPr>
        <p:spPr>
          <a:xfrm flipH="1" flipV="1">
            <a:off x="4780080" y="3471840"/>
            <a:ext cx="33120" cy="60480"/>
          </a:xfrm>
          <a:prstGeom prst="line">
            <a:avLst/>
          </a:prstGeom>
          <a:ln w="12600">
            <a:solidFill>
              <a:srgbClr val="fc0128"/>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3955" name=""/>
          <p:cNvSpPr/>
          <p:nvPr/>
        </p:nvSpPr>
        <p:spPr>
          <a:xfrm>
            <a:off x="4214880" y="3252960"/>
            <a:ext cx="652680" cy="152640"/>
          </a:xfrm>
          <a:custGeom>
            <a:avLst/>
            <a:gdLst/>
            <a:ahLst/>
            <a:rect l="0" t="0" r="r" b="b"/>
            <a:pathLst>
              <a:path w="1813" h="424">
                <a:moveTo>
                  <a:pt x="26" y="397"/>
                </a:moveTo>
                <a:lnTo>
                  <a:pt x="0" y="331"/>
                </a:lnTo>
                <a:lnTo>
                  <a:pt x="793" y="0"/>
                </a:lnTo>
                <a:lnTo>
                  <a:pt x="1681" y="198"/>
                </a:lnTo>
                <a:lnTo>
                  <a:pt x="1813" y="384"/>
                </a:lnTo>
                <a:lnTo>
                  <a:pt x="1786" y="424"/>
                </a:lnTo>
                <a:lnTo>
                  <a:pt x="26" y="397"/>
                </a:lnTo>
                <a:close/>
              </a:path>
            </a:pathLst>
          </a:custGeom>
          <a:gradFill rotWithShape="0">
            <a:gsLst>
              <a:gs pos="0">
                <a:srgbClr val="002622"/>
              </a:gs>
              <a:gs pos="50000">
                <a:srgbClr val="008074"/>
              </a:gs>
              <a:gs pos="100000">
                <a:srgbClr val="002622"/>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56" name=""/>
          <p:cNvSpPr/>
          <p:nvPr/>
        </p:nvSpPr>
        <p:spPr>
          <a:xfrm flipV="1">
            <a:off x="4243320" y="3519360"/>
            <a:ext cx="0" cy="19872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7" name=""/>
          <p:cNvSpPr/>
          <p:nvPr/>
        </p:nvSpPr>
        <p:spPr>
          <a:xfrm flipV="1">
            <a:off x="4243320" y="3465360"/>
            <a:ext cx="42840" cy="54000"/>
          </a:xfrm>
          <a:prstGeom prst="line">
            <a:avLst/>
          </a:prstGeom>
          <a:ln w="12600">
            <a:solidFill>
              <a:srgbClr val="fd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3958" name=""/>
          <p:cNvSpPr/>
          <p:nvPr/>
        </p:nvSpPr>
        <p:spPr>
          <a:xfrm flipV="1">
            <a:off x="4540320" y="1063800"/>
            <a:ext cx="0" cy="250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9" name=""/>
          <p:cNvSpPr/>
          <p:nvPr/>
        </p:nvSpPr>
        <p:spPr>
          <a:xfrm flipV="1">
            <a:off x="4286160" y="3321000"/>
            <a:ext cx="268200" cy="1443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0" name=""/>
          <p:cNvSpPr/>
          <p:nvPr/>
        </p:nvSpPr>
        <p:spPr>
          <a:xfrm flipV="1">
            <a:off x="4971960" y="3254400"/>
            <a:ext cx="169920" cy="90360"/>
          </a:xfrm>
          <a:prstGeom prst="line">
            <a:avLst/>
          </a:prstGeom>
          <a:ln w="12600">
            <a:solidFill>
              <a:srgbClr val="fd0000"/>
            </a:solidFill>
            <a:custDash>
              <a:ds d="402857" sp="402857"/>
            </a:custDash>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3961" name=""/>
          <p:cNvSpPr/>
          <p:nvPr/>
        </p:nvSpPr>
        <p:spPr>
          <a:xfrm flipH="1">
            <a:off x="5683320" y="1809720"/>
            <a:ext cx="84132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2" name=""/>
          <p:cNvSpPr/>
          <p:nvPr/>
        </p:nvSpPr>
        <p:spPr>
          <a:xfrm flipV="1">
            <a:off x="5402160" y="3029040"/>
            <a:ext cx="198720" cy="92160"/>
          </a:xfrm>
          <a:prstGeom prst="line">
            <a:avLst/>
          </a:prstGeom>
          <a:ln w="12600">
            <a:solidFill>
              <a:srgbClr val="fd0000"/>
            </a:solidFill>
            <a:custDash>
              <a:ds d="402857" sp="402857"/>
            </a:custDash>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3963" name=""/>
          <p:cNvSpPr/>
          <p:nvPr/>
        </p:nvSpPr>
        <p:spPr>
          <a:xfrm flipV="1">
            <a:off x="5985000" y="3228840"/>
            <a:ext cx="0" cy="1229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4" name=""/>
          <p:cNvSpPr/>
          <p:nvPr/>
        </p:nvSpPr>
        <p:spPr>
          <a:xfrm>
            <a:off x="4540320" y="2428920"/>
            <a:ext cx="1444680" cy="793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5" name=""/>
          <p:cNvSpPr/>
          <p:nvPr/>
        </p:nvSpPr>
        <p:spPr>
          <a:xfrm flipH="1" flipV="1">
            <a:off x="3060720" y="1600200"/>
            <a:ext cx="1479600" cy="8287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6" name=""/>
          <p:cNvSpPr/>
          <p:nvPr/>
        </p:nvSpPr>
        <p:spPr>
          <a:xfrm>
            <a:off x="3057480" y="1612800"/>
            <a:ext cx="0" cy="1143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7" name=""/>
          <p:cNvSpPr/>
          <p:nvPr/>
        </p:nvSpPr>
        <p:spPr>
          <a:xfrm flipH="1" flipV="1">
            <a:off x="4822920" y="3733920"/>
            <a:ext cx="1158840" cy="711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8" name=""/>
          <p:cNvSpPr/>
          <p:nvPr/>
        </p:nvSpPr>
        <p:spPr>
          <a:xfrm flipH="1" flipV="1">
            <a:off x="3073320" y="2768760"/>
            <a:ext cx="381240" cy="2156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9" name=""/>
          <p:cNvSpPr/>
          <p:nvPr/>
        </p:nvSpPr>
        <p:spPr>
          <a:xfrm flipH="1" flipV="1">
            <a:off x="3916440" y="3235320"/>
            <a:ext cx="198360" cy="11124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0" name=""/>
          <p:cNvSpPr/>
          <p:nvPr/>
        </p:nvSpPr>
        <p:spPr>
          <a:xfrm flipV="1">
            <a:off x="3041640" y="1692360"/>
            <a:ext cx="2989440" cy="14763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1" name=""/>
          <p:cNvSpPr/>
          <p:nvPr/>
        </p:nvSpPr>
        <p:spPr>
          <a:xfrm flipV="1">
            <a:off x="4809960" y="3532320"/>
            <a:ext cx="0" cy="191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2" name=""/>
          <p:cNvSpPr/>
          <p:nvPr/>
        </p:nvSpPr>
        <p:spPr>
          <a:xfrm flipH="1" flipV="1">
            <a:off x="4541760" y="3321000"/>
            <a:ext cx="238320" cy="150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3" name=""/>
          <p:cNvSpPr/>
          <p:nvPr/>
        </p:nvSpPr>
        <p:spPr>
          <a:xfrm flipH="1" flipV="1">
            <a:off x="3481560" y="2982960"/>
            <a:ext cx="199800" cy="12384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4" name=""/>
          <p:cNvSpPr/>
          <p:nvPr/>
        </p:nvSpPr>
        <p:spPr>
          <a:xfrm flipH="1" flipV="1">
            <a:off x="4264200" y="3166920"/>
            <a:ext cx="277560" cy="15408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5" name=""/>
          <p:cNvSpPr/>
          <p:nvPr/>
        </p:nvSpPr>
        <p:spPr>
          <a:xfrm flipV="1">
            <a:off x="4548240" y="3182760"/>
            <a:ext cx="261720" cy="138240"/>
          </a:xfrm>
          <a:prstGeom prst="line">
            <a:avLst/>
          </a:prstGeom>
          <a:ln w="12600">
            <a:solidFill>
              <a:srgbClr val="fd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6" name=""/>
          <p:cNvSpPr/>
          <p:nvPr/>
        </p:nvSpPr>
        <p:spPr>
          <a:xfrm>
            <a:off x="4813200" y="3181320"/>
            <a:ext cx="34920" cy="6480"/>
          </a:xfrm>
          <a:prstGeom prst="line">
            <a:avLst/>
          </a:prstGeom>
          <a:ln w="12600">
            <a:solidFill>
              <a:srgbClr val="fd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3977" name=""/>
          <p:cNvSpPr/>
          <p:nvPr/>
        </p:nvSpPr>
        <p:spPr>
          <a:xfrm>
            <a:off x="1254240" y="6000840"/>
            <a:ext cx="3222720" cy="320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8" name=""/>
          <p:cNvSpPr/>
          <p:nvPr/>
        </p:nvSpPr>
        <p:spPr>
          <a:xfrm>
            <a:off x="1654200" y="6006960"/>
            <a:ext cx="0" cy="311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9" name=""/>
          <p:cNvSpPr/>
          <p:nvPr/>
        </p:nvSpPr>
        <p:spPr>
          <a:xfrm>
            <a:off x="2790720" y="6006960"/>
            <a:ext cx="0" cy="311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0" name=""/>
          <p:cNvSpPr/>
          <p:nvPr/>
        </p:nvSpPr>
        <p:spPr>
          <a:xfrm>
            <a:off x="3146400" y="600696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81" name=""/>
          <p:cNvGrpSpPr/>
          <p:nvPr/>
        </p:nvGrpSpPr>
        <p:grpSpPr>
          <a:xfrm>
            <a:off x="1327320" y="6035760"/>
            <a:ext cx="247320" cy="263520"/>
            <a:chOff x="1327320" y="6035760"/>
            <a:chExt cx="247320" cy="263520"/>
          </a:xfrm>
        </p:grpSpPr>
        <p:sp>
          <p:nvSpPr>
            <p:cNvPr id="3982" name=""/>
            <p:cNvSpPr/>
            <p:nvPr/>
          </p:nvSpPr>
          <p:spPr>
            <a:xfrm>
              <a:off x="1362240" y="6076800"/>
              <a:ext cx="17784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3" name=""/>
            <p:cNvSpPr/>
            <p:nvPr/>
          </p:nvSpPr>
          <p:spPr>
            <a:xfrm>
              <a:off x="1454040" y="603576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4" name=""/>
            <p:cNvSpPr/>
            <p:nvPr/>
          </p:nvSpPr>
          <p:spPr>
            <a:xfrm>
              <a:off x="1327320" y="6170760"/>
              <a:ext cx="24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985" name=""/>
          <p:cNvGrpSpPr/>
          <p:nvPr/>
        </p:nvGrpSpPr>
        <p:grpSpPr>
          <a:xfrm>
            <a:off x="1722600" y="6058080"/>
            <a:ext cx="206280" cy="203040"/>
            <a:chOff x="1722600" y="6058080"/>
            <a:chExt cx="206280" cy="203040"/>
          </a:xfrm>
        </p:grpSpPr>
        <p:sp>
          <p:nvSpPr>
            <p:cNvPr id="3986" name=""/>
            <p:cNvSpPr/>
            <p:nvPr/>
          </p:nvSpPr>
          <p:spPr>
            <a:xfrm>
              <a:off x="1749600" y="6084720"/>
              <a:ext cx="15228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7" name=""/>
            <p:cNvSpPr/>
            <p:nvPr/>
          </p:nvSpPr>
          <p:spPr>
            <a:xfrm flipH="1">
              <a:off x="1722600" y="6058080"/>
              <a:ext cx="206280" cy="20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988" name=""/>
          <p:cNvSpPr txBox="1"/>
          <p:nvPr/>
        </p:nvSpPr>
        <p:spPr>
          <a:xfrm>
            <a:off x="1974960" y="6002280"/>
            <a:ext cx="782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 M</a:t>
            </a:r>
            <a:endParaRPr b="0" lang="en-US" sz="1800" spc="-1" strike="noStrike">
              <a:solidFill>
                <a:srgbClr val="000000"/>
              </a:solidFill>
              <a:latin typeface="Arial"/>
            </a:endParaRPr>
          </a:p>
        </p:txBody>
      </p:sp>
      <p:sp>
        <p:nvSpPr>
          <p:cNvPr id="3989" name=""/>
          <p:cNvSpPr/>
          <p:nvPr/>
        </p:nvSpPr>
        <p:spPr>
          <a:xfrm>
            <a:off x="2408400" y="6032520"/>
            <a:ext cx="26352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0" name=""/>
          <p:cNvSpPr txBox="1"/>
          <p:nvPr/>
        </p:nvSpPr>
        <p:spPr>
          <a:xfrm>
            <a:off x="2832120" y="5979960"/>
            <a:ext cx="330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3991" name=""/>
          <p:cNvSpPr txBox="1"/>
          <p:nvPr/>
        </p:nvSpPr>
        <p:spPr>
          <a:xfrm>
            <a:off x="3174840" y="5973840"/>
            <a:ext cx="330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B</a:t>
            </a:r>
            <a:endParaRPr b="0" lang="en-US" sz="1800" spc="-1" strike="noStrike">
              <a:solidFill>
                <a:srgbClr val="000000"/>
              </a:solidFill>
              <a:latin typeface="Arial"/>
            </a:endParaRPr>
          </a:p>
        </p:txBody>
      </p:sp>
      <p:sp>
        <p:nvSpPr>
          <p:cNvPr id="3992" name=""/>
          <p:cNvSpPr/>
          <p:nvPr/>
        </p:nvSpPr>
        <p:spPr>
          <a:xfrm>
            <a:off x="3486240" y="6032520"/>
            <a:ext cx="26676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3" name=""/>
          <p:cNvSpPr txBox="1"/>
          <p:nvPr/>
        </p:nvSpPr>
        <p:spPr>
          <a:xfrm>
            <a:off x="3429000" y="5986440"/>
            <a:ext cx="376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994" name=""/>
          <p:cNvSpPr/>
          <p:nvPr/>
        </p:nvSpPr>
        <p:spPr>
          <a:xfrm>
            <a:off x="4127400" y="6041880"/>
            <a:ext cx="27288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5" name=""/>
          <p:cNvSpPr/>
          <p:nvPr/>
        </p:nvSpPr>
        <p:spPr>
          <a:xfrm>
            <a:off x="3841920" y="600084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6" name=""/>
          <p:cNvSpPr txBox="1"/>
          <p:nvPr/>
        </p:nvSpPr>
        <p:spPr>
          <a:xfrm>
            <a:off x="3813120" y="5970600"/>
            <a:ext cx="3492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C</a:t>
            </a:r>
            <a:endParaRPr b="0" lang="en-US" sz="2000" spc="-1" strike="noStrike">
              <a:solidFill>
                <a:srgbClr val="000000"/>
              </a:solidFill>
              <a:latin typeface="Arial"/>
            </a:endParaRPr>
          </a:p>
        </p:txBody>
      </p:sp>
      <p:sp>
        <p:nvSpPr>
          <p:cNvPr id="3997" name=""/>
          <p:cNvSpPr txBox="1"/>
          <p:nvPr/>
        </p:nvSpPr>
        <p:spPr>
          <a:xfrm>
            <a:off x="4076640" y="5992920"/>
            <a:ext cx="376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998" name=""/>
          <p:cNvSpPr/>
          <p:nvPr/>
        </p:nvSpPr>
        <p:spPr>
          <a:xfrm flipH="1">
            <a:off x="4013280" y="1943280"/>
            <a:ext cx="444600" cy="20304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9" name=""/>
          <p:cNvSpPr/>
          <p:nvPr/>
        </p:nvSpPr>
        <p:spPr>
          <a:xfrm flipV="1">
            <a:off x="5253120" y="4361040"/>
            <a:ext cx="4608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4000" name=""/>
          <p:cNvSpPr/>
          <p:nvPr/>
        </p:nvSpPr>
        <p:spPr>
          <a:xfrm>
            <a:off x="5221440" y="4379760"/>
            <a:ext cx="70200" cy="66960"/>
          </a:xfrm>
          <a:custGeom>
            <a:avLst/>
            <a:gdLst/>
            <a:ahLst/>
            <a:rect l="0" t="0" r="r" b="b"/>
            <a:pathLst>
              <a:path w="195" h="186">
                <a:moveTo>
                  <a:pt x="0" y="63"/>
                </a:moveTo>
                <a:lnTo>
                  <a:pt x="185" y="0"/>
                </a:lnTo>
                <a:lnTo>
                  <a:pt x="195" y="49"/>
                </a:lnTo>
                <a:lnTo>
                  <a:pt x="195" y="186"/>
                </a:lnTo>
                <a:lnTo>
                  <a:pt x="0" y="63"/>
                </a:lnTo>
                <a:close/>
              </a:path>
            </a:pathLst>
          </a:custGeom>
          <a:solidFill>
            <a:srgbClr val="004e47"/>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4001" name=""/>
          <p:cNvSpPr/>
          <p:nvPr/>
        </p:nvSpPr>
        <p:spPr>
          <a:xfrm>
            <a:off x="5310360" y="4329000"/>
            <a:ext cx="71640" cy="128880"/>
          </a:xfrm>
          <a:custGeom>
            <a:avLst/>
            <a:gdLst/>
            <a:ahLst/>
            <a:rect l="0" t="0" r="r" b="b"/>
            <a:pathLst>
              <a:path w="199" h="358">
                <a:moveTo>
                  <a:pt x="0" y="8"/>
                </a:moveTo>
                <a:lnTo>
                  <a:pt x="0" y="358"/>
                </a:lnTo>
                <a:lnTo>
                  <a:pt x="199" y="358"/>
                </a:lnTo>
                <a:lnTo>
                  <a:pt x="88" y="0"/>
                </a:lnTo>
                <a:lnTo>
                  <a:pt x="0" y="8"/>
                </a:lnTo>
                <a:close/>
              </a:path>
            </a:pathLst>
          </a:custGeom>
          <a:solidFill>
            <a:srgbClr val="004e4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02" name=""/>
          <p:cNvSpPr/>
          <p:nvPr/>
        </p:nvSpPr>
        <p:spPr>
          <a:xfrm flipH="1">
            <a:off x="5308560" y="4390920"/>
            <a:ext cx="54000" cy="31680"/>
          </a:xfrm>
          <a:prstGeom prst="line">
            <a:avLst/>
          </a:prstGeom>
          <a:ln w="12600">
            <a:solidFill>
              <a:srgbClr val="fffff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03" name=""/>
          <p:cNvSpPr txBox="1"/>
          <p:nvPr/>
        </p:nvSpPr>
        <p:spPr>
          <a:xfrm>
            <a:off x="123840" y="4621320"/>
            <a:ext cx="3935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otational orientation ma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 established by identifying 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the reference planes as the terti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in the feature control frame.</a:t>
            </a:r>
            <a:endParaRPr b="0" lang="en-US" sz="2000" spc="-1" strike="noStrike">
              <a:solidFill>
                <a:srgbClr val="000000"/>
              </a:solidFill>
              <a:latin typeface="Arial"/>
            </a:endParaRPr>
          </a:p>
        </p:txBody>
      </p:sp>
      <p:sp>
        <p:nvSpPr>
          <p:cNvPr id="4004" name=""/>
          <p:cNvSpPr/>
          <p:nvPr/>
        </p:nvSpPr>
        <p:spPr>
          <a:xfrm>
            <a:off x="2841480" y="3168720"/>
            <a:ext cx="3286080" cy="166680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5" name=""/>
          <p:cNvSpPr/>
          <p:nvPr/>
        </p:nvSpPr>
        <p:spPr>
          <a:xfrm>
            <a:off x="2841480" y="2809800"/>
            <a:ext cx="3286080" cy="166680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6" name=""/>
          <p:cNvSpPr/>
          <p:nvPr/>
        </p:nvSpPr>
        <p:spPr>
          <a:xfrm>
            <a:off x="2841480" y="36511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7" name=""/>
          <p:cNvSpPr/>
          <p:nvPr/>
        </p:nvSpPr>
        <p:spPr>
          <a:xfrm>
            <a:off x="6124680" y="366696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8" name=""/>
          <p:cNvSpPr/>
          <p:nvPr/>
        </p:nvSpPr>
        <p:spPr>
          <a:xfrm>
            <a:off x="2841480" y="3651120"/>
            <a:ext cx="38520" cy="330480"/>
          </a:xfrm>
          <a:custGeom>
            <a:avLst/>
            <a:gdLst/>
            <a:ahLst/>
            <a:rect l="0" t="0" r="r" b="b"/>
            <a:pathLst>
              <a:path w="107" h="918">
                <a:moveTo>
                  <a:pt x="0" y="0"/>
                </a:moveTo>
                <a:lnTo>
                  <a:pt x="0" y="26"/>
                </a:lnTo>
                <a:lnTo>
                  <a:pt x="8" y="52"/>
                </a:lnTo>
                <a:lnTo>
                  <a:pt x="8" y="79"/>
                </a:lnTo>
                <a:lnTo>
                  <a:pt x="8" y="105"/>
                </a:lnTo>
                <a:lnTo>
                  <a:pt x="8" y="132"/>
                </a:lnTo>
                <a:lnTo>
                  <a:pt x="8" y="158"/>
                </a:lnTo>
                <a:lnTo>
                  <a:pt x="8" y="185"/>
                </a:lnTo>
                <a:lnTo>
                  <a:pt x="17" y="211"/>
                </a:lnTo>
                <a:lnTo>
                  <a:pt x="26" y="238"/>
                </a:lnTo>
                <a:lnTo>
                  <a:pt x="36" y="264"/>
                </a:lnTo>
                <a:lnTo>
                  <a:pt x="45" y="291"/>
                </a:lnTo>
                <a:lnTo>
                  <a:pt x="62" y="317"/>
                </a:lnTo>
                <a:lnTo>
                  <a:pt x="71" y="343"/>
                </a:lnTo>
                <a:lnTo>
                  <a:pt x="71" y="370"/>
                </a:lnTo>
                <a:lnTo>
                  <a:pt x="81" y="396"/>
                </a:lnTo>
                <a:lnTo>
                  <a:pt x="90" y="423"/>
                </a:lnTo>
                <a:lnTo>
                  <a:pt x="99" y="449"/>
                </a:lnTo>
                <a:lnTo>
                  <a:pt x="107" y="477"/>
                </a:lnTo>
                <a:lnTo>
                  <a:pt x="107" y="503"/>
                </a:lnTo>
                <a:lnTo>
                  <a:pt x="99" y="530"/>
                </a:lnTo>
                <a:lnTo>
                  <a:pt x="90" y="556"/>
                </a:lnTo>
                <a:lnTo>
                  <a:pt x="81" y="583"/>
                </a:lnTo>
                <a:lnTo>
                  <a:pt x="71" y="609"/>
                </a:lnTo>
                <a:lnTo>
                  <a:pt x="62" y="636"/>
                </a:lnTo>
                <a:lnTo>
                  <a:pt x="53" y="662"/>
                </a:lnTo>
                <a:lnTo>
                  <a:pt x="53" y="688"/>
                </a:lnTo>
                <a:lnTo>
                  <a:pt x="45" y="715"/>
                </a:lnTo>
                <a:lnTo>
                  <a:pt x="36" y="741"/>
                </a:lnTo>
                <a:lnTo>
                  <a:pt x="26" y="777"/>
                </a:lnTo>
                <a:lnTo>
                  <a:pt x="17" y="803"/>
                </a:lnTo>
                <a:lnTo>
                  <a:pt x="8" y="830"/>
                </a:lnTo>
                <a:lnTo>
                  <a:pt x="0" y="865"/>
                </a:lnTo>
                <a:lnTo>
                  <a:pt x="0" y="891"/>
                </a:lnTo>
                <a:lnTo>
                  <a:pt x="0" y="918"/>
                </a:lnTo>
                <a:lnTo>
                  <a:pt x="8" y="891"/>
                </a:lnTo>
                <a:lnTo>
                  <a:pt x="17" y="865"/>
                </a:lnTo>
                <a:lnTo>
                  <a:pt x="17" y="838"/>
                </a:lnTo>
                <a:lnTo>
                  <a:pt x="17" y="812"/>
                </a:lnTo>
                <a:lnTo>
                  <a:pt x="17" y="785"/>
                </a:lnTo>
                <a:lnTo>
                  <a:pt x="0" y="812"/>
                </a:lnTo>
                <a:lnTo>
                  <a:pt x="0" y="80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9" name=""/>
          <p:cNvSpPr/>
          <p:nvPr/>
        </p:nvSpPr>
        <p:spPr>
          <a:xfrm>
            <a:off x="2854440" y="3838680"/>
            <a:ext cx="31680" cy="1494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10" name=""/>
          <p:cNvSpPr/>
          <p:nvPr/>
        </p:nvSpPr>
        <p:spPr>
          <a:xfrm>
            <a:off x="6089760" y="3740040"/>
            <a:ext cx="32040" cy="174960"/>
          </a:xfrm>
          <a:custGeom>
            <a:avLst/>
            <a:gdLst/>
            <a:ahLst/>
            <a:rect l="0" t="0" r="r" b="b"/>
            <a:pathLst>
              <a:path w="89" h="486">
                <a:moveTo>
                  <a:pt x="89" y="0"/>
                </a:moveTo>
                <a:lnTo>
                  <a:pt x="89" y="486"/>
                </a:lnTo>
                <a:lnTo>
                  <a:pt x="89" y="477"/>
                </a:lnTo>
                <a:lnTo>
                  <a:pt x="71" y="450"/>
                </a:lnTo>
                <a:lnTo>
                  <a:pt x="62" y="424"/>
                </a:lnTo>
                <a:lnTo>
                  <a:pt x="53" y="397"/>
                </a:lnTo>
                <a:lnTo>
                  <a:pt x="45" y="371"/>
                </a:lnTo>
                <a:lnTo>
                  <a:pt x="35" y="344"/>
                </a:lnTo>
                <a:lnTo>
                  <a:pt x="26" y="318"/>
                </a:lnTo>
                <a:lnTo>
                  <a:pt x="17" y="292"/>
                </a:lnTo>
                <a:lnTo>
                  <a:pt x="0" y="265"/>
                </a:lnTo>
                <a:lnTo>
                  <a:pt x="8" y="238"/>
                </a:lnTo>
                <a:lnTo>
                  <a:pt x="26" y="211"/>
                </a:lnTo>
                <a:lnTo>
                  <a:pt x="26" y="185"/>
                </a:lnTo>
                <a:lnTo>
                  <a:pt x="35" y="158"/>
                </a:lnTo>
                <a:lnTo>
                  <a:pt x="45" y="132"/>
                </a:lnTo>
                <a:lnTo>
                  <a:pt x="53" y="105"/>
                </a:lnTo>
                <a:lnTo>
                  <a:pt x="62" y="79"/>
                </a:lnTo>
                <a:lnTo>
                  <a:pt x="71" y="52"/>
                </a:lnTo>
                <a:lnTo>
                  <a:pt x="80" y="26"/>
                </a:lnTo>
                <a:lnTo>
                  <a:pt x="89"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1" name=""/>
          <p:cNvSpPr/>
          <p:nvPr/>
        </p:nvSpPr>
        <p:spPr>
          <a:xfrm>
            <a:off x="6086520" y="3838680"/>
            <a:ext cx="284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012" name=""/>
          <p:cNvSpPr/>
          <p:nvPr/>
        </p:nvSpPr>
        <p:spPr>
          <a:xfrm flipV="1">
            <a:off x="6032520" y="1690560"/>
            <a:ext cx="0" cy="11160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3" name=""/>
          <p:cNvSpPr/>
          <p:nvPr/>
        </p:nvSpPr>
        <p:spPr>
          <a:xfrm>
            <a:off x="3048120" y="3174840"/>
            <a:ext cx="0" cy="11494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4" name=""/>
          <p:cNvSpPr/>
          <p:nvPr/>
        </p:nvSpPr>
        <p:spPr>
          <a:xfrm>
            <a:off x="5667480" y="4222800"/>
            <a:ext cx="0" cy="38088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5" name=""/>
          <p:cNvSpPr/>
          <p:nvPr/>
        </p:nvSpPr>
        <p:spPr>
          <a:xfrm flipH="1">
            <a:off x="3048120" y="3719520"/>
            <a:ext cx="1201680" cy="60012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6" name=""/>
          <p:cNvSpPr/>
          <p:nvPr/>
        </p:nvSpPr>
        <p:spPr>
          <a:xfrm>
            <a:off x="3460680" y="3921120"/>
            <a:ext cx="365040" cy="19044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7" name=""/>
          <p:cNvSpPr/>
          <p:nvPr/>
        </p:nvSpPr>
        <p:spPr>
          <a:xfrm>
            <a:off x="5105520" y="3114720"/>
            <a:ext cx="365040" cy="17136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8" name=""/>
          <p:cNvSpPr/>
          <p:nvPr/>
        </p:nvSpPr>
        <p:spPr>
          <a:xfrm>
            <a:off x="3606840" y="3102120"/>
            <a:ext cx="365040" cy="15228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19" name=""/>
          <p:cNvSpPr/>
          <p:nvPr/>
        </p:nvSpPr>
        <p:spPr>
          <a:xfrm>
            <a:off x="4149720" y="1457280"/>
            <a:ext cx="777960" cy="44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0" name=""/>
          <p:cNvSpPr/>
          <p:nvPr/>
        </p:nvSpPr>
        <p:spPr>
          <a:xfrm flipH="1">
            <a:off x="4348080" y="1468440"/>
            <a:ext cx="114480" cy="23760"/>
          </a:xfrm>
          <a:prstGeom prst="line">
            <a:avLst/>
          </a:prstGeom>
          <a:ln w="12600">
            <a:solidFill>
              <a:srgbClr val="ffffff"/>
            </a:solidFill>
            <a:round/>
            <a:headEnd len="med" type="triangle" w="me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4021" name=""/>
          <p:cNvSpPr/>
          <p:nvPr/>
        </p:nvSpPr>
        <p:spPr>
          <a:xfrm>
            <a:off x="4660920" y="1465200"/>
            <a:ext cx="38160" cy="14400"/>
          </a:xfrm>
          <a:prstGeom prst="line">
            <a:avLst/>
          </a:prstGeom>
          <a:ln w="12600">
            <a:solidFill>
              <a:srgbClr val="ffffff"/>
            </a:solidFill>
            <a:round/>
            <a:head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sp>
        <p:nvSpPr>
          <p:cNvPr id="4022" name=""/>
          <p:cNvSpPr/>
          <p:nvPr/>
        </p:nvSpPr>
        <p:spPr>
          <a:xfrm>
            <a:off x="4465800" y="1407960"/>
            <a:ext cx="20304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23" name=""/>
          <p:cNvSpPr txBox="1"/>
          <p:nvPr/>
        </p:nvSpPr>
        <p:spPr>
          <a:xfrm>
            <a:off x="5067360" y="511200"/>
            <a:ext cx="3149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Secondary Datum)</a:t>
            </a:r>
            <a:endParaRPr b="0" lang="en-US" sz="1800" spc="-1" strike="noStrike">
              <a:solidFill>
                <a:srgbClr val="000000"/>
              </a:solidFill>
              <a:latin typeface="Arial"/>
            </a:endParaRPr>
          </a:p>
        </p:txBody>
      </p:sp>
      <p:sp>
        <p:nvSpPr>
          <p:cNvPr id="4024" name=""/>
          <p:cNvSpPr txBox="1"/>
          <p:nvPr/>
        </p:nvSpPr>
        <p:spPr>
          <a:xfrm>
            <a:off x="4559400" y="5541840"/>
            <a:ext cx="23875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imary Datum Plane A</a:t>
            </a:r>
            <a:endParaRPr b="0" lang="en-US" sz="1800" spc="-1" strike="noStrike">
              <a:solidFill>
                <a:srgbClr val="000000"/>
              </a:solidFill>
              <a:latin typeface="Arial"/>
            </a:endParaRPr>
          </a:p>
        </p:txBody>
      </p:sp>
      <p:sp>
        <p:nvSpPr>
          <p:cNvPr id="4025" name=""/>
          <p:cNvSpPr txBox="1"/>
          <p:nvPr/>
        </p:nvSpPr>
        <p:spPr>
          <a:xfrm>
            <a:off x="550800" y="1747800"/>
            <a:ext cx="2152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First Reference Plane</a:t>
            </a:r>
            <a:endParaRPr b="0" lang="en-US" sz="1800" spc="-1" strike="noStrike">
              <a:solidFill>
                <a:srgbClr val="000000"/>
              </a:solidFill>
              <a:latin typeface="Arial"/>
            </a:endParaRPr>
          </a:p>
        </p:txBody>
      </p:sp>
      <p:sp>
        <p:nvSpPr>
          <p:cNvPr id="4026" name=""/>
          <p:cNvSpPr txBox="1"/>
          <p:nvPr/>
        </p:nvSpPr>
        <p:spPr>
          <a:xfrm>
            <a:off x="6654960" y="1654200"/>
            <a:ext cx="18972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Second Refere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lane</a:t>
            </a:r>
            <a:endParaRPr b="0" lang="en-US" sz="1800" spc="-1" strike="noStrike">
              <a:solidFill>
                <a:srgbClr val="000000"/>
              </a:solidFill>
              <a:latin typeface="Arial"/>
            </a:endParaRPr>
          </a:p>
        </p:txBody>
      </p:sp>
      <p:sp>
        <p:nvSpPr>
          <p:cNvPr id="4027" name=""/>
          <p:cNvSpPr/>
          <p:nvPr/>
        </p:nvSpPr>
        <p:spPr>
          <a:xfrm flipH="1">
            <a:off x="4921200" y="666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8" name=""/>
          <p:cNvSpPr/>
          <p:nvPr/>
        </p:nvSpPr>
        <p:spPr>
          <a:xfrm flipH="1">
            <a:off x="4540320" y="666720"/>
            <a:ext cx="38088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9" name=""/>
          <p:cNvSpPr/>
          <p:nvPr/>
        </p:nvSpPr>
        <p:spPr>
          <a:xfrm flipH="1">
            <a:off x="6524640" y="1809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0" name=""/>
          <p:cNvSpPr/>
          <p:nvPr/>
        </p:nvSpPr>
        <p:spPr>
          <a:xfrm flipH="1">
            <a:off x="4349880" y="56991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1" name=""/>
          <p:cNvSpPr/>
          <p:nvPr/>
        </p:nvSpPr>
        <p:spPr>
          <a:xfrm flipV="1">
            <a:off x="4351320" y="5000760"/>
            <a:ext cx="271440" cy="69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2" name=""/>
          <p:cNvSpPr/>
          <p:nvPr/>
        </p:nvSpPr>
        <p:spPr>
          <a:xfrm>
            <a:off x="2841480" y="192096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3" name=""/>
          <p:cNvSpPr/>
          <p:nvPr/>
        </p:nvSpPr>
        <p:spPr>
          <a:xfrm>
            <a:off x="3032280" y="192096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4" name=""/>
          <p:cNvSpPr/>
          <p:nvPr/>
        </p:nvSpPr>
        <p:spPr>
          <a:xfrm>
            <a:off x="5624640" y="24177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4035" name=""/>
          <p:cNvSpPr/>
          <p:nvPr/>
        </p:nvSpPr>
        <p:spPr>
          <a:xfrm>
            <a:off x="3502080" y="24066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4036" name=""/>
          <p:cNvSpPr/>
          <p:nvPr/>
        </p:nvSpPr>
        <p:spPr>
          <a:xfrm>
            <a:off x="4592520" y="49608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4037" name=""/>
          <p:cNvSpPr/>
          <p:nvPr/>
        </p:nvSpPr>
        <p:spPr>
          <a:xfrm>
            <a:off x="5070600" y="3908520"/>
            <a:ext cx="830520" cy="491040"/>
          </a:xfrm>
          <a:custGeom>
            <a:avLst/>
            <a:gdLst/>
            <a:ahLst/>
            <a:rect l="0" t="0" r="r" b="b"/>
            <a:pathLst>
              <a:path w="2307" h="1364">
                <a:moveTo>
                  <a:pt x="782" y="1364"/>
                </a:moveTo>
                <a:lnTo>
                  <a:pt x="0" y="826"/>
                </a:lnTo>
                <a:lnTo>
                  <a:pt x="1607" y="0"/>
                </a:lnTo>
                <a:lnTo>
                  <a:pt x="2307" y="413"/>
                </a:lnTo>
                <a:lnTo>
                  <a:pt x="2307" y="1323"/>
                </a:lnTo>
                <a:lnTo>
                  <a:pt x="1607" y="909"/>
                </a:lnTo>
                <a:lnTo>
                  <a:pt x="1607" y="41"/>
                </a:lnTo>
                <a:lnTo>
                  <a:pt x="1607" y="909"/>
                </a:lnTo>
                <a:lnTo>
                  <a:pt x="782" y="1364"/>
                </a:lnTo>
                <a:close/>
              </a:path>
            </a:pathLst>
          </a:custGeom>
          <a:gradFill rotWithShape="0">
            <a:gsLst>
              <a:gs pos="0">
                <a:srgbClr val="002622"/>
              </a:gs>
              <a:gs pos="100000">
                <a:srgbClr val="008074"/>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8" name=""/>
          <p:cNvSpPr/>
          <p:nvPr/>
        </p:nvSpPr>
        <p:spPr>
          <a:xfrm>
            <a:off x="5303880" y="4357800"/>
            <a:ext cx="0" cy="36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9" name=""/>
          <p:cNvSpPr/>
          <p:nvPr/>
        </p:nvSpPr>
        <p:spPr>
          <a:xfrm>
            <a:off x="5318280" y="4270320"/>
            <a:ext cx="603720" cy="460800"/>
          </a:xfrm>
          <a:custGeom>
            <a:avLst/>
            <a:gdLst/>
            <a:ahLst/>
            <a:rect l="0" t="0" r="r" b="b"/>
            <a:pathLst>
              <a:path w="1677" h="1280">
                <a:moveTo>
                  <a:pt x="0" y="530"/>
                </a:moveTo>
                <a:lnTo>
                  <a:pt x="927" y="0"/>
                </a:lnTo>
                <a:lnTo>
                  <a:pt x="1677" y="441"/>
                </a:lnTo>
                <a:lnTo>
                  <a:pt x="971" y="1016"/>
                </a:lnTo>
                <a:lnTo>
                  <a:pt x="0" y="1280"/>
                </a:lnTo>
                <a:lnTo>
                  <a:pt x="0" y="53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40" name=""/>
          <p:cNvSpPr/>
          <p:nvPr/>
        </p:nvSpPr>
        <p:spPr>
          <a:xfrm flipH="1">
            <a:off x="5613480" y="2809800"/>
            <a:ext cx="431640" cy="2127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1" name=""/>
          <p:cNvSpPr/>
          <p:nvPr/>
        </p:nvSpPr>
        <p:spPr>
          <a:xfrm>
            <a:off x="1735200" y="3441600"/>
            <a:ext cx="2757600" cy="185112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2" name=""/>
          <p:cNvSpPr/>
          <p:nvPr/>
        </p:nvSpPr>
        <p:spPr>
          <a:xfrm flipH="1" flipV="1">
            <a:off x="6032520" y="2811600"/>
            <a:ext cx="1384200" cy="80784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3" name=""/>
          <p:cNvSpPr/>
          <p:nvPr/>
        </p:nvSpPr>
        <p:spPr>
          <a:xfrm flipV="1">
            <a:off x="1739880" y="2771640"/>
            <a:ext cx="1301760" cy="65736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4" name=""/>
          <p:cNvSpPr/>
          <p:nvPr/>
        </p:nvSpPr>
        <p:spPr>
          <a:xfrm flipH="1" flipV="1">
            <a:off x="4476600" y="1946160"/>
            <a:ext cx="493920" cy="26352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5" name=""/>
          <p:cNvSpPr/>
          <p:nvPr/>
        </p:nvSpPr>
        <p:spPr>
          <a:xfrm flipV="1">
            <a:off x="4492800" y="3619440"/>
            <a:ext cx="2920680" cy="167976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6" name=""/>
          <p:cNvSpPr/>
          <p:nvPr/>
        </p:nvSpPr>
        <p:spPr>
          <a:xfrm>
            <a:off x="4175280" y="3111480"/>
            <a:ext cx="730080" cy="41292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7" name=""/>
          <p:cNvSpPr/>
          <p:nvPr/>
        </p:nvSpPr>
        <p:spPr>
          <a:xfrm>
            <a:off x="4111560" y="3111480"/>
            <a:ext cx="857160" cy="476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8" name=""/>
          <p:cNvSpPr/>
          <p:nvPr/>
        </p:nvSpPr>
        <p:spPr>
          <a:xfrm>
            <a:off x="4105440" y="3311640"/>
            <a:ext cx="857160" cy="476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9" name=""/>
          <p:cNvSpPr/>
          <p:nvPr/>
        </p:nvSpPr>
        <p:spPr>
          <a:xfrm>
            <a:off x="4965840" y="33656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0" name=""/>
          <p:cNvSpPr/>
          <p:nvPr/>
        </p:nvSpPr>
        <p:spPr>
          <a:xfrm>
            <a:off x="4111560" y="336564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1" name=""/>
          <p:cNvSpPr/>
          <p:nvPr/>
        </p:nvSpPr>
        <p:spPr>
          <a:xfrm>
            <a:off x="4152960" y="3390840"/>
            <a:ext cx="57600" cy="62280"/>
          </a:xfrm>
          <a:custGeom>
            <a:avLst/>
            <a:gdLst/>
            <a:ahLst/>
            <a:rect l="0" t="0" r="r" b="b"/>
            <a:pathLst>
              <a:path w="160" h="173">
                <a:moveTo>
                  <a:pt x="160" y="80"/>
                </a:moveTo>
                <a:lnTo>
                  <a:pt x="121" y="0"/>
                </a:lnTo>
                <a:lnTo>
                  <a:pt x="0" y="106"/>
                </a:lnTo>
                <a:lnTo>
                  <a:pt x="53" y="173"/>
                </a:lnTo>
                <a:lnTo>
                  <a:pt x="160" y="80"/>
                </a:lnTo>
                <a:close/>
              </a:path>
            </a:pathLst>
          </a:custGeom>
          <a:solidFill>
            <a:srgbClr val="a2c1fe"/>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4052" name=""/>
          <p:cNvSpPr/>
          <p:nvPr/>
        </p:nvSpPr>
        <p:spPr>
          <a:xfrm>
            <a:off x="4119480" y="3429000"/>
            <a:ext cx="71640" cy="105120"/>
          </a:xfrm>
          <a:custGeom>
            <a:avLst/>
            <a:gdLst/>
            <a:ahLst/>
            <a:rect l="0" t="0" r="r" b="b"/>
            <a:pathLst>
              <a:path w="199" h="292">
                <a:moveTo>
                  <a:pt x="26" y="0"/>
                </a:moveTo>
                <a:lnTo>
                  <a:pt x="199" y="212"/>
                </a:lnTo>
                <a:lnTo>
                  <a:pt x="0" y="292"/>
                </a:lnTo>
                <a:lnTo>
                  <a:pt x="0" y="119"/>
                </a:lnTo>
                <a:lnTo>
                  <a:pt x="26" y="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3" name=""/>
          <p:cNvSpPr/>
          <p:nvPr/>
        </p:nvSpPr>
        <p:spPr>
          <a:xfrm>
            <a:off x="4857840" y="3386160"/>
            <a:ext cx="76680" cy="71640"/>
          </a:xfrm>
          <a:custGeom>
            <a:avLst/>
            <a:gdLst/>
            <a:ahLst/>
            <a:rect l="0" t="0" r="r" b="b"/>
            <a:pathLst>
              <a:path w="213" h="199">
                <a:moveTo>
                  <a:pt x="106" y="0"/>
                </a:moveTo>
                <a:lnTo>
                  <a:pt x="0" y="133"/>
                </a:lnTo>
                <a:lnTo>
                  <a:pt x="133" y="199"/>
                </a:lnTo>
                <a:lnTo>
                  <a:pt x="213" y="106"/>
                </a:lnTo>
                <a:lnTo>
                  <a:pt x="106" y="0"/>
                </a:lnTo>
                <a:close/>
              </a:path>
            </a:pathLst>
          </a:custGeom>
          <a:solidFill>
            <a:srgbClr val="a2c1fe"/>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4054" name=""/>
          <p:cNvSpPr/>
          <p:nvPr/>
        </p:nvSpPr>
        <p:spPr>
          <a:xfrm>
            <a:off x="4913280" y="3451320"/>
            <a:ext cx="49680" cy="128880"/>
          </a:xfrm>
          <a:custGeom>
            <a:avLst/>
            <a:gdLst/>
            <a:ahLst/>
            <a:rect l="0" t="0" r="r" b="b"/>
            <a:pathLst>
              <a:path w="138" h="358">
                <a:moveTo>
                  <a:pt x="0" y="70"/>
                </a:moveTo>
                <a:lnTo>
                  <a:pt x="67" y="0"/>
                </a:lnTo>
                <a:lnTo>
                  <a:pt x="138" y="203"/>
                </a:lnTo>
                <a:lnTo>
                  <a:pt x="98" y="358"/>
                </a:lnTo>
                <a:lnTo>
                  <a:pt x="0" y="7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5" name=""/>
          <p:cNvSpPr/>
          <p:nvPr/>
        </p:nvSpPr>
        <p:spPr>
          <a:xfrm>
            <a:off x="4540320" y="3116160"/>
            <a:ext cx="0" cy="41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6" name=""/>
          <p:cNvSpPr/>
          <p:nvPr/>
        </p:nvSpPr>
        <p:spPr>
          <a:xfrm flipH="1" flipV="1">
            <a:off x="4780080" y="3471840"/>
            <a:ext cx="33120" cy="60480"/>
          </a:xfrm>
          <a:prstGeom prst="line">
            <a:avLst/>
          </a:prstGeom>
          <a:ln w="12600">
            <a:solidFill>
              <a:srgbClr val="fc0128"/>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4057" name=""/>
          <p:cNvSpPr/>
          <p:nvPr/>
        </p:nvSpPr>
        <p:spPr>
          <a:xfrm>
            <a:off x="4214880" y="3252960"/>
            <a:ext cx="652680" cy="152640"/>
          </a:xfrm>
          <a:custGeom>
            <a:avLst/>
            <a:gdLst/>
            <a:ahLst/>
            <a:rect l="0" t="0" r="r" b="b"/>
            <a:pathLst>
              <a:path w="1813" h="424">
                <a:moveTo>
                  <a:pt x="26" y="397"/>
                </a:moveTo>
                <a:lnTo>
                  <a:pt x="0" y="331"/>
                </a:lnTo>
                <a:lnTo>
                  <a:pt x="793" y="0"/>
                </a:lnTo>
                <a:lnTo>
                  <a:pt x="1681" y="198"/>
                </a:lnTo>
                <a:lnTo>
                  <a:pt x="1813" y="384"/>
                </a:lnTo>
                <a:lnTo>
                  <a:pt x="1786" y="424"/>
                </a:lnTo>
                <a:lnTo>
                  <a:pt x="26" y="397"/>
                </a:lnTo>
                <a:close/>
              </a:path>
            </a:pathLst>
          </a:custGeom>
          <a:gradFill rotWithShape="0">
            <a:gsLst>
              <a:gs pos="0">
                <a:srgbClr val="002622"/>
              </a:gs>
              <a:gs pos="50000">
                <a:srgbClr val="008074"/>
              </a:gs>
              <a:gs pos="100000">
                <a:srgbClr val="002622"/>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8" name=""/>
          <p:cNvSpPr/>
          <p:nvPr/>
        </p:nvSpPr>
        <p:spPr>
          <a:xfrm flipV="1">
            <a:off x="4243320" y="3519360"/>
            <a:ext cx="0" cy="19872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9" name=""/>
          <p:cNvSpPr/>
          <p:nvPr/>
        </p:nvSpPr>
        <p:spPr>
          <a:xfrm flipV="1">
            <a:off x="4243320" y="3465360"/>
            <a:ext cx="42840" cy="54000"/>
          </a:xfrm>
          <a:prstGeom prst="line">
            <a:avLst/>
          </a:prstGeom>
          <a:ln w="12600">
            <a:solidFill>
              <a:srgbClr val="fd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060" name=""/>
          <p:cNvSpPr/>
          <p:nvPr/>
        </p:nvSpPr>
        <p:spPr>
          <a:xfrm flipV="1">
            <a:off x="4540320" y="1063800"/>
            <a:ext cx="0" cy="250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1" name=""/>
          <p:cNvSpPr/>
          <p:nvPr/>
        </p:nvSpPr>
        <p:spPr>
          <a:xfrm flipV="1">
            <a:off x="4286160" y="3321000"/>
            <a:ext cx="268200" cy="1443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2" name=""/>
          <p:cNvSpPr/>
          <p:nvPr/>
        </p:nvSpPr>
        <p:spPr>
          <a:xfrm flipV="1">
            <a:off x="4971960" y="3254400"/>
            <a:ext cx="169920" cy="90360"/>
          </a:xfrm>
          <a:prstGeom prst="line">
            <a:avLst/>
          </a:prstGeom>
          <a:ln w="12600">
            <a:solidFill>
              <a:srgbClr val="fd0000"/>
            </a:solidFill>
            <a:custDash>
              <a:ds d="402857" sp="402857"/>
            </a:custDash>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063" name=""/>
          <p:cNvSpPr/>
          <p:nvPr/>
        </p:nvSpPr>
        <p:spPr>
          <a:xfrm flipH="1">
            <a:off x="5683320" y="1809720"/>
            <a:ext cx="84132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4" name=""/>
          <p:cNvSpPr/>
          <p:nvPr/>
        </p:nvSpPr>
        <p:spPr>
          <a:xfrm flipV="1">
            <a:off x="5402160" y="3029040"/>
            <a:ext cx="198720" cy="92160"/>
          </a:xfrm>
          <a:prstGeom prst="line">
            <a:avLst/>
          </a:prstGeom>
          <a:ln w="12600">
            <a:solidFill>
              <a:srgbClr val="fd0000"/>
            </a:solidFill>
            <a:custDash>
              <a:ds d="402857" sp="402857"/>
            </a:custDash>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4065" name=""/>
          <p:cNvSpPr/>
          <p:nvPr/>
        </p:nvSpPr>
        <p:spPr>
          <a:xfrm flipV="1">
            <a:off x="5985000" y="3228840"/>
            <a:ext cx="0" cy="1229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6" name=""/>
          <p:cNvSpPr/>
          <p:nvPr/>
        </p:nvSpPr>
        <p:spPr>
          <a:xfrm>
            <a:off x="4540320" y="2428920"/>
            <a:ext cx="1444680" cy="793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7" name=""/>
          <p:cNvSpPr/>
          <p:nvPr/>
        </p:nvSpPr>
        <p:spPr>
          <a:xfrm flipH="1" flipV="1">
            <a:off x="3060720" y="1600200"/>
            <a:ext cx="1479600" cy="8287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8" name=""/>
          <p:cNvSpPr/>
          <p:nvPr/>
        </p:nvSpPr>
        <p:spPr>
          <a:xfrm>
            <a:off x="3057480" y="1612800"/>
            <a:ext cx="0" cy="1143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9" name=""/>
          <p:cNvSpPr/>
          <p:nvPr/>
        </p:nvSpPr>
        <p:spPr>
          <a:xfrm flipH="1" flipV="1">
            <a:off x="4822920" y="3733920"/>
            <a:ext cx="1158840" cy="711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0" name=""/>
          <p:cNvSpPr/>
          <p:nvPr/>
        </p:nvSpPr>
        <p:spPr>
          <a:xfrm flipH="1" flipV="1">
            <a:off x="3073320" y="2768760"/>
            <a:ext cx="381240" cy="2156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1" name=""/>
          <p:cNvSpPr/>
          <p:nvPr/>
        </p:nvSpPr>
        <p:spPr>
          <a:xfrm flipH="1" flipV="1">
            <a:off x="3916440" y="3235320"/>
            <a:ext cx="198360" cy="11124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2" name=""/>
          <p:cNvSpPr/>
          <p:nvPr/>
        </p:nvSpPr>
        <p:spPr>
          <a:xfrm flipV="1">
            <a:off x="3041640" y="1692360"/>
            <a:ext cx="2989440" cy="14763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3" name=""/>
          <p:cNvSpPr/>
          <p:nvPr/>
        </p:nvSpPr>
        <p:spPr>
          <a:xfrm flipV="1">
            <a:off x="4809960" y="3532320"/>
            <a:ext cx="0" cy="191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4" name=""/>
          <p:cNvSpPr/>
          <p:nvPr/>
        </p:nvSpPr>
        <p:spPr>
          <a:xfrm flipH="1" flipV="1">
            <a:off x="4541760" y="3321000"/>
            <a:ext cx="238320" cy="150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5" name=""/>
          <p:cNvSpPr/>
          <p:nvPr/>
        </p:nvSpPr>
        <p:spPr>
          <a:xfrm flipH="1" flipV="1">
            <a:off x="3481560" y="2982960"/>
            <a:ext cx="199800" cy="12384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6" name=""/>
          <p:cNvSpPr/>
          <p:nvPr/>
        </p:nvSpPr>
        <p:spPr>
          <a:xfrm flipH="1" flipV="1">
            <a:off x="4264200" y="3166920"/>
            <a:ext cx="277560" cy="15408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7" name=""/>
          <p:cNvSpPr/>
          <p:nvPr/>
        </p:nvSpPr>
        <p:spPr>
          <a:xfrm flipV="1">
            <a:off x="4548240" y="3182760"/>
            <a:ext cx="261720" cy="138240"/>
          </a:xfrm>
          <a:prstGeom prst="line">
            <a:avLst/>
          </a:prstGeom>
          <a:ln w="12600">
            <a:solidFill>
              <a:srgbClr val="fd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8" name=""/>
          <p:cNvSpPr/>
          <p:nvPr/>
        </p:nvSpPr>
        <p:spPr>
          <a:xfrm>
            <a:off x="4813200" y="3181320"/>
            <a:ext cx="34920" cy="6480"/>
          </a:xfrm>
          <a:prstGeom prst="line">
            <a:avLst/>
          </a:prstGeom>
          <a:ln w="12600">
            <a:solidFill>
              <a:srgbClr val="fd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grpSp>
        <p:nvGrpSpPr>
          <p:cNvPr id="4079" name=""/>
          <p:cNvGrpSpPr/>
          <p:nvPr/>
        </p:nvGrpSpPr>
        <p:grpSpPr>
          <a:xfrm>
            <a:off x="1254240" y="6000840"/>
            <a:ext cx="3222720" cy="368280"/>
            <a:chOff x="1254240" y="6000840"/>
            <a:chExt cx="3222720" cy="368280"/>
          </a:xfrm>
        </p:grpSpPr>
        <p:sp>
          <p:nvSpPr>
            <p:cNvPr id="4080" name=""/>
            <p:cNvSpPr/>
            <p:nvPr/>
          </p:nvSpPr>
          <p:spPr>
            <a:xfrm>
              <a:off x="1254240" y="6000840"/>
              <a:ext cx="3222720" cy="320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81" name=""/>
            <p:cNvSpPr/>
            <p:nvPr/>
          </p:nvSpPr>
          <p:spPr>
            <a:xfrm>
              <a:off x="1654200" y="6006960"/>
              <a:ext cx="0" cy="311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2" name=""/>
            <p:cNvSpPr/>
            <p:nvPr/>
          </p:nvSpPr>
          <p:spPr>
            <a:xfrm>
              <a:off x="2790720" y="6006960"/>
              <a:ext cx="0" cy="311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3" name=""/>
            <p:cNvSpPr/>
            <p:nvPr/>
          </p:nvSpPr>
          <p:spPr>
            <a:xfrm>
              <a:off x="3146400" y="600696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84" name=""/>
            <p:cNvGrpSpPr/>
            <p:nvPr/>
          </p:nvGrpSpPr>
          <p:grpSpPr>
            <a:xfrm>
              <a:off x="1327320" y="6035760"/>
              <a:ext cx="247320" cy="263520"/>
              <a:chOff x="1327320" y="6035760"/>
              <a:chExt cx="247320" cy="263520"/>
            </a:xfrm>
          </p:grpSpPr>
          <p:sp>
            <p:nvSpPr>
              <p:cNvPr id="4085" name=""/>
              <p:cNvSpPr/>
              <p:nvPr/>
            </p:nvSpPr>
            <p:spPr>
              <a:xfrm>
                <a:off x="1362240" y="6076800"/>
                <a:ext cx="17784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86" name=""/>
              <p:cNvSpPr/>
              <p:nvPr/>
            </p:nvSpPr>
            <p:spPr>
              <a:xfrm>
                <a:off x="1454040" y="603576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7" name=""/>
              <p:cNvSpPr/>
              <p:nvPr/>
            </p:nvSpPr>
            <p:spPr>
              <a:xfrm>
                <a:off x="1327320" y="6170760"/>
                <a:ext cx="24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088" name=""/>
            <p:cNvGrpSpPr/>
            <p:nvPr/>
          </p:nvGrpSpPr>
          <p:grpSpPr>
            <a:xfrm>
              <a:off x="1722600" y="6058080"/>
              <a:ext cx="206280" cy="203040"/>
              <a:chOff x="1722600" y="6058080"/>
              <a:chExt cx="206280" cy="203040"/>
            </a:xfrm>
          </p:grpSpPr>
          <p:sp>
            <p:nvSpPr>
              <p:cNvPr id="4089" name=""/>
              <p:cNvSpPr/>
              <p:nvPr/>
            </p:nvSpPr>
            <p:spPr>
              <a:xfrm>
                <a:off x="1749600" y="6084720"/>
                <a:ext cx="15228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0" name=""/>
              <p:cNvSpPr/>
              <p:nvPr/>
            </p:nvSpPr>
            <p:spPr>
              <a:xfrm flipH="1">
                <a:off x="1722600" y="6058080"/>
                <a:ext cx="206280" cy="20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91" name=""/>
            <p:cNvSpPr txBox="1"/>
            <p:nvPr/>
          </p:nvSpPr>
          <p:spPr>
            <a:xfrm>
              <a:off x="1943280" y="6018120"/>
              <a:ext cx="782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4092" name=""/>
            <p:cNvSpPr/>
            <p:nvPr/>
          </p:nvSpPr>
          <p:spPr>
            <a:xfrm>
              <a:off x="2408400" y="6032520"/>
              <a:ext cx="26352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3" name=""/>
            <p:cNvSpPr txBox="1"/>
            <p:nvPr/>
          </p:nvSpPr>
          <p:spPr>
            <a:xfrm>
              <a:off x="2832120" y="60120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094" name=""/>
            <p:cNvSpPr txBox="1"/>
            <p:nvPr/>
          </p:nvSpPr>
          <p:spPr>
            <a:xfrm>
              <a:off x="3174840" y="60213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4095" name=""/>
            <p:cNvSpPr/>
            <p:nvPr/>
          </p:nvSpPr>
          <p:spPr>
            <a:xfrm>
              <a:off x="3486240" y="6032520"/>
              <a:ext cx="26676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6" name=""/>
            <p:cNvSpPr txBox="1"/>
            <p:nvPr/>
          </p:nvSpPr>
          <p:spPr>
            <a:xfrm>
              <a:off x="3429000" y="6018120"/>
              <a:ext cx="376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097" name=""/>
            <p:cNvSpPr/>
            <p:nvPr/>
          </p:nvSpPr>
          <p:spPr>
            <a:xfrm>
              <a:off x="4127400" y="6041880"/>
              <a:ext cx="27288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8" name=""/>
            <p:cNvSpPr/>
            <p:nvPr/>
          </p:nvSpPr>
          <p:spPr>
            <a:xfrm>
              <a:off x="3841920" y="600084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9" name=""/>
            <p:cNvSpPr txBox="1"/>
            <p:nvPr/>
          </p:nvSpPr>
          <p:spPr>
            <a:xfrm>
              <a:off x="3813120" y="6002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4100" name=""/>
            <p:cNvSpPr txBox="1"/>
            <p:nvPr/>
          </p:nvSpPr>
          <p:spPr>
            <a:xfrm>
              <a:off x="4076640" y="6024600"/>
              <a:ext cx="376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4101" name=""/>
          <p:cNvSpPr/>
          <p:nvPr/>
        </p:nvSpPr>
        <p:spPr>
          <a:xfrm flipH="1">
            <a:off x="4024440" y="1954080"/>
            <a:ext cx="444240" cy="20340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2" name=""/>
          <p:cNvSpPr/>
          <p:nvPr/>
        </p:nvSpPr>
        <p:spPr>
          <a:xfrm flipV="1">
            <a:off x="5253120" y="4361040"/>
            <a:ext cx="4608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4103" name=""/>
          <p:cNvSpPr/>
          <p:nvPr/>
        </p:nvSpPr>
        <p:spPr>
          <a:xfrm>
            <a:off x="5221440" y="4379760"/>
            <a:ext cx="70200" cy="66960"/>
          </a:xfrm>
          <a:custGeom>
            <a:avLst/>
            <a:gdLst/>
            <a:ahLst/>
            <a:rect l="0" t="0" r="r" b="b"/>
            <a:pathLst>
              <a:path w="195" h="186">
                <a:moveTo>
                  <a:pt x="0" y="63"/>
                </a:moveTo>
                <a:lnTo>
                  <a:pt x="185" y="0"/>
                </a:lnTo>
                <a:lnTo>
                  <a:pt x="195" y="49"/>
                </a:lnTo>
                <a:lnTo>
                  <a:pt x="195" y="186"/>
                </a:lnTo>
                <a:lnTo>
                  <a:pt x="0" y="63"/>
                </a:lnTo>
                <a:close/>
              </a:path>
            </a:pathLst>
          </a:custGeom>
          <a:solidFill>
            <a:srgbClr val="004e47"/>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4104" name=""/>
          <p:cNvSpPr/>
          <p:nvPr/>
        </p:nvSpPr>
        <p:spPr>
          <a:xfrm>
            <a:off x="5310360" y="4329000"/>
            <a:ext cx="71640" cy="128880"/>
          </a:xfrm>
          <a:custGeom>
            <a:avLst/>
            <a:gdLst/>
            <a:ahLst/>
            <a:rect l="0" t="0" r="r" b="b"/>
            <a:pathLst>
              <a:path w="199" h="358">
                <a:moveTo>
                  <a:pt x="0" y="8"/>
                </a:moveTo>
                <a:lnTo>
                  <a:pt x="0" y="358"/>
                </a:lnTo>
                <a:lnTo>
                  <a:pt x="199" y="358"/>
                </a:lnTo>
                <a:lnTo>
                  <a:pt x="88" y="0"/>
                </a:lnTo>
                <a:lnTo>
                  <a:pt x="0" y="8"/>
                </a:lnTo>
                <a:close/>
              </a:path>
            </a:pathLst>
          </a:custGeom>
          <a:solidFill>
            <a:srgbClr val="004e4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05" name=""/>
          <p:cNvSpPr/>
          <p:nvPr/>
        </p:nvSpPr>
        <p:spPr>
          <a:xfrm flipH="1">
            <a:off x="5308560" y="4390920"/>
            <a:ext cx="54000" cy="31680"/>
          </a:xfrm>
          <a:prstGeom prst="line">
            <a:avLst/>
          </a:prstGeom>
          <a:ln w="12600">
            <a:solidFill>
              <a:srgbClr val="fffff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06" name=""/>
          <p:cNvSpPr txBox="1"/>
          <p:nvPr/>
        </p:nvSpPr>
        <p:spPr>
          <a:xfrm>
            <a:off x="123840" y="4621320"/>
            <a:ext cx="3935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otational orientation ma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 established by identifying 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the reference planes as the tertiar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in the feature control frame.</a:t>
            </a:r>
            <a:endParaRPr b="0" lang="en-US" sz="2000" spc="-1" strike="noStrike">
              <a:solidFill>
                <a:srgbClr val="000000"/>
              </a:solidFill>
              <a:latin typeface="Arial"/>
            </a:endParaRPr>
          </a:p>
        </p:txBody>
      </p:sp>
      <p:sp>
        <p:nvSpPr>
          <p:cNvPr id="4107" name=""/>
          <p:cNvSpPr/>
          <p:nvPr/>
        </p:nvSpPr>
        <p:spPr>
          <a:xfrm flipV="1">
            <a:off x="6181560" y="4578480"/>
            <a:ext cx="525600" cy="3254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8" name=""/>
          <p:cNvSpPr/>
          <p:nvPr/>
        </p:nvSpPr>
        <p:spPr>
          <a:xfrm flipV="1">
            <a:off x="6707160" y="4227480"/>
            <a:ext cx="554040" cy="33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9" name=""/>
          <p:cNvSpPr/>
          <p:nvPr/>
        </p:nvSpPr>
        <p:spPr>
          <a:xfrm>
            <a:off x="7248600" y="423072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0" name=""/>
          <p:cNvSpPr txBox="1"/>
          <p:nvPr/>
        </p:nvSpPr>
        <p:spPr>
          <a:xfrm>
            <a:off x="7338960" y="4010040"/>
            <a:ext cx="1728720" cy="131112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Feature control</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about tertiary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datum center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plane C</a:t>
            </a:r>
            <a:endParaRPr b="0" lang="en-US" sz="2000" spc="-1" strike="noStrike">
              <a:solidFill>
                <a:srgbClr val="000000"/>
              </a:solidFill>
              <a:latin typeface="Arial"/>
            </a:endParaRPr>
          </a:p>
        </p:txBody>
      </p:sp>
      <p:sp>
        <p:nvSpPr>
          <p:cNvPr id="411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2" name=""/>
          <p:cNvSpPr/>
          <p:nvPr/>
        </p:nvSpPr>
        <p:spPr>
          <a:xfrm>
            <a:off x="2841480" y="3168720"/>
            <a:ext cx="3286080" cy="166680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3" name=""/>
          <p:cNvSpPr/>
          <p:nvPr/>
        </p:nvSpPr>
        <p:spPr>
          <a:xfrm>
            <a:off x="2841480" y="2809800"/>
            <a:ext cx="3286080" cy="166680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4" name=""/>
          <p:cNvSpPr/>
          <p:nvPr/>
        </p:nvSpPr>
        <p:spPr>
          <a:xfrm>
            <a:off x="2841480" y="36511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5" name=""/>
          <p:cNvSpPr/>
          <p:nvPr/>
        </p:nvSpPr>
        <p:spPr>
          <a:xfrm>
            <a:off x="6124680" y="366696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6" name=""/>
          <p:cNvSpPr/>
          <p:nvPr/>
        </p:nvSpPr>
        <p:spPr>
          <a:xfrm>
            <a:off x="2841480" y="3651120"/>
            <a:ext cx="38520" cy="330480"/>
          </a:xfrm>
          <a:custGeom>
            <a:avLst/>
            <a:gdLst/>
            <a:ahLst/>
            <a:rect l="0" t="0" r="r" b="b"/>
            <a:pathLst>
              <a:path w="107" h="918">
                <a:moveTo>
                  <a:pt x="0" y="0"/>
                </a:moveTo>
                <a:lnTo>
                  <a:pt x="0" y="26"/>
                </a:lnTo>
                <a:lnTo>
                  <a:pt x="8" y="52"/>
                </a:lnTo>
                <a:lnTo>
                  <a:pt x="8" y="79"/>
                </a:lnTo>
                <a:lnTo>
                  <a:pt x="8" y="105"/>
                </a:lnTo>
                <a:lnTo>
                  <a:pt x="8" y="132"/>
                </a:lnTo>
                <a:lnTo>
                  <a:pt x="8" y="158"/>
                </a:lnTo>
                <a:lnTo>
                  <a:pt x="8" y="185"/>
                </a:lnTo>
                <a:lnTo>
                  <a:pt x="17" y="211"/>
                </a:lnTo>
                <a:lnTo>
                  <a:pt x="26" y="238"/>
                </a:lnTo>
                <a:lnTo>
                  <a:pt x="36" y="264"/>
                </a:lnTo>
                <a:lnTo>
                  <a:pt x="45" y="291"/>
                </a:lnTo>
                <a:lnTo>
                  <a:pt x="62" y="317"/>
                </a:lnTo>
                <a:lnTo>
                  <a:pt x="71" y="343"/>
                </a:lnTo>
                <a:lnTo>
                  <a:pt x="71" y="370"/>
                </a:lnTo>
                <a:lnTo>
                  <a:pt x="81" y="396"/>
                </a:lnTo>
                <a:lnTo>
                  <a:pt x="90" y="423"/>
                </a:lnTo>
                <a:lnTo>
                  <a:pt x="99" y="449"/>
                </a:lnTo>
                <a:lnTo>
                  <a:pt x="107" y="477"/>
                </a:lnTo>
                <a:lnTo>
                  <a:pt x="107" y="503"/>
                </a:lnTo>
                <a:lnTo>
                  <a:pt x="99" y="530"/>
                </a:lnTo>
                <a:lnTo>
                  <a:pt x="90" y="556"/>
                </a:lnTo>
                <a:lnTo>
                  <a:pt x="81" y="583"/>
                </a:lnTo>
                <a:lnTo>
                  <a:pt x="71" y="609"/>
                </a:lnTo>
                <a:lnTo>
                  <a:pt x="62" y="636"/>
                </a:lnTo>
                <a:lnTo>
                  <a:pt x="53" y="662"/>
                </a:lnTo>
                <a:lnTo>
                  <a:pt x="53" y="688"/>
                </a:lnTo>
                <a:lnTo>
                  <a:pt x="45" y="715"/>
                </a:lnTo>
                <a:lnTo>
                  <a:pt x="36" y="741"/>
                </a:lnTo>
                <a:lnTo>
                  <a:pt x="26" y="777"/>
                </a:lnTo>
                <a:lnTo>
                  <a:pt x="17" y="803"/>
                </a:lnTo>
                <a:lnTo>
                  <a:pt x="8" y="830"/>
                </a:lnTo>
                <a:lnTo>
                  <a:pt x="0" y="865"/>
                </a:lnTo>
                <a:lnTo>
                  <a:pt x="0" y="891"/>
                </a:lnTo>
                <a:lnTo>
                  <a:pt x="0" y="918"/>
                </a:lnTo>
                <a:lnTo>
                  <a:pt x="8" y="891"/>
                </a:lnTo>
                <a:lnTo>
                  <a:pt x="17" y="865"/>
                </a:lnTo>
                <a:lnTo>
                  <a:pt x="17" y="838"/>
                </a:lnTo>
                <a:lnTo>
                  <a:pt x="17" y="812"/>
                </a:lnTo>
                <a:lnTo>
                  <a:pt x="17" y="785"/>
                </a:lnTo>
                <a:lnTo>
                  <a:pt x="0" y="812"/>
                </a:lnTo>
                <a:lnTo>
                  <a:pt x="0" y="80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7" name=""/>
          <p:cNvSpPr/>
          <p:nvPr/>
        </p:nvSpPr>
        <p:spPr>
          <a:xfrm>
            <a:off x="2854440" y="3838680"/>
            <a:ext cx="31680" cy="1494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18" name=""/>
          <p:cNvSpPr/>
          <p:nvPr/>
        </p:nvSpPr>
        <p:spPr>
          <a:xfrm>
            <a:off x="6089760" y="3740040"/>
            <a:ext cx="32040" cy="174960"/>
          </a:xfrm>
          <a:custGeom>
            <a:avLst/>
            <a:gdLst/>
            <a:ahLst/>
            <a:rect l="0" t="0" r="r" b="b"/>
            <a:pathLst>
              <a:path w="89" h="486">
                <a:moveTo>
                  <a:pt x="89" y="0"/>
                </a:moveTo>
                <a:lnTo>
                  <a:pt x="89" y="486"/>
                </a:lnTo>
                <a:lnTo>
                  <a:pt x="89" y="477"/>
                </a:lnTo>
                <a:lnTo>
                  <a:pt x="71" y="450"/>
                </a:lnTo>
                <a:lnTo>
                  <a:pt x="62" y="424"/>
                </a:lnTo>
                <a:lnTo>
                  <a:pt x="53" y="397"/>
                </a:lnTo>
                <a:lnTo>
                  <a:pt x="45" y="371"/>
                </a:lnTo>
                <a:lnTo>
                  <a:pt x="35" y="344"/>
                </a:lnTo>
                <a:lnTo>
                  <a:pt x="26" y="318"/>
                </a:lnTo>
                <a:lnTo>
                  <a:pt x="17" y="292"/>
                </a:lnTo>
                <a:lnTo>
                  <a:pt x="0" y="265"/>
                </a:lnTo>
                <a:lnTo>
                  <a:pt x="8" y="238"/>
                </a:lnTo>
                <a:lnTo>
                  <a:pt x="26" y="211"/>
                </a:lnTo>
                <a:lnTo>
                  <a:pt x="26" y="185"/>
                </a:lnTo>
                <a:lnTo>
                  <a:pt x="35" y="158"/>
                </a:lnTo>
                <a:lnTo>
                  <a:pt x="45" y="132"/>
                </a:lnTo>
                <a:lnTo>
                  <a:pt x="53" y="105"/>
                </a:lnTo>
                <a:lnTo>
                  <a:pt x="62" y="79"/>
                </a:lnTo>
                <a:lnTo>
                  <a:pt x="71" y="52"/>
                </a:lnTo>
                <a:lnTo>
                  <a:pt x="80" y="26"/>
                </a:lnTo>
                <a:lnTo>
                  <a:pt x="89"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9" name=""/>
          <p:cNvSpPr/>
          <p:nvPr/>
        </p:nvSpPr>
        <p:spPr>
          <a:xfrm>
            <a:off x="6086520" y="3838680"/>
            <a:ext cx="284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20" name=""/>
          <p:cNvSpPr/>
          <p:nvPr/>
        </p:nvSpPr>
        <p:spPr>
          <a:xfrm flipV="1">
            <a:off x="6032520" y="1690560"/>
            <a:ext cx="0" cy="11160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1" name=""/>
          <p:cNvSpPr/>
          <p:nvPr/>
        </p:nvSpPr>
        <p:spPr>
          <a:xfrm>
            <a:off x="3048120" y="3174840"/>
            <a:ext cx="0" cy="11494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2" name=""/>
          <p:cNvSpPr/>
          <p:nvPr/>
        </p:nvSpPr>
        <p:spPr>
          <a:xfrm>
            <a:off x="5667480" y="4222800"/>
            <a:ext cx="0" cy="380880"/>
          </a:xfrm>
          <a:prstGeom prst="line">
            <a:avLst/>
          </a:prstGeom>
          <a:ln w="12600">
            <a:solidFill>
              <a:srgbClr val="00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3" name=""/>
          <p:cNvSpPr/>
          <p:nvPr/>
        </p:nvSpPr>
        <p:spPr>
          <a:xfrm flipH="1">
            <a:off x="3048120" y="3719520"/>
            <a:ext cx="1201680" cy="60012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4" name=""/>
          <p:cNvSpPr/>
          <p:nvPr/>
        </p:nvSpPr>
        <p:spPr>
          <a:xfrm>
            <a:off x="3460680" y="3921120"/>
            <a:ext cx="365040" cy="19044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5" name=""/>
          <p:cNvSpPr/>
          <p:nvPr/>
        </p:nvSpPr>
        <p:spPr>
          <a:xfrm>
            <a:off x="5105520" y="3114720"/>
            <a:ext cx="365040" cy="17136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6" name=""/>
          <p:cNvSpPr/>
          <p:nvPr/>
        </p:nvSpPr>
        <p:spPr>
          <a:xfrm>
            <a:off x="3606840" y="3102120"/>
            <a:ext cx="365040" cy="15228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27" name=""/>
          <p:cNvGrpSpPr/>
          <p:nvPr/>
        </p:nvGrpSpPr>
        <p:grpSpPr>
          <a:xfrm>
            <a:off x="4149720" y="1457280"/>
            <a:ext cx="777960" cy="444600"/>
            <a:chOff x="4149720" y="1457280"/>
            <a:chExt cx="777960" cy="444600"/>
          </a:xfrm>
        </p:grpSpPr>
        <p:sp>
          <p:nvSpPr>
            <p:cNvPr id="4128" name=""/>
            <p:cNvSpPr/>
            <p:nvPr/>
          </p:nvSpPr>
          <p:spPr>
            <a:xfrm>
              <a:off x="4149720" y="1457280"/>
              <a:ext cx="777960" cy="44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9" name=""/>
            <p:cNvSpPr/>
            <p:nvPr/>
          </p:nvSpPr>
          <p:spPr>
            <a:xfrm flipH="1">
              <a:off x="4348080" y="1468440"/>
              <a:ext cx="114480" cy="23760"/>
            </a:xfrm>
            <a:prstGeom prst="line">
              <a:avLst/>
            </a:prstGeom>
            <a:ln w="12600">
              <a:solidFill>
                <a:srgbClr val="ffffff"/>
              </a:solidFill>
              <a:round/>
              <a:headEnd len="med" type="triangle" w="me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4130" name=""/>
            <p:cNvSpPr/>
            <p:nvPr/>
          </p:nvSpPr>
          <p:spPr>
            <a:xfrm>
              <a:off x="4660920" y="1465200"/>
              <a:ext cx="38160" cy="14400"/>
            </a:xfrm>
            <a:prstGeom prst="line">
              <a:avLst/>
            </a:prstGeom>
            <a:ln w="12600">
              <a:solidFill>
                <a:srgbClr val="ffffff"/>
              </a:solidFill>
              <a:round/>
              <a:head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grpSp>
      <p:sp>
        <p:nvSpPr>
          <p:cNvPr id="4131" name=""/>
          <p:cNvSpPr/>
          <p:nvPr/>
        </p:nvSpPr>
        <p:spPr>
          <a:xfrm>
            <a:off x="4465800" y="1407960"/>
            <a:ext cx="20304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2" name=""/>
          <p:cNvSpPr txBox="1"/>
          <p:nvPr/>
        </p:nvSpPr>
        <p:spPr>
          <a:xfrm>
            <a:off x="5067360" y="511200"/>
            <a:ext cx="3149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Secondary Datum)</a:t>
            </a:r>
            <a:endParaRPr b="0" lang="en-US" sz="1800" spc="-1" strike="noStrike">
              <a:solidFill>
                <a:srgbClr val="000000"/>
              </a:solidFill>
              <a:latin typeface="Arial"/>
            </a:endParaRPr>
          </a:p>
        </p:txBody>
      </p:sp>
      <p:sp>
        <p:nvSpPr>
          <p:cNvPr id="4133" name=""/>
          <p:cNvSpPr txBox="1"/>
          <p:nvPr/>
        </p:nvSpPr>
        <p:spPr>
          <a:xfrm>
            <a:off x="4559400" y="5541840"/>
            <a:ext cx="23875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rimary Datum Plane A</a:t>
            </a:r>
            <a:endParaRPr b="0" lang="en-US" sz="1800" spc="-1" strike="noStrike">
              <a:solidFill>
                <a:srgbClr val="000000"/>
              </a:solidFill>
              <a:latin typeface="Arial"/>
            </a:endParaRPr>
          </a:p>
        </p:txBody>
      </p:sp>
      <p:sp>
        <p:nvSpPr>
          <p:cNvPr id="4134" name=""/>
          <p:cNvSpPr txBox="1"/>
          <p:nvPr/>
        </p:nvSpPr>
        <p:spPr>
          <a:xfrm>
            <a:off x="550800" y="1747800"/>
            <a:ext cx="2152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First Reference Plane</a:t>
            </a:r>
            <a:endParaRPr b="0" lang="en-US" sz="1800" spc="-1" strike="noStrike">
              <a:solidFill>
                <a:srgbClr val="000000"/>
              </a:solidFill>
              <a:latin typeface="Arial"/>
            </a:endParaRPr>
          </a:p>
        </p:txBody>
      </p:sp>
      <p:sp>
        <p:nvSpPr>
          <p:cNvPr id="4135" name=""/>
          <p:cNvSpPr txBox="1"/>
          <p:nvPr/>
        </p:nvSpPr>
        <p:spPr>
          <a:xfrm>
            <a:off x="6654960" y="1654200"/>
            <a:ext cx="18972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Second Refere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lane</a:t>
            </a:r>
            <a:endParaRPr b="0" lang="en-US" sz="1800" spc="-1" strike="noStrike">
              <a:solidFill>
                <a:srgbClr val="000000"/>
              </a:solidFill>
              <a:latin typeface="Arial"/>
            </a:endParaRPr>
          </a:p>
        </p:txBody>
      </p:sp>
      <p:sp>
        <p:nvSpPr>
          <p:cNvPr id="4136" name=""/>
          <p:cNvSpPr/>
          <p:nvPr/>
        </p:nvSpPr>
        <p:spPr>
          <a:xfrm flipH="1">
            <a:off x="4921200" y="666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7" name=""/>
          <p:cNvSpPr/>
          <p:nvPr/>
        </p:nvSpPr>
        <p:spPr>
          <a:xfrm flipH="1">
            <a:off x="4540320" y="666720"/>
            <a:ext cx="38088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8" name=""/>
          <p:cNvSpPr/>
          <p:nvPr/>
        </p:nvSpPr>
        <p:spPr>
          <a:xfrm flipH="1">
            <a:off x="6524640" y="1809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9" name=""/>
          <p:cNvSpPr/>
          <p:nvPr/>
        </p:nvSpPr>
        <p:spPr>
          <a:xfrm flipH="1">
            <a:off x="4349880" y="56991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0" name=""/>
          <p:cNvSpPr/>
          <p:nvPr/>
        </p:nvSpPr>
        <p:spPr>
          <a:xfrm flipV="1">
            <a:off x="4351320" y="5000760"/>
            <a:ext cx="271440" cy="69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1" name=""/>
          <p:cNvSpPr/>
          <p:nvPr/>
        </p:nvSpPr>
        <p:spPr>
          <a:xfrm>
            <a:off x="2841480" y="192096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2" name=""/>
          <p:cNvSpPr/>
          <p:nvPr/>
        </p:nvSpPr>
        <p:spPr>
          <a:xfrm>
            <a:off x="3032280" y="192096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3" name=""/>
          <p:cNvSpPr/>
          <p:nvPr/>
        </p:nvSpPr>
        <p:spPr>
          <a:xfrm>
            <a:off x="5624640" y="24177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4144" name=""/>
          <p:cNvSpPr/>
          <p:nvPr/>
        </p:nvSpPr>
        <p:spPr>
          <a:xfrm>
            <a:off x="3502080" y="24066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4145" name=""/>
          <p:cNvSpPr/>
          <p:nvPr/>
        </p:nvSpPr>
        <p:spPr>
          <a:xfrm>
            <a:off x="4592520" y="49608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4146" name=""/>
          <p:cNvSpPr/>
          <p:nvPr/>
        </p:nvSpPr>
        <p:spPr>
          <a:xfrm>
            <a:off x="5070600" y="3908520"/>
            <a:ext cx="830520" cy="491040"/>
          </a:xfrm>
          <a:custGeom>
            <a:avLst/>
            <a:gdLst/>
            <a:ahLst/>
            <a:rect l="0" t="0" r="r" b="b"/>
            <a:pathLst>
              <a:path w="2307" h="1364">
                <a:moveTo>
                  <a:pt x="782" y="1364"/>
                </a:moveTo>
                <a:lnTo>
                  <a:pt x="0" y="826"/>
                </a:lnTo>
                <a:lnTo>
                  <a:pt x="1607" y="0"/>
                </a:lnTo>
                <a:lnTo>
                  <a:pt x="2307" y="413"/>
                </a:lnTo>
                <a:lnTo>
                  <a:pt x="2307" y="1323"/>
                </a:lnTo>
                <a:lnTo>
                  <a:pt x="1607" y="909"/>
                </a:lnTo>
                <a:lnTo>
                  <a:pt x="1607" y="41"/>
                </a:lnTo>
                <a:lnTo>
                  <a:pt x="1607" y="909"/>
                </a:lnTo>
                <a:lnTo>
                  <a:pt x="782" y="1364"/>
                </a:lnTo>
                <a:close/>
              </a:path>
            </a:pathLst>
          </a:custGeom>
          <a:gradFill rotWithShape="0">
            <a:gsLst>
              <a:gs pos="0">
                <a:srgbClr val="002622"/>
              </a:gs>
              <a:gs pos="100000">
                <a:srgbClr val="008074"/>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47" name=""/>
          <p:cNvSpPr/>
          <p:nvPr/>
        </p:nvSpPr>
        <p:spPr>
          <a:xfrm>
            <a:off x="5303880" y="4357800"/>
            <a:ext cx="0" cy="360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48" name=""/>
          <p:cNvSpPr/>
          <p:nvPr/>
        </p:nvSpPr>
        <p:spPr>
          <a:xfrm>
            <a:off x="5318280" y="4270320"/>
            <a:ext cx="603720" cy="460800"/>
          </a:xfrm>
          <a:custGeom>
            <a:avLst/>
            <a:gdLst/>
            <a:ahLst/>
            <a:rect l="0" t="0" r="r" b="b"/>
            <a:pathLst>
              <a:path w="1677" h="1280">
                <a:moveTo>
                  <a:pt x="0" y="530"/>
                </a:moveTo>
                <a:lnTo>
                  <a:pt x="927" y="0"/>
                </a:lnTo>
                <a:lnTo>
                  <a:pt x="1677" y="441"/>
                </a:lnTo>
                <a:lnTo>
                  <a:pt x="971" y="1016"/>
                </a:lnTo>
                <a:lnTo>
                  <a:pt x="0" y="1280"/>
                </a:lnTo>
                <a:lnTo>
                  <a:pt x="0" y="53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49" name=""/>
          <p:cNvSpPr/>
          <p:nvPr/>
        </p:nvSpPr>
        <p:spPr>
          <a:xfrm flipH="1">
            <a:off x="5613480" y="2809800"/>
            <a:ext cx="431640" cy="2127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0" name=""/>
          <p:cNvSpPr/>
          <p:nvPr/>
        </p:nvSpPr>
        <p:spPr>
          <a:xfrm>
            <a:off x="1735200" y="3441600"/>
            <a:ext cx="2757600" cy="185112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1" name=""/>
          <p:cNvSpPr/>
          <p:nvPr/>
        </p:nvSpPr>
        <p:spPr>
          <a:xfrm flipH="1" flipV="1">
            <a:off x="6032520" y="2811600"/>
            <a:ext cx="1384200" cy="80784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2" name=""/>
          <p:cNvSpPr/>
          <p:nvPr/>
        </p:nvSpPr>
        <p:spPr>
          <a:xfrm flipV="1">
            <a:off x="1739880" y="2771640"/>
            <a:ext cx="1301760" cy="65736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3" name=""/>
          <p:cNvSpPr/>
          <p:nvPr/>
        </p:nvSpPr>
        <p:spPr>
          <a:xfrm flipH="1" flipV="1">
            <a:off x="4476600" y="1946160"/>
            <a:ext cx="493920" cy="26352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4" name=""/>
          <p:cNvSpPr/>
          <p:nvPr/>
        </p:nvSpPr>
        <p:spPr>
          <a:xfrm flipV="1">
            <a:off x="4492800" y="3619440"/>
            <a:ext cx="2920680" cy="167976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5" name=""/>
          <p:cNvSpPr/>
          <p:nvPr/>
        </p:nvSpPr>
        <p:spPr>
          <a:xfrm>
            <a:off x="4175280" y="3111480"/>
            <a:ext cx="730080" cy="41292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6" name=""/>
          <p:cNvSpPr/>
          <p:nvPr/>
        </p:nvSpPr>
        <p:spPr>
          <a:xfrm>
            <a:off x="4111560" y="3111480"/>
            <a:ext cx="857160" cy="476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7" name=""/>
          <p:cNvSpPr/>
          <p:nvPr/>
        </p:nvSpPr>
        <p:spPr>
          <a:xfrm>
            <a:off x="4105440" y="3311640"/>
            <a:ext cx="857160" cy="476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8" name=""/>
          <p:cNvSpPr/>
          <p:nvPr/>
        </p:nvSpPr>
        <p:spPr>
          <a:xfrm>
            <a:off x="4965840" y="33656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9" name=""/>
          <p:cNvSpPr/>
          <p:nvPr/>
        </p:nvSpPr>
        <p:spPr>
          <a:xfrm>
            <a:off x="4111560" y="336564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0" name=""/>
          <p:cNvSpPr/>
          <p:nvPr/>
        </p:nvSpPr>
        <p:spPr>
          <a:xfrm>
            <a:off x="4152960" y="3390840"/>
            <a:ext cx="57600" cy="62280"/>
          </a:xfrm>
          <a:custGeom>
            <a:avLst/>
            <a:gdLst/>
            <a:ahLst/>
            <a:rect l="0" t="0" r="r" b="b"/>
            <a:pathLst>
              <a:path w="160" h="173">
                <a:moveTo>
                  <a:pt x="160" y="80"/>
                </a:moveTo>
                <a:lnTo>
                  <a:pt x="121" y="0"/>
                </a:lnTo>
                <a:lnTo>
                  <a:pt x="0" y="106"/>
                </a:lnTo>
                <a:lnTo>
                  <a:pt x="53" y="173"/>
                </a:lnTo>
                <a:lnTo>
                  <a:pt x="160" y="80"/>
                </a:lnTo>
                <a:close/>
              </a:path>
            </a:pathLst>
          </a:custGeom>
          <a:solidFill>
            <a:srgbClr val="a2c1fe"/>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4161" name=""/>
          <p:cNvSpPr/>
          <p:nvPr/>
        </p:nvSpPr>
        <p:spPr>
          <a:xfrm>
            <a:off x="4119480" y="3429000"/>
            <a:ext cx="71640" cy="105120"/>
          </a:xfrm>
          <a:custGeom>
            <a:avLst/>
            <a:gdLst/>
            <a:ahLst/>
            <a:rect l="0" t="0" r="r" b="b"/>
            <a:pathLst>
              <a:path w="199" h="292">
                <a:moveTo>
                  <a:pt x="26" y="0"/>
                </a:moveTo>
                <a:lnTo>
                  <a:pt x="199" y="212"/>
                </a:lnTo>
                <a:lnTo>
                  <a:pt x="0" y="292"/>
                </a:lnTo>
                <a:lnTo>
                  <a:pt x="0" y="119"/>
                </a:lnTo>
                <a:lnTo>
                  <a:pt x="26" y="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2" name=""/>
          <p:cNvSpPr/>
          <p:nvPr/>
        </p:nvSpPr>
        <p:spPr>
          <a:xfrm>
            <a:off x="4857840" y="3386160"/>
            <a:ext cx="76680" cy="71640"/>
          </a:xfrm>
          <a:custGeom>
            <a:avLst/>
            <a:gdLst/>
            <a:ahLst/>
            <a:rect l="0" t="0" r="r" b="b"/>
            <a:pathLst>
              <a:path w="213" h="199">
                <a:moveTo>
                  <a:pt x="106" y="0"/>
                </a:moveTo>
                <a:lnTo>
                  <a:pt x="0" y="133"/>
                </a:lnTo>
                <a:lnTo>
                  <a:pt x="133" y="199"/>
                </a:lnTo>
                <a:lnTo>
                  <a:pt x="213" y="106"/>
                </a:lnTo>
                <a:lnTo>
                  <a:pt x="106" y="0"/>
                </a:lnTo>
                <a:close/>
              </a:path>
            </a:pathLst>
          </a:custGeom>
          <a:solidFill>
            <a:srgbClr val="a2c1fe"/>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4163" name=""/>
          <p:cNvSpPr/>
          <p:nvPr/>
        </p:nvSpPr>
        <p:spPr>
          <a:xfrm>
            <a:off x="4913280" y="3451320"/>
            <a:ext cx="49680" cy="128880"/>
          </a:xfrm>
          <a:custGeom>
            <a:avLst/>
            <a:gdLst/>
            <a:ahLst/>
            <a:rect l="0" t="0" r="r" b="b"/>
            <a:pathLst>
              <a:path w="138" h="358">
                <a:moveTo>
                  <a:pt x="0" y="70"/>
                </a:moveTo>
                <a:lnTo>
                  <a:pt x="67" y="0"/>
                </a:lnTo>
                <a:lnTo>
                  <a:pt x="138" y="203"/>
                </a:lnTo>
                <a:lnTo>
                  <a:pt x="98" y="358"/>
                </a:lnTo>
                <a:lnTo>
                  <a:pt x="0" y="70"/>
                </a:lnTo>
                <a:close/>
              </a:path>
            </a:pathLst>
          </a:custGeom>
          <a:solidFill>
            <a:srgbClr val="a2c1fe"/>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4" name=""/>
          <p:cNvSpPr/>
          <p:nvPr/>
        </p:nvSpPr>
        <p:spPr>
          <a:xfrm>
            <a:off x="4540320" y="3116160"/>
            <a:ext cx="0" cy="41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5" name=""/>
          <p:cNvSpPr/>
          <p:nvPr/>
        </p:nvSpPr>
        <p:spPr>
          <a:xfrm flipH="1" flipV="1">
            <a:off x="4780080" y="3471840"/>
            <a:ext cx="33120" cy="60480"/>
          </a:xfrm>
          <a:prstGeom prst="line">
            <a:avLst/>
          </a:prstGeom>
          <a:ln w="25560">
            <a:solidFill>
              <a:srgbClr val="fc0128"/>
            </a:solidFill>
            <a:round/>
          </a:ln>
        </p:spPr>
        <p:style>
          <a:lnRef idx="0"/>
          <a:fillRef idx="0"/>
          <a:effectRef idx="0"/>
          <a:fontRef idx="minor"/>
        </p:style>
        <p:txBody>
          <a:bodyPr lIns="102600" rIns="102600" tIns="2880" bIns="2880" anchor="t">
            <a:noAutofit/>
          </a:bodyPr>
          <a:p>
            <a:endParaRPr b="0" lang="en-US" sz="1800" spc="-1" strike="noStrike">
              <a:solidFill>
                <a:srgbClr val="000000"/>
              </a:solidFill>
              <a:latin typeface="Arial"/>
            </a:endParaRPr>
          </a:p>
        </p:txBody>
      </p:sp>
      <p:sp>
        <p:nvSpPr>
          <p:cNvPr id="4166" name=""/>
          <p:cNvSpPr/>
          <p:nvPr/>
        </p:nvSpPr>
        <p:spPr>
          <a:xfrm>
            <a:off x="4214880" y="3252960"/>
            <a:ext cx="652680" cy="152640"/>
          </a:xfrm>
          <a:custGeom>
            <a:avLst/>
            <a:gdLst/>
            <a:ahLst/>
            <a:rect l="0" t="0" r="r" b="b"/>
            <a:pathLst>
              <a:path w="1813" h="424">
                <a:moveTo>
                  <a:pt x="26" y="397"/>
                </a:moveTo>
                <a:lnTo>
                  <a:pt x="0" y="331"/>
                </a:lnTo>
                <a:lnTo>
                  <a:pt x="793" y="0"/>
                </a:lnTo>
                <a:lnTo>
                  <a:pt x="1681" y="198"/>
                </a:lnTo>
                <a:lnTo>
                  <a:pt x="1813" y="384"/>
                </a:lnTo>
                <a:lnTo>
                  <a:pt x="1786" y="424"/>
                </a:lnTo>
                <a:lnTo>
                  <a:pt x="26" y="397"/>
                </a:lnTo>
                <a:close/>
              </a:path>
            </a:pathLst>
          </a:custGeom>
          <a:gradFill rotWithShape="0">
            <a:gsLst>
              <a:gs pos="0">
                <a:srgbClr val="002622"/>
              </a:gs>
              <a:gs pos="50000">
                <a:srgbClr val="008074"/>
              </a:gs>
              <a:gs pos="100000">
                <a:srgbClr val="002622"/>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7" name=""/>
          <p:cNvSpPr/>
          <p:nvPr/>
        </p:nvSpPr>
        <p:spPr>
          <a:xfrm flipV="1">
            <a:off x="4243320" y="3519360"/>
            <a:ext cx="0" cy="19872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8" name=""/>
          <p:cNvSpPr/>
          <p:nvPr/>
        </p:nvSpPr>
        <p:spPr>
          <a:xfrm flipV="1">
            <a:off x="4243320" y="3465360"/>
            <a:ext cx="42840" cy="54000"/>
          </a:xfrm>
          <a:prstGeom prst="line">
            <a:avLst/>
          </a:prstGeom>
          <a:ln w="12600">
            <a:solidFill>
              <a:srgbClr val="fd0000"/>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169" name=""/>
          <p:cNvSpPr/>
          <p:nvPr/>
        </p:nvSpPr>
        <p:spPr>
          <a:xfrm flipV="1">
            <a:off x="4540320" y="1063800"/>
            <a:ext cx="0" cy="250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0" name=""/>
          <p:cNvSpPr/>
          <p:nvPr/>
        </p:nvSpPr>
        <p:spPr>
          <a:xfrm flipV="1">
            <a:off x="4286160" y="3321000"/>
            <a:ext cx="268200" cy="1443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1" name=""/>
          <p:cNvSpPr/>
          <p:nvPr/>
        </p:nvSpPr>
        <p:spPr>
          <a:xfrm flipV="1">
            <a:off x="4971960" y="3254400"/>
            <a:ext cx="169920" cy="90360"/>
          </a:xfrm>
          <a:prstGeom prst="line">
            <a:avLst/>
          </a:prstGeom>
          <a:ln w="12600">
            <a:solidFill>
              <a:srgbClr val="fd0000"/>
            </a:solidFill>
            <a:custDash>
              <a:ds d="402857" sp="402857"/>
            </a:custDash>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172" name=""/>
          <p:cNvSpPr/>
          <p:nvPr/>
        </p:nvSpPr>
        <p:spPr>
          <a:xfrm flipH="1">
            <a:off x="5683320" y="1809720"/>
            <a:ext cx="84132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3" name=""/>
          <p:cNvSpPr/>
          <p:nvPr/>
        </p:nvSpPr>
        <p:spPr>
          <a:xfrm flipV="1">
            <a:off x="5402160" y="3029040"/>
            <a:ext cx="198720" cy="92160"/>
          </a:xfrm>
          <a:prstGeom prst="line">
            <a:avLst/>
          </a:prstGeom>
          <a:ln w="12600">
            <a:solidFill>
              <a:srgbClr val="fd0000"/>
            </a:solidFill>
            <a:custDash>
              <a:ds d="402857" sp="402857"/>
            </a:custDash>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4174" name=""/>
          <p:cNvSpPr/>
          <p:nvPr/>
        </p:nvSpPr>
        <p:spPr>
          <a:xfrm flipV="1">
            <a:off x="5985000" y="3228840"/>
            <a:ext cx="0" cy="12290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75" name=""/>
          <p:cNvSpPr/>
          <p:nvPr/>
        </p:nvSpPr>
        <p:spPr>
          <a:xfrm>
            <a:off x="4540320" y="2428920"/>
            <a:ext cx="1444680" cy="7938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76" name=""/>
          <p:cNvSpPr/>
          <p:nvPr/>
        </p:nvSpPr>
        <p:spPr>
          <a:xfrm flipH="1" flipV="1">
            <a:off x="3060720" y="1600200"/>
            <a:ext cx="1479600" cy="828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77" name=""/>
          <p:cNvSpPr/>
          <p:nvPr/>
        </p:nvSpPr>
        <p:spPr>
          <a:xfrm>
            <a:off x="3057480" y="1612800"/>
            <a:ext cx="0" cy="11430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78" name=""/>
          <p:cNvSpPr/>
          <p:nvPr/>
        </p:nvSpPr>
        <p:spPr>
          <a:xfrm flipH="1" flipV="1">
            <a:off x="4822920" y="3733920"/>
            <a:ext cx="1158840" cy="7110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79" name=""/>
          <p:cNvSpPr/>
          <p:nvPr/>
        </p:nvSpPr>
        <p:spPr>
          <a:xfrm flipH="1" flipV="1">
            <a:off x="3073320" y="2768760"/>
            <a:ext cx="381240" cy="2156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80" name=""/>
          <p:cNvSpPr/>
          <p:nvPr/>
        </p:nvSpPr>
        <p:spPr>
          <a:xfrm flipH="1" flipV="1">
            <a:off x="3916440" y="3235320"/>
            <a:ext cx="198360" cy="11124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1" name=""/>
          <p:cNvSpPr/>
          <p:nvPr/>
        </p:nvSpPr>
        <p:spPr>
          <a:xfrm flipV="1">
            <a:off x="3041640" y="1692360"/>
            <a:ext cx="2989440" cy="147636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2" name=""/>
          <p:cNvSpPr/>
          <p:nvPr/>
        </p:nvSpPr>
        <p:spPr>
          <a:xfrm flipV="1">
            <a:off x="4809960" y="3532320"/>
            <a:ext cx="0" cy="19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83" name=""/>
          <p:cNvSpPr/>
          <p:nvPr/>
        </p:nvSpPr>
        <p:spPr>
          <a:xfrm flipH="1" flipV="1">
            <a:off x="4541760" y="3321000"/>
            <a:ext cx="238320" cy="1508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184" name=""/>
          <p:cNvSpPr/>
          <p:nvPr/>
        </p:nvSpPr>
        <p:spPr>
          <a:xfrm flipH="1" flipV="1">
            <a:off x="3481560" y="2982960"/>
            <a:ext cx="199800" cy="12384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5" name=""/>
          <p:cNvSpPr/>
          <p:nvPr/>
        </p:nvSpPr>
        <p:spPr>
          <a:xfrm flipH="1" flipV="1">
            <a:off x="4264200" y="3166920"/>
            <a:ext cx="277560" cy="15408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6" name=""/>
          <p:cNvSpPr/>
          <p:nvPr/>
        </p:nvSpPr>
        <p:spPr>
          <a:xfrm flipV="1">
            <a:off x="4548240" y="3182760"/>
            <a:ext cx="261720" cy="138240"/>
          </a:xfrm>
          <a:prstGeom prst="line">
            <a:avLst/>
          </a:prstGeom>
          <a:ln w="12600">
            <a:solidFill>
              <a:srgbClr val="fd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7" name=""/>
          <p:cNvSpPr/>
          <p:nvPr/>
        </p:nvSpPr>
        <p:spPr>
          <a:xfrm>
            <a:off x="4813200" y="3181320"/>
            <a:ext cx="34920" cy="6480"/>
          </a:xfrm>
          <a:prstGeom prst="line">
            <a:avLst/>
          </a:prstGeom>
          <a:ln w="12600">
            <a:solidFill>
              <a:srgbClr val="fd0000"/>
            </a:solidFill>
            <a:round/>
          </a:ln>
        </p:spPr>
        <p:style>
          <a:lnRef idx="0"/>
          <a:fillRef idx="0"/>
          <a:effectRef idx="0"/>
          <a:fontRef idx="minor"/>
        </p:style>
        <p:txBody>
          <a:bodyPr lIns="96120" rIns="96120" tIns="-44640" bIns="-44640" anchor="t">
            <a:noAutofit/>
          </a:bodyPr>
          <a:p>
            <a:endParaRPr b="0" lang="en-US" sz="1800" spc="-1" strike="noStrike">
              <a:solidFill>
                <a:srgbClr val="000000"/>
              </a:solidFill>
              <a:latin typeface="Arial"/>
            </a:endParaRPr>
          </a:p>
        </p:txBody>
      </p:sp>
      <p:sp>
        <p:nvSpPr>
          <p:cNvPr id="4188" name=""/>
          <p:cNvSpPr/>
          <p:nvPr/>
        </p:nvSpPr>
        <p:spPr>
          <a:xfrm flipH="1">
            <a:off x="4013280" y="1943280"/>
            <a:ext cx="444600" cy="20304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9" name=""/>
          <p:cNvSpPr/>
          <p:nvPr/>
        </p:nvSpPr>
        <p:spPr>
          <a:xfrm flipV="1">
            <a:off x="5253120" y="4361040"/>
            <a:ext cx="4608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4190" name=""/>
          <p:cNvSpPr/>
          <p:nvPr/>
        </p:nvSpPr>
        <p:spPr>
          <a:xfrm>
            <a:off x="5221440" y="4379760"/>
            <a:ext cx="70200" cy="66960"/>
          </a:xfrm>
          <a:custGeom>
            <a:avLst/>
            <a:gdLst/>
            <a:ahLst/>
            <a:rect l="0" t="0" r="r" b="b"/>
            <a:pathLst>
              <a:path w="195" h="186">
                <a:moveTo>
                  <a:pt x="0" y="63"/>
                </a:moveTo>
                <a:lnTo>
                  <a:pt x="185" y="0"/>
                </a:lnTo>
                <a:lnTo>
                  <a:pt x="195" y="49"/>
                </a:lnTo>
                <a:lnTo>
                  <a:pt x="195" y="186"/>
                </a:lnTo>
                <a:lnTo>
                  <a:pt x="0" y="63"/>
                </a:lnTo>
                <a:close/>
              </a:path>
            </a:pathLst>
          </a:custGeom>
          <a:solidFill>
            <a:srgbClr val="004e47"/>
          </a:solidFill>
          <a:ln w="0">
            <a:noFill/>
          </a:ln>
        </p:spPr>
        <p:txBody>
          <a:bodyPr lIns="90000" rIns="90000" tIns="21960" bIns="21960" anchor="t">
            <a:noAutofit/>
          </a:bodyPr>
          <a:p>
            <a:endParaRPr b="0" lang="en-US" sz="1800" spc="-1" strike="noStrike">
              <a:solidFill>
                <a:srgbClr val="ffffff"/>
              </a:solidFill>
              <a:latin typeface="Arial"/>
            </a:endParaRPr>
          </a:p>
        </p:txBody>
      </p:sp>
      <p:sp>
        <p:nvSpPr>
          <p:cNvPr id="4191" name=""/>
          <p:cNvSpPr/>
          <p:nvPr/>
        </p:nvSpPr>
        <p:spPr>
          <a:xfrm>
            <a:off x="5310360" y="4329000"/>
            <a:ext cx="71640" cy="128880"/>
          </a:xfrm>
          <a:custGeom>
            <a:avLst/>
            <a:gdLst/>
            <a:ahLst/>
            <a:rect l="0" t="0" r="r" b="b"/>
            <a:pathLst>
              <a:path w="199" h="358">
                <a:moveTo>
                  <a:pt x="0" y="8"/>
                </a:moveTo>
                <a:lnTo>
                  <a:pt x="0" y="358"/>
                </a:lnTo>
                <a:lnTo>
                  <a:pt x="199" y="358"/>
                </a:lnTo>
                <a:lnTo>
                  <a:pt x="88" y="0"/>
                </a:lnTo>
                <a:lnTo>
                  <a:pt x="0" y="8"/>
                </a:lnTo>
                <a:close/>
              </a:path>
            </a:pathLst>
          </a:custGeom>
          <a:solidFill>
            <a:srgbClr val="004e47"/>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192" name=""/>
          <p:cNvSpPr/>
          <p:nvPr/>
        </p:nvSpPr>
        <p:spPr>
          <a:xfrm flipH="1">
            <a:off x="5308560" y="4390920"/>
            <a:ext cx="54000" cy="31680"/>
          </a:xfrm>
          <a:prstGeom prst="line">
            <a:avLst/>
          </a:prstGeom>
          <a:ln w="12600">
            <a:solidFill>
              <a:srgbClr val="ffffff"/>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4193" name=""/>
          <p:cNvSpPr/>
          <p:nvPr/>
        </p:nvSpPr>
        <p:spPr>
          <a:xfrm>
            <a:off x="5357880" y="4392720"/>
            <a:ext cx="960480" cy="60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4" name=""/>
          <p:cNvSpPr/>
          <p:nvPr/>
        </p:nvSpPr>
        <p:spPr>
          <a:xfrm>
            <a:off x="5989680" y="4125960"/>
            <a:ext cx="85068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95" name=""/>
          <p:cNvGrpSpPr/>
          <p:nvPr/>
        </p:nvGrpSpPr>
        <p:grpSpPr>
          <a:xfrm>
            <a:off x="1254240" y="6000840"/>
            <a:ext cx="3222720" cy="368280"/>
            <a:chOff x="1254240" y="6000840"/>
            <a:chExt cx="3222720" cy="368280"/>
          </a:xfrm>
        </p:grpSpPr>
        <p:sp>
          <p:nvSpPr>
            <p:cNvPr id="4196" name=""/>
            <p:cNvSpPr/>
            <p:nvPr/>
          </p:nvSpPr>
          <p:spPr>
            <a:xfrm>
              <a:off x="1254240" y="6000840"/>
              <a:ext cx="3222720" cy="320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7" name=""/>
            <p:cNvSpPr/>
            <p:nvPr/>
          </p:nvSpPr>
          <p:spPr>
            <a:xfrm>
              <a:off x="1654200" y="6006960"/>
              <a:ext cx="0" cy="311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8" name=""/>
            <p:cNvSpPr/>
            <p:nvPr/>
          </p:nvSpPr>
          <p:spPr>
            <a:xfrm>
              <a:off x="2790720" y="6006960"/>
              <a:ext cx="0" cy="311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9" name=""/>
            <p:cNvSpPr/>
            <p:nvPr/>
          </p:nvSpPr>
          <p:spPr>
            <a:xfrm>
              <a:off x="3146400" y="6006960"/>
              <a:ext cx="0" cy="317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00" name=""/>
            <p:cNvGrpSpPr/>
            <p:nvPr/>
          </p:nvGrpSpPr>
          <p:grpSpPr>
            <a:xfrm>
              <a:off x="1327320" y="6035760"/>
              <a:ext cx="247320" cy="263520"/>
              <a:chOff x="1327320" y="6035760"/>
              <a:chExt cx="247320" cy="263520"/>
            </a:xfrm>
          </p:grpSpPr>
          <p:sp>
            <p:nvSpPr>
              <p:cNvPr id="4201" name=""/>
              <p:cNvSpPr/>
              <p:nvPr/>
            </p:nvSpPr>
            <p:spPr>
              <a:xfrm>
                <a:off x="1362240" y="6076800"/>
                <a:ext cx="177840" cy="181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2" name=""/>
              <p:cNvSpPr/>
              <p:nvPr/>
            </p:nvSpPr>
            <p:spPr>
              <a:xfrm>
                <a:off x="1454040" y="6035760"/>
                <a:ext cx="0" cy="263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3" name=""/>
              <p:cNvSpPr/>
              <p:nvPr/>
            </p:nvSpPr>
            <p:spPr>
              <a:xfrm>
                <a:off x="1327320" y="6170760"/>
                <a:ext cx="24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204" name=""/>
            <p:cNvGrpSpPr/>
            <p:nvPr/>
          </p:nvGrpSpPr>
          <p:grpSpPr>
            <a:xfrm>
              <a:off x="1722600" y="6058080"/>
              <a:ext cx="206280" cy="203040"/>
              <a:chOff x="1722600" y="6058080"/>
              <a:chExt cx="206280" cy="203040"/>
            </a:xfrm>
          </p:grpSpPr>
          <p:sp>
            <p:nvSpPr>
              <p:cNvPr id="4205" name=""/>
              <p:cNvSpPr/>
              <p:nvPr/>
            </p:nvSpPr>
            <p:spPr>
              <a:xfrm>
                <a:off x="1749600" y="6084720"/>
                <a:ext cx="152280" cy="149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6" name=""/>
              <p:cNvSpPr/>
              <p:nvPr/>
            </p:nvSpPr>
            <p:spPr>
              <a:xfrm flipH="1">
                <a:off x="1722600" y="6058080"/>
                <a:ext cx="206280" cy="20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07" name=""/>
            <p:cNvSpPr txBox="1"/>
            <p:nvPr/>
          </p:nvSpPr>
          <p:spPr>
            <a:xfrm>
              <a:off x="1943280" y="6018120"/>
              <a:ext cx="782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4208" name=""/>
            <p:cNvSpPr/>
            <p:nvPr/>
          </p:nvSpPr>
          <p:spPr>
            <a:xfrm>
              <a:off x="2408400" y="6032520"/>
              <a:ext cx="26352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09" name=""/>
            <p:cNvSpPr txBox="1"/>
            <p:nvPr/>
          </p:nvSpPr>
          <p:spPr>
            <a:xfrm>
              <a:off x="2832120" y="60120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210" name=""/>
            <p:cNvSpPr txBox="1"/>
            <p:nvPr/>
          </p:nvSpPr>
          <p:spPr>
            <a:xfrm>
              <a:off x="3174840" y="60213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4211" name=""/>
            <p:cNvSpPr/>
            <p:nvPr/>
          </p:nvSpPr>
          <p:spPr>
            <a:xfrm>
              <a:off x="3486240" y="6032520"/>
              <a:ext cx="26676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2" name=""/>
            <p:cNvSpPr txBox="1"/>
            <p:nvPr/>
          </p:nvSpPr>
          <p:spPr>
            <a:xfrm>
              <a:off x="3429000" y="6018120"/>
              <a:ext cx="376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213" name=""/>
            <p:cNvSpPr/>
            <p:nvPr/>
          </p:nvSpPr>
          <p:spPr>
            <a:xfrm>
              <a:off x="4127400" y="6041880"/>
              <a:ext cx="272880" cy="249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4" name=""/>
            <p:cNvSpPr/>
            <p:nvPr/>
          </p:nvSpPr>
          <p:spPr>
            <a:xfrm>
              <a:off x="3841920" y="600084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5" name=""/>
            <p:cNvSpPr txBox="1"/>
            <p:nvPr/>
          </p:nvSpPr>
          <p:spPr>
            <a:xfrm>
              <a:off x="3813120" y="6002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4216" name=""/>
            <p:cNvSpPr txBox="1"/>
            <p:nvPr/>
          </p:nvSpPr>
          <p:spPr>
            <a:xfrm>
              <a:off x="4076640" y="6024600"/>
              <a:ext cx="376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17" name=""/>
          <p:cNvSpPr txBox="1"/>
          <p:nvPr/>
        </p:nvSpPr>
        <p:spPr>
          <a:xfrm>
            <a:off x="647640" y="571680"/>
            <a:ext cx="7772400" cy="5594400"/>
          </a:xfrm>
          <a:prstGeom prst="rect">
            <a:avLst/>
          </a:prstGeom>
          <a:noFill/>
          <a:ln w="0">
            <a:noFill/>
          </a:ln>
        </p:spPr>
        <p:txBody>
          <a:bodyPr lIns="0" rIns="0" tIns="0" bIns="0" anchor="t">
            <a:noAutofit/>
          </a:bodyPr>
          <a:p>
            <a:pPr algn="ctr">
              <a:lnSpc>
                <a:spcPct val="100000"/>
              </a:lnSpc>
              <a:spcAft>
                <a:spcPts val="2401"/>
              </a:spcAft>
            </a:pPr>
            <a:r>
              <a:rPr b="0" lang="en-US" sz="7200" spc="-1" strike="noStrike">
                <a:solidFill>
                  <a:srgbClr val="ffffff"/>
                </a:solidFill>
                <a:latin typeface="Times New Roman"/>
                <a:ea typeface="Times New Roman"/>
              </a:rPr>
              <a:t>Secondary and Tertiary Datum Features</a:t>
            </a:r>
            <a:br>
              <a:rPr sz="1800"/>
            </a:br>
            <a:br>
              <a:rPr sz="1800"/>
            </a:br>
            <a:r>
              <a:rPr b="0" lang="en-US" sz="4400" spc="-1" strike="noStrike">
                <a:solidFill>
                  <a:srgbClr val="ffffff"/>
                </a:solidFill>
                <a:latin typeface="Times New Roman"/>
                <a:ea typeface="Times New Roman"/>
              </a:rPr>
              <a:t>Regardless of Feature Size (R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1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9" name=""/>
          <p:cNvSpPr txBox="1"/>
          <p:nvPr/>
        </p:nvSpPr>
        <p:spPr>
          <a:xfrm>
            <a:off x="685800" y="105264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Secondary</a:t>
            </a:r>
            <a:r>
              <a:rPr b="0" lang="en-US" sz="3600" spc="-1" strike="noStrike">
                <a:solidFill>
                  <a:srgbClr val="fafd00"/>
                </a:solidFill>
                <a:latin typeface="Times New Roman"/>
                <a:ea typeface="Times New Roman"/>
              </a:rPr>
              <a:t> Datum Feature RFS </a:t>
            </a:r>
            <a:r>
              <a:rPr b="0" lang="en-US" sz="3600" spc="-1" strike="noStrike" u="sng">
                <a:solidFill>
                  <a:srgbClr val="fafd00"/>
                </a:solidFill>
                <a:uFillTx/>
                <a:latin typeface="Times New Roman"/>
                <a:ea typeface="Times New Roman"/>
              </a:rPr>
              <a:t>Diameter or Width</a:t>
            </a:r>
            <a:endParaRPr b="0" lang="en-US" sz="3600" spc="-1" strike="noStrike">
              <a:solidFill>
                <a:srgbClr val="000000"/>
              </a:solidFill>
              <a:latin typeface="Arial"/>
            </a:endParaRPr>
          </a:p>
        </p:txBody>
      </p:sp>
      <p:sp>
        <p:nvSpPr>
          <p:cNvPr id="4220" name=""/>
          <p:cNvSpPr txBox="1"/>
          <p:nvPr/>
        </p:nvSpPr>
        <p:spPr>
          <a:xfrm>
            <a:off x="378000" y="2424240"/>
            <a:ext cx="860256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Secondary</a:t>
            </a:r>
            <a:r>
              <a:rPr b="0" lang="en-US" sz="2800" spc="-1" strike="noStrike">
                <a:solidFill>
                  <a:srgbClr val="ffffff"/>
                </a:solidFill>
                <a:latin typeface="Times New Roman"/>
                <a:ea typeface="Times New Roman"/>
              </a:rPr>
              <a:t> datum axes for diameters, or center planes for controlled widths (RFS), are established for both internal and external features as previously described, but with an additional requirement.  The parallel planes which establish the center plane, or the axis of the simulated datum feature (gage) must be </a:t>
            </a:r>
            <a:r>
              <a:rPr b="0" lang="en-US" sz="2800" spc="-1" strike="noStrike">
                <a:solidFill>
                  <a:srgbClr val="fafd00"/>
                </a:solidFill>
                <a:latin typeface="Times New Roman"/>
                <a:ea typeface="Times New Roman"/>
              </a:rPr>
              <a:t>oriented to the primary datum</a:t>
            </a:r>
            <a:r>
              <a:rPr b="0" lang="en-US" sz="2800" spc="-1" strike="noStrike">
                <a:solidFill>
                  <a:srgbClr val="ffffff"/>
                </a:solidFill>
                <a:latin typeface="Times New Roman"/>
                <a:ea typeface="Times New Roman"/>
              </a:rPr>
              <a:t> </a:t>
            </a:r>
            <a:r>
              <a:rPr b="0" lang="en-US" sz="2800" spc="-1" strike="noStrike">
                <a:solidFill>
                  <a:srgbClr val="fafd00"/>
                </a:solidFill>
                <a:latin typeface="Times New Roman"/>
                <a:ea typeface="Times New Roman"/>
              </a:rPr>
              <a:t>(perpendicularity in the next example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2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2" name=""/>
          <p:cNvSpPr txBox="1"/>
          <p:nvPr/>
        </p:nvSpPr>
        <p:spPr>
          <a:xfrm>
            <a:off x="685800" y="85572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Tertiary</a:t>
            </a:r>
            <a:r>
              <a:rPr b="0" lang="en-US" sz="3600" spc="-1" strike="noStrike">
                <a:solidFill>
                  <a:srgbClr val="fafd00"/>
                </a:solidFill>
                <a:latin typeface="Times New Roman"/>
                <a:ea typeface="Times New Roman"/>
              </a:rPr>
              <a:t> Datum Feature </a:t>
            </a:r>
            <a:r>
              <a:rPr b="0" lang="en-US" sz="3600" spc="-1" strike="noStrike" u="sng">
                <a:solidFill>
                  <a:srgbClr val="fafd00"/>
                </a:solidFill>
                <a:uFillTx/>
                <a:latin typeface="Times New Roman"/>
                <a:ea typeface="Times New Roman"/>
              </a:rPr>
              <a:t>Diameter or Width (RFS)</a:t>
            </a:r>
            <a:endParaRPr b="0" lang="en-US" sz="3600" spc="-1" strike="noStrike">
              <a:solidFill>
                <a:srgbClr val="000000"/>
              </a:solidFill>
              <a:latin typeface="Arial"/>
            </a:endParaRPr>
          </a:p>
        </p:txBody>
      </p:sp>
      <p:sp>
        <p:nvSpPr>
          <p:cNvPr id="4223" name=""/>
          <p:cNvSpPr txBox="1"/>
          <p:nvPr/>
        </p:nvSpPr>
        <p:spPr>
          <a:xfrm>
            <a:off x="538200" y="2305080"/>
            <a:ext cx="8305920" cy="42642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Tertiary</a:t>
            </a:r>
            <a:r>
              <a:rPr b="0" lang="en-US" sz="2800" spc="-1" strike="noStrike">
                <a:solidFill>
                  <a:srgbClr val="ffffff"/>
                </a:solidFill>
                <a:latin typeface="Times New Roman"/>
                <a:ea typeface="Times New Roman"/>
              </a:rPr>
              <a:t> datum axes for diameters, or center planes for controlled widths, are established as previously illustrated.  However, there is one additional requirement.  The parallel planes which establish the center plane, or the cylinder that establishes the axis of the simulated datum feature (gage), must be </a:t>
            </a:r>
            <a:r>
              <a:rPr b="0" lang="en-US" sz="2800" spc="-1" strike="noStrike">
                <a:solidFill>
                  <a:srgbClr val="fafd00"/>
                </a:solidFill>
                <a:latin typeface="Times New Roman"/>
                <a:ea typeface="Times New Roman"/>
              </a:rPr>
              <a:t>oriented in relation to </a:t>
            </a:r>
            <a:r>
              <a:rPr b="0" i="1" lang="en-US" sz="2800" spc="-1" strike="noStrike" u="sng">
                <a:solidFill>
                  <a:srgbClr val="fafd00"/>
                </a:solidFill>
                <a:uFillTx/>
                <a:latin typeface="Times New Roman"/>
                <a:ea typeface="Times New Roman"/>
              </a:rPr>
              <a:t>both</a:t>
            </a:r>
            <a:r>
              <a:rPr b="0" i="1" lang="en-US" sz="2800" spc="-1" strike="noStrike">
                <a:solidFill>
                  <a:srgbClr val="fafd00"/>
                </a:solidFill>
                <a:latin typeface="Times New Roman"/>
                <a:ea typeface="Times New Roman"/>
              </a:rPr>
              <a:t> </a:t>
            </a:r>
            <a:r>
              <a:rPr b="0" i="1" lang="en-US" sz="2800" spc="-1" strike="noStrike">
                <a:solidFill>
                  <a:srgbClr val="ffff00"/>
                </a:solidFill>
                <a:latin typeface="Times New Roman"/>
                <a:ea typeface="Times New Roman"/>
              </a:rPr>
              <a:t>the primary and the secondary datums.  </a:t>
            </a:r>
            <a:r>
              <a:rPr b="0" lang="en-US" sz="2800" spc="-1" strike="noStrike">
                <a:solidFill>
                  <a:srgbClr val="f2fefd"/>
                </a:solidFill>
                <a:latin typeface="Times New Roman"/>
                <a:ea typeface="Times New Roman"/>
              </a:rPr>
              <a:t>The following examples illustrate these concep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24" name=""/>
          <p:cNvSpPr/>
          <p:nvPr/>
        </p:nvSpPr>
        <p:spPr>
          <a:xfrm>
            <a:off x="3139920" y="62341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25" name=""/>
          <p:cNvSpPr/>
          <p:nvPr/>
        </p:nvSpPr>
        <p:spPr>
          <a:xfrm>
            <a:off x="3506760" y="2374920"/>
            <a:ext cx="124200" cy="144720"/>
          </a:xfrm>
          <a:custGeom>
            <a:avLst/>
            <a:gdLst/>
            <a:ahLst/>
            <a:rect l="0" t="0" r="r" b="b"/>
            <a:pathLst>
              <a:path w="345" h="402">
                <a:moveTo>
                  <a:pt x="223" y="402"/>
                </a:moveTo>
                <a:lnTo>
                  <a:pt x="0" y="0"/>
                </a:lnTo>
                <a:lnTo>
                  <a:pt x="345" y="310"/>
                </a:lnTo>
                <a:lnTo>
                  <a:pt x="223" y="4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6" name=""/>
          <p:cNvSpPr/>
          <p:nvPr/>
        </p:nvSpPr>
        <p:spPr>
          <a:xfrm>
            <a:off x="3610080" y="2506680"/>
            <a:ext cx="989280" cy="878400"/>
          </a:xfrm>
          <a:custGeom>
            <a:avLst/>
            <a:gdLst/>
            <a:ahLst/>
            <a:rect l="0" t="0" r="r" b="b"/>
            <a:pathLst>
              <a:path fill="none" w="2748" h="2440">
                <a:moveTo>
                  <a:pt x="0" y="0"/>
                </a:moveTo>
                <a:lnTo>
                  <a:pt x="1923" y="2440"/>
                </a:lnTo>
                <a:lnTo>
                  <a:pt x="2748" y="244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27" name=""/>
          <p:cNvSpPr/>
          <p:nvPr/>
        </p:nvSpPr>
        <p:spPr>
          <a:xfrm>
            <a:off x="4680000" y="2286000"/>
            <a:ext cx="147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8" name=""/>
          <p:cNvSpPr/>
          <p:nvPr/>
        </p:nvSpPr>
        <p:spPr>
          <a:xfrm>
            <a:off x="4680000" y="1854360"/>
            <a:ext cx="147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9" name=""/>
          <p:cNvSpPr/>
          <p:nvPr/>
        </p:nvSpPr>
        <p:spPr>
          <a:xfrm>
            <a:off x="5989680" y="2451240"/>
            <a:ext cx="0" cy="16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0" name=""/>
          <p:cNvSpPr/>
          <p:nvPr/>
        </p:nvSpPr>
        <p:spPr>
          <a:xfrm>
            <a:off x="5991120" y="1398600"/>
            <a:ext cx="165600" cy="147960"/>
          </a:xfrm>
          <a:custGeom>
            <a:avLst/>
            <a:gdLst/>
            <a:ahLst/>
            <a:rect l="0" t="0" r="r" b="b"/>
            <a:pathLst>
              <a:path fill="none" w="460" h="411">
                <a:moveTo>
                  <a:pt x="0" y="411"/>
                </a:moveTo>
                <a:lnTo>
                  <a:pt x="0" y="0"/>
                </a:lnTo>
                <a:lnTo>
                  <a:pt x="46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1" name=""/>
          <p:cNvSpPr/>
          <p:nvPr/>
        </p:nvSpPr>
        <p:spPr>
          <a:xfrm>
            <a:off x="5964120" y="2284560"/>
            <a:ext cx="54360" cy="165600"/>
          </a:xfrm>
          <a:custGeom>
            <a:avLst/>
            <a:gdLst/>
            <a:ahLst/>
            <a:rect l="0" t="0" r="r" b="b"/>
            <a:pathLst>
              <a:path w="151" h="460">
                <a:moveTo>
                  <a:pt x="0" y="460"/>
                </a:moveTo>
                <a:lnTo>
                  <a:pt x="151" y="460"/>
                </a:lnTo>
                <a:lnTo>
                  <a:pt x="73" y="0"/>
                </a:lnTo>
                <a:lnTo>
                  <a:pt x="0"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2" name=""/>
          <p:cNvSpPr/>
          <p:nvPr/>
        </p:nvSpPr>
        <p:spPr>
          <a:xfrm>
            <a:off x="5964120" y="1687680"/>
            <a:ext cx="54360" cy="165600"/>
          </a:xfrm>
          <a:custGeom>
            <a:avLst/>
            <a:gdLst/>
            <a:ahLst/>
            <a:rect l="0" t="0" r="r" b="b"/>
            <a:pathLst>
              <a:path w="151" h="460">
                <a:moveTo>
                  <a:pt x="0" y="0"/>
                </a:moveTo>
                <a:lnTo>
                  <a:pt x="151" y="0"/>
                </a:lnTo>
                <a:lnTo>
                  <a:pt x="73" y="46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3" name=""/>
          <p:cNvSpPr/>
          <p:nvPr/>
        </p:nvSpPr>
        <p:spPr>
          <a:xfrm>
            <a:off x="3948120" y="1574640"/>
            <a:ext cx="170280" cy="497160"/>
          </a:xfrm>
          <a:custGeom>
            <a:avLst/>
            <a:gdLst/>
            <a:ahLst/>
            <a:rect l="0" t="0" r="r" b="b"/>
            <a:pathLst>
              <a:path fill="none" w="473" h="1381">
                <a:moveTo>
                  <a:pt x="473" y="1381"/>
                </a:moveTo>
                <a:lnTo>
                  <a:pt x="473" y="1342"/>
                </a:lnTo>
                <a:lnTo>
                  <a:pt x="464" y="1303"/>
                </a:lnTo>
                <a:lnTo>
                  <a:pt x="464" y="1264"/>
                </a:lnTo>
                <a:lnTo>
                  <a:pt x="464" y="1235"/>
                </a:lnTo>
                <a:lnTo>
                  <a:pt x="459" y="1196"/>
                </a:lnTo>
                <a:lnTo>
                  <a:pt x="459" y="1157"/>
                </a:lnTo>
                <a:lnTo>
                  <a:pt x="454" y="1128"/>
                </a:lnTo>
                <a:lnTo>
                  <a:pt x="449" y="1089"/>
                </a:lnTo>
                <a:lnTo>
                  <a:pt x="444" y="1050"/>
                </a:lnTo>
                <a:lnTo>
                  <a:pt x="439" y="1021"/>
                </a:lnTo>
                <a:lnTo>
                  <a:pt x="434" y="982"/>
                </a:lnTo>
                <a:lnTo>
                  <a:pt x="430" y="943"/>
                </a:lnTo>
                <a:lnTo>
                  <a:pt x="425" y="914"/>
                </a:lnTo>
                <a:lnTo>
                  <a:pt x="410" y="875"/>
                </a:lnTo>
                <a:lnTo>
                  <a:pt x="405" y="841"/>
                </a:lnTo>
                <a:lnTo>
                  <a:pt x="396" y="807"/>
                </a:lnTo>
                <a:lnTo>
                  <a:pt x="386" y="773"/>
                </a:lnTo>
                <a:lnTo>
                  <a:pt x="381" y="734"/>
                </a:lnTo>
                <a:lnTo>
                  <a:pt x="371" y="705"/>
                </a:lnTo>
                <a:lnTo>
                  <a:pt x="357" y="670"/>
                </a:lnTo>
                <a:lnTo>
                  <a:pt x="341" y="631"/>
                </a:lnTo>
                <a:lnTo>
                  <a:pt x="331" y="602"/>
                </a:lnTo>
                <a:lnTo>
                  <a:pt x="322" y="568"/>
                </a:lnTo>
                <a:lnTo>
                  <a:pt x="302" y="534"/>
                </a:lnTo>
                <a:lnTo>
                  <a:pt x="292" y="500"/>
                </a:lnTo>
                <a:lnTo>
                  <a:pt x="278" y="466"/>
                </a:lnTo>
                <a:lnTo>
                  <a:pt x="268" y="437"/>
                </a:lnTo>
                <a:lnTo>
                  <a:pt x="249" y="403"/>
                </a:lnTo>
                <a:lnTo>
                  <a:pt x="234" y="374"/>
                </a:lnTo>
                <a:lnTo>
                  <a:pt x="219" y="340"/>
                </a:lnTo>
                <a:lnTo>
                  <a:pt x="195" y="306"/>
                </a:lnTo>
                <a:lnTo>
                  <a:pt x="180" y="277"/>
                </a:lnTo>
                <a:lnTo>
                  <a:pt x="166" y="243"/>
                </a:lnTo>
                <a:lnTo>
                  <a:pt x="146" y="213"/>
                </a:lnTo>
                <a:lnTo>
                  <a:pt x="127" y="179"/>
                </a:lnTo>
                <a:lnTo>
                  <a:pt x="111" y="150"/>
                </a:lnTo>
                <a:lnTo>
                  <a:pt x="87" y="121"/>
                </a:lnTo>
                <a:lnTo>
                  <a:pt x="68" y="92"/>
                </a:lnTo>
                <a:lnTo>
                  <a:pt x="43" y="63"/>
                </a:lnTo>
                <a:lnTo>
                  <a:pt x="24" y="34"/>
                </a:lnTo>
                <a:lnTo>
                  <a:pt x="4" y="4"/>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4" name=""/>
          <p:cNvSpPr/>
          <p:nvPr/>
        </p:nvSpPr>
        <p:spPr>
          <a:xfrm>
            <a:off x="3798720" y="1425600"/>
            <a:ext cx="81360" cy="70200"/>
          </a:xfrm>
          <a:custGeom>
            <a:avLst/>
            <a:gdLst/>
            <a:ahLst/>
            <a:rect l="0" t="0" r="r" b="b"/>
            <a:pathLst>
              <a:path fill="none" w="226" h="195">
                <a:moveTo>
                  <a:pt x="226" y="195"/>
                </a:moveTo>
                <a:lnTo>
                  <a:pt x="212" y="180"/>
                </a:lnTo>
                <a:lnTo>
                  <a:pt x="188" y="156"/>
                </a:lnTo>
                <a:lnTo>
                  <a:pt x="158" y="131"/>
                </a:lnTo>
                <a:lnTo>
                  <a:pt x="130" y="107"/>
                </a:lnTo>
                <a:lnTo>
                  <a:pt x="106" y="82"/>
                </a:lnTo>
                <a:lnTo>
                  <a:pt x="77" y="58"/>
                </a:lnTo>
                <a:lnTo>
                  <a:pt x="47" y="33"/>
                </a:lnTo>
                <a:lnTo>
                  <a:pt x="19" y="14"/>
                </a:lnTo>
                <a:lnTo>
                  <a:pt x="0" y="0"/>
                </a:lnTo>
              </a:path>
            </a:pathLst>
          </a:custGeom>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4235" name=""/>
          <p:cNvSpPr/>
          <p:nvPr/>
        </p:nvSpPr>
        <p:spPr>
          <a:xfrm>
            <a:off x="3198960" y="1258920"/>
            <a:ext cx="513000" cy="108360"/>
          </a:xfrm>
          <a:custGeom>
            <a:avLst/>
            <a:gdLst/>
            <a:ahLst/>
            <a:rect l="0" t="0" r="r" b="b"/>
            <a:pathLst>
              <a:path fill="none" w="1425" h="301">
                <a:moveTo>
                  <a:pt x="1425" y="301"/>
                </a:moveTo>
                <a:lnTo>
                  <a:pt x="1391" y="282"/>
                </a:lnTo>
                <a:lnTo>
                  <a:pt x="1362" y="268"/>
                </a:lnTo>
                <a:lnTo>
                  <a:pt x="1332" y="253"/>
                </a:lnTo>
                <a:lnTo>
                  <a:pt x="1298" y="229"/>
                </a:lnTo>
                <a:lnTo>
                  <a:pt x="1269" y="218"/>
                </a:lnTo>
                <a:lnTo>
                  <a:pt x="1235" y="204"/>
                </a:lnTo>
                <a:lnTo>
                  <a:pt x="1201" y="189"/>
                </a:lnTo>
                <a:lnTo>
                  <a:pt x="1167" y="170"/>
                </a:lnTo>
                <a:lnTo>
                  <a:pt x="1133" y="160"/>
                </a:lnTo>
                <a:lnTo>
                  <a:pt x="1099" y="146"/>
                </a:lnTo>
                <a:lnTo>
                  <a:pt x="1070" y="136"/>
                </a:lnTo>
                <a:lnTo>
                  <a:pt x="1031" y="126"/>
                </a:lnTo>
                <a:lnTo>
                  <a:pt x="997" y="112"/>
                </a:lnTo>
                <a:lnTo>
                  <a:pt x="968" y="102"/>
                </a:lnTo>
                <a:lnTo>
                  <a:pt x="929" y="92"/>
                </a:lnTo>
                <a:lnTo>
                  <a:pt x="900" y="83"/>
                </a:lnTo>
                <a:lnTo>
                  <a:pt x="861" y="72"/>
                </a:lnTo>
                <a:lnTo>
                  <a:pt x="827" y="67"/>
                </a:lnTo>
                <a:lnTo>
                  <a:pt x="793" y="53"/>
                </a:lnTo>
                <a:lnTo>
                  <a:pt x="759" y="43"/>
                </a:lnTo>
                <a:lnTo>
                  <a:pt x="720" y="38"/>
                </a:lnTo>
                <a:lnTo>
                  <a:pt x="680" y="33"/>
                </a:lnTo>
                <a:lnTo>
                  <a:pt x="651" y="29"/>
                </a:lnTo>
                <a:lnTo>
                  <a:pt x="612" y="24"/>
                </a:lnTo>
                <a:lnTo>
                  <a:pt x="583" y="19"/>
                </a:lnTo>
                <a:lnTo>
                  <a:pt x="544" y="14"/>
                </a:lnTo>
                <a:lnTo>
                  <a:pt x="505" y="9"/>
                </a:lnTo>
                <a:lnTo>
                  <a:pt x="476" y="9"/>
                </a:lnTo>
                <a:lnTo>
                  <a:pt x="437" y="4"/>
                </a:lnTo>
                <a:lnTo>
                  <a:pt x="398" y="4"/>
                </a:lnTo>
                <a:lnTo>
                  <a:pt x="359" y="4"/>
                </a:lnTo>
                <a:lnTo>
                  <a:pt x="330" y="4"/>
                </a:lnTo>
                <a:lnTo>
                  <a:pt x="291" y="0"/>
                </a:lnTo>
                <a:lnTo>
                  <a:pt x="252" y="4"/>
                </a:lnTo>
                <a:lnTo>
                  <a:pt x="223" y="4"/>
                </a:lnTo>
                <a:lnTo>
                  <a:pt x="184" y="4"/>
                </a:lnTo>
                <a:lnTo>
                  <a:pt x="145" y="4"/>
                </a:lnTo>
                <a:lnTo>
                  <a:pt x="116" y="9"/>
                </a:lnTo>
                <a:lnTo>
                  <a:pt x="77" y="9"/>
                </a:lnTo>
                <a:lnTo>
                  <a:pt x="38" y="14"/>
                </a:lnTo>
                <a:lnTo>
                  <a:pt x="9" y="19"/>
                </a:lnTo>
                <a:lnTo>
                  <a:pt x="0" y="1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6" name=""/>
          <p:cNvSpPr/>
          <p:nvPr/>
        </p:nvSpPr>
        <p:spPr>
          <a:xfrm>
            <a:off x="2998800" y="1285920"/>
            <a:ext cx="101880" cy="35280"/>
          </a:xfrm>
          <a:custGeom>
            <a:avLst/>
            <a:gdLst/>
            <a:ahLst/>
            <a:rect l="0" t="0" r="r" b="b"/>
            <a:pathLst>
              <a:path fill="none" w="283" h="98">
                <a:moveTo>
                  <a:pt x="283" y="0"/>
                </a:moveTo>
                <a:lnTo>
                  <a:pt x="263" y="4"/>
                </a:lnTo>
                <a:lnTo>
                  <a:pt x="229" y="14"/>
                </a:lnTo>
                <a:lnTo>
                  <a:pt x="195" y="24"/>
                </a:lnTo>
                <a:lnTo>
                  <a:pt x="156" y="33"/>
                </a:lnTo>
                <a:lnTo>
                  <a:pt x="126" y="48"/>
                </a:lnTo>
                <a:lnTo>
                  <a:pt x="92" y="59"/>
                </a:lnTo>
                <a:lnTo>
                  <a:pt x="58" y="68"/>
                </a:lnTo>
                <a:lnTo>
                  <a:pt x="24" y="83"/>
                </a:lnTo>
                <a:lnTo>
                  <a:pt x="0" y="98"/>
                </a:lnTo>
              </a:path>
            </a:pathLst>
          </a:custGeom>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4237" name=""/>
          <p:cNvSpPr/>
          <p:nvPr/>
        </p:nvSpPr>
        <p:spPr>
          <a:xfrm>
            <a:off x="2558880" y="1366920"/>
            <a:ext cx="343440" cy="395640"/>
          </a:xfrm>
          <a:custGeom>
            <a:avLst/>
            <a:gdLst/>
            <a:ahLst/>
            <a:rect l="0" t="0" r="r" b="b"/>
            <a:pathLst>
              <a:path fill="none" w="954" h="1099">
                <a:moveTo>
                  <a:pt x="954" y="0"/>
                </a:moveTo>
                <a:lnTo>
                  <a:pt x="920" y="19"/>
                </a:lnTo>
                <a:lnTo>
                  <a:pt x="886" y="34"/>
                </a:lnTo>
                <a:lnTo>
                  <a:pt x="862" y="58"/>
                </a:lnTo>
                <a:lnTo>
                  <a:pt x="828" y="72"/>
                </a:lnTo>
                <a:lnTo>
                  <a:pt x="804" y="92"/>
                </a:lnTo>
                <a:lnTo>
                  <a:pt x="770" y="116"/>
                </a:lnTo>
                <a:lnTo>
                  <a:pt x="746" y="136"/>
                </a:lnTo>
                <a:lnTo>
                  <a:pt x="711" y="160"/>
                </a:lnTo>
                <a:lnTo>
                  <a:pt x="682" y="179"/>
                </a:lnTo>
                <a:lnTo>
                  <a:pt x="658" y="199"/>
                </a:lnTo>
                <a:lnTo>
                  <a:pt x="624" y="223"/>
                </a:lnTo>
                <a:lnTo>
                  <a:pt x="600" y="247"/>
                </a:lnTo>
                <a:lnTo>
                  <a:pt x="571" y="272"/>
                </a:lnTo>
                <a:lnTo>
                  <a:pt x="547" y="296"/>
                </a:lnTo>
                <a:lnTo>
                  <a:pt x="523" y="320"/>
                </a:lnTo>
                <a:lnTo>
                  <a:pt x="499" y="344"/>
                </a:lnTo>
                <a:lnTo>
                  <a:pt x="469" y="374"/>
                </a:lnTo>
                <a:lnTo>
                  <a:pt x="445" y="398"/>
                </a:lnTo>
                <a:lnTo>
                  <a:pt x="426" y="422"/>
                </a:lnTo>
                <a:lnTo>
                  <a:pt x="397" y="446"/>
                </a:lnTo>
                <a:lnTo>
                  <a:pt x="378" y="480"/>
                </a:lnTo>
                <a:lnTo>
                  <a:pt x="349" y="505"/>
                </a:lnTo>
                <a:lnTo>
                  <a:pt x="329" y="534"/>
                </a:lnTo>
                <a:lnTo>
                  <a:pt x="305" y="559"/>
                </a:lnTo>
                <a:lnTo>
                  <a:pt x="286" y="588"/>
                </a:lnTo>
                <a:lnTo>
                  <a:pt x="266" y="618"/>
                </a:lnTo>
                <a:lnTo>
                  <a:pt x="242" y="647"/>
                </a:lnTo>
                <a:lnTo>
                  <a:pt x="222" y="681"/>
                </a:lnTo>
                <a:lnTo>
                  <a:pt x="198" y="705"/>
                </a:lnTo>
                <a:lnTo>
                  <a:pt x="183" y="739"/>
                </a:lnTo>
                <a:lnTo>
                  <a:pt x="164" y="763"/>
                </a:lnTo>
                <a:lnTo>
                  <a:pt x="145" y="797"/>
                </a:lnTo>
                <a:lnTo>
                  <a:pt x="125" y="826"/>
                </a:lnTo>
                <a:lnTo>
                  <a:pt x="111" y="860"/>
                </a:lnTo>
                <a:lnTo>
                  <a:pt x="91" y="894"/>
                </a:lnTo>
                <a:lnTo>
                  <a:pt x="77" y="924"/>
                </a:lnTo>
                <a:lnTo>
                  <a:pt x="62" y="958"/>
                </a:lnTo>
                <a:lnTo>
                  <a:pt x="43" y="987"/>
                </a:lnTo>
                <a:lnTo>
                  <a:pt x="29" y="1021"/>
                </a:lnTo>
                <a:lnTo>
                  <a:pt x="14" y="1055"/>
                </a:lnTo>
                <a:lnTo>
                  <a:pt x="0" y="1084"/>
                </a:lnTo>
                <a:lnTo>
                  <a:pt x="0" y="109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8" name=""/>
          <p:cNvSpPr/>
          <p:nvPr/>
        </p:nvSpPr>
        <p:spPr>
          <a:xfrm>
            <a:off x="2500200" y="1857600"/>
            <a:ext cx="30600" cy="103680"/>
          </a:xfrm>
          <a:custGeom>
            <a:avLst/>
            <a:gdLst/>
            <a:ahLst/>
            <a:rect l="0" t="0" r="r" b="b"/>
            <a:pathLst>
              <a:path fill="none" w="85" h="288">
                <a:moveTo>
                  <a:pt x="85" y="0"/>
                </a:moveTo>
                <a:lnTo>
                  <a:pt x="75" y="14"/>
                </a:lnTo>
                <a:lnTo>
                  <a:pt x="66" y="48"/>
                </a:lnTo>
                <a:lnTo>
                  <a:pt x="50" y="83"/>
                </a:lnTo>
                <a:lnTo>
                  <a:pt x="45" y="122"/>
                </a:lnTo>
                <a:lnTo>
                  <a:pt x="30" y="151"/>
                </a:lnTo>
                <a:lnTo>
                  <a:pt x="19" y="190"/>
                </a:lnTo>
                <a:lnTo>
                  <a:pt x="14" y="225"/>
                </a:lnTo>
                <a:lnTo>
                  <a:pt x="4" y="259"/>
                </a:lnTo>
                <a:lnTo>
                  <a:pt x="0" y="28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9" name=""/>
          <p:cNvSpPr/>
          <p:nvPr/>
        </p:nvSpPr>
        <p:spPr>
          <a:xfrm>
            <a:off x="2496960" y="2071800"/>
            <a:ext cx="167040" cy="493920"/>
          </a:xfrm>
          <a:custGeom>
            <a:avLst/>
            <a:gdLst/>
            <a:ahLst/>
            <a:rect l="0" t="0" r="r" b="b"/>
            <a:pathLst>
              <a:path fill="none" w="464" h="1372">
                <a:moveTo>
                  <a:pt x="0" y="0"/>
                </a:moveTo>
                <a:lnTo>
                  <a:pt x="0" y="29"/>
                </a:lnTo>
                <a:lnTo>
                  <a:pt x="0" y="67"/>
                </a:lnTo>
                <a:lnTo>
                  <a:pt x="0" y="106"/>
                </a:lnTo>
                <a:lnTo>
                  <a:pt x="0" y="135"/>
                </a:lnTo>
                <a:lnTo>
                  <a:pt x="4" y="174"/>
                </a:lnTo>
                <a:lnTo>
                  <a:pt x="4" y="213"/>
                </a:lnTo>
                <a:lnTo>
                  <a:pt x="9" y="242"/>
                </a:lnTo>
                <a:lnTo>
                  <a:pt x="14" y="281"/>
                </a:lnTo>
                <a:lnTo>
                  <a:pt x="19" y="319"/>
                </a:lnTo>
                <a:lnTo>
                  <a:pt x="24" y="348"/>
                </a:lnTo>
                <a:lnTo>
                  <a:pt x="29" y="387"/>
                </a:lnTo>
                <a:lnTo>
                  <a:pt x="34" y="426"/>
                </a:lnTo>
                <a:lnTo>
                  <a:pt x="43" y="455"/>
                </a:lnTo>
                <a:lnTo>
                  <a:pt x="48" y="494"/>
                </a:lnTo>
                <a:lnTo>
                  <a:pt x="63" y="528"/>
                </a:lnTo>
                <a:lnTo>
                  <a:pt x="68" y="562"/>
                </a:lnTo>
                <a:lnTo>
                  <a:pt x="77" y="596"/>
                </a:lnTo>
                <a:lnTo>
                  <a:pt x="87" y="634"/>
                </a:lnTo>
                <a:lnTo>
                  <a:pt x="97" y="663"/>
                </a:lnTo>
                <a:lnTo>
                  <a:pt x="107" y="703"/>
                </a:lnTo>
                <a:lnTo>
                  <a:pt x="121" y="732"/>
                </a:lnTo>
                <a:lnTo>
                  <a:pt x="131" y="766"/>
                </a:lnTo>
                <a:lnTo>
                  <a:pt x="141" y="800"/>
                </a:lnTo>
                <a:lnTo>
                  <a:pt x="155" y="834"/>
                </a:lnTo>
                <a:lnTo>
                  <a:pt x="165" y="868"/>
                </a:lnTo>
                <a:lnTo>
                  <a:pt x="185" y="902"/>
                </a:lnTo>
                <a:lnTo>
                  <a:pt x="199" y="931"/>
                </a:lnTo>
                <a:lnTo>
                  <a:pt x="214" y="965"/>
                </a:lnTo>
                <a:lnTo>
                  <a:pt x="234" y="994"/>
                </a:lnTo>
                <a:lnTo>
                  <a:pt x="249" y="1028"/>
                </a:lnTo>
                <a:lnTo>
                  <a:pt x="264" y="1062"/>
                </a:lnTo>
                <a:lnTo>
                  <a:pt x="278" y="1091"/>
                </a:lnTo>
                <a:lnTo>
                  <a:pt x="298" y="1125"/>
                </a:lnTo>
                <a:lnTo>
                  <a:pt x="317" y="1154"/>
                </a:lnTo>
                <a:lnTo>
                  <a:pt x="332" y="1188"/>
                </a:lnTo>
                <a:lnTo>
                  <a:pt x="356" y="1217"/>
                </a:lnTo>
                <a:lnTo>
                  <a:pt x="371" y="1246"/>
                </a:lnTo>
                <a:lnTo>
                  <a:pt x="390" y="1275"/>
                </a:lnTo>
                <a:lnTo>
                  <a:pt x="415" y="1304"/>
                </a:lnTo>
                <a:lnTo>
                  <a:pt x="434" y="1333"/>
                </a:lnTo>
                <a:lnTo>
                  <a:pt x="454" y="1362"/>
                </a:lnTo>
                <a:lnTo>
                  <a:pt x="464" y="137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0" name=""/>
          <p:cNvSpPr/>
          <p:nvPr/>
        </p:nvSpPr>
        <p:spPr>
          <a:xfrm>
            <a:off x="2733840" y="2643120"/>
            <a:ext cx="79560" cy="68760"/>
          </a:xfrm>
          <a:custGeom>
            <a:avLst/>
            <a:gdLst/>
            <a:ahLst/>
            <a:rect l="0" t="0" r="r" b="b"/>
            <a:pathLst>
              <a:path fill="none" w="221" h="191">
                <a:moveTo>
                  <a:pt x="0" y="0"/>
                </a:moveTo>
                <a:lnTo>
                  <a:pt x="14" y="9"/>
                </a:lnTo>
                <a:lnTo>
                  <a:pt x="38" y="34"/>
                </a:lnTo>
                <a:lnTo>
                  <a:pt x="62" y="54"/>
                </a:lnTo>
                <a:lnTo>
                  <a:pt x="86" y="83"/>
                </a:lnTo>
                <a:lnTo>
                  <a:pt x="116" y="103"/>
                </a:lnTo>
                <a:lnTo>
                  <a:pt x="140" y="127"/>
                </a:lnTo>
                <a:lnTo>
                  <a:pt x="173" y="152"/>
                </a:lnTo>
                <a:lnTo>
                  <a:pt x="197" y="172"/>
                </a:lnTo>
                <a:lnTo>
                  <a:pt x="221" y="191"/>
                </a:lnTo>
              </a:path>
            </a:pathLst>
          </a:custGeom>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4241" name=""/>
          <p:cNvSpPr/>
          <p:nvPr/>
        </p:nvSpPr>
        <p:spPr>
          <a:xfrm>
            <a:off x="2901960" y="2773440"/>
            <a:ext cx="511560" cy="106560"/>
          </a:xfrm>
          <a:custGeom>
            <a:avLst/>
            <a:gdLst/>
            <a:ahLst/>
            <a:rect l="0" t="0" r="r" b="b"/>
            <a:pathLst>
              <a:path fill="none" w="1421" h="296">
                <a:moveTo>
                  <a:pt x="0" y="0"/>
                </a:moveTo>
                <a:lnTo>
                  <a:pt x="29" y="14"/>
                </a:lnTo>
                <a:lnTo>
                  <a:pt x="63" y="29"/>
                </a:lnTo>
                <a:lnTo>
                  <a:pt x="87" y="43"/>
                </a:lnTo>
                <a:lnTo>
                  <a:pt x="121" y="62"/>
                </a:lnTo>
                <a:lnTo>
                  <a:pt x="155" y="77"/>
                </a:lnTo>
                <a:lnTo>
                  <a:pt x="189" y="92"/>
                </a:lnTo>
                <a:lnTo>
                  <a:pt x="223" y="106"/>
                </a:lnTo>
                <a:lnTo>
                  <a:pt x="252" y="125"/>
                </a:lnTo>
                <a:lnTo>
                  <a:pt x="286" y="135"/>
                </a:lnTo>
                <a:lnTo>
                  <a:pt x="316" y="151"/>
                </a:lnTo>
                <a:lnTo>
                  <a:pt x="354" y="160"/>
                </a:lnTo>
                <a:lnTo>
                  <a:pt x="390" y="170"/>
                </a:lnTo>
                <a:lnTo>
                  <a:pt x="419" y="185"/>
                </a:lnTo>
                <a:lnTo>
                  <a:pt x="458" y="194"/>
                </a:lnTo>
                <a:lnTo>
                  <a:pt x="487" y="204"/>
                </a:lnTo>
                <a:lnTo>
                  <a:pt x="526" y="214"/>
                </a:lnTo>
                <a:lnTo>
                  <a:pt x="560" y="223"/>
                </a:lnTo>
                <a:lnTo>
                  <a:pt x="594" y="238"/>
                </a:lnTo>
                <a:lnTo>
                  <a:pt x="628" y="243"/>
                </a:lnTo>
                <a:lnTo>
                  <a:pt x="667" y="248"/>
                </a:lnTo>
                <a:lnTo>
                  <a:pt x="696" y="257"/>
                </a:lnTo>
                <a:lnTo>
                  <a:pt x="735" y="262"/>
                </a:lnTo>
                <a:lnTo>
                  <a:pt x="769" y="267"/>
                </a:lnTo>
                <a:lnTo>
                  <a:pt x="803" y="272"/>
                </a:lnTo>
                <a:lnTo>
                  <a:pt x="842" y="277"/>
                </a:lnTo>
                <a:lnTo>
                  <a:pt x="876" y="281"/>
                </a:lnTo>
                <a:lnTo>
                  <a:pt x="910" y="286"/>
                </a:lnTo>
                <a:lnTo>
                  <a:pt x="949" y="286"/>
                </a:lnTo>
                <a:lnTo>
                  <a:pt x="978" y="296"/>
                </a:lnTo>
                <a:lnTo>
                  <a:pt x="1017" y="296"/>
                </a:lnTo>
                <a:lnTo>
                  <a:pt x="1056" y="296"/>
                </a:lnTo>
                <a:lnTo>
                  <a:pt x="1086" y="296"/>
                </a:lnTo>
                <a:lnTo>
                  <a:pt x="1125" y="296"/>
                </a:lnTo>
                <a:lnTo>
                  <a:pt x="1164" y="296"/>
                </a:lnTo>
                <a:lnTo>
                  <a:pt x="1193" y="296"/>
                </a:lnTo>
                <a:lnTo>
                  <a:pt x="1232" y="296"/>
                </a:lnTo>
                <a:lnTo>
                  <a:pt x="1271" y="296"/>
                </a:lnTo>
                <a:lnTo>
                  <a:pt x="1305" y="286"/>
                </a:lnTo>
                <a:lnTo>
                  <a:pt x="1339" y="286"/>
                </a:lnTo>
                <a:lnTo>
                  <a:pt x="1378" y="281"/>
                </a:lnTo>
                <a:lnTo>
                  <a:pt x="1412" y="277"/>
                </a:lnTo>
                <a:lnTo>
                  <a:pt x="1421" y="2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2" name=""/>
          <p:cNvSpPr/>
          <p:nvPr/>
        </p:nvSpPr>
        <p:spPr>
          <a:xfrm>
            <a:off x="3519360" y="2820960"/>
            <a:ext cx="101880" cy="35280"/>
          </a:xfrm>
          <a:custGeom>
            <a:avLst/>
            <a:gdLst/>
            <a:ahLst/>
            <a:rect l="0" t="0" r="r" b="b"/>
            <a:pathLst>
              <a:path fill="none" w="283" h="98">
                <a:moveTo>
                  <a:pt x="0" y="98"/>
                </a:moveTo>
                <a:lnTo>
                  <a:pt x="19" y="88"/>
                </a:lnTo>
                <a:lnTo>
                  <a:pt x="48" y="78"/>
                </a:lnTo>
                <a:lnTo>
                  <a:pt x="87" y="68"/>
                </a:lnTo>
                <a:lnTo>
                  <a:pt x="121" y="59"/>
                </a:lnTo>
                <a:lnTo>
                  <a:pt x="151" y="48"/>
                </a:lnTo>
                <a:lnTo>
                  <a:pt x="190" y="33"/>
                </a:lnTo>
                <a:lnTo>
                  <a:pt x="219" y="24"/>
                </a:lnTo>
                <a:lnTo>
                  <a:pt x="254" y="9"/>
                </a:lnTo>
                <a:lnTo>
                  <a:pt x="283" y="0"/>
                </a:lnTo>
              </a:path>
            </a:pathLst>
          </a:custGeom>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4243" name=""/>
          <p:cNvSpPr/>
          <p:nvPr/>
        </p:nvSpPr>
        <p:spPr>
          <a:xfrm>
            <a:off x="3713040" y="2381400"/>
            <a:ext cx="344880" cy="395640"/>
          </a:xfrm>
          <a:custGeom>
            <a:avLst/>
            <a:gdLst/>
            <a:ahLst/>
            <a:rect l="0" t="0" r="r" b="b"/>
            <a:pathLst>
              <a:path fill="none" w="958" h="1099">
                <a:moveTo>
                  <a:pt x="0" y="1099"/>
                </a:moveTo>
                <a:lnTo>
                  <a:pt x="29" y="1074"/>
                </a:lnTo>
                <a:lnTo>
                  <a:pt x="63" y="1060"/>
                </a:lnTo>
                <a:lnTo>
                  <a:pt x="92" y="1035"/>
                </a:lnTo>
                <a:lnTo>
                  <a:pt x="121" y="1021"/>
                </a:lnTo>
                <a:lnTo>
                  <a:pt x="150" y="1001"/>
                </a:lnTo>
                <a:lnTo>
                  <a:pt x="179" y="977"/>
                </a:lnTo>
                <a:lnTo>
                  <a:pt x="213" y="958"/>
                </a:lnTo>
                <a:lnTo>
                  <a:pt x="238" y="933"/>
                </a:lnTo>
                <a:lnTo>
                  <a:pt x="268" y="914"/>
                </a:lnTo>
                <a:lnTo>
                  <a:pt x="292" y="894"/>
                </a:lnTo>
                <a:lnTo>
                  <a:pt x="326" y="865"/>
                </a:lnTo>
                <a:lnTo>
                  <a:pt x="350" y="846"/>
                </a:lnTo>
                <a:lnTo>
                  <a:pt x="379" y="822"/>
                </a:lnTo>
                <a:lnTo>
                  <a:pt x="404" y="797"/>
                </a:lnTo>
                <a:lnTo>
                  <a:pt x="433" y="773"/>
                </a:lnTo>
                <a:lnTo>
                  <a:pt x="457" y="749"/>
                </a:lnTo>
                <a:lnTo>
                  <a:pt x="481" y="720"/>
                </a:lnTo>
                <a:lnTo>
                  <a:pt x="506" y="695"/>
                </a:lnTo>
                <a:lnTo>
                  <a:pt x="525" y="666"/>
                </a:lnTo>
                <a:lnTo>
                  <a:pt x="554" y="647"/>
                </a:lnTo>
                <a:lnTo>
                  <a:pt x="574" y="618"/>
                </a:lnTo>
                <a:lnTo>
                  <a:pt x="603" y="588"/>
                </a:lnTo>
                <a:lnTo>
                  <a:pt x="622" y="559"/>
                </a:lnTo>
                <a:lnTo>
                  <a:pt x="647" y="534"/>
                </a:lnTo>
                <a:lnTo>
                  <a:pt x="666" y="505"/>
                </a:lnTo>
                <a:lnTo>
                  <a:pt x="685" y="476"/>
                </a:lnTo>
                <a:lnTo>
                  <a:pt x="710" y="446"/>
                </a:lnTo>
                <a:lnTo>
                  <a:pt x="730" y="412"/>
                </a:lnTo>
                <a:lnTo>
                  <a:pt x="754" y="388"/>
                </a:lnTo>
                <a:lnTo>
                  <a:pt x="774" y="354"/>
                </a:lnTo>
                <a:lnTo>
                  <a:pt x="788" y="330"/>
                </a:lnTo>
                <a:lnTo>
                  <a:pt x="813" y="296"/>
                </a:lnTo>
                <a:lnTo>
                  <a:pt x="827" y="267"/>
                </a:lnTo>
                <a:lnTo>
                  <a:pt x="842" y="233"/>
                </a:lnTo>
                <a:lnTo>
                  <a:pt x="861" y="199"/>
                </a:lnTo>
                <a:lnTo>
                  <a:pt x="881" y="170"/>
                </a:lnTo>
                <a:lnTo>
                  <a:pt x="895" y="136"/>
                </a:lnTo>
                <a:lnTo>
                  <a:pt x="915" y="106"/>
                </a:lnTo>
                <a:lnTo>
                  <a:pt x="929" y="72"/>
                </a:lnTo>
                <a:lnTo>
                  <a:pt x="939" y="38"/>
                </a:lnTo>
                <a:lnTo>
                  <a:pt x="958" y="9"/>
                </a:lnTo>
                <a:lnTo>
                  <a:pt x="95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4" name=""/>
          <p:cNvSpPr/>
          <p:nvPr/>
        </p:nvSpPr>
        <p:spPr>
          <a:xfrm>
            <a:off x="4089240" y="2176560"/>
            <a:ext cx="32040" cy="105120"/>
          </a:xfrm>
          <a:custGeom>
            <a:avLst/>
            <a:gdLst/>
            <a:ahLst/>
            <a:rect l="0" t="0" r="r" b="b"/>
            <a:pathLst>
              <a:path fill="none" w="89" h="292">
                <a:moveTo>
                  <a:pt x="0" y="292"/>
                </a:moveTo>
                <a:lnTo>
                  <a:pt x="4" y="272"/>
                </a:lnTo>
                <a:lnTo>
                  <a:pt x="19" y="233"/>
                </a:lnTo>
                <a:lnTo>
                  <a:pt x="29" y="204"/>
                </a:lnTo>
                <a:lnTo>
                  <a:pt x="45" y="165"/>
                </a:lnTo>
                <a:lnTo>
                  <a:pt x="54" y="130"/>
                </a:lnTo>
                <a:lnTo>
                  <a:pt x="64" y="97"/>
                </a:lnTo>
                <a:lnTo>
                  <a:pt x="69" y="58"/>
                </a:lnTo>
                <a:lnTo>
                  <a:pt x="79" y="24"/>
                </a:lnTo>
                <a:lnTo>
                  <a:pt x="8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5" name=""/>
          <p:cNvSpPr/>
          <p:nvPr/>
        </p:nvSpPr>
        <p:spPr>
          <a:xfrm>
            <a:off x="2941560" y="1701720"/>
            <a:ext cx="733680" cy="736920"/>
          </a:xfrm>
          <a:custGeom>
            <a:avLst/>
            <a:gdLst/>
            <a:ahLst/>
            <a:rect l="0" t="0" r="r" b="b"/>
            <a:pathLst>
              <a:path fill="none" w="2038" h="2047">
                <a:moveTo>
                  <a:pt x="2038" y="1026"/>
                </a:moveTo>
                <a:lnTo>
                  <a:pt x="2038" y="996"/>
                </a:lnTo>
                <a:lnTo>
                  <a:pt x="2038" y="976"/>
                </a:lnTo>
                <a:lnTo>
                  <a:pt x="2028" y="947"/>
                </a:lnTo>
                <a:lnTo>
                  <a:pt x="2028" y="928"/>
                </a:lnTo>
                <a:lnTo>
                  <a:pt x="2028" y="899"/>
                </a:lnTo>
                <a:lnTo>
                  <a:pt x="2023" y="879"/>
                </a:lnTo>
                <a:lnTo>
                  <a:pt x="2018" y="850"/>
                </a:lnTo>
                <a:lnTo>
                  <a:pt x="2018" y="831"/>
                </a:lnTo>
                <a:lnTo>
                  <a:pt x="2014" y="811"/>
                </a:lnTo>
                <a:lnTo>
                  <a:pt x="2009" y="782"/>
                </a:lnTo>
                <a:lnTo>
                  <a:pt x="2004" y="763"/>
                </a:lnTo>
                <a:lnTo>
                  <a:pt x="1994" y="738"/>
                </a:lnTo>
                <a:lnTo>
                  <a:pt x="1989" y="714"/>
                </a:lnTo>
                <a:lnTo>
                  <a:pt x="1984" y="690"/>
                </a:lnTo>
                <a:lnTo>
                  <a:pt x="1970" y="670"/>
                </a:lnTo>
                <a:lnTo>
                  <a:pt x="1965" y="646"/>
                </a:lnTo>
                <a:lnTo>
                  <a:pt x="1955" y="622"/>
                </a:lnTo>
                <a:lnTo>
                  <a:pt x="1946" y="602"/>
                </a:lnTo>
                <a:lnTo>
                  <a:pt x="1936" y="578"/>
                </a:lnTo>
                <a:lnTo>
                  <a:pt x="1921" y="558"/>
                </a:lnTo>
                <a:lnTo>
                  <a:pt x="1912" y="539"/>
                </a:lnTo>
                <a:lnTo>
                  <a:pt x="1902" y="515"/>
                </a:lnTo>
                <a:lnTo>
                  <a:pt x="1892" y="495"/>
                </a:lnTo>
                <a:lnTo>
                  <a:pt x="1878" y="476"/>
                </a:lnTo>
                <a:lnTo>
                  <a:pt x="1863" y="456"/>
                </a:lnTo>
                <a:lnTo>
                  <a:pt x="1853" y="437"/>
                </a:lnTo>
                <a:lnTo>
                  <a:pt x="1839" y="417"/>
                </a:lnTo>
                <a:lnTo>
                  <a:pt x="1824" y="398"/>
                </a:lnTo>
                <a:lnTo>
                  <a:pt x="1805" y="379"/>
                </a:lnTo>
                <a:lnTo>
                  <a:pt x="1795" y="359"/>
                </a:lnTo>
                <a:lnTo>
                  <a:pt x="1781" y="345"/>
                </a:lnTo>
                <a:lnTo>
                  <a:pt x="1761" y="325"/>
                </a:lnTo>
                <a:lnTo>
                  <a:pt x="1747" y="306"/>
                </a:lnTo>
                <a:lnTo>
                  <a:pt x="1727" y="291"/>
                </a:lnTo>
                <a:lnTo>
                  <a:pt x="1708" y="277"/>
                </a:lnTo>
                <a:lnTo>
                  <a:pt x="1693" y="257"/>
                </a:lnTo>
                <a:lnTo>
                  <a:pt x="1679" y="243"/>
                </a:lnTo>
                <a:lnTo>
                  <a:pt x="1655" y="228"/>
                </a:lnTo>
                <a:lnTo>
                  <a:pt x="1640" y="208"/>
                </a:lnTo>
                <a:lnTo>
                  <a:pt x="1621" y="199"/>
                </a:lnTo>
                <a:lnTo>
                  <a:pt x="1596" y="184"/>
                </a:lnTo>
                <a:lnTo>
                  <a:pt x="1582" y="170"/>
                </a:lnTo>
                <a:lnTo>
                  <a:pt x="1562" y="155"/>
                </a:lnTo>
                <a:lnTo>
                  <a:pt x="1538" y="145"/>
                </a:lnTo>
                <a:lnTo>
                  <a:pt x="1519" y="131"/>
                </a:lnTo>
                <a:lnTo>
                  <a:pt x="1495" y="121"/>
                </a:lnTo>
                <a:lnTo>
                  <a:pt x="1475" y="111"/>
                </a:lnTo>
                <a:lnTo>
                  <a:pt x="1456" y="97"/>
                </a:lnTo>
                <a:lnTo>
                  <a:pt x="1431" y="87"/>
                </a:lnTo>
                <a:lnTo>
                  <a:pt x="1412" y="77"/>
                </a:lnTo>
                <a:lnTo>
                  <a:pt x="1388" y="72"/>
                </a:lnTo>
                <a:lnTo>
                  <a:pt x="1368" y="63"/>
                </a:lnTo>
                <a:lnTo>
                  <a:pt x="1349" y="58"/>
                </a:lnTo>
                <a:lnTo>
                  <a:pt x="1320" y="43"/>
                </a:lnTo>
                <a:lnTo>
                  <a:pt x="1300" y="38"/>
                </a:lnTo>
                <a:lnTo>
                  <a:pt x="1276" y="34"/>
                </a:lnTo>
                <a:lnTo>
                  <a:pt x="1252" y="29"/>
                </a:lnTo>
                <a:lnTo>
                  <a:pt x="1228" y="24"/>
                </a:lnTo>
                <a:lnTo>
                  <a:pt x="1208" y="19"/>
                </a:lnTo>
                <a:lnTo>
                  <a:pt x="1184" y="14"/>
                </a:lnTo>
                <a:lnTo>
                  <a:pt x="1160" y="9"/>
                </a:lnTo>
                <a:lnTo>
                  <a:pt x="1136" y="9"/>
                </a:lnTo>
                <a:lnTo>
                  <a:pt x="1111" y="4"/>
                </a:lnTo>
                <a:lnTo>
                  <a:pt x="1087" y="4"/>
                </a:lnTo>
                <a:lnTo>
                  <a:pt x="1063" y="4"/>
                </a:lnTo>
                <a:lnTo>
                  <a:pt x="1043" y="4"/>
                </a:lnTo>
                <a:lnTo>
                  <a:pt x="1018" y="0"/>
                </a:lnTo>
                <a:lnTo>
                  <a:pt x="994" y="4"/>
                </a:lnTo>
                <a:lnTo>
                  <a:pt x="970" y="4"/>
                </a:lnTo>
                <a:lnTo>
                  <a:pt x="945" y="4"/>
                </a:lnTo>
                <a:lnTo>
                  <a:pt x="921" y="4"/>
                </a:lnTo>
                <a:lnTo>
                  <a:pt x="897" y="9"/>
                </a:lnTo>
                <a:lnTo>
                  <a:pt x="873" y="9"/>
                </a:lnTo>
                <a:lnTo>
                  <a:pt x="848" y="14"/>
                </a:lnTo>
                <a:lnTo>
                  <a:pt x="824" y="19"/>
                </a:lnTo>
                <a:lnTo>
                  <a:pt x="805" y="24"/>
                </a:lnTo>
                <a:lnTo>
                  <a:pt x="780" y="29"/>
                </a:lnTo>
                <a:lnTo>
                  <a:pt x="756" y="34"/>
                </a:lnTo>
                <a:lnTo>
                  <a:pt x="732" y="38"/>
                </a:lnTo>
                <a:lnTo>
                  <a:pt x="713" y="43"/>
                </a:lnTo>
                <a:lnTo>
                  <a:pt x="688" y="58"/>
                </a:lnTo>
                <a:lnTo>
                  <a:pt x="664" y="63"/>
                </a:lnTo>
                <a:lnTo>
                  <a:pt x="645" y="72"/>
                </a:lnTo>
                <a:lnTo>
                  <a:pt x="620" y="77"/>
                </a:lnTo>
                <a:lnTo>
                  <a:pt x="601" y="87"/>
                </a:lnTo>
                <a:lnTo>
                  <a:pt x="577" y="97"/>
                </a:lnTo>
                <a:lnTo>
                  <a:pt x="557" y="111"/>
                </a:lnTo>
                <a:lnTo>
                  <a:pt x="538" y="121"/>
                </a:lnTo>
                <a:lnTo>
                  <a:pt x="514" y="131"/>
                </a:lnTo>
                <a:lnTo>
                  <a:pt x="494" y="145"/>
                </a:lnTo>
                <a:lnTo>
                  <a:pt x="470" y="155"/>
                </a:lnTo>
                <a:lnTo>
                  <a:pt x="455" y="170"/>
                </a:lnTo>
                <a:lnTo>
                  <a:pt x="436" y="184"/>
                </a:lnTo>
                <a:lnTo>
                  <a:pt x="412" y="199"/>
                </a:lnTo>
                <a:lnTo>
                  <a:pt x="397" y="208"/>
                </a:lnTo>
                <a:lnTo>
                  <a:pt x="378" y="228"/>
                </a:lnTo>
                <a:lnTo>
                  <a:pt x="358" y="243"/>
                </a:lnTo>
                <a:lnTo>
                  <a:pt x="339" y="257"/>
                </a:lnTo>
                <a:lnTo>
                  <a:pt x="324" y="277"/>
                </a:lnTo>
                <a:lnTo>
                  <a:pt x="305" y="291"/>
                </a:lnTo>
                <a:lnTo>
                  <a:pt x="291" y="306"/>
                </a:lnTo>
                <a:lnTo>
                  <a:pt x="276" y="325"/>
                </a:lnTo>
                <a:lnTo>
                  <a:pt x="257" y="345"/>
                </a:lnTo>
                <a:lnTo>
                  <a:pt x="242" y="359"/>
                </a:lnTo>
                <a:lnTo>
                  <a:pt x="227" y="379"/>
                </a:lnTo>
                <a:lnTo>
                  <a:pt x="208" y="398"/>
                </a:lnTo>
                <a:lnTo>
                  <a:pt x="194" y="417"/>
                </a:lnTo>
                <a:lnTo>
                  <a:pt x="184" y="437"/>
                </a:lnTo>
                <a:lnTo>
                  <a:pt x="169" y="456"/>
                </a:lnTo>
                <a:lnTo>
                  <a:pt x="155" y="476"/>
                </a:lnTo>
                <a:lnTo>
                  <a:pt x="140" y="495"/>
                </a:lnTo>
                <a:lnTo>
                  <a:pt x="130" y="515"/>
                </a:lnTo>
                <a:lnTo>
                  <a:pt x="121" y="539"/>
                </a:lnTo>
                <a:lnTo>
                  <a:pt x="111" y="558"/>
                </a:lnTo>
                <a:lnTo>
                  <a:pt x="97" y="578"/>
                </a:lnTo>
                <a:lnTo>
                  <a:pt x="87" y="602"/>
                </a:lnTo>
                <a:lnTo>
                  <a:pt x="77" y="622"/>
                </a:lnTo>
                <a:lnTo>
                  <a:pt x="72" y="646"/>
                </a:lnTo>
                <a:lnTo>
                  <a:pt x="63" y="670"/>
                </a:lnTo>
                <a:lnTo>
                  <a:pt x="48" y="690"/>
                </a:lnTo>
                <a:lnTo>
                  <a:pt x="43" y="714"/>
                </a:lnTo>
                <a:lnTo>
                  <a:pt x="38" y="738"/>
                </a:lnTo>
                <a:lnTo>
                  <a:pt x="33" y="763"/>
                </a:lnTo>
                <a:lnTo>
                  <a:pt x="29" y="782"/>
                </a:lnTo>
                <a:lnTo>
                  <a:pt x="24" y="811"/>
                </a:lnTo>
                <a:lnTo>
                  <a:pt x="19" y="831"/>
                </a:lnTo>
                <a:lnTo>
                  <a:pt x="14" y="850"/>
                </a:lnTo>
                <a:lnTo>
                  <a:pt x="9" y="879"/>
                </a:lnTo>
                <a:lnTo>
                  <a:pt x="9" y="899"/>
                </a:lnTo>
                <a:lnTo>
                  <a:pt x="4" y="928"/>
                </a:lnTo>
                <a:lnTo>
                  <a:pt x="4" y="947"/>
                </a:lnTo>
                <a:lnTo>
                  <a:pt x="4" y="976"/>
                </a:lnTo>
                <a:lnTo>
                  <a:pt x="0" y="996"/>
                </a:lnTo>
                <a:lnTo>
                  <a:pt x="0" y="1026"/>
                </a:lnTo>
                <a:lnTo>
                  <a:pt x="0" y="1045"/>
                </a:lnTo>
                <a:lnTo>
                  <a:pt x="4" y="1065"/>
                </a:lnTo>
                <a:lnTo>
                  <a:pt x="4" y="1094"/>
                </a:lnTo>
                <a:lnTo>
                  <a:pt x="4" y="1113"/>
                </a:lnTo>
                <a:lnTo>
                  <a:pt x="9" y="1143"/>
                </a:lnTo>
                <a:lnTo>
                  <a:pt x="9" y="1162"/>
                </a:lnTo>
                <a:lnTo>
                  <a:pt x="14" y="1191"/>
                </a:lnTo>
                <a:lnTo>
                  <a:pt x="19" y="1211"/>
                </a:lnTo>
                <a:lnTo>
                  <a:pt x="24" y="1230"/>
                </a:lnTo>
                <a:lnTo>
                  <a:pt x="29" y="1259"/>
                </a:lnTo>
                <a:lnTo>
                  <a:pt x="33" y="1279"/>
                </a:lnTo>
                <a:lnTo>
                  <a:pt x="38" y="1308"/>
                </a:lnTo>
                <a:lnTo>
                  <a:pt x="43" y="1327"/>
                </a:lnTo>
                <a:lnTo>
                  <a:pt x="48" y="1352"/>
                </a:lnTo>
                <a:lnTo>
                  <a:pt x="63" y="1371"/>
                </a:lnTo>
                <a:lnTo>
                  <a:pt x="72" y="1390"/>
                </a:lnTo>
                <a:lnTo>
                  <a:pt x="77" y="1420"/>
                </a:lnTo>
                <a:lnTo>
                  <a:pt x="87" y="1439"/>
                </a:lnTo>
                <a:lnTo>
                  <a:pt x="97" y="1463"/>
                </a:lnTo>
                <a:lnTo>
                  <a:pt x="111" y="1483"/>
                </a:lnTo>
                <a:lnTo>
                  <a:pt x="121" y="1502"/>
                </a:lnTo>
                <a:lnTo>
                  <a:pt x="130" y="1527"/>
                </a:lnTo>
                <a:lnTo>
                  <a:pt x="140" y="1546"/>
                </a:lnTo>
                <a:lnTo>
                  <a:pt x="155" y="1565"/>
                </a:lnTo>
                <a:lnTo>
                  <a:pt x="169" y="1585"/>
                </a:lnTo>
                <a:lnTo>
                  <a:pt x="184" y="1604"/>
                </a:lnTo>
                <a:lnTo>
                  <a:pt x="194" y="1629"/>
                </a:lnTo>
                <a:lnTo>
                  <a:pt x="208" y="1643"/>
                </a:lnTo>
                <a:lnTo>
                  <a:pt x="227" y="1663"/>
                </a:lnTo>
                <a:lnTo>
                  <a:pt x="242" y="1682"/>
                </a:lnTo>
                <a:lnTo>
                  <a:pt x="257" y="1697"/>
                </a:lnTo>
                <a:lnTo>
                  <a:pt x="276" y="1716"/>
                </a:lnTo>
                <a:lnTo>
                  <a:pt x="291" y="1736"/>
                </a:lnTo>
                <a:lnTo>
                  <a:pt x="305" y="1750"/>
                </a:lnTo>
                <a:lnTo>
                  <a:pt x="324" y="1765"/>
                </a:lnTo>
                <a:lnTo>
                  <a:pt x="339" y="1784"/>
                </a:lnTo>
                <a:lnTo>
                  <a:pt x="358" y="1799"/>
                </a:lnTo>
                <a:lnTo>
                  <a:pt x="378" y="1813"/>
                </a:lnTo>
                <a:lnTo>
                  <a:pt x="397" y="1833"/>
                </a:lnTo>
                <a:lnTo>
                  <a:pt x="412" y="1847"/>
                </a:lnTo>
                <a:lnTo>
                  <a:pt x="436" y="1857"/>
                </a:lnTo>
                <a:lnTo>
                  <a:pt x="455" y="1872"/>
                </a:lnTo>
                <a:lnTo>
                  <a:pt x="470" y="1886"/>
                </a:lnTo>
                <a:lnTo>
                  <a:pt x="494" y="1896"/>
                </a:lnTo>
                <a:lnTo>
                  <a:pt x="514" y="1911"/>
                </a:lnTo>
                <a:lnTo>
                  <a:pt x="538" y="1920"/>
                </a:lnTo>
                <a:lnTo>
                  <a:pt x="557" y="1930"/>
                </a:lnTo>
                <a:lnTo>
                  <a:pt x="577" y="1945"/>
                </a:lnTo>
                <a:lnTo>
                  <a:pt x="601" y="1954"/>
                </a:lnTo>
                <a:lnTo>
                  <a:pt x="620" y="1964"/>
                </a:lnTo>
                <a:lnTo>
                  <a:pt x="645" y="1969"/>
                </a:lnTo>
                <a:lnTo>
                  <a:pt x="664" y="1979"/>
                </a:lnTo>
                <a:lnTo>
                  <a:pt x="688" y="1983"/>
                </a:lnTo>
                <a:lnTo>
                  <a:pt x="713" y="1998"/>
                </a:lnTo>
                <a:lnTo>
                  <a:pt x="732" y="2003"/>
                </a:lnTo>
                <a:lnTo>
                  <a:pt x="756" y="2008"/>
                </a:lnTo>
                <a:lnTo>
                  <a:pt x="780" y="2013"/>
                </a:lnTo>
                <a:lnTo>
                  <a:pt x="805" y="2017"/>
                </a:lnTo>
                <a:lnTo>
                  <a:pt x="824" y="2022"/>
                </a:lnTo>
                <a:lnTo>
                  <a:pt x="848" y="2027"/>
                </a:lnTo>
                <a:lnTo>
                  <a:pt x="873" y="2032"/>
                </a:lnTo>
                <a:lnTo>
                  <a:pt x="897" y="2032"/>
                </a:lnTo>
                <a:lnTo>
                  <a:pt x="921" y="2037"/>
                </a:lnTo>
                <a:lnTo>
                  <a:pt x="945" y="2037"/>
                </a:lnTo>
                <a:lnTo>
                  <a:pt x="970" y="2037"/>
                </a:lnTo>
                <a:lnTo>
                  <a:pt x="994" y="2047"/>
                </a:lnTo>
                <a:lnTo>
                  <a:pt x="1018" y="2047"/>
                </a:lnTo>
                <a:lnTo>
                  <a:pt x="1043" y="2047"/>
                </a:lnTo>
                <a:lnTo>
                  <a:pt x="1063" y="2037"/>
                </a:lnTo>
                <a:lnTo>
                  <a:pt x="1087" y="2037"/>
                </a:lnTo>
                <a:lnTo>
                  <a:pt x="1111" y="2037"/>
                </a:lnTo>
                <a:lnTo>
                  <a:pt x="1136" y="2032"/>
                </a:lnTo>
                <a:lnTo>
                  <a:pt x="1160" y="2032"/>
                </a:lnTo>
                <a:lnTo>
                  <a:pt x="1184" y="2027"/>
                </a:lnTo>
                <a:lnTo>
                  <a:pt x="1208" y="2022"/>
                </a:lnTo>
                <a:lnTo>
                  <a:pt x="1228" y="2017"/>
                </a:lnTo>
                <a:lnTo>
                  <a:pt x="1252" y="2013"/>
                </a:lnTo>
                <a:lnTo>
                  <a:pt x="1276" y="2008"/>
                </a:lnTo>
                <a:lnTo>
                  <a:pt x="1300" y="2003"/>
                </a:lnTo>
                <a:lnTo>
                  <a:pt x="1320" y="1998"/>
                </a:lnTo>
                <a:lnTo>
                  <a:pt x="1349" y="1983"/>
                </a:lnTo>
                <a:lnTo>
                  <a:pt x="1368" y="1979"/>
                </a:lnTo>
                <a:lnTo>
                  <a:pt x="1388" y="1969"/>
                </a:lnTo>
                <a:lnTo>
                  <a:pt x="1412" y="1964"/>
                </a:lnTo>
                <a:lnTo>
                  <a:pt x="1431" y="1954"/>
                </a:lnTo>
                <a:lnTo>
                  <a:pt x="1456" y="1945"/>
                </a:lnTo>
                <a:lnTo>
                  <a:pt x="1475" y="1930"/>
                </a:lnTo>
                <a:lnTo>
                  <a:pt x="1495" y="1920"/>
                </a:lnTo>
                <a:lnTo>
                  <a:pt x="1519" y="1911"/>
                </a:lnTo>
                <a:lnTo>
                  <a:pt x="1538" y="1896"/>
                </a:lnTo>
                <a:lnTo>
                  <a:pt x="1562" y="1886"/>
                </a:lnTo>
                <a:lnTo>
                  <a:pt x="1582" y="1872"/>
                </a:lnTo>
                <a:lnTo>
                  <a:pt x="1596" y="1857"/>
                </a:lnTo>
                <a:lnTo>
                  <a:pt x="1621" y="1847"/>
                </a:lnTo>
                <a:lnTo>
                  <a:pt x="1640" y="1833"/>
                </a:lnTo>
                <a:lnTo>
                  <a:pt x="1655" y="1813"/>
                </a:lnTo>
                <a:lnTo>
                  <a:pt x="1679" y="1799"/>
                </a:lnTo>
                <a:lnTo>
                  <a:pt x="1693" y="1784"/>
                </a:lnTo>
                <a:lnTo>
                  <a:pt x="1708" y="1765"/>
                </a:lnTo>
                <a:lnTo>
                  <a:pt x="1727" y="1750"/>
                </a:lnTo>
                <a:lnTo>
                  <a:pt x="1747" y="1736"/>
                </a:lnTo>
                <a:lnTo>
                  <a:pt x="1761" y="1716"/>
                </a:lnTo>
                <a:lnTo>
                  <a:pt x="1781" y="1697"/>
                </a:lnTo>
                <a:lnTo>
                  <a:pt x="1795" y="1682"/>
                </a:lnTo>
                <a:lnTo>
                  <a:pt x="1805" y="1663"/>
                </a:lnTo>
                <a:lnTo>
                  <a:pt x="1824" y="1643"/>
                </a:lnTo>
                <a:lnTo>
                  <a:pt x="1839" y="1629"/>
                </a:lnTo>
                <a:lnTo>
                  <a:pt x="1853" y="1604"/>
                </a:lnTo>
                <a:lnTo>
                  <a:pt x="1863" y="1585"/>
                </a:lnTo>
                <a:lnTo>
                  <a:pt x="1878" y="1565"/>
                </a:lnTo>
                <a:lnTo>
                  <a:pt x="1892" y="1546"/>
                </a:lnTo>
                <a:lnTo>
                  <a:pt x="1902" y="1527"/>
                </a:lnTo>
                <a:lnTo>
                  <a:pt x="1912" y="1502"/>
                </a:lnTo>
                <a:lnTo>
                  <a:pt x="1921" y="1483"/>
                </a:lnTo>
                <a:lnTo>
                  <a:pt x="1936" y="1463"/>
                </a:lnTo>
                <a:lnTo>
                  <a:pt x="1946" y="1439"/>
                </a:lnTo>
                <a:lnTo>
                  <a:pt x="1955" y="1420"/>
                </a:lnTo>
                <a:lnTo>
                  <a:pt x="1965" y="1390"/>
                </a:lnTo>
                <a:lnTo>
                  <a:pt x="1970" y="1371"/>
                </a:lnTo>
                <a:lnTo>
                  <a:pt x="1984" y="1352"/>
                </a:lnTo>
                <a:lnTo>
                  <a:pt x="1989" y="1327"/>
                </a:lnTo>
                <a:lnTo>
                  <a:pt x="1994" y="1308"/>
                </a:lnTo>
                <a:lnTo>
                  <a:pt x="2004" y="1279"/>
                </a:lnTo>
                <a:lnTo>
                  <a:pt x="2009" y="1259"/>
                </a:lnTo>
                <a:lnTo>
                  <a:pt x="2014" y="1230"/>
                </a:lnTo>
                <a:lnTo>
                  <a:pt x="2018" y="1211"/>
                </a:lnTo>
                <a:lnTo>
                  <a:pt x="2018" y="1191"/>
                </a:lnTo>
                <a:lnTo>
                  <a:pt x="2023" y="1162"/>
                </a:lnTo>
                <a:lnTo>
                  <a:pt x="2028" y="1143"/>
                </a:lnTo>
                <a:lnTo>
                  <a:pt x="2028" y="1113"/>
                </a:lnTo>
                <a:lnTo>
                  <a:pt x="2028" y="1094"/>
                </a:lnTo>
                <a:lnTo>
                  <a:pt x="2038" y="1065"/>
                </a:lnTo>
                <a:lnTo>
                  <a:pt x="2038" y="1045"/>
                </a:lnTo>
                <a:lnTo>
                  <a:pt x="2038" y="102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6" name=""/>
          <p:cNvSpPr/>
          <p:nvPr/>
        </p:nvSpPr>
        <p:spPr>
          <a:xfrm>
            <a:off x="3308400" y="2233440"/>
            <a:ext cx="0" cy="125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7" name=""/>
          <p:cNvSpPr/>
          <p:nvPr/>
        </p:nvSpPr>
        <p:spPr>
          <a:xfrm>
            <a:off x="2394000" y="2590920"/>
            <a:ext cx="122760" cy="147960"/>
          </a:xfrm>
          <a:custGeom>
            <a:avLst/>
            <a:gdLst/>
            <a:ahLst/>
            <a:rect l="0" t="0" r="r" b="b"/>
            <a:pathLst>
              <a:path w="341" h="411">
                <a:moveTo>
                  <a:pt x="0" y="318"/>
                </a:moveTo>
                <a:lnTo>
                  <a:pt x="341" y="0"/>
                </a:lnTo>
                <a:lnTo>
                  <a:pt x="122" y="411"/>
                </a:lnTo>
                <a:lnTo>
                  <a:pt x="0" y="31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8" name=""/>
          <p:cNvSpPr/>
          <p:nvPr/>
        </p:nvSpPr>
        <p:spPr>
          <a:xfrm>
            <a:off x="2476440" y="2354400"/>
            <a:ext cx="260640" cy="263880"/>
          </a:xfrm>
          <a:custGeom>
            <a:avLst/>
            <a:gdLst/>
            <a:ahLst/>
            <a:rect l="0" t="0" r="r" b="b"/>
            <a:pathLst>
              <a:path fill="none" w="724" h="733">
                <a:moveTo>
                  <a:pt x="724" y="358"/>
                </a:moveTo>
                <a:lnTo>
                  <a:pt x="724" y="349"/>
                </a:lnTo>
                <a:lnTo>
                  <a:pt x="724" y="334"/>
                </a:lnTo>
                <a:lnTo>
                  <a:pt x="724" y="319"/>
                </a:lnTo>
                <a:lnTo>
                  <a:pt x="714" y="305"/>
                </a:lnTo>
                <a:lnTo>
                  <a:pt x="714" y="290"/>
                </a:lnTo>
                <a:lnTo>
                  <a:pt x="709" y="281"/>
                </a:lnTo>
                <a:lnTo>
                  <a:pt x="709" y="266"/>
                </a:lnTo>
                <a:lnTo>
                  <a:pt x="704" y="247"/>
                </a:lnTo>
                <a:lnTo>
                  <a:pt x="699" y="237"/>
                </a:lnTo>
                <a:lnTo>
                  <a:pt x="695" y="222"/>
                </a:lnTo>
                <a:lnTo>
                  <a:pt x="690" y="213"/>
                </a:lnTo>
                <a:lnTo>
                  <a:pt x="685" y="193"/>
                </a:lnTo>
                <a:lnTo>
                  <a:pt x="680" y="184"/>
                </a:lnTo>
                <a:lnTo>
                  <a:pt x="670" y="174"/>
                </a:lnTo>
                <a:lnTo>
                  <a:pt x="661" y="164"/>
                </a:lnTo>
                <a:lnTo>
                  <a:pt x="651" y="145"/>
                </a:lnTo>
                <a:lnTo>
                  <a:pt x="646" y="135"/>
                </a:lnTo>
                <a:lnTo>
                  <a:pt x="636" y="126"/>
                </a:lnTo>
                <a:lnTo>
                  <a:pt x="627" y="116"/>
                </a:lnTo>
                <a:lnTo>
                  <a:pt x="617" y="106"/>
                </a:lnTo>
                <a:lnTo>
                  <a:pt x="602" y="92"/>
                </a:lnTo>
                <a:lnTo>
                  <a:pt x="593" y="87"/>
                </a:lnTo>
                <a:lnTo>
                  <a:pt x="583" y="77"/>
                </a:lnTo>
                <a:lnTo>
                  <a:pt x="573" y="67"/>
                </a:lnTo>
                <a:lnTo>
                  <a:pt x="564" y="63"/>
                </a:lnTo>
                <a:lnTo>
                  <a:pt x="549" y="53"/>
                </a:lnTo>
                <a:lnTo>
                  <a:pt x="539" y="43"/>
                </a:lnTo>
                <a:lnTo>
                  <a:pt x="525" y="38"/>
                </a:lnTo>
                <a:lnTo>
                  <a:pt x="515" y="29"/>
                </a:lnTo>
                <a:lnTo>
                  <a:pt x="496" y="24"/>
                </a:lnTo>
                <a:lnTo>
                  <a:pt x="486" y="19"/>
                </a:lnTo>
                <a:lnTo>
                  <a:pt x="471" y="19"/>
                </a:lnTo>
                <a:lnTo>
                  <a:pt x="462" y="14"/>
                </a:lnTo>
                <a:lnTo>
                  <a:pt x="447" y="9"/>
                </a:lnTo>
                <a:lnTo>
                  <a:pt x="428" y="4"/>
                </a:lnTo>
                <a:lnTo>
                  <a:pt x="418" y="4"/>
                </a:lnTo>
                <a:lnTo>
                  <a:pt x="403" y="4"/>
                </a:lnTo>
                <a:lnTo>
                  <a:pt x="384" y="0"/>
                </a:lnTo>
                <a:lnTo>
                  <a:pt x="374" y="0"/>
                </a:lnTo>
                <a:lnTo>
                  <a:pt x="359" y="0"/>
                </a:lnTo>
                <a:lnTo>
                  <a:pt x="344" y="0"/>
                </a:lnTo>
                <a:lnTo>
                  <a:pt x="334" y="0"/>
                </a:lnTo>
                <a:lnTo>
                  <a:pt x="315" y="4"/>
                </a:lnTo>
                <a:lnTo>
                  <a:pt x="305" y="4"/>
                </a:lnTo>
                <a:lnTo>
                  <a:pt x="291" y="4"/>
                </a:lnTo>
                <a:lnTo>
                  <a:pt x="271" y="9"/>
                </a:lnTo>
                <a:lnTo>
                  <a:pt x="262" y="14"/>
                </a:lnTo>
                <a:lnTo>
                  <a:pt x="247" y="19"/>
                </a:lnTo>
                <a:lnTo>
                  <a:pt x="237" y="19"/>
                </a:lnTo>
                <a:lnTo>
                  <a:pt x="223" y="24"/>
                </a:lnTo>
                <a:lnTo>
                  <a:pt x="208" y="29"/>
                </a:lnTo>
                <a:lnTo>
                  <a:pt x="194" y="38"/>
                </a:lnTo>
                <a:lnTo>
                  <a:pt x="184" y="43"/>
                </a:lnTo>
                <a:lnTo>
                  <a:pt x="169" y="53"/>
                </a:lnTo>
                <a:lnTo>
                  <a:pt x="155" y="63"/>
                </a:lnTo>
                <a:lnTo>
                  <a:pt x="145" y="67"/>
                </a:lnTo>
                <a:lnTo>
                  <a:pt x="135" y="77"/>
                </a:lnTo>
                <a:lnTo>
                  <a:pt x="126" y="87"/>
                </a:lnTo>
                <a:lnTo>
                  <a:pt x="116" y="92"/>
                </a:lnTo>
                <a:lnTo>
                  <a:pt x="101" y="106"/>
                </a:lnTo>
                <a:lnTo>
                  <a:pt x="92" y="116"/>
                </a:lnTo>
                <a:lnTo>
                  <a:pt x="82" y="126"/>
                </a:lnTo>
                <a:lnTo>
                  <a:pt x="72" y="135"/>
                </a:lnTo>
                <a:lnTo>
                  <a:pt x="67" y="145"/>
                </a:lnTo>
                <a:lnTo>
                  <a:pt x="58" y="164"/>
                </a:lnTo>
                <a:lnTo>
                  <a:pt x="48" y="174"/>
                </a:lnTo>
                <a:lnTo>
                  <a:pt x="43" y="184"/>
                </a:lnTo>
                <a:lnTo>
                  <a:pt x="33" y="193"/>
                </a:lnTo>
                <a:lnTo>
                  <a:pt x="29" y="213"/>
                </a:lnTo>
                <a:lnTo>
                  <a:pt x="24" y="222"/>
                </a:lnTo>
                <a:lnTo>
                  <a:pt x="19" y="237"/>
                </a:lnTo>
                <a:lnTo>
                  <a:pt x="14" y="247"/>
                </a:lnTo>
                <a:lnTo>
                  <a:pt x="9" y="266"/>
                </a:lnTo>
                <a:lnTo>
                  <a:pt x="9" y="281"/>
                </a:lnTo>
                <a:lnTo>
                  <a:pt x="4" y="290"/>
                </a:lnTo>
                <a:lnTo>
                  <a:pt x="4" y="305"/>
                </a:lnTo>
                <a:lnTo>
                  <a:pt x="0" y="319"/>
                </a:lnTo>
                <a:lnTo>
                  <a:pt x="0" y="334"/>
                </a:lnTo>
                <a:lnTo>
                  <a:pt x="0" y="349"/>
                </a:lnTo>
                <a:lnTo>
                  <a:pt x="0" y="358"/>
                </a:lnTo>
                <a:lnTo>
                  <a:pt x="0" y="379"/>
                </a:lnTo>
                <a:lnTo>
                  <a:pt x="0" y="393"/>
                </a:lnTo>
                <a:lnTo>
                  <a:pt x="0" y="408"/>
                </a:lnTo>
                <a:lnTo>
                  <a:pt x="4" y="422"/>
                </a:lnTo>
                <a:lnTo>
                  <a:pt x="4" y="437"/>
                </a:lnTo>
                <a:lnTo>
                  <a:pt x="9" y="446"/>
                </a:lnTo>
                <a:lnTo>
                  <a:pt x="9" y="461"/>
                </a:lnTo>
                <a:lnTo>
                  <a:pt x="14" y="480"/>
                </a:lnTo>
                <a:lnTo>
                  <a:pt x="19" y="490"/>
                </a:lnTo>
                <a:lnTo>
                  <a:pt x="24" y="505"/>
                </a:lnTo>
                <a:lnTo>
                  <a:pt x="29" y="514"/>
                </a:lnTo>
                <a:lnTo>
                  <a:pt x="33" y="534"/>
                </a:lnTo>
                <a:lnTo>
                  <a:pt x="43" y="543"/>
                </a:lnTo>
                <a:lnTo>
                  <a:pt x="48" y="553"/>
                </a:lnTo>
                <a:lnTo>
                  <a:pt x="58" y="563"/>
                </a:lnTo>
                <a:lnTo>
                  <a:pt x="67" y="582"/>
                </a:lnTo>
                <a:lnTo>
                  <a:pt x="72" y="592"/>
                </a:lnTo>
                <a:lnTo>
                  <a:pt x="82" y="602"/>
                </a:lnTo>
                <a:lnTo>
                  <a:pt x="92" y="611"/>
                </a:lnTo>
                <a:lnTo>
                  <a:pt x="101" y="621"/>
                </a:lnTo>
                <a:lnTo>
                  <a:pt x="116" y="636"/>
                </a:lnTo>
                <a:lnTo>
                  <a:pt x="126" y="640"/>
                </a:lnTo>
                <a:lnTo>
                  <a:pt x="135" y="650"/>
                </a:lnTo>
                <a:lnTo>
                  <a:pt x="145" y="660"/>
                </a:lnTo>
                <a:lnTo>
                  <a:pt x="155" y="665"/>
                </a:lnTo>
                <a:lnTo>
                  <a:pt x="169" y="674"/>
                </a:lnTo>
                <a:lnTo>
                  <a:pt x="184" y="684"/>
                </a:lnTo>
                <a:lnTo>
                  <a:pt x="194" y="689"/>
                </a:lnTo>
                <a:lnTo>
                  <a:pt x="208" y="699"/>
                </a:lnTo>
                <a:lnTo>
                  <a:pt x="223" y="703"/>
                </a:lnTo>
                <a:lnTo>
                  <a:pt x="237" y="703"/>
                </a:lnTo>
                <a:lnTo>
                  <a:pt x="247" y="708"/>
                </a:lnTo>
                <a:lnTo>
                  <a:pt x="262" y="713"/>
                </a:lnTo>
                <a:lnTo>
                  <a:pt x="271" y="718"/>
                </a:lnTo>
                <a:lnTo>
                  <a:pt x="291" y="718"/>
                </a:lnTo>
                <a:lnTo>
                  <a:pt x="305" y="723"/>
                </a:lnTo>
                <a:lnTo>
                  <a:pt x="315" y="723"/>
                </a:lnTo>
                <a:lnTo>
                  <a:pt x="334" y="723"/>
                </a:lnTo>
                <a:lnTo>
                  <a:pt x="344" y="733"/>
                </a:lnTo>
                <a:lnTo>
                  <a:pt x="359" y="733"/>
                </a:lnTo>
                <a:lnTo>
                  <a:pt x="374" y="733"/>
                </a:lnTo>
                <a:lnTo>
                  <a:pt x="384" y="723"/>
                </a:lnTo>
                <a:lnTo>
                  <a:pt x="403" y="723"/>
                </a:lnTo>
                <a:lnTo>
                  <a:pt x="418" y="723"/>
                </a:lnTo>
                <a:lnTo>
                  <a:pt x="428" y="718"/>
                </a:lnTo>
                <a:lnTo>
                  <a:pt x="447" y="718"/>
                </a:lnTo>
                <a:lnTo>
                  <a:pt x="462" y="713"/>
                </a:lnTo>
                <a:lnTo>
                  <a:pt x="471" y="708"/>
                </a:lnTo>
                <a:lnTo>
                  <a:pt x="486" y="703"/>
                </a:lnTo>
                <a:lnTo>
                  <a:pt x="496" y="703"/>
                </a:lnTo>
                <a:lnTo>
                  <a:pt x="515" y="699"/>
                </a:lnTo>
                <a:lnTo>
                  <a:pt x="525" y="689"/>
                </a:lnTo>
                <a:lnTo>
                  <a:pt x="539" y="684"/>
                </a:lnTo>
                <a:lnTo>
                  <a:pt x="549" y="674"/>
                </a:lnTo>
                <a:lnTo>
                  <a:pt x="564" y="665"/>
                </a:lnTo>
                <a:lnTo>
                  <a:pt x="573" y="660"/>
                </a:lnTo>
                <a:lnTo>
                  <a:pt x="583" y="650"/>
                </a:lnTo>
                <a:lnTo>
                  <a:pt x="593" y="640"/>
                </a:lnTo>
                <a:lnTo>
                  <a:pt x="602" y="636"/>
                </a:lnTo>
                <a:lnTo>
                  <a:pt x="617" y="621"/>
                </a:lnTo>
                <a:lnTo>
                  <a:pt x="627" y="611"/>
                </a:lnTo>
                <a:lnTo>
                  <a:pt x="636" y="602"/>
                </a:lnTo>
                <a:lnTo>
                  <a:pt x="646" y="592"/>
                </a:lnTo>
                <a:lnTo>
                  <a:pt x="651" y="582"/>
                </a:lnTo>
                <a:lnTo>
                  <a:pt x="661" y="563"/>
                </a:lnTo>
                <a:lnTo>
                  <a:pt x="670" y="553"/>
                </a:lnTo>
                <a:lnTo>
                  <a:pt x="680" y="543"/>
                </a:lnTo>
                <a:lnTo>
                  <a:pt x="685" y="534"/>
                </a:lnTo>
                <a:lnTo>
                  <a:pt x="690" y="514"/>
                </a:lnTo>
                <a:lnTo>
                  <a:pt x="695" y="505"/>
                </a:lnTo>
                <a:lnTo>
                  <a:pt x="699" y="490"/>
                </a:lnTo>
                <a:lnTo>
                  <a:pt x="704" y="480"/>
                </a:lnTo>
                <a:lnTo>
                  <a:pt x="709" y="461"/>
                </a:lnTo>
                <a:lnTo>
                  <a:pt x="709" y="446"/>
                </a:lnTo>
                <a:lnTo>
                  <a:pt x="714" y="437"/>
                </a:lnTo>
                <a:lnTo>
                  <a:pt x="714" y="422"/>
                </a:lnTo>
                <a:lnTo>
                  <a:pt x="724" y="408"/>
                </a:lnTo>
                <a:lnTo>
                  <a:pt x="724" y="393"/>
                </a:lnTo>
                <a:lnTo>
                  <a:pt x="724" y="379"/>
                </a:lnTo>
                <a:lnTo>
                  <a:pt x="724" y="3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9" name=""/>
          <p:cNvSpPr/>
          <p:nvPr/>
        </p:nvSpPr>
        <p:spPr>
          <a:xfrm>
            <a:off x="3308400" y="293040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0" name=""/>
          <p:cNvSpPr/>
          <p:nvPr/>
        </p:nvSpPr>
        <p:spPr>
          <a:xfrm flipH="1">
            <a:off x="3284640" y="2881440"/>
            <a:ext cx="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1" name=""/>
          <p:cNvSpPr/>
          <p:nvPr/>
        </p:nvSpPr>
        <p:spPr>
          <a:xfrm flipV="1">
            <a:off x="3308400" y="28605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4252" name=""/>
          <p:cNvSpPr/>
          <p:nvPr/>
        </p:nvSpPr>
        <p:spPr>
          <a:xfrm flipV="1">
            <a:off x="3308400" y="2727360"/>
            <a:ext cx="0" cy="11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3" name=""/>
          <p:cNvSpPr/>
          <p:nvPr/>
        </p:nvSpPr>
        <p:spPr>
          <a:xfrm>
            <a:off x="4782960" y="2071800"/>
            <a:ext cx="108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4" name=""/>
          <p:cNvSpPr/>
          <p:nvPr/>
        </p:nvSpPr>
        <p:spPr>
          <a:xfrm flipV="1">
            <a:off x="4194000" y="790560"/>
            <a:ext cx="1328760" cy="76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5" name=""/>
          <p:cNvSpPr/>
          <p:nvPr/>
        </p:nvSpPr>
        <p:spPr>
          <a:xfrm>
            <a:off x="5651640" y="1590840"/>
            <a:ext cx="41760" cy="314640"/>
          </a:xfrm>
          <a:custGeom>
            <a:avLst/>
            <a:gdLst/>
            <a:ahLst/>
            <a:rect l="0" t="0" r="r" b="b"/>
            <a:pathLst>
              <a:path fill="none" w="116" h="874">
                <a:moveTo>
                  <a:pt x="116" y="874"/>
                </a:moveTo>
                <a:lnTo>
                  <a:pt x="107" y="806"/>
                </a:lnTo>
                <a:lnTo>
                  <a:pt x="102" y="743"/>
                </a:lnTo>
                <a:lnTo>
                  <a:pt x="97" y="680"/>
                </a:lnTo>
                <a:lnTo>
                  <a:pt x="92" y="621"/>
                </a:lnTo>
                <a:lnTo>
                  <a:pt x="86" y="558"/>
                </a:lnTo>
                <a:lnTo>
                  <a:pt x="77" y="495"/>
                </a:lnTo>
                <a:lnTo>
                  <a:pt x="72" y="426"/>
                </a:lnTo>
                <a:lnTo>
                  <a:pt x="63" y="368"/>
                </a:lnTo>
                <a:lnTo>
                  <a:pt x="48" y="305"/>
                </a:lnTo>
                <a:lnTo>
                  <a:pt x="39" y="242"/>
                </a:lnTo>
                <a:lnTo>
                  <a:pt x="28" y="179"/>
                </a:lnTo>
                <a:lnTo>
                  <a:pt x="19" y="121"/>
                </a:lnTo>
                <a:lnTo>
                  <a:pt x="9" y="58"/>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6" name=""/>
          <p:cNvSpPr/>
          <p:nvPr/>
        </p:nvSpPr>
        <p:spPr>
          <a:xfrm>
            <a:off x="5456160" y="1015920"/>
            <a:ext cx="122760" cy="292320"/>
          </a:xfrm>
          <a:custGeom>
            <a:avLst/>
            <a:gdLst/>
            <a:ahLst/>
            <a:rect l="0" t="0" r="r" b="b"/>
            <a:pathLst>
              <a:path fill="none" w="341" h="812">
                <a:moveTo>
                  <a:pt x="341" y="812"/>
                </a:moveTo>
                <a:lnTo>
                  <a:pt x="317" y="749"/>
                </a:lnTo>
                <a:lnTo>
                  <a:pt x="297" y="690"/>
                </a:lnTo>
                <a:lnTo>
                  <a:pt x="273" y="632"/>
                </a:lnTo>
                <a:lnTo>
                  <a:pt x="253" y="574"/>
                </a:lnTo>
                <a:lnTo>
                  <a:pt x="228" y="516"/>
                </a:lnTo>
                <a:lnTo>
                  <a:pt x="204" y="457"/>
                </a:lnTo>
                <a:lnTo>
                  <a:pt x="180" y="398"/>
                </a:lnTo>
                <a:lnTo>
                  <a:pt x="156" y="340"/>
                </a:lnTo>
                <a:lnTo>
                  <a:pt x="131" y="281"/>
                </a:lnTo>
                <a:lnTo>
                  <a:pt x="107" y="228"/>
                </a:lnTo>
                <a:lnTo>
                  <a:pt x="77" y="170"/>
                </a:lnTo>
                <a:lnTo>
                  <a:pt x="58" y="111"/>
                </a:lnTo>
                <a:lnTo>
                  <a:pt x="29" y="58"/>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7" name=""/>
          <p:cNvSpPr/>
          <p:nvPr/>
        </p:nvSpPr>
        <p:spPr>
          <a:xfrm>
            <a:off x="5665680" y="1905120"/>
            <a:ext cx="54360" cy="168480"/>
          </a:xfrm>
          <a:custGeom>
            <a:avLst/>
            <a:gdLst/>
            <a:ahLst/>
            <a:rect l="0" t="0" r="r" b="b"/>
            <a:pathLst>
              <a:path w="151" h="468">
                <a:moveTo>
                  <a:pt x="151" y="0"/>
                </a:moveTo>
                <a:lnTo>
                  <a:pt x="0" y="4"/>
                </a:lnTo>
                <a:lnTo>
                  <a:pt x="88" y="468"/>
                </a:lnTo>
                <a:lnTo>
                  <a:pt x="1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8" name=""/>
          <p:cNvSpPr/>
          <p:nvPr/>
        </p:nvSpPr>
        <p:spPr>
          <a:xfrm>
            <a:off x="5376960" y="873000"/>
            <a:ext cx="103680" cy="159120"/>
          </a:xfrm>
          <a:custGeom>
            <a:avLst/>
            <a:gdLst/>
            <a:ahLst/>
            <a:rect l="0" t="0" r="r" b="b"/>
            <a:pathLst>
              <a:path w="288" h="442">
                <a:moveTo>
                  <a:pt x="151" y="442"/>
                </a:moveTo>
                <a:lnTo>
                  <a:pt x="288" y="365"/>
                </a:lnTo>
                <a:lnTo>
                  <a:pt x="0" y="0"/>
                </a:lnTo>
                <a:lnTo>
                  <a:pt x="151" y="4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59" name=""/>
          <p:cNvSpPr/>
          <p:nvPr/>
        </p:nvSpPr>
        <p:spPr>
          <a:xfrm>
            <a:off x="5410080" y="1308240"/>
            <a:ext cx="462240" cy="281520"/>
          </a:xfrm>
          <a:custGeom>
            <a:avLst/>
            <a:gdLst/>
            <a:ahLst/>
            <a:rect l="0" t="0" r="r" b="b"/>
            <a:pathLst>
              <a:path fill="none" w="1284" h="782">
                <a:moveTo>
                  <a:pt x="0" y="782"/>
                </a:moveTo>
                <a:lnTo>
                  <a:pt x="1284" y="782"/>
                </a:lnTo>
                <a:lnTo>
                  <a:pt x="1284" y="0"/>
                </a:lnTo>
                <a:lnTo>
                  <a:pt x="0" y="0"/>
                </a:lnTo>
                <a:lnTo>
                  <a:pt x="0" y="78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0" name=""/>
          <p:cNvSpPr/>
          <p:nvPr/>
        </p:nvSpPr>
        <p:spPr>
          <a:xfrm>
            <a:off x="3470400" y="2071800"/>
            <a:ext cx="125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1" name=""/>
          <p:cNvSpPr/>
          <p:nvPr/>
        </p:nvSpPr>
        <p:spPr>
          <a:xfrm flipV="1">
            <a:off x="3308400" y="652320"/>
            <a:ext cx="0" cy="12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2" name=""/>
          <p:cNvSpPr/>
          <p:nvPr/>
        </p:nvSpPr>
        <p:spPr>
          <a:xfrm flipH="1">
            <a:off x="1890720" y="20718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3" name=""/>
          <p:cNvSpPr/>
          <p:nvPr/>
        </p:nvSpPr>
        <p:spPr>
          <a:xfrm flipV="1">
            <a:off x="3308400" y="198900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4" name=""/>
          <p:cNvSpPr/>
          <p:nvPr/>
        </p:nvSpPr>
        <p:spPr>
          <a:xfrm>
            <a:off x="3222720" y="20718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5" name=""/>
          <p:cNvSpPr/>
          <p:nvPr/>
        </p:nvSpPr>
        <p:spPr>
          <a:xfrm flipV="1">
            <a:off x="2592360" y="1644480"/>
            <a:ext cx="2232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266" name=""/>
          <p:cNvSpPr/>
          <p:nvPr/>
        </p:nvSpPr>
        <p:spPr>
          <a:xfrm>
            <a:off x="4340160" y="1854360"/>
            <a:ext cx="302040" cy="432000"/>
          </a:xfrm>
          <a:custGeom>
            <a:avLst/>
            <a:gdLst/>
            <a:ahLst/>
            <a:rect l="0" t="0" r="r" b="b"/>
            <a:pathLst>
              <a:path fill="none" w="839" h="1200">
                <a:moveTo>
                  <a:pt x="0" y="0"/>
                </a:moveTo>
                <a:lnTo>
                  <a:pt x="0" y="1200"/>
                </a:lnTo>
                <a:lnTo>
                  <a:pt x="839" y="120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7" name=""/>
          <p:cNvSpPr/>
          <p:nvPr/>
        </p:nvSpPr>
        <p:spPr>
          <a:xfrm>
            <a:off x="3878280" y="1533600"/>
            <a:ext cx="262440" cy="262440"/>
          </a:xfrm>
          <a:custGeom>
            <a:avLst/>
            <a:gdLst/>
            <a:ahLst/>
            <a:rect l="0" t="0" r="r" b="b"/>
            <a:pathLst>
              <a:path fill="none" w="729" h="729">
                <a:moveTo>
                  <a:pt x="729" y="364"/>
                </a:moveTo>
                <a:lnTo>
                  <a:pt x="729" y="345"/>
                </a:lnTo>
                <a:lnTo>
                  <a:pt x="729" y="335"/>
                </a:lnTo>
                <a:lnTo>
                  <a:pt x="729" y="321"/>
                </a:lnTo>
                <a:lnTo>
                  <a:pt x="719" y="301"/>
                </a:lnTo>
                <a:lnTo>
                  <a:pt x="719" y="292"/>
                </a:lnTo>
                <a:lnTo>
                  <a:pt x="715" y="277"/>
                </a:lnTo>
                <a:lnTo>
                  <a:pt x="715" y="267"/>
                </a:lnTo>
                <a:lnTo>
                  <a:pt x="710" y="248"/>
                </a:lnTo>
                <a:lnTo>
                  <a:pt x="705" y="233"/>
                </a:lnTo>
                <a:lnTo>
                  <a:pt x="700" y="224"/>
                </a:lnTo>
                <a:lnTo>
                  <a:pt x="695" y="209"/>
                </a:lnTo>
                <a:lnTo>
                  <a:pt x="690" y="195"/>
                </a:lnTo>
                <a:lnTo>
                  <a:pt x="681" y="185"/>
                </a:lnTo>
                <a:lnTo>
                  <a:pt x="671" y="169"/>
                </a:lnTo>
                <a:lnTo>
                  <a:pt x="666" y="160"/>
                </a:lnTo>
                <a:lnTo>
                  <a:pt x="656" y="145"/>
                </a:lnTo>
                <a:lnTo>
                  <a:pt x="651" y="135"/>
                </a:lnTo>
                <a:lnTo>
                  <a:pt x="642" y="126"/>
                </a:lnTo>
                <a:lnTo>
                  <a:pt x="632" y="116"/>
                </a:lnTo>
                <a:lnTo>
                  <a:pt x="618" y="106"/>
                </a:lnTo>
                <a:lnTo>
                  <a:pt x="608" y="92"/>
                </a:lnTo>
                <a:lnTo>
                  <a:pt x="598" y="82"/>
                </a:lnTo>
                <a:lnTo>
                  <a:pt x="588" y="72"/>
                </a:lnTo>
                <a:lnTo>
                  <a:pt x="579" y="67"/>
                </a:lnTo>
                <a:lnTo>
                  <a:pt x="564" y="58"/>
                </a:lnTo>
                <a:lnTo>
                  <a:pt x="554" y="53"/>
                </a:lnTo>
                <a:lnTo>
                  <a:pt x="539" y="38"/>
                </a:lnTo>
                <a:lnTo>
                  <a:pt x="529" y="33"/>
                </a:lnTo>
                <a:lnTo>
                  <a:pt x="515" y="29"/>
                </a:lnTo>
                <a:lnTo>
                  <a:pt x="500" y="24"/>
                </a:lnTo>
                <a:lnTo>
                  <a:pt x="490" y="19"/>
                </a:lnTo>
                <a:lnTo>
                  <a:pt x="476" y="14"/>
                </a:lnTo>
                <a:lnTo>
                  <a:pt x="461" y="9"/>
                </a:lnTo>
                <a:lnTo>
                  <a:pt x="447" y="9"/>
                </a:lnTo>
                <a:lnTo>
                  <a:pt x="432" y="4"/>
                </a:lnTo>
                <a:lnTo>
                  <a:pt x="423" y="0"/>
                </a:lnTo>
                <a:lnTo>
                  <a:pt x="403" y="0"/>
                </a:lnTo>
                <a:lnTo>
                  <a:pt x="389" y="0"/>
                </a:lnTo>
                <a:lnTo>
                  <a:pt x="379" y="0"/>
                </a:lnTo>
                <a:lnTo>
                  <a:pt x="364" y="0"/>
                </a:lnTo>
                <a:lnTo>
                  <a:pt x="345" y="0"/>
                </a:lnTo>
                <a:lnTo>
                  <a:pt x="335" y="0"/>
                </a:lnTo>
                <a:lnTo>
                  <a:pt x="321" y="0"/>
                </a:lnTo>
                <a:lnTo>
                  <a:pt x="301" y="0"/>
                </a:lnTo>
                <a:lnTo>
                  <a:pt x="292" y="4"/>
                </a:lnTo>
                <a:lnTo>
                  <a:pt x="277" y="9"/>
                </a:lnTo>
                <a:lnTo>
                  <a:pt x="267" y="9"/>
                </a:lnTo>
                <a:lnTo>
                  <a:pt x="248" y="14"/>
                </a:lnTo>
                <a:lnTo>
                  <a:pt x="233" y="19"/>
                </a:lnTo>
                <a:lnTo>
                  <a:pt x="224" y="24"/>
                </a:lnTo>
                <a:lnTo>
                  <a:pt x="209" y="29"/>
                </a:lnTo>
                <a:lnTo>
                  <a:pt x="195" y="33"/>
                </a:lnTo>
                <a:lnTo>
                  <a:pt x="185" y="38"/>
                </a:lnTo>
                <a:lnTo>
                  <a:pt x="169" y="53"/>
                </a:lnTo>
                <a:lnTo>
                  <a:pt x="160" y="58"/>
                </a:lnTo>
                <a:lnTo>
                  <a:pt x="145" y="67"/>
                </a:lnTo>
                <a:lnTo>
                  <a:pt x="135" y="72"/>
                </a:lnTo>
                <a:lnTo>
                  <a:pt x="126" y="82"/>
                </a:lnTo>
                <a:lnTo>
                  <a:pt x="116" y="92"/>
                </a:lnTo>
                <a:lnTo>
                  <a:pt x="106" y="106"/>
                </a:lnTo>
                <a:lnTo>
                  <a:pt x="92" y="116"/>
                </a:lnTo>
                <a:lnTo>
                  <a:pt x="82" y="126"/>
                </a:lnTo>
                <a:lnTo>
                  <a:pt x="72" y="135"/>
                </a:lnTo>
                <a:lnTo>
                  <a:pt x="67" y="145"/>
                </a:lnTo>
                <a:lnTo>
                  <a:pt x="58" y="160"/>
                </a:lnTo>
                <a:lnTo>
                  <a:pt x="53" y="169"/>
                </a:lnTo>
                <a:lnTo>
                  <a:pt x="38" y="185"/>
                </a:lnTo>
                <a:lnTo>
                  <a:pt x="33" y="195"/>
                </a:lnTo>
                <a:lnTo>
                  <a:pt x="29" y="209"/>
                </a:lnTo>
                <a:lnTo>
                  <a:pt x="24" y="224"/>
                </a:lnTo>
                <a:lnTo>
                  <a:pt x="19" y="233"/>
                </a:lnTo>
                <a:lnTo>
                  <a:pt x="14" y="248"/>
                </a:lnTo>
                <a:lnTo>
                  <a:pt x="9" y="267"/>
                </a:lnTo>
                <a:lnTo>
                  <a:pt x="9" y="277"/>
                </a:lnTo>
                <a:lnTo>
                  <a:pt x="4" y="292"/>
                </a:lnTo>
                <a:lnTo>
                  <a:pt x="4" y="301"/>
                </a:lnTo>
                <a:lnTo>
                  <a:pt x="0" y="321"/>
                </a:lnTo>
                <a:lnTo>
                  <a:pt x="0" y="335"/>
                </a:lnTo>
                <a:lnTo>
                  <a:pt x="0" y="345"/>
                </a:lnTo>
                <a:lnTo>
                  <a:pt x="0" y="364"/>
                </a:lnTo>
                <a:lnTo>
                  <a:pt x="0" y="379"/>
                </a:lnTo>
                <a:lnTo>
                  <a:pt x="0" y="389"/>
                </a:lnTo>
                <a:lnTo>
                  <a:pt x="0" y="403"/>
                </a:lnTo>
                <a:lnTo>
                  <a:pt x="4" y="423"/>
                </a:lnTo>
                <a:lnTo>
                  <a:pt x="4" y="432"/>
                </a:lnTo>
                <a:lnTo>
                  <a:pt x="9" y="447"/>
                </a:lnTo>
                <a:lnTo>
                  <a:pt x="9" y="456"/>
                </a:lnTo>
                <a:lnTo>
                  <a:pt x="14" y="476"/>
                </a:lnTo>
                <a:lnTo>
                  <a:pt x="19" y="490"/>
                </a:lnTo>
                <a:lnTo>
                  <a:pt x="24" y="500"/>
                </a:lnTo>
                <a:lnTo>
                  <a:pt x="29" y="515"/>
                </a:lnTo>
                <a:lnTo>
                  <a:pt x="33" y="529"/>
                </a:lnTo>
                <a:lnTo>
                  <a:pt x="38" y="539"/>
                </a:lnTo>
                <a:lnTo>
                  <a:pt x="53" y="554"/>
                </a:lnTo>
                <a:lnTo>
                  <a:pt x="58" y="564"/>
                </a:lnTo>
                <a:lnTo>
                  <a:pt x="67" y="579"/>
                </a:lnTo>
                <a:lnTo>
                  <a:pt x="72" y="588"/>
                </a:lnTo>
                <a:lnTo>
                  <a:pt x="82" y="598"/>
                </a:lnTo>
                <a:lnTo>
                  <a:pt x="92" y="608"/>
                </a:lnTo>
                <a:lnTo>
                  <a:pt x="106" y="618"/>
                </a:lnTo>
                <a:lnTo>
                  <a:pt x="116" y="632"/>
                </a:lnTo>
                <a:lnTo>
                  <a:pt x="126" y="642"/>
                </a:lnTo>
                <a:lnTo>
                  <a:pt x="135" y="651"/>
                </a:lnTo>
                <a:lnTo>
                  <a:pt x="145" y="656"/>
                </a:lnTo>
                <a:lnTo>
                  <a:pt x="160" y="666"/>
                </a:lnTo>
                <a:lnTo>
                  <a:pt x="169" y="671"/>
                </a:lnTo>
                <a:lnTo>
                  <a:pt x="185" y="685"/>
                </a:lnTo>
                <a:lnTo>
                  <a:pt x="195" y="690"/>
                </a:lnTo>
                <a:lnTo>
                  <a:pt x="209" y="695"/>
                </a:lnTo>
                <a:lnTo>
                  <a:pt x="224" y="700"/>
                </a:lnTo>
                <a:lnTo>
                  <a:pt x="233" y="705"/>
                </a:lnTo>
                <a:lnTo>
                  <a:pt x="248" y="710"/>
                </a:lnTo>
                <a:lnTo>
                  <a:pt x="267" y="715"/>
                </a:lnTo>
                <a:lnTo>
                  <a:pt x="277" y="715"/>
                </a:lnTo>
                <a:lnTo>
                  <a:pt x="292" y="719"/>
                </a:lnTo>
                <a:lnTo>
                  <a:pt x="301" y="719"/>
                </a:lnTo>
                <a:lnTo>
                  <a:pt x="321" y="729"/>
                </a:lnTo>
                <a:lnTo>
                  <a:pt x="335" y="729"/>
                </a:lnTo>
                <a:lnTo>
                  <a:pt x="345" y="729"/>
                </a:lnTo>
                <a:lnTo>
                  <a:pt x="364" y="729"/>
                </a:lnTo>
                <a:lnTo>
                  <a:pt x="379" y="729"/>
                </a:lnTo>
                <a:lnTo>
                  <a:pt x="389" y="729"/>
                </a:lnTo>
                <a:lnTo>
                  <a:pt x="403" y="729"/>
                </a:lnTo>
                <a:lnTo>
                  <a:pt x="423" y="719"/>
                </a:lnTo>
                <a:lnTo>
                  <a:pt x="432" y="719"/>
                </a:lnTo>
                <a:lnTo>
                  <a:pt x="447" y="715"/>
                </a:lnTo>
                <a:lnTo>
                  <a:pt x="461" y="715"/>
                </a:lnTo>
                <a:lnTo>
                  <a:pt x="476" y="710"/>
                </a:lnTo>
                <a:lnTo>
                  <a:pt x="490" y="705"/>
                </a:lnTo>
                <a:lnTo>
                  <a:pt x="500" y="700"/>
                </a:lnTo>
                <a:lnTo>
                  <a:pt x="515" y="695"/>
                </a:lnTo>
                <a:lnTo>
                  <a:pt x="529" y="690"/>
                </a:lnTo>
                <a:lnTo>
                  <a:pt x="539" y="685"/>
                </a:lnTo>
                <a:lnTo>
                  <a:pt x="554" y="671"/>
                </a:lnTo>
                <a:lnTo>
                  <a:pt x="564" y="666"/>
                </a:lnTo>
                <a:lnTo>
                  <a:pt x="579" y="656"/>
                </a:lnTo>
                <a:lnTo>
                  <a:pt x="588" y="651"/>
                </a:lnTo>
                <a:lnTo>
                  <a:pt x="598" y="642"/>
                </a:lnTo>
                <a:lnTo>
                  <a:pt x="608" y="632"/>
                </a:lnTo>
                <a:lnTo>
                  <a:pt x="618" y="618"/>
                </a:lnTo>
                <a:lnTo>
                  <a:pt x="632" y="608"/>
                </a:lnTo>
                <a:lnTo>
                  <a:pt x="642" y="598"/>
                </a:lnTo>
                <a:lnTo>
                  <a:pt x="651" y="588"/>
                </a:lnTo>
                <a:lnTo>
                  <a:pt x="656" y="579"/>
                </a:lnTo>
                <a:lnTo>
                  <a:pt x="666" y="564"/>
                </a:lnTo>
                <a:lnTo>
                  <a:pt x="671" y="554"/>
                </a:lnTo>
                <a:lnTo>
                  <a:pt x="681" y="539"/>
                </a:lnTo>
                <a:lnTo>
                  <a:pt x="690" y="529"/>
                </a:lnTo>
                <a:lnTo>
                  <a:pt x="695" y="515"/>
                </a:lnTo>
                <a:lnTo>
                  <a:pt x="700" y="500"/>
                </a:lnTo>
                <a:lnTo>
                  <a:pt x="705" y="490"/>
                </a:lnTo>
                <a:lnTo>
                  <a:pt x="710" y="476"/>
                </a:lnTo>
                <a:lnTo>
                  <a:pt x="715" y="456"/>
                </a:lnTo>
                <a:lnTo>
                  <a:pt x="715" y="447"/>
                </a:lnTo>
                <a:lnTo>
                  <a:pt x="719" y="432"/>
                </a:lnTo>
                <a:lnTo>
                  <a:pt x="719" y="423"/>
                </a:lnTo>
                <a:lnTo>
                  <a:pt x="729" y="403"/>
                </a:lnTo>
                <a:lnTo>
                  <a:pt x="729" y="389"/>
                </a:lnTo>
                <a:lnTo>
                  <a:pt x="729" y="379"/>
                </a:lnTo>
                <a:lnTo>
                  <a:pt x="729" y="36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8" name=""/>
          <p:cNvSpPr/>
          <p:nvPr/>
        </p:nvSpPr>
        <p:spPr>
          <a:xfrm>
            <a:off x="3997440" y="1644480"/>
            <a:ext cx="219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269" name=""/>
          <p:cNvSpPr/>
          <p:nvPr/>
        </p:nvSpPr>
        <p:spPr>
          <a:xfrm flipH="1">
            <a:off x="3959280" y="1625760"/>
            <a:ext cx="10800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270" name=""/>
          <p:cNvSpPr/>
          <p:nvPr/>
        </p:nvSpPr>
        <p:spPr>
          <a:xfrm>
            <a:off x="4343400" y="18543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1" name=""/>
          <p:cNvSpPr/>
          <p:nvPr/>
        </p:nvSpPr>
        <p:spPr>
          <a:xfrm>
            <a:off x="6021360" y="3927600"/>
            <a:ext cx="133560" cy="116280"/>
          </a:xfrm>
          <a:custGeom>
            <a:avLst/>
            <a:gdLst/>
            <a:ahLst/>
            <a:rect l="0" t="0" r="r" b="b"/>
            <a:pathLst>
              <a:path w="371" h="323">
                <a:moveTo>
                  <a:pt x="371" y="0"/>
                </a:moveTo>
                <a:lnTo>
                  <a:pt x="180"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2" name=""/>
          <p:cNvSpPr/>
          <p:nvPr/>
        </p:nvSpPr>
        <p:spPr>
          <a:xfrm flipV="1">
            <a:off x="6087960" y="392760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3" name=""/>
          <p:cNvSpPr/>
          <p:nvPr/>
        </p:nvSpPr>
        <p:spPr>
          <a:xfrm>
            <a:off x="6019920" y="392760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4" name=""/>
          <p:cNvSpPr/>
          <p:nvPr/>
        </p:nvSpPr>
        <p:spPr>
          <a:xfrm>
            <a:off x="6021360" y="39276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5" name=""/>
          <p:cNvSpPr/>
          <p:nvPr/>
        </p:nvSpPr>
        <p:spPr>
          <a:xfrm>
            <a:off x="6086520" y="40449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6" name=""/>
          <p:cNvSpPr/>
          <p:nvPr/>
        </p:nvSpPr>
        <p:spPr>
          <a:xfrm>
            <a:off x="5224320" y="384336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7" name=""/>
          <p:cNvSpPr/>
          <p:nvPr/>
        </p:nvSpPr>
        <p:spPr>
          <a:xfrm flipV="1">
            <a:off x="5338800" y="3675240"/>
            <a:ext cx="0" cy="16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8" name=""/>
          <p:cNvSpPr/>
          <p:nvPr/>
        </p:nvSpPr>
        <p:spPr>
          <a:xfrm>
            <a:off x="5535720" y="3592440"/>
            <a:ext cx="0" cy="33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9" name=""/>
          <p:cNvSpPr/>
          <p:nvPr/>
        </p:nvSpPr>
        <p:spPr>
          <a:xfrm>
            <a:off x="6702480" y="3597120"/>
            <a:ext cx="0" cy="33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0" name=""/>
          <p:cNvSpPr/>
          <p:nvPr/>
        </p:nvSpPr>
        <p:spPr>
          <a:xfrm>
            <a:off x="5143320" y="3592440"/>
            <a:ext cx="1933920" cy="335160"/>
          </a:xfrm>
          <a:custGeom>
            <a:avLst/>
            <a:gdLst/>
            <a:ahLst/>
            <a:rect l="0" t="0" r="r" b="b"/>
            <a:pathLst>
              <a:path fill="none" w="5372" h="931">
                <a:moveTo>
                  <a:pt x="0" y="931"/>
                </a:moveTo>
                <a:lnTo>
                  <a:pt x="0" y="0"/>
                </a:lnTo>
                <a:lnTo>
                  <a:pt x="5372" y="0"/>
                </a:lnTo>
                <a:lnTo>
                  <a:pt x="5372" y="931"/>
                </a:lnTo>
                <a:lnTo>
                  <a:pt x="0" y="93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1" name=""/>
          <p:cNvSpPr/>
          <p:nvPr/>
        </p:nvSpPr>
        <p:spPr>
          <a:xfrm>
            <a:off x="5908680" y="4214880"/>
            <a:ext cx="356040" cy="314640"/>
          </a:xfrm>
          <a:custGeom>
            <a:avLst/>
            <a:gdLst/>
            <a:ahLst/>
            <a:rect l="0" t="0" r="r" b="b"/>
            <a:pathLst>
              <a:path fill="none" w="989" h="874">
                <a:moveTo>
                  <a:pt x="0" y="874"/>
                </a:moveTo>
                <a:lnTo>
                  <a:pt x="0" y="0"/>
                </a:lnTo>
                <a:lnTo>
                  <a:pt x="989" y="0"/>
                </a:lnTo>
                <a:lnTo>
                  <a:pt x="989"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2" name=""/>
          <p:cNvSpPr txBox="1"/>
          <p:nvPr/>
        </p:nvSpPr>
        <p:spPr>
          <a:xfrm>
            <a:off x="5945040" y="42181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t>
            </a:r>
            <a:endParaRPr b="0" lang="en-US" sz="1600" spc="-1" strike="noStrike">
              <a:solidFill>
                <a:srgbClr val="000000"/>
              </a:solidFill>
              <a:latin typeface="Arial"/>
            </a:endParaRPr>
          </a:p>
        </p:txBody>
      </p:sp>
      <p:grpSp>
        <p:nvGrpSpPr>
          <p:cNvPr id="4283" name=""/>
          <p:cNvGrpSpPr/>
          <p:nvPr/>
        </p:nvGrpSpPr>
        <p:grpSpPr>
          <a:xfrm>
            <a:off x="5645160" y="3662280"/>
            <a:ext cx="131760" cy="196920"/>
            <a:chOff x="5645160" y="3662280"/>
            <a:chExt cx="131760" cy="196920"/>
          </a:xfrm>
        </p:grpSpPr>
        <p:sp>
          <p:nvSpPr>
            <p:cNvPr id="4284" name=""/>
            <p:cNvSpPr/>
            <p:nvPr/>
          </p:nvSpPr>
          <p:spPr>
            <a:xfrm flipV="1">
              <a:off x="5653080" y="366228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5" name=""/>
            <p:cNvSpPr/>
            <p:nvPr/>
          </p:nvSpPr>
          <p:spPr>
            <a:xfrm>
              <a:off x="5645160" y="369396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86" name=""/>
          <p:cNvSpPr txBox="1"/>
          <p:nvPr/>
        </p:nvSpPr>
        <p:spPr>
          <a:xfrm>
            <a:off x="5827680" y="3605040"/>
            <a:ext cx="531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a:t>
            </a:r>
            <a:endParaRPr b="0" lang="en-US" sz="1600" spc="-1" strike="noStrike">
              <a:solidFill>
                <a:srgbClr val="000000"/>
              </a:solidFill>
              <a:latin typeface="Arial"/>
            </a:endParaRPr>
          </a:p>
        </p:txBody>
      </p:sp>
      <p:sp>
        <p:nvSpPr>
          <p:cNvPr id="4287" name=""/>
          <p:cNvSpPr/>
          <p:nvPr/>
        </p:nvSpPr>
        <p:spPr>
          <a:xfrm>
            <a:off x="6269040" y="3630600"/>
            <a:ext cx="27792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8" name=""/>
          <p:cNvSpPr txBox="1"/>
          <p:nvPr/>
        </p:nvSpPr>
        <p:spPr>
          <a:xfrm>
            <a:off x="6213600" y="360684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289" name=""/>
          <p:cNvSpPr txBox="1"/>
          <p:nvPr/>
        </p:nvSpPr>
        <p:spPr>
          <a:xfrm>
            <a:off x="6700680" y="361008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4290" name=""/>
          <p:cNvSpPr/>
          <p:nvPr/>
        </p:nvSpPr>
        <p:spPr>
          <a:xfrm>
            <a:off x="4605480" y="3386160"/>
            <a:ext cx="67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91" name=""/>
          <p:cNvGrpSpPr/>
          <p:nvPr/>
        </p:nvGrpSpPr>
        <p:grpSpPr>
          <a:xfrm>
            <a:off x="5397480" y="3290760"/>
            <a:ext cx="131760" cy="196920"/>
            <a:chOff x="5397480" y="3290760"/>
            <a:chExt cx="131760" cy="196920"/>
          </a:xfrm>
        </p:grpSpPr>
        <p:sp>
          <p:nvSpPr>
            <p:cNvPr id="4292" name=""/>
            <p:cNvSpPr/>
            <p:nvPr/>
          </p:nvSpPr>
          <p:spPr>
            <a:xfrm flipV="1">
              <a:off x="5405400" y="329076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3" name=""/>
            <p:cNvSpPr/>
            <p:nvPr/>
          </p:nvSpPr>
          <p:spPr>
            <a:xfrm>
              <a:off x="5397480" y="332280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94" name=""/>
          <p:cNvSpPr txBox="1"/>
          <p:nvPr/>
        </p:nvSpPr>
        <p:spPr>
          <a:xfrm>
            <a:off x="5394240" y="3216240"/>
            <a:ext cx="1309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4.6 - 15.0</a:t>
            </a:r>
            <a:endParaRPr b="0" lang="en-US" sz="1800" spc="-1" strike="noStrike">
              <a:solidFill>
                <a:srgbClr val="000000"/>
              </a:solidFill>
              <a:latin typeface="Arial"/>
            </a:endParaRPr>
          </a:p>
        </p:txBody>
      </p:sp>
      <p:sp>
        <p:nvSpPr>
          <p:cNvPr id="4295" name=""/>
          <p:cNvSpPr/>
          <p:nvPr/>
        </p:nvSpPr>
        <p:spPr>
          <a:xfrm>
            <a:off x="1969920" y="4738680"/>
            <a:ext cx="267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6" name=""/>
          <p:cNvSpPr/>
          <p:nvPr/>
        </p:nvSpPr>
        <p:spPr>
          <a:xfrm>
            <a:off x="1969920" y="5143680"/>
            <a:ext cx="267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7" name=""/>
          <p:cNvSpPr/>
          <p:nvPr/>
        </p:nvSpPr>
        <p:spPr>
          <a:xfrm>
            <a:off x="3308400" y="4405320"/>
            <a:ext cx="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8" name=""/>
          <p:cNvSpPr/>
          <p:nvPr/>
        </p:nvSpPr>
        <p:spPr>
          <a:xfrm>
            <a:off x="3308400" y="487188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9" name=""/>
          <p:cNvSpPr/>
          <p:nvPr/>
        </p:nvSpPr>
        <p:spPr>
          <a:xfrm>
            <a:off x="3308400" y="510048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0" name=""/>
          <p:cNvSpPr/>
          <p:nvPr/>
        </p:nvSpPr>
        <p:spPr>
          <a:xfrm>
            <a:off x="1971720" y="474012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1" name=""/>
          <p:cNvSpPr/>
          <p:nvPr/>
        </p:nvSpPr>
        <p:spPr>
          <a:xfrm>
            <a:off x="2941560" y="47386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4302" name=""/>
          <p:cNvSpPr/>
          <p:nvPr/>
        </p:nvSpPr>
        <p:spPr>
          <a:xfrm>
            <a:off x="2941560" y="488628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3" name=""/>
          <p:cNvSpPr/>
          <p:nvPr/>
        </p:nvSpPr>
        <p:spPr>
          <a:xfrm>
            <a:off x="2941560" y="505620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4304" name=""/>
          <p:cNvSpPr/>
          <p:nvPr/>
        </p:nvSpPr>
        <p:spPr>
          <a:xfrm>
            <a:off x="3675240" y="47386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4305" name=""/>
          <p:cNvSpPr/>
          <p:nvPr/>
        </p:nvSpPr>
        <p:spPr>
          <a:xfrm>
            <a:off x="3675240" y="488628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6" name=""/>
          <p:cNvSpPr/>
          <p:nvPr/>
        </p:nvSpPr>
        <p:spPr>
          <a:xfrm>
            <a:off x="3675240" y="505620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4307" name=""/>
          <p:cNvSpPr/>
          <p:nvPr/>
        </p:nvSpPr>
        <p:spPr>
          <a:xfrm>
            <a:off x="4641840" y="474012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8" name=""/>
          <p:cNvSpPr/>
          <p:nvPr/>
        </p:nvSpPr>
        <p:spPr>
          <a:xfrm>
            <a:off x="3929040" y="5145120"/>
            <a:ext cx="133560" cy="116280"/>
          </a:xfrm>
          <a:custGeom>
            <a:avLst/>
            <a:gdLst/>
            <a:ahLst/>
            <a:rect l="0" t="0" r="r" b="b"/>
            <a:pathLst>
              <a:path w="371" h="323">
                <a:moveTo>
                  <a:pt x="371" y="0"/>
                </a:moveTo>
                <a:lnTo>
                  <a:pt x="186"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09" name=""/>
          <p:cNvSpPr/>
          <p:nvPr/>
        </p:nvSpPr>
        <p:spPr>
          <a:xfrm flipV="1">
            <a:off x="3994200" y="514512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0" name=""/>
          <p:cNvSpPr/>
          <p:nvPr/>
        </p:nvSpPr>
        <p:spPr>
          <a:xfrm>
            <a:off x="3929040" y="514512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1" name=""/>
          <p:cNvSpPr/>
          <p:nvPr/>
        </p:nvSpPr>
        <p:spPr>
          <a:xfrm>
            <a:off x="3929040" y="5145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2" name=""/>
          <p:cNvSpPr/>
          <p:nvPr/>
        </p:nvSpPr>
        <p:spPr>
          <a:xfrm>
            <a:off x="3994200" y="522432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13" name=""/>
          <p:cNvGrpSpPr/>
          <p:nvPr/>
        </p:nvGrpSpPr>
        <p:grpSpPr>
          <a:xfrm>
            <a:off x="3835440" y="5511960"/>
            <a:ext cx="330120" cy="368280"/>
            <a:chOff x="3835440" y="5511960"/>
            <a:chExt cx="330120" cy="368280"/>
          </a:xfrm>
        </p:grpSpPr>
        <p:sp>
          <p:nvSpPr>
            <p:cNvPr id="4314" name=""/>
            <p:cNvSpPr/>
            <p:nvPr/>
          </p:nvSpPr>
          <p:spPr>
            <a:xfrm>
              <a:off x="3841920" y="5511960"/>
              <a:ext cx="314640" cy="314640"/>
            </a:xfrm>
            <a:custGeom>
              <a:avLst/>
              <a:gdLst/>
              <a:ahLst/>
              <a:rect l="0" t="0" r="r" b="b"/>
              <a:pathLst>
                <a:path fill="none" w="874" h="874">
                  <a:moveTo>
                    <a:pt x="0" y="874"/>
                  </a:moveTo>
                  <a:lnTo>
                    <a:pt x="0" y="0"/>
                  </a:lnTo>
                  <a:lnTo>
                    <a:pt x="874" y="0"/>
                  </a:lnTo>
                  <a:lnTo>
                    <a:pt x="874"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5" name=""/>
            <p:cNvSpPr txBox="1"/>
            <p:nvPr/>
          </p:nvSpPr>
          <p:spPr>
            <a:xfrm>
              <a:off x="3835440" y="55436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grpSp>
      <p:sp>
        <p:nvSpPr>
          <p:cNvPr id="4316" name=""/>
          <p:cNvSpPr/>
          <p:nvPr/>
        </p:nvSpPr>
        <p:spPr>
          <a:xfrm>
            <a:off x="1932120" y="381168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7" name=""/>
          <p:cNvSpPr/>
          <p:nvPr/>
        </p:nvSpPr>
        <p:spPr>
          <a:xfrm>
            <a:off x="2886120" y="381168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8" name=""/>
          <p:cNvSpPr/>
          <p:nvPr/>
        </p:nvSpPr>
        <p:spPr>
          <a:xfrm>
            <a:off x="1595520" y="3811680"/>
            <a:ext cx="2175120" cy="338400"/>
          </a:xfrm>
          <a:custGeom>
            <a:avLst/>
            <a:gdLst/>
            <a:ahLst/>
            <a:rect l="0" t="0" r="r" b="b"/>
            <a:pathLst>
              <a:path fill="none" w="6042" h="940">
                <a:moveTo>
                  <a:pt x="0" y="940"/>
                </a:moveTo>
                <a:lnTo>
                  <a:pt x="0" y="0"/>
                </a:lnTo>
                <a:lnTo>
                  <a:pt x="6042" y="0"/>
                </a:lnTo>
                <a:lnTo>
                  <a:pt x="6042" y="940"/>
                </a:lnTo>
                <a:lnTo>
                  <a:pt x="0" y="94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19" name=""/>
          <p:cNvGrpSpPr/>
          <p:nvPr/>
        </p:nvGrpSpPr>
        <p:grpSpPr>
          <a:xfrm>
            <a:off x="1658880" y="3876840"/>
            <a:ext cx="214200" cy="212400"/>
            <a:chOff x="1658880" y="3876840"/>
            <a:chExt cx="214200" cy="212400"/>
          </a:xfrm>
        </p:grpSpPr>
        <p:sp>
          <p:nvSpPr>
            <p:cNvPr id="4320" name=""/>
            <p:cNvSpPr/>
            <p:nvPr/>
          </p:nvSpPr>
          <p:spPr>
            <a:xfrm>
              <a:off x="1658880" y="397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1" name=""/>
            <p:cNvSpPr/>
            <p:nvPr/>
          </p:nvSpPr>
          <p:spPr>
            <a:xfrm>
              <a:off x="1763640" y="3876840"/>
              <a:ext cx="0" cy="21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2" name=""/>
            <p:cNvSpPr/>
            <p:nvPr/>
          </p:nvSpPr>
          <p:spPr>
            <a:xfrm>
              <a:off x="1679400" y="389736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323" name=""/>
          <p:cNvGrpSpPr/>
          <p:nvPr/>
        </p:nvGrpSpPr>
        <p:grpSpPr>
          <a:xfrm>
            <a:off x="1986120" y="3884760"/>
            <a:ext cx="131760" cy="196560"/>
            <a:chOff x="1986120" y="3884760"/>
            <a:chExt cx="131760" cy="196560"/>
          </a:xfrm>
        </p:grpSpPr>
        <p:sp>
          <p:nvSpPr>
            <p:cNvPr id="4324" name=""/>
            <p:cNvSpPr/>
            <p:nvPr/>
          </p:nvSpPr>
          <p:spPr>
            <a:xfrm flipV="1">
              <a:off x="1994040" y="3884760"/>
              <a:ext cx="114120" cy="19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5" name=""/>
            <p:cNvSpPr/>
            <p:nvPr/>
          </p:nvSpPr>
          <p:spPr>
            <a:xfrm>
              <a:off x="1986120" y="391644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26" name=""/>
          <p:cNvSpPr txBox="1"/>
          <p:nvPr/>
        </p:nvSpPr>
        <p:spPr>
          <a:xfrm>
            <a:off x="2117880" y="38354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a:t>
            </a:r>
            <a:endParaRPr b="0" lang="en-US" sz="1600" spc="-1" strike="noStrike">
              <a:solidFill>
                <a:srgbClr val="000000"/>
              </a:solidFill>
              <a:latin typeface="Arial"/>
            </a:endParaRPr>
          </a:p>
        </p:txBody>
      </p:sp>
      <p:sp>
        <p:nvSpPr>
          <p:cNvPr id="4327" name=""/>
          <p:cNvSpPr/>
          <p:nvPr/>
        </p:nvSpPr>
        <p:spPr>
          <a:xfrm>
            <a:off x="2581200" y="3851280"/>
            <a:ext cx="26352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28" name=""/>
          <p:cNvSpPr txBox="1"/>
          <p:nvPr/>
        </p:nvSpPr>
        <p:spPr>
          <a:xfrm>
            <a:off x="2521080" y="3827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329" name=""/>
          <p:cNvSpPr txBox="1"/>
          <p:nvPr/>
        </p:nvSpPr>
        <p:spPr>
          <a:xfrm>
            <a:off x="2876400" y="3817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4330" name=""/>
          <p:cNvSpPr/>
          <p:nvPr/>
        </p:nvSpPr>
        <p:spPr>
          <a:xfrm>
            <a:off x="3182760" y="381312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1" name=""/>
          <p:cNvSpPr txBox="1"/>
          <p:nvPr/>
        </p:nvSpPr>
        <p:spPr>
          <a:xfrm>
            <a:off x="3178080" y="383076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t>
            </a:r>
            <a:endParaRPr b="0" lang="en-US" sz="1600" spc="-1" strike="noStrike">
              <a:solidFill>
                <a:srgbClr val="000000"/>
              </a:solidFill>
              <a:latin typeface="Arial"/>
            </a:endParaRPr>
          </a:p>
        </p:txBody>
      </p:sp>
      <p:sp>
        <p:nvSpPr>
          <p:cNvPr id="4332" name=""/>
          <p:cNvSpPr/>
          <p:nvPr/>
        </p:nvSpPr>
        <p:spPr>
          <a:xfrm>
            <a:off x="3483000" y="382104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3" name=""/>
          <p:cNvSpPr txBox="1"/>
          <p:nvPr/>
        </p:nvSpPr>
        <p:spPr>
          <a:xfrm>
            <a:off x="3475080" y="3825720"/>
            <a:ext cx="1843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F</a:t>
            </a:r>
            <a:endParaRPr b="0" lang="en-US" sz="1600" spc="-1" strike="noStrike">
              <a:solidFill>
                <a:srgbClr val="000000"/>
              </a:solidFill>
              <a:latin typeface="Arial"/>
            </a:endParaRPr>
          </a:p>
        </p:txBody>
      </p:sp>
      <p:sp>
        <p:nvSpPr>
          <p:cNvPr id="4334" name=""/>
          <p:cNvSpPr txBox="1"/>
          <p:nvPr/>
        </p:nvSpPr>
        <p:spPr>
          <a:xfrm>
            <a:off x="1940040" y="3475080"/>
            <a:ext cx="1414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      7.2 - 7.5</a:t>
            </a:r>
            <a:endParaRPr b="0" lang="en-US" sz="1600" spc="-1" strike="noStrike">
              <a:solidFill>
                <a:srgbClr val="000000"/>
              </a:solidFill>
              <a:latin typeface="Arial"/>
            </a:endParaRPr>
          </a:p>
        </p:txBody>
      </p:sp>
      <p:grpSp>
        <p:nvGrpSpPr>
          <p:cNvPr id="4335" name=""/>
          <p:cNvGrpSpPr/>
          <p:nvPr/>
        </p:nvGrpSpPr>
        <p:grpSpPr>
          <a:xfrm>
            <a:off x="2387520" y="3522600"/>
            <a:ext cx="131760" cy="196920"/>
            <a:chOff x="2387520" y="3522600"/>
            <a:chExt cx="131760" cy="196920"/>
          </a:xfrm>
        </p:grpSpPr>
        <p:sp>
          <p:nvSpPr>
            <p:cNvPr id="4336" name=""/>
            <p:cNvSpPr/>
            <p:nvPr/>
          </p:nvSpPr>
          <p:spPr>
            <a:xfrm flipV="1">
              <a:off x="2395440" y="352260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7" name=""/>
            <p:cNvSpPr/>
            <p:nvPr/>
          </p:nvSpPr>
          <p:spPr>
            <a:xfrm>
              <a:off x="2387520" y="355428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38" name=""/>
          <p:cNvSpPr txBox="1"/>
          <p:nvPr/>
        </p:nvSpPr>
        <p:spPr>
          <a:xfrm>
            <a:off x="5396040" y="13003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a:t>
            </a:r>
            <a:endParaRPr b="0" lang="en-US" sz="1600" spc="-1" strike="noStrike">
              <a:solidFill>
                <a:srgbClr val="000000"/>
              </a:solidFill>
              <a:latin typeface="Arial"/>
            </a:endParaRPr>
          </a:p>
        </p:txBody>
      </p:sp>
      <p:sp>
        <p:nvSpPr>
          <p:cNvPr id="4339" name=""/>
          <p:cNvSpPr/>
          <p:nvPr/>
        </p:nvSpPr>
        <p:spPr>
          <a:xfrm>
            <a:off x="5735520" y="1359000"/>
            <a:ext cx="60480" cy="60480"/>
          </a:xfrm>
          <a:prstGeom prst="ellipse">
            <a:avLst/>
          </a:prstGeom>
          <a:solidFill>
            <a:srgbClr val="a2c1fe"/>
          </a:solid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4340" name=""/>
          <p:cNvSpPr txBox="1"/>
          <p:nvPr/>
        </p:nvSpPr>
        <p:spPr>
          <a:xfrm>
            <a:off x="6103800" y="1239840"/>
            <a:ext cx="1200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0.5 - 10.8</a:t>
            </a:r>
            <a:endParaRPr b="0" lang="en-US" sz="1600" spc="-1" strike="noStrike">
              <a:solidFill>
                <a:srgbClr val="000000"/>
              </a:solidFill>
              <a:latin typeface="Arial"/>
            </a:endParaRPr>
          </a:p>
        </p:txBody>
      </p:sp>
      <p:sp>
        <p:nvSpPr>
          <p:cNvPr id="4341" name=""/>
          <p:cNvSpPr/>
          <p:nvPr/>
        </p:nvSpPr>
        <p:spPr>
          <a:xfrm>
            <a:off x="5992920" y="1523880"/>
            <a:ext cx="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2" name=""/>
          <p:cNvSpPr/>
          <p:nvPr/>
        </p:nvSpPr>
        <p:spPr>
          <a:xfrm>
            <a:off x="6265800" y="1584360"/>
            <a:ext cx="1782720" cy="363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343" name=""/>
          <p:cNvGrpSpPr/>
          <p:nvPr/>
        </p:nvGrpSpPr>
        <p:grpSpPr>
          <a:xfrm>
            <a:off x="6342120" y="1665360"/>
            <a:ext cx="214200" cy="212760"/>
            <a:chOff x="6342120" y="1665360"/>
            <a:chExt cx="214200" cy="212760"/>
          </a:xfrm>
        </p:grpSpPr>
        <p:sp>
          <p:nvSpPr>
            <p:cNvPr id="4344" name=""/>
            <p:cNvSpPr/>
            <p:nvPr/>
          </p:nvSpPr>
          <p:spPr>
            <a:xfrm>
              <a:off x="6342120" y="17683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5" name=""/>
            <p:cNvSpPr/>
            <p:nvPr/>
          </p:nvSpPr>
          <p:spPr>
            <a:xfrm>
              <a:off x="6446880" y="1665360"/>
              <a:ext cx="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6" name=""/>
            <p:cNvSpPr/>
            <p:nvPr/>
          </p:nvSpPr>
          <p:spPr>
            <a:xfrm>
              <a:off x="6362640" y="168588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47" name=""/>
          <p:cNvSpPr/>
          <p:nvPr/>
        </p:nvSpPr>
        <p:spPr>
          <a:xfrm>
            <a:off x="661356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8" name=""/>
          <p:cNvSpPr txBox="1"/>
          <p:nvPr/>
        </p:nvSpPr>
        <p:spPr>
          <a:xfrm>
            <a:off x="6610320" y="1617840"/>
            <a:ext cx="531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a:t>
            </a:r>
            <a:endParaRPr b="0" lang="en-US" sz="1600" spc="-1" strike="noStrike">
              <a:solidFill>
                <a:srgbClr val="000000"/>
              </a:solidFill>
              <a:latin typeface="Arial"/>
            </a:endParaRPr>
          </a:p>
        </p:txBody>
      </p:sp>
      <p:sp>
        <p:nvSpPr>
          <p:cNvPr id="4349" name=""/>
          <p:cNvSpPr/>
          <p:nvPr/>
        </p:nvSpPr>
        <p:spPr>
          <a:xfrm>
            <a:off x="7047000" y="1630440"/>
            <a:ext cx="26820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50" name=""/>
          <p:cNvSpPr txBox="1"/>
          <p:nvPr/>
        </p:nvSpPr>
        <p:spPr>
          <a:xfrm>
            <a:off x="6991200" y="16066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351" name=""/>
          <p:cNvSpPr/>
          <p:nvPr/>
        </p:nvSpPr>
        <p:spPr>
          <a:xfrm>
            <a:off x="742968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2" name=""/>
          <p:cNvSpPr txBox="1"/>
          <p:nvPr/>
        </p:nvSpPr>
        <p:spPr>
          <a:xfrm>
            <a:off x="7412040" y="158904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4353" name=""/>
          <p:cNvSpPr/>
          <p:nvPr/>
        </p:nvSpPr>
        <p:spPr>
          <a:xfrm>
            <a:off x="774540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4" name=""/>
          <p:cNvSpPr txBox="1"/>
          <p:nvPr/>
        </p:nvSpPr>
        <p:spPr>
          <a:xfrm>
            <a:off x="7759800" y="158904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t>
            </a:r>
            <a:endParaRPr b="0" lang="en-US" sz="1600" spc="-1" strike="noStrike">
              <a:solidFill>
                <a:srgbClr val="000000"/>
              </a:solidFill>
              <a:latin typeface="Arial"/>
            </a:endParaRPr>
          </a:p>
        </p:txBody>
      </p:sp>
      <p:sp>
        <p:nvSpPr>
          <p:cNvPr id="4355" name=""/>
          <p:cNvSpPr/>
          <p:nvPr/>
        </p:nvSpPr>
        <p:spPr>
          <a:xfrm>
            <a:off x="8002440" y="1608120"/>
            <a:ext cx="365040" cy="336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56" name=""/>
          <p:cNvSpPr/>
          <p:nvPr/>
        </p:nvSpPr>
        <p:spPr>
          <a:xfrm>
            <a:off x="6843600" y="1968480"/>
            <a:ext cx="133560" cy="116280"/>
          </a:xfrm>
          <a:custGeom>
            <a:avLst/>
            <a:gdLst/>
            <a:ahLst/>
            <a:rect l="0" t="0" r="r" b="b"/>
            <a:pathLst>
              <a:path w="371" h="323">
                <a:moveTo>
                  <a:pt x="371" y="0"/>
                </a:moveTo>
                <a:lnTo>
                  <a:pt x="186"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57" name=""/>
          <p:cNvSpPr/>
          <p:nvPr/>
        </p:nvSpPr>
        <p:spPr>
          <a:xfrm flipV="1">
            <a:off x="6908760" y="196848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8" name=""/>
          <p:cNvSpPr/>
          <p:nvPr/>
        </p:nvSpPr>
        <p:spPr>
          <a:xfrm>
            <a:off x="6843600" y="1952640"/>
            <a:ext cx="6696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9" name=""/>
          <p:cNvSpPr/>
          <p:nvPr/>
        </p:nvSpPr>
        <p:spPr>
          <a:xfrm>
            <a:off x="6843600" y="1952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0" name=""/>
          <p:cNvSpPr/>
          <p:nvPr/>
        </p:nvSpPr>
        <p:spPr>
          <a:xfrm>
            <a:off x="6908760" y="195588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1" name=""/>
          <p:cNvSpPr/>
          <p:nvPr/>
        </p:nvSpPr>
        <p:spPr>
          <a:xfrm>
            <a:off x="6762600" y="2252520"/>
            <a:ext cx="314640" cy="314640"/>
          </a:xfrm>
          <a:custGeom>
            <a:avLst/>
            <a:gdLst/>
            <a:ahLst/>
            <a:rect l="0" t="0" r="r" b="b"/>
            <a:pathLst>
              <a:path fill="none" w="874" h="874">
                <a:moveTo>
                  <a:pt x="0" y="874"/>
                </a:moveTo>
                <a:lnTo>
                  <a:pt x="0" y="0"/>
                </a:lnTo>
                <a:lnTo>
                  <a:pt x="874" y="0"/>
                </a:lnTo>
                <a:lnTo>
                  <a:pt x="874"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2" name=""/>
          <p:cNvSpPr txBox="1"/>
          <p:nvPr/>
        </p:nvSpPr>
        <p:spPr>
          <a:xfrm>
            <a:off x="6777000" y="2230560"/>
            <a:ext cx="36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F</a:t>
            </a:r>
            <a:endParaRPr b="0" lang="en-US" sz="1800" spc="-1" strike="noStrike">
              <a:solidFill>
                <a:srgbClr val="000000"/>
              </a:solidFill>
              <a:latin typeface="Arial"/>
            </a:endParaRPr>
          </a:p>
        </p:txBody>
      </p:sp>
      <p:sp>
        <p:nvSpPr>
          <p:cNvPr id="4363" name=""/>
          <p:cNvSpPr/>
          <p:nvPr/>
        </p:nvSpPr>
        <p:spPr>
          <a:xfrm>
            <a:off x="1957320" y="723960"/>
            <a:ext cx="2705040" cy="2705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4" name=""/>
          <p:cNvSpPr/>
          <p:nvPr/>
        </p:nvSpPr>
        <p:spPr>
          <a:xfrm flipH="1">
            <a:off x="2762280" y="1778040"/>
            <a:ext cx="1050840" cy="60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5" name=""/>
          <p:cNvSpPr/>
          <p:nvPr/>
        </p:nvSpPr>
        <p:spPr>
          <a:xfrm flipH="1">
            <a:off x="2549520" y="2435400"/>
            <a:ext cx="123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66" name=""/>
          <p:cNvSpPr/>
          <p:nvPr/>
        </p:nvSpPr>
        <p:spPr>
          <a:xfrm flipH="1">
            <a:off x="2200320" y="2562120"/>
            <a:ext cx="24588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7" name=""/>
          <p:cNvSpPr/>
          <p:nvPr/>
        </p:nvSpPr>
        <p:spPr>
          <a:xfrm>
            <a:off x="4581360" y="1863720"/>
            <a:ext cx="171360" cy="196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8" name=""/>
          <p:cNvSpPr/>
          <p:nvPr/>
        </p:nvSpPr>
        <p:spPr>
          <a:xfrm>
            <a:off x="4565520" y="2076480"/>
            <a:ext cx="171360" cy="196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69" name=""/>
          <p:cNvSpPr/>
          <p:nvPr/>
        </p:nvSpPr>
        <p:spPr>
          <a:xfrm flipH="1">
            <a:off x="1714680" y="2703600"/>
            <a:ext cx="71100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0" name=""/>
          <p:cNvSpPr/>
          <p:nvPr/>
        </p:nvSpPr>
        <p:spPr>
          <a:xfrm>
            <a:off x="1714680" y="362592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1" name=""/>
          <p:cNvSpPr txBox="1"/>
          <p:nvPr/>
        </p:nvSpPr>
        <p:spPr>
          <a:xfrm>
            <a:off x="533520" y="71280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DRAWING</a:t>
            </a:r>
            <a:endParaRPr b="0" lang="en-US" sz="1800" spc="-1" strike="noStrike">
              <a:solidFill>
                <a:srgbClr val="000000"/>
              </a:solidFill>
              <a:latin typeface="Arial"/>
            </a:endParaRPr>
          </a:p>
        </p:txBody>
      </p:sp>
      <p:sp>
        <p:nvSpPr>
          <p:cNvPr id="4372" name=""/>
          <p:cNvSpPr txBox="1"/>
          <p:nvPr/>
        </p:nvSpPr>
        <p:spPr>
          <a:xfrm>
            <a:off x="2908440" y="5913360"/>
            <a:ext cx="5429160" cy="641520"/>
          </a:xfrm>
          <a:prstGeom prst="rect">
            <a:avLst/>
          </a:prstGeom>
          <a:noFill/>
          <a:ln w="0">
            <a:noFill/>
          </a:ln>
        </p:spPr>
        <p:txBody>
          <a:bodyPr lIns="0" rIns="0" tIns="0" bIns="0" anchor="t">
            <a:noAutofit/>
          </a:bodyPr>
          <a:p>
            <a:pPr algn="ctr">
              <a:lnSpc>
                <a:spcPct val="100000"/>
              </a:lnSpc>
            </a:pPr>
            <a:r>
              <a:rPr b="0" lang="en-US" sz="1800" spc="-1" strike="noStrike" u="sng">
                <a:solidFill>
                  <a:srgbClr val="f2fefd"/>
                </a:solidFill>
                <a:uFillTx/>
                <a:latin typeface="Times New Roman"/>
                <a:ea typeface="Times New Roman"/>
              </a:rPr>
              <a:t>SECONDARY AND TERTIARY DATUM FEATURES</a:t>
            </a:r>
            <a:endParaRPr b="0" lang="en-US" sz="1800" spc="-1" strike="noStrike">
              <a:solidFill>
                <a:srgbClr val="000000"/>
              </a:solidFill>
              <a:latin typeface="Arial"/>
            </a:endParaRPr>
          </a:p>
          <a:p>
            <a:pPr algn="ctr">
              <a:lnSpc>
                <a:spcPct val="100000"/>
              </a:lnSpc>
            </a:pPr>
            <a:r>
              <a:rPr b="0" lang="en-US" sz="1800" spc="-1" strike="noStrike">
                <a:solidFill>
                  <a:srgbClr val="ffff00"/>
                </a:solidFill>
                <a:latin typeface="Times New Roman"/>
                <a:ea typeface="Times New Roman"/>
              </a:rPr>
              <a:t>Regardless of Feature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4"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5"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76"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4377"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78"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4379"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80"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81"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4382"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3"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4"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85"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86"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4387"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88"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9"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0"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391"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2"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393"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4"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5" name=""/>
          <p:cNvSpPr/>
          <p:nvPr/>
        </p:nvSpPr>
        <p:spPr>
          <a:xfrm>
            <a:off x="4767120" y="2257560"/>
            <a:ext cx="443160" cy="806760"/>
          </a:xfrm>
          <a:custGeom>
            <a:avLst/>
            <a:gdLst/>
            <a:ahLst/>
            <a:rect l="0" t="0" r="r" b="b"/>
            <a:pathLst>
              <a:path fill="none" w="1231" h="2241">
                <a:moveTo>
                  <a:pt x="0" y="2241"/>
                </a:moveTo>
                <a:lnTo>
                  <a:pt x="40" y="2206"/>
                </a:lnTo>
                <a:lnTo>
                  <a:pt x="75" y="2176"/>
                </a:lnTo>
                <a:lnTo>
                  <a:pt x="110" y="2141"/>
                </a:lnTo>
                <a:lnTo>
                  <a:pt x="145" y="2101"/>
                </a:lnTo>
                <a:lnTo>
                  <a:pt x="180" y="2066"/>
                </a:lnTo>
                <a:lnTo>
                  <a:pt x="220" y="2027"/>
                </a:lnTo>
                <a:lnTo>
                  <a:pt x="250" y="1997"/>
                </a:lnTo>
                <a:lnTo>
                  <a:pt x="285" y="1957"/>
                </a:lnTo>
                <a:lnTo>
                  <a:pt x="320" y="1917"/>
                </a:lnTo>
                <a:lnTo>
                  <a:pt x="355" y="1877"/>
                </a:lnTo>
                <a:lnTo>
                  <a:pt x="385" y="1842"/>
                </a:lnTo>
                <a:lnTo>
                  <a:pt x="415" y="1803"/>
                </a:lnTo>
                <a:lnTo>
                  <a:pt x="450" y="1758"/>
                </a:lnTo>
                <a:lnTo>
                  <a:pt x="485" y="1723"/>
                </a:lnTo>
                <a:lnTo>
                  <a:pt x="510" y="1683"/>
                </a:lnTo>
                <a:lnTo>
                  <a:pt x="540" y="1643"/>
                </a:lnTo>
                <a:lnTo>
                  <a:pt x="570" y="1598"/>
                </a:lnTo>
                <a:lnTo>
                  <a:pt x="600" y="1559"/>
                </a:lnTo>
                <a:lnTo>
                  <a:pt x="631" y="1514"/>
                </a:lnTo>
                <a:lnTo>
                  <a:pt x="656" y="1474"/>
                </a:lnTo>
                <a:lnTo>
                  <a:pt x="686" y="1429"/>
                </a:lnTo>
                <a:lnTo>
                  <a:pt x="716" y="1389"/>
                </a:lnTo>
                <a:lnTo>
                  <a:pt x="736" y="1345"/>
                </a:lnTo>
                <a:lnTo>
                  <a:pt x="766" y="1300"/>
                </a:lnTo>
                <a:lnTo>
                  <a:pt x="786" y="1255"/>
                </a:lnTo>
                <a:lnTo>
                  <a:pt x="816" y="1210"/>
                </a:lnTo>
                <a:lnTo>
                  <a:pt x="836" y="1165"/>
                </a:lnTo>
                <a:lnTo>
                  <a:pt x="861" y="1121"/>
                </a:lnTo>
                <a:lnTo>
                  <a:pt x="881" y="1075"/>
                </a:lnTo>
                <a:lnTo>
                  <a:pt x="906" y="1030"/>
                </a:lnTo>
                <a:lnTo>
                  <a:pt x="926" y="985"/>
                </a:lnTo>
                <a:lnTo>
                  <a:pt x="951" y="940"/>
                </a:lnTo>
                <a:lnTo>
                  <a:pt x="966" y="891"/>
                </a:lnTo>
                <a:lnTo>
                  <a:pt x="991" y="846"/>
                </a:lnTo>
                <a:lnTo>
                  <a:pt x="1006" y="801"/>
                </a:lnTo>
                <a:lnTo>
                  <a:pt x="1026" y="751"/>
                </a:lnTo>
                <a:lnTo>
                  <a:pt x="1046" y="706"/>
                </a:lnTo>
                <a:lnTo>
                  <a:pt x="1061" y="657"/>
                </a:lnTo>
                <a:lnTo>
                  <a:pt x="1076" y="612"/>
                </a:lnTo>
                <a:lnTo>
                  <a:pt x="1096" y="562"/>
                </a:lnTo>
                <a:lnTo>
                  <a:pt x="1111" y="512"/>
                </a:lnTo>
                <a:lnTo>
                  <a:pt x="1121" y="467"/>
                </a:lnTo>
                <a:lnTo>
                  <a:pt x="1141" y="418"/>
                </a:lnTo>
                <a:lnTo>
                  <a:pt x="1151" y="368"/>
                </a:lnTo>
                <a:lnTo>
                  <a:pt x="1161" y="323"/>
                </a:lnTo>
                <a:lnTo>
                  <a:pt x="1181" y="273"/>
                </a:lnTo>
                <a:lnTo>
                  <a:pt x="1191" y="219"/>
                </a:lnTo>
                <a:lnTo>
                  <a:pt x="1201" y="169"/>
                </a:lnTo>
                <a:lnTo>
                  <a:pt x="1211" y="119"/>
                </a:lnTo>
                <a:lnTo>
                  <a:pt x="1221" y="69"/>
                </a:lnTo>
                <a:lnTo>
                  <a:pt x="1231" y="24"/>
                </a:lnTo>
                <a:lnTo>
                  <a:pt x="123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6"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7"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8"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9"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0" name=""/>
          <p:cNvSpPr/>
          <p:nvPr/>
        </p:nvSpPr>
        <p:spPr>
          <a:xfrm>
            <a:off x="4110120" y="635040"/>
            <a:ext cx="1100520" cy="1154520"/>
          </a:xfrm>
          <a:custGeom>
            <a:avLst/>
            <a:gdLst/>
            <a:ahLst/>
            <a:rect l="0" t="0" r="r" b="b"/>
            <a:pathLst>
              <a:path fill="none" w="3057" h="3207">
                <a:moveTo>
                  <a:pt x="3057" y="3207"/>
                </a:moveTo>
                <a:lnTo>
                  <a:pt x="3047" y="3158"/>
                </a:lnTo>
                <a:lnTo>
                  <a:pt x="3037" y="3108"/>
                </a:lnTo>
                <a:lnTo>
                  <a:pt x="3028" y="3058"/>
                </a:lnTo>
                <a:lnTo>
                  <a:pt x="3018" y="3008"/>
                </a:lnTo>
                <a:lnTo>
                  <a:pt x="3008" y="2953"/>
                </a:lnTo>
                <a:lnTo>
                  <a:pt x="2998" y="2903"/>
                </a:lnTo>
                <a:lnTo>
                  <a:pt x="2978" y="2853"/>
                </a:lnTo>
                <a:lnTo>
                  <a:pt x="2968" y="2804"/>
                </a:lnTo>
                <a:lnTo>
                  <a:pt x="2958" y="2759"/>
                </a:lnTo>
                <a:lnTo>
                  <a:pt x="2938" y="2709"/>
                </a:lnTo>
                <a:lnTo>
                  <a:pt x="2923" y="2659"/>
                </a:lnTo>
                <a:lnTo>
                  <a:pt x="2913" y="2614"/>
                </a:lnTo>
                <a:lnTo>
                  <a:pt x="2893" y="2564"/>
                </a:lnTo>
                <a:lnTo>
                  <a:pt x="2878" y="2514"/>
                </a:lnTo>
                <a:lnTo>
                  <a:pt x="2863" y="2469"/>
                </a:lnTo>
                <a:lnTo>
                  <a:pt x="2838" y="2415"/>
                </a:lnTo>
                <a:lnTo>
                  <a:pt x="2823" y="2374"/>
                </a:lnTo>
                <a:lnTo>
                  <a:pt x="2803" y="2319"/>
                </a:lnTo>
                <a:lnTo>
                  <a:pt x="2783" y="2274"/>
                </a:lnTo>
                <a:lnTo>
                  <a:pt x="2758" y="2229"/>
                </a:lnTo>
                <a:lnTo>
                  <a:pt x="2738" y="2179"/>
                </a:lnTo>
                <a:lnTo>
                  <a:pt x="2723" y="2134"/>
                </a:lnTo>
                <a:lnTo>
                  <a:pt x="2694" y="2090"/>
                </a:lnTo>
                <a:lnTo>
                  <a:pt x="2669" y="2045"/>
                </a:lnTo>
                <a:lnTo>
                  <a:pt x="2649" y="2000"/>
                </a:lnTo>
                <a:lnTo>
                  <a:pt x="2624" y="1955"/>
                </a:lnTo>
                <a:lnTo>
                  <a:pt x="2599" y="1910"/>
                </a:lnTo>
                <a:lnTo>
                  <a:pt x="2574" y="1865"/>
                </a:lnTo>
                <a:lnTo>
                  <a:pt x="2549" y="1820"/>
                </a:lnTo>
                <a:lnTo>
                  <a:pt x="2524" y="1775"/>
                </a:lnTo>
                <a:lnTo>
                  <a:pt x="2499" y="1731"/>
                </a:lnTo>
                <a:lnTo>
                  <a:pt x="2469" y="1691"/>
                </a:lnTo>
                <a:lnTo>
                  <a:pt x="2439" y="1646"/>
                </a:lnTo>
                <a:lnTo>
                  <a:pt x="2414" y="1606"/>
                </a:lnTo>
                <a:lnTo>
                  <a:pt x="2379" y="1566"/>
                </a:lnTo>
                <a:lnTo>
                  <a:pt x="2350" y="1526"/>
                </a:lnTo>
                <a:lnTo>
                  <a:pt x="2325" y="1481"/>
                </a:lnTo>
                <a:lnTo>
                  <a:pt x="2289" y="1441"/>
                </a:lnTo>
                <a:lnTo>
                  <a:pt x="2254" y="1402"/>
                </a:lnTo>
                <a:lnTo>
                  <a:pt x="2229" y="1362"/>
                </a:lnTo>
                <a:lnTo>
                  <a:pt x="2194" y="1322"/>
                </a:lnTo>
                <a:lnTo>
                  <a:pt x="2159" y="1282"/>
                </a:lnTo>
                <a:lnTo>
                  <a:pt x="2124" y="1247"/>
                </a:lnTo>
                <a:lnTo>
                  <a:pt x="2094" y="1207"/>
                </a:lnTo>
                <a:lnTo>
                  <a:pt x="2059" y="1167"/>
                </a:lnTo>
                <a:lnTo>
                  <a:pt x="2024" y="1132"/>
                </a:lnTo>
                <a:lnTo>
                  <a:pt x="1985" y="1092"/>
                </a:lnTo>
                <a:lnTo>
                  <a:pt x="1950" y="1057"/>
                </a:lnTo>
                <a:lnTo>
                  <a:pt x="1920" y="1023"/>
                </a:lnTo>
                <a:lnTo>
                  <a:pt x="1880" y="988"/>
                </a:lnTo>
                <a:lnTo>
                  <a:pt x="1840" y="953"/>
                </a:lnTo>
                <a:lnTo>
                  <a:pt x="1805" y="918"/>
                </a:lnTo>
                <a:lnTo>
                  <a:pt x="1765" y="888"/>
                </a:lnTo>
                <a:lnTo>
                  <a:pt x="1725" y="853"/>
                </a:lnTo>
                <a:lnTo>
                  <a:pt x="1690" y="818"/>
                </a:lnTo>
                <a:lnTo>
                  <a:pt x="1651" y="782"/>
                </a:lnTo>
                <a:lnTo>
                  <a:pt x="1611" y="752"/>
                </a:lnTo>
                <a:lnTo>
                  <a:pt x="1566" y="722"/>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8"/>
                </a:lnTo>
                <a:lnTo>
                  <a:pt x="1008" y="363"/>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01"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2"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3"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4"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5"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6"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7"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4408"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9" name=""/>
          <p:cNvSpPr/>
          <p:nvPr/>
        </p:nvSpPr>
        <p:spPr>
          <a:xfrm>
            <a:off x="4910040" y="22464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410"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11"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4412"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3"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4" name=""/>
          <p:cNvSpPr/>
          <p:nvPr/>
        </p:nvSpPr>
        <p:spPr>
          <a:xfrm>
            <a:off x="4910040" y="1760400"/>
            <a:ext cx="300240" cy="28800"/>
          </a:xfrm>
          <a:custGeom>
            <a:avLst/>
            <a:gdLst/>
            <a:ahLst/>
            <a:rect l="0" t="0" r="r" b="b"/>
            <a:pathLst>
              <a:path fill="none" w="834"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39" y="29"/>
                </a:lnTo>
                <a:lnTo>
                  <a:pt x="544" y="29"/>
                </a:lnTo>
                <a:lnTo>
                  <a:pt x="549" y="29"/>
                </a:lnTo>
                <a:lnTo>
                  <a:pt x="554" y="34"/>
                </a:lnTo>
                <a:lnTo>
                  <a:pt x="559" y="34"/>
                </a:lnTo>
                <a:lnTo>
                  <a:pt x="564" y="39"/>
                </a:lnTo>
                <a:lnTo>
                  <a:pt x="574" y="39"/>
                </a:lnTo>
                <a:lnTo>
                  <a:pt x="584" y="45"/>
                </a:lnTo>
                <a:lnTo>
                  <a:pt x="599" y="55"/>
                </a:lnTo>
                <a:lnTo>
                  <a:pt x="604" y="65"/>
                </a:lnTo>
                <a:lnTo>
                  <a:pt x="614" y="70"/>
                </a:lnTo>
                <a:lnTo>
                  <a:pt x="619" y="70"/>
                </a:lnTo>
                <a:lnTo>
                  <a:pt x="634" y="75"/>
                </a:lnTo>
                <a:lnTo>
                  <a:pt x="639" y="80"/>
                </a:lnTo>
                <a:lnTo>
                  <a:pt x="644" y="80"/>
                </a:lnTo>
                <a:lnTo>
                  <a:pt x="649" y="80"/>
                </a:lnTo>
                <a:lnTo>
                  <a:pt x="654" y="80"/>
                </a:lnTo>
                <a:lnTo>
                  <a:pt x="659" y="80"/>
                </a:lnTo>
                <a:lnTo>
                  <a:pt x="664" y="80"/>
                </a:lnTo>
                <a:lnTo>
                  <a:pt x="669" y="80"/>
                </a:lnTo>
                <a:lnTo>
                  <a:pt x="679" y="80"/>
                </a:lnTo>
                <a:lnTo>
                  <a:pt x="679" y="75"/>
                </a:lnTo>
                <a:lnTo>
                  <a:pt x="684" y="75"/>
                </a:lnTo>
                <a:lnTo>
                  <a:pt x="689" y="75"/>
                </a:lnTo>
                <a:lnTo>
                  <a:pt x="694" y="70"/>
                </a:lnTo>
                <a:lnTo>
                  <a:pt x="699" y="65"/>
                </a:lnTo>
                <a:lnTo>
                  <a:pt x="714" y="45"/>
                </a:lnTo>
                <a:lnTo>
                  <a:pt x="724" y="39"/>
                </a:lnTo>
                <a:lnTo>
                  <a:pt x="729" y="39"/>
                </a:lnTo>
                <a:lnTo>
                  <a:pt x="734" y="34"/>
                </a:lnTo>
                <a:lnTo>
                  <a:pt x="739" y="34"/>
                </a:lnTo>
                <a:lnTo>
                  <a:pt x="739" y="29"/>
                </a:lnTo>
                <a:lnTo>
                  <a:pt x="744" y="29"/>
                </a:lnTo>
                <a:lnTo>
                  <a:pt x="749" y="29"/>
                </a:lnTo>
                <a:lnTo>
                  <a:pt x="754" y="29"/>
                </a:lnTo>
                <a:lnTo>
                  <a:pt x="759" y="34"/>
                </a:lnTo>
                <a:lnTo>
                  <a:pt x="769" y="34"/>
                </a:lnTo>
                <a:lnTo>
                  <a:pt x="774" y="39"/>
                </a:lnTo>
                <a:lnTo>
                  <a:pt x="779" y="45"/>
                </a:lnTo>
                <a:lnTo>
                  <a:pt x="784" y="50"/>
                </a:lnTo>
                <a:lnTo>
                  <a:pt x="789" y="55"/>
                </a:lnTo>
                <a:lnTo>
                  <a:pt x="794" y="65"/>
                </a:lnTo>
                <a:lnTo>
                  <a:pt x="799" y="70"/>
                </a:lnTo>
                <a:lnTo>
                  <a:pt x="804" y="75"/>
                </a:lnTo>
                <a:lnTo>
                  <a:pt x="814" y="80"/>
                </a:lnTo>
                <a:lnTo>
                  <a:pt x="819" y="80"/>
                </a:lnTo>
                <a:lnTo>
                  <a:pt x="824" y="80"/>
                </a:lnTo>
                <a:lnTo>
                  <a:pt x="829" y="80"/>
                </a:lnTo>
                <a:lnTo>
                  <a:pt x="834" y="8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415"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4416"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417"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418"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19"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0"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1"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2" name=""/>
          <p:cNvSpPr/>
          <p:nvPr/>
        </p:nvSpPr>
        <p:spPr>
          <a:xfrm>
            <a:off x="4873680" y="1784520"/>
            <a:ext cx="32040" cy="466920"/>
          </a:xfrm>
          <a:custGeom>
            <a:avLst/>
            <a:gdLst/>
            <a:ahLst/>
            <a:rect l="0" t="0" r="r" b="b"/>
            <a:pathLst>
              <a:path fill="none" w="89" h="1297">
                <a:moveTo>
                  <a:pt x="89" y="0"/>
                </a:moveTo>
                <a:lnTo>
                  <a:pt x="62" y="0"/>
                </a:lnTo>
                <a:lnTo>
                  <a:pt x="35" y="17"/>
                </a:lnTo>
                <a:lnTo>
                  <a:pt x="17" y="44"/>
                </a:lnTo>
                <a:lnTo>
                  <a:pt x="0" y="70"/>
                </a:lnTo>
                <a:lnTo>
                  <a:pt x="0" y="97"/>
                </a:lnTo>
                <a:lnTo>
                  <a:pt x="0" y="141"/>
                </a:lnTo>
                <a:lnTo>
                  <a:pt x="0" y="167"/>
                </a:lnTo>
                <a:lnTo>
                  <a:pt x="0" y="194"/>
                </a:lnTo>
                <a:lnTo>
                  <a:pt x="0" y="238"/>
                </a:lnTo>
                <a:lnTo>
                  <a:pt x="0" y="282"/>
                </a:lnTo>
                <a:lnTo>
                  <a:pt x="0" y="326"/>
                </a:lnTo>
                <a:lnTo>
                  <a:pt x="8" y="352"/>
                </a:lnTo>
                <a:lnTo>
                  <a:pt x="17" y="396"/>
                </a:lnTo>
                <a:lnTo>
                  <a:pt x="26" y="423"/>
                </a:lnTo>
                <a:lnTo>
                  <a:pt x="35" y="458"/>
                </a:lnTo>
                <a:lnTo>
                  <a:pt x="35" y="485"/>
                </a:lnTo>
                <a:lnTo>
                  <a:pt x="45" y="529"/>
                </a:lnTo>
                <a:lnTo>
                  <a:pt x="53" y="555"/>
                </a:lnTo>
                <a:lnTo>
                  <a:pt x="53" y="599"/>
                </a:lnTo>
                <a:lnTo>
                  <a:pt x="45" y="626"/>
                </a:lnTo>
                <a:lnTo>
                  <a:pt x="35" y="662"/>
                </a:lnTo>
                <a:lnTo>
                  <a:pt x="35" y="688"/>
                </a:lnTo>
                <a:lnTo>
                  <a:pt x="26" y="715"/>
                </a:lnTo>
                <a:lnTo>
                  <a:pt x="26" y="741"/>
                </a:lnTo>
                <a:lnTo>
                  <a:pt x="26" y="803"/>
                </a:lnTo>
                <a:lnTo>
                  <a:pt x="17" y="847"/>
                </a:lnTo>
                <a:lnTo>
                  <a:pt x="17" y="874"/>
                </a:lnTo>
                <a:lnTo>
                  <a:pt x="17" y="900"/>
                </a:lnTo>
                <a:lnTo>
                  <a:pt x="26" y="927"/>
                </a:lnTo>
                <a:lnTo>
                  <a:pt x="35" y="988"/>
                </a:lnTo>
                <a:lnTo>
                  <a:pt x="45" y="1015"/>
                </a:lnTo>
                <a:lnTo>
                  <a:pt x="45" y="1041"/>
                </a:lnTo>
                <a:lnTo>
                  <a:pt x="45" y="1068"/>
                </a:lnTo>
                <a:lnTo>
                  <a:pt x="45" y="1103"/>
                </a:lnTo>
                <a:lnTo>
                  <a:pt x="45" y="1129"/>
                </a:lnTo>
                <a:lnTo>
                  <a:pt x="35" y="1156"/>
                </a:lnTo>
                <a:lnTo>
                  <a:pt x="35" y="1182"/>
                </a:lnTo>
                <a:lnTo>
                  <a:pt x="35" y="1226"/>
                </a:lnTo>
                <a:lnTo>
                  <a:pt x="35" y="1253"/>
                </a:lnTo>
                <a:lnTo>
                  <a:pt x="53" y="1279"/>
                </a:lnTo>
                <a:lnTo>
                  <a:pt x="80" y="1297"/>
                </a:lnTo>
                <a:lnTo>
                  <a:pt x="80" y="126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23"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4424"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4425"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4426" name=""/>
          <p:cNvSpPr txBox="1"/>
          <p:nvPr/>
        </p:nvSpPr>
        <p:spPr>
          <a:xfrm>
            <a:off x="4570560" y="575460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D</a:t>
            </a:r>
            <a:endParaRPr b="0" lang="en-US" sz="2000" spc="-1" strike="noStrike">
              <a:solidFill>
                <a:srgbClr val="000000"/>
              </a:solidFill>
              <a:latin typeface="Arial"/>
            </a:endParaRPr>
          </a:p>
        </p:txBody>
      </p:sp>
      <p:sp>
        <p:nvSpPr>
          <p:cNvPr id="4427"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4428"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Regardless of Feature Size</a:t>
            </a:r>
            <a:endParaRPr b="0" lang="en-US" sz="2000" spc="-1" strike="noStrike">
              <a:solidFill>
                <a:srgbClr val="000000"/>
              </a:solidFill>
              <a:latin typeface="Arial"/>
            </a:endParaRPr>
          </a:p>
        </p:txBody>
      </p:sp>
      <p:sp>
        <p:nvSpPr>
          <p:cNvPr id="4429"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4430"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431"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2"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3"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4"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5"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6"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7"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8"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4439"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4440"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4441"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442"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3"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4"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5"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6"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7"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8"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9"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0"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1"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2"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453"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454"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5"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6"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7"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8"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59"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0"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461" name=""/>
          <p:cNvGrpSpPr/>
          <p:nvPr/>
        </p:nvGrpSpPr>
        <p:grpSpPr>
          <a:xfrm>
            <a:off x="2824200" y="5519880"/>
            <a:ext cx="3457440" cy="0"/>
            <a:chOff x="2824200" y="5519880"/>
            <a:chExt cx="3457440" cy="0"/>
          </a:xfrm>
        </p:grpSpPr>
        <p:sp>
          <p:nvSpPr>
            <p:cNvPr id="4462" name=""/>
            <p:cNvSpPr/>
            <p:nvPr/>
          </p:nvSpPr>
          <p:spPr>
            <a:xfrm>
              <a:off x="5362560" y="5519880"/>
              <a:ext cx="76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3" name=""/>
            <p:cNvSpPr/>
            <p:nvPr/>
          </p:nvSpPr>
          <p:spPr>
            <a:xfrm>
              <a:off x="5495760" y="5519880"/>
              <a:ext cx="66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4" name=""/>
            <p:cNvSpPr/>
            <p:nvPr/>
          </p:nvSpPr>
          <p:spPr>
            <a:xfrm>
              <a:off x="5643720" y="5519880"/>
              <a:ext cx="637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5" name=""/>
            <p:cNvSpPr/>
            <p:nvPr/>
          </p:nvSpPr>
          <p:spPr>
            <a:xfrm>
              <a:off x="2824200" y="5519880"/>
              <a:ext cx="2476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466"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67"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68"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7" name=""/>
          <p:cNvSpPr txBox="1"/>
          <p:nvPr/>
        </p:nvSpPr>
        <p:spPr>
          <a:xfrm>
            <a:off x="685800" y="42084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Implied Datums and Datum Precedence</a:t>
            </a:r>
            <a:endParaRPr b="0" lang="en-US" sz="4400" spc="-1" strike="noStrike">
              <a:solidFill>
                <a:srgbClr val="000000"/>
              </a:solidFill>
              <a:latin typeface="Arial"/>
            </a:endParaRPr>
          </a:p>
        </p:txBody>
      </p:sp>
      <p:sp>
        <p:nvSpPr>
          <p:cNvPr id="628" name=""/>
          <p:cNvSpPr txBox="1"/>
          <p:nvPr/>
        </p:nvSpPr>
        <p:spPr>
          <a:xfrm>
            <a:off x="830160" y="17812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s may be implied by locational dimensions which associate specific features on par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mplied datums are acceptable in non-critical relationship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precedence </a:t>
            </a:r>
            <a:r>
              <a:rPr b="0" i="1" lang="en-US" sz="2800" spc="-1" strike="noStrike" u="sng">
                <a:solidFill>
                  <a:srgbClr val="fafd00"/>
                </a:solidFill>
                <a:uFillTx/>
                <a:latin typeface="Times New Roman"/>
                <a:ea typeface="Times New Roman"/>
              </a:rPr>
              <a:t>cannot</a:t>
            </a:r>
            <a:r>
              <a:rPr b="0" lang="en-US" sz="2800" spc="-1" strike="noStrike">
                <a:solidFill>
                  <a:srgbClr val="ffffff"/>
                </a:solidFill>
                <a:latin typeface="Times New Roman"/>
                <a:ea typeface="Times New Roman"/>
              </a:rPr>
              <a:t> be impli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precedence must be established by appropriate notation on the draw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46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470"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1"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72"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4473"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74"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4475"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76"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77"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4478"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9"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0"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1"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4482"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3"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4"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5"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486"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7"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488"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89"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0" name=""/>
          <p:cNvSpPr/>
          <p:nvPr/>
        </p:nvSpPr>
        <p:spPr>
          <a:xfrm>
            <a:off x="4767120" y="2257560"/>
            <a:ext cx="443160" cy="806760"/>
          </a:xfrm>
          <a:custGeom>
            <a:avLst/>
            <a:gdLst/>
            <a:ahLst/>
            <a:rect l="0" t="0" r="r" b="b"/>
            <a:pathLst>
              <a:path fill="none" w="1231" h="2241">
                <a:moveTo>
                  <a:pt x="0" y="2241"/>
                </a:moveTo>
                <a:lnTo>
                  <a:pt x="40" y="2206"/>
                </a:lnTo>
                <a:lnTo>
                  <a:pt x="75" y="2176"/>
                </a:lnTo>
                <a:lnTo>
                  <a:pt x="110" y="2141"/>
                </a:lnTo>
                <a:lnTo>
                  <a:pt x="145" y="2101"/>
                </a:lnTo>
                <a:lnTo>
                  <a:pt x="180" y="2066"/>
                </a:lnTo>
                <a:lnTo>
                  <a:pt x="220" y="2027"/>
                </a:lnTo>
                <a:lnTo>
                  <a:pt x="250" y="1997"/>
                </a:lnTo>
                <a:lnTo>
                  <a:pt x="285" y="1957"/>
                </a:lnTo>
                <a:lnTo>
                  <a:pt x="320" y="1917"/>
                </a:lnTo>
                <a:lnTo>
                  <a:pt x="355" y="1877"/>
                </a:lnTo>
                <a:lnTo>
                  <a:pt x="385" y="1842"/>
                </a:lnTo>
                <a:lnTo>
                  <a:pt x="415" y="1803"/>
                </a:lnTo>
                <a:lnTo>
                  <a:pt x="450" y="1758"/>
                </a:lnTo>
                <a:lnTo>
                  <a:pt x="485" y="1723"/>
                </a:lnTo>
                <a:lnTo>
                  <a:pt x="510" y="1683"/>
                </a:lnTo>
                <a:lnTo>
                  <a:pt x="540" y="1643"/>
                </a:lnTo>
                <a:lnTo>
                  <a:pt x="570" y="1598"/>
                </a:lnTo>
                <a:lnTo>
                  <a:pt x="600" y="1559"/>
                </a:lnTo>
                <a:lnTo>
                  <a:pt x="631" y="1514"/>
                </a:lnTo>
                <a:lnTo>
                  <a:pt x="656" y="1474"/>
                </a:lnTo>
                <a:lnTo>
                  <a:pt x="686" y="1429"/>
                </a:lnTo>
                <a:lnTo>
                  <a:pt x="716" y="1389"/>
                </a:lnTo>
                <a:lnTo>
                  <a:pt x="736" y="1345"/>
                </a:lnTo>
                <a:lnTo>
                  <a:pt x="766" y="1300"/>
                </a:lnTo>
                <a:lnTo>
                  <a:pt x="786" y="1255"/>
                </a:lnTo>
                <a:lnTo>
                  <a:pt x="816" y="1210"/>
                </a:lnTo>
                <a:lnTo>
                  <a:pt x="836" y="1165"/>
                </a:lnTo>
                <a:lnTo>
                  <a:pt x="861" y="1121"/>
                </a:lnTo>
                <a:lnTo>
                  <a:pt x="881" y="1075"/>
                </a:lnTo>
                <a:lnTo>
                  <a:pt x="906" y="1030"/>
                </a:lnTo>
                <a:lnTo>
                  <a:pt x="926" y="985"/>
                </a:lnTo>
                <a:lnTo>
                  <a:pt x="951" y="940"/>
                </a:lnTo>
                <a:lnTo>
                  <a:pt x="966" y="891"/>
                </a:lnTo>
                <a:lnTo>
                  <a:pt x="991" y="846"/>
                </a:lnTo>
                <a:lnTo>
                  <a:pt x="1006" y="801"/>
                </a:lnTo>
                <a:lnTo>
                  <a:pt x="1026" y="751"/>
                </a:lnTo>
                <a:lnTo>
                  <a:pt x="1046" y="706"/>
                </a:lnTo>
                <a:lnTo>
                  <a:pt x="1061" y="657"/>
                </a:lnTo>
                <a:lnTo>
                  <a:pt x="1076" y="612"/>
                </a:lnTo>
                <a:lnTo>
                  <a:pt x="1096" y="562"/>
                </a:lnTo>
                <a:lnTo>
                  <a:pt x="1111" y="512"/>
                </a:lnTo>
                <a:lnTo>
                  <a:pt x="1121" y="467"/>
                </a:lnTo>
                <a:lnTo>
                  <a:pt x="1141" y="418"/>
                </a:lnTo>
                <a:lnTo>
                  <a:pt x="1151" y="368"/>
                </a:lnTo>
                <a:lnTo>
                  <a:pt x="1161" y="323"/>
                </a:lnTo>
                <a:lnTo>
                  <a:pt x="1181" y="273"/>
                </a:lnTo>
                <a:lnTo>
                  <a:pt x="1191" y="219"/>
                </a:lnTo>
                <a:lnTo>
                  <a:pt x="1201" y="169"/>
                </a:lnTo>
                <a:lnTo>
                  <a:pt x="1211" y="119"/>
                </a:lnTo>
                <a:lnTo>
                  <a:pt x="1221" y="69"/>
                </a:lnTo>
                <a:lnTo>
                  <a:pt x="1231" y="24"/>
                </a:lnTo>
                <a:lnTo>
                  <a:pt x="123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1"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2"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3"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4"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5" name=""/>
          <p:cNvSpPr/>
          <p:nvPr/>
        </p:nvSpPr>
        <p:spPr>
          <a:xfrm>
            <a:off x="4110120" y="635040"/>
            <a:ext cx="1100520" cy="1154520"/>
          </a:xfrm>
          <a:custGeom>
            <a:avLst/>
            <a:gdLst/>
            <a:ahLst/>
            <a:rect l="0" t="0" r="r" b="b"/>
            <a:pathLst>
              <a:path fill="none" w="3057" h="3207">
                <a:moveTo>
                  <a:pt x="3057" y="3207"/>
                </a:moveTo>
                <a:lnTo>
                  <a:pt x="3047" y="3158"/>
                </a:lnTo>
                <a:lnTo>
                  <a:pt x="3037" y="3108"/>
                </a:lnTo>
                <a:lnTo>
                  <a:pt x="3028" y="3058"/>
                </a:lnTo>
                <a:lnTo>
                  <a:pt x="3018" y="3008"/>
                </a:lnTo>
                <a:lnTo>
                  <a:pt x="3008" y="2953"/>
                </a:lnTo>
                <a:lnTo>
                  <a:pt x="2998" y="2903"/>
                </a:lnTo>
                <a:lnTo>
                  <a:pt x="2978" y="2853"/>
                </a:lnTo>
                <a:lnTo>
                  <a:pt x="2968" y="2804"/>
                </a:lnTo>
                <a:lnTo>
                  <a:pt x="2958" y="2759"/>
                </a:lnTo>
                <a:lnTo>
                  <a:pt x="2938" y="2709"/>
                </a:lnTo>
                <a:lnTo>
                  <a:pt x="2923" y="2659"/>
                </a:lnTo>
                <a:lnTo>
                  <a:pt x="2913" y="2614"/>
                </a:lnTo>
                <a:lnTo>
                  <a:pt x="2893" y="2564"/>
                </a:lnTo>
                <a:lnTo>
                  <a:pt x="2878" y="2514"/>
                </a:lnTo>
                <a:lnTo>
                  <a:pt x="2863" y="2469"/>
                </a:lnTo>
                <a:lnTo>
                  <a:pt x="2838" y="2415"/>
                </a:lnTo>
                <a:lnTo>
                  <a:pt x="2823" y="2374"/>
                </a:lnTo>
                <a:lnTo>
                  <a:pt x="2803" y="2319"/>
                </a:lnTo>
                <a:lnTo>
                  <a:pt x="2783" y="2274"/>
                </a:lnTo>
                <a:lnTo>
                  <a:pt x="2758" y="2229"/>
                </a:lnTo>
                <a:lnTo>
                  <a:pt x="2738" y="2179"/>
                </a:lnTo>
                <a:lnTo>
                  <a:pt x="2723" y="2134"/>
                </a:lnTo>
                <a:lnTo>
                  <a:pt x="2694" y="2090"/>
                </a:lnTo>
                <a:lnTo>
                  <a:pt x="2669" y="2045"/>
                </a:lnTo>
                <a:lnTo>
                  <a:pt x="2649" y="2000"/>
                </a:lnTo>
                <a:lnTo>
                  <a:pt x="2624" y="1955"/>
                </a:lnTo>
                <a:lnTo>
                  <a:pt x="2599" y="1910"/>
                </a:lnTo>
                <a:lnTo>
                  <a:pt x="2574" y="1865"/>
                </a:lnTo>
                <a:lnTo>
                  <a:pt x="2549" y="1820"/>
                </a:lnTo>
                <a:lnTo>
                  <a:pt x="2524" y="1775"/>
                </a:lnTo>
                <a:lnTo>
                  <a:pt x="2499" y="1731"/>
                </a:lnTo>
                <a:lnTo>
                  <a:pt x="2469" y="1691"/>
                </a:lnTo>
                <a:lnTo>
                  <a:pt x="2439" y="1646"/>
                </a:lnTo>
                <a:lnTo>
                  <a:pt x="2414" y="1606"/>
                </a:lnTo>
                <a:lnTo>
                  <a:pt x="2379" y="1566"/>
                </a:lnTo>
                <a:lnTo>
                  <a:pt x="2350" y="1526"/>
                </a:lnTo>
                <a:lnTo>
                  <a:pt x="2325" y="1481"/>
                </a:lnTo>
                <a:lnTo>
                  <a:pt x="2289" y="1441"/>
                </a:lnTo>
                <a:lnTo>
                  <a:pt x="2254" y="1402"/>
                </a:lnTo>
                <a:lnTo>
                  <a:pt x="2229" y="1362"/>
                </a:lnTo>
                <a:lnTo>
                  <a:pt x="2194" y="1322"/>
                </a:lnTo>
                <a:lnTo>
                  <a:pt x="2159" y="1282"/>
                </a:lnTo>
                <a:lnTo>
                  <a:pt x="2124" y="1247"/>
                </a:lnTo>
                <a:lnTo>
                  <a:pt x="2094" y="1207"/>
                </a:lnTo>
                <a:lnTo>
                  <a:pt x="2059" y="1167"/>
                </a:lnTo>
                <a:lnTo>
                  <a:pt x="2024" y="1132"/>
                </a:lnTo>
                <a:lnTo>
                  <a:pt x="1985" y="1092"/>
                </a:lnTo>
                <a:lnTo>
                  <a:pt x="1950" y="1057"/>
                </a:lnTo>
                <a:lnTo>
                  <a:pt x="1920" y="1023"/>
                </a:lnTo>
                <a:lnTo>
                  <a:pt x="1880" y="988"/>
                </a:lnTo>
                <a:lnTo>
                  <a:pt x="1840" y="953"/>
                </a:lnTo>
                <a:lnTo>
                  <a:pt x="1805" y="918"/>
                </a:lnTo>
                <a:lnTo>
                  <a:pt x="1765" y="888"/>
                </a:lnTo>
                <a:lnTo>
                  <a:pt x="1725" y="853"/>
                </a:lnTo>
                <a:lnTo>
                  <a:pt x="1690" y="818"/>
                </a:lnTo>
                <a:lnTo>
                  <a:pt x="1651" y="782"/>
                </a:lnTo>
                <a:lnTo>
                  <a:pt x="1611" y="752"/>
                </a:lnTo>
                <a:lnTo>
                  <a:pt x="1566" y="722"/>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8"/>
                </a:lnTo>
                <a:lnTo>
                  <a:pt x="1008" y="363"/>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496"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7"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8"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9"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0"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1"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2"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4503"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4" name=""/>
          <p:cNvSpPr/>
          <p:nvPr/>
        </p:nvSpPr>
        <p:spPr>
          <a:xfrm>
            <a:off x="4910040" y="22464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505"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06"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4507"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8"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09" name=""/>
          <p:cNvSpPr/>
          <p:nvPr/>
        </p:nvSpPr>
        <p:spPr>
          <a:xfrm>
            <a:off x="4910040" y="1760400"/>
            <a:ext cx="300240" cy="28800"/>
          </a:xfrm>
          <a:custGeom>
            <a:avLst/>
            <a:gdLst/>
            <a:ahLst/>
            <a:rect l="0" t="0" r="r" b="b"/>
            <a:pathLst>
              <a:path fill="none" w="834"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39" y="29"/>
                </a:lnTo>
                <a:lnTo>
                  <a:pt x="544" y="29"/>
                </a:lnTo>
                <a:lnTo>
                  <a:pt x="549" y="29"/>
                </a:lnTo>
                <a:lnTo>
                  <a:pt x="554" y="34"/>
                </a:lnTo>
                <a:lnTo>
                  <a:pt x="559" y="34"/>
                </a:lnTo>
                <a:lnTo>
                  <a:pt x="564" y="39"/>
                </a:lnTo>
                <a:lnTo>
                  <a:pt x="574" y="39"/>
                </a:lnTo>
                <a:lnTo>
                  <a:pt x="584" y="45"/>
                </a:lnTo>
                <a:lnTo>
                  <a:pt x="599" y="55"/>
                </a:lnTo>
                <a:lnTo>
                  <a:pt x="604" y="65"/>
                </a:lnTo>
                <a:lnTo>
                  <a:pt x="614" y="70"/>
                </a:lnTo>
                <a:lnTo>
                  <a:pt x="619" y="70"/>
                </a:lnTo>
                <a:lnTo>
                  <a:pt x="634" y="75"/>
                </a:lnTo>
                <a:lnTo>
                  <a:pt x="639" y="80"/>
                </a:lnTo>
                <a:lnTo>
                  <a:pt x="644" y="80"/>
                </a:lnTo>
                <a:lnTo>
                  <a:pt x="649" y="80"/>
                </a:lnTo>
                <a:lnTo>
                  <a:pt x="654" y="80"/>
                </a:lnTo>
                <a:lnTo>
                  <a:pt x="659" y="80"/>
                </a:lnTo>
                <a:lnTo>
                  <a:pt x="664" y="80"/>
                </a:lnTo>
                <a:lnTo>
                  <a:pt x="669" y="80"/>
                </a:lnTo>
                <a:lnTo>
                  <a:pt x="679" y="80"/>
                </a:lnTo>
                <a:lnTo>
                  <a:pt x="679" y="75"/>
                </a:lnTo>
                <a:lnTo>
                  <a:pt x="684" y="75"/>
                </a:lnTo>
                <a:lnTo>
                  <a:pt x="689" y="75"/>
                </a:lnTo>
                <a:lnTo>
                  <a:pt x="694" y="70"/>
                </a:lnTo>
                <a:lnTo>
                  <a:pt x="699" y="65"/>
                </a:lnTo>
                <a:lnTo>
                  <a:pt x="714" y="45"/>
                </a:lnTo>
                <a:lnTo>
                  <a:pt x="724" y="39"/>
                </a:lnTo>
                <a:lnTo>
                  <a:pt x="729" y="39"/>
                </a:lnTo>
                <a:lnTo>
                  <a:pt x="734" y="34"/>
                </a:lnTo>
                <a:lnTo>
                  <a:pt x="739" y="34"/>
                </a:lnTo>
                <a:lnTo>
                  <a:pt x="739" y="29"/>
                </a:lnTo>
                <a:lnTo>
                  <a:pt x="744" y="29"/>
                </a:lnTo>
                <a:lnTo>
                  <a:pt x="749" y="29"/>
                </a:lnTo>
                <a:lnTo>
                  <a:pt x="754" y="29"/>
                </a:lnTo>
                <a:lnTo>
                  <a:pt x="759" y="34"/>
                </a:lnTo>
                <a:lnTo>
                  <a:pt x="769" y="34"/>
                </a:lnTo>
                <a:lnTo>
                  <a:pt x="774" y="39"/>
                </a:lnTo>
                <a:lnTo>
                  <a:pt x="779" y="45"/>
                </a:lnTo>
                <a:lnTo>
                  <a:pt x="784" y="50"/>
                </a:lnTo>
                <a:lnTo>
                  <a:pt x="789" y="55"/>
                </a:lnTo>
                <a:lnTo>
                  <a:pt x="794" y="65"/>
                </a:lnTo>
                <a:lnTo>
                  <a:pt x="799" y="70"/>
                </a:lnTo>
                <a:lnTo>
                  <a:pt x="804" y="75"/>
                </a:lnTo>
                <a:lnTo>
                  <a:pt x="814" y="80"/>
                </a:lnTo>
                <a:lnTo>
                  <a:pt x="819" y="80"/>
                </a:lnTo>
                <a:lnTo>
                  <a:pt x="824" y="80"/>
                </a:lnTo>
                <a:lnTo>
                  <a:pt x="829" y="80"/>
                </a:lnTo>
                <a:lnTo>
                  <a:pt x="834" y="8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510"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4511"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512"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513"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14"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15"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16"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17" name=""/>
          <p:cNvSpPr/>
          <p:nvPr/>
        </p:nvSpPr>
        <p:spPr>
          <a:xfrm>
            <a:off x="4873680" y="1784520"/>
            <a:ext cx="32040" cy="466920"/>
          </a:xfrm>
          <a:custGeom>
            <a:avLst/>
            <a:gdLst/>
            <a:ahLst/>
            <a:rect l="0" t="0" r="r" b="b"/>
            <a:pathLst>
              <a:path fill="none" w="89" h="1297">
                <a:moveTo>
                  <a:pt x="89" y="0"/>
                </a:moveTo>
                <a:lnTo>
                  <a:pt x="62" y="0"/>
                </a:lnTo>
                <a:lnTo>
                  <a:pt x="35" y="17"/>
                </a:lnTo>
                <a:lnTo>
                  <a:pt x="17" y="44"/>
                </a:lnTo>
                <a:lnTo>
                  <a:pt x="0" y="70"/>
                </a:lnTo>
                <a:lnTo>
                  <a:pt x="0" y="97"/>
                </a:lnTo>
                <a:lnTo>
                  <a:pt x="0" y="141"/>
                </a:lnTo>
                <a:lnTo>
                  <a:pt x="0" y="167"/>
                </a:lnTo>
                <a:lnTo>
                  <a:pt x="0" y="194"/>
                </a:lnTo>
                <a:lnTo>
                  <a:pt x="0" y="238"/>
                </a:lnTo>
                <a:lnTo>
                  <a:pt x="0" y="282"/>
                </a:lnTo>
                <a:lnTo>
                  <a:pt x="0" y="326"/>
                </a:lnTo>
                <a:lnTo>
                  <a:pt x="8" y="352"/>
                </a:lnTo>
                <a:lnTo>
                  <a:pt x="17" y="396"/>
                </a:lnTo>
                <a:lnTo>
                  <a:pt x="26" y="423"/>
                </a:lnTo>
                <a:lnTo>
                  <a:pt x="35" y="458"/>
                </a:lnTo>
                <a:lnTo>
                  <a:pt x="35" y="485"/>
                </a:lnTo>
                <a:lnTo>
                  <a:pt x="45" y="529"/>
                </a:lnTo>
                <a:lnTo>
                  <a:pt x="53" y="555"/>
                </a:lnTo>
                <a:lnTo>
                  <a:pt x="53" y="599"/>
                </a:lnTo>
                <a:lnTo>
                  <a:pt x="45" y="626"/>
                </a:lnTo>
                <a:lnTo>
                  <a:pt x="35" y="662"/>
                </a:lnTo>
                <a:lnTo>
                  <a:pt x="35" y="688"/>
                </a:lnTo>
                <a:lnTo>
                  <a:pt x="26" y="715"/>
                </a:lnTo>
                <a:lnTo>
                  <a:pt x="26" y="741"/>
                </a:lnTo>
                <a:lnTo>
                  <a:pt x="26" y="803"/>
                </a:lnTo>
                <a:lnTo>
                  <a:pt x="17" y="847"/>
                </a:lnTo>
                <a:lnTo>
                  <a:pt x="17" y="874"/>
                </a:lnTo>
                <a:lnTo>
                  <a:pt x="17" y="900"/>
                </a:lnTo>
                <a:lnTo>
                  <a:pt x="26" y="927"/>
                </a:lnTo>
                <a:lnTo>
                  <a:pt x="35" y="988"/>
                </a:lnTo>
                <a:lnTo>
                  <a:pt x="45" y="1015"/>
                </a:lnTo>
                <a:lnTo>
                  <a:pt x="45" y="1041"/>
                </a:lnTo>
                <a:lnTo>
                  <a:pt x="45" y="1068"/>
                </a:lnTo>
                <a:lnTo>
                  <a:pt x="45" y="1103"/>
                </a:lnTo>
                <a:lnTo>
                  <a:pt x="45" y="1129"/>
                </a:lnTo>
                <a:lnTo>
                  <a:pt x="35" y="1156"/>
                </a:lnTo>
                <a:lnTo>
                  <a:pt x="35" y="1182"/>
                </a:lnTo>
                <a:lnTo>
                  <a:pt x="35" y="1226"/>
                </a:lnTo>
                <a:lnTo>
                  <a:pt x="35" y="1253"/>
                </a:lnTo>
                <a:lnTo>
                  <a:pt x="53" y="1279"/>
                </a:lnTo>
                <a:lnTo>
                  <a:pt x="80" y="1297"/>
                </a:lnTo>
                <a:lnTo>
                  <a:pt x="80" y="126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18"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4519"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4520"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4521"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Datum Plane D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of datum feature D simulated by surface plate)</a:t>
            </a:r>
            <a:endParaRPr b="0" lang="en-US" sz="1800" spc="-1" strike="noStrike">
              <a:solidFill>
                <a:srgbClr val="000000"/>
              </a:solidFill>
              <a:latin typeface="Arial"/>
            </a:endParaRPr>
          </a:p>
        </p:txBody>
      </p:sp>
      <p:sp>
        <p:nvSpPr>
          <p:cNvPr id="4522"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4523"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fffff"/>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fffff"/>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Regardless of Feature Size</a:t>
            </a:r>
            <a:endParaRPr b="0" lang="en-US" sz="2000" spc="-1" strike="noStrike">
              <a:solidFill>
                <a:srgbClr val="000000"/>
              </a:solidFill>
              <a:latin typeface="Arial"/>
            </a:endParaRPr>
          </a:p>
        </p:txBody>
      </p:sp>
      <p:sp>
        <p:nvSpPr>
          <p:cNvPr id="4524"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5"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6"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4527"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528"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9"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0"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1"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2"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3"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4"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5"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4536"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4537"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4538"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539"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0"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1"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2"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3"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4"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5"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6"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7"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8"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9"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550"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551"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52"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3"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54"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5"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6"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557" name=""/>
          <p:cNvGrpSpPr/>
          <p:nvPr/>
        </p:nvGrpSpPr>
        <p:grpSpPr>
          <a:xfrm>
            <a:off x="2824200" y="5533920"/>
            <a:ext cx="3457440" cy="0"/>
            <a:chOff x="2824200" y="5533920"/>
            <a:chExt cx="3457440" cy="0"/>
          </a:xfrm>
        </p:grpSpPr>
        <p:sp>
          <p:nvSpPr>
            <p:cNvPr id="4558" name=""/>
            <p:cNvSpPr/>
            <p:nvPr/>
          </p:nvSpPr>
          <p:spPr>
            <a:xfrm>
              <a:off x="2824200" y="5533920"/>
              <a:ext cx="247644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59" name=""/>
            <p:cNvSpPr/>
            <p:nvPr/>
          </p:nvSpPr>
          <p:spPr>
            <a:xfrm>
              <a:off x="5362560" y="5533920"/>
              <a:ext cx="763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60" name=""/>
            <p:cNvSpPr/>
            <p:nvPr/>
          </p:nvSpPr>
          <p:spPr>
            <a:xfrm>
              <a:off x="5495760" y="5533920"/>
              <a:ext cx="669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561" name=""/>
            <p:cNvSpPr/>
            <p:nvPr/>
          </p:nvSpPr>
          <p:spPr>
            <a:xfrm>
              <a:off x="5643720" y="5533920"/>
              <a:ext cx="6379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4562"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3"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4"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5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66"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7"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68"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4569"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0"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4571"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2"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73"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4574" name=""/>
          <p:cNvSpPr/>
          <p:nvPr/>
        </p:nvSpPr>
        <p:spPr>
          <a:xfrm>
            <a:off x="3603600" y="40878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5" name=""/>
          <p:cNvSpPr/>
          <p:nvPr/>
        </p:nvSpPr>
        <p:spPr>
          <a:xfrm flipV="1">
            <a:off x="344340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6" name=""/>
          <p:cNvSpPr/>
          <p:nvPr/>
        </p:nvSpPr>
        <p:spPr>
          <a:xfrm>
            <a:off x="3444840" y="4057560"/>
            <a:ext cx="159120" cy="57600"/>
          </a:xfrm>
          <a:custGeom>
            <a:avLst/>
            <a:gdLst/>
            <a:ahLst/>
            <a:rect l="0" t="0" r="r" b="b"/>
            <a:pathLst>
              <a:path w="442" h="160">
                <a:moveTo>
                  <a:pt x="442" y="0"/>
                </a:moveTo>
                <a:lnTo>
                  <a:pt x="442" y="160"/>
                </a:lnTo>
                <a:lnTo>
                  <a:pt x="0" y="85"/>
                </a:lnTo>
                <a:lnTo>
                  <a:pt x="442"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577" name=""/>
          <p:cNvSpPr/>
          <p:nvPr/>
        </p:nvSpPr>
        <p:spPr>
          <a:xfrm flipV="1">
            <a:off x="41878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8"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9"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0"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1"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2" name=""/>
          <p:cNvSpPr/>
          <p:nvPr/>
        </p:nvSpPr>
        <p:spPr>
          <a:xfrm flipV="1">
            <a:off x="4183200" y="4087800"/>
            <a:ext cx="2505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83" name=""/>
          <p:cNvSpPr/>
          <p:nvPr/>
        </p:nvSpPr>
        <p:spPr>
          <a:xfrm>
            <a:off x="4030560" y="4057560"/>
            <a:ext cx="155880" cy="57600"/>
          </a:xfrm>
          <a:custGeom>
            <a:avLst/>
            <a:gdLst/>
            <a:ahLst/>
            <a:rect l="0" t="0" r="r" b="b"/>
            <a:pathLst>
              <a:path w="433" h="160">
                <a:moveTo>
                  <a:pt x="0" y="0"/>
                </a:moveTo>
                <a:lnTo>
                  <a:pt x="0" y="160"/>
                </a:lnTo>
                <a:lnTo>
                  <a:pt x="433" y="85"/>
                </a:lnTo>
                <a:lnTo>
                  <a:pt x="0"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584"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4585"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6"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7"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88"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589"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0"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591"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2"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3" name=""/>
          <p:cNvSpPr/>
          <p:nvPr/>
        </p:nvSpPr>
        <p:spPr>
          <a:xfrm>
            <a:off x="4767120" y="2257560"/>
            <a:ext cx="443160" cy="806760"/>
          </a:xfrm>
          <a:custGeom>
            <a:avLst/>
            <a:gdLst/>
            <a:ahLst/>
            <a:rect l="0" t="0" r="r" b="b"/>
            <a:pathLst>
              <a:path fill="none" w="1231" h="2241">
                <a:moveTo>
                  <a:pt x="0" y="2241"/>
                </a:moveTo>
                <a:lnTo>
                  <a:pt x="40" y="2206"/>
                </a:lnTo>
                <a:lnTo>
                  <a:pt x="75" y="2176"/>
                </a:lnTo>
                <a:lnTo>
                  <a:pt x="110" y="2141"/>
                </a:lnTo>
                <a:lnTo>
                  <a:pt x="145" y="2101"/>
                </a:lnTo>
                <a:lnTo>
                  <a:pt x="180" y="2066"/>
                </a:lnTo>
                <a:lnTo>
                  <a:pt x="220" y="2027"/>
                </a:lnTo>
                <a:lnTo>
                  <a:pt x="250" y="1997"/>
                </a:lnTo>
                <a:lnTo>
                  <a:pt x="285" y="1957"/>
                </a:lnTo>
                <a:lnTo>
                  <a:pt x="320" y="1917"/>
                </a:lnTo>
                <a:lnTo>
                  <a:pt x="355" y="1877"/>
                </a:lnTo>
                <a:lnTo>
                  <a:pt x="385" y="1842"/>
                </a:lnTo>
                <a:lnTo>
                  <a:pt x="415" y="1803"/>
                </a:lnTo>
                <a:lnTo>
                  <a:pt x="450" y="1758"/>
                </a:lnTo>
                <a:lnTo>
                  <a:pt x="485" y="1723"/>
                </a:lnTo>
                <a:lnTo>
                  <a:pt x="510" y="1683"/>
                </a:lnTo>
                <a:lnTo>
                  <a:pt x="540" y="1643"/>
                </a:lnTo>
                <a:lnTo>
                  <a:pt x="570" y="1598"/>
                </a:lnTo>
                <a:lnTo>
                  <a:pt x="600" y="1559"/>
                </a:lnTo>
                <a:lnTo>
                  <a:pt x="631" y="1514"/>
                </a:lnTo>
                <a:lnTo>
                  <a:pt x="656" y="1474"/>
                </a:lnTo>
                <a:lnTo>
                  <a:pt x="686" y="1429"/>
                </a:lnTo>
                <a:lnTo>
                  <a:pt x="716" y="1389"/>
                </a:lnTo>
                <a:lnTo>
                  <a:pt x="736" y="1345"/>
                </a:lnTo>
                <a:lnTo>
                  <a:pt x="766" y="1300"/>
                </a:lnTo>
                <a:lnTo>
                  <a:pt x="786" y="1255"/>
                </a:lnTo>
                <a:lnTo>
                  <a:pt x="816" y="1210"/>
                </a:lnTo>
                <a:lnTo>
                  <a:pt x="836" y="1165"/>
                </a:lnTo>
                <a:lnTo>
                  <a:pt x="861" y="1121"/>
                </a:lnTo>
                <a:lnTo>
                  <a:pt x="881" y="1075"/>
                </a:lnTo>
                <a:lnTo>
                  <a:pt x="906" y="1030"/>
                </a:lnTo>
                <a:lnTo>
                  <a:pt x="926" y="985"/>
                </a:lnTo>
                <a:lnTo>
                  <a:pt x="951" y="940"/>
                </a:lnTo>
                <a:lnTo>
                  <a:pt x="966" y="891"/>
                </a:lnTo>
                <a:lnTo>
                  <a:pt x="991" y="846"/>
                </a:lnTo>
                <a:lnTo>
                  <a:pt x="1006" y="801"/>
                </a:lnTo>
                <a:lnTo>
                  <a:pt x="1026" y="751"/>
                </a:lnTo>
                <a:lnTo>
                  <a:pt x="1046" y="706"/>
                </a:lnTo>
                <a:lnTo>
                  <a:pt x="1061" y="657"/>
                </a:lnTo>
                <a:lnTo>
                  <a:pt x="1076" y="612"/>
                </a:lnTo>
                <a:lnTo>
                  <a:pt x="1096" y="562"/>
                </a:lnTo>
                <a:lnTo>
                  <a:pt x="1111" y="512"/>
                </a:lnTo>
                <a:lnTo>
                  <a:pt x="1121" y="467"/>
                </a:lnTo>
                <a:lnTo>
                  <a:pt x="1141" y="418"/>
                </a:lnTo>
                <a:lnTo>
                  <a:pt x="1151" y="368"/>
                </a:lnTo>
                <a:lnTo>
                  <a:pt x="1161" y="323"/>
                </a:lnTo>
                <a:lnTo>
                  <a:pt x="1181" y="273"/>
                </a:lnTo>
                <a:lnTo>
                  <a:pt x="1191" y="219"/>
                </a:lnTo>
                <a:lnTo>
                  <a:pt x="1201" y="169"/>
                </a:lnTo>
                <a:lnTo>
                  <a:pt x="1211" y="119"/>
                </a:lnTo>
                <a:lnTo>
                  <a:pt x="1221" y="69"/>
                </a:lnTo>
                <a:lnTo>
                  <a:pt x="1231" y="24"/>
                </a:lnTo>
                <a:lnTo>
                  <a:pt x="123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4"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5"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6"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7"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8" name=""/>
          <p:cNvSpPr/>
          <p:nvPr/>
        </p:nvSpPr>
        <p:spPr>
          <a:xfrm>
            <a:off x="4110120" y="635040"/>
            <a:ext cx="1100520" cy="1154520"/>
          </a:xfrm>
          <a:custGeom>
            <a:avLst/>
            <a:gdLst/>
            <a:ahLst/>
            <a:rect l="0" t="0" r="r" b="b"/>
            <a:pathLst>
              <a:path fill="none" w="3057" h="3207">
                <a:moveTo>
                  <a:pt x="3057" y="3207"/>
                </a:moveTo>
                <a:lnTo>
                  <a:pt x="3047" y="3158"/>
                </a:lnTo>
                <a:lnTo>
                  <a:pt x="3037" y="3108"/>
                </a:lnTo>
                <a:lnTo>
                  <a:pt x="3028" y="3058"/>
                </a:lnTo>
                <a:lnTo>
                  <a:pt x="3018" y="3008"/>
                </a:lnTo>
                <a:lnTo>
                  <a:pt x="3008" y="2953"/>
                </a:lnTo>
                <a:lnTo>
                  <a:pt x="2998" y="2903"/>
                </a:lnTo>
                <a:lnTo>
                  <a:pt x="2978" y="2853"/>
                </a:lnTo>
                <a:lnTo>
                  <a:pt x="2968" y="2804"/>
                </a:lnTo>
                <a:lnTo>
                  <a:pt x="2958" y="2759"/>
                </a:lnTo>
                <a:lnTo>
                  <a:pt x="2938" y="2709"/>
                </a:lnTo>
                <a:lnTo>
                  <a:pt x="2923" y="2659"/>
                </a:lnTo>
                <a:lnTo>
                  <a:pt x="2913" y="2614"/>
                </a:lnTo>
                <a:lnTo>
                  <a:pt x="2893" y="2564"/>
                </a:lnTo>
                <a:lnTo>
                  <a:pt x="2878" y="2514"/>
                </a:lnTo>
                <a:lnTo>
                  <a:pt x="2863" y="2469"/>
                </a:lnTo>
                <a:lnTo>
                  <a:pt x="2838" y="2415"/>
                </a:lnTo>
                <a:lnTo>
                  <a:pt x="2823" y="2374"/>
                </a:lnTo>
                <a:lnTo>
                  <a:pt x="2803" y="2319"/>
                </a:lnTo>
                <a:lnTo>
                  <a:pt x="2783" y="2274"/>
                </a:lnTo>
                <a:lnTo>
                  <a:pt x="2758" y="2229"/>
                </a:lnTo>
                <a:lnTo>
                  <a:pt x="2738" y="2179"/>
                </a:lnTo>
                <a:lnTo>
                  <a:pt x="2723" y="2134"/>
                </a:lnTo>
                <a:lnTo>
                  <a:pt x="2694" y="2090"/>
                </a:lnTo>
                <a:lnTo>
                  <a:pt x="2669" y="2045"/>
                </a:lnTo>
                <a:lnTo>
                  <a:pt x="2649" y="2000"/>
                </a:lnTo>
                <a:lnTo>
                  <a:pt x="2624" y="1955"/>
                </a:lnTo>
                <a:lnTo>
                  <a:pt x="2599" y="1910"/>
                </a:lnTo>
                <a:lnTo>
                  <a:pt x="2574" y="1865"/>
                </a:lnTo>
                <a:lnTo>
                  <a:pt x="2549" y="1820"/>
                </a:lnTo>
                <a:lnTo>
                  <a:pt x="2524" y="1775"/>
                </a:lnTo>
                <a:lnTo>
                  <a:pt x="2499" y="1731"/>
                </a:lnTo>
                <a:lnTo>
                  <a:pt x="2469" y="1691"/>
                </a:lnTo>
                <a:lnTo>
                  <a:pt x="2439" y="1646"/>
                </a:lnTo>
                <a:lnTo>
                  <a:pt x="2414" y="1606"/>
                </a:lnTo>
                <a:lnTo>
                  <a:pt x="2379" y="1566"/>
                </a:lnTo>
                <a:lnTo>
                  <a:pt x="2350" y="1526"/>
                </a:lnTo>
                <a:lnTo>
                  <a:pt x="2325" y="1481"/>
                </a:lnTo>
                <a:lnTo>
                  <a:pt x="2289" y="1441"/>
                </a:lnTo>
                <a:lnTo>
                  <a:pt x="2254" y="1402"/>
                </a:lnTo>
                <a:lnTo>
                  <a:pt x="2229" y="1362"/>
                </a:lnTo>
                <a:lnTo>
                  <a:pt x="2194" y="1322"/>
                </a:lnTo>
                <a:lnTo>
                  <a:pt x="2159" y="1282"/>
                </a:lnTo>
                <a:lnTo>
                  <a:pt x="2124" y="1247"/>
                </a:lnTo>
                <a:lnTo>
                  <a:pt x="2094" y="1207"/>
                </a:lnTo>
                <a:lnTo>
                  <a:pt x="2059" y="1167"/>
                </a:lnTo>
                <a:lnTo>
                  <a:pt x="2024" y="1132"/>
                </a:lnTo>
                <a:lnTo>
                  <a:pt x="1985" y="1092"/>
                </a:lnTo>
                <a:lnTo>
                  <a:pt x="1950" y="1057"/>
                </a:lnTo>
                <a:lnTo>
                  <a:pt x="1920" y="1023"/>
                </a:lnTo>
                <a:lnTo>
                  <a:pt x="1880" y="988"/>
                </a:lnTo>
                <a:lnTo>
                  <a:pt x="1840" y="953"/>
                </a:lnTo>
                <a:lnTo>
                  <a:pt x="1805" y="918"/>
                </a:lnTo>
                <a:lnTo>
                  <a:pt x="1765" y="888"/>
                </a:lnTo>
                <a:lnTo>
                  <a:pt x="1725" y="853"/>
                </a:lnTo>
                <a:lnTo>
                  <a:pt x="1690" y="818"/>
                </a:lnTo>
                <a:lnTo>
                  <a:pt x="1651" y="782"/>
                </a:lnTo>
                <a:lnTo>
                  <a:pt x="1611" y="752"/>
                </a:lnTo>
                <a:lnTo>
                  <a:pt x="1566" y="722"/>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8"/>
                </a:lnTo>
                <a:lnTo>
                  <a:pt x="1008" y="363"/>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599"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0"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1"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2"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3"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4"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5"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4606"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7" name=""/>
          <p:cNvSpPr/>
          <p:nvPr/>
        </p:nvSpPr>
        <p:spPr>
          <a:xfrm>
            <a:off x="4910040" y="22464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608"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09"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4610"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1"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2" name=""/>
          <p:cNvSpPr/>
          <p:nvPr/>
        </p:nvSpPr>
        <p:spPr>
          <a:xfrm>
            <a:off x="4910040" y="1760400"/>
            <a:ext cx="300240" cy="28800"/>
          </a:xfrm>
          <a:custGeom>
            <a:avLst/>
            <a:gdLst/>
            <a:ahLst/>
            <a:rect l="0" t="0" r="r" b="b"/>
            <a:pathLst>
              <a:path fill="none" w="834"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39" y="29"/>
                </a:lnTo>
                <a:lnTo>
                  <a:pt x="544" y="29"/>
                </a:lnTo>
                <a:lnTo>
                  <a:pt x="549" y="29"/>
                </a:lnTo>
                <a:lnTo>
                  <a:pt x="554" y="34"/>
                </a:lnTo>
                <a:lnTo>
                  <a:pt x="559" y="34"/>
                </a:lnTo>
                <a:lnTo>
                  <a:pt x="564" y="39"/>
                </a:lnTo>
                <a:lnTo>
                  <a:pt x="574" y="39"/>
                </a:lnTo>
                <a:lnTo>
                  <a:pt x="584" y="45"/>
                </a:lnTo>
                <a:lnTo>
                  <a:pt x="599" y="55"/>
                </a:lnTo>
                <a:lnTo>
                  <a:pt x="604" y="65"/>
                </a:lnTo>
                <a:lnTo>
                  <a:pt x="614" y="70"/>
                </a:lnTo>
                <a:lnTo>
                  <a:pt x="619" y="70"/>
                </a:lnTo>
                <a:lnTo>
                  <a:pt x="634" y="75"/>
                </a:lnTo>
                <a:lnTo>
                  <a:pt x="639" y="80"/>
                </a:lnTo>
                <a:lnTo>
                  <a:pt x="644" y="80"/>
                </a:lnTo>
                <a:lnTo>
                  <a:pt x="649" y="80"/>
                </a:lnTo>
                <a:lnTo>
                  <a:pt x="654" y="80"/>
                </a:lnTo>
                <a:lnTo>
                  <a:pt x="659" y="80"/>
                </a:lnTo>
                <a:lnTo>
                  <a:pt x="664" y="80"/>
                </a:lnTo>
                <a:lnTo>
                  <a:pt x="669" y="80"/>
                </a:lnTo>
                <a:lnTo>
                  <a:pt x="679" y="80"/>
                </a:lnTo>
                <a:lnTo>
                  <a:pt x="679" y="75"/>
                </a:lnTo>
                <a:lnTo>
                  <a:pt x="684" y="75"/>
                </a:lnTo>
                <a:lnTo>
                  <a:pt x="689" y="75"/>
                </a:lnTo>
                <a:lnTo>
                  <a:pt x="694" y="70"/>
                </a:lnTo>
                <a:lnTo>
                  <a:pt x="699" y="65"/>
                </a:lnTo>
                <a:lnTo>
                  <a:pt x="714" y="45"/>
                </a:lnTo>
                <a:lnTo>
                  <a:pt x="724" y="39"/>
                </a:lnTo>
                <a:lnTo>
                  <a:pt x="729" y="39"/>
                </a:lnTo>
                <a:lnTo>
                  <a:pt x="734" y="34"/>
                </a:lnTo>
                <a:lnTo>
                  <a:pt x="739" y="34"/>
                </a:lnTo>
                <a:lnTo>
                  <a:pt x="739" y="29"/>
                </a:lnTo>
                <a:lnTo>
                  <a:pt x="744" y="29"/>
                </a:lnTo>
                <a:lnTo>
                  <a:pt x="749" y="29"/>
                </a:lnTo>
                <a:lnTo>
                  <a:pt x="754" y="29"/>
                </a:lnTo>
                <a:lnTo>
                  <a:pt x="759" y="34"/>
                </a:lnTo>
                <a:lnTo>
                  <a:pt x="769" y="34"/>
                </a:lnTo>
                <a:lnTo>
                  <a:pt x="774" y="39"/>
                </a:lnTo>
                <a:lnTo>
                  <a:pt x="779" y="45"/>
                </a:lnTo>
                <a:lnTo>
                  <a:pt x="784" y="50"/>
                </a:lnTo>
                <a:lnTo>
                  <a:pt x="789" y="55"/>
                </a:lnTo>
                <a:lnTo>
                  <a:pt x="794" y="65"/>
                </a:lnTo>
                <a:lnTo>
                  <a:pt x="799" y="70"/>
                </a:lnTo>
                <a:lnTo>
                  <a:pt x="804" y="75"/>
                </a:lnTo>
                <a:lnTo>
                  <a:pt x="814" y="80"/>
                </a:lnTo>
                <a:lnTo>
                  <a:pt x="819" y="80"/>
                </a:lnTo>
                <a:lnTo>
                  <a:pt x="824" y="80"/>
                </a:lnTo>
                <a:lnTo>
                  <a:pt x="829" y="80"/>
                </a:lnTo>
                <a:lnTo>
                  <a:pt x="834" y="8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613"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4614"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615"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616"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7"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8"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19" name=""/>
          <p:cNvSpPr/>
          <p:nvPr/>
        </p:nvSpPr>
        <p:spPr>
          <a:xfrm>
            <a:off x="3441600" y="1644480"/>
            <a:ext cx="747720" cy="747720"/>
          </a:xfrm>
          <a:prstGeom prst="ellipse">
            <a:avLst/>
          </a:prstGeom>
          <a:noFill/>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620"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1" name=""/>
          <p:cNvSpPr/>
          <p:nvPr/>
        </p:nvSpPr>
        <p:spPr>
          <a:xfrm>
            <a:off x="4873680" y="1784520"/>
            <a:ext cx="32040" cy="466920"/>
          </a:xfrm>
          <a:custGeom>
            <a:avLst/>
            <a:gdLst/>
            <a:ahLst/>
            <a:rect l="0" t="0" r="r" b="b"/>
            <a:pathLst>
              <a:path fill="none" w="89" h="1297">
                <a:moveTo>
                  <a:pt x="89" y="0"/>
                </a:moveTo>
                <a:lnTo>
                  <a:pt x="62" y="0"/>
                </a:lnTo>
                <a:lnTo>
                  <a:pt x="35" y="17"/>
                </a:lnTo>
                <a:lnTo>
                  <a:pt x="17" y="44"/>
                </a:lnTo>
                <a:lnTo>
                  <a:pt x="0" y="70"/>
                </a:lnTo>
                <a:lnTo>
                  <a:pt x="0" y="97"/>
                </a:lnTo>
                <a:lnTo>
                  <a:pt x="0" y="141"/>
                </a:lnTo>
                <a:lnTo>
                  <a:pt x="0" y="167"/>
                </a:lnTo>
                <a:lnTo>
                  <a:pt x="0" y="194"/>
                </a:lnTo>
                <a:lnTo>
                  <a:pt x="0" y="238"/>
                </a:lnTo>
                <a:lnTo>
                  <a:pt x="0" y="282"/>
                </a:lnTo>
                <a:lnTo>
                  <a:pt x="0" y="326"/>
                </a:lnTo>
                <a:lnTo>
                  <a:pt x="8" y="352"/>
                </a:lnTo>
                <a:lnTo>
                  <a:pt x="17" y="396"/>
                </a:lnTo>
                <a:lnTo>
                  <a:pt x="26" y="423"/>
                </a:lnTo>
                <a:lnTo>
                  <a:pt x="35" y="458"/>
                </a:lnTo>
                <a:lnTo>
                  <a:pt x="35" y="485"/>
                </a:lnTo>
                <a:lnTo>
                  <a:pt x="45" y="529"/>
                </a:lnTo>
                <a:lnTo>
                  <a:pt x="53" y="555"/>
                </a:lnTo>
                <a:lnTo>
                  <a:pt x="53" y="599"/>
                </a:lnTo>
                <a:lnTo>
                  <a:pt x="45" y="626"/>
                </a:lnTo>
                <a:lnTo>
                  <a:pt x="35" y="662"/>
                </a:lnTo>
                <a:lnTo>
                  <a:pt x="35" y="688"/>
                </a:lnTo>
                <a:lnTo>
                  <a:pt x="26" y="715"/>
                </a:lnTo>
                <a:lnTo>
                  <a:pt x="26" y="741"/>
                </a:lnTo>
                <a:lnTo>
                  <a:pt x="26" y="803"/>
                </a:lnTo>
                <a:lnTo>
                  <a:pt x="17" y="847"/>
                </a:lnTo>
                <a:lnTo>
                  <a:pt x="17" y="874"/>
                </a:lnTo>
                <a:lnTo>
                  <a:pt x="17" y="900"/>
                </a:lnTo>
                <a:lnTo>
                  <a:pt x="26" y="927"/>
                </a:lnTo>
                <a:lnTo>
                  <a:pt x="35" y="988"/>
                </a:lnTo>
                <a:lnTo>
                  <a:pt x="45" y="1015"/>
                </a:lnTo>
                <a:lnTo>
                  <a:pt x="45" y="1041"/>
                </a:lnTo>
                <a:lnTo>
                  <a:pt x="45" y="1068"/>
                </a:lnTo>
                <a:lnTo>
                  <a:pt x="45" y="1103"/>
                </a:lnTo>
                <a:lnTo>
                  <a:pt x="45" y="1129"/>
                </a:lnTo>
                <a:lnTo>
                  <a:pt x="35" y="1156"/>
                </a:lnTo>
                <a:lnTo>
                  <a:pt x="35" y="1182"/>
                </a:lnTo>
                <a:lnTo>
                  <a:pt x="35" y="1226"/>
                </a:lnTo>
                <a:lnTo>
                  <a:pt x="35" y="1253"/>
                </a:lnTo>
                <a:lnTo>
                  <a:pt x="53" y="1279"/>
                </a:lnTo>
                <a:lnTo>
                  <a:pt x="80" y="1297"/>
                </a:lnTo>
                <a:lnTo>
                  <a:pt x="80" y="126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22"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4623"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4624"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4625" name=""/>
          <p:cNvSpPr txBox="1"/>
          <p:nvPr/>
        </p:nvSpPr>
        <p:spPr>
          <a:xfrm>
            <a:off x="4479840" y="3917880"/>
            <a:ext cx="4449600" cy="91584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True geometric counterpart of datum feature E</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Largest inscribed cylinder perpendicular to</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datum plane D)</a:t>
            </a:r>
            <a:endParaRPr b="0" lang="en-US" sz="1800" spc="-1" strike="noStrike">
              <a:solidFill>
                <a:srgbClr val="000000"/>
              </a:solidFill>
              <a:latin typeface="Arial"/>
            </a:endParaRPr>
          </a:p>
        </p:txBody>
      </p:sp>
      <p:sp>
        <p:nvSpPr>
          <p:cNvPr id="4626"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D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D simulated by surface plete)</a:t>
            </a:r>
            <a:endParaRPr b="0" lang="en-US" sz="1800" spc="-1" strike="noStrike">
              <a:solidFill>
                <a:srgbClr val="000000"/>
              </a:solidFill>
              <a:latin typeface="Arial"/>
            </a:endParaRPr>
          </a:p>
        </p:txBody>
      </p:sp>
      <p:sp>
        <p:nvSpPr>
          <p:cNvPr id="4627"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4628"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Regardless of Feature Size</a:t>
            </a:r>
            <a:endParaRPr b="0" lang="en-US" sz="2000" spc="-1" strike="noStrike">
              <a:solidFill>
                <a:srgbClr val="000000"/>
              </a:solidFill>
              <a:latin typeface="Arial"/>
            </a:endParaRPr>
          </a:p>
        </p:txBody>
      </p:sp>
      <p:sp>
        <p:nvSpPr>
          <p:cNvPr id="4629"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0"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1"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2"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3"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34"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35"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4636" name=""/>
          <p:cNvGrpSpPr/>
          <p:nvPr/>
        </p:nvGrpSpPr>
        <p:grpSpPr>
          <a:xfrm>
            <a:off x="2824200" y="4629240"/>
            <a:ext cx="2476440" cy="890640"/>
            <a:chOff x="2824200" y="4629240"/>
            <a:chExt cx="2476440" cy="890640"/>
          </a:xfrm>
        </p:grpSpPr>
        <p:sp>
          <p:nvSpPr>
            <p:cNvPr id="4637"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38"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4639"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640"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1"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2"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3"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4"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5"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6"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47"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4648"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4649"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4650"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651"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2"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3"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4"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5"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6"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7"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8"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59"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0"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1"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662"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663"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4"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5"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6"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7"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8"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69"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70"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1" name=""/>
          <p:cNvSpPr/>
          <p:nvPr/>
        </p:nvSpPr>
        <p:spPr>
          <a:xfrm>
            <a:off x="3443400" y="5091120"/>
            <a:ext cx="0" cy="76320"/>
          </a:xfrm>
          <a:prstGeom prst="line">
            <a:avLst/>
          </a:prstGeom>
          <a:ln w="25560">
            <a:solidFill>
              <a:srgbClr val="fd0700"/>
            </a:solidFill>
            <a:round/>
          </a:ln>
        </p:spPr>
        <p:style>
          <a:lnRef idx="0"/>
          <a:fillRef idx="0"/>
          <a:effectRef idx="0"/>
          <a:fontRef idx="minor"/>
        </p:style>
        <p:txBody>
          <a:bodyPr lIns="102600" rIns="102600" tIns="18720" bIns="18720" anchor="t">
            <a:noAutofit/>
          </a:bodyPr>
          <a:p>
            <a:endParaRPr b="0" lang="en-US" sz="1800" spc="-1" strike="noStrike">
              <a:solidFill>
                <a:srgbClr val="000000"/>
              </a:solidFill>
              <a:latin typeface="Arial"/>
            </a:endParaRPr>
          </a:p>
        </p:txBody>
      </p:sp>
      <p:sp>
        <p:nvSpPr>
          <p:cNvPr id="4672" name=""/>
          <p:cNvSpPr/>
          <p:nvPr/>
        </p:nvSpPr>
        <p:spPr>
          <a:xfrm>
            <a:off x="3443400" y="521964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4673" name=""/>
          <p:cNvSpPr/>
          <p:nvPr/>
        </p:nvSpPr>
        <p:spPr>
          <a:xfrm>
            <a:off x="3443400" y="5372280"/>
            <a:ext cx="0" cy="13788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674" name=""/>
          <p:cNvSpPr/>
          <p:nvPr/>
        </p:nvSpPr>
        <p:spPr>
          <a:xfrm>
            <a:off x="4192560" y="5092560"/>
            <a:ext cx="0" cy="81000"/>
          </a:xfrm>
          <a:prstGeom prst="line">
            <a:avLst/>
          </a:prstGeom>
          <a:ln w="25560">
            <a:solidFill>
              <a:srgbClr val="fd0700"/>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4675" name=""/>
          <p:cNvSpPr/>
          <p:nvPr/>
        </p:nvSpPr>
        <p:spPr>
          <a:xfrm>
            <a:off x="4192560" y="523080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4676" name=""/>
          <p:cNvSpPr/>
          <p:nvPr/>
        </p:nvSpPr>
        <p:spPr>
          <a:xfrm>
            <a:off x="4191120" y="540720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6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78"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9"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0"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4681"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2"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4683"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4"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85"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4686" name=""/>
          <p:cNvSpPr/>
          <p:nvPr/>
        </p:nvSpPr>
        <p:spPr>
          <a:xfrm>
            <a:off x="3603600" y="40878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7" name=""/>
          <p:cNvSpPr/>
          <p:nvPr/>
        </p:nvSpPr>
        <p:spPr>
          <a:xfrm flipV="1">
            <a:off x="344340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8" name=""/>
          <p:cNvSpPr/>
          <p:nvPr/>
        </p:nvSpPr>
        <p:spPr>
          <a:xfrm>
            <a:off x="3444840" y="4057560"/>
            <a:ext cx="159120" cy="57600"/>
          </a:xfrm>
          <a:custGeom>
            <a:avLst/>
            <a:gdLst/>
            <a:ahLst/>
            <a:rect l="0" t="0" r="r" b="b"/>
            <a:pathLst>
              <a:path w="442" h="160">
                <a:moveTo>
                  <a:pt x="442" y="0"/>
                </a:moveTo>
                <a:lnTo>
                  <a:pt x="442" y="160"/>
                </a:lnTo>
                <a:lnTo>
                  <a:pt x="0" y="85"/>
                </a:lnTo>
                <a:lnTo>
                  <a:pt x="442"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689" name=""/>
          <p:cNvSpPr/>
          <p:nvPr/>
        </p:nvSpPr>
        <p:spPr>
          <a:xfrm flipV="1">
            <a:off x="41878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0"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1"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2"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3"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4" name=""/>
          <p:cNvSpPr/>
          <p:nvPr/>
        </p:nvSpPr>
        <p:spPr>
          <a:xfrm flipV="1">
            <a:off x="4183200" y="4087800"/>
            <a:ext cx="2505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695" name=""/>
          <p:cNvSpPr/>
          <p:nvPr/>
        </p:nvSpPr>
        <p:spPr>
          <a:xfrm>
            <a:off x="4030560" y="4057560"/>
            <a:ext cx="155880" cy="57600"/>
          </a:xfrm>
          <a:custGeom>
            <a:avLst/>
            <a:gdLst/>
            <a:ahLst/>
            <a:rect l="0" t="0" r="r" b="b"/>
            <a:pathLst>
              <a:path w="433" h="160">
                <a:moveTo>
                  <a:pt x="0" y="0"/>
                </a:moveTo>
                <a:lnTo>
                  <a:pt x="0" y="160"/>
                </a:lnTo>
                <a:lnTo>
                  <a:pt x="433" y="85"/>
                </a:lnTo>
                <a:lnTo>
                  <a:pt x="0"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4696"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4697"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698"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9"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0"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701"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2"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703"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4"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5" name=""/>
          <p:cNvSpPr/>
          <p:nvPr/>
        </p:nvSpPr>
        <p:spPr>
          <a:xfrm>
            <a:off x="4767120" y="2257560"/>
            <a:ext cx="443160" cy="806760"/>
          </a:xfrm>
          <a:custGeom>
            <a:avLst/>
            <a:gdLst/>
            <a:ahLst/>
            <a:rect l="0" t="0" r="r" b="b"/>
            <a:pathLst>
              <a:path fill="none" w="1231" h="2241">
                <a:moveTo>
                  <a:pt x="0" y="2241"/>
                </a:moveTo>
                <a:lnTo>
                  <a:pt x="40" y="2206"/>
                </a:lnTo>
                <a:lnTo>
                  <a:pt x="75" y="2176"/>
                </a:lnTo>
                <a:lnTo>
                  <a:pt x="110" y="2141"/>
                </a:lnTo>
                <a:lnTo>
                  <a:pt x="145" y="2101"/>
                </a:lnTo>
                <a:lnTo>
                  <a:pt x="180" y="2066"/>
                </a:lnTo>
                <a:lnTo>
                  <a:pt x="220" y="2027"/>
                </a:lnTo>
                <a:lnTo>
                  <a:pt x="250" y="1997"/>
                </a:lnTo>
                <a:lnTo>
                  <a:pt x="285" y="1957"/>
                </a:lnTo>
                <a:lnTo>
                  <a:pt x="320" y="1917"/>
                </a:lnTo>
                <a:lnTo>
                  <a:pt x="355" y="1877"/>
                </a:lnTo>
                <a:lnTo>
                  <a:pt x="385" y="1842"/>
                </a:lnTo>
                <a:lnTo>
                  <a:pt x="415" y="1803"/>
                </a:lnTo>
                <a:lnTo>
                  <a:pt x="450" y="1758"/>
                </a:lnTo>
                <a:lnTo>
                  <a:pt x="485" y="1723"/>
                </a:lnTo>
                <a:lnTo>
                  <a:pt x="510" y="1683"/>
                </a:lnTo>
                <a:lnTo>
                  <a:pt x="540" y="1643"/>
                </a:lnTo>
                <a:lnTo>
                  <a:pt x="570" y="1598"/>
                </a:lnTo>
                <a:lnTo>
                  <a:pt x="600" y="1559"/>
                </a:lnTo>
                <a:lnTo>
                  <a:pt x="631" y="1514"/>
                </a:lnTo>
                <a:lnTo>
                  <a:pt x="656" y="1474"/>
                </a:lnTo>
                <a:lnTo>
                  <a:pt x="686" y="1429"/>
                </a:lnTo>
                <a:lnTo>
                  <a:pt x="716" y="1389"/>
                </a:lnTo>
                <a:lnTo>
                  <a:pt x="736" y="1345"/>
                </a:lnTo>
                <a:lnTo>
                  <a:pt x="766" y="1300"/>
                </a:lnTo>
                <a:lnTo>
                  <a:pt x="786" y="1255"/>
                </a:lnTo>
                <a:lnTo>
                  <a:pt x="816" y="1210"/>
                </a:lnTo>
                <a:lnTo>
                  <a:pt x="836" y="1165"/>
                </a:lnTo>
                <a:lnTo>
                  <a:pt x="861" y="1121"/>
                </a:lnTo>
                <a:lnTo>
                  <a:pt x="881" y="1075"/>
                </a:lnTo>
                <a:lnTo>
                  <a:pt x="906" y="1030"/>
                </a:lnTo>
                <a:lnTo>
                  <a:pt x="926" y="985"/>
                </a:lnTo>
                <a:lnTo>
                  <a:pt x="951" y="940"/>
                </a:lnTo>
                <a:lnTo>
                  <a:pt x="966" y="891"/>
                </a:lnTo>
                <a:lnTo>
                  <a:pt x="991" y="846"/>
                </a:lnTo>
                <a:lnTo>
                  <a:pt x="1006" y="801"/>
                </a:lnTo>
                <a:lnTo>
                  <a:pt x="1026" y="751"/>
                </a:lnTo>
                <a:lnTo>
                  <a:pt x="1046" y="706"/>
                </a:lnTo>
                <a:lnTo>
                  <a:pt x="1061" y="657"/>
                </a:lnTo>
                <a:lnTo>
                  <a:pt x="1076" y="612"/>
                </a:lnTo>
                <a:lnTo>
                  <a:pt x="1096" y="562"/>
                </a:lnTo>
                <a:lnTo>
                  <a:pt x="1111" y="512"/>
                </a:lnTo>
                <a:lnTo>
                  <a:pt x="1121" y="467"/>
                </a:lnTo>
                <a:lnTo>
                  <a:pt x="1141" y="418"/>
                </a:lnTo>
                <a:lnTo>
                  <a:pt x="1151" y="368"/>
                </a:lnTo>
                <a:lnTo>
                  <a:pt x="1161" y="323"/>
                </a:lnTo>
                <a:lnTo>
                  <a:pt x="1181" y="273"/>
                </a:lnTo>
                <a:lnTo>
                  <a:pt x="1191" y="219"/>
                </a:lnTo>
                <a:lnTo>
                  <a:pt x="1201" y="169"/>
                </a:lnTo>
                <a:lnTo>
                  <a:pt x="1211" y="119"/>
                </a:lnTo>
                <a:lnTo>
                  <a:pt x="1221" y="69"/>
                </a:lnTo>
                <a:lnTo>
                  <a:pt x="1231" y="24"/>
                </a:lnTo>
                <a:lnTo>
                  <a:pt x="1231"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6"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7"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08"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9" name=""/>
          <p:cNvSpPr/>
          <p:nvPr/>
        </p:nvSpPr>
        <p:spPr>
          <a:xfrm flipV="1">
            <a:off x="6032520" y="90324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0"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1" name=""/>
          <p:cNvSpPr/>
          <p:nvPr/>
        </p:nvSpPr>
        <p:spPr>
          <a:xfrm>
            <a:off x="4110120" y="635040"/>
            <a:ext cx="1100520" cy="1154520"/>
          </a:xfrm>
          <a:custGeom>
            <a:avLst/>
            <a:gdLst/>
            <a:ahLst/>
            <a:rect l="0" t="0" r="r" b="b"/>
            <a:pathLst>
              <a:path fill="none" w="3057" h="3207">
                <a:moveTo>
                  <a:pt x="3057" y="3207"/>
                </a:moveTo>
                <a:lnTo>
                  <a:pt x="3047" y="3158"/>
                </a:lnTo>
                <a:lnTo>
                  <a:pt x="3037" y="3108"/>
                </a:lnTo>
                <a:lnTo>
                  <a:pt x="3028" y="3058"/>
                </a:lnTo>
                <a:lnTo>
                  <a:pt x="3018" y="3008"/>
                </a:lnTo>
                <a:lnTo>
                  <a:pt x="3008" y="2953"/>
                </a:lnTo>
                <a:lnTo>
                  <a:pt x="2998" y="2903"/>
                </a:lnTo>
                <a:lnTo>
                  <a:pt x="2978" y="2853"/>
                </a:lnTo>
                <a:lnTo>
                  <a:pt x="2968" y="2804"/>
                </a:lnTo>
                <a:lnTo>
                  <a:pt x="2958" y="2759"/>
                </a:lnTo>
                <a:lnTo>
                  <a:pt x="2938" y="2709"/>
                </a:lnTo>
                <a:lnTo>
                  <a:pt x="2923" y="2659"/>
                </a:lnTo>
                <a:lnTo>
                  <a:pt x="2913" y="2614"/>
                </a:lnTo>
                <a:lnTo>
                  <a:pt x="2893" y="2564"/>
                </a:lnTo>
                <a:lnTo>
                  <a:pt x="2878" y="2514"/>
                </a:lnTo>
                <a:lnTo>
                  <a:pt x="2863" y="2469"/>
                </a:lnTo>
                <a:lnTo>
                  <a:pt x="2838" y="2415"/>
                </a:lnTo>
                <a:lnTo>
                  <a:pt x="2823" y="2374"/>
                </a:lnTo>
                <a:lnTo>
                  <a:pt x="2803" y="2319"/>
                </a:lnTo>
                <a:lnTo>
                  <a:pt x="2783" y="2274"/>
                </a:lnTo>
                <a:lnTo>
                  <a:pt x="2758" y="2229"/>
                </a:lnTo>
                <a:lnTo>
                  <a:pt x="2738" y="2179"/>
                </a:lnTo>
                <a:lnTo>
                  <a:pt x="2723" y="2134"/>
                </a:lnTo>
                <a:lnTo>
                  <a:pt x="2694" y="2090"/>
                </a:lnTo>
                <a:lnTo>
                  <a:pt x="2669" y="2045"/>
                </a:lnTo>
                <a:lnTo>
                  <a:pt x="2649" y="2000"/>
                </a:lnTo>
                <a:lnTo>
                  <a:pt x="2624" y="1955"/>
                </a:lnTo>
                <a:lnTo>
                  <a:pt x="2599" y="1910"/>
                </a:lnTo>
                <a:lnTo>
                  <a:pt x="2574" y="1865"/>
                </a:lnTo>
                <a:lnTo>
                  <a:pt x="2549" y="1820"/>
                </a:lnTo>
                <a:lnTo>
                  <a:pt x="2524" y="1775"/>
                </a:lnTo>
                <a:lnTo>
                  <a:pt x="2499" y="1731"/>
                </a:lnTo>
                <a:lnTo>
                  <a:pt x="2469" y="1691"/>
                </a:lnTo>
                <a:lnTo>
                  <a:pt x="2439" y="1646"/>
                </a:lnTo>
                <a:lnTo>
                  <a:pt x="2414" y="1606"/>
                </a:lnTo>
                <a:lnTo>
                  <a:pt x="2379" y="1566"/>
                </a:lnTo>
                <a:lnTo>
                  <a:pt x="2350" y="1526"/>
                </a:lnTo>
                <a:lnTo>
                  <a:pt x="2325" y="1481"/>
                </a:lnTo>
                <a:lnTo>
                  <a:pt x="2289" y="1441"/>
                </a:lnTo>
                <a:lnTo>
                  <a:pt x="2254" y="1402"/>
                </a:lnTo>
                <a:lnTo>
                  <a:pt x="2229" y="1362"/>
                </a:lnTo>
                <a:lnTo>
                  <a:pt x="2194" y="1322"/>
                </a:lnTo>
                <a:lnTo>
                  <a:pt x="2159" y="1282"/>
                </a:lnTo>
                <a:lnTo>
                  <a:pt x="2124" y="1247"/>
                </a:lnTo>
                <a:lnTo>
                  <a:pt x="2094" y="1207"/>
                </a:lnTo>
                <a:lnTo>
                  <a:pt x="2059" y="1167"/>
                </a:lnTo>
                <a:lnTo>
                  <a:pt x="2024" y="1132"/>
                </a:lnTo>
                <a:lnTo>
                  <a:pt x="1985" y="1092"/>
                </a:lnTo>
                <a:lnTo>
                  <a:pt x="1950" y="1057"/>
                </a:lnTo>
                <a:lnTo>
                  <a:pt x="1920" y="1023"/>
                </a:lnTo>
                <a:lnTo>
                  <a:pt x="1880" y="988"/>
                </a:lnTo>
                <a:lnTo>
                  <a:pt x="1840" y="953"/>
                </a:lnTo>
                <a:lnTo>
                  <a:pt x="1805" y="918"/>
                </a:lnTo>
                <a:lnTo>
                  <a:pt x="1765" y="888"/>
                </a:lnTo>
                <a:lnTo>
                  <a:pt x="1725" y="853"/>
                </a:lnTo>
                <a:lnTo>
                  <a:pt x="1690" y="818"/>
                </a:lnTo>
                <a:lnTo>
                  <a:pt x="1651" y="782"/>
                </a:lnTo>
                <a:lnTo>
                  <a:pt x="1611" y="752"/>
                </a:lnTo>
                <a:lnTo>
                  <a:pt x="1566" y="722"/>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8"/>
                </a:lnTo>
                <a:lnTo>
                  <a:pt x="1008" y="363"/>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12"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3"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4"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5"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6" name=""/>
          <p:cNvSpPr/>
          <p:nvPr/>
        </p:nvSpPr>
        <p:spPr>
          <a:xfrm>
            <a:off x="5715000" y="2017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7"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8"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19"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4720"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1" name=""/>
          <p:cNvSpPr/>
          <p:nvPr/>
        </p:nvSpPr>
        <p:spPr>
          <a:xfrm>
            <a:off x="4910040" y="22464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722"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23"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4724"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5"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6" name=""/>
          <p:cNvSpPr/>
          <p:nvPr/>
        </p:nvSpPr>
        <p:spPr>
          <a:xfrm>
            <a:off x="4910040" y="1760400"/>
            <a:ext cx="300240" cy="28800"/>
          </a:xfrm>
          <a:custGeom>
            <a:avLst/>
            <a:gdLst/>
            <a:ahLst/>
            <a:rect l="0" t="0" r="r" b="b"/>
            <a:pathLst>
              <a:path fill="none" w="834"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39" y="29"/>
                </a:lnTo>
                <a:lnTo>
                  <a:pt x="544" y="29"/>
                </a:lnTo>
                <a:lnTo>
                  <a:pt x="549" y="29"/>
                </a:lnTo>
                <a:lnTo>
                  <a:pt x="554" y="34"/>
                </a:lnTo>
                <a:lnTo>
                  <a:pt x="559" y="34"/>
                </a:lnTo>
                <a:lnTo>
                  <a:pt x="564" y="39"/>
                </a:lnTo>
                <a:lnTo>
                  <a:pt x="574" y="39"/>
                </a:lnTo>
                <a:lnTo>
                  <a:pt x="584" y="45"/>
                </a:lnTo>
                <a:lnTo>
                  <a:pt x="599" y="55"/>
                </a:lnTo>
                <a:lnTo>
                  <a:pt x="604" y="65"/>
                </a:lnTo>
                <a:lnTo>
                  <a:pt x="614" y="70"/>
                </a:lnTo>
                <a:lnTo>
                  <a:pt x="619" y="70"/>
                </a:lnTo>
                <a:lnTo>
                  <a:pt x="634" y="75"/>
                </a:lnTo>
                <a:lnTo>
                  <a:pt x="639" y="80"/>
                </a:lnTo>
                <a:lnTo>
                  <a:pt x="644" y="80"/>
                </a:lnTo>
                <a:lnTo>
                  <a:pt x="649" y="80"/>
                </a:lnTo>
                <a:lnTo>
                  <a:pt x="654" y="80"/>
                </a:lnTo>
                <a:lnTo>
                  <a:pt x="659" y="80"/>
                </a:lnTo>
                <a:lnTo>
                  <a:pt x="664" y="80"/>
                </a:lnTo>
                <a:lnTo>
                  <a:pt x="669" y="80"/>
                </a:lnTo>
                <a:lnTo>
                  <a:pt x="679" y="80"/>
                </a:lnTo>
                <a:lnTo>
                  <a:pt x="679" y="75"/>
                </a:lnTo>
                <a:lnTo>
                  <a:pt x="684" y="75"/>
                </a:lnTo>
                <a:lnTo>
                  <a:pt x="689" y="75"/>
                </a:lnTo>
                <a:lnTo>
                  <a:pt x="694" y="70"/>
                </a:lnTo>
                <a:lnTo>
                  <a:pt x="699" y="65"/>
                </a:lnTo>
                <a:lnTo>
                  <a:pt x="714" y="45"/>
                </a:lnTo>
                <a:lnTo>
                  <a:pt x="724" y="39"/>
                </a:lnTo>
                <a:lnTo>
                  <a:pt x="729" y="39"/>
                </a:lnTo>
                <a:lnTo>
                  <a:pt x="734" y="34"/>
                </a:lnTo>
                <a:lnTo>
                  <a:pt x="739" y="34"/>
                </a:lnTo>
                <a:lnTo>
                  <a:pt x="739" y="29"/>
                </a:lnTo>
                <a:lnTo>
                  <a:pt x="744" y="29"/>
                </a:lnTo>
                <a:lnTo>
                  <a:pt x="749" y="29"/>
                </a:lnTo>
                <a:lnTo>
                  <a:pt x="754" y="29"/>
                </a:lnTo>
                <a:lnTo>
                  <a:pt x="759" y="34"/>
                </a:lnTo>
                <a:lnTo>
                  <a:pt x="769" y="34"/>
                </a:lnTo>
                <a:lnTo>
                  <a:pt x="774" y="39"/>
                </a:lnTo>
                <a:lnTo>
                  <a:pt x="779" y="45"/>
                </a:lnTo>
                <a:lnTo>
                  <a:pt x="784" y="50"/>
                </a:lnTo>
                <a:lnTo>
                  <a:pt x="789" y="55"/>
                </a:lnTo>
                <a:lnTo>
                  <a:pt x="794" y="65"/>
                </a:lnTo>
                <a:lnTo>
                  <a:pt x="799" y="70"/>
                </a:lnTo>
                <a:lnTo>
                  <a:pt x="804" y="75"/>
                </a:lnTo>
                <a:lnTo>
                  <a:pt x="814" y="80"/>
                </a:lnTo>
                <a:lnTo>
                  <a:pt x="819" y="80"/>
                </a:lnTo>
                <a:lnTo>
                  <a:pt x="824" y="80"/>
                </a:lnTo>
                <a:lnTo>
                  <a:pt x="829" y="80"/>
                </a:lnTo>
                <a:lnTo>
                  <a:pt x="834" y="8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727"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4728"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4729"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30" name=""/>
          <p:cNvSpPr/>
          <p:nvPr/>
        </p:nvSpPr>
        <p:spPr>
          <a:xfrm>
            <a:off x="6004080" y="2247840"/>
            <a:ext cx="57600" cy="173520"/>
          </a:xfrm>
          <a:custGeom>
            <a:avLst/>
            <a:gdLst/>
            <a:ahLst/>
            <a:rect l="0" t="0" r="r" b="b"/>
            <a:pathLst>
              <a:path w="160" h="482">
                <a:moveTo>
                  <a:pt x="0" y="482"/>
                </a:moveTo>
                <a:lnTo>
                  <a:pt x="160" y="482"/>
                </a:lnTo>
                <a:lnTo>
                  <a:pt x="80" y="0"/>
                </a:lnTo>
                <a:lnTo>
                  <a:pt x="0"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31" name=""/>
          <p:cNvSpPr/>
          <p:nvPr/>
        </p:nvSpPr>
        <p:spPr>
          <a:xfrm>
            <a:off x="5689440" y="223524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2" name=""/>
          <p:cNvSpPr/>
          <p:nvPr/>
        </p:nvSpPr>
        <p:spPr>
          <a:xfrm>
            <a:off x="6032520" y="24210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3" name=""/>
          <p:cNvSpPr/>
          <p:nvPr/>
        </p:nvSpPr>
        <p:spPr>
          <a:xfrm>
            <a:off x="6004080" y="1614600"/>
            <a:ext cx="57600" cy="174960"/>
          </a:xfrm>
          <a:custGeom>
            <a:avLst/>
            <a:gdLst/>
            <a:ahLst/>
            <a:rect l="0" t="0" r="r" b="b"/>
            <a:pathLst>
              <a:path w="160" h="486">
                <a:moveTo>
                  <a:pt x="0" y="0"/>
                </a:moveTo>
                <a:lnTo>
                  <a:pt x="160" y="0"/>
                </a:lnTo>
                <a:lnTo>
                  <a:pt x="80" y="486"/>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734" name=""/>
          <p:cNvGrpSpPr/>
          <p:nvPr/>
        </p:nvGrpSpPr>
        <p:grpSpPr>
          <a:xfrm>
            <a:off x="4908600" y="1797120"/>
            <a:ext cx="690480" cy="441360"/>
            <a:chOff x="4908600" y="1797120"/>
            <a:chExt cx="690480" cy="441360"/>
          </a:xfrm>
        </p:grpSpPr>
        <p:sp>
          <p:nvSpPr>
            <p:cNvPr id="4735" name=""/>
            <p:cNvSpPr/>
            <p:nvPr/>
          </p:nvSpPr>
          <p:spPr>
            <a:xfrm flipH="1">
              <a:off x="5484960" y="1797120"/>
              <a:ext cx="1141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36" name=""/>
            <p:cNvSpPr/>
            <p:nvPr/>
          </p:nvSpPr>
          <p:spPr>
            <a:xfrm>
              <a:off x="5226120" y="1797120"/>
              <a:ext cx="201600" cy="0"/>
            </a:xfrm>
            <a:custGeom>
              <a:avLst/>
              <a:gdLst/>
              <a:ahLst/>
              <a:rect l="0" t="0" r="r" b="b"/>
              <a:pathLst>
                <a:path fill="none" w="560" h="0">
                  <a:moveTo>
                    <a:pt x="560" y="0"/>
                  </a:moveTo>
                  <a:lnTo>
                    <a:pt x="241" y="0"/>
                  </a:lnTo>
                  <a:lnTo>
                    <a:pt x="0" y="0"/>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37" name=""/>
            <p:cNvSpPr/>
            <p:nvPr/>
          </p:nvSpPr>
          <p:spPr>
            <a:xfrm flipH="1">
              <a:off x="5051520" y="1797120"/>
              <a:ext cx="1173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38" name=""/>
            <p:cNvSpPr/>
            <p:nvPr/>
          </p:nvSpPr>
          <p:spPr>
            <a:xfrm flipH="1">
              <a:off x="4908600" y="1797120"/>
              <a:ext cx="8568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39" name=""/>
            <p:cNvSpPr/>
            <p:nvPr/>
          </p:nvSpPr>
          <p:spPr>
            <a:xfrm flipH="1">
              <a:off x="5484960" y="2238480"/>
              <a:ext cx="1141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0" name=""/>
            <p:cNvSpPr/>
            <p:nvPr/>
          </p:nvSpPr>
          <p:spPr>
            <a:xfrm>
              <a:off x="5226120" y="2238480"/>
              <a:ext cx="201600" cy="0"/>
            </a:xfrm>
            <a:custGeom>
              <a:avLst/>
              <a:gdLst/>
              <a:ahLst/>
              <a:rect l="0" t="0" r="r" b="b"/>
              <a:pathLst>
                <a:path fill="none" w="560" h="0">
                  <a:moveTo>
                    <a:pt x="560" y="0"/>
                  </a:moveTo>
                  <a:lnTo>
                    <a:pt x="241" y="0"/>
                  </a:lnTo>
                  <a:lnTo>
                    <a:pt x="0" y="0"/>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4741" name=""/>
            <p:cNvSpPr/>
            <p:nvPr/>
          </p:nvSpPr>
          <p:spPr>
            <a:xfrm flipH="1">
              <a:off x="5051520" y="2238480"/>
              <a:ext cx="1173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2" name=""/>
            <p:cNvSpPr/>
            <p:nvPr/>
          </p:nvSpPr>
          <p:spPr>
            <a:xfrm flipH="1">
              <a:off x="4908600" y="2238480"/>
              <a:ext cx="8568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43" name=""/>
            <p:cNvSpPr/>
            <p:nvPr/>
          </p:nvSpPr>
          <p:spPr>
            <a:xfrm>
              <a:off x="5599080" y="1797120"/>
              <a:ext cx="0" cy="102960"/>
            </a:xfrm>
            <a:prstGeom prst="line">
              <a:avLst/>
            </a:prstGeom>
            <a:ln w="25560">
              <a:solidFill>
                <a:srgbClr val="fd0700"/>
              </a:solidFill>
              <a:round/>
            </a:ln>
          </p:spPr>
          <p:style>
            <a:lnRef idx="0"/>
            <a:fillRef idx="0"/>
            <a:effectRef idx="0"/>
            <a:fontRef idx="minor"/>
          </p:style>
          <p:txBody>
            <a:bodyPr lIns="102600" rIns="102600" tIns="45360" bIns="45360" anchor="t">
              <a:noAutofit/>
            </a:bodyPr>
            <a:p>
              <a:endParaRPr b="0" lang="en-US" sz="1800" spc="-1" strike="noStrike">
                <a:solidFill>
                  <a:srgbClr val="000000"/>
                </a:solidFill>
                <a:latin typeface="Arial"/>
              </a:endParaRPr>
            </a:p>
          </p:txBody>
        </p:sp>
        <p:sp>
          <p:nvSpPr>
            <p:cNvPr id="4744" name=""/>
            <p:cNvSpPr/>
            <p:nvPr/>
          </p:nvSpPr>
          <p:spPr>
            <a:xfrm>
              <a:off x="5599080" y="1960560"/>
              <a:ext cx="0" cy="114480"/>
            </a:xfrm>
            <a:prstGeom prst="line">
              <a:avLst/>
            </a:prstGeom>
            <a:ln w="25560">
              <a:solidFill>
                <a:srgbClr val="fd07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4745" name=""/>
            <p:cNvSpPr/>
            <p:nvPr/>
          </p:nvSpPr>
          <p:spPr>
            <a:xfrm>
              <a:off x="5599080" y="213372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grpSp>
      <p:sp>
        <p:nvSpPr>
          <p:cNvPr id="4746" name=""/>
          <p:cNvSpPr/>
          <p:nvPr/>
        </p:nvSpPr>
        <p:spPr>
          <a:xfrm>
            <a:off x="5689440" y="179856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7"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8"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49" name=""/>
          <p:cNvSpPr/>
          <p:nvPr/>
        </p:nvSpPr>
        <p:spPr>
          <a:xfrm>
            <a:off x="6032520" y="9032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0"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1" name=""/>
          <p:cNvSpPr/>
          <p:nvPr/>
        </p:nvSpPr>
        <p:spPr>
          <a:xfrm>
            <a:off x="3441600" y="1644480"/>
            <a:ext cx="747720" cy="747720"/>
          </a:xfrm>
          <a:prstGeom prst="ellipse">
            <a:avLst/>
          </a:prstGeom>
          <a:noFill/>
          <a:ln w="12600">
            <a:solidFill>
              <a:srgbClr val="fd0700"/>
            </a:solidFill>
            <a:round/>
          </a:ln>
        </p:spPr>
        <p:txBody>
          <a:bodyPr lIns="96120" rIns="96120" tIns="51120" bIns="51120" anchor="t">
            <a:noAutofit/>
          </a:bodyPr>
          <a:p>
            <a:endParaRPr b="0" lang="en-US" sz="1800" spc="-1" strike="noStrike">
              <a:solidFill>
                <a:srgbClr val="000000"/>
              </a:solidFill>
              <a:latin typeface="Arial"/>
            </a:endParaRPr>
          </a:p>
        </p:txBody>
      </p:sp>
      <p:sp>
        <p:nvSpPr>
          <p:cNvPr id="4752"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3" name=""/>
          <p:cNvSpPr/>
          <p:nvPr/>
        </p:nvSpPr>
        <p:spPr>
          <a:xfrm>
            <a:off x="4911840" y="1793880"/>
            <a:ext cx="0" cy="101520"/>
          </a:xfrm>
          <a:prstGeom prst="line">
            <a:avLst/>
          </a:prstGeom>
          <a:ln w="25560">
            <a:solidFill>
              <a:srgbClr val="fd0700"/>
            </a:solidFill>
            <a:round/>
          </a:ln>
        </p:spPr>
        <p:style>
          <a:lnRef idx="0"/>
          <a:fillRef idx="0"/>
          <a:effectRef idx="0"/>
          <a:fontRef idx="minor"/>
        </p:style>
        <p:txBody>
          <a:bodyPr lIns="102600" rIns="102600" tIns="43920" bIns="43920" anchor="t">
            <a:noAutofit/>
          </a:bodyPr>
          <a:p>
            <a:endParaRPr b="0" lang="en-US" sz="1800" spc="-1" strike="noStrike">
              <a:solidFill>
                <a:srgbClr val="000000"/>
              </a:solidFill>
              <a:latin typeface="Arial"/>
            </a:endParaRPr>
          </a:p>
        </p:txBody>
      </p:sp>
      <p:sp>
        <p:nvSpPr>
          <p:cNvPr id="4754" name=""/>
          <p:cNvSpPr/>
          <p:nvPr/>
        </p:nvSpPr>
        <p:spPr>
          <a:xfrm>
            <a:off x="4911840" y="1959120"/>
            <a:ext cx="0" cy="12384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4755" name=""/>
          <p:cNvSpPr/>
          <p:nvPr/>
        </p:nvSpPr>
        <p:spPr>
          <a:xfrm>
            <a:off x="4911840" y="2136600"/>
            <a:ext cx="0" cy="98640"/>
          </a:xfrm>
          <a:prstGeom prst="line">
            <a:avLst/>
          </a:prstGeom>
          <a:ln w="25560">
            <a:solidFill>
              <a:srgbClr val="fd0700"/>
            </a:solidFill>
            <a:round/>
          </a:ln>
        </p:spPr>
        <p:style>
          <a:lnRef idx="0"/>
          <a:fillRef idx="0"/>
          <a:effectRef idx="0"/>
          <a:fontRef idx="minor"/>
        </p:style>
        <p:txBody>
          <a:bodyPr lIns="102600" rIns="102600" tIns="41040" bIns="41040" anchor="t">
            <a:noAutofit/>
          </a:bodyPr>
          <a:p>
            <a:endParaRPr b="0" lang="en-US" sz="1800" spc="-1" strike="noStrike">
              <a:solidFill>
                <a:srgbClr val="000000"/>
              </a:solidFill>
              <a:latin typeface="Arial"/>
            </a:endParaRPr>
          </a:p>
        </p:txBody>
      </p:sp>
      <p:sp>
        <p:nvSpPr>
          <p:cNvPr id="4756" name=""/>
          <p:cNvSpPr/>
          <p:nvPr/>
        </p:nvSpPr>
        <p:spPr>
          <a:xfrm>
            <a:off x="4873680" y="1784520"/>
            <a:ext cx="32040" cy="466920"/>
          </a:xfrm>
          <a:custGeom>
            <a:avLst/>
            <a:gdLst/>
            <a:ahLst/>
            <a:rect l="0" t="0" r="r" b="b"/>
            <a:pathLst>
              <a:path fill="none" w="89" h="1297">
                <a:moveTo>
                  <a:pt x="89" y="0"/>
                </a:moveTo>
                <a:lnTo>
                  <a:pt x="62" y="0"/>
                </a:lnTo>
                <a:lnTo>
                  <a:pt x="35" y="17"/>
                </a:lnTo>
                <a:lnTo>
                  <a:pt x="17" y="44"/>
                </a:lnTo>
                <a:lnTo>
                  <a:pt x="0" y="70"/>
                </a:lnTo>
                <a:lnTo>
                  <a:pt x="0" y="97"/>
                </a:lnTo>
                <a:lnTo>
                  <a:pt x="0" y="141"/>
                </a:lnTo>
                <a:lnTo>
                  <a:pt x="0" y="167"/>
                </a:lnTo>
                <a:lnTo>
                  <a:pt x="0" y="194"/>
                </a:lnTo>
                <a:lnTo>
                  <a:pt x="0" y="238"/>
                </a:lnTo>
                <a:lnTo>
                  <a:pt x="0" y="282"/>
                </a:lnTo>
                <a:lnTo>
                  <a:pt x="0" y="326"/>
                </a:lnTo>
                <a:lnTo>
                  <a:pt x="8" y="352"/>
                </a:lnTo>
                <a:lnTo>
                  <a:pt x="17" y="396"/>
                </a:lnTo>
                <a:lnTo>
                  <a:pt x="26" y="423"/>
                </a:lnTo>
                <a:lnTo>
                  <a:pt x="35" y="458"/>
                </a:lnTo>
                <a:lnTo>
                  <a:pt x="35" y="485"/>
                </a:lnTo>
                <a:lnTo>
                  <a:pt x="45" y="529"/>
                </a:lnTo>
                <a:lnTo>
                  <a:pt x="53" y="555"/>
                </a:lnTo>
                <a:lnTo>
                  <a:pt x="53" y="599"/>
                </a:lnTo>
                <a:lnTo>
                  <a:pt x="45" y="626"/>
                </a:lnTo>
                <a:lnTo>
                  <a:pt x="35" y="662"/>
                </a:lnTo>
                <a:lnTo>
                  <a:pt x="35" y="688"/>
                </a:lnTo>
                <a:lnTo>
                  <a:pt x="26" y="715"/>
                </a:lnTo>
                <a:lnTo>
                  <a:pt x="26" y="741"/>
                </a:lnTo>
                <a:lnTo>
                  <a:pt x="26" y="803"/>
                </a:lnTo>
                <a:lnTo>
                  <a:pt x="17" y="847"/>
                </a:lnTo>
                <a:lnTo>
                  <a:pt x="17" y="874"/>
                </a:lnTo>
                <a:lnTo>
                  <a:pt x="17" y="900"/>
                </a:lnTo>
                <a:lnTo>
                  <a:pt x="26" y="927"/>
                </a:lnTo>
                <a:lnTo>
                  <a:pt x="35" y="988"/>
                </a:lnTo>
                <a:lnTo>
                  <a:pt x="45" y="1015"/>
                </a:lnTo>
                <a:lnTo>
                  <a:pt x="45" y="1041"/>
                </a:lnTo>
                <a:lnTo>
                  <a:pt x="45" y="1068"/>
                </a:lnTo>
                <a:lnTo>
                  <a:pt x="45" y="1103"/>
                </a:lnTo>
                <a:lnTo>
                  <a:pt x="45" y="1129"/>
                </a:lnTo>
                <a:lnTo>
                  <a:pt x="35" y="1156"/>
                </a:lnTo>
                <a:lnTo>
                  <a:pt x="35" y="1182"/>
                </a:lnTo>
                <a:lnTo>
                  <a:pt x="35" y="1226"/>
                </a:lnTo>
                <a:lnTo>
                  <a:pt x="35" y="1253"/>
                </a:lnTo>
                <a:lnTo>
                  <a:pt x="53" y="1279"/>
                </a:lnTo>
                <a:lnTo>
                  <a:pt x="80" y="1297"/>
                </a:lnTo>
                <a:lnTo>
                  <a:pt x="80" y="126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57" name=""/>
          <p:cNvSpPr txBox="1"/>
          <p:nvPr/>
        </p:nvSpPr>
        <p:spPr>
          <a:xfrm>
            <a:off x="6248520" y="743040"/>
            <a:ext cx="2717640" cy="173988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True geometric counterpart</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of datum feature F(Parallel</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plates at maximum separa-</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tion perpendicular to datum</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plane D.  Center plane </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aligned with datum axis E)</a:t>
            </a:r>
            <a:endParaRPr b="0" lang="en-US" sz="1800" spc="-1" strike="noStrike">
              <a:solidFill>
                <a:srgbClr val="000000"/>
              </a:solidFill>
              <a:latin typeface="Arial"/>
            </a:endParaRPr>
          </a:p>
        </p:txBody>
      </p:sp>
      <p:sp>
        <p:nvSpPr>
          <p:cNvPr id="4758"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4759"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4760"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4761" name=""/>
          <p:cNvSpPr txBox="1"/>
          <p:nvPr/>
        </p:nvSpPr>
        <p:spPr>
          <a:xfrm>
            <a:off x="4479840" y="3917880"/>
            <a:ext cx="444960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 of datum feature 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argest inscribed cylinder perpendicular to</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datum plane D)</a:t>
            </a:r>
            <a:endParaRPr b="0" lang="en-US" sz="1800" spc="-1" strike="noStrike">
              <a:solidFill>
                <a:srgbClr val="000000"/>
              </a:solidFill>
              <a:latin typeface="Arial"/>
            </a:endParaRPr>
          </a:p>
        </p:txBody>
      </p:sp>
      <p:sp>
        <p:nvSpPr>
          <p:cNvPr id="4762"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D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D simulated by surface plate)</a:t>
            </a:r>
            <a:endParaRPr b="0" lang="en-US" sz="1800" spc="-1" strike="noStrike">
              <a:solidFill>
                <a:srgbClr val="000000"/>
              </a:solidFill>
              <a:latin typeface="Arial"/>
            </a:endParaRPr>
          </a:p>
        </p:txBody>
      </p:sp>
      <p:sp>
        <p:nvSpPr>
          <p:cNvPr id="4763"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4764"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Regardless of Feature Size</a:t>
            </a:r>
            <a:endParaRPr b="0" lang="en-US" sz="2000" spc="-1" strike="noStrike">
              <a:solidFill>
                <a:srgbClr val="000000"/>
              </a:solidFill>
              <a:latin typeface="Arial"/>
            </a:endParaRPr>
          </a:p>
        </p:txBody>
      </p:sp>
      <p:sp>
        <p:nvSpPr>
          <p:cNvPr id="4765"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6"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7"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8"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9"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70"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771"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4772" name=""/>
          <p:cNvGrpSpPr/>
          <p:nvPr/>
        </p:nvGrpSpPr>
        <p:grpSpPr>
          <a:xfrm>
            <a:off x="2824200" y="4629240"/>
            <a:ext cx="2476440" cy="890640"/>
            <a:chOff x="2824200" y="4629240"/>
            <a:chExt cx="2476440" cy="890640"/>
          </a:xfrm>
        </p:grpSpPr>
        <p:sp>
          <p:nvSpPr>
            <p:cNvPr id="4773"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4"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4775"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776"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7"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8"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9"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0"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1"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2"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3"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4784"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4785"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4786"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787"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8"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9"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0"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1"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2"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3"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4"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5"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6"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97"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4798"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4799"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0"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1"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2"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3"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4"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05"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06"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07" name=""/>
          <p:cNvGrpSpPr/>
          <p:nvPr/>
        </p:nvGrpSpPr>
        <p:grpSpPr>
          <a:xfrm>
            <a:off x="3443400" y="5086440"/>
            <a:ext cx="747720" cy="423720"/>
            <a:chOff x="3443400" y="5086440"/>
            <a:chExt cx="747720" cy="423720"/>
          </a:xfrm>
        </p:grpSpPr>
        <p:sp>
          <p:nvSpPr>
            <p:cNvPr id="4808" name=""/>
            <p:cNvSpPr/>
            <p:nvPr/>
          </p:nvSpPr>
          <p:spPr>
            <a:xfrm>
              <a:off x="3443400" y="5091120"/>
              <a:ext cx="0" cy="76320"/>
            </a:xfrm>
            <a:prstGeom prst="line">
              <a:avLst/>
            </a:prstGeom>
            <a:ln w="12600">
              <a:solidFill>
                <a:srgbClr val="fd07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809" name=""/>
            <p:cNvSpPr/>
            <p:nvPr/>
          </p:nvSpPr>
          <p:spPr>
            <a:xfrm>
              <a:off x="3443400" y="521964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0" name=""/>
            <p:cNvSpPr/>
            <p:nvPr/>
          </p:nvSpPr>
          <p:spPr>
            <a:xfrm>
              <a:off x="3443400" y="5372280"/>
              <a:ext cx="0" cy="13788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1" name=""/>
            <p:cNvSpPr/>
            <p:nvPr/>
          </p:nvSpPr>
          <p:spPr>
            <a:xfrm>
              <a:off x="4186080" y="5086440"/>
              <a:ext cx="0" cy="81000"/>
            </a:xfrm>
            <a:prstGeom prst="line">
              <a:avLst/>
            </a:prstGeom>
            <a:ln w="12600">
              <a:solidFill>
                <a:srgbClr val="fd07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4812" name=""/>
            <p:cNvSpPr/>
            <p:nvPr/>
          </p:nvSpPr>
          <p:spPr>
            <a:xfrm>
              <a:off x="4186080" y="522432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3" name=""/>
            <p:cNvSpPr/>
            <p:nvPr/>
          </p:nvSpPr>
          <p:spPr>
            <a:xfrm>
              <a:off x="4191120" y="540072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14" name=""/>
          <p:cNvSpPr txBox="1"/>
          <p:nvPr/>
        </p:nvSpPr>
        <p:spPr>
          <a:xfrm>
            <a:off x="647640" y="2370240"/>
            <a:ext cx="7772400" cy="4534200"/>
          </a:xfrm>
          <a:prstGeom prst="rect">
            <a:avLst/>
          </a:prstGeom>
          <a:noFill/>
          <a:ln w="0">
            <a:noFill/>
          </a:ln>
        </p:spPr>
        <p:txBody>
          <a:bodyPr lIns="0" rIns="0" tIns="0" bIns="0" anchor="t">
            <a:noAutofit/>
          </a:bodyPr>
          <a:p>
            <a:pPr algn="ctr">
              <a:lnSpc>
                <a:spcPct val="100000"/>
              </a:lnSpc>
              <a:spcAft>
                <a:spcPts val="2401"/>
              </a:spcAft>
            </a:pPr>
            <a:r>
              <a:rPr b="0" lang="en-US" sz="7200" spc="-1" strike="noStrike">
                <a:solidFill>
                  <a:srgbClr val="ffffff"/>
                </a:solidFill>
                <a:latin typeface="Times New Roman"/>
                <a:ea typeface="Times New Roman"/>
              </a:rPr>
              <a:t>Secondary and Tertiary Datum Features at</a:t>
            </a:r>
            <a:br>
              <a:rPr sz="1800"/>
            </a:br>
            <a:br>
              <a:rPr sz="1800"/>
            </a:br>
            <a:r>
              <a:rPr b="0" lang="en-US" sz="4400" spc="-1" strike="noStrike">
                <a:solidFill>
                  <a:srgbClr val="ffffff"/>
                </a:solidFill>
                <a:latin typeface="Times New Roman"/>
                <a:ea typeface="Times New Roman"/>
              </a:rPr>
              <a:t>Maximum Material Condition (MM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1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16" name=""/>
          <p:cNvSpPr txBox="1"/>
          <p:nvPr/>
        </p:nvSpPr>
        <p:spPr>
          <a:xfrm>
            <a:off x="685800" y="105876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Datum Features of Size at MMC</a:t>
            </a:r>
            <a:endParaRPr b="0" lang="en-US" sz="3600" spc="-1" strike="noStrike">
              <a:solidFill>
                <a:srgbClr val="000000"/>
              </a:solidFill>
              <a:latin typeface="Arial"/>
            </a:endParaRPr>
          </a:p>
        </p:txBody>
      </p:sp>
      <p:sp>
        <p:nvSpPr>
          <p:cNvPr id="4817" name=""/>
          <p:cNvSpPr txBox="1"/>
          <p:nvPr/>
        </p:nvSpPr>
        <p:spPr>
          <a:xfrm>
            <a:off x="685800" y="2671920"/>
            <a:ext cx="7772400" cy="24843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re a </a:t>
            </a:r>
            <a:r>
              <a:rPr b="0" lang="en-US" sz="2800" spc="-1" strike="noStrike">
                <a:solidFill>
                  <a:srgbClr val="fafd00"/>
                </a:solidFill>
                <a:latin typeface="Times New Roman"/>
                <a:ea typeface="Times New Roman"/>
              </a:rPr>
              <a:t>datum feature of size </a:t>
            </a:r>
            <a:r>
              <a:rPr b="0" lang="en-US" sz="2800" spc="-1" strike="noStrike">
                <a:solidFill>
                  <a:srgbClr val="ffffff"/>
                </a:solidFill>
                <a:latin typeface="Times New Roman"/>
                <a:ea typeface="Times New Roman"/>
              </a:rPr>
              <a:t>is applied on an </a:t>
            </a:r>
            <a:r>
              <a:rPr b="0" lang="en-US" sz="2800" spc="-1" strike="noStrike">
                <a:solidFill>
                  <a:srgbClr val="fafd00"/>
                </a:solidFill>
                <a:latin typeface="Times New Roman"/>
                <a:ea typeface="Times New Roman"/>
              </a:rPr>
              <a:t>MMC</a:t>
            </a:r>
            <a:r>
              <a:rPr b="0" lang="en-US" sz="2800" spc="-1" strike="noStrike">
                <a:solidFill>
                  <a:srgbClr val="ffffff"/>
                </a:solidFill>
                <a:latin typeface="Times New Roman"/>
                <a:ea typeface="Times New Roman"/>
              </a:rPr>
              <a:t> basis, </a:t>
            </a:r>
            <a:r>
              <a:rPr b="0" lang="en-US" sz="2800" spc="-1" strike="noStrike">
                <a:solidFill>
                  <a:srgbClr val="ffff00"/>
                </a:solidFill>
                <a:latin typeface="Times New Roman"/>
                <a:ea typeface="Times New Roman"/>
              </a:rPr>
              <a:t>“fixed” </a:t>
            </a:r>
            <a:r>
              <a:rPr b="0" lang="en-US" sz="2800" spc="-1" strike="noStrike">
                <a:solidFill>
                  <a:srgbClr val="ffffff"/>
                </a:solidFill>
                <a:latin typeface="Times New Roman"/>
                <a:ea typeface="Times New Roman"/>
              </a:rPr>
              <a:t>or non-variable gages may be used to establish the datum.  Gage sizes are determined by size limits defined by feature MMC, or the virtual condition of the fea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818" name=""/>
          <p:cNvSpPr/>
          <p:nvPr/>
        </p:nvSpPr>
        <p:spPr>
          <a:xfrm>
            <a:off x="3139920" y="62341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19" name=""/>
          <p:cNvSpPr/>
          <p:nvPr/>
        </p:nvSpPr>
        <p:spPr>
          <a:xfrm>
            <a:off x="3506760" y="2374920"/>
            <a:ext cx="124200" cy="144720"/>
          </a:xfrm>
          <a:custGeom>
            <a:avLst/>
            <a:gdLst/>
            <a:ahLst/>
            <a:rect l="0" t="0" r="r" b="b"/>
            <a:pathLst>
              <a:path w="345" h="402">
                <a:moveTo>
                  <a:pt x="223" y="402"/>
                </a:moveTo>
                <a:lnTo>
                  <a:pt x="0" y="0"/>
                </a:lnTo>
                <a:lnTo>
                  <a:pt x="345" y="310"/>
                </a:lnTo>
                <a:lnTo>
                  <a:pt x="223" y="4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0" name=""/>
          <p:cNvSpPr/>
          <p:nvPr/>
        </p:nvSpPr>
        <p:spPr>
          <a:xfrm>
            <a:off x="3610080" y="2506680"/>
            <a:ext cx="989280" cy="878400"/>
          </a:xfrm>
          <a:custGeom>
            <a:avLst/>
            <a:gdLst/>
            <a:ahLst/>
            <a:rect l="0" t="0" r="r" b="b"/>
            <a:pathLst>
              <a:path fill="none" w="2748" h="2440">
                <a:moveTo>
                  <a:pt x="0" y="0"/>
                </a:moveTo>
                <a:lnTo>
                  <a:pt x="1923" y="2440"/>
                </a:lnTo>
                <a:lnTo>
                  <a:pt x="2748" y="244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1" name=""/>
          <p:cNvSpPr/>
          <p:nvPr/>
        </p:nvSpPr>
        <p:spPr>
          <a:xfrm>
            <a:off x="4680000" y="2286000"/>
            <a:ext cx="147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2" name=""/>
          <p:cNvSpPr/>
          <p:nvPr/>
        </p:nvSpPr>
        <p:spPr>
          <a:xfrm>
            <a:off x="4680000" y="1854360"/>
            <a:ext cx="147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3" name=""/>
          <p:cNvSpPr/>
          <p:nvPr/>
        </p:nvSpPr>
        <p:spPr>
          <a:xfrm>
            <a:off x="5989680" y="2451240"/>
            <a:ext cx="0" cy="16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24" name=""/>
          <p:cNvSpPr/>
          <p:nvPr/>
        </p:nvSpPr>
        <p:spPr>
          <a:xfrm>
            <a:off x="5991120" y="1398600"/>
            <a:ext cx="165600" cy="147960"/>
          </a:xfrm>
          <a:custGeom>
            <a:avLst/>
            <a:gdLst/>
            <a:ahLst/>
            <a:rect l="0" t="0" r="r" b="b"/>
            <a:pathLst>
              <a:path fill="none" w="460" h="411">
                <a:moveTo>
                  <a:pt x="0" y="411"/>
                </a:moveTo>
                <a:lnTo>
                  <a:pt x="0" y="0"/>
                </a:lnTo>
                <a:lnTo>
                  <a:pt x="46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5" name=""/>
          <p:cNvSpPr/>
          <p:nvPr/>
        </p:nvSpPr>
        <p:spPr>
          <a:xfrm>
            <a:off x="5964120" y="2284560"/>
            <a:ext cx="54360" cy="165600"/>
          </a:xfrm>
          <a:custGeom>
            <a:avLst/>
            <a:gdLst/>
            <a:ahLst/>
            <a:rect l="0" t="0" r="r" b="b"/>
            <a:pathLst>
              <a:path w="151" h="460">
                <a:moveTo>
                  <a:pt x="0" y="460"/>
                </a:moveTo>
                <a:lnTo>
                  <a:pt x="151" y="460"/>
                </a:lnTo>
                <a:lnTo>
                  <a:pt x="73" y="0"/>
                </a:lnTo>
                <a:lnTo>
                  <a:pt x="0"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6" name=""/>
          <p:cNvSpPr/>
          <p:nvPr/>
        </p:nvSpPr>
        <p:spPr>
          <a:xfrm>
            <a:off x="5964120" y="1687680"/>
            <a:ext cx="54360" cy="165600"/>
          </a:xfrm>
          <a:custGeom>
            <a:avLst/>
            <a:gdLst/>
            <a:ahLst/>
            <a:rect l="0" t="0" r="r" b="b"/>
            <a:pathLst>
              <a:path w="151" h="460">
                <a:moveTo>
                  <a:pt x="0" y="0"/>
                </a:moveTo>
                <a:lnTo>
                  <a:pt x="151" y="0"/>
                </a:lnTo>
                <a:lnTo>
                  <a:pt x="73" y="46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7" name=""/>
          <p:cNvSpPr/>
          <p:nvPr/>
        </p:nvSpPr>
        <p:spPr>
          <a:xfrm>
            <a:off x="3948120" y="1574640"/>
            <a:ext cx="170280" cy="497160"/>
          </a:xfrm>
          <a:custGeom>
            <a:avLst/>
            <a:gdLst/>
            <a:ahLst/>
            <a:rect l="0" t="0" r="r" b="b"/>
            <a:pathLst>
              <a:path fill="none" w="473" h="1381">
                <a:moveTo>
                  <a:pt x="473" y="1381"/>
                </a:moveTo>
                <a:lnTo>
                  <a:pt x="473" y="1342"/>
                </a:lnTo>
                <a:lnTo>
                  <a:pt x="464" y="1303"/>
                </a:lnTo>
                <a:lnTo>
                  <a:pt x="464" y="1264"/>
                </a:lnTo>
                <a:lnTo>
                  <a:pt x="464" y="1235"/>
                </a:lnTo>
                <a:lnTo>
                  <a:pt x="459" y="1196"/>
                </a:lnTo>
                <a:lnTo>
                  <a:pt x="459" y="1157"/>
                </a:lnTo>
                <a:lnTo>
                  <a:pt x="454" y="1128"/>
                </a:lnTo>
                <a:lnTo>
                  <a:pt x="449" y="1089"/>
                </a:lnTo>
                <a:lnTo>
                  <a:pt x="444" y="1050"/>
                </a:lnTo>
                <a:lnTo>
                  <a:pt x="439" y="1021"/>
                </a:lnTo>
                <a:lnTo>
                  <a:pt x="434" y="982"/>
                </a:lnTo>
                <a:lnTo>
                  <a:pt x="430" y="943"/>
                </a:lnTo>
                <a:lnTo>
                  <a:pt x="425" y="914"/>
                </a:lnTo>
                <a:lnTo>
                  <a:pt x="410" y="875"/>
                </a:lnTo>
                <a:lnTo>
                  <a:pt x="405" y="841"/>
                </a:lnTo>
                <a:lnTo>
                  <a:pt x="396" y="807"/>
                </a:lnTo>
                <a:lnTo>
                  <a:pt x="386" y="773"/>
                </a:lnTo>
                <a:lnTo>
                  <a:pt x="381" y="734"/>
                </a:lnTo>
                <a:lnTo>
                  <a:pt x="371" y="705"/>
                </a:lnTo>
                <a:lnTo>
                  <a:pt x="357" y="670"/>
                </a:lnTo>
                <a:lnTo>
                  <a:pt x="341" y="631"/>
                </a:lnTo>
                <a:lnTo>
                  <a:pt x="331" y="602"/>
                </a:lnTo>
                <a:lnTo>
                  <a:pt x="322" y="568"/>
                </a:lnTo>
                <a:lnTo>
                  <a:pt x="302" y="534"/>
                </a:lnTo>
                <a:lnTo>
                  <a:pt x="292" y="500"/>
                </a:lnTo>
                <a:lnTo>
                  <a:pt x="278" y="466"/>
                </a:lnTo>
                <a:lnTo>
                  <a:pt x="268" y="437"/>
                </a:lnTo>
                <a:lnTo>
                  <a:pt x="249" y="403"/>
                </a:lnTo>
                <a:lnTo>
                  <a:pt x="234" y="374"/>
                </a:lnTo>
                <a:lnTo>
                  <a:pt x="219" y="340"/>
                </a:lnTo>
                <a:lnTo>
                  <a:pt x="195" y="306"/>
                </a:lnTo>
                <a:lnTo>
                  <a:pt x="180" y="277"/>
                </a:lnTo>
                <a:lnTo>
                  <a:pt x="166" y="243"/>
                </a:lnTo>
                <a:lnTo>
                  <a:pt x="146" y="213"/>
                </a:lnTo>
                <a:lnTo>
                  <a:pt x="127" y="179"/>
                </a:lnTo>
                <a:lnTo>
                  <a:pt x="111" y="150"/>
                </a:lnTo>
                <a:lnTo>
                  <a:pt x="87" y="121"/>
                </a:lnTo>
                <a:lnTo>
                  <a:pt x="68" y="92"/>
                </a:lnTo>
                <a:lnTo>
                  <a:pt x="43" y="63"/>
                </a:lnTo>
                <a:lnTo>
                  <a:pt x="24" y="34"/>
                </a:lnTo>
                <a:lnTo>
                  <a:pt x="4" y="4"/>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28" name=""/>
          <p:cNvSpPr/>
          <p:nvPr/>
        </p:nvSpPr>
        <p:spPr>
          <a:xfrm>
            <a:off x="3798720" y="1425600"/>
            <a:ext cx="81360" cy="70200"/>
          </a:xfrm>
          <a:custGeom>
            <a:avLst/>
            <a:gdLst/>
            <a:ahLst/>
            <a:rect l="0" t="0" r="r" b="b"/>
            <a:pathLst>
              <a:path fill="none" w="226" h="195">
                <a:moveTo>
                  <a:pt x="226" y="195"/>
                </a:moveTo>
                <a:lnTo>
                  <a:pt x="212" y="180"/>
                </a:lnTo>
                <a:lnTo>
                  <a:pt x="188" y="156"/>
                </a:lnTo>
                <a:lnTo>
                  <a:pt x="158" y="131"/>
                </a:lnTo>
                <a:lnTo>
                  <a:pt x="130" y="107"/>
                </a:lnTo>
                <a:lnTo>
                  <a:pt x="106" y="82"/>
                </a:lnTo>
                <a:lnTo>
                  <a:pt x="77" y="58"/>
                </a:lnTo>
                <a:lnTo>
                  <a:pt x="47" y="33"/>
                </a:lnTo>
                <a:lnTo>
                  <a:pt x="19" y="14"/>
                </a:lnTo>
                <a:lnTo>
                  <a:pt x="0" y="0"/>
                </a:lnTo>
              </a:path>
            </a:pathLst>
          </a:custGeom>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4829" name=""/>
          <p:cNvSpPr/>
          <p:nvPr/>
        </p:nvSpPr>
        <p:spPr>
          <a:xfrm>
            <a:off x="3198960" y="1258920"/>
            <a:ext cx="513000" cy="108360"/>
          </a:xfrm>
          <a:custGeom>
            <a:avLst/>
            <a:gdLst/>
            <a:ahLst/>
            <a:rect l="0" t="0" r="r" b="b"/>
            <a:pathLst>
              <a:path fill="none" w="1425" h="301">
                <a:moveTo>
                  <a:pt x="1425" y="301"/>
                </a:moveTo>
                <a:lnTo>
                  <a:pt x="1391" y="282"/>
                </a:lnTo>
                <a:lnTo>
                  <a:pt x="1362" y="268"/>
                </a:lnTo>
                <a:lnTo>
                  <a:pt x="1332" y="253"/>
                </a:lnTo>
                <a:lnTo>
                  <a:pt x="1298" y="229"/>
                </a:lnTo>
                <a:lnTo>
                  <a:pt x="1269" y="218"/>
                </a:lnTo>
                <a:lnTo>
                  <a:pt x="1235" y="204"/>
                </a:lnTo>
                <a:lnTo>
                  <a:pt x="1201" y="189"/>
                </a:lnTo>
                <a:lnTo>
                  <a:pt x="1167" y="170"/>
                </a:lnTo>
                <a:lnTo>
                  <a:pt x="1133" y="160"/>
                </a:lnTo>
                <a:lnTo>
                  <a:pt x="1099" y="146"/>
                </a:lnTo>
                <a:lnTo>
                  <a:pt x="1070" y="136"/>
                </a:lnTo>
                <a:lnTo>
                  <a:pt x="1031" y="126"/>
                </a:lnTo>
                <a:lnTo>
                  <a:pt x="997" y="112"/>
                </a:lnTo>
                <a:lnTo>
                  <a:pt x="968" y="102"/>
                </a:lnTo>
                <a:lnTo>
                  <a:pt x="929" y="92"/>
                </a:lnTo>
                <a:lnTo>
                  <a:pt x="900" y="83"/>
                </a:lnTo>
                <a:lnTo>
                  <a:pt x="861" y="72"/>
                </a:lnTo>
                <a:lnTo>
                  <a:pt x="827" y="67"/>
                </a:lnTo>
                <a:lnTo>
                  <a:pt x="793" y="53"/>
                </a:lnTo>
                <a:lnTo>
                  <a:pt x="759" y="43"/>
                </a:lnTo>
                <a:lnTo>
                  <a:pt x="720" y="38"/>
                </a:lnTo>
                <a:lnTo>
                  <a:pt x="680" y="33"/>
                </a:lnTo>
                <a:lnTo>
                  <a:pt x="651" y="29"/>
                </a:lnTo>
                <a:lnTo>
                  <a:pt x="612" y="24"/>
                </a:lnTo>
                <a:lnTo>
                  <a:pt x="583" y="19"/>
                </a:lnTo>
                <a:lnTo>
                  <a:pt x="544" y="14"/>
                </a:lnTo>
                <a:lnTo>
                  <a:pt x="505" y="9"/>
                </a:lnTo>
                <a:lnTo>
                  <a:pt x="476" y="9"/>
                </a:lnTo>
                <a:lnTo>
                  <a:pt x="437" y="4"/>
                </a:lnTo>
                <a:lnTo>
                  <a:pt x="398" y="4"/>
                </a:lnTo>
                <a:lnTo>
                  <a:pt x="359" y="4"/>
                </a:lnTo>
                <a:lnTo>
                  <a:pt x="330" y="4"/>
                </a:lnTo>
                <a:lnTo>
                  <a:pt x="291" y="0"/>
                </a:lnTo>
                <a:lnTo>
                  <a:pt x="252" y="4"/>
                </a:lnTo>
                <a:lnTo>
                  <a:pt x="223" y="4"/>
                </a:lnTo>
                <a:lnTo>
                  <a:pt x="184" y="4"/>
                </a:lnTo>
                <a:lnTo>
                  <a:pt x="145" y="4"/>
                </a:lnTo>
                <a:lnTo>
                  <a:pt x="116" y="9"/>
                </a:lnTo>
                <a:lnTo>
                  <a:pt x="77" y="9"/>
                </a:lnTo>
                <a:lnTo>
                  <a:pt x="38" y="14"/>
                </a:lnTo>
                <a:lnTo>
                  <a:pt x="9" y="19"/>
                </a:lnTo>
                <a:lnTo>
                  <a:pt x="0" y="1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0" name=""/>
          <p:cNvSpPr/>
          <p:nvPr/>
        </p:nvSpPr>
        <p:spPr>
          <a:xfrm>
            <a:off x="2998800" y="1285920"/>
            <a:ext cx="101880" cy="35280"/>
          </a:xfrm>
          <a:custGeom>
            <a:avLst/>
            <a:gdLst/>
            <a:ahLst/>
            <a:rect l="0" t="0" r="r" b="b"/>
            <a:pathLst>
              <a:path fill="none" w="283" h="98">
                <a:moveTo>
                  <a:pt x="283" y="0"/>
                </a:moveTo>
                <a:lnTo>
                  <a:pt x="263" y="4"/>
                </a:lnTo>
                <a:lnTo>
                  <a:pt x="229" y="14"/>
                </a:lnTo>
                <a:lnTo>
                  <a:pt x="195" y="24"/>
                </a:lnTo>
                <a:lnTo>
                  <a:pt x="156" y="33"/>
                </a:lnTo>
                <a:lnTo>
                  <a:pt x="126" y="48"/>
                </a:lnTo>
                <a:lnTo>
                  <a:pt x="92" y="59"/>
                </a:lnTo>
                <a:lnTo>
                  <a:pt x="58" y="68"/>
                </a:lnTo>
                <a:lnTo>
                  <a:pt x="24" y="83"/>
                </a:lnTo>
                <a:lnTo>
                  <a:pt x="0" y="98"/>
                </a:lnTo>
              </a:path>
            </a:pathLst>
          </a:custGeom>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4831" name=""/>
          <p:cNvSpPr/>
          <p:nvPr/>
        </p:nvSpPr>
        <p:spPr>
          <a:xfrm>
            <a:off x="2558880" y="1366920"/>
            <a:ext cx="343440" cy="395640"/>
          </a:xfrm>
          <a:custGeom>
            <a:avLst/>
            <a:gdLst/>
            <a:ahLst/>
            <a:rect l="0" t="0" r="r" b="b"/>
            <a:pathLst>
              <a:path fill="none" w="954" h="1099">
                <a:moveTo>
                  <a:pt x="954" y="0"/>
                </a:moveTo>
                <a:lnTo>
                  <a:pt x="920" y="19"/>
                </a:lnTo>
                <a:lnTo>
                  <a:pt x="886" y="34"/>
                </a:lnTo>
                <a:lnTo>
                  <a:pt x="862" y="58"/>
                </a:lnTo>
                <a:lnTo>
                  <a:pt x="828" y="72"/>
                </a:lnTo>
                <a:lnTo>
                  <a:pt x="804" y="92"/>
                </a:lnTo>
                <a:lnTo>
                  <a:pt x="770" y="116"/>
                </a:lnTo>
                <a:lnTo>
                  <a:pt x="746" y="136"/>
                </a:lnTo>
                <a:lnTo>
                  <a:pt x="711" y="160"/>
                </a:lnTo>
                <a:lnTo>
                  <a:pt x="682" y="179"/>
                </a:lnTo>
                <a:lnTo>
                  <a:pt x="658" y="199"/>
                </a:lnTo>
                <a:lnTo>
                  <a:pt x="624" y="223"/>
                </a:lnTo>
                <a:lnTo>
                  <a:pt x="600" y="247"/>
                </a:lnTo>
                <a:lnTo>
                  <a:pt x="571" y="272"/>
                </a:lnTo>
                <a:lnTo>
                  <a:pt x="547" y="296"/>
                </a:lnTo>
                <a:lnTo>
                  <a:pt x="523" y="320"/>
                </a:lnTo>
                <a:lnTo>
                  <a:pt x="499" y="344"/>
                </a:lnTo>
                <a:lnTo>
                  <a:pt x="469" y="374"/>
                </a:lnTo>
                <a:lnTo>
                  <a:pt x="445" y="398"/>
                </a:lnTo>
                <a:lnTo>
                  <a:pt x="426" y="422"/>
                </a:lnTo>
                <a:lnTo>
                  <a:pt x="397" y="446"/>
                </a:lnTo>
                <a:lnTo>
                  <a:pt x="378" y="480"/>
                </a:lnTo>
                <a:lnTo>
                  <a:pt x="349" y="505"/>
                </a:lnTo>
                <a:lnTo>
                  <a:pt x="329" y="534"/>
                </a:lnTo>
                <a:lnTo>
                  <a:pt x="305" y="559"/>
                </a:lnTo>
                <a:lnTo>
                  <a:pt x="286" y="588"/>
                </a:lnTo>
                <a:lnTo>
                  <a:pt x="266" y="618"/>
                </a:lnTo>
                <a:lnTo>
                  <a:pt x="242" y="647"/>
                </a:lnTo>
                <a:lnTo>
                  <a:pt x="222" y="681"/>
                </a:lnTo>
                <a:lnTo>
                  <a:pt x="198" y="705"/>
                </a:lnTo>
                <a:lnTo>
                  <a:pt x="183" y="739"/>
                </a:lnTo>
                <a:lnTo>
                  <a:pt x="164" y="763"/>
                </a:lnTo>
                <a:lnTo>
                  <a:pt x="145" y="797"/>
                </a:lnTo>
                <a:lnTo>
                  <a:pt x="125" y="826"/>
                </a:lnTo>
                <a:lnTo>
                  <a:pt x="111" y="860"/>
                </a:lnTo>
                <a:lnTo>
                  <a:pt x="91" y="894"/>
                </a:lnTo>
                <a:lnTo>
                  <a:pt x="77" y="924"/>
                </a:lnTo>
                <a:lnTo>
                  <a:pt x="62" y="958"/>
                </a:lnTo>
                <a:lnTo>
                  <a:pt x="43" y="987"/>
                </a:lnTo>
                <a:lnTo>
                  <a:pt x="29" y="1021"/>
                </a:lnTo>
                <a:lnTo>
                  <a:pt x="14" y="1055"/>
                </a:lnTo>
                <a:lnTo>
                  <a:pt x="0" y="1084"/>
                </a:lnTo>
                <a:lnTo>
                  <a:pt x="0" y="109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2" name=""/>
          <p:cNvSpPr/>
          <p:nvPr/>
        </p:nvSpPr>
        <p:spPr>
          <a:xfrm>
            <a:off x="2500200" y="1857600"/>
            <a:ext cx="30600" cy="103680"/>
          </a:xfrm>
          <a:custGeom>
            <a:avLst/>
            <a:gdLst/>
            <a:ahLst/>
            <a:rect l="0" t="0" r="r" b="b"/>
            <a:pathLst>
              <a:path fill="none" w="85" h="288">
                <a:moveTo>
                  <a:pt x="85" y="0"/>
                </a:moveTo>
                <a:lnTo>
                  <a:pt x="75" y="14"/>
                </a:lnTo>
                <a:lnTo>
                  <a:pt x="66" y="48"/>
                </a:lnTo>
                <a:lnTo>
                  <a:pt x="50" y="83"/>
                </a:lnTo>
                <a:lnTo>
                  <a:pt x="45" y="122"/>
                </a:lnTo>
                <a:lnTo>
                  <a:pt x="30" y="151"/>
                </a:lnTo>
                <a:lnTo>
                  <a:pt x="19" y="190"/>
                </a:lnTo>
                <a:lnTo>
                  <a:pt x="14" y="225"/>
                </a:lnTo>
                <a:lnTo>
                  <a:pt x="4" y="259"/>
                </a:lnTo>
                <a:lnTo>
                  <a:pt x="0" y="28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3" name=""/>
          <p:cNvSpPr/>
          <p:nvPr/>
        </p:nvSpPr>
        <p:spPr>
          <a:xfrm>
            <a:off x="2496960" y="2071800"/>
            <a:ext cx="167040" cy="493920"/>
          </a:xfrm>
          <a:custGeom>
            <a:avLst/>
            <a:gdLst/>
            <a:ahLst/>
            <a:rect l="0" t="0" r="r" b="b"/>
            <a:pathLst>
              <a:path fill="none" w="464" h="1372">
                <a:moveTo>
                  <a:pt x="0" y="0"/>
                </a:moveTo>
                <a:lnTo>
                  <a:pt x="0" y="29"/>
                </a:lnTo>
                <a:lnTo>
                  <a:pt x="0" y="67"/>
                </a:lnTo>
                <a:lnTo>
                  <a:pt x="0" y="106"/>
                </a:lnTo>
                <a:lnTo>
                  <a:pt x="0" y="135"/>
                </a:lnTo>
                <a:lnTo>
                  <a:pt x="4" y="174"/>
                </a:lnTo>
                <a:lnTo>
                  <a:pt x="4" y="213"/>
                </a:lnTo>
                <a:lnTo>
                  <a:pt x="9" y="242"/>
                </a:lnTo>
                <a:lnTo>
                  <a:pt x="14" y="281"/>
                </a:lnTo>
                <a:lnTo>
                  <a:pt x="19" y="319"/>
                </a:lnTo>
                <a:lnTo>
                  <a:pt x="24" y="348"/>
                </a:lnTo>
                <a:lnTo>
                  <a:pt x="29" y="387"/>
                </a:lnTo>
                <a:lnTo>
                  <a:pt x="34" y="426"/>
                </a:lnTo>
                <a:lnTo>
                  <a:pt x="43" y="455"/>
                </a:lnTo>
                <a:lnTo>
                  <a:pt x="48" y="494"/>
                </a:lnTo>
                <a:lnTo>
                  <a:pt x="63" y="528"/>
                </a:lnTo>
                <a:lnTo>
                  <a:pt x="68" y="562"/>
                </a:lnTo>
                <a:lnTo>
                  <a:pt x="77" y="596"/>
                </a:lnTo>
                <a:lnTo>
                  <a:pt x="87" y="634"/>
                </a:lnTo>
                <a:lnTo>
                  <a:pt x="97" y="663"/>
                </a:lnTo>
                <a:lnTo>
                  <a:pt x="107" y="703"/>
                </a:lnTo>
                <a:lnTo>
                  <a:pt x="121" y="732"/>
                </a:lnTo>
                <a:lnTo>
                  <a:pt x="131" y="766"/>
                </a:lnTo>
                <a:lnTo>
                  <a:pt x="141" y="800"/>
                </a:lnTo>
                <a:lnTo>
                  <a:pt x="155" y="834"/>
                </a:lnTo>
                <a:lnTo>
                  <a:pt x="165" y="868"/>
                </a:lnTo>
                <a:lnTo>
                  <a:pt x="185" y="902"/>
                </a:lnTo>
                <a:lnTo>
                  <a:pt x="199" y="931"/>
                </a:lnTo>
                <a:lnTo>
                  <a:pt x="214" y="965"/>
                </a:lnTo>
                <a:lnTo>
                  <a:pt x="234" y="994"/>
                </a:lnTo>
                <a:lnTo>
                  <a:pt x="249" y="1028"/>
                </a:lnTo>
                <a:lnTo>
                  <a:pt x="264" y="1062"/>
                </a:lnTo>
                <a:lnTo>
                  <a:pt x="278" y="1091"/>
                </a:lnTo>
                <a:lnTo>
                  <a:pt x="298" y="1125"/>
                </a:lnTo>
                <a:lnTo>
                  <a:pt x="317" y="1154"/>
                </a:lnTo>
                <a:lnTo>
                  <a:pt x="332" y="1188"/>
                </a:lnTo>
                <a:lnTo>
                  <a:pt x="356" y="1217"/>
                </a:lnTo>
                <a:lnTo>
                  <a:pt x="371" y="1246"/>
                </a:lnTo>
                <a:lnTo>
                  <a:pt x="390" y="1275"/>
                </a:lnTo>
                <a:lnTo>
                  <a:pt x="415" y="1304"/>
                </a:lnTo>
                <a:lnTo>
                  <a:pt x="434" y="1333"/>
                </a:lnTo>
                <a:lnTo>
                  <a:pt x="454" y="1362"/>
                </a:lnTo>
                <a:lnTo>
                  <a:pt x="464" y="137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4" name=""/>
          <p:cNvSpPr/>
          <p:nvPr/>
        </p:nvSpPr>
        <p:spPr>
          <a:xfrm>
            <a:off x="2733840" y="2643120"/>
            <a:ext cx="79560" cy="68760"/>
          </a:xfrm>
          <a:custGeom>
            <a:avLst/>
            <a:gdLst/>
            <a:ahLst/>
            <a:rect l="0" t="0" r="r" b="b"/>
            <a:pathLst>
              <a:path fill="none" w="221" h="191">
                <a:moveTo>
                  <a:pt x="0" y="0"/>
                </a:moveTo>
                <a:lnTo>
                  <a:pt x="14" y="9"/>
                </a:lnTo>
                <a:lnTo>
                  <a:pt x="38" y="34"/>
                </a:lnTo>
                <a:lnTo>
                  <a:pt x="62" y="54"/>
                </a:lnTo>
                <a:lnTo>
                  <a:pt x="86" y="83"/>
                </a:lnTo>
                <a:lnTo>
                  <a:pt x="116" y="103"/>
                </a:lnTo>
                <a:lnTo>
                  <a:pt x="140" y="127"/>
                </a:lnTo>
                <a:lnTo>
                  <a:pt x="173" y="152"/>
                </a:lnTo>
                <a:lnTo>
                  <a:pt x="197" y="172"/>
                </a:lnTo>
                <a:lnTo>
                  <a:pt x="221" y="191"/>
                </a:lnTo>
              </a:path>
            </a:pathLst>
          </a:custGeom>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4835" name=""/>
          <p:cNvSpPr/>
          <p:nvPr/>
        </p:nvSpPr>
        <p:spPr>
          <a:xfrm>
            <a:off x="2901960" y="2773440"/>
            <a:ext cx="511560" cy="106560"/>
          </a:xfrm>
          <a:custGeom>
            <a:avLst/>
            <a:gdLst/>
            <a:ahLst/>
            <a:rect l="0" t="0" r="r" b="b"/>
            <a:pathLst>
              <a:path fill="none" w="1421" h="296">
                <a:moveTo>
                  <a:pt x="0" y="0"/>
                </a:moveTo>
                <a:lnTo>
                  <a:pt x="29" y="14"/>
                </a:lnTo>
                <a:lnTo>
                  <a:pt x="63" y="29"/>
                </a:lnTo>
                <a:lnTo>
                  <a:pt x="87" y="43"/>
                </a:lnTo>
                <a:lnTo>
                  <a:pt x="121" y="62"/>
                </a:lnTo>
                <a:lnTo>
                  <a:pt x="155" y="77"/>
                </a:lnTo>
                <a:lnTo>
                  <a:pt x="189" y="92"/>
                </a:lnTo>
                <a:lnTo>
                  <a:pt x="223" y="106"/>
                </a:lnTo>
                <a:lnTo>
                  <a:pt x="252" y="125"/>
                </a:lnTo>
                <a:lnTo>
                  <a:pt x="286" y="135"/>
                </a:lnTo>
                <a:lnTo>
                  <a:pt x="316" y="151"/>
                </a:lnTo>
                <a:lnTo>
                  <a:pt x="354" y="160"/>
                </a:lnTo>
                <a:lnTo>
                  <a:pt x="390" y="170"/>
                </a:lnTo>
                <a:lnTo>
                  <a:pt x="419" y="185"/>
                </a:lnTo>
                <a:lnTo>
                  <a:pt x="458" y="194"/>
                </a:lnTo>
                <a:lnTo>
                  <a:pt x="487" y="204"/>
                </a:lnTo>
                <a:lnTo>
                  <a:pt x="526" y="214"/>
                </a:lnTo>
                <a:lnTo>
                  <a:pt x="560" y="223"/>
                </a:lnTo>
                <a:lnTo>
                  <a:pt x="594" y="238"/>
                </a:lnTo>
                <a:lnTo>
                  <a:pt x="628" y="243"/>
                </a:lnTo>
                <a:lnTo>
                  <a:pt x="667" y="248"/>
                </a:lnTo>
                <a:lnTo>
                  <a:pt x="696" y="257"/>
                </a:lnTo>
                <a:lnTo>
                  <a:pt x="735" y="262"/>
                </a:lnTo>
                <a:lnTo>
                  <a:pt x="769" y="267"/>
                </a:lnTo>
                <a:lnTo>
                  <a:pt x="803" y="272"/>
                </a:lnTo>
                <a:lnTo>
                  <a:pt x="842" y="277"/>
                </a:lnTo>
                <a:lnTo>
                  <a:pt x="876" y="281"/>
                </a:lnTo>
                <a:lnTo>
                  <a:pt x="910" y="286"/>
                </a:lnTo>
                <a:lnTo>
                  <a:pt x="949" y="286"/>
                </a:lnTo>
                <a:lnTo>
                  <a:pt x="978" y="296"/>
                </a:lnTo>
                <a:lnTo>
                  <a:pt x="1017" y="296"/>
                </a:lnTo>
                <a:lnTo>
                  <a:pt x="1056" y="296"/>
                </a:lnTo>
                <a:lnTo>
                  <a:pt x="1086" y="296"/>
                </a:lnTo>
                <a:lnTo>
                  <a:pt x="1125" y="296"/>
                </a:lnTo>
                <a:lnTo>
                  <a:pt x="1164" y="296"/>
                </a:lnTo>
                <a:lnTo>
                  <a:pt x="1193" y="296"/>
                </a:lnTo>
                <a:lnTo>
                  <a:pt x="1232" y="296"/>
                </a:lnTo>
                <a:lnTo>
                  <a:pt x="1271" y="296"/>
                </a:lnTo>
                <a:lnTo>
                  <a:pt x="1305" y="286"/>
                </a:lnTo>
                <a:lnTo>
                  <a:pt x="1339" y="286"/>
                </a:lnTo>
                <a:lnTo>
                  <a:pt x="1378" y="281"/>
                </a:lnTo>
                <a:lnTo>
                  <a:pt x="1412" y="277"/>
                </a:lnTo>
                <a:lnTo>
                  <a:pt x="1421" y="2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6" name=""/>
          <p:cNvSpPr/>
          <p:nvPr/>
        </p:nvSpPr>
        <p:spPr>
          <a:xfrm>
            <a:off x="3519360" y="2820960"/>
            <a:ext cx="101880" cy="35280"/>
          </a:xfrm>
          <a:custGeom>
            <a:avLst/>
            <a:gdLst/>
            <a:ahLst/>
            <a:rect l="0" t="0" r="r" b="b"/>
            <a:pathLst>
              <a:path fill="none" w="283" h="98">
                <a:moveTo>
                  <a:pt x="0" y="98"/>
                </a:moveTo>
                <a:lnTo>
                  <a:pt x="19" y="88"/>
                </a:lnTo>
                <a:lnTo>
                  <a:pt x="48" y="78"/>
                </a:lnTo>
                <a:lnTo>
                  <a:pt x="87" y="68"/>
                </a:lnTo>
                <a:lnTo>
                  <a:pt x="121" y="59"/>
                </a:lnTo>
                <a:lnTo>
                  <a:pt x="151" y="48"/>
                </a:lnTo>
                <a:lnTo>
                  <a:pt x="190" y="33"/>
                </a:lnTo>
                <a:lnTo>
                  <a:pt x="219" y="24"/>
                </a:lnTo>
                <a:lnTo>
                  <a:pt x="254" y="9"/>
                </a:lnTo>
                <a:lnTo>
                  <a:pt x="283" y="0"/>
                </a:lnTo>
              </a:path>
            </a:pathLst>
          </a:custGeom>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4837" name=""/>
          <p:cNvSpPr/>
          <p:nvPr/>
        </p:nvSpPr>
        <p:spPr>
          <a:xfrm>
            <a:off x="3713040" y="2381400"/>
            <a:ext cx="344880" cy="395640"/>
          </a:xfrm>
          <a:custGeom>
            <a:avLst/>
            <a:gdLst/>
            <a:ahLst/>
            <a:rect l="0" t="0" r="r" b="b"/>
            <a:pathLst>
              <a:path fill="none" w="958" h="1099">
                <a:moveTo>
                  <a:pt x="0" y="1099"/>
                </a:moveTo>
                <a:lnTo>
                  <a:pt x="29" y="1074"/>
                </a:lnTo>
                <a:lnTo>
                  <a:pt x="63" y="1060"/>
                </a:lnTo>
                <a:lnTo>
                  <a:pt x="92" y="1035"/>
                </a:lnTo>
                <a:lnTo>
                  <a:pt x="121" y="1021"/>
                </a:lnTo>
                <a:lnTo>
                  <a:pt x="150" y="1001"/>
                </a:lnTo>
                <a:lnTo>
                  <a:pt x="179" y="977"/>
                </a:lnTo>
                <a:lnTo>
                  <a:pt x="213" y="958"/>
                </a:lnTo>
                <a:lnTo>
                  <a:pt x="238" y="933"/>
                </a:lnTo>
                <a:lnTo>
                  <a:pt x="268" y="914"/>
                </a:lnTo>
                <a:lnTo>
                  <a:pt x="292" y="894"/>
                </a:lnTo>
                <a:lnTo>
                  <a:pt x="326" y="865"/>
                </a:lnTo>
                <a:lnTo>
                  <a:pt x="350" y="846"/>
                </a:lnTo>
                <a:lnTo>
                  <a:pt x="379" y="822"/>
                </a:lnTo>
                <a:lnTo>
                  <a:pt x="404" y="797"/>
                </a:lnTo>
                <a:lnTo>
                  <a:pt x="433" y="773"/>
                </a:lnTo>
                <a:lnTo>
                  <a:pt x="457" y="749"/>
                </a:lnTo>
                <a:lnTo>
                  <a:pt x="481" y="720"/>
                </a:lnTo>
                <a:lnTo>
                  <a:pt x="506" y="695"/>
                </a:lnTo>
                <a:lnTo>
                  <a:pt x="525" y="666"/>
                </a:lnTo>
                <a:lnTo>
                  <a:pt x="554" y="647"/>
                </a:lnTo>
                <a:lnTo>
                  <a:pt x="574" y="618"/>
                </a:lnTo>
                <a:lnTo>
                  <a:pt x="603" y="588"/>
                </a:lnTo>
                <a:lnTo>
                  <a:pt x="622" y="559"/>
                </a:lnTo>
                <a:lnTo>
                  <a:pt x="647" y="534"/>
                </a:lnTo>
                <a:lnTo>
                  <a:pt x="666" y="505"/>
                </a:lnTo>
                <a:lnTo>
                  <a:pt x="685" y="476"/>
                </a:lnTo>
                <a:lnTo>
                  <a:pt x="710" y="446"/>
                </a:lnTo>
                <a:lnTo>
                  <a:pt x="730" y="412"/>
                </a:lnTo>
                <a:lnTo>
                  <a:pt x="754" y="388"/>
                </a:lnTo>
                <a:lnTo>
                  <a:pt x="774" y="354"/>
                </a:lnTo>
                <a:lnTo>
                  <a:pt x="788" y="330"/>
                </a:lnTo>
                <a:lnTo>
                  <a:pt x="813" y="296"/>
                </a:lnTo>
                <a:lnTo>
                  <a:pt x="827" y="267"/>
                </a:lnTo>
                <a:lnTo>
                  <a:pt x="842" y="233"/>
                </a:lnTo>
                <a:lnTo>
                  <a:pt x="861" y="199"/>
                </a:lnTo>
                <a:lnTo>
                  <a:pt x="881" y="170"/>
                </a:lnTo>
                <a:lnTo>
                  <a:pt x="895" y="136"/>
                </a:lnTo>
                <a:lnTo>
                  <a:pt x="915" y="106"/>
                </a:lnTo>
                <a:lnTo>
                  <a:pt x="929" y="72"/>
                </a:lnTo>
                <a:lnTo>
                  <a:pt x="939" y="38"/>
                </a:lnTo>
                <a:lnTo>
                  <a:pt x="958" y="9"/>
                </a:lnTo>
                <a:lnTo>
                  <a:pt x="95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8" name=""/>
          <p:cNvSpPr/>
          <p:nvPr/>
        </p:nvSpPr>
        <p:spPr>
          <a:xfrm>
            <a:off x="4089240" y="2176560"/>
            <a:ext cx="32040" cy="105120"/>
          </a:xfrm>
          <a:custGeom>
            <a:avLst/>
            <a:gdLst/>
            <a:ahLst/>
            <a:rect l="0" t="0" r="r" b="b"/>
            <a:pathLst>
              <a:path fill="none" w="89" h="292">
                <a:moveTo>
                  <a:pt x="0" y="292"/>
                </a:moveTo>
                <a:lnTo>
                  <a:pt x="4" y="272"/>
                </a:lnTo>
                <a:lnTo>
                  <a:pt x="19" y="233"/>
                </a:lnTo>
                <a:lnTo>
                  <a:pt x="29" y="204"/>
                </a:lnTo>
                <a:lnTo>
                  <a:pt x="45" y="165"/>
                </a:lnTo>
                <a:lnTo>
                  <a:pt x="54" y="130"/>
                </a:lnTo>
                <a:lnTo>
                  <a:pt x="64" y="97"/>
                </a:lnTo>
                <a:lnTo>
                  <a:pt x="69" y="58"/>
                </a:lnTo>
                <a:lnTo>
                  <a:pt x="79" y="24"/>
                </a:lnTo>
                <a:lnTo>
                  <a:pt x="8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39" name=""/>
          <p:cNvSpPr/>
          <p:nvPr/>
        </p:nvSpPr>
        <p:spPr>
          <a:xfrm>
            <a:off x="2941560" y="1701720"/>
            <a:ext cx="733680" cy="736920"/>
          </a:xfrm>
          <a:custGeom>
            <a:avLst/>
            <a:gdLst/>
            <a:ahLst/>
            <a:rect l="0" t="0" r="r" b="b"/>
            <a:pathLst>
              <a:path fill="none" w="2038" h="2047">
                <a:moveTo>
                  <a:pt x="2038" y="1026"/>
                </a:moveTo>
                <a:lnTo>
                  <a:pt x="2038" y="996"/>
                </a:lnTo>
                <a:lnTo>
                  <a:pt x="2038" y="976"/>
                </a:lnTo>
                <a:lnTo>
                  <a:pt x="2028" y="947"/>
                </a:lnTo>
                <a:lnTo>
                  <a:pt x="2028" y="928"/>
                </a:lnTo>
                <a:lnTo>
                  <a:pt x="2028" y="899"/>
                </a:lnTo>
                <a:lnTo>
                  <a:pt x="2023" y="879"/>
                </a:lnTo>
                <a:lnTo>
                  <a:pt x="2018" y="850"/>
                </a:lnTo>
                <a:lnTo>
                  <a:pt x="2018" y="831"/>
                </a:lnTo>
                <a:lnTo>
                  <a:pt x="2014" y="811"/>
                </a:lnTo>
                <a:lnTo>
                  <a:pt x="2009" y="782"/>
                </a:lnTo>
                <a:lnTo>
                  <a:pt x="2004" y="763"/>
                </a:lnTo>
                <a:lnTo>
                  <a:pt x="1994" y="738"/>
                </a:lnTo>
                <a:lnTo>
                  <a:pt x="1989" y="714"/>
                </a:lnTo>
                <a:lnTo>
                  <a:pt x="1984" y="690"/>
                </a:lnTo>
                <a:lnTo>
                  <a:pt x="1970" y="670"/>
                </a:lnTo>
                <a:lnTo>
                  <a:pt x="1965" y="646"/>
                </a:lnTo>
                <a:lnTo>
                  <a:pt x="1955" y="622"/>
                </a:lnTo>
                <a:lnTo>
                  <a:pt x="1946" y="602"/>
                </a:lnTo>
                <a:lnTo>
                  <a:pt x="1936" y="578"/>
                </a:lnTo>
                <a:lnTo>
                  <a:pt x="1921" y="558"/>
                </a:lnTo>
                <a:lnTo>
                  <a:pt x="1912" y="539"/>
                </a:lnTo>
                <a:lnTo>
                  <a:pt x="1902" y="515"/>
                </a:lnTo>
                <a:lnTo>
                  <a:pt x="1892" y="495"/>
                </a:lnTo>
                <a:lnTo>
                  <a:pt x="1878" y="476"/>
                </a:lnTo>
                <a:lnTo>
                  <a:pt x="1863" y="456"/>
                </a:lnTo>
                <a:lnTo>
                  <a:pt x="1853" y="437"/>
                </a:lnTo>
                <a:lnTo>
                  <a:pt x="1839" y="417"/>
                </a:lnTo>
                <a:lnTo>
                  <a:pt x="1824" y="398"/>
                </a:lnTo>
                <a:lnTo>
                  <a:pt x="1805" y="379"/>
                </a:lnTo>
                <a:lnTo>
                  <a:pt x="1795" y="359"/>
                </a:lnTo>
                <a:lnTo>
                  <a:pt x="1781" y="345"/>
                </a:lnTo>
                <a:lnTo>
                  <a:pt x="1761" y="325"/>
                </a:lnTo>
                <a:lnTo>
                  <a:pt x="1747" y="306"/>
                </a:lnTo>
                <a:lnTo>
                  <a:pt x="1727" y="291"/>
                </a:lnTo>
                <a:lnTo>
                  <a:pt x="1708" y="277"/>
                </a:lnTo>
                <a:lnTo>
                  <a:pt x="1693" y="257"/>
                </a:lnTo>
                <a:lnTo>
                  <a:pt x="1679" y="243"/>
                </a:lnTo>
                <a:lnTo>
                  <a:pt x="1655" y="228"/>
                </a:lnTo>
                <a:lnTo>
                  <a:pt x="1640" y="208"/>
                </a:lnTo>
                <a:lnTo>
                  <a:pt x="1621" y="199"/>
                </a:lnTo>
                <a:lnTo>
                  <a:pt x="1596" y="184"/>
                </a:lnTo>
                <a:lnTo>
                  <a:pt x="1582" y="170"/>
                </a:lnTo>
                <a:lnTo>
                  <a:pt x="1562" y="155"/>
                </a:lnTo>
                <a:lnTo>
                  <a:pt x="1538" y="145"/>
                </a:lnTo>
                <a:lnTo>
                  <a:pt x="1519" y="131"/>
                </a:lnTo>
                <a:lnTo>
                  <a:pt x="1495" y="121"/>
                </a:lnTo>
                <a:lnTo>
                  <a:pt x="1475" y="111"/>
                </a:lnTo>
                <a:lnTo>
                  <a:pt x="1456" y="97"/>
                </a:lnTo>
                <a:lnTo>
                  <a:pt x="1431" y="87"/>
                </a:lnTo>
                <a:lnTo>
                  <a:pt x="1412" y="77"/>
                </a:lnTo>
                <a:lnTo>
                  <a:pt x="1388" y="72"/>
                </a:lnTo>
                <a:lnTo>
                  <a:pt x="1368" y="63"/>
                </a:lnTo>
                <a:lnTo>
                  <a:pt x="1349" y="58"/>
                </a:lnTo>
                <a:lnTo>
                  <a:pt x="1320" y="43"/>
                </a:lnTo>
                <a:lnTo>
                  <a:pt x="1300" y="38"/>
                </a:lnTo>
                <a:lnTo>
                  <a:pt x="1276" y="34"/>
                </a:lnTo>
                <a:lnTo>
                  <a:pt x="1252" y="29"/>
                </a:lnTo>
                <a:lnTo>
                  <a:pt x="1228" y="24"/>
                </a:lnTo>
                <a:lnTo>
                  <a:pt x="1208" y="19"/>
                </a:lnTo>
                <a:lnTo>
                  <a:pt x="1184" y="14"/>
                </a:lnTo>
                <a:lnTo>
                  <a:pt x="1160" y="9"/>
                </a:lnTo>
                <a:lnTo>
                  <a:pt x="1136" y="9"/>
                </a:lnTo>
                <a:lnTo>
                  <a:pt x="1111" y="4"/>
                </a:lnTo>
                <a:lnTo>
                  <a:pt x="1087" y="4"/>
                </a:lnTo>
                <a:lnTo>
                  <a:pt x="1063" y="4"/>
                </a:lnTo>
                <a:lnTo>
                  <a:pt x="1043" y="4"/>
                </a:lnTo>
                <a:lnTo>
                  <a:pt x="1018" y="0"/>
                </a:lnTo>
                <a:lnTo>
                  <a:pt x="994" y="4"/>
                </a:lnTo>
                <a:lnTo>
                  <a:pt x="970" y="4"/>
                </a:lnTo>
                <a:lnTo>
                  <a:pt x="945" y="4"/>
                </a:lnTo>
                <a:lnTo>
                  <a:pt x="921" y="4"/>
                </a:lnTo>
                <a:lnTo>
                  <a:pt x="897" y="9"/>
                </a:lnTo>
                <a:lnTo>
                  <a:pt x="873" y="9"/>
                </a:lnTo>
                <a:lnTo>
                  <a:pt x="848" y="14"/>
                </a:lnTo>
                <a:lnTo>
                  <a:pt x="824" y="19"/>
                </a:lnTo>
                <a:lnTo>
                  <a:pt x="805" y="24"/>
                </a:lnTo>
                <a:lnTo>
                  <a:pt x="780" y="29"/>
                </a:lnTo>
                <a:lnTo>
                  <a:pt x="756" y="34"/>
                </a:lnTo>
                <a:lnTo>
                  <a:pt x="732" y="38"/>
                </a:lnTo>
                <a:lnTo>
                  <a:pt x="713" y="43"/>
                </a:lnTo>
                <a:lnTo>
                  <a:pt x="688" y="58"/>
                </a:lnTo>
                <a:lnTo>
                  <a:pt x="664" y="63"/>
                </a:lnTo>
                <a:lnTo>
                  <a:pt x="645" y="72"/>
                </a:lnTo>
                <a:lnTo>
                  <a:pt x="620" y="77"/>
                </a:lnTo>
                <a:lnTo>
                  <a:pt x="601" y="87"/>
                </a:lnTo>
                <a:lnTo>
                  <a:pt x="577" y="97"/>
                </a:lnTo>
                <a:lnTo>
                  <a:pt x="557" y="111"/>
                </a:lnTo>
                <a:lnTo>
                  <a:pt x="538" y="121"/>
                </a:lnTo>
                <a:lnTo>
                  <a:pt x="514" y="131"/>
                </a:lnTo>
                <a:lnTo>
                  <a:pt x="494" y="145"/>
                </a:lnTo>
                <a:lnTo>
                  <a:pt x="470" y="155"/>
                </a:lnTo>
                <a:lnTo>
                  <a:pt x="455" y="170"/>
                </a:lnTo>
                <a:lnTo>
                  <a:pt x="436" y="184"/>
                </a:lnTo>
                <a:lnTo>
                  <a:pt x="412" y="199"/>
                </a:lnTo>
                <a:lnTo>
                  <a:pt x="397" y="208"/>
                </a:lnTo>
                <a:lnTo>
                  <a:pt x="378" y="228"/>
                </a:lnTo>
                <a:lnTo>
                  <a:pt x="358" y="243"/>
                </a:lnTo>
                <a:lnTo>
                  <a:pt x="339" y="257"/>
                </a:lnTo>
                <a:lnTo>
                  <a:pt x="324" y="277"/>
                </a:lnTo>
                <a:lnTo>
                  <a:pt x="305" y="291"/>
                </a:lnTo>
                <a:lnTo>
                  <a:pt x="291" y="306"/>
                </a:lnTo>
                <a:lnTo>
                  <a:pt x="276" y="325"/>
                </a:lnTo>
                <a:lnTo>
                  <a:pt x="257" y="345"/>
                </a:lnTo>
                <a:lnTo>
                  <a:pt x="242" y="359"/>
                </a:lnTo>
                <a:lnTo>
                  <a:pt x="227" y="379"/>
                </a:lnTo>
                <a:lnTo>
                  <a:pt x="208" y="398"/>
                </a:lnTo>
                <a:lnTo>
                  <a:pt x="194" y="417"/>
                </a:lnTo>
                <a:lnTo>
                  <a:pt x="184" y="437"/>
                </a:lnTo>
                <a:lnTo>
                  <a:pt x="169" y="456"/>
                </a:lnTo>
                <a:lnTo>
                  <a:pt x="155" y="476"/>
                </a:lnTo>
                <a:lnTo>
                  <a:pt x="140" y="495"/>
                </a:lnTo>
                <a:lnTo>
                  <a:pt x="130" y="515"/>
                </a:lnTo>
                <a:lnTo>
                  <a:pt x="121" y="539"/>
                </a:lnTo>
                <a:lnTo>
                  <a:pt x="111" y="558"/>
                </a:lnTo>
                <a:lnTo>
                  <a:pt x="97" y="578"/>
                </a:lnTo>
                <a:lnTo>
                  <a:pt x="87" y="602"/>
                </a:lnTo>
                <a:lnTo>
                  <a:pt x="77" y="622"/>
                </a:lnTo>
                <a:lnTo>
                  <a:pt x="72" y="646"/>
                </a:lnTo>
                <a:lnTo>
                  <a:pt x="63" y="670"/>
                </a:lnTo>
                <a:lnTo>
                  <a:pt x="48" y="690"/>
                </a:lnTo>
                <a:lnTo>
                  <a:pt x="43" y="714"/>
                </a:lnTo>
                <a:lnTo>
                  <a:pt x="38" y="738"/>
                </a:lnTo>
                <a:lnTo>
                  <a:pt x="33" y="763"/>
                </a:lnTo>
                <a:lnTo>
                  <a:pt x="29" y="782"/>
                </a:lnTo>
                <a:lnTo>
                  <a:pt x="24" y="811"/>
                </a:lnTo>
                <a:lnTo>
                  <a:pt x="19" y="831"/>
                </a:lnTo>
                <a:lnTo>
                  <a:pt x="14" y="850"/>
                </a:lnTo>
                <a:lnTo>
                  <a:pt x="9" y="879"/>
                </a:lnTo>
                <a:lnTo>
                  <a:pt x="9" y="899"/>
                </a:lnTo>
                <a:lnTo>
                  <a:pt x="4" y="928"/>
                </a:lnTo>
                <a:lnTo>
                  <a:pt x="4" y="947"/>
                </a:lnTo>
                <a:lnTo>
                  <a:pt x="4" y="976"/>
                </a:lnTo>
                <a:lnTo>
                  <a:pt x="0" y="996"/>
                </a:lnTo>
                <a:lnTo>
                  <a:pt x="0" y="1026"/>
                </a:lnTo>
                <a:lnTo>
                  <a:pt x="0" y="1045"/>
                </a:lnTo>
                <a:lnTo>
                  <a:pt x="4" y="1065"/>
                </a:lnTo>
                <a:lnTo>
                  <a:pt x="4" y="1094"/>
                </a:lnTo>
                <a:lnTo>
                  <a:pt x="4" y="1113"/>
                </a:lnTo>
                <a:lnTo>
                  <a:pt x="9" y="1143"/>
                </a:lnTo>
                <a:lnTo>
                  <a:pt x="9" y="1162"/>
                </a:lnTo>
                <a:lnTo>
                  <a:pt x="14" y="1191"/>
                </a:lnTo>
                <a:lnTo>
                  <a:pt x="19" y="1211"/>
                </a:lnTo>
                <a:lnTo>
                  <a:pt x="24" y="1230"/>
                </a:lnTo>
                <a:lnTo>
                  <a:pt x="29" y="1259"/>
                </a:lnTo>
                <a:lnTo>
                  <a:pt x="33" y="1279"/>
                </a:lnTo>
                <a:lnTo>
                  <a:pt x="38" y="1308"/>
                </a:lnTo>
                <a:lnTo>
                  <a:pt x="43" y="1327"/>
                </a:lnTo>
                <a:lnTo>
                  <a:pt x="48" y="1352"/>
                </a:lnTo>
                <a:lnTo>
                  <a:pt x="63" y="1371"/>
                </a:lnTo>
                <a:lnTo>
                  <a:pt x="72" y="1390"/>
                </a:lnTo>
                <a:lnTo>
                  <a:pt x="77" y="1420"/>
                </a:lnTo>
                <a:lnTo>
                  <a:pt x="87" y="1439"/>
                </a:lnTo>
                <a:lnTo>
                  <a:pt x="97" y="1463"/>
                </a:lnTo>
                <a:lnTo>
                  <a:pt x="111" y="1483"/>
                </a:lnTo>
                <a:lnTo>
                  <a:pt x="121" y="1502"/>
                </a:lnTo>
                <a:lnTo>
                  <a:pt x="130" y="1527"/>
                </a:lnTo>
                <a:lnTo>
                  <a:pt x="140" y="1546"/>
                </a:lnTo>
                <a:lnTo>
                  <a:pt x="155" y="1565"/>
                </a:lnTo>
                <a:lnTo>
                  <a:pt x="169" y="1585"/>
                </a:lnTo>
                <a:lnTo>
                  <a:pt x="184" y="1604"/>
                </a:lnTo>
                <a:lnTo>
                  <a:pt x="194" y="1629"/>
                </a:lnTo>
                <a:lnTo>
                  <a:pt x="208" y="1643"/>
                </a:lnTo>
                <a:lnTo>
                  <a:pt x="227" y="1663"/>
                </a:lnTo>
                <a:lnTo>
                  <a:pt x="242" y="1682"/>
                </a:lnTo>
                <a:lnTo>
                  <a:pt x="257" y="1697"/>
                </a:lnTo>
                <a:lnTo>
                  <a:pt x="276" y="1716"/>
                </a:lnTo>
                <a:lnTo>
                  <a:pt x="291" y="1736"/>
                </a:lnTo>
                <a:lnTo>
                  <a:pt x="305" y="1750"/>
                </a:lnTo>
                <a:lnTo>
                  <a:pt x="324" y="1765"/>
                </a:lnTo>
                <a:lnTo>
                  <a:pt x="339" y="1784"/>
                </a:lnTo>
                <a:lnTo>
                  <a:pt x="358" y="1799"/>
                </a:lnTo>
                <a:lnTo>
                  <a:pt x="378" y="1813"/>
                </a:lnTo>
                <a:lnTo>
                  <a:pt x="397" y="1833"/>
                </a:lnTo>
                <a:lnTo>
                  <a:pt x="412" y="1847"/>
                </a:lnTo>
                <a:lnTo>
                  <a:pt x="436" y="1857"/>
                </a:lnTo>
                <a:lnTo>
                  <a:pt x="455" y="1872"/>
                </a:lnTo>
                <a:lnTo>
                  <a:pt x="470" y="1886"/>
                </a:lnTo>
                <a:lnTo>
                  <a:pt x="494" y="1896"/>
                </a:lnTo>
                <a:lnTo>
                  <a:pt x="514" y="1911"/>
                </a:lnTo>
                <a:lnTo>
                  <a:pt x="538" y="1920"/>
                </a:lnTo>
                <a:lnTo>
                  <a:pt x="557" y="1930"/>
                </a:lnTo>
                <a:lnTo>
                  <a:pt x="577" y="1945"/>
                </a:lnTo>
                <a:lnTo>
                  <a:pt x="601" y="1954"/>
                </a:lnTo>
                <a:lnTo>
                  <a:pt x="620" y="1964"/>
                </a:lnTo>
                <a:lnTo>
                  <a:pt x="645" y="1969"/>
                </a:lnTo>
                <a:lnTo>
                  <a:pt x="664" y="1979"/>
                </a:lnTo>
                <a:lnTo>
                  <a:pt x="688" y="1983"/>
                </a:lnTo>
                <a:lnTo>
                  <a:pt x="713" y="1998"/>
                </a:lnTo>
                <a:lnTo>
                  <a:pt x="732" y="2003"/>
                </a:lnTo>
                <a:lnTo>
                  <a:pt x="756" y="2008"/>
                </a:lnTo>
                <a:lnTo>
                  <a:pt x="780" y="2013"/>
                </a:lnTo>
                <a:lnTo>
                  <a:pt x="805" y="2017"/>
                </a:lnTo>
                <a:lnTo>
                  <a:pt x="824" y="2022"/>
                </a:lnTo>
                <a:lnTo>
                  <a:pt x="848" y="2027"/>
                </a:lnTo>
                <a:lnTo>
                  <a:pt x="873" y="2032"/>
                </a:lnTo>
                <a:lnTo>
                  <a:pt x="897" y="2032"/>
                </a:lnTo>
                <a:lnTo>
                  <a:pt x="921" y="2037"/>
                </a:lnTo>
                <a:lnTo>
                  <a:pt x="945" y="2037"/>
                </a:lnTo>
                <a:lnTo>
                  <a:pt x="970" y="2037"/>
                </a:lnTo>
                <a:lnTo>
                  <a:pt x="994" y="2047"/>
                </a:lnTo>
                <a:lnTo>
                  <a:pt x="1018" y="2047"/>
                </a:lnTo>
                <a:lnTo>
                  <a:pt x="1043" y="2047"/>
                </a:lnTo>
                <a:lnTo>
                  <a:pt x="1063" y="2037"/>
                </a:lnTo>
                <a:lnTo>
                  <a:pt x="1087" y="2037"/>
                </a:lnTo>
                <a:lnTo>
                  <a:pt x="1111" y="2037"/>
                </a:lnTo>
                <a:lnTo>
                  <a:pt x="1136" y="2032"/>
                </a:lnTo>
                <a:lnTo>
                  <a:pt x="1160" y="2032"/>
                </a:lnTo>
                <a:lnTo>
                  <a:pt x="1184" y="2027"/>
                </a:lnTo>
                <a:lnTo>
                  <a:pt x="1208" y="2022"/>
                </a:lnTo>
                <a:lnTo>
                  <a:pt x="1228" y="2017"/>
                </a:lnTo>
                <a:lnTo>
                  <a:pt x="1252" y="2013"/>
                </a:lnTo>
                <a:lnTo>
                  <a:pt x="1276" y="2008"/>
                </a:lnTo>
                <a:lnTo>
                  <a:pt x="1300" y="2003"/>
                </a:lnTo>
                <a:lnTo>
                  <a:pt x="1320" y="1998"/>
                </a:lnTo>
                <a:lnTo>
                  <a:pt x="1349" y="1983"/>
                </a:lnTo>
                <a:lnTo>
                  <a:pt x="1368" y="1979"/>
                </a:lnTo>
                <a:lnTo>
                  <a:pt x="1388" y="1969"/>
                </a:lnTo>
                <a:lnTo>
                  <a:pt x="1412" y="1964"/>
                </a:lnTo>
                <a:lnTo>
                  <a:pt x="1431" y="1954"/>
                </a:lnTo>
                <a:lnTo>
                  <a:pt x="1456" y="1945"/>
                </a:lnTo>
                <a:lnTo>
                  <a:pt x="1475" y="1930"/>
                </a:lnTo>
                <a:lnTo>
                  <a:pt x="1495" y="1920"/>
                </a:lnTo>
                <a:lnTo>
                  <a:pt x="1519" y="1911"/>
                </a:lnTo>
                <a:lnTo>
                  <a:pt x="1538" y="1896"/>
                </a:lnTo>
                <a:lnTo>
                  <a:pt x="1562" y="1886"/>
                </a:lnTo>
                <a:lnTo>
                  <a:pt x="1582" y="1872"/>
                </a:lnTo>
                <a:lnTo>
                  <a:pt x="1596" y="1857"/>
                </a:lnTo>
                <a:lnTo>
                  <a:pt x="1621" y="1847"/>
                </a:lnTo>
                <a:lnTo>
                  <a:pt x="1640" y="1833"/>
                </a:lnTo>
                <a:lnTo>
                  <a:pt x="1655" y="1813"/>
                </a:lnTo>
                <a:lnTo>
                  <a:pt x="1679" y="1799"/>
                </a:lnTo>
                <a:lnTo>
                  <a:pt x="1693" y="1784"/>
                </a:lnTo>
                <a:lnTo>
                  <a:pt x="1708" y="1765"/>
                </a:lnTo>
                <a:lnTo>
                  <a:pt x="1727" y="1750"/>
                </a:lnTo>
                <a:lnTo>
                  <a:pt x="1747" y="1736"/>
                </a:lnTo>
                <a:lnTo>
                  <a:pt x="1761" y="1716"/>
                </a:lnTo>
                <a:lnTo>
                  <a:pt x="1781" y="1697"/>
                </a:lnTo>
                <a:lnTo>
                  <a:pt x="1795" y="1682"/>
                </a:lnTo>
                <a:lnTo>
                  <a:pt x="1805" y="1663"/>
                </a:lnTo>
                <a:lnTo>
                  <a:pt x="1824" y="1643"/>
                </a:lnTo>
                <a:lnTo>
                  <a:pt x="1839" y="1629"/>
                </a:lnTo>
                <a:lnTo>
                  <a:pt x="1853" y="1604"/>
                </a:lnTo>
                <a:lnTo>
                  <a:pt x="1863" y="1585"/>
                </a:lnTo>
                <a:lnTo>
                  <a:pt x="1878" y="1565"/>
                </a:lnTo>
                <a:lnTo>
                  <a:pt x="1892" y="1546"/>
                </a:lnTo>
                <a:lnTo>
                  <a:pt x="1902" y="1527"/>
                </a:lnTo>
                <a:lnTo>
                  <a:pt x="1912" y="1502"/>
                </a:lnTo>
                <a:lnTo>
                  <a:pt x="1921" y="1483"/>
                </a:lnTo>
                <a:lnTo>
                  <a:pt x="1936" y="1463"/>
                </a:lnTo>
                <a:lnTo>
                  <a:pt x="1946" y="1439"/>
                </a:lnTo>
                <a:lnTo>
                  <a:pt x="1955" y="1420"/>
                </a:lnTo>
                <a:lnTo>
                  <a:pt x="1965" y="1390"/>
                </a:lnTo>
                <a:lnTo>
                  <a:pt x="1970" y="1371"/>
                </a:lnTo>
                <a:lnTo>
                  <a:pt x="1984" y="1352"/>
                </a:lnTo>
                <a:lnTo>
                  <a:pt x="1989" y="1327"/>
                </a:lnTo>
                <a:lnTo>
                  <a:pt x="1994" y="1308"/>
                </a:lnTo>
                <a:lnTo>
                  <a:pt x="2004" y="1279"/>
                </a:lnTo>
                <a:lnTo>
                  <a:pt x="2009" y="1259"/>
                </a:lnTo>
                <a:lnTo>
                  <a:pt x="2014" y="1230"/>
                </a:lnTo>
                <a:lnTo>
                  <a:pt x="2018" y="1211"/>
                </a:lnTo>
                <a:lnTo>
                  <a:pt x="2018" y="1191"/>
                </a:lnTo>
                <a:lnTo>
                  <a:pt x="2023" y="1162"/>
                </a:lnTo>
                <a:lnTo>
                  <a:pt x="2028" y="1143"/>
                </a:lnTo>
                <a:lnTo>
                  <a:pt x="2028" y="1113"/>
                </a:lnTo>
                <a:lnTo>
                  <a:pt x="2028" y="1094"/>
                </a:lnTo>
                <a:lnTo>
                  <a:pt x="2038" y="1065"/>
                </a:lnTo>
                <a:lnTo>
                  <a:pt x="2038" y="1045"/>
                </a:lnTo>
                <a:lnTo>
                  <a:pt x="2038" y="102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40" name=""/>
          <p:cNvSpPr/>
          <p:nvPr/>
        </p:nvSpPr>
        <p:spPr>
          <a:xfrm>
            <a:off x="3308400" y="2233440"/>
            <a:ext cx="0" cy="125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1" name=""/>
          <p:cNvSpPr/>
          <p:nvPr/>
        </p:nvSpPr>
        <p:spPr>
          <a:xfrm>
            <a:off x="2394000" y="2590920"/>
            <a:ext cx="122760" cy="147960"/>
          </a:xfrm>
          <a:custGeom>
            <a:avLst/>
            <a:gdLst/>
            <a:ahLst/>
            <a:rect l="0" t="0" r="r" b="b"/>
            <a:pathLst>
              <a:path w="341" h="411">
                <a:moveTo>
                  <a:pt x="0" y="318"/>
                </a:moveTo>
                <a:lnTo>
                  <a:pt x="341" y="0"/>
                </a:lnTo>
                <a:lnTo>
                  <a:pt x="122" y="411"/>
                </a:lnTo>
                <a:lnTo>
                  <a:pt x="0" y="31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42" name=""/>
          <p:cNvSpPr/>
          <p:nvPr/>
        </p:nvSpPr>
        <p:spPr>
          <a:xfrm>
            <a:off x="2476440" y="2354400"/>
            <a:ext cx="260640" cy="263880"/>
          </a:xfrm>
          <a:custGeom>
            <a:avLst/>
            <a:gdLst/>
            <a:ahLst/>
            <a:rect l="0" t="0" r="r" b="b"/>
            <a:pathLst>
              <a:path fill="none" w="724" h="733">
                <a:moveTo>
                  <a:pt x="724" y="358"/>
                </a:moveTo>
                <a:lnTo>
                  <a:pt x="724" y="349"/>
                </a:lnTo>
                <a:lnTo>
                  <a:pt x="724" y="334"/>
                </a:lnTo>
                <a:lnTo>
                  <a:pt x="724" y="319"/>
                </a:lnTo>
                <a:lnTo>
                  <a:pt x="714" y="305"/>
                </a:lnTo>
                <a:lnTo>
                  <a:pt x="714" y="290"/>
                </a:lnTo>
                <a:lnTo>
                  <a:pt x="709" y="281"/>
                </a:lnTo>
                <a:lnTo>
                  <a:pt x="709" y="266"/>
                </a:lnTo>
                <a:lnTo>
                  <a:pt x="704" y="247"/>
                </a:lnTo>
                <a:lnTo>
                  <a:pt x="699" y="237"/>
                </a:lnTo>
                <a:lnTo>
                  <a:pt x="695" y="222"/>
                </a:lnTo>
                <a:lnTo>
                  <a:pt x="690" y="213"/>
                </a:lnTo>
                <a:lnTo>
                  <a:pt x="685" y="193"/>
                </a:lnTo>
                <a:lnTo>
                  <a:pt x="680" y="184"/>
                </a:lnTo>
                <a:lnTo>
                  <a:pt x="670" y="174"/>
                </a:lnTo>
                <a:lnTo>
                  <a:pt x="661" y="164"/>
                </a:lnTo>
                <a:lnTo>
                  <a:pt x="651" y="145"/>
                </a:lnTo>
                <a:lnTo>
                  <a:pt x="646" y="135"/>
                </a:lnTo>
                <a:lnTo>
                  <a:pt x="636" y="126"/>
                </a:lnTo>
                <a:lnTo>
                  <a:pt x="627" y="116"/>
                </a:lnTo>
                <a:lnTo>
                  <a:pt x="617" y="106"/>
                </a:lnTo>
                <a:lnTo>
                  <a:pt x="602" y="92"/>
                </a:lnTo>
                <a:lnTo>
                  <a:pt x="593" y="87"/>
                </a:lnTo>
                <a:lnTo>
                  <a:pt x="583" y="77"/>
                </a:lnTo>
                <a:lnTo>
                  <a:pt x="573" y="67"/>
                </a:lnTo>
                <a:lnTo>
                  <a:pt x="564" y="63"/>
                </a:lnTo>
                <a:lnTo>
                  <a:pt x="549" y="53"/>
                </a:lnTo>
                <a:lnTo>
                  <a:pt x="539" y="43"/>
                </a:lnTo>
                <a:lnTo>
                  <a:pt x="525" y="38"/>
                </a:lnTo>
                <a:lnTo>
                  <a:pt x="515" y="29"/>
                </a:lnTo>
                <a:lnTo>
                  <a:pt x="496" y="24"/>
                </a:lnTo>
                <a:lnTo>
                  <a:pt x="486" y="19"/>
                </a:lnTo>
                <a:lnTo>
                  <a:pt x="471" y="19"/>
                </a:lnTo>
                <a:lnTo>
                  <a:pt x="462" y="14"/>
                </a:lnTo>
                <a:lnTo>
                  <a:pt x="447" y="9"/>
                </a:lnTo>
                <a:lnTo>
                  <a:pt x="428" y="4"/>
                </a:lnTo>
                <a:lnTo>
                  <a:pt x="418" y="4"/>
                </a:lnTo>
                <a:lnTo>
                  <a:pt x="403" y="4"/>
                </a:lnTo>
                <a:lnTo>
                  <a:pt x="384" y="0"/>
                </a:lnTo>
                <a:lnTo>
                  <a:pt x="374" y="0"/>
                </a:lnTo>
                <a:lnTo>
                  <a:pt x="359" y="0"/>
                </a:lnTo>
                <a:lnTo>
                  <a:pt x="344" y="0"/>
                </a:lnTo>
                <a:lnTo>
                  <a:pt x="334" y="0"/>
                </a:lnTo>
                <a:lnTo>
                  <a:pt x="315" y="4"/>
                </a:lnTo>
                <a:lnTo>
                  <a:pt x="305" y="4"/>
                </a:lnTo>
                <a:lnTo>
                  <a:pt x="291" y="4"/>
                </a:lnTo>
                <a:lnTo>
                  <a:pt x="271" y="9"/>
                </a:lnTo>
                <a:lnTo>
                  <a:pt x="262" y="14"/>
                </a:lnTo>
                <a:lnTo>
                  <a:pt x="247" y="19"/>
                </a:lnTo>
                <a:lnTo>
                  <a:pt x="237" y="19"/>
                </a:lnTo>
                <a:lnTo>
                  <a:pt x="223" y="24"/>
                </a:lnTo>
                <a:lnTo>
                  <a:pt x="208" y="29"/>
                </a:lnTo>
                <a:lnTo>
                  <a:pt x="194" y="38"/>
                </a:lnTo>
                <a:lnTo>
                  <a:pt x="184" y="43"/>
                </a:lnTo>
                <a:lnTo>
                  <a:pt x="169" y="53"/>
                </a:lnTo>
                <a:lnTo>
                  <a:pt x="155" y="63"/>
                </a:lnTo>
                <a:lnTo>
                  <a:pt x="145" y="67"/>
                </a:lnTo>
                <a:lnTo>
                  <a:pt x="135" y="77"/>
                </a:lnTo>
                <a:lnTo>
                  <a:pt x="126" y="87"/>
                </a:lnTo>
                <a:lnTo>
                  <a:pt x="116" y="92"/>
                </a:lnTo>
                <a:lnTo>
                  <a:pt x="101" y="106"/>
                </a:lnTo>
                <a:lnTo>
                  <a:pt x="92" y="116"/>
                </a:lnTo>
                <a:lnTo>
                  <a:pt x="82" y="126"/>
                </a:lnTo>
                <a:lnTo>
                  <a:pt x="72" y="135"/>
                </a:lnTo>
                <a:lnTo>
                  <a:pt x="67" y="145"/>
                </a:lnTo>
                <a:lnTo>
                  <a:pt x="58" y="164"/>
                </a:lnTo>
                <a:lnTo>
                  <a:pt x="48" y="174"/>
                </a:lnTo>
                <a:lnTo>
                  <a:pt x="43" y="184"/>
                </a:lnTo>
                <a:lnTo>
                  <a:pt x="33" y="193"/>
                </a:lnTo>
                <a:lnTo>
                  <a:pt x="29" y="213"/>
                </a:lnTo>
                <a:lnTo>
                  <a:pt x="24" y="222"/>
                </a:lnTo>
                <a:lnTo>
                  <a:pt x="19" y="237"/>
                </a:lnTo>
                <a:lnTo>
                  <a:pt x="14" y="247"/>
                </a:lnTo>
                <a:lnTo>
                  <a:pt x="9" y="266"/>
                </a:lnTo>
                <a:lnTo>
                  <a:pt x="9" y="281"/>
                </a:lnTo>
                <a:lnTo>
                  <a:pt x="4" y="290"/>
                </a:lnTo>
                <a:lnTo>
                  <a:pt x="4" y="305"/>
                </a:lnTo>
                <a:lnTo>
                  <a:pt x="0" y="319"/>
                </a:lnTo>
                <a:lnTo>
                  <a:pt x="0" y="334"/>
                </a:lnTo>
                <a:lnTo>
                  <a:pt x="0" y="349"/>
                </a:lnTo>
                <a:lnTo>
                  <a:pt x="0" y="358"/>
                </a:lnTo>
                <a:lnTo>
                  <a:pt x="0" y="379"/>
                </a:lnTo>
                <a:lnTo>
                  <a:pt x="0" y="393"/>
                </a:lnTo>
                <a:lnTo>
                  <a:pt x="0" y="408"/>
                </a:lnTo>
                <a:lnTo>
                  <a:pt x="4" y="422"/>
                </a:lnTo>
                <a:lnTo>
                  <a:pt x="4" y="437"/>
                </a:lnTo>
                <a:lnTo>
                  <a:pt x="9" y="446"/>
                </a:lnTo>
                <a:lnTo>
                  <a:pt x="9" y="461"/>
                </a:lnTo>
                <a:lnTo>
                  <a:pt x="14" y="480"/>
                </a:lnTo>
                <a:lnTo>
                  <a:pt x="19" y="490"/>
                </a:lnTo>
                <a:lnTo>
                  <a:pt x="24" y="505"/>
                </a:lnTo>
                <a:lnTo>
                  <a:pt x="29" y="514"/>
                </a:lnTo>
                <a:lnTo>
                  <a:pt x="33" y="534"/>
                </a:lnTo>
                <a:lnTo>
                  <a:pt x="43" y="543"/>
                </a:lnTo>
                <a:lnTo>
                  <a:pt x="48" y="553"/>
                </a:lnTo>
                <a:lnTo>
                  <a:pt x="58" y="563"/>
                </a:lnTo>
                <a:lnTo>
                  <a:pt x="67" y="582"/>
                </a:lnTo>
                <a:lnTo>
                  <a:pt x="72" y="592"/>
                </a:lnTo>
                <a:lnTo>
                  <a:pt x="82" y="602"/>
                </a:lnTo>
                <a:lnTo>
                  <a:pt x="92" y="611"/>
                </a:lnTo>
                <a:lnTo>
                  <a:pt x="101" y="621"/>
                </a:lnTo>
                <a:lnTo>
                  <a:pt x="116" y="636"/>
                </a:lnTo>
                <a:lnTo>
                  <a:pt x="126" y="640"/>
                </a:lnTo>
                <a:lnTo>
                  <a:pt x="135" y="650"/>
                </a:lnTo>
                <a:lnTo>
                  <a:pt x="145" y="660"/>
                </a:lnTo>
                <a:lnTo>
                  <a:pt x="155" y="665"/>
                </a:lnTo>
                <a:lnTo>
                  <a:pt x="169" y="674"/>
                </a:lnTo>
                <a:lnTo>
                  <a:pt x="184" y="684"/>
                </a:lnTo>
                <a:lnTo>
                  <a:pt x="194" y="689"/>
                </a:lnTo>
                <a:lnTo>
                  <a:pt x="208" y="699"/>
                </a:lnTo>
                <a:lnTo>
                  <a:pt x="223" y="703"/>
                </a:lnTo>
                <a:lnTo>
                  <a:pt x="237" y="703"/>
                </a:lnTo>
                <a:lnTo>
                  <a:pt x="247" y="708"/>
                </a:lnTo>
                <a:lnTo>
                  <a:pt x="262" y="713"/>
                </a:lnTo>
                <a:lnTo>
                  <a:pt x="271" y="718"/>
                </a:lnTo>
                <a:lnTo>
                  <a:pt x="291" y="718"/>
                </a:lnTo>
                <a:lnTo>
                  <a:pt x="305" y="723"/>
                </a:lnTo>
                <a:lnTo>
                  <a:pt x="315" y="723"/>
                </a:lnTo>
                <a:lnTo>
                  <a:pt x="334" y="723"/>
                </a:lnTo>
                <a:lnTo>
                  <a:pt x="344" y="733"/>
                </a:lnTo>
                <a:lnTo>
                  <a:pt x="359" y="733"/>
                </a:lnTo>
                <a:lnTo>
                  <a:pt x="374" y="733"/>
                </a:lnTo>
                <a:lnTo>
                  <a:pt x="384" y="723"/>
                </a:lnTo>
                <a:lnTo>
                  <a:pt x="403" y="723"/>
                </a:lnTo>
                <a:lnTo>
                  <a:pt x="418" y="723"/>
                </a:lnTo>
                <a:lnTo>
                  <a:pt x="428" y="718"/>
                </a:lnTo>
                <a:lnTo>
                  <a:pt x="447" y="718"/>
                </a:lnTo>
                <a:lnTo>
                  <a:pt x="462" y="713"/>
                </a:lnTo>
                <a:lnTo>
                  <a:pt x="471" y="708"/>
                </a:lnTo>
                <a:lnTo>
                  <a:pt x="486" y="703"/>
                </a:lnTo>
                <a:lnTo>
                  <a:pt x="496" y="703"/>
                </a:lnTo>
                <a:lnTo>
                  <a:pt x="515" y="699"/>
                </a:lnTo>
                <a:lnTo>
                  <a:pt x="525" y="689"/>
                </a:lnTo>
                <a:lnTo>
                  <a:pt x="539" y="684"/>
                </a:lnTo>
                <a:lnTo>
                  <a:pt x="549" y="674"/>
                </a:lnTo>
                <a:lnTo>
                  <a:pt x="564" y="665"/>
                </a:lnTo>
                <a:lnTo>
                  <a:pt x="573" y="660"/>
                </a:lnTo>
                <a:lnTo>
                  <a:pt x="583" y="650"/>
                </a:lnTo>
                <a:lnTo>
                  <a:pt x="593" y="640"/>
                </a:lnTo>
                <a:lnTo>
                  <a:pt x="602" y="636"/>
                </a:lnTo>
                <a:lnTo>
                  <a:pt x="617" y="621"/>
                </a:lnTo>
                <a:lnTo>
                  <a:pt x="627" y="611"/>
                </a:lnTo>
                <a:lnTo>
                  <a:pt x="636" y="602"/>
                </a:lnTo>
                <a:lnTo>
                  <a:pt x="646" y="592"/>
                </a:lnTo>
                <a:lnTo>
                  <a:pt x="651" y="582"/>
                </a:lnTo>
                <a:lnTo>
                  <a:pt x="661" y="563"/>
                </a:lnTo>
                <a:lnTo>
                  <a:pt x="670" y="553"/>
                </a:lnTo>
                <a:lnTo>
                  <a:pt x="680" y="543"/>
                </a:lnTo>
                <a:lnTo>
                  <a:pt x="685" y="534"/>
                </a:lnTo>
                <a:lnTo>
                  <a:pt x="690" y="514"/>
                </a:lnTo>
                <a:lnTo>
                  <a:pt x="695" y="505"/>
                </a:lnTo>
                <a:lnTo>
                  <a:pt x="699" y="490"/>
                </a:lnTo>
                <a:lnTo>
                  <a:pt x="704" y="480"/>
                </a:lnTo>
                <a:lnTo>
                  <a:pt x="709" y="461"/>
                </a:lnTo>
                <a:lnTo>
                  <a:pt x="709" y="446"/>
                </a:lnTo>
                <a:lnTo>
                  <a:pt x="714" y="437"/>
                </a:lnTo>
                <a:lnTo>
                  <a:pt x="714" y="422"/>
                </a:lnTo>
                <a:lnTo>
                  <a:pt x="724" y="408"/>
                </a:lnTo>
                <a:lnTo>
                  <a:pt x="724" y="393"/>
                </a:lnTo>
                <a:lnTo>
                  <a:pt x="724" y="379"/>
                </a:lnTo>
                <a:lnTo>
                  <a:pt x="724" y="3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43" name=""/>
          <p:cNvSpPr/>
          <p:nvPr/>
        </p:nvSpPr>
        <p:spPr>
          <a:xfrm>
            <a:off x="3308400" y="293040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4" name=""/>
          <p:cNvSpPr/>
          <p:nvPr/>
        </p:nvSpPr>
        <p:spPr>
          <a:xfrm flipH="1">
            <a:off x="3284640" y="2881440"/>
            <a:ext cx="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5" name=""/>
          <p:cNvSpPr/>
          <p:nvPr/>
        </p:nvSpPr>
        <p:spPr>
          <a:xfrm flipV="1">
            <a:off x="3308400" y="28605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4846" name=""/>
          <p:cNvSpPr/>
          <p:nvPr/>
        </p:nvSpPr>
        <p:spPr>
          <a:xfrm flipV="1">
            <a:off x="3308400" y="2727360"/>
            <a:ext cx="0" cy="11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7" name=""/>
          <p:cNvSpPr/>
          <p:nvPr/>
        </p:nvSpPr>
        <p:spPr>
          <a:xfrm>
            <a:off x="4782960" y="2071800"/>
            <a:ext cx="108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8" name=""/>
          <p:cNvSpPr/>
          <p:nvPr/>
        </p:nvSpPr>
        <p:spPr>
          <a:xfrm flipV="1">
            <a:off x="4194000" y="790560"/>
            <a:ext cx="1328760" cy="76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49" name=""/>
          <p:cNvSpPr/>
          <p:nvPr/>
        </p:nvSpPr>
        <p:spPr>
          <a:xfrm>
            <a:off x="5651640" y="1590840"/>
            <a:ext cx="41760" cy="314640"/>
          </a:xfrm>
          <a:custGeom>
            <a:avLst/>
            <a:gdLst/>
            <a:ahLst/>
            <a:rect l="0" t="0" r="r" b="b"/>
            <a:pathLst>
              <a:path fill="none" w="116" h="874">
                <a:moveTo>
                  <a:pt x="116" y="874"/>
                </a:moveTo>
                <a:lnTo>
                  <a:pt x="107" y="806"/>
                </a:lnTo>
                <a:lnTo>
                  <a:pt x="102" y="743"/>
                </a:lnTo>
                <a:lnTo>
                  <a:pt x="97" y="680"/>
                </a:lnTo>
                <a:lnTo>
                  <a:pt x="92" y="621"/>
                </a:lnTo>
                <a:lnTo>
                  <a:pt x="86" y="558"/>
                </a:lnTo>
                <a:lnTo>
                  <a:pt x="77" y="495"/>
                </a:lnTo>
                <a:lnTo>
                  <a:pt x="72" y="426"/>
                </a:lnTo>
                <a:lnTo>
                  <a:pt x="63" y="368"/>
                </a:lnTo>
                <a:lnTo>
                  <a:pt x="48" y="305"/>
                </a:lnTo>
                <a:lnTo>
                  <a:pt x="39" y="242"/>
                </a:lnTo>
                <a:lnTo>
                  <a:pt x="28" y="179"/>
                </a:lnTo>
                <a:lnTo>
                  <a:pt x="19" y="121"/>
                </a:lnTo>
                <a:lnTo>
                  <a:pt x="9" y="58"/>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0" name=""/>
          <p:cNvSpPr/>
          <p:nvPr/>
        </p:nvSpPr>
        <p:spPr>
          <a:xfrm>
            <a:off x="5456160" y="1015920"/>
            <a:ext cx="122760" cy="292320"/>
          </a:xfrm>
          <a:custGeom>
            <a:avLst/>
            <a:gdLst/>
            <a:ahLst/>
            <a:rect l="0" t="0" r="r" b="b"/>
            <a:pathLst>
              <a:path fill="none" w="341" h="812">
                <a:moveTo>
                  <a:pt x="341" y="812"/>
                </a:moveTo>
                <a:lnTo>
                  <a:pt x="317" y="749"/>
                </a:lnTo>
                <a:lnTo>
                  <a:pt x="297" y="690"/>
                </a:lnTo>
                <a:lnTo>
                  <a:pt x="273" y="632"/>
                </a:lnTo>
                <a:lnTo>
                  <a:pt x="253" y="574"/>
                </a:lnTo>
                <a:lnTo>
                  <a:pt x="228" y="516"/>
                </a:lnTo>
                <a:lnTo>
                  <a:pt x="204" y="457"/>
                </a:lnTo>
                <a:lnTo>
                  <a:pt x="180" y="398"/>
                </a:lnTo>
                <a:lnTo>
                  <a:pt x="156" y="340"/>
                </a:lnTo>
                <a:lnTo>
                  <a:pt x="131" y="281"/>
                </a:lnTo>
                <a:lnTo>
                  <a:pt x="107" y="228"/>
                </a:lnTo>
                <a:lnTo>
                  <a:pt x="77" y="170"/>
                </a:lnTo>
                <a:lnTo>
                  <a:pt x="58" y="111"/>
                </a:lnTo>
                <a:lnTo>
                  <a:pt x="29" y="58"/>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1" name=""/>
          <p:cNvSpPr/>
          <p:nvPr/>
        </p:nvSpPr>
        <p:spPr>
          <a:xfrm>
            <a:off x="5665680" y="1905120"/>
            <a:ext cx="54360" cy="168480"/>
          </a:xfrm>
          <a:custGeom>
            <a:avLst/>
            <a:gdLst/>
            <a:ahLst/>
            <a:rect l="0" t="0" r="r" b="b"/>
            <a:pathLst>
              <a:path w="151" h="468">
                <a:moveTo>
                  <a:pt x="151" y="0"/>
                </a:moveTo>
                <a:lnTo>
                  <a:pt x="0" y="4"/>
                </a:lnTo>
                <a:lnTo>
                  <a:pt x="88" y="468"/>
                </a:lnTo>
                <a:lnTo>
                  <a:pt x="1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2" name=""/>
          <p:cNvSpPr/>
          <p:nvPr/>
        </p:nvSpPr>
        <p:spPr>
          <a:xfrm>
            <a:off x="5376960" y="873000"/>
            <a:ext cx="103680" cy="159120"/>
          </a:xfrm>
          <a:custGeom>
            <a:avLst/>
            <a:gdLst/>
            <a:ahLst/>
            <a:rect l="0" t="0" r="r" b="b"/>
            <a:pathLst>
              <a:path w="288" h="442">
                <a:moveTo>
                  <a:pt x="151" y="442"/>
                </a:moveTo>
                <a:lnTo>
                  <a:pt x="288" y="365"/>
                </a:lnTo>
                <a:lnTo>
                  <a:pt x="0" y="0"/>
                </a:lnTo>
                <a:lnTo>
                  <a:pt x="151" y="4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3" name=""/>
          <p:cNvSpPr/>
          <p:nvPr/>
        </p:nvSpPr>
        <p:spPr>
          <a:xfrm>
            <a:off x="5410080" y="1308240"/>
            <a:ext cx="462240" cy="281520"/>
          </a:xfrm>
          <a:custGeom>
            <a:avLst/>
            <a:gdLst/>
            <a:ahLst/>
            <a:rect l="0" t="0" r="r" b="b"/>
            <a:pathLst>
              <a:path fill="none" w="1284" h="782">
                <a:moveTo>
                  <a:pt x="0" y="782"/>
                </a:moveTo>
                <a:lnTo>
                  <a:pt x="1284" y="782"/>
                </a:lnTo>
                <a:lnTo>
                  <a:pt x="1284" y="0"/>
                </a:lnTo>
                <a:lnTo>
                  <a:pt x="0" y="0"/>
                </a:lnTo>
                <a:lnTo>
                  <a:pt x="0" y="78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54" name=""/>
          <p:cNvSpPr/>
          <p:nvPr/>
        </p:nvSpPr>
        <p:spPr>
          <a:xfrm>
            <a:off x="3470400" y="2071800"/>
            <a:ext cx="125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5" name=""/>
          <p:cNvSpPr/>
          <p:nvPr/>
        </p:nvSpPr>
        <p:spPr>
          <a:xfrm flipV="1">
            <a:off x="3308400" y="652320"/>
            <a:ext cx="0" cy="12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6" name=""/>
          <p:cNvSpPr/>
          <p:nvPr/>
        </p:nvSpPr>
        <p:spPr>
          <a:xfrm flipH="1">
            <a:off x="1890720" y="20718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7" name=""/>
          <p:cNvSpPr/>
          <p:nvPr/>
        </p:nvSpPr>
        <p:spPr>
          <a:xfrm flipV="1">
            <a:off x="3308400" y="198900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8" name=""/>
          <p:cNvSpPr/>
          <p:nvPr/>
        </p:nvSpPr>
        <p:spPr>
          <a:xfrm>
            <a:off x="3222720" y="20718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9" name=""/>
          <p:cNvSpPr/>
          <p:nvPr/>
        </p:nvSpPr>
        <p:spPr>
          <a:xfrm flipV="1">
            <a:off x="2592360" y="1644480"/>
            <a:ext cx="2232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60" name=""/>
          <p:cNvSpPr/>
          <p:nvPr/>
        </p:nvSpPr>
        <p:spPr>
          <a:xfrm>
            <a:off x="4340160" y="1854360"/>
            <a:ext cx="302040" cy="432000"/>
          </a:xfrm>
          <a:custGeom>
            <a:avLst/>
            <a:gdLst/>
            <a:ahLst/>
            <a:rect l="0" t="0" r="r" b="b"/>
            <a:pathLst>
              <a:path fill="none" w="839" h="1200">
                <a:moveTo>
                  <a:pt x="0" y="0"/>
                </a:moveTo>
                <a:lnTo>
                  <a:pt x="0" y="1200"/>
                </a:lnTo>
                <a:lnTo>
                  <a:pt x="839" y="120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1" name=""/>
          <p:cNvSpPr/>
          <p:nvPr/>
        </p:nvSpPr>
        <p:spPr>
          <a:xfrm>
            <a:off x="3878280" y="1533600"/>
            <a:ext cx="262440" cy="262440"/>
          </a:xfrm>
          <a:custGeom>
            <a:avLst/>
            <a:gdLst/>
            <a:ahLst/>
            <a:rect l="0" t="0" r="r" b="b"/>
            <a:pathLst>
              <a:path fill="none" w="729" h="729">
                <a:moveTo>
                  <a:pt x="729" y="364"/>
                </a:moveTo>
                <a:lnTo>
                  <a:pt x="729" y="345"/>
                </a:lnTo>
                <a:lnTo>
                  <a:pt x="729" y="335"/>
                </a:lnTo>
                <a:lnTo>
                  <a:pt x="729" y="321"/>
                </a:lnTo>
                <a:lnTo>
                  <a:pt x="719" y="301"/>
                </a:lnTo>
                <a:lnTo>
                  <a:pt x="719" y="292"/>
                </a:lnTo>
                <a:lnTo>
                  <a:pt x="715" y="277"/>
                </a:lnTo>
                <a:lnTo>
                  <a:pt x="715" y="267"/>
                </a:lnTo>
                <a:lnTo>
                  <a:pt x="710" y="248"/>
                </a:lnTo>
                <a:lnTo>
                  <a:pt x="705" y="233"/>
                </a:lnTo>
                <a:lnTo>
                  <a:pt x="700" y="224"/>
                </a:lnTo>
                <a:lnTo>
                  <a:pt x="695" y="209"/>
                </a:lnTo>
                <a:lnTo>
                  <a:pt x="690" y="195"/>
                </a:lnTo>
                <a:lnTo>
                  <a:pt x="681" y="185"/>
                </a:lnTo>
                <a:lnTo>
                  <a:pt x="671" y="169"/>
                </a:lnTo>
                <a:lnTo>
                  <a:pt x="666" y="160"/>
                </a:lnTo>
                <a:lnTo>
                  <a:pt x="656" y="145"/>
                </a:lnTo>
                <a:lnTo>
                  <a:pt x="651" y="135"/>
                </a:lnTo>
                <a:lnTo>
                  <a:pt x="642" y="126"/>
                </a:lnTo>
                <a:lnTo>
                  <a:pt x="632" y="116"/>
                </a:lnTo>
                <a:lnTo>
                  <a:pt x="618" y="106"/>
                </a:lnTo>
                <a:lnTo>
                  <a:pt x="608" y="92"/>
                </a:lnTo>
                <a:lnTo>
                  <a:pt x="598" y="82"/>
                </a:lnTo>
                <a:lnTo>
                  <a:pt x="588" y="72"/>
                </a:lnTo>
                <a:lnTo>
                  <a:pt x="579" y="67"/>
                </a:lnTo>
                <a:lnTo>
                  <a:pt x="564" y="58"/>
                </a:lnTo>
                <a:lnTo>
                  <a:pt x="554" y="53"/>
                </a:lnTo>
                <a:lnTo>
                  <a:pt x="539" y="38"/>
                </a:lnTo>
                <a:lnTo>
                  <a:pt x="529" y="33"/>
                </a:lnTo>
                <a:lnTo>
                  <a:pt x="515" y="29"/>
                </a:lnTo>
                <a:lnTo>
                  <a:pt x="500" y="24"/>
                </a:lnTo>
                <a:lnTo>
                  <a:pt x="490" y="19"/>
                </a:lnTo>
                <a:lnTo>
                  <a:pt x="476" y="14"/>
                </a:lnTo>
                <a:lnTo>
                  <a:pt x="461" y="9"/>
                </a:lnTo>
                <a:lnTo>
                  <a:pt x="447" y="9"/>
                </a:lnTo>
                <a:lnTo>
                  <a:pt x="432" y="4"/>
                </a:lnTo>
                <a:lnTo>
                  <a:pt x="423" y="0"/>
                </a:lnTo>
                <a:lnTo>
                  <a:pt x="403" y="0"/>
                </a:lnTo>
                <a:lnTo>
                  <a:pt x="389" y="0"/>
                </a:lnTo>
                <a:lnTo>
                  <a:pt x="379" y="0"/>
                </a:lnTo>
                <a:lnTo>
                  <a:pt x="364" y="0"/>
                </a:lnTo>
                <a:lnTo>
                  <a:pt x="345" y="0"/>
                </a:lnTo>
                <a:lnTo>
                  <a:pt x="335" y="0"/>
                </a:lnTo>
                <a:lnTo>
                  <a:pt x="321" y="0"/>
                </a:lnTo>
                <a:lnTo>
                  <a:pt x="301" y="0"/>
                </a:lnTo>
                <a:lnTo>
                  <a:pt x="292" y="4"/>
                </a:lnTo>
                <a:lnTo>
                  <a:pt x="277" y="9"/>
                </a:lnTo>
                <a:lnTo>
                  <a:pt x="267" y="9"/>
                </a:lnTo>
                <a:lnTo>
                  <a:pt x="248" y="14"/>
                </a:lnTo>
                <a:lnTo>
                  <a:pt x="233" y="19"/>
                </a:lnTo>
                <a:lnTo>
                  <a:pt x="224" y="24"/>
                </a:lnTo>
                <a:lnTo>
                  <a:pt x="209" y="29"/>
                </a:lnTo>
                <a:lnTo>
                  <a:pt x="195" y="33"/>
                </a:lnTo>
                <a:lnTo>
                  <a:pt x="185" y="38"/>
                </a:lnTo>
                <a:lnTo>
                  <a:pt x="169" y="53"/>
                </a:lnTo>
                <a:lnTo>
                  <a:pt x="160" y="58"/>
                </a:lnTo>
                <a:lnTo>
                  <a:pt x="145" y="67"/>
                </a:lnTo>
                <a:lnTo>
                  <a:pt x="135" y="72"/>
                </a:lnTo>
                <a:lnTo>
                  <a:pt x="126" y="82"/>
                </a:lnTo>
                <a:lnTo>
                  <a:pt x="116" y="92"/>
                </a:lnTo>
                <a:lnTo>
                  <a:pt x="106" y="106"/>
                </a:lnTo>
                <a:lnTo>
                  <a:pt x="92" y="116"/>
                </a:lnTo>
                <a:lnTo>
                  <a:pt x="82" y="126"/>
                </a:lnTo>
                <a:lnTo>
                  <a:pt x="72" y="135"/>
                </a:lnTo>
                <a:lnTo>
                  <a:pt x="67" y="145"/>
                </a:lnTo>
                <a:lnTo>
                  <a:pt x="58" y="160"/>
                </a:lnTo>
                <a:lnTo>
                  <a:pt x="53" y="169"/>
                </a:lnTo>
                <a:lnTo>
                  <a:pt x="38" y="185"/>
                </a:lnTo>
                <a:lnTo>
                  <a:pt x="33" y="195"/>
                </a:lnTo>
                <a:lnTo>
                  <a:pt x="29" y="209"/>
                </a:lnTo>
                <a:lnTo>
                  <a:pt x="24" y="224"/>
                </a:lnTo>
                <a:lnTo>
                  <a:pt x="19" y="233"/>
                </a:lnTo>
                <a:lnTo>
                  <a:pt x="14" y="248"/>
                </a:lnTo>
                <a:lnTo>
                  <a:pt x="9" y="267"/>
                </a:lnTo>
                <a:lnTo>
                  <a:pt x="9" y="277"/>
                </a:lnTo>
                <a:lnTo>
                  <a:pt x="4" y="292"/>
                </a:lnTo>
                <a:lnTo>
                  <a:pt x="4" y="301"/>
                </a:lnTo>
                <a:lnTo>
                  <a:pt x="0" y="321"/>
                </a:lnTo>
                <a:lnTo>
                  <a:pt x="0" y="335"/>
                </a:lnTo>
                <a:lnTo>
                  <a:pt x="0" y="345"/>
                </a:lnTo>
                <a:lnTo>
                  <a:pt x="0" y="364"/>
                </a:lnTo>
                <a:lnTo>
                  <a:pt x="0" y="379"/>
                </a:lnTo>
                <a:lnTo>
                  <a:pt x="0" y="389"/>
                </a:lnTo>
                <a:lnTo>
                  <a:pt x="0" y="403"/>
                </a:lnTo>
                <a:lnTo>
                  <a:pt x="4" y="423"/>
                </a:lnTo>
                <a:lnTo>
                  <a:pt x="4" y="432"/>
                </a:lnTo>
                <a:lnTo>
                  <a:pt x="9" y="447"/>
                </a:lnTo>
                <a:lnTo>
                  <a:pt x="9" y="456"/>
                </a:lnTo>
                <a:lnTo>
                  <a:pt x="14" y="476"/>
                </a:lnTo>
                <a:lnTo>
                  <a:pt x="19" y="490"/>
                </a:lnTo>
                <a:lnTo>
                  <a:pt x="24" y="500"/>
                </a:lnTo>
                <a:lnTo>
                  <a:pt x="29" y="515"/>
                </a:lnTo>
                <a:lnTo>
                  <a:pt x="33" y="529"/>
                </a:lnTo>
                <a:lnTo>
                  <a:pt x="38" y="539"/>
                </a:lnTo>
                <a:lnTo>
                  <a:pt x="53" y="554"/>
                </a:lnTo>
                <a:lnTo>
                  <a:pt x="58" y="564"/>
                </a:lnTo>
                <a:lnTo>
                  <a:pt x="67" y="579"/>
                </a:lnTo>
                <a:lnTo>
                  <a:pt x="72" y="588"/>
                </a:lnTo>
                <a:lnTo>
                  <a:pt x="82" y="598"/>
                </a:lnTo>
                <a:lnTo>
                  <a:pt x="92" y="608"/>
                </a:lnTo>
                <a:lnTo>
                  <a:pt x="106" y="618"/>
                </a:lnTo>
                <a:lnTo>
                  <a:pt x="116" y="632"/>
                </a:lnTo>
                <a:lnTo>
                  <a:pt x="126" y="642"/>
                </a:lnTo>
                <a:lnTo>
                  <a:pt x="135" y="651"/>
                </a:lnTo>
                <a:lnTo>
                  <a:pt x="145" y="656"/>
                </a:lnTo>
                <a:lnTo>
                  <a:pt x="160" y="666"/>
                </a:lnTo>
                <a:lnTo>
                  <a:pt x="169" y="671"/>
                </a:lnTo>
                <a:lnTo>
                  <a:pt x="185" y="685"/>
                </a:lnTo>
                <a:lnTo>
                  <a:pt x="195" y="690"/>
                </a:lnTo>
                <a:lnTo>
                  <a:pt x="209" y="695"/>
                </a:lnTo>
                <a:lnTo>
                  <a:pt x="224" y="700"/>
                </a:lnTo>
                <a:lnTo>
                  <a:pt x="233" y="705"/>
                </a:lnTo>
                <a:lnTo>
                  <a:pt x="248" y="710"/>
                </a:lnTo>
                <a:lnTo>
                  <a:pt x="267" y="715"/>
                </a:lnTo>
                <a:lnTo>
                  <a:pt x="277" y="715"/>
                </a:lnTo>
                <a:lnTo>
                  <a:pt x="292" y="719"/>
                </a:lnTo>
                <a:lnTo>
                  <a:pt x="301" y="719"/>
                </a:lnTo>
                <a:lnTo>
                  <a:pt x="321" y="729"/>
                </a:lnTo>
                <a:lnTo>
                  <a:pt x="335" y="729"/>
                </a:lnTo>
                <a:lnTo>
                  <a:pt x="345" y="729"/>
                </a:lnTo>
                <a:lnTo>
                  <a:pt x="364" y="729"/>
                </a:lnTo>
                <a:lnTo>
                  <a:pt x="379" y="729"/>
                </a:lnTo>
                <a:lnTo>
                  <a:pt x="389" y="729"/>
                </a:lnTo>
                <a:lnTo>
                  <a:pt x="403" y="729"/>
                </a:lnTo>
                <a:lnTo>
                  <a:pt x="423" y="719"/>
                </a:lnTo>
                <a:lnTo>
                  <a:pt x="432" y="719"/>
                </a:lnTo>
                <a:lnTo>
                  <a:pt x="447" y="715"/>
                </a:lnTo>
                <a:lnTo>
                  <a:pt x="461" y="715"/>
                </a:lnTo>
                <a:lnTo>
                  <a:pt x="476" y="710"/>
                </a:lnTo>
                <a:lnTo>
                  <a:pt x="490" y="705"/>
                </a:lnTo>
                <a:lnTo>
                  <a:pt x="500" y="700"/>
                </a:lnTo>
                <a:lnTo>
                  <a:pt x="515" y="695"/>
                </a:lnTo>
                <a:lnTo>
                  <a:pt x="529" y="690"/>
                </a:lnTo>
                <a:lnTo>
                  <a:pt x="539" y="685"/>
                </a:lnTo>
                <a:lnTo>
                  <a:pt x="554" y="671"/>
                </a:lnTo>
                <a:lnTo>
                  <a:pt x="564" y="666"/>
                </a:lnTo>
                <a:lnTo>
                  <a:pt x="579" y="656"/>
                </a:lnTo>
                <a:lnTo>
                  <a:pt x="588" y="651"/>
                </a:lnTo>
                <a:lnTo>
                  <a:pt x="598" y="642"/>
                </a:lnTo>
                <a:lnTo>
                  <a:pt x="608" y="632"/>
                </a:lnTo>
                <a:lnTo>
                  <a:pt x="618" y="618"/>
                </a:lnTo>
                <a:lnTo>
                  <a:pt x="632" y="608"/>
                </a:lnTo>
                <a:lnTo>
                  <a:pt x="642" y="598"/>
                </a:lnTo>
                <a:lnTo>
                  <a:pt x="651" y="588"/>
                </a:lnTo>
                <a:lnTo>
                  <a:pt x="656" y="579"/>
                </a:lnTo>
                <a:lnTo>
                  <a:pt x="666" y="564"/>
                </a:lnTo>
                <a:lnTo>
                  <a:pt x="671" y="554"/>
                </a:lnTo>
                <a:lnTo>
                  <a:pt x="681" y="539"/>
                </a:lnTo>
                <a:lnTo>
                  <a:pt x="690" y="529"/>
                </a:lnTo>
                <a:lnTo>
                  <a:pt x="695" y="515"/>
                </a:lnTo>
                <a:lnTo>
                  <a:pt x="700" y="500"/>
                </a:lnTo>
                <a:lnTo>
                  <a:pt x="705" y="490"/>
                </a:lnTo>
                <a:lnTo>
                  <a:pt x="710" y="476"/>
                </a:lnTo>
                <a:lnTo>
                  <a:pt x="715" y="456"/>
                </a:lnTo>
                <a:lnTo>
                  <a:pt x="715" y="447"/>
                </a:lnTo>
                <a:lnTo>
                  <a:pt x="719" y="432"/>
                </a:lnTo>
                <a:lnTo>
                  <a:pt x="719" y="423"/>
                </a:lnTo>
                <a:lnTo>
                  <a:pt x="729" y="403"/>
                </a:lnTo>
                <a:lnTo>
                  <a:pt x="729" y="389"/>
                </a:lnTo>
                <a:lnTo>
                  <a:pt x="729" y="379"/>
                </a:lnTo>
                <a:lnTo>
                  <a:pt x="729" y="36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2" name=""/>
          <p:cNvSpPr/>
          <p:nvPr/>
        </p:nvSpPr>
        <p:spPr>
          <a:xfrm>
            <a:off x="3997440" y="1644480"/>
            <a:ext cx="219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4863" name=""/>
          <p:cNvSpPr/>
          <p:nvPr/>
        </p:nvSpPr>
        <p:spPr>
          <a:xfrm flipH="1">
            <a:off x="3959280" y="1625760"/>
            <a:ext cx="10800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864" name=""/>
          <p:cNvSpPr/>
          <p:nvPr/>
        </p:nvSpPr>
        <p:spPr>
          <a:xfrm>
            <a:off x="4343400" y="18543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5" name=""/>
          <p:cNvSpPr/>
          <p:nvPr/>
        </p:nvSpPr>
        <p:spPr>
          <a:xfrm>
            <a:off x="6021360" y="3927600"/>
            <a:ext cx="133560" cy="116280"/>
          </a:xfrm>
          <a:custGeom>
            <a:avLst/>
            <a:gdLst/>
            <a:ahLst/>
            <a:rect l="0" t="0" r="r" b="b"/>
            <a:pathLst>
              <a:path w="371" h="323">
                <a:moveTo>
                  <a:pt x="371" y="0"/>
                </a:moveTo>
                <a:lnTo>
                  <a:pt x="180"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66" name=""/>
          <p:cNvSpPr/>
          <p:nvPr/>
        </p:nvSpPr>
        <p:spPr>
          <a:xfrm flipV="1">
            <a:off x="6087960" y="392760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7" name=""/>
          <p:cNvSpPr/>
          <p:nvPr/>
        </p:nvSpPr>
        <p:spPr>
          <a:xfrm>
            <a:off x="6019920" y="392760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8" name=""/>
          <p:cNvSpPr/>
          <p:nvPr/>
        </p:nvSpPr>
        <p:spPr>
          <a:xfrm>
            <a:off x="6021360" y="39276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9" name=""/>
          <p:cNvSpPr/>
          <p:nvPr/>
        </p:nvSpPr>
        <p:spPr>
          <a:xfrm>
            <a:off x="6086520" y="40449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0" name=""/>
          <p:cNvSpPr/>
          <p:nvPr/>
        </p:nvSpPr>
        <p:spPr>
          <a:xfrm>
            <a:off x="5224320" y="384336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1" name=""/>
          <p:cNvSpPr/>
          <p:nvPr/>
        </p:nvSpPr>
        <p:spPr>
          <a:xfrm flipV="1">
            <a:off x="5338800" y="3675240"/>
            <a:ext cx="0" cy="16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2" name=""/>
          <p:cNvSpPr/>
          <p:nvPr/>
        </p:nvSpPr>
        <p:spPr>
          <a:xfrm>
            <a:off x="5535720" y="3592440"/>
            <a:ext cx="0" cy="33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3" name=""/>
          <p:cNvSpPr/>
          <p:nvPr/>
        </p:nvSpPr>
        <p:spPr>
          <a:xfrm>
            <a:off x="6702480" y="3597120"/>
            <a:ext cx="0" cy="33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4" name=""/>
          <p:cNvSpPr/>
          <p:nvPr/>
        </p:nvSpPr>
        <p:spPr>
          <a:xfrm>
            <a:off x="5143320" y="3592440"/>
            <a:ext cx="1933920" cy="335160"/>
          </a:xfrm>
          <a:custGeom>
            <a:avLst/>
            <a:gdLst/>
            <a:ahLst/>
            <a:rect l="0" t="0" r="r" b="b"/>
            <a:pathLst>
              <a:path fill="none" w="5372" h="931">
                <a:moveTo>
                  <a:pt x="0" y="931"/>
                </a:moveTo>
                <a:lnTo>
                  <a:pt x="0" y="0"/>
                </a:lnTo>
                <a:lnTo>
                  <a:pt x="5372" y="0"/>
                </a:lnTo>
                <a:lnTo>
                  <a:pt x="5372" y="931"/>
                </a:lnTo>
                <a:lnTo>
                  <a:pt x="0" y="93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75" name=""/>
          <p:cNvSpPr/>
          <p:nvPr/>
        </p:nvSpPr>
        <p:spPr>
          <a:xfrm>
            <a:off x="5924520" y="4214880"/>
            <a:ext cx="311400" cy="314640"/>
          </a:xfrm>
          <a:custGeom>
            <a:avLst/>
            <a:gdLst/>
            <a:ahLst/>
            <a:rect l="0" t="0" r="r" b="b"/>
            <a:pathLst>
              <a:path fill="none" w="865" h="874">
                <a:moveTo>
                  <a:pt x="0" y="874"/>
                </a:moveTo>
                <a:lnTo>
                  <a:pt x="0" y="0"/>
                </a:lnTo>
                <a:lnTo>
                  <a:pt x="865" y="0"/>
                </a:lnTo>
                <a:lnTo>
                  <a:pt x="865"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76" name=""/>
          <p:cNvSpPr txBox="1"/>
          <p:nvPr/>
        </p:nvSpPr>
        <p:spPr>
          <a:xfrm>
            <a:off x="5945040" y="42181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t>
            </a:r>
            <a:endParaRPr b="0" lang="en-US" sz="1600" spc="-1" strike="noStrike">
              <a:solidFill>
                <a:srgbClr val="000000"/>
              </a:solidFill>
              <a:latin typeface="Arial"/>
            </a:endParaRPr>
          </a:p>
        </p:txBody>
      </p:sp>
      <p:grpSp>
        <p:nvGrpSpPr>
          <p:cNvPr id="4877" name=""/>
          <p:cNvGrpSpPr/>
          <p:nvPr/>
        </p:nvGrpSpPr>
        <p:grpSpPr>
          <a:xfrm>
            <a:off x="5645160" y="3662280"/>
            <a:ext cx="131760" cy="196920"/>
            <a:chOff x="5645160" y="3662280"/>
            <a:chExt cx="131760" cy="196920"/>
          </a:xfrm>
        </p:grpSpPr>
        <p:sp>
          <p:nvSpPr>
            <p:cNvPr id="4878" name=""/>
            <p:cNvSpPr/>
            <p:nvPr/>
          </p:nvSpPr>
          <p:spPr>
            <a:xfrm flipV="1">
              <a:off x="5653080" y="366228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9" name=""/>
            <p:cNvSpPr/>
            <p:nvPr/>
          </p:nvSpPr>
          <p:spPr>
            <a:xfrm>
              <a:off x="5645160" y="369396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880" name=""/>
          <p:cNvSpPr txBox="1"/>
          <p:nvPr/>
        </p:nvSpPr>
        <p:spPr>
          <a:xfrm>
            <a:off x="5827680" y="3605040"/>
            <a:ext cx="531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a:t>
            </a:r>
            <a:endParaRPr b="0" lang="en-US" sz="1600" spc="-1" strike="noStrike">
              <a:solidFill>
                <a:srgbClr val="000000"/>
              </a:solidFill>
              <a:latin typeface="Arial"/>
            </a:endParaRPr>
          </a:p>
        </p:txBody>
      </p:sp>
      <p:sp>
        <p:nvSpPr>
          <p:cNvPr id="4881" name=""/>
          <p:cNvSpPr/>
          <p:nvPr/>
        </p:nvSpPr>
        <p:spPr>
          <a:xfrm>
            <a:off x="6269040" y="3630600"/>
            <a:ext cx="27792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882" name=""/>
          <p:cNvSpPr txBox="1"/>
          <p:nvPr/>
        </p:nvSpPr>
        <p:spPr>
          <a:xfrm>
            <a:off x="6213600" y="360684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883" name=""/>
          <p:cNvSpPr txBox="1"/>
          <p:nvPr/>
        </p:nvSpPr>
        <p:spPr>
          <a:xfrm>
            <a:off x="6700680" y="361008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4884" name=""/>
          <p:cNvSpPr/>
          <p:nvPr/>
        </p:nvSpPr>
        <p:spPr>
          <a:xfrm>
            <a:off x="4605480" y="3386160"/>
            <a:ext cx="67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85" name=""/>
          <p:cNvGrpSpPr/>
          <p:nvPr/>
        </p:nvGrpSpPr>
        <p:grpSpPr>
          <a:xfrm>
            <a:off x="5397480" y="3290760"/>
            <a:ext cx="131760" cy="196920"/>
            <a:chOff x="5397480" y="3290760"/>
            <a:chExt cx="131760" cy="196920"/>
          </a:xfrm>
        </p:grpSpPr>
        <p:sp>
          <p:nvSpPr>
            <p:cNvPr id="4886" name=""/>
            <p:cNvSpPr/>
            <p:nvPr/>
          </p:nvSpPr>
          <p:spPr>
            <a:xfrm flipV="1">
              <a:off x="5405400" y="329076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7" name=""/>
            <p:cNvSpPr/>
            <p:nvPr/>
          </p:nvSpPr>
          <p:spPr>
            <a:xfrm>
              <a:off x="5397480" y="332280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888" name=""/>
          <p:cNvSpPr txBox="1"/>
          <p:nvPr/>
        </p:nvSpPr>
        <p:spPr>
          <a:xfrm>
            <a:off x="5394240" y="3216240"/>
            <a:ext cx="1309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4.6 - 15.0</a:t>
            </a:r>
            <a:endParaRPr b="0" lang="en-US" sz="1800" spc="-1" strike="noStrike">
              <a:solidFill>
                <a:srgbClr val="000000"/>
              </a:solidFill>
              <a:latin typeface="Arial"/>
            </a:endParaRPr>
          </a:p>
        </p:txBody>
      </p:sp>
      <p:grpSp>
        <p:nvGrpSpPr>
          <p:cNvPr id="4889" name=""/>
          <p:cNvGrpSpPr/>
          <p:nvPr/>
        </p:nvGrpSpPr>
        <p:grpSpPr>
          <a:xfrm>
            <a:off x="1969920" y="4405320"/>
            <a:ext cx="2671920" cy="1474920"/>
            <a:chOff x="1969920" y="4405320"/>
            <a:chExt cx="2671920" cy="1474920"/>
          </a:xfrm>
        </p:grpSpPr>
        <p:sp>
          <p:nvSpPr>
            <p:cNvPr id="4890" name=""/>
            <p:cNvSpPr/>
            <p:nvPr/>
          </p:nvSpPr>
          <p:spPr>
            <a:xfrm>
              <a:off x="1969920" y="4738680"/>
              <a:ext cx="267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1" name=""/>
            <p:cNvSpPr/>
            <p:nvPr/>
          </p:nvSpPr>
          <p:spPr>
            <a:xfrm>
              <a:off x="1969920" y="5143680"/>
              <a:ext cx="267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2" name=""/>
            <p:cNvSpPr/>
            <p:nvPr/>
          </p:nvSpPr>
          <p:spPr>
            <a:xfrm>
              <a:off x="3308400" y="4405320"/>
              <a:ext cx="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3" name=""/>
            <p:cNvSpPr/>
            <p:nvPr/>
          </p:nvSpPr>
          <p:spPr>
            <a:xfrm>
              <a:off x="3308400" y="487188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4" name=""/>
            <p:cNvSpPr/>
            <p:nvPr/>
          </p:nvSpPr>
          <p:spPr>
            <a:xfrm>
              <a:off x="3308400" y="510048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5" name=""/>
            <p:cNvSpPr/>
            <p:nvPr/>
          </p:nvSpPr>
          <p:spPr>
            <a:xfrm>
              <a:off x="1971720" y="474012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6" name=""/>
            <p:cNvSpPr/>
            <p:nvPr/>
          </p:nvSpPr>
          <p:spPr>
            <a:xfrm>
              <a:off x="2941560" y="47386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4897" name=""/>
            <p:cNvSpPr/>
            <p:nvPr/>
          </p:nvSpPr>
          <p:spPr>
            <a:xfrm>
              <a:off x="2941560" y="488628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98" name=""/>
            <p:cNvSpPr/>
            <p:nvPr/>
          </p:nvSpPr>
          <p:spPr>
            <a:xfrm>
              <a:off x="2941560" y="505620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4899" name=""/>
            <p:cNvSpPr/>
            <p:nvPr/>
          </p:nvSpPr>
          <p:spPr>
            <a:xfrm>
              <a:off x="3675240" y="47386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4900" name=""/>
            <p:cNvSpPr/>
            <p:nvPr/>
          </p:nvSpPr>
          <p:spPr>
            <a:xfrm>
              <a:off x="3675240" y="488628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1" name=""/>
            <p:cNvSpPr/>
            <p:nvPr/>
          </p:nvSpPr>
          <p:spPr>
            <a:xfrm>
              <a:off x="3675240" y="505620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4902" name=""/>
            <p:cNvSpPr/>
            <p:nvPr/>
          </p:nvSpPr>
          <p:spPr>
            <a:xfrm>
              <a:off x="4641840" y="474012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3" name=""/>
            <p:cNvSpPr/>
            <p:nvPr/>
          </p:nvSpPr>
          <p:spPr>
            <a:xfrm>
              <a:off x="3929040" y="5145120"/>
              <a:ext cx="133560" cy="116280"/>
            </a:xfrm>
            <a:custGeom>
              <a:avLst/>
              <a:gdLst/>
              <a:ahLst/>
              <a:rect l="0" t="0" r="r" b="b"/>
              <a:pathLst>
                <a:path w="371" h="323">
                  <a:moveTo>
                    <a:pt x="371" y="0"/>
                  </a:moveTo>
                  <a:lnTo>
                    <a:pt x="186"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04" name=""/>
            <p:cNvSpPr/>
            <p:nvPr/>
          </p:nvSpPr>
          <p:spPr>
            <a:xfrm flipV="1">
              <a:off x="3994200" y="514512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5" name=""/>
            <p:cNvSpPr/>
            <p:nvPr/>
          </p:nvSpPr>
          <p:spPr>
            <a:xfrm>
              <a:off x="3929040" y="514512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6" name=""/>
            <p:cNvSpPr/>
            <p:nvPr/>
          </p:nvSpPr>
          <p:spPr>
            <a:xfrm>
              <a:off x="3929040" y="5145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7" name=""/>
            <p:cNvSpPr/>
            <p:nvPr/>
          </p:nvSpPr>
          <p:spPr>
            <a:xfrm>
              <a:off x="3994200" y="522432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08" name=""/>
            <p:cNvGrpSpPr/>
            <p:nvPr/>
          </p:nvGrpSpPr>
          <p:grpSpPr>
            <a:xfrm>
              <a:off x="3835440" y="5511960"/>
              <a:ext cx="330120" cy="368280"/>
              <a:chOff x="3835440" y="5511960"/>
              <a:chExt cx="330120" cy="368280"/>
            </a:xfrm>
          </p:grpSpPr>
          <p:sp>
            <p:nvSpPr>
              <p:cNvPr id="4909" name=""/>
              <p:cNvSpPr/>
              <p:nvPr/>
            </p:nvSpPr>
            <p:spPr>
              <a:xfrm>
                <a:off x="3841920" y="5511960"/>
                <a:ext cx="314640" cy="314640"/>
              </a:xfrm>
              <a:custGeom>
                <a:avLst/>
                <a:gdLst/>
                <a:ahLst/>
                <a:rect l="0" t="0" r="r" b="b"/>
                <a:pathLst>
                  <a:path fill="none" w="874" h="874">
                    <a:moveTo>
                      <a:pt x="0" y="874"/>
                    </a:moveTo>
                    <a:lnTo>
                      <a:pt x="0" y="0"/>
                    </a:lnTo>
                    <a:lnTo>
                      <a:pt x="874" y="0"/>
                    </a:lnTo>
                    <a:lnTo>
                      <a:pt x="874"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10" name=""/>
              <p:cNvSpPr txBox="1"/>
              <p:nvPr/>
            </p:nvSpPr>
            <p:spPr>
              <a:xfrm>
                <a:off x="3835440" y="55436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grpSp>
      </p:grpSp>
      <p:grpSp>
        <p:nvGrpSpPr>
          <p:cNvPr id="4911" name=""/>
          <p:cNvGrpSpPr/>
          <p:nvPr/>
        </p:nvGrpSpPr>
        <p:grpSpPr>
          <a:xfrm>
            <a:off x="1595520" y="3811680"/>
            <a:ext cx="2822760" cy="366840"/>
            <a:chOff x="1595520" y="3811680"/>
            <a:chExt cx="2822760" cy="366840"/>
          </a:xfrm>
        </p:grpSpPr>
        <p:sp>
          <p:nvSpPr>
            <p:cNvPr id="4912" name=""/>
            <p:cNvSpPr/>
            <p:nvPr/>
          </p:nvSpPr>
          <p:spPr>
            <a:xfrm>
              <a:off x="1932120" y="381168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3" name=""/>
            <p:cNvSpPr/>
            <p:nvPr/>
          </p:nvSpPr>
          <p:spPr>
            <a:xfrm>
              <a:off x="2886120" y="381168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4" name=""/>
            <p:cNvSpPr/>
            <p:nvPr/>
          </p:nvSpPr>
          <p:spPr>
            <a:xfrm>
              <a:off x="1595520" y="38116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915" name=""/>
            <p:cNvGrpSpPr/>
            <p:nvPr/>
          </p:nvGrpSpPr>
          <p:grpSpPr>
            <a:xfrm>
              <a:off x="1658880" y="3876840"/>
              <a:ext cx="214200" cy="212400"/>
              <a:chOff x="1658880" y="3876840"/>
              <a:chExt cx="214200" cy="212400"/>
            </a:xfrm>
          </p:grpSpPr>
          <p:sp>
            <p:nvSpPr>
              <p:cNvPr id="4916" name=""/>
              <p:cNvSpPr/>
              <p:nvPr/>
            </p:nvSpPr>
            <p:spPr>
              <a:xfrm>
                <a:off x="1658880" y="397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7" name=""/>
              <p:cNvSpPr/>
              <p:nvPr/>
            </p:nvSpPr>
            <p:spPr>
              <a:xfrm>
                <a:off x="1763640" y="3876840"/>
                <a:ext cx="0" cy="21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8" name=""/>
              <p:cNvSpPr/>
              <p:nvPr/>
            </p:nvSpPr>
            <p:spPr>
              <a:xfrm>
                <a:off x="1679400" y="389736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4919" name=""/>
            <p:cNvGrpSpPr/>
            <p:nvPr/>
          </p:nvGrpSpPr>
          <p:grpSpPr>
            <a:xfrm>
              <a:off x="1986120" y="3884760"/>
              <a:ext cx="131760" cy="196560"/>
              <a:chOff x="1986120" y="3884760"/>
              <a:chExt cx="131760" cy="196560"/>
            </a:xfrm>
          </p:grpSpPr>
          <p:sp>
            <p:nvSpPr>
              <p:cNvPr id="4920" name=""/>
              <p:cNvSpPr/>
              <p:nvPr/>
            </p:nvSpPr>
            <p:spPr>
              <a:xfrm flipV="1">
                <a:off x="1994040" y="3884760"/>
                <a:ext cx="114120" cy="19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1" name=""/>
              <p:cNvSpPr/>
              <p:nvPr/>
            </p:nvSpPr>
            <p:spPr>
              <a:xfrm>
                <a:off x="1986120" y="391644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922" name=""/>
            <p:cNvSpPr txBox="1"/>
            <p:nvPr/>
          </p:nvSpPr>
          <p:spPr>
            <a:xfrm>
              <a:off x="2117880" y="38354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a:t>
              </a:r>
              <a:endParaRPr b="0" lang="en-US" sz="1600" spc="-1" strike="noStrike">
                <a:solidFill>
                  <a:srgbClr val="000000"/>
                </a:solidFill>
                <a:latin typeface="Arial"/>
              </a:endParaRPr>
            </a:p>
          </p:txBody>
        </p:sp>
        <p:sp>
          <p:nvSpPr>
            <p:cNvPr id="4923" name=""/>
            <p:cNvSpPr/>
            <p:nvPr/>
          </p:nvSpPr>
          <p:spPr>
            <a:xfrm>
              <a:off x="2581200" y="3851280"/>
              <a:ext cx="26352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24" name=""/>
            <p:cNvSpPr txBox="1"/>
            <p:nvPr/>
          </p:nvSpPr>
          <p:spPr>
            <a:xfrm>
              <a:off x="2521080" y="3827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925" name=""/>
            <p:cNvSpPr txBox="1"/>
            <p:nvPr/>
          </p:nvSpPr>
          <p:spPr>
            <a:xfrm>
              <a:off x="2876400" y="38336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4926" name=""/>
            <p:cNvSpPr/>
            <p:nvPr/>
          </p:nvSpPr>
          <p:spPr>
            <a:xfrm>
              <a:off x="3241800" y="381312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7" name=""/>
            <p:cNvSpPr txBox="1"/>
            <p:nvPr/>
          </p:nvSpPr>
          <p:spPr>
            <a:xfrm>
              <a:off x="3208320" y="383076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t>
              </a:r>
              <a:endParaRPr b="0" lang="en-US" sz="1600" spc="-1" strike="noStrike">
                <a:solidFill>
                  <a:srgbClr val="000000"/>
                </a:solidFill>
                <a:latin typeface="Arial"/>
              </a:endParaRPr>
            </a:p>
          </p:txBody>
        </p:sp>
        <p:sp>
          <p:nvSpPr>
            <p:cNvPr id="4928" name=""/>
            <p:cNvSpPr/>
            <p:nvPr/>
          </p:nvSpPr>
          <p:spPr>
            <a:xfrm>
              <a:off x="3489480" y="3857760"/>
              <a:ext cx="26676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29" name=""/>
            <p:cNvSpPr txBox="1"/>
            <p:nvPr/>
          </p:nvSpPr>
          <p:spPr>
            <a:xfrm>
              <a:off x="3430440" y="383364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930" name=""/>
            <p:cNvSpPr/>
            <p:nvPr/>
          </p:nvSpPr>
          <p:spPr>
            <a:xfrm>
              <a:off x="3816360" y="382104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1" name=""/>
            <p:cNvSpPr txBox="1"/>
            <p:nvPr/>
          </p:nvSpPr>
          <p:spPr>
            <a:xfrm>
              <a:off x="3778200" y="38419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F</a:t>
              </a:r>
              <a:endParaRPr b="0" lang="en-US" sz="1600" spc="-1" strike="noStrike">
                <a:solidFill>
                  <a:srgbClr val="000000"/>
                </a:solidFill>
                <a:latin typeface="Arial"/>
              </a:endParaRPr>
            </a:p>
          </p:txBody>
        </p:sp>
        <p:sp>
          <p:nvSpPr>
            <p:cNvPr id="4932" name=""/>
            <p:cNvSpPr/>
            <p:nvPr/>
          </p:nvSpPr>
          <p:spPr>
            <a:xfrm>
              <a:off x="4076640" y="3862440"/>
              <a:ext cx="27000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33" name=""/>
            <p:cNvSpPr txBox="1"/>
            <p:nvPr/>
          </p:nvSpPr>
          <p:spPr>
            <a:xfrm>
              <a:off x="4024440" y="38386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4934" name=""/>
          <p:cNvSpPr txBox="1"/>
          <p:nvPr/>
        </p:nvSpPr>
        <p:spPr>
          <a:xfrm>
            <a:off x="1940040" y="3475080"/>
            <a:ext cx="1414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      7.2 - 7.5</a:t>
            </a:r>
            <a:endParaRPr b="0" lang="en-US" sz="1600" spc="-1" strike="noStrike">
              <a:solidFill>
                <a:srgbClr val="000000"/>
              </a:solidFill>
              <a:latin typeface="Arial"/>
            </a:endParaRPr>
          </a:p>
        </p:txBody>
      </p:sp>
      <p:grpSp>
        <p:nvGrpSpPr>
          <p:cNvPr id="4935" name=""/>
          <p:cNvGrpSpPr/>
          <p:nvPr/>
        </p:nvGrpSpPr>
        <p:grpSpPr>
          <a:xfrm>
            <a:off x="2387520" y="3522600"/>
            <a:ext cx="131760" cy="196920"/>
            <a:chOff x="2387520" y="3522600"/>
            <a:chExt cx="131760" cy="196920"/>
          </a:xfrm>
        </p:grpSpPr>
        <p:sp>
          <p:nvSpPr>
            <p:cNvPr id="4936" name=""/>
            <p:cNvSpPr/>
            <p:nvPr/>
          </p:nvSpPr>
          <p:spPr>
            <a:xfrm flipV="1">
              <a:off x="2395440" y="352260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7" name=""/>
            <p:cNvSpPr/>
            <p:nvPr/>
          </p:nvSpPr>
          <p:spPr>
            <a:xfrm>
              <a:off x="2387520" y="355428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938" name=""/>
          <p:cNvSpPr txBox="1"/>
          <p:nvPr/>
        </p:nvSpPr>
        <p:spPr>
          <a:xfrm>
            <a:off x="5396040" y="13003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a:t>
            </a:r>
            <a:endParaRPr b="0" lang="en-US" sz="1600" spc="-1" strike="noStrike">
              <a:solidFill>
                <a:srgbClr val="000000"/>
              </a:solidFill>
              <a:latin typeface="Arial"/>
            </a:endParaRPr>
          </a:p>
        </p:txBody>
      </p:sp>
      <p:sp>
        <p:nvSpPr>
          <p:cNvPr id="4939" name=""/>
          <p:cNvSpPr/>
          <p:nvPr/>
        </p:nvSpPr>
        <p:spPr>
          <a:xfrm>
            <a:off x="5735520" y="1359000"/>
            <a:ext cx="60480" cy="60480"/>
          </a:xfrm>
          <a:prstGeom prst="ellipse">
            <a:avLst/>
          </a:prstGeom>
          <a:solidFill>
            <a:srgbClr val="a2c1fe"/>
          </a:solid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4940" name=""/>
          <p:cNvSpPr txBox="1"/>
          <p:nvPr/>
        </p:nvSpPr>
        <p:spPr>
          <a:xfrm>
            <a:off x="6103800" y="1239840"/>
            <a:ext cx="1200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0.5 - 10.8</a:t>
            </a:r>
            <a:endParaRPr b="0" lang="en-US" sz="1600" spc="-1" strike="noStrike">
              <a:solidFill>
                <a:srgbClr val="000000"/>
              </a:solidFill>
              <a:latin typeface="Arial"/>
            </a:endParaRPr>
          </a:p>
        </p:txBody>
      </p:sp>
      <p:sp>
        <p:nvSpPr>
          <p:cNvPr id="4941" name=""/>
          <p:cNvSpPr/>
          <p:nvPr/>
        </p:nvSpPr>
        <p:spPr>
          <a:xfrm>
            <a:off x="5992920" y="1523880"/>
            <a:ext cx="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2" name=""/>
          <p:cNvSpPr/>
          <p:nvPr/>
        </p:nvSpPr>
        <p:spPr>
          <a:xfrm>
            <a:off x="6265800" y="1584360"/>
            <a:ext cx="2116080" cy="363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943" name=""/>
          <p:cNvGrpSpPr/>
          <p:nvPr/>
        </p:nvGrpSpPr>
        <p:grpSpPr>
          <a:xfrm>
            <a:off x="6342120" y="1665360"/>
            <a:ext cx="214200" cy="212760"/>
            <a:chOff x="6342120" y="1665360"/>
            <a:chExt cx="214200" cy="212760"/>
          </a:xfrm>
        </p:grpSpPr>
        <p:sp>
          <p:nvSpPr>
            <p:cNvPr id="4944" name=""/>
            <p:cNvSpPr/>
            <p:nvPr/>
          </p:nvSpPr>
          <p:spPr>
            <a:xfrm>
              <a:off x="6342120" y="17683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5" name=""/>
            <p:cNvSpPr/>
            <p:nvPr/>
          </p:nvSpPr>
          <p:spPr>
            <a:xfrm>
              <a:off x="6446880" y="1665360"/>
              <a:ext cx="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6" name=""/>
            <p:cNvSpPr/>
            <p:nvPr/>
          </p:nvSpPr>
          <p:spPr>
            <a:xfrm>
              <a:off x="6362640" y="168588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947" name=""/>
          <p:cNvSpPr/>
          <p:nvPr/>
        </p:nvSpPr>
        <p:spPr>
          <a:xfrm>
            <a:off x="661356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8" name=""/>
          <p:cNvSpPr txBox="1"/>
          <p:nvPr/>
        </p:nvSpPr>
        <p:spPr>
          <a:xfrm>
            <a:off x="6610320" y="1617840"/>
            <a:ext cx="531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a:t>
            </a:r>
            <a:endParaRPr b="0" lang="en-US" sz="1600" spc="-1" strike="noStrike">
              <a:solidFill>
                <a:srgbClr val="000000"/>
              </a:solidFill>
              <a:latin typeface="Arial"/>
            </a:endParaRPr>
          </a:p>
        </p:txBody>
      </p:sp>
      <p:sp>
        <p:nvSpPr>
          <p:cNvPr id="4949" name=""/>
          <p:cNvSpPr/>
          <p:nvPr/>
        </p:nvSpPr>
        <p:spPr>
          <a:xfrm>
            <a:off x="7047000" y="1630440"/>
            <a:ext cx="26820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0" name=""/>
          <p:cNvSpPr txBox="1"/>
          <p:nvPr/>
        </p:nvSpPr>
        <p:spPr>
          <a:xfrm>
            <a:off x="6991200" y="16066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951" name=""/>
          <p:cNvSpPr/>
          <p:nvPr/>
        </p:nvSpPr>
        <p:spPr>
          <a:xfrm>
            <a:off x="742968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2" name=""/>
          <p:cNvSpPr txBox="1"/>
          <p:nvPr/>
        </p:nvSpPr>
        <p:spPr>
          <a:xfrm>
            <a:off x="7412040" y="158904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4953" name=""/>
          <p:cNvSpPr/>
          <p:nvPr/>
        </p:nvSpPr>
        <p:spPr>
          <a:xfrm>
            <a:off x="774540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4" name=""/>
          <p:cNvSpPr txBox="1"/>
          <p:nvPr/>
        </p:nvSpPr>
        <p:spPr>
          <a:xfrm>
            <a:off x="7759800" y="158904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t>
            </a:r>
            <a:endParaRPr b="0" lang="en-US" sz="1600" spc="-1" strike="noStrike">
              <a:solidFill>
                <a:srgbClr val="000000"/>
              </a:solidFill>
              <a:latin typeface="Arial"/>
            </a:endParaRPr>
          </a:p>
        </p:txBody>
      </p:sp>
      <p:sp>
        <p:nvSpPr>
          <p:cNvPr id="4955" name=""/>
          <p:cNvSpPr/>
          <p:nvPr/>
        </p:nvSpPr>
        <p:spPr>
          <a:xfrm>
            <a:off x="8058240" y="1631880"/>
            <a:ext cx="26676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6" name=""/>
          <p:cNvSpPr txBox="1"/>
          <p:nvPr/>
        </p:nvSpPr>
        <p:spPr>
          <a:xfrm>
            <a:off x="8002440" y="16081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4957" name=""/>
          <p:cNvSpPr/>
          <p:nvPr/>
        </p:nvSpPr>
        <p:spPr>
          <a:xfrm>
            <a:off x="6843600" y="1968480"/>
            <a:ext cx="133560" cy="116280"/>
          </a:xfrm>
          <a:custGeom>
            <a:avLst/>
            <a:gdLst/>
            <a:ahLst/>
            <a:rect l="0" t="0" r="r" b="b"/>
            <a:pathLst>
              <a:path w="371" h="323">
                <a:moveTo>
                  <a:pt x="371" y="0"/>
                </a:moveTo>
                <a:lnTo>
                  <a:pt x="186"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58" name=""/>
          <p:cNvSpPr/>
          <p:nvPr/>
        </p:nvSpPr>
        <p:spPr>
          <a:xfrm flipV="1">
            <a:off x="6908760" y="196848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9" name=""/>
          <p:cNvSpPr/>
          <p:nvPr/>
        </p:nvSpPr>
        <p:spPr>
          <a:xfrm>
            <a:off x="6843600" y="1952640"/>
            <a:ext cx="6696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0" name=""/>
          <p:cNvSpPr/>
          <p:nvPr/>
        </p:nvSpPr>
        <p:spPr>
          <a:xfrm>
            <a:off x="6843600" y="1952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1" name=""/>
          <p:cNvSpPr/>
          <p:nvPr/>
        </p:nvSpPr>
        <p:spPr>
          <a:xfrm>
            <a:off x="6908760" y="195588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2" name=""/>
          <p:cNvSpPr/>
          <p:nvPr/>
        </p:nvSpPr>
        <p:spPr>
          <a:xfrm>
            <a:off x="6762600" y="2252520"/>
            <a:ext cx="314640" cy="314640"/>
          </a:xfrm>
          <a:custGeom>
            <a:avLst/>
            <a:gdLst/>
            <a:ahLst/>
            <a:rect l="0" t="0" r="r" b="b"/>
            <a:pathLst>
              <a:path fill="none" w="874" h="874">
                <a:moveTo>
                  <a:pt x="0" y="874"/>
                </a:moveTo>
                <a:lnTo>
                  <a:pt x="0" y="0"/>
                </a:lnTo>
                <a:lnTo>
                  <a:pt x="874" y="0"/>
                </a:lnTo>
                <a:lnTo>
                  <a:pt x="874"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63" name=""/>
          <p:cNvSpPr txBox="1"/>
          <p:nvPr/>
        </p:nvSpPr>
        <p:spPr>
          <a:xfrm>
            <a:off x="6777000" y="2230560"/>
            <a:ext cx="36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F</a:t>
            </a:r>
            <a:endParaRPr b="0" lang="en-US" sz="1800" spc="-1" strike="noStrike">
              <a:solidFill>
                <a:srgbClr val="000000"/>
              </a:solidFill>
              <a:latin typeface="Arial"/>
            </a:endParaRPr>
          </a:p>
        </p:txBody>
      </p:sp>
      <p:sp>
        <p:nvSpPr>
          <p:cNvPr id="4964" name=""/>
          <p:cNvSpPr/>
          <p:nvPr/>
        </p:nvSpPr>
        <p:spPr>
          <a:xfrm>
            <a:off x="1957320" y="723960"/>
            <a:ext cx="2705040" cy="2705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65" name=""/>
          <p:cNvSpPr/>
          <p:nvPr/>
        </p:nvSpPr>
        <p:spPr>
          <a:xfrm flipH="1">
            <a:off x="2762280" y="1778040"/>
            <a:ext cx="1050840" cy="60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6" name=""/>
          <p:cNvSpPr/>
          <p:nvPr/>
        </p:nvSpPr>
        <p:spPr>
          <a:xfrm flipH="1">
            <a:off x="2549520" y="2435400"/>
            <a:ext cx="123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967" name=""/>
          <p:cNvSpPr/>
          <p:nvPr/>
        </p:nvSpPr>
        <p:spPr>
          <a:xfrm flipH="1">
            <a:off x="2200320" y="2562120"/>
            <a:ext cx="24588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8" name=""/>
          <p:cNvSpPr/>
          <p:nvPr/>
        </p:nvSpPr>
        <p:spPr>
          <a:xfrm>
            <a:off x="4581360" y="1866960"/>
            <a:ext cx="171360" cy="193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69" name=""/>
          <p:cNvSpPr/>
          <p:nvPr/>
        </p:nvSpPr>
        <p:spPr>
          <a:xfrm>
            <a:off x="4565520" y="2076480"/>
            <a:ext cx="171360" cy="196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70" name=""/>
          <p:cNvSpPr/>
          <p:nvPr/>
        </p:nvSpPr>
        <p:spPr>
          <a:xfrm flipH="1">
            <a:off x="1714680" y="2703600"/>
            <a:ext cx="71100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1" name=""/>
          <p:cNvSpPr/>
          <p:nvPr/>
        </p:nvSpPr>
        <p:spPr>
          <a:xfrm>
            <a:off x="1714680" y="362592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2" name=""/>
          <p:cNvSpPr txBox="1"/>
          <p:nvPr/>
        </p:nvSpPr>
        <p:spPr>
          <a:xfrm>
            <a:off x="533520" y="71280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DRAWING</a:t>
            </a:r>
            <a:endParaRPr b="0" lang="en-US" sz="1800" spc="-1" strike="noStrike">
              <a:solidFill>
                <a:srgbClr val="000000"/>
              </a:solidFill>
              <a:latin typeface="Arial"/>
            </a:endParaRPr>
          </a:p>
        </p:txBody>
      </p:sp>
      <p:sp>
        <p:nvSpPr>
          <p:cNvPr id="4973" name=""/>
          <p:cNvSpPr txBox="1"/>
          <p:nvPr/>
        </p:nvSpPr>
        <p:spPr>
          <a:xfrm>
            <a:off x="2617920" y="5891040"/>
            <a:ext cx="6012000" cy="70164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 DATUM FEATURES</a:t>
            </a:r>
            <a:endParaRPr b="0" lang="en-US" sz="2000" spc="-1" strike="noStrike">
              <a:solidFill>
                <a:srgbClr val="000000"/>
              </a:solidFill>
              <a:latin typeface="Arial"/>
            </a:endParaRPr>
          </a:p>
          <a:p>
            <a:pPr algn="ctr">
              <a:lnSpc>
                <a:spcPct val="100000"/>
              </a:lnSpc>
            </a:pPr>
            <a:r>
              <a:rPr b="0" lang="en-US" sz="2000" spc="-1" strike="noStrike">
                <a:solidFill>
                  <a:srgbClr val="ffff00"/>
                </a:solidFill>
                <a:latin typeface="Times New Roman"/>
                <a:ea typeface="Times New Roman"/>
              </a:rPr>
              <a:t>Maximum Material 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9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75"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6"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7"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4978"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79"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4980"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1"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2"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4983"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4"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5"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6"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7"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4988"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89"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0"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1"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4992"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3"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4994"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5"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6"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7"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8"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999"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0"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1"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02"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3"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4"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5"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6" name=""/>
          <p:cNvSpPr/>
          <p:nvPr/>
        </p:nvSpPr>
        <p:spPr>
          <a:xfrm>
            <a:off x="5715000" y="2017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7"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8"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9"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5010"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1"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012"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13"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5014"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5"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6"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017"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5018"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5019"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5020"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1"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2"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3"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4"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25"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026"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5027"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5028" name=""/>
          <p:cNvSpPr txBox="1"/>
          <p:nvPr/>
        </p:nvSpPr>
        <p:spPr>
          <a:xfrm>
            <a:off x="4570560" y="575460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D</a:t>
            </a:r>
            <a:endParaRPr b="0" lang="en-US" sz="2000" spc="-1" strike="noStrike">
              <a:solidFill>
                <a:srgbClr val="000000"/>
              </a:solidFill>
              <a:latin typeface="Arial"/>
            </a:endParaRPr>
          </a:p>
        </p:txBody>
      </p:sp>
      <p:sp>
        <p:nvSpPr>
          <p:cNvPr id="5029"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5030"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Maximum Material Condition</a:t>
            </a:r>
            <a:endParaRPr b="0" lang="en-US" sz="2000" spc="-1" strike="noStrike">
              <a:solidFill>
                <a:srgbClr val="000000"/>
              </a:solidFill>
              <a:latin typeface="Arial"/>
            </a:endParaRPr>
          </a:p>
        </p:txBody>
      </p:sp>
      <p:sp>
        <p:nvSpPr>
          <p:cNvPr id="5031"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2"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33"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34"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035"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6"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5037"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5038"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9"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0"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1"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2"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3"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4"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5"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046"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047"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048"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5049"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0"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1"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2"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3"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4"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5"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6"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7"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8"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9"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5060"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061"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62"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3"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064"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5"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6"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67" name=""/>
          <p:cNvGrpSpPr/>
          <p:nvPr/>
        </p:nvGrpSpPr>
        <p:grpSpPr>
          <a:xfrm>
            <a:off x="2824200" y="5519880"/>
            <a:ext cx="3457440" cy="0"/>
            <a:chOff x="2824200" y="5519880"/>
            <a:chExt cx="3457440" cy="0"/>
          </a:xfrm>
        </p:grpSpPr>
        <p:sp>
          <p:nvSpPr>
            <p:cNvPr id="5068" name=""/>
            <p:cNvSpPr/>
            <p:nvPr/>
          </p:nvSpPr>
          <p:spPr>
            <a:xfrm>
              <a:off x="5362560" y="5519880"/>
              <a:ext cx="76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9" name=""/>
            <p:cNvSpPr/>
            <p:nvPr/>
          </p:nvSpPr>
          <p:spPr>
            <a:xfrm>
              <a:off x="5495760" y="5519880"/>
              <a:ext cx="66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0" name=""/>
            <p:cNvSpPr/>
            <p:nvPr/>
          </p:nvSpPr>
          <p:spPr>
            <a:xfrm>
              <a:off x="5643720" y="5519880"/>
              <a:ext cx="637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1" name=""/>
            <p:cNvSpPr/>
            <p:nvPr/>
          </p:nvSpPr>
          <p:spPr>
            <a:xfrm>
              <a:off x="2824200" y="5519880"/>
              <a:ext cx="2476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072"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3"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4"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075" name=""/>
          <p:cNvGrpSpPr/>
          <p:nvPr/>
        </p:nvGrpSpPr>
        <p:grpSpPr>
          <a:xfrm>
            <a:off x="498600" y="3878280"/>
            <a:ext cx="2822760" cy="366840"/>
            <a:chOff x="498600" y="3878280"/>
            <a:chExt cx="2822760" cy="366840"/>
          </a:xfrm>
        </p:grpSpPr>
        <p:sp>
          <p:nvSpPr>
            <p:cNvPr id="5076" name=""/>
            <p:cNvSpPr/>
            <p:nvPr/>
          </p:nvSpPr>
          <p:spPr>
            <a:xfrm>
              <a:off x="835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7" name=""/>
            <p:cNvSpPr/>
            <p:nvPr/>
          </p:nvSpPr>
          <p:spPr>
            <a:xfrm>
              <a:off x="1789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8" name=""/>
            <p:cNvSpPr/>
            <p:nvPr/>
          </p:nvSpPr>
          <p:spPr>
            <a:xfrm>
              <a:off x="498600" y="38782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079" name=""/>
            <p:cNvGrpSpPr/>
            <p:nvPr/>
          </p:nvGrpSpPr>
          <p:grpSpPr>
            <a:xfrm>
              <a:off x="561960" y="3943440"/>
              <a:ext cx="214200" cy="212760"/>
              <a:chOff x="561960" y="3943440"/>
              <a:chExt cx="214200" cy="212760"/>
            </a:xfrm>
          </p:grpSpPr>
          <p:sp>
            <p:nvSpPr>
              <p:cNvPr id="5080" name=""/>
              <p:cNvSpPr/>
              <p:nvPr/>
            </p:nvSpPr>
            <p:spPr>
              <a:xfrm>
                <a:off x="561960" y="404640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1" name=""/>
              <p:cNvSpPr/>
              <p:nvPr/>
            </p:nvSpPr>
            <p:spPr>
              <a:xfrm>
                <a:off x="666720" y="39434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2" name=""/>
              <p:cNvSpPr/>
              <p:nvPr/>
            </p:nvSpPr>
            <p:spPr>
              <a:xfrm>
                <a:off x="582480" y="39639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083" name=""/>
            <p:cNvGrpSpPr/>
            <p:nvPr/>
          </p:nvGrpSpPr>
          <p:grpSpPr>
            <a:xfrm>
              <a:off x="888840" y="3951360"/>
              <a:ext cx="131760" cy="196920"/>
              <a:chOff x="888840" y="3951360"/>
              <a:chExt cx="131760" cy="196920"/>
            </a:xfrm>
          </p:grpSpPr>
          <p:sp>
            <p:nvSpPr>
              <p:cNvPr id="5084" name=""/>
              <p:cNvSpPr/>
              <p:nvPr/>
            </p:nvSpPr>
            <p:spPr>
              <a:xfrm flipV="1">
                <a:off x="896760" y="39513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5" name=""/>
              <p:cNvSpPr/>
              <p:nvPr/>
            </p:nvSpPr>
            <p:spPr>
              <a:xfrm>
                <a:off x="888840" y="39830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086" name=""/>
            <p:cNvSpPr txBox="1"/>
            <p:nvPr/>
          </p:nvSpPr>
          <p:spPr>
            <a:xfrm>
              <a:off x="1020600" y="39020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5087" name=""/>
            <p:cNvSpPr/>
            <p:nvPr/>
          </p:nvSpPr>
          <p:spPr>
            <a:xfrm>
              <a:off x="1484280" y="391788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88" name=""/>
            <p:cNvSpPr txBox="1"/>
            <p:nvPr/>
          </p:nvSpPr>
          <p:spPr>
            <a:xfrm>
              <a:off x="1424160" y="38941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089" name=""/>
            <p:cNvSpPr txBox="1"/>
            <p:nvPr/>
          </p:nvSpPr>
          <p:spPr>
            <a:xfrm>
              <a:off x="1779480" y="39006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D</a:t>
              </a:r>
              <a:endParaRPr b="0" lang="en-US" sz="1600" spc="-1" strike="noStrike">
                <a:solidFill>
                  <a:srgbClr val="000000"/>
                </a:solidFill>
                <a:latin typeface="Arial"/>
              </a:endParaRPr>
            </a:p>
          </p:txBody>
        </p:sp>
        <p:sp>
          <p:nvSpPr>
            <p:cNvPr id="5090" name=""/>
            <p:cNvSpPr/>
            <p:nvPr/>
          </p:nvSpPr>
          <p:spPr>
            <a:xfrm>
              <a:off x="2144880" y="387972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1" name=""/>
            <p:cNvSpPr txBox="1"/>
            <p:nvPr/>
          </p:nvSpPr>
          <p:spPr>
            <a:xfrm>
              <a:off x="2111400" y="389736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E</a:t>
              </a:r>
              <a:endParaRPr b="0" lang="en-US" sz="1600" spc="-1" strike="noStrike">
                <a:solidFill>
                  <a:srgbClr val="000000"/>
                </a:solidFill>
                <a:latin typeface="Arial"/>
              </a:endParaRPr>
            </a:p>
          </p:txBody>
        </p:sp>
        <p:sp>
          <p:nvSpPr>
            <p:cNvPr id="5092" name=""/>
            <p:cNvSpPr/>
            <p:nvPr/>
          </p:nvSpPr>
          <p:spPr>
            <a:xfrm>
              <a:off x="2392200" y="39243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3" name=""/>
            <p:cNvSpPr txBox="1"/>
            <p:nvPr/>
          </p:nvSpPr>
          <p:spPr>
            <a:xfrm>
              <a:off x="2333520" y="390060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094" name=""/>
            <p:cNvSpPr/>
            <p:nvPr/>
          </p:nvSpPr>
          <p:spPr>
            <a:xfrm>
              <a:off x="2719440" y="388764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5" name=""/>
            <p:cNvSpPr txBox="1"/>
            <p:nvPr/>
          </p:nvSpPr>
          <p:spPr>
            <a:xfrm>
              <a:off x="2681280" y="39085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F</a:t>
              </a:r>
              <a:endParaRPr b="0" lang="en-US" sz="1600" spc="-1" strike="noStrike">
                <a:solidFill>
                  <a:srgbClr val="000000"/>
                </a:solidFill>
                <a:latin typeface="Arial"/>
              </a:endParaRPr>
            </a:p>
          </p:txBody>
        </p:sp>
        <p:sp>
          <p:nvSpPr>
            <p:cNvPr id="5096" name=""/>
            <p:cNvSpPr/>
            <p:nvPr/>
          </p:nvSpPr>
          <p:spPr>
            <a:xfrm>
              <a:off x="2979720" y="39290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97" name=""/>
            <p:cNvSpPr txBox="1"/>
            <p:nvPr/>
          </p:nvSpPr>
          <p:spPr>
            <a:xfrm>
              <a:off x="2927520" y="39052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09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099"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0"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01"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102"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03"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5104"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05"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06"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5107"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8"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9"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0"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1"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5112"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3"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4"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5"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116"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7"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118"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19"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0"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1"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2"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3"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4"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5"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26"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7"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8"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9"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0" name=""/>
          <p:cNvSpPr/>
          <p:nvPr/>
        </p:nvSpPr>
        <p:spPr>
          <a:xfrm>
            <a:off x="5715000" y="2017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1"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2"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3"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5134"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5"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136"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37"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5138"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9"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0"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141"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5142"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5143"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5144"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5"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6"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7"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8"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49"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150"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5151"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5152"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D </a:t>
            </a:r>
            <a:r>
              <a:rPr b="0" lang="en-US" sz="1800" spc="-1" strike="noStrike">
                <a:solidFill>
                  <a:srgbClr val="ffff00"/>
                </a:solidFill>
                <a:latin typeface="Times New Roman"/>
                <a:ea typeface="Times New Roman"/>
              </a:rPr>
              <a:t>(True geometric counterpart </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of datum feature D simulated by surface plate)</a:t>
            </a:r>
            <a:endParaRPr b="0" lang="en-US" sz="1800" spc="-1" strike="noStrike">
              <a:solidFill>
                <a:srgbClr val="000000"/>
              </a:solidFill>
              <a:latin typeface="Arial"/>
            </a:endParaRPr>
          </a:p>
        </p:txBody>
      </p:sp>
      <p:sp>
        <p:nvSpPr>
          <p:cNvPr id="5153"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5154"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Maximum Material Condition</a:t>
            </a:r>
            <a:endParaRPr b="0" lang="en-US" sz="2000" spc="-1" strike="noStrike">
              <a:solidFill>
                <a:srgbClr val="000000"/>
              </a:solidFill>
              <a:latin typeface="Arial"/>
            </a:endParaRPr>
          </a:p>
        </p:txBody>
      </p:sp>
      <p:sp>
        <p:nvSpPr>
          <p:cNvPr id="5155"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6"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57"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58"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159"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0"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5161"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5162"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3"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4"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5"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6"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7"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8"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69"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170"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171"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172"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5173"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4"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5"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6"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7"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8"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9"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0"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1"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2"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3"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5184"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185"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86"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7"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188"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9"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0"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191" name=""/>
          <p:cNvGrpSpPr/>
          <p:nvPr/>
        </p:nvGrpSpPr>
        <p:grpSpPr>
          <a:xfrm>
            <a:off x="2824200" y="5535720"/>
            <a:ext cx="3457440" cy="0"/>
            <a:chOff x="2824200" y="5535720"/>
            <a:chExt cx="3457440" cy="0"/>
          </a:xfrm>
        </p:grpSpPr>
        <p:sp>
          <p:nvSpPr>
            <p:cNvPr id="5192" name=""/>
            <p:cNvSpPr/>
            <p:nvPr/>
          </p:nvSpPr>
          <p:spPr>
            <a:xfrm>
              <a:off x="5362560" y="5535720"/>
              <a:ext cx="763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93" name=""/>
            <p:cNvSpPr/>
            <p:nvPr/>
          </p:nvSpPr>
          <p:spPr>
            <a:xfrm>
              <a:off x="5495760" y="5535720"/>
              <a:ext cx="669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94" name=""/>
            <p:cNvSpPr/>
            <p:nvPr/>
          </p:nvSpPr>
          <p:spPr>
            <a:xfrm>
              <a:off x="5643720" y="5535720"/>
              <a:ext cx="6379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195" name=""/>
            <p:cNvSpPr/>
            <p:nvPr/>
          </p:nvSpPr>
          <p:spPr>
            <a:xfrm>
              <a:off x="2824200" y="5535720"/>
              <a:ext cx="247644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5196"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7"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8"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99" name=""/>
          <p:cNvGrpSpPr/>
          <p:nvPr/>
        </p:nvGrpSpPr>
        <p:grpSpPr>
          <a:xfrm>
            <a:off x="498600" y="3878280"/>
            <a:ext cx="2822760" cy="366840"/>
            <a:chOff x="498600" y="3878280"/>
            <a:chExt cx="2822760" cy="366840"/>
          </a:xfrm>
        </p:grpSpPr>
        <p:sp>
          <p:nvSpPr>
            <p:cNvPr id="5200" name=""/>
            <p:cNvSpPr/>
            <p:nvPr/>
          </p:nvSpPr>
          <p:spPr>
            <a:xfrm>
              <a:off x="835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1" name=""/>
            <p:cNvSpPr/>
            <p:nvPr/>
          </p:nvSpPr>
          <p:spPr>
            <a:xfrm>
              <a:off x="1789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2" name=""/>
            <p:cNvSpPr/>
            <p:nvPr/>
          </p:nvSpPr>
          <p:spPr>
            <a:xfrm>
              <a:off x="498600" y="38782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03" name=""/>
            <p:cNvGrpSpPr/>
            <p:nvPr/>
          </p:nvGrpSpPr>
          <p:grpSpPr>
            <a:xfrm>
              <a:off x="561960" y="3943440"/>
              <a:ext cx="214200" cy="212760"/>
              <a:chOff x="561960" y="3943440"/>
              <a:chExt cx="214200" cy="212760"/>
            </a:xfrm>
          </p:grpSpPr>
          <p:sp>
            <p:nvSpPr>
              <p:cNvPr id="5204" name=""/>
              <p:cNvSpPr/>
              <p:nvPr/>
            </p:nvSpPr>
            <p:spPr>
              <a:xfrm>
                <a:off x="561960" y="404640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5" name=""/>
              <p:cNvSpPr/>
              <p:nvPr/>
            </p:nvSpPr>
            <p:spPr>
              <a:xfrm>
                <a:off x="666720" y="39434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6" name=""/>
              <p:cNvSpPr/>
              <p:nvPr/>
            </p:nvSpPr>
            <p:spPr>
              <a:xfrm>
                <a:off x="582480" y="39639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207" name=""/>
            <p:cNvGrpSpPr/>
            <p:nvPr/>
          </p:nvGrpSpPr>
          <p:grpSpPr>
            <a:xfrm>
              <a:off x="888840" y="3951360"/>
              <a:ext cx="131760" cy="196920"/>
              <a:chOff x="888840" y="3951360"/>
              <a:chExt cx="131760" cy="196920"/>
            </a:xfrm>
          </p:grpSpPr>
          <p:sp>
            <p:nvSpPr>
              <p:cNvPr id="5208" name=""/>
              <p:cNvSpPr/>
              <p:nvPr/>
            </p:nvSpPr>
            <p:spPr>
              <a:xfrm flipV="1">
                <a:off x="896760" y="39513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9" name=""/>
              <p:cNvSpPr/>
              <p:nvPr/>
            </p:nvSpPr>
            <p:spPr>
              <a:xfrm>
                <a:off x="888840" y="39830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210" name=""/>
            <p:cNvSpPr txBox="1"/>
            <p:nvPr/>
          </p:nvSpPr>
          <p:spPr>
            <a:xfrm>
              <a:off x="1020600" y="39020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5211" name=""/>
            <p:cNvSpPr/>
            <p:nvPr/>
          </p:nvSpPr>
          <p:spPr>
            <a:xfrm>
              <a:off x="1484280" y="391788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2" name=""/>
            <p:cNvSpPr txBox="1"/>
            <p:nvPr/>
          </p:nvSpPr>
          <p:spPr>
            <a:xfrm>
              <a:off x="1424160" y="38941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213" name=""/>
            <p:cNvSpPr txBox="1"/>
            <p:nvPr/>
          </p:nvSpPr>
          <p:spPr>
            <a:xfrm>
              <a:off x="1779480" y="39006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D</a:t>
              </a:r>
              <a:endParaRPr b="0" lang="en-US" sz="1600" spc="-1" strike="noStrike">
                <a:solidFill>
                  <a:srgbClr val="000000"/>
                </a:solidFill>
                <a:latin typeface="Arial"/>
              </a:endParaRPr>
            </a:p>
          </p:txBody>
        </p:sp>
        <p:sp>
          <p:nvSpPr>
            <p:cNvPr id="5214" name=""/>
            <p:cNvSpPr/>
            <p:nvPr/>
          </p:nvSpPr>
          <p:spPr>
            <a:xfrm>
              <a:off x="2144880" y="387972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5" name=""/>
            <p:cNvSpPr txBox="1"/>
            <p:nvPr/>
          </p:nvSpPr>
          <p:spPr>
            <a:xfrm>
              <a:off x="2111400" y="389736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E</a:t>
              </a:r>
              <a:endParaRPr b="0" lang="en-US" sz="1600" spc="-1" strike="noStrike">
                <a:solidFill>
                  <a:srgbClr val="000000"/>
                </a:solidFill>
                <a:latin typeface="Arial"/>
              </a:endParaRPr>
            </a:p>
          </p:txBody>
        </p:sp>
        <p:sp>
          <p:nvSpPr>
            <p:cNvPr id="5216" name=""/>
            <p:cNvSpPr/>
            <p:nvPr/>
          </p:nvSpPr>
          <p:spPr>
            <a:xfrm>
              <a:off x="2392200" y="39243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17" name=""/>
            <p:cNvSpPr txBox="1"/>
            <p:nvPr/>
          </p:nvSpPr>
          <p:spPr>
            <a:xfrm>
              <a:off x="2333520" y="390060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218" name=""/>
            <p:cNvSpPr/>
            <p:nvPr/>
          </p:nvSpPr>
          <p:spPr>
            <a:xfrm>
              <a:off x="2719440" y="388764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19" name=""/>
            <p:cNvSpPr txBox="1"/>
            <p:nvPr/>
          </p:nvSpPr>
          <p:spPr>
            <a:xfrm>
              <a:off x="2681280" y="39085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F</a:t>
              </a:r>
              <a:endParaRPr b="0" lang="en-US" sz="1600" spc="-1" strike="noStrike">
                <a:solidFill>
                  <a:srgbClr val="000000"/>
                </a:solidFill>
                <a:latin typeface="Arial"/>
              </a:endParaRPr>
            </a:p>
          </p:txBody>
        </p:sp>
        <p:sp>
          <p:nvSpPr>
            <p:cNvPr id="5220" name=""/>
            <p:cNvSpPr/>
            <p:nvPr/>
          </p:nvSpPr>
          <p:spPr>
            <a:xfrm>
              <a:off x="2979720" y="39290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221" name=""/>
            <p:cNvSpPr txBox="1"/>
            <p:nvPr/>
          </p:nvSpPr>
          <p:spPr>
            <a:xfrm>
              <a:off x="2927520" y="39052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2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3"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4"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5"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226"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7"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5228"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29"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0"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5231" name=""/>
          <p:cNvSpPr/>
          <p:nvPr/>
        </p:nvSpPr>
        <p:spPr>
          <a:xfrm>
            <a:off x="3603600" y="40878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2" name=""/>
          <p:cNvSpPr/>
          <p:nvPr/>
        </p:nvSpPr>
        <p:spPr>
          <a:xfrm flipV="1">
            <a:off x="344340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3" name=""/>
          <p:cNvSpPr/>
          <p:nvPr/>
        </p:nvSpPr>
        <p:spPr>
          <a:xfrm>
            <a:off x="3444840" y="4057560"/>
            <a:ext cx="159120" cy="57600"/>
          </a:xfrm>
          <a:custGeom>
            <a:avLst/>
            <a:gdLst/>
            <a:ahLst/>
            <a:rect l="0" t="0" r="r" b="b"/>
            <a:pathLst>
              <a:path w="442" h="160">
                <a:moveTo>
                  <a:pt x="442" y="0"/>
                </a:moveTo>
                <a:lnTo>
                  <a:pt x="442" y="160"/>
                </a:lnTo>
                <a:lnTo>
                  <a:pt x="0" y="85"/>
                </a:lnTo>
                <a:lnTo>
                  <a:pt x="442"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5234" name=""/>
          <p:cNvSpPr/>
          <p:nvPr/>
        </p:nvSpPr>
        <p:spPr>
          <a:xfrm flipV="1">
            <a:off x="41878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5"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6"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37"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8"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39" name=""/>
          <p:cNvSpPr/>
          <p:nvPr/>
        </p:nvSpPr>
        <p:spPr>
          <a:xfrm flipV="1">
            <a:off x="4183200" y="4087800"/>
            <a:ext cx="2505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240" name=""/>
          <p:cNvSpPr/>
          <p:nvPr/>
        </p:nvSpPr>
        <p:spPr>
          <a:xfrm>
            <a:off x="4030560" y="4057560"/>
            <a:ext cx="155880" cy="57600"/>
          </a:xfrm>
          <a:custGeom>
            <a:avLst/>
            <a:gdLst/>
            <a:ahLst/>
            <a:rect l="0" t="0" r="r" b="b"/>
            <a:pathLst>
              <a:path w="433" h="160">
                <a:moveTo>
                  <a:pt x="0" y="0"/>
                </a:moveTo>
                <a:lnTo>
                  <a:pt x="0" y="160"/>
                </a:lnTo>
                <a:lnTo>
                  <a:pt x="433" y="85"/>
                </a:lnTo>
                <a:lnTo>
                  <a:pt x="0"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5241"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5242"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3"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4"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5"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246"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7"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248"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49"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0"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1"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2"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3"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4"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5"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56"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7"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8"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9"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0"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1"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2"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5263"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4"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265"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66"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5267"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8"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9"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270"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5271"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5272"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5273"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4"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5"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6" name=""/>
          <p:cNvSpPr/>
          <p:nvPr/>
        </p:nvSpPr>
        <p:spPr>
          <a:xfrm>
            <a:off x="3441600" y="1644480"/>
            <a:ext cx="747720" cy="747720"/>
          </a:xfrm>
          <a:prstGeom prst="ellipse">
            <a:avLst/>
          </a:prstGeom>
          <a:noFill/>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277"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8"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79"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280"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5281"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5282" name=""/>
          <p:cNvSpPr txBox="1"/>
          <p:nvPr/>
        </p:nvSpPr>
        <p:spPr>
          <a:xfrm>
            <a:off x="4479840" y="3917880"/>
            <a:ext cx="4449600" cy="91584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True geometric counterpart of datum feature E</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MMC virtual condition cylinder (fixed gage)</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perpendicular to datum plane D)</a:t>
            </a:r>
            <a:endParaRPr b="0" lang="en-US" sz="1800" spc="-1" strike="noStrike">
              <a:solidFill>
                <a:srgbClr val="000000"/>
              </a:solidFill>
              <a:latin typeface="Arial"/>
            </a:endParaRPr>
          </a:p>
        </p:txBody>
      </p:sp>
      <p:sp>
        <p:nvSpPr>
          <p:cNvPr id="5283"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D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D simulated by surface plate)</a:t>
            </a:r>
            <a:endParaRPr b="0" lang="en-US" sz="1800" spc="-1" strike="noStrike">
              <a:solidFill>
                <a:srgbClr val="000000"/>
              </a:solidFill>
              <a:latin typeface="Arial"/>
            </a:endParaRPr>
          </a:p>
        </p:txBody>
      </p:sp>
      <p:sp>
        <p:nvSpPr>
          <p:cNvPr id="5284"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5285"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Maximum Material Condition</a:t>
            </a:r>
            <a:endParaRPr b="0" lang="en-US" sz="2000" spc="-1" strike="noStrike">
              <a:solidFill>
                <a:srgbClr val="000000"/>
              </a:solidFill>
              <a:latin typeface="Arial"/>
            </a:endParaRPr>
          </a:p>
        </p:txBody>
      </p:sp>
      <p:sp>
        <p:nvSpPr>
          <p:cNvPr id="5286"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7"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8"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89"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0"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1"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292"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5293" name=""/>
          <p:cNvGrpSpPr/>
          <p:nvPr/>
        </p:nvGrpSpPr>
        <p:grpSpPr>
          <a:xfrm>
            <a:off x="2824200" y="4629240"/>
            <a:ext cx="2476440" cy="890640"/>
            <a:chOff x="2824200" y="4629240"/>
            <a:chExt cx="2476440" cy="890640"/>
          </a:xfrm>
        </p:grpSpPr>
        <p:sp>
          <p:nvSpPr>
            <p:cNvPr id="5294"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5"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5296"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5297"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8"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9"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0"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1"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2"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3"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4"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305"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306"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307"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5308"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9"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0"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1"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2"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3"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4"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5"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6"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7"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18"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5319"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320"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21"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2"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23"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4"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5"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26"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327"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8" name=""/>
          <p:cNvSpPr/>
          <p:nvPr/>
        </p:nvSpPr>
        <p:spPr>
          <a:xfrm>
            <a:off x="3443400" y="5091120"/>
            <a:ext cx="0" cy="76320"/>
          </a:xfrm>
          <a:prstGeom prst="line">
            <a:avLst/>
          </a:prstGeom>
          <a:ln w="25560">
            <a:solidFill>
              <a:srgbClr val="fd0700"/>
            </a:solidFill>
            <a:round/>
          </a:ln>
        </p:spPr>
        <p:style>
          <a:lnRef idx="0"/>
          <a:fillRef idx="0"/>
          <a:effectRef idx="0"/>
          <a:fontRef idx="minor"/>
        </p:style>
        <p:txBody>
          <a:bodyPr lIns="102600" rIns="102600" tIns="18720" bIns="18720" anchor="t">
            <a:noAutofit/>
          </a:bodyPr>
          <a:p>
            <a:endParaRPr b="0" lang="en-US" sz="1800" spc="-1" strike="noStrike">
              <a:solidFill>
                <a:srgbClr val="000000"/>
              </a:solidFill>
              <a:latin typeface="Arial"/>
            </a:endParaRPr>
          </a:p>
        </p:txBody>
      </p:sp>
      <p:sp>
        <p:nvSpPr>
          <p:cNvPr id="5329" name=""/>
          <p:cNvSpPr/>
          <p:nvPr/>
        </p:nvSpPr>
        <p:spPr>
          <a:xfrm>
            <a:off x="3443400" y="521964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5330" name=""/>
          <p:cNvSpPr/>
          <p:nvPr/>
        </p:nvSpPr>
        <p:spPr>
          <a:xfrm>
            <a:off x="3443400" y="5372280"/>
            <a:ext cx="0" cy="13788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331" name=""/>
          <p:cNvSpPr/>
          <p:nvPr/>
        </p:nvSpPr>
        <p:spPr>
          <a:xfrm>
            <a:off x="4192560" y="5092560"/>
            <a:ext cx="0" cy="81000"/>
          </a:xfrm>
          <a:prstGeom prst="line">
            <a:avLst/>
          </a:prstGeom>
          <a:ln w="25560">
            <a:solidFill>
              <a:srgbClr val="fd0700"/>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5332" name=""/>
          <p:cNvSpPr/>
          <p:nvPr/>
        </p:nvSpPr>
        <p:spPr>
          <a:xfrm>
            <a:off x="4192560" y="523080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5333" name=""/>
          <p:cNvSpPr/>
          <p:nvPr/>
        </p:nvSpPr>
        <p:spPr>
          <a:xfrm>
            <a:off x="4191120" y="540720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5334"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5"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336" name=""/>
          <p:cNvGrpSpPr/>
          <p:nvPr/>
        </p:nvGrpSpPr>
        <p:grpSpPr>
          <a:xfrm>
            <a:off x="498600" y="3878280"/>
            <a:ext cx="2822760" cy="366840"/>
            <a:chOff x="498600" y="3878280"/>
            <a:chExt cx="2822760" cy="366840"/>
          </a:xfrm>
        </p:grpSpPr>
        <p:sp>
          <p:nvSpPr>
            <p:cNvPr id="5337" name=""/>
            <p:cNvSpPr/>
            <p:nvPr/>
          </p:nvSpPr>
          <p:spPr>
            <a:xfrm>
              <a:off x="835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8" name=""/>
            <p:cNvSpPr/>
            <p:nvPr/>
          </p:nvSpPr>
          <p:spPr>
            <a:xfrm>
              <a:off x="1789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39" name=""/>
            <p:cNvSpPr/>
            <p:nvPr/>
          </p:nvSpPr>
          <p:spPr>
            <a:xfrm>
              <a:off x="498600" y="38782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340" name=""/>
            <p:cNvGrpSpPr/>
            <p:nvPr/>
          </p:nvGrpSpPr>
          <p:grpSpPr>
            <a:xfrm>
              <a:off x="561960" y="3943440"/>
              <a:ext cx="214200" cy="212760"/>
              <a:chOff x="561960" y="3943440"/>
              <a:chExt cx="214200" cy="212760"/>
            </a:xfrm>
          </p:grpSpPr>
          <p:sp>
            <p:nvSpPr>
              <p:cNvPr id="5341" name=""/>
              <p:cNvSpPr/>
              <p:nvPr/>
            </p:nvSpPr>
            <p:spPr>
              <a:xfrm>
                <a:off x="561960" y="404640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2" name=""/>
              <p:cNvSpPr/>
              <p:nvPr/>
            </p:nvSpPr>
            <p:spPr>
              <a:xfrm>
                <a:off x="666720" y="39434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3" name=""/>
              <p:cNvSpPr/>
              <p:nvPr/>
            </p:nvSpPr>
            <p:spPr>
              <a:xfrm>
                <a:off x="582480" y="39639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344" name=""/>
            <p:cNvGrpSpPr/>
            <p:nvPr/>
          </p:nvGrpSpPr>
          <p:grpSpPr>
            <a:xfrm>
              <a:off x="888840" y="3951360"/>
              <a:ext cx="131760" cy="196920"/>
              <a:chOff x="888840" y="3951360"/>
              <a:chExt cx="131760" cy="196920"/>
            </a:xfrm>
          </p:grpSpPr>
          <p:sp>
            <p:nvSpPr>
              <p:cNvPr id="5345" name=""/>
              <p:cNvSpPr/>
              <p:nvPr/>
            </p:nvSpPr>
            <p:spPr>
              <a:xfrm flipV="1">
                <a:off x="896760" y="39513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6" name=""/>
              <p:cNvSpPr/>
              <p:nvPr/>
            </p:nvSpPr>
            <p:spPr>
              <a:xfrm>
                <a:off x="888840" y="39830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347" name=""/>
            <p:cNvSpPr txBox="1"/>
            <p:nvPr/>
          </p:nvSpPr>
          <p:spPr>
            <a:xfrm>
              <a:off x="1020600" y="39020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5348" name=""/>
            <p:cNvSpPr/>
            <p:nvPr/>
          </p:nvSpPr>
          <p:spPr>
            <a:xfrm>
              <a:off x="1484280" y="391788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49" name=""/>
            <p:cNvSpPr txBox="1"/>
            <p:nvPr/>
          </p:nvSpPr>
          <p:spPr>
            <a:xfrm>
              <a:off x="1424160" y="38941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350" name=""/>
            <p:cNvSpPr txBox="1"/>
            <p:nvPr/>
          </p:nvSpPr>
          <p:spPr>
            <a:xfrm>
              <a:off x="1779480" y="39006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D</a:t>
              </a:r>
              <a:endParaRPr b="0" lang="en-US" sz="1600" spc="-1" strike="noStrike">
                <a:solidFill>
                  <a:srgbClr val="000000"/>
                </a:solidFill>
                <a:latin typeface="Arial"/>
              </a:endParaRPr>
            </a:p>
          </p:txBody>
        </p:sp>
        <p:sp>
          <p:nvSpPr>
            <p:cNvPr id="5351" name=""/>
            <p:cNvSpPr/>
            <p:nvPr/>
          </p:nvSpPr>
          <p:spPr>
            <a:xfrm>
              <a:off x="2144880" y="387972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2" name=""/>
            <p:cNvSpPr txBox="1"/>
            <p:nvPr/>
          </p:nvSpPr>
          <p:spPr>
            <a:xfrm>
              <a:off x="2111400" y="389736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E</a:t>
              </a:r>
              <a:endParaRPr b="0" lang="en-US" sz="1600" spc="-1" strike="noStrike">
                <a:solidFill>
                  <a:srgbClr val="000000"/>
                </a:solidFill>
                <a:latin typeface="Arial"/>
              </a:endParaRPr>
            </a:p>
          </p:txBody>
        </p:sp>
        <p:sp>
          <p:nvSpPr>
            <p:cNvPr id="5353" name=""/>
            <p:cNvSpPr/>
            <p:nvPr/>
          </p:nvSpPr>
          <p:spPr>
            <a:xfrm>
              <a:off x="2392200" y="39243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4" name=""/>
            <p:cNvSpPr txBox="1"/>
            <p:nvPr/>
          </p:nvSpPr>
          <p:spPr>
            <a:xfrm>
              <a:off x="2333520" y="390060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355" name=""/>
            <p:cNvSpPr/>
            <p:nvPr/>
          </p:nvSpPr>
          <p:spPr>
            <a:xfrm>
              <a:off x="2719440" y="388764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6" name=""/>
            <p:cNvSpPr txBox="1"/>
            <p:nvPr/>
          </p:nvSpPr>
          <p:spPr>
            <a:xfrm>
              <a:off x="2681280" y="39085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F</a:t>
              </a:r>
              <a:endParaRPr b="0" lang="en-US" sz="1600" spc="-1" strike="noStrike">
                <a:solidFill>
                  <a:srgbClr val="000000"/>
                </a:solidFill>
                <a:latin typeface="Arial"/>
              </a:endParaRPr>
            </a:p>
          </p:txBody>
        </p:sp>
        <p:sp>
          <p:nvSpPr>
            <p:cNvPr id="5357" name=""/>
            <p:cNvSpPr/>
            <p:nvPr/>
          </p:nvSpPr>
          <p:spPr>
            <a:xfrm>
              <a:off x="2979720" y="39290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58" name=""/>
            <p:cNvSpPr txBox="1"/>
            <p:nvPr/>
          </p:nvSpPr>
          <p:spPr>
            <a:xfrm>
              <a:off x="2927520" y="39052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35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60"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1"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62"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363"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64"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5365"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66"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67"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5368" name=""/>
          <p:cNvSpPr/>
          <p:nvPr/>
        </p:nvSpPr>
        <p:spPr>
          <a:xfrm>
            <a:off x="3603600" y="40878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69" name=""/>
          <p:cNvSpPr/>
          <p:nvPr/>
        </p:nvSpPr>
        <p:spPr>
          <a:xfrm flipV="1">
            <a:off x="344340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0" name=""/>
          <p:cNvSpPr/>
          <p:nvPr/>
        </p:nvSpPr>
        <p:spPr>
          <a:xfrm>
            <a:off x="3444840" y="4057560"/>
            <a:ext cx="159120" cy="57600"/>
          </a:xfrm>
          <a:custGeom>
            <a:avLst/>
            <a:gdLst/>
            <a:ahLst/>
            <a:rect l="0" t="0" r="r" b="b"/>
            <a:pathLst>
              <a:path w="442" h="160">
                <a:moveTo>
                  <a:pt x="442" y="0"/>
                </a:moveTo>
                <a:lnTo>
                  <a:pt x="442" y="160"/>
                </a:lnTo>
                <a:lnTo>
                  <a:pt x="0" y="85"/>
                </a:lnTo>
                <a:lnTo>
                  <a:pt x="442"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5371" name=""/>
          <p:cNvSpPr/>
          <p:nvPr/>
        </p:nvSpPr>
        <p:spPr>
          <a:xfrm flipV="1">
            <a:off x="41878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2"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3"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74"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75"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76" name=""/>
          <p:cNvSpPr/>
          <p:nvPr/>
        </p:nvSpPr>
        <p:spPr>
          <a:xfrm flipV="1">
            <a:off x="4183200" y="4087800"/>
            <a:ext cx="2505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377" name=""/>
          <p:cNvSpPr/>
          <p:nvPr/>
        </p:nvSpPr>
        <p:spPr>
          <a:xfrm>
            <a:off x="4030560" y="4057560"/>
            <a:ext cx="155880" cy="57600"/>
          </a:xfrm>
          <a:custGeom>
            <a:avLst/>
            <a:gdLst/>
            <a:ahLst/>
            <a:rect l="0" t="0" r="r" b="b"/>
            <a:pathLst>
              <a:path w="433" h="160">
                <a:moveTo>
                  <a:pt x="0" y="0"/>
                </a:moveTo>
                <a:lnTo>
                  <a:pt x="0" y="160"/>
                </a:lnTo>
                <a:lnTo>
                  <a:pt x="433" y="85"/>
                </a:lnTo>
                <a:lnTo>
                  <a:pt x="0"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5378"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5379"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0"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81"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2"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383"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4"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385"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6"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7"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8"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89"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0"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1" name=""/>
          <p:cNvSpPr/>
          <p:nvPr/>
        </p:nvSpPr>
        <p:spPr>
          <a:xfrm flipV="1">
            <a:off x="6032520" y="90324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2"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3"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394"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5"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6"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7"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8" name=""/>
          <p:cNvSpPr/>
          <p:nvPr/>
        </p:nvSpPr>
        <p:spPr>
          <a:xfrm>
            <a:off x="5715000" y="2017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9"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0"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1"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5402"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3"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404"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05"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5406"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7"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08"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409"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5410"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5411"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5412" name=""/>
          <p:cNvSpPr/>
          <p:nvPr/>
        </p:nvSpPr>
        <p:spPr>
          <a:xfrm>
            <a:off x="6004080" y="2247840"/>
            <a:ext cx="57600" cy="173520"/>
          </a:xfrm>
          <a:custGeom>
            <a:avLst/>
            <a:gdLst/>
            <a:ahLst/>
            <a:rect l="0" t="0" r="r" b="b"/>
            <a:pathLst>
              <a:path w="160" h="482">
                <a:moveTo>
                  <a:pt x="0" y="482"/>
                </a:moveTo>
                <a:lnTo>
                  <a:pt x="160" y="482"/>
                </a:lnTo>
                <a:lnTo>
                  <a:pt x="80" y="0"/>
                </a:lnTo>
                <a:lnTo>
                  <a:pt x="0"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13" name=""/>
          <p:cNvSpPr/>
          <p:nvPr/>
        </p:nvSpPr>
        <p:spPr>
          <a:xfrm>
            <a:off x="5689440" y="223524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4" name=""/>
          <p:cNvSpPr/>
          <p:nvPr/>
        </p:nvSpPr>
        <p:spPr>
          <a:xfrm>
            <a:off x="6032520" y="24210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5" name=""/>
          <p:cNvSpPr/>
          <p:nvPr/>
        </p:nvSpPr>
        <p:spPr>
          <a:xfrm>
            <a:off x="6004080" y="1614600"/>
            <a:ext cx="57600" cy="174960"/>
          </a:xfrm>
          <a:custGeom>
            <a:avLst/>
            <a:gdLst/>
            <a:ahLst/>
            <a:rect l="0" t="0" r="r" b="b"/>
            <a:pathLst>
              <a:path w="160" h="486">
                <a:moveTo>
                  <a:pt x="0" y="0"/>
                </a:moveTo>
                <a:lnTo>
                  <a:pt x="160" y="0"/>
                </a:lnTo>
                <a:lnTo>
                  <a:pt x="80" y="486"/>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416" name=""/>
          <p:cNvGrpSpPr/>
          <p:nvPr/>
        </p:nvGrpSpPr>
        <p:grpSpPr>
          <a:xfrm>
            <a:off x="4908600" y="1797120"/>
            <a:ext cx="690480" cy="441360"/>
            <a:chOff x="4908600" y="1797120"/>
            <a:chExt cx="690480" cy="441360"/>
          </a:xfrm>
        </p:grpSpPr>
        <p:sp>
          <p:nvSpPr>
            <p:cNvPr id="5417" name=""/>
            <p:cNvSpPr/>
            <p:nvPr/>
          </p:nvSpPr>
          <p:spPr>
            <a:xfrm flipH="1">
              <a:off x="5484960" y="1797120"/>
              <a:ext cx="1141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18" name=""/>
            <p:cNvSpPr/>
            <p:nvPr/>
          </p:nvSpPr>
          <p:spPr>
            <a:xfrm>
              <a:off x="5226120" y="1797120"/>
              <a:ext cx="201600" cy="0"/>
            </a:xfrm>
            <a:custGeom>
              <a:avLst/>
              <a:gdLst/>
              <a:ahLst/>
              <a:rect l="0" t="0" r="r" b="b"/>
              <a:pathLst>
                <a:path fill="none" w="560" h="0">
                  <a:moveTo>
                    <a:pt x="560" y="0"/>
                  </a:moveTo>
                  <a:lnTo>
                    <a:pt x="241" y="0"/>
                  </a:lnTo>
                  <a:lnTo>
                    <a:pt x="0" y="0"/>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19" name=""/>
            <p:cNvSpPr/>
            <p:nvPr/>
          </p:nvSpPr>
          <p:spPr>
            <a:xfrm flipH="1">
              <a:off x="5051520" y="1797120"/>
              <a:ext cx="1173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0" name=""/>
            <p:cNvSpPr/>
            <p:nvPr/>
          </p:nvSpPr>
          <p:spPr>
            <a:xfrm flipH="1">
              <a:off x="4908600" y="1797120"/>
              <a:ext cx="8568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1" name=""/>
            <p:cNvSpPr/>
            <p:nvPr/>
          </p:nvSpPr>
          <p:spPr>
            <a:xfrm flipH="1">
              <a:off x="5484960" y="2238480"/>
              <a:ext cx="1141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2" name=""/>
            <p:cNvSpPr/>
            <p:nvPr/>
          </p:nvSpPr>
          <p:spPr>
            <a:xfrm>
              <a:off x="5226120" y="2238480"/>
              <a:ext cx="201600" cy="0"/>
            </a:xfrm>
            <a:custGeom>
              <a:avLst/>
              <a:gdLst/>
              <a:ahLst/>
              <a:rect l="0" t="0" r="r" b="b"/>
              <a:pathLst>
                <a:path fill="none" w="560" h="0">
                  <a:moveTo>
                    <a:pt x="560" y="0"/>
                  </a:moveTo>
                  <a:lnTo>
                    <a:pt x="241" y="0"/>
                  </a:lnTo>
                  <a:lnTo>
                    <a:pt x="0" y="0"/>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423" name=""/>
            <p:cNvSpPr/>
            <p:nvPr/>
          </p:nvSpPr>
          <p:spPr>
            <a:xfrm flipH="1">
              <a:off x="5051520" y="2238480"/>
              <a:ext cx="1173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4" name=""/>
            <p:cNvSpPr/>
            <p:nvPr/>
          </p:nvSpPr>
          <p:spPr>
            <a:xfrm flipH="1">
              <a:off x="4908600" y="2238480"/>
              <a:ext cx="8568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25" name=""/>
            <p:cNvSpPr/>
            <p:nvPr/>
          </p:nvSpPr>
          <p:spPr>
            <a:xfrm>
              <a:off x="5599080" y="1797120"/>
              <a:ext cx="0" cy="102960"/>
            </a:xfrm>
            <a:prstGeom prst="line">
              <a:avLst/>
            </a:prstGeom>
            <a:ln w="25560">
              <a:solidFill>
                <a:srgbClr val="fd0700"/>
              </a:solidFill>
              <a:round/>
            </a:ln>
          </p:spPr>
          <p:style>
            <a:lnRef idx="0"/>
            <a:fillRef idx="0"/>
            <a:effectRef idx="0"/>
            <a:fontRef idx="minor"/>
          </p:style>
          <p:txBody>
            <a:bodyPr lIns="102600" rIns="102600" tIns="45360" bIns="45360" anchor="t">
              <a:noAutofit/>
            </a:bodyPr>
            <a:p>
              <a:endParaRPr b="0" lang="en-US" sz="1800" spc="-1" strike="noStrike">
                <a:solidFill>
                  <a:srgbClr val="000000"/>
                </a:solidFill>
                <a:latin typeface="Arial"/>
              </a:endParaRPr>
            </a:p>
          </p:txBody>
        </p:sp>
        <p:sp>
          <p:nvSpPr>
            <p:cNvPr id="5426" name=""/>
            <p:cNvSpPr/>
            <p:nvPr/>
          </p:nvSpPr>
          <p:spPr>
            <a:xfrm>
              <a:off x="5599080" y="1960560"/>
              <a:ext cx="0" cy="114480"/>
            </a:xfrm>
            <a:prstGeom prst="line">
              <a:avLst/>
            </a:prstGeom>
            <a:ln w="25560">
              <a:solidFill>
                <a:srgbClr val="fd0700"/>
              </a:solidFill>
              <a:round/>
            </a:ln>
          </p:spPr>
          <p:style>
            <a:lnRef idx="0"/>
            <a:fillRef idx="0"/>
            <a:effectRef idx="0"/>
            <a:fontRef idx="minor"/>
          </p:style>
          <p:txBody>
            <a:bodyPr lIns="102600" rIns="102600" tIns="56880" bIns="56880" anchor="t">
              <a:noAutofit/>
            </a:bodyPr>
            <a:p>
              <a:endParaRPr b="0" lang="en-US" sz="1800" spc="-1" strike="noStrike">
                <a:solidFill>
                  <a:srgbClr val="000000"/>
                </a:solidFill>
                <a:latin typeface="Arial"/>
              </a:endParaRPr>
            </a:p>
          </p:txBody>
        </p:sp>
        <p:sp>
          <p:nvSpPr>
            <p:cNvPr id="5427" name=""/>
            <p:cNvSpPr/>
            <p:nvPr/>
          </p:nvSpPr>
          <p:spPr>
            <a:xfrm>
              <a:off x="5599080" y="213372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grpSp>
      <p:sp>
        <p:nvSpPr>
          <p:cNvPr id="5428" name=""/>
          <p:cNvSpPr/>
          <p:nvPr/>
        </p:nvSpPr>
        <p:spPr>
          <a:xfrm>
            <a:off x="5689440" y="179856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9"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30"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31" name=""/>
          <p:cNvSpPr/>
          <p:nvPr/>
        </p:nvSpPr>
        <p:spPr>
          <a:xfrm>
            <a:off x="6032520" y="9032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2"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33" name=""/>
          <p:cNvSpPr/>
          <p:nvPr/>
        </p:nvSpPr>
        <p:spPr>
          <a:xfrm>
            <a:off x="3441600" y="1644480"/>
            <a:ext cx="747720" cy="747720"/>
          </a:xfrm>
          <a:prstGeom prst="ellipse">
            <a:avLst/>
          </a:prstGeom>
          <a:noFill/>
          <a:ln w="12600">
            <a:solidFill>
              <a:srgbClr val="fd07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34"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35" name=""/>
          <p:cNvSpPr/>
          <p:nvPr/>
        </p:nvSpPr>
        <p:spPr>
          <a:xfrm>
            <a:off x="4911840" y="1793880"/>
            <a:ext cx="0" cy="101520"/>
          </a:xfrm>
          <a:prstGeom prst="line">
            <a:avLst/>
          </a:prstGeom>
          <a:ln w="25560">
            <a:solidFill>
              <a:srgbClr val="fd0700"/>
            </a:solidFill>
            <a:round/>
          </a:ln>
        </p:spPr>
        <p:style>
          <a:lnRef idx="0"/>
          <a:fillRef idx="0"/>
          <a:effectRef idx="0"/>
          <a:fontRef idx="minor"/>
        </p:style>
        <p:txBody>
          <a:bodyPr lIns="102600" rIns="102600" tIns="43920" bIns="43920" anchor="t">
            <a:noAutofit/>
          </a:bodyPr>
          <a:p>
            <a:endParaRPr b="0" lang="en-US" sz="1800" spc="-1" strike="noStrike">
              <a:solidFill>
                <a:srgbClr val="000000"/>
              </a:solidFill>
              <a:latin typeface="Arial"/>
            </a:endParaRPr>
          </a:p>
        </p:txBody>
      </p:sp>
      <p:sp>
        <p:nvSpPr>
          <p:cNvPr id="5436" name=""/>
          <p:cNvSpPr/>
          <p:nvPr/>
        </p:nvSpPr>
        <p:spPr>
          <a:xfrm>
            <a:off x="4911840" y="1959120"/>
            <a:ext cx="0" cy="12384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5437" name=""/>
          <p:cNvSpPr/>
          <p:nvPr/>
        </p:nvSpPr>
        <p:spPr>
          <a:xfrm>
            <a:off x="4911840" y="2136600"/>
            <a:ext cx="0" cy="98640"/>
          </a:xfrm>
          <a:prstGeom prst="line">
            <a:avLst/>
          </a:prstGeom>
          <a:ln w="25560">
            <a:solidFill>
              <a:srgbClr val="fd0700"/>
            </a:solidFill>
            <a:round/>
          </a:ln>
        </p:spPr>
        <p:style>
          <a:lnRef idx="0"/>
          <a:fillRef idx="0"/>
          <a:effectRef idx="0"/>
          <a:fontRef idx="minor"/>
        </p:style>
        <p:txBody>
          <a:bodyPr lIns="102600" rIns="102600" tIns="41040" bIns="41040" anchor="t">
            <a:noAutofit/>
          </a:bodyPr>
          <a:p>
            <a:endParaRPr b="0" lang="en-US" sz="1800" spc="-1" strike="noStrike">
              <a:solidFill>
                <a:srgbClr val="000000"/>
              </a:solidFill>
              <a:latin typeface="Arial"/>
            </a:endParaRPr>
          </a:p>
        </p:txBody>
      </p:sp>
      <p:sp>
        <p:nvSpPr>
          <p:cNvPr id="5438"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39" name=""/>
          <p:cNvSpPr txBox="1"/>
          <p:nvPr/>
        </p:nvSpPr>
        <p:spPr>
          <a:xfrm>
            <a:off x="6200640" y="695160"/>
            <a:ext cx="2882880" cy="173988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True geometric counterpart</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of datum feature F (MMC</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virtual condition width (fixed</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gage) perpendicular to datum</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plane D.  Center plane </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aligned with datum axis E)</a:t>
            </a:r>
            <a:endParaRPr b="0" lang="en-US" sz="1800" spc="-1" strike="noStrike">
              <a:solidFill>
                <a:srgbClr val="000000"/>
              </a:solidFill>
              <a:latin typeface="Arial"/>
            </a:endParaRPr>
          </a:p>
        </p:txBody>
      </p:sp>
      <p:sp>
        <p:nvSpPr>
          <p:cNvPr id="5440"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441"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5442"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5443" name=""/>
          <p:cNvSpPr txBox="1"/>
          <p:nvPr/>
        </p:nvSpPr>
        <p:spPr>
          <a:xfrm>
            <a:off x="4479840" y="3917880"/>
            <a:ext cx="444960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 of datum feature 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MC virtual condition cylinder (fixed gag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erpendicular to datum plane D)</a:t>
            </a:r>
            <a:endParaRPr b="0" lang="en-US" sz="1800" spc="-1" strike="noStrike">
              <a:solidFill>
                <a:srgbClr val="000000"/>
              </a:solidFill>
              <a:latin typeface="Arial"/>
            </a:endParaRPr>
          </a:p>
        </p:txBody>
      </p:sp>
      <p:sp>
        <p:nvSpPr>
          <p:cNvPr id="5444"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D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D simulated by surface plate)</a:t>
            </a:r>
            <a:endParaRPr b="0" lang="en-US" sz="1800" spc="-1" strike="noStrike">
              <a:solidFill>
                <a:srgbClr val="000000"/>
              </a:solidFill>
              <a:latin typeface="Arial"/>
            </a:endParaRPr>
          </a:p>
        </p:txBody>
      </p:sp>
      <p:sp>
        <p:nvSpPr>
          <p:cNvPr id="5445"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5446"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Maximum Material Condition</a:t>
            </a:r>
            <a:endParaRPr b="0" lang="en-US" sz="2000" spc="-1" strike="noStrike">
              <a:solidFill>
                <a:srgbClr val="000000"/>
              </a:solidFill>
              <a:latin typeface="Arial"/>
            </a:endParaRPr>
          </a:p>
        </p:txBody>
      </p:sp>
      <p:sp>
        <p:nvSpPr>
          <p:cNvPr id="5447"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8"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9"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0"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1"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52"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53"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5454" name=""/>
          <p:cNvGrpSpPr/>
          <p:nvPr/>
        </p:nvGrpSpPr>
        <p:grpSpPr>
          <a:xfrm>
            <a:off x="2824200" y="4629240"/>
            <a:ext cx="2476440" cy="890640"/>
            <a:chOff x="2824200" y="4629240"/>
            <a:chExt cx="2476440" cy="890640"/>
          </a:xfrm>
        </p:grpSpPr>
        <p:sp>
          <p:nvSpPr>
            <p:cNvPr id="5455"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6"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5457"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5458"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9"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0"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1"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2"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3"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4"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5"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466"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467"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468"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5469"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0"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1"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2"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3"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4"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5"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6"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7"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8"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9"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5480"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481"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2"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3"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4"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5"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6"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487"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488"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9" name=""/>
          <p:cNvSpPr/>
          <p:nvPr/>
        </p:nvSpPr>
        <p:spPr>
          <a:xfrm>
            <a:off x="3443400" y="5091120"/>
            <a:ext cx="0" cy="76320"/>
          </a:xfrm>
          <a:prstGeom prst="line">
            <a:avLst/>
          </a:prstGeom>
          <a:ln w="12600">
            <a:solidFill>
              <a:srgbClr val="fd07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490" name=""/>
          <p:cNvSpPr/>
          <p:nvPr/>
        </p:nvSpPr>
        <p:spPr>
          <a:xfrm>
            <a:off x="3443400" y="521964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1" name=""/>
          <p:cNvSpPr/>
          <p:nvPr/>
        </p:nvSpPr>
        <p:spPr>
          <a:xfrm>
            <a:off x="3443400" y="5372280"/>
            <a:ext cx="0" cy="13788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2" name=""/>
          <p:cNvSpPr/>
          <p:nvPr/>
        </p:nvSpPr>
        <p:spPr>
          <a:xfrm>
            <a:off x="4192560" y="5092560"/>
            <a:ext cx="0" cy="81000"/>
          </a:xfrm>
          <a:prstGeom prst="line">
            <a:avLst/>
          </a:prstGeom>
          <a:ln w="12600">
            <a:solidFill>
              <a:srgbClr val="fd07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5493" name=""/>
          <p:cNvSpPr/>
          <p:nvPr/>
        </p:nvSpPr>
        <p:spPr>
          <a:xfrm>
            <a:off x="4192560" y="52308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4" name=""/>
          <p:cNvSpPr/>
          <p:nvPr/>
        </p:nvSpPr>
        <p:spPr>
          <a:xfrm>
            <a:off x="4191120" y="54072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5"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6"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497" name=""/>
          <p:cNvGrpSpPr/>
          <p:nvPr/>
        </p:nvGrpSpPr>
        <p:grpSpPr>
          <a:xfrm>
            <a:off x="498600" y="3878280"/>
            <a:ext cx="2822760" cy="366840"/>
            <a:chOff x="498600" y="3878280"/>
            <a:chExt cx="2822760" cy="366840"/>
          </a:xfrm>
        </p:grpSpPr>
        <p:sp>
          <p:nvSpPr>
            <p:cNvPr id="5498" name=""/>
            <p:cNvSpPr/>
            <p:nvPr/>
          </p:nvSpPr>
          <p:spPr>
            <a:xfrm>
              <a:off x="835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9" name=""/>
            <p:cNvSpPr/>
            <p:nvPr/>
          </p:nvSpPr>
          <p:spPr>
            <a:xfrm>
              <a:off x="1789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0" name=""/>
            <p:cNvSpPr/>
            <p:nvPr/>
          </p:nvSpPr>
          <p:spPr>
            <a:xfrm>
              <a:off x="498600" y="38782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01" name=""/>
            <p:cNvGrpSpPr/>
            <p:nvPr/>
          </p:nvGrpSpPr>
          <p:grpSpPr>
            <a:xfrm>
              <a:off x="561960" y="3943440"/>
              <a:ext cx="214200" cy="212760"/>
              <a:chOff x="561960" y="3943440"/>
              <a:chExt cx="214200" cy="212760"/>
            </a:xfrm>
          </p:grpSpPr>
          <p:sp>
            <p:nvSpPr>
              <p:cNvPr id="5502" name=""/>
              <p:cNvSpPr/>
              <p:nvPr/>
            </p:nvSpPr>
            <p:spPr>
              <a:xfrm>
                <a:off x="561960" y="404640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3" name=""/>
              <p:cNvSpPr/>
              <p:nvPr/>
            </p:nvSpPr>
            <p:spPr>
              <a:xfrm>
                <a:off x="666720" y="39434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4" name=""/>
              <p:cNvSpPr/>
              <p:nvPr/>
            </p:nvSpPr>
            <p:spPr>
              <a:xfrm>
                <a:off x="582480" y="39639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505" name=""/>
            <p:cNvGrpSpPr/>
            <p:nvPr/>
          </p:nvGrpSpPr>
          <p:grpSpPr>
            <a:xfrm>
              <a:off x="888840" y="3951360"/>
              <a:ext cx="131760" cy="196920"/>
              <a:chOff x="888840" y="3951360"/>
              <a:chExt cx="131760" cy="196920"/>
            </a:xfrm>
          </p:grpSpPr>
          <p:sp>
            <p:nvSpPr>
              <p:cNvPr id="5506" name=""/>
              <p:cNvSpPr/>
              <p:nvPr/>
            </p:nvSpPr>
            <p:spPr>
              <a:xfrm flipV="1">
                <a:off x="896760" y="39513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7" name=""/>
              <p:cNvSpPr/>
              <p:nvPr/>
            </p:nvSpPr>
            <p:spPr>
              <a:xfrm>
                <a:off x="888840" y="39830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508" name=""/>
            <p:cNvSpPr txBox="1"/>
            <p:nvPr/>
          </p:nvSpPr>
          <p:spPr>
            <a:xfrm>
              <a:off x="1020600" y="39020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5509" name=""/>
            <p:cNvSpPr/>
            <p:nvPr/>
          </p:nvSpPr>
          <p:spPr>
            <a:xfrm>
              <a:off x="1484280" y="391788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0" name=""/>
            <p:cNvSpPr txBox="1"/>
            <p:nvPr/>
          </p:nvSpPr>
          <p:spPr>
            <a:xfrm>
              <a:off x="1424160" y="38941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511" name=""/>
            <p:cNvSpPr txBox="1"/>
            <p:nvPr/>
          </p:nvSpPr>
          <p:spPr>
            <a:xfrm>
              <a:off x="1779480" y="39006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D</a:t>
              </a:r>
              <a:endParaRPr b="0" lang="en-US" sz="1600" spc="-1" strike="noStrike">
                <a:solidFill>
                  <a:srgbClr val="000000"/>
                </a:solidFill>
                <a:latin typeface="Arial"/>
              </a:endParaRPr>
            </a:p>
          </p:txBody>
        </p:sp>
        <p:sp>
          <p:nvSpPr>
            <p:cNvPr id="5512" name=""/>
            <p:cNvSpPr/>
            <p:nvPr/>
          </p:nvSpPr>
          <p:spPr>
            <a:xfrm>
              <a:off x="2144880" y="387972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3" name=""/>
            <p:cNvSpPr txBox="1"/>
            <p:nvPr/>
          </p:nvSpPr>
          <p:spPr>
            <a:xfrm>
              <a:off x="2111400" y="389736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E</a:t>
              </a:r>
              <a:endParaRPr b="0" lang="en-US" sz="1600" spc="-1" strike="noStrike">
                <a:solidFill>
                  <a:srgbClr val="000000"/>
                </a:solidFill>
                <a:latin typeface="Arial"/>
              </a:endParaRPr>
            </a:p>
          </p:txBody>
        </p:sp>
        <p:sp>
          <p:nvSpPr>
            <p:cNvPr id="5514" name=""/>
            <p:cNvSpPr/>
            <p:nvPr/>
          </p:nvSpPr>
          <p:spPr>
            <a:xfrm>
              <a:off x="2392200" y="39243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5" name=""/>
            <p:cNvSpPr txBox="1"/>
            <p:nvPr/>
          </p:nvSpPr>
          <p:spPr>
            <a:xfrm>
              <a:off x="2333520" y="390060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516" name=""/>
            <p:cNvSpPr/>
            <p:nvPr/>
          </p:nvSpPr>
          <p:spPr>
            <a:xfrm>
              <a:off x="2719440" y="388764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7" name=""/>
            <p:cNvSpPr txBox="1"/>
            <p:nvPr/>
          </p:nvSpPr>
          <p:spPr>
            <a:xfrm>
              <a:off x="2681280" y="39085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F</a:t>
              </a:r>
              <a:endParaRPr b="0" lang="en-US" sz="1600" spc="-1" strike="noStrike">
                <a:solidFill>
                  <a:srgbClr val="000000"/>
                </a:solidFill>
                <a:latin typeface="Arial"/>
              </a:endParaRPr>
            </a:p>
          </p:txBody>
        </p:sp>
        <p:sp>
          <p:nvSpPr>
            <p:cNvPr id="5518" name=""/>
            <p:cNvSpPr/>
            <p:nvPr/>
          </p:nvSpPr>
          <p:spPr>
            <a:xfrm>
              <a:off x="2979720" y="39290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19" name=""/>
            <p:cNvSpPr txBox="1"/>
            <p:nvPr/>
          </p:nvSpPr>
          <p:spPr>
            <a:xfrm>
              <a:off x="2927520" y="39052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0"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27669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 name=""/>
          <p:cNvSpPr/>
          <p:nvPr/>
        </p:nvSpPr>
        <p:spPr>
          <a:xfrm>
            <a:off x="5064120" y="3317760"/>
            <a:ext cx="0" cy="75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4" name=""/>
          <p:cNvGrpSpPr/>
          <p:nvPr/>
        </p:nvGrpSpPr>
        <p:grpSpPr>
          <a:xfrm>
            <a:off x="4413240" y="2560680"/>
            <a:ext cx="507960" cy="495360"/>
            <a:chOff x="4413240" y="2560680"/>
            <a:chExt cx="507960" cy="495360"/>
          </a:xfrm>
        </p:grpSpPr>
        <p:sp>
          <p:nvSpPr>
            <p:cNvPr id="635"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640"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1" name=""/>
          <p:cNvSpPr/>
          <p:nvPr/>
        </p:nvSpPr>
        <p:spPr>
          <a:xfrm>
            <a:off x="2676600" y="27957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p:nvPr/>
        </p:nvSpPr>
        <p:spPr>
          <a:xfrm>
            <a:off x="2882880" y="27957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 name=""/>
          <p:cNvSpPr/>
          <p:nvPr/>
        </p:nvSpPr>
        <p:spPr>
          <a:xfrm>
            <a:off x="3009960" y="279576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646"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7" name=""/>
          <p:cNvGrpSpPr/>
          <p:nvPr/>
        </p:nvGrpSpPr>
        <p:grpSpPr>
          <a:xfrm>
            <a:off x="2523960" y="5121360"/>
            <a:ext cx="2523960" cy="1133280"/>
            <a:chOff x="2523960" y="5121360"/>
            <a:chExt cx="2523960" cy="1133280"/>
          </a:xfrm>
        </p:grpSpPr>
        <p:sp>
          <p:nvSpPr>
            <p:cNvPr id="648"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3" name=""/>
            <p:cNvGrpSpPr/>
            <p:nvPr/>
          </p:nvGrpSpPr>
          <p:grpSpPr>
            <a:xfrm>
              <a:off x="4651200" y="5127480"/>
              <a:ext cx="0" cy="1127160"/>
              <a:chOff x="4651200" y="5127480"/>
              <a:chExt cx="0" cy="1127160"/>
            </a:xfrm>
          </p:grpSpPr>
          <p:sp>
            <p:nvSpPr>
              <p:cNvPr id="654"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656"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57" name=""/>
            <p:cNvGrpSpPr/>
            <p:nvPr/>
          </p:nvGrpSpPr>
          <p:grpSpPr>
            <a:xfrm>
              <a:off x="2898720" y="5121360"/>
              <a:ext cx="0" cy="1127160"/>
              <a:chOff x="2898720" y="5121360"/>
              <a:chExt cx="0" cy="1127160"/>
            </a:xfrm>
          </p:grpSpPr>
          <p:sp>
            <p:nvSpPr>
              <p:cNvPr id="658"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660"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661"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6"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sp>
        <p:nvSpPr>
          <p:cNvPr id="669"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5327640" y="97776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672" name=""/>
          <p:cNvSpPr txBox="1"/>
          <p:nvPr/>
        </p:nvSpPr>
        <p:spPr>
          <a:xfrm>
            <a:off x="5943600" y="83520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673" name=""/>
          <p:cNvGrpSpPr/>
          <p:nvPr/>
        </p:nvGrpSpPr>
        <p:grpSpPr>
          <a:xfrm>
            <a:off x="5797440" y="1015920"/>
            <a:ext cx="174600" cy="174600"/>
            <a:chOff x="5797440" y="1015920"/>
            <a:chExt cx="174600" cy="174600"/>
          </a:xfrm>
        </p:grpSpPr>
        <p:sp>
          <p:nvSpPr>
            <p:cNvPr id="674" name=""/>
            <p:cNvSpPr/>
            <p:nvPr/>
          </p:nvSpPr>
          <p:spPr>
            <a:xfrm>
              <a:off x="5813280" y="1031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 name=""/>
            <p:cNvSpPr/>
            <p:nvPr/>
          </p:nvSpPr>
          <p:spPr>
            <a:xfrm flipH="1">
              <a:off x="5797440" y="1015920"/>
              <a:ext cx="17460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677"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678" name=""/>
          <p:cNvSpPr/>
          <p:nvPr/>
        </p:nvSpPr>
        <p:spPr>
          <a:xfrm flipH="1">
            <a:off x="5175360" y="11160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flipH="1">
            <a:off x="4714920" y="1109520"/>
            <a:ext cx="466560" cy="1541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sp>
        <p:nvSpPr>
          <p:cNvPr id="681"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sp>
        <p:nvSpPr>
          <p:cNvPr id="682" name=""/>
          <p:cNvSpPr/>
          <p:nvPr/>
        </p:nvSpPr>
        <p:spPr>
          <a:xfrm flipH="1">
            <a:off x="2921040" y="36511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a:off x="2533680" y="3273480"/>
            <a:ext cx="0" cy="79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2533680" y="3960720"/>
            <a:ext cx="1274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 name=""/>
          <p:cNvSpPr/>
          <p:nvPr/>
        </p:nvSpPr>
        <p:spPr>
          <a:xfrm>
            <a:off x="4438800" y="39607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 name=""/>
          <p:cNvSpPr txBox="1"/>
          <p:nvPr/>
        </p:nvSpPr>
        <p:spPr>
          <a:xfrm>
            <a:off x="3848040" y="3797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68.0</a:t>
            </a:r>
            <a:endParaRPr b="0" lang="en-US" sz="1600" spc="-1" strike="noStrike">
              <a:solidFill>
                <a:srgbClr val="000000"/>
              </a:solidFill>
              <a:latin typeface="Arial"/>
            </a:endParaRPr>
          </a:p>
        </p:txBody>
      </p:sp>
      <p:sp>
        <p:nvSpPr>
          <p:cNvPr id="687" name=""/>
          <p:cNvSpPr/>
          <p:nvPr/>
        </p:nvSpPr>
        <p:spPr>
          <a:xfrm>
            <a:off x="5159520" y="5345280"/>
            <a:ext cx="85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5159520" y="5954760"/>
            <a:ext cx="84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5900760" y="53341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flipV="1">
            <a:off x="5900760" y="484668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5900760" y="48466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txBox="1"/>
          <p:nvPr/>
        </p:nvSpPr>
        <p:spPr>
          <a:xfrm>
            <a:off x="6162840" y="468324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5.0</a:t>
            </a:r>
            <a:endParaRPr b="0" lang="en-US" sz="1600" spc="-1" strike="noStrike">
              <a:solidFill>
                <a:srgbClr val="000000"/>
              </a:solidFill>
              <a:latin typeface="Arial"/>
            </a:endParaRPr>
          </a:p>
        </p:txBody>
      </p:sp>
      <p:sp>
        <p:nvSpPr>
          <p:cNvPr id="693"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sp>
        <p:nvSpPr>
          <p:cNvPr id="696"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7" name=""/>
          <p:cNvSpPr/>
          <p:nvPr/>
        </p:nvSpPr>
        <p:spPr>
          <a:xfrm>
            <a:off x="3730680" y="2797200"/>
            <a:ext cx="6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895560" y="2797200"/>
            <a:ext cx="54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52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21"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2"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23"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524"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25"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5526"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27"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28"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5529" name=""/>
          <p:cNvSpPr/>
          <p:nvPr/>
        </p:nvSpPr>
        <p:spPr>
          <a:xfrm>
            <a:off x="3603600" y="40878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0" name=""/>
          <p:cNvSpPr/>
          <p:nvPr/>
        </p:nvSpPr>
        <p:spPr>
          <a:xfrm flipV="1">
            <a:off x="344340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1" name=""/>
          <p:cNvSpPr/>
          <p:nvPr/>
        </p:nvSpPr>
        <p:spPr>
          <a:xfrm>
            <a:off x="3444840" y="4057560"/>
            <a:ext cx="159120" cy="57600"/>
          </a:xfrm>
          <a:custGeom>
            <a:avLst/>
            <a:gdLst/>
            <a:ahLst/>
            <a:rect l="0" t="0" r="r" b="b"/>
            <a:pathLst>
              <a:path w="442" h="160">
                <a:moveTo>
                  <a:pt x="442" y="0"/>
                </a:moveTo>
                <a:lnTo>
                  <a:pt x="442" y="160"/>
                </a:lnTo>
                <a:lnTo>
                  <a:pt x="0" y="85"/>
                </a:lnTo>
                <a:lnTo>
                  <a:pt x="442"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5532" name=""/>
          <p:cNvSpPr/>
          <p:nvPr/>
        </p:nvSpPr>
        <p:spPr>
          <a:xfrm flipV="1">
            <a:off x="41878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3"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4"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5"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36"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37" name=""/>
          <p:cNvSpPr/>
          <p:nvPr/>
        </p:nvSpPr>
        <p:spPr>
          <a:xfrm flipV="1">
            <a:off x="4183200" y="4087800"/>
            <a:ext cx="2505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5538" name=""/>
          <p:cNvSpPr/>
          <p:nvPr/>
        </p:nvSpPr>
        <p:spPr>
          <a:xfrm>
            <a:off x="4030560" y="4057560"/>
            <a:ext cx="155880" cy="57600"/>
          </a:xfrm>
          <a:custGeom>
            <a:avLst/>
            <a:gdLst/>
            <a:ahLst/>
            <a:rect l="0" t="0" r="r" b="b"/>
            <a:pathLst>
              <a:path w="433" h="160">
                <a:moveTo>
                  <a:pt x="0" y="0"/>
                </a:moveTo>
                <a:lnTo>
                  <a:pt x="0" y="160"/>
                </a:lnTo>
                <a:lnTo>
                  <a:pt x="433" y="85"/>
                </a:lnTo>
                <a:lnTo>
                  <a:pt x="0" y="0"/>
                </a:lnTo>
                <a:close/>
              </a:path>
            </a:pathLst>
          </a:custGeom>
          <a:solidFill>
            <a:srgbClr val="ffffff"/>
          </a:solidFill>
          <a:ln w="12600">
            <a:solidFill>
              <a:srgbClr val="ffffff"/>
            </a:solidFill>
            <a:round/>
          </a:ln>
        </p:spPr>
        <p:txBody>
          <a:bodyPr lIns="96120" rIns="96120" tIns="6480" bIns="6480" anchor="t">
            <a:noAutofit/>
          </a:bodyPr>
          <a:p>
            <a:endParaRPr b="0" lang="en-US" sz="1800" spc="-1" strike="noStrike">
              <a:solidFill>
                <a:srgbClr val="000000"/>
              </a:solidFill>
              <a:latin typeface="Arial"/>
            </a:endParaRPr>
          </a:p>
        </p:txBody>
      </p:sp>
      <p:sp>
        <p:nvSpPr>
          <p:cNvPr id="5539"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5540"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1"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2"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3"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544"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5"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546"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7"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8"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49"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0"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1"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2" name=""/>
          <p:cNvSpPr/>
          <p:nvPr/>
        </p:nvSpPr>
        <p:spPr>
          <a:xfrm flipV="1">
            <a:off x="6032520" y="90324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3"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4"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55"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6"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7"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8"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9" name=""/>
          <p:cNvSpPr/>
          <p:nvPr/>
        </p:nvSpPr>
        <p:spPr>
          <a:xfrm>
            <a:off x="5715000" y="2017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0"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1"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2"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5563"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4"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565"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66"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5567"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8"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9"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570"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5571"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5572"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5573" name=""/>
          <p:cNvSpPr/>
          <p:nvPr/>
        </p:nvSpPr>
        <p:spPr>
          <a:xfrm>
            <a:off x="6004080" y="2247840"/>
            <a:ext cx="57600" cy="173520"/>
          </a:xfrm>
          <a:custGeom>
            <a:avLst/>
            <a:gdLst/>
            <a:ahLst/>
            <a:rect l="0" t="0" r="r" b="b"/>
            <a:pathLst>
              <a:path w="160" h="482">
                <a:moveTo>
                  <a:pt x="0" y="482"/>
                </a:moveTo>
                <a:lnTo>
                  <a:pt x="160" y="482"/>
                </a:lnTo>
                <a:lnTo>
                  <a:pt x="80" y="0"/>
                </a:lnTo>
                <a:lnTo>
                  <a:pt x="0"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74" name=""/>
          <p:cNvSpPr/>
          <p:nvPr/>
        </p:nvSpPr>
        <p:spPr>
          <a:xfrm>
            <a:off x="5689440" y="223524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5" name=""/>
          <p:cNvSpPr/>
          <p:nvPr/>
        </p:nvSpPr>
        <p:spPr>
          <a:xfrm>
            <a:off x="6032520" y="24210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6" name=""/>
          <p:cNvSpPr/>
          <p:nvPr/>
        </p:nvSpPr>
        <p:spPr>
          <a:xfrm>
            <a:off x="6004080" y="1614600"/>
            <a:ext cx="57600" cy="174960"/>
          </a:xfrm>
          <a:custGeom>
            <a:avLst/>
            <a:gdLst/>
            <a:ahLst/>
            <a:rect l="0" t="0" r="r" b="b"/>
            <a:pathLst>
              <a:path w="160" h="486">
                <a:moveTo>
                  <a:pt x="0" y="0"/>
                </a:moveTo>
                <a:lnTo>
                  <a:pt x="160" y="0"/>
                </a:lnTo>
                <a:lnTo>
                  <a:pt x="80" y="486"/>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577" name=""/>
          <p:cNvGrpSpPr/>
          <p:nvPr/>
        </p:nvGrpSpPr>
        <p:grpSpPr>
          <a:xfrm>
            <a:off x="4908600" y="1797120"/>
            <a:ext cx="690480" cy="441360"/>
            <a:chOff x="4908600" y="1797120"/>
            <a:chExt cx="690480" cy="441360"/>
          </a:xfrm>
        </p:grpSpPr>
        <p:sp>
          <p:nvSpPr>
            <p:cNvPr id="5578" name=""/>
            <p:cNvSpPr/>
            <p:nvPr/>
          </p:nvSpPr>
          <p:spPr>
            <a:xfrm flipH="1">
              <a:off x="5484960" y="1797120"/>
              <a:ext cx="1141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9" name=""/>
            <p:cNvSpPr/>
            <p:nvPr/>
          </p:nvSpPr>
          <p:spPr>
            <a:xfrm>
              <a:off x="5226120" y="1797120"/>
              <a:ext cx="201600" cy="0"/>
            </a:xfrm>
            <a:custGeom>
              <a:avLst/>
              <a:gdLst/>
              <a:ahLst/>
              <a:rect l="0" t="0" r="r" b="b"/>
              <a:pathLst>
                <a:path fill="none" w="560" h="0">
                  <a:moveTo>
                    <a:pt x="560" y="0"/>
                  </a:moveTo>
                  <a:lnTo>
                    <a:pt x="241" y="0"/>
                  </a:lnTo>
                  <a:lnTo>
                    <a:pt x="0" y="0"/>
                  </a:lnTo>
                </a:path>
              </a:pathLst>
            </a:custGeom>
            <a:ln w="12600">
              <a:solidFill>
                <a:srgbClr val="fd07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0" name=""/>
            <p:cNvSpPr/>
            <p:nvPr/>
          </p:nvSpPr>
          <p:spPr>
            <a:xfrm flipH="1">
              <a:off x="5051520" y="1797120"/>
              <a:ext cx="1173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1" name=""/>
            <p:cNvSpPr/>
            <p:nvPr/>
          </p:nvSpPr>
          <p:spPr>
            <a:xfrm flipH="1">
              <a:off x="4908600" y="1797120"/>
              <a:ext cx="8568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2" name=""/>
            <p:cNvSpPr/>
            <p:nvPr/>
          </p:nvSpPr>
          <p:spPr>
            <a:xfrm flipH="1">
              <a:off x="5484960" y="2238480"/>
              <a:ext cx="1141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3" name=""/>
            <p:cNvSpPr/>
            <p:nvPr/>
          </p:nvSpPr>
          <p:spPr>
            <a:xfrm>
              <a:off x="5226120" y="2238480"/>
              <a:ext cx="201600" cy="0"/>
            </a:xfrm>
            <a:custGeom>
              <a:avLst/>
              <a:gdLst/>
              <a:ahLst/>
              <a:rect l="0" t="0" r="r" b="b"/>
              <a:pathLst>
                <a:path fill="none" w="560" h="0">
                  <a:moveTo>
                    <a:pt x="560" y="0"/>
                  </a:moveTo>
                  <a:lnTo>
                    <a:pt x="241" y="0"/>
                  </a:lnTo>
                  <a:lnTo>
                    <a:pt x="0" y="0"/>
                  </a:lnTo>
                </a:path>
              </a:pathLst>
            </a:custGeom>
            <a:ln w="12600">
              <a:solidFill>
                <a:srgbClr val="fd07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4" name=""/>
            <p:cNvSpPr/>
            <p:nvPr/>
          </p:nvSpPr>
          <p:spPr>
            <a:xfrm flipH="1">
              <a:off x="5051520" y="2238480"/>
              <a:ext cx="1173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5" name=""/>
            <p:cNvSpPr/>
            <p:nvPr/>
          </p:nvSpPr>
          <p:spPr>
            <a:xfrm flipH="1">
              <a:off x="4908600" y="2238480"/>
              <a:ext cx="8568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6" name=""/>
            <p:cNvSpPr/>
            <p:nvPr/>
          </p:nvSpPr>
          <p:spPr>
            <a:xfrm>
              <a:off x="5599080" y="1797120"/>
              <a:ext cx="0" cy="1029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7" name=""/>
            <p:cNvSpPr/>
            <p:nvPr/>
          </p:nvSpPr>
          <p:spPr>
            <a:xfrm>
              <a:off x="5599080" y="1960560"/>
              <a:ext cx="0" cy="11448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8" name=""/>
            <p:cNvSpPr/>
            <p:nvPr/>
          </p:nvSpPr>
          <p:spPr>
            <a:xfrm>
              <a:off x="5599080" y="213372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589" name=""/>
          <p:cNvSpPr/>
          <p:nvPr/>
        </p:nvSpPr>
        <p:spPr>
          <a:xfrm>
            <a:off x="5689440" y="179856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0"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1"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2" name=""/>
          <p:cNvSpPr/>
          <p:nvPr/>
        </p:nvSpPr>
        <p:spPr>
          <a:xfrm>
            <a:off x="6032520" y="9032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3"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4" name=""/>
          <p:cNvSpPr/>
          <p:nvPr/>
        </p:nvSpPr>
        <p:spPr>
          <a:xfrm>
            <a:off x="3441600" y="1644480"/>
            <a:ext cx="747720" cy="747720"/>
          </a:xfrm>
          <a:prstGeom prst="ellipse">
            <a:avLst/>
          </a:prstGeom>
          <a:noFill/>
          <a:ln w="12600">
            <a:solidFill>
              <a:srgbClr val="fd07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95"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96" name=""/>
          <p:cNvSpPr/>
          <p:nvPr/>
        </p:nvSpPr>
        <p:spPr>
          <a:xfrm>
            <a:off x="4911840" y="1793880"/>
            <a:ext cx="0" cy="101520"/>
          </a:xfrm>
          <a:prstGeom prst="line">
            <a:avLst/>
          </a:prstGeom>
          <a:ln w="12600">
            <a:solidFill>
              <a:srgbClr val="fd0700"/>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5597" name=""/>
          <p:cNvSpPr/>
          <p:nvPr/>
        </p:nvSpPr>
        <p:spPr>
          <a:xfrm>
            <a:off x="4911840" y="1959120"/>
            <a:ext cx="0" cy="12384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8" name=""/>
          <p:cNvSpPr/>
          <p:nvPr/>
        </p:nvSpPr>
        <p:spPr>
          <a:xfrm>
            <a:off x="4911840" y="2136600"/>
            <a:ext cx="0" cy="98640"/>
          </a:xfrm>
          <a:prstGeom prst="line">
            <a:avLst/>
          </a:prstGeom>
          <a:ln w="12600">
            <a:solidFill>
              <a:srgbClr val="fd0700"/>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5599"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00" name=""/>
          <p:cNvSpPr txBox="1"/>
          <p:nvPr/>
        </p:nvSpPr>
        <p:spPr>
          <a:xfrm>
            <a:off x="6200640" y="695160"/>
            <a:ext cx="2882880" cy="17398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F (M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virtual condition width (fixe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gage) perpendicular to datum</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lane D.  Center plan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ligned with datum axis E)</a:t>
            </a:r>
            <a:endParaRPr b="0" lang="en-US" sz="1800" spc="-1" strike="noStrike">
              <a:solidFill>
                <a:srgbClr val="000000"/>
              </a:solidFill>
              <a:latin typeface="Arial"/>
            </a:endParaRPr>
          </a:p>
        </p:txBody>
      </p:sp>
      <p:sp>
        <p:nvSpPr>
          <p:cNvPr id="5601"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602" name=""/>
          <p:cNvSpPr txBox="1"/>
          <p:nvPr/>
        </p:nvSpPr>
        <p:spPr>
          <a:xfrm>
            <a:off x="6415200" y="2806560"/>
            <a:ext cx="2378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F</a:t>
            </a:r>
            <a:endParaRPr b="0" lang="en-US" sz="2000" spc="-1" strike="noStrike">
              <a:solidFill>
                <a:srgbClr val="000000"/>
              </a:solidFill>
              <a:latin typeface="Arial"/>
            </a:endParaRPr>
          </a:p>
        </p:txBody>
      </p:sp>
      <p:sp>
        <p:nvSpPr>
          <p:cNvPr id="5603" name=""/>
          <p:cNvSpPr txBox="1"/>
          <p:nvPr/>
        </p:nvSpPr>
        <p:spPr>
          <a:xfrm>
            <a:off x="4751280" y="3321000"/>
            <a:ext cx="1636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E</a:t>
            </a:r>
            <a:endParaRPr b="0" lang="en-US" sz="2000" spc="-1" strike="noStrike">
              <a:solidFill>
                <a:srgbClr val="000000"/>
              </a:solidFill>
              <a:latin typeface="Arial"/>
            </a:endParaRPr>
          </a:p>
        </p:txBody>
      </p:sp>
      <p:sp>
        <p:nvSpPr>
          <p:cNvPr id="5604" name=""/>
          <p:cNvSpPr txBox="1"/>
          <p:nvPr/>
        </p:nvSpPr>
        <p:spPr>
          <a:xfrm>
            <a:off x="4479840" y="3917880"/>
            <a:ext cx="444960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 of datum feature 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MC virtual condition cylinder (fixed gag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erpendicular to datum plane D)</a:t>
            </a:r>
            <a:endParaRPr b="0" lang="en-US" sz="1800" spc="-1" strike="noStrike">
              <a:solidFill>
                <a:srgbClr val="000000"/>
              </a:solidFill>
              <a:latin typeface="Arial"/>
            </a:endParaRPr>
          </a:p>
        </p:txBody>
      </p:sp>
      <p:sp>
        <p:nvSpPr>
          <p:cNvPr id="5605"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D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D simulated by surface plate)</a:t>
            </a:r>
            <a:endParaRPr b="0" lang="en-US" sz="1800" spc="-1" strike="noStrike">
              <a:solidFill>
                <a:srgbClr val="000000"/>
              </a:solidFill>
              <a:latin typeface="Arial"/>
            </a:endParaRPr>
          </a:p>
        </p:txBody>
      </p:sp>
      <p:sp>
        <p:nvSpPr>
          <p:cNvPr id="5606" name=""/>
          <p:cNvSpPr txBox="1"/>
          <p:nvPr/>
        </p:nvSpPr>
        <p:spPr>
          <a:xfrm>
            <a:off x="654120" y="630360"/>
            <a:ext cx="2343240" cy="396720"/>
          </a:xfrm>
          <a:prstGeom prst="rect">
            <a:avLst/>
          </a:prstGeom>
          <a:noFill/>
          <a:ln w="0">
            <a:noFill/>
          </a:ln>
        </p:spPr>
        <p:txBody>
          <a:bodyPr lIns="0" rIns="0" tIns="0" bIns="0" anchor="t">
            <a:noAutofit/>
          </a:bodyPr>
          <a:p>
            <a:pPr>
              <a:lnSpc>
                <a:spcPct val="100000"/>
              </a:lnSpc>
            </a:pPr>
            <a:r>
              <a:rPr b="0" lang="en-US" sz="2000" spc="-1" strike="noStrike">
                <a:solidFill>
                  <a:srgbClr val="00dfca"/>
                </a:solidFill>
                <a:latin typeface="Times New Roman"/>
                <a:ea typeface="Times New Roman"/>
              </a:rPr>
              <a:t>INTERPRETATION</a:t>
            </a:r>
            <a:endParaRPr b="0" lang="en-US" sz="2000" spc="-1" strike="noStrike">
              <a:solidFill>
                <a:srgbClr val="000000"/>
              </a:solidFill>
              <a:latin typeface="Arial"/>
            </a:endParaRPr>
          </a:p>
        </p:txBody>
      </p:sp>
      <p:sp>
        <p:nvSpPr>
          <p:cNvPr id="5607"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Maximum Material Condition</a:t>
            </a:r>
            <a:endParaRPr b="0" lang="en-US" sz="2000" spc="-1" strike="noStrike">
              <a:solidFill>
                <a:srgbClr val="000000"/>
              </a:solidFill>
              <a:latin typeface="Arial"/>
            </a:endParaRPr>
          </a:p>
        </p:txBody>
      </p:sp>
      <p:sp>
        <p:nvSpPr>
          <p:cNvPr id="5608"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9"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0"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1"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2"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13"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14"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5615" name=""/>
          <p:cNvGrpSpPr/>
          <p:nvPr/>
        </p:nvGrpSpPr>
        <p:grpSpPr>
          <a:xfrm>
            <a:off x="2824200" y="4629240"/>
            <a:ext cx="2476440" cy="890640"/>
            <a:chOff x="2824200" y="4629240"/>
            <a:chExt cx="2476440" cy="890640"/>
          </a:xfrm>
        </p:grpSpPr>
        <p:sp>
          <p:nvSpPr>
            <p:cNvPr id="5616"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7"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5618"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5619"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0"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1"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2"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3"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4"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5"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6"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627"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628"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629"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5630"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1"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2"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3"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4"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5"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6"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7"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8"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9"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0"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5641"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642"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3"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4"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5"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6"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7"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48"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649"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0" name=""/>
          <p:cNvSpPr/>
          <p:nvPr/>
        </p:nvSpPr>
        <p:spPr>
          <a:xfrm>
            <a:off x="3443400" y="5091120"/>
            <a:ext cx="0" cy="76320"/>
          </a:xfrm>
          <a:prstGeom prst="line">
            <a:avLst/>
          </a:prstGeom>
          <a:ln w="12600">
            <a:solidFill>
              <a:srgbClr val="fd07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5651" name=""/>
          <p:cNvSpPr/>
          <p:nvPr/>
        </p:nvSpPr>
        <p:spPr>
          <a:xfrm>
            <a:off x="3443400" y="521964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2" name=""/>
          <p:cNvSpPr/>
          <p:nvPr/>
        </p:nvSpPr>
        <p:spPr>
          <a:xfrm>
            <a:off x="3443400" y="5372280"/>
            <a:ext cx="0" cy="13788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3" name=""/>
          <p:cNvSpPr/>
          <p:nvPr/>
        </p:nvSpPr>
        <p:spPr>
          <a:xfrm>
            <a:off x="4192560" y="5092560"/>
            <a:ext cx="0" cy="81000"/>
          </a:xfrm>
          <a:prstGeom prst="line">
            <a:avLst/>
          </a:prstGeom>
          <a:ln w="12600">
            <a:solidFill>
              <a:srgbClr val="fd07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5654" name=""/>
          <p:cNvSpPr/>
          <p:nvPr/>
        </p:nvSpPr>
        <p:spPr>
          <a:xfrm>
            <a:off x="4192560" y="52308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5" name=""/>
          <p:cNvSpPr/>
          <p:nvPr/>
        </p:nvSpPr>
        <p:spPr>
          <a:xfrm>
            <a:off x="4191120" y="54072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6"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7"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658" name=""/>
          <p:cNvGrpSpPr/>
          <p:nvPr/>
        </p:nvGrpSpPr>
        <p:grpSpPr>
          <a:xfrm>
            <a:off x="498600" y="3878280"/>
            <a:ext cx="2822760" cy="366840"/>
            <a:chOff x="498600" y="3878280"/>
            <a:chExt cx="2822760" cy="366840"/>
          </a:xfrm>
        </p:grpSpPr>
        <p:sp>
          <p:nvSpPr>
            <p:cNvPr id="5659" name=""/>
            <p:cNvSpPr/>
            <p:nvPr/>
          </p:nvSpPr>
          <p:spPr>
            <a:xfrm>
              <a:off x="835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0" name=""/>
            <p:cNvSpPr/>
            <p:nvPr/>
          </p:nvSpPr>
          <p:spPr>
            <a:xfrm>
              <a:off x="1789200" y="3878280"/>
              <a:ext cx="0" cy="33804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1" name=""/>
            <p:cNvSpPr/>
            <p:nvPr/>
          </p:nvSpPr>
          <p:spPr>
            <a:xfrm>
              <a:off x="498600" y="38782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662" name=""/>
            <p:cNvGrpSpPr/>
            <p:nvPr/>
          </p:nvGrpSpPr>
          <p:grpSpPr>
            <a:xfrm>
              <a:off x="561960" y="3943440"/>
              <a:ext cx="214200" cy="212760"/>
              <a:chOff x="561960" y="3943440"/>
              <a:chExt cx="214200" cy="212760"/>
            </a:xfrm>
          </p:grpSpPr>
          <p:sp>
            <p:nvSpPr>
              <p:cNvPr id="5663" name=""/>
              <p:cNvSpPr/>
              <p:nvPr/>
            </p:nvSpPr>
            <p:spPr>
              <a:xfrm>
                <a:off x="561960" y="404640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4" name=""/>
              <p:cNvSpPr/>
              <p:nvPr/>
            </p:nvSpPr>
            <p:spPr>
              <a:xfrm>
                <a:off x="666720" y="39434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5" name=""/>
              <p:cNvSpPr/>
              <p:nvPr/>
            </p:nvSpPr>
            <p:spPr>
              <a:xfrm>
                <a:off x="582480" y="39639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666" name=""/>
            <p:cNvGrpSpPr/>
            <p:nvPr/>
          </p:nvGrpSpPr>
          <p:grpSpPr>
            <a:xfrm>
              <a:off x="888840" y="3951360"/>
              <a:ext cx="131760" cy="196920"/>
              <a:chOff x="888840" y="3951360"/>
              <a:chExt cx="131760" cy="196920"/>
            </a:xfrm>
          </p:grpSpPr>
          <p:sp>
            <p:nvSpPr>
              <p:cNvPr id="5667" name=""/>
              <p:cNvSpPr/>
              <p:nvPr/>
            </p:nvSpPr>
            <p:spPr>
              <a:xfrm flipV="1">
                <a:off x="896760" y="39513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8" name=""/>
              <p:cNvSpPr/>
              <p:nvPr/>
            </p:nvSpPr>
            <p:spPr>
              <a:xfrm>
                <a:off x="888840" y="39830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669" name=""/>
            <p:cNvSpPr txBox="1"/>
            <p:nvPr/>
          </p:nvSpPr>
          <p:spPr>
            <a:xfrm>
              <a:off x="1020600" y="39020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5670" name=""/>
            <p:cNvSpPr/>
            <p:nvPr/>
          </p:nvSpPr>
          <p:spPr>
            <a:xfrm>
              <a:off x="1484280" y="391788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1" name=""/>
            <p:cNvSpPr txBox="1"/>
            <p:nvPr/>
          </p:nvSpPr>
          <p:spPr>
            <a:xfrm>
              <a:off x="1424160" y="38941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672" name=""/>
            <p:cNvSpPr txBox="1"/>
            <p:nvPr/>
          </p:nvSpPr>
          <p:spPr>
            <a:xfrm>
              <a:off x="1779480" y="39006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D</a:t>
              </a:r>
              <a:endParaRPr b="0" lang="en-US" sz="1600" spc="-1" strike="noStrike">
                <a:solidFill>
                  <a:srgbClr val="000000"/>
                </a:solidFill>
                <a:latin typeface="Arial"/>
              </a:endParaRPr>
            </a:p>
          </p:txBody>
        </p:sp>
        <p:sp>
          <p:nvSpPr>
            <p:cNvPr id="5673" name=""/>
            <p:cNvSpPr/>
            <p:nvPr/>
          </p:nvSpPr>
          <p:spPr>
            <a:xfrm>
              <a:off x="2144880" y="387972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4" name=""/>
            <p:cNvSpPr txBox="1"/>
            <p:nvPr/>
          </p:nvSpPr>
          <p:spPr>
            <a:xfrm>
              <a:off x="2111400" y="389736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E</a:t>
              </a:r>
              <a:endParaRPr b="0" lang="en-US" sz="1600" spc="-1" strike="noStrike">
                <a:solidFill>
                  <a:srgbClr val="000000"/>
                </a:solidFill>
                <a:latin typeface="Arial"/>
              </a:endParaRPr>
            </a:p>
          </p:txBody>
        </p:sp>
        <p:sp>
          <p:nvSpPr>
            <p:cNvPr id="5675" name=""/>
            <p:cNvSpPr/>
            <p:nvPr/>
          </p:nvSpPr>
          <p:spPr>
            <a:xfrm>
              <a:off x="2392200" y="39243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76" name=""/>
            <p:cNvSpPr txBox="1"/>
            <p:nvPr/>
          </p:nvSpPr>
          <p:spPr>
            <a:xfrm>
              <a:off x="2333520" y="390060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sp>
          <p:nvSpPr>
            <p:cNvPr id="5677" name=""/>
            <p:cNvSpPr/>
            <p:nvPr/>
          </p:nvSpPr>
          <p:spPr>
            <a:xfrm>
              <a:off x="2719440" y="388764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8" name=""/>
            <p:cNvSpPr txBox="1"/>
            <p:nvPr/>
          </p:nvSpPr>
          <p:spPr>
            <a:xfrm>
              <a:off x="2681280" y="39085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F</a:t>
              </a:r>
              <a:endParaRPr b="0" lang="en-US" sz="1600" spc="-1" strike="noStrike">
                <a:solidFill>
                  <a:srgbClr val="000000"/>
                </a:solidFill>
                <a:latin typeface="Arial"/>
              </a:endParaRPr>
            </a:p>
          </p:txBody>
        </p:sp>
        <p:sp>
          <p:nvSpPr>
            <p:cNvPr id="5679" name=""/>
            <p:cNvSpPr/>
            <p:nvPr/>
          </p:nvSpPr>
          <p:spPr>
            <a:xfrm>
              <a:off x="2979720" y="39290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680" name=""/>
            <p:cNvSpPr txBox="1"/>
            <p:nvPr/>
          </p:nvSpPr>
          <p:spPr>
            <a:xfrm>
              <a:off x="2927520" y="390528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M</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681" name=""/>
          <p:cNvSpPr txBox="1"/>
          <p:nvPr/>
        </p:nvSpPr>
        <p:spPr>
          <a:xfrm>
            <a:off x="746280" y="2324160"/>
            <a:ext cx="7772400" cy="3915360"/>
          </a:xfrm>
          <a:prstGeom prst="rect">
            <a:avLst/>
          </a:prstGeom>
          <a:noFill/>
          <a:ln w="0">
            <a:noFill/>
          </a:ln>
        </p:spPr>
        <p:txBody>
          <a:bodyPr lIns="0" rIns="0" tIns="0" bIns="0" anchor="t">
            <a:noAutofit/>
          </a:bodyPr>
          <a:p>
            <a:pPr algn="ctr">
              <a:lnSpc>
                <a:spcPct val="100000"/>
              </a:lnSpc>
              <a:spcAft>
                <a:spcPts val="2401"/>
              </a:spcAft>
            </a:pPr>
            <a:r>
              <a:rPr b="0" lang="en-US" sz="7200" spc="-1" strike="noStrike">
                <a:solidFill>
                  <a:srgbClr val="ffffff"/>
                </a:solidFill>
                <a:latin typeface="Times New Roman"/>
                <a:ea typeface="Times New Roman"/>
              </a:rPr>
              <a:t>Secondary and Tertiary Datum Features at</a:t>
            </a:r>
            <a:br>
              <a:rPr sz="1800"/>
            </a:br>
            <a:br>
              <a:rPr sz="1800"/>
            </a:br>
            <a:r>
              <a:rPr b="0" lang="en-US" sz="4400" spc="-1" strike="noStrike">
                <a:solidFill>
                  <a:srgbClr val="ffffff"/>
                </a:solidFill>
                <a:latin typeface="Times New Roman"/>
                <a:ea typeface="Times New Roman"/>
              </a:rPr>
              <a:t>Least Material Condition (LM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6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Least Material Condition (LMC)</a:t>
            </a:r>
            <a:endParaRPr b="0" lang="en-US" sz="3600" spc="-1" strike="noStrike">
              <a:solidFill>
                <a:srgbClr val="000000"/>
              </a:solidFill>
              <a:latin typeface="Arial"/>
            </a:endParaRPr>
          </a:p>
        </p:txBody>
      </p:sp>
      <p:sp>
        <p:nvSpPr>
          <p:cNvPr id="568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primary datum may be established as the axis or center plane of the LMC boundary when a datum feature is specified on an LMC basi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secondary or tertiary datum may be established as the axis or center plane of the true geometric counterpart or the feature’s virtual condition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684" name=""/>
          <p:cNvSpPr/>
          <p:nvPr/>
        </p:nvSpPr>
        <p:spPr>
          <a:xfrm>
            <a:off x="3139920" y="62341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85" name=""/>
          <p:cNvSpPr/>
          <p:nvPr/>
        </p:nvSpPr>
        <p:spPr>
          <a:xfrm>
            <a:off x="3506760" y="2374920"/>
            <a:ext cx="124200" cy="144720"/>
          </a:xfrm>
          <a:custGeom>
            <a:avLst/>
            <a:gdLst/>
            <a:ahLst/>
            <a:rect l="0" t="0" r="r" b="b"/>
            <a:pathLst>
              <a:path w="345" h="402">
                <a:moveTo>
                  <a:pt x="223" y="402"/>
                </a:moveTo>
                <a:lnTo>
                  <a:pt x="0" y="0"/>
                </a:lnTo>
                <a:lnTo>
                  <a:pt x="345" y="310"/>
                </a:lnTo>
                <a:lnTo>
                  <a:pt x="223" y="40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6" name=""/>
          <p:cNvSpPr/>
          <p:nvPr/>
        </p:nvSpPr>
        <p:spPr>
          <a:xfrm>
            <a:off x="3610080" y="2506680"/>
            <a:ext cx="989280" cy="878400"/>
          </a:xfrm>
          <a:custGeom>
            <a:avLst/>
            <a:gdLst/>
            <a:ahLst/>
            <a:rect l="0" t="0" r="r" b="b"/>
            <a:pathLst>
              <a:path fill="none" w="2748" h="2440">
                <a:moveTo>
                  <a:pt x="0" y="0"/>
                </a:moveTo>
                <a:lnTo>
                  <a:pt x="1923" y="2440"/>
                </a:lnTo>
                <a:lnTo>
                  <a:pt x="2748" y="244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87" name=""/>
          <p:cNvSpPr/>
          <p:nvPr/>
        </p:nvSpPr>
        <p:spPr>
          <a:xfrm>
            <a:off x="4680000" y="2286000"/>
            <a:ext cx="147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8" name=""/>
          <p:cNvSpPr/>
          <p:nvPr/>
        </p:nvSpPr>
        <p:spPr>
          <a:xfrm>
            <a:off x="4680000" y="1854360"/>
            <a:ext cx="1473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9" name=""/>
          <p:cNvSpPr/>
          <p:nvPr/>
        </p:nvSpPr>
        <p:spPr>
          <a:xfrm>
            <a:off x="5989680" y="2451240"/>
            <a:ext cx="0" cy="16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0" name=""/>
          <p:cNvSpPr/>
          <p:nvPr/>
        </p:nvSpPr>
        <p:spPr>
          <a:xfrm>
            <a:off x="5991120" y="1398600"/>
            <a:ext cx="165600" cy="147960"/>
          </a:xfrm>
          <a:custGeom>
            <a:avLst/>
            <a:gdLst/>
            <a:ahLst/>
            <a:rect l="0" t="0" r="r" b="b"/>
            <a:pathLst>
              <a:path fill="none" w="460" h="411">
                <a:moveTo>
                  <a:pt x="0" y="411"/>
                </a:moveTo>
                <a:lnTo>
                  <a:pt x="0" y="0"/>
                </a:lnTo>
                <a:lnTo>
                  <a:pt x="46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1" name=""/>
          <p:cNvSpPr/>
          <p:nvPr/>
        </p:nvSpPr>
        <p:spPr>
          <a:xfrm>
            <a:off x="5964120" y="2284560"/>
            <a:ext cx="54360" cy="165600"/>
          </a:xfrm>
          <a:custGeom>
            <a:avLst/>
            <a:gdLst/>
            <a:ahLst/>
            <a:rect l="0" t="0" r="r" b="b"/>
            <a:pathLst>
              <a:path w="151" h="460">
                <a:moveTo>
                  <a:pt x="0" y="460"/>
                </a:moveTo>
                <a:lnTo>
                  <a:pt x="151" y="460"/>
                </a:lnTo>
                <a:lnTo>
                  <a:pt x="73" y="0"/>
                </a:lnTo>
                <a:lnTo>
                  <a:pt x="0"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2" name=""/>
          <p:cNvSpPr/>
          <p:nvPr/>
        </p:nvSpPr>
        <p:spPr>
          <a:xfrm>
            <a:off x="5964120" y="1687680"/>
            <a:ext cx="54360" cy="165600"/>
          </a:xfrm>
          <a:custGeom>
            <a:avLst/>
            <a:gdLst/>
            <a:ahLst/>
            <a:rect l="0" t="0" r="r" b="b"/>
            <a:pathLst>
              <a:path w="151" h="460">
                <a:moveTo>
                  <a:pt x="0" y="0"/>
                </a:moveTo>
                <a:lnTo>
                  <a:pt x="151" y="0"/>
                </a:lnTo>
                <a:lnTo>
                  <a:pt x="73" y="46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3" name=""/>
          <p:cNvSpPr/>
          <p:nvPr/>
        </p:nvSpPr>
        <p:spPr>
          <a:xfrm>
            <a:off x="3948120" y="1574640"/>
            <a:ext cx="170280" cy="497160"/>
          </a:xfrm>
          <a:custGeom>
            <a:avLst/>
            <a:gdLst/>
            <a:ahLst/>
            <a:rect l="0" t="0" r="r" b="b"/>
            <a:pathLst>
              <a:path fill="none" w="473" h="1381">
                <a:moveTo>
                  <a:pt x="473" y="1381"/>
                </a:moveTo>
                <a:lnTo>
                  <a:pt x="473" y="1342"/>
                </a:lnTo>
                <a:lnTo>
                  <a:pt x="464" y="1303"/>
                </a:lnTo>
                <a:lnTo>
                  <a:pt x="464" y="1264"/>
                </a:lnTo>
                <a:lnTo>
                  <a:pt x="464" y="1235"/>
                </a:lnTo>
                <a:lnTo>
                  <a:pt x="459" y="1196"/>
                </a:lnTo>
                <a:lnTo>
                  <a:pt x="459" y="1157"/>
                </a:lnTo>
                <a:lnTo>
                  <a:pt x="454" y="1128"/>
                </a:lnTo>
                <a:lnTo>
                  <a:pt x="449" y="1089"/>
                </a:lnTo>
                <a:lnTo>
                  <a:pt x="444" y="1050"/>
                </a:lnTo>
                <a:lnTo>
                  <a:pt x="439" y="1021"/>
                </a:lnTo>
                <a:lnTo>
                  <a:pt x="434" y="982"/>
                </a:lnTo>
                <a:lnTo>
                  <a:pt x="430" y="943"/>
                </a:lnTo>
                <a:lnTo>
                  <a:pt x="425" y="914"/>
                </a:lnTo>
                <a:lnTo>
                  <a:pt x="410" y="875"/>
                </a:lnTo>
                <a:lnTo>
                  <a:pt x="405" y="841"/>
                </a:lnTo>
                <a:lnTo>
                  <a:pt x="396" y="807"/>
                </a:lnTo>
                <a:lnTo>
                  <a:pt x="386" y="773"/>
                </a:lnTo>
                <a:lnTo>
                  <a:pt x="381" y="734"/>
                </a:lnTo>
                <a:lnTo>
                  <a:pt x="371" y="705"/>
                </a:lnTo>
                <a:lnTo>
                  <a:pt x="357" y="670"/>
                </a:lnTo>
                <a:lnTo>
                  <a:pt x="341" y="631"/>
                </a:lnTo>
                <a:lnTo>
                  <a:pt x="331" y="602"/>
                </a:lnTo>
                <a:lnTo>
                  <a:pt x="322" y="568"/>
                </a:lnTo>
                <a:lnTo>
                  <a:pt x="302" y="534"/>
                </a:lnTo>
                <a:lnTo>
                  <a:pt x="292" y="500"/>
                </a:lnTo>
                <a:lnTo>
                  <a:pt x="278" y="466"/>
                </a:lnTo>
                <a:lnTo>
                  <a:pt x="268" y="437"/>
                </a:lnTo>
                <a:lnTo>
                  <a:pt x="249" y="403"/>
                </a:lnTo>
                <a:lnTo>
                  <a:pt x="234" y="374"/>
                </a:lnTo>
                <a:lnTo>
                  <a:pt x="219" y="340"/>
                </a:lnTo>
                <a:lnTo>
                  <a:pt x="195" y="306"/>
                </a:lnTo>
                <a:lnTo>
                  <a:pt x="180" y="277"/>
                </a:lnTo>
                <a:lnTo>
                  <a:pt x="166" y="243"/>
                </a:lnTo>
                <a:lnTo>
                  <a:pt x="146" y="213"/>
                </a:lnTo>
                <a:lnTo>
                  <a:pt x="127" y="179"/>
                </a:lnTo>
                <a:lnTo>
                  <a:pt x="111" y="150"/>
                </a:lnTo>
                <a:lnTo>
                  <a:pt x="87" y="121"/>
                </a:lnTo>
                <a:lnTo>
                  <a:pt x="68" y="92"/>
                </a:lnTo>
                <a:lnTo>
                  <a:pt x="43" y="63"/>
                </a:lnTo>
                <a:lnTo>
                  <a:pt x="24" y="34"/>
                </a:lnTo>
                <a:lnTo>
                  <a:pt x="4" y="4"/>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4" name=""/>
          <p:cNvSpPr/>
          <p:nvPr/>
        </p:nvSpPr>
        <p:spPr>
          <a:xfrm>
            <a:off x="3798720" y="1425600"/>
            <a:ext cx="81360" cy="70200"/>
          </a:xfrm>
          <a:custGeom>
            <a:avLst/>
            <a:gdLst/>
            <a:ahLst/>
            <a:rect l="0" t="0" r="r" b="b"/>
            <a:pathLst>
              <a:path fill="none" w="226" h="195">
                <a:moveTo>
                  <a:pt x="226" y="195"/>
                </a:moveTo>
                <a:lnTo>
                  <a:pt x="212" y="180"/>
                </a:lnTo>
                <a:lnTo>
                  <a:pt x="188" y="156"/>
                </a:lnTo>
                <a:lnTo>
                  <a:pt x="158" y="131"/>
                </a:lnTo>
                <a:lnTo>
                  <a:pt x="130" y="107"/>
                </a:lnTo>
                <a:lnTo>
                  <a:pt x="106" y="82"/>
                </a:lnTo>
                <a:lnTo>
                  <a:pt x="77" y="58"/>
                </a:lnTo>
                <a:lnTo>
                  <a:pt x="47" y="33"/>
                </a:lnTo>
                <a:lnTo>
                  <a:pt x="19" y="14"/>
                </a:lnTo>
                <a:lnTo>
                  <a:pt x="0" y="0"/>
                </a:lnTo>
              </a:path>
            </a:pathLst>
          </a:custGeom>
          <a:ln w="12600">
            <a:solidFill>
              <a:srgbClr val="ffffff"/>
            </a:solidFill>
            <a:round/>
          </a:ln>
        </p:spPr>
        <p:txBody>
          <a:bodyPr lIns="96120" rIns="96120" tIns="19080" bIns="19080" anchor="t">
            <a:noAutofit/>
          </a:bodyPr>
          <a:p>
            <a:endParaRPr b="0" lang="en-US" sz="1800" spc="-1" strike="noStrike">
              <a:solidFill>
                <a:srgbClr val="000000"/>
              </a:solidFill>
              <a:latin typeface="Arial"/>
            </a:endParaRPr>
          </a:p>
        </p:txBody>
      </p:sp>
      <p:sp>
        <p:nvSpPr>
          <p:cNvPr id="5695" name=""/>
          <p:cNvSpPr/>
          <p:nvPr/>
        </p:nvSpPr>
        <p:spPr>
          <a:xfrm>
            <a:off x="3198960" y="1258920"/>
            <a:ext cx="513000" cy="108360"/>
          </a:xfrm>
          <a:custGeom>
            <a:avLst/>
            <a:gdLst/>
            <a:ahLst/>
            <a:rect l="0" t="0" r="r" b="b"/>
            <a:pathLst>
              <a:path fill="none" w="1425" h="301">
                <a:moveTo>
                  <a:pt x="1425" y="301"/>
                </a:moveTo>
                <a:lnTo>
                  <a:pt x="1391" y="282"/>
                </a:lnTo>
                <a:lnTo>
                  <a:pt x="1362" y="268"/>
                </a:lnTo>
                <a:lnTo>
                  <a:pt x="1332" y="253"/>
                </a:lnTo>
                <a:lnTo>
                  <a:pt x="1298" y="229"/>
                </a:lnTo>
                <a:lnTo>
                  <a:pt x="1269" y="218"/>
                </a:lnTo>
                <a:lnTo>
                  <a:pt x="1235" y="204"/>
                </a:lnTo>
                <a:lnTo>
                  <a:pt x="1201" y="189"/>
                </a:lnTo>
                <a:lnTo>
                  <a:pt x="1167" y="170"/>
                </a:lnTo>
                <a:lnTo>
                  <a:pt x="1133" y="160"/>
                </a:lnTo>
                <a:lnTo>
                  <a:pt x="1099" y="146"/>
                </a:lnTo>
                <a:lnTo>
                  <a:pt x="1070" y="136"/>
                </a:lnTo>
                <a:lnTo>
                  <a:pt x="1031" y="126"/>
                </a:lnTo>
                <a:lnTo>
                  <a:pt x="997" y="112"/>
                </a:lnTo>
                <a:lnTo>
                  <a:pt x="968" y="102"/>
                </a:lnTo>
                <a:lnTo>
                  <a:pt x="929" y="92"/>
                </a:lnTo>
                <a:lnTo>
                  <a:pt x="900" y="83"/>
                </a:lnTo>
                <a:lnTo>
                  <a:pt x="861" y="72"/>
                </a:lnTo>
                <a:lnTo>
                  <a:pt x="827" y="67"/>
                </a:lnTo>
                <a:lnTo>
                  <a:pt x="793" y="53"/>
                </a:lnTo>
                <a:lnTo>
                  <a:pt x="759" y="43"/>
                </a:lnTo>
                <a:lnTo>
                  <a:pt x="720" y="38"/>
                </a:lnTo>
                <a:lnTo>
                  <a:pt x="680" y="33"/>
                </a:lnTo>
                <a:lnTo>
                  <a:pt x="651" y="29"/>
                </a:lnTo>
                <a:lnTo>
                  <a:pt x="612" y="24"/>
                </a:lnTo>
                <a:lnTo>
                  <a:pt x="583" y="19"/>
                </a:lnTo>
                <a:lnTo>
                  <a:pt x="544" y="14"/>
                </a:lnTo>
                <a:lnTo>
                  <a:pt x="505" y="9"/>
                </a:lnTo>
                <a:lnTo>
                  <a:pt x="476" y="9"/>
                </a:lnTo>
                <a:lnTo>
                  <a:pt x="437" y="4"/>
                </a:lnTo>
                <a:lnTo>
                  <a:pt x="398" y="4"/>
                </a:lnTo>
                <a:lnTo>
                  <a:pt x="359" y="4"/>
                </a:lnTo>
                <a:lnTo>
                  <a:pt x="330" y="4"/>
                </a:lnTo>
                <a:lnTo>
                  <a:pt x="291" y="0"/>
                </a:lnTo>
                <a:lnTo>
                  <a:pt x="252" y="4"/>
                </a:lnTo>
                <a:lnTo>
                  <a:pt x="223" y="4"/>
                </a:lnTo>
                <a:lnTo>
                  <a:pt x="184" y="4"/>
                </a:lnTo>
                <a:lnTo>
                  <a:pt x="145" y="4"/>
                </a:lnTo>
                <a:lnTo>
                  <a:pt x="116" y="9"/>
                </a:lnTo>
                <a:lnTo>
                  <a:pt x="77" y="9"/>
                </a:lnTo>
                <a:lnTo>
                  <a:pt x="38" y="14"/>
                </a:lnTo>
                <a:lnTo>
                  <a:pt x="9" y="19"/>
                </a:lnTo>
                <a:lnTo>
                  <a:pt x="0" y="1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6" name=""/>
          <p:cNvSpPr/>
          <p:nvPr/>
        </p:nvSpPr>
        <p:spPr>
          <a:xfrm>
            <a:off x="2998800" y="1285920"/>
            <a:ext cx="101880" cy="35280"/>
          </a:xfrm>
          <a:custGeom>
            <a:avLst/>
            <a:gdLst/>
            <a:ahLst/>
            <a:rect l="0" t="0" r="r" b="b"/>
            <a:pathLst>
              <a:path fill="none" w="283" h="98">
                <a:moveTo>
                  <a:pt x="283" y="0"/>
                </a:moveTo>
                <a:lnTo>
                  <a:pt x="263" y="4"/>
                </a:lnTo>
                <a:lnTo>
                  <a:pt x="229" y="14"/>
                </a:lnTo>
                <a:lnTo>
                  <a:pt x="195" y="24"/>
                </a:lnTo>
                <a:lnTo>
                  <a:pt x="156" y="33"/>
                </a:lnTo>
                <a:lnTo>
                  <a:pt x="126" y="48"/>
                </a:lnTo>
                <a:lnTo>
                  <a:pt x="92" y="59"/>
                </a:lnTo>
                <a:lnTo>
                  <a:pt x="58" y="68"/>
                </a:lnTo>
                <a:lnTo>
                  <a:pt x="24" y="83"/>
                </a:lnTo>
                <a:lnTo>
                  <a:pt x="0" y="98"/>
                </a:lnTo>
              </a:path>
            </a:pathLst>
          </a:custGeom>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5697" name=""/>
          <p:cNvSpPr/>
          <p:nvPr/>
        </p:nvSpPr>
        <p:spPr>
          <a:xfrm>
            <a:off x="2558880" y="1366920"/>
            <a:ext cx="343440" cy="395640"/>
          </a:xfrm>
          <a:custGeom>
            <a:avLst/>
            <a:gdLst/>
            <a:ahLst/>
            <a:rect l="0" t="0" r="r" b="b"/>
            <a:pathLst>
              <a:path fill="none" w="954" h="1099">
                <a:moveTo>
                  <a:pt x="954" y="0"/>
                </a:moveTo>
                <a:lnTo>
                  <a:pt x="920" y="19"/>
                </a:lnTo>
                <a:lnTo>
                  <a:pt x="886" y="34"/>
                </a:lnTo>
                <a:lnTo>
                  <a:pt x="862" y="58"/>
                </a:lnTo>
                <a:lnTo>
                  <a:pt x="828" y="72"/>
                </a:lnTo>
                <a:lnTo>
                  <a:pt x="804" y="92"/>
                </a:lnTo>
                <a:lnTo>
                  <a:pt x="770" y="116"/>
                </a:lnTo>
                <a:lnTo>
                  <a:pt x="746" y="136"/>
                </a:lnTo>
                <a:lnTo>
                  <a:pt x="711" y="160"/>
                </a:lnTo>
                <a:lnTo>
                  <a:pt x="682" y="179"/>
                </a:lnTo>
                <a:lnTo>
                  <a:pt x="658" y="199"/>
                </a:lnTo>
                <a:lnTo>
                  <a:pt x="624" y="223"/>
                </a:lnTo>
                <a:lnTo>
                  <a:pt x="600" y="247"/>
                </a:lnTo>
                <a:lnTo>
                  <a:pt x="571" y="272"/>
                </a:lnTo>
                <a:lnTo>
                  <a:pt x="547" y="296"/>
                </a:lnTo>
                <a:lnTo>
                  <a:pt x="523" y="320"/>
                </a:lnTo>
                <a:lnTo>
                  <a:pt x="499" y="344"/>
                </a:lnTo>
                <a:lnTo>
                  <a:pt x="469" y="374"/>
                </a:lnTo>
                <a:lnTo>
                  <a:pt x="445" y="398"/>
                </a:lnTo>
                <a:lnTo>
                  <a:pt x="426" y="422"/>
                </a:lnTo>
                <a:lnTo>
                  <a:pt x="397" y="446"/>
                </a:lnTo>
                <a:lnTo>
                  <a:pt x="378" y="480"/>
                </a:lnTo>
                <a:lnTo>
                  <a:pt x="349" y="505"/>
                </a:lnTo>
                <a:lnTo>
                  <a:pt x="329" y="534"/>
                </a:lnTo>
                <a:lnTo>
                  <a:pt x="305" y="559"/>
                </a:lnTo>
                <a:lnTo>
                  <a:pt x="286" y="588"/>
                </a:lnTo>
                <a:lnTo>
                  <a:pt x="266" y="618"/>
                </a:lnTo>
                <a:lnTo>
                  <a:pt x="242" y="647"/>
                </a:lnTo>
                <a:lnTo>
                  <a:pt x="222" y="681"/>
                </a:lnTo>
                <a:lnTo>
                  <a:pt x="198" y="705"/>
                </a:lnTo>
                <a:lnTo>
                  <a:pt x="183" y="739"/>
                </a:lnTo>
                <a:lnTo>
                  <a:pt x="164" y="763"/>
                </a:lnTo>
                <a:lnTo>
                  <a:pt x="145" y="797"/>
                </a:lnTo>
                <a:lnTo>
                  <a:pt x="125" y="826"/>
                </a:lnTo>
                <a:lnTo>
                  <a:pt x="111" y="860"/>
                </a:lnTo>
                <a:lnTo>
                  <a:pt x="91" y="894"/>
                </a:lnTo>
                <a:lnTo>
                  <a:pt x="77" y="924"/>
                </a:lnTo>
                <a:lnTo>
                  <a:pt x="62" y="958"/>
                </a:lnTo>
                <a:lnTo>
                  <a:pt x="43" y="987"/>
                </a:lnTo>
                <a:lnTo>
                  <a:pt x="29" y="1021"/>
                </a:lnTo>
                <a:lnTo>
                  <a:pt x="14" y="1055"/>
                </a:lnTo>
                <a:lnTo>
                  <a:pt x="0" y="1084"/>
                </a:lnTo>
                <a:lnTo>
                  <a:pt x="0" y="109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8" name=""/>
          <p:cNvSpPr/>
          <p:nvPr/>
        </p:nvSpPr>
        <p:spPr>
          <a:xfrm>
            <a:off x="2500200" y="1857600"/>
            <a:ext cx="30600" cy="103680"/>
          </a:xfrm>
          <a:custGeom>
            <a:avLst/>
            <a:gdLst/>
            <a:ahLst/>
            <a:rect l="0" t="0" r="r" b="b"/>
            <a:pathLst>
              <a:path fill="none" w="85" h="288">
                <a:moveTo>
                  <a:pt x="85" y="0"/>
                </a:moveTo>
                <a:lnTo>
                  <a:pt x="75" y="14"/>
                </a:lnTo>
                <a:lnTo>
                  <a:pt x="66" y="48"/>
                </a:lnTo>
                <a:lnTo>
                  <a:pt x="50" y="83"/>
                </a:lnTo>
                <a:lnTo>
                  <a:pt x="45" y="122"/>
                </a:lnTo>
                <a:lnTo>
                  <a:pt x="30" y="151"/>
                </a:lnTo>
                <a:lnTo>
                  <a:pt x="19" y="190"/>
                </a:lnTo>
                <a:lnTo>
                  <a:pt x="14" y="225"/>
                </a:lnTo>
                <a:lnTo>
                  <a:pt x="4" y="259"/>
                </a:lnTo>
                <a:lnTo>
                  <a:pt x="0" y="28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99" name=""/>
          <p:cNvSpPr/>
          <p:nvPr/>
        </p:nvSpPr>
        <p:spPr>
          <a:xfrm>
            <a:off x="2496960" y="2071800"/>
            <a:ext cx="167040" cy="493920"/>
          </a:xfrm>
          <a:custGeom>
            <a:avLst/>
            <a:gdLst/>
            <a:ahLst/>
            <a:rect l="0" t="0" r="r" b="b"/>
            <a:pathLst>
              <a:path fill="none" w="464" h="1372">
                <a:moveTo>
                  <a:pt x="0" y="0"/>
                </a:moveTo>
                <a:lnTo>
                  <a:pt x="0" y="29"/>
                </a:lnTo>
                <a:lnTo>
                  <a:pt x="0" y="67"/>
                </a:lnTo>
                <a:lnTo>
                  <a:pt x="0" y="106"/>
                </a:lnTo>
                <a:lnTo>
                  <a:pt x="0" y="135"/>
                </a:lnTo>
                <a:lnTo>
                  <a:pt x="4" y="174"/>
                </a:lnTo>
                <a:lnTo>
                  <a:pt x="4" y="213"/>
                </a:lnTo>
                <a:lnTo>
                  <a:pt x="9" y="242"/>
                </a:lnTo>
                <a:lnTo>
                  <a:pt x="14" y="281"/>
                </a:lnTo>
                <a:lnTo>
                  <a:pt x="19" y="319"/>
                </a:lnTo>
                <a:lnTo>
                  <a:pt x="24" y="348"/>
                </a:lnTo>
                <a:lnTo>
                  <a:pt x="29" y="387"/>
                </a:lnTo>
                <a:lnTo>
                  <a:pt x="34" y="426"/>
                </a:lnTo>
                <a:lnTo>
                  <a:pt x="43" y="455"/>
                </a:lnTo>
                <a:lnTo>
                  <a:pt x="48" y="494"/>
                </a:lnTo>
                <a:lnTo>
                  <a:pt x="63" y="528"/>
                </a:lnTo>
                <a:lnTo>
                  <a:pt x="68" y="562"/>
                </a:lnTo>
                <a:lnTo>
                  <a:pt x="77" y="596"/>
                </a:lnTo>
                <a:lnTo>
                  <a:pt x="87" y="634"/>
                </a:lnTo>
                <a:lnTo>
                  <a:pt x="97" y="663"/>
                </a:lnTo>
                <a:lnTo>
                  <a:pt x="107" y="703"/>
                </a:lnTo>
                <a:lnTo>
                  <a:pt x="121" y="732"/>
                </a:lnTo>
                <a:lnTo>
                  <a:pt x="131" y="766"/>
                </a:lnTo>
                <a:lnTo>
                  <a:pt x="141" y="800"/>
                </a:lnTo>
                <a:lnTo>
                  <a:pt x="155" y="834"/>
                </a:lnTo>
                <a:lnTo>
                  <a:pt x="165" y="868"/>
                </a:lnTo>
                <a:lnTo>
                  <a:pt x="185" y="902"/>
                </a:lnTo>
                <a:lnTo>
                  <a:pt x="199" y="931"/>
                </a:lnTo>
                <a:lnTo>
                  <a:pt x="214" y="965"/>
                </a:lnTo>
                <a:lnTo>
                  <a:pt x="234" y="994"/>
                </a:lnTo>
                <a:lnTo>
                  <a:pt x="249" y="1028"/>
                </a:lnTo>
                <a:lnTo>
                  <a:pt x="264" y="1062"/>
                </a:lnTo>
                <a:lnTo>
                  <a:pt x="278" y="1091"/>
                </a:lnTo>
                <a:lnTo>
                  <a:pt x="298" y="1125"/>
                </a:lnTo>
                <a:lnTo>
                  <a:pt x="317" y="1154"/>
                </a:lnTo>
                <a:lnTo>
                  <a:pt x="332" y="1188"/>
                </a:lnTo>
                <a:lnTo>
                  <a:pt x="356" y="1217"/>
                </a:lnTo>
                <a:lnTo>
                  <a:pt x="371" y="1246"/>
                </a:lnTo>
                <a:lnTo>
                  <a:pt x="390" y="1275"/>
                </a:lnTo>
                <a:lnTo>
                  <a:pt x="415" y="1304"/>
                </a:lnTo>
                <a:lnTo>
                  <a:pt x="434" y="1333"/>
                </a:lnTo>
                <a:lnTo>
                  <a:pt x="454" y="1362"/>
                </a:lnTo>
                <a:lnTo>
                  <a:pt x="464" y="137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0" name=""/>
          <p:cNvSpPr/>
          <p:nvPr/>
        </p:nvSpPr>
        <p:spPr>
          <a:xfrm>
            <a:off x="2733840" y="2643120"/>
            <a:ext cx="79560" cy="68760"/>
          </a:xfrm>
          <a:custGeom>
            <a:avLst/>
            <a:gdLst/>
            <a:ahLst/>
            <a:rect l="0" t="0" r="r" b="b"/>
            <a:pathLst>
              <a:path fill="none" w="221" h="191">
                <a:moveTo>
                  <a:pt x="0" y="0"/>
                </a:moveTo>
                <a:lnTo>
                  <a:pt x="14" y="9"/>
                </a:lnTo>
                <a:lnTo>
                  <a:pt x="38" y="34"/>
                </a:lnTo>
                <a:lnTo>
                  <a:pt x="62" y="54"/>
                </a:lnTo>
                <a:lnTo>
                  <a:pt x="86" y="83"/>
                </a:lnTo>
                <a:lnTo>
                  <a:pt x="116" y="103"/>
                </a:lnTo>
                <a:lnTo>
                  <a:pt x="140" y="127"/>
                </a:lnTo>
                <a:lnTo>
                  <a:pt x="173" y="152"/>
                </a:lnTo>
                <a:lnTo>
                  <a:pt x="197" y="172"/>
                </a:lnTo>
                <a:lnTo>
                  <a:pt x="221" y="191"/>
                </a:lnTo>
              </a:path>
            </a:pathLst>
          </a:custGeom>
          <a:ln w="12600">
            <a:solidFill>
              <a:srgbClr val="ffffff"/>
            </a:solidFill>
            <a:round/>
          </a:ln>
        </p:spPr>
        <p:txBody>
          <a:bodyPr lIns="96120" rIns="96120" tIns="17640" bIns="17640" anchor="t">
            <a:noAutofit/>
          </a:bodyPr>
          <a:p>
            <a:endParaRPr b="0" lang="en-US" sz="1800" spc="-1" strike="noStrike">
              <a:solidFill>
                <a:srgbClr val="000000"/>
              </a:solidFill>
              <a:latin typeface="Arial"/>
            </a:endParaRPr>
          </a:p>
        </p:txBody>
      </p:sp>
      <p:sp>
        <p:nvSpPr>
          <p:cNvPr id="5701" name=""/>
          <p:cNvSpPr/>
          <p:nvPr/>
        </p:nvSpPr>
        <p:spPr>
          <a:xfrm>
            <a:off x="2901960" y="2773440"/>
            <a:ext cx="511560" cy="106560"/>
          </a:xfrm>
          <a:custGeom>
            <a:avLst/>
            <a:gdLst/>
            <a:ahLst/>
            <a:rect l="0" t="0" r="r" b="b"/>
            <a:pathLst>
              <a:path fill="none" w="1421" h="296">
                <a:moveTo>
                  <a:pt x="0" y="0"/>
                </a:moveTo>
                <a:lnTo>
                  <a:pt x="29" y="14"/>
                </a:lnTo>
                <a:lnTo>
                  <a:pt x="63" y="29"/>
                </a:lnTo>
                <a:lnTo>
                  <a:pt x="87" y="43"/>
                </a:lnTo>
                <a:lnTo>
                  <a:pt x="121" y="62"/>
                </a:lnTo>
                <a:lnTo>
                  <a:pt x="155" y="77"/>
                </a:lnTo>
                <a:lnTo>
                  <a:pt x="189" y="92"/>
                </a:lnTo>
                <a:lnTo>
                  <a:pt x="223" y="106"/>
                </a:lnTo>
                <a:lnTo>
                  <a:pt x="252" y="125"/>
                </a:lnTo>
                <a:lnTo>
                  <a:pt x="286" y="135"/>
                </a:lnTo>
                <a:lnTo>
                  <a:pt x="316" y="151"/>
                </a:lnTo>
                <a:lnTo>
                  <a:pt x="354" y="160"/>
                </a:lnTo>
                <a:lnTo>
                  <a:pt x="390" y="170"/>
                </a:lnTo>
                <a:lnTo>
                  <a:pt x="419" y="185"/>
                </a:lnTo>
                <a:lnTo>
                  <a:pt x="458" y="194"/>
                </a:lnTo>
                <a:lnTo>
                  <a:pt x="487" y="204"/>
                </a:lnTo>
                <a:lnTo>
                  <a:pt x="526" y="214"/>
                </a:lnTo>
                <a:lnTo>
                  <a:pt x="560" y="223"/>
                </a:lnTo>
                <a:lnTo>
                  <a:pt x="594" y="238"/>
                </a:lnTo>
                <a:lnTo>
                  <a:pt x="628" y="243"/>
                </a:lnTo>
                <a:lnTo>
                  <a:pt x="667" y="248"/>
                </a:lnTo>
                <a:lnTo>
                  <a:pt x="696" y="257"/>
                </a:lnTo>
                <a:lnTo>
                  <a:pt x="735" y="262"/>
                </a:lnTo>
                <a:lnTo>
                  <a:pt x="769" y="267"/>
                </a:lnTo>
                <a:lnTo>
                  <a:pt x="803" y="272"/>
                </a:lnTo>
                <a:lnTo>
                  <a:pt x="842" y="277"/>
                </a:lnTo>
                <a:lnTo>
                  <a:pt x="876" y="281"/>
                </a:lnTo>
                <a:lnTo>
                  <a:pt x="910" y="286"/>
                </a:lnTo>
                <a:lnTo>
                  <a:pt x="949" y="286"/>
                </a:lnTo>
                <a:lnTo>
                  <a:pt x="978" y="296"/>
                </a:lnTo>
                <a:lnTo>
                  <a:pt x="1017" y="296"/>
                </a:lnTo>
                <a:lnTo>
                  <a:pt x="1056" y="296"/>
                </a:lnTo>
                <a:lnTo>
                  <a:pt x="1086" y="296"/>
                </a:lnTo>
                <a:lnTo>
                  <a:pt x="1125" y="296"/>
                </a:lnTo>
                <a:lnTo>
                  <a:pt x="1164" y="296"/>
                </a:lnTo>
                <a:lnTo>
                  <a:pt x="1193" y="296"/>
                </a:lnTo>
                <a:lnTo>
                  <a:pt x="1232" y="296"/>
                </a:lnTo>
                <a:lnTo>
                  <a:pt x="1271" y="296"/>
                </a:lnTo>
                <a:lnTo>
                  <a:pt x="1305" y="286"/>
                </a:lnTo>
                <a:lnTo>
                  <a:pt x="1339" y="286"/>
                </a:lnTo>
                <a:lnTo>
                  <a:pt x="1378" y="281"/>
                </a:lnTo>
                <a:lnTo>
                  <a:pt x="1412" y="277"/>
                </a:lnTo>
                <a:lnTo>
                  <a:pt x="1421" y="2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2" name=""/>
          <p:cNvSpPr/>
          <p:nvPr/>
        </p:nvSpPr>
        <p:spPr>
          <a:xfrm>
            <a:off x="3519360" y="2820960"/>
            <a:ext cx="101880" cy="35280"/>
          </a:xfrm>
          <a:custGeom>
            <a:avLst/>
            <a:gdLst/>
            <a:ahLst/>
            <a:rect l="0" t="0" r="r" b="b"/>
            <a:pathLst>
              <a:path fill="none" w="283" h="98">
                <a:moveTo>
                  <a:pt x="0" y="98"/>
                </a:moveTo>
                <a:lnTo>
                  <a:pt x="19" y="88"/>
                </a:lnTo>
                <a:lnTo>
                  <a:pt x="48" y="78"/>
                </a:lnTo>
                <a:lnTo>
                  <a:pt x="87" y="68"/>
                </a:lnTo>
                <a:lnTo>
                  <a:pt x="121" y="59"/>
                </a:lnTo>
                <a:lnTo>
                  <a:pt x="151" y="48"/>
                </a:lnTo>
                <a:lnTo>
                  <a:pt x="190" y="33"/>
                </a:lnTo>
                <a:lnTo>
                  <a:pt x="219" y="24"/>
                </a:lnTo>
                <a:lnTo>
                  <a:pt x="254" y="9"/>
                </a:lnTo>
                <a:lnTo>
                  <a:pt x="283" y="0"/>
                </a:lnTo>
              </a:path>
            </a:pathLst>
          </a:custGeom>
          <a:ln w="12600">
            <a:solidFill>
              <a:srgbClr val="ffffff"/>
            </a:solidFill>
            <a:round/>
          </a:ln>
        </p:spPr>
        <p:txBody>
          <a:bodyPr lIns="96120" rIns="96120" tIns="-15840" bIns="-15840" anchor="t">
            <a:noAutofit/>
          </a:bodyPr>
          <a:p>
            <a:endParaRPr b="0" lang="en-US" sz="1800" spc="-1" strike="noStrike">
              <a:solidFill>
                <a:srgbClr val="000000"/>
              </a:solidFill>
              <a:latin typeface="Arial"/>
            </a:endParaRPr>
          </a:p>
        </p:txBody>
      </p:sp>
      <p:sp>
        <p:nvSpPr>
          <p:cNvPr id="5703" name=""/>
          <p:cNvSpPr/>
          <p:nvPr/>
        </p:nvSpPr>
        <p:spPr>
          <a:xfrm>
            <a:off x="3713040" y="2381400"/>
            <a:ext cx="344880" cy="395640"/>
          </a:xfrm>
          <a:custGeom>
            <a:avLst/>
            <a:gdLst/>
            <a:ahLst/>
            <a:rect l="0" t="0" r="r" b="b"/>
            <a:pathLst>
              <a:path fill="none" w="958" h="1099">
                <a:moveTo>
                  <a:pt x="0" y="1099"/>
                </a:moveTo>
                <a:lnTo>
                  <a:pt x="29" y="1074"/>
                </a:lnTo>
                <a:lnTo>
                  <a:pt x="63" y="1060"/>
                </a:lnTo>
                <a:lnTo>
                  <a:pt x="92" y="1035"/>
                </a:lnTo>
                <a:lnTo>
                  <a:pt x="121" y="1021"/>
                </a:lnTo>
                <a:lnTo>
                  <a:pt x="150" y="1001"/>
                </a:lnTo>
                <a:lnTo>
                  <a:pt x="179" y="977"/>
                </a:lnTo>
                <a:lnTo>
                  <a:pt x="213" y="958"/>
                </a:lnTo>
                <a:lnTo>
                  <a:pt x="238" y="933"/>
                </a:lnTo>
                <a:lnTo>
                  <a:pt x="268" y="914"/>
                </a:lnTo>
                <a:lnTo>
                  <a:pt x="292" y="894"/>
                </a:lnTo>
                <a:lnTo>
                  <a:pt x="326" y="865"/>
                </a:lnTo>
                <a:lnTo>
                  <a:pt x="350" y="846"/>
                </a:lnTo>
                <a:lnTo>
                  <a:pt x="379" y="822"/>
                </a:lnTo>
                <a:lnTo>
                  <a:pt x="404" y="797"/>
                </a:lnTo>
                <a:lnTo>
                  <a:pt x="433" y="773"/>
                </a:lnTo>
                <a:lnTo>
                  <a:pt x="457" y="749"/>
                </a:lnTo>
                <a:lnTo>
                  <a:pt x="481" y="720"/>
                </a:lnTo>
                <a:lnTo>
                  <a:pt x="506" y="695"/>
                </a:lnTo>
                <a:lnTo>
                  <a:pt x="525" y="666"/>
                </a:lnTo>
                <a:lnTo>
                  <a:pt x="554" y="647"/>
                </a:lnTo>
                <a:lnTo>
                  <a:pt x="574" y="618"/>
                </a:lnTo>
                <a:lnTo>
                  <a:pt x="603" y="588"/>
                </a:lnTo>
                <a:lnTo>
                  <a:pt x="622" y="559"/>
                </a:lnTo>
                <a:lnTo>
                  <a:pt x="647" y="534"/>
                </a:lnTo>
                <a:lnTo>
                  <a:pt x="666" y="505"/>
                </a:lnTo>
                <a:lnTo>
                  <a:pt x="685" y="476"/>
                </a:lnTo>
                <a:lnTo>
                  <a:pt x="710" y="446"/>
                </a:lnTo>
                <a:lnTo>
                  <a:pt x="730" y="412"/>
                </a:lnTo>
                <a:lnTo>
                  <a:pt x="754" y="388"/>
                </a:lnTo>
                <a:lnTo>
                  <a:pt x="774" y="354"/>
                </a:lnTo>
                <a:lnTo>
                  <a:pt x="788" y="330"/>
                </a:lnTo>
                <a:lnTo>
                  <a:pt x="813" y="296"/>
                </a:lnTo>
                <a:lnTo>
                  <a:pt x="827" y="267"/>
                </a:lnTo>
                <a:lnTo>
                  <a:pt x="842" y="233"/>
                </a:lnTo>
                <a:lnTo>
                  <a:pt x="861" y="199"/>
                </a:lnTo>
                <a:lnTo>
                  <a:pt x="881" y="170"/>
                </a:lnTo>
                <a:lnTo>
                  <a:pt x="895" y="136"/>
                </a:lnTo>
                <a:lnTo>
                  <a:pt x="915" y="106"/>
                </a:lnTo>
                <a:lnTo>
                  <a:pt x="929" y="72"/>
                </a:lnTo>
                <a:lnTo>
                  <a:pt x="939" y="38"/>
                </a:lnTo>
                <a:lnTo>
                  <a:pt x="958" y="9"/>
                </a:lnTo>
                <a:lnTo>
                  <a:pt x="95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4" name=""/>
          <p:cNvSpPr/>
          <p:nvPr/>
        </p:nvSpPr>
        <p:spPr>
          <a:xfrm>
            <a:off x="4089240" y="2176560"/>
            <a:ext cx="32040" cy="105120"/>
          </a:xfrm>
          <a:custGeom>
            <a:avLst/>
            <a:gdLst/>
            <a:ahLst/>
            <a:rect l="0" t="0" r="r" b="b"/>
            <a:pathLst>
              <a:path fill="none" w="89" h="292">
                <a:moveTo>
                  <a:pt x="0" y="292"/>
                </a:moveTo>
                <a:lnTo>
                  <a:pt x="4" y="272"/>
                </a:lnTo>
                <a:lnTo>
                  <a:pt x="19" y="233"/>
                </a:lnTo>
                <a:lnTo>
                  <a:pt x="29" y="204"/>
                </a:lnTo>
                <a:lnTo>
                  <a:pt x="45" y="165"/>
                </a:lnTo>
                <a:lnTo>
                  <a:pt x="54" y="130"/>
                </a:lnTo>
                <a:lnTo>
                  <a:pt x="64" y="97"/>
                </a:lnTo>
                <a:lnTo>
                  <a:pt x="69" y="58"/>
                </a:lnTo>
                <a:lnTo>
                  <a:pt x="79" y="24"/>
                </a:lnTo>
                <a:lnTo>
                  <a:pt x="8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5" name=""/>
          <p:cNvSpPr/>
          <p:nvPr/>
        </p:nvSpPr>
        <p:spPr>
          <a:xfrm>
            <a:off x="2941560" y="1701720"/>
            <a:ext cx="733680" cy="736920"/>
          </a:xfrm>
          <a:custGeom>
            <a:avLst/>
            <a:gdLst/>
            <a:ahLst/>
            <a:rect l="0" t="0" r="r" b="b"/>
            <a:pathLst>
              <a:path fill="none" w="2038" h="2047">
                <a:moveTo>
                  <a:pt x="2038" y="1026"/>
                </a:moveTo>
                <a:lnTo>
                  <a:pt x="2038" y="996"/>
                </a:lnTo>
                <a:lnTo>
                  <a:pt x="2038" y="976"/>
                </a:lnTo>
                <a:lnTo>
                  <a:pt x="2028" y="947"/>
                </a:lnTo>
                <a:lnTo>
                  <a:pt x="2028" y="928"/>
                </a:lnTo>
                <a:lnTo>
                  <a:pt x="2028" y="899"/>
                </a:lnTo>
                <a:lnTo>
                  <a:pt x="2023" y="879"/>
                </a:lnTo>
                <a:lnTo>
                  <a:pt x="2018" y="850"/>
                </a:lnTo>
                <a:lnTo>
                  <a:pt x="2018" y="831"/>
                </a:lnTo>
                <a:lnTo>
                  <a:pt x="2014" y="811"/>
                </a:lnTo>
                <a:lnTo>
                  <a:pt x="2009" y="782"/>
                </a:lnTo>
                <a:lnTo>
                  <a:pt x="2004" y="763"/>
                </a:lnTo>
                <a:lnTo>
                  <a:pt x="1994" y="738"/>
                </a:lnTo>
                <a:lnTo>
                  <a:pt x="1989" y="714"/>
                </a:lnTo>
                <a:lnTo>
                  <a:pt x="1984" y="690"/>
                </a:lnTo>
                <a:lnTo>
                  <a:pt x="1970" y="670"/>
                </a:lnTo>
                <a:lnTo>
                  <a:pt x="1965" y="646"/>
                </a:lnTo>
                <a:lnTo>
                  <a:pt x="1955" y="622"/>
                </a:lnTo>
                <a:lnTo>
                  <a:pt x="1946" y="602"/>
                </a:lnTo>
                <a:lnTo>
                  <a:pt x="1936" y="578"/>
                </a:lnTo>
                <a:lnTo>
                  <a:pt x="1921" y="558"/>
                </a:lnTo>
                <a:lnTo>
                  <a:pt x="1912" y="539"/>
                </a:lnTo>
                <a:lnTo>
                  <a:pt x="1902" y="515"/>
                </a:lnTo>
                <a:lnTo>
                  <a:pt x="1892" y="495"/>
                </a:lnTo>
                <a:lnTo>
                  <a:pt x="1878" y="476"/>
                </a:lnTo>
                <a:lnTo>
                  <a:pt x="1863" y="456"/>
                </a:lnTo>
                <a:lnTo>
                  <a:pt x="1853" y="437"/>
                </a:lnTo>
                <a:lnTo>
                  <a:pt x="1839" y="417"/>
                </a:lnTo>
                <a:lnTo>
                  <a:pt x="1824" y="398"/>
                </a:lnTo>
                <a:lnTo>
                  <a:pt x="1805" y="379"/>
                </a:lnTo>
                <a:lnTo>
                  <a:pt x="1795" y="359"/>
                </a:lnTo>
                <a:lnTo>
                  <a:pt x="1781" y="345"/>
                </a:lnTo>
                <a:lnTo>
                  <a:pt x="1761" y="325"/>
                </a:lnTo>
                <a:lnTo>
                  <a:pt x="1747" y="306"/>
                </a:lnTo>
                <a:lnTo>
                  <a:pt x="1727" y="291"/>
                </a:lnTo>
                <a:lnTo>
                  <a:pt x="1708" y="277"/>
                </a:lnTo>
                <a:lnTo>
                  <a:pt x="1693" y="257"/>
                </a:lnTo>
                <a:lnTo>
                  <a:pt x="1679" y="243"/>
                </a:lnTo>
                <a:lnTo>
                  <a:pt x="1655" y="228"/>
                </a:lnTo>
                <a:lnTo>
                  <a:pt x="1640" y="208"/>
                </a:lnTo>
                <a:lnTo>
                  <a:pt x="1621" y="199"/>
                </a:lnTo>
                <a:lnTo>
                  <a:pt x="1596" y="184"/>
                </a:lnTo>
                <a:lnTo>
                  <a:pt x="1582" y="170"/>
                </a:lnTo>
                <a:lnTo>
                  <a:pt x="1562" y="155"/>
                </a:lnTo>
                <a:lnTo>
                  <a:pt x="1538" y="145"/>
                </a:lnTo>
                <a:lnTo>
                  <a:pt x="1519" y="131"/>
                </a:lnTo>
                <a:lnTo>
                  <a:pt x="1495" y="121"/>
                </a:lnTo>
                <a:lnTo>
                  <a:pt x="1475" y="111"/>
                </a:lnTo>
                <a:lnTo>
                  <a:pt x="1456" y="97"/>
                </a:lnTo>
                <a:lnTo>
                  <a:pt x="1431" y="87"/>
                </a:lnTo>
                <a:lnTo>
                  <a:pt x="1412" y="77"/>
                </a:lnTo>
                <a:lnTo>
                  <a:pt x="1388" y="72"/>
                </a:lnTo>
                <a:lnTo>
                  <a:pt x="1368" y="63"/>
                </a:lnTo>
                <a:lnTo>
                  <a:pt x="1349" y="58"/>
                </a:lnTo>
                <a:lnTo>
                  <a:pt x="1320" y="43"/>
                </a:lnTo>
                <a:lnTo>
                  <a:pt x="1300" y="38"/>
                </a:lnTo>
                <a:lnTo>
                  <a:pt x="1276" y="34"/>
                </a:lnTo>
                <a:lnTo>
                  <a:pt x="1252" y="29"/>
                </a:lnTo>
                <a:lnTo>
                  <a:pt x="1228" y="24"/>
                </a:lnTo>
                <a:lnTo>
                  <a:pt x="1208" y="19"/>
                </a:lnTo>
                <a:lnTo>
                  <a:pt x="1184" y="14"/>
                </a:lnTo>
                <a:lnTo>
                  <a:pt x="1160" y="9"/>
                </a:lnTo>
                <a:lnTo>
                  <a:pt x="1136" y="9"/>
                </a:lnTo>
                <a:lnTo>
                  <a:pt x="1111" y="4"/>
                </a:lnTo>
                <a:lnTo>
                  <a:pt x="1087" y="4"/>
                </a:lnTo>
                <a:lnTo>
                  <a:pt x="1063" y="4"/>
                </a:lnTo>
                <a:lnTo>
                  <a:pt x="1043" y="4"/>
                </a:lnTo>
                <a:lnTo>
                  <a:pt x="1018" y="0"/>
                </a:lnTo>
                <a:lnTo>
                  <a:pt x="994" y="4"/>
                </a:lnTo>
                <a:lnTo>
                  <a:pt x="970" y="4"/>
                </a:lnTo>
                <a:lnTo>
                  <a:pt x="945" y="4"/>
                </a:lnTo>
                <a:lnTo>
                  <a:pt x="921" y="4"/>
                </a:lnTo>
                <a:lnTo>
                  <a:pt x="897" y="9"/>
                </a:lnTo>
                <a:lnTo>
                  <a:pt x="873" y="9"/>
                </a:lnTo>
                <a:lnTo>
                  <a:pt x="848" y="14"/>
                </a:lnTo>
                <a:lnTo>
                  <a:pt x="824" y="19"/>
                </a:lnTo>
                <a:lnTo>
                  <a:pt x="805" y="24"/>
                </a:lnTo>
                <a:lnTo>
                  <a:pt x="780" y="29"/>
                </a:lnTo>
                <a:lnTo>
                  <a:pt x="756" y="34"/>
                </a:lnTo>
                <a:lnTo>
                  <a:pt x="732" y="38"/>
                </a:lnTo>
                <a:lnTo>
                  <a:pt x="713" y="43"/>
                </a:lnTo>
                <a:lnTo>
                  <a:pt x="688" y="58"/>
                </a:lnTo>
                <a:lnTo>
                  <a:pt x="664" y="63"/>
                </a:lnTo>
                <a:lnTo>
                  <a:pt x="645" y="72"/>
                </a:lnTo>
                <a:lnTo>
                  <a:pt x="620" y="77"/>
                </a:lnTo>
                <a:lnTo>
                  <a:pt x="601" y="87"/>
                </a:lnTo>
                <a:lnTo>
                  <a:pt x="577" y="97"/>
                </a:lnTo>
                <a:lnTo>
                  <a:pt x="557" y="111"/>
                </a:lnTo>
                <a:lnTo>
                  <a:pt x="538" y="121"/>
                </a:lnTo>
                <a:lnTo>
                  <a:pt x="514" y="131"/>
                </a:lnTo>
                <a:lnTo>
                  <a:pt x="494" y="145"/>
                </a:lnTo>
                <a:lnTo>
                  <a:pt x="470" y="155"/>
                </a:lnTo>
                <a:lnTo>
                  <a:pt x="455" y="170"/>
                </a:lnTo>
                <a:lnTo>
                  <a:pt x="436" y="184"/>
                </a:lnTo>
                <a:lnTo>
                  <a:pt x="412" y="199"/>
                </a:lnTo>
                <a:lnTo>
                  <a:pt x="397" y="208"/>
                </a:lnTo>
                <a:lnTo>
                  <a:pt x="378" y="228"/>
                </a:lnTo>
                <a:lnTo>
                  <a:pt x="358" y="243"/>
                </a:lnTo>
                <a:lnTo>
                  <a:pt x="339" y="257"/>
                </a:lnTo>
                <a:lnTo>
                  <a:pt x="324" y="277"/>
                </a:lnTo>
                <a:lnTo>
                  <a:pt x="305" y="291"/>
                </a:lnTo>
                <a:lnTo>
                  <a:pt x="291" y="306"/>
                </a:lnTo>
                <a:lnTo>
                  <a:pt x="276" y="325"/>
                </a:lnTo>
                <a:lnTo>
                  <a:pt x="257" y="345"/>
                </a:lnTo>
                <a:lnTo>
                  <a:pt x="242" y="359"/>
                </a:lnTo>
                <a:lnTo>
                  <a:pt x="227" y="379"/>
                </a:lnTo>
                <a:lnTo>
                  <a:pt x="208" y="398"/>
                </a:lnTo>
                <a:lnTo>
                  <a:pt x="194" y="417"/>
                </a:lnTo>
                <a:lnTo>
                  <a:pt x="184" y="437"/>
                </a:lnTo>
                <a:lnTo>
                  <a:pt x="169" y="456"/>
                </a:lnTo>
                <a:lnTo>
                  <a:pt x="155" y="476"/>
                </a:lnTo>
                <a:lnTo>
                  <a:pt x="140" y="495"/>
                </a:lnTo>
                <a:lnTo>
                  <a:pt x="130" y="515"/>
                </a:lnTo>
                <a:lnTo>
                  <a:pt x="121" y="539"/>
                </a:lnTo>
                <a:lnTo>
                  <a:pt x="111" y="558"/>
                </a:lnTo>
                <a:lnTo>
                  <a:pt x="97" y="578"/>
                </a:lnTo>
                <a:lnTo>
                  <a:pt x="87" y="602"/>
                </a:lnTo>
                <a:lnTo>
                  <a:pt x="77" y="622"/>
                </a:lnTo>
                <a:lnTo>
                  <a:pt x="72" y="646"/>
                </a:lnTo>
                <a:lnTo>
                  <a:pt x="63" y="670"/>
                </a:lnTo>
                <a:lnTo>
                  <a:pt x="48" y="690"/>
                </a:lnTo>
                <a:lnTo>
                  <a:pt x="43" y="714"/>
                </a:lnTo>
                <a:lnTo>
                  <a:pt x="38" y="738"/>
                </a:lnTo>
                <a:lnTo>
                  <a:pt x="33" y="763"/>
                </a:lnTo>
                <a:lnTo>
                  <a:pt x="29" y="782"/>
                </a:lnTo>
                <a:lnTo>
                  <a:pt x="24" y="811"/>
                </a:lnTo>
                <a:lnTo>
                  <a:pt x="19" y="831"/>
                </a:lnTo>
                <a:lnTo>
                  <a:pt x="14" y="850"/>
                </a:lnTo>
                <a:lnTo>
                  <a:pt x="9" y="879"/>
                </a:lnTo>
                <a:lnTo>
                  <a:pt x="9" y="899"/>
                </a:lnTo>
                <a:lnTo>
                  <a:pt x="4" y="928"/>
                </a:lnTo>
                <a:lnTo>
                  <a:pt x="4" y="947"/>
                </a:lnTo>
                <a:lnTo>
                  <a:pt x="4" y="976"/>
                </a:lnTo>
                <a:lnTo>
                  <a:pt x="0" y="996"/>
                </a:lnTo>
                <a:lnTo>
                  <a:pt x="0" y="1026"/>
                </a:lnTo>
                <a:lnTo>
                  <a:pt x="0" y="1045"/>
                </a:lnTo>
                <a:lnTo>
                  <a:pt x="4" y="1065"/>
                </a:lnTo>
                <a:lnTo>
                  <a:pt x="4" y="1094"/>
                </a:lnTo>
                <a:lnTo>
                  <a:pt x="4" y="1113"/>
                </a:lnTo>
                <a:lnTo>
                  <a:pt x="9" y="1143"/>
                </a:lnTo>
                <a:lnTo>
                  <a:pt x="9" y="1162"/>
                </a:lnTo>
                <a:lnTo>
                  <a:pt x="14" y="1191"/>
                </a:lnTo>
                <a:lnTo>
                  <a:pt x="19" y="1211"/>
                </a:lnTo>
                <a:lnTo>
                  <a:pt x="24" y="1230"/>
                </a:lnTo>
                <a:lnTo>
                  <a:pt x="29" y="1259"/>
                </a:lnTo>
                <a:lnTo>
                  <a:pt x="33" y="1279"/>
                </a:lnTo>
                <a:lnTo>
                  <a:pt x="38" y="1308"/>
                </a:lnTo>
                <a:lnTo>
                  <a:pt x="43" y="1327"/>
                </a:lnTo>
                <a:lnTo>
                  <a:pt x="48" y="1352"/>
                </a:lnTo>
                <a:lnTo>
                  <a:pt x="63" y="1371"/>
                </a:lnTo>
                <a:lnTo>
                  <a:pt x="72" y="1390"/>
                </a:lnTo>
                <a:lnTo>
                  <a:pt x="77" y="1420"/>
                </a:lnTo>
                <a:lnTo>
                  <a:pt x="87" y="1439"/>
                </a:lnTo>
                <a:lnTo>
                  <a:pt x="97" y="1463"/>
                </a:lnTo>
                <a:lnTo>
                  <a:pt x="111" y="1483"/>
                </a:lnTo>
                <a:lnTo>
                  <a:pt x="121" y="1502"/>
                </a:lnTo>
                <a:lnTo>
                  <a:pt x="130" y="1527"/>
                </a:lnTo>
                <a:lnTo>
                  <a:pt x="140" y="1546"/>
                </a:lnTo>
                <a:lnTo>
                  <a:pt x="155" y="1565"/>
                </a:lnTo>
                <a:lnTo>
                  <a:pt x="169" y="1585"/>
                </a:lnTo>
                <a:lnTo>
                  <a:pt x="184" y="1604"/>
                </a:lnTo>
                <a:lnTo>
                  <a:pt x="194" y="1629"/>
                </a:lnTo>
                <a:lnTo>
                  <a:pt x="208" y="1643"/>
                </a:lnTo>
                <a:lnTo>
                  <a:pt x="227" y="1663"/>
                </a:lnTo>
                <a:lnTo>
                  <a:pt x="242" y="1682"/>
                </a:lnTo>
                <a:lnTo>
                  <a:pt x="257" y="1697"/>
                </a:lnTo>
                <a:lnTo>
                  <a:pt x="276" y="1716"/>
                </a:lnTo>
                <a:lnTo>
                  <a:pt x="291" y="1736"/>
                </a:lnTo>
                <a:lnTo>
                  <a:pt x="305" y="1750"/>
                </a:lnTo>
                <a:lnTo>
                  <a:pt x="324" y="1765"/>
                </a:lnTo>
                <a:lnTo>
                  <a:pt x="339" y="1784"/>
                </a:lnTo>
                <a:lnTo>
                  <a:pt x="358" y="1799"/>
                </a:lnTo>
                <a:lnTo>
                  <a:pt x="378" y="1813"/>
                </a:lnTo>
                <a:lnTo>
                  <a:pt x="397" y="1833"/>
                </a:lnTo>
                <a:lnTo>
                  <a:pt x="412" y="1847"/>
                </a:lnTo>
                <a:lnTo>
                  <a:pt x="436" y="1857"/>
                </a:lnTo>
                <a:lnTo>
                  <a:pt x="455" y="1872"/>
                </a:lnTo>
                <a:lnTo>
                  <a:pt x="470" y="1886"/>
                </a:lnTo>
                <a:lnTo>
                  <a:pt x="494" y="1896"/>
                </a:lnTo>
                <a:lnTo>
                  <a:pt x="514" y="1911"/>
                </a:lnTo>
                <a:lnTo>
                  <a:pt x="538" y="1920"/>
                </a:lnTo>
                <a:lnTo>
                  <a:pt x="557" y="1930"/>
                </a:lnTo>
                <a:lnTo>
                  <a:pt x="577" y="1945"/>
                </a:lnTo>
                <a:lnTo>
                  <a:pt x="601" y="1954"/>
                </a:lnTo>
                <a:lnTo>
                  <a:pt x="620" y="1964"/>
                </a:lnTo>
                <a:lnTo>
                  <a:pt x="645" y="1969"/>
                </a:lnTo>
                <a:lnTo>
                  <a:pt x="664" y="1979"/>
                </a:lnTo>
                <a:lnTo>
                  <a:pt x="688" y="1983"/>
                </a:lnTo>
                <a:lnTo>
                  <a:pt x="713" y="1998"/>
                </a:lnTo>
                <a:lnTo>
                  <a:pt x="732" y="2003"/>
                </a:lnTo>
                <a:lnTo>
                  <a:pt x="756" y="2008"/>
                </a:lnTo>
                <a:lnTo>
                  <a:pt x="780" y="2013"/>
                </a:lnTo>
                <a:lnTo>
                  <a:pt x="805" y="2017"/>
                </a:lnTo>
                <a:lnTo>
                  <a:pt x="824" y="2022"/>
                </a:lnTo>
                <a:lnTo>
                  <a:pt x="848" y="2027"/>
                </a:lnTo>
                <a:lnTo>
                  <a:pt x="873" y="2032"/>
                </a:lnTo>
                <a:lnTo>
                  <a:pt x="897" y="2032"/>
                </a:lnTo>
                <a:lnTo>
                  <a:pt x="921" y="2037"/>
                </a:lnTo>
                <a:lnTo>
                  <a:pt x="945" y="2037"/>
                </a:lnTo>
                <a:lnTo>
                  <a:pt x="970" y="2037"/>
                </a:lnTo>
                <a:lnTo>
                  <a:pt x="994" y="2047"/>
                </a:lnTo>
                <a:lnTo>
                  <a:pt x="1018" y="2047"/>
                </a:lnTo>
                <a:lnTo>
                  <a:pt x="1043" y="2047"/>
                </a:lnTo>
                <a:lnTo>
                  <a:pt x="1063" y="2037"/>
                </a:lnTo>
                <a:lnTo>
                  <a:pt x="1087" y="2037"/>
                </a:lnTo>
                <a:lnTo>
                  <a:pt x="1111" y="2037"/>
                </a:lnTo>
                <a:lnTo>
                  <a:pt x="1136" y="2032"/>
                </a:lnTo>
                <a:lnTo>
                  <a:pt x="1160" y="2032"/>
                </a:lnTo>
                <a:lnTo>
                  <a:pt x="1184" y="2027"/>
                </a:lnTo>
                <a:lnTo>
                  <a:pt x="1208" y="2022"/>
                </a:lnTo>
                <a:lnTo>
                  <a:pt x="1228" y="2017"/>
                </a:lnTo>
                <a:lnTo>
                  <a:pt x="1252" y="2013"/>
                </a:lnTo>
                <a:lnTo>
                  <a:pt x="1276" y="2008"/>
                </a:lnTo>
                <a:lnTo>
                  <a:pt x="1300" y="2003"/>
                </a:lnTo>
                <a:lnTo>
                  <a:pt x="1320" y="1998"/>
                </a:lnTo>
                <a:lnTo>
                  <a:pt x="1349" y="1983"/>
                </a:lnTo>
                <a:lnTo>
                  <a:pt x="1368" y="1979"/>
                </a:lnTo>
                <a:lnTo>
                  <a:pt x="1388" y="1969"/>
                </a:lnTo>
                <a:lnTo>
                  <a:pt x="1412" y="1964"/>
                </a:lnTo>
                <a:lnTo>
                  <a:pt x="1431" y="1954"/>
                </a:lnTo>
                <a:lnTo>
                  <a:pt x="1456" y="1945"/>
                </a:lnTo>
                <a:lnTo>
                  <a:pt x="1475" y="1930"/>
                </a:lnTo>
                <a:lnTo>
                  <a:pt x="1495" y="1920"/>
                </a:lnTo>
                <a:lnTo>
                  <a:pt x="1519" y="1911"/>
                </a:lnTo>
                <a:lnTo>
                  <a:pt x="1538" y="1896"/>
                </a:lnTo>
                <a:lnTo>
                  <a:pt x="1562" y="1886"/>
                </a:lnTo>
                <a:lnTo>
                  <a:pt x="1582" y="1872"/>
                </a:lnTo>
                <a:lnTo>
                  <a:pt x="1596" y="1857"/>
                </a:lnTo>
                <a:lnTo>
                  <a:pt x="1621" y="1847"/>
                </a:lnTo>
                <a:lnTo>
                  <a:pt x="1640" y="1833"/>
                </a:lnTo>
                <a:lnTo>
                  <a:pt x="1655" y="1813"/>
                </a:lnTo>
                <a:lnTo>
                  <a:pt x="1679" y="1799"/>
                </a:lnTo>
                <a:lnTo>
                  <a:pt x="1693" y="1784"/>
                </a:lnTo>
                <a:lnTo>
                  <a:pt x="1708" y="1765"/>
                </a:lnTo>
                <a:lnTo>
                  <a:pt x="1727" y="1750"/>
                </a:lnTo>
                <a:lnTo>
                  <a:pt x="1747" y="1736"/>
                </a:lnTo>
                <a:lnTo>
                  <a:pt x="1761" y="1716"/>
                </a:lnTo>
                <a:lnTo>
                  <a:pt x="1781" y="1697"/>
                </a:lnTo>
                <a:lnTo>
                  <a:pt x="1795" y="1682"/>
                </a:lnTo>
                <a:lnTo>
                  <a:pt x="1805" y="1663"/>
                </a:lnTo>
                <a:lnTo>
                  <a:pt x="1824" y="1643"/>
                </a:lnTo>
                <a:lnTo>
                  <a:pt x="1839" y="1629"/>
                </a:lnTo>
                <a:lnTo>
                  <a:pt x="1853" y="1604"/>
                </a:lnTo>
                <a:lnTo>
                  <a:pt x="1863" y="1585"/>
                </a:lnTo>
                <a:lnTo>
                  <a:pt x="1878" y="1565"/>
                </a:lnTo>
                <a:lnTo>
                  <a:pt x="1892" y="1546"/>
                </a:lnTo>
                <a:lnTo>
                  <a:pt x="1902" y="1527"/>
                </a:lnTo>
                <a:lnTo>
                  <a:pt x="1912" y="1502"/>
                </a:lnTo>
                <a:lnTo>
                  <a:pt x="1921" y="1483"/>
                </a:lnTo>
                <a:lnTo>
                  <a:pt x="1936" y="1463"/>
                </a:lnTo>
                <a:lnTo>
                  <a:pt x="1946" y="1439"/>
                </a:lnTo>
                <a:lnTo>
                  <a:pt x="1955" y="1420"/>
                </a:lnTo>
                <a:lnTo>
                  <a:pt x="1965" y="1390"/>
                </a:lnTo>
                <a:lnTo>
                  <a:pt x="1970" y="1371"/>
                </a:lnTo>
                <a:lnTo>
                  <a:pt x="1984" y="1352"/>
                </a:lnTo>
                <a:lnTo>
                  <a:pt x="1989" y="1327"/>
                </a:lnTo>
                <a:lnTo>
                  <a:pt x="1994" y="1308"/>
                </a:lnTo>
                <a:lnTo>
                  <a:pt x="2004" y="1279"/>
                </a:lnTo>
                <a:lnTo>
                  <a:pt x="2009" y="1259"/>
                </a:lnTo>
                <a:lnTo>
                  <a:pt x="2014" y="1230"/>
                </a:lnTo>
                <a:lnTo>
                  <a:pt x="2018" y="1211"/>
                </a:lnTo>
                <a:lnTo>
                  <a:pt x="2018" y="1191"/>
                </a:lnTo>
                <a:lnTo>
                  <a:pt x="2023" y="1162"/>
                </a:lnTo>
                <a:lnTo>
                  <a:pt x="2028" y="1143"/>
                </a:lnTo>
                <a:lnTo>
                  <a:pt x="2028" y="1113"/>
                </a:lnTo>
                <a:lnTo>
                  <a:pt x="2028" y="1094"/>
                </a:lnTo>
                <a:lnTo>
                  <a:pt x="2038" y="1065"/>
                </a:lnTo>
                <a:lnTo>
                  <a:pt x="2038" y="1045"/>
                </a:lnTo>
                <a:lnTo>
                  <a:pt x="2038" y="102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6" name=""/>
          <p:cNvSpPr/>
          <p:nvPr/>
        </p:nvSpPr>
        <p:spPr>
          <a:xfrm>
            <a:off x="3308400" y="2233440"/>
            <a:ext cx="0" cy="125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7" name=""/>
          <p:cNvSpPr/>
          <p:nvPr/>
        </p:nvSpPr>
        <p:spPr>
          <a:xfrm>
            <a:off x="2394000" y="2590920"/>
            <a:ext cx="122760" cy="147960"/>
          </a:xfrm>
          <a:custGeom>
            <a:avLst/>
            <a:gdLst/>
            <a:ahLst/>
            <a:rect l="0" t="0" r="r" b="b"/>
            <a:pathLst>
              <a:path w="341" h="411">
                <a:moveTo>
                  <a:pt x="0" y="318"/>
                </a:moveTo>
                <a:lnTo>
                  <a:pt x="341" y="0"/>
                </a:lnTo>
                <a:lnTo>
                  <a:pt x="122" y="411"/>
                </a:lnTo>
                <a:lnTo>
                  <a:pt x="0" y="31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8" name=""/>
          <p:cNvSpPr/>
          <p:nvPr/>
        </p:nvSpPr>
        <p:spPr>
          <a:xfrm>
            <a:off x="2476440" y="2354400"/>
            <a:ext cx="260640" cy="263880"/>
          </a:xfrm>
          <a:custGeom>
            <a:avLst/>
            <a:gdLst/>
            <a:ahLst/>
            <a:rect l="0" t="0" r="r" b="b"/>
            <a:pathLst>
              <a:path fill="none" w="724" h="733">
                <a:moveTo>
                  <a:pt x="724" y="358"/>
                </a:moveTo>
                <a:lnTo>
                  <a:pt x="724" y="349"/>
                </a:lnTo>
                <a:lnTo>
                  <a:pt x="724" y="334"/>
                </a:lnTo>
                <a:lnTo>
                  <a:pt x="724" y="319"/>
                </a:lnTo>
                <a:lnTo>
                  <a:pt x="714" y="305"/>
                </a:lnTo>
                <a:lnTo>
                  <a:pt x="714" y="290"/>
                </a:lnTo>
                <a:lnTo>
                  <a:pt x="709" y="281"/>
                </a:lnTo>
                <a:lnTo>
                  <a:pt x="709" y="266"/>
                </a:lnTo>
                <a:lnTo>
                  <a:pt x="704" y="247"/>
                </a:lnTo>
                <a:lnTo>
                  <a:pt x="699" y="237"/>
                </a:lnTo>
                <a:lnTo>
                  <a:pt x="695" y="222"/>
                </a:lnTo>
                <a:lnTo>
                  <a:pt x="690" y="213"/>
                </a:lnTo>
                <a:lnTo>
                  <a:pt x="685" y="193"/>
                </a:lnTo>
                <a:lnTo>
                  <a:pt x="680" y="184"/>
                </a:lnTo>
                <a:lnTo>
                  <a:pt x="670" y="174"/>
                </a:lnTo>
                <a:lnTo>
                  <a:pt x="661" y="164"/>
                </a:lnTo>
                <a:lnTo>
                  <a:pt x="651" y="145"/>
                </a:lnTo>
                <a:lnTo>
                  <a:pt x="646" y="135"/>
                </a:lnTo>
                <a:lnTo>
                  <a:pt x="636" y="126"/>
                </a:lnTo>
                <a:lnTo>
                  <a:pt x="627" y="116"/>
                </a:lnTo>
                <a:lnTo>
                  <a:pt x="617" y="106"/>
                </a:lnTo>
                <a:lnTo>
                  <a:pt x="602" y="92"/>
                </a:lnTo>
                <a:lnTo>
                  <a:pt x="593" y="87"/>
                </a:lnTo>
                <a:lnTo>
                  <a:pt x="583" y="77"/>
                </a:lnTo>
                <a:lnTo>
                  <a:pt x="573" y="67"/>
                </a:lnTo>
                <a:lnTo>
                  <a:pt x="564" y="63"/>
                </a:lnTo>
                <a:lnTo>
                  <a:pt x="549" y="53"/>
                </a:lnTo>
                <a:lnTo>
                  <a:pt x="539" y="43"/>
                </a:lnTo>
                <a:lnTo>
                  <a:pt x="525" y="38"/>
                </a:lnTo>
                <a:lnTo>
                  <a:pt x="515" y="29"/>
                </a:lnTo>
                <a:lnTo>
                  <a:pt x="496" y="24"/>
                </a:lnTo>
                <a:lnTo>
                  <a:pt x="486" y="19"/>
                </a:lnTo>
                <a:lnTo>
                  <a:pt x="471" y="19"/>
                </a:lnTo>
                <a:lnTo>
                  <a:pt x="462" y="14"/>
                </a:lnTo>
                <a:lnTo>
                  <a:pt x="447" y="9"/>
                </a:lnTo>
                <a:lnTo>
                  <a:pt x="428" y="4"/>
                </a:lnTo>
                <a:lnTo>
                  <a:pt x="418" y="4"/>
                </a:lnTo>
                <a:lnTo>
                  <a:pt x="403" y="4"/>
                </a:lnTo>
                <a:lnTo>
                  <a:pt x="384" y="0"/>
                </a:lnTo>
                <a:lnTo>
                  <a:pt x="374" y="0"/>
                </a:lnTo>
                <a:lnTo>
                  <a:pt x="359" y="0"/>
                </a:lnTo>
                <a:lnTo>
                  <a:pt x="344" y="0"/>
                </a:lnTo>
                <a:lnTo>
                  <a:pt x="334" y="0"/>
                </a:lnTo>
                <a:lnTo>
                  <a:pt x="315" y="4"/>
                </a:lnTo>
                <a:lnTo>
                  <a:pt x="305" y="4"/>
                </a:lnTo>
                <a:lnTo>
                  <a:pt x="291" y="4"/>
                </a:lnTo>
                <a:lnTo>
                  <a:pt x="271" y="9"/>
                </a:lnTo>
                <a:lnTo>
                  <a:pt x="262" y="14"/>
                </a:lnTo>
                <a:lnTo>
                  <a:pt x="247" y="19"/>
                </a:lnTo>
                <a:lnTo>
                  <a:pt x="237" y="19"/>
                </a:lnTo>
                <a:lnTo>
                  <a:pt x="223" y="24"/>
                </a:lnTo>
                <a:lnTo>
                  <a:pt x="208" y="29"/>
                </a:lnTo>
                <a:lnTo>
                  <a:pt x="194" y="38"/>
                </a:lnTo>
                <a:lnTo>
                  <a:pt x="184" y="43"/>
                </a:lnTo>
                <a:lnTo>
                  <a:pt x="169" y="53"/>
                </a:lnTo>
                <a:lnTo>
                  <a:pt x="155" y="63"/>
                </a:lnTo>
                <a:lnTo>
                  <a:pt x="145" y="67"/>
                </a:lnTo>
                <a:lnTo>
                  <a:pt x="135" y="77"/>
                </a:lnTo>
                <a:lnTo>
                  <a:pt x="126" y="87"/>
                </a:lnTo>
                <a:lnTo>
                  <a:pt x="116" y="92"/>
                </a:lnTo>
                <a:lnTo>
                  <a:pt x="101" y="106"/>
                </a:lnTo>
                <a:lnTo>
                  <a:pt x="92" y="116"/>
                </a:lnTo>
                <a:lnTo>
                  <a:pt x="82" y="126"/>
                </a:lnTo>
                <a:lnTo>
                  <a:pt x="72" y="135"/>
                </a:lnTo>
                <a:lnTo>
                  <a:pt x="67" y="145"/>
                </a:lnTo>
                <a:lnTo>
                  <a:pt x="58" y="164"/>
                </a:lnTo>
                <a:lnTo>
                  <a:pt x="48" y="174"/>
                </a:lnTo>
                <a:lnTo>
                  <a:pt x="43" y="184"/>
                </a:lnTo>
                <a:lnTo>
                  <a:pt x="33" y="193"/>
                </a:lnTo>
                <a:lnTo>
                  <a:pt x="29" y="213"/>
                </a:lnTo>
                <a:lnTo>
                  <a:pt x="24" y="222"/>
                </a:lnTo>
                <a:lnTo>
                  <a:pt x="19" y="237"/>
                </a:lnTo>
                <a:lnTo>
                  <a:pt x="14" y="247"/>
                </a:lnTo>
                <a:lnTo>
                  <a:pt x="9" y="266"/>
                </a:lnTo>
                <a:lnTo>
                  <a:pt x="9" y="281"/>
                </a:lnTo>
                <a:lnTo>
                  <a:pt x="4" y="290"/>
                </a:lnTo>
                <a:lnTo>
                  <a:pt x="4" y="305"/>
                </a:lnTo>
                <a:lnTo>
                  <a:pt x="0" y="319"/>
                </a:lnTo>
                <a:lnTo>
                  <a:pt x="0" y="334"/>
                </a:lnTo>
                <a:lnTo>
                  <a:pt x="0" y="349"/>
                </a:lnTo>
                <a:lnTo>
                  <a:pt x="0" y="358"/>
                </a:lnTo>
                <a:lnTo>
                  <a:pt x="0" y="379"/>
                </a:lnTo>
                <a:lnTo>
                  <a:pt x="0" y="393"/>
                </a:lnTo>
                <a:lnTo>
                  <a:pt x="0" y="408"/>
                </a:lnTo>
                <a:lnTo>
                  <a:pt x="4" y="422"/>
                </a:lnTo>
                <a:lnTo>
                  <a:pt x="4" y="437"/>
                </a:lnTo>
                <a:lnTo>
                  <a:pt x="9" y="446"/>
                </a:lnTo>
                <a:lnTo>
                  <a:pt x="9" y="461"/>
                </a:lnTo>
                <a:lnTo>
                  <a:pt x="14" y="480"/>
                </a:lnTo>
                <a:lnTo>
                  <a:pt x="19" y="490"/>
                </a:lnTo>
                <a:lnTo>
                  <a:pt x="24" y="505"/>
                </a:lnTo>
                <a:lnTo>
                  <a:pt x="29" y="514"/>
                </a:lnTo>
                <a:lnTo>
                  <a:pt x="33" y="534"/>
                </a:lnTo>
                <a:lnTo>
                  <a:pt x="43" y="543"/>
                </a:lnTo>
                <a:lnTo>
                  <a:pt x="48" y="553"/>
                </a:lnTo>
                <a:lnTo>
                  <a:pt x="58" y="563"/>
                </a:lnTo>
                <a:lnTo>
                  <a:pt x="67" y="582"/>
                </a:lnTo>
                <a:lnTo>
                  <a:pt x="72" y="592"/>
                </a:lnTo>
                <a:lnTo>
                  <a:pt x="82" y="602"/>
                </a:lnTo>
                <a:lnTo>
                  <a:pt x="92" y="611"/>
                </a:lnTo>
                <a:lnTo>
                  <a:pt x="101" y="621"/>
                </a:lnTo>
                <a:lnTo>
                  <a:pt x="116" y="636"/>
                </a:lnTo>
                <a:lnTo>
                  <a:pt x="126" y="640"/>
                </a:lnTo>
                <a:lnTo>
                  <a:pt x="135" y="650"/>
                </a:lnTo>
                <a:lnTo>
                  <a:pt x="145" y="660"/>
                </a:lnTo>
                <a:lnTo>
                  <a:pt x="155" y="665"/>
                </a:lnTo>
                <a:lnTo>
                  <a:pt x="169" y="674"/>
                </a:lnTo>
                <a:lnTo>
                  <a:pt x="184" y="684"/>
                </a:lnTo>
                <a:lnTo>
                  <a:pt x="194" y="689"/>
                </a:lnTo>
                <a:lnTo>
                  <a:pt x="208" y="699"/>
                </a:lnTo>
                <a:lnTo>
                  <a:pt x="223" y="703"/>
                </a:lnTo>
                <a:lnTo>
                  <a:pt x="237" y="703"/>
                </a:lnTo>
                <a:lnTo>
                  <a:pt x="247" y="708"/>
                </a:lnTo>
                <a:lnTo>
                  <a:pt x="262" y="713"/>
                </a:lnTo>
                <a:lnTo>
                  <a:pt x="271" y="718"/>
                </a:lnTo>
                <a:lnTo>
                  <a:pt x="291" y="718"/>
                </a:lnTo>
                <a:lnTo>
                  <a:pt x="305" y="723"/>
                </a:lnTo>
                <a:lnTo>
                  <a:pt x="315" y="723"/>
                </a:lnTo>
                <a:lnTo>
                  <a:pt x="334" y="723"/>
                </a:lnTo>
                <a:lnTo>
                  <a:pt x="344" y="733"/>
                </a:lnTo>
                <a:lnTo>
                  <a:pt x="359" y="733"/>
                </a:lnTo>
                <a:lnTo>
                  <a:pt x="374" y="733"/>
                </a:lnTo>
                <a:lnTo>
                  <a:pt x="384" y="723"/>
                </a:lnTo>
                <a:lnTo>
                  <a:pt x="403" y="723"/>
                </a:lnTo>
                <a:lnTo>
                  <a:pt x="418" y="723"/>
                </a:lnTo>
                <a:lnTo>
                  <a:pt x="428" y="718"/>
                </a:lnTo>
                <a:lnTo>
                  <a:pt x="447" y="718"/>
                </a:lnTo>
                <a:lnTo>
                  <a:pt x="462" y="713"/>
                </a:lnTo>
                <a:lnTo>
                  <a:pt x="471" y="708"/>
                </a:lnTo>
                <a:lnTo>
                  <a:pt x="486" y="703"/>
                </a:lnTo>
                <a:lnTo>
                  <a:pt x="496" y="703"/>
                </a:lnTo>
                <a:lnTo>
                  <a:pt x="515" y="699"/>
                </a:lnTo>
                <a:lnTo>
                  <a:pt x="525" y="689"/>
                </a:lnTo>
                <a:lnTo>
                  <a:pt x="539" y="684"/>
                </a:lnTo>
                <a:lnTo>
                  <a:pt x="549" y="674"/>
                </a:lnTo>
                <a:lnTo>
                  <a:pt x="564" y="665"/>
                </a:lnTo>
                <a:lnTo>
                  <a:pt x="573" y="660"/>
                </a:lnTo>
                <a:lnTo>
                  <a:pt x="583" y="650"/>
                </a:lnTo>
                <a:lnTo>
                  <a:pt x="593" y="640"/>
                </a:lnTo>
                <a:lnTo>
                  <a:pt x="602" y="636"/>
                </a:lnTo>
                <a:lnTo>
                  <a:pt x="617" y="621"/>
                </a:lnTo>
                <a:lnTo>
                  <a:pt x="627" y="611"/>
                </a:lnTo>
                <a:lnTo>
                  <a:pt x="636" y="602"/>
                </a:lnTo>
                <a:lnTo>
                  <a:pt x="646" y="592"/>
                </a:lnTo>
                <a:lnTo>
                  <a:pt x="651" y="582"/>
                </a:lnTo>
                <a:lnTo>
                  <a:pt x="661" y="563"/>
                </a:lnTo>
                <a:lnTo>
                  <a:pt x="670" y="553"/>
                </a:lnTo>
                <a:lnTo>
                  <a:pt x="680" y="543"/>
                </a:lnTo>
                <a:lnTo>
                  <a:pt x="685" y="534"/>
                </a:lnTo>
                <a:lnTo>
                  <a:pt x="690" y="514"/>
                </a:lnTo>
                <a:lnTo>
                  <a:pt x="695" y="505"/>
                </a:lnTo>
                <a:lnTo>
                  <a:pt x="699" y="490"/>
                </a:lnTo>
                <a:lnTo>
                  <a:pt x="704" y="480"/>
                </a:lnTo>
                <a:lnTo>
                  <a:pt x="709" y="461"/>
                </a:lnTo>
                <a:lnTo>
                  <a:pt x="709" y="446"/>
                </a:lnTo>
                <a:lnTo>
                  <a:pt x="714" y="437"/>
                </a:lnTo>
                <a:lnTo>
                  <a:pt x="714" y="422"/>
                </a:lnTo>
                <a:lnTo>
                  <a:pt x="724" y="408"/>
                </a:lnTo>
                <a:lnTo>
                  <a:pt x="724" y="393"/>
                </a:lnTo>
                <a:lnTo>
                  <a:pt x="724" y="379"/>
                </a:lnTo>
                <a:lnTo>
                  <a:pt x="724" y="3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09" name=""/>
          <p:cNvSpPr/>
          <p:nvPr/>
        </p:nvSpPr>
        <p:spPr>
          <a:xfrm>
            <a:off x="3308400" y="2930400"/>
            <a:ext cx="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0" name=""/>
          <p:cNvSpPr/>
          <p:nvPr/>
        </p:nvSpPr>
        <p:spPr>
          <a:xfrm flipH="1">
            <a:off x="3284640" y="2881440"/>
            <a:ext cx="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1" name=""/>
          <p:cNvSpPr/>
          <p:nvPr/>
        </p:nvSpPr>
        <p:spPr>
          <a:xfrm flipV="1">
            <a:off x="3308400" y="28605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5712" name=""/>
          <p:cNvSpPr/>
          <p:nvPr/>
        </p:nvSpPr>
        <p:spPr>
          <a:xfrm flipV="1">
            <a:off x="3308400" y="2727360"/>
            <a:ext cx="0" cy="11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3" name=""/>
          <p:cNvSpPr/>
          <p:nvPr/>
        </p:nvSpPr>
        <p:spPr>
          <a:xfrm>
            <a:off x="4782960" y="2071800"/>
            <a:ext cx="1082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4" name=""/>
          <p:cNvSpPr/>
          <p:nvPr/>
        </p:nvSpPr>
        <p:spPr>
          <a:xfrm flipV="1">
            <a:off x="4194000" y="790560"/>
            <a:ext cx="1328760" cy="76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5" name=""/>
          <p:cNvSpPr/>
          <p:nvPr/>
        </p:nvSpPr>
        <p:spPr>
          <a:xfrm>
            <a:off x="5651640" y="1590840"/>
            <a:ext cx="41760" cy="314640"/>
          </a:xfrm>
          <a:custGeom>
            <a:avLst/>
            <a:gdLst/>
            <a:ahLst/>
            <a:rect l="0" t="0" r="r" b="b"/>
            <a:pathLst>
              <a:path fill="none" w="116" h="874">
                <a:moveTo>
                  <a:pt x="116" y="874"/>
                </a:moveTo>
                <a:lnTo>
                  <a:pt x="107" y="806"/>
                </a:lnTo>
                <a:lnTo>
                  <a:pt x="102" y="743"/>
                </a:lnTo>
                <a:lnTo>
                  <a:pt x="97" y="680"/>
                </a:lnTo>
                <a:lnTo>
                  <a:pt x="92" y="621"/>
                </a:lnTo>
                <a:lnTo>
                  <a:pt x="86" y="558"/>
                </a:lnTo>
                <a:lnTo>
                  <a:pt x="77" y="495"/>
                </a:lnTo>
                <a:lnTo>
                  <a:pt x="72" y="426"/>
                </a:lnTo>
                <a:lnTo>
                  <a:pt x="63" y="368"/>
                </a:lnTo>
                <a:lnTo>
                  <a:pt x="48" y="305"/>
                </a:lnTo>
                <a:lnTo>
                  <a:pt x="39" y="242"/>
                </a:lnTo>
                <a:lnTo>
                  <a:pt x="28" y="179"/>
                </a:lnTo>
                <a:lnTo>
                  <a:pt x="19" y="121"/>
                </a:lnTo>
                <a:lnTo>
                  <a:pt x="9" y="58"/>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6" name=""/>
          <p:cNvSpPr/>
          <p:nvPr/>
        </p:nvSpPr>
        <p:spPr>
          <a:xfrm>
            <a:off x="5456160" y="1015920"/>
            <a:ext cx="122760" cy="292320"/>
          </a:xfrm>
          <a:custGeom>
            <a:avLst/>
            <a:gdLst/>
            <a:ahLst/>
            <a:rect l="0" t="0" r="r" b="b"/>
            <a:pathLst>
              <a:path fill="none" w="341" h="812">
                <a:moveTo>
                  <a:pt x="341" y="812"/>
                </a:moveTo>
                <a:lnTo>
                  <a:pt x="317" y="749"/>
                </a:lnTo>
                <a:lnTo>
                  <a:pt x="297" y="690"/>
                </a:lnTo>
                <a:lnTo>
                  <a:pt x="273" y="632"/>
                </a:lnTo>
                <a:lnTo>
                  <a:pt x="253" y="574"/>
                </a:lnTo>
                <a:lnTo>
                  <a:pt x="228" y="516"/>
                </a:lnTo>
                <a:lnTo>
                  <a:pt x="204" y="457"/>
                </a:lnTo>
                <a:lnTo>
                  <a:pt x="180" y="398"/>
                </a:lnTo>
                <a:lnTo>
                  <a:pt x="156" y="340"/>
                </a:lnTo>
                <a:lnTo>
                  <a:pt x="131" y="281"/>
                </a:lnTo>
                <a:lnTo>
                  <a:pt x="107" y="228"/>
                </a:lnTo>
                <a:lnTo>
                  <a:pt x="77" y="170"/>
                </a:lnTo>
                <a:lnTo>
                  <a:pt x="58" y="111"/>
                </a:lnTo>
                <a:lnTo>
                  <a:pt x="29" y="58"/>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7" name=""/>
          <p:cNvSpPr/>
          <p:nvPr/>
        </p:nvSpPr>
        <p:spPr>
          <a:xfrm>
            <a:off x="5665680" y="1905120"/>
            <a:ext cx="54360" cy="168480"/>
          </a:xfrm>
          <a:custGeom>
            <a:avLst/>
            <a:gdLst/>
            <a:ahLst/>
            <a:rect l="0" t="0" r="r" b="b"/>
            <a:pathLst>
              <a:path w="151" h="468">
                <a:moveTo>
                  <a:pt x="151" y="0"/>
                </a:moveTo>
                <a:lnTo>
                  <a:pt x="0" y="4"/>
                </a:lnTo>
                <a:lnTo>
                  <a:pt x="88" y="468"/>
                </a:lnTo>
                <a:lnTo>
                  <a:pt x="15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8" name=""/>
          <p:cNvSpPr/>
          <p:nvPr/>
        </p:nvSpPr>
        <p:spPr>
          <a:xfrm>
            <a:off x="5376960" y="873000"/>
            <a:ext cx="103680" cy="159120"/>
          </a:xfrm>
          <a:custGeom>
            <a:avLst/>
            <a:gdLst/>
            <a:ahLst/>
            <a:rect l="0" t="0" r="r" b="b"/>
            <a:pathLst>
              <a:path w="288" h="442">
                <a:moveTo>
                  <a:pt x="151" y="442"/>
                </a:moveTo>
                <a:lnTo>
                  <a:pt x="288" y="365"/>
                </a:lnTo>
                <a:lnTo>
                  <a:pt x="0" y="0"/>
                </a:lnTo>
                <a:lnTo>
                  <a:pt x="151" y="44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19" name=""/>
          <p:cNvSpPr/>
          <p:nvPr/>
        </p:nvSpPr>
        <p:spPr>
          <a:xfrm>
            <a:off x="5410080" y="1308240"/>
            <a:ext cx="462240" cy="281520"/>
          </a:xfrm>
          <a:custGeom>
            <a:avLst/>
            <a:gdLst/>
            <a:ahLst/>
            <a:rect l="0" t="0" r="r" b="b"/>
            <a:pathLst>
              <a:path fill="none" w="1284" h="782">
                <a:moveTo>
                  <a:pt x="0" y="782"/>
                </a:moveTo>
                <a:lnTo>
                  <a:pt x="1284" y="782"/>
                </a:lnTo>
                <a:lnTo>
                  <a:pt x="1284" y="0"/>
                </a:lnTo>
                <a:lnTo>
                  <a:pt x="0" y="0"/>
                </a:lnTo>
                <a:lnTo>
                  <a:pt x="0" y="78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20" name=""/>
          <p:cNvSpPr/>
          <p:nvPr/>
        </p:nvSpPr>
        <p:spPr>
          <a:xfrm>
            <a:off x="3470400" y="2071800"/>
            <a:ext cx="125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1" name=""/>
          <p:cNvSpPr/>
          <p:nvPr/>
        </p:nvSpPr>
        <p:spPr>
          <a:xfrm flipV="1">
            <a:off x="3308400" y="652320"/>
            <a:ext cx="0" cy="12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2" name=""/>
          <p:cNvSpPr/>
          <p:nvPr/>
        </p:nvSpPr>
        <p:spPr>
          <a:xfrm flipH="1">
            <a:off x="1890720" y="2071800"/>
            <a:ext cx="125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3" name=""/>
          <p:cNvSpPr/>
          <p:nvPr/>
        </p:nvSpPr>
        <p:spPr>
          <a:xfrm flipV="1">
            <a:off x="3308400" y="1989000"/>
            <a:ext cx="0" cy="1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4" name=""/>
          <p:cNvSpPr/>
          <p:nvPr/>
        </p:nvSpPr>
        <p:spPr>
          <a:xfrm>
            <a:off x="3222720" y="20718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5" name=""/>
          <p:cNvSpPr/>
          <p:nvPr/>
        </p:nvSpPr>
        <p:spPr>
          <a:xfrm flipV="1">
            <a:off x="2592360" y="1644480"/>
            <a:ext cx="2232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726" name=""/>
          <p:cNvSpPr/>
          <p:nvPr/>
        </p:nvSpPr>
        <p:spPr>
          <a:xfrm>
            <a:off x="4340160" y="1854360"/>
            <a:ext cx="302040" cy="432000"/>
          </a:xfrm>
          <a:custGeom>
            <a:avLst/>
            <a:gdLst/>
            <a:ahLst/>
            <a:rect l="0" t="0" r="r" b="b"/>
            <a:pathLst>
              <a:path fill="none" w="839" h="1200">
                <a:moveTo>
                  <a:pt x="0" y="0"/>
                </a:moveTo>
                <a:lnTo>
                  <a:pt x="0" y="1200"/>
                </a:lnTo>
                <a:lnTo>
                  <a:pt x="839" y="120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27" name=""/>
          <p:cNvSpPr/>
          <p:nvPr/>
        </p:nvSpPr>
        <p:spPr>
          <a:xfrm>
            <a:off x="3878280" y="1533600"/>
            <a:ext cx="262440" cy="262440"/>
          </a:xfrm>
          <a:custGeom>
            <a:avLst/>
            <a:gdLst/>
            <a:ahLst/>
            <a:rect l="0" t="0" r="r" b="b"/>
            <a:pathLst>
              <a:path fill="none" w="729" h="729">
                <a:moveTo>
                  <a:pt x="729" y="364"/>
                </a:moveTo>
                <a:lnTo>
                  <a:pt x="729" y="345"/>
                </a:lnTo>
                <a:lnTo>
                  <a:pt x="729" y="335"/>
                </a:lnTo>
                <a:lnTo>
                  <a:pt x="729" y="321"/>
                </a:lnTo>
                <a:lnTo>
                  <a:pt x="719" y="301"/>
                </a:lnTo>
                <a:lnTo>
                  <a:pt x="719" y="292"/>
                </a:lnTo>
                <a:lnTo>
                  <a:pt x="715" y="277"/>
                </a:lnTo>
                <a:lnTo>
                  <a:pt x="715" y="267"/>
                </a:lnTo>
                <a:lnTo>
                  <a:pt x="710" y="248"/>
                </a:lnTo>
                <a:lnTo>
                  <a:pt x="705" y="233"/>
                </a:lnTo>
                <a:lnTo>
                  <a:pt x="700" y="224"/>
                </a:lnTo>
                <a:lnTo>
                  <a:pt x="695" y="209"/>
                </a:lnTo>
                <a:lnTo>
                  <a:pt x="690" y="195"/>
                </a:lnTo>
                <a:lnTo>
                  <a:pt x="681" y="185"/>
                </a:lnTo>
                <a:lnTo>
                  <a:pt x="671" y="169"/>
                </a:lnTo>
                <a:lnTo>
                  <a:pt x="666" y="160"/>
                </a:lnTo>
                <a:lnTo>
                  <a:pt x="656" y="145"/>
                </a:lnTo>
                <a:lnTo>
                  <a:pt x="651" y="135"/>
                </a:lnTo>
                <a:lnTo>
                  <a:pt x="642" y="126"/>
                </a:lnTo>
                <a:lnTo>
                  <a:pt x="632" y="116"/>
                </a:lnTo>
                <a:lnTo>
                  <a:pt x="618" y="106"/>
                </a:lnTo>
                <a:lnTo>
                  <a:pt x="608" y="92"/>
                </a:lnTo>
                <a:lnTo>
                  <a:pt x="598" y="82"/>
                </a:lnTo>
                <a:lnTo>
                  <a:pt x="588" y="72"/>
                </a:lnTo>
                <a:lnTo>
                  <a:pt x="579" y="67"/>
                </a:lnTo>
                <a:lnTo>
                  <a:pt x="564" y="58"/>
                </a:lnTo>
                <a:lnTo>
                  <a:pt x="554" y="53"/>
                </a:lnTo>
                <a:lnTo>
                  <a:pt x="539" y="38"/>
                </a:lnTo>
                <a:lnTo>
                  <a:pt x="529" y="33"/>
                </a:lnTo>
                <a:lnTo>
                  <a:pt x="515" y="29"/>
                </a:lnTo>
                <a:lnTo>
                  <a:pt x="500" y="24"/>
                </a:lnTo>
                <a:lnTo>
                  <a:pt x="490" y="19"/>
                </a:lnTo>
                <a:lnTo>
                  <a:pt x="476" y="14"/>
                </a:lnTo>
                <a:lnTo>
                  <a:pt x="461" y="9"/>
                </a:lnTo>
                <a:lnTo>
                  <a:pt x="447" y="9"/>
                </a:lnTo>
                <a:lnTo>
                  <a:pt x="432" y="4"/>
                </a:lnTo>
                <a:lnTo>
                  <a:pt x="423" y="0"/>
                </a:lnTo>
                <a:lnTo>
                  <a:pt x="403" y="0"/>
                </a:lnTo>
                <a:lnTo>
                  <a:pt x="389" y="0"/>
                </a:lnTo>
                <a:lnTo>
                  <a:pt x="379" y="0"/>
                </a:lnTo>
                <a:lnTo>
                  <a:pt x="364" y="0"/>
                </a:lnTo>
                <a:lnTo>
                  <a:pt x="345" y="0"/>
                </a:lnTo>
                <a:lnTo>
                  <a:pt x="335" y="0"/>
                </a:lnTo>
                <a:lnTo>
                  <a:pt x="321" y="0"/>
                </a:lnTo>
                <a:lnTo>
                  <a:pt x="301" y="0"/>
                </a:lnTo>
                <a:lnTo>
                  <a:pt x="292" y="4"/>
                </a:lnTo>
                <a:lnTo>
                  <a:pt x="277" y="9"/>
                </a:lnTo>
                <a:lnTo>
                  <a:pt x="267" y="9"/>
                </a:lnTo>
                <a:lnTo>
                  <a:pt x="248" y="14"/>
                </a:lnTo>
                <a:lnTo>
                  <a:pt x="233" y="19"/>
                </a:lnTo>
                <a:lnTo>
                  <a:pt x="224" y="24"/>
                </a:lnTo>
                <a:lnTo>
                  <a:pt x="209" y="29"/>
                </a:lnTo>
                <a:lnTo>
                  <a:pt x="195" y="33"/>
                </a:lnTo>
                <a:lnTo>
                  <a:pt x="185" y="38"/>
                </a:lnTo>
                <a:lnTo>
                  <a:pt x="169" y="53"/>
                </a:lnTo>
                <a:lnTo>
                  <a:pt x="160" y="58"/>
                </a:lnTo>
                <a:lnTo>
                  <a:pt x="145" y="67"/>
                </a:lnTo>
                <a:lnTo>
                  <a:pt x="135" y="72"/>
                </a:lnTo>
                <a:lnTo>
                  <a:pt x="126" y="82"/>
                </a:lnTo>
                <a:lnTo>
                  <a:pt x="116" y="92"/>
                </a:lnTo>
                <a:lnTo>
                  <a:pt x="106" y="106"/>
                </a:lnTo>
                <a:lnTo>
                  <a:pt x="92" y="116"/>
                </a:lnTo>
                <a:lnTo>
                  <a:pt x="82" y="126"/>
                </a:lnTo>
                <a:lnTo>
                  <a:pt x="72" y="135"/>
                </a:lnTo>
                <a:lnTo>
                  <a:pt x="67" y="145"/>
                </a:lnTo>
                <a:lnTo>
                  <a:pt x="58" y="160"/>
                </a:lnTo>
                <a:lnTo>
                  <a:pt x="53" y="169"/>
                </a:lnTo>
                <a:lnTo>
                  <a:pt x="38" y="185"/>
                </a:lnTo>
                <a:lnTo>
                  <a:pt x="33" y="195"/>
                </a:lnTo>
                <a:lnTo>
                  <a:pt x="29" y="209"/>
                </a:lnTo>
                <a:lnTo>
                  <a:pt x="24" y="224"/>
                </a:lnTo>
                <a:lnTo>
                  <a:pt x="19" y="233"/>
                </a:lnTo>
                <a:lnTo>
                  <a:pt x="14" y="248"/>
                </a:lnTo>
                <a:lnTo>
                  <a:pt x="9" y="267"/>
                </a:lnTo>
                <a:lnTo>
                  <a:pt x="9" y="277"/>
                </a:lnTo>
                <a:lnTo>
                  <a:pt x="4" y="292"/>
                </a:lnTo>
                <a:lnTo>
                  <a:pt x="4" y="301"/>
                </a:lnTo>
                <a:lnTo>
                  <a:pt x="0" y="321"/>
                </a:lnTo>
                <a:lnTo>
                  <a:pt x="0" y="335"/>
                </a:lnTo>
                <a:lnTo>
                  <a:pt x="0" y="345"/>
                </a:lnTo>
                <a:lnTo>
                  <a:pt x="0" y="364"/>
                </a:lnTo>
                <a:lnTo>
                  <a:pt x="0" y="379"/>
                </a:lnTo>
                <a:lnTo>
                  <a:pt x="0" y="389"/>
                </a:lnTo>
                <a:lnTo>
                  <a:pt x="0" y="403"/>
                </a:lnTo>
                <a:lnTo>
                  <a:pt x="4" y="423"/>
                </a:lnTo>
                <a:lnTo>
                  <a:pt x="4" y="432"/>
                </a:lnTo>
                <a:lnTo>
                  <a:pt x="9" y="447"/>
                </a:lnTo>
                <a:lnTo>
                  <a:pt x="9" y="456"/>
                </a:lnTo>
                <a:lnTo>
                  <a:pt x="14" y="476"/>
                </a:lnTo>
                <a:lnTo>
                  <a:pt x="19" y="490"/>
                </a:lnTo>
                <a:lnTo>
                  <a:pt x="24" y="500"/>
                </a:lnTo>
                <a:lnTo>
                  <a:pt x="29" y="515"/>
                </a:lnTo>
                <a:lnTo>
                  <a:pt x="33" y="529"/>
                </a:lnTo>
                <a:lnTo>
                  <a:pt x="38" y="539"/>
                </a:lnTo>
                <a:lnTo>
                  <a:pt x="53" y="554"/>
                </a:lnTo>
                <a:lnTo>
                  <a:pt x="58" y="564"/>
                </a:lnTo>
                <a:lnTo>
                  <a:pt x="67" y="579"/>
                </a:lnTo>
                <a:lnTo>
                  <a:pt x="72" y="588"/>
                </a:lnTo>
                <a:lnTo>
                  <a:pt x="82" y="598"/>
                </a:lnTo>
                <a:lnTo>
                  <a:pt x="92" y="608"/>
                </a:lnTo>
                <a:lnTo>
                  <a:pt x="106" y="618"/>
                </a:lnTo>
                <a:lnTo>
                  <a:pt x="116" y="632"/>
                </a:lnTo>
                <a:lnTo>
                  <a:pt x="126" y="642"/>
                </a:lnTo>
                <a:lnTo>
                  <a:pt x="135" y="651"/>
                </a:lnTo>
                <a:lnTo>
                  <a:pt x="145" y="656"/>
                </a:lnTo>
                <a:lnTo>
                  <a:pt x="160" y="666"/>
                </a:lnTo>
                <a:lnTo>
                  <a:pt x="169" y="671"/>
                </a:lnTo>
                <a:lnTo>
                  <a:pt x="185" y="685"/>
                </a:lnTo>
                <a:lnTo>
                  <a:pt x="195" y="690"/>
                </a:lnTo>
                <a:lnTo>
                  <a:pt x="209" y="695"/>
                </a:lnTo>
                <a:lnTo>
                  <a:pt x="224" y="700"/>
                </a:lnTo>
                <a:lnTo>
                  <a:pt x="233" y="705"/>
                </a:lnTo>
                <a:lnTo>
                  <a:pt x="248" y="710"/>
                </a:lnTo>
                <a:lnTo>
                  <a:pt x="267" y="715"/>
                </a:lnTo>
                <a:lnTo>
                  <a:pt x="277" y="715"/>
                </a:lnTo>
                <a:lnTo>
                  <a:pt x="292" y="719"/>
                </a:lnTo>
                <a:lnTo>
                  <a:pt x="301" y="719"/>
                </a:lnTo>
                <a:lnTo>
                  <a:pt x="321" y="729"/>
                </a:lnTo>
                <a:lnTo>
                  <a:pt x="335" y="729"/>
                </a:lnTo>
                <a:lnTo>
                  <a:pt x="345" y="729"/>
                </a:lnTo>
                <a:lnTo>
                  <a:pt x="364" y="729"/>
                </a:lnTo>
                <a:lnTo>
                  <a:pt x="379" y="729"/>
                </a:lnTo>
                <a:lnTo>
                  <a:pt x="389" y="729"/>
                </a:lnTo>
                <a:lnTo>
                  <a:pt x="403" y="729"/>
                </a:lnTo>
                <a:lnTo>
                  <a:pt x="423" y="719"/>
                </a:lnTo>
                <a:lnTo>
                  <a:pt x="432" y="719"/>
                </a:lnTo>
                <a:lnTo>
                  <a:pt x="447" y="715"/>
                </a:lnTo>
                <a:lnTo>
                  <a:pt x="461" y="715"/>
                </a:lnTo>
                <a:lnTo>
                  <a:pt x="476" y="710"/>
                </a:lnTo>
                <a:lnTo>
                  <a:pt x="490" y="705"/>
                </a:lnTo>
                <a:lnTo>
                  <a:pt x="500" y="700"/>
                </a:lnTo>
                <a:lnTo>
                  <a:pt x="515" y="695"/>
                </a:lnTo>
                <a:lnTo>
                  <a:pt x="529" y="690"/>
                </a:lnTo>
                <a:lnTo>
                  <a:pt x="539" y="685"/>
                </a:lnTo>
                <a:lnTo>
                  <a:pt x="554" y="671"/>
                </a:lnTo>
                <a:lnTo>
                  <a:pt x="564" y="666"/>
                </a:lnTo>
                <a:lnTo>
                  <a:pt x="579" y="656"/>
                </a:lnTo>
                <a:lnTo>
                  <a:pt x="588" y="651"/>
                </a:lnTo>
                <a:lnTo>
                  <a:pt x="598" y="642"/>
                </a:lnTo>
                <a:lnTo>
                  <a:pt x="608" y="632"/>
                </a:lnTo>
                <a:lnTo>
                  <a:pt x="618" y="618"/>
                </a:lnTo>
                <a:lnTo>
                  <a:pt x="632" y="608"/>
                </a:lnTo>
                <a:lnTo>
                  <a:pt x="642" y="598"/>
                </a:lnTo>
                <a:lnTo>
                  <a:pt x="651" y="588"/>
                </a:lnTo>
                <a:lnTo>
                  <a:pt x="656" y="579"/>
                </a:lnTo>
                <a:lnTo>
                  <a:pt x="666" y="564"/>
                </a:lnTo>
                <a:lnTo>
                  <a:pt x="671" y="554"/>
                </a:lnTo>
                <a:lnTo>
                  <a:pt x="681" y="539"/>
                </a:lnTo>
                <a:lnTo>
                  <a:pt x="690" y="529"/>
                </a:lnTo>
                <a:lnTo>
                  <a:pt x="695" y="515"/>
                </a:lnTo>
                <a:lnTo>
                  <a:pt x="700" y="500"/>
                </a:lnTo>
                <a:lnTo>
                  <a:pt x="705" y="490"/>
                </a:lnTo>
                <a:lnTo>
                  <a:pt x="710" y="476"/>
                </a:lnTo>
                <a:lnTo>
                  <a:pt x="715" y="456"/>
                </a:lnTo>
                <a:lnTo>
                  <a:pt x="715" y="447"/>
                </a:lnTo>
                <a:lnTo>
                  <a:pt x="719" y="432"/>
                </a:lnTo>
                <a:lnTo>
                  <a:pt x="719" y="423"/>
                </a:lnTo>
                <a:lnTo>
                  <a:pt x="729" y="403"/>
                </a:lnTo>
                <a:lnTo>
                  <a:pt x="729" y="389"/>
                </a:lnTo>
                <a:lnTo>
                  <a:pt x="729" y="379"/>
                </a:lnTo>
                <a:lnTo>
                  <a:pt x="729" y="36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28" name=""/>
          <p:cNvSpPr/>
          <p:nvPr/>
        </p:nvSpPr>
        <p:spPr>
          <a:xfrm>
            <a:off x="3997440" y="1644480"/>
            <a:ext cx="2196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729" name=""/>
          <p:cNvSpPr/>
          <p:nvPr/>
        </p:nvSpPr>
        <p:spPr>
          <a:xfrm flipH="1">
            <a:off x="3959280" y="1625760"/>
            <a:ext cx="10800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5730" name=""/>
          <p:cNvSpPr/>
          <p:nvPr/>
        </p:nvSpPr>
        <p:spPr>
          <a:xfrm>
            <a:off x="4343400" y="1854360"/>
            <a:ext cx="2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1" name=""/>
          <p:cNvSpPr/>
          <p:nvPr/>
        </p:nvSpPr>
        <p:spPr>
          <a:xfrm>
            <a:off x="6021360" y="3927600"/>
            <a:ext cx="133560" cy="116280"/>
          </a:xfrm>
          <a:custGeom>
            <a:avLst/>
            <a:gdLst/>
            <a:ahLst/>
            <a:rect l="0" t="0" r="r" b="b"/>
            <a:pathLst>
              <a:path w="371" h="323">
                <a:moveTo>
                  <a:pt x="371" y="0"/>
                </a:moveTo>
                <a:lnTo>
                  <a:pt x="180"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32" name=""/>
          <p:cNvSpPr/>
          <p:nvPr/>
        </p:nvSpPr>
        <p:spPr>
          <a:xfrm flipV="1">
            <a:off x="6087960" y="392760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3" name=""/>
          <p:cNvSpPr/>
          <p:nvPr/>
        </p:nvSpPr>
        <p:spPr>
          <a:xfrm>
            <a:off x="6019920" y="392760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4" name=""/>
          <p:cNvSpPr/>
          <p:nvPr/>
        </p:nvSpPr>
        <p:spPr>
          <a:xfrm>
            <a:off x="6021360" y="39276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5" name=""/>
          <p:cNvSpPr/>
          <p:nvPr/>
        </p:nvSpPr>
        <p:spPr>
          <a:xfrm>
            <a:off x="6086520" y="40449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6" name=""/>
          <p:cNvSpPr/>
          <p:nvPr/>
        </p:nvSpPr>
        <p:spPr>
          <a:xfrm>
            <a:off x="5224320" y="384336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7" name=""/>
          <p:cNvSpPr/>
          <p:nvPr/>
        </p:nvSpPr>
        <p:spPr>
          <a:xfrm flipV="1">
            <a:off x="5338800" y="3675240"/>
            <a:ext cx="0" cy="16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8" name=""/>
          <p:cNvSpPr/>
          <p:nvPr/>
        </p:nvSpPr>
        <p:spPr>
          <a:xfrm>
            <a:off x="5535720" y="3592440"/>
            <a:ext cx="0" cy="33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9" name=""/>
          <p:cNvSpPr/>
          <p:nvPr/>
        </p:nvSpPr>
        <p:spPr>
          <a:xfrm>
            <a:off x="6702480" y="3597120"/>
            <a:ext cx="0" cy="33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0" name=""/>
          <p:cNvSpPr/>
          <p:nvPr/>
        </p:nvSpPr>
        <p:spPr>
          <a:xfrm>
            <a:off x="5143320" y="3592440"/>
            <a:ext cx="1933920" cy="335160"/>
          </a:xfrm>
          <a:custGeom>
            <a:avLst/>
            <a:gdLst/>
            <a:ahLst/>
            <a:rect l="0" t="0" r="r" b="b"/>
            <a:pathLst>
              <a:path fill="none" w="5372" h="931">
                <a:moveTo>
                  <a:pt x="0" y="931"/>
                </a:moveTo>
                <a:lnTo>
                  <a:pt x="0" y="0"/>
                </a:lnTo>
                <a:lnTo>
                  <a:pt x="5372" y="0"/>
                </a:lnTo>
                <a:lnTo>
                  <a:pt x="5372" y="931"/>
                </a:lnTo>
                <a:lnTo>
                  <a:pt x="0" y="93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41" name=""/>
          <p:cNvSpPr/>
          <p:nvPr/>
        </p:nvSpPr>
        <p:spPr>
          <a:xfrm>
            <a:off x="5908680" y="4214880"/>
            <a:ext cx="356040" cy="314640"/>
          </a:xfrm>
          <a:custGeom>
            <a:avLst/>
            <a:gdLst/>
            <a:ahLst/>
            <a:rect l="0" t="0" r="r" b="b"/>
            <a:pathLst>
              <a:path fill="none" w="989" h="874">
                <a:moveTo>
                  <a:pt x="0" y="874"/>
                </a:moveTo>
                <a:lnTo>
                  <a:pt x="0" y="0"/>
                </a:lnTo>
                <a:lnTo>
                  <a:pt x="989" y="0"/>
                </a:lnTo>
                <a:lnTo>
                  <a:pt x="989"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42" name=""/>
          <p:cNvSpPr txBox="1"/>
          <p:nvPr/>
        </p:nvSpPr>
        <p:spPr>
          <a:xfrm>
            <a:off x="5945040" y="421812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Y</a:t>
            </a:r>
            <a:endParaRPr b="0" lang="en-US" sz="1600" spc="-1" strike="noStrike">
              <a:solidFill>
                <a:srgbClr val="000000"/>
              </a:solidFill>
              <a:latin typeface="Arial"/>
            </a:endParaRPr>
          </a:p>
        </p:txBody>
      </p:sp>
      <p:grpSp>
        <p:nvGrpSpPr>
          <p:cNvPr id="5743" name=""/>
          <p:cNvGrpSpPr/>
          <p:nvPr/>
        </p:nvGrpSpPr>
        <p:grpSpPr>
          <a:xfrm>
            <a:off x="5645160" y="3662280"/>
            <a:ext cx="131760" cy="196920"/>
            <a:chOff x="5645160" y="3662280"/>
            <a:chExt cx="131760" cy="196920"/>
          </a:xfrm>
        </p:grpSpPr>
        <p:sp>
          <p:nvSpPr>
            <p:cNvPr id="5744" name=""/>
            <p:cNvSpPr/>
            <p:nvPr/>
          </p:nvSpPr>
          <p:spPr>
            <a:xfrm flipV="1">
              <a:off x="5653080" y="366228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5" name=""/>
            <p:cNvSpPr/>
            <p:nvPr/>
          </p:nvSpPr>
          <p:spPr>
            <a:xfrm>
              <a:off x="5645160" y="369396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746" name=""/>
          <p:cNvSpPr txBox="1"/>
          <p:nvPr/>
        </p:nvSpPr>
        <p:spPr>
          <a:xfrm>
            <a:off x="5827680" y="3605040"/>
            <a:ext cx="531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1</a:t>
            </a:r>
            <a:endParaRPr b="0" lang="en-US" sz="1600" spc="-1" strike="noStrike">
              <a:solidFill>
                <a:srgbClr val="000000"/>
              </a:solidFill>
              <a:latin typeface="Arial"/>
            </a:endParaRPr>
          </a:p>
        </p:txBody>
      </p:sp>
      <p:sp>
        <p:nvSpPr>
          <p:cNvPr id="5747" name=""/>
          <p:cNvSpPr/>
          <p:nvPr/>
        </p:nvSpPr>
        <p:spPr>
          <a:xfrm>
            <a:off x="6221520" y="3630600"/>
            <a:ext cx="27792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48" name=""/>
          <p:cNvSpPr txBox="1"/>
          <p:nvPr/>
        </p:nvSpPr>
        <p:spPr>
          <a:xfrm>
            <a:off x="6213600" y="360684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a:t>
            </a:r>
            <a:endParaRPr b="0" lang="en-US" sz="1600" spc="-1" strike="noStrike">
              <a:solidFill>
                <a:srgbClr val="000000"/>
              </a:solidFill>
              <a:latin typeface="Arial"/>
            </a:endParaRPr>
          </a:p>
        </p:txBody>
      </p:sp>
      <p:sp>
        <p:nvSpPr>
          <p:cNvPr id="5749" name=""/>
          <p:cNvSpPr txBox="1"/>
          <p:nvPr/>
        </p:nvSpPr>
        <p:spPr>
          <a:xfrm>
            <a:off x="6700680" y="361008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5750" name=""/>
          <p:cNvSpPr/>
          <p:nvPr/>
        </p:nvSpPr>
        <p:spPr>
          <a:xfrm>
            <a:off x="4605480" y="3386160"/>
            <a:ext cx="67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1" name=""/>
          <p:cNvGrpSpPr/>
          <p:nvPr/>
        </p:nvGrpSpPr>
        <p:grpSpPr>
          <a:xfrm>
            <a:off x="5397480" y="3290760"/>
            <a:ext cx="131760" cy="196920"/>
            <a:chOff x="5397480" y="3290760"/>
            <a:chExt cx="131760" cy="196920"/>
          </a:xfrm>
        </p:grpSpPr>
        <p:sp>
          <p:nvSpPr>
            <p:cNvPr id="5752" name=""/>
            <p:cNvSpPr/>
            <p:nvPr/>
          </p:nvSpPr>
          <p:spPr>
            <a:xfrm flipV="1">
              <a:off x="5405400" y="329076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3" name=""/>
            <p:cNvSpPr/>
            <p:nvPr/>
          </p:nvSpPr>
          <p:spPr>
            <a:xfrm>
              <a:off x="5397480" y="332280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754" name=""/>
          <p:cNvSpPr txBox="1"/>
          <p:nvPr/>
        </p:nvSpPr>
        <p:spPr>
          <a:xfrm>
            <a:off x="5394240" y="3216240"/>
            <a:ext cx="1309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4.6 - 15.0</a:t>
            </a:r>
            <a:endParaRPr b="0" lang="en-US" sz="1800" spc="-1" strike="noStrike">
              <a:solidFill>
                <a:srgbClr val="000000"/>
              </a:solidFill>
              <a:latin typeface="Arial"/>
            </a:endParaRPr>
          </a:p>
        </p:txBody>
      </p:sp>
      <p:grpSp>
        <p:nvGrpSpPr>
          <p:cNvPr id="5755" name=""/>
          <p:cNvGrpSpPr/>
          <p:nvPr/>
        </p:nvGrpSpPr>
        <p:grpSpPr>
          <a:xfrm>
            <a:off x="1969920" y="4405320"/>
            <a:ext cx="2671920" cy="1474920"/>
            <a:chOff x="1969920" y="4405320"/>
            <a:chExt cx="2671920" cy="1474920"/>
          </a:xfrm>
        </p:grpSpPr>
        <p:sp>
          <p:nvSpPr>
            <p:cNvPr id="5756" name=""/>
            <p:cNvSpPr/>
            <p:nvPr/>
          </p:nvSpPr>
          <p:spPr>
            <a:xfrm>
              <a:off x="1969920" y="4738680"/>
              <a:ext cx="267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7" name=""/>
            <p:cNvSpPr/>
            <p:nvPr/>
          </p:nvSpPr>
          <p:spPr>
            <a:xfrm>
              <a:off x="1969920" y="5143680"/>
              <a:ext cx="267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8" name=""/>
            <p:cNvSpPr/>
            <p:nvPr/>
          </p:nvSpPr>
          <p:spPr>
            <a:xfrm>
              <a:off x="3308400" y="4405320"/>
              <a:ext cx="0" cy="35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9" name=""/>
            <p:cNvSpPr/>
            <p:nvPr/>
          </p:nvSpPr>
          <p:spPr>
            <a:xfrm>
              <a:off x="3308400" y="4871880"/>
              <a:ext cx="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0" name=""/>
            <p:cNvSpPr/>
            <p:nvPr/>
          </p:nvSpPr>
          <p:spPr>
            <a:xfrm>
              <a:off x="3308400" y="5100480"/>
              <a:ext cx="0" cy="352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1" name=""/>
            <p:cNvSpPr/>
            <p:nvPr/>
          </p:nvSpPr>
          <p:spPr>
            <a:xfrm>
              <a:off x="1971720" y="474012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2" name=""/>
            <p:cNvSpPr/>
            <p:nvPr/>
          </p:nvSpPr>
          <p:spPr>
            <a:xfrm>
              <a:off x="2941560" y="47386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763" name=""/>
            <p:cNvSpPr/>
            <p:nvPr/>
          </p:nvSpPr>
          <p:spPr>
            <a:xfrm>
              <a:off x="2941560" y="488628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4" name=""/>
            <p:cNvSpPr/>
            <p:nvPr/>
          </p:nvSpPr>
          <p:spPr>
            <a:xfrm>
              <a:off x="2941560" y="505620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5765" name=""/>
            <p:cNvSpPr/>
            <p:nvPr/>
          </p:nvSpPr>
          <p:spPr>
            <a:xfrm>
              <a:off x="3675240" y="473868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5766" name=""/>
            <p:cNvSpPr/>
            <p:nvPr/>
          </p:nvSpPr>
          <p:spPr>
            <a:xfrm>
              <a:off x="3675240" y="488628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7" name=""/>
            <p:cNvSpPr/>
            <p:nvPr/>
          </p:nvSpPr>
          <p:spPr>
            <a:xfrm>
              <a:off x="3675240" y="505620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5768" name=""/>
            <p:cNvSpPr/>
            <p:nvPr/>
          </p:nvSpPr>
          <p:spPr>
            <a:xfrm>
              <a:off x="4641840" y="4740120"/>
              <a:ext cx="0" cy="4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9" name=""/>
            <p:cNvSpPr/>
            <p:nvPr/>
          </p:nvSpPr>
          <p:spPr>
            <a:xfrm>
              <a:off x="3929040" y="5145120"/>
              <a:ext cx="133560" cy="116280"/>
            </a:xfrm>
            <a:custGeom>
              <a:avLst/>
              <a:gdLst/>
              <a:ahLst/>
              <a:rect l="0" t="0" r="r" b="b"/>
              <a:pathLst>
                <a:path w="371" h="323">
                  <a:moveTo>
                    <a:pt x="371" y="0"/>
                  </a:moveTo>
                  <a:lnTo>
                    <a:pt x="186"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70" name=""/>
            <p:cNvSpPr/>
            <p:nvPr/>
          </p:nvSpPr>
          <p:spPr>
            <a:xfrm flipV="1">
              <a:off x="3994200" y="514512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1" name=""/>
            <p:cNvSpPr/>
            <p:nvPr/>
          </p:nvSpPr>
          <p:spPr>
            <a:xfrm>
              <a:off x="3929040" y="514512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2" name=""/>
            <p:cNvSpPr/>
            <p:nvPr/>
          </p:nvSpPr>
          <p:spPr>
            <a:xfrm>
              <a:off x="3929040" y="514512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3" name=""/>
            <p:cNvSpPr/>
            <p:nvPr/>
          </p:nvSpPr>
          <p:spPr>
            <a:xfrm>
              <a:off x="3994200" y="522432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74" name=""/>
            <p:cNvGrpSpPr/>
            <p:nvPr/>
          </p:nvGrpSpPr>
          <p:grpSpPr>
            <a:xfrm>
              <a:off x="3835440" y="5511960"/>
              <a:ext cx="330120" cy="368280"/>
              <a:chOff x="3835440" y="5511960"/>
              <a:chExt cx="330120" cy="368280"/>
            </a:xfrm>
          </p:grpSpPr>
          <p:sp>
            <p:nvSpPr>
              <p:cNvPr id="5775" name=""/>
              <p:cNvSpPr/>
              <p:nvPr/>
            </p:nvSpPr>
            <p:spPr>
              <a:xfrm>
                <a:off x="3841920" y="5511960"/>
                <a:ext cx="314640" cy="314640"/>
              </a:xfrm>
              <a:custGeom>
                <a:avLst/>
                <a:gdLst/>
                <a:ahLst/>
                <a:rect l="0" t="0" r="r" b="b"/>
                <a:pathLst>
                  <a:path fill="none" w="874" h="874">
                    <a:moveTo>
                      <a:pt x="0" y="874"/>
                    </a:moveTo>
                    <a:lnTo>
                      <a:pt x="0" y="0"/>
                    </a:lnTo>
                    <a:lnTo>
                      <a:pt x="874" y="0"/>
                    </a:lnTo>
                    <a:lnTo>
                      <a:pt x="874"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76" name=""/>
              <p:cNvSpPr txBox="1"/>
              <p:nvPr/>
            </p:nvSpPr>
            <p:spPr>
              <a:xfrm>
                <a:off x="3835440" y="55436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grpSp>
      </p:grpSp>
      <p:grpSp>
        <p:nvGrpSpPr>
          <p:cNvPr id="5777" name=""/>
          <p:cNvGrpSpPr/>
          <p:nvPr/>
        </p:nvGrpSpPr>
        <p:grpSpPr>
          <a:xfrm>
            <a:off x="1595520" y="3811680"/>
            <a:ext cx="2822760" cy="366840"/>
            <a:chOff x="1595520" y="3811680"/>
            <a:chExt cx="2822760" cy="366840"/>
          </a:xfrm>
        </p:grpSpPr>
        <p:sp>
          <p:nvSpPr>
            <p:cNvPr id="5778" name=""/>
            <p:cNvSpPr/>
            <p:nvPr/>
          </p:nvSpPr>
          <p:spPr>
            <a:xfrm>
              <a:off x="1932120" y="381168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9" name=""/>
            <p:cNvSpPr/>
            <p:nvPr/>
          </p:nvSpPr>
          <p:spPr>
            <a:xfrm>
              <a:off x="2886120" y="381168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0" name=""/>
            <p:cNvSpPr/>
            <p:nvPr/>
          </p:nvSpPr>
          <p:spPr>
            <a:xfrm>
              <a:off x="1595520" y="38116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781" name=""/>
            <p:cNvGrpSpPr/>
            <p:nvPr/>
          </p:nvGrpSpPr>
          <p:grpSpPr>
            <a:xfrm>
              <a:off x="1658880" y="3876840"/>
              <a:ext cx="214200" cy="212400"/>
              <a:chOff x="1658880" y="3876840"/>
              <a:chExt cx="214200" cy="212400"/>
            </a:xfrm>
          </p:grpSpPr>
          <p:sp>
            <p:nvSpPr>
              <p:cNvPr id="5782" name=""/>
              <p:cNvSpPr/>
              <p:nvPr/>
            </p:nvSpPr>
            <p:spPr>
              <a:xfrm>
                <a:off x="1658880" y="3979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3" name=""/>
              <p:cNvSpPr/>
              <p:nvPr/>
            </p:nvSpPr>
            <p:spPr>
              <a:xfrm>
                <a:off x="1763640" y="3876840"/>
                <a:ext cx="0" cy="212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4" name=""/>
              <p:cNvSpPr/>
              <p:nvPr/>
            </p:nvSpPr>
            <p:spPr>
              <a:xfrm>
                <a:off x="1679400" y="389736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785" name=""/>
            <p:cNvGrpSpPr/>
            <p:nvPr/>
          </p:nvGrpSpPr>
          <p:grpSpPr>
            <a:xfrm>
              <a:off x="1986120" y="3884760"/>
              <a:ext cx="131760" cy="196560"/>
              <a:chOff x="1986120" y="3884760"/>
              <a:chExt cx="131760" cy="196560"/>
            </a:xfrm>
          </p:grpSpPr>
          <p:sp>
            <p:nvSpPr>
              <p:cNvPr id="5786" name=""/>
              <p:cNvSpPr/>
              <p:nvPr/>
            </p:nvSpPr>
            <p:spPr>
              <a:xfrm flipV="1">
                <a:off x="1994040" y="3884760"/>
                <a:ext cx="114120" cy="19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7" name=""/>
              <p:cNvSpPr/>
              <p:nvPr/>
            </p:nvSpPr>
            <p:spPr>
              <a:xfrm>
                <a:off x="1986120" y="391644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788" name=""/>
            <p:cNvSpPr txBox="1"/>
            <p:nvPr/>
          </p:nvSpPr>
          <p:spPr>
            <a:xfrm>
              <a:off x="2117880" y="383544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a:t>
              </a:r>
              <a:endParaRPr b="0" lang="en-US" sz="1600" spc="-1" strike="noStrike">
                <a:solidFill>
                  <a:srgbClr val="000000"/>
                </a:solidFill>
                <a:latin typeface="Arial"/>
              </a:endParaRPr>
            </a:p>
          </p:txBody>
        </p:sp>
        <p:sp>
          <p:nvSpPr>
            <p:cNvPr id="5789" name=""/>
            <p:cNvSpPr/>
            <p:nvPr/>
          </p:nvSpPr>
          <p:spPr>
            <a:xfrm>
              <a:off x="2549520" y="3851280"/>
              <a:ext cx="26352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0" name=""/>
            <p:cNvSpPr txBox="1"/>
            <p:nvPr/>
          </p:nvSpPr>
          <p:spPr>
            <a:xfrm>
              <a:off x="2521080" y="38275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a:t>
              </a:r>
              <a:endParaRPr b="0" lang="en-US" sz="1600" spc="-1" strike="noStrike">
                <a:solidFill>
                  <a:srgbClr val="000000"/>
                </a:solidFill>
                <a:latin typeface="Arial"/>
              </a:endParaRPr>
            </a:p>
          </p:txBody>
        </p:sp>
        <p:sp>
          <p:nvSpPr>
            <p:cNvPr id="5791" name=""/>
            <p:cNvSpPr txBox="1"/>
            <p:nvPr/>
          </p:nvSpPr>
          <p:spPr>
            <a:xfrm>
              <a:off x="2876400" y="38336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5792" name=""/>
            <p:cNvSpPr/>
            <p:nvPr/>
          </p:nvSpPr>
          <p:spPr>
            <a:xfrm>
              <a:off x="3241800" y="381312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3" name=""/>
            <p:cNvSpPr txBox="1"/>
            <p:nvPr/>
          </p:nvSpPr>
          <p:spPr>
            <a:xfrm>
              <a:off x="3208320" y="38307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Y</a:t>
              </a:r>
              <a:endParaRPr b="0" lang="en-US" sz="1600" spc="-1" strike="noStrike">
                <a:solidFill>
                  <a:srgbClr val="000000"/>
                </a:solidFill>
                <a:latin typeface="Arial"/>
              </a:endParaRPr>
            </a:p>
          </p:txBody>
        </p:sp>
        <p:sp>
          <p:nvSpPr>
            <p:cNvPr id="5794" name=""/>
            <p:cNvSpPr/>
            <p:nvPr/>
          </p:nvSpPr>
          <p:spPr>
            <a:xfrm>
              <a:off x="3457440" y="3857760"/>
              <a:ext cx="26676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5" name=""/>
            <p:cNvSpPr txBox="1"/>
            <p:nvPr/>
          </p:nvSpPr>
          <p:spPr>
            <a:xfrm>
              <a:off x="3430440" y="383364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a:t>
              </a:r>
              <a:endParaRPr b="0" lang="en-US" sz="1600" spc="-1" strike="noStrike">
                <a:solidFill>
                  <a:srgbClr val="000000"/>
                </a:solidFill>
                <a:latin typeface="Arial"/>
              </a:endParaRPr>
            </a:p>
          </p:txBody>
        </p:sp>
        <p:sp>
          <p:nvSpPr>
            <p:cNvPr id="5796" name=""/>
            <p:cNvSpPr/>
            <p:nvPr/>
          </p:nvSpPr>
          <p:spPr>
            <a:xfrm>
              <a:off x="3816360" y="382104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7" name=""/>
            <p:cNvSpPr txBox="1"/>
            <p:nvPr/>
          </p:nvSpPr>
          <p:spPr>
            <a:xfrm>
              <a:off x="3778200" y="38419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Z</a:t>
              </a:r>
              <a:endParaRPr b="0" lang="en-US" sz="1600" spc="-1" strike="noStrike">
                <a:solidFill>
                  <a:srgbClr val="000000"/>
                </a:solidFill>
                <a:latin typeface="Arial"/>
              </a:endParaRPr>
            </a:p>
          </p:txBody>
        </p:sp>
        <p:sp>
          <p:nvSpPr>
            <p:cNvPr id="5798" name=""/>
            <p:cNvSpPr/>
            <p:nvPr/>
          </p:nvSpPr>
          <p:spPr>
            <a:xfrm>
              <a:off x="4044960" y="3862440"/>
              <a:ext cx="27000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799" name=""/>
            <p:cNvSpPr txBox="1"/>
            <p:nvPr/>
          </p:nvSpPr>
          <p:spPr>
            <a:xfrm>
              <a:off x="4024440" y="383868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a:t>
              </a:r>
              <a:endParaRPr b="0" lang="en-US" sz="1600" spc="-1" strike="noStrike">
                <a:solidFill>
                  <a:srgbClr val="000000"/>
                </a:solidFill>
                <a:latin typeface="Arial"/>
              </a:endParaRPr>
            </a:p>
          </p:txBody>
        </p:sp>
      </p:grpSp>
      <p:sp>
        <p:nvSpPr>
          <p:cNvPr id="5800" name=""/>
          <p:cNvSpPr txBox="1"/>
          <p:nvPr/>
        </p:nvSpPr>
        <p:spPr>
          <a:xfrm>
            <a:off x="1940040" y="3475080"/>
            <a:ext cx="1414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      7.2 - 7.5</a:t>
            </a:r>
            <a:endParaRPr b="0" lang="en-US" sz="1600" spc="-1" strike="noStrike">
              <a:solidFill>
                <a:srgbClr val="000000"/>
              </a:solidFill>
              <a:latin typeface="Arial"/>
            </a:endParaRPr>
          </a:p>
        </p:txBody>
      </p:sp>
      <p:grpSp>
        <p:nvGrpSpPr>
          <p:cNvPr id="5801" name=""/>
          <p:cNvGrpSpPr/>
          <p:nvPr/>
        </p:nvGrpSpPr>
        <p:grpSpPr>
          <a:xfrm>
            <a:off x="2387520" y="3522600"/>
            <a:ext cx="131760" cy="196920"/>
            <a:chOff x="2387520" y="3522600"/>
            <a:chExt cx="131760" cy="196920"/>
          </a:xfrm>
        </p:grpSpPr>
        <p:sp>
          <p:nvSpPr>
            <p:cNvPr id="5802" name=""/>
            <p:cNvSpPr/>
            <p:nvPr/>
          </p:nvSpPr>
          <p:spPr>
            <a:xfrm flipV="1">
              <a:off x="2395440" y="3522600"/>
              <a:ext cx="11448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3" name=""/>
            <p:cNvSpPr/>
            <p:nvPr/>
          </p:nvSpPr>
          <p:spPr>
            <a:xfrm>
              <a:off x="2387520" y="3554280"/>
              <a:ext cx="131760" cy="131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804" name=""/>
          <p:cNvSpPr txBox="1"/>
          <p:nvPr/>
        </p:nvSpPr>
        <p:spPr>
          <a:xfrm>
            <a:off x="5396040" y="1300320"/>
            <a:ext cx="4665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a:t>
            </a:r>
            <a:endParaRPr b="0" lang="en-US" sz="1600" spc="-1" strike="noStrike">
              <a:solidFill>
                <a:srgbClr val="000000"/>
              </a:solidFill>
              <a:latin typeface="Arial"/>
            </a:endParaRPr>
          </a:p>
        </p:txBody>
      </p:sp>
      <p:sp>
        <p:nvSpPr>
          <p:cNvPr id="5805" name=""/>
          <p:cNvSpPr/>
          <p:nvPr/>
        </p:nvSpPr>
        <p:spPr>
          <a:xfrm>
            <a:off x="5735520" y="1359000"/>
            <a:ext cx="60480" cy="60480"/>
          </a:xfrm>
          <a:prstGeom prst="ellipse">
            <a:avLst/>
          </a:prstGeom>
          <a:solidFill>
            <a:srgbClr val="a2c1fe"/>
          </a:solid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sp>
        <p:nvSpPr>
          <p:cNvPr id="5806" name=""/>
          <p:cNvSpPr txBox="1"/>
          <p:nvPr/>
        </p:nvSpPr>
        <p:spPr>
          <a:xfrm>
            <a:off x="6103800" y="1239840"/>
            <a:ext cx="1200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0.5 - 10.8</a:t>
            </a:r>
            <a:endParaRPr b="0" lang="en-US" sz="1600" spc="-1" strike="noStrike">
              <a:solidFill>
                <a:srgbClr val="000000"/>
              </a:solidFill>
              <a:latin typeface="Arial"/>
            </a:endParaRPr>
          </a:p>
        </p:txBody>
      </p:sp>
      <p:sp>
        <p:nvSpPr>
          <p:cNvPr id="5807" name=""/>
          <p:cNvSpPr/>
          <p:nvPr/>
        </p:nvSpPr>
        <p:spPr>
          <a:xfrm>
            <a:off x="5992920" y="1523880"/>
            <a:ext cx="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08" name=""/>
          <p:cNvSpPr/>
          <p:nvPr/>
        </p:nvSpPr>
        <p:spPr>
          <a:xfrm>
            <a:off x="6265800" y="1584360"/>
            <a:ext cx="2206800" cy="363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09" name=""/>
          <p:cNvGrpSpPr/>
          <p:nvPr/>
        </p:nvGrpSpPr>
        <p:grpSpPr>
          <a:xfrm>
            <a:off x="6342120" y="1665360"/>
            <a:ext cx="214200" cy="212760"/>
            <a:chOff x="6342120" y="1665360"/>
            <a:chExt cx="214200" cy="212760"/>
          </a:xfrm>
        </p:grpSpPr>
        <p:sp>
          <p:nvSpPr>
            <p:cNvPr id="5810" name=""/>
            <p:cNvSpPr/>
            <p:nvPr/>
          </p:nvSpPr>
          <p:spPr>
            <a:xfrm>
              <a:off x="6342120" y="17683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1" name=""/>
            <p:cNvSpPr/>
            <p:nvPr/>
          </p:nvSpPr>
          <p:spPr>
            <a:xfrm>
              <a:off x="6446880" y="1665360"/>
              <a:ext cx="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2" name=""/>
            <p:cNvSpPr/>
            <p:nvPr/>
          </p:nvSpPr>
          <p:spPr>
            <a:xfrm>
              <a:off x="6362640" y="1685880"/>
              <a:ext cx="165240" cy="165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813" name=""/>
          <p:cNvSpPr/>
          <p:nvPr/>
        </p:nvSpPr>
        <p:spPr>
          <a:xfrm>
            <a:off x="661356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4" name=""/>
          <p:cNvSpPr txBox="1"/>
          <p:nvPr/>
        </p:nvSpPr>
        <p:spPr>
          <a:xfrm>
            <a:off x="6610320" y="1617840"/>
            <a:ext cx="5317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a:t>
            </a:r>
            <a:endParaRPr b="0" lang="en-US" sz="1600" spc="-1" strike="noStrike">
              <a:solidFill>
                <a:srgbClr val="000000"/>
              </a:solidFill>
              <a:latin typeface="Arial"/>
            </a:endParaRPr>
          </a:p>
        </p:txBody>
      </p:sp>
      <p:sp>
        <p:nvSpPr>
          <p:cNvPr id="5815" name=""/>
          <p:cNvSpPr/>
          <p:nvPr/>
        </p:nvSpPr>
        <p:spPr>
          <a:xfrm>
            <a:off x="6999120" y="1646280"/>
            <a:ext cx="26820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16" name=""/>
          <p:cNvSpPr txBox="1"/>
          <p:nvPr/>
        </p:nvSpPr>
        <p:spPr>
          <a:xfrm>
            <a:off x="6991200" y="160668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a:t>
            </a:r>
            <a:endParaRPr b="0" lang="en-US" sz="1600" spc="-1" strike="noStrike">
              <a:solidFill>
                <a:srgbClr val="000000"/>
              </a:solidFill>
              <a:latin typeface="Arial"/>
            </a:endParaRPr>
          </a:p>
        </p:txBody>
      </p:sp>
      <p:sp>
        <p:nvSpPr>
          <p:cNvPr id="5817" name=""/>
          <p:cNvSpPr/>
          <p:nvPr/>
        </p:nvSpPr>
        <p:spPr>
          <a:xfrm>
            <a:off x="742968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8" name=""/>
          <p:cNvSpPr txBox="1"/>
          <p:nvPr/>
        </p:nvSpPr>
        <p:spPr>
          <a:xfrm>
            <a:off x="7412040" y="162072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5819" name=""/>
          <p:cNvSpPr/>
          <p:nvPr/>
        </p:nvSpPr>
        <p:spPr>
          <a:xfrm>
            <a:off x="7745400" y="15843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0" name=""/>
          <p:cNvSpPr txBox="1"/>
          <p:nvPr/>
        </p:nvSpPr>
        <p:spPr>
          <a:xfrm>
            <a:off x="7759800" y="1620720"/>
            <a:ext cx="3952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Y</a:t>
            </a:r>
            <a:endParaRPr b="0" lang="en-US" sz="1600" spc="-1" strike="noStrike">
              <a:solidFill>
                <a:srgbClr val="000000"/>
              </a:solidFill>
              <a:latin typeface="Arial"/>
            </a:endParaRPr>
          </a:p>
        </p:txBody>
      </p:sp>
      <p:sp>
        <p:nvSpPr>
          <p:cNvPr id="5821" name=""/>
          <p:cNvSpPr/>
          <p:nvPr/>
        </p:nvSpPr>
        <p:spPr>
          <a:xfrm>
            <a:off x="8010360" y="1647720"/>
            <a:ext cx="266760" cy="263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22" name=""/>
          <p:cNvSpPr txBox="1"/>
          <p:nvPr/>
        </p:nvSpPr>
        <p:spPr>
          <a:xfrm>
            <a:off x="8002440" y="16081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L</a:t>
            </a:r>
            <a:endParaRPr b="0" lang="en-US" sz="1600" spc="-1" strike="noStrike">
              <a:solidFill>
                <a:srgbClr val="000000"/>
              </a:solidFill>
              <a:latin typeface="Arial"/>
            </a:endParaRPr>
          </a:p>
        </p:txBody>
      </p:sp>
      <p:sp>
        <p:nvSpPr>
          <p:cNvPr id="5823" name=""/>
          <p:cNvSpPr/>
          <p:nvPr/>
        </p:nvSpPr>
        <p:spPr>
          <a:xfrm>
            <a:off x="6843600" y="1968480"/>
            <a:ext cx="133560" cy="116280"/>
          </a:xfrm>
          <a:custGeom>
            <a:avLst/>
            <a:gdLst/>
            <a:ahLst/>
            <a:rect l="0" t="0" r="r" b="b"/>
            <a:pathLst>
              <a:path w="371" h="323">
                <a:moveTo>
                  <a:pt x="371" y="0"/>
                </a:moveTo>
                <a:lnTo>
                  <a:pt x="186" y="323"/>
                </a:lnTo>
                <a:lnTo>
                  <a:pt x="0" y="0"/>
                </a:lnTo>
                <a:lnTo>
                  <a:pt x="37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24" name=""/>
          <p:cNvSpPr/>
          <p:nvPr/>
        </p:nvSpPr>
        <p:spPr>
          <a:xfrm flipV="1">
            <a:off x="6908760" y="1968480"/>
            <a:ext cx="6660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5" name=""/>
          <p:cNvSpPr/>
          <p:nvPr/>
        </p:nvSpPr>
        <p:spPr>
          <a:xfrm>
            <a:off x="6843600" y="1952640"/>
            <a:ext cx="6696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6" name=""/>
          <p:cNvSpPr/>
          <p:nvPr/>
        </p:nvSpPr>
        <p:spPr>
          <a:xfrm>
            <a:off x="6843600" y="195264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7" name=""/>
          <p:cNvSpPr/>
          <p:nvPr/>
        </p:nvSpPr>
        <p:spPr>
          <a:xfrm>
            <a:off x="6908760" y="195588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8" name=""/>
          <p:cNvSpPr/>
          <p:nvPr/>
        </p:nvSpPr>
        <p:spPr>
          <a:xfrm>
            <a:off x="6762600" y="2252520"/>
            <a:ext cx="314640" cy="314640"/>
          </a:xfrm>
          <a:custGeom>
            <a:avLst/>
            <a:gdLst/>
            <a:ahLst/>
            <a:rect l="0" t="0" r="r" b="b"/>
            <a:pathLst>
              <a:path fill="none" w="874" h="874">
                <a:moveTo>
                  <a:pt x="0" y="874"/>
                </a:moveTo>
                <a:lnTo>
                  <a:pt x="0" y="0"/>
                </a:lnTo>
                <a:lnTo>
                  <a:pt x="874" y="0"/>
                </a:lnTo>
                <a:lnTo>
                  <a:pt x="874" y="874"/>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29" name=""/>
          <p:cNvSpPr txBox="1"/>
          <p:nvPr/>
        </p:nvSpPr>
        <p:spPr>
          <a:xfrm>
            <a:off x="6777000" y="2230560"/>
            <a:ext cx="3668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Z</a:t>
            </a:r>
            <a:endParaRPr b="0" lang="en-US" sz="1800" spc="-1" strike="noStrike">
              <a:solidFill>
                <a:srgbClr val="000000"/>
              </a:solidFill>
              <a:latin typeface="Arial"/>
            </a:endParaRPr>
          </a:p>
        </p:txBody>
      </p:sp>
      <p:sp>
        <p:nvSpPr>
          <p:cNvPr id="5830" name=""/>
          <p:cNvSpPr/>
          <p:nvPr/>
        </p:nvSpPr>
        <p:spPr>
          <a:xfrm>
            <a:off x="1957320" y="723960"/>
            <a:ext cx="2705040" cy="2705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31" name=""/>
          <p:cNvSpPr/>
          <p:nvPr/>
        </p:nvSpPr>
        <p:spPr>
          <a:xfrm flipH="1">
            <a:off x="2762280" y="1778040"/>
            <a:ext cx="1050840" cy="60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2" name=""/>
          <p:cNvSpPr/>
          <p:nvPr/>
        </p:nvSpPr>
        <p:spPr>
          <a:xfrm flipH="1">
            <a:off x="2549520" y="2435400"/>
            <a:ext cx="123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833" name=""/>
          <p:cNvSpPr/>
          <p:nvPr/>
        </p:nvSpPr>
        <p:spPr>
          <a:xfrm flipH="1">
            <a:off x="2200320" y="2562120"/>
            <a:ext cx="245880" cy="13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4" name=""/>
          <p:cNvSpPr/>
          <p:nvPr/>
        </p:nvSpPr>
        <p:spPr>
          <a:xfrm>
            <a:off x="4581360" y="1863720"/>
            <a:ext cx="171360" cy="1969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35" name=""/>
          <p:cNvSpPr/>
          <p:nvPr/>
        </p:nvSpPr>
        <p:spPr>
          <a:xfrm>
            <a:off x="4565520" y="2076480"/>
            <a:ext cx="171360" cy="193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36" name=""/>
          <p:cNvSpPr/>
          <p:nvPr/>
        </p:nvSpPr>
        <p:spPr>
          <a:xfrm flipH="1">
            <a:off x="1714680" y="2703600"/>
            <a:ext cx="711000" cy="92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7" name=""/>
          <p:cNvSpPr/>
          <p:nvPr/>
        </p:nvSpPr>
        <p:spPr>
          <a:xfrm>
            <a:off x="1714680" y="3625920"/>
            <a:ext cx="226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8" name=""/>
          <p:cNvSpPr txBox="1"/>
          <p:nvPr/>
        </p:nvSpPr>
        <p:spPr>
          <a:xfrm>
            <a:off x="533520" y="71280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DRAWING</a:t>
            </a:r>
            <a:endParaRPr b="0" lang="en-US" sz="1800" spc="-1" strike="noStrike">
              <a:solidFill>
                <a:srgbClr val="000000"/>
              </a:solidFill>
              <a:latin typeface="Arial"/>
            </a:endParaRPr>
          </a:p>
        </p:txBody>
      </p:sp>
      <p:sp>
        <p:nvSpPr>
          <p:cNvPr id="5839" name=""/>
          <p:cNvSpPr txBox="1"/>
          <p:nvPr/>
        </p:nvSpPr>
        <p:spPr>
          <a:xfrm>
            <a:off x="2617920" y="5891040"/>
            <a:ext cx="6012000" cy="70164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 DATUM FEATURES</a:t>
            </a:r>
            <a:endParaRPr b="0" lang="en-US" sz="2000" spc="-1" strike="noStrike">
              <a:solidFill>
                <a:srgbClr val="000000"/>
              </a:solidFill>
              <a:latin typeface="Arial"/>
            </a:endParaRPr>
          </a:p>
          <a:p>
            <a:pPr algn="ctr">
              <a:lnSpc>
                <a:spcPct val="100000"/>
              </a:lnSpc>
            </a:pPr>
            <a:r>
              <a:rPr b="0" lang="en-US" sz="2000" spc="-1" strike="noStrike">
                <a:solidFill>
                  <a:srgbClr val="ffff00"/>
                </a:solidFill>
                <a:latin typeface="Times New Roman"/>
                <a:ea typeface="Times New Roman"/>
              </a:rPr>
              <a:t>Least Material Condi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84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1"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2"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43"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844"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45"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5846"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47"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48"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5849"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0"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1"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2"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3"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5854"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5"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6"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7"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858"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59"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860"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1"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2"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3"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4"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5"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6"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7"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68"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9"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0"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1"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2"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3"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4"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5875"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6"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877"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78"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5879"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0"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81"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882"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5883"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5884"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5885"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6"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7"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8"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89"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890"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891" name=""/>
          <p:cNvSpPr txBox="1"/>
          <p:nvPr/>
        </p:nvSpPr>
        <p:spPr>
          <a:xfrm>
            <a:off x="6415200" y="2806560"/>
            <a:ext cx="2390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Z</a:t>
            </a:r>
            <a:endParaRPr b="0" lang="en-US" sz="2000" spc="-1" strike="noStrike">
              <a:solidFill>
                <a:srgbClr val="000000"/>
              </a:solidFill>
              <a:latin typeface="Arial"/>
            </a:endParaRPr>
          </a:p>
        </p:txBody>
      </p:sp>
      <p:sp>
        <p:nvSpPr>
          <p:cNvPr id="5892" name=""/>
          <p:cNvSpPr txBox="1"/>
          <p:nvPr/>
        </p:nvSpPr>
        <p:spPr>
          <a:xfrm>
            <a:off x="4751280" y="332100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Y</a:t>
            </a:r>
            <a:endParaRPr b="0" lang="en-US" sz="2000" spc="-1" strike="noStrike">
              <a:solidFill>
                <a:srgbClr val="000000"/>
              </a:solidFill>
              <a:latin typeface="Arial"/>
            </a:endParaRPr>
          </a:p>
        </p:txBody>
      </p:sp>
      <p:sp>
        <p:nvSpPr>
          <p:cNvPr id="5893" name=""/>
          <p:cNvSpPr txBox="1"/>
          <p:nvPr/>
        </p:nvSpPr>
        <p:spPr>
          <a:xfrm>
            <a:off x="4570560" y="5776920"/>
            <a:ext cx="1593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X</a:t>
            </a:r>
            <a:endParaRPr b="0" lang="en-US" sz="1800" spc="-1" strike="noStrike">
              <a:solidFill>
                <a:srgbClr val="000000"/>
              </a:solidFill>
              <a:latin typeface="Arial"/>
            </a:endParaRPr>
          </a:p>
        </p:txBody>
      </p:sp>
      <p:sp>
        <p:nvSpPr>
          <p:cNvPr id="5894"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5895" name=""/>
          <p:cNvSpPr txBox="1"/>
          <p:nvPr/>
        </p:nvSpPr>
        <p:spPr>
          <a:xfrm>
            <a:off x="76320" y="2943360"/>
            <a:ext cx="3670200" cy="100656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Least Material Condition</a:t>
            </a:r>
            <a:endParaRPr b="0" lang="en-US" sz="2000" spc="-1" strike="noStrike">
              <a:solidFill>
                <a:srgbClr val="000000"/>
              </a:solidFill>
              <a:latin typeface="Arial"/>
            </a:endParaRPr>
          </a:p>
        </p:txBody>
      </p:sp>
      <p:sp>
        <p:nvSpPr>
          <p:cNvPr id="5896"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7" name=""/>
          <p:cNvSpPr/>
          <p:nvPr/>
        </p:nvSpPr>
        <p:spPr>
          <a:xfrm>
            <a:off x="5362560" y="5519880"/>
            <a:ext cx="76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8" name=""/>
          <p:cNvSpPr/>
          <p:nvPr/>
        </p:nvSpPr>
        <p:spPr>
          <a:xfrm>
            <a:off x="5495760" y="5519880"/>
            <a:ext cx="66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9" name=""/>
          <p:cNvSpPr/>
          <p:nvPr/>
        </p:nvSpPr>
        <p:spPr>
          <a:xfrm>
            <a:off x="5643720" y="5519880"/>
            <a:ext cx="637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0"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1"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02"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5903"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4"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5905"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5906"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7"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8"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9"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0"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1"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2"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3"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5914"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5915"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5916"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5917"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8"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19"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0"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1"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2"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3"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4"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5"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6"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7"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5928"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929"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30"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1"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32"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3"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4"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35" name=""/>
          <p:cNvSpPr/>
          <p:nvPr/>
        </p:nvSpPr>
        <p:spPr>
          <a:xfrm>
            <a:off x="2824200" y="5519880"/>
            <a:ext cx="2476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6"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7"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8"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939" name=""/>
          <p:cNvGrpSpPr/>
          <p:nvPr/>
        </p:nvGrpSpPr>
        <p:grpSpPr>
          <a:xfrm>
            <a:off x="461880" y="4011480"/>
            <a:ext cx="2822760" cy="366840"/>
            <a:chOff x="461880" y="4011480"/>
            <a:chExt cx="2822760" cy="366840"/>
          </a:xfrm>
        </p:grpSpPr>
        <p:sp>
          <p:nvSpPr>
            <p:cNvPr id="5940" name=""/>
            <p:cNvSpPr/>
            <p:nvPr/>
          </p:nvSpPr>
          <p:spPr>
            <a:xfrm>
              <a:off x="798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1" name=""/>
            <p:cNvSpPr/>
            <p:nvPr/>
          </p:nvSpPr>
          <p:spPr>
            <a:xfrm>
              <a:off x="1752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2" name=""/>
            <p:cNvSpPr/>
            <p:nvPr/>
          </p:nvSpPr>
          <p:spPr>
            <a:xfrm>
              <a:off x="461880" y="40114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943" name=""/>
            <p:cNvGrpSpPr/>
            <p:nvPr/>
          </p:nvGrpSpPr>
          <p:grpSpPr>
            <a:xfrm>
              <a:off x="525600" y="4076640"/>
              <a:ext cx="214200" cy="212760"/>
              <a:chOff x="525600" y="4076640"/>
              <a:chExt cx="214200" cy="212760"/>
            </a:xfrm>
          </p:grpSpPr>
          <p:sp>
            <p:nvSpPr>
              <p:cNvPr id="5944" name=""/>
              <p:cNvSpPr/>
              <p:nvPr/>
            </p:nvSpPr>
            <p:spPr>
              <a:xfrm>
                <a:off x="525600" y="417996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5" name=""/>
              <p:cNvSpPr/>
              <p:nvPr/>
            </p:nvSpPr>
            <p:spPr>
              <a:xfrm>
                <a:off x="630360" y="40766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6" name=""/>
              <p:cNvSpPr/>
              <p:nvPr/>
            </p:nvSpPr>
            <p:spPr>
              <a:xfrm>
                <a:off x="546120" y="40971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947" name=""/>
            <p:cNvGrpSpPr/>
            <p:nvPr/>
          </p:nvGrpSpPr>
          <p:grpSpPr>
            <a:xfrm>
              <a:off x="852480" y="4084560"/>
              <a:ext cx="131760" cy="196920"/>
              <a:chOff x="852480" y="4084560"/>
              <a:chExt cx="131760" cy="196920"/>
            </a:xfrm>
          </p:grpSpPr>
          <p:sp>
            <p:nvSpPr>
              <p:cNvPr id="5948" name=""/>
              <p:cNvSpPr/>
              <p:nvPr/>
            </p:nvSpPr>
            <p:spPr>
              <a:xfrm flipV="1">
                <a:off x="860400" y="40845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49" name=""/>
              <p:cNvSpPr/>
              <p:nvPr/>
            </p:nvSpPr>
            <p:spPr>
              <a:xfrm>
                <a:off x="852480" y="41162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5950" name=""/>
            <p:cNvSpPr txBox="1"/>
            <p:nvPr/>
          </p:nvSpPr>
          <p:spPr>
            <a:xfrm>
              <a:off x="984240" y="40356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5951" name=""/>
            <p:cNvSpPr/>
            <p:nvPr/>
          </p:nvSpPr>
          <p:spPr>
            <a:xfrm>
              <a:off x="1415880" y="405144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2" name=""/>
            <p:cNvSpPr txBox="1"/>
            <p:nvPr/>
          </p:nvSpPr>
          <p:spPr>
            <a:xfrm>
              <a:off x="1387440" y="40273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5953" name=""/>
            <p:cNvSpPr txBox="1"/>
            <p:nvPr/>
          </p:nvSpPr>
          <p:spPr>
            <a:xfrm>
              <a:off x="1743120" y="4033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X</a:t>
              </a:r>
              <a:endParaRPr b="0" lang="en-US" sz="1600" spc="-1" strike="noStrike">
                <a:solidFill>
                  <a:srgbClr val="000000"/>
                </a:solidFill>
                <a:latin typeface="Arial"/>
              </a:endParaRPr>
            </a:p>
          </p:txBody>
        </p:sp>
        <p:sp>
          <p:nvSpPr>
            <p:cNvPr id="5954" name=""/>
            <p:cNvSpPr/>
            <p:nvPr/>
          </p:nvSpPr>
          <p:spPr>
            <a:xfrm>
              <a:off x="2108160" y="401328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5" name=""/>
            <p:cNvSpPr txBox="1"/>
            <p:nvPr/>
          </p:nvSpPr>
          <p:spPr>
            <a:xfrm>
              <a:off x="2075040" y="40305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Y</a:t>
              </a:r>
              <a:endParaRPr b="0" lang="en-US" sz="1600" spc="-1" strike="noStrike">
                <a:solidFill>
                  <a:srgbClr val="000000"/>
                </a:solidFill>
                <a:latin typeface="Arial"/>
              </a:endParaRPr>
            </a:p>
          </p:txBody>
        </p:sp>
        <p:sp>
          <p:nvSpPr>
            <p:cNvPr id="5956" name=""/>
            <p:cNvSpPr/>
            <p:nvPr/>
          </p:nvSpPr>
          <p:spPr>
            <a:xfrm>
              <a:off x="2324160" y="40575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57" name=""/>
            <p:cNvSpPr txBox="1"/>
            <p:nvPr/>
          </p:nvSpPr>
          <p:spPr>
            <a:xfrm>
              <a:off x="2297160" y="403380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5958" name=""/>
            <p:cNvSpPr/>
            <p:nvPr/>
          </p:nvSpPr>
          <p:spPr>
            <a:xfrm>
              <a:off x="2682720" y="402120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59" name=""/>
            <p:cNvSpPr txBox="1"/>
            <p:nvPr/>
          </p:nvSpPr>
          <p:spPr>
            <a:xfrm>
              <a:off x="2644920" y="40417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Z</a:t>
              </a:r>
              <a:endParaRPr b="0" lang="en-US" sz="1600" spc="-1" strike="noStrike">
                <a:solidFill>
                  <a:srgbClr val="000000"/>
                </a:solidFill>
                <a:latin typeface="Arial"/>
              </a:endParaRPr>
            </a:p>
          </p:txBody>
        </p:sp>
        <p:sp>
          <p:nvSpPr>
            <p:cNvPr id="5960" name=""/>
            <p:cNvSpPr/>
            <p:nvPr/>
          </p:nvSpPr>
          <p:spPr>
            <a:xfrm>
              <a:off x="2911320" y="40622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1" name=""/>
            <p:cNvSpPr txBox="1"/>
            <p:nvPr/>
          </p:nvSpPr>
          <p:spPr>
            <a:xfrm>
              <a:off x="2890800" y="403848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63"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64"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5"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5966"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7"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5968"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69"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0"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5971"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2"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3"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4"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5"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5976"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7"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78"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79"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5980"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81"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5982"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83"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84"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85"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86"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87"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8"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89"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990"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1"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2"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3"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4"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5"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6"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5997"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98"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5999"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00"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6001"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2"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03"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004"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6005"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006"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6007"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08"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09"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0"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1"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12"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6013" name=""/>
          <p:cNvSpPr txBox="1"/>
          <p:nvPr/>
        </p:nvSpPr>
        <p:spPr>
          <a:xfrm>
            <a:off x="6415200" y="2806560"/>
            <a:ext cx="2390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Z</a:t>
            </a:r>
            <a:endParaRPr b="0" lang="en-US" sz="2000" spc="-1" strike="noStrike">
              <a:solidFill>
                <a:srgbClr val="000000"/>
              </a:solidFill>
              <a:latin typeface="Arial"/>
            </a:endParaRPr>
          </a:p>
        </p:txBody>
      </p:sp>
      <p:sp>
        <p:nvSpPr>
          <p:cNvPr id="6014" name=""/>
          <p:cNvSpPr txBox="1"/>
          <p:nvPr/>
        </p:nvSpPr>
        <p:spPr>
          <a:xfrm>
            <a:off x="4751280" y="332100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Y</a:t>
            </a:r>
            <a:endParaRPr b="0" lang="en-US" sz="2000" spc="-1" strike="noStrike">
              <a:solidFill>
                <a:srgbClr val="000000"/>
              </a:solidFill>
              <a:latin typeface="Arial"/>
            </a:endParaRPr>
          </a:p>
        </p:txBody>
      </p:sp>
      <p:sp>
        <p:nvSpPr>
          <p:cNvPr id="6015"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X </a:t>
            </a:r>
            <a:r>
              <a:rPr b="0" lang="en-US" sz="1800" spc="-1" strike="noStrike">
                <a:solidFill>
                  <a:srgbClr val="ffff00"/>
                </a:solidFill>
                <a:latin typeface="Times New Roman"/>
                <a:ea typeface="Times New Roman"/>
              </a:rPr>
              <a:t>(True geometric counterpart</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of datum feature X simulated by surface plate)</a:t>
            </a:r>
            <a:endParaRPr b="0" lang="en-US" sz="1800" spc="-1" strike="noStrike">
              <a:solidFill>
                <a:srgbClr val="000000"/>
              </a:solidFill>
              <a:latin typeface="Arial"/>
            </a:endParaRPr>
          </a:p>
        </p:txBody>
      </p:sp>
      <p:sp>
        <p:nvSpPr>
          <p:cNvPr id="6016"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6017"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18" name=""/>
          <p:cNvSpPr/>
          <p:nvPr/>
        </p:nvSpPr>
        <p:spPr>
          <a:xfrm>
            <a:off x="5362560" y="5519880"/>
            <a:ext cx="763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19" name=""/>
          <p:cNvSpPr/>
          <p:nvPr/>
        </p:nvSpPr>
        <p:spPr>
          <a:xfrm>
            <a:off x="5495760" y="5519880"/>
            <a:ext cx="669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20" name=""/>
          <p:cNvSpPr/>
          <p:nvPr/>
        </p:nvSpPr>
        <p:spPr>
          <a:xfrm>
            <a:off x="5643720" y="5519880"/>
            <a:ext cx="6379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21"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2"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3"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6024"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5"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6026"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6027"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8"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29"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0"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1"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2"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3"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4"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035"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6036"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6037"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6038"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9"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0"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1"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2"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3"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4"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5"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6"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7"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8"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6049"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050"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51"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2"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53"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4"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5"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56" name=""/>
          <p:cNvSpPr/>
          <p:nvPr/>
        </p:nvSpPr>
        <p:spPr>
          <a:xfrm>
            <a:off x="2824200" y="5519880"/>
            <a:ext cx="247644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057"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8"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59"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0" name=""/>
          <p:cNvSpPr txBox="1"/>
          <p:nvPr/>
        </p:nvSpPr>
        <p:spPr>
          <a:xfrm>
            <a:off x="90360" y="2716200"/>
            <a:ext cx="3670200" cy="131112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Least Material Condition</a:t>
            </a:r>
            <a:endParaRPr b="0" lang="en-US" sz="2000" spc="-1" strike="noStrike">
              <a:solidFill>
                <a:srgbClr val="000000"/>
              </a:solidFill>
              <a:latin typeface="Arial"/>
            </a:endParaRPr>
          </a:p>
          <a:p>
            <a:pPr algn="ctr">
              <a:lnSpc>
                <a:spcPct val="100000"/>
              </a:lnSpc>
            </a:pPr>
            <a:r>
              <a:rPr b="0" lang="en-US" sz="2000" spc="-1" strike="noStrike">
                <a:solidFill>
                  <a:srgbClr val="ffff00"/>
                </a:solidFill>
                <a:latin typeface="Times New Roman"/>
                <a:ea typeface="Times New Roman"/>
              </a:rPr>
              <a:t>(Simulated at Virtual Condition)</a:t>
            </a:r>
            <a:endParaRPr b="0" lang="en-US" sz="2000" spc="-1" strike="noStrike">
              <a:solidFill>
                <a:srgbClr val="000000"/>
              </a:solidFill>
              <a:latin typeface="Arial"/>
            </a:endParaRPr>
          </a:p>
        </p:txBody>
      </p:sp>
      <p:grpSp>
        <p:nvGrpSpPr>
          <p:cNvPr id="6061" name=""/>
          <p:cNvGrpSpPr/>
          <p:nvPr/>
        </p:nvGrpSpPr>
        <p:grpSpPr>
          <a:xfrm>
            <a:off x="461880" y="4011480"/>
            <a:ext cx="2822760" cy="366840"/>
            <a:chOff x="461880" y="4011480"/>
            <a:chExt cx="2822760" cy="366840"/>
          </a:xfrm>
        </p:grpSpPr>
        <p:sp>
          <p:nvSpPr>
            <p:cNvPr id="6062" name=""/>
            <p:cNvSpPr/>
            <p:nvPr/>
          </p:nvSpPr>
          <p:spPr>
            <a:xfrm>
              <a:off x="798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3" name=""/>
            <p:cNvSpPr/>
            <p:nvPr/>
          </p:nvSpPr>
          <p:spPr>
            <a:xfrm>
              <a:off x="1752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4" name=""/>
            <p:cNvSpPr/>
            <p:nvPr/>
          </p:nvSpPr>
          <p:spPr>
            <a:xfrm>
              <a:off x="461880" y="40114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065" name=""/>
            <p:cNvGrpSpPr/>
            <p:nvPr/>
          </p:nvGrpSpPr>
          <p:grpSpPr>
            <a:xfrm>
              <a:off x="525600" y="4076640"/>
              <a:ext cx="214200" cy="212760"/>
              <a:chOff x="525600" y="4076640"/>
              <a:chExt cx="214200" cy="212760"/>
            </a:xfrm>
          </p:grpSpPr>
          <p:sp>
            <p:nvSpPr>
              <p:cNvPr id="6066" name=""/>
              <p:cNvSpPr/>
              <p:nvPr/>
            </p:nvSpPr>
            <p:spPr>
              <a:xfrm>
                <a:off x="525600" y="417996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7" name=""/>
              <p:cNvSpPr/>
              <p:nvPr/>
            </p:nvSpPr>
            <p:spPr>
              <a:xfrm>
                <a:off x="630360" y="40766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68" name=""/>
              <p:cNvSpPr/>
              <p:nvPr/>
            </p:nvSpPr>
            <p:spPr>
              <a:xfrm>
                <a:off x="546120" y="40971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069" name=""/>
            <p:cNvGrpSpPr/>
            <p:nvPr/>
          </p:nvGrpSpPr>
          <p:grpSpPr>
            <a:xfrm>
              <a:off x="852480" y="4084560"/>
              <a:ext cx="131760" cy="196920"/>
              <a:chOff x="852480" y="4084560"/>
              <a:chExt cx="131760" cy="196920"/>
            </a:xfrm>
          </p:grpSpPr>
          <p:sp>
            <p:nvSpPr>
              <p:cNvPr id="6070" name=""/>
              <p:cNvSpPr/>
              <p:nvPr/>
            </p:nvSpPr>
            <p:spPr>
              <a:xfrm flipV="1">
                <a:off x="860400" y="40845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1" name=""/>
              <p:cNvSpPr/>
              <p:nvPr/>
            </p:nvSpPr>
            <p:spPr>
              <a:xfrm>
                <a:off x="852480" y="41162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072" name=""/>
            <p:cNvSpPr txBox="1"/>
            <p:nvPr/>
          </p:nvSpPr>
          <p:spPr>
            <a:xfrm>
              <a:off x="984240" y="40356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6073" name=""/>
            <p:cNvSpPr/>
            <p:nvPr/>
          </p:nvSpPr>
          <p:spPr>
            <a:xfrm>
              <a:off x="1415880" y="405144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4" name=""/>
            <p:cNvSpPr txBox="1"/>
            <p:nvPr/>
          </p:nvSpPr>
          <p:spPr>
            <a:xfrm>
              <a:off x="1387440" y="40273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075" name=""/>
            <p:cNvSpPr txBox="1"/>
            <p:nvPr/>
          </p:nvSpPr>
          <p:spPr>
            <a:xfrm>
              <a:off x="1743120" y="4033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X</a:t>
              </a:r>
              <a:endParaRPr b="0" lang="en-US" sz="1600" spc="-1" strike="noStrike">
                <a:solidFill>
                  <a:srgbClr val="000000"/>
                </a:solidFill>
                <a:latin typeface="Arial"/>
              </a:endParaRPr>
            </a:p>
          </p:txBody>
        </p:sp>
        <p:sp>
          <p:nvSpPr>
            <p:cNvPr id="6076" name=""/>
            <p:cNvSpPr/>
            <p:nvPr/>
          </p:nvSpPr>
          <p:spPr>
            <a:xfrm>
              <a:off x="2108160" y="401328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77" name=""/>
            <p:cNvSpPr txBox="1"/>
            <p:nvPr/>
          </p:nvSpPr>
          <p:spPr>
            <a:xfrm>
              <a:off x="2075040" y="40305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Y</a:t>
              </a:r>
              <a:endParaRPr b="0" lang="en-US" sz="1600" spc="-1" strike="noStrike">
                <a:solidFill>
                  <a:srgbClr val="000000"/>
                </a:solidFill>
                <a:latin typeface="Arial"/>
              </a:endParaRPr>
            </a:p>
          </p:txBody>
        </p:sp>
        <p:sp>
          <p:nvSpPr>
            <p:cNvPr id="6078" name=""/>
            <p:cNvSpPr/>
            <p:nvPr/>
          </p:nvSpPr>
          <p:spPr>
            <a:xfrm>
              <a:off x="2324160" y="40575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9" name=""/>
            <p:cNvSpPr txBox="1"/>
            <p:nvPr/>
          </p:nvSpPr>
          <p:spPr>
            <a:xfrm>
              <a:off x="2297160" y="403380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080" name=""/>
            <p:cNvSpPr/>
            <p:nvPr/>
          </p:nvSpPr>
          <p:spPr>
            <a:xfrm>
              <a:off x="2682720" y="402120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1" name=""/>
            <p:cNvSpPr txBox="1"/>
            <p:nvPr/>
          </p:nvSpPr>
          <p:spPr>
            <a:xfrm>
              <a:off x="2644920" y="40417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Z</a:t>
              </a:r>
              <a:endParaRPr b="0" lang="en-US" sz="1600" spc="-1" strike="noStrike">
                <a:solidFill>
                  <a:srgbClr val="000000"/>
                </a:solidFill>
                <a:latin typeface="Arial"/>
              </a:endParaRPr>
            </a:p>
          </p:txBody>
        </p:sp>
        <p:sp>
          <p:nvSpPr>
            <p:cNvPr id="6082" name=""/>
            <p:cNvSpPr/>
            <p:nvPr/>
          </p:nvSpPr>
          <p:spPr>
            <a:xfrm>
              <a:off x="2911320" y="40622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83" name=""/>
            <p:cNvSpPr txBox="1"/>
            <p:nvPr/>
          </p:nvSpPr>
          <p:spPr>
            <a:xfrm>
              <a:off x="2890800" y="403848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8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85"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6"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7"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6088"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89"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6090"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1"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2"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6093" name=""/>
          <p:cNvSpPr/>
          <p:nvPr/>
        </p:nvSpPr>
        <p:spPr>
          <a:xfrm>
            <a:off x="3357720" y="4087800"/>
            <a:ext cx="9144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4" name=""/>
          <p:cNvSpPr/>
          <p:nvPr/>
        </p:nvSpPr>
        <p:spPr>
          <a:xfrm flipV="1">
            <a:off x="33526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5" name=""/>
          <p:cNvSpPr/>
          <p:nvPr/>
        </p:nvSpPr>
        <p:spPr>
          <a:xfrm flipV="1">
            <a:off x="427824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6"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7"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8"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99"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0"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6101"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2"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3"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4"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6105"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6"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6107"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8"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09"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0"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1"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2"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3"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4"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15"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6"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7"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8"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9"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0"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1"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6122"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3"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124"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25"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6126"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7"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8"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129"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6130"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131"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6132"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3"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4"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5" name=""/>
          <p:cNvSpPr/>
          <p:nvPr/>
        </p:nvSpPr>
        <p:spPr>
          <a:xfrm>
            <a:off x="3360600" y="1563840"/>
            <a:ext cx="912960" cy="912960"/>
          </a:xfrm>
          <a:prstGeom prst="ellipse">
            <a:avLst/>
          </a:prstGeom>
          <a:noFill/>
          <a:ln w="25560">
            <a:solidFill>
              <a:srgbClr val="fd0700"/>
            </a:solidFill>
            <a:custDash>
              <a:ds d="198592" sp="198592"/>
            </a:custDash>
            <a:round/>
          </a:ln>
        </p:spPr>
        <p:txBody>
          <a:bodyPr lIns="102600" rIns="102600" tIns="57600" bIns="57600" anchor="t">
            <a:noAutofit/>
          </a:bodyPr>
          <a:p>
            <a:endParaRPr b="0" lang="en-US" sz="1800" spc="-1" strike="noStrike">
              <a:solidFill>
                <a:srgbClr val="000000"/>
              </a:solidFill>
              <a:latin typeface="Arial"/>
            </a:endParaRPr>
          </a:p>
        </p:txBody>
      </p:sp>
      <p:sp>
        <p:nvSpPr>
          <p:cNvPr id="6136"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7"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38"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6139" name=""/>
          <p:cNvSpPr txBox="1"/>
          <p:nvPr/>
        </p:nvSpPr>
        <p:spPr>
          <a:xfrm>
            <a:off x="6415200" y="2806560"/>
            <a:ext cx="2390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Z</a:t>
            </a:r>
            <a:endParaRPr b="0" lang="en-US" sz="2000" spc="-1" strike="noStrike">
              <a:solidFill>
                <a:srgbClr val="000000"/>
              </a:solidFill>
              <a:latin typeface="Arial"/>
            </a:endParaRPr>
          </a:p>
        </p:txBody>
      </p:sp>
      <p:sp>
        <p:nvSpPr>
          <p:cNvPr id="6140" name=""/>
          <p:cNvSpPr txBox="1"/>
          <p:nvPr/>
        </p:nvSpPr>
        <p:spPr>
          <a:xfrm>
            <a:off x="4751280" y="332100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Y</a:t>
            </a:r>
            <a:endParaRPr b="0" lang="en-US" sz="2000" spc="-1" strike="noStrike">
              <a:solidFill>
                <a:srgbClr val="000000"/>
              </a:solidFill>
              <a:latin typeface="Arial"/>
            </a:endParaRPr>
          </a:p>
        </p:txBody>
      </p:sp>
      <p:sp>
        <p:nvSpPr>
          <p:cNvPr id="6141" name=""/>
          <p:cNvSpPr txBox="1"/>
          <p:nvPr/>
        </p:nvSpPr>
        <p:spPr>
          <a:xfrm>
            <a:off x="4479840" y="3917880"/>
            <a:ext cx="4506840" cy="91584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True geometric counterpart of datum feature Y</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LMC virtual condition cylinder perpendicular </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to datum plane X)</a:t>
            </a:r>
            <a:endParaRPr b="0" lang="en-US" sz="1800" spc="-1" strike="noStrike">
              <a:solidFill>
                <a:srgbClr val="000000"/>
              </a:solidFill>
              <a:latin typeface="Arial"/>
            </a:endParaRPr>
          </a:p>
        </p:txBody>
      </p:sp>
      <p:sp>
        <p:nvSpPr>
          <p:cNvPr id="6142"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X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X simulated by surface plate)</a:t>
            </a:r>
            <a:endParaRPr b="0" lang="en-US" sz="1800" spc="-1" strike="noStrike">
              <a:solidFill>
                <a:srgbClr val="000000"/>
              </a:solidFill>
              <a:latin typeface="Arial"/>
            </a:endParaRPr>
          </a:p>
        </p:txBody>
      </p:sp>
      <p:sp>
        <p:nvSpPr>
          <p:cNvPr id="6143"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6144"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5"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6"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7"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8"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49"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50"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6151" name=""/>
          <p:cNvGrpSpPr/>
          <p:nvPr/>
        </p:nvGrpSpPr>
        <p:grpSpPr>
          <a:xfrm>
            <a:off x="2824200" y="4629240"/>
            <a:ext cx="2476440" cy="890640"/>
            <a:chOff x="2824200" y="4629240"/>
            <a:chExt cx="2476440" cy="890640"/>
          </a:xfrm>
        </p:grpSpPr>
        <p:sp>
          <p:nvSpPr>
            <p:cNvPr id="6152"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3"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6154"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6155"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6"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7"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8"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59"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0"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1"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2"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163"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6164"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6165"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6166"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7"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8"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9"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0"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1"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2"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3"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4"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5"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76"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6177"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178"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79"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0"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1"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2"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3"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184"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85"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86" name=""/>
          <p:cNvSpPr/>
          <p:nvPr/>
        </p:nvSpPr>
        <p:spPr>
          <a:xfrm>
            <a:off x="3352680" y="5091120"/>
            <a:ext cx="0" cy="76320"/>
          </a:xfrm>
          <a:prstGeom prst="line">
            <a:avLst/>
          </a:prstGeom>
          <a:ln w="25560">
            <a:solidFill>
              <a:srgbClr val="fd0700"/>
            </a:solidFill>
            <a:round/>
          </a:ln>
        </p:spPr>
        <p:style>
          <a:lnRef idx="0"/>
          <a:fillRef idx="0"/>
          <a:effectRef idx="0"/>
          <a:fontRef idx="minor"/>
        </p:style>
        <p:txBody>
          <a:bodyPr lIns="102600" rIns="102600" tIns="18720" bIns="18720" anchor="t">
            <a:noAutofit/>
          </a:bodyPr>
          <a:p>
            <a:endParaRPr b="0" lang="en-US" sz="1800" spc="-1" strike="noStrike">
              <a:solidFill>
                <a:srgbClr val="000000"/>
              </a:solidFill>
              <a:latin typeface="Arial"/>
            </a:endParaRPr>
          </a:p>
        </p:txBody>
      </p:sp>
      <p:sp>
        <p:nvSpPr>
          <p:cNvPr id="6187" name=""/>
          <p:cNvSpPr/>
          <p:nvPr/>
        </p:nvSpPr>
        <p:spPr>
          <a:xfrm>
            <a:off x="3352680" y="521964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6188" name=""/>
          <p:cNvSpPr/>
          <p:nvPr/>
        </p:nvSpPr>
        <p:spPr>
          <a:xfrm>
            <a:off x="3352680" y="5372280"/>
            <a:ext cx="0" cy="13788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189" name=""/>
          <p:cNvSpPr/>
          <p:nvPr/>
        </p:nvSpPr>
        <p:spPr>
          <a:xfrm>
            <a:off x="4282920" y="5092560"/>
            <a:ext cx="0" cy="81000"/>
          </a:xfrm>
          <a:prstGeom prst="line">
            <a:avLst/>
          </a:prstGeom>
          <a:ln w="25560">
            <a:solidFill>
              <a:srgbClr val="fd0700"/>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6190" name=""/>
          <p:cNvSpPr/>
          <p:nvPr/>
        </p:nvSpPr>
        <p:spPr>
          <a:xfrm>
            <a:off x="4282920" y="523080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6191" name=""/>
          <p:cNvSpPr/>
          <p:nvPr/>
        </p:nvSpPr>
        <p:spPr>
          <a:xfrm>
            <a:off x="4281480" y="5407200"/>
            <a:ext cx="0" cy="104760"/>
          </a:xfrm>
          <a:prstGeom prst="line">
            <a:avLst/>
          </a:prstGeom>
          <a:ln w="25560">
            <a:solidFill>
              <a:srgbClr val="fd0700"/>
            </a:solidFill>
            <a:round/>
          </a:ln>
        </p:spPr>
        <p:style>
          <a:lnRef idx="0"/>
          <a:fillRef idx="0"/>
          <a:effectRef idx="0"/>
          <a:fontRef idx="minor"/>
        </p:style>
        <p:txBody>
          <a:bodyPr lIns="102600" rIns="102600" tIns="47160" bIns="47160" anchor="t">
            <a:noAutofit/>
          </a:bodyPr>
          <a:p>
            <a:endParaRPr b="0" lang="en-US" sz="1800" spc="-1" strike="noStrike">
              <a:solidFill>
                <a:srgbClr val="000000"/>
              </a:solidFill>
              <a:latin typeface="Arial"/>
            </a:endParaRPr>
          </a:p>
        </p:txBody>
      </p:sp>
      <p:sp>
        <p:nvSpPr>
          <p:cNvPr id="6192"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3"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4" name=""/>
          <p:cNvSpPr/>
          <p:nvPr/>
        </p:nvSpPr>
        <p:spPr>
          <a:xfrm>
            <a:off x="4286160" y="408636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5" name=""/>
          <p:cNvSpPr txBox="1"/>
          <p:nvPr/>
        </p:nvSpPr>
        <p:spPr>
          <a:xfrm>
            <a:off x="90360" y="2716200"/>
            <a:ext cx="3670200" cy="131112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Least Material Condition</a:t>
            </a:r>
            <a:endParaRPr b="0" lang="en-US" sz="2000" spc="-1" strike="noStrike">
              <a:solidFill>
                <a:srgbClr val="000000"/>
              </a:solidFill>
              <a:latin typeface="Arial"/>
            </a:endParaRPr>
          </a:p>
          <a:p>
            <a:pPr algn="ctr">
              <a:lnSpc>
                <a:spcPct val="100000"/>
              </a:lnSpc>
            </a:pPr>
            <a:r>
              <a:rPr b="0" lang="en-US" sz="2000" spc="-1" strike="noStrike">
                <a:solidFill>
                  <a:srgbClr val="ffff00"/>
                </a:solidFill>
                <a:latin typeface="Times New Roman"/>
                <a:ea typeface="Times New Roman"/>
              </a:rPr>
              <a:t>(Simulated at Virtual Condition)</a:t>
            </a:r>
            <a:endParaRPr b="0" lang="en-US" sz="2000" spc="-1" strike="noStrike">
              <a:solidFill>
                <a:srgbClr val="000000"/>
              </a:solidFill>
              <a:latin typeface="Arial"/>
            </a:endParaRPr>
          </a:p>
        </p:txBody>
      </p:sp>
      <p:grpSp>
        <p:nvGrpSpPr>
          <p:cNvPr id="6196" name=""/>
          <p:cNvGrpSpPr/>
          <p:nvPr/>
        </p:nvGrpSpPr>
        <p:grpSpPr>
          <a:xfrm>
            <a:off x="461880" y="4011480"/>
            <a:ext cx="2822760" cy="366840"/>
            <a:chOff x="461880" y="4011480"/>
            <a:chExt cx="2822760" cy="366840"/>
          </a:xfrm>
        </p:grpSpPr>
        <p:sp>
          <p:nvSpPr>
            <p:cNvPr id="6197" name=""/>
            <p:cNvSpPr/>
            <p:nvPr/>
          </p:nvSpPr>
          <p:spPr>
            <a:xfrm>
              <a:off x="798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8" name=""/>
            <p:cNvSpPr/>
            <p:nvPr/>
          </p:nvSpPr>
          <p:spPr>
            <a:xfrm>
              <a:off x="1752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9" name=""/>
            <p:cNvSpPr/>
            <p:nvPr/>
          </p:nvSpPr>
          <p:spPr>
            <a:xfrm>
              <a:off x="461880" y="40114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200" name=""/>
            <p:cNvGrpSpPr/>
            <p:nvPr/>
          </p:nvGrpSpPr>
          <p:grpSpPr>
            <a:xfrm>
              <a:off x="525600" y="4076640"/>
              <a:ext cx="214200" cy="212760"/>
              <a:chOff x="525600" y="4076640"/>
              <a:chExt cx="214200" cy="212760"/>
            </a:xfrm>
          </p:grpSpPr>
          <p:sp>
            <p:nvSpPr>
              <p:cNvPr id="6201" name=""/>
              <p:cNvSpPr/>
              <p:nvPr/>
            </p:nvSpPr>
            <p:spPr>
              <a:xfrm>
                <a:off x="525600" y="417996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2" name=""/>
              <p:cNvSpPr/>
              <p:nvPr/>
            </p:nvSpPr>
            <p:spPr>
              <a:xfrm>
                <a:off x="630360" y="40766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3" name=""/>
              <p:cNvSpPr/>
              <p:nvPr/>
            </p:nvSpPr>
            <p:spPr>
              <a:xfrm>
                <a:off x="546120" y="40971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204" name=""/>
            <p:cNvGrpSpPr/>
            <p:nvPr/>
          </p:nvGrpSpPr>
          <p:grpSpPr>
            <a:xfrm>
              <a:off x="852480" y="4084560"/>
              <a:ext cx="131760" cy="196920"/>
              <a:chOff x="852480" y="4084560"/>
              <a:chExt cx="131760" cy="196920"/>
            </a:xfrm>
          </p:grpSpPr>
          <p:sp>
            <p:nvSpPr>
              <p:cNvPr id="6205" name=""/>
              <p:cNvSpPr/>
              <p:nvPr/>
            </p:nvSpPr>
            <p:spPr>
              <a:xfrm flipV="1">
                <a:off x="860400" y="40845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6" name=""/>
              <p:cNvSpPr/>
              <p:nvPr/>
            </p:nvSpPr>
            <p:spPr>
              <a:xfrm>
                <a:off x="852480" y="41162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207" name=""/>
            <p:cNvSpPr txBox="1"/>
            <p:nvPr/>
          </p:nvSpPr>
          <p:spPr>
            <a:xfrm>
              <a:off x="984240" y="40356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6208" name=""/>
            <p:cNvSpPr/>
            <p:nvPr/>
          </p:nvSpPr>
          <p:spPr>
            <a:xfrm>
              <a:off x="1415880" y="405144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09" name=""/>
            <p:cNvSpPr txBox="1"/>
            <p:nvPr/>
          </p:nvSpPr>
          <p:spPr>
            <a:xfrm>
              <a:off x="1387440" y="40273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210" name=""/>
            <p:cNvSpPr txBox="1"/>
            <p:nvPr/>
          </p:nvSpPr>
          <p:spPr>
            <a:xfrm>
              <a:off x="1743120" y="4033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X</a:t>
              </a:r>
              <a:endParaRPr b="0" lang="en-US" sz="1600" spc="-1" strike="noStrike">
                <a:solidFill>
                  <a:srgbClr val="000000"/>
                </a:solidFill>
                <a:latin typeface="Arial"/>
              </a:endParaRPr>
            </a:p>
          </p:txBody>
        </p:sp>
        <p:sp>
          <p:nvSpPr>
            <p:cNvPr id="6211" name=""/>
            <p:cNvSpPr/>
            <p:nvPr/>
          </p:nvSpPr>
          <p:spPr>
            <a:xfrm>
              <a:off x="2108160" y="401328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2" name=""/>
            <p:cNvSpPr txBox="1"/>
            <p:nvPr/>
          </p:nvSpPr>
          <p:spPr>
            <a:xfrm>
              <a:off x="2075040" y="40305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Y</a:t>
              </a:r>
              <a:endParaRPr b="0" lang="en-US" sz="1600" spc="-1" strike="noStrike">
                <a:solidFill>
                  <a:srgbClr val="000000"/>
                </a:solidFill>
                <a:latin typeface="Arial"/>
              </a:endParaRPr>
            </a:p>
          </p:txBody>
        </p:sp>
        <p:sp>
          <p:nvSpPr>
            <p:cNvPr id="6213" name=""/>
            <p:cNvSpPr/>
            <p:nvPr/>
          </p:nvSpPr>
          <p:spPr>
            <a:xfrm>
              <a:off x="2324160" y="40575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4" name=""/>
            <p:cNvSpPr txBox="1"/>
            <p:nvPr/>
          </p:nvSpPr>
          <p:spPr>
            <a:xfrm>
              <a:off x="2297160" y="403380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215" name=""/>
            <p:cNvSpPr/>
            <p:nvPr/>
          </p:nvSpPr>
          <p:spPr>
            <a:xfrm>
              <a:off x="2682720" y="402120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6" name=""/>
            <p:cNvSpPr txBox="1"/>
            <p:nvPr/>
          </p:nvSpPr>
          <p:spPr>
            <a:xfrm>
              <a:off x="2644920" y="40417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Z</a:t>
              </a:r>
              <a:endParaRPr b="0" lang="en-US" sz="1600" spc="-1" strike="noStrike">
                <a:solidFill>
                  <a:srgbClr val="000000"/>
                </a:solidFill>
                <a:latin typeface="Arial"/>
              </a:endParaRPr>
            </a:p>
          </p:txBody>
        </p:sp>
        <p:sp>
          <p:nvSpPr>
            <p:cNvPr id="6217" name=""/>
            <p:cNvSpPr/>
            <p:nvPr/>
          </p:nvSpPr>
          <p:spPr>
            <a:xfrm>
              <a:off x="2911320" y="40622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18" name=""/>
            <p:cNvSpPr txBox="1"/>
            <p:nvPr/>
          </p:nvSpPr>
          <p:spPr>
            <a:xfrm>
              <a:off x="2890800" y="403848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20"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1"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2"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6223"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4"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6225"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6"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27"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6228" name=""/>
          <p:cNvSpPr/>
          <p:nvPr/>
        </p:nvSpPr>
        <p:spPr>
          <a:xfrm>
            <a:off x="3357720" y="4087800"/>
            <a:ext cx="9144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9" name=""/>
          <p:cNvSpPr/>
          <p:nvPr/>
        </p:nvSpPr>
        <p:spPr>
          <a:xfrm flipV="1">
            <a:off x="33526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0" name=""/>
          <p:cNvSpPr/>
          <p:nvPr/>
        </p:nvSpPr>
        <p:spPr>
          <a:xfrm flipV="1">
            <a:off x="427824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1"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2"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3"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4"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5"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6236"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7"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38"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39"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6240"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1"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6242"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3"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4"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5"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6"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47"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8" name=""/>
          <p:cNvSpPr/>
          <p:nvPr/>
        </p:nvSpPr>
        <p:spPr>
          <a:xfrm flipV="1">
            <a:off x="6032520" y="903240"/>
            <a:ext cx="0" cy="806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9"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0"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51"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2"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3"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4"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5" name=""/>
          <p:cNvSpPr/>
          <p:nvPr/>
        </p:nvSpPr>
        <p:spPr>
          <a:xfrm>
            <a:off x="5715000" y="2017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6"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7"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8"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6259"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0"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261"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62"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6263"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4"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5"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266"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6267"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268"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6269" name=""/>
          <p:cNvSpPr/>
          <p:nvPr/>
        </p:nvSpPr>
        <p:spPr>
          <a:xfrm>
            <a:off x="5689440" y="233028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0" name=""/>
          <p:cNvSpPr/>
          <p:nvPr/>
        </p:nvSpPr>
        <p:spPr>
          <a:xfrm>
            <a:off x="6032520" y="2338560"/>
            <a:ext cx="0" cy="272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271" name=""/>
          <p:cNvGrpSpPr/>
          <p:nvPr/>
        </p:nvGrpSpPr>
        <p:grpSpPr>
          <a:xfrm>
            <a:off x="4908600" y="1719360"/>
            <a:ext cx="690480" cy="609480"/>
            <a:chOff x="4908600" y="1719360"/>
            <a:chExt cx="690480" cy="609480"/>
          </a:xfrm>
        </p:grpSpPr>
        <p:sp>
          <p:nvSpPr>
            <p:cNvPr id="6272" name=""/>
            <p:cNvSpPr/>
            <p:nvPr/>
          </p:nvSpPr>
          <p:spPr>
            <a:xfrm flipH="1">
              <a:off x="5484960" y="1719360"/>
              <a:ext cx="1141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73" name=""/>
            <p:cNvSpPr/>
            <p:nvPr/>
          </p:nvSpPr>
          <p:spPr>
            <a:xfrm>
              <a:off x="5226120" y="1719360"/>
              <a:ext cx="201600" cy="0"/>
            </a:xfrm>
            <a:custGeom>
              <a:avLst/>
              <a:gdLst/>
              <a:ahLst/>
              <a:rect l="0" t="0" r="r" b="b"/>
              <a:pathLst>
                <a:path fill="none" w="560" h="0">
                  <a:moveTo>
                    <a:pt x="560" y="0"/>
                  </a:moveTo>
                  <a:lnTo>
                    <a:pt x="241" y="0"/>
                  </a:lnTo>
                  <a:lnTo>
                    <a:pt x="0" y="0"/>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74" name=""/>
            <p:cNvSpPr/>
            <p:nvPr/>
          </p:nvSpPr>
          <p:spPr>
            <a:xfrm flipH="1">
              <a:off x="5051520" y="1719360"/>
              <a:ext cx="1173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75" name=""/>
            <p:cNvSpPr/>
            <p:nvPr/>
          </p:nvSpPr>
          <p:spPr>
            <a:xfrm flipH="1">
              <a:off x="4908600" y="1719360"/>
              <a:ext cx="8568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76" name=""/>
            <p:cNvSpPr/>
            <p:nvPr/>
          </p:nvSpPr>
          <p:spPr>
            <a:xfrm flipH="1">
              <a:off x="5484960" y="2328840"/>
              <a:ext cx="11412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77" name=""/>
            <p:cNvSpPr/>
            <p:nvPr/>
          </p:nvSpPr>
          <p:spPr>
            <a:xfrm>
              <a:off x="5226120" y="2328840"/>
              <a:ext cx="201600" cy="0"/>
            </a:xfrm>
            <a:custGeom>
              <a:avLst/>
              <a:gdLst/>
              <a:ahLst/>
              <a:rect l="0" t="0" r="r" b="b"/>
              <a:pathLst>
                <a:path fill="none" w="560" h="0">
                  <a:moveTo>
                    <a:pt x="560" y="0"/>
                  </a:moveTo>
                  <a:lnTo>
                    <a:pt x="241" y="0"/>
                  </a:lnTo>
                  <a:lnTo>
                    <a:pt x="0" y="0"/>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278" name=""/>
            <p:cNvSpPr/>
            <p:nvPr/>
          </p:nvSpPr>
          <p:spPr>
            <a:xfrm flipH="1">
              <a:off x="5051520" y="2328840"/>
              <a:ext cx="1173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79" name=""/>
            <p:cNvSpPr/>
            <p:nvPr/>
          </p:nvSpPr>
          <p:spPr>
            <a:xfrm flipH="1">
              <a:off x="4908600" y="2328840"/>
              <a:ext cx="8568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80" name=""/>
            <p:cNvSpPr/>
            <p:nvPr/>
          </p:nvSpPr>
          <p:spPr>
            <a:xfrm>
              <a:off x="5599080" y="1719360"/>
              <a:ext cx="0" cy="14112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81" name=""/>
            <p:cNvSpPr/>
            <p:nvPr/>
          </p:nvSpPr>
          <p:spPr>
            <a:xfrm>
              <a:off x="5599080" y="1944720"/>
              <a:ext cx="0" cy="15876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282" name=""/>
            <p:cNvSpPr/>
            <p:nvPr/>
          </p:nvSpPr>
          <p:spPr>
            <a:xfrm>
              <a:off x="5599080" y="2182680"/>
              <a:ext cx="0" cy="14616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6283" name=""/>
          <p:cNvSpPr/>
          <p:nvPr/>
        </p:nvSpPr>
        <p:spPr>
          <a:xfrm>
            <a:off x="5689440" y="171756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4"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5"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6" name=""/>
          <p:cNvSpPr/>
          <p:nvPr/>
        </p:nvSpPr>
        <p:spPr>
          <a:xfrm>
            <a:off x="6032520" y="9032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7"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88" name=""/>
          <p:cNvSpPr/>
          <p:nvPr/>
        </p:nvSpPr>
        <p:spPr>
          <a:xfrm>
            <a:off x="3360600" y="1563840"/>
            <a:ext cx="912960" cy="912960"/>
          </a:xfrm>
          <a:prstGeom prst="ellipse">
            <a:avLst/>
          </a:prstGeom>
          <a:noFill/>
          <a:ln w="12600">
            <a:solidFill>
              <a:srgbClr val="fd07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6289"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90"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291" name=""/>
          <p:cNvSpPr txBox="1"/>
          <p:nvPr/>
        </p:nvSpPr>
        <p:spPr>
          <a:xfrm>
            <a:off x="6200640" y="695160"/>
            <a:ext cx="2882880" cy="173988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True geometric counterpart</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of datum feature Z (LMC</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virtual condition width (fixed</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gage) perpendicular to datum</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plane X.  Center plane </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aligned with datum axis Y)</a:t>
            </a:r>
            <a:endParaRPr b="0" lang="en-US" sz="1800" spc="-1" strike="noStrike">
              <a:solidFill>
                <a:srgbClr val="000000"/>
              </a:solidFill>
              <a:latin typeface="Arial"/>
            </a:endParaRPr>
          </a:p>
        </p:txBody>
      </p:sp>
      <p:sp>
        <p:nvSpPr>
          <p:cNvPr id="6292"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6293" name=""/>
          <p:cNvSpPr txBox="1"/>
          <p:nvPr/>
        </p:nvSpPr>
        <p:spPr>
          <a:xfrm>
            <a:off x="6415200" y="2806560"/>
            <a:ext cx="2390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Z</a:t>
            </a:r>
            <a:endParaRPr b="0" lang="en-US" sz="2000" spc="-1" strike="noStrike">
              <a:solidFill>
                <a:srgbClr val="000000"/>
              </a:solidFill>
              <a:latin typeface="Arial"/>
            </a:endParaRPr>
          </a:p>
        </p:txBody>
      </p:sp>
      <p:sp>
        <p:nvSpPr>
          <p:cNvPr id="6294" name=""/>
          <p:cNvSpPr txBox="1"/>
          <p:nvPr/>
        </p:nvSpPr>
        <p:spPr>
          <a:xfrm>
            <a:off x="4751280" y="332100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Y</a:t>
            </a:r>
            <a:endParaRPr b="0" lang="en-US" sz="2000" spc="-1" strike="noStrike">
              <a:solidFill>
                <a:srgbClr val="000000"/>
              </a:solidFill>
              <a:latin typeface="Arial"/>
            </a:endParaRPr>
          </a:p>
        </p:txBody>
      </p:sp>
      <p:sp>
        <p:nvSpPr>
          <p:cNvPr id="6295" name=""/>
          <p:cNvSpPr txBox="1"/>
          <p:nvPr/>
        </p:nvSpPr>
        <p:spPr>
          <a:xfrm>
            <a:off x="4479840" y="3917880"/>
            <a:ext cx="450684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 of datum feature Y</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MC virtual condition cylinder perpendicular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o datum plane X)</a:t>
            </a:r>
            <a:endParaRPr b="0" lang="en-US" sz="1800" spc="-1" strike="noStrike">
              <a:solidFill>
                <a:srgbClr val="000000"/>
              </a:solidFill>
              <a:latin typeface="Arial"/>
            </a:endParaRPr>
          </a:p>
        </p:txBody>
      </p:sp>
      <p:sp>
        <p:nvSpPr>
          <p:cNvPr id="6296"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X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X simulated by surface plate)</a:t>
            </a:r>
            <a:endParaRPr b="0" lang="en-US" sz="1800" spc="-1" strike="noStrike">
              <a:solidFill>
                <a:srgbClr val="000000"/>
              </a:solidFill>
              <a:latin typeface="Arial"/>
            </a:endParaRPr>
          </a:p>
        </p:txBody>
      </p:sp>
      <p:sp>
        <p:nvSpPr>
          <p:cNvPr id="6297"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6298"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9"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0"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1"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2"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03"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04"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6305" name=""/>
          <p:cNvGrpSpPr/>
          <p:nvPr/>
        </p:nvGrpSpPr>
        <p:grpSpPr>
          <a:xfrm>
            <a:off x="2824200" y="4629240"/>
            <a:ext cx="2476440" cy="890640"/>
            <a:chOff x="2824200" y="4629240"/>
            <a:chExt cx="2476440" cy="890640"/>
          </a:xfrm>
        </p:grpSpPr>
        <p:sp>
          <p:nvSpPr>
            <p:cNvPr id="6306"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7"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6308"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6309"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0"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1"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2"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3"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4"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5"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6"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317"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6318"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6319"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6320"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1"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2"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3"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4"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5"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6"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7"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8"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9"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0"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6331"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332"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3"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4"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5"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6"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37"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38"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39"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0" name=""/>
          <p:cNvSpPr/>
          <p:nvPr/>
        </p:nvSpPr>
        <p:spPr>
          <a:xfrm>
            <a:off x="3352680" y="5091120"/>
            <a:ext cx="0" cy="76320"/>
          </a:xfrm>
          <a:prstGeom prst="line">
            <a:avLst/>
          </a:prstGeom>
          <a:ln w="12600">
            <a:solidFill>
              <a:srgbClr val="fd07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341" name=""/>
          <p:cNvSpPr/>
          <p:nvPr/>
        </p:nvSpPr>
        <p:spPr>
          <a:xfrm>
            <a:off x="3352680" y="521964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2" name=""/>
          <p:cNvSpPr/>
          <p:nvPr/>
        </p:nvSpPr>
        <p:spPr>
          <a:xfrm>
            <a:off x="3352680" y="5372280"/>
            <a:ext cx="0" cy="13788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3" name=""/>
          <p:cNvSpPr/>
          <p:nvPr/>
        </p:nvSpPr>
        <p:spPr>
          <a:xfrm>
            <a:off x="4282920" y="5092560"/>
            <a:ext cx="0" cy="81000"/>
          </a:xfrm>
          <a:prstGeom prst="line">
            <a:avLst/>
          </a:prstGeom>
          <a:ln w="12600">
            <a:solidFill>
              <a:srgbClr val="fd07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344" name=""/>
          <p:cNvSpPr/>
          <p:nvPr/>
        </p:nvSpPr>
        <p:spPr>
          <a:xfrm>
            <a:off x="4282920" y="52308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5" name=""/>
          <p:cNvSpPr/>
          <p:nvPr/>
        </p:nvSpPr>
        <p:spPr>
          <a:xfrm>
            <a:off x="4281480" y="54072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6"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7"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8" name=""/>
          <p:cNvSpPr/>
          <p:nvPr/>
        </p:nvSpPr>
        <p:spPr>
          <a:xfrm>
            <a:off x="4286160" y="408636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9" name=""/>
          <p:cNvSpPr txBox="1"/>
          <p:nvPr/>
        </p:nvSpPr>
        <p:spPr>
          <a:xfrm>
            <a:off x="90360" y="2716200"/>
            <a:ext cx="3670200" cy="131112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Least Material Condition</a:t>
            </a:r>
            <a:endParaRPr b="0" lang="en-US" sz="2000" spc="-1" strike="noStrike">
              <a:solidFill>
                <a:srgbClr val="000000"/>
              </a:solidFill>
              <a:latin typeface="Arial"/>
            </a:endParaRPr>
          </a:p>
          <a:p>
            <a:pPr algn="ctr">
              <a:lnSpc>
                <a:spcPct val="100000"/>
              </a:lnSpc>
            </a:pPr>
            <a:r>
              <a:rPr b="0" lang="en-US" sz="2000" spc="-1" strike="noStrike">
                <a:solidFill>
                  <a:srgbClr val="ffff00"/>
                </a:solidFill>
                <a:latin typeface="Times New Roman"/>
                <a:ea typeface="Times New Roman"/>
              </a:rPr>
              <a:t>(Simulated at Virtual Condition)</a:t>
            </a:r>
            <a:endParaRPr b="0" lang="en-US" sz="2000" spc="-1" strike="noStrike">
              <a:solidFill>
                <a:srgbClr val="000000"/>
              </a:solidFill>
              <a:latin typeface="Arial"/>
            </a:endParaRPr>
          </a:p>
        </p:txBody>
      </p:sp>
      <p:grpSp>
        <p:nvGrpSpPr>
          <p:cNvPr id="6350" name=""/>
          <p:cNvGrpSpPr/>
          <p:nvPr/>
        </p:nvGrpSpPr>
        <p:grpSpPr>
          <a:xfrm>
            <a:off x="461880" y="4011480"/>
            <a:ext cx="2822760" cy="366840"/>
            <a:chOff x="461880" y="4011480"/>
            <a:chExt cx="2822760" cy="366840"/>
          </a:xfrm>
        </p:grpSpPr>
        <p:sp>
          <p:nvSpPr>
            <p:cNvPr id="6351" name=""/>
            <p:cNvSpPr/>
            <p:nvPr/>
          </p:nvSpPr>
          <p:spPr>
            <a:xfrm>
              <a:off x="798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2" name=""/>
            <p:cNvSpPr/>
            <p:nvPr/>
          </p:nvSpPr>
          <p:spPr>
            <a:xfrm>
              <a:off x="1752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3" name=""/>
            <p:cNvSpPr/>
            <p:nvPr/>
          </p:nvSpPr>
          <p:spPr>
            <a:xfrm>
              <a:off x="461880" y="40114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54" name=""/>
            <p:cNvGrpSpPr/>
            <p:nvPr/>
          </p:nvGrpSpPr>
          <p:grpSpPr>
            <a:xfrm>
              <a:off x="525600" y="4076640"/>
              <a:ext cx="214200" cy="212760"/>
              <a:chOff x="525600" y="4076640"/>
              <a:chExt cx="214200" cy="212760"/>
            </a:xfrm>
          </p:grpSpPr>
          <p:sp>
            <p:nvSpPr>
              <p:cNvPr id="6355" name=""/>
              <p:cNvSpPr/>
              <p:nvPr/>
            </p:nvSpPr>
            <p:spPr>
              <a:xfrm>
                <a:off x="525600" y="417996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6" name=""/>
              <p:cNvSpPr/>
              <p:nvPr/>
            </p:nvSpPr>
            <p:spPr>
              <a:xfrm>
                <a:off x="630360" y="40766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7" name=""/>
              <p:cNvSpPr/>
              <p:nvPr/>
            </p:nvSpPr>
            <p:spPr>
              <a:xfrm>
                <a:off x="546120" y="40971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358" name=""/>
            <p:cNvGrpSpPr/>
            <p:nvPr/>
          </p:nvGrpSpPr>
          <p:grpSpPr>
            <a:xfrm>
              <a:off x="852480" y="4084560"/>
              <a:ext cx="131760" cy="196920"/>
              <a:chOff x="852480" y="4084560"/>
              <a:chExt cx="131760" cy="196920"/>
            </a:xfrm>
          </p:grpSpPr>
          <p:sp>
            <p:nvSpPr>
              <p:cNvPr id="6359" name=""/>
              <p:cNvSpPr/>
              <p:nvPr/>
            </p:nvSpPr>
            <p:spPr>
              <a:xfrm flipV="1">
                <a:off x="860400" y="40845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0" name=""/>
              <p:cNvSpPr/>
              <p:nvPr/>
            </p:nvSpPr>
            <p:spPr>
              <a:xfrm>
                <a:off x="852480" y="41162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361" name=""/>
            <p:cNvSpPr txBox="1"/>
            <p:nvPr/>
          </p:nvSpPr>
          <p:spPr>
            <a:xfrm>
              <a:off x="984240" y="40356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6362" name=""/>
            <p:cNvSpPr/>
            <p:nvPr/>
          </p:nvSpPr>
          <p:spPr>
            <a:xfrm>
              <a:off x="1415880" y="405144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3" name=""/>
            <p:cNvSpPr txBox="1"/>
            <p:nvPr/>
          </p:nvSpPr>
          <p:spPr>
            <a:xfrm>
              <a:off x="1387440" y="40273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364" name=""/>
            <p:cNvSpPr txBox="1"/>
            <p:nvPr/>
          </p:nvSpPr>
          <p:spPr>
            <a:xfrm>
              <a:off x="1743120" y="4033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X</a:t>
              </a:r>
              <a:endParaRPr b="0" lang="en-US" sz="1600" spc="-1" strike="noStrike">
                <a:solidFill>
                  <a:srgbClr val="000000"/>
                </a:solidFill>
                <a:latin typeface="Arial"/>
              </a:endParaRPr>
            </a:p>
          </p:txBody>
        </p:sp>
        <p:sp>
          <p:nvSpPr>
            <p:cNvPr id="6365" name=""/>
            <p:cNvSpPr/>
            <p:nvPr/>
          </p:nvSpPr>
          <p:spPr>
            <a:xfrm>
              <a:off x="2108160" y="401328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66" name=""/>
            <p:cNvSpPr txBox="1"/>
            <p:nvPr/>
          </p:nvSpPr>
          <p:spPr>
            <a:xfrm>
              <a:off x="2075040" y="40305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Y</a:t>
              </a:r>
              <a:endParaRPr b="0" lang="en-US" sz="1600" spc="-1" strike="noStrike">
                <a:solidFill>
                  <a:srgbClr val="000000"/>
                </a:solidFill>
                <a:latin typeface="Arial"/>
              </a:endParaRPr>
            </a:p>
          </p:txBody>
        </p:sp>
        <p:sp>
          <p:nvSpPr>
            <p:cNvPr id="6367" name=""/>
            <p:cNvSpPr/>
            <p:nvPr/>
          </p:nvSpPr>
          <p:spPr>
            <a:xfrm>
              <a:off x="2324160" y="40575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68" name=""/>
            <p:cNvSpPr txBox="1"/>
            <p:nvPr/>
          </p:nvSpPr>
          <p:spPr>
            <a:xfrm>
              <a:off x="2297160" y="403380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369" name=""/>
            <p:cNvSpPr/>
            <p:nvPr/>
          </p:nvSpPr>
          <p:spPr>
            <a:xfrm>
              <a:off x="2682720" y="402120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0" name=""/>
            <p:cNvSpPr txBox="1"/>
            <p:nvPr/>
          </p:nvSpPr>
          <p:spPr>
            <a:xfrm>
              <a:off x="2644920" y="40417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Z</a:t>
              </a:r>
              <a:endParaRPr b="0" lang="en-US" sz="1600" spc="-1" strike="noStrike">
                <a:solidFill>
                  <a:srgbClr val="000000"/>
                </a:solidFill>
                <a:latin typeface="Arial"/>
              </a:endParaRPr>
            </a:p>
          </p:txBody>
        </p:sp>
        <p:sp>
          <p:nvSpPr>
            <p:cNvPr id="6371" name=""/>
            <p:cNvSpPr/>
            <p:nvPr/>
          </p:nvSpPr>
          <p:spPr>
            <a:xfrm>
              <a:off x="2911320" y="40622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72" name=""/>
            <p:cNvSpPr txBox="1"/>
            <p:nvPr/>
          </p:nvSpPr>
          <p:spPr>
            <a:xfrm>
              <a:off x="2890800" y="403848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374" name=""/>
          <p:cNvSpPr/>
          <p:nvPr/>
        </p:nvSpPr>
        <p:spPr>
          <a:xfrm>
            <a:off x="3814920" y="6086520"/>
            <a:ext cx="0" cy="31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5" name=""/>
          <p:cNvSpPr/>
          <p:nvPr/>
        </p:nvSpPr>
        <p:spPr>
          <a:xfrm>
            <a:off x="3152880" y="5713560"/>
            <a:ext cx="66960" cy="162360"/>
          </a:xfrm>
          <a:custGeom>
            <a:avLst/>
            <a:gdLst/>
            <a:ahLst/>
            <a:rect l="0" t="0" r="r" b="b"/>
            <a:pathLst>
              <a:path fill="none" w="186" h="451">
                <a:moveTo>
                  <a:pt x="0" y="0"/>
                </a:moveTo>
                <a:lnTo>
                  <a:pt x="9" y="34"/>
                </a:lnTo>
                <a:lnTo>
                  <a:pt x="24" y="64"/>
                </a:lnTo>
                <a:lnTo>
                  <a:pt x="29" y="98"/>
                </a:lnTo>
                <a:lnTo>
                  <a:pt x="38" y="134"/>
                </a:lnTo>
                <a:lnTo>
                  <a:pt x="48" y="169"/>
                </a:lnTo>
                <a:lnTo>
                  <a:pt x="68" y="193"/>
                </a:lnTo>
                <a:lnTo>
                  <a:pt x="77" y="228"/>
                </a:lnTo>
                <a:lnTo>
                  <a:pt x="87" y="262"/>
                </a:lnTo>
                <a:lnTo>
                  <a:pt x="108" y="297"/>
                </a:lnTo>
                <a:lnTo>
                  <a:pt x="117" y="322"/>
                </a:lnTo>
                <a:lnTo>
                  <a:pt x="137" y="357"/>
                </a:lnTo>
                <a:lnTo>
                  <a:pt x="152" y="392"/>
                </a:lnTo>
                <a:lnTo>
                  <a:pt x="171" y="417"/>
                </a:lnTo>
                <a:lnTo>
                  <a:pt x="186" y="4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76" name=""/>
          <p:cNvSpPr/>
          <p:nvPr/>
        </p:nvSpPr>
        <p:spPr>
          <a:xfrm>
            <a:off x="3548160" y="6172200"/>
            <a:ext cx="93960" cy="30600"/>
          </a:xfrm>
          <a:custGeom>
            <a:avLst/>
            <a:gdLst/>
            <a:ahLst/>
            <a:rect l="0" t="0" r="r" b="b"/>
            <a:pathLst>
              <a:path fill="none" w="261" h="85">
                <a:moveTo>
                  <a:pt x="0" y="0"/>
                </a:moveTo>
                <a:lnTo>
                  <a:pt x="35" y="9"/>
                </a:lnTo>
                <a:lnTo>
                  <a:pt x="70" y="25"/>
                </a:lnTo>
                <a:lnTo>
                  <a:pt x="95" y="35"/>
                </a:lnTo>
                <a:lnTo>
                  <a:pt x="131" y="45"/>
                </a:lnTo>
                <a:lnTo>
                  <a:pt x="166" y="55"/>
                </a:lnTo>
                <a:lnTo>
                  <a:pt x="201" y="70"/>
                </a:lnTo>
                <a:lnTo>
                  <a:pt x="226" y="75"/>
                </a:lnTo>
                <a:lnTo>
                  <a:pt x="261" y="85"/>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6377" name=""/>
          <p:cNvSpPr/>
          <p:nvPr/>
        </p:nvSpPr>
        <p:spPr>
          <a:xfrm>
            <a:off x="3125880" y="5540400"/>
            <a:ext cx="57600" cy="178200"/>
          </a:xfrm>
          <a:custGeom>
            <a:avLst/>
            <a:gdLst/>
            <a:ahLst/>
            <a:rect l="0" t="0" r="r" b="b"/>
            <a:pathLst>
              <a:path w="160" h="495">
                <a:moveTo>
                  <a:pt x="0" y="495"/>
                </a:moveTo>
                <a:lnTo>
                  <a:pt x="160" y="475"/>
                </a:lnTo>
                <a:lnTo>
                  <a:pt x="14" y="0"/>
                </a:lnTo>
                <a:lnTo>
                  <a:pt x="0" y="49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78" name=""/>
          <p:cNvSpPr/>
          <p:nvPr/>
        </p:nvSpPr>
        <p:spPr>
          <a:xfrm>
            <a:off x="3639960" y="6173640"/>
            <a:ext cx="174960" cy="55800"/>
          </a:xfrm>
          <a:custGeom>
            <a:avLst/>
            <a:gdLst/>
            <a:ahLst/>
            <a:rect l="0" t="0" r="r" b="b"/>
            <a:pathLst>
              <a:path w="486" h="155">
                <a:moveTo>
                  <a:pt x="15" y="0"/>
                </a:moveTo>
                <a:lnTo>
                  <a:pt x="0" y="155"/>
                </a:lnTo>
                <a:lnTo>
                  <a:pt x="486" y="140"/>
                </a:lnTo>
                <a:lnTo>
                  <a:pt x="15" y="0"/>
                </a:lnTo>
                <a:close/>
              </a:path>
            </a:pathLst>
          </a:custGeom>
          <a:solidFill>
            <a:srgbClr val="ffffff"/>
          </a:solidFill>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6379" name=""/>
          <p:cNvSpPr/>
          <p:nvPr/>
        </p:nvSpPr>
        <p:spPr>
          <a:xfrm>
            <a:off x="3200400" y="5964120"/>
            <a:ext cx="81360" cy="120960"/>
          </a:xfrm>
          <a:custGeom>
            <a:avLst/>
            <a:gdLst/>
            <a:ahLst/>
            <a:rect l="0" t="0" r="r" b="b"/>
            <a:pathLst>
              <a:path fill="none" w="226" h="336">
                <a:moveTo>
                  <a:pt x="49" y="336"/>
                </a:moveTo>
                <a:lnTo>
                  <a:pt x="110" y="336"/>
                </a:lnTo>
                <a:lnTo>
                  <a:pt x="226" y="226"/>
                </a:lnTo>
                <a:lnTo>
                  <a:pt x="226" y="55"/>
                </a:lnTo>
                <a:lnTo>
                  <a:pt x="165" y="0"/>
                </a:lnTo>
                <a:lnTo>
                  <a:pt x="49" y="0"/>
                </a:lnTo>
                <a:lnTo>
                  <a:pt x="0" y="55"/>
                </a:lnTo>
                <a:lnTo>
                  <a:pt x="0" y="110"/>
                </a:lnTo>
                <a:lnTo>
                  <a:pt x="49" y="171"/>
                </a:lnTo>
                <a:lnTo>
                  <a:pt x="226" y="1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0" name=""/>
          <p:cNvSpPr/>
          <p:nvPr/>
        </p:nvSpPr>
        <p:spPr>
          <a:xfrm>
            <a:off x="3321000" y="5964120"/>
            <a:ext cx="60840" cy="120960"/>
          </a:xfrm>
          <a:custGeom>
            <a:avLst/>
            <a:gdLst/>
            <a:ahLst/>
            <a:rect l="0" t="0" r="r" b="b"/>
            <a:pathLst>
              <a:path fill="none" w="169" h="336">
                <a:moveTo>
                  <a:pt x="55" y="336"/>
                </a:moveTo>
                <a:lnTo>
                  <a:pt x="0" y="281"/>
                </a:lnTo>
                <a:lnTo>
                  <a:pt x="0" y="55"/>
                </a:lnTo>
                <a:lnTo>
                  <a:pt x="55" y="0"/>
                </a:lnTo>
                <a:lnTo>
                  <a:pt x="114" y="0"/>
                </a:lnTo>
                <a:lnTo>
                  <a:pt x="169" y="55"/>
                </a:lnTo>
                <a:lnTo>
                  <a:pt x="169" y="281"/>
                </a:lnTo>
                <a:lnTo>
                  <a:pt x="114" y="336"/>
                </a:lnTo>
                <a:lnTo>
                  <a:pt x="55" y="3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1" name=""/>
          <p:cNvSpPr/>
          <p:nvPr/>
        </p:nvSpPr>
        <p:spPr>
          <a:xfrm>
            <a:off x="3422520" y="5964120"/>
            <a:ext cx="39960" cy="38520"/>
          </a:xfrm>
          <a:custGeom>
            <a:avLst/>
            <a:gdLst/>
            <a:ahLst/>
            <a:rect l="0" t="0" r="r" b="b"/>
            <a:pathLst>
              <a:path fill="none" w="111" h="107">
                <a:moveTo>
                  <a:pt x="0" y="53"/>
                </a:moveTo>
                <a:lnTo>
                  <a:pt x="56" y="0"/>
                </a:lnTo>
                <a:lnTo>
                  <a:pt x="111" y="53"/>
                </a:lnTo>
                <a:lnTo>
                  <a:pt x="56" y="107"/>
                </a:lnTo>
                <a:lnTo>
                  <a:pt x="0" y="53"/>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6382" name=""/>
          <p:cNvSpPr/>
          <p:nvPr/>
        </p:nvSpPr>
        <p:spPr>
          <a:xfrm>
            <a:off x="3357720" y="4087800"/>
            <a:ext cx="91440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3" name=""/>
          <p:cNvSpPr/>
          <p:nvPr/>
        </p:nvSpPr>
        <p:spPr>
          <a:xfrm flipV="1">
            <a:off x="335268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4" name=""/>
          <p:cNvSpPr/>
          <p:nvPr/>
        </p:nvSpPr>
        <p:spPr>
          <a:xfrm flipV="1">
            <a:off x="4278240" y="3911760"/>
            <a:ext cx="0" cy="11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5"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6" name=""/>
          <p:cNvSpPr/>
          <p:nvPr/>
        </p:nvSpPr>
        <p:spPr>
          <a:xfrm>
            <a:off x="3814920" y="551016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7" name=""/>
          <p:cNvSpPr/>
          <p:nvPr/>
        </p:nvSpPr>
        <p:spPr>
          <a:xfrm>
            <a:off x="4510080" y="5540400"/>
            <a:ext cx="111600" cy="165600"/>
          </a:xfrm>
          <a:custGeom>
            <a:avLst/>
            <a:gdLst/>
            <a:ahLst/>
            <a:rect l="0" t="0" r="r" b="b"/>
            <a:pathLst>
              <a:path w="310" h="460">
                <a:moveTo>
                  <a:pt x="0" y="380"/>
                </a:moveTo>
                <a:lnTo>
                  <a:pt x="310" y="0"/>
                </a:lnTo>
                <a:lnTo>
                  <a:pt x="140" y="460"/>
                </a:lnTo>
                <a:lnTo>
                  <a:pt x="0" y="38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8" name=""/>
          <p:cNvSpPr/>
          <p:nvPr/>
        </p:nvSpPr>
        <p:spPr>
          <a:xfrm>
            <a:off x="4375080" y="5691240"/>
            <a:ext cx="157680" cy="278280"/>
          </a:xfrm>
          <a:custGeom>
            <a:avLst/>
            <a:gdLst/>
            <a:ahLst/>
            <a:rect l="0" t="0" r="r" b="b"/>
            <a:pathLst>
              <a:path fill="none" w="438" h="773">
                <a:moveTo>
                  <a:pt x="438" y="0"/>
                </a:moveTo>
                <a:lnTo>
                  <a:pt x="0" y="773"/>
                </a:lnTo>
                <a:lnTo>
                  <a:pt x="383" y="77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89" name=""/>
          <p:cNvSpPr/>
          <p:nvPr/>
        </p:nvSpPr>
        <p:spPr>
          <a:xfrm>
            <a:off x="4262400" y="2003400"/>
            <a:ext cx="180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6390" name=""/>
          <p:cNvSpPr/>
          <p:nvPr/>
        </p:nvSpPr>
        <p:spPr>
          <a:xfrm>
            <a:off x="3191040" y="647640"/>
            <a:ext cx="1578240" cy="2421360"/>
          </a:xfrm>
          <a:custGeom>
            <a:avLst/>
            <a:gdLst/>
            <a:ahLst/>
            <a:rect l="0" t="0" r="r" b="b"/>
            <a:pathLst>
              <a:path fill="none" w="4384" h="6726">
                <a:moveTo>
                  <a:pt x="2534" y="0"/>
                </a:moveTo>
                <a:lnTo>
                  <a:pt x="2230" y="333"/>
                </a:lnTo>
                <a:lnTo>
                  <a:pt x="2404" y="747"/>
                </a:lnTo>
                <a:lnTo>
                  <a:pt x="2129" y="1095"/>
                </a:lnTo>
                <a:lnTo>
                  <a:pt x="1186" y="1724"/>
                </a:lnTo>
                <a:lnTo>
                  <a:pt x="703" y="2277"/>
                </a:lnTo>
                <a:lnTo>
                  <a:pt x="528" y="2556"/>
                </a:lnTo>
                <a:lnTo>
                  <a:pt x="214" y="3144"/>
                </a:lnTo>
                <a:lnTo>
                  <a:pt x="179" y="4394"/>
                </a:lnTo>
                <a:lnTo>
                  <a:pt x="0" y="4987"/>
                </a:lnTo>
                <a:lnTo>
                  <a:pt x="628" y="5436"/>
                </a:lnTo>
                <a:lnTo>
                  <a:pt x="528" y="5860"/>
                </a:lnTo>
                <a:lnTo>
                  <a:pt x="1117" y="5889"/>
                </a:lnTo>
                <a:lnTo>
                  <a:pt x="1720" y="6193"/>
                </a:lnTo>
                <a:lnTo>
                  <a:pt x="2369" y="5959"/>
                </a:lnTo>
                <a:lnTo>
                  <a:pt x="2928" y="6622"/>
                </a:lnTo>
                <a:lnTo>
                  <a:pt x="2992" y="6726"/>
                </a:lnTo>
                <a:lnTo>
                  <a:pt x="3760" y="6447"/>
                </a:lnTo>
                <a:lnTo>
                  <a:pt x="4144" y="6652"/>
                </a:lnTo>
                <a:lnTo>
                  <a:pt x="4384" y="67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91" name=""/>
          <p:cNvSpPr/>
          <p:nvPr/>
        </p:nvSpPr>
        <p:spPr>
          <a:xfrm flipH="1">
            <a:off x="3260880" y="201780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92" name=""/>
          <p:cNvSpPr/>
          <p:nvPr/>
        </p:nvSpPr>
        <p:spPr>
          <a:xfrm>
            <a:off x="3807000" y="2614680"/>
            <a:ext cx="625680" cy="263880"/>
          </a:xfrm>
          <a:custGeom>
            <a:avLst/>
            <a:gdLst/>
            <a:ahLst/>
            <a:rect l="0" t="0" r="r" b="b"/>
            <a:pathLst>
              <a:path fill="none" w="1738" h="733">
                <a:moveTo>
                  <a:pt x="14" y="718"/>
                </a:moveTo>
                <a:lnTo>
                  <a:pt x="0" y="728"/>
                </a:lnTo>
                <a:lnTo>
                  <a:pt x="29" y="733"/>
                </a:lnTo>
                <a:lnTo>
                  <a:pt x="69" y="733"/>
                </a:lnTo>
                <a:lnTo>
                  <a:pt x="109" y="733"/>
                </a:lnTo>
                <a:lnTo>
                  <a:pt x="144" y="733"/>
                </a:lnTo>
                <a:lnTo>
                  <a:pt x="184" y="728"/>
                </a:lnTo>
                <a:lnTo>
                  <a:pt x="224" y="723"/>
                </a:lnTo>
                <a:lnTo>
                  <a:pt x="263" y="723"/>
                </a:lnTo>
                <a:lnTo>
                  <a:pt x="303" y="718"/>
                </a:lnTo>
                <a:lnTo>
                  <a:pt x="343" y="708"/>
                </a:lnTo>
                <a:lnTo>
                  <a:pt x="383" y="703"/>
                </a:lnTo>
                <a:lnTo>
                  <a:pt x="423" y="698"/>
                </a:lnTo>
                <a:lnTo>
                  <a:pt x="458" y="693"/>
                </a:lnTo>
                <a:lnTo>
                  <a:pt x="497" y="683"/>
                </a:lnTo>
                <a:lnTo>
                  <a:pt x="537" y="678"/>
                </a:lnTo>
                <a:lnTo>
                  <a:pt x="577" y="663"/>
                </a:lnTo>
                <a:lnTo>
                  <a:pt x="617" y="658"/>
                </a:lnTo>
                <a:lnTo>
                  <a:pt x="657" y="648"/>
                </a:lnTo>
                <a:lnTo>
                  <a:pt x="691" y="638"/>
                </a:lnTo>
                <a:lnTo>
                  <a:pt x="726" y="628"/>
                </a:lnTo>
                <a:lnTo>
                  <a:pt x="766" y="613"/>
                </a:lnTo>
                <a:lnTo>
                  <a:pt x="801" y="598"/>
                </a:lnTo>
                <a:lnTo>
                  <a:pt x="841" y="588"/>
                </a:lnTo>
                <a:lnTo>
                  <a:pt x="882" y="573"/>
                </a:lnTo>
                <a:lnTo>
                  <a:pt x="917" y="558"/>
                </a:lnTo>
                <a:lnTo>
                  <a:pt x="951" y="543"/>
                </a:lnTo>
                <a:lnTo>
                  <a:pt x="986" y="528"/>
                </a:lnTo>
                <a:lnTo>
                  <a:pt x="1026" y="513"/>
                </a:lnTo>
                <a:lnTo>
                  <a:pt x="1061" y="498"/>
                </a:lnTo>
                <a:lnTo>
                  <a:pt x="1096" y="474"/>
                </a:lnTo>
                <a:lnTo>
                  <a:pt x="1131" y="459"/>
                </a:lnTo>
                <a:lnTo>
                  <a:pt x="1165" y="439"/>
                </a:lnTo>
                <a:lnTo>
                  <a:pt x="1200" y="419"/>
                </a:lnTo>
                <a:lnTo>
                  <a:pt x="1235" y="399"/>
                </a:lnTo>
                <a:lnTo>
                  <a:pt x="1265" y="379"/>
                </a:lnTo>
                <a:lnTo>
                  <a:pt x="1300" y="358"/>
                </a:lnTo>
                <a:lnTo>
                  <a:pt x="1335" y="338"/>
                </a:lnTo>
                <a:lnTo>
                  <a:pt x="1370" y="313"/>
                </a:lnTo>
                <a:lnTo>
                  <a:pt x="1399" y="293"/>
                </a:lnTo>
                <a:lnTo>
                  <a:pt x="1429" y="268"/>
                </a:lnTo>
                <a:lnTo>
                  <a:pt x="1464" y="248"/>
                </a:lnTo>
                <a:lnTo>
                  <a:pt x="1499" y="219"/>
                </a:lnTo>
                <a:lnTo>
                  <a:pt x="1524" y="199"/>
                </a:lnTo>
                <a:lnTo>
                  <a:pt x="1554" y="169"/>
                </a:lnTo>
                <a:lnTo>
                  <a:pt x="1589" y="144"/>
                </a:lnTo>
                <a:lnTo>
                  <a:pt x="1613" y="119"/>
                </a:lnTo>
                <a:lnTo>
                  <a:pt x="1643" y="89"/>
                </a:lnTo>
                <a:lnTo>
                  <a:pt x="1668" y="69"/>
                </a:lnTo>
                <a:lnTo>
                  <a:pt x="1698" y="39"/>
                </a:lnTo>
                <a:lnTo>
                  <a:pt x="1728" y="9"/>
                </a:lnTo>
                <a:lnTo>
                  <a:pt x="173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93" name=""/>
          <p:cNvSpPr/>
          <p:nvPr/>
        </p:nvSpPr>
        <p:spPr>
          <a:xfrm>
            <a:off x="4510080" y="2421000"/>
            <a:ext cx="65520" cy="101880"/>
          </a:xfrm>
          <a:custGeom>
            <a:avLst/>
            <a:gdLst/>
            <a:ahLst/>
            <a:rect l="0" t="0" r="r" b="b"/>
            <a:pathLst>
              <a:path fill="none" w="182" h="283">
                <a:moveTo>
                  <a:pt x="0" y="283"/>
                </a:moveTo>
                <a:lnTo>
                  <a:pt x="5" y="278"/>
                </a:lnTo>
                <a:lnTo>
                  <a:pt x="30" y="243"/>
                </a:lnTo>
                <a:lnTo>
                  <a:pt x="51" y="208"/>
                </a:lnTo>
                <a:lnTo>
                  <a:pt x="76" y="179"/>
                </a:lnTo>
                <a:lnTo>
                  <a:pt x="96" y="144"/>
                </a:lnTo>
                <a:lnTo>
                  <a:pt x="121" y="113"/>
                </a:lnTo>
                <a:lnTo>
                  <a:pt x="137" y="79"/>
                </a:lnTo>
                <a:lnTo>
                  <a:pt x="162" y="39"/>
                </a:lnTo>
                <a:lnTo>
                  <a:pt x="177" y="4"/>
                </a:lnTo>
                <a:lnTo>
                  <a:pt x="182"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6394" name=""/>
          <p:cNvSpPr/>
          <p:nvPr/>
        </p:nvSpPr>
        <p:spPr>
          <a:xfrm>
            <a:off x="4619520" y="1717560"/>
            <a:ext cx="54360" cy="592560"/>
          </a:xfrm>
          <a:custGeom>
            <a:avLst/>
            <a:gdLst/>
            <a:ahLst/>
            <a:rect l="0" t="0" r="r" b="b"/>
            <a:pathLst>
              <a:path fill="none" w="151" h="1646">
                <a:moveTo>
                  <a:pt x="9" y="1646"/>
                </a:moveTo>
                <a:lnTo>
                  <a:pt x="14" y="1636"/>
                </a:lnTo>
                <a:lnTo>
                  <a:pt x="29" y="1596"/>
                </a:lnTo>
                <a:lnTo>
                  <a:pt x="40" y="1562"/>
                </a:lnTo>
                <a:lnTo>
                  <a:pt x="50" y="1522"/>
                </a:lnTo>
                <a:lnTo>
                  <a:pt x="60" y="1482"/>
                </a:lnTo>
                <a:lnTo>
                  <a:pt x="70" y="1447"/>
                </a:lnTo>
                <a:lnTo>
                  <a:pt x="85" y="1412"/>
                </a:lnTo>
                <a:lnTo>
                  <a:pt x="90" y="1372"/>
                </a:lnTo>
                <a:lnTo>
                  <a:pt x="100" y="1332"/>
                </a:lnTo>
                <a:lnTo>
                  <a:pt x="105" y="1292"/>
                </a:lnTo>
                <a:lnTo>
                  <a:pt x="116" y="1253"/>
                </a:lnTo>
                <a:lnTo>
                  <a:pt x="121" y="1217"/>
                </a:lnTo>
                <a:lnTo>
                  <a:pt x="131" y="1177"/>
                </a:lnTo>
                <a:lnTo>
                  <a:pt x="136" y="1137"/>
                </a:lnTo>
                <a:lnTo>
                  <a:pt x="141" y="1097"/>
                </a:lnTo>
                <a:lnTo>
                  <a:pt x="141" y="1057"/>
                </a:lnTo>
                <a:lnTo>
                  <a:pt x="146" y="1017"/>
                </a:lnTo>
                <a:lnTo>
                  <a:pt x="146" y="977"/>
                </a:lnTo>
                <a:lnTo>
                  <a:pt x="151" y="943"/>
                </a:lnTo>
                <a:lnTo>
                  <a:pt x="151" y="903"/>
                </a:lnTo>
                <a:lnTo>
                  <a:pt x="151" y="863"/>
                </a:lnTo>
                <a:lnTo>
                  <a:pt x="151" y="823"/>
                </a:lnTo>
                <a:lnTo>
                  <a:pt x="151" y="783"/>
                </a:lnTo>
                <a:lnTo>
                  <a:pt x="151" y="743"/>
                </a:lnTo>
                <a:lnTo>
                  <a:pt x="151" y="703"/>
                </a:lnTo>
                <a:lnTo>
                  <a:pt x="146" y="668"/>
                </a:lnTo>
                <a:lnTo>
                  <a:pt x="146" y="629"/>
                </a:lnTo>
                <a:lnTo>
                  <a:pt x="141" y="589"/>
                </a:lnTo>
                <a:lnTo>
                  <a:pt x="136" y="549"/>
                </a:lnTo>
                <a:lnTo>
                  <a:pt x="131" y="509"/>
                </a:lnTo>
                <a:lnTo>
                  <a:pt x="121" y="469"/>
                </a:lnTo>
                <a:lnTo>
                  <a:pt x="116" y="429"/>
                </a:lnTo>
                <a:lnTo>
                  <a:pt x="110" y="393"/>
                </a:lnTo>
                <a:lnTo>
                  <a:pt x="100" y="353"/>
                </a:lnTo>
                <a:lnTo>
                  <a:pt x="95" y="314"/>
                </a:lnTo>
                <a:lnTo>
                  <a:pt x="85" y="274"/>
                </a:lnTo>
                <a:lnTo>
                  <a:pt x="80" y="234"/>
                </a:lnTo>
                <a:lnTo>
                  <a:pt x="65" y="194"/>
                </a:lnTo>
                <a:lnTo>
                  <a:pt x="55" y="164"/>
                </a:lnTo>
                <a:lnTo>
                  <a:pt x="45" y="124"/>
                </a:lnTo>
                <a:lnTo>
                  <a:pt x="34" y="84"/>
                </a:lnTo>
                <a:lnTo>
                  <a:pt x="14" y="44"/>
                </a:lnTo>
                <a:lnTo>
                  <a:pt x="4"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95" name=""/>
          <p:cNvSpPr/>
          <p:nvPr/>
        </p:nvSpPr>
        <p:spPr>
          <a:xfrm>
            <a:off x="4503600" y="1504800"/>
            <a:ext cx="68760" cy="100440"/>
          </a:xfrm>
          <a:custGeom>
            <a:avLst/>
            <a:gdLst/>
            <a:ahLst/>
            <a:rect l="0" t="0" r="r" b="b"/>
            <a:pathLst>
              <a:path fill="none" w="191" h="279">
                <a:moveTo>
                  <a:pt x="191" y="279"/>
                </a:moveTo>
                <a:lnTo>
                  <a:pt x="186" y="269"/>
                </a:lnTo>
                <a:lnTo>
                  <a:pt x="160" y="235"/>
                </a:lnTo>
                <a:lnTo>
                  <a:pt x="145" y="204"/>
                </a:lnTo>
                <a:lnTo>
                  <a:pt x="123" y="169"/>
                </a:lnTo>
                <a:lnTo>
                  <a:pt x="98" y="134"/>
                </a:lnTo>
                <a:lnTo>
                  <a:pt x="82" y="105"/>
                </a:lnTo>
                <a:lnTo>
                  <a:pt x="57" y="69"/>
                </a:lnTo>
                <a:lnTo>
                  <a:pt x="35" y="39"/>
                </a:lnTo>
                <a:lnTo>
                  <a:pt x="10" y="9"/>
                </a:lnTo>
                <a:lnTo>
                  <a:pt x="0" y="0"/>
                </a:lnTo>
              </a:path>
            </a:pathLst>
          </a:custGeom>
          <a:ln w="12600">
            <a:solidFill>
              <a:srgbClr val="ffffff"/>
            </a:solidFill>
            <a:round/>
          </a:ln>
        </p:spPr>
        <p:txBody>
          <a:bodyPr lIns="96120" rIns="96120" tIns="49320" bIns="49320" anchor="t">
            <a:noAutofit/>
          </a:bodyPr>
          <a:p>
            <a:endParaRPr b="0" lang="en-US" sz="1800" spc="-1" strike="noStrike">
              <a:solidFill>
                <a:srgbClr val="000000"/>
              </a:solidFill>
              <a:latin typeface="Arial"/>
            </a:endParaRPr>
          </a:p>
        </p:txBody>
      </p:sp>
      <p:sp>
        <p:nvSpPr>
          <p:cNvPr id="6396" name=""/>
          <p:cNvSpPr/>
          <p:nvPr/>
        </p:nvSpPr>
        <p:spPr>
          <a:xfrm>
            <a:off x="3780000" y="1158840"/>
            <a:ext cx="648000" cy="254520"/>
          </a:xfrm>
          <a:custGeom>
            <a:avLst/>
            <a:gdLst/>
            <a:ahLst/>
            <a:rect l="0" t="0" r="r" b="b"/>
            <a:pathLst>
              <a:path fill="none" w="1800" h="707">
                <a:moveTo>
                  <a:pt x="1800" y="707"/>
                </a:moveTo>
                <a:lnTo>
                  <a:pt x="1790" y="697"/>
                </a:lnTo>
                <a:lnTo>
                  <a:pt x="1760" y="667"/>
                </a:lnTo>
                <a:lnTo>
                  <a:pt x="1735" y="647"/>
                </a:lnTo>
                <a:lnTo>
                  <a:pt x="1705" y="618"/>
                </a:lnTo>
                <a:lnTo>
                  <a:pt x="1675" y="593"/>
                </a:lnTo>
                <a:lnTo>
                  <a:pt x="1645" y="563"/>
                </a:lnTo>
                <a:lnTo>
                  <a:pt x="1615" y="538"/>
                </a:lnTo>
                <a:lnTo>
                  <a:pt x="1580" y="517"/>
                </a:lnTo>
                <a:lnTo>
                  <a:pt x="1555" y="487"/>
                </a:lnTo>
                <a:lnTo>
                  <a:pt x="1521" y="468"/>
                </a:lnTo>
                <a:lnTo>
                  <a:pt x="1491" y="443"/>
                </a:lnTo>
                <a:lnTo>
                  <a:pt x="1456" y="423"/>
                </a:lnTo>
                <a:lnTo>
                  <a:pt x="1426" y="403"/>
                </a:lnTo>
                <a:lnTo>
                  <a:pt x="1391" y="378"/>
                </a:lnTo>
                <a:lnTo>
                  <a:pt x="1356" y="358"/>
                </a:lnTo>
                <a:lnTo>
                  <a:pt x="1321" y="338"/>
                </a:lnTo>
                <a:lnTo>
                  <a:pt x="1291" y="318"/>
                </a:lnTo>
                <a:lnTo>
                  <a:pt x="1256" y="299"/>
                </a:lnTo>
                <a:lnTo>
                  <a:pt x="1222" y="279"/>
                </a:lnTo>
                <a:lnTo>
                  <a:pt x="1182" y="264"/>
                </a:lnTo>
                <a:lnTo>
                  <a:pt x="1152" y="244"/>
                </a:lnTo>
                <a:lnTo>
                  <a:pt x="1117" y="229"/>
                </a:lnTo>
                <a:lnTo>
                  <a:pt x="1077" y="209"/>
                </a:lnTo>
                <a:lnTo>
                  <a:pt x="1042" y="194"/>
                </a:lnTo>
                <a:lnTo>
                  <a:pt x="1002" y="179"/>
                </a:lnTo>
                <a:lnTo>
                  <a:pt x="972" y="158"/>
                </a:lnTo>
                <a:lnTo>
                  <a:pt x="932" y="149"/>
                </a:lnTo>
                <a:lnTo>
                  <a:pt x="897" y="139"/>
                </a:lnTo>
                <a:lnTo>
                  <a:pt x="857" y="124"/>
                </a:lnTo>
                <a:lnTo>
                  <a:pt x="817" y="109"/>
                </a:lnTo>
                <a:lnTo>
                  <a:pt x="782" y="99"/>
                </a:lnTo>
                <a:lnTo>
                  <a:pt x="747" y="89"/>
                </a:lnTo>
                <a:lnTo>
                  <a:pt x="707" y="79"/>
                </a:lnTo>
                <a:lnTo>
                  <a:pt x="667" y="64"/>
                </a:lnTo>
                <a:lnTo>
                  <a:pt x="627" y="59"/>
                </a:lnTo>
                <a:lnTo>
                  <a:pt x="593" y="49"/>
                </a:lnTo>
                <a:lnTo>
                  <a:pt x="553" y="44"/>
                </a:lnTo>
                <a:lnTo>
                  <a:pt x="513" y="39"/>
                </a:lnTo>
                <a:lnTo>
                  <a:pt x="478" y="29"/>
                </a:lnTo>
                <a:lnTo>
                  <a:pt x="438" y="19"/>
                </a:lnTo>
                <a:lnTo>
                  <a:pt x="398" y="19"/>
                </a:lnTo>
                <a:lnTo>
                  <a:pt x="358" y="14"/>
                </a:lnTo>
                <a:lnTo>
                  <a:pt x="318" y="9"/>
                </a:lnTo>
                <a:lnTo>
                  <a:pt x="279" y="4"/>
                </a:lnTo>
                <a:lnTo>
                  <a:pt x="239" y="4"/>
                </a:lnTo>
                <a:lnTo>
                  <a:pt x="199" y="4"/>
                </a:lnTo>
                <a:lnTo>
                  <a:pt x="164" y="0"/>
                </a:lnTo>
                <a:lnTo>
                  <a:pt x="124" y="0"/>
                </a:lnTo>
                <a:lnTo>
                  <a:pt x="79" y="0"/>
                </a:lnTo>
                <a:lnTo>
                  <a:pt x="39"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97" name=""/>
          <p:cNvSpPr/>
          <p:nvPr/>
        </p:nvSpPr>
        <p:spPr>
          <a:xfrm>
            <a:off x="5337000" y="2017800"/>
            <a:ext cx="132120" cy="154440"/>
          </a:xfrm>
          <a:custGeom>
            <a:avLst/>
            <a:gdLst/>
            <a:ahLst/>
            <a:rect l="0" t="0" r="r" b="b"/>
            <a:pathLst>
              <a:path w="367" h="429">
                <a:moveTo>
                  <a:pt x="236" y="429"/>
                </a:moveTo>
                <a:lnTo>
                  <a:pt x="0" y="0"/>
                </a:lnTo>
                <a:lnTo>
                  <a:pt x="367" y="330"/>
                </a:lnTo>
                <a:lnTo>
                  <a:pt x="236" y="42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98" name=""/>
          <p:cNvSpPr/>
          <p:nvPr/>
        </p:nvSpPr>
        <p:spPr>
          <a:xfrm>
            <a:off x="4767120" y="2279520"/>
            <a:ext cx="439920" cy="784440"/>
          </a:xfrm>
          <a:custGeom>
            <a:avLst/>
            <a:gdLst/>
            <a:ahLst/>
            <a:rect l="0" t="0" r="r" b="b"/>
            <a:pathLst>
              <a:path fill="none" w="1222" h="2179">
                <a:moveTo>
                  <a:pt x="0" y="2179"/>
                </a:moveTo>
                <a:lnTo>
                  <a:pt x="40" y="2144"/>
                </a:lnTo>
                <a:lnTo>
                  <a:pt x="75" y="2114"/>
                </a:lnTo>
                <a:lnTo>
                  <a:pt x="110" y="2079"/>
                </a:lnTo>
                <a:lnTo>
                  <a:pt x="145" y="2040"/>
                </a:lnTo>
                <a:lnTo>
                  <a:pt x="180" y="2005"/>
                </a:lnTo>
                <a:lnTo>
                  <a:pt x="220" y="1965"/>
                </a:lnTo>
                <a:lnTo>
                  <a:pt x="250" y="1935"/>
                </a:lnTo>
                <a:lnTo>
                  <a:pt x="285" y="1895"/>
                </a:lnTo>
                <a:lnTo>
                  <a:pt x="320" y="1856"/>
                </a:lnTo>
                <a:lnTo>
                  <a:pt x="355" y="1816"/>
                </a:lnTo>
                <a:lnTo>
                  <a:pt x="385" y="1781"/>
                </a:lnTo>
                <a:lnTo>
                  <a:pt x="415" y="1741"/>
                </a:lnTo>
                <a:lnTo>
                  <a:pt x="450" y="1696"/>
                </a:lnTo>
                <a:lnTo>
                  <a:pt x="485" y="1662"/>
                </a:lnTo>
                <a:lnTo>
                  <a:pt x="510" y="1622"/>
                </a:lnTo>
                <a:lnTo>
                  <a:pt x="540" y="1582"/>
                </a:lnTo>
                <a:lnTo>
                  <a:pt x="570" y="1537"/>
                </a:lnTo>
                <a:lnTo>
                  <a:pt x="600" y="1498"/>
                </a:lnTo>
                <a:lnTo>
                  <a:pt x="631" y="1453"/>
                </a:lnTo>
                <a:lnTo>
                  <a:pt x="656" y="1413"/>
                </a:lnTo>
                <a:lnTo>
                  <a:pt x="686" y="1368"/>
                </a:lnTo>
                <a:lnTo>
                  <a:pt x="716" y="1328"/>
                </a:lnTo>
                <a:lnTo>
                  <a:pt x="736" y="1284"/>
                </a:lnTo>
                <a:lnTo>
                  <a:pt x="766" y="1239"/>
                </a:lnTo>
                <a:lnTo>
                  <a:pt x="786" y="1194"/>
                </a:lnTo>
                <a:lnTo>
                  <a:pt x="816" y="1149"/>
                </a:lnTo>
                <a:lnTo>
                  <a:pt x="837" y="1105"/>
                </a:lnTo>
                <a:lnTo>
                  <a:pt x="862" y="1059"/>
                </a:lnTo>
                <a:lnTo>
                  <a:pt x="882" y="1014"/>
                </a:lnTo>
                <a:lnTo>
                  <a:pt x="907" y="969"/>
                </a:lnTo>
                <a:lnTo>
                  <a:pt x="927" y="925"/>
                </a:lnTo>
                <a:lnTo>
                  <a:pt x="952" y="880"/>
                </a:lnTo>
                <a:lnTo>
                  <a:pt x="967" y="830"/>
                </a:lnTo>
                <a:lnTo>
                  <a:pt x="992" y="785"/>
                </a:lnTo>
                <a:lnTo>
                  <a:pt x="1007" y="741"/>
                </a:lnTo>
                <a:lnTo>
                  <a:pt x="1027" y="691"/>
                </a:lnTo>
                <a:lnTo>
                  <a:pt x="1047" y="646"/>
                </a:lnTo>
                <a:lnTo>
                  <a:pt x="1062" y="596"/>
                </a:lnTo>
                <a:lnTo>
                  <a:pt x="1077" y="552"/>
                </a:lnTo>
                <a:lnTo>
                  <a:pt x="1097" y="502"/>
                </a:lnTo>
                <a:lnTo>
                  <a:pt x="1112" y="452"/>
                </a:lnTo>
                <a:lnTo>
                  <a:pt x="1122" y="407"/>
                </a:lnTo>
                <a:lnTo>
                  <a:pt x="1142" y="358"/>
                </a:lnTo>
                <a:lnTo>
                  <a:pt x="1152" y="308"/>
                </a:lnTo>
                <a:lnTo>
                  <a:pt x="1162" y="263"/>
                </a:lnTo>
                <a:lnTo>
                  <a:pt x="1182" y="213"/>
                </a:lnTo>
                <a:lnTo>
                  <a:pt x="1192" y="159"/>
                </a:lnTo>
                <a:lnTo>
                  <a:pt x="1202" y="109"/>
                </a:lnTo>
                <a:lnTo>
                  <a:pt x="1212" y="59"/>
                </a:lnTo>
                <a:lnTo>
                  <a:pt x="1222" y="9"/>
                </a:lnTo>
                <a:lnTo>
                  <a:pt x="1207" y="0"/>
                </a:lnTo>
                <a:lnTo>
                  <a:pt x="121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399" name=""/>
          <p:cNvSpPr/>
          <p:nvPr/>
        </p:nvSpPr>
        <p:spPr>
          <a:xfrm>
            <a:off x="3814920" y="2017800"/>
            <a:ext cx="86040" cy="173520"/>
          </a:xfrm>
          <a:custGeom>
            <a:avLst/>
            <a:gdLst/>
            <a:ahLst/>
            <a:rect l="0" t="0" r="r" b="b"/>
            <a:pathLst>
              <a:path w="239" h="482">
                <a:moveTo>
                  <a:pt x="84" y="482"/>
                </a:moveTo>
                <a:lnTo>
                  <a:pt x="0" y="0"/>
                </a:lnTo>
                <a:lnTo>
                  <a:pt x="239" y="433"/>
                </a:lnTo>
                <a:lnTo>
                  <a:pt x="84" y="48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0" name=""/>
          <p:cNvSpPr/>
          <p:nvPr/>
        </p:nvSpPr>
        <p:spPr>
          <a:xfrm>
            <a:off x="3871800" y="2184480"/>
            <a:ext cx="868680" cy="1332360"/>
          </a:xfrm>
          <a:custGeom>
            <a:avLst/>
            <a:gdLst/>
            <a:ahLst/>
            <a:rect l="0" t="0" r="r" b="b"/>
            <a:pathLst>
              <a:path fill="none" w="2413" h="3701">
                <a:moveTo>
                  <a:pt x="0" y="0"/>
                </a:moveTo>
                <a:lnTo>
                  <a:pt x="1306" y="3701"/>
                </a:lnTo>
                <a:lnTo>
                  <a:pt x="2413" y="370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1" name=""/>
          <p:cNvSpPr/>
          <p:nvPr/>
        </p:nvSpPr>
        <p:spPr>
          <a:xfrm>
            <a:off x="3814920" y="2927520"/>
            <a:ext cx="0" cy="11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2" name=""/>
          <p:cNvSpPr/>
          <p:nvPr/>
        </p:nvSpPr>
        <p:spPr>
          <a:xfrm flipV="1">
            <a:off x="6032520" y="903240"/>
            <a:ext cx="0" cy="806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3" name=""/>
          <p:cNvSpPr/>
          <p:nvPr/>
        </p:nvSpPr>
        <p:spPr>
          <a:xfrm flipV="1">
            <a:off x="3814920" y="515880"/>
            <a:ext cx="0" cy="13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4" name=""/>
          <p:cNvSpPr/>
          <p:nvPr/>
        </p:nvSpPr>
        <p:spPr>
          <a:xfrm>
            <a:off x="4110120" y="635040"/>
            <a:ext cx="1100520" cy="1136880"/>
          </a:xfrm>
          <a:custGeom>
            <a:avLst/>
            <a:gdLst/>
            <a:ahLst/>
            <a:rect l="0" t="0" r="r" b="b"/>
            <a:pathLst>
              <a:path fill="none" w="3057" h="3158">
                <a:moveTo>
                  <a:pt x="3057" y="3143"/>
                </a:moveTo>
                <a:lnTo>
                  <a:pt x="3047" y="3158"/>
                </a:lnTo>
                <a:lnTo>
                  <a:pt x="3037" y="3108"/>
                </a:lnTo>
                <a:lnTo>
                  <a:pt x="3028" y="3058"/>
                </a:lnTo>
                <a:lnTo>
                  <a:pt x="3018" y="3008"/>
                </a:lnTo>
                <a:lnTo>
                  <a:pt x="3008" y="2953"/>
                </a:lnTo>
                <a:lnTo>
                  <a:pt x="2998" y="2903"/>
                </a:lnTo>
                <a:lnTo>
                  <a:pt x="2978" y="2854"/>
                </a:lnTo>
                <a:lnTo>
                  <a:pt x="2968" y="2804"/>
                </a:lnTo>
                <a:lnTo>
                  <a:pt x="2958" y="2759"/>
                </a:lnTo>
                <a:lnTo>
                  <a:pt x="2938" y="2709"/>
                </a:lnTo>
                <a:lnTo>
                  <a:pt x="2923" y="2659"/>
                </a:lnTo>
                <a:lnTo>
                  <a:pt x="2913" y="2614"/>
                </a:lnTo>
                <a:lnTo>
                  <a:pt x="2893" y="2564"/>
                </a:lnTo>
                <a:lnTo>
                  <a:pt x="2878" y="2514"/>
                </a:lnTo>
                <a:lnTo>
                  <a:pt x="2863" y="2470"/>
                </a:lnTo>
                <a:lnTo>
                  <a:pt x="2838" y="2415"/>
                </a:lnTo>
                <a:lnTo>
                  <a:pt x="2823" y="2375"/>
                </a:lnTo>
                <a:lnTo>
                  <a:pt x="2803" y="2320"/>
                </a:lnTo>
                <a:lnTo>
                  <a:pt x="2783" y="2275"/>
                </a:lnTo>
                <a:lnTo>
                  <a:pt x="2758" y="2230"/>
                </a:lnTo>
                <a:lnTo>
                  <a:pt x="2738" y="2180"/>
                </a:lnTo>
                <a:lnTo>
                  <a:pt x="2723" y="2135"/>
                </a:lnTo>
                <a:lnTo>
                  <a:pt x="2694" y="2090"/>
                </a:lnTo>
                <a:lnTo>
                  <a:pt x="2669" y="2046"/>
                </a:lnTo>
                <a:lnTo>
                  <a:pt x="2649" y="2001"/>
                </a:lnTo>
                <a:lnTo>
                  <a:pt x="2624" y="1956"/>
                </a:lnTo>
                <a:lnTo>
                  <a:pt x="2599" y="1911"/>
                </a:lnTo>
                <a:lnTo>
                  <a:pt x="2574" y="1866"/>
                </a:lnTo>
                <a:lnTo>
                  <a:pt x="2549" y="1821"/>
                </a:lnTo>
                <a:lnTo>
                  <a:pt x="2524" y="1776"/>
                </a:lnTo>
                <a:lnTo>
                  <a:pt x="2499" y="1731"/>
                </a:lnTo>
                <a:lnTo>
                  <a:pt x="2469" y="1691"/>
                </a:lnTo>
                <a:lnTo>
                  <a:pt x="2439" y="1647"/>
                </a:lnTo>
                <a:lnTo>
                  <a:pt x="2414" y="1607"/>
                </a:lnTo>
                <a:lnTo>
                  <a:pt x="2379" y="1566"/>
                </a:lnTo>
                <a:lnTo>
                  <a:pt x="2350" y="1526"/>
                </a:lnTo>
                <a:lnTo>
                  <a:pt x="2325" y="1481"/>
                </a:lnTo>
                <a:lnTo>
                  <a:pt x="2289" y="1441"/>
                </a:lnTo>
                <a:lnTo>
                  <a:pt x="2254" y="1401"/>
                </a:lnTo>
                <a:lnTo>
                  <a:pt x="2229" y="1361"/>
                </a:lnTo>
                <a:lnTo>
                  <a:pt x="2194" y="1321"/>
                </a:lnTo>
                <a:lnTo>
                  <a:pt x="2159" y="1281"/>
                </a:lnTo>
                <a:lnTo>
                  <a:pt x="2124" y="1246"/>
                </a:lnTo>
                <a:lnTo>
                  <a:pt x="2094" y="1207"/>
                </a:lnTo>
                <a:lnTo>
                  <a:pt x="2059" y="1167"/>
                </a:lnTo>
                <a:lnTo>
                  <a:pt x="2024" y="1132"/>
                </a:lnTo>
                <a:lnTo>
                  <a:pt x="1985" y="1092"/>
                </a:lnTo>
                <a:lnTo>
                  <a:pt x="1950" y="1057"/>
                </a:lnTo>
                <a:lnTo>
                  <a:pt x="1920" y="1022"/>
                </a:lnTo>
                <a:lnTo>
                  <a:pt x="1880" y="987"/>
                </a:lnTo>
                <a:lnTo>
                  <a:pt x="1840" y="952"/>
                </a:lnTo>
                <a:lnTo>
                  <a:pt x="1805" y="917"/>
                </a:lnTo>
                <a:lnTo>
                  <a:pt x="1765" y="887"/>
                </a:lnTo>
                <a:lnTo>
                  <a:pt x="1725" y="852"/>
                </a:lnTo>
                <a:lnTo>
                  <a:pt x="1690" y="818"/>
                </a:lnTo>
                <a:lnTo>
                  <a:pt x="1651" y="783"/>
                </a:lnTo>
                <a:lnTo>
                  <a:pt x="1611" y="753"/>
                </a:lnTo>
                <a:lnTo>
                  <a:pt x="1566" y="723"/>
                </a:lnTo>
                <a:lnTo>
                  <a:pt x="1526" y="688"/>
                </a:lnTo>
                <a:lnTo>
                  <a:pt x="1486" y="663"/>
                </a:lnTo>
                <a:lnTo>
                  <a:pt x="1441" y="633"/>
                </a:lnTo>
                <a:lnTo>
                  <a:pt x="1401" y="598"/>
                </a:lnTo>
                <a:lnTo>
                  <a:pt x="1356" y="573"/>
                </a:lnTo>
                <a:lnTo>
                  <a:pt x="1317" y="543"/>
                </a:lnTo>
                <a:lnTo>
                  <a:pt x="1272" y="513"/>
                </a:lnTo>
                <a:lnTo>
                  <a:pt x="1227" y="493"/>
                </a:lnTo>
                <a:lnTo>
                  <a:pt x="1187" y="463"/>
                </a:lnTo>
                <a:lnTo>
                  <a:pt x="1142" y="438"/>
                </a:lnTo>
                <a:lnTo>
                  <a:pt x="1097" y="413"/>
                </a:lnTo>
                <a:lnTo>
                  <a:pt x="1052" y="389"/>
                </a:lnTo>
                <a:lnTo>
                  <a:pt x="1008" y="364"/>
                </a:lnTo>
                <a:lnTo>
                  <a:pt x="963" y="344"/>
                </a:lnTo>
                <a:lnTo>
                  <a:pt x="913" y="319"/>
                </a:lnTo>
                <a:lnTo>
                  <a:pt x="868" y="299"/>
                </a:lnTo>
                <a:lnTo>
                  <a:pt x="823" y="274"/>
                </a:lnTo>
                <a:lnTo>
                  <a:pt x="778" y="254"/>
                </a:lnTo>
                <a:lnTo>
                  <a:pt x="727" y="229"/>
                </a:lnTo>
                <a:lnTo>
                  <a:pt x="682" y="214"/>
                </a:lnTo>
                <a:lnTo>
                  <a:pt x="638" y="189"/>
                </a:lnTo>
                <a:lnTo>
                  <a:pt x="588" y="174"/>
                </a:lnTo>
                <a:lnTo>
                  <a:pt x="543" y="154"/>
                </a:lnTo>
                <a:lnTo>
                  <a:pt x="493" y="139"/>
                </a:lnTo>
                <a:lnTo>
                  <a:pt x="443" y="124"/>
                </a:lnTo>
                <a:lnTo>
                  <a:pt x="398" y="104"/>
                </a:lnTo>
                <a:lnTo>
                  <a:pt x="348" y="89"/>
                </a:lnTo>
                <a:lnTo>
                  <a:pt x="299" y="79"/>
                </a:lnTo>
                <a:lnTo>
                  <a:pt x="254" y="59"/>
                </a:lnTo>
                <a:lnTo>
                  <a:pt x="199" y="49"/>
                </a:lnTo>
                <a:lnTo>
                  <a:pt x="149" y="34"/>
                </a:lnTo>
                <a:lnTo>
                  <a:pt x="99" y="19"/>
                </a:lnTo>
                <a:lnTo>
                  <a:pt x="49" y="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05" name=""/>
          <p:cNvSpPr/>
          <p:nvPr/>
        </p:nvSpPr>
        <p:spPr>
          <a:xfrm>
            <a:off x="3989520" y="201780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6" name=""/>
          <p:cNvSpPr/>
          <p:nvPr/>
        </p:nvSpPr>
        <p:spPr>
          <a:xfrm>
            <a:off x="4503600" y="2017800"/>
            <a:ext cx="12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7" name=""/>
          <p:cNvSpPr/>
          <p:nvPr/>
        </p:nvSpPr>
        <p:spPr>
          <a:xfrm>
            <a:off x="4746600" y="201780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8" name=""/>
          <p:cNvSpPr/>
          <p:nvPr/>
        </p:nvSpPr>
        <p:spPr>
          <a:xfrm>
            <a:off x="5472000" y="201780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9" name=""/>
          <p:cNvSpPr/>
          <p:nvPr/>
        </p:nvSpPr>
        <p:spPr>
          <a:xfrm>
            <a:off x="5715000" y="2017800"/>
            <a:ext cx="3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0" name=""/>
          <p:cNvSpPr/>
          <p:nvPr/>
        </p:nvSpPr>
        <p:spPr>
          <a:xfrm>
            <a:off x="3814920" y="2190600"/>
            <a:ext cx="0" cy="70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1" name=""/>
          <p:cNvSpPr/>
          <p:nvPr/>
        </p:nvSpPr>
        <p:spPr>
          <a:xfrm flipH="1">
            <a:off x="3790800" y="2878200"/>
            <a:ext cx="4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2" name=""/>
          <p:cNvSpPr/>
          <p:nvPr/>
        </p:nvSpPr>
        <p:spPr>
          <a:xfrm flipV="1">
            <a:off x="3814920" y="2852640"/>
            <a:ext cx="0" cy="49320"/>
          </a:xfrm>
          <a:prstGeom prst="line">
            <a:avLst/>
          </a:prstGeom>
          <a:ln w="12600">
            <a:solidFill>
              <a:srgbClr val="ffffff"/>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6413" name=""/>
          <p:cNvSpPr/>
          <p:nvPr/>
        </p:nvSpPr>
        <p:spPr>
          <a:xfrm flipV="1">
            <a:off x="3814920" y="2712960"/>
            <a:ext cx="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4" name=""/>
          <p:cNvSpPr/>
          <p:nvPr/>
        </p:nvSpPr>
        <p:spPr>
          <a:xfrm>
            <a:off x="4910040" y="2271600"/>
            <a:ext cx="297360" cy="28800"/>
          </a:xfrm>
          <a:custGeom>
            <a:avLst/>
            <a:gdLst/>
            <a:ahLst/>
            <a:rect l="0" t="0" r="r" b="b"/>
            <a:pathLst>
              <a:path fill="none" w="826" h="80">
                <a:moveTo>
                  <a:pt x="0" y="4"/>
                </a:moveTo>
                <a:lnTo>
                  <a:pt x="4" y="4"/>
                </a:lnTo>
                <a:lnTo>
                  <a:pt x="9" y="4"/>
                </a:lnTo>
                <a:lnTo>
                  <a:pt x="14" y="4"/>
                </a:lnTo>
                <a:lnTo>
                  <a:pt x="19" y="4"/>
                </a:lnTo>
                <a:lnTo>
                  <a:pt x="29" y="9"/>
                </a:lnTo>
                <a:lnTo>
                  <a:pt x="34" y="9"/>
                </a:lnTo>
                <a:lnTo>
                  <a:pt x="39" y="14"/>
                </a:lnTo>
                <a:lnTo>
                  <a:pt x="44" y="14"/>
                </a:lnTo>
                <a:lnTo>
                  <a:pt x="54" y="24"/>
                </a:lnTo>
                <a:lnTo>
                  <a:pt x="64" y="29"/>
                </a:lnTo>
                <a:lnTo>
                  <a:pt x="79" y="34"/>
                </a:lnTo>
                <a:lnTo>
                  <a:pt x="84" y="39"/>
                </a:lnTo>
                <a:lnTo>
                  <a:pt x="104" y="50"/>
                </a:lnTo>
                <a:lnTo>
                  <a:pt x="119" y="55"/>
                </a:lnTo>
                <a:lnTo>
                  <a:pt x="129" y="65"/>
                </a:lnTo>
                <a:lnTo>
                  <a:pt x="139" y="70"/>
                </a:lnTo>
                <a:lnTo>
                  <a:pt x="144" y="75"/>
                </a:lnTo>
                <a:lnTo>
                  <a:pt x="149" y="75"/>
                </a:lnTo>
                <a:lnTo>
                  <a:pt x="154" y="75"/>
                </a:lnTo>
                <a:lnTo>
                  <a:pt x="164" y="80"/>
                </a:lnTo>
                <a:lnTo>
                  <a:pt x="169" y="80"/>
                </a:lnTo>
                <a:lnTo>
                  <a:pt x="179" y="80"/>
                </a:lnTo>
                <a:lnTo>
                  <a:pt x="184" y="80"/>
                </a:lnTo>
                <a:lnTo>
                  <a:pt x="189" y="80"/>
                </a:lnTo>
                <a:lnTo>
                  <a:pt x="199" y="80"/>
                </a:lnTo>
                <a:lnTo>
                  <a:pt x="204" y="80"/>
                </a:lnTo>
                <a:lnTo>
                  <a:pt x="220" y="80"/>
                </a:lnTo>
                <a:lnTo>
                  <a:pt x="225" y="75"/>
                </a:lnTo>
                <a:lnTo>
                  <a:pt x="235" y="75"/>
                </a:lnTo>
                <a:lnTo>
                  <a:pt x="240" y="75"/>
                </a:lnTo>
                <a:lnTo>
                  <a:pt x="250" y="70"/>
                </a:lnTo>
                <a:lnTo>
                  <a:pt x="260" y="70"/>
                </a:lnTo>
                <a:lnTo>
                  <a:pt x="270" y="65"/>
                </a:lnTo>
                <a:lnTo>
                  <a:pt x="285" y="55"/>
                </a:lnTo>
                <a:lnTo>
                  <a:pt x="305" y="50"/>
                </a:lnTo>
                <a:lnTo>
                  <a:pt x="320" y="39"/>
                </a:lnTo>
                <a:lnTo>
                  <a:pt x="335" y="34"/>
                </a:lnTo>
                <a:lnTo>
                  <a:pt x="345" y="34"/>
                </a:lnTo>
                <a:lnTo>
                  <a:pt x="355" y="29"/>
                </a:lnTo>
                <a:lnTo>
                  <a:pt x="365" y="29"/>
                </a:lnTo>
                <a:lnTo>
                  <a:pt x="370" y="29"/>
                </a:lnTo>
                <a:lnTo>
                  <a:pt x="380" y="24"/>
                </a:lnTo>
                <a:lnTo>
                  <a:pt x="390" y="24"/>
                </a:lnTo>
                <a:lnTo>
                  <a:pt x="400" y="24"/>
                </a:lnTo>
                <a:lnTo>
                  <a:pt x="410" y="24"/>
                </a:lnTo>
                <a:lnTo>
                  <a:pt x="415" y="24"/>
                </a:lnTo>
                <a:lnTo>
                  <a:pt x="425" y="24"/>
                </a:lnTo>
                <a:lnTo>
                  <a:pt x="430" y="24"/>
                </a:lnTo>
                <a:lnTo>
                  <a:pt x="435" y="24"/>
                </a:lnTo>
                <a:lnTo>
                  <a:pt x="445" y="24"/>
                </a:lnTo>
                <a:lnTo>
                  <a:pt x="450" y="24"/>
                </a:lnTo>
                <a:lnTo>
                  <a:pt x="455" y="29"/>
                </a:lnTo>
                <a:lnTo>
                  <a:pt x="460" y="29"/>
                </a:lnTo>
                <a:lnTo>
                  <a:pt x="470" y="34"/>
                </a:lnTo>
                <a:lnTo>
                  <a:pt x="500" y="39"/>
                </a:lnTo>
                <a:lnTo>
                  <a:pt x="505" y="45"/>
                </a:lnTo>
                <a:lnTo>
                  <a:pt x="510" y="45"/>
                </a:lnTo>
                <a:lnTo>
                  <a:pt x="515" y="50"/>
                </a:lnTo>
                <a:lnTo>
                  <a:pt x="520" y="50"/>
                </a:lnTo>
                <a:lnTo>
                  <a:pt x="530" y="50"/>
                </a:lnTo>
                <a:lnTo>
                  <a:pt x="540" y="50"/>
                </a:lnTo>
                <a:lnTo>
                  <a:pt x="545" y="50"/>
                </a:lnTo>
                <a:lnTo>
                  <a:pt x="550" y="50"/>
                </a:lnTo>
                <a:lnTo>
                  <a:pt x="555" y="50"/>
                </a:lnTo>
                <a:lnTo>
                  <a:pt x="560" y="50"/>
                </a:lnTo>
                <a:lnTo>
                  <a:pt x="560" y="45"/>
                </a:lnTo>
                <a:lnTo>
                  <a:pt x="565" y="45"/>
                </a:lnTo>
                <a:lnTo>
                  <a:pt x="570" y="45"/>
                </a:lnTo>
                <a:lnTo>
                  <a:pt x="575" y="39"/>
                </a:lnTo>
                <a:lnTo>
                  <a:pt x="585" y="39"/>
                </a:lnTo>
                <a:lnTo>
                  <a:pt x="590" y="34"/>
                </a:lnTo>
                <a:lnTo>
                  <a:pt x="600" y="29"/>
                </a:lnTo>
                <a:lnTo>
                  <a:pt x="615" y="14"/>
                </a:lnTo>
                <a:lnTo>
                  <a:pt x="621" y="9"/>
                </a:lnTo>
                <a:lnTo>
                  <a:pt x="636" y="9"/>
                </a:lnTo>
                <a:lnTo>
                  <a:pt x="636" y="4"/>
                </a:lnTo>
                <a:lnTo>
                  <a:pt x="641" y="4"/>
                </a:lnTo>
                <a:lnTo>
                  <a:pt x="646" y="4"/>
                </a:lnTo>
                <a:lnTo>
                  <a:pt x="651" y="0"/>
                </a:lnTo>
                <a:lnTo>
                  <a:pt x="656" y="0"/>
                </a:lnTo>
                <a:lnTo>
                  <a:pt x="661" y="0"/>
                </a:lnTo>
                <a:lnTo>
                  <a:pt x="666" y="0"/>
                </a:lnTo>
                <a:lnTo>
                  <a:pt x="671" y="0"/>
                </a:lnTo>
                <a:lnTo>
                  <a:pt x="681" y="4"/>
                </a:lnTo>
                <a:lnTo>
                  <a:pt x="686" y="4"/>
                </a:lnTo>
                <a:lnTo>
                  <a:pt x="691" y="9"/>
                </a:lnTo>
                <a:lnTo>
                  <a:pt x="696" y="9"/>
                </a:lnTo>
                <a:lnTo>
                  <a:pt x="701" y="14"/>
                </a:lnTo>
                <a:lnTo>
                  <a:pt x="711" y="29"/>
                </a:lnTo>
                <a:lnTo>
                  <a:pt x="716" y="34"/>
                </a:lnTo>
                <a:lnTo>
                  <a:pt x="726" y="39"/>
                </a:lnTo>
                <a:lnTo>
                  <a:pt x="731" y="45"/>
                </a:lnTo>
                <a:lnTo>
                  <a:pt x="736" y="45"/>
                </a:lnTo>
                <a:lnTo>
                  <a:pt x="741" y="45"/>
                </a:lnTo>
                <a:lnTo>
                  <a:pt x="741" y="50"/>
                </a:lnTo>
                <a:lnTo>
                  <a:pt x="746" y="50"/>
                </a:lnTo>
                <a:lnTo>
                  <a:pt x="751" y="50"/>
                </a:lnTo>
                <a:lnTo>
                  <a:pt x="756" y="50"/>
                </a:lnTo>
                <a:lnTo>
                  <a:pt x="761" y="50"/>
                </a:lnTo>
                <a:lnTo>
                  <a:pt x="761" y="45"/>
                </a:lnTo>
                <a:lnTo>
                  <a:pt x="771" y="45"/>
                </a:lnTo>
                <a:lnTo>
                  <a:pt x="776" y="45"/>
                </a:lnTo>
                <a:lnTo>
                  <a:pt x="776" y="39"/>
                </a:lnTo>
                <a:lnTo>
                  <a:pt x="781" y="34"/>
                </a:lnTo>
                <a:lnTo>
                  <a:pt x="786" y="34"/>
                </a:lnTo>
                <a:lnTo>
                  <a:pt x="791" y="29"/>
                </a:lnTo>
                <a:lnTo>
                  <a:pt x="801" y="60"/>
                </a:lnTo>
                <a:lnTo>
                  <a:pt x="816" y="39"/>
                </a:lnTo>
                <a:lnTo>
                  <a:pt x="816" y="39"/>
                </a:lnTo>
                <a:lnTo>
                  <a:pt x="801" y="60"/>
                </a:lnTo>
                <a:lnTo>
                  <a:pt x="806" y="39"/>
                </a:lnTo>
                <a:lnTo>
                  <a:pt x="781" y="39"/>
                </a:lnTo>
                <a:lnTo>
                  <a:pt x="806" y="60"/>
                </a:lnTo>
                <a:lnTo>
                  <a:pt x="816" y="75"/>
                </a:lnTo>
                <a:lnTo>
                  <a:pt x="826" y="60"/>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415" name=""/>
          <p:cNvSpPr/>
          <p:nvPr/>
        </p:nvSpPr>
        <p:spPr>
          <a:xfrm>
            <a:off x="4419720" y="1447920"/>
            <a:ext cx="279720" cy="279720"/>
          </a:xfrm>
          <a:custGeom>
            <a:avLst/>
            <a:gdLst/>
            <a:ahLst/>
            <a:rect l="0" t="0" r="r" b="b"/>
            <a:pathLst>
              <a:path fill="none" w="777" h="777">
                <a:moveTo>
                  <a:pt x="777" y="391"/>
                </a:moveTo>
                <a:lnTo>
                  <a:pt x="777" y="370"/>
                </a:lnTo>
                <a:lnTo>
                  <a:pt x="777" y="355"/>
                </a:lnTo>
                <a:lnTo>
                  <a:pt x="772" y="345"/>
                </a:lnTo>
                <a:lnTo>
                  <a:pt x="772" y="325"/>
                </a:lnTo>
                <a:lnTo>
                  <a:pt x="772" y="310"/>
                </a:lnTo>
                <a:lnTo>
                  <a:pt x="767" y="290"/>
                </a:lnTo>
                <a:lnTo>
                  <a:pt x="762" y="280"/>
                </a:lnTo>
                <a:lnTo>
                  <a:pt x="752" y="265"/>
                </a:lnTo>
                <a:lnTo>
                  <a:pt x="747" y="245"/>
                </a:lnTo>
                <a:lnTo>
                  <a:pt x="742" y="230"/>
                </a:lnTo>
                <a:lnTo>
                  <a:pt x="737" y="220"/>
                </a:lnTo>
                <a:lnTo>
                  <a:pt x="732" y="200"/>
                </a:lnTo>
                <a:lnTo>
                  <a:pt x="722" y="190"/>
                </a:lnTo>
                <a:lnTo>
                  <a:pt x="717" y="180"/>
                </a:lnTo>
                <a:lnTo>
                  <a:pt x="702" y="165"/>
                </a:lnTo>
                <a:lnTo>
                  <a:pt x="696" y="150"/>
                </a:lnTo>
                <a:lnTo>
                  <a:pt x="686" y="140"/>
                </a:lnTo>
                <a:lnTo>
                  <a:pt x="676" y="130"/>
                </a:lnTo>
                <a:lnTo>
                  <a:pt x="661" y="120"/>
                </a:lnTo>
                <a:lnTo>
                  <a:pt x="651" y="105"/>
                </a:lnTo>
                <a:lnTo>
                  <a:pt x="641" y="95"/>
                </a:lnTo>
                <a:lnTo>
                  <a:pt x="631" y="85"/>
                </a:lnTo>
                <a:lnTo>
                  <a:pt x="611" y="75"/>
                </a:lnTo>
                <a:lnTo>
                  <a:pt x="601" y="65"/>
                </a:lnTo>
                <a:lnTo>
                  <a:pt x="586" y="55"/>
                </a:lnTo>
                <a:lnTo>
                  <a:pt x="571" y="50"/>
                </a:lnTo>
                <a:lnTo>
                  <a:pt x="561" y="40"/>
                </a:lnTo>
                <a:lnTo>
                  <a:pt x="546" y="35"/>
                </a:lnTo>
                <a:lnTo>
                  <a:pt x="526" y="30"/>
                </a:lnTo>
                <a:lnTo>
                  <a:pt x="516" y="20"/>
                </a:lnTo>
                <a:lnTo>
                  <a:pt x="501" y="15"/>
                </a:lnTo>
                <a:lnTo>
                  <a:pt x="481" y="15"/>
                </a:lnTo>
                <a:lnTo>
                  <a:pt x="471" y="10"/>
                </a:lnTo>
                <a:lnTo>
                  <a:pt x="456" y="5"/>
                </a:lnTo>
                <a:lnTo>
                  <a:pt x="436" y="5"/>
                </a:lnTo>
                <a:lnTo>
                  <a:pt x="421" y="5"/>
                </a:lnTo>
                <a:lnTo>
                  <a:pt x="401" y="5"/>
                </a:lnTo>
                <a:lnTo>
                  <a:pt x="385" y="0"/>
                </a:lnTo>
                <a:lnTo>
                  <a:pt x="375" y="5"/>
                </a:lnTo>
                <a:lnTo>
                  <a:pt x="355" y="5"/>
                </a:lnTo>
                <a:lnTo>
                  <a:pt x="340" y="5"/>
                </a:lnTo>
                <a:lnTo>
                  <a:pt x="320" y="5"/>
                </a:lnTo>
                <a:lnTo>
                  <a:pt x="305" y="10"/>
                </a:lnTo>
                <a:lnTo>
                  <a:pt x="290" y="15"/>
                </a:lnTo>
                <a:lnTo>
                  <a:pt x="275" y="15"/>
                </a:lnTo>
                <a:lnTo>
                  <a:pt x="260" y="20"/>
                </a:lnTo>
                <a:lnTo>
                  <a:pt x="245" y="30"/>
                </a:lnTo>
                <a:lnTo>
                  <a:pt x="230" y="35"/>
                </a:lnTo>
                <a:lnTo>
                  <a:pt x="215" y="40"/>
                </a:lnTo>
                <a:lnTo>
                  <a:pt x="205" y="50"/>
                </a:lnTo>
                <a:lnTo>
                  <a:pt x="185" y="55"/>
                </a:lnTo>
                <a:lnTo>
                  <a:pt x="175" y="65"/>
                </a:lnTo>
                <a:lnTo>
                  <a:pt x="160" y="75"/>
                </a:lnTo>
                <a:lnTo>
                  <a:pt x="145" y="85"/>
                </a:lnTo>
                <a:lnTo>
                  <a:pt x="135" y="95"/>
                </a:lnTo>
                <a:lnTo>
                  <a:pt x="125" y="105"/>
                </a:lnTo>
                <a:lnTo>
                  <a:pt x="115" y="120"/>
                </a:lnTo>
                <a:lnTo>
                  <a:pt x="100" y="130"/>
                </a:lnTo>
                <a:lnTo>
                  <a:pt x="90" y="140"/>
                </a:lnTo>
                <a:lnTo>
                  <a:pt x="80" y="150"/>
                </a:lnTo>
                <a:lnTo>
                  <a:pt x="75" y="165"/>
                </a:lnTo>
                <a:lnTo>
                  <a:pt x="60" y="180"/>
                </a:lnTo>
                <a:lnTo>
                  <a:pt x="50" y="190"/>
                </a:lnTo>
                <a:lnTo>
                  <a:pt x="45" y="200"/>
                </a:lnTo>
                <a:lnTo>
                  <a:pt x="40" y="220"/>
                </a:lnTo>
                <a:lnTo>
                  <a:pt x="30" y="230"/>
                </a:lnTo>
                <a:lnTo>
                  <a:pt x="25" y="245"/>
                </a:lnTo>
                <a:lnTo>
                  <a:pt x="15" y="265"/>
                </a:lnTo>
                <a:lnTo>
                  <a:pt x="15" y="280"/>
                </a:lnTo>
                <a:lnTo>
                  <a:pt x="10" y="290"/>
                </a:lnTo>
                <a:lnTo>
                  <a:pt x="5" y="310"/>
                </a:lnTo>
                <a:lnTo>
                  <a:pt x="5" y="325"/>
                </a:lnTo>
                <a:lnTo>
                  <a:pt x="0" y="345"/>
                </a:lnTo>
                <a:lnTo>
                  <a:pt x="0" y="355"/>
                </a:lnTo>
                <a:lnTo>
                  <a:pt x="0" y="370"/>
                </a:lnTo>
                <a:lnTo>
                  <a:pt x="0" y="391"/>
                </a:lnTo>
                <a:lnTo>
                  <a:pt x="0" y="406"/>
                </a:lnTo>
                <a:lnTo>
                  <a:pt x="0" y="421"/>
                </a:lnTo>
                <a:lnTo>
                  <a:pt x="0" y="441"/>
                </a:lnTo>
                <a:lnTo>
                  <a:pt x="5" y="451"/>
                </a:lnTo>
                <a:lnTo>
                  <a:pt x="5" y="466"/>
                </a:lnTo>
                <a:lnTo>
                  <a:pt x="10" y="486"/>
                </a:lnTo>
                <a:lnTo>
                  <a:pt x="15" y="501"/>
                </a:lnTo>
                <a:lnTo>
                  <a:pt x="15" y="516"/>
                </a:lnTo>
                <a:lnTo>
                  <a:pt x="25" y="531"/>
                </a:lnTo>
                <a:lnTo>
                  <a:pt x="30" y="546"/>
                </a:lnTo>
                <a:lnTo>
                  <a:pt x="40" y="556"/>
                </a:lnTo>
                <a:lnTo>
                  <a:pt x="45" y="576"/>
                </a:lnTo>
                <a:lnTo>
                  <a:pt x="50" y="586"/>
                </a:lnTo>
                <a:lnTo>
                  <a:pt x="60" y="601"/>
                </a:lnTo>
                <a:lnTo>
                  <a:pt x="75" y="611"/>
                </a:lnTo>
                <a:lnTo>
                  <a:pt x="80" y="626"/>
                </a:lnTo>
                <a:lnTo>
                  <a:pt x="90" y="641"/>
                </a:lnTo>
                <a:lnTo>
                  <a:pt x="100" y="651"/>
                </a:lnTo>
                <a:lnTo>
                  <a:pt x="115" y="666"/>
                </a:lnTo>
                <a:lnTo>
                  <a:pt x="125" y="676"/>
                </a:lnTo>
                <a:lnTo>
                  <a:pt x="135" y="686"/>
                </a:lnTo>
                <a:lnTo>
                  <a:pt x="145" y="691"/>
                </a:lnTo>
                <a:lnTo>
                  <a:pt x="160" y="702"/>
                </a:lnTo>
                <a:lnTo>
                  <a:pt x="175" y="717"/>
                </a:lnTo>
                <a:lnTo>
                  <a:pt x="185" y="722"/>
                </a:lnTo>
                <a:lnTo>
                  <a:pt x="205" y="732"/>
                </a:lnTo>
                <a:lnTo>
                  <a:pt x="215" y="737"/>
                </a:lnTo>
                <a:lnTo>
                  <a:pt x="230" y="742"/>
                </a:lnTo>
                <a:lnTo>
                  <a:pt x="245" y="747"/>
                </a:lnTo>
                <a:lnTo>
                  <a:pt x="260" y="757"/>
                </a:lnTo>
                <a:lnTo>
                  <a:pt x="275" y="762"/>
                </a:lnTo>
                <a:lnTo>
                  <a:pt x="290" y="767"/>
                </a:lnTo>
                <a:lnTo>
                  <a:pt x="305" y="767"/>
                </a:lnTo>
                <a:lnTo>
                  <a:pt x="320" y="772"/>
                </a:lnTo>
                <a:lnTo>
                  <a:pt x="340" y="772"/>
                </a:lnTo>
                <a:lnTo>
                  <a:pt x="355" y="777"/>
                </a:lnTo>
                <a:lnTo>
                  <a:pt x="375" y="777"/>
                </a:lnTo>
                <a:lnTo>
                  <a:pt x="385" y="777"/>
                </a:lnTo>
                <a:lnTo>
                  <a:pt x="401" y="777"/>
                </a:lnTo>
                <a:lnTo>
                  <a:pt x="421" y="777"/>
                </a:lnTo>
                <a:lnTo>
                  <a:pt x="436" y="772"/>
                </a:lnTo>
                <a:lnTo>
                  <a:pt x="456" y="772"/>
                </a:lnTo>
                <a:lnTo>
                  <a:pt x="471" y="767"/>
                </a:lnTo>
                <a:lnTo>
                  <a:pt x="481" y="767"/>
                </a:lnTo>
                <a:lnTo>
                  <a:pt x="501" y="762"/>
                </a:lnTo>
                <a:lnTo>
                  <a:pt x="516" y="757"/>
                </a:lnTo>
                <a:lnTo>
                  <a:pt x="526" y="747"/>
                </a:lnTo>
                <a:lnTo>
                  <a:pt x="546" y="742"/>
                </a:lnTo>
                <a:lnTo>
                  <a:pt x="561" y="737"/>
                </a:lnTo>
                <a:lnTo>
                  <a:pt x="571" y="732"/>
                </a:lnTo>
                <a:lnTo>
                  <a:pt x="586" y="722"/>
                </a:lnTo>
                <a:lnTo>
                  <a:pt x="601" y="717"/>
                </a:lnTo>
                <a:lnTo>
                  <a:pt x="611" y="702"/>
                </a:lnTo>
                <a:lnTo>
                  <a:pt x="631" y="691"/>
                </a:lnTo>
                <a:lnTo>
                  <a:pt x="641" y="686"/>
                </a:lnTo>
                <a:lnTo>
                  <a:pt x="651" y="676"/>
                </a:lnTo>
                <a:lnTo>
                  <a:pt x="661" y="666"/>
                </a:lnTo>
                <a:lnTo>
                  <a:pt x="676" y="651"/>
                </a:lnTo>
                <a:lnTo>
                  <a:pt x="686" y="641"/>
                </a:lnTo>
                <a:lnTo>
                  <a:pt x="696" y="626"/>
                </a:lnTo>
                <a:lnTo>
                  <a:pt x="702" y="611"/>
                </a:lnTo>
                <a:lnTo>
                  <a:pt x="717" y="601"/>
                </a:lnTo>
                <a:lnTo>
                  <a:pt x="722" y="586"/>
                </a:lnTo>
                <a:lnTo>
                  <a:pt x="732" y="576"/>
                </a:lnTo>
                <a:lnTo>
                  <a:pt x="737" y="556"/>
                </a:lnTo>
                <a:lnTo>
                  <a:pt x="742" y="546"/>
                </a:lnTo>
                <a:lnTo>
                  <a:pt x="747" y="531"/>
                </a:lnTo>
                <a:lnTo>
                  <a:pt x="752" y="516"/>
                </a:lnTo>
                <a:lnTo>
                  <a:pt x="762" y="501"/>
                </a:lnTo>
                <a:lnTo>
                  <a:pt x="767" y="486"/>
                </a:lnTo>
                <a:lnTo>
                  <a:pt x="772" y="466"/>
                </a:lnTo>
                <a:lnTo>
                  <a:pt x="772" y="451"/>
                </a:lnTo>
                <a:lnTo>
                  <a:pt x="772" y="441"/>
                </a:lnTo>
                <a:lnTo>
                  <a:pt x="777" y="421"/>
                </a:lnTo>
                <a:lnTo>
                  <a:pt x="777" y="406"/>
                </a:lnTo>
                <a:lnTo>
                  <a:pt x="777" y="39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16" name=""/>
          <p:cNvSpPr/>
          <p:nvPr/>
        </p:nvSpPr>
        <p:spPr>
          <a:xfrm flipH="1">
            <a:off x="4417920" y="1611360"/>
            <a:ext cx="1000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6417" name=""/>
          <p:cNvSpPr/>
          <p:nvPr/>
        </p:nvSpPr>
        <p:spPr>
          <a:xfrm flipV="1">
            <a:off x="3814920" y="193032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8" name=""/>
          <p:cNvSpPr/>
          <p:nvPr/>
        </p:nvSpPr>
        <p:spPr>
          <a:xfrm>
            <a:off x="3730680" y="201780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9" name=""/>
          <p:cNvSpPr/>
          <p:nvPr/>
        </p:nvSpPr>
        <p:spPr>
          <a:xfrm>
            <a:off x="4910040" y="1741320"/>
            <a:ext cx="298800" cy="28800"/>
          </a:xfrm>
          <a:custGeom>
            <a:avLst/>
            <a:gdLst/>
            <a:ahLst/>
            <a:rect l="0" t="0" r="r" b="b"/>
            <a:pathLst>
              <a:path fill="none" w="830" h="80">
                <a:moveTo>
                  <a:pt x="0" y="80"/>
                </a:moveTo>
                <a:lnTo>
                  <a:pt x="4" y="80"/>
                </a:lnTo>
                <a:lnTo>
                  <a:pt x="9" y="75"/>
                </a:lnTo>
                <a:lnTo>
                  <a:pt x="14" y="75"/>
                </a:lnTo>
                <a:lnTo>
                  <a:pt x="19" y="75"/>
                </a:lnTo>
                <a:lnTo>
                  <a:pt x="29" y="70"/>
                </a:lnTo>
                <a:lnTo>
                  <a:pt x="34" y="70"/>
                </a:lnTo>
                <a:lnTo>
                  <a:pt x="39" y="70"/>
                </a:lnTo>
                <a:lnTo>
                  <a:pt x="44" y="65"/>
                </a:lnTo>
                <a:lnTo>
                  <a:pt x="54" y="55"/>
                </a:lnTo>
                <a:lnTo>
                  <a:pt x="64" y="50"/>
                </a:lnTo>
                <a:lnTo>
                  <a:pt x="84" y="39"/>
                </a:lnTo>
                <a:lnTo>
                  <a:pt x="94" y="34"/>
                </a:lnTo>
                <a:lnTo>
                  <a:pt x="104" y="29"/>
                </a:lnTo>
                <a:lnTo>
                  <a:pt x="119" y="24"/>
                </a:lnTo>
                <a:lnTo>
                  <a:pt x="129" y="14"/>
                </a:lnTo>
                <a:lnTo>
                  <a:pt x="134" y="14"/>
                </a:lnTo>
                <a:lnTo>
                  <a:pt x="139" y="9"/>
                </a:lnTo>
                <a:lnTo>
                  <a:pt x="144" y="4"/>
                </a:lnTo>
                <a:lnTo>
                  <a:pt x="149" y="4"/>
                </a:lnTo>
                <a:lnTo>
                  <a:pt x="154" y="4"/>
                </a:lnTo>
                <a:lnTo>
                  <a:pt x="164" y="4"/>
                </a:lnTo>
                <a:lnTo>
                  <a:pt x="169" y="4"/>
                </a:lnTo>
                <a:lnTo>
                  <a:pt x="174" y="0"/>
                </a:lnTo>
                <a:lnTo>
                  <a:pt x="179" y="0"/>
                </a:lnTo>
                <a:lnTo>
                  <a:pt x="184" y="0"/>
                </a:lnTo>
                <a:lnTo>
                  <a:pt x="194" y="4"/>
                </a:lnTo>
                <a:lnTo>
                  <a:pt x="199" y="4"/>
                </a:lnTo>
                <a:lnTo>
                  <a:pt x="204" y="4"/>
                </a:lnTo>
                <a:lnTo>
                  <a:pt x="214" y="4"/>
                </a:lnTo>
                <a:lnTo>
                  <a:pt x="219" y="4"/>
                </a:lnTo>
                <a:lnTo>
                  <a:pt x="224" y="9"/>
                </a:lnTo>
                <a:lnTo>
                  <a:pt x="229" y="9"/>
                </a:lnTo>
                <a:lnTo>
                  <a:pt x="244" y="14"/>
                </a:lnTo>
                <a:lnTo>
                  <a:pt x="259" y="24"/>
                </a:lnTo>
                <a:lnTo>
                  <a:pt x="269" y="29"/>
                </a:lnTo>
                <a:lnTo>
                  <a:pt x="294" y="39"/>
                </a:lnTo>
                <a:lnTo>
                  <a:pt x="309" y="45"/>
                </a:lnTo>
                <a:lnTo>
                  <a:pt x="319" y="45"/>
                </a:lnTo>
                <a:lnTo>
                  <a:pt x="324" y="50"/>
                </a:lnTo>
                <a:lnTo>
                  <a:pt x="329" y="50"/>
                </a:lnTo>
                <a:lnTo>
                  <a:pt x="334" y="50"/>
                </a:lnTo>
                <a:lnTo>
                  <a:pt x="339" y="55"/>
                </a:lnTo>
                <a:lnTo>
                  <a:pt x="354" y="55"/>
                </a:lnTo>
                <a:lnTo>
                  <a:pt x="359" y="55"/>
                </a:lnTo>
                <a:lnTo>
                  <a:pt x="364" y="55"/>
                </a:lnTo>
                <a:lnTo>
                  <a:pt x="369" y="55"/>
                </a:lnTo>
                <a:lnTo>
                  <a:pt x="374" y="55"/>
                </a:lnTo>
                <a:lnTo>
                  <a:pt x="379" y="55"/>
                </a:lnTo>
                <a:lnTo>
                  <a:pt x="384" y="55"/>
                </a:lnTo>
                <a:lnTo>
                  <a:pt x="389" y="55"/>
                </a:lnTo>
                <a:lnTo>
                  <a:pt x="399" y="55"/>
                </a:lnTo>
                <a:lnTo>
                  <a:pt x="404" y="55"/>
                </a:lnTo>
                <a:lnTo>
                  <a:pt x="409" y="50"/>
                </a:lnTo>
                <a:lnTo>
                  <a:pt x="420" y="50"/>
                </a:lnTo>
                <a:lnTo>
                  <a:pt x="430" y="45"/>
                </a:lnTo>
                <a:lnTo>
                  <a:pt x="445" y="45"/>
                </a:lnTo>
                <a:lnTo>
                  <a:pt x="465" y="39"/>
                </a:lnTo>
                <a:lnTo>
                  <a:pt x="475" y="34"/>
                </a:lnTo>
                <a:lnTo>
                  <a:pt x="490" y="34"/>
                </a:lnTo>
                <a:lnTo>
                  <a:pt x="500" y="29"/>
                </a:lnTo>
                <a:lnTo>
                  <a:pt x="505" y="29"/>
                </a:lnTo>
                <a:lnTo>
                  <a:pt x="510" y="29"/>
                </a:lnTo>
                <a:lnTo>
                  <a:pt x="515" y="29"/>
                </a:lnTo>
                <a:lnTo>
                  <a:pt x="525" y="29"/>
                </a:lnTo>
                <a:lnTo>
                  <a:pt x="530" y="29"/>
                </a:lnTo>
                <a:lnTo>
                  <a:pt x="540" y="29"/>
                </a:lnTo>
                <a:lnTo>
                  <a:pt x="545" y="29"/>
                </a:lnTo>
                <a:lnTo>
                  <a:pt x="550" y="29"/>
                </a:lnTo>
                <a:lnTo>
                  <a:pt x="555" y="34"/>
                </a:lnTo>
                <a:lnTo>
                  <a:pt x="560" y="34"/>
                </a:lnTo>
                <a:lnTo>
                  <a:pt x="565" y="39"/>
                </a:lnTo>
                <a:lnTo>
                  <a:pt x="575" y="39"/>
                </a:lnTo>
                <a:lnTo>
                  <a:pt x="585" y="45"/>
                </a:lnTo>
                <a:lnTo>
                  <a:pt x="600" y="55"/>
                </a:lnTo>
                <a:lnTo>
                  <a:pt x="605" y="65"/>
                </a:lnTo>
                <a:lnTo>
                  <a:pt x="615" y="70"/>
                </a:lnTo>
                <a:lnTo>
                  <a:pt x="620" y="70"/>
                </a:lnTo>
                <a:lnTo>
                  <a:pt x="635" y="75"/>
                </a:lnTo>
                <a:lnTo>
                  <a:pt x="640" y="80"/>
                </a:lnTo>
                <a:lnTo>
                  <a:pt x="645" y="80"/>
                </a:lnTo>
                <a:lnTo>
                  <a:pt x="650" y="80"/>
                </a:lnTo>
                <a:lnTo>
                  <a:pt x="655" y="80"/>
                </a:lnTo>
                <a:lnTo>
                  <a:pt x="660" y="80"/>
                </a:lnTo>
                <a:lnTo>
                  <a:pt x="665" y="80"/>
                </a:lnTo>
                <a:lnTo>
                  <a:pt x="670" y="80"/>
                </a:lnTo>
                <a:lnTo>
                  <a:pt x="680" y="80"/>
                </a:lnTo>
                <a:lnTo>
                  <a:pt x="680" y="75"/>
                </a:lnTo>
                <a:lnTo>
                  <a:pt x="685" y="75"/>
                </a:lnTo>
                <a:lnTo>
                  <a:pt x="690" y="75"/>
                </a:lnTo>
                <a:lnTo>
                  <a:pt x="695" y="70"/>
                </a:lnTo>
                <a:lnTo>
                  <a:pt x="700" y="65"/>
                </a:lnTo>
                <a:lnTo>
                  <a:pt x="715" y="45"/>
                </a:lnTo>
                <a:lnTo>
                  <a:pt x="725" y="39"/>
                </a:lnTo>
                <a:lnTo>
                  <a:pt x="730" y="39"/>
                </a:lnTo>
                <a:lnTo>
                  <a:pt x="735" y="34"/>
                </a:lnTo>
                <a:lnTo>
                  <a:pt x="740" y="34"/>
                </a:lnTo>
                <a:lnTo>
                  <a:pt x="740" y="29"/>
                </a:lnTo>
                <a:lnTo>
                  <a:pt x="745" y="29"/>
                </a:lnTo>
                <a:lnTo>
                  <a:pt x="750" y="29"/>
                </a:lnTo>
                <a:lnTo>
                  <a:pt x="755" y="29"/>
                </a:lnTo>
                <a:lnTo>
                  <a:pt x="760" y="34"/>
                </a:lnTo>
                <a:lnTo>
                  <a:pt x="770" y="34"/>
                </a:lnTo>
                <a:lnTo>
                  <a:pt x="775" y="39"/>
                </a:lnTo>
                <a:lnTo>
                  <a:pt x="780" y="45"/>
                </a:lnTo>
                <a:lnTo>
                  <a:pt x="785" y="50"/>
                </a:lnTo>
                <a:lnTo>
                  <a:pt x="790" y="55"/>
                </a:lnTo>
                <a:lnTo>
                  <a:pt x="795" y="65"/>
                </a:lnTo>
                <a:lnTo>
                  <a:pt x="800" y="70"/>
                </a:lnTo>
                <a:lnTo>
                  <a:pt x="805" y="75"/>
                </a:lnTo>
                <a:lnTo>
                  <a:pt x="815" y="80"/>
                </a:lnTo>
                <a:lnTo>
                  <a:pt x="790" y="60"/>
                </a:lnTo>
                <a:lnTo>
                  <a:pt x="800" y="29"/>
                </a:lnTo>
                <a:lnTo>
                  <a:pt x="830" y="80"/>
                </a:lnTo>
                <a:lnTo>
                  <a:pt x="800" y="19"/>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420" name=""/>
          <p:cNvSpPr/>
          <p:nvPr/>
        </p:nvSpPr>
        <p:spPr>
          <a:xfrm>
            <a:off x="4546440" y="1566720"/>
            <a:ext cx="2556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6421" name=""/>
          <p:cNvSpPr/>
          <p:nvPr/>
        </p:nvSpPr>
        <p:spPr>
          <a:xfrm flipH="1">
            <a:off x="4538520" y="1574640"/>
            <a:ext cx="41400" cy="24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422" name=""/>
          <p:cNvSpPr/>
          <p:nvPr/>
        </p:nvSpPr>
        <p:spPr>
          <a:xfrm flipV="1">
            <a:off x="4602240" y="1506600"/>
            <a:ext cx="98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6423" name=""/>
          <p:cNvSpPr/>
          <p:nvPr/>
        </p:nvSpPr>
        <p:spPr>
          <a:xfrm>
            <a:off x="5689440" y="233028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4" name=""/>
          <p:cNvSpPr/>
          <p:nvPr/>
        </p:nvSpPr>
        <p:spPr>
          <a:xfrm>
            <a:off x="6032520" y="2338560"/>
            <a:ext cx="0" cy="272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425" name=""/>
          <p:cNvGrpSpPr/>
          <p:nvPr/>
        </p:nvGrpSpPr>
        <p:grpSpPr>
          <a:xfrm>
            <a:off x="4908600" y="1719360"/>
            <a:ext cx="690480" cy="609480"/>
            <a:chOff x="4908600" y="1719360"/>
            <a:chExt cx="690480" cy="609480"/>
          </a:xfrm>
        </p:grpSpPr>
        <p:sp>
          <p:nvSpPr>
            <p:cNvPr id="6426" name=""/>
            <p:cNvSpPr/>
            <p:nvPr/>
          </p:nvSpPr>
          <p:spPr>
            <a:xfrm flipH="1">
              <a:off x="5484960" y="1719360"/>
              <a:ext cx="1141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7" name=""/>
            <p:cNvSpPr/>
            <p:nvPr/>
          </p:nvSpPr>
          <p:spPr>
            <a:xfrm>
              <a:off x="5226120" y="1719360"/>
              <a:ext cx="201600" cy="0"/>
            </a:xfrm>
            <a:custGeom>
              <a:avLst/>
              <a:gdLst/>
              <a:ahLst/>
              <a:rect l="0" t="0" r="r" b="b"/>
              <a:pathLst>
                <a:path fill="none" w="560" h="0">
                  <a:moveTo>
                    <a:pt x="560" y="0"/>
                  </a:moveTo>
                  <a:lnTo>
                    <a:pt x="241" y="0"/>
                  </a:lnTo>
                  <a:lnTo>
                    <a:pt x="0" y="0"/>
                  </a:lnTo>
                </a:path>
              </a:pathLst>
            </a:custGeom>
            <a:ln w="12600">
              <a:solidFill>
                <a:srgbClr val="fd07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28" name=""/>
            <p:cNvSpPr/>
            <p:nvPr/>
          </p:nvSpPr>
          <p:spPr>
            <a:xfrm flipH="1">
              <a:off x="5051520" y="1719360"/>
              <a:ext cx="1173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9" name=""/>
            <p:cNvSpPr/>
            <p:nvPr/>
          </p:nvSpPr>
          <p:spPr>
            <a:xfrm flipH="1">
              <a:off x="4908600" y="1719360"/>
              <a:ext cx="8568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0" name=""/>
            <p:cNvSpPr/>
            <p:nvPr/>
          </p:nvSpPr>
          <p:spPr>
            <a:xfrm flipH="1">
              <a:off x="5484960" y="2328840"/>
              <a:ext cx="1141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1" name=""/>
            <p:cNvSpPr/>
            <p:nvPr/>
          </p:nvSpPr>
          <p:spPr>
            <a:xfrm>
              <a:off x="5226120" y="2328840"/>
              <a:ext cx="201600" cy="0"/>
            </a:xfrm>
            <a:custGeom>
              <a:avLst/>
              <a:gdLst/>
              <a:ahLst/>
              <a:rect l="0" t="0" r="r" b="b"/>
              <a:pathLst>
                <a:path fill="none" w="560" h="0">
                  <a:moveTo>
                    <a:pt x="560" y="0"/>
                  </a:moveTo>
                  <a:lnTo>
                    <a:pt x="241" y="0"/>
                  </a:lnTo>
                  <a:lnTo>
                    <a:pt x="0" y="0"/>
                  </a:lnTo>
                </a:path>
              </a:pathLst>
            </a:custGeom>
            <a:ln w="12600">
              <a:solidFill>
                <a:srgbClr val="fd07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32" name=""/>
            <p:cNvSpPr/>
            <p:nvPr/>
          </p:nvSpPr>
          <p:spPr>
            <a:xfrm flipH="1">
              <a:off x="5051520" y="2328840"/>
              <a:ext cx="1173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3" name=""/>
            <p:cNvSpPr/>
            <p:nvPr/>
          </p:nvSpPr>
          <p:spPr>
            <a:xfrm flipH="1">
              <a:off x="4908600" y="2328840"/>
              <a:ext cx="8568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4" name=""/>
            <p:cNvSpPr/>
            <p:nvPr/>
          </p:nvSpPr>
          <p:spPr>
            <a:xfrm>
              <a:off x="5599080" y="1719360"/>
              <a:ext cx="0" cy="14112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5" name=""/>
            <p:cNvSpPr/>
            <p:nvPr/>
          </p:nvSpPr>
          <p:spPr>
            <a:xfrm>
              <a:off x="5599080" y="1944720"/>
              <a:ext cx="0" cy="158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6" name=""/>
            <p:cNvSpPr/>
            <p:nvPr/>
          </p:nvSpPr>
          <p:spPr>
            <a:xfrm>
              <a:off x="5599080" y="2182680"/>
              <a:ext cx="0" cy="1461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37" name=""/>
          <p:cNvSpPr/>
          <p:nvPr/>
        </p:nvSpPr>
        <p:spPr>
          <a:xfrm>
            <a:off x="5689440" y="171756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38" name=""/>
          <p:cNvSpPr/>
          <p:nvPr/>
        </p:nvSpPr>
        <p:spPr>
          <a:xfrm>
            <a:off x="4602240" y="704880"/>
            <a:ext cx="151200" cy="140040"/>
          </a:xfrm>
          <a:custGeom>
            <a:avLst/>
            <a:gdLst/>
            <a:ahLst/>
            <a:rect l="0" t="0" r="r" b="b"/>
            <a:pathLst>
              <a:path w="420" h="389">
                <a:moveTo>
                  <a:pt x="420" y="125"/>
                </a:moveTo>
                <a:lnTo>
                  <a:pt x="0" y="389"/>
                </a:lnTo>
                <a:lnTo>
                  <a:pt x="316" y="0"/>
                </a:lnTo>
                <a:lnTo>
                  <a:pt x="420" y="12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39" name=""/>
          <p:cNvSpPr/>
          <p:nvPr/>
        </p:nvSpPr>
        <p:spPr>
          <a:xfrm>
            <a:off x="4732200" y="353880"/>
            <a:ext cx="662400" cy="373320"/>
          </a:xfrm>
          <a:custGeom>
            <a:avLst/>
            <a:gdLst/>
            <a:ahLst/>
            <a:rect l="0" t="0" r="r" b="b"/>
            <a:pathLst>
              <a:path fill="none" w="1840" h="1037">
                <a:moveTo>
                  <a:pt x="0" y="1037"/>
                </a:moveTo>
                <a:lnTo>
                  <a:pt x="1182" y="0"/>
                </a:lnTo>
                <a:lnTo>
                  <a:pt x="184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0" name=""/>
          <p:cNvSpPr/>
          <p:nvPr/>
        </p:nvSpPr>
        <p:spPr>
          <a:xfrm>
            <a:off x="6032520" y="90324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41" name=""/>
          <p:cNvSpPr/>
          <p:nvPr/>
        </p:nvSpPr>
        <p:spPr>
          <a:xfrm>
            <a:off x="5445000" y="2155680"/>
            <a:ext cx="981360" cy="844920"/>
          </a:xfrm>
          <a:custGeom>
            <a:avLst/>
            <a:gdLst/>
            <a:ahLst/>
            <a:rect l="0" t="0" r="r" b="b"/>
            <a:pathLst>
              <a:path fill="none" w="2726" h="2347">
                <a:moveTo>
                  <a:pt x="0" y="0"/>
                </a:moveTo>
                <a:lnTo>
                  <a:pt x="1839" y="2347"/>
                </a:lnTo>
                <a:lnTo>
                  <a:pt x="2726" y="2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2" name=""/>
          <p:cNvSpPr/>
          <p:nvPr/>
        </p:nvSpPr>
        <p:spPr>
          <a:xfrm>
            <a:off x="3360600" y="1563840"/>
            <a:ext cx="912960" cy="912960"/>
          </a:xfrm>
          <a:prstGeom prst="ellipse">
            <a:avLst/>
          </a:prstGeom>
          <a:noFill/>
          <a:ln w="12600">
            <a:solidFill>
              <a:srgbClr val="fd0700"/>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6443" name=""/>
          <p:cNvSpPr/>
          <p:nvPr/>
        </p:nvSpPr>
        <p:spPr>
          <a:xfrm>
            <a:off x="3422520" y="1622520"/>
            <a:ext cx="803520" cy="790920"/>
          </a:xfrm>
          <a:custGeom>
            <a:avLst/>
            <a:gdLst/>
            <a:ahLst/>
            <a:rect l="0" t="0" r="r" b="b"/>
            <a:pathLst>
              <a:path fill="none" w="2232" h="2197">
                <a:moveTo>
                  <a:pt x="732" y="61"/>
                </a:moveTo>
                <a:lnTo>
                  <a:pt x="776" y="61"/>
                </a:lnTo>
                <a:lnTo>
                  <a:pt x="802" y="61"/>
                </a:lnTo>
                <a:lnTo>
                  <a:pt x="829" y="61"/>
                </a:lnTo>
                <a:lnTo>
                  <a:pt x="855" y="61"/>
                </a:lnTo>
                <a:lnTo>
                  <a:pt x="881" y="52"/>
                </a:lnTo>
                <a:lnTo>
                  <a:pt x="926" y="35"/>
                </a:lnTo>
                <a:lnTo>
                  <a:pt x="961" y="35"/>
                </a:lnTo>
                <a:lnTo>
                  <a:pt x="996" y="26"/>
                </a:lnTo>
                <a:lnTo>
                  <a:pt x="1023" y="26"/>
                </a:lnTo>
                <a:lnTo>
                  <a:pt x="1049" y="17"/>
                </a:lnTo>
                <a:lnTo>
                  <a:pt x="1075" y="8"/>
                </a:lnTo>
                <a:lnTo>
                  <a:pt x="1102" y="8"/>
                </a:lnTo>
                <a:lnTo>
                  <a:pt x="1129" y="0"/>
                </a:lnTo>
                <a:lnTo>
                  <a:pt x="1156" y="0"/>
                </a:lnTo>
                <a:lnTo>
                  <a:pt x="1182" y="0"/>
                </a:lnTo>
                <a:lnTo>
                  <a:pt x="1226" y="0"/>
                </a:lnTo>
                <a:lnTo>
                  <a:pt x="1253" y="0"/>
                </a:lnTo>
                <a:lnTo>
                  <a:pt x="1279" y="0"/>
                </a:lnTo>
                <a:lnTo>
                  <a:pt x="1306" y="8"/>
                </a:lnTo>
                <a:lnTo>
                  <a:pt x="1368" y="35"/>
                </a:lnTo>
                <a:lnTo>
                  <a:pt x="1403" y="44"/>
                </a:lnTo>
                <a:lnTo>
                  <a:pt x="1429" y="52"/>
                </a:lnTo>
                <a:lnTo>
                  <a:pt x="1456" y="52"/>
                </a:lnTo>
                <a:lnTo>
                  <a:pt x="1482" y="70"/>
                </a:lnTo>
                <a:lnTo>
                  <a:pt x="1509" y="88"/>
                </a:lnTo>
                <a:lnTo>
                  <a:pt x="1544" y="88"/>
                </a:lnTo>
                <a:lnTo>
                  <a:pt x="1570" y="97"/>
                </a:lnTo>
                <a:lnTo>
                  <a:pt x="1597" y="114"/>
                </a:lnTo>
                <a:lnTo>
                  <a:pt x="1623" y="132"/>
                </a:lnTo>
                <a:lnTo>
                  <a:pt x="1659" y="149"/>
                </a:lnTo>
                <a:lnTo>
                  <a:pt x="1685" y="158"/>
                </a:lnTo>
                <a:lnTo>
                  <a:pt x="1711" y="158"/>
                </a:lnTo>
                <a:lnTo>
                  <a:pt x="1738" y="176"/>
                </a:lnTo>
                <a:lnTo>
                  <a:pt x="1764" y="185"/>
                </a:lnTo>
                <a:lnTo>
                  <a:pt x="1808" y="211"/>
                </a:lnTo>
                <a:lnTo>
                  <a:pt x="1826" y="238"/>
                </a:lnTo>
                <a:lnTo>
                  <a:pt x="1853" y="264"/>
                </a:lnTo>
                <a:lnTo>
                  <a:pt x="1870" y="291"/>
                </a:lnTo>
                <a:lnTo>
                  <a:pt x="1897" y="317"/>
                </a:lnTo>
                <a:lnTo>
                  <a:pt x="1914" y="343"/>
                </a:lnTo>
                <a:lnTo>
                  <a:pt x="1914" y="370"/>
                </a:lnTo>
                <a:lnTo>
                  <a:pt x="1932" y="405"/>
                </a:lnTo>
                <a:lnTo>
                  <a:pt x="1941" y="432"/>
                </a:lnTo>
                <a:lnTo>
                  <a:pt x="1958" y="458"/>
                </a:lnTo>
                <a:lnTo>
                  <a:pt x="1985" y="485"/>
                </a:lnTo>
                <a:lnTo>
                  <a:pt x="2011" y="502"/>
                </a:lnTo>
                <a:lnTo>
                  <a:pt x="2038" y="520"/>
                </a:lnTo>
                <a:lnTo>
                  <a:pt x="2055" y="546"/>
                </a:lnTo>
                <a:lnTo>
                  <a:pt x="2073" y="573"/>
                </a:lnTo>
                <a:lnTo>
                  <a:pt x="2082" y="599"/>
                </a:lnTo>
                <a:lnTo>
                  <a:pt x="2091" y="634"/>
                </a:lnTo>
                <a:lnTo>
                  <a:pt x="2100" y="670"/>
                </a:lnTo>
                <a:lnTo>
                  <a:pt x="2108" y="723"/>
                </a:lnTo>
                <a:lnTo>
                  <a:pt x="2117" y="749"/>
                </a:lnTo>
                <a:lnTo>
                  <a:pt x="2117" y="776"/>
                </a:lnTo>
                <a:lnTo>
                  <a:pt x="2126" y="820"/>
                </a:lnTo>
                <a:lnTo>
                  <a:pt x="2144" y="855"/>
                </a:lnTo>
                <a:lnTo>
                  <a:pt x="2161" y="881"/>
                </a:lnTo>
                <a:lnTo>
                  <a:pt x="2170" y="908"/>
                </a:lnTo>
                <a:lnTo>
                  <a:pt x="2179" y="934"/>
                </a:lnTo>
                <a:lnTo>
                  <a:pt x="2197" y="961"/>
                </a:lnTo>
                <a:lnTo>
                  <a:pt x="2197" y="987"/>
                </a:lnTo>
                <a:lnTo>
                  <a:pt x="2205" y="1014"/>
                </a:lnTo>
                <a:lnTo>
                  <a:pt x="2232" y="1058"/>
                </a:lnTo>
                <a:lnTo>
                  <a:pt x="2232" y="1084"/>
                </a:lnTo>
                <a:lnTo>
                  <a:pt x="2232" y="1112"/>
                </a:lnTo>
                <a:lnTo>
                  <a:pt x="2232" y="1138"/>
                </a:lnTo>
                <a:lnTo>
                  <a:pt x="2232" y="1165"/>
                </a:lnTo>
                <a:lnTo>
                  <a:pt x="2232" y="1209"/>
                </a:lnTo>
                <a:lnTo>
                  <a:pt x="2232" y="1235"/>
                </a:lnTo>
                <a:lnTo>
                  <a:pt x="2232" y="1262"/>
                </a:lnTo>
                <a:lnTo>
                  <a:pt x="2223" y="1315"/>
                </a:lnTo>
                <a:lnTo>
                  <a:pt x="2223" y="1341"/>
                </a:lnTo>
                <a:lnTo>
                  <a:pt x="2205" y="1368"/>
                </a:lnTo>
                <a:lnTo>
                  <a:pt x="2179" y="1394"/>
                </a:lnTo>
                <a:lnTo>
                  <a:pt x="2170" y="1420"/>
                </a:lnTo>
                <a:lnTo>
                  <a:pt x="2152" y="1447"/>
                </a:lnTo>
                <a:lnTo>
                  <a:pt x="2135" y="1473"/>
                </a:lnTo>
                <a:lnTo>
                  <a:pt x="2117" y="1500"/>
                </a:lnTo>
                <a:lnTo>
                  <a:pt x="2091" y="1562"/>
                </a:lnTo>
                <a:lnTo>
                  <a:pt x="2073" y="1588"/>
                </a:lnTo>
                <a:lnTo>
                  <a:pt x="2047" y="1614"/>
                </a:lnTo>
                <a:lnTo>
                  <a:pt x="2020" y="1659"/>
                </a:lnTo>
                <a:lnTo>
                  <a:pt x="1994" y="1703"/>
                </a:lnTo>
                <a:lnTo>
                  <a:pt x="1967" y="1729"/>
                </a:lnTo>
                <a:lnTo>
                  <a:pt x="1932" y="1782"/>
                </a:lnTo>
                <a:lnTo>
                  <a:pt x="1923" y="1808"/>
                </a:lnTo>
                <a:lnTo>
                  <a:pt x="1906" y="1853"/>
                </a:lnTo>
                <a:lnTo>
                  <a:pt x="1897" y="1879"/>
                </a:lnTo>
                <a:lnTo>
                  <a:pt x="1879" y="1905"/>
                </a:lnTo>
                <a:lnTo>
                  <a:pt x="1853" y="1914"/>
                </a:lnTo>
                <a:lnTo>
                  <a:pt x="1826" y="1923"/>
                </a:lnTo>
                <a:lnTo>
                  <a:pt x="1800" y="1941"/>
                </a:lnTo>
                <a:lnTo>
                  <a:pt x="1773" y="1950"/>
                </a:lnTo>
                <a:lnTo>
                  <a:pt x="1729" y="1976"/>
                </a:lnTo>
                <a:lnTo>
                  <a:pt x="1703" y="1985"/>
                </a:lnTo>
                <a:lnTo>
                  <a:pt x="1676" y="1994"/>
                </a:lnTo>
                <a:lnTo>
                  <a:pt x="1650" y="2020"/>
                </a:lnTo>
                <a:lnTo>
                  <a:pt x="1623" y="2038"/>
                </a:lnTo>
                <a:lnTo>
                  <a:pt x="1606" y="2064"/>
                </a:lnTo>
                <a:lnTo>
                  <a:pt x="1579" y="2082"/>
                </a:lnTo>
                <a:lnTo>
                  <a:pt x="1544" y="2100"/>
                </a:lnTo>
                <a:lnTo>
                  <a:pt x="1447" y="2152"/>
                </a:lnTo>
                <a:lnTo>
                  <a:pt x="1403" y="2179"/>
                </a:lnTo>
                <a:lnTo>
                  <a:pt x="1376" y="2197"/>
                </a:lnTo>
                <a:lnTo>
                  <a:pt x="1297" y="2197"/>
                </a:lnTo>
                <a:lnTo>
                  <a:pt x="1271" y="2197"/>
                </a:lnTo>
                <a:lnTo>
                  <a:pt x="1244" y="2197"/>
                </a:lnTo>
                <a:lnTo>
                  <a:pt x="1209" y="2188"/>
                </a:lnTo>
                <a:lnTo>
                  <a:pt x="1182" y="2170"/>
                </a:lnTo>
                <a:lnTo>
                  <a:pt x="1156" y="2170"/>
                </a:lnTo>
                <a:lnTo>
                  <a:pt x="1111" y="2161"/>
                </a:lnTo>
                <a:lnTo>
                  <a:pt x="1049" y="2161"/>
                </a:lnTo>
                <a:lnTo>
                  <a:pt x="1023" y="2152"/>
                </a:lnTo>
                <a:lnTo>
                  <a:pt x="987" y="2152"/>
                </a:lnTo>
                <a:lnTo>
                  <a:pt x="952" y="2152"/>
                </a:lnTo>
                <a:lnTo>
                  <a:pt x="926" y="2152"/>
                </a:lnTo>
                <a:lnTo>
                  <a:pt x="881" y="2152"/>
                </a:lnTo>
                <a:lnTo>
                  <a:pt x="855" y="2152"/>
                </a:lnTo>
                <a:lnTo>
                  <a:pt x="829" y="2152"/>
                </a:lnTo>
                <a:lnTo>
                  <a:pt x="802" y="2152"/>
                </a:lnTo>
                <a:lnTo>
                  <a:pt x="749" y="2152"/>
                </a:lnTo>
                <a:lnTo>
                  <a:pt x="705" y="2152"/>
                </a:lnTo>
                <a:lnTo>
                  <a:pt x="679" y="2152"/>
                </a:lnTo>
                <a:lnTo>
                  <a:pt x="652" y="2152"/>
                </a:lnTo>
                <a:lnTo>
                  <a:pt x="626" y="2144"/>
                </a:lnTo>
                <a:lnTo>
                  <a:pt x="573" y="2135"/>
                </a:lnTo>
                <a:lnTo>
                  <a:pt x="537" y="2108"/>
                </a:lnTo>
                <a:lnTo>
                  <a:pt x="502" y="2091"/>
                </a:lnTo>
                <a:lnTo>
                  <a:pt x="476" y="2073"/>
                </a:lnTo>
                <a:lnTo>
                  <a:pt x="449" y="2047"/>
                </a:lnTo>
                <a:lnTo>
                  <a:pt x="440" y="2020"/>
                </a:lnTo>
                <a:lnTo>
                  <a:pt x="432" y="1985"/>
                </a:lnTo>
                <a:lnTo>
                  <a:pt x="414" y="1941"/>
                </a:lnTo>
                <a:lnTo>
                  <a:pt x="379" y="1897"/>
                </a:lnTo>
                <a:lnTo>
                  <a:pt x="370" y="1870"/>
                </a:lnTo>
                <a:lnTo>
                  <a:pt x="308" y="1844"/>
                </a:lnTo>
                <a:lnTo>
                  <a:pt x="286" y="1804"/>
                </a:lnTo>
                <a:lnTo>
                  <a:pt x="255" y="1778"/>
                </a:lnTo>
                <a:lnTo>
                  <a:pt x="246" y="1738"/>
                </a:lnTo>
                <a:lnTo>
                  <a:pt x="185" y="1703"/>
                </a:lnTo>
                <a:lnTo>
                  <a:pt x="141" y="1659"/>
                </a:lnTo>
                <a:lnTo>
                  <a:pt x="105" y="1641"/>
                </a:lnTo>
                <a:lnTo>
                  <a:pt x="79" y="1614"/>
                </a:lnTo>
                <a:lnTo>
                  <a:pt x="44" y="1579"/>
                </a:lnTo>
                <a:lnTo>
                  <a:pt x="17" y="1562"/>
                </a:lnTo>
                <a:lnTo>
                  <a:pt x="17" y="1535"/>
                </a:lnTo>
                <a:lnTo>
                  <a:pt x="17" y="1509"/>
                </a:lnTo>
                <a:lnTo>
                  <a:pt x="8" y="1482"/>
                </a:lnTo>
                <a:lnTo>
                  <a:pt x="0" y="1438"/>
                </a:lnTo>
                <a:lnTo>
                  <a:pt x="0" y="1412"/>
                </a:lnTo>
                <a:lnTo>
                  <a:pt x="0" y="1385"/>
                </a:lnTo>
                <a:lnTo>
                  <a:pt x="0" y="1359"/>
                </a:lnTo>
                <a:lnTo>
                  <a:pt x="0" y="1315"/>
                </a:lnTo>
                <a:lnTo>
                  <a:pt x="0" y="1279"/>
                </a:lnTo>
                <a:lnTo>
                  <a:pt x="8" y="1244"/>
                </a:lnTo>
                <a:lnTo>
                  <a:pt x="17" y="1218"/>
                </a:lnTo>
                <a:lnTo>
                  <a:pt x="17" y="1191"/>
                </a:lnTo>
                <a:lnTo>
                  <a:pt x="35" y="1147"/>
                </a:lnTo>
                <a:lnTo>
                  <a:pt x="35" y="1121"/>
                </a:lnTo>
                <a:lnTo>
                  <a:pt x="35" y="1075"/>
                </a:lnTo>
                <a:lnTo>
                  <a:pt x="35" y="1049"/>
                </a:lnTo>
                <a:lnTo>
                  <a:pt x="35" y="1014"/>
                </a:lnTo>
                <a:lnTo>
                  <a:pt x="35" y="987"/>
                </a:lnTo>
                <a:lnTo>
                  <a:pt x="26" y="961"/>
                </a:lnTo>
                <a:lnTo>
                  <a:pt x="17" y="899"/>
                </a:lnTo>
                <a:lnTo>
                  <a:pt x="17" y="864"/>
                </a:lnTo>
                <a:lnTo>
                  <a:pt x="17" y="829"/>
                </a:lnTo>
                <a:lnTo>
                  <a:pt x="17" y="802"/>
                </a:lnTo>
                <a:lnTo>
                  <a:pt x="17" y="767"/>
                </a:lnTo>
                <a:lnTo>
                  <a:pt x="17" y="740"/>
                </a:lnTo>
                <a:lnTo>
                  <a:pt x="26" y="714"/>
                </a:lnTo>
                <a:lnTo>
                  <a:pt x="44" y="679"/>
                </a:lnTo>
                <a:lnTo>
                  <a:pt x="61" y="652"/>
                </a:lnTo>
                <a:lnTo>
                  <a:pt x="88" y="608"/>
                </a:lnTo>
                <a:lnTo>
                  <a:pt x="105" y="564"/>
                </a:lnTo>
                <a:lnTo>
                  <a:pt x="123" y="537"/>
                </a:lnTo>
                <a:lnTo>
                  <a:pt x="149" y="529"/>
                </a:lnTo>
                <a:lnTo>
                  <a:pt x="194" y="502"/>
                </a:lnTo>
                <a:lnTo>
                  <a:pt x="229" y="467"/>
                </a:lnTo>
                <a:lnTo>
                  <a:pt x="264" y="440"/>
                </a:lnTo>
                <a:lnTo>
                  <a:pt x="282" y="414"/>
                </a:lnTo>
                <a:lnTo>
                  <a:pt x="308" y="343"/>
                </a:lnTo>
                <a:lnTo>
                  <a:pt x="317" y="317"/>
                </a:lnTo>
                <a:lnTo>
                  <a:pt x="343" y="299"/>
                </a:lnTo>
                <a:lnTo>
                  <a:pt x="370" y="291"/>
                </a:lnTo>
                <a:lnTo>
                  <a:pt x="405" y="273"/>
                </a:lnTo>
                <a:lnTo>
                  <a:pt x="432" y="264"/>
                </a:lnTo>
                <a:lnTo>
                  <a:pt x="432" y="260"/>
                </a:lnTo>
                <a:lnTo>
                  <a:pt x="458" y="229"/>
                </a:lnTo>
                <a:lnTo>
                  <a:pt x="511" y="202"/>
                </a:lnTo>
                <a:lnTo>
                  <a:pt x="546" y="180"/>
                </a:lnTo>
                <a:lnTo>
                  <a:pt x="537" y="189"/>
                </a:lnTo>
                <a:lnTo>
                  <a:pt x="577" y="163"/>
                </a:lnTo>
                <a:lnTo>
                  <a:pt x="604" y="123"/>
                </a:lnTo>
                <a:lnTo>
                  <a:pt x="626" y="136"/>
                </a:lnTo>
                <a:lnTo>
                  <a:pt x="670" y="114"/>
                </a:lnTo>
                <a:lnTo>
                  <a:pt x="696" y="88"/>
                </a:lnTo>
                <a:lnTo>
                  <a:pt x="696" y="6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4" name=""/>
          <p:cNvSpPr/>
          <p:nvPr/>
        </p:nvSpPr>
        <p:spPr>
          <a:xfrm>
            <a:off x="4873680" y="1768320"/>
            <a:ext cx="32040" cy="495720"/>
          </a:xfrm>
          <a:custGeom>
            <a:avLst/>
            <a:gdLst/>
            <a:ahLst/>
            <a:rect l="0" t="0" r="r" b="b"/>
            <a:pathLst>
              <a:path fill="none" w="89" h="1377">
                <a:moveTo>
                  <a:pt x="80" y="0"/>
                </a:moveTo>
                <a:lnTo>
                  <a:pt x="62" y="44"/>
                </a:lnTo>
                <a:lnTo>
                  <a:pt x="35" y="61"/>
                </a:lnTo>
                <a:lnTo>
                  <a:pt x="17" y="88"/>
                </a:lnTo>
                <a:lnTo>
                  <a:pt x="0" y="114"/>
                </a:lnTo>
                <a:lnTo>
                  <a:pt x="0" y="141"/>
                </a:lnTo>
                <a:lnTo>
                  <a:pt x="0" y="185"/>
                </a:lnTo>
                <a:lnTo>
                  <a:pt x="0" y="211"/>
                </a:lnTo>
                <a:lnTo>
                  <a:pt x="0" y="238"/>
                </a:lnTo>
                <a:lnTo>
                  <a:pt x="0" y="282"/>
                </a:lnTo>
                <a:lnTo>
                  <a:pt x="0" y="326"/>
                </a:lnTo>
                <a:lnTo>
                  <a:pt x="0" y="371"/>
                </a:lnTo>
                <a:lnTo>
                  <a:pt x="8" y="397"/>
                </a:lnTo>
                <a:lnTo>
                  <a:pt x="17" y="441"/>
                </a:lnTo>
                <a:lnTo>
                  <a:pt x="26" y="468"/>
                </a:lnTo>
                <a:lnTo>
                  <a:pt x="35" y="503"/>
                </a:lnTo>
                <a:lnTo>
                  <a:pt x="35" y="530"/>
                </a:lnTo>
                <a:lnTo>
                  <a:pt x="45" y="574"/>
                </a:lnTo>
                <a:lnTo>
                  <a:pt x="53" y="600"/>
                </a:lnTo>
                <a:lnTo>
                  <a:pt x="53" y="644"/>
                </a:lnTo>
                <a:lnTo>
                  <a:pt x="45" y="671"/>
                </a:lnTo>
                <a:lnTo>
                  <a:pt x="35" y="706"/>
                </a:lnTo>
                <a:lnTo>
                  <a:pt x="35" y="733"/>
                </a:lnTo>
                <a:lnTo>
                  <a:pt x="26" y="759"/>
                </a:lnTo>
                <a:lnTo>
                  <a:pt x="26" y="785"/>
                </a:lnTo>
                <a:lnTo>
                  <a:pt x="26" y="847"/>
                </a:lnTo>
                <a:lnTo>
                  <a:pt x="17" y="891"/>
                </a:lnTo>
                <a:lnTo>
                  <a:pt x="17" y="918"/>
                </a:lnTo>
                <a:lnTo>
                  <a:pt x="17" y="944"/>
                </a:lnTo>
                <a:lnTo>
                  <a:pt x="26" y="971"/>
                </a:lnTo>
                <a:lnTo>
                  <a:pt x="35" y="1032"/>
                </a:lnTo>
                <a:lnTo>
                  <a:pt x="45" y="1060"/>
                </a:lnTo>
                <a:lnTo>
                  <a:pt x="45" y="1086"/>
                </a:lnTo>
                <a:lnTo>
                  <a:pt x="45" y="1113"/>
                </a:lnTo>
                <a:lnTo>
                  <a:pt x="45" y="1148"/>
                </a:lnTo>
                <a:lnTo>
                  <a:pt x="45" y="1174"/>
                </a:lnTo>
                <a:lnTo>
                  <a:pt x="35" y="1201"/>
                </a:lnTo>
                <a:lnTo>
                  <a:pt x="35" y="1227"/>
                </a:lnTo>
                <a:lnTo>
                  <a:pt x="35" y="1272"/>
                </a:lnTo>
                <a:lnTo>
                  <a:pt x="35" y="1298"/>
                </a:lnTo>
                <a:lnTo>
                  <a:pt x="53" y="1324"/>
                </a:lnTo>
                <a:lnTo>
                  <a:pt x="62" y="1377"/>
                </a:lnTo>
                <a:lnTo>
                  <a:pt x="89" y="137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45" name=""/>
          <p:cNvSpPr txBox="1"/>
          <p:nvPr/>
        </p:nvSpPr>
        <p:spPr>
          <a:xfrm>
            <a:off x="6200640" y="695160"/>
            <a:ext cx="2882880" cy="17398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Z (LM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virtual condition width (fixed</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gage) perpendicular to datum</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lane X.  Center plan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ligned with datum axis Y)</a:t>
            </a:r>
            <a:endParaRPr b="0" lang="en-US" sz="1800" spc="-1" strike="noStrike">
              <a:solidFill>
                <a:srgbClr val="000000"/>
              </a:solidFill>
              <a:latin typeface="Arial"/>
            </a:endParaRPr>
          </a:p>
        </p:txBody>
      </p:sp>
      <p:sp>
        <p:nvSpPr>
          <p:cNvPr id="6446" name=""/>
          <p:cNvSpPr txBox="1"/>
          <p:nvPr/>
        </p:nvSpPr>
        <p:spPr>
          <a:xfrm>
            <a:off x="5338800" y="144360"/>
            <a:ext cx="5936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sp>
        <p:nvSpPr>
          <p:cNvPr id="6447" name=""/>
          <p:cNvSpPr txBox="1"/>
          <p:nvPr/>
        </p:nvSpPr>
        <p:spPr>
          <a:xfrm>
            <a:off x="6415200" y="2806560"/>
            <a:ext cx="23907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center plane Z</a:t>
            </a:r>
            <a:endParaRPr b="0" lang="en-US" sz="2000" spc="-1" strike="noStrike">
              <a:solidFill>
                <a:srgbClr val="000000"/>
              </a:solidFill>
              <a:latin typeface="Arial"/>
            </a:endParaRPr>
          </a:p>
        </p:txBody>
      </p:sp>
      <p:sp>
        <p:nvSpPr>
          <p:cNvPr id="6448" name=""/>
          <p:cNvSpPr txBox="1"/>
          <p:nvPr/>
        </p:nvSpPr>
        <p:spPr>
          <a:xfrm>
            <a:off x="4751280" y="3321000"/>
            <a:ext cx="166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Y</a:t>
            </a:r>
            <a:endParaRPr b="0" lang="en-US" sz="2000" spc="-1" strike="noStrike">
              <a:solidFill>
                <a:srgbClr val="000000"/>
              </a:solidFill>
              <a:latin typeface="Arial"/>
            </a:endParaRPr>
          </a:p>
        </p:txBody>
      </p:sp>
      <p:sp>
        <p:nvSpPr>
          <p:cNvPr id="6449" name=""/>
          <p:cNvSpPr txBox="1"/>
          <p:nvPr/>
        </p:nvSpPr>
        <p:spPr>
          <a:xfrm>
            <a:off x="4479840" y="3917880"/>
            <a:ext cx="4506840" cy="915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 of datum feature Y</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MC virtual condition cylinder perpendicular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o datum plane X)</a:t>
            </a:r>
            <a:endParaRPr b="0" lang="en-US" sz="1800" spc="-1" strike="noStrike">
              <a:solidFill>
                <a:srgbClr val="000000"/>
              </a:solidFill>
              <a:latin typeface="Arial"/>
            </a:endParaRPr>
          </a:p>
        </p:txBody>
      </p:sp>
      <p:sp>
        <p:nvSpPr>
          <p:cNvPr id="6450" name=""/>
          <p:cNvSpPr txBox="1"/>
          <p:nvPr/>
        </p:nvSpPr>
        <p:spPr>
          <a:xfrm>
            <a:off x="4570560" y="5776920"/>
            <a:ext cx="44434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X (True geometric counterpart</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f datum feature X simulated by surface plate)</a:t>
            </a:r>
            <a:endParaRPr b="0" lang="en-US" sz="1800" spc="-1" strike="noStrike">
              <a:solidFill>
                <a:srgbClr val="000000"/>
              </a:solidFill>
              <a:latin typeface="Arial"/>
            </a:endParaRPr>
          </a:p>
        </p:txBody>
      </p:sp>
      <p:sp>
        <p:nvSpPr>
          <p:cNvPr id="6451" name=""/>
          <p:cNvSpPr txBox="1"/>
          <p:nvPr/>
        </p:nvSpPr>
        <p:spPr>
          <a:xfrm>
            <a:off x="654120" y="6523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6452"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3" name=""/>
          <p:cNvSpPr/>
          <p:nvPr/>
        </p:nvSpPr>
        <p:spPr>
          <a:xfrm>
            <a:off x="5362560" y="5519880"/>
            <a:ext cx="763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4" name=""/>
          <p:cNvSpPr/>
          <p:nvPr/>
        </p:nvSpPr>
        <p:spPr>
          <a:xfrm>
            <a:off x="5495760" y="5519880"/>
            <a:ext cx="6696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5" name=""/>
          <p:cNvSpPr/>
          <p:nvPr/>
        </p:nvSpPr>
        <p:spPr>
          <a:xfrm>
            <a:off x="5643720" y="5519880"/>
            <a:ext cx="63792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56" name=""/>
          <p:cNvSpPr/>
          <p:nvPr/>
        </p:nvSpPr>
        <p:spPr>
          <a:xfrm>
            <a:off x="5230800" y="5256360"/>
            <a:ext cx="154440" cy="128880"/>
          </a:xfrm>
          <a:custGeom>
            <a:avLst/>
            <a:gdLst/>
            <a:ahLst/>
            <a:rect l="0" t="0" r="r" b="b"/>
            <a:pathLst>
              <a:path w="429" h="358">
                <a:moveTo>
                  <a:pt x="429" y="124"/>
                </a:moveTo>
                <a:lnTo>
                  <a:pt x="0" y="358"/>
                </a:lnTo>
                <a:lnTo>
                  <a:pt x="335" y="0"/>
                </a:lnTo>
                <a:lnTo>
                  <a:pt x="429" y="12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7" name=""/>
          <p:cNvSpPr/>
          <p:nvPr/>
        </p:nvSpPr>
        <p:spPr>
          <a:xfrm>
            <a:off x="5367240" y="4946760"/>
            <a:ext cx="519480" cy="332280"/>
          </a:xfrm>
          <a:custGeom>
            <a:avLst/>
            <a:gdLst/>
            <a:ahLst/>
            <a:rect l="0" t="0" r="r" b="b"/>
            <a:pathLst>
              <a:path fill="none" w="1443" h="923">
                <a:moveTo>
                  <a:pt x="0" y="923"/>
                </a:moveTo>
                <a:lnTo>
                  <a:pt x="1199" y="0"/>
                </a:lnTo>
                <a:lnTo>
                  <a:pt x="144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58" name=""/>
          <p:cNvSpPr txBox="1"/>
          <p:nvPr/>
        </p:nvSpPr>
        <p:spPr>
          <a:xfrm>
            <a:off x="5883120" y="4738680"/>
            <a:ext cx="59364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Part</a:t>
            </a:r>
            <a:endParaRPr b="0" lang="en-US" sz="2000" spc="-1" strike="noStrike">
              <a:solidFill>
                <a:srgbClr val="000000"/>
              </a:solidFill>
              <a:latin typeface="Arial"/>
            </a:endParaRPr>
          </a:p>
        </p:txBody>
      </p:sp>
      <p:grpSp>
        <p:nvGrpSpPr>
          <p:cNvPr id="6459" name=""/>
          <p:cNvGrpSpPr/>
          <p:nvPr/>
        </p:nvGrpSpPr>
        <p:grpSpPr>
          <a:xfrm>
            <a:off x="2824200" y="4629240"/>
            <a:ext cx="2476440" cy="890640"/>
            <a:chOff x="2824200" y="4629240"/>
            <a:chExt cx="2476440" cy="890640"/>
          </a:xfrm>
        </p:grpSpPr>
        <p:sp>
          <p:nvSpPr>
            <p:cNvPr id="6460" name=""/>
            <p:cNvSpPr/>
            <p:nvPr/>
          </p:nvSpPr>
          <p:spPr>
            <a:xfrm>
              <a:off x="3814920" y="4629240"/>
              <a:ext cx="0" cy="5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1" name=""/>
            <p:cNvSpPr/>
            <p:nvPr/>
          </p:nvSpPr>
          <p:spPr>
            <a:xfrm flipV="1">
              <a:off x="3370320" y="544824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6462" name=""/>
            <p:cNvSpPr/>
            <p:nvPr/>
          </p:nvSpPr>
          <p:spPr>
            <a:xfrm flipV="1">
              <a:off x="3294000" y="5411880"/>
              <a:ext cx="84240" cy="85680"/>
            </a:xfrm>
            <a:prstGeom prst="line">
              <a:avLst/>
            </a:prstGeom>
            <a:ln w="12600">
              <a:solidFill>
                <a:srgbClr val="ffffff"/>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6463" name=""/>
            <p:cNvSpPr/>
            <p:nvPr/>
          </p:nvSpPr>
          <p:spPr>
            <a:xfrm flipV="1">
              <a:off x="3213000" y="5318280"/>
              <a:ext cx="174600" cy="17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4" name=""/>
            <p:cNvSpPr/>
            <p:nvPr/>
          </p:nvSpPr>
          <p:spPr>
            <a:xfrm flipV="1">
              <a:off x="3127320" y="5202360"/>
              <a:ext cx="29052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5" name=""/>
            <p:cNvSpPr/>
            <p:nvPr/>
          </p:nvSpPr>
          <p:spPr>
            <a:xfrm flipV="1">
              <a:off x="3044880" y="5149800"/>
              <a:ext cx="34128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6" name=""/>
            <p:cNvSpPr/>
            <p:nvPr/>
          </p:nvSpPr>
          <p:spPr>
            <a:xfrm flipV="1">
              <a:off x="3005280" y="5081760"/>
              <a:ext cx="361800" cy="363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7" name=""/>
            <p:cNvSpPr/>
            <p:nvPr/>
          </p:nvSpPr>
          <p:spPr>
            <a:xfrm flipV="1">
              <a:off x="2954160" y="5081760"/>
              <a:ext cx="327240" cy="328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8" name=""/>
            <p:cNvSpPr/>
            <p:nvPr/>
          </p:nvSpPr>
          <p:spPr>
            <a:xfrm flipV="1">
              <a:off x="2954160" y="5081760"/>
              <a:ext cx="24300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69" name=""/>
            <p:cNvSpPr/>
            <p:nvPr/>
          </p:nvSpPr>
          <p:spPr>
            <a:xfrm flipV="1">
              <a:off x="2949480" y="5081760"/>
              <a:ext cx="162000" cy="16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0" name=""/>
            <p:cNvSpPr/>
            <p:nvPr/>
          </p:nvSpPr>
          <p:spPr>
            <a:xfrm flipV="1">
              <a:off x="2946240" y="5081760"/>
              <a:ext cx="8100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6471" name=""/>
            <p:cNvSpPr/>
            <p:nvPr/>
          </p:nvSpPr>
          <p:spPr>
            <a:xfrm flipV="1">
              <a:off x="2930400" y="5081760"/>
              <a:ext cx="972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6472" name=""/>
            <p:cNvSpPr/>
            <p:nvPr/>
          </p:nvSpPr>
          <p:spPr>
            <a:xfrm flipV="1">
              <a:off x="4208400" y="5081760"/>
              <a:ext cx="12600" cy="14040"/>
            </a:xfrm>
            <a:prstGeom prst="line">
              <a:avLst/>
            </a:prstGeom>
            <a:ln w="12600">
              <a:solidFill>
                <a:srgbClr val="ffffff"/>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6473" name=""/>
            <p:cNvSpPr/>
            <p:nvPr/>
          </p:nvSpPr>
          <p:spPr>
            <a:xfrm flipV="1">
              <a:off x="4243320" y="5081760"/>
              <a:ext cx="637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6474" name=""/>
            <p:cNvSpPr/>
            <p:nvPr/>
          </p:nvSpPr>
          <p:spPr>
            <a:xfrm flipV="1">
              <a:off x="4210200" y="5081760"/>
              <a:ext cx="182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5" name=""/>
            <p:cNvSpPr/>
            <p:nvPr/>
          </p:nvSpPr>
          <p:spPr>
            <a:xfrm flipV="1">
              <a:off x="4206960" y="5081760"/>
              <a:ext cx="26964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6" name=""/>
            <p:cNvSpPr/>
            <p:nvPr/>
          </p:nvSpPr>
          <p:spPr>
            <a:xfrm flipV="1">
              <a:off x="4255920" y="5081760"/>
              <a:ext cx="308160" cy="30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7" name=""/>
            <p:cNvSpPr/>
            <p:nvPr/>
          </p:nvSpPr>
          <p:spPr>
            <a:xfrm flipV="1">
              <a:off x="4235400" y="5081760"/>
              <a:ext cx="414360" cy="41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8" name=""/>
            <p:cNvSpPr/>
            <p:nvPr/>
          </p:nvSpPr>
          <p:spPr>
            <a:xfrm flipV="1">
              <a:off x="4311720" y="5081760"/>
              <a:ext cx="42372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79" name=""/>
            <p:cNvSpPr/>
            <p:nvPr/>
          </p:nvSpPr>
          <p:spPr>
            <a:xfrm flipV="1">
              <a:off x="4403880" y="5081760"/>
              <a:ext cx="415800" cy="41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0" name=""/>
            <p:cNvSpPr/>
            <p:nvPr/>
          </p:nvSpPr>
          <p:spPr>
            <a:xfrm flipV="1">
              <a:off x="4479840" y="5081760"/>
              <a:ext cx="426960" cy="42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1" name=""/>
            <p:cNvSpPr/>
            <p:nvPr/>
          </p:nvSpPr>
          <p:spPr>
            <a:xfrm flipV="1">
              <a:off x="4586400" y="5160960"/>
              <a:ext cx="32364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2" name=""/>
            <p:cNvSpPr/>
            <p:nvPr/>
          </p:nvSpPr>
          <p:spPr>
            <a:xfrm flipV="1">
              <a:off x="4659480" y="5248440"/>
              <a:ext cx="25056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3" name=""/>
            <p:cNvSpPr/>
            <p:nvPr/>
          </p:nvSpPr>
          <p:spPr>
            <a:xfrm flipV="1">
              <a:off x="4732200" y="53341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4" name=""/>
            <p:cNvSpPr/>
            <p:nvPr/>
          </p:nvSpPr>
          <p:spPr>
            <a:xfrm flipV="1">
              <a:off x="4818240" y="5418000"/>
              <a:ext cx="91800" cy="93960"/>
            </a:xfrm>
            <a:prstGeom prst="line">
              <a:avLst/>
            </a:prstGeom>
            <a:ln w="12600">
              <a:solidFill>
                <a:srgbClr val="ffffff"/>
              </a:solidFill>
              <a:round/>
            </a:ln>
          </p:spPr>
          <p:style>
            <a:lnRef idx="0"/>
            <a:fillRef idx="0"/>
            <a:effectRef idx="0"/>
            <a:fontRef idx="minor"/>
          </p:style>
          <p:txBody>
            <a:bodyPr lIns="96120" rIns="96120" tIns="42840" bIns="42840" anchor="t">
              <a:noAutofit/>
            </a:bodyPr>
            <a:p>
              <a:endParaRPr b="0" lang="en-US" sz="1800" spc="-1" strike="noStrike">
                <a:solidFill>
                  <a:srgbClr val="000000"/>
                </a:solidFill>
                <a:latin typeface="Arial"/>
              </a:endParaRPr>
            </a:p>
          </p:txBody>
        </p:sp>
        <p:sp>
          <p:nvSpPr>
            <p:cNvPr id="6485" name=""/>
            <p:cNvSpPr/>
            <p:nvPr/>
          </p:nvSpPr>
          <p:spPr>
            <a:xfrm>
              <a:off x="3000240" y="5487840"/>
              <a:ext cx="2230920" cy="28800"/>
            </a:xfrm>
            <a:custGeom>
              <a:avLst/>
              <a:gdLst/>
              <a:ahLst/>
              <a:rect l="0" t="0" r="r" b="b"/>
              <a:pathLst>
                <a:path fill="none" w="6197" h="80">
                  <a:moveTo>
                    <a:pt x="0" y="65"/>
                  </a:moveTo>
                  <a:lnTo>
                    <a:pt x="4" y="60"/>
                  </a:lnTo>
                  <a:lnTo>
                    <a:pt x="9" y="55"/>
                  </a:lnTo>
                  <a:lnTo>
                    <a:pt x="14" y="55"/>
                  </a:lnTo>
                  <a:lnTo>
                    <a:pt x="24" y="50"/>
                  </a:lnTo>
                  <a:lnTo>
                    <a:pt x="29" y="45"/>
                  </a:lnTo>
                  <a:lnTo>
                    <a:pt x="34" y="45"/>
                  </a:lnTo>
                  <a:lnTo>
                    <a:pt x="39" y="39"/>
                  </a:lnTo>
                  <a:lnTo>
                    <a:pt x="44" y="29"/>
                  </a:lnTo>
                  <a:lnTo>
                    <a:pt x="49" y="29"/>
                  </a:lnTo>
                  <a:lnTo>
                    <a:pt x="54" y="24"/>
                  </a:lnTo>
                  <a:lnTo>
                    <a:pt x="59" y="24"/>
                  </a:lnTo>
                  <a:lnTo>
                    <a:pt x="69" y="19"/>
                  </a:lnTo>
                  <a:lnTo>
                    <a:pt x="74" y="19"/>
                  </a:lnTo>
                  <a:lnTo>
                    <a:pt x="79" y="14"/>
                  </a:lnTo>
                  <a:lnTo>
                    <a:pt x="84" y="14"/>
                  </a:lnTo>
                  <a:lnTo>
                    <a:pt x="89" y="14"/>
                  </a:lnTo>
                  <a:lnTo>
                    <a:pt x="94" y="14"/>
                  </a:lnTo>
                  <a:lnTo>
                    <a:pt x="99" y="9"/>
                  </a:lnTo>
                  <a:lnTo>
                    <a:pt x="114" y="9"/>
                  </a:lnTo>
                  <a:lnTo>
                    <a:pt x="119" y="9"/>
                  </a:lnTo>
                  <a:lnTo>
                    <a:pt x="129" y="4"/>
                  </a:lnTo>
                  <a:lnTo>
                    <a:pt x="139" y="4"/>
                  </a:lnTo>
                  <a:lnTo>
                    <a:pt x="159" y="4"/>
                  </a:lnTo>
                  <a:lnTo>
                    <a:pt x="169" y="4"/>
                  </a:lnTo>
                  <a:lnTo>
                    <a:pt x="184" y="4"/>
                  </a:lnTo>
                  <a:lnTo>
                    <a:pt x="194" y="4"/>
                  </a:lnTo>
                  <a:lnTo>
                    <a:pt x="214" y="4"/>
                  </a:lnTo>
                  <a:lnTo>
                    <a:pt x="224" y="4"/>
                  </a:lnTo>
                  <a:lnTo>
                    <a:pt x="239" y="4"/>
                  </a:lnTo>
                  <a:lnTo>
                    <a:pt x="259" y="4"/>
                  </a:lnTo>
                  <a:lnTo>
                    <a:pt x="284" y="9"/>
                  </a:lnTo>
                  <a:lnTo>
                    <a:pt x="314" y="9"/>
                  </a:lnTo>
                  <a:lnTo>
                    <a:pt x="348" y="14"/>
                  </a:lnTo>
                  <a:lnTo>
                    <a:pt x="373" y="14"/>
                  </a:lnTo>
                  <a:lnTo>
                    <a:pt x="393" y="14"/>
                  </a:lnTo>
                  <a:lnTo>
                    <a:pt x="403" y="19"/>
                  </a:lnTo>
                  <a:lnTo>
                    <a:pt x="418" y="19"/>
                  </a:lnTo>
                  <a:lnTo>
                    <a:pt x="433" y="19"/>
                  </a:lnTo>
                  <a:lnTo>
                    <a:pt x="448" y="19"/>
                  </a:lnTo>
                  <a:lnTo>
                    <a:pt x="458" y="19"/>
                  </a:lnTo>
                  <a:lnTo>
                    <a:pt x="473" y="19"/>
                  </a:lnTo>
                  <a:lnTo>
                    <a:pt x="488" y="19"/>
                  </a:lnTo>
                  <a:lnTo>
                    <a:pt x="508" y="19"/>
                  </a:lnTo>
                  <a:lnTo>
                    <a:pt x="538" y="19"/>
                  </a:lnTo>
                  <a:lnTo>
                    <a:pt x="563" y="19"/>
                  </a:lnTo>
                  <a:lnTo>
                    <a:pt x="588" y="14"/>
                  </a:lnTo>
                  <a:lnTo>
                    <a:pt x="618" y="14"/>
                  </a:lnTo>
                  <a:lnTo>
                    <a:pt x="638" y="14"/>
                  </a:lnTo>
                  <a:lnTo>
                    <a:pt x="657" y="14"/>
                  </a:lnTo>
                  <a:lnTo>
                    <a:pt x="672" y="14"/>
                  </a:lnTo>
                  <a:lnTo>
                    <a:pt x="687" y="14"/>
                  </a:lnTo>
                  <a:lnTo>
                    <a:pt x="707" y="14"/>
                  </a:lnTo>
                  <a:lnTo>
                    <a:pt x="722" y="19"/>
                  </a:lnTo>
                  <a:lnTo>
                    <a:pt x="742" y="19"/>
                  </a:lnTo>
                  <a:lnTo>
                    <a:pt x="757" y="19"/>
                  </a:lnTo>
                  <a:lnTo>
                    <a:pt x="772" y="19"/>
                  </a:lnTo>
                  <a:lnTo>
                    <a:pt x="807" y="24"/>
                  </a:lnTo>
                  <a:lnTo>
                    <a:pt x="842" y="29"/>
                  </a:lnTo>
                  <a:lnTo>
                    <a:pt x="877" y="39"/>
                  </a:lnTo>
                  <a:lnTo>
                    <a:pt x="907" y="39"/>
                  </a:lnTo>
                  <a:lnTo>
                    <a:pt x="981" y="50"/>
                  </a:lnTo>
                  <a:lnTo>
                    <a:pt x="1016" y="55"/>
                  </a:lnTo>
                  <a:lnTo>
                    <a:pt x="1051" y="55"/>
                  </a:lnTo>
                  <a:lnTo>
                    <a:pt x="1081" y="60"/>
                  </a:lnTo>
                  <a:lnTo>
                    <a:pt x="1101" y="60"/>
                  </a:lnTo>
                  <a:lnTo>
                    <a:pt x="1116" y="65"/>
                  </a:lnTo>
                  <a:lnTo>
                    <a:pt x="1131" y="65"/>
                  </a:lnTo>
                  <a:lnTo>
                    <a:pt x="1151" y="65"/>
                  </a:lnTo>
                  <a:lnTo>
                    <a:pt x="1166" y="65"/>
                  </a:lnTo>
                  <a:lnTo>
                    <a:pt x="1191" y="65"/>
                  </a:lnTo>
                  <a:lnTo>
                    <a:pt x="1206" y="65"/>
                  </a:lnTo>
                  <a:lnTo>
                    <a:pt x="1231" y="65"/>
                  </a:lnTo>
                  <a:lnTo>
                    <a:pt x="1251" y="65"/>
                  </a:lnTo>
                  <a:lnTo>
                    <a:pt x="1266" y="65"/>
                  </a:lnTo>
                  <a:lnTo>
                    <a:pt x="1290" y="65"/>
                  </a:lnTo>
                  <a:lnTo>
                    <a:pt x="1305" y="60"/>
                  </a:lnTo>
                  <a:lnTo>
                    <a:pt x="1330" y="60"/>
                  </a:lnTo>
                  <a:lnTo>
                    <a:pt x="1350" y="60"/>
                  </a:lnTo>
                  <a:lnTo>
                    <a:pt x="1390" y="55"/>
                  </a:lnTo>
                  <a:lnTo>
                    <a:pt x="1430" y="50"/>
                  </a:lnTo>
                  <a:lnTo>
                    <a:pt x="1515" y="45"/>
                  </a:lnTo>
                  <a:lnTo>
                    <a:pt x="1556" y="39"/>
                  </a:lnTo>
                  <a:lnTo>
                    <a:pt x="1596" y="29"/>
                  </a:lnTo>
                  <a:lnTo>
                    <a:pt x="1635" y="24"/>
                  </a:lnTo>
                  <a:lnTo>
                    <a:pt x="1655" y="24"/>
                  </a:lnTo>
                  <a:lnTo>
                    <a:pt x="1675" y="24"/>
                  </a:lnTo>
                  <a:lnTo>
                    <a:pt x="1695" y="19"/>
                  </a:lnTo>
                  <a:lnTo>
                    <a:pt x="1720" y="19"/>
                  </a:lnTo>
                  <a:lnTo>
                    <a:pt x="1735" y="19"/>
                  </a:lnTo>
                  <a:lnTo>
                    <a:pt x="1755" y="19"/>
                  </a:lnTo>
                  <a:lnTo>
                    <a:pt x="1775" y="19"/>
                  </a:lnTo>
                  <a:lnTo>
                    <a:pt x="1795" y="19"/>
                  </a:lnTo>
                  <a:lnTo>
                    <a:pt x="1820" y="19"/>
                  </a:lnTo>
                  <a:lnTo>
                    <a:pt x="1835" y="19"/>
                  </a:lnTo>
                  <a:lnTo>
                    <a:pt x="1855" y="19"/>
                  </a:lnTo>
                  <a:lnTo>
                    <a:pt x="1865" y="19"/>
                  </a:lnTo>
                  <a:lnTo>
                    <a:pt x="1890" y="24"/>
                  </a:lnTo>
                  <a:lnTo>
                    <a:pt x="1915" y="24"/>
                  </a:lnTo>
                  <a:lnTo>
                    <a:pt x="1944" y="29"/>
                  </a:lnTo>
                  <a:lnTo>
                    <a:pt x="2044" y="45"/>
                  </a:lnTo>
                  <a:lnTo>
                    <a:pt x="2069" y="50"/>
                  </a:lnTo>
                  <a:lnTo>
                    <a:pt x="2094" y="55"/>
                  </a:lnTo>
                  <a:lnTo>
                    <a:pt x="2124" y="55"/>
                  </a:lnTo>
                  <a:lnTo>
                    <a:pt x="2149" y="55"/>
                  </a:lnTo>
                  <a:lnTo>
                    <a:pt x="2174" y="60"/>
                  </a:lnTo>
                  <a:lnTo>
                    <a:pt x="2199" y="60"/>
                  </a:lnTo>
                  <a:lnTo>
                    <a:pt x="2224" y="60"/>
                  </a:lnTo>
                  <a:lnTo>
                    <a:pt x="2248" y="65"/>
                  </a:lnTo>
                  <a:lnTo>
                    <a:pt x="2273" y="65"/>
                  </a:lnTo>
                  <a:lnTo>
                    <a:pt x="2303" y="65"/>
                  </a:lnTo>
                  <a:lnTo>
                    <a:pt x="2323" y="65"/>
                  </a:lnTo>
                  <a:lnTo>
                    <a:pt x="2353" y="65"/>
                  </a:lnTo>
                  <a:lnTo>
                    <a:pt x="2373" y="65"/>
                  </a:lnTo>
                  <a:lnTo>
                    <a:pt x="2403" y="60"/>
                  </a:lnTo>
                  <a:lnTo>
                    <a:pt x="2423" y="60"/>
                  </a:lnTo>
                  <a:lnTo>
                    <a:pt x="2453" y="60"/>
                  </a:lnTo>
                  <a:lnTo>
                    <a:pt x="2468" y="55"/>
                  </a:lnTo>
                  <a:lnTo>
                    <a:pt x="2493" y="55"/>
                  </a:lnTo>
                  <a:lnTo>
                    <a:pt x="2513" y="50"/>
                  </a:lnTo>
                  <a:lnTo>
                    <a:pt x="2538" y="50"/>
                  </a:lnTo>
                  <a:lnTo>
                    <a:pt x="2617" y="39"/>
                  </a:lnTo>
                  <a:lnTo>
                    <a:pt x="2662" y="29"/>
                  </a:lnTo>
                  <a:lnTo>
                    <a:pt x="2677" y="24"/>
                  </a:lnTo>
                  <a:lnTo>
                    <a:pt x="2702" y="24"/>
                  </a:lnTo>
                  <a:lnTo>
                    <a:pt x="2722" y="24"/>
                  </a:lnTo>
                  <a:lnTo>
                    <a:pt x="2747" y="19"/>
                  </a:lnTo>
                  <a:lnTo>
                    <a:pt x="2762" y="19"/>
                  </a:lnTo>
                  <a:lnTo>
                    <a:pt x="2782" y="19"/>
                  </a:lnTo>
                  <a:lnTo>
                    <a:pt x="2807" y="19"/>
                  </a:lnTo>
                  <a:lnTo>
                    <a:pt x="2827" y="19"/>
                  </a:lnTo>
                  <a:lnTo>
                    <a:pt x="2852" y="19"/>
                  </a:lnTo>
                  <a:lnTo>
                    <a:pt x="2872" y="19"/>
                  </a:lnTo>
                  <a:lnTo>
                    <a:pt x="2896" y="24"/>
                  </a:lnTo>
                  <a:lnTo>
                    <a:pt x="2916" y="24"/>
                  </a:lnTo>
                  <a:lnTo>
                    <a:pt x="2941" y="24"/>
                  </a:lnTo>
                  <a:lnTo>
                    <a:pt x="2961" y="29"/>
                  </a:lnTo>
                  <a:lnTo>
                    <a:pt x="2991" y="29"/>
                  </a:lnTo>
                  <a:lnTo>
                    <a:pt x="3026" y="39"/>
                  </a:lnTo>
                  <a:lnTo>
                    <a:pt x="3086" y="45"/>
                  </a:lnTo>
                  <a:lnTo>
                    <a:pt x="3156" y="50"/>
                  </a:lnTo>
                  <a:lnTo>
                    <a:pt x="3191" y="55"/>
                  </a:lnTo>
                  <a:lnTo>
                    <a:pt x="3215" y="55"/>
                  </a:lnTo>
                  <a:lnTo>
                    <a:pt x="3250" y="60"/>
                  </a:lnTo>
                  <a:lnTo>
                    <a:pt x="3285" y="60"/>
                  </a:lnTo>
                  <a:lnTo>
                    <a:pt x="3310" y="65"/>
                  </a:lnTo>
                  <a:lnTo>
                    <a:pt x="3345" y="65"/>
                  </a:lnTo>
                  <a:lnTo>
                    <a:pt x="3380" y="65"/>
                  </a:lnTo>
                  <a:lnTo>
                    <a:pt x="3395" y="65"/>
                  </a:lnTo>
                  <a:lnTo>
                    <a:pt x="3405" y="65"/>
                  </a:lnTo>
                  <a:lnTo>
                    <a:pt x="3425" y="65"/>
                  </a:lnTo>
                  <a:lnTo>
                    <a:pt x="3440" y="65"/>
                  </a:lnTo>
                  <a:lnTo>
                    <a:pt x="3460" y="65"/>
                  </a:lnTo>
                  <a:lnTo>
                    <a:pt x="3475" y="65"/>
                  </a:lnTo>
                  <a:lnTo>
                    <a:pt x="3495" y="65"/>
                  </a:lnTo>
                  <a:lnTo>
                    <a:pt x="3520" y="65"/>
                  </a:lnTo>
                  <a:lnTo>
                    <a:pt x="3549" y="60"/>
                  </a:lnTo>
                  <a:lnTo>
                    <a:pt x="3569" y="60"/>
                  </a:lnTo>
                  <a:lnTo>
                    <a:pt x="3614" y="55"/>
                  </a:lnTo>
                  <a:lnTo>
                    <a:pt x="3664" y="50"/>
                  </a:lnTo>
                  <a:lnTo>
                    <a:pt x="3709" y="45"/>
                  </a:lnTo>
                  <a:lnTo>
                    <a:pt x="3734" y="45"/>
                  </a:lnTo>
                  <a:lnTo>
                    <a:pt x="3759" y="39"/>
                  </a:lnTo>
                  <a:lnTo>
                    <a:pt x="3784" y="39"/>
                  </a:lnTo>
                  <a:lnTo>
                    <a:pt x="3804" y="39"/>
                  </a:lnTo>
                  <a:lnTo>
                    <a:pt x="3834" y="29"/>
                  </a:lnTo>
                  <a:lnTo>
                    <a:pt x="3853" y="29"/>
                  </a:lnTo>
                  <a:lnTo>
                    <a:pt x="3878" y="29"/>
                  </a:lnTo>
                  <a:lnTo>
                    <a:pt x="3903" y="29"/>
                  </a:lnTo>
                  <a:lnTo>
                    <a:pt x="3928" y="29"/>
                  </a:lnTo>
                  <a:lnTo>
                    <a:pt x="3953" y="39"/>
                  </a:lnTo>
                  <a:lnTo>
                    <a:pt x="3978" y="39"/>
                  </a:lnTo>
                  <a:lnTo>
                    <a:pt x="4003" y="39"/>
                  </a:lnTo>
                  <a:lnTo>
                    <a:pt x="4023" y="45"/>
                  </a:lnTo>
                  <a:lnTo>
                    <a:pt x="4053" y="45"/>
                  </a:lnTo>
                  <a:lnTo>
                    <a:pt x="4098" y="55"/>
                  </a:lnTo>
                  <a:lnTo>
                    <a:pt x="4118" y="55"/>
                  </a:lnTo>
                  <a:lnTo>
                    <a:pt x="4133" y="60"/>
                  </a:lnTo>
                  <a:lnTo>
                    <a:pt x="4143" y="60"/>
                  </a:lnTo>
                  <a:lnTo>
                    <a:pt x="4153" y="60"/>
                  </a:lnTo>
                  <a:lnTo>
                    <a:pt x="4172" y="60"/>
                  </a:lnTo>
                  <a:lnTo>
                    <a:pt x="4182" y="60"/>
                  </a:lnTo>
                  <a:lnTo>
                    <a:pt x="4192" y="60"/>
                  </a:lnTo>
                  <a:lnTo>
                    <a:pt x="4202" y="60"/>
                  </a:lnTo>
                  <a:lnTo>
                    <a:pt x="4217" y="60"/>
                  </a:lnTo>
                  <a:lnTo>
                    <a:pt x="4227" y="60"/>
                  </a:lnTo>
                  <a:lnTo>
                    <a:pt x="4237" y="60"/>
                  </a:lnTo>
                  <a:lnTo>
                    <a:pt x="4242" y="55"/>
                  </a:lnTo>
                  <a:lnTo>
                    <a:pt x="4247" y="55"/>
                  </a:lnTo>
                  <a:lnTo>
                    <a:pt x="4252" y="55"/>
                  </a:lnTo>
                  <a:lnTo>
                    <a:pt x="4267" y="55"/>
                  </a:lnTo>
                  <a:lnTo>
                    <a:pt x="4277" y="50"/>
                  </a:lnTo>
                  <a:lnTo>
                    <a:pt x="4292" y="45"/>
                  </a:lnTo>
                  <a:lnTo>
                    <a:pt x="4307" y="39"/>
                  </a:lnTo>
                  <a:lnTo>
                    <a:pt x="4322" y="29"/>
                  </a:lnTo>
                  <a:lnTo>
                    <a:pt x="4352" y="19"/>
                  </a:lnTo>
                  <a:lnTo>
                    <a:pt x="4362" y="14"/>
                  </a:lnTo>
                  <a:lnTo>
                    <a:pt x="4372" y="14"/>
                  </a:lnTo>
                  <a:lnTo>
                    <a:pt x="4387" y="9"/>
                  </a:lnTo>
                  <a:lnTo>
                    <a:pt x="4402" y="4"/>
                  </a:lnTo>
                  <a:lnTo>
                    <a:pt x="4412" y="4"/>
                  </a:lnTo>
                  <a:lnTo>
                    <a:pt x="4417" y="4"/>
                  </a:lnTo>
                  <a:lnTo>
                    <a:pt x="4422" y="0"/>
                  </a:lnTo>
                  <a:lnTo>
                    <a:pt x="4427" y="0"/>
                  </a:lnTo>
                  <a:lnTo>
                    <a:pt x="4432" y="0"/>
                  </a:lnTo>
                  <a:lnTo>
                    <a:pt x="4447" y="0"/>
                  </a:lnTo>
                  <a:lnTo>
                    <a:pt x="4452" y="0"/>
                  </a:lnTo>
                  <a:lnTo>
                    <a:pt x="4457" y="0"/>
                  </a:lnTo>
                  <a:lnTo>
                    <a:pt x="4467" y="0"/>
                  </a:lnTo>
                  <a:lnTo>
                    <a:pt x="4472" y="0"/>
                  </a:lnTo>
                  <a:lnTo>
                    <a:pt x="4477" y="0"/>
                  </a:lnTo>
                  <a:lnTo>
                    <a:pt x="4491" y="0"/>
                  </a:lnTo>
                  <a:lnTo>
                    <a:pt x="4496" y="0"/>
                  </a:lnTo>
                  <a:lnTo>
                    <a:pt x="4501" y="0"/>
                  </a:lnTo>
                  <a:lnTo>
                    <a:pt x="4511" y="4"/>
                  </a:lnTo>
                  <a:lnTo>
                    <a:pt x="4516" y="4"/>
                  </a:lnTo>
                  <a:lnTo>
                    <a:pt x="4536" y="9"/>
                  </a:lnTo>
                  <a:lnTo>
                    <a:pt x="4551" y="9"/>
                  </a:lnTo>
                  <a:lnTo>
                    <a:pt x="4581" y="19"/>
                  </a:lnTo>
                  <a:lnTo>
                    <a:pt x="4606" y="24"/>
                  </a:lnTo>
                  <a:lnTo>
                    <a:pt x="4641" y="39"/>
                  </a:lnTo>
                  <a:lnTo>
                    <a:pt x="4672" y="45"/>
                  </a:lnTo>
                  <a:lnTo>
                    <a:pt x="4697" y="50"/>
                  </a:lnTo>
                  <a:lnTo>
                    <a:pt x="4717" y="55"/>
                  </a:lnTo>
                  <a:lnTo>
                    <a:pt x="4727" y="55"/>
                  </a:lnTo>
                  <a:lnTo>
                    <a:pt x="4742" y="60"/>
                  </a:lnTo>
                  <a:lnTo>
                    <a:pt x="4757" y="60"/>
                  </a:lnTo>
                  <a:lnTo>
                    <a:pt x="4772" y="60"/>
                  </a:lnTo>
                  <a:lnTo>
                    <a:pt x="4782" y="65"/>
                  </a:lnTo>
                  <a:lnTo>
                    <a:pt x="4802" y="65"/>
                  </a:lnTo>
                  <a:lnTo>
                    <a:pt x="4816" y="65"/>
                  </a:lnTo>
                  <a:lnTo>
                    <a:pt x="4826" y="70"/>
                  </a:lnTo>
                  <a:lnTo>
                    <a:pt x="4846" y="70"/>
                  </a:lnTo>
                  <a:lnTo>
                    <a:pt x="4856" y="70"/>
                  </a:lnTo>
                  <a:lnTo>
                    <a:pt x="4871" y="70"/>
                  </a:lnTo>
                  <a:lnTo>
                    <a:pt x="4891" y="70"/>
                  </a:lnTo>
                  <a:lnTo>
                    <a:pt x="4901" y="80"/>
                  </a:lnTo>
                  <a:lnTo>
                    <a:pt x="4916" y="80"/>
                  </a:lnTo>
                  <a:lnTo>
                    <a:pt x="4936" y="80"/>
                  </a:lnTo>
                  <a:lnTo>
                    <a:pt x="4946" y="80"/>
                  </a:lnTo>
                  <a:lnTo>
                    <a:pt x="4961" y="80"/>
                  </a:lnTo>
                  <a:lnTo>
                    <a:pt x="4976" y="80"/>
                  </a:lnTo>
                  <a:lnTo>
                    <a:pt x="4991" y="70"/>
                  </a:lnTo>
                  <a:lnTo>
                    <a:pt x="5006" y="70"/>
                  </a:lnTo>
                  <a:lnTo>
                    <a:pt x="5021" y="70"/>
                  </a:lnTo>
                  <a:lnTo>
                    <a:pt x="5036" y="70"/>
                  </a:lnTo>
                  <a:lnTo>
                    <a:pt x="5046" y="70"/>
                  </a:lnTo>
                  <a:lnTo>
                    <a:pt x="5071" y="65"/>
                  </a:lnTo>
                  <a:lnTo>
                    <a:pt x="5091" y="65"/>
                  </a:lnTo>
                  <a:lnTo>
                    <a:pt x="5116" y="60"/>
                  </a:lnTo>
                  <a:lnTo>
                    <a:pt x="5135" y="60"/>
                  </a:lnTo>
                  <a:lnTo>
                    <a:pt x="5220" y="45"/>
                  </a:lnTo>
                  <a:lnTo>
                    <a:pt x="5245" y="45"/>
                  </a:lnTo>
                  <a:lnTo>
                    <a:pt x="5265" y="39"/>
                  </a:lnTo>
                  <a:lnTo>
                    <a:pt x="5290" y="39"/>
                  </a:lnTo>
                  <a:lnTo>
                    <a:pt x="5305" y="39"/>
                  </a:lnTo>
                  <a:lnTo>
                    <a:pt x="5325" y="29"/>
                  </a:lnTo>
                  <a:lnTo>
                    <a:pt x="5340" y="29"/>
                  </a:lnTo>
                  <a:lnTo>
                    <a:pt x="5350" y="29"/>
                  </a:lnTo>
                  <a:lnTo>
                    <a:pt x="5360" y="29"/>
                  </a:lnTo>
                  <a:lnTo>
                    <a:pt x="5370" y="29"/>
                  </a:lnTo>
                  <a:lnTo>
                    <a:pt x="5385" y="29"/>
                  </a:lnTo>
                  <a:lnTo>
                    <a:pt x="5395" y="29"/>
                  </a:lnTo>
                  <a:lnTo>
                    <a:pt x="5410" y="39"/>
                  </a:lnTo>
                  <a:lnTo>
                    <a:pt x="5430" y="39"/>
                  </a:lnTo>
                  <a:lnTo>
                    <a:pt x="5469" y="39"/>
                  </a:lnTo>
                  <a:lnTo>
                    <a:pt x="5484" y="45"/>
                  </a:lnTo>
                  <a:lnTo>
                    <a:pt x="5509" y="45"/>
                  </a:lnTo>
                  <a:lnTo>
                    <a:pt x="5524" y="45"/>
                  </a:lnTo>
                  <a:lnTo>
                    <a:pt x="5539" y="45"/>
                  </a:lnTo>
                  <a:lnTo>
                    <a:pt x="5554" y="45"/>
                  </a:lnTo>
                  <a:lnTo>
                    <a:pt x="5564" y="45"/>
                  </a:lnTo>
                  <a:lnTo>
                    <a:pt x="5579" y="45"/>
                  </a:lnTo>
                  <a:lnTo>
                    <a:pt x="5619" y="45"/>
                  </a:lnTo>
                  <a:lnTo>
                    <a:pt x="5644" y="45"/>
                  </a:lnTo>
                  <a:lnTo>
                    <a:pt x="5659" y="45"/>
                  </a:lnTo>
                  <a:lnTo>
                    <a:pt x="5679" y="45"/>
                  </a:lnTo>
                  <a:lnTo>
                    <a:pt x="5694" y="45"/>
                  </a:lnTo>
                  <a:lnTo>
                    <a:pt x="5704" y="45"/>
                  </a:lnTo>
                  <a:lnTo>
                    <a:pt x="5714" y="50"/>
                  </a:lnTo>
                  <a:lnTo>
                    <a:pt x="5734" y="50"/>
                  </a:lnTo>
                  <a:lnTo>
                    <a:pt x="5754" y="55"/>
                  </a:lnTo>
                  <a:lnTo>
                    <a:pt x="5783" y="55"/>
                  </a:lnTo>
                  <a:lnTo>
                    <a:pt x="5798" y="55"/>
                  </a:lnTo>
                  <a:lnTo>
                    <a:pt x="5808" y="60"/>
                  </a:lnTo>
                  <a:lnTo>
                    <a:pt x="5823" y="60"/>
                  </a:lnTo>
                  <a:lnTo>
                    <a:pt x="5833" y="60"/>
                  </a:lnTo>
                  <a:lnTo>
                    <a:pt x="5838" y="60"/>
                  </a:lnTo>
                  <a:lnTo>
                    <a:pt x="5848" y="60"/>
                  </a:lnTo>
                  <a:lnTo>
                    <a:pt x="5868" y="60"/>
                  </a:lnTo>
                  <a:lnTo>
                    <a:pt x="5883" y="60"/>
                  </a:lnTo>
                  <a:lnTo>
                    <a:pt x="5903" y="55"/>
                  </a:lnTo>
                  <a:lnTo>
                    <a:pt x="5928" y="55"/>
                  </a:lnTo>
                  <a:lnTo>
                    <a:pt x="5968" y="55"/>
                  </a:lnTo>
                  <a:lnTo>
                    <a:pt x="5983" y="50"/>
                  </a:lnTo>
                  <a:lnTo>
                    <a:pt x="6008" y="50"/>
                  </a:lnTo>
                  <a:lnTo>
                    <a:pt x="6023" y="50"/>
                  </a:lnTo>
                  <a:lnTo>
                    <a:pt x="6048" y="45"/>
                  </a:lnTo>
                  <a:lnTo>
                    <a:pt x="6063" y="45"/>
                  </a:lnTo>
                  <a:lnTo>
                    <a:pt x="6073" y="45"/>
                  </a:lnTo>
                  <a:lnTo>
                    <a:pt x="6083" y="45"/>
                  </a:lnTo>
                  <a:lnTo>
                    <a:pt x="6092" y="45"/>
                  </a:lnTo>
                  <a:lnTo>
                    <a:pt x="6102" y="50"/>
                  </a:lnTo>
                  <a:lnTo>
                    <a:pt x="6112" y="50"/>
                  </a:lnTo>
                  <a:lnTo>
                    <a:pt x="6122" y="50"/>
                  </a:lnTo>
                  <a:lnTo>
                    <a:pt x="6127" y="50"/>
                  </a:lnTo>
                  <a:lnTo>
                    <a:pt x="6142" y="50"/>
                  </a:lnTo>
                  <a:lnTo>
                    <a:pt x="6152" y="55"/>
                  </a:lnTo>
                  <a:lnTo>
                    <a:pt x="6157" y="55"/>
                  </a:lnTo>
                  <a:lnTo>
                    <a:pt x="6167" y="60"/>
                  </a:lnTo>
                  <a:lnTo>
                    <a:pt x="6182" y="60"/>
                  </a:lnTo>
                  <a:lnTo>
                    <a:pt x="6187" y="65"/>
                  </a:lnTo>
                  <a:lnTo>
                    <a:pt x="6197" y="65"/>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6486" name=""/>
            <p:cNvSpPr/>
            <p:nvPr/>
          </p:nvSpPr>
          <p:spPr>
            <a:xfrm>
              <a:off x="3371760" y="5081760"/>
              <a:ext cx="55800" cy="430560"/>
            </a:xfrm>
            <a:custGeom>
              <a:avLst/>
              <a:gdLst/>
              <a:ahLst/>
              <a:rect l="0" t="0" r="r" b="b"/>
              <a:pathLst>
                <a:path fill="none" w="155" h="1196">
                  <a:moveTo>
                    <a:pt x="155" y="0"/>
                  </a:moveTo>
                  <a:lnTo>
                    <a:pt x="150" y="4"/>
                  </a:lnTo>
                  <a:lnTo>
                    <a:pt x="150" y="14"/>
                  </a:lnTo>
                  <a:lnTo>
                    <a:pt x="145" y="24"/>
                  </a:lnTo>
                  <a:lnTo>
                    <a:pt x="140" y="29"/>
                  </a:lnTo>
                  <a:lnTo>
                    <a:pt x="135" y="39"/>
                  </a:lnTo>
                  <a:lnTo>
                    <a:pt x="135" y="44"/>
                  </a:lnTo>
                  <a:lnTo>
                    <a:pt x="125" y="49"/>
                  </a:lnTo>
                  <a:lnTo>
                    <a:pt x="120" y="59"/>
                  </a:lnTo>
                  <a:lnTo>
                    <a:pt x="110" y="74"/>
                  </a:lnTo>
                  <a:lnTo>
                    <a:pt x="100" y="89"/>
                  </a:lnTo>
                  <a:lnTo>
                    <a:pt x="90" y="99"/>
                  </a:lnTo>
                  <a:lnTo>
                    <a:pt x="80" y="119"/>
                  </a:lnTo>
                  <a:lnTo>
                    <a:pt x="69" y="124"/>
                  </a:lnTo>
                  <a:lnTo>
                    <a:pt x="69" y="129"/>
                  </a:lnTo>
                  <a:lnTo>
                    <a:pt x="64" y="134"/>
                  </a:lnTo>
                  <a:lnTo>
                    <a:pt x="59" y="144"/>
                  </a:lnTo>
                  <a:lnTo>
                    <a:pt x="54" y="149"/>
                  </a:lnTo>
                  <a:lnTo>
                    <a:pt x="54" y="159"/>
                  </a:lnTo>
                  <a:lnTo>
                    <a:pt x="49" y="164"/>
                  </a:lnTo>
                  <a:lnTo>
                    <a:pt x="44" y="169"/>
                  </a:lnTo>
                  <a:lnTo>
                    <a:pt x="44" y="174"/>
                  </a:lnTo>
                  <a:lnTo>
                    <a:pt x="44" y="184"/>
                  </a:lnTo>
                  <a:lnTo>
                    <a:pt x="39" y="189"/>
                  </a:lnTo>
                  <a:lnTo>
                    <a:pt x="39" y="194"/>
                  </a:lnTo>
                  <a:lnTo>
                    <a:pt x="39" y="204"/>
                  </a:lnTo>
                  <a:lnTo>
                    <a:pt x="39" y="209"/>
                  </a:lnTo>
                  <a:lnTo>
                    <a:pt x="39" y="214"/>
                  </a:lnTo>
                  <a:lnTo>
                    <a:pt x="39" y="219"/>
                  </a:lnTo>
                  <a:lnTo>
                    <a:pt x="44" y="219"/>
                  </a:lnTo>
                  <a:lnTo>
                    <a:pt x="44" y="224"/>
                  </a:lnTo>
                  <a:lnTo>
                    <a:pt x="44" y="229"/>
                  </a:lnTo>
                  <a:lnTo>
                    <a:pt x="49" y="234"/>
                  </a:lnTo>
                  <a:lnTo>
                    <a:pt x="54" y="239"/>
                  </a:lnTo>
                  <a:lnTo>
                    <a:pt x="54" y="248"/>
                  </a:lnTo>
                  <a:lnTo>
                    <a:pt x="59" y="253"/>
                  </a:lnTo>
                  <a:lnTo>
                    <a:pt x="64" y="258"/>
                  </a:lnTo>
                  <a:lnTo>
                    <a:pt x="69" y="263"/>
                  </a:lnTo>
                  <a:lnTo>
                    <a:pt x="85" y="273"/>
                  </a:lnTo>
                  <a:lnTo>
                    <a:pt x="95" y="283"/>
                  </a:lnTo>
                  <a:lnTo>
                    <a:pt x="100" y="298"/>
                  </a:lnTo>
                  <a:lnTo>
                    <a:pt x="105" y="303"/>
                  </a:lnTo>
                  <a:lnTo>
                    <a:pt x="110" y="308"/>
                  </a:lnTo>
                  <a:lnTo>
                    <a:pt x="115" y="313"/>
                  </a:lnTo>
                  <a:lnTo>
                    <a:pt x="115" y="318"/>
                  </a:lnTo>
                  <a:lnTo>
                    <a:pt x="120" y="323"/>
                  </a:lnTo>
                  <a:lnTo>
                    <a:pt x="125" y="338"/>
                  </a:lnTo>
                  <a:lnTo>
                    <a:pt x="135" y="343"/>
                  </a:lnTo>
                  <a:lnTo>
                    <a:pt x="135" y="348"/>
                  </a:lnTo>
                  <a:lnTo>
                    <a:pt x="140" y="353"/>
                  </a:lnTo>
                  <a:lnTo>
                    <a:pt x="140" y="363"/>
                  </a:lnTo>
                  <a:lnTo>
                    <a:pt x="145" y="368"/>
                  </a:lnTo>
                  <a:lnTo>
                    <a:pt x="145" y="373"/>
                  </a:lnTo>
                  <a:lnTo>
                    <a:pt x="150" y="383"/>
                  </a:lnTo>
                  <a:lnTo>
                    <a:pt x="150" y="393"/>
                  </a:lnTo>
                  <a:lnTo>
                    <a:pt x="155" y="398"/>
                  </a:lnTo>
                  <a:lnTo>
                    <a:pt x="155" y="403"/>
                  </a:lnTo>
                  <a:lnTo>
                    <a:pt x="155" y="413"/>
                  </a:lnTo>
                  <a:lnTo>
                    <a:pt x="155" y="423"/>
                  </a:lnTo>
                  <a:lnTo>
                    <a:pt x="155" y="428"/>
                  </a:lnTo>
                  <a:lnTo>
                    <a:pt x="155" y="438"/>
                  </a:lnTo>
                  <a:lnTo>
                    <a:pt x="155" y="443"/>
                  </a:lnTo>
                  <a:lnTo>
                    <a:pt x="155" y="448"/>
                  </a:lnTo>
                  <a:lnTo>
                    <a:pt x="155" y="453"/>
                  </a:lnTo>
                  <a:lnTo>
                    <a:pt x="155" y="468"/>
                  </a:lnTo>
                  <a:lnTo>
                    <a:pt x="155" y="473"/>
                  </a:lnTo>
                  <a:lnTo>
                    <a:pt x="150" y="478"/>
                  </a:lnTo>
                  <a:lnTo>
                    <a:pt x="150" y="482"/>
                  </a:lnTo>
                  <a:lnTo>
                    <a:pt x="145" y="492"/>
                  </a:lnTo>
                  <a:lnTo>
                    <a:pt x="145" y="497"/>
                  </a:lnTo>
                  <a:lnTo>
                    <a:pt x="140" y="502"/>
                  </a:lnTo>
                  <a:lnTo>
                    <a:pt x="140" y="512"/>
                  </a:lnTo>
                  <a:lnTo>
                    <a:pt x="135" y="517"/>
                  </a:lnTo>
                  <a:lnTo>
                    <a:pt x="125" y="522"/>
                  </a:lnTo>
                  <a:lnTo>
                    <a:pt x="125" y="527"/>
                  </a:lnTo>
                  <a:lnTo>
                    <a:pt x="120" y="532"/>
                  </a:lnTo>
                  <a:lnTo>
                    <a:pt x="110" y="542"/>
                  </a:lnTo>
                  <a:lnTo>
                    <a:pt x="105" y="547"/>
                  </a:lnTo>
                  <a:lnTo>
                    <a:pt x="90" y="562"/>
                  </a:lnTo>
                  <a:lnTo>
                    <a:pt x="85" y="572"/>
                  </a:lnTo>
                  <a:lnTo>
                    <a:pt x="80" y="577"/>
                  </a:lnTo>
                  <a:lnTo>
                    <a:pt x="69" y="582"/>
                  </a:lnTo>
                  <a:lnTo>
                    <a:pt x="59" y="592"/>
                  </a:lnTo>
                  <a:lnTo>
                    <a:pt x="54" y="603"/>
                  </a:lnTo>
                  <a:lnTo>
                    <a:pt x="54" y="608"/>
                  </a:lnTo>
                  <a:lnTo>
                    <a:pt x="49" y="608"/>
                  </a:lnTo>
                  <a:lnTo>
                    <a:pt x="49" y="613"/>
                  </a:lnTo>
                  <a:lnTo>
                    <a:pt x="49" y="618"/>
                  </a:lnTo>
                  <a:lnTo>
                    <a:pt x="44" y="618"/>
                  </a:lnTo>
                  <a:lnTo>
                    <a:pt x="44" y="623"/>
                  </a:lnTo>
                  <a:lnTo>
                    <a:pt x="44" y="628"/>
                  </a:lnTo>
                  <a:lnTo>
                    <a:pt x="44" y="633"/>
                  </a:lnTo>
                  <a:lnTo>
                    <a:pt x="44" y="638"/>
                  </a:lnTo>
                  <a:lnTo>
                    <a:pt x="44" y="648"/>
                  </a:lnTo>
                  <a:lnTo>
                    <a:pt x="44" y="653"/>
                  </a:lnTo>
                  <a:lnTo>
                    <a:pt x="44" y="658"/>
                  </a:lnTo>
                  <a:lnTo>
                    <a:pt x="44" y="663"/>
                  </a:lnTo>
                  <a:lnTo>
                    <a:pt x="49" y="668"/>
                  </a:lnTo>
                  <a:lnTo>
                    <a:pt x="49" y="673"/>
                  </a:lnTo>
                  <a:lnTo>
                    <a:pt x="54" y="693"/>
                  </a:lnTo>
                  <a:lnTo>
                    <a:pt x="59" y="703"/>
                  </a:lnTo>
                  <a:lnTo>
                    <a:pt x="64" y="708"/>
                  </a:lnTo>
                  <a:lnTo>
                    <a:pt x="64" y="718"/>
                  </a:lnTo>
                  <a:lnTo>
                    <a:pt x="69" y="723"/>
                  </a:lnTo>
                  <a:lnTo>
                    <a:pt x="69" y="727"/>
                  </a:lnTo>
                  <a:lnTo>
                    <a:pt x="69" y="737"/>
                  </a:lnTo>
                  <a:lnTo>
                    <a:pt x="69" y="742"/>
                  </a:lnTo>
                  <a:lnTo>
                    <a:pt x="69" y="747"/>
                  </a:lnTo>
                  <a:lnTo>
                    <a:pt x="69" y="752"/>
                  </a:lnTo>
                  <a:lnTo>
                    <a:pt x="64" y="757"/>
                  </a:lnTo>
                  <a:lnTo>
                    <a:pt x="64" y="762"/>
                  </a:lnTo>
                  <a:lnTo>
                    <a:pt x="59" y="767"/>
                  </a:lnTo>
                  <a:lnTo>
                    <a:pt x="59" y="772"/>
                  </a:lnTo>
                  <a:lnTo>
                    <a:pt x="59" y="782"/>
                  </a:lnTo>
                  <a:lnTo>
                    <a:pt x="54" y="787"/>
                  </a:lnTo>
                  <a:lnTo>
                    <a:pt x="44" y="797"/>
                  </a:lnTo>
                  <a:lnTo>
                    <a:pt x="39" y="807"/>
                  </a:lnTo>
                  <a:lnTo>
                    <a:pt x="34" y="812"/>
                  </a:lnTo>
                  <a:lnTo>
                    <a:pt x="29" y="822"/>
                  </a:lnTo>
                  <a:lnTo>
                    <a:pt x="19" y="832"/>
                  </a:lnTo>
                  <a:lnTo>
                    <a:pt x="14" y="837"/>
                  </a:lnTo>
                  <a:lnTo>
                    <a:pt x="9" y="842"/>
                  </a:lnTo>
                  <a:lnTo>
                    <a:pt x="9" y="847"/>
                  </a:lnTo>
                  <a:lnTo>
                    <a:pt x="4" y="852"/>
                  </a:lnTo>
                  <a:lnTo>
                    <a:pt x="0" y="857"/>
                  </a:lnTo>
                  <a:lnTo>
                    <a:pt x="0" y="867"/>
                  </a:lnTo>
                  <a:lnTo>
                    <a:pt x="0" y="872"/>
                  </a:lnTo>
                  <a:lnTo>
                    <a:pt x="0" y="877"/>
                  </a:lnTo>
                  <a:lnTo>
                    <a:pt x="0" y="882"/>
                  </a:lnTo>
                  <a:lnTo>
                    <a:pt x="0" y="887"/>
                  </a:lnTo>
                  <a:lnTo>
                    <a:pt x="0" y="892"/>
                  </a:lnTo>
                  <a:lnTo>
                    <a:pt x="4" y="897"/>
                  </a:lnTo>
                  <a:lnTo>
                    <a:pt x="4" y="902"/>
                  </a:lnTo>
                  <a:lnTo>
                    <a:pt x="9" y="912"/>
                  </a:lnTo>
                  <a:lnTo>
                    <a:pt x="14" y="917"/>
                  </a:lnTo>
                  <a:lnTo>
                    <a:pt x="14" y="922"/>
                  </a:lnTo>
                  <a:lnTo>
                    <a:pt x="29" y="927"/>
                  </a:lnTo>
                  <a:lnTo>
                    <a:pt x="34" y="932"/>
                  </a:lnTo>
                  <a:lnTo>
                    <a:pt x="39" y="937"/>
                  </a:lnTo>
                  <a:lnTo>
                    <a:pt x="44" y="937"/>
                  </a:lnTo>
                  <a:lnTo>
                    <a:pt x="54" y="947"/>
                  </a:lnTo>
                  <a:lnTo>
                    <a:pt x="59" y="947"/>
                  </a:lnTo>
                  <a:lnTo>
                    <a:pt x="69" y="957"/>
                  </a:lnTo>
                  <a:lnTo>
                    <a:pt x="90" y="966"/>
                  </a:lnTo>
                  <a:lnTo>
                    <a:pt x="100" y="976"/>
                  </a:lnTo>
                  <a:lnTo>
                    <a:pt x="105" y="981"/>
                  </a:lnTo>
                  <a:lnTo>
                    <a:pt x="115" y="986"/>
                  </a:lnTo>
                  <a:lnTo>
                    <a:pt x="120" y="991"/>
                  </a:lnTo>
                  <a:lnTo>
                    <a:pt x="125" y="991"/>
                  </a:lnTo>
                  <a:lnTo>
                    <a:pt x="135" y="1001"/>
                  </a:lnTo>
                  <a:lnTo>
                    <a:pt x="140" y="1006"/>
                  </a:lnTo>
                  <a:lnTo>
                    <a:pt x="145" y="1011"/>
                  </a:lnTo>
                  <a:lnTo>
                    <a:pt x="145" y="1016"/>
                  </a:lnTo>
                  <a:lnTo>
                    <a:pt x="150" y="1016"/>
                  </a:lnTo>
                  <a:lnTo>
                    <a:pt x="150" y="1021"/>
                  </a:lnTo>
                  <a:lnTo>
                    <a:pt x="155" y="1026"/>
                  </a:lnTo>
                  <a:lnTo>
                    <a:pt x="155" y="1031"/>
                  </a:lnTo>
                  <a:lnTo>
                    <a:pt x="155" y="1036"/>
                  </a:lnTo>
                  <a:lnTo>
                    <a:pt x="155" y="1046"/>
                  </a:lnTo>
                  <a:lnTo>
                    <a:pt x="155" y="1051"/>
                  </a:lnTo>
                  <a:lnTo>
                    <a:pt x="150" y="1056"/>
                  </a:lnTo>
                  <a:lnTo>
                    <a:pt x="150" y="1061"/>
                  </a:lnTo>
                  <a:lnTo>
                    <a:pt x="145" y="1066"/>
                  </a:lnTo>
                  <a:lnTo>
                    <a:pt x="145" y="1071"/>
                  </a:lnTo>
                  <a:lnTo>
                    <a:pt x="140" y="1071"/>
                  </a:lnTo>
                  <a:lnTo>
                    <a:pt x="135" y="1076"/>
                  </a:lnTo>
                  <a:lnTo>
                    <a:pt x="125" y="1081"/>
                  </a:lnTo>
                  <a:lnTo>
                    <a:pt x="120" y="1091"/>
                  </a:lnTo>
                  <a:lnTo>
                    <a:pt x="115" y="1096"/>
                  </a:lnTo>
                  <a:lnTo>
                    <a:pt x="115" y="1101"/>
                  </a:lnTo>
                  <a:lnTo>
                    <a:pt x="105" y="1106"/>
                  </a:lnTo>
                  <a:lnTo>
                    <a:pt x="100" y="1116"/>
                  </a:lnTo>
                  <a:lnTo>
                    <a:pt x="85" y="1126"/>
                  </a:lnTo>
                  <a:lnTo>
                    <a:pt x="69" y="1141"/>
                  </a:lnTo>
                  <a:lnTo>
                    <a:pt x="59" y="1151"/>
                  </a:lnTo>
                  <a:lnTo>
                    <a:pt x="54" y="1156"/>
                  </a:lnTo>
                  <a:lnTo>
                    <a:pt x="49" y="1161"/>
                  </a:lnTo>
                  <a:lnTo>
                    <a:pt x="44" y="1166"/>
                  </a:lnTo>
                  <a:lnTo>
                    <a:pt x="44" y="1171"/>
                  </a:lnTo>
                  <a:lnTo>
                    <a:pt x="39" y="1181"/>
                  </a:lnTo>
                  <a:lnTo>
                    <a:pt x="34" y="1186"/>
                  </a:lnTo>
                  <a:lnTo>
                    <a:pt x="29" y="1191"/>
                  </a:lnTo>
                  <a:lnTo>
                    <a:pt x="29"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87" name=""/>
            <p:cNvSpPr/>
            <p:nvPr/>
          </p:nvSpPr>
          <p:spPr>
            <a:xfrm>
              <a:off x="491004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88" name=""/>
            <p:cNvSpPr/>
            <p:nvPr/>
          </p:nvSpPr>
          <p:spPr>
            <a:xfrm>
              <a:off x="4203720" y="5081760"/>
              <a:ext cx="55800" cy="430560"/>
            </a:xfrm>
            <a:custGeom>
              <a:avLst/>
              <a:gdLst/>
              <a:ahLst/>
              <a:rect l="0" t="0" r="r" b="b"/>
              <a:pathLst>
                <a:path fill="none" w="155" h="1196">
                  <a:moveTo>
                    <a:pt x="0" y="0"/>
                  </a:moveTo>
                  <a:lnTo>
                    <a:pt x="4" y="4"/>
                  </a:lnTo>
                  <a:lnTo>
                    <a:pt x="4" y="14"/>
                  </a:lnTo>
                  <a:lnTo>
                    <a:pt x="9" y="24"/>
                  </a:lnTo>
                  <a:lnTo>
                    <a:pt x="9" y="29"/>
                  </a:lnTo>
                  <a:lnTo>
                    <a:pt x="14" y="39"/>
                  </a:lnTo>
                  <a:lnTo>
                    <a:pt x="19" y="44"/>
                  </a:lnTo>
                  <a:lnTo>
                    <a:pt x="29" y="49"/>
                  </a:lnTo>
                  <a:lnTo>
                    <a:pt x="34" y="59"/>
                  </a:lnTo>
                  <a:lnTo>
                    <a:pt x="44" y="74"/>
                  </a:lnTo>
                  <a:lnTo>
                    <a:pt x="54" y="89"/>
                  </a:lnTo>
                  <a:lnTo>
                    <a:pt x="59" y="99"/>
                  </a:lnTo>
                  <a:lnTo>
                    <a:pt x="69" y="119"/>
                  </a:lnTo>
                  <a:lnTo>
                    <a:pt x="80" y="124"/>
                  </a:lnTo>
                  <a:lnTo>
                    <a:pt x="85" y="129"/>
                  </a:lnTo>
                  <a:lnTo>
                    <a:pt x="90" y="134"/>
                  </a:lnTo>
                  <a:lnTo>
                    <a:pt x="95" y="144"/>
                  </a:lnTo>
                  <a:lnTo>
                    <a:pt x="95" y="149"/>
                  </a:lnTo>
                  <a:lnTo>
                    <a:pt x="100" y="159"/>
                  </a:lnTo>
                  <a:lnTo>
                    <a:pt x="105" y="164"/>
                  </a:lnTo>
                  <a:lnTo>
                    <a:pt x="105" y="169"/>
                  </a:lnTo>
                  <a:lnTo>
                    <a:pt x="110" y="174"/>
                  </a:lnTo>
                  <a:lnTo>
                    <a:pt x="110" y="184"/>
                  </a:lnTo>
                  <a:lnTo>
                    <a:pt x="115" y="189"/>
                  </a:lnTo>
                  <a:lnTo>
                    <a:pt x="115" y="194"/>
                  </a:lnTo>
                  <a:lnTo>
                    <a:pt x="115" y="204"/>
                  </a:lnTo>
                  <a:lnTo>
                    <a:pt x="115" y="209"/>
                  </a:lnTo>
                  <a:lnTo>
                    <a:pt x="115" y="214"/>
                  </a:lnTo>
                  <a:lnTo>
                    <a:pt x="110" y="219"/>
                  </a:lnTo>
                  <a:lnTo>
                    <a:pt x="110" y="224"/>
                  </a:lnTo>
                  <a:lnTo>
                    <a:pt x="105" y="229"/>
                  </a:lnTo>
                  <a:lnTo>
                    <a:pt x="105" y="234"/>
                  </a:lnTo>
                  <a:lnTo>
                    <a:pt x="100" y="234"/>
                  </a:lnTo>
                  <a:lnTo>
                    <a:pt x="100" y="239"/>
                  </a:lnTo>
                  <a:lnTo>
                    <a:pt x="95" y="248"/>
                  </a:lnTo>
                  <a:lnTo>
                    <a:pt x="90" y="253"/>
                  </a:lnTo>
                  <a:lnTo>
                    <a:pt x="90" y="258"/>
                  </a:lnTo>
                  <a:lnTo>
                    <a:pt x="80" y="263"/>
                  </a:lnTo>
                  <a:lnTo>
                    <a:pt x="69" y="273"/>
                  </a:lnTo>
                  <a:lnTo>
                    <a:pt x="59" y="283"/>
                  </a:lnTo>
                  <a:lnTo>
                    <a:pt x="49" y="298"/>
                  </a:lnTo>
                  <a:lnTo>
                    <a:pt x="49" y="303"/>
                  </a:lnTo>
                  <a:lnTo>
                    <a:pt x="44" y="308"/>
                  </a:lnTo>
                  <a:lnTo>
                    <a:pt x="39" y="313"/>
                  </a:lnTo>
                  <a:lnTo>
                    <a:pt x="34" y="318"/>
                  </a:lnTo>
                  <a:lnTo>
                    <a:pt x="34" y="323"/>
                  </a:lnTo>
                  <a:lnTo>
                    <a:pt x="29" y="328"/>
                  </a:lnTo>
                  <a:lnTo>
                    <a:pt x="19" y="343"/>
                  </a:lnTo>
                  <a:lnTo>
                    <a:pt x="19" y="348"/>
                  </a:lnTo>
                  <a:lnTo>
                    <a:pt x="14" y="353"/>
                  </a:lnTo>
                  <a:lnTo>
                    <a:pt x="14" y="358"/>
                  </a:lnTo>
                  <a:lnTo>
                    <a:pt x="9" y="363"/>
                  </a:lnTo>
                  <a:lnTo>
                    <a:pt x="9" y="373"/>
                  </a:lnTo>
                  <a:lnTo>
                    <a:pt x="9" y="383"/>
                  </a:lnTo>
                  <a:lnTo>
                    <a:pt x="4" y="388"/>
                  </a:lnTo>
                  <a:lnTo>
                    <a:pt x="4" y="398"/>
                  </a:lnTo>
                  <a:lnTo>
                    <a:pt x="4" y="403"/>
                  </a:lnTo>
                  <a:lnTo>
                    <a:pt x="4" y="408"/>
                  </a:lnTo>
                  <a:lnTo>
                    <a:pt x="4" y="423"/>
                  </a:lnTo>
                  <a:lnTo>
                    <a:pt x="4" y="428"/>
                  </a:lnTo>
                  <a:lnTo>
                    <a:pt x="4" y="433"/>
                  </a:lnTo>
                  <a:lnTo>
                    <a:pt x="4" y="438"/>
                  </a:lnTo>
                  <a:lnTo>
                    <a:pt x="4" y="448"/>
                  </a:lnTo>
                  <a:lnTo>
                    <a:pt x="4" y="453"/>
                  </a:lnTo>
                  <a:lnTo>
                    <a:pt x="9" y="458"/>
                  </a:lnTo>
                  <a:lnTo>
                    <a:pt x="9" y="473"/>
                  </a:lnTo>
                  <a:lnTo>
                    <a:pt x="9" y="478"/>
                  </a:lnTo>
                  <a:lnTo>
                    <a:pt x="14" y="482"/>
                  </a:lnTo>
                  <a:lnTo>
                    <a:pt x="14" y="492"/>
                  </a:lnTo>
                  <a:lnTo>
                    <a:pt x="19" y="497"/>
                  </a:lnTo>
                  <a:lnTo>
                    <a:pt x="19" y="502"/>
                  </a:lnTo>
                  <a:lnTo>
                    <a:pt x="29" y="512"/>
                  </a:lnTo>
                  <a:lnTo>
                    <a:pt x="34" y="517"/>
                  </a:lnTo>
                  <a:lnTo>
                    <a:pt x="39" y="527"/>
                  </a:lnTo>
                  <a:lnTo>
                    <a:pt x="44" y="532"/>
                  </a:lnTo>
                  <a:lnTo>
                    <a:pt x="54" y="542"/>
                  </a:lnTo>
                  <a:lnTo>
                    <a:pt x="59" y="547"/>
                  </a:lnTo>
                  <a:lnTo>
                    <a:pt x="64" y="562"/>
                  </a:lnTo>
                  <a:lnTo>
                    <a:pt x="80" y="567"/>
                  </a:lnTo>
                  <a:lnTo>
                    <a:pt x="85" y="572"/>
                  </a:lnTo>
                  <a:lnTo>
                    <a:pt x="90" y="582"/>
                  </a:lnTo>
                  <a:lnTo>
                    <a:pt x="95" y="587"/>
                  </a:lnTo>
                  <a:lnTo>
                    <a:pt x="100" y="592"/>
                  </a:lnTo>
                  <a:lnTo>
                    <a:pt x="105" y="603"/>
                  </a:lnTo>
                  <a:lnTo>
                    <a:pt x="105" y="608"/>
                  </a:lnTo>
                  <a:lnTo>
                    <a:pt x="110" y="613"/>
                  </a:lnTo>
                  <a:lnTo>
                    <a:pt x="110" y="618"/>
                  </a:lnTo>
                  <a:lnTo>
                    <a:pt x="110" y="623"/>
                  </a:lnTo>
                  <a:lnTo>
                    <a:pt x="110" y="628"/>
                  </a:lnTo>
                  <a:lnTo>
                    <a:pt x="110" y="633"/>
                  </a:lnTo>
                  <a:lnTo>
                    <a:pt x="110" y="638"/>
                  </a:lnTo>
                  <a:lnTo>
                    <a:pt x="110" y="648"/>
                  </a:lnTo>
                  <a:lnTo>
                    <a:pt x="105" y="648"/>
                  </a:lnTo>
                  <a:lnTo>
                    <a:pt x="105" y="653"/>
                  </a:lnTo>
                  <a:lnTo>
                    <a:pt x="100" y="658"/>
                  </a:lnTo>
                  <a:lnTo>
                    <a:pt x="95" y="663"/>
                  </a:lnTo>
                  <a:lnTo>
                    <a:pt x="90" y="663"/>
                  </a:lnTo>
                  <a:lnTo>
                    <a:pt x="90" y="668"/>
                  </a:lnTo>
                  <a:lnTo>
                    <a:pt x="85" y="673"/>
                  </a:lnTo>
                  <a:lnTo>
                    <a:pt x="80" y="678"/>
                  </a:lnTo>
                  <a:lnTo>
                    <a:pt x="59" y="693"/>
                  </a:lnTo>
                  <a:lnTo>
                    <a:pt x="49" y="698"/>
                  </a:lnTo>
                  <a:lnTo>
                    <a:pt x="39" y="703"/>
                  </a:lnTo>
                  <a:lnTo>
                    <a:pt x="39" y="708"/>
                  </a:lnTo>
                  <a:lnTo>
                    <a:pt x="34" y="713"/>
                  </a:lnTo>
                  <a:lnTo>
                    <a:pt x="29" y="713"/>
                  </a:lnTo>
                  <a:lnTo>
                    <a:pt x="29" y="718"/>
                  </a:lnTo>
                  <a:lnTo>
                    <a:pt x="19" y="718"/>
                  </a:lnTo>
                  <a:lnTo>
                    <a:pt x="19" y="723"/>
                  </a:lnTo>
                  <a:lnTo>
                    <a:pt x="14" y="727"/>
                  </a:lnTo>
                  <a:lnTo>
                    <a:pt x="9" y="737"/>
                  </a:lnTo>
                  <a:lnTo>
                    <a:pt x="9" y="742"/>
                  </a:lnTo>
                  <a:lnTo>
                    <a:pt x="9" y="747"/>
                  </a:lnTo>
                  <a:lnTo>
                    <a:pt x="9" y="752"/>
                  </a:lnTo>
                  <a:lnTo>
                    <a:pt x="9" y="757"/>
                  </a:lnTo>
                  <a:lnTo>
                    <a:pt x="14" y="762"/>
                  </a:lnTo>
                  <a:lnTo>
                    <a:pt x="19" y="767"/>
                  </a:lnTo>
                  <a:lnTo>
                    <a:pt x="29" y="772"/>
                  </a:lnTo>
                  <a:lnTo>
                    <a:pt x="34" y="782"/>
                  </a:lnTo>
                  <a:lnTo>
                    <a:pt x="39" y="787"/>
                  </a:lnTo>
                  <a:lnTo>
                    <a:pt x="44" y="787"/>
                  </a:lnTo>
                  <a:lnTo>
                    <a:pt x="49" y="792"/>
                  </a:lnTo>
                  <a:lnTo>
                    <a:pt x="54" y="797"/>
                  </a:lnTo>
                  <a:lnTo>
                    <a:pt x="64" y="802"/>
                  </a:lnTo>
                  <a:lnTo>
                    <a:pt x="80" y="807"/>
                  </a:lnTo>
                  <a:lnTo>
                    <a:pt x="90" y="822"/>
                  </a:lnTo>
                  <a:lnTo>
                    <a:pt x="105" y="827"/>
                  </a:lnTo>
                  <a:lnTo>
                    <a:pt x="110" y="832"/>
                  </a:lnTo>
                  <a:lnTo>
                    <a:pt x="115" y="837"/>
                  </a:lnTo>
                  <a:lnTo>
                    <a:pt x="120" y="837"/>
                  </a:lnTo>
                  <a:lnTo>
                    <a:pt x="125" y="842"/>
                  </a:lnTo>
                  <a:lnTo>
                    <a:pt x="135" y="847"/>
                  </a:lnTo>
                  <a:lnTo>
                    <a:pt x="140" y="852"/>
                  </a:lnTo>
                  <a:lnTo>
                    <a:pt x="145" y="852"/>
                  </a:lnTo>
                  <a:lnTo>
                    <a:pt x="145" y="857"/>
                  </a:lnTo>
                  <a:lnTo>
                    <a:pt x="150" y="867"/>
                  </a:lnTo>
                  <a:lnTo>
                    <a:pt x="150" y="872"/>
                  </a:lnTo>
                  <a:lnTo>
                    <a:pt x="155" y="872"/>
                  </a:lnTo>
                  <a:lnTo>
                    <a:pt x="155" y="877"/>
                  </a:lnTo>
                  <a:lnTo>
                    <a:pt x="155" y="882"/>
                  </a:lnTo>
                  <a:lnTo>
                    <a:pt x="155" y="887"/>
                  </a:lnTo>
                  <a:lnTo>
                    <a:pt x="155" y="892"/>
                  </a:lnTo>
                  <a:lnTo>
                    <a:pt x="150" y="897"/>
                  </a:lnTo>
                  <a:lnTo>
                    <a:pt x="150" y="902"/>
                  </a:lnTo>
                  <a:lnTo>
                    <a:pt x="145" y="902"/>
                  </a:lnTo>
                  <a:lnTo>
                    <a:pt x="145" y="912"/>
                  </a:lnTo>
                  <a:lnTo>
                    <a:pt x="140" y="917"/>
                  </a:lnTo>
                  <a:lnTo>
                    <a:pt x="135" y="922"/>
                  </a:lnTo>
                  <a:lnTo>
                    <a:pt x="120" y="927"/>
                  </a:lnTo>
                  <a:lnTo>
                    <a:pt x="115" y="932"/>
                  </a:lnTo>
                  <a:lnTo>
                    <a:pt x="110" y="937"/>
                  </a:lnTo>
                  <a:lnTo>
                    <a:pt x="100" y="942"/>
                  </a:lnTo>
                  <a:lnTo>
                    <a:pt x="85" y="957"/>
                  </a:lnTo>
                  <a:lnTo>
                    <a:pt x="64" y="966"/>
                  </a:lnTo>
                  <a:lnTo>
                    <a:pt x="54" y="976"/>
                  </a:lnTo>
                  <a:lnTo>
                    <a:pt x="44" y="981"/>
                  </a:lnTo>
                  <a:lnTo>
                    <a:pt x="39" y="986"/>
                  </a:lnTo>
                  <a:lnTo>
                    <a:pt x="34" y="986"/>
                  </a:lnTo>
                  <a:lnTo>
                    <a:pt x="29" y="991"/>
                  </a:lnTo>
                  <a:lnTo>
                    <a:pt x="19" y="991"/>
                  </a:lnTo>
                  <a:lnTo>
                    <a:pt x="19" y="1001"/>
                  </a:lnTo>
                  <a:lnTo>
                    <a:pt x="14" y="1006"/>
                  </a:lnTo>
                  <a:lnTo>
                    <a:pt x="9" y="1006"/>
                  </a:lnTo>
                  <a:lnTo>
                    <a:pt x="9" y="1011"/>
                  </a:lnTo>
                  <a:lnTo>
                    <a:pt x="4" y="1016"/>
                  </a:lnTo>
                  <a:lnTo>
                    <a:pt x="4" y="1021"/>
                  </a:lnTo>
                  <a:lnTo>
                    <a:pt x="0" y="1021"/>
                  </a:lnTo>
                  <a:lnTo>
                    <a:pt x="0" y="1026"/>
                  </a:lnTo>
                  <a:lnTo>
                    <a:pt x="0" y="1031"/>
                  </a:lnTo>
                  <a:lnTo>
                    <a:pt x="0" y="1036"/>
                  </a:lnTo>
                  <a:lnTo>
                    <a:pt x="0" y="1046"/>
                  </a:lnTo>
                  <a:lnTo>
                    <a:pt x="0" y="1051"/>
                  </a:lnTo>
                  <a:lnTo>
                    <a:pt x="4" y="1056"/>
                  </a:lnTo>
                  <a:lnTo>
                    <a:pt x="4" y="1061"/>
                  </a:lnTo>
                  <a:lnTo>
                    <a:pt x="9" y="1066"/>
                  </a:lnTo>
                  <a:lnTo>
                    <a:pt x="9" y="1071"/>
                  </a:lnTo>
                  <a:lnTo>
                    <a:pt x="14" y="1071"/>
                  </a:lnTo>
                  <a:lnTo>
                    <a:pt x="19" y="1076"/>
                  </a:lnTo>
                  <a:lnTo>
                    <a:pt x="19" y="1081"/>
                  </a:lnTo>
                  <a:lnTo>
                    <a:pt x="29" y="1091"/>
                  </a:lnTo>
                  <a:lnTo>
                    <a:pt x="34" y="1096"/>
                  </a:lnTo>
                  <a:lnTo>
                    <a:pt x="39" y="1101"/>
                  </a:lnTo>
                  <a:lnTo>
                    <a:pt x="44" y="1106"/>
                  </a:lnTo>
                  <a:lnTo>
                    <a:pt x="54" y="1116"/>
                  </a:lnTo>
                  <a:lnTo>
                    <a:pt x="64" y="1126"/>
                  </a:lnTo>
                  <a:lnTo>
                    <a:pt x="80" y="1141"/>
                  </a:lnTo>
                  <a:lnTo>
                    <a:pt x="90" y="1151"/>
                  </a:lnTo>
                  <a:lnTo>
                    <a:pt x="95" y="1156"/>
                  </a:lnTo>
                  <a:lnTo>
                    <a:pt x="100" y="1161"/>
                  </a:lnTo>
                  <a:lnTo>
                    <a:pt x="105" y="1166"/>
                  </a:lnTo>
                  <a:lnTo>
                    <a:pt x="110" y="1171"/>
                  </a:lnTo>
                  <a:lnTo>
                    <a:pt x="115" y="1181"/>
                  </a:lnTo>
                  <a:lnTo>
                    <a:pt x="120" y="1186"/>
                  </a:lnTo>
                  <a:lnTo>
                    <a:pt x="120" y="1191"/>
                  </a:lnTo>
                  <a:lnTo>
                    <a:pt x="125" y="11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89" name=""/>
            <p:cNvSpPr/>
            <p:nvPr/>
          </p:nvSpPr>
          <p:spPr>
            <a:xfrm>
              <a:off x="3814920" y="5238720"/>
              <a:ext cx="0" cy="12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0" name=""/>
            <p:cNvSpPr/>
            <p:nvPr/>
          </p:nvSpPr>
          <p:spPr>
            <a:xfrm>
              <a:off x="5230800" y="5081760"/>
              <a:ext cx="0" cy="430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1" name=""/>
            <p:cNvSpPr/>
            <p:nvPr/>
          </p:nvSpPr>
          <p:spPr>
            <a:xfrm>
              <a:off x="2919240" y="5081760"/>
              <a:ext cx="90720" cy="427320"/>
            </a:xfrm>
            <a:custGeom>
              <a:avLst/>
              <a:gdLst/>
              <a:ahLst/>
              <a:rect l="0" t="0" r="r" b="b"/>
              <a:pathLst>
                <a:path fill="none" w="252" h="1187">
                  <a:moveTo>
                    <a:pt x="0" y="0"/>
                  </a:moveTo>
                  <a:lnTo>
                    <a:pt x="13" y="22"/>
                  </a:lnTo>
                  <a:lnTo>
                    <a:pt x="26" y="61"/>
                  </a:lnTo>
                  <a:lnTo>
                    <a:pt x="30" y="88"/>
                  </a:lnTo>
                  <a:lnTo>
                    <a:pt x="30" y="114"/>
                  </a:lnTo>
                  <a:lnTo>
                    <a:pt x="39" y="154"/>
                  </a:lnTo>
                  <a:lnTo>
                    <a:pt x="44" y="180"/>
                  </a:lnTo>
                  <a:lnTo>
                    <a:pt x="57" y="207"/>
                  </a:lnTo>
                  <a:lnTo>
                    <a:pt x="66" y="233"/>
                  </a:lnTo>
                  <a:lnTo>
                    <a:pt x="70" y="260"/>
                  </a:lnTo>
                  <a:lnTo>
                    <a:pt x="83" y="299"/>
                  </a:lnTo>
                  <a:lnTo>
                    <a:pt x="83" y="330"/>
                  </a:lnTo>
                  <a:lnTo>
                    <a:pt x="83" y="357"/>
                  </a:lnTo>
                  <a:lnTo>
                    <a:pt x="83" y="396"/>
                  </a:lnTo>
                  <a:lnTo>
                    <a:pt x="70" y="432"/>
                  </a:lnTo>
                  <a:lnTo>
                    <a:pt x="66" y="458"/>
                  </a:lnTo>
                  <a:lnTo>
                    <a:pt x="66" y="498"/>
                  </a:lnTo>
                  <a:lnTo>
                    <a:pt x="66" y="529"/>
                  </a:lnTo>
                  <a:lnTo>
                    <a:pt x="70" y="577"/>
                  </a:lnTo>
                  <a:lnTo>
                    <a:pt x="79" y="605"/>
                  </a:lnTo>
                  <a:lnTo>
                    <a:pt x="92" y="644"/>
                  </a:lnTo>
                  <a:lnTo>
                    <a:pt x="105" y="697"/>
                  </a:lnTo>
                  <a:lnTo>
                    <a:pt x="110" y="724"/>
                  </a:lnTo>
                  <a:lnTo>
                    <a:pt x="110" y="750"/>
                  </a:lnTo>
                  <a:lnTo>
                    <a:pt x="110" y="834"/>
                  </a:lnTo>
                  <a:lnTo>
                    <a:pt x="110" y="856"/>
                  </a:lnTo>
                  <a:lnTo>
                    <a:pt x="97" y="882"/>
                  </a:lnTo>
                  <a:lnTo>
                    <a:pt x="97" y="913"/>
                  </a:lnTo>
                  <a:lnTo>
                    <a:pt x="92" y="949"/>
                  </a:lnTo>
                  <a:lnTo>
                    <a:pt x="92" y="975"/>
                  </a:lnTo>
                  <a:lnTo>
                    <a:pt x="119" y="979"/>
                  </a:lnTo>
                  <a:lnTo>
                    <a:pt x="186" y="988"/>
                  </a:lnTo>
                  <a:lnTo>
                    <a:pt x="212" y="1002"/>
                  </a:lnTo>
                  <a:lnTo>
                    <a:pt x="243" y="1041"/>
                  </a:lnTo>
                  <a:lnTo>
                    <a:pt x="252" y="1068"/>
                  </a:lnTo>
                  <a:lnTo>
                    <a:pt x="252" y="1094"/>
                  </a:lnTo>
                  <a:lnTo>
                    <a:pt x="252" y="1121"/>
                  </a:lnTo>
                  <a:lnTo>
                    <a:pt x="252" y="1160"/>
                  </a:lnTo>
                  <a:lnTo>
                    <a:pt x="230" y="118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492" name=""/>
            <p:cNvSpPr/>
            <p:nvPr/>
          </p:nvSpPr>
          <p:spPr>
            <a:xfrm>
              <a:off x="2824200" y="5519880"/>
              <a:ext cx="2476440" cy="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93" name=""/>
          <p:cNvSpPr/>
          <p:nvPr/>
        </p:nvSpPr>
        <p:spPr>
          <a:xfrm>
            <a:off x="2917800" y="5081760"/>
            <a:ext cx="23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4" name=""/>
          <p:cNvSpPr/>
          <p:nvPr/>
        </p:nvSpPr>
        <p:spPr>
          <a:xfrm>
            <a:off x="3352680" y="5091120"/>
            <a:ext cx="0" cy="76320"/>
          </a:xfrm>
          <a:prstGeom prst="line">
            <a:avLst/>
          </a:prstGeom>
          <a:ln w="12600">
            <a:solidFill>
              <a:srgbClr val="fd07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6495" name=""/>
          <p:cNvSpPr/>
          <p:nvPr/>
        </p:nvSpPr>
        <p:spPr>
          <a:xfrm>
            <a:off x="3352680" y="521964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6" name=""/>
          <p:cNvSpPr/>
          <p:nvPr/>
        </p:nvSpPr>
        <p:spPr>
          <a:xfrm>
            <a:off x="3352680" y="5372280"/>
            <a:ext cx="0" cy="13788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7" name=""/>
          <p:cNvSpPr/>
          <p:nvPr/>
        </p:nvSpPr>
        <p:spPr>
          <a:xfrm>
            <a:off x="4282920" y="5092560"/>
            <a:ext cx="0" cy="81000"/>
          </a:xfrm>
          <a:prstGeom prst="line">
            <a:avLst/>
          </a:prstGeom>
          <a:ln w="12600">
            <a:solidFill>
              <a:srgbClr val="fd0700"/>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498" name=""/>
          <p:cNvSpPr/>
          <p:nvPr/>
        </p:nvSpPr>
        <p:spPr>
          <a:xfrm>
            <a:off x="4282920" y="52308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9" name=""/>
          <p:cNvSpPr/>
          <p:nvPr/>
        </p:nvSpPr>
        <p:spPr>
          <a:xfrm>
            <a:off x="4281480" y="5407200"/>
            <a:ext cx="0" cy="104760"/>
          </a:xfrm>
          <a:prstGeom prst="line">
            <a:avLst/>
          </a:prstGeom>
          <a:ln w="12600">
            <a:solidFill>
              <a:srgbClr val="fd07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0" name=""/>
          <p:cNvSpPr/>
          <p:nvPr/>
        </p:nvSpPr>
        <p:spPr>
          <a:xfrm>
            <a:off x="4344840" y="3505320"/>
            <a:ext cx="0" cy="86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1" name=""/>
          <p:cNvSpPr/>
          <p:nvPr/>
        </p:nvSpPr>
        <p:spPr>
          <a:xfrm flipH="1">
            <a:off x="3814920" y="4365720"/>
            <a:ext cx="529920" cy="42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2" name=""/>
          <p:cNvSpPr/>
          <p:nvPr/>
        </p:nvSpPr>
        <p:spPr>
          <a:xfrm>
            <a:off x="4286160" y="408636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3" name=""/>
          <p:cNvSpPr txBox="1"/>
          <p:nvPr/>
        </p:nvSpPr>
        <p:spPr>
          <a:xfrm>
            <a:off x="90360" y="2716200"/>
            <a:ext cx="3670200" cy="1311120"/>
          </a:xfrm>
          <a:prstGeom prst="rect">
            <a:avLst/>
          </a:prstGeom>
          <a:noFill/>
          <a:ln w="0">
            <a:noFill/>
          </a:ln>
        </p:spPr>
        <p:txBody>
          <a:bodyPr lIns="0" rIns="0" tIns="0" bIns="0" anchor="t">
            <a:noAutofit/>
          </a:bodyPr>
          <a:p>
            <a:pPr algn="ctr">
              <a:lnSpc>
                <a:spcPct val="100000"/>
              </a:lnSpc>
            </a:pPr>
            <a:r>
              <a:rPr b="0" lang="en-US" sz="2000" spc="-1" strike="noStrike" u="sng">
                <a:solidFill>
                  <a:srgbClr val="f2fefd"/>
                </a:solidFill>
                <a:uFillTx/>
                <a:latin typeface="Times New Roman"/>
                <a:ea typeface="Times New Roman"/>
              </a:rPr>
              <a:t>SECONDARY AND TERTIARY</a:t>
            </a:r>
            <a:endParaRPr b="0" lang="en-US" sz="2000" spc="-1" strike="noStrike">
              <a:solidFill>
                <a:srgbClr val="000000"/>
              </a:solidFill>
              <a:latin typeface="Arial"/>
            </a:endParaRPr>
          </a:p>
          <a:p>
            <a:pPr algn="ctr">
              <a:lnSpc>
                <a:spcPct val="100000"/>
              </a:lnSpc>
            </a:pPr>
            <a:r>
              <a:rPr b="0" lang="en-US" sz="2000" spc="-1" strike="noStrike" u="sng">
                <a:solidFill>
                  <a:srgbClr val="f2fefd"/>
                </a:solidFill>
                <a:uFillTx/>
                <a:latin typeface="Times New Roman"/>
                <a:ea typeface="Times New Roman"/>
              </a:rPr>
              <a:t>DATUM FEATURES</a:t>
            </a:r>
            <a:endParaRPr b="0" lang="en-US" sz="2000" spc="-1" strike="noStrike">
              <a:solidFill>
                <a:srgbClr val="000000"/>
              </a:solidFill>
              <a:latin typeface="Arial"/>
            </a:endParaRPr>
          </a:p>
          <a:p>
            <a:pPr algn="ctr">
              <a:lnSpc>
                <a:spcPct val="100000"/>
              </a:lnSpc>
            </a:pPr>
            <a:r>
              <a:rPr b="0" lang="en-US" sz="2000" spc="-1" strike="noStrike">
                <a:solidFill>
                  <a:srgbClr val="f2fefd"/>
                </a:solidFill>
                <a:latin typeface="Times New Roman"/>
                <a:ea typeface="Times New Roman"/>
              </a:rPr>
              <a:t>Least Material Condition</a:t>
            </a:r>
            <a:endParaRPr b="0" lang="en-US" sz="2000" spc="-1" strike="noStrike">
              <a:solidFill>
                <a:srgbClr val="000000"/>
              </a:solidFill>
              <a:latin typeface="Arial"/>
            </a:endParaRPr>
          </a:p>
          <a:p>
            <a:pPr algn="ctr">
              <a:lnSpc>
                <a:spcPct val="100000"/>
              </a:lnSpc>
            </a:pPr>
            <a:r>
              <a:rPr b="0" lang="en-US" sz="2000" spc="-1" strike="noStrike">
                <a:solidFill>
                  <a:srgbClr val="ffff00"/>
                </a:solidFill>
                <a:latin typeface="Times New Roman"/>
                <a:ea typeface="Times New Roman"/>
              </a:rPr>
              <a:t>(Simulated at Virtual Condition)</a:t>
            </a:r>
            <a:endParaRPr b="0" lang="en-US" sz="2000" spc="-1" strike="noStrike">
              <a:solidFill>
                <a:srgbClr val="000000"/>
              </a:solidFill>
              <a:latin typeface="Arial"/>
            </a:endParaRPr>
          </a:p>
        </p:txBody>
      </p:sp>
      <p:grpSp>
        <p:nvGrpSpPr>
          <p:cNvPr id="6504" name=""/>
          <p:cNvGrpSpPr/>
          <p:nvPr/>
        </p:nvGrpSpPr>
        <p:grpSpPr>
          <a:xfrm>
            <a:off x="461880" y="4011480"/>
            <a:ext cx="2822760" cy="366840"/>
            <a:chOff x="461880" y="4011480"/>
            <a:chExt cx="2822760" cy="366840"/>
          </a:xfrm>
        </p:grpSpPr>
        <p:sp>
          <p:nvSpPr>
            <p:cNvPr id="6505" name=""/>
            <p:cNvSpPr/>
            <p:nvPr/>
          </p:nvSpPr>
          <p:spPr>
            <a:xfrm>
              <a:off x="798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6" name=""/>
            <p:cNvSpPr/>
            <p:nvPr/>
          </p:nvSpPr>
          <p:spPr>
            <a:xfrm>
              <a:off x="1752480" y="4011480"/>
              <a:ext cx="0" cy="33840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7" name=""/>
            <p:cNvSpPr/>
            <p:nvPr/>
          </p:nvSpPr>
          <p:spPr>
            <a:xfrm>
              <a:off x="461880" y="4011480"/>
              <a:ext cx="2822760" cy="338400"/>
            </a:xfrm>
            <a:custGeom>
              <a:avLst/>
              <a:gdLst/>
              <a:ahLst/>
              <a:rect l="0" t="0" r="r" b="b"/>
              <a:pathLst>
                <a:path fill="none" w="7841" h="940">
                  <a:moveTo>
                    <a:pt x="0" y="940"/>
                  </a:moveTo>
                  <a:lnTo>
                    <a:pt x="0" y="0"/>
                  </a:lnTo>
                  <a:lnTo>
                    <a:pt x="7841" y="0"/>
                  </a:lnTo>
                  <a:lnTo>
                    <a:pt x="7841" y="940"/>
                  </a:lnTo>
                  <a:lnTo>
                    <a:pt x="0" y="940"/>
                  </a:lnTo>
                </a:path>
              </a:pathLst>
            </a:custGeom>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08" name=""/>
            <p:cNvGrpSpPr/>
            <p:nvPr/>
          </p:nvGrpSpPr>
          <p:grpSpPr>
            <a:xfrm>
              <a:off x="525600" y="4076640"/>
              <a:ext cx="214200" cy="212760"/>
              <a:chOff x="525600" y="4076640"/>
              <a:chExt cx="214200" cy="212760"/>
            </a:xfrm>
          </p:grpSpPr>
          <p:sp>
            <p:nvSpPr>
              <p:cNvPr id="6509" name=""/>
              <p:cNvSpPr/>
              <p:nvPr/>
            </p:nvSpPr>
            <p:spPr>
              <a:xfrm>
                <a:off x="525600" y="4179960"/>
                <a:ext cx="214200" cy="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0" name=""/>
              <p:cNvSpPr/>
              <p:nvPr/>
            </p:nvSpPr>
            <p:spPr>
              <a:xfrm>
                <a:off x="630360" y="4076640"/>
                <a:ext cx="0" cy="2127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1" name=""/>
              <p:cNvSpPr/>
              <p:nvPr/>
            </p:nvSpPr>
            <p:spPr>
              <a:xfrm>
                <a:off x="546120" y="4097160"/>
                <a:ext cx="165240" cy="16524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512" name=""/>
            <p:cNvGrpSpPr/>
            <p:nvPr/>
          </p:nvGrpSpPr>
          <p:grpSpPr>
            <a:xfrm>
              <a:off x="852480" y="4084560"/>
              <a:ext cx="131760" cy="196920"/>
              <a:chOff x="852480" y="4084560"/>
              <a:chExt cx="131760" cy="196920"/>
            </a:xfrm>
          </p:grpSpPr>
          <p:sp>
            <p:nvSpPr>
              <p:cNvPr id="6513" name=""/>
              <p:cNvSpPr/>
              <p:nvPr/>
            </p:nvSpPr>
            <p:spPr>
              <a:xfrm flipV="1">
                <a:off x="860400" y="4084560"/>
                <a:ext cx="114480" cy="19692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4" name=""/>
              <p:cNvSpPr/>
              <p:nvPr/>
            </p:nvSpPr>
            <p:spPr>
              <a:xfrm>
                <a:off x="852480" y="4116240"/>
                <a:ext cx="131760" cy="13176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515" name=""/>
            <p:cNvSpPr txBox="1"/>
            <p:nvPr/>
          </p:nvSpPr>
          <p:spPr>
            <a:xfrm>
              <a:off x="984240" y="40356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0.2</a:t>
              </a:r>
              <a:endParaRPr b="0" lang="en-US" sz="1600" spc="-1" strike="noStrike">
                <a:solidFill>
                  <a:srgbClr val="000000"/>
                </a:solidFill>
                <a:latin typeface="Arial"/>
              </a:endParaRPr>
            </a:p>
          </p:txBody>
        </p:sp>
        <p:sp>
          <p:nvSpPr>
            <p:cNvPr id="6516" name=""/>
            <p:cNvSpPr/>
            <p:nvPr/>
          </p:nvSpPr>
          <p:spPr>
            <a:xfrm>
              <a:off x="1415880" y="4051440"/>
              <a:ext cx="26352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17" name=""/>
            <p:cNvSpPr txBox="1"/>
            <p:nvPr/>
          </p:nvSpPr>
          <p:spPr>
            <a:xfrm>
              <a:off x="1387440" y="402732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518" name=""/>
            <p:cNvSpPr txBox="1"/>
            <p:nvPr/>
          </p:nvSpPr>
          <p:spPr>
            <a:xfrm>
              <a:off x="1743120" y="40338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X</a:t>
              </a:r>
              <a:endParaRPr b="0" lang="en-US" sz="1600" spc="-1" strike="noStrike">
                <a:solidFill>
                  <a:srgbClr val="000000"/>
                </a:solidFill>
                <a:latin typeface="Arial"/>
              </a:endParaRPr>
            </a:p>
          </p:txBody>
        </p:sp>
        <p:sp>
          <p:nvSpPr>
            <p:cNvPr id="6519" name=""/>
            <p:cNvSpPr/>
            <p:nvPr/>
          </p:nvSpPr>
          <p:spPr>
            <a:xfrm>
              <a:off x="2108160" y="4013280"/>
              <a:ext cx="0" cy="33336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0" name=""/>
            <p:cNvSpPr txBox="1"/>
            <p:nvPr/>
          </p:nvSpPr>
          <p:spPr>
            <a:xfrm>
              <a:off x="2075040" y="40305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Y</a:t>
              </a:r>
              <a:endParaRPr b="0" lang="en-US" sz="1600" spc="-1" strike="noStrike">
                <a:solidFill>
                  <a:srgbClr val="000000"/>
                </a:solidFill>
                <a:latin typeface="Arial"/>
              </a:endParaRPr>
            </a:p>
          </p:txBody>
        </p:sp>
        <p:sp>
          <p:nvSpPr>
            <p:cNvPr id="6521" name=""/>
            <p:cNvSpPr/>
            <p:nvPr/>
          </p:nvSpPr>
          <p:spPr>
            <a:xfrm>
              <a:off x="2324160" y="4057560"/>
              <a:ext cx="26676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2" name=""/>
            <p:cNvSpPr txBox="1"/>
            <p:nvPr/>
          </p:nvSpPr>
          <p:spPr>
            <a:xfrm>
              <a:off x="2297160" y="403380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sp>
          <p:nvSpPr>
            <p:cNvPr id="6523" name=""/>
            <p:cNvSpPr/>
            <p:nvPr/>
          </p:nvSpPr>
          <p:spPr>
            <a:xfrm>
              <a:off x="2682720" y="4021200"/>
              <a:ext cx="0" cy="328680"/>
            </a:xfrm>
            <a:prstGeom prst="line">
              <a:avLst/>
            </a:prstGeom>
            <a:ln w="12600">
              <a:solidFill>
                <a:srgbClr val="ffff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4" name=""/>
            <p:cNvSpPr txBox="1"/>
            <p:nvPr/>
          </p:nvSpPr>
          <p:spPr>
            <a:xfrm>
              <a:off x="2644920" y="4041720"/>
              <a:ext cx="36684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Z</a:t>
              </a:r>
              <a:endParaRPr b="0" lang="en-US" sz="1600" spc="-1" strike="noStrike">
                <a:solidFill>
                  <a:srgbClr val="000000"/>
                </a:solidFill>
                <a:latin typeface="Arial"/>
              </a:endParaRPr>
            </a:p>
          </p:txBody>
        </p:sp>
        <p:sp>
          <p:nvSpPr>
            <p:cNvPr id="6525" name=""/>
            <p:cNvSpPr/>
            <p:nvPr/>
          </p:nvSpPr>
          <p:spPr>
            <a:xfrm>
              <a:off x="2911320" y="4062240"/>
              <a:ext cx="270000" cy="263520"/>
            </a:xfrm>
            <a:prstGeom prst="ellipse">
              <a:avLst/>
            </a:prstGeom>
            <a:noFill/>
            <a:ln w="12600">
              <a:solidFill>
                <a:srgbClr val="ffff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26" name=""/>
            <p:cNvSpPr txBox="1"/>
            <p:nvPr/>
          </p:nvSpPr>
          <p:spPr>
            <a:xfrm>
              <a:off x="2890800" y="4038480"/>
              <a:ext cx="307800" cy="336600"/>
            </a:xfrm>
            <a:prstGeom prst="rect">
              <a:avLst/>
            </a:prstGeom>
            <a:noFill/>
            <a:ln w="0">
              <a:noFill/>
            </a:ln>
          </p:spPr>
          <p:txBody>
            <a:bodyPr lIns="0" rIns="0" tIns="0" bIns="0" anchor="t">
              <a:noAutofit/>
            </a:bodyPr>
            <a:p>
              <a:pPr>
                <a:lnSpc>
                  <a:spcPct val="100000"/>
                </a:lnSpc>
              </a:pPr>
              <a:r>
                <a:rPr b="0" lang="en-US" sz="1600" spc="-1" strike="noStrike">
                  <a:solidFill>
                    <a:srgbClr val="ffff00"/>
                  </a:solidFill>
                  <a:latin typeface="Times New Roman"/>
                  <a:ea typeface="Times New Roman"/>
                </a:rPr>
                <a:t>L</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27" name=""/>
          <p:cNvSpPr txBox="1"/>
          <p:nvPr/>
        </p:nvSpPr>
        <p:spPr>
          <a:xfrm>
            <a:off x="685800" y="1932120"/>
            <a:ext cx="7772400" cy="2419200"/>
          </a:xfrm>
          <a:prstGeom prst="rect">
            <a:avLst/>
          </a:prstGeom>
          <a:noFill/>
          <a:ln w="0">
            <a:noFill/>
          </a:ln>
        </p:spPr>
        <p:txBody>
          <a:bodyPr lIns="0" rIns="0" tIns="0" bIns="0" anchor="t">
            <a:noAutofit/>
          </a:bodyPr>
          <a:p>
            <a:pPr algn="ctr">
              <a:lnSpc>
                <a:spcPct val="100000"/>
              </a:lnSpc>
            </a:pPr>
            <a:r>
              <a:rPr b="0" lang="en-US" sz="5400" spc="-1" strike="noStrike">
                <a:solidFill>
                  <a:srgbClr val="ffffff"/>
                </a:solidFill>
                <a:latin typeface="Times New Roman"/>
                <a:ea typeface="Times New Roman"/>
              </a:rPr>
              <a:t>Datum Precedence and Material Condi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27669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5064120" y="3317760"/>
            <a:ext cx="0" cy="75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4" name=""/>
          <p:cNvGrpSpPr/>
          <p:nvPr/>
        </p:nvGrpSpPr>
        <p:grpSpPr>
          <a:xfrm>
            <a:off x="4413240" y="2560680"/>
            <a:ext cx="507960" cy="495360"/>
            <a:chOff x="4413240" y="2560680"/>
            <a:chExt cx="507960" cy="495360"/>
          </a:xfrm>
        </p:grpSpPr>
        <p:sp>
          <p:nvSpPr>
            <p:cNvPr id="705"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710"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1" name=""/>
          <p:cNvSpPr/>
          <p:nvPr/>
        </p:nvSpPr>
        <p:spPr>
          <a:xfrm>
            <a:off x="2676600" y="27957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882880" y="27957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3009960" y="279576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16"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17" name=""/>
          <p:cNvGrpSpPr/>
          <p:nvPr/>
        </p:nvGrpSpPr>
        <p:grpSpPr>
          <a:xfrm>
            <a:off x="2523960" y="5121360"/>
            <a:ext cx="2523960" cy="1133280"/>
            <a:chOff x="2523960" y="5121360"/>
            <a:chExt cx="2523960" cy="1133280"/>
          </a:xfrm>
        </p:grpSpPr>
        <p:sp>
          <p:nvSpPr>
            <p:cNvPr id="718"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23" name=""/>
            <p:cNvGrpSpPr/>
            <p:nvPr/>
          </p:nvGrpSpPr>
          <p:grpSpPr>
            <a:xfrm>
              <a:off x="4651200" y="5127480"/>
              <a:ext cx="0" cy="1127160"/>
              <a:chOff x="4651200" y="5127480"/>
              <a:chExt cx="0" cy="1127160"/>
            </a:xfrm>
          </p:grpSpPr>
          <p:sp>
            <p:nvSpPr>
              <p:cNvPr id="724"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726"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727" name=""/>
            <p:cNvGrpSpPr/>
            <p:nvPr/>
          </p:nvGrpSpPr>
          <p:grpSpPr>
            <a:xfrm>
              <a:off x="2898720" y="5121360"/>
              <a:ext cx="0" cy="1127160"/>
              <a:chOff x="2898720" y="5121360"/>
              <a:chExt cx="0" cy="1127160"/>
            </a:xfrm>
          </p:grpSpPr>
          <p:sp>
            <p:nvSpPr>
              <p:cNvPr id="728"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730"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731"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sp>
        <p:nvSpPr>
          <p:cNvPr id="739"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 name=""/>
          <p:cNvSpPr txBox="1"/>
          <p:nvPr/>
        </p:nvSpPr>
        <p:spPr>
          <a:xfrm>
            <a:off x="5327640" y="97776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742" name=""/>
          <p:cNvSpPr txBox="1"/>
          <p:nvPr/>
        </p:nvSpPr>
        <p:spPr>
          <a:xfrm>
            <a:off x="5943600" y="83520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743" name=""/>
          <p:cNvGrpSpPr/>
          <p:nvPr/>
        </p:nvGrpSpPr>
        <p:grpSpPr>
          <a:xfrm>
            <a:off x="5797440" y="1015920"/>
            <a:ext cx="174600" cy="174600"/>
            <a:chOff x="5797440" y="1015920"/>
            <a:chExt cx="174600" cy="174600"/>
          </a:xfrm>
        </p:grpSpPr>
        <p:sp>
          <p:nvSpPr>
            <p:cNvPr id="744" name=""/>
            <p:cNvSpPr/>
            <p:nvPr/>
          </p:nvSpPr>
          <p:spPr>
            <a:xfrm>
              <a:off x="5813280" y="1031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flipH="1">
              <a:off x="5797440" y="1015920"/>
              <a:ext cx="17460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747"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748" name=""/>
          <p:cNvSpPr/>
          <p:nvPr/>
        </p:nvSpPr>
        <p:spPr>
          <a:xfrm flipH="1">
            <a:off x="5175360" y="11160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flipH="1">
            <a:off x="4714920" y="1109520"/>
            <a:ext cx="466560" cy="1541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sp>
        <p:nvSpPr>
          <p:cNvPr id="751"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sp>
        <p:nvSpPr>
          <p:cNvPr id="752" name=""/>
          <p:cNvSpPr/>
          <p:nvPr/>
        </p:nvSpPr>
        <p:spPr>
          <a:xfrm flipH="1">
            <a:off x="2921040" y="36511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a:off x="2533680" y="3273480"/>
            <a:ext cx="0" cy="79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2533680" y="3960720"/>
            <a:ext cx="1274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5" name=""/>
          <p:cNvSpPr/>
          <p:nvPr/>
        </p:nvSpPr>
        <p:spPr>
          <a:xfrm>
            <a:off x="4438800" y="39607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6" name=""/>
          <p:cNvSpPr txBox="1"/>
          <p:nvPr/>
        </p:nvSpPr>
        <p:spPr>
          <a:xfrm>
            <a:off x="3848040" y="3797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68.0</a:t>
            </a:r>
            <a:endParaRPr b="0" lang="en-US" sz="1600" spc="-1" strike="noStrike">
              <a:solidFill>
                <a:srgbClr val="000000"/>
              </a:solidFill>
              <a:latin typeface="Arial"/>
            </a:endParaRPr>
          </a:p>
        </p:txBody>
      </p:sp>
      <p:sp>
        <p:nvSpPr>
          <p:cNvPr id="757" name=""/>
          <p:cNvSpPr/>
          <p:nvPr/>
        </p:nvSpPr>
        <p:spPr>
          <a:xfrm>
            <a:off x="5159520" y="5345280"/>
            <a:ext cx="85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5159520" y="5954760"/>
            <a:ext cx="84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5900760" y="53341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flipV="1">
            <a:off x="5900760" y="484668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5900760" y="48466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txBox="1"/>
          <p:nvPr/>
        </p:nvSpPr>
        <p:spPr>
          <a:xfrm>
            <a:off x="6162840" y="468324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5.0</a:t>
            </a:r>
            <a:endParaRPr b="0" lang="en-US" sz="1600" spc="-1" strike="noStrike">
              <a:solidFill>
                <a:srgbClr val="000000"/>
              </a:solidFill>
              <a:latin typeface="Arial"/>
            </a:endParaRPr>
          </a:p>
        </p:txBody>
      </p:sp>
      <p:sp>
        <p:nvSpPr>
          <p:cNvPr id="763"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sp>
        <p:nvSpPr>
          <p:cNvPr id="766"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7" name=""/>
          <p:cNvSpPr/>
          <p:nvPr/>
        </p:nvSpPr>
        <p:spPr>
          <a:xfrm>
            <a:off x="3730680" y="2797200"/>
            <a:ext cx="6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3895560" y="2797200"/>
            <a:ext cx="54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4948200" y="5965920"/>
            <a:ext cx="420840" cy="420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V="1">
            <a:off x="5369040" y="4314960"/>
            <a:ext cx="554040" cy="20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flipH="1">
            <a:off x="4881600" y="4314960"/>
            <a:ext cx="1041480" cy="104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5923080" y="43149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txBox="1"/>
          <p:nvPr/>
        </p:nvSpPr>
        <p:spPr>
          <a:xfrm>
            <a:off x="6084720" y="415116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Precedence and Material Condition</a:t>
            </a:r>
            <a:endParaRPr b="0" lang="en-US" sz="3600" spc="-1" strike="noStrike">
              <a:solidFill>
                <a:srgbClr val="000000"/>
              </a:solidFill>
              <a:latin typeface="Arial"/>
            </a:endParaRPr>
          </a:p>
        </p:txBody>
      </p:sp>
      <p:sp>
        <p:nvSpPr>
          <p:cNvPr id="653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afd00"/>
                </a:solidFill>
                <a:latin typeface="Times New Roman"/>
                <a:ea typeface="Times New Roman"/>
              </a:rPr>
              <a:t>Datums </a:t>
            </a:r>
            <a:r>
              <a:rPr b="0" lang="en-US" sz="2800" spc="-1" strike="noStrike">
                <a:solidFill>
                  <a:srgbClr val="ffffff"/>
                </a:solidFill>
                <a:latin typeface="Times New Roman"/>
                <a:ea typeface="Times New Roman"/>
              </a:rPr>
              <a:t>referenced in a feature control frame, establish an order of precedence.  Whenever a datum reference involves a </a:t>
            </a:r>
            <a:r>
              <a:rPr b="0" lang="en-US" sz="2800" spc="-1" strike="noStrike">
                <a:solidFill>
                  <a:srgbClr val="fafd00"/>
                </a:solidFill>
                <a:latin typeface="Times New Roman"/>
                <a:ea typeface="Times New Roman"/>
              </a:rPr>
              <a:t>feature of size</a:t>
            </a:r>
            <a:r>
              <a:rPr b="0" lang="en-US" sz="2800" spc="-1" strike="noStrike">
                <a:solidFill>
                  <a:srgbClr val="ffffff"/>
                </a:solidFill>
                <a:latin typeface="Times New Roman"/>
                <a:ea typeface="Times New Roman"/>
              </a:rPr>
              <a:t>, the material condition at which the datum feature applies must be clear.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material condition and order of precedence of datum features will influence how the part will inspect, assemble, and fun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Precedence and Material Condition</a:t>
            </a:r>
            <a:endParaRPr b="0" lang="en-US" sz="3600" spc="-1" strike="noStrike">
              <a:solidFill>
                <a:srgbClr val="000000"/>
              </a:solidFill>
              <a:latin typeface="Arial"/>
            </a:endParaRPr>
          </a:p>
        </p:txBody>
      </p:sp>
      <p:sp>
        <p:nvSpPr>
          <p:cNvPr id="6532" name=""/>
          <p:cNvSpPr txBox="1"/>
          <p:nvPr/>
        </p:nvSpPr>
        <p:spPr>
          <a:xfrm>
            <a:off x="685800" y="2624040"/>
            <a:ext cx="7772400" cy="23670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following illustrations demonstrate the predictable effects of datum precedence and material condition on the behavior of part features during inspection and at assemb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533" name=""/>
          <p:cNvGrpSpPr/>
          <p:nvPr/>
        </p:nvGrpSpPr>
        <p:grpSpPr>
          <a:xfrm>
            <a:off x="1469880" y="407880"/>
            <a:ext cx="7394760" cy="6297840"/>
            <a:chOff x="1469880" y="407880"/>
            <a:chExt cx="7394760" cy="6297840"/>
          </a:xfrm>
        </p:grpSpPr>
        <p:sp>
          <p:nvSpPr>
            <p:cNvPr id="65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535" name=""/>
            <p:cNvGrpSpPr/>
            <p:nvPr/>
          </p:nvGrpSpPr>
          <p:grpSpPr>
            <a:xfrm>
              <a:off x="1469880" y="1668600"/>
              <a:ext cx="4613760" cy="4049640"/>
              <a:chOff x="1469880" y="1668600"/>
              <a:chExt cx="4613760" cy="4049640"/>
            </a:xfrm>
          </p:grpSpPr>
          <p:sp>
            <p:nvSpPr>
              <p:cNvPr id="6536" name=""/>
              <p:cNvSpPr/>
              <p:nvPr/>
            </p:nvSpPr>
            <p:spPr>
              <a:xfrm>
                <a:off x="4351320" y="5208480"/>
                <a:ext cx="4752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7" name=""/>
              <p:cNvSpPr/>
              <p:nvPr/>
            </p:nvSpPr>
            <p:spPr>
              <a:xfrm>
                <a:off x="4336920" y="5208480"/>
                <a:ext cx="62280" cy="275040"/>
              </a:xfrm>
              <a:custGeom>
                <a:avLst/>
                <a:gdLst/>
                <a:ahLst/>
                <a:rect l="0" t="0" r="r" b="b"/>
                <a:pathLst>
                  <a:path fill="none" w="173" h="764">
                    <a:moveTo>
                      <a:pt x="39" y="0"/>
                    </a:moveTo>
                    <a:lnTo>
                      <a:pt x="0" y="521"/>
                    </a:lnTo>
                    <a:lnTo>
                      <a:pt x="173" y="371"/>
                    </a:lnTo>
                    <a:lnTo>
                      <a:pt x="39" y="76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38" name=""/>
              <p:cNvSpPr/>
              <p:nvPr/>
            </p:nvSpPr>
            <p:spPr>
              <a:xfrm flipV="1">
                <a:off x="4297320" y="5342040"/>
                <a:ext cx="10152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9" name=""/>
              <p:cNvSpPr/>
              <p:nvPr/>
            </p:nvSpPr>
            <p:spPr>
              <a:xfrm flipH="1">
                <a:off x="4297320" y="5208480"/>
                <a:ext cx="5400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540" name=""/>
              <p:cNvSpPr/>
              <p:nvPr/>
            </p:nvSpPr>
            <p:spPr>
              <a:xfrm flipH="1">
                <a:off x="4218120" y="5483160"/>
                <a:ext cx="13320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1" name=""/>
              <p:cNvSpPr/>
              <p:nvPr/>
            </p:nvSpPr>
            <p:spPr>
              <a:xfrm>
                <a:off x="4172040" y="5483160"/>
                <a:ext cx="179640" cy="141480"/>
              </a:xfrm>
              <a:custGeom>
                <a:avLst/>
                <a:gdLst/>
                <a:ahLst/>
                <a:rect l="0" t="0" r="r" b="b"/>
                <a:pathLst>
                  <a:path fill="none" w="499" h="393">
                    <a:moveTo>
                      <a:pt x="349" y="110"/>
                    </a:moveTo>
                    <a:lnTo>
                      <a:pt x="499" y="0"/>
                    </a:lnTo>
                    <a:lnTo>
                      <a:pt x="0" y="39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42" name=""/>
              <p:cNvSpPr/>
              <p:nvPr/>
            </p:nvSpPr>
            <p:spPr>
              <a:xfrm>
                <a:off x="4218120" y="5091120"/>
                <a:ext cx="7920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3" name=""/>
              <p:cNvSpPr/>
              <p:nvPr/>
            </p:nvSpPr>
            <p:spPr>
              <a:xfrm flipH="1">
                <a:off x="4172040" y="5091120"/>
                <a:ext cx="4608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44" name=""/>
              <p:cNvSpPr/>
              <p:nvPr/>
            </p:nvSpPr>
            <p:spPr>
              <a:xfrm flipH="1">
                <a:off x="4172040" y="5600880"/>
                <a:ext cx="4608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45" name=""/>
              <p:cNvSpPr/>
              <p:nvPr/>
            </p:nvSpPr>
            <p:spPr>
              <a:xfrm>
                <a:off x="4014720" y="5011560"/>
                <a:ext cx="15732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6" name=""/>
              <p:cNvSpPr/>
              <p:nvPr/>
            </p:nvSpPr>
            <p:spPr>
              <a:xfrm flipH="1">
                <a:off x="3780000" y="5694480"/>
                <a:ext cx="21096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47" name=""/>
              <p:cNvSpPr/>
              <p:nvPr/>
            </p:nvSpPr>
            <p:spPr>
              <a:xfrm flipH="1">
                <a:off x="3990960" y="5011560"/>
                <a:ext cx="2376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6548" name=""/>
              <p:cNvSpPr/>
              <p:nvPr/>
            </p:nvSpPr>
            <p:spPr>
              <a:xfrm>
                <a:off x="3780000" y="4987800"/>
                <a:ext cx="21096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9" name=""/>
              <p:cNvSpPr/>
              <p:nvPr/>
            </p:nvSpPr>
            <p:spPr>
              <a:xfrm flipH="1" flipV="1">
                <a:off x="3560760" y="5694480"/>
                <a:ext cx="21924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50" name=""/>
              <p:cNvSpPr/>
              <p:nvPr/>
            </p:nvSpPr>
            <p:spPr>
              <a:xfrm>
                <a:off x="3780000" y="498780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6551" name=""/>
              <p:cNvSpPr/>
              <p:nvPr/>
            </p:nvSpPr>
            <p:spPr>
              <a:xfrm>
                <a:off x="3537000" y="5011560"/>
                <a:ext cx="243000" cy="55800"/>
              </a:xfrm>
              <a:prstGeom prst="line">
                <a:avLst/>
              </a:prstGeom>
              <a:ln w="12600">
                <a:solidFill>
                  <a:srgbClr val="fffff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552" name=""/>
              <p:cNvSpPr/>
              <p:nvPr/>
            </p:nvSpPr>
            <p:spPr>
              <a:xfrm flipH="1" flipV="1">
                <a:off x="3381480" y="5624640"/>
                <a:ext cx="17928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53" name=""/>
              <p:cNvSpPr/>
              <p:nvPr/>
            </p:nvSpPr>
            <p:spPr>
              <a:xfrm>
                <a:off x="3333600" y="5011560"/>
                <a:ext cx="227520" cy="79560"/>
              </a:xfrm>
              <a:custGeom>
                <a:avLst/>
                <a:gdLst/>
                <a:ahLst/>
                <a:rect l="0" t="0" r="r" b="b"/>
                <a:pathLst>
                  <a:path fill="none" w="632" h="221">
                    <a:moveTo>
                      <a:pt x="566" y="0"/>
                    </a:moveTo>
                    <a:lnTo>
                      <a:pt x="632" y="221"/>
                    </a:lnTo>
                    <a:lnTo>
                      <a:pt x="0" y="221"/>
                    </a:lnTo>
                  </a:path>
                </a:pathLst>
              </a:custGeom>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6554" name=""/>
              <p:cNvSpPr/>
              <p:nvPr/>
            </p:nvSpPr>
            <p:spPr>
              <a:xfrm flipH="1" flipV="1">
                <a:off x="3333600" y="5600880"/>
                <a:ext cx="4788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55" name=""/>
              <p:cNvSpPr/>
              <p:nvPr/>
            </p:nvSpPr>
            <p:spPr>
              <a:xfrm>
                <a:off x="3255840" y="5522760"/>
                <a:ext cx="12564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556" name=""/>
              <p:cNvSpPr/>
              <p:nvPr/>
            </p:nvSpPr>
            <p:spPr>
              <a:xfrm>
                <a:off x="3255840" y="5522760"/>
                <a:ext cx="77760" cy="78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6557" name=""/>
              <p:cNvSpPr/>
              <p:nvPr/>
            </p:nvSpPr>
            <p:spPr>
              <a:xfrm flipH="1" flipV="1">
                <a:off x="3200400" y="5483160"/>
                <a:ext cx="5544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558" name=""/>
              <p:cNvSpPr/>
              <p:nvPr/>
            </p:nvSpPr>
            <p:spPr>
              <a:xfrm>
                <a:off x="3216240" y="5396040"/>
                <a:ext cx="3960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9" name=""/>
              <p:cNvSpPr/>
              <p:nvPr/>
            </p:nvSpPr>
            <p:spPr>
              <a:xfrm flipH="1">
                <a:off x="3255840" y="5160960"/>
                <a:ext cx="12564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0" name=""/>
              <p:cNvSpPr/>
              <p:nvPr/>
            </p:nvSpPr>
            <p:spPr>
              <a:xfrm flipH="1">
                <a:off x="3200400" y="5160960"/>
                <a:ext cx="18108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6561" name=""/>
              <p:cNvSpPr/>
              <p:nvPr/>
            </p:nvSpPr>
            <p:spPr>
              <a:xfrm>
                <a:off x="3333600" y="5091120"/>
                <a:ext cx="4788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62" name=""/>
              <p:cNvSpPr/>
              <p:nvPr/>
            </p:nvSpPr>
            <p:spPr>
              <a:xfrm flipH="1">
                <a:off x="3200400" y="5396040"/>
                <a:ext cx="1584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6563" name=""/>
              <p:cNvSpPr/>
              <p:nvPr/>
            </p:nvSpPr>
            <p:spPr>
              <a:xfrm flipH="1" flipV="1">
                <a:off x="3154320" y="5342040"/>
                <a:ext cx="6192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6564" name=""/>
              <p:cNvSpPr/>
              <p:nvPr/>
            </p:nvSpPr>
            <p:spPr>
              <a:xfrm flipH="1">
                <a:off x="3216240" y="5270400"/>
                <a:ext cx="39600" cy="12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5" name=""/>
              <p:cNvSpPr/>
              <p:nvPr/>
            </p:nvSpPr>
            <p:spPr>
              <a:xfrm>
                <a:off x="3154320" y="5208480"/>
                <a:ext cx="101880" cy="133560"/>
              </a:xfrm>
              <a:custGeom>
                <a:avLst/>
                <a:gdLst/>
                <a:ahLst/>
                <a:rect l="0" t="0" r="r" b="b"/>
                <a:pathLst>
                  <a:path fill="none" w="283" h="371">
                    <a:moveTo>
                      <a:pt x="127" y="0"/>
                    </a:moveTo>
                    <a:lnTo>
                      <a:pt x="283" y="171"/>
                    </a:lnTo>
                    <a:lnTo>
                      <a:pt x="0" y="3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66" name=""/>
              <p:cNvSpPr/>
              <p:nvPr/>
            </p:nvSpPr>
            <p:spPr>
              <a:xfrm>
                <a:off x="4398840" y="3622680"/>
                <a:ext cx="0" cy="171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7" name=""/>
              <p:cNvSpPr/>
              <p:nvPr/>
            </p:nvSpPr>
            <p:spPr>
              <a:xfrm>
                <a:off x="4351320" y="3481560"/>
                <a:ext cx="4752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8" name=""/>
              <p:cNvSpPr/>
              <p:nvPr/>
            </p:nvSpPr>
            <p:spPr>
              <a:xfrm flipH="1" flipV="1">
                <a:off x="4351320" y="3481560"/>
                <a:ext cx="47520" cy="186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9" name=""/>
              <p:cNvSpPr/>
              <p:nvPr/>
            </p:nvSpPr>
            <p:spPr>
              <a:xfrm flipH="1" flipV="1">
                <a:off x="4218120" y="5091120"/>
                <a:ext cx="133200" cy="11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0" name=""/>
              <p:cNvSpPr/>
              <p:nvPr/>
            </p:nvSpPr>
            <p:spPr>
              <a:xfrm>
                <a:off x="4351320" y="3481560"/>
                <a:ext cx="0" cy="172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1" name=""/>
              <p:cNvSpPr/>
              <p:nvPr/>
            </p:nvSpPr>
            <p:spPr>
              <a:xfrm>
                <a:off x="4218120" y="3363840"/>
                <a:ext cx="13320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2" name=""/>
              <p:cNvSpPr/>
              <p:nvPr/>
            </p:nvSpPr>
            <p:spPr>
              <a:xfrm flipH="1" flipV="1">
                <a:off x="4218120" y="3363840"/>
                <a:ext cx="133200" cy="18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3" name=""/>
              <p:cNvSpPr/>
              <p:nvPr/>
            </p:nvSpPr>
            <p:spPr>
              <a:xfrm flipH="1" flipV="1">
                <a:off x="4014720" y="5011560"/>
                <a:ext cx="20340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6574" name=""/>
              <p:cNvSpPr/>
              <p:nvPr/>
            </p:nvSpPr>
            <p:spPr>
              <a:xfrm>
                <a:off x="4014720" y="3284640"/>
                <a:ext cx="203400" cy="1806840"/>
              </a:xfrm>
              <a:custGeom>
                <a:avLst/>
                <a:gdLst/>
                <a:ahLst/>
                <a:rect l="0" t="0" r="r" b="b"/>
                <a:pathLst>
                  <a:path fill="none" w="565" h="5019">
                    <a:moveTo>
                      <a:pt x="565" y="220"/>
                    </a:moveTo>
                    <a:lnTo>
                      <a:pt x="565" y="5019"/>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75" name=""/>
              <p:cNvSpPr/>
              <p:nvPr/>
            </p:nvSpPr>
            <p:spPr>
              <a:xfrm flipH="1" flipV="1">
                <a:off x="3780000" y="4987800"/>
                <a:ext cx="23472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76" name=""/>
              <p:cNvSpPr/>
              <p:nvPr/>
            </p:nvSpPr>
            <p:spPr>
              <a:xfrm>
                <a:off x="4014720" y="3284640"/>
                <a:ext cx="0" cy="172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7" name=""/>
              <p:cNvSpPr/>
              <p:nvPr/>
            </p:nvSpPr>
            <p:spPr>
              <a:xfrm flipV="1">
                <a:off x="3780000" y="3284640"/>
                <a:ext cx="234720" cy="170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8" name=""/>
              <p:cNvSpPr/>
              <p:nvPr/>
            </p:nvSpPr>
            <p:spPr>
              <a:xfrm flipH="1">
                <a:off x="3537000" y="4987800"/>
                <a:ext cx="24300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79" name=""/>
              <p:cNvSpPr/>
              <p:nvPr/>
            </p:nvSpPr>
            <p:spPr>
              <a:xfrm>
                <a:off x="3780000" y="3262320"/>
                <a:ext cx="0" cy="172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0" name=""/>
              <p:cNvSpPr/>
              <p:nvPr/>
            </p:nvSpPr>
            <p:spPr>
              <a:xfrm flipV="1">
                <a:off x="3537000" y="3262320"/>
                <a:ext cx="243000" cy="17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1" name=""/>
              <p:cNvSpPr/>
              <p:nvPr/>
            </p:nvSpPr>
            <p:spPr>
              <a:xfrm flipH="1">
                <a:off x="3333600" y="5011560"/>
                <a:ext cx="20340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6582" name=""/>
              <p:cNvSpPr/>
              <p:nvPr/>
            </p:nvSpPr>
            <p:spPr>
              <a:xfrm>
                <a:off x="3333600" y="3284640"/>
                <a:ext cx="203400" cy="1727640"/>
              </a:xfrm>
              <a:custGeom>
                <a:avLst/>
                <a:gdLst/>
                <a:ahLst/>
                <a:rect l="0" t="0" r="r" b="b"/>
                <a:pathLst>
                  <a:path fill="none" w="565" h="4799">
                    <a:moveTo>
                      <a:pt x="565" y="0"/>
                    </a:moveTo>
                    <a:lnTo>
                      <a:pt x="565" y="4799"/>
                    </a:lnTo>
                    <a:lnTo>
                      <a:pt x="0" y="22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583" name=""/>
              <p:cNvSpPr/>
              <p:nvPr/>
            </p:nvSpPr>
            <p:spPr>
              <a:xfrm flipH="1" flipV="1">
                <a:off x="3200400" y="5483160"/>
                <a:ext cx="13320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4" name=""/>
              <p:cNvSpPr/>
              <p:nvPr/>
            </p:nvSpPr>
            <p:spPr>
              <a:xfrm flipH="1">
                <a:off x="3200400" y="5091120"/>
                <a:ext cx="133200" cy="11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5" name=""/>
              <p:cNvSpPr/>
              <p:nvPr/>
            </p:nvSpPr>
            <p:spPr>
              <a:xfrm>
                <a:off x="3333600" y="3363840"/>
                <a:ext cx="0" cy="172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6" name=""/>
              <p:cNvSpPr/>
              <p:nvPr/>
            </p:nvSpPr>
            <p:spPr>
              <a:xfrm flipV="1">
                <a:off x="3200400" y="3363840"/>
                <a:ext cx="133200" cy="18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7" name=""/>
              <p:cNvSpPr/>
              <p:nvPr/>
            </p:nvSpPr>
            <p:spPr>
              <a:xfrm flipH="1" flipV="1">
                <a:off x="3154320" y="5342040"/>
                <a:ext cx="4608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8" name=""/>
              <p:cNvSpPr/>
              <p:nvPr/>
            </p:nvSpPr>
            <p:spPr>
              <a:xfrm flipH="1">
                <a:off x="3154320" y="5208480"/>
                <a:ext cx="4608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9" name=""/>
              <p:cNvSpPr/>
              <p:nvPr/>
            </p:nvSpPr>
            <p:spPr>
              <a:xfrm>
                <a:off x="3200400" y="3481560"/>
                <a:ext cx="0" cy="172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0" name=""/>
              <p:cNvSpPr/>
              <p:nvPr/>
            </p:nvSpPr>
            <p:spPr>
              <a:xfrm flipV="1">
                <a:off x="3154320" y="3481560"/>
                <a:ext cx="46080" cy="186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1" name=""/>
              <p:cNvSpPr/>
              <p:nvPr/>
            </p:nvSpPr>
            <p:spPr>
              <a:xfrm flipV="1">
                <a:off x="3154320" y="3622680"/>
                <a:ext cx="0" cy="171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2" name=""/>
              <p:cNvSpPr/>
              <p:nvPr/>
            </p:nvSpPr>
            <p:spPr>
              <a:xfrm flipH="1">
                <a:off x="3990960" y="5624640"/>
                <a:ext cx="18108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93" name=""/>
              <p:cNvSpPr/>
              <p:nvPr/>
            </p:nvSpPr>
            <p:spPr>
              <a:xfrm flipH="1">
                <a:off x="4172040" y="5522760"/>
                <a:ext cx="125280" cy="101880"/>
              </a:xfrm>
              <a:prstGeom prst="line">
                <a:avLst/>
              </a:prstGeom>
              <a:ln w="12600">
                <a:solidFill>
                  <a:srgbClr val="ffffff"/>
                </a:solidFill>
                <a:round/>
              </a:ln>
            </p:spPr>
            <p:style>
              <a:lnRef idx="0"/>
              <a:fillRef idx="0"/>
              <a:effectRef idx="0"/>
              <a:fontRef idx="minor"/>
            </p:style>
            <p:txBody>
              <a:bodyPr lIns="96120" rIns="96120" tIns="50760" bIns="50760" anchor="t">
                <a:noAutofit/>
              </a:bodyPr>
              <a:p>
                <a:endParaRPr b="0" lang="en-US" sz="1800" spc="-1" strike="noStrike">
                  <a:solidFill>
                    <a:srgbClr val="000000"/>
                  </a:solidFill>
                  <a:latin typeface="Arial"/>
                </a:endParaRPr>
              </a:p>
            </p:txBody>
          </p:sp>
          <p:sp>
            <p:nvSpPr>
              <p:cNvPr id="6594" name=""/>
              <p:cNvSpPr/>
              <p:nvPr/>
            </p:nvSpPr>
            <p:spPr>
              <a:xfrm flipH="1">
                <a:off x="4297320" y="5396040"/>
                <a:ext cx="39600" cy="126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5" name=""/>
              <p:cNvSpPr/>
              <p:nvPr/>
            </p:nvSpPr>
            <p:spPr>
              <a:xfrm>
                <a:off x="4297320" y="5270400"/>
                <a:ext cx="39600" cy="12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6" name=""/>
              <p:cNvSpPr/>
              <p:nvPr/>
            </p:nvSpPr>
            <p:spPr>
              <a:xfrm>
                <a:off x="4172040" y="5160960"/>
                <a:ext cx="125280" cy="109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7" name=""/>
              <p:cNvSpPr/>
              <p:nvPr/>
            </p:nvSpPr>
            <p:spPr>
              <a:xfrm>
                <a:off x="3990960" y="5091120"/>
                <a:ext cx="18108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598" name=""/>
              <p:cNvSpPr/>
              <p:nvPr/>
            </p:nvSpPr>
            <p:spPr>
              <a:xfrm>
                <a:off x="3780000" y="5067360"/>
                <a:ext cx="21096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599" name=""/>
              <p:cNvSpPr/>
              <p:nvPr/>
            </p:nvSpPr>
            <p:spPr>
              <a:xfrm flipV="1">
                <a:off x="3560760" y="5067360"/>
                <a:ext cx="21924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6600" name=""/>
              <p:cNvSpPr/>
              <p:nvPr/>
            </p:nvSpPr>
            <p:spPr>
              <a:xfrm flipV="1">
                <a:off x="3381480" y="5091120"/>
                <a:ext cx="17928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601" name=""/>
              <p:cNvSpPr/>
              <p:nvPr/>
            </p:nvSpPr>
            <p:spPr>
              <a:xfrm flipV="1">
                <a:off x="5143680" y="4352760"/>
                <a:ext cx="6156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602" name=""/>
              <p:cNvSpPr/>
              <p:nvPr/>
            </p:nvSpPr>
            <p:spPr>
              <a:xfrm>
                <a:off x="4930920" y="4414680"/>
                <a:ext cx="213120" cy="47880"/>
              </a:xfrm>
              <a:custGeom>
                <a:avLst/>
                <a:gdLst/>
                <a:ahLst/>
                <a:rect l="0" t="0" r="r" b="b"/>
                <a:pathLst>
                  <a:path fill="none" w="592" h="133">
                    <a:moveTo>
                      <a:pt x="0" y="133"/>
                    </a:moveTo>
                    <a:lnTo>
                      <a:pt x="331" y="89"/>
                    </a:lnTo>
                    <a:lnTo>
                      <a:pt x="592" y="0"/>
                    </a:lnTo>
                  </a:path>
                </a:pathLst>
              </a:custGeom>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6603" name=""/>
              <p:cNvSpPr/>
              <p:nvPr/>
            </p:nvSpPr>
            <p:spPr>
              <a:xfrm>
                <a:off x="4719600" y="4414680"/>
                <a:ext cx="93600" cy="32040"/>
              </a:xfrm>
              <a:prstGeom prst="line">
                <a:avLst/>
              </a:prstGeom>
              <a:ln w="12600">
                <a:solidFill>
                  <a:srgbClr val="ffffff"/>
                </a:solidFill>
                <a:round/>
              </a:ln>
            </p:spPr>
            <p:style>
              <a:lnRef idx="0"/>
              <a:fillRef idx="0"/>
              <a:effectRef idx="0"/>
              <a:fontRef idx="minor"/>
            </p:style>
            <p:txBody>
              <a:bodyPr lIns="96120" rIns="96120" tIns="-19080" bIns="-19080" anchor="t">
                <a:noAutofit/>
              </a:bodyPr>
              <a:p>
                <a:endParaRPr b="0" lang="en-US" sz="1800" spc="-1" strike="noStrike">
                  <a:solidFill>
                    <a:srgbClr val="000000"/>
                  </a:solidFill>
                  <a:latin typeface="Arial"/>
                </a:endParaRPr>
              </a:p>
            </p:txBody>
          </p:sp>
          <p:sp>
            <p:nvSpPr>
              <p:cNvPr id="6604" name=""/>
              <p:cNvSpPr/>
              <p:nvPr/>
            </p:nvSpPr>
            <p:spPr>
              <a:xfrm>
                <a:off x="4657680" y="4352760"/>
                <a:ext cx="619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605" name=""/>
              <p:cNvSpPr/>
              <p:nvPr/>
            </p:nvSpPr>
            <p:spPr>
              <a:xfrm>
                <a:off x="4633920" y="4116240"/>
                <a:ext cx="416160" cy="236880"/>
              </a:xfrm>
              <a:custGeom>
                <a:avLst/>
                <a:gdLst/>
                <a:ahLst/>
                <a:rect l="0" t="0" r="r" b="b"/>
                <a:pathLst>
                  <a:path fill="none" w="1156" h="658">
                    <a:moveTo>
                      <a:pt x="1156" y="44"/>
                    </a:moveTo>
                    <a:lnTo>
                      <a:pt x="825" y="0"/>
                    </a:lnTo>
                    <a:lnTo>
                      <a:pt x="498" y="44"/>
                    </a:lnTo>
                    <a:lnTo>
                      <a:pt x="238" y="132"/>
                    </a:lnTo>
                    <a:lnTo>
                      <a:pt x="66" y="308"/>
                    </a:lnTo>
                    <a:lnTo>
                      <a:pt x="0" y="481"/>
                    </a:lnTo>
                    <a:lnTo>
                      <a:pt x="66" y="6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06" name=""/>
              <p:cNvSpPr/>
              <p:nvPr/>
            </p:nvSpPr>
            <p:spPr>
              <a:xfrm>
                <a:off x="3333600" y="3262320"/>
                <a:ext cx="446400" cy="101880"/>
              </a:xfrm>
              <a:custGeom>
                <a:avLst/>
                <a:gdLst/>
                <a:ahLst/>
                <a:rect l="0" t="0" r="r" b="b"/>
                <a:pathLst>
                  <a:path fill="none" w="1240" h="283">
                    <a:moveTo>
                      <a:pt x="1240" y="0"/>
                    </a:moveTo>
                    <a:lnTo>
                      <a:pt x="564" y="61"/>
                    </a:lnTo>
                    <a:lnTo>
                      <a:pt x="0" y="283"/>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6607" name=""/>
              <p:cNvSpPr/>
              <p:nvPr/>
            </p:nvSpPr>
            <p:spPr>
              <a:xfrm flipV="1">
                <a:off x="2832120" y="3017880"/>
                <a:ext cx="7128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6608" name=""/>
              <p:cNvSpPr/>
              <p:nvPr/>
            </p:nvSpPr>
            <p:spPr>
              <a:xfrm flipH="1">
                <a:off x="3200400" y="3363840"/>
                <a:ext cx="133200" cy="11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09" name=""/>
              <p:cNvSpPr/>
              <p:nvPr/>
            </p:nvSpPr>
            <p:spPr>
              <a:xfrm>
                <a:off x="3780000" y="3262320"/>
                <a:ext cx="438480" cy="101880"/>
              </a:xfrm>
              <a:custGeom>
                <a:avLst/>
                <a:gdLst/>
                <a:ahLst/>
                <a:rect l="0" t="0" r="r" b="b"/>
                <a:pathLst>
                  <a:path fill="none" w="1218" h="283">
                    <a:moveTo>
                      <a:pt x="1218" y="283"/>
                    </a:moveTo>
                    <a:lnTo>
                      <a:pt x="653" y="61"/>
                    </a:lnTo>
                    <a:lnTo>
                      <a:pt x="0" y="0"/>
                    </a:lnTo>
                  </a:path>
                </a:pathLst>
              </a:custGeom>
              <a:ln w="12600">
                <a:solidFill>
                  <a:srgbClr val="ffffff"/>
                </a:solidFill>
                <a:round/>
              </a:ln>
            </p:spPr>
            <p:txBody>
              <a:bodyPr lIns="96120" rIns="96120" tIns="50760" bIns="50760" anchor="t">
                <a:noAutofit/>
              </a:bodyPr>
              <a:p>
                <a:endParaRPr b="0" lang="en-US" sz="1800" spc="-1" strike="noStrike">
                  <a:solidFill>
                    <a:srgbClr val="000000"/>
                  </a:solidFill>
                  <a:latin typeface="Arial"/>
                </a:endParaRPr>
              </a:p>
            </p:txBody>
          </p:sp>
          <p:sp>
            <p:nvSpPr>
              <p:cNvPr id="6610" name=""/>
              <p:cNvSpPr/>
              <p:nvPr/>
            </p:nvSpPr>
            <p:spPr>
              <a:xfrm>
                <a:off x="2682720" y="2289240"/>
                <a:ext cx="3400560" cy="1962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1" name=""/>
              <p:cNvSpPr/>
              <p:nvPr/>
            </p:nvSpPr>
            <p:spPr>
              <a:xfrm>
                <a:off x="2738520" y="2790720"/>
                <a:ext cx="165600" cy="93960"/>
              </a:xfrm>
              <a:custGeom>
                <a:avLst/>
                <a:gdLst/>
                <a:ahLst/>
                <a:rect l="0" t="0" r="r" b="b"/>
                <a:pathLst>
                  <a:path fill="none" w="460" h="261">
                    <a:moveTo>
                      <a:pt x="460" y="261"/>
                    </a:moveTo>
                    <a:lnTo>
                      <a:pt x="261" y="110"/>
                    </a:lnTo>
                    <a:lnTo>
                      <a:pt x="0" y="0"/>
                    </a:lnTo>
                  </a:path>
                </a:pathLst>
              </a:custGeom>
              <a:ln w="12600">
                <a:solidFill>
                  <a:srgbClr val="ffffff"/>
                </a:solidFill>
                <a:round/>
              </a:ln>
            </p:spPr>
            <p:txBody>
              <a:bodyPr lIns="96120" rIns="96120" tIns="42840" bIns="42840" anchor="t">
                <a:noAutofit/>
              </a:bodyPr>
              <a:p>
                <a:endParaRPr b="0" lang="en-US" sz="1800" spc="-1" strike="noStrike">
                  <a:solidFill>
                    <a:srgbClr val="000000"/>
                  </a:solidFill>
                  <a:latin typeface="Arial"/>
                </a:endParaRPr>
              </a:p>
            </p:txBody>
          </p:sp>
          <p:sp>
            <p:nvSpPr>
              <p:cNvPr id="6612" name=""/>
              <p:cNvSpPr/>
              <p:nvPr/>
            </p:nvSpPr>
            <p:spPr>
              <a:xfrm flipH="1">
                <a:off x="3154320" y="3481560"/>
                <a:ext cx="4608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3" name=""/>
              <p:cNvSpPr/>
              <p:nvPr/>
            </p:nvSpPr>
            <p:spPr>
              <a:xfrm>
                <a:off x="2409840" y="2782800"/>
                <a:ext cx="329040" cy="47880"/>
              </a:xfrm>
              <a:custGeom>
                <a:avLst/>
                <a:gdLst/>
                <a:ahLst/>
                <a:rect l="0" t="0" r="r" b="b"/>
                <a:pathLst>
                  <a:path fill="none" w="914" h="133">
                    <a:moveTo>
                      <a:pt x="914" y="22"/>
                    </a:moveTo>
                    <a:lnTo>
                      <a:pt x="587" y="0"/>
                    </a:lnTo>
                    <a:lnTo>
                      <a:pt x="283" y="22"/>
                    </a:lnTo>
                    <a:lnTo>
                      <a:pt x="0" y="133"/>
                    </a:lnTo>
                  </a:path>
                </a:pathLst>
              </a:custGeom>
              <a:ln w="12600">
                <a:solidFill>
                  <a:srgbClr val="ffffff"/>
                </a:solidFill>
                <a:round/>
              </a:ln>
            </p:spPr>
            <p:txBody>
              <a:bodyPr lIns="96120" rIns="96120" tIns="-3240" bIns="-3240" anchor="t">
                <a:noAutofit/>
              </a:bodyPr>
              <a:p>
                <a:endParaRPr b="0" lang="en-US" sz="1800" spc="-1" strike="noStrike">
                  <a:solidFill>
                    <a:srgbClr val="000000"/>
                  </a:solidFill>
                  <a:latin typeface="Arial"/>
                </a:endParaRPr>
              </a:p>
            </p:txBody>
          </p:sp>
          <p:sp>
            <p:nvSpPr>
              <p:cNvPr id="6614" name=""/>
              <p:cNvSpPr/>
              <p:nvPr/>
            </p:nvSpPr>
            <p:spPr>
              <a:xfrm flipH="1" flipV="1">
                <a:off x="1469880" y="2987640"/>
                <a:ext cx="1684440" cy="97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5" name=""/>
              <p:cNvSpPr/>
              <p:nvPr/>
            </p:nvSpPr>
            <p:spPr>
              <a:xfrm flipH="1" flipV="1">
                <a:off x="4398840" y="4683240"/>
                <a:ext cx="47016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6" name=""/>
              <p:cNvSpPr/>
              <p:nvPr/>
            </p:nvSpPr>
            <p:spPr>
              <a:xfrm>
                <a:off x="2409840" y="3073320"/>
                <a:ext cx="10152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617" name=""/>
              <p:cNvSpPr/>
              <p:nvPr/>
            </p:nvSpPr>
            <p:spPr>
              <a:xfrm>
                <a:off x="2324160" y="2830680"/>
                <a:ext cx="86040" cy="243360"/>
              </a:xfrm>
              <a:custGeom>
                <a:avLst/>
                <a:gdLst/>
                <a:ahLst/>
                <a:rect l="0" t="0" r="r" b="b"/>
                <a:pathLst>
                  <a:path fill="none" w="239" h="676">
                    <a:moveTo>
                      <a:pt x="239" y="0"/>
                    </a:moveTo>
                    <a:lnTo>
                      <a:pt x="61" y="149"/>
                    </a:lnTo>
                    <a:lnTo>
                      <a:pt x="0" y="349"/>
                    </a:lnTo>
                    <a:lnTo>
                      <a:pt x="61" y="522"/>
                    </a:lnTo>
                    <a:lnTo>
                      <a:pt x="239" y="67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18" name=""/>
              <p:cNvSpPr/>
              <p:nvPr/>
            </p:nvSpPr>
            <p:spPr>
              <a:xfrm flipV="1">
                <a:off x="1469880" y="2289240"/>
                <a:ext cx="121284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9" name=""/>
              <p:cNvSpPr/>
              <p:nvPr/>
            </p:nvSpPr>
            <p:spPr>
              <a:xfrm flipH="1">
                <a:off x="5205240" y="4289400"/>
                <a:ext cx="2412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6620" name=""/>
              <p:cNvSpPr/>
              <p:nvPr/>
            </p:nvSpPr>
            <p:spPr>
              <a:xfrm flipH="1">
                <a:off x="5205240" y="4235400"/>
                <a:ext cx="8280" cy="11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1" name=""/>
              <p:cNvSpPr/>
              <p:nvPr/>
            </p:nvSpPr>
            <p:spPr>
              <a:xfrm flipH="1" flipV="1">
                <a:off x="5205240" y="4227480"/>
                <a:ext cx="2412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622" name=""/>
              <p:cNvSpPr/>
              <p:nvPr/>
            </p:nvSpPr>
            <p:spPr>
              <a:xfrm flipH="1" flipV="1">
                <a:off x="5189400" y="4211640"/>
                <a:ext cx="1584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3" name=""/>
              <p:cNvSpPr/>
              <p:nvPr/>
            </p:nvSpPr>
            <p:spPr>
              <a:xfrm>
                <a:off x="5205240" y="4227480"/>
                <a:ext cx="0" cy="12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4" name=""/>
              <p:cNvSpPr/>
              <p:nvPr/>
            </p:nvSpPr>
            <p:spPr>
              <a:xfrm>
                <a:off x="5143320" y="4164120"/>
                <a:ext cx="62280" cy="251280"/>
              </a:xfrm>
              <a:custGeom>
                <a:avLst/>
                <a:gdLst/>
                <a:ahLst/>
                <a:rect l="0" t="0" r="r" b="b"/>
                <a:pathLst>
                  <a:path fill="none" w="173" h="698">
                    <a:moveTo>
                      <a:pt x="173" y="177"/>
                    </a:moveTo>
                    <a:lnTo>
                      <a:pt x="0" y="0"/>
                    </a:lnTo>
                    <a:lnTo>
                      <a:pt x="0" y="69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5" name=""/>
              <p:cNvSpPr/>
              <p:nvPr/>
            </p:nvSpPr>
            <p:spPr>
              <a:xfrm flipH="1">
                <a:off x="5049720" y="4148280"/>
                <a:ext cx="3816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6" name=""/>
              <p:cNvSpPr/>
              <p:nvPr/>
            </p:nvSpPr>
            <p:spPr>
              <a:xfrm>
                <a:off x="5049720" y="4132440"/>
                <a:ext cx="93960" cy="314640"/>
              </a:xfrm>
              <a:custGeom>
                <a:avLst/>
                <a:gdLst/>
                <a:ahLst/>
                <a:rect l="0" t="0" r="r" b="b"/>
                <a:pathLst>
                  <a:path fill="none" w="261" h="874">
                    <a:moveTo>
                      <a:pt x="261" y="88"/>
                    </a:moveTo>
                    <a:lnTo>
                      <a:pt x="0" y="0"/>
                    </a:lnTo>
                    <a:lnTo>
                      <a:pt x="0" y="874"/>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27" name=""/>
              <p:cNvSpPr/>
              <p:nvPr/>
            </p:nvSpPr>
            <p:spPr>
              <a:xfrm flipV="1">
                <a:off x="4930920" y="4124160"/>
                <a:ext cx="63360" cy="33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28" name=""/>
              <p:cNvSpPr/>
              <p:nvPr/>
            </p:nvSpPr>
            <p:spPr>
              <a:xfrm flipH="1" flipV="1">
                <a:off x="4813200" y="4446720"/>
                <a:ext cx="117720" cy="15840"/>
              </a:xfrm>
              <a:prstGeom prst="line">
                <a:avLst/>
              </a:prstGeom>
              <a:ln w="12600">
                <a:solidFill>
                  <a:srgbClr val="ffffff"/>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6629" name=""/>
              <p:cNvSpPr/>
              <p:nvPr/>
            </p:nvSpPr>
            <p:spPr>
              <a:xfrm>
                <a:off x="4930920" y="4116240"/>
                <a:ext cx="0" cy="346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0" name=""/>
              <p:cNvSpPr/>
              <p:nvPr/>
            </p:nvSpPr>
            <p:spPr>
              <a:xfrm flipV="1">
                <a:off x="4813200" y="4124160"/>
                <a:ext cx="6372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1" name=""/>
              <p:cNvSpPr/>
              <p:nvPr/>
            </p:nvSpPr>
            <p:spPr>
              <a:xfrm>
                <a:off x="4813200" y="413244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2" name=""/>
              <p:cNvSpPr/>
              <p:nvPr/>
            </p:nvSpPr>
            <p:spPr>
              <a:xfrm flipV="1">
                <a:off x="4719600" y="4148280"/>
                <a:ext cx="3960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3" name=""/>
              <p:cNvSpPr/>
              <p:nvPr/>
            </p:nvSpPr>
            <p:spPr>
              <a:xfrm>
                <a:off x="4719600" y="4164120"/>
                <a:ext cx="0" cy="250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4" name=""/>
              <p:cNvSpPr/>
              <p:nvPr/>
            </p:nvSpPr>
            <p:spPr>
              <a:xfrm flipH="1">
                <a:off x="4657680" y="4211640"/>
                <a:ext cx="1584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5" name=""/>
              <p:cNvSpPr/>
              <p:nvPr/>
            </p:nvSpPr>
            <p:spPr>
              <a:xfrm>
                <a:off x="4657680" y="4227480"/>
                <a:ext cx="0" cy="12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6" name=""/>
              <p:cNvSpPr/>
              <p:nvPr/>
            </p:nvSpPr>
            <p:spPr>
              <a:xfrm flipH="1">
                <a:off x="2903400" y="2955960"/>
                <a:ext cx="15840" cy="61920"/>
              </a:xfrm>
              <a:prstGeom prst="line">
                <a:avLst/>
              </a:prstGeom>
              <a:ln w="12600">
                <a:solidFill>
                  <a:srgbClr val="ffffff"/>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6637" name=""/>
              <p:cNvSpPr/>
              <p:nvPr/>
            </p:nvSpPr>
            <p:spPr>
              <a:xfrm>
                <a:off x="2903400" y="2900520"/>
                <a:ext cx="0" cy="11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38" name=""/>
              <p:cNvSpPr/>
              <p:nvPr/>
            </p:nvSpPr>
            <p:spPr>
              <a:xfrm>
                <a:off x="2903400" y="2884320"/>
                <a:ext cx="25920" cy="133560"/>
              </a:xfrm>
              <a:custGeom>
                <a:avLst/>
                <a:gdLst/>
                <a:ahLst/>
                <a:rect l="0" t="0" r="r" b="b"/>
                <a:pathLst>
                  <a:path fill="none" w="72" h="371">
                    <a:moveTo>
                      <a:pt x="72" y="199"/>
                    </a:moveTo>
                    <a:lnTo>
                      <a:pt x="0" y="0"/>
                    </a:lnTo>
                    <a:lnTo>
                      <a:pt x="0" y="3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39" name=""/>
              <p:cNvSpPr/>
              <p:nvPr/>
            </p:nvSpPr>
            <p:spPr>
              <a:xfrm>
                <a:off x="2879640" y="2868480"/>
                <a:ext cx="2376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0" name=""/>
              <p:cNvSpPr/>
              <p:nvPr/>
            </p:nvSpPr>
            <p:spPr>
              <a:xfrm>
                <a:off x="2738520" y="2830680"/>
                <a:ext cx="93960" cy="282960"/>
              </a:xfrm>
              <a:custGeom>
                <a:avLst/>
                <a:gdLst/>
                <a:ahLst/>
                <a:rect l="0" t="0" r="r" b="b"/>
                <a:pathLst>
                  <a:path fill="none" w="261" h="786">
                    <a:moveTo>
                      <a:pt x="261" y="0"/>
                    </a:moveTo>
                    <a:lnTo>
                      <a:pt x="261" y="676"/>
                    </a:lnTo>
                    <a:lnTo>
                      <a:pt x="0" y="78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1" name=""/>
              <p:cNvSpPr/>
              <p:nvPr/>
            </p:nvSpPr>
            <p:spPr>
              <a:xfrm>
                <a:off x="2620800" y="2806560"/>
                <a:ext cx="157680" cy="322560"/>
              </a:xfrm>
              <a:custGeom>
                <a:avLst/>
                <a:gdLst/>
                <a:ahLst/>
                <a:rect l="0" t="0" r="r" b="b"/>
                <a:pathLst>
                  <a:path fill="none" w="438" h="896">
                    <a:moveTo>
                      <a:pt x="438" y="0"/>
                    </a:moveTo>
                    <a:lnTo>
                      <a:pt x="327" y="852"/>
                    </a:lnTo>
                    <a:lnTo>
                      <a:pt x="0" y="89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42" name=""/>
              <p:cNvSpPr/>
              <p:nvPr/>
            </p:nvSpPr>
            <p:spPr>
              <a:xfrm>
                <a:off x="2738520" y="279072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3" name=""/>
              <p:cNvSpPr/>
              <p:nvPr/>
            </p:nvSpPr>
            <p:spPr>
              <a:xfrm flipV="1">
                <a:off x="2620800" y="2782800"/>
                <a:ext cx="61920" cy="346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4" name=""/>
              <p:cNvSpPr/>
              <p:nvPr/>
            </p:nvSpPr>
            <p:spPr>
              <a:xfrm flipH="1" flipV="1">
                <a:off x="2511360" y="3112920"/>
                <a:ext cx="109440" cy="16200"/>
              </a:xfrm>
              <a:prstGeom prst="line">
                <a:avLst/>
              </a:prstGeom>
              <a:ln w="12600">
                <a:solidFill>
                  <a:srgbClr val="ffffff"/>
                </a:solidFill>
                <a:round/>
              </a:ln>
            </p:spPr>
            <p:style>
              <a:lnRef idx="0"/>
              <a:fillRef idx="0"/>
              <a:effectRef idx="0"/>
              <a:fontRef idx="minor"/>
            </p:style>
            <p:txBody>
              <a:bodyPr lIns="96120" rIns="96120" tIns="-34920" bIns="-34920" anchor="t">
                <a:noAutofit/>
              </a:bodyPr>
              <a:p>
                <a:endParaRPr b="0" lang="en-US" sz="1800" spc="-1" strike="noStrike">
                  <a:solidFill>
                    <a:srgbClr val="000000"/>
                  </a:solidFill>
                  <a:latin typeface="Arial"/>
                </a:endParaRPr>
              </a:p>
            </p:txBody>
          </p:sp>
          <p:sp>
            <p:nvSpPr>
              <p:cNvPr id="6645" name=""/>
              <p:cNvSpPr/>
              <p:nvPr/>
            </p:nvSpPr>
            <p:spPr>
              <a:xfrm>
                <a:off x="2620800" y="2782800"/>
                <a:ext cx="0" cy="346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6" name=""/>
              <p:cNvSpPr/>
              <p:nvPr/>
            </p:nvSpPr>
            <p:spPr>
              <a:xfrm flipV="1">
                <a:off x="2511360" y="2782800"/>
                <a:ext cx="55800" cy="330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7" name=""/>
              <p:cNvSpPr/>
              <p:nvPr/>
            </p:nvSpPr>
            <p:spPr>
              <a:xfrm>
                <a:off x="2511360" y="279072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8" name=""/>
              <p:cNvSpPr/>
              <p:nvPr/>
            </p:nvSpPr>
            <p:spPr>
              <a:xfrm flipV="1">
                <a:off x="2409840" y="2814480"/>
                <a:ext cx="4752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9" name=""/>
              <p:cNvSpPr/>
              <p:nvPr/>
            </p:nvSpPr>
            <p:spPr>
              <a:xfrm>
                <a:off x="2409840" y="2830680"/>
                <a:ext cx="0" cy="24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0" name=""/>
              <p:cNvSpPr/>
              <p:nvPr/>
            </p:nvSpPr>
            <p:spPr>
              <a:xfrm flipH="1">
                <a:off x="2346480" y="2868480"/>
                <a:ext cx="1584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1" name=""/>
              <p:cNvSpPr/>
              <p:nvPr/>
            </p:nvSpPr>
            <p:spPr>
              <a:xfrm>
                <a:off x="2346480" y="2884320"/>
                <a:ext cx="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2" name=""/>
              <p:cNvSpPr/>
              <p:nvPr/>
            </p:nvSpPr>
            <p:spPr>
              <a:xfrm flipH="1">
                <a:off x="4869000" y="4251240"/>
                <a:ext cx="1214280" cy="7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3" name=""/>
              <p:cNvSpPr/>
              <p:nvPr/>
            </p:nvSpPr>
            <p:spPr>
              <a:xfrm>
                <a:off x="2706840" y="1668600"/>
                <a:ext cx="3376800" cy="2583360"/>
              </a:xfrm>
              <a:custGeom>
                <a:avLst/>
                <a:gdLst/>
                <a:ahLst/>
                <a:rect l="0" t="0" r="r" b="b"/>
                <a:pathLst>
                  <a:path fill="none" w="9380" h="7176">
                    <a:moveTo>
                      <a:pt x="0" y="0"/>
                    </a:moveTo>
                    <a:lnTo>
                      <a:pt x="9380" y="5430"/>
                    </a:lnTo>
                    <a:lnTo>
                      <a:pt x="9380" y="717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4" name=""/>
              <p:cNvSpPr/>
              <p:nvPr/>
            </p:nvSpPr>
            <p:spPr>
              <a:xfrm flipV="1">
                <a:off x="1469880" y="1668600"/>
                <a:ext cx="1198800" cy="690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5" name=""/>
              <p:cNvSpPr/>
              <p:nvPr/>
            </p:nvSpPr>
            <p:spPr>
              <a:xfrm>
                <a:off x="2682720" y="1668600"/>
                <a:ext cx="0" cy="62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56" name=""/>
              <p:cNvSpPr/>
              <p:nvPr/>
            </p:nvSpPr>
            <p:spPr>
              <a:xfrm flipV="1">
                <a:off x="1469880" y="2359080"/>
                <a:ext cx="0" cy="628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57" name=""/>
            <p:cNvGrpSpPr/>
            <p:nvPr/>
          </p:nvGrpSpPr>
          <p:grpSpPr>
            <a:xfrm>
              <a:off x="3575160" y="5245200"/>
              <a:ext cx="465120" cy="254160"/>
              <a:chOff x="3575160" y="5245200"/>
              <a:chExt cx="465120" cy="254160"/>
            </a:xfrm>
          </p:grpSpPr>
          <p:sp>
            <p:nvSpPr>
              <p:cNvPr id="6658" name=""/>
              <p:cNvSpPr/>
              <p:nvPr/>
            </p:nvSpPr>
            <p:spPr>
              <a:xfrm>
                <a:off x="3575160" y="5245200"/>
                <a:ext cx="46512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59" name=""/>
              <p:cNvSpPr/>
              <p:nvPr/>
            </p:nvSpPr>
            <p:spPr>
              <a:xfrm>
                <a:off x="3681360" y="5251320"/>
                <a:ext cx="250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660" name=""/>
            <p:cNvSpPr txBox="1"/>
            <p:nvPr/>
          </p:nvSpPr>
          <p:spPr>
            <a:xfrm>
              <a:off x="3713040" y="407880"/>
              <a:ext cx="5151600" cy="2647800"/>
            </a:xfrm>
            <a:prstGeom prst="rect">
              <a:avLst/>
            </a:prstGeom>
            <a:noFill/>
            <a:ln w="0">
              <a:noFill/>
            </a:ln>
          </p:spPr>
          <p:txBody>
            <a:bodyPr lIns="0" rIns="0" tIns="0" bIns="0" anchor="t">
              <a:noAutofit/>
            </a:bodyPr>
            <a:p>
              <a:pPr>
                <a:lnSpc>
                  <a:spcPct val="100000"/>
                </a:lnSpc>
              </a:pPr>
              <a:r>
                <a:rPr b="0" lang="en-US" sz="2400" spc="-1" strike="noStrike">
                  <a:solidFill>
                    <a:srgbClr val="f2fefd"/>
                  </a:solidFill>
                  <a:latin typeface="Times New Roman"/>
                  <a:ea typeface="Times New Roman"/>
                </a:rPr>
                <a:t>Three examples will be illustrated</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depicting orientation and inspection</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characteristics of this part.  Each </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example will highlight the significance</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     </a:t>
              </a:r>
              <a:r>
                <a:rPr b="0" lang="en-US" sz="2400" spc="-1" strike="noStrike">
                  <a:solidFill>
                    <a:srgbClr val="f2fefd"/>
                  </a:solidFill>
                  <a:latin typeface="Times New Roman"/>
                  <a:ea typeface="Times New Roman"/>
                </a:rPr>
                <a:t>and interaction of datum precedence </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 </a:t>
              </a:r>
              <a:r>
                <a:rPr b="0" lang="en-US" sz="2400" spc="-1" strike="noStrike">
                  <a:solidFill>
                    <a:srgbClr val="f2fefd"/>
                  </a:solidFill>
                  <a:latin typeface="Times New Roman"/>
                  <a:ea typeface="Times New Roman"/>
                </a:rPr>
                <a:t>	</a:t>
              </a:r>
              <a:r>
                <a:rPr b="0" lang="en-US" sz="2400" spc="-1" strike="noStrike">
                  <a:solidFill>
                    <a:srgbClr val="f2fefd"/>
                  </a:solidFill>
                  <a:latin typeface="Times New Roman"/>
                  <a:ea typeface="Times New Roman"/>
                </a:rPr>
                <a:t>  </a:t>
              </a:r>
              <a:r>
                <a:rPr b="0" lang="en-US" sz="2400" spc="-1" strike="noStrike">
                  <a:solidFill>
                    <a:srgbClr val="f2fefd"/>
                  </a:solidFill>
                  <a:latin typeface="Times New Roman"/>
                  <a:ea typeface="Times New Roman"/>
                </a:rPr>
                <a:t>and material condition </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	</a:t>
              </a:r>
              <a:r>
                <a:rPr b="0" lang="en-US" sz="2400" spc="-1" strike="noStrike">
                  <a:solidFill>
                    <a:srgbClr val="f2fefd"/>
                  </a:solidFill>
                  <a:latin typeface="Times New Roman"/>
                  <a:ea typeface="Times New Roman"/>
                </a:rPr>
                <a:t>            </a:t>
              </a:r>
              <a:r>
                <a:rPr b="0" lang="en-US" sz="2400" spc="-1" strike="noStrike">
                  <a:solidFill>
                    <a:srgbClr val="f2fefd"/>
                  </a:solidFill>
                  <a:latin typeface="Times New Roman"/>
                  <a:ea typeface="Times New Roman"/>
                </a:rPr>
                <a:t>specification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61" name=""/>
          <p:cNvSpPr/>
          <p:nvPr/>
        </p:nvSpPr>
        <p:spPr>
          <a:xfrm>
            <a:off x="1859040" y="1944720"/>
            <a:ext cx="1150920" cy="2692440"/>
          </a:xfrm>
          <a:prstGeom prst="rect">
            <a:avLst/>
          </a:prstGeom>
          <a:gradFill rotWithShape="0">
            <a:gsLst>
              <a:gs pos="0">
                <a:srgbClr val="a2c1fe"/>
              </a:gs>
              <a:gs pos="100000">
                <a:srgbClr val="30394c"/>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2" name=""/>
          <p:cNvSpPr/>
          <p:nvPr/>
        </p:nvSpPr>
        <p:spPr>
          <a:xfrm>
            <a:off x="2003400" y="2852640"/>
            <a:ext cx="853920" cy="853920"/>
          </a:xfrm>
          <a:prstGeom prst="ellipse">
            <a:avLst/>
          </a:prstGeom>
          <a:gradFill rotWithShape="0">
            <a:gsLst>
              <a:gs pos="0">
                <a:srgbClr val="30394c"/>
              </a:gs>
              <a:gs pos="100000">
                <a:srgbClr val="a2c1fe"/>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3" name=""/>
          <p:cNvSpPr/>
          <p:nvPr/>
        </p:nvSpPr>
        <p:spPr>
          <a:xfrm>
            <a:off x="2089080" y="2938320"/>
            <a:ext cx="682560" cy="682560"/>
          </a:xfrm>
          <a:prstGeom prst="ellipse">
            <a:avLst/>
          </a:prstGeom>
          <a:gradFill rotWithShape="0">
            <a:gsLst>
              <a:gs pos="0">
                <a:srgbClr val="a2c1fe"/>
              </a:gs>
              <a:gs pos="100000">
                <a:srgbClr val="30394c"/>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64" name=""/>
          <p:cNvGrpSpPr/>
          <p:nvPr/>
        </p:nvGrpSpPr>
        <p:grpSpPr>
          <a:xfrm>
            <a:off x="2317680" y="3174840"/>
            <a:ext cx="222120" cy="222120"/>
            <a:chOff x="2317680" y="3174840"/>
            <a:chExt cx="222120" cy="222120"/>
          </a:xfrm>
        </p:grpSpPr>
        <p:sp>
          <p:nvSpPr>
            <p:cNvPr id="6665" name=""/>
            <p:cNvSpPr/>
            <p:nvPr/>
          </p:nvSpPr>
          <p:spPr>
            <a:xfrm>
              <a:off x="2317680" y="3174840"/>
              <a:ext cx="222120" cy="222120"/>
            </a:xfrm>
            <a:prstGeom prst="ellipse">
              <a:avLst/>
            </a:prstGeom>
            <a:gradFill rotWithShape="0">
              <a:gsLst>
                <a:gs pos="0">
                  <a:srgbClr val="a2c1fe"/>
                </a:gs>
                <a:gs pos="100000">
                  <a:srgbClr val="30394c"/>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6" name=""/>
            <p:cNvSpPr/>
            <p:nvPr/>
          </p:nvSpPr>
          <p:spPr>
            <a:xfrm>
              <a:off x="2368440" y="3225960"/>
              <a:ext cx="11736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667" name=""/>
          <p:cNvSpPr/>
          <p:nvPr/>
        </p:nvSpPr>
        <p:spPr>
          <a:xfrm>
            <a:off x="2276640" y="2187720"/>
            <a:ext cx="309600" cy="30960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8" name=""/>
          <p:cNvSpPr/>
          <p:nvPr/>
        </p:nvSpPr>
        <p:spPr>
          <a:xfrm>
            <a:off x="2274840" y="4091040"/>
            <a:ext cx="309600" cy="30960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69" name=""/>
          <p:cNvSpPr/>
          <p:nvPr/>
        </p:nvSpPr>
        <p:spPr>
          <a:xfrm>
            <a:off x="2432160" y="1690560"/>
            <a:ext cx="0" cy="62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0" name=""/>
          <p:cNvSpPr/>
          <p:nvPr/>
        </p:nvSpPr>
        <p:spPr>
          <a:xfrm>
            <a:off x="2432160" y="2376360"/>
            <a:ext cx="0" cy="55800"/>
          </a:xfrm>
          <a:prstGeom prst="line">
            <a:avLst/>
          </a:prstGeom>
          <a:ln w="12600">
            <a:solidFill>
              <a:srgbClr val="fffff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671" name=""/>
          <p:cNvSpPr/>
          <p:nvPr/>
        </p:nvSpPr>
        <p:spPr>
          <a:xfrm>
            <a:off x="2432160" y="249876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2" name=""/>
          <p:cNvSpPr/>
          <p:nvPr/>
        </p:nvSpPr>
        <p:spPr>
          <a:xfrm>
            <a:off x="2432160" y="325296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6673" name=""/>
          <p:cNvSpPr/>
          <p:nvPr/>
        </p:nvSpPr>
        <p:spPr>
          <a:xfrm>
            <a:off x="2432160" y="3406680"/>
            <a:ext cx="0" cy="67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4" name=""/>
          <p:cNvSpPr/>
          <p:nvPr/>
        </p:nvSpPr>
        <p:spPr>
          <a:xfrm>
            <a:off x="2432160" y="417204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6675" name=""/>
          <p:cNvSpPr/>
          <p:nvPr/>
        </p:nvSpPr>
        <p:spPr>
          <a:xfrm>
            <a:off x="2432160" y="42926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6" name=""/>
          <p:cNvSpPr/>
          <p:nvPr/>
        </p:nvSpPr>
        <p:spPr>
          <a:xfrm>
            <a:off x="2176560" y="23432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7" name=""/>
          <p:cNvSpPr/>
          <p:nvPr/>
        </p:nvSpPr>
        <p:spPr>
          <a:xfrm>
            <a:off x="2398680" y="234324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8" name=""/>
          <p:cNvSpPr/>
          <p:nvPr/>
        </p:nvSpPr>
        <p:spPr>
          <a:xfrm>
            <a:off x="2532240" y="2343240"/>
            <a:ext cx="93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79" name=""/>
          <p:cNvSpPr/>
          <p:nvPr/>
        </p:nvSpPr>
        <p:spPr>
          <a:xfrm>
            <a:off x="2173320" y="42465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0" name=""/>
          <p:cNvSpPr/>
          <p:nvPr/>
        </p:nvSpPr>
        <p:spPr>
          <a:xfrm>
            <a:off x="2395440" y="424656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1" name=""/>
          <p:cNvSpPr/>
          <p:nvPr/>
        </p:nvSpPr>
        <p:spPr>
          <a:xfrm>
            <a:off x="2529000" y="4246560"/>
            <a:ext cx="9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2" name=""/>
          <p:cNvSpPr/>
          <p:nvPr/>
        </p:nvSpPr>
        <p:spPr>
          <a:xfrm>
            <a:off x="906480" y="3286080"/>
            <a:ext cx="14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3" name=""/>
          <p:cNvSpPr/>
          <p:nvPr/>
        </p:nvSpPr>
        <p:spPr>
          <a:xfrm>
            <a:off x="2386080" y="32860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4" name=""/>
          <p:cNvSpPr/>
          <p:nvPr/>
        </p:nvSpPr>
        <p:spPr>
          <a:xfrm>
            <a:off x="2552760" y="3286080"/>
            <a:ext cx="1387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5" name=""/>
          <p:cNvSpPr/>
          <p:nvPr/>
        </p:nvSpPr>
        <p:spPr>
          <a:xfrm>
            <a:off x="6745320" y="1955880"/>
            <a:ext cx="366840" cy="2692440"/>
          </a:xfrm>
          <a:prstGeom prst="rect">
            <a:avLst/>
          </a:prstGeom>
          <a:gradFill rotWithShape="0">
            <a:gsLst>
              <a:gs pos="0">
                <a:srgbClr val="a2c1fe"/>
              </a:gs>
              <a:gs pos="100000">
                <a:srgbClr val="30394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686" name=""/>
          <p:cNvSpPr/>
          <p:nvPr/>
        </p:nvSpPr>
        <p:spPr>
          <a:xfrm>
            <a:off x="5062680" y="2852640"/>
            <a:ext cx="1692360" cy="85392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87" name=""/>
          <p:cNvGrpSpPr/>
          <p:nvPr/>
        </p:nvGrpSpPr>
        <p:grpSpPr>
          <a:xfrm>
            <a:off x="6168960" y="3286080"/>
            <a:ext cx="1160640" cy="0"/>
            <a:chOff x="6168960" y="3286080"/>
            <a:chExt cx="1160640" cy="0"/>
          </a:xfrm>
        </p:grpSpPr>
        <p:sp>
          <p:nvSpPr>
            <p:cNvPr id="6688" name=""/>
            <p:cNvSpPr/>
            <p:nvPr/>
          </p:nvSpPr>
          <p:spPr>
            <a:xfrm>
              <a:off x="6168960" y="328608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89" name=""/>
            <p:cNvSpPr/>
            <p:nvPr/>
          </p:nvSpPr>
          <p:spPr>
            <a:xfrm>
              <a:off x="6753240" y="32860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0" name=""/>
            <p:cNvSpPr/>
            <p:nvPr/>
          </p:nvSpPr>
          <p:spPr>
            <a:xfrm>
              <a:off x="6919920" y="3286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91" name=""/>
          <p:cNvSpPr/>
          <p:nvPr/>
        </p:nvSpPr>
        <p:spPr>
          <a:xfrm>
            <a:off x="6750000" y="2233440"/>
            <a:ext cx="3542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2" name=""/>
          <p:cNvSpPr/>
          <p:nvPr/>
        </p:nvSpPr>
        <p:spPr>
          <a:xfrm>
            <a:off x="6750000" y="2487600"/>
            <a:ext cx="365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3" name=""/>
          <p:cNvSpPr/>
          <p:nvPr/>
        </p:nvSpPr>
        <p:spPr>
          <a:xfrm>
            <a:off x="6750000" y="4381560"/>
            <a:ext cx="365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4" name=""/>
          <p:cNvSpPr/>
          <p:nvPr/>
        </p:nvSpPr>
        <p:spPr>
          <a:xfrm>
            <a:off x="6761160" y="4094280"/>
            <a:ext cx="3538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95" name=""/>
          <p:cNvGrpSpPr/>
          <p:nvPr/>
        </p:nvGrpSpPr>
        <p:grpSpPr>
          <a:xfrm>
            <a:off x="6659640" y="2355840"/>
            <a:ext cx="531720" cy="0"/>
            <a:chOff x="6659640" y="2355840"/>
            <a:chExt cx="531720" cy="0"/>
          </a:xfrm>
        </p:grpSpPr>
        <p:sp>
          <p:nvSpPr>
            <p:cNvPr id="6696" name=""/>
            <p:cNvSpPr/>
            <p:nvPr/>
          </p:nvSpPr>
          <p:spPr>
            <a:xfrm>
              <a:off x="6659640" y="23558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7" name=""/>
            <p:cNvSpPr/>
            <p:nvPr/>
          </p:nvSpPr>
          <p:spPr>
            <a:xfrm>
              <a:off x="6881760" y="235584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98" name=""/>
            <p:cNvSpPr/>
            <p:nvPr/>
          </p:nvSpPr>
          <p:spPr>
            <a:xfrm>
              <a:off x="7015320" y="2355840"/>
              <a:ext cx="17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699" name=""/>
          <p:cNvGrpSpPr/>
          <p:nvPr/>
        </p:nvGrpSpPr>
        <p:grpSpPr>
          <a:xfrm>
            <a:off x="6678720" y="4227480"/>
            <a:ext cx="531720" cy="0"/>
            <a:chOff x="6678720" y="4227480"/>
            <a:chExt cx="531720" cy="0"/>
          </a:xfrm>
        </p:grpSpPr>
        <p:sp>
          <p:nvSpPr>
            <p:cNvPr id="6700" name=""/>
            <p:cNvSpPr/>
            <p:nvPr/>
          </p:nvSpPr>
          <p:spPr>
            <a:xfrm>
              <a:off x="6678720" y="422748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1" name=""/>
            <p:cNvSpPr/>
            <p:nvPr/>
          </p:nvSpPr>
          <p:spPr>
            <a:xfrm>
              <a:off x="6900840" y="422748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2" name=""/>
            <p:cNvSpPr/>
            <p:nvPr/>
          </p:nvSpPr>
          <p:spPr>
            <a:xfrm>
              <a:off x="7034040" y="4227480"/>
              <a:ext cx="1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03" name=""/>
          <p:cNvSpPr/>
          <p:nvPr/>
        </p:nvSpPr>
        <p:spPr>
          <a:xfrm>
            <a:off x="5378400" y="32860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4" name=""/>
          <p:cNvSpPr/>
          <p:nvPr/>
        </p:nvSpPr>
        <p:spPr>
          <a:xfrm>
            <a:off x="5545080" y="3286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5" name=""/>
          <p:cNvSpPr/>
          <p:nvPr/>
        </p:nvSpPr>
        <p:spPr>
          <a:xfrm>
            <a:off x="6019920" y="32828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6" name=""/>
          <p:cNvSpPr/>
          <p:nvPr/>
        </p:nvSpPr>
        <p:spPr>
          <a:xfrm>
            <a:off x="5010120" y="2857680"/>
            <a:ext cx="57600" cy="841680"/>
          </a:xfrm>
          <a:custGeom>
            <a:avLst/>
            <a:gdLst/>
            <a:ahLst/>
            <a:rect l="0" t="0" r="r" b="b"/>
            <a:pathLst>
              <a:path w="160" h="2338">
                <a:moveTo>
                  <a:pt x="160" y="0"/>
                </a:moveTo>
                <a:lnTo>
                  <a:pt x="0" y="158"/>
                </a:lnTo>
                <a:lnTo>
                  <a:pt x="0" y="2179"/>
                </a:lnTo>
                <a:lnTo>
                  <a:pt x="160" y="2338"/>
                </a:lnTo>
                <a:lnTo>
                  <a:pt x="160"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07" name=""/>
          <p:cNvSpPr/>
          <p:nvPr/>
        </p:nvSpPr>
        <p:spPr>
          <a:xfrm>
            <a:off x="4913280" y="3286080"/>
            <a:ext cx="39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8" name=""/>
          <p:cNvSpPr/>
          <p:nvPr/>
        </p:nvSpPr>
        <p:spPr>
          <a:xfrm flipH="1">
            <a:off x="4284720" y="285264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9" name=""/>
          <p:cNvSpPr/>
          <p:nvPr/>
        </p:nvSpPr>
        <p:spPr>
          <a:xfrm flipH="1">
            <a:off x="4281480" y="36925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0" name=""/>
          <p:cNvSpPr/>
          <p:nvPr/>
        </p:nvSpPr>
        <p:spPr>
          <a:xfrm>
            <a:off x="4371840" y="2852640"/>
            <a:ext cx="0" cy="831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1" name=""/>
          <p:cNvSpPr/>
          <p:nvPr/>
        </p:nvSpPr>
        <p:spPr>
          <a:xfrm flipV="1">
            <a:off x="4371840" y="2155680"/>
            <a:ext cx="0" cy="75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2" name=""/>
          <p:cNvSpPr/>
          <p:nvPr/>
        </p:nvSpPr>
        <p:spPr>
          <a:xfrm>
            <a:off x="4383000" y="215568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3" name=""/>
          <p:cNvSpPr/>
          <p:nvPr/>
        </p:nvSpPr>
        <p:spPr>
          <a:xfrm>
            <a:off x="4371840" y="375120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4" name=""/>
          <p:cNvSpPr/>
          <p:nvPr/>
        </p:nvSpPr>
        <p:spPr>
          <a:xfrm>
            <a:off x="4229280" y="4094280"/>
            <a:ext cx="298440" cy="298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15" name=""/>
          <p:cNvSpPr/>
          <p:nvPr/>
        </p:nvSpPr>
        <p:spPr>
          <a:xfrm>
            <a:off x="4313160" y="3695760"/>
            <a:ext cx="120960" cy="120960"/>
          </a:xfrm>
          <a:custGeom>
            <a:avLst/>
            <a:gdLst/>
            <a:ahLst/>
            <a:rect l="0" t="0" r="r" b="b"/>
            <a:pathLst>
              <a:path w="336" h="336">
                <a:moveTo>
                  <a:pt x="0" y="0"/>
                </a:moveTo>
                <a:lnTo>
                  <a:pt x="336" y="0"/>
                </a:lnTo>
                <a:lnTo>
                  <a:pt x="167" y="336"/>
                </a:lnTo>
                <a:lnTo>
                  <a:pt x="0" y="0"/>
                </a:lnTo>
                <a:close/>
              </a:path>
            </a:pathLst>
          </a:custGeom>
          <a:solidFill>
            <a:srgbClr val="f2fe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16" name=""/>
          <p:cNvSpPr txBox="1"/>
          <p:nvPr/>
        </p:nvSpPr>
        <p:spPr>
          <a:xfrm>
            <a:off x="4226040" y="40719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A</a:t>
            </a:r>
            <a:endParaRPr b="0" lang="en-US" sz="1600" spc="-1" strike="noStrike">
              <a:solidFill>
                <a:srgbClr val="000000"/>
              </a:solidFill>
              <a:latin typeface="Arial"/>
            </a:endParaRPr>
          </a:p>
        </p:txBody>
      </p:sp>
      <p:grpSp>
        <p:nvGrpSpPr>
          <p:cNvPr id="6717" name=""/>
          <p:cNvGrpSpPr/>
          <p:nvPr/>
        </p:nvGrpSpPr>
        <p:grpSpPr>
          <a:xfrm>
            <a:off x="4616280" y="2077920"/>
            <a:ext cx="142920" cy="142920"/>
            <a:chOff x="4616280" y="2077920"/>
            <a:chExt cx="142920" cy="142920"/>
          </a:xfrm>
        </p:grpSpPr>
        <p:sp>
          <p:nvSpPr>
            <p:cNvPr id="6718" name=""/>
            <p:cNvSpPr/>
            <p:nvPr/>
          </p:nvSpPr>
          <p:spPr>
            <a:xfrm>
              <a:off x="4627440" y="2089080"/>
              <a:ext cx="122400" cy="12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19" name=""/>
            <p:cNvSpPr/>
            <p:nvPr/>
          </p:nvSpPr>
          <p:spPr>
            <a:xfrm flipH="1">
              <a:off x="4616280" y="20779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20" name=""/>
          <p:cNvSpPr txBox="1"/>
          <p:nvPr/>
        </p:nvSpPr>
        <p:spPr>
          <a:xfrm>
            <a:off x="4778280" y="187020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12.0</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11.6</a:t>
            </a:r>
            <a:endParaRPr b="0" lang="en-US" sz="1600" spc="-1" strike="noStrike">
              <a:solidFill>
                <a:srgbClr val="000000"/>
              </a:solidFill>
              <a:latin typeface="Arial"/>
            </a:endParaRPr>
          </a:p>
        </p:txBody>
      </p:sp>
      <p:sp>
        <p:nvSpPr>
          <p:cNvPr id="6721" name=""/>
          <p:cNvSpPr/>
          <p:nvPr/>
        </p:nvSpPr>
        <p:spPr>
          <a:xfrm>
            <a:off x="3198960" y="2687760"/>
            <a:ext cx="39852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2" name=""/>
          <p:cNvSpPr/>
          <p:nvPr/>
        </p:nvSpPr>
        <p:spPr>
          <a:xfrm>
            <a:off x="3197160" y="3614760"/>
            <a:ext cx="39852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23" name=""/>
          <p:cNvSpPr/>
          <p:nvPr/>
        </p:nvSpPr>
        <p:spPr>
          <a:xfrm>
            <a:off x="3387600" y="2344680"/>
            <a:ext cx="0" cy="343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4" name=""/>
          <p:cNvSpPr/>
          <p:nvPr/>
        </p:nvSpPr>
        <p:spPr>
          <a:xfrm>
            <a:off x="3386160" y="2952720"/>
            <a:ext cx="0" cy="32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5" name=""/>
          <p:cNvSpPr/>
          <p:nvPr/>
        </p:nvSpPr>
        <p:spPr>
          <a:xfrm>
            <a:off x="3386160" y="3286080"/>
            <a:ext cx="0" cy="331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6" name=""/>
          <p:cNvSpPr/>
          <p:nvPr/>
        </p:nvSpPr>
        <p:spPr>
          <a:xfrm>
            <a:off x="3375000" y="38829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7" name=""/>
          <p:cNvSpPr txBox="1"/>
          <p:nvPr/>
        </p:nvSpPr>
        <p:spPr>
          <a:xfrm>
            <a:off x="3218040" y="265572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14</a:t>
            </a:r>
            <a:endParaRPr b="0" lang="en-US" sz="1600" spc="-1" strike="noStrike">
              <a:solidFill>
                <a:srgbClr val="000000"/>
              </a:solidFill>
              <a:latin typeface="Arial"/>
            </a:endParaRPr>
          </a:p>
        </p:txBody>
      </p:sp>
      <p:sp>
        <p:nvSpPr>
          <p:cNvPr id="6728" name=""/>
          <p:cNvSpPr txBox="1"/>
          <p:nvPr/>
        </p:nvSpPr>
        <p:spPr>
          <a:xfrm>
            <a:off x="3218040" y="358776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14</a:t>
            </a:r>
            <a:endParaRPr b="0" lang="en-US" sz="1600" spc="-1" strike="noStrike">
              <a:solidFill>
                <a:srgbClr val="000000"/>
              </a:solidFill>
              <a:latin typeface="Arial"/>
            </a:endParaRPr>
          </a:p>
        </p:txBody>
      </p:sp>
      <p:sp>
        <p:nvSpPr>
          <p:cNvPr id="6729" name=""/>
          <p:cNvSpPr/>
          <p:nvPr/>
        </p:nvSpPr>
        <p:spPr>
          <a:xfrm>
            <a:off x="3009960" y="4726080"/>
            <a:ext cx="0" cy="53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0" name=""/>
          <p:cNvSpPr/>
          <p:nvPr/>
        </p:nvSpPr>
        <p:spPr>
          <a:xfrm>
            <a:off x="2433600" y="5168880"/>
            <a:ext cx="5763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1" name=""/>
          <p:cNvSpPr/>
          <p:nvPr/>
        </p:nvSpPr>
        <p:spPr>
          <a:xfrm>
            <a:off x="2998800" y="516888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2" name=""/>
          <p:cNvSpPr/>
          <p:nvPr/>
        </p:nvSpPr>
        <p:spPr>
          <a:xfrm>
            <a:off x="3260880" y="5040360"/>
            <a:ext cx="39852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33" name=""/>
          <p:cNvSpPr txBox="1"/>
          <p:nvPr/>
        </p:nvSpPr>
        <p:spPr>
          <a:xfrm>
            <a:off x="3306600" y="499284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7</a:t>
            </a:r>
            <a:endParaRPr b="0" lang="en-US" sz="1600" spc="-1" strike="noStrike">
              <a:solidFill>
                <a:srgbClr val="000000"/>
              </a:solidFill>
              <a:latin typeface="Arial"/>
            </a:endParaRPr>
          </a:p>
        </p:txBody>
      </p:sp>
      <p:sp>
        <p:nvSpPr>
          <p:cNvPr id="6734" name=""/>
          <p:cNvSpPr/>
          <p:nvPr/>
        </p:nvSpPr>
        <p:spPr>
          <a:xfrm flipV="1">
            <a:off x="2533680" y="1136520"/>
            <a:ext cx="1085760" cy="1086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5" name=""/>
          <p:cNvSpPr/>
          <p:nvPr/>
        </p:nvSpPr>
        <p:spPr>
          <a:xfrm>
            <a:off x="3621240" y="113508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6" name=""/>
          <p:cNvSpPr txBox="1"/>
          <p:nvPr/>
        </p:nvSpPr>
        <p:spPr>
          <a:xfrm>
            <a:off x="4822920" y="5025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6737" name=""/>
          <p:cNvSpPr txBox="1"/>
          <p:nvPr/>
        </p:nvSpPr>
        <p:spPr>
          <a:xfrm>
            <a:off x="549360" y="212760"/>
            <a:ext cx="80042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Precedence and Material Condition</a:t>
            </a:r>
            <a:endParaRPr b="0" lang="en-US" sz="3600" spc="-1" strike="noStrike">
              <a:solidFill>
                <a:srgbClr val="000000"/>
              </a:solidFill>
              <a:latin typeface="Arial"/>
            </a:endParaRPr>
          </a:p>
        </p:txBody>
      </p:sp>
      <p:grpSp>
        <p:nvGrpSpPr>
          <p:cNvPr id="6738" name=""/>
          <p:cNvGrpSpPr/>
          <p:nvPr/>
        </p:nvGrpSpPr>
        <p:grpSpPr>
          <a:xfrm>
            <a:off x="3836880" y="969840"/>
            <a:ext cx="1960560" cy="628920"/>
            <a:chOff x="3836880" y="969840"/>
            <a:chExt cx="1960560" cy="628920"/>
          </a:xfrm>
        </p:grpSpPr>
        <p:sp>
          <p:nvSpPr>
            <p:cNvPr id="6739" name=""/>
            <p:cNvSpPr/>
            <p:nvPr/>
          </p:nvSpPr>
          <p:spPr>
            <a:xfrm>
              <a:off x="4000680" y="1343160"/>
              <a:ext cx="166680" cy="1666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0" name=""/>
            <p:cNvSpPr/>
            <p:nvPr/>
          </p:nvSpPr>
          <p:spPr>
            <a:xfrm>
              <a:off x="4084560" y="129852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1" name=""/>
            <p:cNvSpPr/>
            <p:nvPr/>
          </p:nvSpPr>
          <p:spPr>
            <a:xfrm>
              <a:off x="3967200" y="142560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2" name=""/>
            <p:cNvSpPr/>
            <p:nvPr/>
          </p:nvSpPr>
          <p:spPr>
            <a:xfrm>
              <a:off x="4379760" y="1359000"/>
              <a:ext cx="122400" cy="12240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3" name=""/>
            <p:cNvSpPr/>
            <p:nvPr/>
          </p:nvSpPr>
          <p:spPr>
            <a:xfrm flipH="1">
              <a:off x="4368960" y="1347840"/>
              <a:ext cx="1425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4" name=""/>
            <p:cNvSpPr/>
            <p:nvPr/>
          </p:nvSpPr>
          <p:spPr>
            <a:xfrm>
              <a:off x="4979880" y="1306440"/>
              <a:ext cx="237960" cy="2379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45" name=""/>
            <p:cNvSpPr/>
            <p:nvPr/>
          </p:nvSpPr>
          <p:spPr>
            <a:xfrm>
              <a:off x="5281560" y="1297080"/>
              <a:ext cx="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6" name=""/>
            <p:cNvSpPr/>
            <p:nvPr/>
          </p:nvSpPr>
          <p:spPr>
            <a:xfrm>
              <a:off x="5543640" y="1301760"/>
              <a:ext cx="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7" name=""/>
            <p:cNvSpPr/>
            <p:nvPr/>
          </p:nvSpPr>
          <p:spPr>
            <a:xfrm>
              <a:off x="4295880" y="130176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8" name=""/>
            <p:cNvSpPr txBox="1"/>
            <p:nvPr/>
          </p:nvSpPr>
          <p:spPr>
            <a:xfrm>
              <a:off x="4518000" y="1262160"/>
              <a:ext cx="1279440" cy="336600"/>
            </a:xfrm>
            <a:prstGeom prst="rect">
              <a:avLst/>
            </a:prstGeom>
            <a:solidFill>
              <a:srgbClr val="114ffb"/>
            </a:solid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0.2   M   </a:t>
              </a:r>
              <a:r>
                <a:rPr b="0" lang="en-US" sz="1600" spc="-1" strike="noStrike">
                  <a:solidFill>
                    <a:srgbClr val="ffff00"/>
                  </a:solidFill>
                  <a:latin typeface="Times New Roman"/>
                  <a:ea typeface="Times New Roman"/>
                </a:rPr>
                <a:t>*   *</a:t>
              </a:r>
              <a:endParaRPr b="0" lang="en-US" sz="1600" spc="-1" strike="noStrike">
                <a:solidFill>
                  <a:srgbClr val="000000"/>
                </a:solidFill>
                <a:latin typeface="Arial"/>
              </a:endParaRPr>
            </a:p>
          </p:txBody>
        </p:sp>
        <p:sp>
          <p:nvSpPr>
            <p:cNvPr id="6749" name=""/>
            <p:cNvSpPr/>
            <p:nvPr/>
          </p:nvSpPr>
          <p:spPr>
            <a:xfrm>
              <a:off x="3879720" y="1293840"/>
              <a:ext cx="188280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0" name=""/>
            <p:cNvSpPr txBox="1"/>
            <p:nvPr/>
          </p:nvSpPr>
          <p:spPr>
            <a:xfrm>
              <a:off x="3836880" y="969840"/>
              <a:ext cx="136368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2X     4.0 - 4.2</a:t>
              </a:r>
              <a:endParaRPr b="0" lang="en-US" sz="1600" spc="-1" strike="noStrike">
                <a:solidFill>
                  <a:srgbClr val="000000"/>
                </a:solidFill>
                <a:latin typeface="Arial"/>
              </a:endParaRPr>
            </a:p>
          </p:txBody>
        </p:sp>
        <p:grpSp>
          <p:nvGrpSpPr>
            <p:cNvPr id="6751" name=""/>
            <p:cNvGrpSpPr/>
            <p:nvPr/>
          </p:nvGrpSpPr>
          <p:grpSpPr>
            <a:xfrm>
              <a:off x="4249800" y="1042920"/>
              <a:ext cx="142920" cy="142920"/>
              <a:chOff x="4249800" y="1042920"/>
              <a:chExt cx="142920" cy="142920"/>
            </a:xfrm>
          </p:grpSpPr>
          <p:sp>
            <p:nvSpPr>
              <p:cNvPr id="6752" name=""/>
              <p:cNvSpPr/>
              <p:nvPr/>
            </p:nvSpPr>
            <p:spPr>
              <a:xfrm>
                <a:off x="4260960" y="1054080"/>
                <a:ext cx="122400" cy="12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3" name=""/>
              <p:cNvSpPr/>
              <p:nvPr/>
            </p:nvSpPr>
            <p:spPr>
              <a:xfrm flipH="1">
                <a:off x="4249800" y="10429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54" name=""/>
            <p:cNvSpPr/>
            <p:nvPr/>
          </p:nvSpPr>
          <p:spPr>
            <a:xfrm>
              <a:off x="4979880" y="1311120"/>
              <a:ext cx="241200" cy="241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5" name=""/>
            <p:cNvSpPr/>
            <p:nvPr/>
          </p:nvSpPr>
          <p:spPr>
            <a:xfrm>
              <a:off x="5283360" y="129708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56" name=""/>
            <p:cNvSpPr/>
            <p:nvPr/>
          </p:nvSpPr>
          <p:spPr>
            <a:xfrm>
              <a:off x="5524560" y="1297080"/>
              <a:ext cx="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757" name=""/>
          <p:cNvSpPr/>
          <p:nvPr/>
        </p:nvSpPr>
        <p:spPr>
          <a:xfrm>
            <a:off x="1859040" y="1944720"/>
            <a:ext cx="1150920" cy="2692440"/>
          </a:xfrm>
          <a:prstGeom prst="rect">
            <a:avLst/>
          </a:prstGeom>
          <a:gradFill rotWithShape="0">
            <a:gsLst>
              <a:gs pos="0">
                <a:srgbClr val="a2c1fe"/>
              </a:gs>
              <a:gs pos="100000">
                <a:srgbClr val="30394c"/>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8" name=""/>
          <p:cNvSpPr/>
          <p:nvPr/>
        </p:nvSpPr>
        <p:spPr>
          <a:xfrm>
            <a:off x="2003400" y="2852640"/>
            <a:ext cx="853920" cy="853920"/>
          </a:xfrm>
          <a:prstGeom prst="ellipse">
            <a:avLst/>
          </a:prstGeom>
          <a:gradFill rotWithShape="0">
            <a:gsLst>
              <a:gs pos="0">
                <a:srgbClr val="30394c"/>
              </a:gs>
              <a:gs pos="100000">
                <a:srgbClr val="a2c1fe"/>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59" name=""/>
          <p:cNvSpPr/>
          <p:nvPr/>
        </p:nvSpPr>
        <p:spPr>
          <a:xfrm>
            <a:off x="2089080" y="2938320"/>
            <a:ext cx="682560" cy="682560"/>
          </a:xfrm>
          <a:prstGeom prst="ellipse">
            <a:avLst/>
          </a:prstGeom>
          <a:gradFill rotWithShape="0">
            <a:gsLst>
              <a:gs pos="0">
                <a:srgbClr val="a2c1fe"/>
              </a:gs>
              <a:gs pos="100000">
                <a:srgbClr val="30394c"/>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60" name=""/>
          <p:cNvGrpSpPr/>
          <p:nvPr/>
        </p:nvGrpSpPr>
        <p:grpSpPr>
          <a:xfrm>
            <a:off x="2317680" y="3174840"/>
            <a:ext cx="222120" cy="222120"/>
            <a:chOff x="2317680" y="3174840"/>
            <a:chExt cx="222120" cy="222120"/>
          </a:xfrm>
        </p:grpSpPr>
        <p:sp>
          <p:nvSpPr>
            <p:cNvPr id="6761" name=""/>
            <p:cNvSpPr/>
            <p:nvPr/>
          </p:nvSpPr>
          <p:spPr>
            <a:xfrm>
              <a:off x="2317680" y="3174840"/>
              <a:ext cx="222120" cy="222120"/>
            </a:xfrm>
            <a:prstGeom prst="ellipse">
              <a:avLst/>
            </a:prstGeom>
            <a:gradFill rotWithShape="0">
              <a:gsLst>
                <a:gs pos="0">
                  <a:srgbClr val="a2c1fe"/>
                </a:gs>
                <a:gs pos="100000">
                  <a:srgbClr val="30394c"/>
                </a:gs>
              </a:gsLst>
              <a:path path="rect">
                <a:fillToRect l="50000" t="50000" r="50000" b="5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62" name=""/>
            <p:cNvSpPr/>
            <p:nvPr/>
          </p:nvSpPr>
          <p:spPr>
            <a:xfrm>
              <a:off x="2368440" y="3225960"/>
              <a:ext cx="117360" cy="117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763" name=""/>
          <p:cNvSpPr/>
          <p:nvPr/>
        </p:nvSpPr>
        <p:spPr>
          <a:xfrm>
            <a:off x="2276640" y="2187720"/>
            <a:ext cx="309600" cy="30960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64" name=""/>
          <p:cNvSpPr/>
          <p:nvPr/>
        </p:nvSpPr>
        <p:spPr>
          <a:xfrm>
            <a:off x="2274840" y="4091040"/>
            <a:ext cx="309600" cy="30960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65" name=""/>
          <p:cNvSpPr/>
          <p:nvPr/>
        </p:nvSpPr>
        <p:spPr>
          <a:xfrm>
            <a:off x="2432160" y="1690560"/>
            <a:ext cx="0" cy="621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6" name=""/>
          <p:cNvSpPr/>
          <p:nvPr/>
        </p:nvSpPr>
        <p:spPr>
          <a:xfrm>
            <a:off x="2432160" y="2376360"/>
            <a:ext cx="0" cy="55800"/>
          </a:xfrm>
          <a:prstGeom prst="line">
            <a:avLst/>
          </a:prstGeom>
          <a:ln w="12600">
            <a:solidFill>
              <a:srgbClr val="ffffff"/>
            </a:solidFill>
            <a:round/>
          </a:ln>
        </p:spPr>
        <p:style>
          <a:lnRef idx="0"/>
          <a:fillRef idx="0"/>
          <a:effectRef idx="0"/>
          <a:fontRef idx="minor"/>
        </p:style>
        <p:txBody>
          <a:bodyPr lIns="96120" rIns="96120" tIns="4680" bIns="4680" anchor="t">
            <a:noAutofit/>
          </a:bodyPr>
          <a:p>
            <a:endParaRPr b="0" lang="en-US" sz="1800" spc="-1" strike="noStrike">
              <a:solidFill>
                <a:srgbClr val="000000"/>
              </a:solidFill>
              <a:latin typeface="Arial"/>
            </a:endParaRPr>
          </a:p>
        </p:txBody>
      </p:sp>
      <p:sp>
        <p:nvSpPr>
          <p:cNvPr id="6767" name=""/>
          <p:cNvSpPr/>
          <p:nvPr/>
        </p:nvSpPr>
        <p:spPr>
          <a:xfrm>
            <a:off x="2432160" y="249876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68" name=""/>
          <p:cNvSpPr/>
          <p:nvPr/>
        </p:nvSpPr>
        <p:spPr>
          <a:xfrm>
            <a:off x="2432160" y="325296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6769" name=""/>
          <p:cNvSpPr/>
          <p:nvPr/>
        </p:nvSpPr>
        <p:spPr>
          <a:xfrm>
            <a:off x="2432160" y="3406680"/>
            <a:ext cx="0" cy="676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0" name=""/>
          <p:cNvSpPr/>
          <p:nvPr/>
        </p:nvSpPr>
        <p:spPr>
          <a:xfrm>
            <a:off x="2432160" y="417204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6771" name=""/>
          <p:cNvSpPr/>
          <p:nvPr/>
        </p:nvSpPr>
        <p:spPr>
          <a:xfrm>
            <a:off x="2432160" y="4292640"/>
            <a:ext cx="0" cy="963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2" name=""/>
          <p:cNvSpPr/>
          <p:nvPr/>
        </p:nvSpPr>
        <p:spPr>
          <a:xfrm>
            <a:off x="2176560" y="23432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3" name=""/>
          <p:cNvSpPr/>
          <p:nvPr/>
        </p:nvSpPr>
        <p:spPr>
          <a:xfrm>
            <a:off x="2398680" y="234324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4" name=""/>
          <p:cNvSpPr/>
          <p:nvPr/>
        </p:nvSpPr>
        <p:spPr>
          <a:xfrm>
            <a:off x="2532240" y="2343240"/>
            <a:ext cx="931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5" name=""/>
          <p:cNvSpPr/>
          <p:nvPr/>
        </p:nvSpPr>
        <p:spPr>
          <a:xfrm>
            <a:off x="2173320" y="42465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6" name=""/>
          <p:cNvSpPr/>
          <p:nvPr/>
        </p:nvSpPr>
        <p:spPr>
          <a:xfrm>
            <a:off x="2395440" y="4246560"/>
            <a:ext cx="55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7" name=""/>
          <p:cNvSpPr/>
          <p:nvPr/>
        </p:nvSpPr>
        <p:spPr>
          <a:xfrm>
            <a:off x="2529000" y="4246560"/>
            <a:ext cx="946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8" name=""/>
          <p:cNvSpPr/>
          <p:nvPr/>
        </p:nvSpPr>
        <p:spPr>
          <a:xfrm>
            <a:off x="906480" y="3286080"/>
            <a:ext cx="1413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9" name=""/>
          <p:cNvSpPr/>
          <p:nvPr/>
        </p:nvSpPr>
        <p:spPr>
          <a:xfrm>
            <a:off x="2386080" y="32860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0" name=""/>
          <p:cNvSpPr/>
          <p:nvPr/>
        </p:nvSpPr>
        <p:spPr>
          <a:xfrm>
            <a:off x="2552760" y="3286080"/>
            <a:ext cx="1387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1" name=""/>
          <p:cNvSpPr/>
          <p:nvPr/>
        </p:nvSpPr>
        <p:spPr>
          <a:xfrm>
            <a:off x="6745320" y="1955880"/>
            <a:ext cx="366840" cy="2692440"/>
          </a:xfrm>
          <a:prstGeom prst="rect">
            <a:avLst/>
          </a:prstGeom>
          <a:gradFill rotWithShape="0">
            <a:gsLst>
              <a:gs pos="0">
                <a:srgbClr val="a2c1fe"/>
              </a:gs>
              <a:gs pos="100000">
                <a:srgbClr val="30394c"/>
              </a:gs>
            </a:gsLst>
            <a:path path="rect">
              <a:fillToRect l="0" t="0" r="100000" b="100000"/>
            </a:path>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82" name=""/>
          <p:cNvSpPr/>
          <p:nvPr/>
        </p:nvSpPr>
        <p:spPr>
          <a:xfrm>
            <a:off x="5062680" y="2852640"/>
            <a:ext cx="1692360" cy="85392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83" name=""/>
          <p:cNvGrpSpPr/>
          <p:nvPr/>
        </p:nvGrpSpPr>
        <p:grpSpPr>
          <a:xfrm>
            <a:off x="6168960" y="3286080"/>
            <a:ext cx="1160640" cy="0"/>
            <a:chOff x="6168960" y="3286080"/>
            <a:chExt cx="1160640" cy="0"/>
          </a:xfrm>
        </p:grpSpPr>
        <p:sp>
          <p:nvSpPr>
            <p:cNvPr id="6784" name=""/>
            <p:cNvSpPr/>
            <p:nvPr/>
          </p:nvSpPr>
          <p:spPr>
            <a:xfrm>
              <a:off x="6168960" y="3286080"/>
              <a:ext cx="5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5" name=""/>
            <p:cNvSpPr/>
            <p:nvPr/>
          </p:nvSpPr>
          <p:spPr>
            <a:xfrm>
              <a:off x="6753240" y="32860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6" name=""/>
            <p:cNvSpPr/>
            <p:nvPr/>
          </p:nvSpPr>
          <p:spPr>
            <a:xfrm>
              <a:off x="6919920" y="3286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87" name=""/>
          <p:cNvSpPr/>
          <p:nvPr/>
        </p:nvSpPr>
        <p:spPr>
          <a:xfrm>
            <a:off x="6750000" y="2233440"/>
            <a:ext cx="3542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8" name=""/>
          <p:cNvSpPr/>
          <p:nvPr/>
        </p:nvSpPr>
        <p:spPr>
          <a:xfrm>
            <a:off x="6750000" y="2487600"/>
            <a:ext cx="365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89" name=""/>
          <p:cNvSpPr/>
          <p:nvPr/>
        </p:nvSpPr>
        <p:spPr>
          <a:xfrm>
            <a:off x="6750000" y="4381560"/>
            <a:ext cx="36504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0" name=""/>
          <p:cNvSpPr/>
          <p:nvPr/>
        </p:nvSpPr>
        <p:spPr>
          <a:xfrm>
            <a:off x="6761160" y="4094280"/>
            <a:ext cx="3538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791" name=""/>
          <p:cNvGrpSpPr/>
          <p:nvPr/>
        </p:nvGrpSpPr>
        <p:grpSpPr>
          <a:xfrm>
            <a:off x="6659640" y="2355840"/>
            <a:ext cx="531720" cy="0"/>
            <a:chOff x="6659640" y="2355840"/>
            <a:chExt cx="531720" cy="0"/>
          </a:xfrm>
        </p:grpSpPr>
        <p:sp>
          <p:nvSpPr>
            <p:cNvPr id="6792" name=""/>
            <p:cNvSpPr/>
            <p:nvPr/>
          </p:nvSpPr>
          <p:spPr>
            <a:xfrm>
              <a:off x="6659640" y="23558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3" name=""/>
            <p:cNvSpPr/>
            <p:nvPr/>
          </p:nvSpPr>
          <p:spPr>
            <a:xfrm>
              <a:off x="6881760" y="235584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4" name=""/>
            <p:cNvSpPr/>
            <p:nvPr/>
          </p:nvSpPr>
          <p:spPr>
            <a:xfrm>
              <a:off x="7015320" y="2355840"/>
              <a:ext cx="17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795" name=""/>
          <p:cNvGrpSpPr/>
          <p:nvPr/>
        </p:nvGrpSpPr>
        <p:grpSpPr>
          <a:xfrm>
            <a:off x="6678720" y="4227480"/>
            <a:ext cx="531720" cy="0"/>
            <a:chOff x="6678720" y="4227480"/>
            <a:chExt cx="531720" cy="0"/>
          </a:xfrm>
        </p:grpSpPr>
        <p:sp>
          <p:nvSpPr>
            <p:cNvPr id="6796" name=""/>
            <p:cNvSpPr/>
            <p:nvPr/>
          </p:nvSpPr>
          <p:spPr>
            <a:xfrm>
              <a:off x="6678720" y="422748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7" name=""/>
            <p:cNvSpPr/>
            <p:nvPr/>
          </p:nvSpPr>
          <p:spPr>
            <a:xfrm>
              <a:off x="6900840" y="4227480"/>
              <a:ext cx="7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8" name=""/>
            <p:cNvSpPr/>
            <p:nvPr/>
          </p:nvSpPr>
          <p:spPr>
            <a:xfrm>
              <a:off x="7034040" y="4227480"/>
              <a:ext cx="17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99" name=""/>
          <p:cNvSpPr/>
          <p:nvPr/>
        </p:nvSpPr>
        <p:spPr>
          <a:xfrm>
            <a:off x="5378400" y="32860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0" name=""/>
          <p:cNvSpPr/>
          <p:nvPr/>
        </p:nvSpPr>
        <p:spPr>
          <a:xfrm>
            <a:off x="5545080" y="3286080"/>
            <a:ext cx="40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1" name=""/>
          <p:cNvSpPr/>
          <p:nvPr/>
        </p:nvSpPr>
        <p:spPr>
          <a:xfrm>
            <a:off x="6019920" y="32828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2" name=""/>
          <p:cNvSpPr/>
          <p:nvPr/>
        </p:nvSpPr>
        <p:spPr>
          <a:xfrm>
            <a:off x="5010120" y="2857680"/>
            <a:ext cx="57600" cy="841680"/>
          </a:xfrm>
          <a:custGeom>
            <a:avLst/>
            <a:gdLst/>
            <a:ahLst/>
            <a:rect l="0" t="0" r="r" b="b"/>
            <a:pathLst>
              <a:path w="160" h="2338">
                <a:moveTo>
                  <a:pt x="160" y="0"/>
                </a:moveTo>
                <a:lnTo>
                  <a:pt x="0" y="158"/>
                </a:lnTo>
                <a:lnTo>
                  <a:pt x="0" y="2179"/>
                </a:lnTo>
                <a:lnTo>
                  <a:pt x="160" y="2338"/>
                </a:lnTo>
                <a:lnTo>
                  <a:pt x="160"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3" name=""/>
          <p:cNvSpPr/>
          <p:nvPr/>
        </p:nvSpPr>
        <p:spPr>
          <a:xfrm>
            <a:off x="4913280" y="3286080"/>
            <a:ext cx="39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4" name=""/>
          <p:cNvSpPr/>
          <p:nvPr/>
        </p:nvSpPr>
        <p:spPr>
          <a:xfrm flipH="1">
            <a:off x="4284720" y="285264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5" name=""/>
          <p:cNvSpPr/>
          <p:nvPr/>
        </p:nvSpPr>
        <p:spPr>
          <a:xfrm flipH="1">
            <a:off x="4281480" y="3692520"/>
            <a:ext cx="674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6" name=""/>
          <p:cNvSpPr/>
          <p:nvPr/>
        </p:nvSpPr>
        <p:spPr>
          <a:xfrm>
            <a:off x="4371840" y="2852640"/>
            <a:ext cx="0" cy="831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7" name=""/>
          <p:cNvSpPr/>
          <p:nvPr/>
        </p:nvSpPr>
        <p:spPr>
          <a:xfrm flipV="1">
            <a:off x="4371840" y="2155680"/>
            <a:ext cx="0" cy="75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8" name=""/>
          <p:cNvSpPr/>
          <p:nvPr/>
        </p:nvSpPr>
        <p:spPr>
          <a:xfrm>
            <a:off x="4383000" y="215568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09" name=""/>
          <p:cNvSpPr/>
          <p:nvPr/>
        </p:nvSpPr>
        <p:spPr>
          <a:xfrm>
            <a:off x="4371840" y="375120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0" name=""/>
          <p:cNvSpPr/>
          <p:nvPr/>
        </p:nvSpPr>
        <p:spPr>
          <a:xfrm>
            <a:off x="4229280" y="4094280"/>
            <a:ext cx="298440" cy="298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1" name=""/>
          <p:cNvSpPr/>
          <p:nvPr/>
        </p:nvSpPr>
        <p:spPr>
          <a:xfrm>
            <a:off x="4313160" y="3695760"/>
            <a:ext cx="120960" cy="120960"/>
          </a:xfrm>
          <a:custGeom>
            <a:avLst/>
            <a:gdLst/>
            <a:ahLst/>
            <a:rect l="0" t="0" r="r" b="b"/>
            <a:pathLst>
              <a:path w="336" h="336">
                <a:moveTo>
                  <a:pt x="0" y="0"/>
                </a:moveTo>
                <a:lnTo>
                  <a:pt x="336" y="0"/>
                </a:lnTo>
                <a:lnTo>
                  <a:pt x="167" y="336"/>
                </a:lnTo>
                <a:lnTo>
                  <a:pt x="0" y="0"/>
                </a:lnTo>
                <a:close/>
              </a:path>
            </a:pathLst>
          </a:custGeom>
          <a:solidFill>
            <a:srgbClr val="f2fe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2" name=""/>
          <p:cNvSpPr txBox="1"/>
          <p:nvPr/>
        </p:nvSpPr>
        <p:spPr>
          <a:xfrm>
            <a:off x="4226040" y="407196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A</a:t>
            </a:r>
            <a:endParaRPr b="0" lang="en-US" sz="1600" spc="-1" strike="noStrike">
              <a:solidFill>
                <a:srgbClr val="000000"/>
              </a:solidFill>
              <a:latin typeface="Arial"/>
            </a:endParaRPr>
          </a:p>
        </p:txBody>
      </p:sp>
      <p:grpSp>
        <p:nvGrpSpPr>
          <p:cNvPr id="6813" name=""/>
          <p:cNvGrpSpPr/>
          <p:nvPr/>
        </p:nvGrpSpPr>
        <p:grpSpPr>
          <a:xfrm>
            <a:off x="4616280" y="2077920"/>
            <a:ext cx="142920" cy="142920"/>
            <a:chOff x="4616280" y="2077920"/>
            <a:chExt cx="142920" cy="142920"/>
          </a:xfrm>
        </p:grpSpPr>
        <p:sp>
          <p:nvSpPr>
            <p:cNvPr id="6814" name=""/>
            <p:cNvSpPr/>
            <p:nvPr/>
          </p:nvSpPr>
          <p:spPr>
            <a:xfrm>
              <a:off x="4627440" y="2089080"/>
              <a:ext cx="122400" cy="12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5" name=""/>
            <p:cNvSpPr/>
            <p:nvPr/>
          </p:nvSpPr>
          <p:spPr>
            <a:xfrm flipH="1">
              <a:off x="4616280" y="20779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16" name=""/>
          <p:cNvSpPr txBox="1"/>
          <p:nvPr/>
        </p:nvSpPr>
        <p:spPr>
          <a:xfrm>
            <a:off x="4778280" y="187020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12.0</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11.6</a:t>
            </a:r>
            <a:endParaRPr b="0" lang="en-US" sz="1600" spc="-1" strike="noStrike">
              <a:solidFill>
                <a:srgbClr val="000000"/>
              </a:solidFill>
              <a:latin typeface="Arial"/>
            </a:endParaRPr>
          </a:p>
        </p:txBody>
      </p:sp>
      <p:sp>
        <p:nvSpPr>
          <p:cNvPr id="6817" name=""/>
          <p:cNvSpPr/>
          <p:nvPr/>
        </p:nvSpPr>
        <p:spPr>
          <a:xfrm>
            <a:off x="3198960" y="2687760"/>
            <a:ext cx="39852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8" name=""/>
          <p:cNvSpPr/>
          <p:nvPr/>
        </p:nvSpPr>
        <p:spPr>
          <a:xfrm>
            <a:off x="3197160" y="3614760"/>
            <a:ext cx="39852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19" name=""/>
          <p:cNvSpPr/>
          <p:nvPr/>
        </p:nvSpPr>
        <p:spPr>
          <a:xfrm>
            <a:off x="3387600" y="2344680"/>
            <a:ext cx="0" cy="343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0" name=""/>
          <p:cNvSpPr/>
          <p:nvPr/>
        </p:nvSpPr>
        <p:spPr>
          <a:xfrm>
            <a:off x="3386160" y="2952720"/>
            <a:ext cx="0" cy="322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1" name=""/>
          <p:cNvSpPr/>
          <p:nvPr/>
        </p:nvSpPr>
        <p:spPr>
          <a:xfrm>
            <a:off x="3386160" y="3286080"/>
            <a:ext cx="0" cy="3319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2" name=""/>
          <p:cNvSpPr/>
          <p:nvPr/>
        </p:nvSpPr>
        <p:spPr>
          <a:xfrm>
            <a:off x="3375000" y="3882960"/>
            <a:ext cx="0" cy="366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3" name=""/>
          <p:cNvSpPr txBox="1"/>
          <p:nvPr/>
        </p:nvSpPr>
        <p:spPr>
          <a:xfrm>
            <a:off x="3218040" y="265572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14</a:t>
            </a:r>
            <a:endParaRPr b="0" lang="en-US" sz="1600" spc="-1" strike="noStrike">
              <a:solidFill>
                <a:srgbClr val="000000"/>
              </a:solidFill>
              <a:latin typeface="Arial"/>
            </a:endParaRPr>
          </a:p>
        </p:txBody>
      </p:sp>
      <p:sp>
        <p:nvSpPr>
          <p:cNvPr id="6824" name=""/>
          <p:cNvSpPr txBox="1"/>
          <p:nvPr/>
        </p:nvSpPr>
        <p:spPr>
          <a:xfrm>
            <a:off x="3218040" y="358776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14</a:t>
            </a:r>
            <a:endParaRPr b="0" lang="en-US" sz="1600" spc="-1" strike="noStrike">
              <a:solidFill>
                <a:srgbClr val="000000"/>
              </a:solidFill>
              <a:latin typeface="Arial"/>
            </a:endParaRPr>
          </a:p>
        </p:txBody>
      </p:sp>
      <p:sp>
        <p:nvSpPr>
          <p:cNvPr id="6825" name=""/>
          <p:cNvSpPr/>
          <p:nvPr/>
        </p:nvSpPr>
        <p:spPr>
          <a:xfrm>
            <a:off x="3009960" y="4726080"/>
            <a:ext cx="0" cy="53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6" name=""/>
          <p:cNvSpPr/>
          <p:nvPr/>
        </p:nvSpPr>
        <p:spPr>
          <a:xfrm>
            <a:off x="2433600" y="5168880"/>
            <a:ext cx="57636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7" name=""/>
          <p:cNvSpPr/>
          <p:nvPr/>
        </p:nvSpPr>
        <p:spPr>
          <a:xfrm>
            <a:off x="2998800" y="516888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8" name=""/>
          <p:cNvSpPr/>
          <p:nvPr/>
        </p:nvSpPr>
        <p:spPr>
          <a:xfrm>
            <a:off x="3260880" y="5040360"/>
            <a:ext cx="39852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29" name=""/>
          <p:cNvSpPr txBox="1"/>
          <p:nvPr/>
        </p:nvSpPr>
        <p:spPr>
          <a:xfrm>
            <a:off x="3306600" y="4992840"/>
            <a:ext cx="2858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7</a:t>
            </a:r>
            <a:endParaRPr b="0" lang="en-US" sz="1600" spc="-1" strike="noStrike">
              <a:solidFill>
                <a:srgbClr val="000000"/>
              </a:solidFill>
              <a:latin typeface="Arial"/>
            </a:endParaRPr>
          </a:p>
        </p:txBody>
      </p:sp>
      <p:sp>
        <p:nvSpPr>
          <p:cNvPr id="6830" name=""/>
          <p:cNvSpPr/>
          <p:nvPr/>
        </p:nvSpPr>
        <p:spPr>
          <a:xfrm flipV="1">
            <a:off x="2533680" y="1136520"/>
            <a:ext cx="1085760" cy="1086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1" name=""/>
          <p:cNvSpPr/>
          <p:nvPr/>
        </p:nvSpPr>
        <p:spPr>
          <a:xfrm>
            <a:off x="3621240" y="113508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2" name=""/>
          <p:cNvSpPr txBox="1"/>
          <p:nvPr/>
        </p:nvSpPr>
        <p:spPr>
          <a:xfrm>
            <a:off x="4822920" y="50259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6833" name=""/>
          <p:cNvSpPr txBox="1"/>
          <p:nvPr/>
        </p:nvSpPr>
        <p:spPr>
          <a:xfrm>
            <a:off x="547560" y="212760"/>
            <a:ext cx="800424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Precedence and Material Condition</a:t>
            </a:r>
            <a:endParaRPr b="0" lang="en-US" sz="3600" spc="-1" strike="noStrike">
              <a:solidFill>
                <a:srgbClr val="000000"/>
              </a:solidFill>
              <a:latin typeface="Arial"/>
            </a:endParaRPr>
          </a:p>
        </p:txBody>
      </p:sp>
      <p:sp>
        <p:nvSpPr>
          <p:cNvPr id="6834" name=""/>
          <p:cNvSpPr txBox="1"/>
          <p:nvPr/>
        </p:nvSpPr>
        <p:spPr>
          <a:xfrm>
            <a:off x="2057400" y="5746680"/>
            <a:ext cx="6708600" cy="70164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 For the following illustrations, datum precedence and material</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condition will be modified to show functional relationships.</a:t>
            </a:r>
            <a:endParaRPr b="0" lang="en-US" sz="2000" spc="-1" strike="noStrike">
              <a:solidFill>
                <a:srgbClr val="000000"/>
              </a:solidFill>
              <a:latin typeface="Arial"/>
            </a:endParaRPr>
          </a:p>
        </p:txBody>
      </p:sp>
      <p:grpSp>
        <p:nvGrpSpPr>
          <p:cNvPr id="6835" name=""/>
          <p:cNvGrpSpPr/>
          <p:nvPr/>
        </p:nvGrpSpPr>
        <p:grpSpPr>
          <a:xfrm>
            <a:off x="3836880" y="969840"/>
            <a:ext cx="1960560" cy="628920"/>
            <a:chOff x="3836880" y="969840"/>
            <a:chExt cx="1960560" cy="628920"/>
          </a:xfrm>
        </p:grpSpPr>
        <p:sp>
          <p:nvSpPr>
            <p:cNvPr id="6836" name=""/>
            <p:cNvSpPr/>
            <p:nvPr/>
          </p:nvSpPr>
          <p:spPr>
            <a:xfrm>
              <a:off x="4000680" y="1343160"/>
              <a:ext cx="166680" cy="16668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37" name=""/>
            <p:cNvSpPr/>
            <p:nvPr/>
          </p:nvSpPr>
          <p:spPr>
            <a:xfrm>
              <a:off x="4084560" y="129852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8" name=""/>
            <p:cNvSpPr/>
            <p:nvPr/>
          </p:nvSpPr>
          <p:spPr>
            <a:xfrm>
              <a:off x="3967200" y="142560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9" name=""/>
            <p:cNvSpPr/>
            <p:nvPr/>
          </p:nvSpPr>
          <p:spPr>
            <a:xfrm>
              <a:off x="4379760" y="1359000"/>
              <a:ext cx="122400" cy="12240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0" name=""/>
            <p:cNvSpPr/>
            <p:nvPr/>
          </p:nvSpPr>
          <p:spPr>
            <a:xfrm flipH="1">
              <a:off x="4368960" y="1347840"/>
              <a:ext cx="14256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1" name=""/>
            <p:cNvSpPr/>
            <p:nvPr/>
          </p:nvSpPr>
          <p:spPr>
            <a:xfrm>
              <a:off x="4979880" y="1306440"/>
              <a:ext cx="237960" cy="23796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2" name=""/>
            <p:cNvSpPr/>
            <p:nvPr/>
          </p:nvSpPr>
          <p:spPr>
            <a:xfrm>
              <a:off x="5281560" y="1297080"/>
              <a:ext cx="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3" name=""/>
            <p:cNvSpPr/>
            <p:nvPr/>
          </p:nvSpPr>
          <p:spPr>
            <a:xfrm>
              <a:off x="5543640" y="1301760"/>
              <a:ext cx="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4" name=""/>
            <p:cNvSpPr/>
            <p:nvPr/>
          </p:nvSpPr>
          <p:spPr>
            <a:xfrm>
              <a:off x="4295880" y="130176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5" name=""/>
            <p:cNvSpPr txBox="1"/>
            <p:nvPr/>
          </p:nvSpPr>
          <p:spPr>
            <a:xfrm>
              <a:off x="4518000" y="1262160"/>
              <a:ext cx="1279440" cy="336600"/>
            </a:xfrm>
            <a:prstGeom prst="rect">
              <a:avLst/>
            </a:prstGeom>
            <a:solidFill>
              <a:srgbClr val="114ffb"/>
            </a:solid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0.2   M   </a:t>
              </a:r>
              <a:r>
                <a:rPr b="0" lang="en-US" sz="1600" spc="-1" strike="noStrike">
                  <a:solidFill>
                    <a:srgbClr val="ffff00"/>
                  </a:solidFill>
                  <a:latin typeface="Times New Roman"/>
                  <a:ea typeface="Times New Roman"/>
                </a:rPr>
                <a:t>*   *</a:t>
              </a:r>
              <a:endParaRPr b="0" lang="en-US" sz="1600" spc="-1" strike="noStrike">
                <a:solidFill>
                  <a:srgbClr val="000000"/>
                </a:solidFill>
                <a:latin typeface="Arial"/>
              </a:endParaRPr>
            </a:p>
          </p:txBody>
        </p:sp>
        <p:sp>
          <p:nvSpPr>
            <p:cNvPr id="6846" name=""/>
            <p:cNvSpPr/>
            <p:nvPr/>
          </p:nvSpPr>
          <p:spPr>
            <a:xfrm>
              <a:off x="3879720" y="1293840"/>
              <a:ext cx="1882800" cy="264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47" name=""/>
            <p:cNvSpPr txBox="1"/>
            <p:nvPr/>
          </p:nvSpPr>
          <p:spPr>
            <a:xfrm>
              <a:off x="3836880" y="969840"/>
              <a:ext cx="136368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2X     4.0 - 4.2</a:t>
              </a:r>
              <a:endParaRPr b="0" lang="en-US" sz="1600" spc="-1" strike="noStrike">
                <a:solidFill>
                  <a:srgbClr val="000000"/>
                </a:solidFill>
                <a:latin typeface="Arial"/>
              </a:endParaRPr>
            </a:p>
          </p:txBody>
        </p:sp>
        <p:grpSp>
          <p:nvGrpSpPr>
            <p:cNvPr id="6848" name=""/>
            <p:cNvGrpSpPr/>
            <p:nvPr/>
          </p:nvGrpSpPr>
          <p:grpSpPr>
            <a:xfrm>
              <a:off x="4249800" y="1042920"/>
              <a:ext cx="142920" cy="142920"/>
              <a:chOff x="4249800" y="1042920"/>
              <a:chExt cx="142920" cy="142920"/>
            </a:xfrm>
          </p:grpSpPr>
          <p:sp>
            <p:nvSpPr>
              <p:cNvPr id="6849" name=""/>
              <p:cNvSpPr/>
              <p:nvPr/>
            </p:nvSpPr>
            <p:spPr>
              <a:xfrm>
                <a:off x="4260960" y="1054080"/>
                <a:ext cx="122400" cy="1224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0" name=""/>
              <p:cNvSpPr/>
              <p:nvPr/>
            </p:nvSpPr>
            <p:spPr>
              <a:xfrm flipH="1">
                <a:off x="4249800" y="10429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51" name=""/>
            <p:cNvSpPr/>
            <p:nvPr/>
          </p:nvSpPr>
          <p:spPr>
            <a:xfrm>
              <a:off x="4979880" y="1311120"/>
              <a:ext cx="241200" cy="2412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52" name=""/>
            <p:cNvSpPr/>
            <p:nvPr/>
          </p:nvSpPr>
          <p:spPr>
            <a:xfrm>
              <a:off x="5283360" y="1297080"/>
              <a:ext cx="0" cy="25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53" name=""/>
            <p:cNvSpPr/>
            <p:nvPr/>
          </p:nvSpPr>
          <p:spPr>
            <a:xfrm>
              <a:off x="5524560" y="1297080"/>
              <a:ext cx="0" cy="252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855"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6856" name=""/>
          <p:cNvGrpSpPr/>
          <p:nvPr/>
        </p:nvGrpSpPr>
        <p:grpSpPr>
          <a:xfrm>
            <a:off x="625320" y="1138320"/>
            <a:ext cx="2478240" cy="430200"/>
            <a:chOff x="625320" y="1138320"/>
            <a:chExt cx="2478240" cy="430200"/>
          </a:xfrm>
        </p:grpSpPr>
        <p:sp>
          <p:nvSpPr>
            <p:cNvPr id="6857"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858" name=""/>
            <p:cNvGrpSpPr/>
            <p:nvPr/>
          </p:nvGrpSpPr>
          <p:grpSpPr>
            <a:xfrm>
              <a:off x="714240" y="1192320"/>
              <a:ext cx="306360" cy="303120"/>
              <a:chOff x="714240" y="1192320"/>
              <a:chExt cx="306360" cy="303120"/>
            </a:xfrm>
          </p:grpSpPr>
          <p:sp>
            <p:nvSpPr>
              <p:cNvPr id="6859"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60"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61"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62"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863" name=""/>
            <p:cNvGrpSpPr/>
            <p:nvPr/>
          </p:nvGrpSpPr>
          <p:grpSpPr>
            <a:xfrm>
              <a:off x="1217520" y="1254240"/>
              <a:ext cx="177840" cy="177840"/>
              <a:chOff x="1217520" y="1254240"/>
              <a:chExt cx="177840" cy="177840"/>
            </a:xfrm>
          </p:grpSpPr>
          <p:sp>
            <p:nvSpPr>
              <p:cNvPr id="6864"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65"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66" name=""/>
            <p:cNvSpPr txBox="1"/>
            <p:nvPr/>
          </p:nvSpPr>
          <p:spPr>
            <a:xfrm>
              <a:off x="1403280" y="114948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6867"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68"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69"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7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871" name=""/>
          <p:cNvGrpSpPr/>
          <p:nvPr/>
        </p:nvGrpSpPr>
        <p:grpSpPr>
          <a:xfrm>
            <a:off x="4560840" y="2886120"/>
            <a:ext cx="2130480" cy="2311200"/>
            <a:chOff x="4560840" y="2886120"/>
            <a:chExt cx="2130480" cy="2311200"/>
          </a:xfrm>
        </p:grpSpPr>
        <p:sp>
          <p:nvSpPr>
            <p:cNvPr id="6872" name=""/>
            <p:cNvSpPr/>
            <p:nvPr/>
          </p:nvSpPr>
          <p:spPr>
            <a:xfrm flipH="1">
              <a:off x="6068880" y="288612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3" name=""/>
            <p:cNvSpPr/>
            <p:nvPr/>
          </p:nvSpPr>
          <p:spPr>
            <a:xfrm flipH="1">
              <a:off x="571644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4" name=""/>
            <p:cNvSpPr/>
            <p:nvPr/>
          </p:nvSpPr>
          <p:spPr>
            <a:xfrm flipH="1">
              <a:off x="5359320" y="2886120"/>
              <a:ext cx="176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5" name=""/>
            <p:cNvSpPr/>
            <p:nvPr/>
          </p:nvSpPr>
          <p:spPr>
            <a:xfrm>
              <a:off x="4560840" y="2887560"/>
              <a:ext cx="622800" cy="711720"/>
            </a:xfrm>
            <a:custGeom>
              <a:avLst/>
              <a:gdLst/>
              <a:ahLst/>
              <a:rect l="0" t="0" r="r" b="b"/>
              <a:pathLst>
                <a:path fill="none" w="1730" h="1977">
                  <a:moveTo>
                    <a:pt x="1730" y="0"/>
                  </a:moveTo>
                  <a:lnTo>
                    <a:pt x="0" y="0"/>
                  </a:lnTo>
                  <a:lnTo>
                    <a:pt x="0" y="197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76" name=""/>
            <p:cNvSpPr/>
            <p:nvPr/>
          </p:nvSpPr>
          <p:spPr>
            <a:xfrm>
              <a:off x="4560840" y="377496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7" name=""/>
            <p:cNvSpPr/>
            <p:nvPr/>
          </p:nvSpPr>
          <p:spPr>
            <a:xfrm>
              <a:off x="4560840" y="4132440"/>
              <a:ext cx="0" cy="177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78" name=""/>
            <p:cNvSpPr/>
            <p:nvPr/>
          </p:nvSpPr>
          <p:spPr>
            <a:xfrm>
              <a:off x="4560840" y="4486320"/>
              <a:ext cx="0" cy="711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6879" name=""/>
          <p:cNvSpPr/>
          <p:nvPr/>
        </p:nvSpPr>
        <p:spPr>
          <a:xfrm>
            <a:off x="1090440" y="2886120"/>
            <a:ext cx="804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0" name=""/>
          <p:cNvSpPr/>
          <p:nvPr/>
        </p:nvSpPr>
        <p:spPr>
          <a:xfrm>
            <a:off x="2071800" y="2886120"/>
            <a:ext cx="179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1" name=""/>
          <p:cNvSpPr/>
          <p:nvPr/>
        </p:nvSpPr>
        <p:spPr>
          <a:xfrm>
            <a:off x="243036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2" name=""/>
          <p:cNvSpPr/>
          <p:nvPr/>
        </p:nvSpPr>
        <p:spPr>
          <a:xfrm>
            <a:off x="2786040" y="2886120"/>
            <a:ext cx="803520" cy="702000"/>
          </a:xfrm>
          <a:custGeom>
            <a:avLst/>
            <a:gdLst/>
            <a:ahLst/>
            <a:rect l="0" t="0" r="r" b="b"/>
            <a:pathLst>
              <a:path fill="none" w="2232" h="1950">
                <a:moveTo>
                  <a:pt x="0" y="0"/>
                </a:moveTo>
                <a:lnTo>
                  <a:pt x="2232" y="0"/>
                </a:lnTo>
                <a:lnTo>
                  <a:pt x="2232" y="195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883" name=""/>
          <p:cNvSpPr/>
          <p:nvPr/>
        </p:nvSpPr>
        <p:spPr>
          <a:xfrm>
            <a:off x="3589200" y="3767040"/>
            <a:ext cx="0" cy="176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4" name=""/>
          <p:cNvSpPr/>
          <p:nvPr/>
        </p:nvSpPr>
        <p:spPr>
          <a:xfrm>
            <a:off x="3589200" y="412128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885" name=""/>
          <p:cNvSpPr/>
          <p:nvPr/>
        </p:nvSpPr>
        <p:spPr>
          <a:xfrm>
            <a:off x="3589200" y="4478400"/>
            <a:ext cx="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886" name=""/>
          <p:cNvGrpSpPr/>
          <p:nvPr/>
        </p:nvGrpSpPr>
        <p:grpSpPr>
          <a:xfrm>
            <a:off x="2300400" y="1341360"/>
            <a:ext cx="3543120" cy="3467160"/>
            <a:chOff x="2300400" y="1341360"/>
            <a:chExt cx="3543120" cy="3467160"/>
          </a:xfrm>
        </p:grpSpPr>
        <p:sp>
          <p:nvSpPr>
            <p:cNvPr id="6887" name=""/>
            <p:cNvSpPr/>
            <p:nvPr/>
          </p:nvSpPr>
          <p:spPr>
            <a:xfrm flipV="1">
              <a:off x="4081320" y="405288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8" name=""/>
            <p:cNvSpPr/>
            <p:nvPr/>
          </p:nvSpPr>
          <p:spPr>
            <a:xfrm flipV="1">
              <a:off x="4081320" y="36972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9" name=""/>
            <p:cNvSpPr/>
            <p:nvPr/>
          </p:nvSpPr>
          <p:spPr>
            <a:xfrm flipV="1">
              <a:off x="4081320" y="2630520"/>
              <a:ext cx="0" cy="88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0" name=""/>
            <p:cNvSpPr/>
            <p:nvPr/>
          </p:nvSpPr>
          <p:spPr>
            <a:xfrm flipV="1">
              <a:off x="4081320" y="2271600"/>
              <a:ext cx="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1" name=""/>
            <p:cNvSpPr/>
            <p:nvPr/>
          </p:nvSpPr>
          <p:spPr>
            <a:xfrm flipV="1">
              <a:off x="4081320" y="134136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2" name=""/>
            <p:cNvSpPr/>
            <p:nvPr/>
          </p:nvSpPr>
          <p:spPr>
            <a:xfrm>
              <a:off x="3624120" y="2830680"/>
              <a:ext cx="0" cy="158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3" name=""/>
            <p:cNvSpPr/>
            <p:nvPr/>
          </p:nvSpPr>
          <p:spPr>
            <a:xfrm>
              <a:off x="4537080" y="2805120"/>
              <a:ext cx="0" cy="16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4" name=""/>
            <p:cNvSpPr/>
            <p:nvPr/>
          </p:nvSpPr>
          <p:spPr>
            <a:xfrm flipH="1">
              <a:off x="3622680" y="441000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5" name=""/>
            <p:cNvSpPr/>
            <p:nvPr/>
          </p:nvSpPr>
          <p:spPr>
            <a:xfrm flipH="1">
              <a:off x="3668760" y="445464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6" name=""/>
            <p:cNvSpPr/>
            <p:nvPr/>
          </p:nvSpPr>
          <p:spPr>
            <a:xfrm flipH="1" flipV="1">
              <a:off x="3624120" y="44100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6897" name=""/>
            <p:cNvSpPr/>
            <p:nvPr/>
          </p:nvSpPr>
          <p:spPr>
            <a:xfrm flipV="1">
              <a:off x="4494240" y="4410000"/>
              <a:ext cx="428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6898" name=""/>
            <p:cNvSpPr/>
            <p:nvPr/>
          </p:nvSpPr>
          <p:spPr>
            <a:xfrm flipH="1">
              <a:off x="2313000" y="2771640"/>
              <a:ext cx="353052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6899" name=""/>
            <p:cNvSpPr/>
            <p:nvPr/>
          </p:nvSpPr>
          <p:spPr>
            <a:xfrm flipH="1">
              <a:off x="2300400" y="2201760"/>
              <a:ext cx="353052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6900" name=""/>
            <p:cNvSpPr/>
            <p:nvPr/>
          </p:nvSpPr>
          <p:spPr>
            <a:xfrm flipV="1">
              <a:off x="288288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1" name=""/>
            <p:cNvSpPr/>
            <p:nvPr/>
          </p:nvSpPr>
          <p:spPr>
            <a:xfrm flipV="1">
              <a:off x="288288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2" name=""/>
            <p:cNvSpPr/>
            <p:nvPr/>
          </p:nvSpPr>
          <p:spPr>
            <a:xfrm flipV="1">
              <a:off x="288288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3" name=""/>
            <p:cNvSpPr/>
            <p:nvPr/>
          </p:nvSpPr>
          <p:spPr>
            <a:xfrm>
              <a:off x="3102120" y="227340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4" name=""/>
            <p:cNvSpPr/>
            <p:nvPr/>
          </p:nvSpPr>
          <p:spPr>
            <a:xfrm>
              <a:off x="3102120" y="2470320"/>
              <a:ext cx="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5" name=""/>
            <p:cNvSpPr/>
            <p:nvPr/>
          </p:nvSpPr>
          <p:spPr>
            <a:xfrm>
              <a:off x="3102120" y="273528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6" name=""/>
            <p:cNvSpPr/>
            <p:nvPr/>
          </p:nvSpPr>
          <p:spPr>
            <a:xfrm>
              <a:off x="2664000" y="22874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7" name=""/>
            <p:cNvSpPr/>
            <p:nvPr/>
          </p:nvSpPr>
          <p:spPr>
            <a:xfrm>
              <a:off x="2664000" y="248112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8" name=""/>
            <p:cNvSpPr/>
            <p:nvPr/>
          </p:nvSpPr>
          <p:spPr>
            <a:xfrm>
              <a:off x="2664000" y="274968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9" name=""/>
            <p:cNvSpPr/>
            <p:nvPr/>
          </p:nvSpPr>
          <p:spPr>
            <a:xfrm>
              <a:off x="2301840" y="2297160"/>
              <a:ext cx="15840" cy="56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0" name=""/>
            <p:cNvSpPr/>
            <p:nvPr/>
          </p:nvSpPr>
          <p:spPr>
            <a:xfrm flipV="1">
              <a:off x="527832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1" name=""/>
            <p:cNvSpPr/>
            <p:nvPr/>
          </p:nvSpPr>
          <p:spPr>
            <a:xfrm flipV="1">
              <a:off x="527832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2" name=""/>
            <p:cNvSpPr/>
            <p:nvPr/>
          </p:nvSpPr>
          <p:spPr>
            <a:xfrm flipV="1">
              <a:off x="527832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3" name=""/>
            <p:cNvSpPr/>
            <p:nvPr/>
          </p:nvSpPr>
          <p:spPr>
            <a:xfrm>
              <a:off x="5497560" y="221292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4" name=""/>
            <p:cNvSpPr/>
            <p:nvPr/>
          </p:nvSpPr>
          <p:spPr>
            <a:xfrm>
              <a:off x="5497560" y="24066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5" name=""/>
            <p:cNvSpPr/>
            <p:nvPr/>
          </p:nvSpPr>
          <p:spPr>
            <a:xfrm>
              <a:off x="5497560" y="26748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6" name=""/>
            <p:cNvSpPr/>
            <p:nvPr/>
          </p:nvSpPr>
          <p:spPr>
            <a:xfrm>
              <a:off x="5059440" y="222264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7" name=""/>
            <p:cNvSpPr/>
            <p:nvPr/>
          </p:nvSpPr>
          <p:spPr>
            <a:xfrm>
              <a:off x="5059440" y="2416320"/>
              <a:ext cx="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8" name=""/>
            <p:cNvSpPr/>
            <p:nvPr/>
          </p:nvSpPr>
          <p:spPr>
            <a:xfrm>
              <a:off x="5059440" y="268452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9" name=""/>
            <p:cNvSpPr/>
            <p:nvPr/>
          </p:nvSpPr>
          <p:spPr>
            <a:xfrm>
              <a:off x="5830920" y="2203560"/>
              <a:ext cx="12600" cy="56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20"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6921" name=""/>
          <p:cNvGrpSpPr/>
          <p:nvPr/>
        </p:nvGrpSpPr>
        <p:grpSpPr>
          <a:xfrm>
            <a:off x="625320" y="1138320"/>
            <a:ext cx="2478240" cy="430200"/>
            <a:chOff x="625320" y="1138320"/>
            <a:chExt cx="2478240" cy="430200"/>
          </a:xfrm>
        </p:grpSpPr>
        <p:sp>
          <p:nvSpPr>
            <p:cNvPr id="6922"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923" name=""/>
            <p:cNvGrpSpPr/>
            <p:nvPr/>
          </p:nvGrpSpPr>
          <p:grpSpPr>
            <a:xfrm>
              <a:off x="714240" y="1192320"/>
              <a:ext cx="306360" cy="303120"/>
              <a:chOff x="714240" y="1192320"/>
              <a:chExt cx="306360" cy="303120"/>
            </a:xfrm>
          </p:grpSpPr>
          <p:sp>
            <p:nvSpPr>
              <p:cNvPr id="6924"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25"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6"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27"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928" name=""/>
            <p:cNvGrpSpPr/>
            <p:nvPr/>
          </p:nvGrpSpPr>
          <p:grpSpPr>
            <a:xfrm>
              <a:off x="1217520" y="1254240"/>
              <a:ext cx="177840" cy="177840"/>
              <a:chOff x="1217520" y="1254240"/>
              <a:chExt cx="177840" cy="177840"/>
            </a:xfrm>
          </p:grpSpPr>
          <p:sp>
            <p:nvSpPr>
              <p:cNvPr id="6929"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30"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31" name=""/>
            <p:cNvSpPr txBox="1"/>
            <p:nvPr/>
          </p:nvSpPr>
          <p:spPr>
            <a:xfrm>
              <a:off x="1403280" y="114948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6932"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33"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34"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3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6" name=""/>
          <p:cNvSpPr/>
          <p:nvPr/>
        </p:nvSpPr>
        <p:spPr>
          <a:xfrm>
            <a:off x="1090440" y="2886120"/>
            <a:ext cx="804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37" name=""/>
          <p:cNvSpPr/>
          <p:nvPr/>
        </p:nvSpPr>
        <p:spPr>
          <a:xfrm>
            <a:off x="2071800" y="2886120"/>
            <a:ext cx="179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38" name=""/>
          <p:cNvSpPr/>
          <p:nvPr/>
        </p:nvSpPr>
        <p:spPr>
          <a:xfrm>
            <a:off x="243036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39" name=""/>
          <p:cNvSpPr/>
          <p:nvPr/>
        </p:nvSpPr>
        <p:spPr>
          <a:xfrm>
            <a:off x="2786040" y="2886120"/>
            <a:ext cx="803520" cy="702000"/>
          </a:xfrm>
          <a:custGeom>
            <a:avLst/>
            <a:gdLst/>
            <a:ahLst/>
            <a:rect l="0" t="0" r="r" b="b"/>
            <a:pathLst>
              <a:path fill="none" w="2232" h="1950">
                <a:moveTo>
                  <a:pt x="0" y="0"/>
                </a:moveTo>
                <a:lnTo>
                  <a:pt x="2232" y="0"/>
                </a:lnTo>
                <a:lnTo>
                  <a:pt x="2232" y="195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40" name=""/>
          <p:cNvSpPr/>
          <p:nvPr/>
        </p:nvSpPr>
        <p:spPr>
          <a:xfrm>
            <a:off x="3589200" y="3767040"/>
            <a:ext cx="0" cy="176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1" name=""/>
          <p:cNvSpPr/>
          <p:nvPr/>
        </p:nvSpPr>
        <p:spPr>
          <a:xfrm>
            <a:off x="3589200" y="412128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2" name=""/>
          <p:cNvSpPr/>
          <p:nvPr/>
        </p:nvSpPr>
        <p:spPr>
          <a:xfrm>
            <a:off x="3589200" y="4478400"/>
            <a:ext cx="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43" name=""/>
          <p:cNvSpPr/>
          <p:nvPr/>
        </p:nvSpPr>
        <p:spPr>
          <a:xfrm>
            <a:off x="3867120" y="50436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4" name=""/>
          <p:cNvSpPr/>
          <p:nvPr/>
        </p:nvSpPr>
        <p:spPr>
          <a:xfrm>
            <a:off x="3606840" y="5002200"/>
            <a:ext cx="259200" cy="84600"/>
          </a:xfrm>
          <a:custGeom>
            <a:avLst/>
            <a:gdLst/>
            <a:ahLst/>
            <a:rect l="0" t="0" r="r" b="b"/>
            <a:pathLst>
              <a:path w="720" h="235">
                <a:moveTo>
                  <a:pt x="720" y="0"/>
                </a:moveTo>
                <a:lnTo>
                  <a:pt x="720" y="235"/>
                </a:lnTo>
                <a:lnTo>
                  <a:pt x="0" y="111"/>
                </a:lnTo>
                <a:lnTo>
                  <a:pt x="72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6945" name=""/>
          <p:cNvSpPr/>
          <p:nvPr/>
        </p:nvSpPr>
        <p:spPr>
          <a:xfrm>
            <a:off x="4551480" y="50436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6" name=""/>
          <p:cNvSpPr/>
          <p:nvPr/>
        </p:nvSpPr>
        <p:spPr>
          <a:xfrm>
            <a:off x="4297320" y="5002200"/>
            <a:ext cx="254520" cy="84600"/>
          </a:xfrm>
          <a:custGeom>
            <a:avLst/>
            <a:gdLst/>
            <a:ahLst/>
            <a:rect l="0" t="0" r="r" b="b"/>
            <a:pathLst>
              <a:path w="707" h="235">
                <a:moveTo>
                  <a:pt x="0" y="0"/>
                </a:moveTo>
                <a:lnTo>
                  <a:pt x="0" y="235"/>
                </a:lnTo>
                <a:lnTo>
                  <a:pt x="707" y="111"/>
                </a:lnTo>
                <a:lnTo>
                  <a:pt x="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grpSp>
        <p:nvGrpSpPr>
          <p:cNvPr id="6947" name=""/>
          <p:cNvGrpSpPr/>
          <p:nvPr/>
        </p:nvGrpSpPr>
        <p:grpSpPr>
          <a:xfrm>
            <a:off x="2300400" y="1341360"/>
            <a:ext cx="3543120" cy="3467160"/>
            <a:chOff x="2300400" y="1341360"/>
            <a:chExt cx="3543120" cy="3467160"/>
          </a:xfrm>
        </p:grpSpPr>
        <p:sp>
          <p:nvSpPr>
            <p:cNvPr id="6948" name=""/>
            <p:cNvSpPr/>
            <p:nvPr/>
          </p:nvSpPr>
          <p:spPr>
            <a:xfrm flipV="1">
              <a:off x="4081320" y="405288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9" name=""/>
            <p:cNvSpPr/>
            <p:nvPr/>
          </p:nvSpPr>
          <p:spPr>
            <a:xfrm flipV="1">
              <a:off x="4081320" y="36972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0" name=""/>
            <p:cNvSpPr/>
            <p:nvPr/>
          </p:nvSpPr>
          <p:spPr>
            <a:xfrm flipV="1">
              <a:off x="4081320" y="2630520"/>
              <a:ext cx="0" cy="88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1" name=""/>
            <p:cNvSpPr/>
            <p:nvPr/>
          </p:nvSpPr>
          <p:spPr>
            <a:xfrm flipV="1">
              <a:off x="4081320" y="2271600"/>
              <a:ext cx="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2" name=""/>
            <p:cNvSpPr/>
            <p:nvPr/>
          </p:nvSpPr>
          <p:spPr>
            <a:xfrm flipV="1">
              <a:off x="4081320" y="134136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3" name=""/>
            <p:cNvSpPr/>
            <p:nvPr/>
          </p:nvSpPr>
          <p:spPr>
            <a:xfrm>
              <a:off x="3624120" y="2830680"/>
              <a:ext cx="0" cy="158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4" name=""/>
            <p:cNvSpPr/>
            <p:nvPr/>
          </p:nvSpPr>
          <p:spPr>
            <a:xfrm>
              <a:off x="4537080" y="2805120"/>
              <a:ext cx="0" cy="16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5" name=""/>
            <p:cNvSpPr/>
            <p:nvPr/>
          </p:nvSpPr>
          <p:spPr>
            <a:xfrm flipH="1">
              <a:off x="3622680" y="441000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6" name=""/>
            <p:cNvSpPr/>
            <p:nvPr/>
          </p:nvSpPr>
          <p:spPr>
            <a:xfrm flipH="1">
              <a:off x="3668760" y="445464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7" name=""/>
            <p:cNvSpPr/>
            <p:nvPr/>
          </p:nvSpPr>
          <p:spPr>
            <a:xfrm flipH="1" flipV="1">
              <a:off x="3624120" y="44100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6958" name=""/>
            <p:cNvSpPr/>
            <p:nvPr/>
          </p:nvSpPr>
          <p:spPr>
            <a:xfrm flipV="1">
              <a:off x="4494240" y="4410000"/>
              <a:ext cx="428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6959" name=""/>
            <p:cNvSpPr/>
            <p:nvPr/>
          </p:nvSpPr>
          <p:spPr>
            <a:xfrm flipH="1">
              <a:off x="2313000" y="2771640"/>
              <a:ext cx="353052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6960" name=""/>
            <p:cNvSpPr/>
            <p:nvPr/>
          </p:nvSpPr>
          <p:spPr>
            <a:xfrm flipH="1">
              <a:off x="2300400" y="2201760"/>
              <a:ext cx="353052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6961" name=""/>
            <p:cNvSpPr/>
            <p:nvPr/>
          </p:nvSpPr>
          <p:spPr>
            <a:xfrm flipV="1">
              <a:off x="288288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2" name=""/>
            <p:cNvSpPr/>
            <p:nvPr/>
          </p:nvSpPr>
          <p:spPr>
            <a:xfrm flipV="1">
              <a:off x="288288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3" name=""/>
            <p:cNvSpPr/>
            <p:nvPr/>
          </p:nvSpPr>
          <p:spPr>
            <a:xfrm flipV="1">
              <a:off x="288288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4" name=""/>
            <p:cNvSpPr/>
            <p:nvPr/>
          </p:nvSpPr>
          <p:spPr>
            <a:xfrm>
              <a:off x="3102120" y="227340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5" name=""/>
            <p:cNvSpPr/>
            <p:nvPr/>
          </p:nvSpPr>
          <p:spPr>
            <a:xfrm>
              <a:off x="3102120" y="2470320"/>
              <a:ext cx="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6" name=""/>
            <p:cNvSpPr/>
            <p:nvPr/>
          </p:nvSpPr>
          <p:spPr>
            <a:xfrm>
              <a:off x="3102120" y="273528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7" name=""/>
            <p:cNvSpPr/>
            <p:nvPr/>
          </p:nvSpPr>
          <p:spPr>
            <a:xfrm>
              <a:off x="2664000" y="22874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8" name=""/>
            <p:cNvSpPr/>
            <p:nvPr/>
          </p:nvSpPr>
          <p:spPr>
            <a:xfrm>
              <a:off x="2664000" y="248112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69" name=""/>
            <p:cNvSpPr/>
            <p:nvPr/>
          </p:nvSpPr>
          <p:spPr>
            <a:xfrm>
              <a:off x="2664000" y="274968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0" name=""/>
            <p:cNvSpPr/>
            <p:nvPr/>
          </p:nvSpPr>
          <p:spPr>
            <a:xfrm>
              <a:off x="2301840" y="2297160"/>
              <a:ext cx="15840" cy="56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1" name=""/>
            <p:cNvSpPr/>
            <p:nvPr/>
          </p:nvSpPr>
          <p:spPr>
            <a:xfrm flipV="1">
              <a:off x="527832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2" name=""/>
            <p:cNvSpPr/>
            <p:nvPr/>
          </p:nvSpPr>
          <p:spPr>
            <a:xfrm flipV="1">
              <a:off x="527832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3" name=""/>
            <p:cNvSpPr/>
            <p:nvPr/>
          </p:nvSpPr>
          <p:spPr>
            <a:xfrm flipV="1">
              <a:off x="527832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4" name=""/>
            <p:cNvSpPr/>
            <p:nvPr/>
          </p:nvSpPr>
          <p:spPr>
            <a:xfrm>
              <a:off x="5497560" y="221292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5" name=""/>
            <p:cNvSpPr/>
            <p:nvPr/>
          </p:nvSpPr>
          <p:spPr>
            <a:xfrm>
              <a:off x="5497560" y="24066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6" name=""/>
            <p:cNvSpPr/>
            <p:nvPr/>
          </p:nvSpPr>
          <p:spPr>
            <a:xfrm>
              <a:off x="5497560" y="26748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7" name=""/>
            <p:cNvSpPr/>
            <p:nvPr/>
          </p:nvSpPr>
          <p:spPr>
            <a:xfrm>
              <a:off x="5059440" y="222264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8" name=""/>
            <p:cNvSpPr/>
            <p:nvPr/>
          </p:nvSpPr>
          <p:spPr>
            <a:xfrm>
              <a:off x="5059440" y="2416320"/>
              <a:ext cx="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79" name=""/>
            <p:cNvSpPr/>
            <p:nvPr/>
          </p:nvSpPr>
          <p:spPr>
            <a:xfrm>
              <a:off x="5059440" y="268452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0" name=""/>
            <p:cNvSpPr/>
            <p:nvPr/>
          </p:nvSpPr>
          <p:spPr>
            <a:xfrm>
              <a:off x="5830920" y="2203560"/>
              <a:ext cx="12600" cy="56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81" name=""/>
          <p:cNvSpPr txBox="1"/>
          <p:nvPr/>
        </p:nvSpPr>
        <p:spPr>
          <a:xfrm>
            <a:off x="5010120" y="4848120"/>
            <a:ext cx="312912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mallest circumscribed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Variable gage in contact with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high points of datum feature A)</a:t>
            </a:r>
            <a:endParaRPr b="0" lang="en-US" sz="1800" spc="-1" strike="noStrike">
              <a:solidFill>
                <a:srgbClr val="000000"/>
              </a:solidFill>
              <a:latin typeface="Arial"/>
            </a:endParaRPr>
          </a:p>
        </p:txBody>
      </p:sp>
      <p:sp>
        <p:nvSpPr>
          <p:cNvPr id="6982"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6983" name=""/>
          <p:cNvGrpSpPr/>
          <p:nvPr/>
        </p:nvGrpSpPr>
        <p:grpSpPr>
          <a:xfrm>
            <a:off x="4560840" y="2886120"/>
            <a:ext cx="2130480" cy="2311200"/>
            <a:chOff x="4560840" y="2886120"/>
            <a:chExt cx="2130480" cy="2311200"/>
          </a:xfrm>
        </p:grpSpPr>
        <p:sp>
          <p:nvSpPr>
            <p:cNvPr id="6984" name=""/>
            <p:cNvSpPr/>
            <p:nvPr/>
          </p:nvSpPr>
          <p:spPr>
            <a:xfrm flipH="1">
              <a:off x="6068880" y="288612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5" name=""/>
            <p:cNvSpPr/>
            <p:nvPr/>
          </p:nvSpPr>
          <p:spPr>
            <a:xfrm flipH="1">
              <a:off x="571644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6" name=""/>
            <p:cNvSpPr/>
            <p:nvPr/>
          </p:nvSpPr>
          <p:spPr>
            <a:xfrm flipH="1">
              <a:off x="5359320" y="2886120"/>
              <a:ext cx="176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7" name=""/>
            <p:cNvSpPr/>
            <p:nvPr/>
          </p:nvSpPr>
          <p:spPr>
            <a:xfrm>
              <a:off x="4560840" y="2887560"/>
              <a:ext cx="622800" cy="711720"/>
            </a:xfrm>
            <a:custGeom>
              <a:avLst/>
              <a:gdLst/>
              <a:ahLst/>
              <a:rect l="0" t="0" r="r" b="b"/>
              <a:pathLst>
                <a:path fill="none" w="1730" h="1977">
                  <a:moveTo>
                    <a:pt x="1730" y="0"/>
                  </a:moveTo>
                  <a:lnTo>
                    <a:pt x="0" y="0"/>
                  </a:lnTo>
                  <a:lnTo>
                    <a:pt x="0" y="197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6988" name=""/>
            <p:cNvSpPr/>
            <p:nvPr/>
          </p:nvSpPr>
          <p:spPr>
            <a:xfrm>
              <a:off x="4560840" y="377496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89" name=""/>
            <p:cNvSpPr/>
            <p:nvPr/>
          </p:nvSpPr>
          <p:spPr>
            <a:xfrm>
              <a:off x="4560840" y="4132440"/>
              <a:ext cx="0" cy="177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990" name=""/>
            <p:cNvSpPr/>
            <p:nvPr/>
          </p:nvSpPr>
          <p:spPr>
            <a:xfrm>
              <a:off x="4560840" y="4486320"/>
              <a:ext cx="0" cy="711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6991" name=""/>
          <p:cNvGrpSpPr/>
          <p:nvPr/>
        </p:nvGrpSpPr>
        <p:grpSpPr>
          <a:xfrm>
            <a:off x="625320" y="1138320"/>
            <a:ext cx="2478240" cy="430200"/>
            <a:chOff x="625320" y="1138320"/>
            <a:chExt cx="2478240" cy="430200"/>
          </a:xfrm>
        </p:grpSpPr>
        <p:sp>
          <p:nvSpPr>
            <p:cNvPr id="6992"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6993" name=""/>
            <p:cNvGrpSpPr/>
            <p:nvPr/>
          </p:nvGrpSpPr>
          <p:grpSpPr>
            <a:xfrm>
              <a:off x="714240" y="1192320"/>
              <a:ext cx="306360" cy="303120"/>
              <a:chOff x="714240" y="1192320"/>
              <a:chExt cx="306360" cy="303120"/>
            </a:xfrm>
          </p:grpSpPr>
          <p:sp>
            <p:nvSpPr>
              <p:cNvPr id="6994"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95"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6"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97"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6998" name=""/>
            <p:cNvGrpSpPr/>
            <p:nvPr/>
          </p:nvGrpSpPr>
          <p:grpSpPr>
            <a:xfrm>
              <a:off x="1217520" y="1254240"/>
              <a:ext cx="177840" cy="177840"/>
              <a:chOff x="1217520" y="1254240"/>
              <a:chExt cx="177840" cy="177840"/>
            </a:xfrm>
          </p:grpSpPr>
          <p:sp>
            <p:nvSpPr>
              <p:cNvPr id="6999"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00"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01" name=""/>
            <p:cNvSpPr txBox="1"/>
            <p:nvPr/>
          </p:nvSpPr>
          <p:spPr>
            <a:xfrm>
              <a:off x="1403280" y="114948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7002"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03"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04"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00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6" name=""/>
          <p:cNvSpPr/>
          <p:nvPr/>
        </p:nvSpPr>
        <p:spPr>
          <a:xfrm>
            <a:off x="3830760" y="3956040"/>
            <a:ext cx="249480" cy="152640"/>
          </a:xfrm>
          <a:custGeom>
            <a:avLst/>
            <a:gdLst/>
            <a:ahLst/>
            <a:rect l="0" t="0" r="r" b="b"/>
            <a:pathLst>
              <a:path w="693" h="424">
                <a:moveTo>
                  <a:pt x="101" y="0"/>
                </a:moveTo>
                <a:lnTo>
                  <a:pt x="693" y="424"/>
                </a:lnTo>
                <a:lnTo>
                  <a:pt x="0" y="211"/>
                </a:lnTo>
                <a:lnTo>
                  <a:pt x="10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07" name=""/>
          <p:cNvSpPr/>
          <p:nvPr/>
        </p:nvSpPr>
        <p:spPr>
          <a:xfrm>
            <a:off x="1090440" y="2886120"/>
            <a:ext cx="804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08" name=""/>
          <p:cNvSpPr/>
          <p:nvPr/>
        </p:nvSpPr>
        <p:spPr>
          <a:xfrm>
            <a:off x="2071800" y="2886120"/>
            <a:ext cx="179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09" name=""/>
          <p:cNvSpPr/>
          <p:nvPr/>
        </p:nvSpPr>
        <p:spPr>
          <a:xfrm>
            <a:off x="243036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0" name=""/>
          <p:cNvSpPr/>
          <p:nvPr/>
        </p:nvSpPr>
        <p:spPr>
          <a:xfrm>
            <a:off x="2786040" y="2886120"/>
            <a:ext cx="803520" cy="702000"/>
          </a:xfrm>
          <a:custGeom>
            <a:avLst/>
            <a:gdLst/>
            <a:ahLst/>
            <a:rect l="0" t="0" r="r" b="b"/>
            <a:pathLst>
              <a:path fill="none" w="2232" h="1950">
                <a:moveTo>
                  <a:pt x="0" y="0"/>
                </a:moveTo>
                <a:lnTo>
                  <a:pt x="2232" y="0"/>
                </a:lnTo>
                <a:lnTo>
                  <a:pt x="2232" y="195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11" name=""/>
          <p:cNvSpPr/>
          <p:nvPr/>
        </p:nvSpPr>
        <p:spPr>
          <a:xfrm>
            <a:off x="3589200" y="3767040"/>
            <a:ext cx="0" cy="176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2" name=""/>
          <p:cNvSpPr/>
          <p:nvPr/>
        </p:nvSpPr>
        <p:spPr>
          <a:xfrm>
            <a:off x="3589200" y="412128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3" name=""/>
          <p:cNvSpPr/>
          <p:nvPr/>
        </p:nvSpPr>
        <p:spPr>
          <a:xfrm>
            <a:off x="3589200" y="4478400"/>
            <a:ext cx="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14" name=""/>
          <p:cNvSpPr/>
          <p:nvPr/>
        </p:nvSpPr>
        <p:spPr>
          <a:xfrm>
            <a:off x="3073320" y="3708360"/>
            <a:ext cx="778320" cy="284400"/>
          </a:xfrm>
          <a:custGeom>
            <a:avLst/>
            <a:gdLst/>
            <a:ahLst/>
            <a:rect l="0" t="0" r="r" b="b"/>
            <a:pathLst>
              <a:path fill="none" w="2162" h="790">
                <a:moveTo>
                  <a:pt x="2162" y="790"/>
                </a:moveTo>
                <a:lnTo>
                  <a:pt x="565"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15" name=""/>
          <p:cNvSpPr/>
          <p:nvPr/>
        </p:nvSpPr>
        <p:spPr>
          <a:xfrm>
            <a:off x="3867120" y="50436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6" name=""/>
          <p:cNvSpPr/>
          <p:nvPr/>
        </p:nvSpPr>
        <p:spPr>
          <a:xfrm>
            <a:off x="3606840" y="5002200"/>
            <a:ext cx="259200" cy="84600"/>
          </a:xfrm>
          <a:custGeom>
            <a:avLst/>
            <a:gdLst/>
            <a:ahLst/>
            <a:rect l="0" t="0" r="r" b="b"/>
            <a:pathLst>
              <a:path w="720" h="235">
                <a:moveTo>
                  <a:pt x="720" y="0"/>
                </a:moveTo>
                <a:lnTo>
                  <a:pt x="720" y="235"/>
                </a:lnTo>
                <a:lnTo>
                  <a:pt x="0" y="111"/>
                </a:lnTo>
                <a:lnTo>
                  <a:pt x="72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7017" name=""/>
          <p:cNvSpPr/>
          <p:nvPr/>
        </p:nvSpPr>
        <p:spPr>
          <a:xfrm>
            <a:off x="4551480" y="50436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8" name=""/>
          <p:cNvSpPr/>
          <p:nvPr/>
        </p:nvSpPr>
        <p:spPr>
          <a:xfrm>
            <a:off x="4297320" y="5002200"/>
            <a:ext cx="254520" cy="84600"/>
          </a:xfrm>
          <a:custGeom>
            <a:avLst/>
            <a:gdLst/>
            <a:ahLst/>
            <a:rect l="0" t="0" r="r" b="b"/>
            <a:pathLst>
              <a:path w="707" h="235">
                <a:moveTo>
                  <a:pt x="0" y="0"/>
                </a:moveTo>
                <a:lnTo>
                  <a:pt x="0" y="235"/>
                </a:lnTo>
                <a:lnTo>
                  <a:pt x="707" y="111"/>
                </a:lnTo>
                <a:lnTo>
                  <a:pt x="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grpSp>
        <p:nvGrpSpPr>
          <p:cNvPr id="7019" name=""/>
          <p:cNvGrpSpPr/>
          <p:nvPr/>
        </p:nvGrpSpPr>
        <p:grpSpPr>
          <a:xfrm>
            <a:off x="2300400" y="1341360"/>
            <a:ext cx="3543120" cy="3467160"/>
            <a:chOff x="2300400" y="1341360"/>
            <a:chExt cx="3543120" cy="3467160"/>
          </a:xfrm>
        </p:grpSpPr>
        <p:sp>
          <p:nvSpPr>
            <p:cNvPr id="7020" name=""/>
            <p:cNvSpPr/>
            <p:nvPr/>
          </p:nvSpPr>
          <p:spPr>
            <a:xfrm flipV="1">
              <a:off x="4081320" y="405288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1" name=""/>
            <p:cNvSpPr/>
            <p:nvPr/>
          </p:nvSpPr>
          <p:spPr>
            <a:xfrm flipV="1">
              <a:off x="4081320" y="36972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2" name=""/>
            <p:cNvSpPr/>
            <p:nvPr/>
          </p:nvSpPr>
          <p:spPr>
            <a:xfrm flipV="1">
              <a:off x="4081320" y="2630520"/>
              <a:ext cx="0" cy="88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3" name=""/>
            <p:cNvSpPr/>
            <p:nvPr/>
          </p:nvSpPr>
          <p:spPr>
            <a:xfrm flipV="1">
              <a:off x="4081320" y="2271600"/>
              <a:ext cx="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4" name=""/>
            <p:cNvSpPr/>
            <p:nvPr/>
          </p:nvSpPr>
          <p:spPr>
            <a:xfrm flipV="1">
              <a:off x="4081320" y="134136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5" name=""/>
            <p:cNvSpPr/>
            <p:nvPr/>
          </p:nvSpPr>
          <p:spPr>
            <a:xfrm>
              <a:off x="3624120" y="2830680"/>
              <a:ext cx="0" cy="158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6" name=""/>
            <p:cNvSpPr/>
            <p:nvPr/>
          </p:nvSpPr>
          <p:spPr>
            <a:xfrm>
              <a:off x="4537080" y="2805120"/>
              <a:ext cx="0" cy="16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7" name=""/>
            <p:cNvSpPr/>
            <p:nvPr/>
          </p:nvSpPr>
          <p:spPr>
            <a:xfrm flipH="1">
              <a:off x="3622680" y="441000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8" name=""/>
            <p:cNvSpPr/>
            <p:nvPr/>
          </p:nvSpPr>
          <p:spPr>
            <a:xfrm flipH="1">
              <a:off x="3668760" y="445464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9" name=""/>
            <p:cNvSpPr/>
            <p:nvPr/>
          </p:nvSpPr>
          <p:spPr>
            <a:xfrm flipH="1" flipV="1">
              <a:off x="3624120" y="44100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7030" name=""/>
            <p:cNvSpPr/>
            <p:nvPr/>
          </p:nvSpPr>
          <p:spPr>
            <a:xfrm flipV="1">
              <a:off x="4494240" y="4410000"/>
              <a:ext cx="428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7031" name=""/>
            <p:cNvSpPr/>
            <p:nvPr/>
          </p:nvSpPr>
          <p:spPr>
            <a:xfrm flipH="1">
              <a:off x="2313000" y="2771640"/>
              <a:ext cx="353052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032" name=""/>
            <p:cNvSpPr/>
            <p:nvPr/>
          </p:nvSpPr>
          <p:spPr>
            <a:xfrm flipH="1">
              <a:off x="2300400" y="2201760"/>
              <a:ext cx="353052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7033" name=""/>
            <p:cNvSpPr/>
            <p:nvPr/>
          </p:nvSpPr>
          <p:spPr>
            <a:xfrm flipV="1">
              <a:off x="288288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4" name=""/>
            <p:cNvSpPr/>
            <p:nvPr/>
          </p:nvSpPr>
          <p:spPr>
            <a:xfrm flipV="1">
              <a:off x="288288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5" name=""/>
            <p:cNvSpPr/>
            <p:nvPr/>
          </p:nvSpPr>
          <p:spPr>
            <a:xfrm flipV="1">
              <a:off x="288288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6" name=""/>
            <p:cNvSpPr/>
            <p:nvPr/>
          </p:nvSpPr>
          <p:spPr>
            <a:xfrm>
              <a:off x="3102120" y="227340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7" name=""/>
            <p:cNvSpPr/>
            <p:nvPr/>
          </p:nvSpPr>
          <p:spPr>
            <a:xfrm>
              <a:off x="3102120" y="2470320"/>
              <a:ext cx="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8" name=""/>
            <p:cNvSpPr/>
            <p:nvPr/>
          </p:nvSpPr>
          <p:spPr>
            <a:xfrm>
              <a:off x="3102120" y="273528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9" name=""/>
            <p:cNvSpPr/>
            <p:nvPr/>
          </p:nvSpPr>
          <p:spPr>
            <a:xfrm>
              <a:off x="2664000" y="22874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0" name=""/>
            <p:cNvSpPr/>
            <p:nvPr/>
          </p:nvSpPr>
          <p:spPr>
            <a:xfrm>
              <a:off x="2664000" y="248112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1" name=""/>
            <p:cNvSpPr/>
            <p:nvPr/>
          </p:nvSpPr>
          <p:spPr>
            <a:xfrm>
              <a:off x="2664000" y="274968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2" name=""/>
            <p:cNvSpPr/>
            <p:nvPr/>
          </p:nvSpPr>
          <p:spPr>
            <a:xfrm>
              <a:off x="2301840" y="2297160"/>
              <a:ext cx="15840" cy="56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3" name=""/>
            <p:cNvSpPr/>
            <p:nvPr/>
          </p:nvSpPr>
          <p:spPr>
            <a:xfrm flipV="1">
              <a:off x="527832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4" name=""/>
            <p:cNvSpPr/>
            <p:nvPr/>
          </p:nvSpPr>
          <p:spPr>
            <a:xfrm flipV="1">
              <a:off x="527832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5" name=""/>
            <p:cNvSpPr/>
            <p:nvPr/>
          </p:nvSpPr>
          <p:spPr>
            <a:xfrm flipV="1">
              <a:off x="527832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6" name=""/>
            <p:cNvSpPr/>
            <p:nvPr/>
          </p:nvSpPr>
          <p:spPr>
            <a:xfrm>
              <a:off x="5497560" y="221292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7" name=""/>
            <p:cNvSpPr/>
            <p:nvPr/>
          </p:nvSpPr>
          <p:spPr>
            <a:xfrm>
              <a:off x="5497560" y="24066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8" name=""/>
            <p:cNvSpPr/>
            <p:nvPr/>
          </p:nvSpPr>
          <p:spPr>
            <a:xfrm>
              <a:off x="5497560" y="26748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9" name=""/>
            <p:cNvSpPr/>
            <p:nvPr/>
          </p:nvSpPr>
          <p:spPr>
            <a:xfrm>
              <a:off x="5059440" y="222264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0" name=""/>
            <p:cNvSpPr/>
            <p:nvPr/>
          </p:nvSpPr>
          <p:spPr>
            <a:xfrm>
              <a:off x="5059440" y="2416320"/>
              <a:ext cx="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1" name=""/>
            <p:cNvSpPr/>
            <p:nvPr/>
          </p:nvSpPr>
          <p:spPr>
            <a:xfrm>
              <a:off x="5059440" y="268452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2" name=""/>
            <p:cNvSpPr/>
            <p:nvPr/>
          </p:nvSpPr>
          <p:spPr>
            <a:xfrm>
              <a:off x="5830920" y="2203560"/>
              <a:ext cx="12600" cy="56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53" name=""/>
          <p:cNvSpPr txBox="1"/>
          <p:nvPr/>
        </p:nvSpPr>
        <p:spPr>
          <a:xfrm>
            <a:off x="1609560" y="3530520"/>
            <a:ext cx="1517760" cy="641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t>
            </a:r>
            <a:r>
              <a:rPr b="0" lang="en-US" sz="1800" spc="-1" strike="noStrike" u="sng">
                <a:solidFill>
                  <a:srgbClr val="ffff00"/>
                </a:solidFill>
                <a:uFillTx/>
                <a:latin typeface="Times New Roman"/>
                <a:ea typeface="Times New Roman"/>
              </a:rPr>
              <a:t>Gage </a:t>
            </a:r>
            <a:r>
              <a:rPr b="0" lang="en-US" sz="1800" spc="-1" strike="noStrike">
                <a:solidFill>
                  <a:srgbClr val="f2fefd"/>
                </a:solidFill>
                <a:latin typeface="Times New Roman"/>
                <a:ea typeface="Times New Roman"/>
              </a:rPr>
              <a:t>Axis)</a:t>
            </a:r>
            <a:endParaRPr b="0" lang="en-US" sz="1800" spc="-1" strike="noStrike">
              <a:solidFill>
                <a:srgbClr val="000000"/>
              </a:solidFill>
              <a:latin typeface="Arial"/>
            </a:endParaRPr>
          </a:p>
        </p:txBody>
      </p:sp>
      <p:sp>
        <p:nvSpPr>
          <p:cNvPr id="7054" name=""/>
          <p:cNvSpPr txBox="1"/>
          <p:nvPr/>
        </p:nvSpPr>
        <p:spPr>
          <a:xfrm>
            <a:off x="5010120" y="4848120"/>
            <a:ext cx="312912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mallest circumscribed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Variable gage in contact with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high points of datum feature A)</a:t>
            </a:r>
            <a:endParaRPr b="0" lang="en-US" sz="1800" spc="-1" strike="noStrike">
              <a:solidFill>
                <a:srgbClr val="000000"/>
              </a:solidFill>
              <a:latin typeface="Arial"/>
            </a:endParaRPr>
          </a:p>
        </p:txBody>
      </p:sp>
      <p:sp>
        <p:nvSpPr>
          <p:cNvPr id="7055"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056" name=""/>
          <p:cNvGrpSpPr/>
          <p:nvPr/>
        </p:nvGrpSpPr>
        <p:grpSpPr>
          <a:xfrm>
            <a:off x="4560840" y="2886120"/>
            <a:ext cx="2130480" cy="2311200"/>
            <a:chOff x="4560840" y="2886120"/>
            <a:chExt cx="2130480" cy="2311200"/>
          </a:xfrm>
        </p:grpSpPr>
        <p:sp>
          <p:nvSpPr>
            <p:cNvPr id="7057" name=""/>
            <p:cNvSpPr/>
            <p:nvPr/>
          </p:nvSpPr>
          <p:spPr>
            <a:xfrm flipH="1">
              <a:off x="6068880" y="288612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58" name=""/>
            <p:cNvSpPr/>
            <p:nvPr/>
          </p:nvSpPr>
          <p:spPr>
            <a:xfrm flipH="1">
              <a:off x="571644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59" name=""/>
            <p:cNvSpPr/>
            <p:nvPr/>
          </p:nvSpPr>
          <p:spPr>
            <a:xfrm flipH="1">
              <a:off x="5359320" y="2886120"/>
              <a:ext cx="176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60" name=""/>
            <p:cNvSpPr/>
            <p:nvPr/>
          </p:nvSpPr>
          <p:spPr>
            <a:xfrm>
              <a:off x="4560840" y="2887560"/>
              <a:ext cx="622800" cy="711720"/>
            </a:xfrm>
            <a:custGeom>
              <a:avLst/>
              <a:gdLst/>
              <a:ahLst/>
              <a:rect l="0" t="0" r="r" b="b"/>
              <a:pathLst>
                <a:path fill="none" w="1730" h="1977">
                  <a:moveTo>
                    <a:pt x="1730" y="0"/>
                  </a:moveTo>
                  <a:lnTo>
                    <a:pt x="0" y="0"/>
                  </a:lnTo>
                  <a:lnTo>
                    <a:pt x="0" y="197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61" name=""/>
            <p:cNvSpPr/>
            <p:nvPr/>
          </p:nvSpPr>
          <p:spPr>
            <a:xfrm>
              <a:off x="4560840" y="377496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62" name=""/>
            <p:cNvSpPr/>
            <p:nvPr/>
          </p:nvSpPr>
          <p:spPr>
            <a:xfrm>
              <a:off x="4560840" y="4132440"/>
              <a:ext cx="0" cy="177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63" name=""/>
            <p:cNvSpPr/>
            <p:nvPr/>
          </p:nvSpPr>
          <p:spPr>
            <a:xfrm>
              <a:off x="4560840" y="4486320"/>
              <a:ext cx="0" cy="711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7064" name=""/>
          <p:cNvGrpSpPr/>
          <p:nvPr/>
        </p:nvGrpSpPr>
        <p:grpSpPr>
          <a:xfrm>
            <a:off x="625320" y="1138320"/>
            <a:ext cx="2478240" cy="430200"/>
            <a:chOff x="625320" y="1138320"/>
            <a:chExt cx="2478240" cy="430200"/>
          </a:xfrm>
        </p:grpSpPr>
        <p:sp>
          <p:nvSpPr>
            <p:cNvPr id="7065"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066" name=""/>
            <p:cNvGrpSpPr/>
            <p:nvPr/>
          </p:nvGrpSpPr>
          <p:grpSpPr>
            <a:xfrm>
              <a:off x="714240" y="1192320"/>
              <a:ext cx="306360" cy="303120"/>
              <a:chOff x="714240" y="1192320"/>
              <a:chExt cx="306360" cy="303120"/>
            </a:xfrm>
          </p:grpSpPr>
          <p:sp>
            <p:nvSpPr>
              <p:cNvPr id="7067"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68"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9"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70"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071" name=""/>
            <p:cNvGrpSpPr/>
            <p:nvPr/>
          </p:nvGrpSpPr>
          <p:grpSpPr>
            <a:xfrm>
              <a:off x="1217520" y="1254240"/>
              <a:ext cx="177840" cy="177840"/>
              <a:chOff x="1217520" y="1254240"/>
              <a:chExt cx="177840" cy="177840"/>
            </a:xfrm>
          </p:grpSpPr>
          <p:sp>
            <p:nvSpPr>
              <p:cNvPr id="7072"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3"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74" name=""/>
            <p:cNvSpPr txBox="1"/>
            <p:nvPr/>
          </p:nvSpPr>
          <p:spPr>
            <a:xfrm>
              <a:off x="1403280" y="114948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7075"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76"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77"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07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079" name=""/>
          <p:cNvSpPr/>
          <p:nvPr/>
        </p:nvSpPr>
        <p:spPr>
          <a:xfrm>
            <a:off x="3830760" y="3956040"/>
            <a:ext cx="249480" cy="152640"/>
          </a:xfrm>
          <a:custGeom>
            <a:avLst/>
            <a:gdLst/>
            <a:ahLst/>
            <a:rect l="0" t="0" r="r" b="b"/>
            <a:pathLst>
              <a:path w="693" h="424">
                <a:moveTo>
                  <a:pt x="101" y="0"/>
                </a:moveTo>
                <a:lnTo>
                  <a:pt x="693" y="424"/>
                </a:lnTo>
                <a:lnTo>
                  <a:pt x="0" y="211"/>
                </a:lnTo>
                <a:lnTo>
                  <a:pt x="10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0" name=""/>
          <p:cNvSpPr/>
          <p:nvPr/>
        </p:nvSpPr>
        <p:spPr>
          <a:xfrm>
            <a:off x="1090440" y="2886120"/>
            <a:ext cx="804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81" name=""/>
          <p:cNvSpPr/>
          <p:nvPr/>
        </p:nvSpPr>
        <p:spPr>
          <a:xfrm>
            <a:off x="2071800" y="2886120"/>
            <a:ext cx="1792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82" name=""/>
          <p:cNvSpPr/>
          <p:nvPr/>
        </p:nvSpPr>
        <p:spPr>
          <a:xfrm>
            <a:off x="243036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83" name=""/>
          <p:cNvSpPr/>
          <p:nvPr/>
        </p:nvSpPr>
        <p:spPr>
          <a:xfrm>
            <a:off x="2786040" y="2886120"/>
            <a:ext cx="803520" cy="702000"/>
          </a:xfrm>
          <a:custGeom>
            <a:avLst/>
            <a:gdLst/>
            <a:ahLst/>
            <a:rect l="0" t="0" r="r" b="b"/>
            <a:pathLst>
              <a:path fill="none" w="2232" h="1950">
                <a:moveTo>
                  <a:pt x="0" y="0"/>
                </a:moveTo>
                <a:lnTo>
                  <a:pt x="2232" y="0"/>
                </a:lnTo>
                <a:lnTo>
                  <a:pt x="2232" y="1950"/>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084" name=""/>
          <p:cNvSpPr/>
          <p:nvPr/>
        </p:nvSpPr>
        <p:spPr>
          <a:xfrm>
            <a:off x="3589200" y="3767040"/>
            <a:ext cx="0" cy="1764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85" name=""/>
          <p:cNvSpPr/>
          <p:nvPr/>
        </p:nvSpPr>
        <p:spPr>
          <a:xfrm>
            <a:off x="3589200" y="412128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86" name=""/>
          <p:cNvSpPr/>
          <p:nvPr/>
        </p:nvSpPr>
        <p:spPr>
          <a:xfrm>
            <a:off x="3589200" y="4478400"/>
            <a:ext cx="0" cy="7016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087" name=""/>
          <p:cNvSpPr/>
          <p:nvPr/>
        </p:nvSpPr>
        <p:spPr>
          <a:xfrm>
            <a:off x="3073320" y="3708360"/>
            <a:ext cx="778320" cy="284400"/>
          </a:xfrm>
          <a:custGeom>
            <a:avLst/>
            <a:gdLst/>
            <a:ahLst/>
            <a:rect l="0" t="0" r="r" b="b"/>
            <a:pathLst>
              <a:path fill="none" w="2162" h="790">
                <a:moveTo>
                  <a:pt x="2162" y="790"/>
                </a:moveTo>
                <a:lnTo>
                  <a:pt x="565"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088" name=""/>
          <p:cNvSpPr/>
          <p:nvPr/>
        </p:nvSpPr>
        <p:spPr>
          <a:xfrm>
            <a:off x="3867120" y="50436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9" name=""/>
          <p:cNvSpPr/>
          <p:nvPr/>
        </p:nvSpPr>
        <p:spPr>
          <a:xfrm>
            <a:off x="3606840" y="5002200"/>
            <a:ext cx="259200" cy="84600"/>
          </a:xfrm>
          <a:custGeom>
            <a:avLst/>
            <a:gdLst/>
            <a:ahLst/>
            <a:rect l="0" t="0" r="r" b="b"/>
            <a:pathLst>
              <a:path w="720" h="235">
                <a:moveTo>
                  <a:pt x="720" y="0"/>
                </a:moveTo>
                <a:lnTo>
                  <a:pt x="720" y="235"/>
                </a:lnTo>
                <a:lnTo>
                  <a:pt x="0" y="111"/>
                </a:lnTo>
                <a:lnTo>
                  <a:pt x="72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7090" name=""/>
          <p:cNvSpPr/>
          <p:nvPr/>
        </p:nvSpPr>
        <p:spPr>
          <a:xfrm>
            <a:off x="4551480" y="50436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1" name=""/>
          <p:cNvSpPr/>
          <p:nvPr/>
        </p:nvSpPr>
        <p:spPr>
          <a:xfrm>
            <a:off x="4297320" y="5002200"/>
            <a:ext cx="254520" cy="84600"/>
          </a:xfrm>
          <a:custGeom>
            <a:avLst/>
            <a:gdLst/>
            <a:ahLst/>
            <a:rect l="0" t="0" r="r" b="b"/>
            <a:pathLst>
              <a:path w="707" h="235">
                <a:moveTo>
                  <a:pt x="0" y="0"/>
                </a:moveTo>
                <a:lnTo>
                  <a:pt x="0" y="235"/>
                </a:lnTo>
                <a:lnTo>
                  <a:pt x="707" y="111"/>
                </a:lnTo>
                <a:lnTo>
                  <a:pt x="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7092" name=""/>
          <p:cNvSpPr/>
          <p:nvPr/>
        </p:nvSpPr>
        <p:spPr>
          <a:xfrm>
            <a:off x="4861080" y="3038400"/>
            <a:ext cx="414720" cy="727560"/>
          </a:xfrm>
          <a:custGeom>
            <a:avLst/>
            <a:gdLst/>
            <a:ahLst/>
            <a:rect l="0" t="0" r="r" b="b"/>
            <a:pathLst>
              <a:path fill="none" w="1152" h="2021">
                <a:moveTo>
                  <a:pt x="0" y="0"/>
                </a:moveTo>
                <a:lnTo>
                  <a:pt x="710" y="2021"/>
                </a:lnTo>
                <a:lnTo>
                  <a:pt x="1152" y="20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93" name=""/>
          <p:cNvGrpSpPr/>
          <p:nvPr/>
        </p:nvGrpSpPr>
        <p:grpSpPr>
          <a:xfrm>
            <a:off x="2300400" y="1341360"/>
            <a:ext cx="3543120" cy="3467160"/>
            <a:chOff x="2300400" y="1341360"/>
            <a:chExt cx="3543120" cy="3467160"/>
          </a:xfrm>
        </p:grpSpPr>
        <p:sp>
          <p:nvSpPr>
            <p:cNvPr id="7094" name=""/>
            <p:cNvSpPr/>
            <p:nvPr/>
          </p:nvSpPr>
          <p:spPr>
            <a:xfrm flipV="1">
              <a:off x="4081320" y="405288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5" name=""/>
            <p:cNvSpPr/>
            <p:nvPr/>
          </p:nvSpPr>
          <p:spPr>
            <a:xfrm flipV="1">
              <a:off x="4081320" y="36972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6" name=""/>
            <p:cNvSpPr/>
            <p:nvPr/>
          </p:nvSpPr>
          <p:spPr>
            <a:xfrm flipV="1">
              <a:off x="4081320" y="2630520"/>
              <a:ext cx="0" cy="88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7" name=""/>
            <p:cNvSpPr/>
            <p:nvPr/>
          </p:nvSpPr>
          <p:spPr>
            <a:xfrm flipV="1">
              <a:off x="4081320" y="2271600"/>
              <a:ext cx="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8" name=""/>
            <p:cNvSpPr/>
            <p:nvPr/>
          </p:nvSpPr>
          <p:spPr>
            <a:xfrm flipV="1">
              <a:off x="4081320" y="134136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9" name=""/>
            <p:cNvSpPr/>
            <p:nvPr/>
          </p:nvSpPr>
          <p:spPr>
            <a:xfrm>
              <a:off x="3624120" y="2830680"/>
              <a:ext cx="0" cy="158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0" name=""/>
            <p:cNvSpPr/>
            <p:nvPr/>
          </p:nvSpPr>
          <p:spPr>
            <a:xfrm>
              <a:off x="4537080" y="2805120"/>
              <a:ext cx="0" cy="16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1" name=""/>
            <p:cNvSpPr/>
            <p:nvPr/>
          </p:nvSpPr>
          <p:spPr>
            <a:xfrm flipH="1">
              <a:off x="3622680" y="441000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2" name=""/>
            <p:cNvSpPr/>
            <p:nvPr/>
          </p:nvSpPr>
          <p:spPr>
            <a:xfrm flipH="1">
              <a:off x="3668760" y="445464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3" name=""/>
            <p:cNvSpPr/>
            <p:nvPr/>
          </p:nvSpPr>
          <p:spPr>
            <a:xfrm flipH="1" flipV="1">
              <a:off x="3624120" y="44100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7104" name=""/>
            <p:cNvSpPr/>
            <p:nvPr/>
          </p:nvSpPr>
          <p:spPr>
            <a:xfrm flipV="1">
              <a:off x="4494240" y="4410000"/>
              <a:ext cx="428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7105" name=""/>
            <p:cNvSpPr/>
            <p:nvPr/>
          </p:nvSpPr>
          <p:spPr>
            <a:xfrm flipH="1">
              <a:off x="2313000" y="2771640"/>
              <a:ext cx="353052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106" name=""/>
            <p:cNvSpPr/>
            <p:nvPr/>
          </p:nvSpPr>
          <p:spPr>
            <a:xfrm flipH="1">
              <a:off x="2300400" y="2201760"/>
              <a:ext cx="353052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7107" name=""/>
            <p:cNvSpPr/>
            <p:nvPr/>
          </p:nvSpPr>
          <p:spPr>
            <a:xfrm flipV="1">
              <a:off x="288288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8" name=""/>
            <p:cNvSpPr/>
            <p:nvPr/>
          </p:nvSpPr>
          <p:spPr>
            <a:xfrm flipV="1">
              <a:off x="288288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09" name=""/>
            <p:cNvSpPr/>
            <p:nvPr/>
          </p:nvSpPr>
          <p:spPr>
            <a:xfrm flipV="1">
              <a:off x="288288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0" name=""/>
            <p:cNvSpPr/>
            <p:nvPr/>
          </p:nvSpPr>
          <p:spPr>
            <a:xfrm>
              <a:off x="3102120" y="227340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1" name=""/>
            <p:cNvSpPr/>
            <p:nvPr/>
          </p:nvSpPr>
          <p:spPr>
            <a:xfrm>
              <a:off x="3102120" y="2470320"/>
              <a:ext cx="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2" name=""/>
            <p:cNvSpPr/>
            <p:nvPr/>
          </p:nvSpPr>
          <p:spPr>
            <a:xfrm>
              <a:off x="3102120" y="273528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3" name=""/>
            <p:cNvSpPr/>
            <p:nvPr/>
          </p:nvSpPr>
          <p:spPr>
            <a:xfrm>
              <a:off x="2664000" y="22874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4" name=""/>
            <p:cNvSpPr/>
            <p:nvPr/>
          </p:nvSpPr>
          <p:spPr>
            <a:xfrm>
              <a:off x="2664000" y="248112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5" name=""/>
            <p:cNvSpPr/>
            <p:nvPr/>
          </p:nvSpPr>
          <p:spPr>
            <a:xfrm>
              <a:off x="2664000" y="274968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6" name=""/>
            <p:cNvSpPr/>
            <p:nvPr/>
          </p:nvSpPr>
          <p:spPr>
            <a:xfrm>
              <a:off x="2301840" y="2297160"/>
              <a:ext cx="15840" cy="56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7" name=""/>
            <p:cNvSpPr/>
            <p:nvPr/>
          </p:nvSpPr>
          <p:spPr>
            <a:xfrm flipV="1">
              <a:off x="527832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8" name=""/>
            <p:cNvSpPr/>
            <p:nvPr/>
          </p:nvSpPr>
          <p:spPr>
            <a:xfrm flipV="1">
              <a:off x="527832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9" name=""/>
            <p:cNvSpPr/>
            <p:nvPr/>
          </p:nvSpPr>
          <p:spPr>
            <a:xfrm flipV="1">
              <a:off x="527832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0" name=""/>
            <p:cNvSpPr/>
            <p:nvPr/>
          </p:nvSpPr>
          <p:spPr>
            <a:xfrm>
              <a:off x="5497560" y="221292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1" name=""/>
            <p:cNvSpPr/>
            <p:nvPr/>
          </p:nvSpPr>
          <p:spPr>
            <a:xfrm>
              <a:off x="5497560" y="24066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2" name=""/>
            <p:cNvSpPr/>
            <p:nvPr/>
          </p:nvSpPr>
          <p:spPr>
            <a:xfrm>
              <a:off x="5497560" y="26748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3" name=""/>
            <p:cNvSpPr/>
            <p:nvPr/>
          </p:nvSpPr>
          <p:spPr>
            <a:xfrm>
              <a:off x="5059440" y="222264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4" name=""/>
            <p:cNvSpPr/>
            <p:nvPr/>
          </p:nvSpPr>
          <p:spPr>
            <a:xfrm>
              <a:off x="5059440" y="2416320"/>
              <a:ext cx="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5" name=""/>
            <p:cNvSpPr/>
            <p:nvPr/>
          </p:nvSpPr>
          <p:spPr>
            <a:xfrm>
              <a:off x="5059440" y="268452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6" name=""/>
            <p:cNvSpPr/>
            <p:nvPr/>
          </p:nvSpPr>
          <p:spPr>
            <a:xfrm>
              <a:off x="5830920" y="2203560"/>
              <a:ext cx="12600" cy="56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27" name=""/>
          <p:cNvSpPr txBox="1"/>
          <p:nvPr/>
        </p:nvSpPr>
        <p:spPr>
          <a:xfrm>
            <a:off x="5010120" y="4848120"/>
            <a:ext cx="312912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mallest circumscribed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Variable gage in contact with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high points of datum feature A)</a:t>
            </a:r>
            <a:endParaRPr b="0" lang="en-US" sz="1800" spc="-1" strike="noStrike">
              <a:solidFill>
                <a:srgbClr val="000000"/>
              </a:solidFill>
              <a:latin typeface="Arial"/>
            </a:endParaRPr>
          </a:p>
        </p:txBody>
      </p:sp>
      <p:sp>
        <p:nvSpPr>
          <p:cNvPr id="7128" name=""/>
          <p:cNvSpPr txBox="1"/>
          <p:nvPr/>
        </p:nvSpPr>
        <p:spPr>
          <a:xfrm>
            <a:off x="5330880" y="3586320"/>
            <a:ext cx="17082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a:t>
            </a:r>
            <a:endParaRPr b="0" lang="en-US" sz="1800" spc="-1" strike="noStrike">
              <a:solidFill>
                <a:srgbClr val="000000"/>
              </a:solidFill>
              <a:latin typeface="Arial"/>
            </a:endParaRPr>
          </a:p>
        </p:txBody>
      </p:sp>
      <p:sp>
        <p:nvSpPr>
          <p:cNvPr id="7129"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130" name=""/>
          <p:cNvGrpSpPr/>
          <p:nvPr/>
        </p:nvGrpSpPr>
        <p:grpSpPr>
          <a:xfrm>
            <a:off x="4560840" y="2886120"/>
            <a:ext cx="2130480" cy="2311200"/>
            <a:chOff x="4560840" y="2886120"/>
            <a:chExt cx="2130480" cy="2311200"/>
          </a:xfrm>
        </p:grpSpPr>
        <p:sp>
          <p:nvSpPr>
            <p:cNvPr id="7131" name=""/>
            <p:cNvSpPr/>
            <p:nvPr/>
          </p:nvSpPr>
          <p:spPr>
            <a:xfrm flipH="1">
              <a:off x="6068880" y="2886120"/>
              <a:ext cx="6224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32" name=""/>
            <p:cNvSpPr/>
            <p:nvPr/>
          </p:nvSpPr>
          <p:spPr>
            <a:xfrm flipH="1">
              <a:off x="5716440" y="2886120"/>
              <a:ext cx="1778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33" name=""/>
            <p:cNvSpPr/>
            <p:nvPr/>
          </p:nvSpPr>
          <p:spPr>
            <a:xfrm flipH="1">
              <a:off x="5359320" y="2886120"/>
              <a:ext cx="1764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34" name=""/>
            <p:cNvSpPr/>
            <p:nvPr/>
          </p:nvSpPr>
          <p:spPr>
            <a:xfrm>
              <a:off x="4560840" y="2887560"/>
              <a:ext cx="622800" cy="711720"/>
            </a:xfrm>
            <a:custGeom>
              <a:avLst/>
              <a:gdLst/>
              <a:ahLst/>
              <a:rect l="0" t="0" r="r" b="b"/>
              <a:pathLst>
                <a:path fill="none" w="1730" h="1977">
                  <a:moveTo>
                    <a:pt x="1730" y="0"/>
                  </a:moveTo>
                  <a:lnTo>
                    <a:pt x="0" y="0"/>
                  </a:lnTo>
                  <a:lnTo>
                    <a:pt x="0" y="1977"/>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135" name=""/>
            <p:cNvSpPr/>
            <p:nvPr/>
          </p:nvSpPr>
          <p:spPr>
            <a:xfrm>
              <a:off x="4560840" y="3774960"/>
              <a:ext cx="0" cy="1778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36" name=""/>
            <p:cNvSpPr/>
            <p:nvPr/>
          </p:nvSpPr>
          <p:spPr>
            <a:xfrm>
              <a:off x="4560840" y="4132440"/>
              <a:ext cx="0" cy="177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37" name=""/>
            <p:cNvSpPr/>
            <p:nvPr/>
          </p:nvSpPr>
          <p:spPr>
            <a:xfrm>
              <a:off x="4560840" y="4486320"/>
              <a:ext cx="0" cy="7110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138" name=""/>
          <p:cNvSpPr txBox="1"/>
          <p:nvPr/>
        </p:nvSpPr>
        <p:spPr>
          <a:xfrm>
            <a:off x="1609560" y="3530520"/>
            <a:ext cx="1517760" cy="641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t>
            </a:r>
            <a:r>
              <a:rPr b="0" lang="en-US" sz="1800" spc="-1" strike="noStrike" u="sng">
                <a:solidFill>
                  <a:srgbClr val="ffff00"/>
                </a:solidFill>
                <a:uFillTx/>
                <a:latin typeface="Times New Roman"/>
                <a:ea typeface="Times New Roman"/>
              </a:rPr>
              <a:t>Gage </a:t>
            </a:r>
            <a:r>
              <a:rPr b="0" lang="en-US" sz="1800" spc="-1" strike="noStrike">
                <a:solidFill>
                  <a:srgbClr val="f2fefd"/>
                </a:solidFill>
                <a:latin typeface="Times New Roman"/>
                <a:ea typeface="Times New Roman"/>
              </a:rPr>
              <a:t>Axis)</a:t>
            </a:r>
            <a:endParaRPr b="0" lang="en-US" sz="1800" spc="-1" strike="noStrike">
              <a:solidFill>
                <a:srgbClr val="000000"/>
              </a:solidFill>
              <a:latin typeface="Arial"/>
            </a:endParaRPr>
          </a:p>
        </p:txBody>
      </p:sp>
      <p:sp>
        <p:nvSpPr>
          <p:cNvPr id="7139" name=""/>
          <p:cNvSpPr/>
          <p:nvPr/>
        </p:nvSpPr>
        <p:spPr>
          <a:xfrm>
            <a:off x="4775040" y="2800440"/>
            <a:ext cx="125640" cy="254520"/>
          </a:xfrm>
          <a:custGeom>
            <a:avLst/>
            <a:gdLst/>
            <a:ahLst/>
            <a:rect l="0" t="0" r="r" b="b"/>
            <a:pathLst>
              <a:path w="349" h="707">
                <a:moveTo>
                  <a:pt x="123" y="707"/>
                </a:moveTo>
                <a:lnTo>
                  <a:pt x="0" y="0"/>
                </a:lnTo>
                <a:lnTo>
                  <a:pt x="349" y="628"/>
                </a:lnTo>
                <a:lnTo>
                  <a:pt x="123" y="70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40" name=""/>
          <p:cNvGrpSpPr/>
          <p:nvPr/>
        </p:nvGrpSpPr>
        <p:grpSpPr>
          <a:xfrm>
            <a:off x="625320" y="1138320"/>
            <a:ext cx="2478240" cy="430200"/>
            <a:chOff x="625320" y="1138320"/>
            <a:chExt cx="2478240" cy="430200"/>
          </a:xfrm>
        </p:grpSpPr>
        <p:sp>
          <p:nvSpPr>
            <p:cNvPr id="7141"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142" name=""/>
            <p:cNvGrpSpPr/>
            <p:nvPr/>
          </p:nvGrpSpPr>
          <p:grpSpPr>
            <a:xfrm>
              <a:off x="714240" y="1192320"/>
              <a:ext cx="306360" cy="303120"/>
              <a:chOff x="714240" y="1192320"/>
              <a:chExt cx="306360" cy="303120"/>
            </a:xfrm>
          </p:grpSpPr>
          <p:sp>
            <p:nvSpPr>
              <p:cNvPr id="7143"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44"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45"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46"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147" name=""/>
            <p:cNvGrpSpPr/>
            <p:nvPr/>
          </p:nvGrpSpPr>
          <p:grpSpPr>
            <a:xfrm>
              <a:off x="1217520" y="1254240"/>
              <a:ext cx="177840" cy="177840"/>
              <a:chOff x="1217520" y="1254240"/>
              <a:chExt cx="177840" cy="177840"/>
            </a:xfrm>
          </p:grpSpPr>
          <p:sp>
            <p:nvSpPr>
              <p:cNvPr id="7148"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49"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50" name=""/>
            <p:cNvSpPr txBox="1"/>
            <p:nvPr/>
          </p:nvSpPr>
          <p:spPr>
            <a:xfrm>
              <a:off x="1403280" y="114948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7151"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2"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153"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5"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27669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8" name=""/>
          <p:cNvSpPr/>
          <p:nvPr/>
        </p:nvSpPr>
        <p:spPr>
          <a:xfrm>
            <a:off x="5064120" y="3317760"/>
            <a:ext cx="0" cy="75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79" name=""/>
          <p:cNvGrpSpPr/>
          <p:nvPr/>
        </p:nvGrpSpPr>
        <p:grpSpPr>
          <a:xfrm>
            <a:off x="4413240" y="2560680"/>
            <a:ext cx="507960" cy="495360"/>
            <a:chOff x="4413240" y="2560680"/>
            <a:chExt cx="507960" cy="495360"/>
          </a:xfrm>
        </p:grpSpPr>
        <p:sp>
          <p:nvSpPr>
            <p:cNvPr id="780"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785"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6" name=""/>
          <p:cNvSpPr/>
          <p:nvPr/>
        </p:nvSpPr>
        <p:spPr>
          <a:xfrm>
            <a:off x="2676600" y="27957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2882880" y="27957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3009960" y="279576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791"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2" name=""/>
          <p:cNvGrpSpPr/>
          <p:nvPr/>
        </p:nvGrpSpPr>
        <p:grpSpPr>
          <a:xfrm>
            <a:off x="2523960" y="5121360"/>
            <a:ext cx="2523960" cy="1133280"/>
            <a:chOff x="2523960" y="5121360"/>
            <a:chExt cx="2523960" cy="1133280"/>
          </a:xfrm>
        </p:grpSpPr>
        <p:sp>
          <p:nvSpPr>
            <p:cNvPr id="793"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4651200" y="5127480"/>
              <a:ext cx="0" cy="1127160"/>
              <a:chOff x="4651200" y="5127480"/>
              <a:chExt cx="0" cy="1127160"/>
            </a:xfrm>
          </p:grpSpPr>
          <p:sp>
            <p:nvSpPr>
              <p:cNvPr id="799"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801"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02" name=""/>
            <p:cNvGrpSpPr/>
            <p:nvPr/>
          </p:nvGrpSpPr>
          <p:grpSpPr>
            <a:xfrm>
              <a:off x="2898720" y="5121360"/>
              <a:ext cx="0" cy="1127160"/>
              <a:chOff x="2898720" y="5121360"/>
              <a:chExt cx="0" cy="1127160"/>
            </a:xfrm>
          </p:grpSpPr>
          <p:sp>
            <p:nvSpPr>
              <p:cNvPr id="803"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805"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806"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sp>
        <p:nvSpPr>
          <p:cNvPr id="814"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txBox="1"/>
          <p:nvPr/>
        </p:nvSpPr>
        <p:spPr>
          <a:xfrm>
            <a:off x="5327640" y="97776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817" name=""/>
          <p:cNvSpPr txBox="1"/>
          <p:nvPr/>
        </p:nvSpPr>
        <p:spPr>
          <a:xfrm>
            <a:off x="5943600" y="83520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818" name=""/>
          <p:cNvGrpSpPr/>
          <p:nvPr/>
        </p:nvGrpSpPr>
        <p:grpSpPr>
          <a:xfrm>
            <a:off x="5797440" y="1015920"/>
            <a:ext cx="174600" cy="174600"/>
            <a:chOff x="5797440" y="1015920"/>
            <a:chExt cx="174600" cy="174600"/>
          </a:xfrm>
        </p:grpSpPr>
        <p:sp>
          <p:nvSpPr>
            <p:cNvPr id="819" name=""/>
            <p:cNvSpPr/>
            <p:nvPr/>
          </p:nvSpPr>
          <p:spPr>
            <a:xfrm>
              <a:off x="5813280" y="1031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flipH="1">
              <a:off x="5797440" y="1015920"/>
              <a:ext cx="17460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1"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822"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23" name=""/>
          <p:cNvSpPr/>
          <p:nvPr/>
        </p:nvSpPr>
        <p:spPr>
          <a:xfrm flipH="1">
            <a:off x="5175360" y="11160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H="1">
            <a:off x="4714920" y="1109520"/>
            <a:ext cx="466560" cy="1541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sp>
        <p:nvSpPr>
          <p:cNvPr id="826"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sp>
        <p:nvSpPr>
          <p:cNvPr id="827" name=""/>
          <p:cNvSpPr/>
          <p:nvPr/>
        </p:nvSpPr>
        <p:spPr>
          <a:xfrm flipH="1">
            <a:off x="2921040" y="36511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a:off x="2533680" y="3273480"/>
            <a:ext cx="0" cy="79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a:off x="2533680" y="3960720"/>
            <a:ext cx="1274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4438800" y="39607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txBox="1"/>
          <p:nvPr/>
        </p:nvSpPr>
        <p:spPr>
          <a:xfrm>
            <a:off x="3848040" y="3797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68.0</a:t>
            </a:r>
            <a:endParaRPr b="0" lang="en-US" sz="1600" spc="-1" strike="noStrike">
              <a:solidFill>
                <a:srgbClr val="000000"/>
              </a:solidFill>
              <a:latin typeface="Arial"/>
            </a:endParaRPr>
          </a:p>
        </p:txBody>
      </p:sp>
      <p:sp>
        <p:nvSpPr>
          <p:cNvPr id="832" name=""/>
          <p:cNvSpPr/>
          <p:nvPr/>
        </p:nvSpPr>
        <p:spPr>
          <a:xfrm>
            <a:off x="5159520" y="5345280"/>
            <a:ext cx="85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a:off x="5159520" y="5954760"/>
            <a:ext cx="84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5900760" y="53341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flipV="1">
            <a:off x="5900760" y="484668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p:nvPr/>
        </p:nvSpPr>
        <p:spPr>
          <a:xfrm>
            <a:off x="5900760" y="48466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txBox="1"/>
          <p:nvPr/>
        </p:nvSpPr>
        <p:spPr>
          <a:xfrm>
            <a:off x="6162840" y="468324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5.0</a:t>
            </a:r>
            <a:endParaRPr b="0" lang="en-US" sz="1600" spc="-1" strike="noStrike">
              <a:solidFill>
                <a:srgbClr val="000000"/>
              </a:solidFill>
              <a:latin typeface="Arial"/>
            </a:endParaRPr>
          </a:p>
        </p:txBody>
      </p:sp>
      <p:sp>
        <p:nvSpPr>
          <p:cNvPr id="838"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sp>
        <p:nvSpPr>
          <p:cNvPr id="841"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 name=""/>
          <p:cNvSpPr/>
          <p:nvPr/>
        </p:nvSpPr>
        <p:spPr>
          <a:xfrm>
            <a:off x="3730680" y="2797200"/>
            <a:ext cx="6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3895560" y="2797200"/>
            <a:ext cx="54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 name=""/>
          <p:cNvSpPr/>
          <p:nvPr/>
        </p:nvSpPr>
        <p:spPr>
          <a:xfrm>
            <a:off x="4948200" y="5965920"/>
            <a:ext cx="420840" cy="420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flipV="1">
            <a:off x="5369040" y="4314960"/>
            <a:ext cx="554040" cy="20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p:nvPr/>
        </p:nvSpPr>
        <p:spPr>
          <a:xfrm flipH="1">
            <a:off x="4881600" y="4314960"/>
            <a:ext cx="1041480" cy="104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 name=""/>
          <p:cNvSpPr/>
          <p:nvPr/>
        </p:nvSpPr>
        <p:spPr>
          <a:xfrm>
            <a:off x="5923080" y="43149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 name=""/>
          <p:cNvSpPr txBox="1"/>
          <p:nvPr/>
        </p:nvSpPr>
        <p:spPr>
          <a:xfrm>
            <a:off x="6084720" y="415116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A (?)</a:t>
            </a:r>
            <a:endParaRPr b="0" lang="en-US" sz="1600" spc="-1" strike="noStrike">
              <a:solidFill>
                <a:srgbClr val="000000"/>
              </a:solidFill>
              <a:latin typeface="Arial"/>
            </a:endParaRPr>
          </a:p>
        </p:txBody>
      </p:sp>
      <p:sp>
        <p:nvSpPr>
          <p:cNvPr id="849" name=""/>
          <p:cNvSpPr/>
          <p:nvPr/>
        </p:nvSpPr>
        <p:spPr>
          <a:xfrm>
            <a:off x="5059440" y="2908440"/>
            <a:ext cx="123984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p:nvPr/>
        </p:nvSpPr>
        <p:spPr>
          <a:xfrm>
            <a:off x="6305400" y="358128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 name=""/>
          <p:cNvSpPr txBox="1"/>
          <p:nvPr/>
        </p:nvSpPr>
        <p:spPr>
          <a:xfrm>
            <a:off x="6485040" y="341316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1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155" name=""/>
          <p:cNvSpPr/>
          <p:nvPr/>
        </p:nvSpPr>
        <p:spPr>
          <a:xfrm>
            <a:off x="3830760" y="3956040"/>
            <a:ext cx="249480" cy="152640"/>
          </a:xfrm>
          <a:custGeom>
            <a:avLst/>
            <a:gdLst/>
            <a:ahLst/>
            <a:rect l="0" t="0" r="r" b="b"/>
            <a:pathLst>
              <a:path w="693" h="424">
                <a:moveTo>
                  <a:pt x="101" y="0"/>
                </a:moveTo>
                <a:lnTo>
                  <a:pt x="693" y="424"/>
                </a:lnTo>
                <a:lnTo>
                  <a:pt x="0" y="211"/>
                </a:lnTo>
                <a:lnTo>
                  <a:pt x="10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6" name=""/>
          <p:cNvSpPr/>
          <p:nvPr/>
        </p:nvSpPr>
        <p:spPr>
          <a:xfrm>
            <a:off x="3073320" y="3708360"/>
            <a:ext cx="778320" cy="284400"/>
          </a:xfrm>
          <a:custGeom>
            <a:avLst/>
            <a:gdLst/>
            <a:ahLst/>
            <a:rect l="0" t="0" r="r" b="b"/>
            <a:pathLst>
              <a:path fill="none" w="2162" h="790">
                <a:moveTo>
                  <a:pt x="2162" y="790"/>
                </a:moveTo>
                <a:lnTo>
                  <a:pt x="565"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57" name=""/>
          <p:cNvSpPr/>
          <p:nvPr/>
        </p:nvSpPr>
        <p:spPr>
          <a:xfrm>
            <a:off x="3867120" y="5043600"/>
            <a:ext cx="43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8" name=""/>
          <p:cNvSpPr/>
          <p:nvPr/>
        </p:nvSpPr>
        <p:spPr>
          <a:xfrm>
            <a:off x="3606840" y="5002200"/>
            <a:ext cx="259200" cy="84600"/>
          </a:xfrm>
          <a:custGeom>
            <a:avLst/>
            <a:gdLst/>
            <a:ahLst/>
            <a:rect l="0" t="0" r="r" b="b"/>
            <a:pathLst>
              <a:path w="720" h="235">
                <a:moveTo>
                  <a:pt x="720" y="0"/>
                </a:moveTo>
                <a:lnTo>
                  <a:pt x="720" y="235"/>
                </a:lnTo>
                <a:lnTo>
                  <a:pt x="0" y="111"/>
                </a:lnTo>
                <a:lnTo>
                  <a:pt x="72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7159" name=""/>
          <p:cNvSpPr/>
          <p:nvPr/>
        </p:nvSpPr>
        <p:spPr>
          <a:xfrm>
            <a:off x="4551480" y="5043600"/>
            <a:ext cx="426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0" name=""/>
          <p:cNvSpPr/>
          <p:nvPr/>
        </p:nvSpPr>
        <p:spPr>
          <a:xfrm>
            <a:off x="4297320" y="5002200"/>
            <a:ext cx="254520" cy="84600"/>
          </a:xfrm>
          <a:custGeom>
            <a:avLst/>
            <a:gdLst/>
            <a:ahLst/>
            <a:rect l="0" t="0" r="r" b="b"/>
            <a:pathLst>
              <a:path w="707" h="235">
                <a:moveTo>
                  <a:pt x="0" y="0"/>
                </a:moveTo>
                <a:lnTo>
                  <a:pt x="0" y="235"/>
                </a:lnTo>
                <a:lnTo>
                  <a:pt x="707" y="111"/>
                </a:lnTo>
                <a:lnTo>
                  <a:pt x="0" y="0"/>
                </a:lnTo>
                <a:close/>
              </a:path>
            </a:pathLst>
          </a:custGeom>
          <a:solidFill>
            <a:srgbClr val="ffffff"/>
          </a:solidFill>
          <a:ln w="12600">
            <a:solidFill>
              <a:srgbClr val="ffffff"/>
            </a:solidFill>
            <a:round/>
          </a:ln>
        </p:spPr>
        <p:txBody>
          <a:bodyPr lIns="96120" rIns="96120" tIns="33480" bIns="33480" anchor="t">
            <a:noAutofit/>
          </a:bodyPr>
          <a:p>
            <a:endParaRPr b="0" lang="en-US" sz="1800" spc="-1" strike="noStrike">
              <a:solidFill>
                <a:srgbClr val="000000"/>
              </a:solidFill>
              <a:latin typeface="Arial"/>
            </a:endParaRPr>
          </a:p>
        </p:txBody>
      </p:sp>
      <p:sp>
        <p:nvSpPr>
          <p:cNvPr id="7161" name=""/>
          <p:cNvSpPr/>
          <p:nvPr/>
        </p:nvSpPr>
        <p:spPr>
          <a:xfrm>
            <a:off x="6103800" y="2602080"/>
            <a:ext cx="84600" cy="259200"/>
          </a:xfrm>
          <a:custGeom>
            <a:avLst/>
            <a:gdLst/>
            <a:ahLst/>
            <a:rect l="0" t="0" r="r" b="b"/>
            <a:pathLst>
              <a:path w="235" h="720">
                <a:moveTo>
                  <a:pt x="235" y="30"/>
                </a:moveTo>
                <a:lnTo>
                  <a:pt x="26" y="720"/>
                </a:lnTo>
                <a:lnTo>
                  <a:pt x="0" y="0"/>
                </a:lnTo>
                <a:lnTo>
                  <a:pt x="235" y="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2" name=""/>
          <p:cNvSpPr/>
          <p:nvPr/>
        </p:nvSpPr>
        <p:spPr>
          <a:xfrm>
            <a:off x="6148440" y="1644480"/>
            <a:ext cx="375120" cy="964080"/>
          </a:xfrm>
          <a:custGeom>
            <a:avLst/>
            <a:gdLst/>
            <a:ahLst/>
            <a:rect l="0" t="0" r="r" b="b"/>
            <a:pathLst>
              <a:path fill="none" w="1042" h="2678">
                <a:moveTo>
                  <a:pt x="0" y="2678"/>
                </a:moveTo>
                <a:lnTo>
                  <a:pt x="331" y="0"/>
                </a:lnTo>
                <a:lnTo>
                  <a:pt x="104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3" name=""/>
          <p:cNvSpPr/>
          <p:nvPr/>
        </p:nvSpPr>
        <p:spPr>
          <a:xfrm>
            <a:off x="4861080" y="3038400"/>
            <a:ext cx="414720" cy="727560"/>
          </a:xfrm>
          <a:custGeom>
            <a:avLst/>
            <a:gdLst/>
            <a:ahLst/>
            <a:rect l="0" t="0" r="r" b="b"/>
            <a:pathLst>
              <a:path fill="none" w="1152" h="2021">
                <a:moveTo>
                  <a:pt x="0" y="0"/>
                </a:moveTo>
                <a:lnTo>
                  <a:pt x="710" y="2021"/>
                </a:lnTo>
                <a:lnTo>
                  <a:pt x="1152" y="20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64" name=""/>
          <p:cNvSpPr/>
          <p:nvPr/>
        </p:nvSpPr>
        <p:spPr>
          <a:xfrm flipV="1">
            <a:off x="4081320" y="405288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5" name=""/>
          <p:cNvSpPr/>
          <p:nvPr/>
        </p:nvSpPr>
        <p:spPr>
          <a:xfrm flipV="1">
            <a:off x="4081320" y="36972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6" name=""/>
          <p:cNvSpPr/>
          <p:nvPr/>
        </p:nvSpPr>
        <p:spPr>
          <a:xfrm flipV="1">
            <a:off x="4081320" y="2630520"/>
            <a:ext cx="0" cy="88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7" name=""/>
          <p:cNvSpPr/>
          <p:nvPr/>
        </p:nvSpPr>
        <p:spPr>
          <a:xfrm flipV="1">
            <a:off x="4081320" y="2271600"/>
            <a:ext cx="0" cy="179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8" name=""/>
          <p:cNvSpPr/>
          <p:nvPr/>
        </p:nvSpPr>
        <p:spPr>
          <a:xfrm flipV="1">
            <a:off x="4081320" y="1341360"/>
            <a:ext cx="0" cy="755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9" name=""/>
          <p:cNvSpPr/>
          <p:nvPr/>
        </p:nvSpPr>
        <p:spPr>
          <a:xfrm>
            <a:off x="3624120" y="2830680"/>
            <a:ext cx="0" cy="158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0" name=""/>
          <p:cNvSpPr/>
          <p:nvPr/>
        </p:nvSpPr>
        <p:spPr>
          <a:xfrm>
            <a:off x="4537080" y="2805120"/>
            <a:ext cx="0" cy="1604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1" name=""/>
          <p:cNvSpPr/>
          <p:nvPr/>
        </p:nvSpPr>
        <p:spPr>
          <a:xfrm flipH="1">
            <a:off x="3622680" y="4410000"/>
            <a:ext cx="914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2" name=""/>
          <p:cNvSpPr/>
          <p:nvPr/>
        </p:nvSpPr>
        <p:spPr>
          <a:xfrm flipH="1">
            <a:off x="3668760" y="4454640"/>
            <a:ext cx="825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3" name=""/>
          <p:cNvSpPr/>
          <p:nvPr/>
        </p:nvSpPr>
        <p:spPr>
          <a:xfrm flipH="1" flipV="1">
            <a:off x="3624120" y="4410000"/>
            <a:ext cx="446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7174" name=""/>
          <p:cNvSpPr/>
          <p:nvPr/>
        </p:nvSpPr>
        <p:spPr>
          <a:xfrm flipV="1">
            <a:off x="4494240" y="4410000"/>
            <a:ext cx="4284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7175" name=""/>
          <p:cNvSpPr/>
          <p:nvPr/>
        </p:nvSpPr>
        <p:spPr>
          <a:xfrm flipH="1">
            <a:off x="2327400" y="2771640"/>
            <a:ext cx="353052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176" name=""/>
          <p:cNvSpPr/>
          <p:nvPr/>
        </p:nvSpPr>
        <p:spPr>
          <a:xfrm flipH="1">
            <a:off x="2300400" y="2201760"/>
            <a:ext cx="3530520" cy="93600"/>
          </a:xfrm>
          <a:prstGeom prst="line">
            <a:avLst/>
          </a:prstGeom>
          <a:ln w="12600">
            <a:solidFill>
              <a:srgbClr val="ffffff"/>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7177" name=""/>
          <p:cNvSpPr/>
          <p:nvPr/>
        </p:nvSpPr>
        <p:spPr>
          <a:xfrm flipV="1">
            <a:off x="288288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8" name=""/>
          <p:cNvSpPr/>
          <p:nvPr/>
        </p:nvSpPr>
        <p:spPr>
          <a:xfrm flipV="1">
            <a:off x="288288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79" name=""/>
          <p:cNvSpPr/>
          <p:nvPr/>
        </p:nvSpPr>
        <p:spPr>
          <a:xfrm flipV="1">
            <a:off x="288288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0" name=""/>
          <p:cNvSpPr/>
          <p:nvPr/>
        </p:nvSpPr>
        <p:spPr>
          <a:xfrm>
            <a:off x="3102120" y="227340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1" name=""/>
          <p:cNvSpPr/>
          <p:nvPr/>
        </p:nvSpPr>
        <p:spPr>
          <a:xfrm>
            <a:off x="3102120" y="2470320"/>
            <a:ext cx="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2" name=""/>
          <p:cNvSpPr/>
          <p:nvPr/>
        </p:nvSpPr>
        <p:spPr>
          <a:xfrm>
            <a:off x="3102120" y="273528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3" name=""/>
          <p:cNvSpPr/>
          <p:nvPr/>
        </p:nvSpPr>
        <p:spPr>
          <a:xfrm>
            <a:off x="2664000" y="228744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4" name=""/>
          <p:cNvSpPr/>
          <p:nvPr/>
        </p:nvSpPr>
        <p:spPr>
          <a:xfrm>
            <a:off x="2664000" y="248112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5" name=""/>
          <p:cNvSpPr/>
          <p:nvPr/>
        </p:nvSpPr>
        <p:spPr>
          <a:xfrm>
            <a:off x="2664000" y="274968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6" name=""/>
          <p:cNvSpPr/>
          <p:nvPr/>
        </p:nvSpPr>
        <p:spPr>
          <a:xfrm>
            <a:off x="2301840" y="2297160"/>
            <a:ext cx="15840" cy="56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7" name=""/>
          <p:cNvSpPr/>
          <p:nvPr/>
        </p:nvSpPr>
        <p:spPr>
          <a:xfrm flipV="1">
            <a:off x="5278320" y="2817720"/>
            <a:ext cx="0" cy="538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8" name=""/>
          <p:cNvSpPr/>
          <p:nvPr/>
        </p:nvSpPr>
        <p:spPr>
          <a:xfrm flipV="1">
            <a:off x="5278320" y="246204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9" name=""/>
          <p:cNvSpPr/>
          <p:nvPr/>
        </p:nvSpPr>
        <p:spPr>
          <a:xfrm flipV="1">
            <a:off x="5278320" y="174960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0" name=""/>
          <p:cNvSpPr/>
          <p:nvPr/>
        </p:nvSpPr>
        <p:spPr>
          <a:xfrm>
            <a:off x="5497560" y="221292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1" name=""/>
          <p:cNvSpPr/>
          <p:nvPr/>
        </p:nvSpPr>
        <p:spPr>
          <a:xfrm>
            <a:off x="5497560" y="2406600"/>
            <a:ext cx="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2" name=""/>
          <p:cNvSpPr/>
          <p:nvPr/>
        </p:nvSpPr>
        <p:spPr>
          <a:xfrm>
            <a:off x="5497560" y="2674800"/>
            <a:ext cx="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3" name=""/>
          <p:cNvSpPr/>
          <p:nvPr/>
        </p:nvSpPr>
        <p:spPr>
          <a:xfrm>
            <a:off x="5059440" y="222264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4" name=""/>
          <p:cNvSpPr/>
          <p:nvPr/>
        </p:nvSpPr>
        <p:spPr>
          <a:xfrm>
            <a:off x="5059440" y="2416320"/>
            <a:ext cx="0" cy="179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5" name=""/>
          <p:cNvSpPr/>
          <p:nvPr/>
        </p:nvSpPr>
        <p:spPr>
          <a:xfrm>
            <a:off x="5059440" y="2684520"/>
            <a:ext cx="0" cy="106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6" name=""/>
          <p:cNvSpPr/>
          <p:nvPr/>
        </p:nvSpPr>
        <p:spPr>
          <a:xfrm>
            <a:off x="5830920" y="2203560"/>
            <a:ext cx="12600" cy="56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7" name=""/>
          <p:cNvSpPr txBox="1"/>
          <p:nvPr/>
        </p:nvSpPr>
        <p:spPr>
          <a:xfrm>
            <a:off x="1609560" y="3530520"/>
            <a:ext cx="15177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p:txBody>
      </p:sp>
      <p:sp>
        <p:nvSpPr>
          <p:cNvPr id="7198" name=""/>
          <p:cNvSpPr txBox="1"/>
          <p:nvPr/>
        </p:nvSpPr>
        <p:spPr>
          <a:xfrm>
            <a:off x="5010120" y="4848120"/>
            <a:ext cx="312912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mallest circumscribed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Variable gage in contact with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high points of datum feature A)</a:t>
            </a:r>
            <a:endParaRPr b="0" lang="en-US" sz="1800" spc="-1" strike="noStrike">
              <a:solidFill>
                <a:srgbClr val="000000"/>
              </a:solidFill>
              <a:latin typeface="Arial"/>
            </a:endParaRPr>
          </a:p>
        </p:txBody>
      </p:sp>
      <p:sp>
        <p:nvSpPr>
          <p:cNvPr id="7199" name=""/>
          <p:cNvSpPr txBox="1"/>
          <p:nvPr/>
        </p:nvSpPr>
        <p:spPr>
          <a:xfrm>
            <a:off x="5330880" y="3586320"/>
            <a:ext cx="17082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a:t>
            </a:r>
            <a:endParaRPr b="0" lang="en-US" sz="1800" spc="-1" strike="noStrike">
              <a:solidFill>
                <a:srgbClr val="000000"/>
              </a:solidFill>
              <a:latin typeface="Arial"/>
            </a:endParaRPr>
          </a:p>
        </p:txBody>
      </p:sp>
      <p:sp>
        <p:nvSpPr>
          <p:cNvPr id="7200" name=""/>
          <p:cNvSpPr txBox="1"/>
          <p:nvPr/>
        </p:nvSpPr>
        <p:spPr>
          <a:xfrm>
            <a:off x="6551640" y="1449360"/>
            <a:ext cx="182088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held</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perpendicular to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p:txBody>
      </p:sp>
      <p:sp>
        <p:nvSpPr>
          <p:cNvPr id="7201"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202" name=""/>
          <p:cNvGrpSpPr/>
          <p:nvPr/>
        </p:nvGrpSpPr>
        <p:grpSpPr>
          <a:xfrm>
            <a:off x="1104840" y="2886120"/>
            <a:ext cx="5586480" cy="2311200"/>
            <a:chOff x="1104840" y="2886120"/>
            <a:chExt cx="5586480" cy="2311200"/>
          </a:xfrm>
        </p:grpSpPr>
        <p:sp>
          <p:nvSpPr>
            <p:cNvPr id="7203" name=""/>
            <p:cNvSpPr/>
            <p:nvPr/>
          </p:nvSpPr>
          <p:spPr>
            <a:xfrm>
              <a:off x="1104840" y="2886120"/>
              <a:ext cx="8049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4" name=""/>
            <p:cNvSpPr/>
            <p:nvPr/>
          </p:nvSpPr>
          <p:spPr>
            <a:xfrm>
              <a:off x="2085840" y="2886120"/>
              <a:ext cx="1796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5" name=""/>
            <p:cNvSpPr/>
            <p:nvPr/>
          </p:nvSpPr>
          <p:spPr>
            <a:xfrm>
              <a:off x="2430360" y="2886120"/>
              <a:ext cx="1778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6" name=""/>
            <p:cNvSpPr/>
            <p:nvPr/>
          </p:nvSpPr>
          <p:spPr>
            <a:xfrm>
              <a:off x="2786040" y="2886120"/>
              <a:ext cx="803520" cy="702000"/>
            </a:xfrm>
            <a:custGeom>
              <a:avLst/>
              <a:gdLst/>
              <a:ahLst/>
              <a:rect l="0" t="0" r="r" b="b"/>
              <a:pathLst>
                <a:path fill="none" w="2232" h="1950">
                  <a:moveTo>
                    <a:pt x="0" y="0"/>
                  </a:moveTo>
                  <a:lnTo>
                    <a:pt x="2232" y="0"/>
                  </a:lnTo>
                  <a:lnTo>
                    <a:pt x="2232" y="195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07" name=""/>
            <p:cNvSpPr/>
            <p:nvPr/>
          </p:nvSpPr>
          <p:spPr>
            <a:xfrm>
              <a:off x="3589200" y="3767040"/>
              <a:ext cx="0" cy="1764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8" name=""/>
            <p:cNvSpPr/>
            <p:nvPr/>
          </p:nvSpPr>
          <p:spPr>
            <a:xfrm>
              <a:off x="3589200" y="4121280"/>
              <a:ext cx="0" cy="1778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09" name=""/>
            <p:cNvSpPr/>
            <p:nvPr/>
          </p:nvSpPr>
          <p:spPr>
            <a:xfrm>
              <a:off x="3589200" y="4478400"/>
              <a:ext cx="0" cy="7016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210" name=""/>
            <p:cNvGrpSpPr/>
            <p:nvPr/>
          </p:nvGrpSpPr>
          <p:grpSpPr>
            <a:xfrm>
              <a:off x="4560840" y="2886120"/>
              <a:ext cx="2130480" cy="2311200"/>
              <a:chOff x="4560840" y="2886120"/>
              <a:chExt cx="2130480" cy="2311200"/>
            </a:xfrm>
          </p:grpSpPr>
          <p:sp>
            <p:nvSpPr>
              <p:cNvPr id="7211" name=""/>
              <p:cNvSpPr/>
              <p:nvPr/>
            </p:nvSpPr>
            <p:spPr>
              <a:xfrm flipH="1">
                <a:off x="6068880" y="2886120"/>
                <a:ext cx="6224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12" name=""/>
              <p:cNvSpPr/>
              <p:nvPr/>
            </p:nvSpPr>
            <p:spPr>
              <a:xfrm flipH="1">
                <a:off x="5716440" y="2886120"/>
                <a:ext cx="1778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13" name=""/>
              <p:cNvSpPr/>
              <p:nvPr/>
            </p:nvSpPr>
            <p:spPr>
              <a:xfrm flipH="1">
                <a:off x="5359320" y="2886120"/>
                <a:ext cx="1764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14" name=""/>
              <p:cNvSpPr/>
              <p:nvPr/>
            </p:nvSpPr>
            <p:spPr>
              <a:xfrm>
                <a:off x="4560840" y="2887560"/>
                <a:ext cx="622800" cy="711720"/>
              </a:xfrm>
              <a:custGeom>
                <a:avLst/>
                <a:gdLst/>
                <a:ahLst/>
                <a:rect l="0" t="0" r="r" b="b"/>
                <a:pathLst>
                  <a:path fill="none" w="1730" h="1977">
                    <a:moveTo>
                      <a:pt x="1730" y="0"/>
                    </a:moveTo>
                    <a:lnTo>
                      <a:pt x="0" y="0"/>
                    </a:lnTo>
                    <a:lnTo>
                      <a:pt x="0" y="1977"/>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15" name=""/>
              <p:cNvSpPr/>
              <p:nvPr/>
            </p:nvSpPr>
            <p:spPr>
              <a:xfrm>
                <a:off x="4560840" y="3774960"/>
                <a:ext cx="0" cy="1778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16" name=""/>
              <p:cNvSpPr/>
              <p:nvPr/>
            </p:nvSpPr>
            <p:spPr>
              <a:xfrm>
                <a:off x="4560840" y="4132440"/>
                <a:ext cx="0" cy="1774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17" name=""/>
              <p:cNvSpPr/>
              <p:nvPr/>
            </p:nvSpPr>
            <p:spPr>
              <a:xfrm>
                <a:off x="4560840" y="4486320"/>
                <a:ext cx="0" cy="7110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sp>
        <p:nvSpPr>
          <p:cNvPr id="7218" name=""/>
          <p:cNvSpPr/>
          <p:nvPr/>
        </p:nvSpPr>
        <p:spPr>
          <a:xfrm>
            <a:off x="4775040" y="2800440"/>
            <a:ext cx="125640" cy="254520"/>
          </a:xfrm>
          <a:custGeom>
            <a:avLst/>
            <a:gdLst/>
            <a:ahLst/>
            <a:rect l="0" t="0" r="r" b="b"/>
            <a:pathLst>
              <a:path w="349" h="707">
                <a:moveTo>
                  <a:pt x="123" y="707"/>
                </a:moveTo>
                <a:lnTo>
                  <a:pt x="0" y="0"/>
                </a:lnTo>
                <a:lnTo>
                  <a:pt x="349" y="628"/>
                </a:lnTo>
                <a:lnTo>
                  <a:pt x="123" y="707"/>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19" name=""/>
          <p:cNvSpPr txBox="1"/>
          <p:nvPr/>
        </p:nvSpPr>
        <p:spPr>
          <a:xfrm>
            <a:off x="1609560" y="3530520"/>
            <a:ext cx="1517760" cy="641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t>
            </a:r>
            <a:r>
              <a:rPr b="0" lang="en-US" sz="1800" spc="-1" strike="noStrike" u="sng">
                <a:solidFill>
                  <a:srgbClr val="ffff00"/>
                </a:solidFill>
                <a:uFillTx/>
                <a:latin typeface="Times New Roman"/>
                <a:ea typeface="Times New Roman"/>
              </a:rPr>
              <a:t>Gage </a:t>
            </a:r>
            <a:r>
              <a:rPr b="0" lang="en-US" sz="1800" spc="-1" strike="noStrike">
                <a:solidFill>
                  <a:srgbClr val="f2fefd"/>
                </a:solidFill>
                <a:latin typeface="Times New Roman"/>
                <a:ea typeface="Times New Roman"/>
              </a:rPr>
              <a:t>Axis)</a:t>
            </a:r>
            <a:endParaRPr b="0" lang="en-US" sz="1800" spc="-1" strike="noStrike">
              <a:solidFill>
                <a:srgbClr val="000000"/>
              </a:solidFill>
              <a:latin typeface="Arial"/>
            </a:endParaRPr>
          </a:p>
        </p:txBody>
      </p:sp>
      <p:grpSp>
        <p:nvGrpSpPr>
          <p:cNvPr id="7220" name=""/>
          <p:cNvGrpSpPr/>
          <p:nvPr/>
        </p:nvGrpSpPr>
        <p:grpSpPr>
          <a:xfrm>
            <a:off x="625320" y="1138320"/>
            <a:ext cx="2478240" cy="430200"/>
            <a:chOff x="625320" y="1138320"/>
            <a:chExt cx="2478240" cy="430200"/>
          </a:xfrm>
        </p:grpSpPr>
        <p:sp>
          <p:nvSpPr>
            <p:cNvPr id="7221"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22" name=""/>
            <p:cNvGrpSpPr/>
            <p:nvPr/>
          </p:nvGrpSpPr>
          <p:grpSpPr>
            <a:xfrm>
              <a:off x="714240" y="1192320"/>
              <a:ext cx="306360" cy="303120"/>
              <a:chOff x="714240" y="1192320"/>
              <a:chExt cx="306360" cy="303120"/>
            </a:xfrm>
          </p:grpSpPr>
          <p:sp>
            <p:nvSpPr>
              <p:cNvPr id="7223"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24"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5"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26"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227" name=""/>
            <p:cNvGrpSpPr/>
            <p:nvPr/>
          </p:nvGrpSpPr>
          <p:grpSpPr>
            <a:xfrm>
              <a:off x="1217520" y="1254240"/>
              <a:ext cx="177840" cy="177840"/>
              <a:chOff x="1217520" y="1254240"/>
              <a:chExt cx="177840" cy="177840"/>
            </a:xfrm>
          </p:grpSpPr>
          <p:sp>
            <p:nvSpPr>
              <p:cNvPr id="7228"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29"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30" name=""/>
            <p:cNvSpPr txBox="1"/>
            <p:nvPr/>
          </p:nvSpPr>
          <p:spPr>
            <a:xfrm>
              <a:off x="1403280" y="114948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7231"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32"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33"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35"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236" name=""/>
          <p:cNvGrpSpPr/>
          <p:nvPr/>
        </p:nvGrpSpPr>
        <p:grpSpPr>
          <a:xfrm>
            <a:off x="625320" y="1138320"/>
            <a:ext cx="2414520" cy="430200"/>
            <a:chOff x="625320" y="1138320"/>
            <a:chExt cx="2414520" cy="430200"/>
          </a:xfrm>
        </p:grpSpPr>
        <p:sp>
          <p:nvSpPr>
            <p:cNvPr id="7237"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38" name=""/>
            <p:cNvGrpSpPr/>
            <p:nvPr/>
          </p:nvGrpSpPr>
          <p:grpSpPr>
            <a:xfrm>
              <a:off x="714240" y="1192320"/>
              <a:ext cx="306360" cy="303120"/>
              <a:chOff x="714240" y="1192320"/>
              <a:chExt cx="306360" cy="303120"/>
            </a:xfrm>
          </p:grpSpPr>
          <p:sp>
            <p:nvSpPr>
              <p:cNvPr id="7239"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0"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1"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42"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243" name=""/>
            <p:cNvGrpSpPr/>
            <p:nvPr/>
          </p:nvGrpSpPr>
          <p:grpSpPr>
            <a:xfrm>
              <a:off x="1217520" y="1254240"/>
              <a:ext cx="177840" cy="177840"/>
              <a:chOff x="1217520" y="1254240"/>
              <a:chExt cx="177840" cy="177840"/>
            </a:xfrm>
          </p:grpSpPr>
          <p:sp>
            <p:nvSpPr>
              <p:cNvPr id="7244"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5"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46" name=""/>
            <p:cNvSpPr txBox="1"/>
            <p:nvPr/>
          </p:nvSpPr>
          <p:spPr>
            <a:xfrm>
              <a:off x="1403280" y="1149480"/>
              <a:ext cx="163656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7247"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48"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49"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1" name=""/>
          <p:cNvSpPr/>
          <p:nvPr/>
        </p:nvSpPr>
        <p:spPr>
          <a:xfrm flipH="1">
            <a:off x="2397240" y="288432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2" name=""/>
          <p:cNvSpPr/>
          <p:nvPr/>
        </p:nvSpPr>
        <p:spPr>
          <a:xfrm flipH="1">
            <a:off x="2397240" y="234648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3" name=""/>
          <p:cNvSpPr/>
          <p:nvPr/>
        </p:nvSpPr>
        <p:spPr>
          <a:xfrm flipH="1">
            <a:off x="3755880" y="4227480"/>
            <a:ext cx="793800" cy="52560"/>
          </a:xfrm>
          <a:prstGeom prst="line">
            <a:avLst/>
          </a:prstGeom>
          <a:ln w="12600">
            <a:solidFill>
              <a:srgbClr val="ffffff"/>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7254" name=""/>
          <p:cNvSpPr/>
          <p:nvPr/>
        </p:nvSpPr>
        <p:spPr>
          <a:xfrm flipH="1">
            <a:off x="3716280" y="4183200"/>
            <a:ext cx="87480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7255" name=""/>
          <p:cNvSpPr/>
          <p:nvPr/>
        </p:nvSpPr>
        <p:spPr>
          <a:xfrm flipH="1" flipV="1">
            <a:off x="3714840" y="4243320"/>
            <a:ext cx="410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7256" name=""/>
          <p:cNvSpPr/>
          <p:nvPr/>
        </p:nvSpPr>
        <p:spPr>
          <a:xfrm>
            <a:off x="3618000" y="2884320"/>
            <a:ext cx="88920" cy="135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7" name=""/>
          <p:cNvSpPr/>
          <p:nvPr/>
        </p:nvSpPr>
        <p:spPr>
          <a:xfrm flipV="1">
            <a:off x="4545000" y="4187880"/>
            <a:ext cx="4464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258" name=""/>
          <p:cNvSpPr/>
          <p:nvPr/>
        </p:nvSpPr>
        <p:spPr>
          <a:xfrm>
            <a:off x="4500720" y="2884320"/>
            <a:ext cx="85680" cy="13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9" name=""/>
          <p:cNvSpPr/>
          <p:nvPr/>
        </p:nvSpPr>
        <p:spPr>
          <a:xfrm flipV="1">
            <a:off x="4071960" y="4010040"/>
            <a:ext cx="0" cy="71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0" name=""/>
          <p:cNvSpPr/>
          <p:nvPr/>
        </p:nvSpPr>
        <p:spPr>
          <a:xfrm flipV="1">
            <a:off x="4071960" y="367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1" name=""/>
          <p:cNvSpPr/>
          <p:nvPr/>
        </p:nvSpPr>
        <p:spPr>
          <a:xfrm flipV="1">
            <a:off x="4071960" y="2658960"/>
            <a:ext cx="0" cy="84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2" name=""/>
          <p:cNvSpPr/>
          <p:nvPr/>
        </p:nvSpPr>
        <p:spPr>
          <a:xfrm flipV="1">
            <a:off x="4071960" y="232236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3" name=""/>
          <p:cNvSpPr/>
          <p:nvPr/>
        </p:nvSpPr>
        <p:spPr>
          <a:xfrm flipV="1">
            <a:off x="4071960" y="14367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4" name=""/>
          <p:cNvSpPr/>
          <p:nvPr/>
        </p:nvSpPr>
        <p:spPr>
          <a:xfrm>
            <a:off x="50007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265" name=""/>
          <p:cNvSpPr/>
          <p:nvPr/>
        </p:nvSpPr>
        <p:spPr>
          <a:xfrm>
            <a:off x="50007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6" name=""/>
          <p:cNvSpPr/>
          <p:nvPr/>
        </p:nvSpPr>
        <p:spPr>
          <a:xfrm>
            <a:off x="50007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7" name=""/>
          <p:cNvSpPr/>
          <p:nvPr/>
        </p:nvSpPr>
        <p:spPr>
          <a:xfrm>
            <a:off x="272880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268" name=""/>
          <p:cNvSpPr/>
          <p:nvPr/>
        </p:nvSpPr>
        <p:spPr>
          <a:xfrm>
            <a:off x="272880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69" name=""/>
          <p:cNvSpPr/>
          <p:nvPr/>
        </p:nvSpPr>
        <p:spPr>
          <a:xfrm>
            <a:off x="272880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0" name=""/>
          <p:cNvSpPr/>
          <p:nvPr/>
        </p:nvSpPr>
        <p:spPr>
          <a:xfrm>
            <a:off x="2398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1" name=""/>
          <p:cNvSpPr/>
          <p:nvPr/>
        </p:nvSpPr>
        <p:spPr>
          <a:xfrm>
            <a:off x="31449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272" name=""/>
          <p:cNvSpPr/>
          <p:nvPr/>
        </p:nvSpPr>
        <p:spPr>
          <a:xfrm>
            <a:off x="31449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3" name=""/>
          <p:cNvSpPr/>
          <p:nvPr/>
        </p:nvSpPr>
        <p:spPr>
          <a:xfrm>
            <a:off x="31449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4" name=""/>
          <p:cNvSpPr/>
          <p:nvPr/>
        </p:nvSpPr>
        <p:spPr>
          <a:xfrm flipV="1">
            <a:off x="293544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5" name=""/>
          <p:cNvSpPr/>
          <p:nvPr/>
        </p:nvSpPr>
        <p:spPr>
          <a:xfrm flipV="1">
            <a:off x="293544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6" name=""/>
          <p:cNvSpPr/>
          <p:nvPr/>
        </p:nvSpPr>
        <p:spPr>
          <a:xfrm flipV="1">
            <a:off x="293544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7" name=""/>
          <p:cNvSpPr/>
          <p:nvPr/>
        </p:nvSpPr>
        <p:spPr>
          <a:xfrm>
            <a:off x="54165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278" name=""/>
          <p:cNvSpPr/>
          <p:nvPr/>
        </p:nvSpPr>
        <p:spPr>
          <a:xfrm>
            <a:off x="54165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9" name=""/>
          <p:cNvSpPr/>
          <p:nvPr/>
        </p:nvSpPr>
        <p:spPr>
          <a:xfrm>
            <a:off x="54165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0" name=""/>
          <p:cNvSpPr/>
          <p:nvPr/>
        </p:nvSpPr>
        <p:spPr>
          <a:xfrm flipV="1">
            <a:off x="520848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1" name=""/>
          <p:cNvSpPr/>
          <p:nvPr/>
        </p:nvSpPr>
        <p:spPr>
          <a:xfrm flipV="1">
            <a:off x="520848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2" name=""/>
          <p:cNvSpPr/>
          <p:nvPr/>
        </p:nvSpPr>
        <p:spPr>
          <a:xfrm flipV="1">
            <a:off x="520848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3" name=""/>
          <p:cNvSpPr/>
          <p:nvPr/>
        </p:nvSpPr>
        <p:spPr>
          <a:xfrm>
            <a:off x="5746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84"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285" name=""/>
          <p:cNvGrpSpPr/>
          <p:nvPr/>
        </p:nvGrpSpPr>
        <p:grpSpPr>
          <a:xfrm>
            <a:off x="625320" y="1138320"/>
            <a:ext cx="2414520" cy="430200"/>
            <a:chOff x="625320" y="1138320"/>
            <a:chExt cx="2414520" cy="430200"/>
          </a:xfrm>
        </p:grpSpPr>
        <p:sp>
          <p:nvSpPr>
            <p:cNvPr id="7286"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287" name=""/>
            <p:cNvGrpSpPr/>
            <p:nvPr/>
          </p:nvGrpSpPr>
          <p:grpSpPr>
            <a:xfrm>
              <a:off x="714240" y="1192320"/>
              <a:ext cx="306360" cy="303120"/>
              <a:chOff x="714240" y="1192320"/>
              <a:chExt cx="306360" cy="303120"/>
            </a:xfrm>
          </p:grpSpPr>
          <p:sp>
            <p:nvSpPr>
              <p:cNvPr id="7288"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89"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0"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91"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292" name=""/>
            <p:cNvGrpSpPr/>
            <p:nvPr/>
          </p:nvGrpSpPr>
          <p:grpSpPr>
            <a:xfrm>
              <a:off x="1217520" y="1254240"/>
              <a:ext cx="177840" cy="177840"/>
              <a:chOff x="1217520" y="1254240"/>
              <a:chExt cx="177840" cy="177840"/>
            </a:xfrm>
          </p:grpSpPr>
          <p:sp>
            <p:nvSpPr>
              <p:cNvPr id="7293"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94"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295" name=""/>
            <p:cNvSpPr txBox="1"/>
            <p:nvPr/>
          </p:nvSpPr>
          <p:spPr>
            <a:xfrm>
              <a:off x="1403280" y="1149480"/>
              <a:ext cx="163656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7296"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97"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298"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9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00" name=""/>
          <p:cNvSpPr/>
          <p:nvPr/>
        </p:nvSpPr>
        <p:spPr>
          <a:xfrm>
            <a:off x="4389480" y="2884320"/>
            <a:ext cx="143280" cy="235440"/>
          </a:xfrm>
          <a:custGeom>
            <a:avLst/>
            <a:gdLst/>
            <a:ahLst/>
            <a:rect l="0" t="0" r="r" b="b"/>
            <a:pathLst>
              <a:path w="398" h="654">
                <a:moveTo>
                  <a:pt x="190" y="654"/>
                </a:moveTo>
                <a:lnTo>
                  <a:pt x="0" y="0"/>
                </a:lnTo>
                <a:lnTo>
                  <a:pt x="398" y="557"/>
                </a:lnTo>
                <a:lnTo>
                  <a:pt x="190" y="6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1" name=""/>
          <p:cNvSpPr/>
          <p:nvPr/>
        </p:nvSpPr>
        <p:spPr>
          <a:xfrm>
            <a:off x="4498920" y="3100320"/>
            <a:ext cx="457560" cy="565560"/>
          </a:xfrm>
          <a:custGeom>
            <a:avLst/>
            <a:gdLst/>
            <a:ahLst/>
            <a:rect l="0" t="0" r="r" b="b"/>
            <a:pathLst>
              <a:path fill="none" w="1271" h="1571">
                <a:moveTo>
                  <a:pt x="0" y="0"/>
                </a:moveTo>
                <a:lnTo>
                  <a:pt x="746" y="1571"/>
                </a:lnTo>
                <a:lnTo>
                  <a:pt x="1271" y="15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2" name=""/>
          <p:cNvSpPr/>
          <p:nvPr/>
        </p:nvSpPr>
        <p:spPr>
          <a:xfrm flipH="1">
            <a:off x="2397240" y="288432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3" name=""/>
          <p:cNvSpPr/>
          <p:nvPr/>
        </p:nvSpPr>
        <p:spPr>
          <a:xfrm flipH="1">
            <a:off x="2397240" y="234648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4" name=""/>
          <p:cNvSpPr/>
          <p:nvPr/>
        </p:nvSpPr>
        <p:spPr>
          <a:xfrm flipH="1">
            <a:off x="3755880" y="4227480"/>
            <a:ext cx="793800" cy="52560"/>
          </a:xfrm>
          <a:prstGeom prst="line">
            <a:avLst/>
          </a:prstGeom>
          <a:ln w="12600">
            <a:solidFill>
              <a:srgbClr val="ffffff"/>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7305" name=""/>
          <p:cNvSpPr/>
          <p:nvPr/>
        </p:nvSpPr>
        <p:spPr>
          <a:xfrm flipH="1">
            <a:off x="3716280" y="4183200"/>
            <a:ext cx="87480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7306" name=""/>
          <p:cNvSpPr/>
          <p:nvPr/>
        </p:nvSpPr>
        <p:spPr>
          <a:xfrm flipH="1" flipV="1">
            <a:off x="3714840" y="4243320"/>
            <a:ext cx="410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7307" name=""/>
          <p:cNvSpPr/>
          <p:nvPr/>
        </p:nvSpPr>
        <p:spPr>
          <a:xfrm>
            <a:off x="3618000" y="2884320"/>
            <a:ext cx="88920" cy="135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08" name=""/>
          <p:cNvSpPr/>
          <p:nvPr/>
        </p:nvSpPr>
        <p:spPr>
          <a:xfrm flipV="1">
            <a:off x="4545000" y="4187880"/>
            <a:ext cx="4464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309" name=""/>
          <p:cNvSpPr/>
          <p:nvPr/>
        </p:nvSpPr>
        <p:spPr>
          <a:xfrm>
            <a:off x="4500720" y="2884320"/>
            <a:ext cx="85680" cy="13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0" name=""/>
          <p:cNvSpPr/>
          <p:nvPr/>
        </p:nvSpPr>
        <p:spPr>
          <a:xfrm flipV="1">
            <a:off x="4071960" y="4010040"/>
            <a:ext cx="0" cy="71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1" name=""/>
          <p:cNvSpPr/>
          <p:nvPr/>
        </p:nvSpPr>
        <p:spPr>
          <a:xfrm flipV="1">
            <a:off x="4071960" y="367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2" name=""/>
          <p:cNvSpPr/>
          <p:nvPr/>
        </p:nvSpPr>
        <p:spPr>
          <a:xfrm flipV="1">
            <a:off x="4071960" y="2658960"/>
            <a:ext cx="0" cy="84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3" name=""/>
          <p:cNvSpPr/>
          <p:nvPr/>
        </p:nvSpPr>
        <p:spPr>
          <a:xfrm flipV="1">
            <a:off x="4071960" y="232236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4" name=""/>
          <p:cNvSpPr/>
          <p:nvPr/>
        </p:nvSpPr>
        <p:spPr>
          <a:xfrm flipV="1">
            <a:off x="4071960" y="14367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5" name=""/>
          <p:cNvSpPr/>
          <p:nvPr/>
        </p:nvSpPr>
        <p:spPr>
          <a:xfrm>
            <a:off x="50007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16" name=""/>
          <p:cNvSpPr/>
          <p:nvPr/>
        </p:nvSpPr>
        <p:spPr>
          <a:xfrm>
            <a:off x="50007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7" name=""/>
          <p:cNvSpPr/>
          <p:nvPr/>
        </p:nvSpPr>
        <p:spPr>
          <a:xfrm>
            <a:off x="50007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18" name=""/>
          <p:cNvSpPr/>
          <p:nvPr/>
        </p:nvSpPr>
        <p:spPr>
          <a:xfrm>
            <a:off x="272880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19" name=""/>
          <p:cNvSpPr/>
          <p:nvPr/>
        </p:nvSpPr>
        <p:spPr>
          <a:xfrm>
            <a:off x="272880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0" name=""/>
          <p:cNvSpPr/>
          <p:nvPr/>
        </p:nvSpPr>
        <p:spPr>
          <a:xfrm>
            <a:off x="272880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1" name=""/>
          <p:cNvSpPr/>
          <p:nvPr/>
        </p:nvSpPr>
        <p:spPr>
          <a:xfrm>
            <a:off x="2398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2" name=""/>
          <p:cNvSpPr/>
          <p:nvPr/>
        </p:nvSpPr>
        <p:spPr>
          <a:xfrm>
            <a:off x="31449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23" name=""/>
          <p:cNvSpPr/>
          <p:nvPr/>
        </p:nvSpPr>
        <p:spPr>
          <a:xfrm>
            <a:off x="31449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4" name=""/>
          <p:cNvSpPr/>
          <p:nvPr/>
        </p:nvSpPr>
        <p:spPr>
          <a:xfrm>
            <a:off x="31449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5" name=""/>
          <p:cNvSpPr/>
          <p:nvPr/>
        </p:nvSpPr>
        <p:spPr>
          <a:xfrm flipV="1">
            <a:off x="293544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6" name=""/>
          <p:cNvSpPr/>
          <p:nvPr/>
        </p:nvSpPr>
        <p:spPr>
          <a:xfrm flipV="1">
            <a:off x="293544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7" name=""/>
          <p:cNvSpPr/>
          <p:nvPr/>
        </p:nvSpPr>
        <p:spPr>
          <a:xfrm flipV="1">
            <a:off x="293544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28" name=""/>
          <p:cNvSpPr/>
          <p:nvPr/>
        </p:nvSpPr>
        <p:spPr>
          <a:xfrm>
            <a:off x="54165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29" name=""/>
          <p:cNvSpPr/>
          <p:nvPr/>
        </p:nvSpPr>
        <p:spPr>
          <a:xfrm>
            <a:off x="54165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0" name=""/>
          <p:cNvSpPr/>
          <p:nvPr/>
        </p:nvSpPr>
        <p:spPr>
          <a:xfrm>
            <a:off x="54165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1" name=""/>
          <p:cNvSpPr/>
          <p:nvPr/>
        </p:nvSpPr>
        <p:spPr>
          <a:xfrm flipV="1">
            <a:off x="520848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2" name=""/>
          <p:cNvSpPr/>
          <p:nvPr/>
        </p:nvSpPr>
        <p:spPr>
          <a:xfrm flipV="1">
            <a:off x="520848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3" name=""/>
          <p:cNvSpPr/>
          <p:nvPr/>
        </p:nvSpPr>
        <p:spPr>
          <a:xfrm flipV="1">
            <a:off x="520848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4" name=""/>
          <p:cNvSpPr/>
          <p:nvPr/>
        </p:nvSpPr>
        <p:spPr>
          <a:xfrm>
            <a:off x="5746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35" name=""/>
          <p:cNvSpPr txBox="1"/>
          <p:nvPr/>
        </p:nvSpPr>
        <p:spPr>
          <a:xfrm>
            <a:off x="5011560" y="347508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336"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337" name=""/>
          <p:cNvGrpSpPr/>
          <p:nvPr/>
        </p:nvGrpSpPr>
        <p:grpSpPr>
          <a:xfrm>
            <a:off x="625320" y="1138320"/>
            <a:ext cx="2414520" cy="430200"/>
            <a:chOff x="625320" y="1138320"/>
            <a:chExt cx="2414520" cy="430200"/>
          </a:xfrm>
        </p:grpSpPr>
        <p:sp>
          <p:nvSpPr>
            <p:cNvPr id="7338"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339" name=""/>
            <p:cNvGrpSpPr/>
            <p:nvPr/>
          </p:nvGrpSpPr>
          <p:grpSpPr>
            <a:xfrm>
              <a:off x="714240" y="1192320"/>
              <a:ext cx="306360" cy="303120"/>
              <a:chOff x="714240" y="1192320"/>
              <a:chExt cx="306360" cy="303120"/>
            </a:xfrm>
          </p:grpSpPr>
          <p:sp>
            <p:nvSpPr>
              <p:cNvPr id="7340"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1"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2"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43"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344" name=""/>
            <p:cNvGrpSpPr/>
            <p:nvPr/>
          </p:nvGrpSpPr>
          <p:grpSpPr>
            <a:xfrm>
              <a:off x="1217520" y="1254240"/>
              <a:ext cx="177840" cy="177840"/>
              <a:chOff x="1217520" y="1254240"/>
              <a:chExt cx="177840" cy="177840"/>
            </a:xfrm>
          </p:grpSpPr>
          <p:sp>
            <p:nvSpPr>
              <p:cNvPr id="7345"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6"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47" name=""/>
            <p:cNvSpPr txBox="1"/>
            <p:nvPr/>
          </p:nvSpPr>
          <p:spPr>
            <a:xfrm>
              <a:off x="1403280" y="1149480"/>
              <a:ext cx="163656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7348"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49"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50"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35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52" name=""/>
          <p:cNvSpPr/>
          <p:nvPr/>
        </p:nvSpPr>
        <p:spPr>
          <a:xfrm>
            <a:off x="4389480" y="2884320"/>
            <a:ext cx="143280" cy="235440"/>
          </a:xfrm>
          <a:custGeom>
            <a:avLst/>
            <a:gdLst/>
            <a:ahLst/>
            <a:rect l="0" t="0" r="r" b="b"/>
            <a:pathLst>
              <a:path w="398" h="654">
                <a:moveTo>
                  <a:pt x="190" y="654"/>
                </a:moveTo>
                <a:lnTo>
                  <a:pt x="0" y="0"/>
                </a:lnTo>
                <a:lnTo>
                  <a:pt x="398" y="557"/>
                </a:lnTo>
                <a:lnTo>
                  <a:pt x="190" y="6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53" name=""/>
          <p:cNvSpPr/>
          <p:nvPr/>
        </p:nvSpPr>
        <p:spPr>
          <a:xfrm>
            <a:off x="4498920" y="3100320"/>
            <a:ext cx="457560" cy="565560"/>
          </a:xfrm>
          <a:custGeom>
            <a:avLst/>
            <a:gdLst/>
            <a:ahLst/>
            <a:rect l="0" t="0" r="r" b="b"/>
            <a:pathLst>
              <a:path fill="none" w="1271" h="1571">
                <a:moveTo>
                  <a:pt x="0" y="0"/>
                </a:moveTo>
                <a:lnTo>
                  <a:pt x="746" y="1571"/>
                </a:lnTo>
                <a:lnTo>
                  <a:pt x="1271" y="15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54" name=""/>
          <p:cNvSpPr/>
          <p:nvPr/>
        </p:nvSpPr>
        <p:spPr>
          <a:xfrm>
            <a:off x="3678120" y="3465360"/>
            <a:ext cx="160560" cy="227520"/>
          </a:xfrm>
          <a:custGeom>
            <a:avLst/>
            <a:gdLst/>
            <a:ahLst/>
            <a:rect l="0" t="0" r="r" b="b"/>
            <a:pathLst>
              <a:path w="446" h="632">
                <a:moveTo>
                  <a:pt x="446" y="119"/>
                </a:moveTo>
                <a:lnTo>
                  <a:pt x="0" y="632"/>
                </a:lnTo>
                <a:lnTo>
                  <a:pt x="261" y="0"/>
                </a:lnTo>
                <a:lnTo>
                  <a:pt x="446" y="1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55" name=""/>
          <p:cNvSpPr/>
          <p:nvPr/>
        </p:nvSpPr>
        <p:spPr>
          <a:xfrm>
            <a:off x="3807000" y="1163520"/>
            <a:ext cx="1651320" cy="2325960"/>
          </a:xfrm>
          <a:custGeom>
            <a:avLst/>
            <a:gdLst/>
            <a:ahLst/>
            <a:rect l="0" t="0" r="r" b="b"/>
            <a:pathLst>
              <a:path fill="none" w="4587" h="6461">
                <a:moveTo>
                  <a:pt x="0" y="6461"/>
                </a:moveTo>
                <a:lnTo>
                  <a:pt x="4018" y="0"/>
                </a:lnTo>
                <a:lnTo>
                  <a:pt x="458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56" name=""/>
          <p:cNvSpPr/>
          <p:nvPr/>
        </p:nvSpPr>
        <p:spPr>
          <a:xfrm flipH="1">
            <a:off x="2397240" y="288432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7" name=""/>
          <p:cNvSpPr/>
          <p:nvPr/>
        </p:nvSpPr>
        <p:spPr>
          <a:xfrm flipH="1">
            <a:off x="2397240" y="234648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58" name=""/>
          <p:cNvSpPr/>
          <p:nvPr/>
        </p:nvSpPr>
        <p:spPr>
          <a:xfrm flipH="1">
            <a:off x="3755880" y="4227480"/>
            <a:ext cx="793800" cy="52560"/>
          </a:xfrm>
          <a:prstGeom prst="line">
            <a:avLst/>
          </a:prstGeom>
          <a:ln w="12600">
            <a:solidFill>
              <a:srgbClr val="ffffff"/>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7359" name=""/>
          <p:cNvSpPr/>
          <p:nvPr/>
        </p:nvSpPr>
        <p:spPr>
          <a:xfrm flipH="1">
            <a:off x="3716280" y="4183200"/>
            <a:ext cx="87480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7360" name=""/>
          <p:cNvSpPr/>
          <p:nvPr/>
        </p:nvSpPr>
        <p:spPr>
          <a:xfrm flipH="1" flipV="1">
            <a:off x="3714840" y="4243320"/>
            <a:ext cx="410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7361" name=""/>
          <p:cNvSpPr/>
          <p:nvPr/>
        </p:nvSpPr>
        <p:spPr>
          <a:xfrm>
            <a:off x="3618000" y="2884320"/>
            <a:ext cx="88920" cy="135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2" name=""/>
          <p:cNvSpPr/>
          <p:nvPr/>
        </p:nvSpPr>
        <p:spPr>
          <a:xfrm flipV="1">
            <a:off x="4545000" y="4187880"/>
            <a:ext cx="4464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363" name=""/>
          <p:cNvSpPr/>
          <p:nvPr/>
        </p:nvSpPr>
        <p:spPr>
          <a:xfrm>
            <a:off x="4500720" y="2884320"/>
            <a:ext cx="85680" cy="13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4" name=""/>
          <p:cNvSpPr/>
          <p:nvPr/>
        </p:nvSpPr>
        <p:spPr>
          <a:xfrm flipV="1">
            <a:off x="4071960" y="4010040"/>
            <a:ext cx="0" cy="71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5" name=""/>
          <p:cNvSpPr/>
          <p:nvPr/>
        </p:nvSpPr>
        <p:spPr>
          <a:xfrm flipV="1">
            <a:off x="4071960" y="367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6" name=""/>
          <p:cNvSpPr/>
          <p:nvPr/>
        </p:nvSpPr>
        <p:spPr>
          <a:xfrm flipV="1">
            <a:off x="4071960" y="2658960"/>
            <a:ext cx="0" cy="84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7" name=""/>
          <p:cNvSpPr/>
          <p:nvPr/>
        </p:nvSpPr>
        <p:spPr>
          <a:xfrm flipV="1">
            <a:off x="4071960" y="232236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8" name=""/>
          <p:cNvSpPr/>
          <p:nvPr/>
        </p:nvSpPr>
        <p:spPr>
          <a:xfrm flipV="1">
            <a:off x="4071960" y="14367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69" name=""/>
          <p:cNvSpPr/>
          <p:nvPr/>
        </p:nvSpPr>
        <p:spPr>
          <a:xfrm>
            <a:off x="50007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70" name=""/>
          <p:cNvSpPr/>
          <p:nvPr/>
        </p:nvSpPr>
        <p:spPr>
          <a:xfrm>
            <a:off x="50007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1" name=""/>
          <p:cNvSpPr/>
          <p:nvPr/>
        </p:nvSpPr>
        <p:spPr>
          <a:xfrm>
            <a:off x="50007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2" name=""/>
          <p:cNvSpPr/>
          <p:nvPr/>
        </p:nvSpPr>
        <p:spPr>
          <a:xfrm>
            <a:off x="272880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73" name=""/>
          <p:cNvSpPr/>
          <p:nvPr/>
        </p:nvSpPr>
        <p:spPr>
          <a:xfrm>
            <a:off x="272880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4" name=""/>
          <p:cNvSpPr/>
          <p:nvPr/>
        </p:nvSpPr>
        <p:spPr>
          <a:xfrm>
            <a:off x="272880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5" name=""/>
          <p:cNvSpPr/>
          <p:nvPr/>
        </p:nvSpPr>
        <p:spPr>
          <a:xfrm>
            <a:off x="2398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6" name=""/>
          <p:cNvSpPr/>
          <p:nvPr/>
        </p:nvSpPr>
        <p:spPr>
          <a:xfrm>
            <a:off x="31449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77" name=""/>
          <p:cNvSpPr/>
          <p:nvPr/>
        </p:nvSpPr>
        <p:spPr>
          <a:xfrm>
            <a:off x="31449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8" name=""/>
          <p:cNvSpPr/>
          <p:nvPr/>
        </p:nvSpPr>
        <p:spPr>
          <a:xfrm>
            <a:off x="31449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9" name=""/>
          <p:cNvSpPr/>
          <p:nvPr/>
        </p:nvSpPr>
        <p:spPr>
          <a:xfrm flipV="1">
            <a:off x="293544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0" name=""/>
          <p:cNvSpPr/>
          <p:nvPr/>
        </p:nvSpPr>
        <p:spPr>
          <a:xfrm flipV="1">
            <a:off x="293544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1" name=""/>
          <p:cNvSpPr/>
          <p:nvPr/>
        </p:nvSpPr>
        <p:spPr>
          <a:xfrm flipV="1">
            <a:off x="293544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2" name=""/>
          <p:cNvSpPr/>
          <p:nvPr/>
        </p:nvSpPr>
        <p:spPr>
          <a:xfrm>
            <a:off x="54165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383" name=""/>
          <p:cNvSpPr/>
          <p:nvPr/>
        </p:nvSpPr>
        <p:spPr>
          <a:xfrm>
            <a:off x="54165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4" name=""/>
          <p:cNvSpPr/>
          <p:nvPr/>
        </p:nvSpPr>
        <p:spPr>
          <a:xfrm>
            <a:off x="54165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5" name=""/>
          <p:cNvSpPr/>
          <p:nvPr/>
        </p:nvSpPr>
        <p:spPr>
          <a:xfrm flipV="1">
            <a:off x="520848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6" name=""/>
          <p:cNvSpPr/>
          <p:nvPr/>
        </p:nvSpPr>
        <p:spPr>
          <a:xfrm flipV="1">
            <a:off x="520848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7" name=""/>
          <p:cNvSpPr/>
          <p:nvPr/>
        </p:nvSpPr>
        <p:spPr>
          <a:xfrm flipV="1">
            <a:off x="520848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8" name=""/>
          <p:cNvSpPr/>
          <p:nvPr/>
        </p:nvSpPr>
        <p:spPr>
          <a:xfrm>
            <a:off x="5746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9" name=""/>
          <p:cNvSpPr txBox="1"/>
          <p:nvPr/>
        </p:nvSpPr>
        <p:spPr>
          <a:xfrm>
            <a:off x="5477040" y="961920"/>
            <a:ext cx="35733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A (Secondary Datum)</a:t>
            </a:r>
            <a:endParaRPr b="0" lang="en-US" sz="1800" spc="-1" strike="noStrike">
              <a:solidFill>
                <a:srgbClr val="000000"/>
              </a:solidFill>
              <a:latin typeface="Arial"/>
            </a:endParaRPr>
          </a:p>
        </p:txBody>
      </p:sp>
      <p:sp>
        <p:nvSpPr>
          <p:cNvPr id="7390" name=""/>
          <p:cNvSpPr txBox="1"/>
          <p:nvPr/>
        </p:nvSpPr>
        <p:spPr>
          <a:xfrm>
            <a:off x="5011560" y="347508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391"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392" name=""/>
          <p:cNvGrpSpPr/>
          <p:nvPr/>
        </p:nvGrpSpPr>
        <p:grpSpPr>
          <a:xfrm>
            <a:off x="625320" y="1138320"/>
            <a:ext cx="2414520" cy="430200"/>
            <a:chOff x="625320" y="1138320"/>
            <a:chExt cx="2414520" cy="430200"/>
          </a:xfrm>
        </p:grpSpPr>
        <p:sp>
          <p:nvSpPr>
            <p:cNvPr id="7393"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394" name=""/>
            <p:cNvGrpSpPr/>
            <p:nvPr/>
          </p:nvGrpSpPr>
          <p:grpSpPr>
            <a:xfrm>
              <a:off x="714240" y="1192320"/>
              <a:ext cx="306360" cy="303120"/>
              <a:chOff x="714240" y="1192320"/>
              <a:chExt cx="306360" cy="303120"/>
            </a:xfrm>
          </p:grpSpPr>
          <p:sp>
            <p:nvSpPr>
              <p:cNvPr id="7395"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96"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7"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398"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399" name=""/>
            <p:cNvGrpSpPr/>
            <p:nvPr/>
          </p:nvGrpSpPr>
          <p:grpSpPr>
            <a:xfrm>
              <a:off x="1217520" y="1254240"/>
              <a:ext cx="177840" cy="177840"/>
              <a:chOff x="1217520" y="1254240"/>
              <a:chExt cx="177840" cy="177840"/>
            </a:xfrm>
          </p:grpSpPr>
          <p:sp>
            <p:nvSpPr>
              <p:cNvPr id="7400"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01"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02" name=""/>
            <p:cNvSpPr txBox="1"/>
            <p:nvPr/>
          </p:nvSpPr>
          <p:spPr>
            <a:xfrm>
              <a:off x="1403280" y="1149480"/>
              <a:ext cx="163656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7403"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04"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05"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0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07" name=""/>
          <p:cNvSpPr/>
          <p:nvPr/>
        </p:nvSpPr>
        <p:spPr>
          <a:xfrm flipH="1">
            <a:off x="6043680" y="2906640"/>
            <a:ext cx="58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08" name=""/>
          <p:cNvSpPr/>
          <p:nvPr/>
        </p:nvSpPr>
        <p:spPr>
          <a:xfrm flipH="1">
            <a:off x="5705640" y="2906640"/>
            <a:ext cx="168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09" name=""/>
          <p:cNvSpPr/>
          <p:nvPr/>
        </p:nvSpPr>
        <p:spPr>
          <a:xfrm flipH="1">
            <a:off x="5367240" y="2906640"/>
            <a:ext cx="168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10" name=""/>
          <p:cNvSpPr/>
          <p:nvPr/>
        </p:nvSpPr>
        <p:spPr>
          <a:xfrm>
            <a:off x="1220760" y="2906640"/>
            <a:ext cx="763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11" name=""/>
          <p:cNvSpPr/>
          <p:nvPr/>
        </p:nvSpPr>
        <p:spPr>
          <a:xfrm>
            <a:off x="2154240" y="29066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12" name=""/>
          <p:cNvSpPr/>
          <p:nvPr/>
        </p:nvSpPr>
        <p:spPr>
          <a:xfrm>
            <a:off x="2490840" y="2906640"/>
            <a:ext cx="166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13" name=""/>
          <p:cNvSpPr/>
          <p:nvPr/>
        </p:nvSpPr>
        <p:spPr>
          <a:xfrm>
            <a:off x="4389480" y="2884320"/>
            <a:ext cx="143280" cy="235440"/>
          </a:xfrm>
          <a:custGeom>
            <a:avLst/>
            <a:gdLst/>
            <a:ahLst/>
            <a:rect l="0" t="0" r="r" b="b"/>
            <a:pathLst>
              <a:path w="398" h="654">
                <a:moveTo>
                  <a:pt x="190" y="654"/>
                </a:moveTo>
                <a:lnTo>
                  <a:pt x="0" y="0"/>
                </a:lnTo>
                <a:lnTo>
                  <a:pt x="398" y="557"/>
                </a:lnTo>
                <a:lnTo>
                  <a:pt x="190" y="6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4" name=""/>
          <p:cNvSpPr/>
          <p:nvPr/>
        </p:nvSpPr>
        <p:spPr>
          <a:xfrm>
            <a:off x="4498920" y="3100320"/>
            <a:ext cx="457560" cy="565560"/>
          </a:xfrm>
          <a:custGeom>
            <a:avLst/>
            <a:gdLst/>
            <a:ahLst/>
            <a:rect l="0" t="0" r="r" b="b"/>
            <a:pathLst>
              <a:path fill="none" w="1271" h="1571">
                <a:moveTo>
                  <a:pt x="0" y="0"/>
                </a:moveTo>
                <a:lnTo>
                  <a:pt x="746" y="1571"/>
                </a:lnTo>
                <a:lnTo>
                  <a:pt x="1271" y="15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5" name=""/>
          <p:cNvSpPr/>
          <p:nvPr/>
        </p:nvSpPr>
        <p:spPr>
          <a:xfrm>
            <a:off x="3678120" y="3465360"/>
            <a:ext cx="160560" cy="227520"/>
          </a:xfrm>
          <a:custGeom>
            <a:avLst/>
            <a:gdLst/>
            <a:ahLst/>
            <a:rect l="0" t="0" r="r" b="b"/>
            <a:pathLst>
              <a:path w="446" h="632">
                <a:moveTo>
                  <a:pt x="446" y="119"/>
                </a:moveTo>
                <a:lnTo>
                  <a:pt x="0" y="632"/>
                </a:lnTo>
                <a:lnTo>
                  <a:pt x="261" y="0"/>
                </a:lnTo>
                <a:lnTo>
                  <a:pt x="446" y="1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6" name=""/>
          <p:cNvSpPr/>
          <p:nvPr/>
        </p:nvSpPr>
        <p:spPr>
          <a:xfrm>
            <a:off x="3807000" y="1163520"/>
            <a:ext cx="1651320" cy="2325960"/>
          </a:xfrm>
          <a:custGeom>
            <a:avLst/>
            <a:gdLst/>
            <a:ahLst/>
            <a:rect l="0" t="0" r="r" b="b"/>
            <a:pathLst>
              <a:path fill="none" w="4587" h="6461">
                <a:moveTo>
                  <a:pt x="0" y="6461"/>
                </a:moveTo>
                <a:lnTo>
                  <a:pt x="4018" y="0"/>
                </a:lnTo>
                <a:lnTo>
                  <a:pt x="458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7" name=""/>
          <p:cNvSpPr/>
          <p:nvPr/>
        </p:nvSpPr>
        <p:spPr>
          <a:xfrm flipH="1">
            <a:off x="2397240" y="288432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8" name=""/>
          <p:cNvSpPr/>
          <p:nvPr/>
        </p:nvSpPr>
        <p:spPr>
          <a:xfrm flipH="1">
            <a:off x="2397240" y="234648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19" name=""/>
          <p:cNvSpPr/>
          <p:nvPr/>
        </p:nvSpPr>
        <p:spPr>
          <a:xfrm flipH="1">
            <a:off x="3755880" y="4227480"/>
            <a:ext cx="793800" cy="52560"/>
          </a:xfrm>
          <a:prstGeom prst="line">
            <a:avLst/>
          </a:prstGeom>
          <a:ln w="12600">
            <a:solidFill>
              <a:srgbClr val="ffffff"/>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7420" name=""/>
          <p:cNvSpPr/>
          <p:nvPr/>
        </p:nvSpPr>
        <p:spPr>
          <a:xfrm flipH="1">
            <a:off x="3716280" y="4183200"/>
            <a:ext cx="87480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7421" name=""/>
          <p:cNvSpPr/>
          <p:nvPr/>
        </p:nvSpPr>
        <p:spPr>
          <a:xfrm flipH="1" flipV="1">
            <a:off x="3714840" y="4243320"/>
            <a:ext cx="410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7422" name=""/>
          <p:cNvSpPr/>
          <p:nvPr/>
        </p:nvSpPr>
        <p:spPr>
          <a:xfrm>
            <a:off x="3618000" y="2884320"/>
            <a:ext cx="88920" cy="135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3" name=""/>
          <p:cNvSpPr/>
          <p:nvPr/>
        </p:nvSpPr>
        <p:spPr>
          <a:xfrm flipV="1">
            <a:off x="4545000" y="4187880"/>
            <a:ext cx="4464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424" name=""/>
          <p:cNvSpPr/>
          <p:nvPr/>
        </p:nvSpPr>
        <p:spPr>
          <a:xfrm>
            <a:off x="4500720" y="2884320"/>
            <a:ext cx="85680" cy="13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5" name=""/>
          <p:cNvSpPr/>
          <p:nvPr/>
        </p:nvSpPr>
        <p:spPr>
          <a:xfrm flipV="1">
            <a:off x="4071960" y="4010040"/>
            <a:ext cx="0" cy="71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6" name=""/>
          <p:cNvSpPr/>
          <p:nvPr/>
        </p:nvSpPr>
        <p:spPr>
          <a:xfrm flipV="1">
            <a:off x="4071960" y="367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7" name=""/>
          <p:cNvSpPr/>
          <p:nvPr/>
        </p:nvSpPr>
        <p:spPr>
          <a:xfrm flipV="1">
            <a:off x="4071960" y="2658960"/>
            <a:ext cx="0" cy="84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8" name=""/>
          <p:cNvSpPr/>
          <p:nvPr/>
        </p:nvSpPr>
        <p:spPr>
          <a:xfrm flipV="1">
            <a:off x="4071960" y="232236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9" name=""/>
          <p:cNvSpPr/>
          <p:nvPr/>
        </p:nvSpPr>
        <p:spPr>
          <a:xfrm flipV="1">
            <a:off x="4071960" y="14367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0" name=""/>
          <p:cNvSpPr/>
          <p:nvPr/>
        </p:nvSpPr>
        <p:spPr>
          <a:xfrm>
            <a:off x="50007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431" name=""/>
          <p:cNvSpPr/>
          <p:nvPr/>
        </p:nvSpPr>
        <p:spPr>
          <a:xfrm>
            <a:off x="50007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2" name=""/>
          <p:cNvSpPr/>
          <p:nvPr/>
        </p:nvSpPr>
        <p:spPr>
          <a:xfrm>
            <a:off x="50007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3" name=""/>
          <p:cNvSpPr/>
          <p:nvPr/>
        </p:nvSpPr>
        <p:spPr>
          <a:xfrm>
            <a:off x="272880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434" name=""/>
          <p:cNvSpPr/>
          <p:nvPr/>
        </p:nvSpPr>
        <p:spPr>
          <a:xfrm>
            <a:off x="272880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5" name=""/>
          <p:cNvSpPr/>
          <p:nvPr/>
        </p:nvSpPr>
        <p:spPr>
          <a:xfrm>
            <a:off x="272880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6" name=""/>
          <p:cNvSpPr/>
          <p:nvPr/>
        </p:nvSpPr>
        <p:spPr>
          <a:xfrm>
            <a:off x="2398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7" name=""/>
          <p:cNvSpPr/>
          <p:nvPr/>
        </p:nvSpPr>
        <p:spPr>
          <a:xfrm>
            <a:off x="31449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438" name=""/>
          <p:cNvSpPr/>
          <p:nvPr/>
        </p:nvSpPr>
        <p:spPr>
          <a:xfrm>
            <a:off x="31449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9" name=""/>
          <p:cNvSpPr/>
          <p:nvPr/>
        </p:nvSpPr>
        <p:spPr>
          <a:xfrm>
            <a:off x="31449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0" name=""/>
          <p:cNvSpPr/>
          <p:nvPr/>
        </p:nvSpPr>
        <p:spPr>
          <a:xfrm flipV="1">
            <a:off x="293544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1" name=""/>
          <p:cNvSpPr/>
          <p:nvPr/>
        </p:nvSpPr>
        <p:spPr>
          <a:xfrm flipV="1">
            <a:off x="293544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2" name=""/>
          <p:cNvSpPr/>
          <p:nvPr/>
        </p:nvSpPr>
        <p:spPr>
          <a:xfrm flipV="1">
            <a:off x="293544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3" name=""/>
          <p:cNvSpPr/>
          <p:nvPr/>
        </p:nvSpPr>
        <p:spPr>
          <a:xfrm>
            <a:off x="5991120" y="2633760"/>
            <a:ext cx="81360" cy="249480"/>
          </a:xfrm>
          <a:custGeom>
            <a:avLst/>
            <a:gdLst/>
            <a:ahLst/>
            <a:rect l="0" t="0" r="r" b="b"/>
            <a:pathLst>
              <a:path w="226" h="693">
                <a:moveTo>
                  <a:pt x="226" y="30"/>
                </a:moveTo>
                <a:lnTo>
                  <a:pt x="26" y="693"/>
                </a:lnTo>
                <a:lnTo>
                  <a:pt x="0" y="0"/>
                </a:lnTo>
                <a:lnTo>
                  <a:pt x="226" y="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44" name=""/>
          <p:cNvSpPr/>
          <p:nvPr/>
        </p:nvSpPr>
        <p:spPr>
          <a:xfrm>
            <a:off x="6033960" y="1724040"/>
            <a:ext cx="357480" cy="916200"/>
          </a:xfrm>
          <a:custGeom>
            <a:avLst/>
            <a:gdLst/>
            <a:ahLst/>
            <a:rect l="0" t="0" r="r" b="b"/>
            <a:pathLst>
              <a:path fill="none" w="993" h="2545">
                <a:moveTo>
                  <a:pt x="0" y="2545"/>
                </a:moveTo>
                <a:lnTo>
                  <a:pt x="313" y="0"/>
                </a:lnTo>
                <a:lnTo>
                  <a:pt x="99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45" name=""/>
          <p:cNvSpPr/>
          <p:nvPr/>
        </p:nvSpPr>
        <p:spPr>
          <a:xfrm>
            <a:off x="54165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446" name=""/>
          <p:cNvSpPr/>
          <p:nvPr/>
        </p:nvSpPr>
        <p:spPr>
          <a:xfrm>
            <a:off x="54165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7" name=""/>
          <p:cNvSpPr/>
          <p:nvPr/>
        </p:nvSpPr>
        <p:spPr>
          <a:xfrm>
            <a:off x="54165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8" name=""/>
          <p:cNvSpPr/>
          <p:nvPr/>
        </p:nvSpPr>
        <p:spPr>
          <a:xfrm flipV="1">
            <a:off x="520848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9" name=""/>
          <p:cNvSpPr/>
          <p:nvPr/>
        </p:nvSpPr>
        <p:spPr>
          <a:xfrm flipV="1">
            <a:off x="520848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0" name=""/>
          <p:cNvSpPr/>
          <p:nvPr/>
        </p:nvSpPr>
        <p:spPr>
          <a:xfrm flipV="1">
            <a:off x="520848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1" name=""/>
          <p:cNvSpPr/>
          <p:nvPr/>
        </p:nvSpPr>
        <p:spPr>
          <a:xfrm>
            <a:off x="5746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2" name=""/>
          <p:cNvSpPr txBox="1"/>
          <p:nvPr/>
        </p:nvSpPr>
        <p:spPr>
          <a:xfrm>
            <a:off x="5477040" y="961920"/>
            <a:ext cx="35733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A (Secondary Datum)</a:t>
            </a:r>
            <a:endParaRPr b="0" lang="en-US" sz="1800" spc="-1" strike="noStrike">
              <a:solidFill>
                <a:srgbClr val="000000"/>
              </a:solidFill>
              <a:latin typeface="Arial"/>
            </a:endParaRPr>
          </a:p>
        </p:txBody>
      </p:sp>
      <p:sp>
        <p:nvSpPr>
          <p:cNvPr id="7453" name=""/>
          <p:cNvSpPr txBox="1"/>
          <p:nvPr/>
        </p:nvSpPr>
        <p:spPr>
          <a:xfrm>
            <a:off x="6351480" y="1547640"/>
            <a:ext cx="262080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datum plane</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B) --held perpendicular to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p:txBody>
      </p:sp>
      <p:sp>
        <p:nvSpPr>
          <p:cNvPr id="7454" name=""/>
          <p:cNvSpPr txBox="1"/>
          <p:nvPr/>
        </p:nvSpPr>
        <p:spPr>
          <a:xfrm>
            <a:off x="5011560" y="347508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455"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sp>
        <p:nvSpPr>
          <p:cNvPr id="7456" name=""/>
          <p:cNvSpPr/>
          <p:nvPr/>
        </p:nvSpPr>
        <p:spPr>
          <a:xfrm flipH="1">
            <a:off x="4643280" y="2908440"/>
            <a:ext cx="58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57" name=""/>
          <p:cNvSpPr/>
          <p:nvPr/>
        </p:nvSpPr>
        <p:spPr>
          <a:xfrm>
            <a:off x="2808360" y="2908440"/>
            <a:ext cx="763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458" name=""/>
          <p:cNvGrpSpPr/>
          <p:nvPr/>
        </p:nvGrpSpPr>
        <p:grpSpPr>
          <a:xfrm>
            <a:off x="625320" y="1138320"/>
            <a:ext cx="2414520" cy="430200"/>
            <a:chOff x="625320" y="1138320"/>
            <a:chExt cx="2414520" cy="430200"/>
          </a:xfrm>
        </p:grpSpPr>
        <p:sp>
          <p:nvSpPr>
            <p:cNvPr id="7459"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460" name=""/>
            <p:cNvGrpSpPr/>
            <p:nvPr/>
          </p:nvGrpSpPr>
          <p:grpSpPr>
            <a:xfrm>
              <a:off x="714240" y="1192320"/>
              <a:ext cx="306360" cy="303120"/>
              <a:chOff x="714240" y="1192320"/>
              <a:chExt cx="306360" cy="303120"/>
            </a:xfrm>
          </p:grpSpPr>
          <p:sp>
            <p:nvSpPr>
              <p:cNvPr id="7461"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2"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63"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64"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465" name=""/>
            <p:cNvGrpSpPr/>
            <p:nvPr/>
          </p:nvGrpSpPr>
          <p:grpSpPr>
            <a:xfrm>
              <a:off x="1217520" y="1254240"/>
              <a:ext cx="177840" cy="177840"/>
              <a:chOff x="1217520" y="1254240"/>
              <a:chExt cx="177840" cy="177840"/>
            </a:xfrm>
          </p:grpSpPr>
          <p:sp>
            <p:nvSpPr>
              <p:cNvPr id="7466"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7"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468" name=""/>
            <p:cNvSpPr txBox="1"/>
            <p:nvPr/>
          </p:nvSpPr>
          <p:spPr>
            <a:xfrm>
              <a:off x="1403280" y="1149480"/>
              <a:ext cx="163656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7469"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70"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71"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473" name=""/>
          <p:cNvGrpSpPr/>
          <p:nvPr/>
        </p:nvGrpSpPr>
        <p:grpSpPr>
          <a:xfrm>
            <a:off x="4610160" y="2906640"/>
            <a:ext cx="2022480" cy="2190960"/>
            <a:chOff x="4610160" y="2906640"/>
            <a:chExt cx="2022480" cy="2190960"/>
          </a:xfrm>
        </p:grpSpPr>
        <p:sp>
          <p:nvSpPr>
            <p:cNvPr id="7474" name=""/>
            <p:cNvSpPr/>
            <p:nvPr/>
          </p:nvSpPr>
          <p:spPr>
            <a:xfrm>
              <a:off x="4610160" y="4062240"/>
              <a:ext cx="0" cy="1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75" name=""/>
            <p:cNvSpPr/>
            <p:nvPr/>
          </p:nvSpPr>
          <p:spPr>
            <a:xfrm flipH="1">
              <a:off x="6043680" y="2906640"/>
              <a:ext cx="5889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76" name=""/>
            <p:cNvSpPr/>
            <p:nvPr/>
          </p:nvSpPr>
          <p:spPr>
            <a:xfrm flipH="1">
              <a:off x="5705640" y="2906640"/>
              <a:ext cx="168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77" name=""/>
            <p:cNvSpPr/>
            <p:nvPr/>
          </p:nvSpPr>
          <p:spPr>
            <a:xfrm flipH="1">
              <a:off x="5367240" y="2906640"/>
              <a:ext cx="168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78" name=""/>
            <p:cNvSpPr/>
            <p:nvPr/>
          </p:nvSpPr>
          <p:spPr>
            <a:xfrm>
              <a:off x="4611600" y="2908440"/>
              <a:ext cx="587880" cy="673560"/>
            </a:xfrm>
            <a:custGeom>
              <a:avLst/>
              <a:gdLst/>
              <a:ahLst/>
              <a:rect l="0" t="0" r="r" b="b"/>
              <a:pathLst>
                <a:path fill="none" w="1633" h="1871">
                  <a:moveTo>
                    <a:pt x="1633" y="0"/>
                  </a:moveTo>
                  <a:lnTo>
                    <a:pt x="0" y="0"/>
                  </a:lnTo>
                  <a:lnTo>
                    <a:pt x="0" y="1871"/>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79" name=""/>
            <p:cNvSpPr/>
            <p:nvPr/>
          </p:nvSpPr>
          <p:spPr>
            <a:xfrm>
              <a:off x="4610160" y="3747960"/>
              <a:ext cx="0" cy="166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0" name=""/>
            <p:cNvSpPr/>
            <p:nvPr/>
          </p:nvSpPr>
          <p:spPr>
            <a:xfrm>
              <a:off x="4610160" y="4424400"/>
              <a:ext cx="0" cy="673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481" name=""/>
          <p:cNvSpPr/>
          <p:nvPr/>
        </p:nvSpPr>
        <p:spPr>
          <a:xfrm>
            <a:off x="1220760" y="2906640"/>
            <a:ext cx="76356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2" name=""/>
          <p:cNvSpPr/>
          <p:nvPr/>
        </p:nvSpPr>
        <p:spPr>
          <a:xfrm>
            <a:off x="2154240" y="29066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3" name=""/>
          <p:cNvSpPr/>
          <p:nvPr/>
        </p:nvSpPr>
        <p:spPr>
          <a:xfrm>
            <a:off x="2490840" y="2906640"/>
            <a:ext cx="1666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4" name=""/>
          <p:cNvSpPr/>
          <p:nvPr/>
        </p:nvSpPr>
        <p:spPr>
          <a:xfrm>
            <a:off x="2828880" y="2906640"/>
            <a:ext cx="765360" cy="663840"/>
          </a:xfrm>
          <a:custGeom>
            <a:avLst/>
            <a:gdLst/>
            <a:ahLst/>
            <a:rect l="0" t="0" r="r" b="b"/>
            <a:pathLst>
              <a:path fill="none" w="2126" h="1844">
                <a:moveTo>
                  <a:pt x="0" y="0"/>
                </a:moveTo>
                <a:lnTo>
                  <a:pt x="2126" y="0"/>
                </a:lnTo>
                <a:lnTo>
                  <a:pt x="2126" y="184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485" name=""/>
          <p:cNvSpPr/>
          <p:nvPr/>
        </p:nvSpPr>
        <p:spPr>
          <a:xfrm>
            <a:off x="3594240" y="3740040"/>
            <a:ext cx="0" cy="168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6" name=""/>
          <p:cNvSpPr/>
          <p:nvPr/>
        </p:nvSpPr>
        <p:spPr>
          <a:xfrm>
            <a:off x="3594240" y="4075200"/>
            <a:ext cx="0" cy="16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7" name=""/>
          <p:cNvSpPr/>
          <p:nvPr/>
        </p:nvSpPr>
        <p:spPr>
          <a:xfrm>
            <a:off x="3594240" y="4414680"/>
            <a:ext cx="0" cy="6652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488" name=""/>
          <p:cNvSpPr/>
          <p:nvPr/>
        </p:nvSpPr>
        <p:spPr>
          <a:xfrm>
            <a:off x="4389480" y="2884320"/>
            <a:ext cx="143280" cy="235440"/>
          </a:xfrm>
          <a:custGeom>
            <a:avLst/>
            <a:gdLst/>
            <a:ahLst/>
            <a:rect l="0" t="0" r="r" b="b"/>
            <a:pathLst>
              <a:path w="398" h="654">
                <a:moveTo>
                  <a:pt x="190" y="654"/>
                </a:moveTo>
                <a:lnTo>
                  <a:pt x="0" y="0"/>
                </a:lnTo>
                <a:lnTo>
                  <a:pt x="398" y="557"/>
                </a:lnTo>
                <a:lnTo>
                  <a:pt x="190" y="6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89" name=""/>
          <p:cNvSpPr/>
          <p:nvPr/>
        </p:nvSpPr>
        <p:spPr>
          <a:xfrm>
            <a:off x="4498920" y="3100320"/>
            <a:ext cx="457560" cy="565560"/>
          </a:xfrm>
          <a:custGeom>
            <a:avLst/>
            <a:gdLst/>
            <a:ahLst/>
            <a:rect l="0" t="0" r="r" b="b"/>
            <a:pathLst>
              <a:path fill="none" w="1271" h="1571">
                <a:moveTo>
                  <a:pt x="0" y="0"/>
                </a:moveTo>
                <a:lnTo>
                  <a:pt x="746" y="1571"/>
                </a:lnTo>
                <a:lnTo>
                  <a:pt x="1271" y="15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0" name=""/>
          <p:cNvSpPr/>
          <p:nvPr/>
        </p:nvSpPr>
        <p:spPr>
          <a:xfrm>
            <a:off x="3678120" y="3465360"/>
            <a:ext cx="160560" cy="227520"/>
          </a:xfrm>
          <a:custGeom>
            <a:avLst/>
            <a:gdLst/>
            <a:ahLst/>
            <a:rect l="0" t="0" r="r" b="b"/>
            <a:pathLst>
              <a:path w="446" h="632">
                <a:moveTo>
                  <a:pt x="446" y="119"/>
                </a:moveTo>
                <a:lnTo>
                  <a:pt x="0" y="632"/>
                </a:lnTo>
                <a:lnTo>
                  <a:pt x="261" y="0"/>
                </a:lnTo>
                <a:lnTo>
                  <a:pt x="446" y="1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1" name=""/>
          <p:cNvSpPr/>
          <p:nvPr/>
        </p:nvSpPr>
        <p:spPr>
          <a:xfrm>
            <a:off x="3807000" y="1163520"/>
            <a:ext cx="1651320" cy="2325960"/>
          </a:xfrm>
          <a:custGeom>
            <a:avLst/>
            <a:gdLst/>
            <a:ahLst/>
            <a:rect l="0" t="0" r="r" b="b"/>
            <a:pathLst>
              <a:path fill="none" w="4587" h="6461">
                <a:moveTo>
                  <a:pt x="0" y="6461"/>
                </a:moveTo>
                <a:lnTo>
                  <a:pt x="4018" y="0"/>
                </a:lnTo>
                <a:lnTo>
                  <a:pt x="458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92" name=""/>
          <p:cNvSpPr/>
          <p:nvPr/>
        </p:nvSpPr>
        <p:spPr>
          <a:xfrm flipH="1">
            <a:off x="2397240" y="288432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3" name=""/>
          <p:cNvSpPr/>
          <p:nvPr/>
        </p:nvSpPr>
        <p:spPr>
          <a:xfrm flipH="1">
            <a:off x="2397240" y="234648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4" name=""/>
          <p:cNvSpPr/>
          <p:nvPr/>
        </p:nvSpPr>
        <p:spPr>
          <a:xfrm flipH="1">
            <a:off x="3755880" y="4227480"/>
            <a:ext cx="793800" cy="52560"/>
          </a:xfrm>
          <a:prstGeom prst="line">
            <a:avLst/>
          </a:prstGeom>
          <a:ln w="12600">
            <a:solidFill>
              <a:srgbClr val="ffffff"/>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7495" name=""/>
          <p:cNvSpPr/>
          <p:nvPr/>
        </p:nvSpPr>
        <p:spPr>
          <a:xfrm flipH="1">
            <a:off x="3716280" y="4183200"/>
            <a:ext cx="87480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7496" name=""/>
          <p:cNvSpPr/>
          <p:nvPr/>
        </p:nvSpPr>
        <p:spPr>
          <a:xfrm flipH="1" flipV="1">
            <a:off x="3714840" y="4243320"/>
            <a:ext cx="410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7497" name=""/>
          <p:cNvSpPr/>
          <p:nvPr/>
        </p:nvSpPr>
        <p:spPr>
          <a:xfrm>
            <a:off x="3618000" y="2884320"/>
            <a:ext cx="88920" cy="135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8" name=""/>
          <p:cNvSpPr/>
          <p:nvPr/>
        </p:nvSpPr>
        <p:spPr>
          <a:xfrm flipV="1">
            <a:off x="4545000" y="4187880"/>
            <a:ext cx="4464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499" name=""/>
          <p:cNvSpPr/>
          <p:nvPr/>
        </p:nvSpPr>
        <p:spPr>
          <a:xfrm>
            <a:off x="4500720" y="2884320"/>
            <a:ext cx="85680" cy="13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0" name=""/>
          <p:cNvSpPr/>
          <p:nvPr/>
        </p:nvSpPr>
        <p:spPr>
          <a:xfrm flipV="1">
            <a:off x="4071960" y="4010040"/>
            <a:ext cx="0" cy="71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1" name=""/>
          <p:cNvSpPr/>
          <p:nvPr/>
        </p:nvSpPr>
        <p:spPr>
          <a:xfrm flipV="1">
            <a:off x="4071960" y="367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2" name=""/>
          <p:cNvSpPr/>
          <p:nvPr/>
        </p:nvSpPr>
        <p:spPr>
          <a:xfrm flipV="1">
            <a:off x="4071960" y="2658960"/>
            <a:ext cx="0" cy="84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3" name=""/>
          <p:cNvSpPr/>
          <p:nvPr/>
        </p:nvSpPr>
        <p:spPr>
          <a:xfrm flipV="1">
            <a:off x="4071960" y="232236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4" name=""/>
          <p:cNvSpPr/>
          <p:nvPr/>
        </p:nvSpPr>
        <p:spPr>
          <a:xfrm flipV="1">
            <a:off x="4071960" y="14367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5" name=""/>
          <p:cNvSpPr/>
          <p:nvPr/>
        </p:nvSpPr>
        <p:spPr>
          <a:xfrm>
            <a:off x="3867120" y="486576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6" name=""/>
          <p:cNvSpPr/>
          <p:nvPr/>
        </p:nvSpPr>
        <p:spPr>
          <a:xfrm>
            <a:off x="3627360" y="4826160"/>
            <a:ext cx="241560" cy="81360"/>
          </a:xfrm>
          <a:custGeom>
            <a:avLst/>
            <a:gdLst/>
            <a:ahLst/>
            <a:rect l="0" t="0" r="r" b="b"/>
            <a:pathLst>
              <a:path w="671" h="226">
                <a:moveTo>
                  <a:pt x="671" y="0"/>
                </a:moveTo>
                <a:lnTo>
                  <a:pt x="671" y="226"/>
                </a:lnTo>
                <a:lnTo>
                  <a:pt x="0" y="111"/>
                </a:lnTo>
                <a:lnTo>
                  <a:pt x="671"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7507" name=""/>
          <p:cNvSpPr/>
          <p:nvPr/>
        </p:nvSpPr>
        <p:spPr>
          <a:xfrm>
            <a:off x="4630680" y="4854600"/>
            <a:ext cx="40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8" name=""/>
          <p:cNvSpPr/>
          <p:nvPr/>
        </p:nvSpPr>
        <p:spPr>
          <a:xfrm>
            <a:off x="4343400" y="4826160"/>
            <a:ext cx="243360" cy="81360"/>
          </a:xfrm>
          <a:custGeom>
            <a:avLst/>
            <a:gdLst/>
            <a:ahLst/>
            <a:rect l="0" t="0" r="r" b="b"/>
            <a:pathLst>
              <a:path w="676" h="226">
                <a:moveTo>
                  <a:pt x="0" y="0"/>
                </a:moveTo>
                <a:lnTo>
                  <a:pt x="0" y="226"/>
                </a:lnTo>
                <a:lnTo>
                  <a:pt x="676" y="111"/>
                </a:lnTo>
                <a:lnTo>
                  <a:pt x="0"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7509" name=""/>
          <p:cNvSpPr/>
          <p:nvPr/>
        </p:nvSpPr>
        <p:spPr>
          <a:xfrm>
            <a:off x="50007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510" name=""/>
          <p:cNvSpPr/>
          <p:nvPr/>
        </p:nvSpPr>
        <p:spPr>
          <a:xfrm>
            <a:off x="50007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1" name=""/>
          <p:cNvSpPr/>
          <p:nvPr/>
        </p:nvSpPr>
        <p:spPr>
          <a:xfrm>
            <a:off x="50007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2" name=""/>
          <p:cNvSpPr/>
          <p:nvPr/>
        </p:nvSpPr>
        <p:spPr>
          <a:xfrm>
            <a:off x="272880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513" name=""/>
          <p:cNvSpPr/>
          <p:nvPr/>
        </p:nvSpPr>
        <p:spPr>
          <a:xfrm>
            <a:off x="272880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4" name=""/>
          <p:cNvSpPr/>
          <p:nvPr/>
        </p:nvSpPr>
        <p:spPr>
          <a:xfrm>
            <a:off x="272880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5" name=""/>
          <p:cNvSpPr/>
          <p:nvPr/>
        </p:nvSpPr>
        <p:spPr>
          <a:xfrm>
            <a:off x="2398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6" name=""/>
          <p:cNvSpPr/>
          <p:nvPr/>
        </p:nvSpPr>
        <p:spPr>
          <a:xfrm>
            <a:off x="31449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517" name=""/>
          <p:cNvSpPr/>
          <p:nvPr/>
        </p:nvSpPr>
        <p:spPr>
          <a:xfrm>
            <a:off x="31449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8" name=""/>
          <p:cNvSpPr/>
          <p:nvPr/>
        </p:nvSpPr>
        <p:spPr>
          <a:xfrm>
            <a:off x="31449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9" name=""/>
          <p:cNvSpPr/>
          <p:nvPr/>
        </p:nvSpPr>
        <p:spPr>
          <a:xfrm flipV="1">
            <a:off x="293544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0" name=""/>
          <p:cNvSpPr/>
          <p:nvPr/>
        </p:nvSpPr>
        <p:spPr>
          <a:xfrm flipV="1">
            <a:off x="293544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1" name=""/>
          <p:cNvSpPr/>
          <p:nvPr/>
        </p:nvSpPr>
        <p:spPr>
          <a:xfrm flipV="1">
            <a:off x="293544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2" name=""/>
          <p:cNvSpPr/>
          <p:nvPr/>
        </p:nvSpPr>
        <p:spPr>
          <a:xfrm>
            <a:off x="5991120" y="2633760"/>
            <a:ext cx="81360" cy="249480"/>
          </a:xfrm>
          <a:custGeom>
            <a:avLst/>
            <a:gdLst/>
            <a:ahLst/>
            <a:rect l="0" t="0" r="r" b="b"/>
            <a:pathLst>
              <a:path w="226" h="693">
                <a:moveTo>
                  <a:pt x="226" y="30"/>
                </a:moveTo>
                <a:lnTo>
                  <a:pt x="26" y="693"/>
                </a:lnTo>
                <a:lnTo>
                  <a:pt x="0" y="0"/>
                </a:lnTo>
                <a:lnTo>
                  <a:pt x="226" y="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23" name=""/>
          <p:cNvSpPr/>
          <p:nvPr/>
        </p:nvSpPr>
        <p:spPr>
          <a:xfrm>
            <a:off x="6033960" y="1724040"/>
            <a:ext cx="357480" cy="916200"/>
          </a:xfrm>
          <a:custGeom>
            <a:avLst/>
            <a:gdLst/>
            <a:ahLst/>
            <a:rect l="0" t="0" r="r" b="b"/>
            <a:pathLst>
              <a:path fill="none" w="993" h="2545">
                <a:moveTo>
                  <a:pt x="0" y="2545"/>
                </a:moveTo>
                <a:lnTo>
                  <a:pt x="313" y="0"/>
                </a:lnTo>
                <a:lnTo>
                  <a:pt x="99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24" name=""/>
          <p:cNvSpPr/>
          <p:nvPr/>
        </p:nvSpPr>
        <p:spPr>
          <a:xfrm>
            <a:off x="54165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525" name=""/>
          <p:cNvSpPr/>
          <p:nvPr/>
        </p:nvSpPr>
        <p:spPr>
          <a:xfrm>
            <a:off x="54165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6" name=""/>
          <p:cNvSpPr/>
          <p:nvPr/>
        </p:nvSpPr>
        <p:spPr>
          <a:xfrm>
            <a:off x="54165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7" name=""/>
          <p:cNvSpPr/>
          <p:nvPr/>
        </p:nvSpPr>
        <p:spPr>
          <a:xfrm flipV="1">
            <a:off x="520848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8" name=""/>
          <p:cNvSpPr/>
          <p:nvPr/>
        </p:nvSpPr>
        <p:spPr>
          <a:xfrm flipV="1">
            <a:off x="520848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29" name=""/>
          <p:cNvSpPr/>
          <p:nvPr/>
        </p:nvSpPr>
        <p:spPr>
          <a:xfrm flipV="1">
            <a:off x="520848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0" name=""/>
          <p:cNvSpPr/>
          <p:nvPr/>
        </p:nvSpPr>
        <p:spPr>
          <a:xfrm>
            <a:off x="5746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1" name=""/>
          <p:cNvSpPr txBox="1"/>
          <p:nvPr/>
        </p:nvSpPr>
        <p:spPr>
          <a:xfrm>
            <a:off x="5477040" y="961920"/>
            <a:ext cx="35733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A (Secondary Datum)</a:t>
            </a:r>
            <a:endParaRPr b="0" lang="en-US" sz="1800" spc="-1" strike="noStrike">
              <a:solidFill>
                <a:srgbClr val="000000"/>
              </a:solidFill>
              <a:latin typeface="Arial"/>
            </a:endParaRPr>
          </a:p>
        </p:txBody>
      </p:sp>
      <p:sp>
        <p:nvSpPr>
          <p:cNvPr id="7532" name=""/>
          <p:cNvSpPr txBox="1"/>
          <p:nvPr/>
        </p:nvSpPr>
        <p:spPr>
          <a:xfrm>
            <a:off x="6351480" y="1547640"/>
            <a:ext cx="262080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datum plane</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B) --held perpendicular to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p:txBody>
      </p:sp>
      <p:sp>
        <p:nvSpPr>
          <p:cNvPr id="7533" name=""/>
          <p:cNvSpPr txBox="1"/>
          <p:nvPr/>
        </p:nvSpPr>
        <p:spPr>
          <a:xfrm>
            <a:off x="5010120" y="4670280"/>
            <a:ext cx="3129120" cy="146520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mallest circumscribed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Variable gage in contact with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high points of datum feature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nd perpendicular to datum su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face B).</a:t>
            </a:r>
            <a:endParaRPr b="0" lang="en-US" sz="1800" spc="-1" strike="noStrike">
              <a:solidFill>
                <a:srgbClr val="000000"/>
              </a:solidFill>
              <a:latin typeface="Arial"/>
            </a:endParaRPr>
          </a:p>
        </p:txBody>
      </p:sp>
      <p:sp>
        <p:nvSpPr>
          <p:cNvPr id="7534" name=""/>
          <p:cNvSpPr txBox="1"/>
          <p:nvPr/>
        </p:nvSpPr>
        <p:spPr>
          <a:xfrm>
            <a:off x="5011560" y="347508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535"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grpSp>
        <p:nvGrpSpPr>
          <p:cNvPr id="7536" name=""/>
          <p:cNvGrpSpPr/>
          <p:nvPr/>
        </p:nvGrpSpPr>
        <p:grpSpPr>
          <a:xfrm>
            <a:off x="625320" y="1138320"/>
            <a:ext cx="2414520" cy="430200"/>
            <a:chOff x="625320" y="1138320"/>
            <a:chExt cx="2414520" cy="430200"/>
          </a:xfrm>
        </p:grpSpPr>
        <p:sp>
          <p:nvSpPr>
            <p:cNvPr id="7537"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538" name=""/>
            <p:cNvGrpSpPr/>
            <p:nvPr/>
          </p:nvGrpSpPr>
          <p:grpSpPr>
            <a:xfrm>
              <a:off x="714240" y="1192320"/>
              <a:ext cx="306360" cy="303120"/>
              <a:chOff x="714240" y="1192320"/>
              <a:chExt cx="306360" cy="303120"/>
            </a:xfrm>
          </p:grpSpPr>
          <p:sp>
            <p:nvSpPr>
              <p:cNvPr id="7539"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0"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1"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42"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543" name=""/>
            <p:cNvGrpSpPr/>
            <p:nvPr/>
          </p:nvGrpSpPr>
          <p:grpSpPr>
            <a:xfrm>
              <a:off x="1217520" y="1254240"/>
              <a:ext cx="177840" cy="177840"/>
              <a:chOff x="1217520" y="1254240"/>
              <a:chExt cx="177840" cy="177840"/>
            </a:xfrm>
          </p:grpSpPr>
          <p:sp>
            <p:nvSpPr>
              <p:cNvPr id="7544"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5"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546" name=""/>
            <p:cNvSpPr txBox="1"/>
            <p:nvPr/>
          </p:nvSpPr>
          <p:spPr>
            <a:xfrm>
              <a:off x="1403280" y="1149480"/>
              <a:ext cx="163656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7547"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48"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49"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5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551" name=""/>
          <p:cNvGrpSpPr/>
          <p:nvPr/>
        </p:nvGrpSpPr>
        <p:grpSpPr>
          <a:xfrm>
            <a:off x="4610160" y="2906640"/>
            <a:ext cx="2022480" cy="2190960"/>
            <a:chOff x="4610160" y="2906640"/>
            <a:chExt cx="2022480" cy="2190960"/>
          </a:xfrm>
        </p:grpSpPr>
        <p:sp>
          <p:nvSpPr>
            <p:cNvPr id="7552" name=""/>
            <p:cNvSpPr/>
            <p:nvPr/>
          </p:nvSpPr>
          <p:spPr>
            <a:xfrm>
              <a:off x="4610160" y="4062240"/>
              <a:ext cx="0" cy="1684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3" name=""/>
            <p:cNvSpPr/>
            <p:nvPr/>
          </p:nvSpPr>
          <p:spPr>
            <a:xfrm flipH="1">
              <a:off x="6043680" y="2906640"/>
              <a:ext cx="5889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4" name=""/>
            <p:cNvSpPr/>
            <p:nvPr/>
          </p:nvSpPr>
          <p:spPr>
            <a:xfrm flipH="1">
              <a:off x="5705640" y="2906640"/>
              <a:ext cx="1681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5" name=""/>
            <p:cNvSpPr/>
            <p:nvPr/>
          </p:nvSpPr>
          <p:spPr>
            <a:xfrm flipH="1">
              <a:off x="5367240" y="2906640"/>
              <a:ext cx="1684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6" name=""/>
            <p:cNvSpPr/>
            <p:nvPr/>
          </p:nvSpPr>
          <p:spPr>
            <a:xfrm>
              <a:off x="4611600" y="2908440"/>
              <a:ext cx="587880" cy="673560"/>
            </a:xfrm>
            <a:custGeom>
              <a:avLst/>
              <a:gdLst/>
              <a:ahLst/>
              <a:rect l="0" t="0" r="r" b="b"/>
              <a:pathLst>
                <a:path fill="none" w="1633" h="1871">
                  <a:moveTo>
                    <a:pt x="1633" y="0"/>
                  </a:moveTo>
                  <a:lnTo>
                    <a:pt x="0" y="0"/>
                  </a:lnTo>
                  <a:lnTo>
                    <a:pt x="0" y="1871"/>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57" name=""/>
            <p:cNvSpPr/>
            <p:nvPr/>
          </p:nvSpPr>
          <p:spPr>
            <a:xfrm>
              <a:off x="4610160" y="3747960"/>
              <a:ext cx="0" cy="166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58" name=""/>
            <p:cNvSpPr/>
            <p:nvPr/>
          </p:nvSpPr>
          <p:spPr>
            <a:xfrm>
              <a:off x="4610160" y="4424400"/>
              <a:ext cx="0" cy="67320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559" name=""/>
          <p:cNvSpPr/>
          <p:nvPr/>
        </p:nvSpPr>
        <p:spPr>
          <a:xfrm>
            <a:off x="1220760" y="2906640"/>
            <a:ext cx="7635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0" name=""/>
          <p:cNvSpPr/>
          <p:nvPr/>
        </p:nvSpPr>
        <p:spPr>
          <a:xfrm>
            <a:off x="2154240" y="2906640"/>
            <a:ext cx="1699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1" name=""/>
          <p:cNvSpPr/>
          <p:nvPr/>
        </p:nvSpPr>
        <p:spPr>
          <a:xfrm>
            <a:off x="2490840" y="2906640"/>
            <a:ext cx="1666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2" name=""/>
          <p:cNvSpPr/>
          <p:nvPr/>
        </p:nvSpPr>
        <p:spPr>
          <a:xfrm>
            <a:off x="2828880" y="2906640"/>
            <a:ext cx="765360" cy="663840"/>
          </a:xfrm>
          <a:custGeom>
            <a:avLst/>
            <a:gdLst/>
            <a:ahLst/>
            <a:rect l="0" t="0" r="r" b="b"/>
            <a:pathLst>
              <a:path fill="none" w="2126" h="1844">
                <a:moveTo>
                  <a:pt x="0" y="0"/>
                </a:moveTo>
                <a:lnTo>
                  <a:pt x="2126" y="0"/>
                </a:lnTo>
                <a:lnTo>
                  <a:pt x="2126" y="1844"/>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563" name=""/>
          <p:cNvSpPr/>
          <p:nvPr/>
        </p:nvSpPr>
        <p:spPr>
          <a:xfrm>
            <a:off x="3594240" y="3740040"/>
            <a:ext cx="0" cy="1684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4" name=""/>
          <p:cNvSpPr/>
          <p:nvPr/>
        </p:nvSpPr>
        <p:spPr>
          <a:xfrm>
            <a:off x="3594240" y="4075200"/>
            <a:ext cx="0" cy="169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5" name=""/>
          <p:cNvSpPr/>
          <p:nvPr/>
        </p:nvSpPr>
        <p:spPr>
          <a:xfrm>
            <a:off x="3594240" y="4414680"/>
            <a:ext cx="0" cy="6652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566" name=""/>
          <p:cNvSpPr/>
          <p:nvPr/>
        </p:nvSpPr>
        <p:spPr>
          <a:xfrm>
            <a:off x="4389480" y="2884320"/>
            <a:ext cx="143280" cy="235440"/>
          </a:xfrm>
          <a:custGeom>
            <a:avLst/>
            <a:gdLst/>
            <a:ahLst/>
            <a:rect l="0" t="0" r="r" b="b"/>
            <a:pathLst>
              <a:path w="398" h="654">
                <a:moveTo>
                  <a:pt x="190" y="654"/>
                </a:moveTo>
                <a:lnTo>
                  <a:pt x="0" y="0"/>
                </a:lnTo>
                <a:lnTo>
                  <a:pt x="398" y="557"/>
                </a:lnTo>
                <a:lnTo>
                  <a:pt x="190" y="65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7" name=""/>
          <p:cNvSpPr/>
          <p:nvPr/>
        </p:nvSpPr>
        <p:spPr>
          <a:xfrm>
            <a:off x="4498920" y="3100320"/>
            <a:ext cx="457560" cy="565560"/>
          </a:xfrm>
          <a:custGeom>
            <a:avLst/>
            <a:gdLst/>
            <a:ahLst/>
            <a:rect l="0" t="0" r="r" b="b"/>
            <a:pathLst>
              <a:path fill="none" w="1271" h="1571">
                <a:moveTo>
                  <a:pt x="0" y="0"/>
                </a:moveTo>
                <a:lnTo>
                  <a:pt x="746" y="1571"/>
                </a:lnTo>
                <a:lnTo>
                  <a:pt x="1271" y="157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8" name=""/>
          <p:cNvSpPr/>
          <p:nvPr/>
        </p:nvSpPr>
        <p:spPr>
          <a:xfrm>
            <a:off x="3678120" y="3465360"/>
            <a:ext cx="160560" cy="227520"/>
          </a:xfrm>
          <a:custGeom>
            <a:avLst/>
            <a:gdLst/>
            <a:ahLst/>
            <a:rect l="0" t="0" r="r" b="b"/>
            <a:pathLst>
              <a:path w="446" h="632">
                <a:moveTo>
                  <a:pt x="446" y="119"/>
                </a:moveTo>
                <a:lnTo>
                  <a:pt x="0" y="632"/>
                </a:lnTo>
                <a:lnTo>
                  <a:pt x="261" y="0"/>
                </a:lnTo>
                <a:lnTo>
                  <a:pt x="446" y="1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69" name=""/>
          <p:cNvSpPr/>
          <p:nvPr/>
        </p:nvSpPr>
        <p:spPr>
          <a:xfrm>
            <a:off x="3807000" y="1163520"/>
            <a:ext cx="1651320" cy="2325960"/>
          </a:xfrm>
          <a:custGeom>
            <a:avLst/>
            <a:gdLst/>
            <a:ahLst/>
            <a:rect l="0" t="0" r="r" b="b"/>
            <a:pathLst>
              <a:path fill="none" w="4587" h="6461">
                <a:moveTo>
                  <a:pt x="0" y="6461"/>
                </a:moveTo>
                <a:lnTo>
                  <a:pt x="4018" y="0"/>
                </a:lnTo>
                <a:lnTo>
                  <a:pt x="458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0" name=""/>
          <p:cNvSpPr/>
          <p:nvPr/>
        </p:nvSpPr>
        <p:spPr>
          <a:xfrm flipH="1">
            <a:off x="2397240" y="288432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1" name=""/>
          <p:cNvSpPr/>
          <p:nvPr/>
        </p:nvSpPr>
        <p:spPr>
          <a:xfrm flipH="1">
            <a:off x="2397240" y="2346480"/>
            <a:ext cx="3349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2" name=""/>
          <p:cNvSpPr/>
          <p:nvPr/>
        </p:nvSpPr>
        <p:spPr>
          <a:xfrm flipH="1">
            <a:off x="3755880" y="4227480"/>
            <a:ext cx="793800" cy="52560"/>
          </a:xfrm>
          <a:prstGeom prst="line">
            <a:avLst/>
          </a:prstGeom>
          <a:ln w="12600">
            <a:solidFill>
              <a:srgbClr val="ffffff"/>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7573" name=""/>
          <p:cNvSpPr/>
          <p:nvPr/>
        </p:nvSpPr>
        <p:spPr>
          <a:xfrm flipH="1">
            <a:off x="3716280" y="4183200"/>
            <a:ext cx="874800" cy="58680"/>
          </a:xfrm>
          <a:prstGeom prst="line">
            <a:avLst/>
          </a:prstGeom>
          <a:ln w="12600">
            <a:solidFill>
              <a:srgbClr val="ffffff"/>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7574" name=""/>
          <p:cNvSpPr/>
          <p:nvPr/>
        </p:nvSpPr>
        <p:spPr>
          <a:xfrm flipH="1" flipV="1">
            <a:off x="3714840" y="4243320"/>
            <a:ext cx="41040" cy="36720"/>
          </a:xfrm>
          <a:prstGeom prst="line">
            <a:avLst/>
          </a:prstGeom>
          <a:ln w="12600">
            <a:solidFill>
              <a:srgbClr val="ffffff"/>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7575" name=""/>
          <p:cNvSpPr/>
          <p:nvPr/>
        </p:nvSpPr>
        <p:spPr>
          <a:xfrm>
            <a:off x="3618000" y="2884320"/>
            <a:ext cx="88920" cy="1357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6" name=""/>
          <p:cNvSpPr/>
          <p:nvPr/>
        </p:nvSpPr>
        <p:spPr>
          <a:xfrm flipV="1">
            <a:off x="4545000" y="4187880"/>
            <a:ext cx="44640" cy="39600"/>
          </a:xfrm>
          <a:prstGeom prst="line">
            <a:avLst/>
          </a:prstGeom>
          <a:ln w="12600">
            <a:solidFill>
              <a:srgbClr val="ffffff"/>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7577" name=""/>
          <p:cNvSpPr/>
          <p:nvPr/>
        </p:nvSpPr>
        <p:spPr>
          <a:xfrm>
            <a:off x="4500720" y="2884320"/>
            <a:ext cx="85680" cy="130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78" name=""/>
          <p:cNvSpPr/>
          <p:nvPr/>
        </p:nvSpPr>
        <p:spPr>
          <a:xfrm>
            <a:off x="3836880" y="3917880"/>
            <a:ext cx="233640" cy="144720"/>
          </a:xfrm>
          <a:custGeom>
            <a:avLst/>
            <a:gdLst/>
            <a:ahLst/>
            <a:rect l="0" t="0" r="r" b="b"/>
            <a:pathLst>
              <a:path w="649" h="402">
                <a:moveTo>
                  <a:pt x="97" y="0"/>
                </a:moveTo>
                <a:lnTo>
                  <a:pt x="649" y="402"/>
                </a:lnTo>
                <a:lnTo>
                  <a:pt x="0" y="203"/>
                </a:lnTo>
                <a:lnTo>
                  <a:pt x="97"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79" name=""/>
          <p:cNvSpPr/>
          <p:nvPr/>
        </p:nvSpPr>
        <p:spPr>
          <a:xfrm>
            <a:off x="3114720" y="3686040"/>
            <a:ext cx="738720" cy="267120"/>
          </a:xfrm>
          <a:custGeom>
            <a:avLst/>
            <a:gdLst/>
            <a:ahLst/>
            <a:rect l="0" t="0" r="r" b="b"/>
            <a:pathLst>
              <a:path fill="none" w="2052" h="742">
                <a:moveTo>
                  <a:pt x="2052" y="742"/>
                </a:moveTo>
                <a:lnTo>
                  <a:pt x="538"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80" name=""/>
          <p:cNvSpPr/>
          <p:nvPr/>
        </p:nvSpPr>
        <p:spPr>
          <a:xfrm flipV="1">
            <a:off x="4071960" y="4010040"/>
            <a:ext cx="0" cy="71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1" name=""/>
          <p:cNvSpPr/>
          <p:nvPr/>
        </p:nvSpPr>
        <p:spPr>
          <a:xfrm flipV="1">
            <a:off x="4071960" y="367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2" name=""/>
          <p:cNvSpPr/>
          <p:nvPr/>
        </p:nvSpPr>
        <p:spPr>
          <a:xfrm flipV="1">
            <a:off x="4071960" y="2658960"/>
            <a:ext cx="0" cy="84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3" name=""/>
          <p:cNvSpPr/>
          <p:nvPr/>
        </p:nvSpPr>
        <p:spPr>
          <a:xfrm flipV="1">
            <a:off x="4071960" y="232236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4" name=""/>
          <p:cNvSpPr/>
          <p:nvPr/>
        </p:nvSpPr>
        <p:spPr>
          <a:xfrm flipV="1">
            <a:off x="4071960" y="14367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5" name=""/>
          <p:cNvSpPr/>
          <p:nvPr/>
        </p:nvSpPr>
        <p:spPr>
          <a:xfrm>
            <a:off x="3867120" y="4865760"/>
            <a:ext cx="493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6" name=""/>
          <p:cNvSpPr/>
          <p:nvPr/>
        </p:nvSpPr>
        <p:spPr>
          <a:xfrm>
            <a:off x="3627360" y="4826160"/>
            <a:ext cx="241560" cy="81360"/>
          </a:xfrm>
          <a:custGeom>
            <a:avLst/>
            <a:gdLst/>
            <a:ahLst/>
            <a:rect l="0" t="0" r="r" b="b"/>
            <a:pathLst>
              <a:path w="671" h="226">
                <a:moveTo>
                  <a:pt x="671" y="0"/>
                </a:moveTo>
                <a:lnTo>
                  <a:pt x="671" y="226"/>
                </a:lnTo>
                <a:lnTo>
                  <a:pt x="0" y="111"/>
                </a:lnTo>
                <a:lnTo>
                  <a:pt x="671"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7587" name=""/>
          <p:cNvSpPr/>
          <p:nvPr/>
        </p:nvSpPr>
        <p:spPr>
          <a:xfrm>
            <a:off x="4630680" y="4854600"/>
            <a:ext cx="405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88" name=""/>
          <p:cNvSpPr/>
          <p:nvPr/>
        </p:nvSpPr>
        <p:spPr>
          <a:xfrm>
            <a:off x="4343400" y="4826160"/>
            <a:ext cx="243360" cy="81360"/>
          </a:xfrm>
          <a:custGeom>
            <a:avLst/>
            <a:gdLst/>
            <a:ahLst/>
            <a:rect l="0" t="0" r="r" b="b"/>
            <a:pathLst>
              <a:path w="676" h="226">
                <a:moveTo>
                  <a:pt x="0" y="0"/>
                </a:moveTo>
                <a:lnTo>
                  <a:pt x="0" y="226"/>
                </a:lnTo>
                <a:lnTo>
                  <a:pt x="676" y="111"/>
                </a:lnTo>
                <a:lnTo>
                  <a:pt x="0" y="0"/>
                </a:lnTo>
                <a:close/>
              </a:path>
            </a:pathLst>
          </a:custGeom>
          <a:solidFill>
            <a:srgbClr val="ffffff"/>
          </a:solidFill>
          <a:ln w="12600">
            <a:solidFill>
              <a:srgbClr val="ffffff"/>
            </a:solidFill>
            <a:round/>
          </a:ln>
        </p:spPr>
        <p:txBody>
          <a:bodyPr lIns="96120" rIns="96120" tIns="30240" bIns="30240" anchor="t">
            <a:noAutofit/>
          </a:bodyPr>
          <a:p>
            <a:endParaRPr b="0" lang="en-US" sz="1800" spc="-1" strike="noStrike">
              <a:solidFill>
                <a:srgbClr val="000000"/>
              </a:solidFill>
              <a:latin typeface="Arial"/>
            </a:endParaRPr>
          </a:p>
        </p:txBody>
      </p:sp>
      <p:sp>
        <p:nvSpPr>
          <p:cNvPr id="7589" name=""/>
          <p:cNvSpPr/>
          <p:nvPr/>
        </p:nvSpPr>
        <p:spPr>
          <a:xfrm>
            <a:off x="50007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590" name=""/>
          <p:cNvSpPr/>
          <p:nvPr/>
        </p:nvSpPr>
        <p:spPr>
          <a:xfrm>
            <a:off x="50007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1" name=""/>
          <p:cNvSpPr/>
          <p:nvPr/>
        </p:nvSpPr>
        <p:spPr>
          <a:xfrm>
            <a:off x="50007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2" name=""/>
          <p:cNvSpPr/>
          <p:nvPr/>
        </p:nvSpPr>
        <p:spPr>
          <a:xfrm>
            <a:off x="272880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593" name=""/>
          <p:cNvSpPr/>
          <p:nvPr/>
        </p:nvSpPr>
        <p:spPr>
          <a:xfrm>
            <a:off x="272880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4" name=""/>
          <p:cNvSpPr/>
          <p:nvPr/>
        </p:nvSpPr>
        <p:spPr>
          <a:xfrm>
            <a:off x="272880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5" name=""/>
          <p:cNvSpPr/>
          <p:nvPr/>
        </p:nvSpPr>
        <p:spPr>
          <a:xfrm>
            <a:off x="2398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6" name=""/>
          <p:cNvSpPr/>
          <p:nvPr/>
        </p:nvSpPr>
        <p:spPr>
          <a:xfrm>
            <a:off x="31449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597" name=""/>
          <p:cNvSpPr/>
          <p:nvPr/>
        </p:nvSpPr>
        <p:spPr>
          <a:xfrm>
            <a:off x="31449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8" name=""/>
          <p:cNvSpPr/>
          <p:nvPr/>
        </p:nvSpPr>
        <p:spPr>
          <a:xfrm>
            <a:off x="31449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99" name=""/>
          <p:cNvSpPr/>
          <p:nvPr/>
        </p:nvSpPr>
        <p:spPr>
          <a:xfrm flipV="1">
            <a:off x="293544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0" name=""/>
          <p:cNvSpPr/>
          <p:nvPr/>
        </p:nvSpPr>
        <p:spPr>
          <a:xfrm flipV="1">
            <a:off x="293544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1" name=""/>
          <p:cNvSpPr/>
          <p:nvPr/>
        </p:nvSpPr>
        <p:spPr>
          <a:xfrm flipV="1">
            <a:off x="293544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2" name=""/>
          <p:cNvSpPr/>
          <p:nvPr/>
        </p:nvSpPr>
        <p:spPr>
          <a:xfrm>
            <a:off x="5991120" y="2633760"/>
            <a:ext cx="81360" cy="249480"/>
          </a:xfrm>
          <a:custGeom>
            <a:avLst/>
            <a:gdLst/>
            <a:ahLst/>
            <a:rect l="0" t="0" r="r" b="b"/>
            <a:pathLst>
              <a:path w="226" h="693">
                <a:moveTo>
                  <a:pt x="226" y="30"/>
                </a:moveTo>
                <a:lnTo>
                  <a:pt x="26" y="693"/>
                </a:lnTo>
                <a:lnTo>
                  <a:pt x="0" y="0"/>
                </a:lnTo>
                <a:lnTo>
                  <a:pt x="226" y="3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03" name=""/>
          <p:cNvSpPr/>
          <p:nvPr/>
        </p:nvSpPr>
        <p:spPr>
          <a:xfrm>
            <a:off x="6033960" y="1724040"/>
            <a:ext cx="357480" cy="916200"/>
          </a:xfrm>
          <a:custGeom>
            <a:avLst/>
            <a:gdLst/>
            <a:ahLst/>
            <a:rect l="0" t="0" r="r" b="b"/>
            <a:pathLst>
              <a:path fill="none" w="993" h="2545">
                <a:moveTo>
                  <a:pt x="0" y="2545"/>
                </a:moveTo>
                <a:lnTo>
                  <a:pt x="313" y="0"/>
                </a:lnTo>
                <a:lnTo>
                  <a:pt x="99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04" name=""/>
          <p:cNvSpPr/>
          <p:nvPr/>
        </p:nvSpPr>
        <p:spPr>
          <a:xfrm>
            <a:off x="5416560" y="2344680"/>
            <a:ext cx="0" cy="96840"/>
          </a:xfrm>
          <a:prstGeom prst="line">
            <a:avLst/>
          </a:prstGeom>
          <a:ln w="12600">
            <a:solidFill>
              <a:srgbClr val="ffffff"/>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7605" name=""/>
          <p:cNvSpPr/>
          <p:nvPr/>
        </p:nvSpPr>
        <p:spPr>
          <a:xfrm>
            <a:off x="5416560" y="2530440"/>
            <a:ext cx="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6" name=""/>
          <p:cNvSpPr/>
          <p:nvPr/>
        </p:nvSpPr>
        <p:spPr>
          <a:xfrm>
            <a:off x="5416560" y="2779560"/>
            <a:ext cx="0" cy="10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7" name=""/>
          <p:cNvSpPr/>
          <p:nvPr/>
        </p:nvSpPr>
        <p:spPr>
          <a:xfrm flipV="1">
            <a:off x="5208480" y="2838600"/>
            <a:ext cx="0" cy="51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8" name=""/>
          <p:cNvSpPr/>
          <p:nvPr/>
        </p:nvSpPr>
        <p:spPr>
          <a:xfrm flipV="1">
            <a:off x="5208480" y="2503440"/>
            <a:ext cx="0" cy="16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9" name=""/>
          <p:cNvSpPr/>
          <p:nvPr/>
        </p:nvSpPr>
        <p:spPr>
          <a:xfrm flipV="1">
            <a:off x="5208480" y="1824120"/>
            <a:ext cx="0" cy="50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0" name=""/>
          <p:cNvSpPr/>
          <p:nvPr/>
        </p:nvSpPr>
        <p:spPr>
          <a:xfrm>
            <a:off x="5746680" y="2346480"/>
            <a:ext cx="0" cy="53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1" name=""/>
          <p:cNvSpPr txBox="1"/>
          <p:nvPr/>
        </p:nvSpPr>
        <p:spPr>
          <a:xfrm>
            <a:off x="5477040" y="961920"/>
            <a:ext cx="35733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A (Secondary Datum)</a:t>
            </a:r>
            <a:endParaRPr b="0" lang="en-US" sz="1800" spc="-1" strike="noStrike">
              <a:solidFill>
                <a:srgbClr val="000000"/>
              </a:solidFill>
              <a:latin typeface="Arial"/>
            </a:endParaRPr>
          </a:p>
        </p:txBody>
      </p:sp>
      <p:sp>
        <p:nvSpPr>
          <p:cNvPr id="7612" name=""/>
          <p:cNvSpPr txBox="1"/>
          <p:nvPr/>
        </p:nvSpPr>
        <p:spPr>
          <a:xfrm>
            <a:off x="6351480" y="1547640"/>
            <a:ext cx="262080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datum plane</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B) --held perpendicular to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p:txBody>
      </p:sp>
      <p:sp>
        <p:nvSpPr>
          <p:cNvPr id="7613" name=""/>
          <p:cNvSpPr txBox="1"/>
          <p:nvPr/>
        </p:nvSpPr>
        <p:spPr>
          <a:xfrm>
            <a:off x="5010120" y="4670280"/>
            <a:ext cx="3129120" cy="146520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mallest circumscribed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Variable gage in contact with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high points of datum feature A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nd perpendicular to datum su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face B).</a:t>
            </a:r>
            <a:endParaRPr b="0" lang="en-US" sz="1800" spc="-1" strike="noStrike">
              <a:solidFill>
                <a:srgbClr val="000000"/>
              </a:solidFill>
              <a:latin typeface="Arial"/>
            </a:endParaRPr>
          </a:p>
        </p:txBody>
      </p:sp>
      <p:sp>
        <p:nvSpPr>
          <p:cNvPr id="7614" name=""/>
          <p:cNvSpPr txBox="1"/>
          <p:nvPr/>
        </p:nvSpPr>
        <p:spPr>
          <a:xfrm>
            <a:off x="5011560" y="347508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615" name=""/>
          <p:cNvSpPr txBox="1"/>
          <p:nvPr/>
        </p:nvSpPr>
        <p:spPr>
          <a:xfrm>
            <a:off x="3008160" y="190440"/>
            <a:ext cx="306720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RFS</a:t>
            </a:r>
            <a:endParaRPr b="0" lang="en-US" sz="3600" spc="-1" strike="noStrike">
              <a:solidFill>
                <a:srgbClr val="000000"/>
              </a:solidFill>
              <a:latin typeface="Arial"/>
            </a:endParaRPr>
          </a:p>
        </p:txBody>
      </p:sp>
      <p:sp>
        <p:nvSpPr>
          <p:cNvPr id="7616" name=""/>
          <p:cNvSpPr txBox="1"/>
          <p:nvPr/>
        </p:nvSpPr>
        <p:spPr>
          <a:xfrm>
            <a:off x="1622520" y="3508200"/>
            <a:ext cx="1822320" cy="915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Gage Axis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Secondary, RFS)</a:t>
            </a:r>
            <a:endParaRPr b="0" lang="en-US" sz="1800" spc="-1" strike="noStrike">
              <a:solidFill>
                <a:srgbClr val="000000"/>
              </a:solidFill>
              <a:latin typeface="Arial"/>
            </a:endParaRPr>
          </a:p>
        </p:txBody>
      </p:sp>
      <p:grpSp>
        <p:nvGrpSpPr>
          <p:cNvPr id="7617" name=""/>
          <p:cNvGrpSpPr/>
          <p:nvPr/>
        </p:nvGrpSpPr>
        <p:grpSpPr>
          <a:xfrm>
            <a:off x="625320" y="1138320"/>
            <a:ext cx="2414520" cy="430200"/>
            <a:chOff x="625320" y="1138320"/>
            <a:chExt cx="2414520" cy="430200"/>
          </a:xfrm>
        </p:grpSpPr>
        <p:sp>
          <p:nvSpPr>
            <p:cNvPr id="7618" name=""/>
            <p:cNvSpPr/>
            <p:nvPr/>
          </p:nvSpPr>
          <p:spPr>
            <a:xfrm>
              <a:off x="625320" y="113832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619" name=""/>
            <p:cNvGrpSpPr/>
            <p:nvPr/>
          </p:nvGrpSpPr>
          <p:grpSpPr>
            <a:xfrm>
              <a:off x="714240" y="1192320"/>
              <a:ext cx="306360" cy="303120"/>
              <a:chOff x="714240" y="1192320"/>
              <a:chExt cx="306360" cy="303120"/>
            </a:xfrm>
          </p:grpSpPr>
          <p:sp>
            <p:nvSpPr>
              <p:cNvPr id="7620"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21"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2"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23"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624" name=""/>
            <p:cNvGrpSpPr/>
            <p:nvPr/>
          </p:nvGrpSpPr>
          <p:grpSpPr>
            <a:xfrm>
              <a:off x="1217520" y="1254240"/>
              <a:ext cx="177840" cy="177840"/>
              <a:chOff x="1217520" y="1254240"/>
              <a:chExt cx="177840" cy="177840"/>
            </a:xfrm>
          </p:grpSpPr>
          <p:sp>
            <p:nvSpPr>
              <p:cNvPr id="7625"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26"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27" name=""/>
            <p:cNvSpPr txBox="1"/>
            <p:nvPr/>
          </p:nvSpPr>
          <p:spPr>
            <a:xfrm>
              <a:off x="1403280" y="1149480"/>
              <a:ext cx="163656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7628" name=""/>
            <p:cNvSpPr/>
            <p:nvPr/>
          </p:nvSpPr>
          <p:spPr>
            <a:xfrm>
              <a:off x="198108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29"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30"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32" name=""/>
          <p:cNvSpPr txBox="1"/>
          <p:nvPr/>
        </p:nvSpPr>
        <p:spPr>
          <a:xfrm>
            <a:off x="2863800" y="179280"/>
            <a:ext cx="337176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MMC</a:t>
            </a:r>
            <a:endParaRPr b="0" lang="en-US" sz="3600" spc="-1" strike="noStrike">
              <a:solidFill>
                <a:srgbClr val="000000"/>
              </a:solidFill>
              <a:latin typeface="Arial"/>
            </a:endParaRPr>
          </a:p>
        </p:txBody>
      </p:sp>
      <p:grpSp>
        <p:nvGrpSpPr>
          <p:cNvPr id="7633" name=""/>
          <p:cNvGrpSpPr/>
          <p:nvPr/>
        </p:nvGrpSpPr>
        <p:grpSpPr>
          <a:xfrm>
            <a:off x="625320" y="1138320"/>
            <a:ext cx="2960640" cy="430200"/>
            <a:chOff x="625320" y="1138320"/>
            <a:chExt cx="2960640" cy="430200"/>
          </a:xfrm>
        </p:grpSpPr>
        <p:sp>
          <p:nvSpPr>
            <p:cNvPr id="7634" name=""/>
            <p:cNvSpPr/>
            <p:nvPr/>
          </p:nvSpPr>
          <p:spPr>
            <a:xfrm>
              <a:off x="625320" y="1138320"/>
              <a:ext cx="296064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635" name=""/>
            <p:cNvGrpSpPr/>
            <p:nvPr/>
          </p:nvGrpSpPr>
          <p:grpSpPr>
            <a:xfrm>
              <a:off x="714240" y="1192320"/>
              <a:ext cx="306360" cy="303120"/>
              <a:chOff x="714240" y="1192320"/>
              <a:chExt cx="306360" cy="303120"/>
            </a:xfrm>
          </p:grpSpPr>
          <p:sp>
            <p:nvSpPr>
              <p:cNvPr id="7636"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37"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8"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39"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640" name=""/>
            <p:cNvGrpSpPr/>
            <p:nvPr/>
          </p:nvGrpSpPr>
          <p:grpSpPr>
            <a:xfrm>
              <a:off x="1217520" y="1254240"/>
              <a:ext cx="177840" cy="177840"/>
              <a:chOff x="1217520" y="1254240"/>
              <a:chExt cx="177840" cy="177840"/>
            </a:xfrm>
          </p:grpSpPr>
          <p:sp>
            <p:nvSpPr>
              <p:cNvPr id="7641"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2"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43" name=""/>
            <p:cNvSpPr txBox="1"/>
            <p:nvPr/>
          </p:nvSpPr>
          <p:spPr>
            <a:xfrm>
              <a:off x="1403280" y="1149480"/>
              <a:ext cx="21160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   M</a:t>
              </a:r>
              <a:endParaRPr b="0" lang="en-US" sz="2000" spc="-1" strike="noStrike">
                <a:solidFill>
                  <a:srgbClr val="000000"/>
                </a:solidFill>
                <a:latin typeface="Arial"/>
              </a:endParaRPr>
            </a:p>
          </p:txBody>
        </p:sp>
        <p:sp>
          <p:nvSpPr>
            <p:cNvPr id="7644" name=""/>
            <p:cNvSpPr/>
            <p:nvPr/>
          </p:nvSpPr>
          <p:spPr>
            <a:xfrm>
              <a:off x="199080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45"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46"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47" name=""/>
            <p:cNvSpPr/>
            <p:nvPr/>
          </p:nvSpPr>
          <p:spPr>
            <a:xfrm>
              <a:off x="3130560" y="119844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6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49" name=""/>
          <p:cNvSpPr/>
          <p:nvPr/>
        </p:nvSpPr>
        <p:spPr>
          <a:xfrm flipH="1">
            <a:off x="2359080" y="234468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0" name=""/>
          <p:cNvSpPr/>
          <p:nvPr/>
        </p:nvSpPr>
        <p:spPr>
          <a:xfrm flipH="1">
            <a:off x="2359080" y="288612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1" name=""/>
          <p:cNvSpPr/>
          <p:nvPr/>
        </p:nvSpPr>
        <p:spPr>
          <a:xfrm>
            <a:off x="4322880" y="2886120"/>
            <a:ext cx="143280" cy="238320"/>
          </a:xfrm>
          <a:custGeom>
            <a:avLst/>
            <a:gdLst/>
            <a:ahLst/>
            <a:rect l="0" t="0" r="r" b="b"/>
            <a:pathLst>
              <a:path w="398" h="662">
                <a:moveTo>
                  <a:pt x="190" y="662"/>
                </a:moveTo>
                <a:lnTo>
                  <a:pt x="0" y="0"/>
                </a:lnTo>
                <a:lnTo>
                  <a:pt x="398" y="565"/>
                </a:lnTo>
                <a:lnTo>
                  <a:pt x="19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2" name=""/>
          <p:cNvSpPr/>
          <p:nvPr/>
        </p:nvSpPr>
        <p:spPr>
          <a:xfrm>
            <a:off x="4427640" y="3106800"/>
            <a:ext cx="462240" cy="568800"/>
          </a:xfrm>
          <a:custGeom>
            <a:avLst/>
            <a:gdLst/>
            <a:ahLst/>
            <a:rect l="0" t="0" r="r" b="b"/>
            <a:pathLst>
              <a:path fill="none" w="1284" h="1580">
                <a:moveTo>
                  <a:pt x="0" y="0"/>
                </a:moveTo>
                <a:lnTo>
                  <a:pt x="759" y="1580"/>
                </a:lnTo>
                <a:lnTo>
                  <a:pt x="1284" y="15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53" name=""/>
          <p:cNvSpPr/>
          <p:nvPr/>
        </p:nvSpPr>
        <p:spPr>
          <a:xfrm flipH="1">
            <a:off x="3759120" y="4097160"/>
            <a:ext cx="74160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7654" name=""/>
          <p:cNvSpPr/>
          <p:nvPr/>
        </p:nvSpPr>
        <p:spPr>
          <a:xfrm flipH="1">
            <a:off x="3706920" y="4057560"/>
            <a:ext cx="8175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655" name=""/>
          <p:cNvSpPr/>
          <p:nvPr/>
        </p:nvSpPr>
        <p:spPr>
          <a:xfrm flipH="1" flipV="1">
            <a:off x="3711600" y="4114800"/>
            <a:ext cx="47520" cy="30240"/>
          </a:xfrm>
          <a:prstGeom prst="line">
            <a:avLst/>
          </a:prstGeom>
          <a:ln w="12600">
            <a:solidFill>
              <a:srgbClr val="fffff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7656" name=""/>
          <p:cNvSpPr/>
          <p:nvPr/>
        </p:nvSpPr>
        <p:spPr>
          <a:xfrm>
            <a:off x="3630600" y="2886120"/>
            <a:ext cx="79560" cy="12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7" name=""/>
          <p:cNvSpPr/>
          <p:nvPr/>
        </p:nvSpPr>
        <p:spPr>
          <a:xfrm flipV="1">
            <a:off x="4492800" y="4059360"/>
            <a:ext cx="33120" cy="37800"/>
          </a:xfrm>
          <a:prstGeom prst="line">
            <a:avLst/>
          </a:prstGeom>
          <a:ln w="12600">
            <a:solidFill>
              <a:srgbClr val="ffffff"/>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658" name=""/>
          <p:cNvSpPr/>
          <p:nvPr/>
        </p:nvSpPr>
        <p:spPr>
          <a:xfrm>
            <a:off x="4446720" y="2886120"/>
            <a:ext cx="77760" cy="11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9" name=""/>
          <p:cNvSpPr/>
          <p:nvPr/>
        </p:nvSpPr>
        <p:spPr>
          <a:xfrm flipV="1">
            <a:off x="290052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0" name=""/>
          <p:cNvSpPr/>
          <p:nvPr/>
        </p:nvSpPr>
        <p:spPr>
          <a:xfrm flipV="1">
            <a:off x="290052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1" name=""/>
          <p:cNvSpPr/>
          <p:nvPr/>
        </p:nvSpPr>
        <p:spPr>
          <a:xfrm flipV="1">
            <a:off x="290052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2" name=""/>
          <p:cNvSpPr/>
          <p:nvPr/>
        </p:nvSpPr>
        <p:spPr>
          <a:xfrm flipV="1">
            <a:off x="4044960" y="4021200"/>
            <a:ext cx="0" cy="72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3" name=""/>
          <p:cNvSpPr/>
          <p:nvPr/>
        </p:nvSpPr>
        <p:spPr>
          <a:xfrm flipV="1">
            <a:off x="4044960" y="367992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4" name=""/>
          <p:cNvSpPr/>
          <p:nvPr/>
        </p:nvSpPr>
        <p:spPr>
          <a:xfrm flipV="1">
            <a:off x="4044960" y="2662200"/>
            <a:ext cx="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5" name=""/>
          <p:cNvSpPr/>
          <p:nvPr/>
        </p:nvSpPr>
        <p:spPr>
          <a:xfrm flipV="1">
            <a:off x="4044960" y="23223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6" name=""/>
          <p:cNvSpPr/>
          <p:nvPr/>
        </p:nvSpPr>
        <p:spPr>
          <a:xfrm flipV="1">
            <a:off x="4044960" y="143028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7" name=""/>
          <p:cNvSpPr/>
          <p:nvPr/>
        </p:nvSpPr>
        <p:spPr>
          <a:xfrm>
            <a:off x="31100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668" name=""/>
          <p:cNvSpPr/>
          <p:nvPr/>
        </p:nvSpPr>
        <p:spPr>
          <a:xfrm>
            <a:off x="31100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9" name=""/>
          <p:cNvSpPr/>
          <p:nvPr/>
        </p:nvSpPr>
        <p:spPr>
          <a:xfrm>
            <a:off x="31100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670" name=""/>
          <p:cNvSpPr/>
          <p:nvPr/>
        </p:nvSpPr>
        <p:spPr>
          <a:xfrm>
            <a:off x="2359080" y="2344680"/>
            <a:ext cx="0" cy="54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1" name=""/>
          <p:cNvSpPr/>
          <p:nvPr/>
        </p:nvSpPr>
        <p:spPr>
          <a:xfrm>
            <a:off x="26906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672" name=""/>
          <p:cNvSpPr/>
          <p:nvPr/>
        </p:nvSpPr>
        <p:spPr>
          <a:xfrm>
            <a:off x="26906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3" name=""/>
          <p:cNvSpPr/>
          <p:nvPr/>
        </p:nvSpPr>
        <p:spPr>
          <a:xfrm>
            <a:off x="26906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674" name=""/>
          <p:cNvSpPr/>
          <p:nvPr/>
        </p:nvSpPr>
        <p:spPr>
          <a:xfrm>
            <a:off x="497988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675" name=""/>
          <p:cNvSpPr/>
          <p:nvPr/>
        </p:nvSpPr>
        <p:spPr>
          <a:xfrm>
            <a:off x="497988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6" name=""/>
          <p:cNvSpPr/>
          <p:nvPr/>
        </p:nvSpPr>
        <p:spPr>
          <a:xfrm>
            <a:off x="497988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677" name=""/>
          <p:cNvSpPr/>
          <p:nvPr/>
        </p:nvSpPr>
        <p:spPr>
          <a:xfrm flipV="1">
            <a:off x="518796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8" name=""/>
          <p:cNvSpPr/>
          <p:nvPr/>
        </p:nvSpPr>
        <p:spPr>
          <a:xfrm flipV="1">
            <a:off x="518796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9" name=""/>
          <p:cNvSpPr/>
          <p:nvPr/>
        </p:nvSpPr>
        <p:spPr>
          <a:xfrm flipV="1">
            <a:off x="518796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0" name=""/>
          <p:cNvSpPr/>
          <p:nvPr/>
        </p:nvSpPr>
        <p:spPr>
          <a:xfrm>
            <a:off x="5729400" y="23446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1" name=""/>
          <p:cNvSpPr/>
          <p:nvPr/>
        </p:nvSpPr>
        <p:spPr>
          <a:xfrm>
            <a:off x="539892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682" name=""/>
          <p:cNvSpPr/>
          <p:nvPr/>
        </p:nvSpPr>
        <p:spPr>
          <a:xfrm>
            <a:off x="539892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3" name=""/>
          <p:cNvSpPr/>
          <p:nvPr/>
        </p:nvSpPr>
        <p:spPr>
          <a:xfrm>
            <a:off x="5398920" y="282744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grpSp>
        <p:nvGrpSpPr>
          <p:cNvPr id="7684" name=""/>
          <p:cNvGrpSpPr/>
          <p:nvPr/>
        </p:nvGrpSpPr>
        <p:grpSpPr>
          <a:xfrm>
            <a:off x="625320" y="1138320"/>
            <a:ext cx="2960640" cy="430200"/>
            <a:chOff x="625320" y="1138320"/>
            <a:chExt cx="2960640" cy="430200"/>
          </a:xfrm>
        </p:grpSpPr>
        <p:sp>
          <p:nvSpPr>
            <p:cNvPr id="7685" name=""/>
            <p:cNvSpPr/>
            <p:nvPr/>
          </p:nvSpPr>
          <p:spPr>
            <a:xfrm>
              <a:off x="625320" y="1138320"/>
              <a:ext cx="296064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686" name=""/>
            <p:cNvGrpSpPr/>
            <p:nvPr/>
          </p:nvGrpSpPr>
          <p:grpSpPr>
            <a:xfrm>
              <a:off x="714240" y="1192320"/>
              <a:ext cx="306360" cy="303120"/>
              <a:chOff x="714240" y="1192320"/>
              <a:chExt cx="306360" cy="303120"/>
            </a:xfrm>
          </p:grpSpPr>
          <p:sp>
            <p:nvSpPr>
              <p:cNvPr id="7687"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88"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9"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90"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691" name=""/>
            <p:cNvGrpSpPr/>
            <p:nvPr/>
          </p:nvGrpSpPr>
          <p:grpSpPr>
            <a:xfrm>
              <a:off x="1217520" y="1254240"/>
              <a:ext cx="177840" cy="177840"/>
              <a:chOff x="1217520" y="1254240"/>
              <a:chExt cx="177840" cy="177840"/>
            </a:xfrm>
          </p:grpSpPr>
          <p:sp>
            <p:nvSpPr>
              <p:cNvPr id="7692"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3"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694" name=""/>
            <p:cNvSpPr txBox="1"/>
            <p:nvPr/>
          </p:nvSpPr>
          <p:spPr>
            <a:xfrm>
              <a:off x="1403280" y="1149480"/>
              <a:ext cx="21160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   M</a:t>
              </a:r>
              <a:endParaRPr b="0" lang="en-US" sz="2000" spc="-1" strike="noStrike">
                <a:solidFill>
                  <a:srgbClr val="000000"/>
                </a:solidFill>
                <a:latin typeface="Arial"/>
              </a:endParaRPr>
            </a:p>
          </p:txBody>
        </p:sp>
        <p:sp>
          <p:nvSpPr>
            <p:cNvPr id="7695" name=""/>
            <p:cNvSpPr/>
            <p:nvPr/>
          </p:nvSpPr>
          <p:spPr>
            <a:xfrm>
              <a:off x="199080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96"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7"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698" name=""/>
            <p:cNvSpPr/>
            <p:nvPr/>
          </p:nvSpPr>
          <p:spPr>
            <a:xfrm>
              <a:off x="3130560" y="119844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699" name=""/>
          <p:cNvSpPr txBox="1"/>
          <p:nvPr/>
        </p:nvSpPr>
        <p:spPr>
          <a:xfrm>
            <a:off x="4911840" y="348624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700" name=""/>
          <p:cNvSpPr txBox="1"/>
          <p:nvPr/>
        </p:nvSpPr>
        <p:spPr>
          <a:xfrm>
            <a:off x="2863800" y="179280"/>
            <a:ext cx="337176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MM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3"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27669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5064120" y="3317760"/>
            <a:ext cx="0" cy="75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7" name=""/>
          <p:cNvGrpSpPr/>
          <p:nvPr/>
        </p:nvGrpSpPr>
        <p:grpSpPr>
          <a:xfrm>
            <a:off x="4413240" y="2560680"/>
            <a:ext cx="507960" cy="495360"/>
            <a:chOff x="4413240" y="2560680"/>
            <a:chExt cx="507960" cy="495360"/>
          </a:xfrm>
        </p:grpSpPr>
        <p:sp>
          <p:nvSpPr>
            <p:cNvPr id="858"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863"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4" name=""/>
          <p:cNvSpPr/>
          <p:nvPr/>
        </p:nvSpPr>
        <p:spPr>
          <a:xfrm>
            <a:off x="2676600" y="27957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2882880" y="27957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3009960" y="279576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869"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70" name=""/>
          <p:cNvGrpSpPr/>
          <p:nvPr/>
        </p:nvGrpSpPr>
        <p:grpSpPr>
          <a:xfrm>
            <a:off x="2523960" y="5121360"/>
            <a:ext cx="2523960" cy="1133280"/>
            <a:chOff x="2523960" y="5121360"/>
            <a:chExt cx="2523960" cy="1133280"/>
          </a:xfrm>
        </p:grpSpPr>
        <p:sp>
          <p:nvSpPr>
            <p:cNvPr id="871"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76" name=""/>
            <p:cNvGrpSpPr/>
            <p:nvPr/>
          </p:nvGrpSpPr>
          <p:grpSpPr>
            <a:xfrm>
              <a:off x="4651200" y="5127480"/>
              <a:ext cx="0" cy="1127160"/>
              <a:chOff x="4651200" y="5127480"/>
              <a:chExt cx="0" cy="1127160"/>
            </a:xfrm>
          </p:grpSpPr>
          <p:sp>
            <p:nvSpPr>
              <p:cNvPr id="877"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879"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0" name=""/>
            <p:cNvGrpSpPr/>
            <p:nvPr/>
          </p:nvGrpSpPr>
          <p:grpSpPr>
            <a:xfrm>
              <a:off x="2898720" y="5121360"/>
              <a:ext cx="0" cy="1127160"/>
              <a:chOff x="2898720" y="5121360"/>
              <a:chExt cx="0" cy="1127160"/>
            </a:xfrm>
          </p:grpSpPr>
          <p:sp>
            <p:nvSpPr>
              <p:cNvPr id="881"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883"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884"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sp>
        <p:nvSpPr>
          <p:cNvPr id="892"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txBox="1"/>
          <p:nvPr/>
        </p:nvSpPr>
        <p:spPr>
          <a:xfrm>
            <a:off x="5327640" y="97776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895" name=""/>
          <p:cNvSpPr txBox="1"/>
          <p:nvPr/>
        </p:nvSpPr>
        <p:spPr>
          <a:xfrm>
            <a:off x="5943600" y="83520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896" name=""/>
          <p:cNvGrpSpPr/>
          <p:nvPr/>
        </p:nvGrpSpPr>
        <p:grpSpPr>
          <a:xfrm>
            <a:off x="5797440" y="1015920"/>
            <a:ext cx="174600" cy="174600"/>
            <a:chOff x="5797440" y="1015920"/>
            <a:chExt cx="174600" cy="174600"/>
          </a:xfrm>
        </p:grpSpPr>
        <p:sp>
          <p:nvSpPr>
            <p:cNvPr id="897" name=""/>
            <p:cNvSpPr/>
            <p:nvPr/>
          </p:nvSpPr>
          <p:spPr>
            <a:xfrm>
              <a:off x="5813280" y="1031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flipH="1">
              <a:off x="5797440" y="1015920"/>
              <a:ext cx="17460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99"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900"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01" name=""/>
          <p:cNvSpPr/>
          <p:nvPr/>
        </p:nvSpPr>
        <p:spPr>
          <a:xfrm flipH="1">
            <a:off x="5175360" y="11160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flipH="1">
            <a:off x="4714920" y="1109520"/>
            <a:ext cx="466560" cy="1541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sp>
        <p:nvSpPr>
          <p:cNvPr id="904"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sp>
        <p:nvSpPr>
          <p:cNvPr id="905" name=""/>
          <p:cNvSpPr/>
          <p:nvPr/>
        </p:nvSpPr>
        <p:spPr>
          <a:xfrm flipH="1">
            <a:off x="2921040" y="36511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2533680" y="3273480"/>
            <a:ext cx="0" cy="79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2533680" y="3960720"/>
            <a:ext cx="1274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p:nvPr/>
        </p:nvSpPr>
        <p:spPr>
          <a:xfrm>
            <a:off x="4438800" y="39607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9" name=""/>
          <p:cNvSpPr txBox="1"/>
          <p:nvPr/>
        </p:nvSpPr>
        <p:spPr>
          <a:xfrm>
            <a:off x="3848040" y="3797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68.0</a:t>
            </a:r>
            <a:endParaRPr b="0" lang="en-US" sz="1600" spc="-1" strike="noStrike">
              <a:solidFill>
                <a:srgbClr val="000000"/>
              </a:solidFill>
              <a:latin typeface="Arial"/>
            </a:endParaRPr>
          </a:p>
        </p:txBody>
      </p:sp>
      <p:sp>
        <p:nvSpPr>
          <p:cNvPr id="910" name=""/>
          <p:cNvSpPr/>
          <p:nvPr/>
        </p:nvSpPr>
        <p:spPr>
          <a:xfrm>
            <a:off x="5159520" y="5345280"/>
            <a:ext cx="85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5159520" y="5954760"/>
            <a:ext cx="84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5900760" y="53341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p:nvPr/>
        </p:nvSpPr>
        <p:spPr>
          <a:xfrm flipV="1">
            <a:off x="5900760" y="484668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 name=""/>
          <p:cNvSpPr/>
          <p:nvPr/>
        </p:nvSpPr>
        <p:spPr>
          <a:xfrm>
            <a:off x="5900760" y="48466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 name=""/>
          <p:cNvSpPr txBox="1"/>
          <p:nvPr/>
        </p:nvSpPr>
        <p:spPr>
          <a:xfrm>
            <a:off x="6162840" y="468324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5.0</a:t>
            </a:r>
            <a:endParaRPr b="0" lang="en-US" sz="1600" spc="-1" strike="noStrike">
              <a:solidFill>
                <a:srgbClr val="000000"/>
              </a:solidFill>
              <a:latin typeface="Arial"/>
            </a:endParaRPr>
          </a:p>
        </p:txBody>
      </p:sp>
      <p:sp>
        <p:nvSpPr>
          <p:cNvPr id="916"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sp>
        <p:nvSpPr>
          <p:cNvPr id="919"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0" name=""/>
          <p:cNvSpPr/>
          <p:nvPr/>
        </p:nvSpPr>
        <p:spPr>
          <a:xfrm>
            <a:off x="3730680" y="2797200"/>
            <a:ext cx="6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3895560" y="2797200"/>
            <a:ext cx="54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4948200" y="5965920"/>
            <a:ext cx="420840" cy="420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 name=""/>
          <p:cNvSpPr/>
          <p:nvPr/>
        </p:nvSpPr>
        <p:spPr>
          <a:xfrm flipV="1">
            <a:off x="5369040" y="4314960"/>
            <a:ext cx="554040" cy="20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flipH="1">
            <a:off x="4881600" y="4314960"/>
            <a:ext cx="1041480" cy="104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a:off x="5923080" y="43149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 name=""/>
          <p:cNvSpPr txBox="1"/>
          <p:nvPr/>
        </p:nvSpPr>
        <p:spPr>
          <a:xfrm>
            <a:off x="6084720" y="415116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A (?)</a:t>
            </a:r>
            <a:endParaRPr b="0" lang="en-US" sz="1600" spc="-1" strike="noStrike">
              <a:solidFill>
                <a:srgbClr val="000000"/>
              </a:solidFill>
              <a:latin typeface="Arial"/>
            </a:endParaRPr>
          </a:p>
        </p:txBody>
      </p:sp>
      <p:sp>
        <p:nvSpPr>
          <p:cNvPr id="927" name=""/>
          <p:cNvSpPr/>
          <p:nvPr/>
        </p:nvSpPr>
        <p:spPr>
          <a:xfrm>
            <a:off x="5059440" y="2908440"/>
            <a:ext cx="123984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6305400" y="358128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 name=""/>
          <p:cNvSpPr txBox="1"/>
          <p:nvPr/>
        </p:nvSpPr>
        <p:spPr>
          <a:xfrm>
            <a:off x="6485040" y="3413160"/>
            <a:ext cx="20239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B (?) or C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0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02" name=""/>
          <p:cNvSpPr/>
          <p:nvPr/>
        </p:nvSpPr>
        <p:spPr>
          <a:xfrm flipH="1">
            <a:off x="2359080" y="234468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3" name=""/>
          <p:cNvSpPr/>
          <p:nvPr/>
        </p:nvSpPr>
        <p:spPr>
          <a:xfrm flipH="1">
            <a:off x="2359080" y="288612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4" name=""/>
          <p:cNvSpPr/>
          <p:nvPr/>
        </p:nvSpPr>
        <p:spPr>
          <a:xfrm>
            <a:off x="4322880" y="2886120"/>
            <a:ext cx="143280" cy="238320"/>
          </a:xfrm>
          <a:custGeom>
            <a:avLst/>
            <a:gdLst/>
            <a:ahLst/>
            <a:rect l="0" t="0" r="r" b="b"/>
            <a:pathLst>
              <a:path w="398" h="662">
                <a:moveTo>
                  <a:pt x="190" y="662"/>
                </a:moveTo>
                <a:lnTo>
                  <a:pt x="0" y="0"/>
                </a:lnTo>
                <a:lnTo>
                  <a:pt x="398" y="565"/>
                </a:lnTo>
                <a:lnTo>
                  <a:pt x="19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05" name=""/>
          <p:cNvSpPr/>
          <p:nvPr/>
        </p:nvSpPr>
        <p:spPr>
          <a:xfrm>
            <a:off x="4427640" y="3106800"/>
            <a:ext cx="462240" cy="568800"/>
          </a:xfrm>
          <a:custGeom>
            <a:avLst/>
            <a:gdLst/>
            <a:ahLst/>
            <a:rect l="0" t="0" r="r" b="b"/>
            <a:pathLst>
              <a:path fill="none" w="1284" h="1580">
                <a:moveTo>
                  <a:pt x="0" y="0"/>
                </a:moveTo>
                <a:lnTo>
                  <a:pt x="759" y="1580"/>
                </a:lnTo>
                <a:lnTo>
                  <a:pt x="1284" y="15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06" name=""/>
          <p:cNvSpPr/>
          <p:nvPr/>
        </p:nvSpPr>
        <p:spPr>
          <a:xfrm flipH="1">
            <a:off x="3759120" y="4097160"/>
            <a:ext cx="74160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7707" name=""/>
          <p:cNvSpPr/>
          <p:nvPr/>
        </p:nvSpPr>
        <p:spPr>
          <a:xfrm flipH="1">
            <a:off x="3706920" y="4057560"/>
            <a:ext cx="8175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708" name=""/>
          <p:cNvSpPr/>
          <p:nvPr/>
        </p:nvSpPr>
        <p:spPr>
          <a:xfrm flipH="1" flipV="1">
            <a:off x="3711600" y="4114800"/>
            <a:ext cx="47520" cy="30240"/>
          </a:xfrm>
          <a:prstGeom prst="line">
            <a:avLst/>
          </a:prstGeom>
          <a:ln w="12600">
            <a:solidFill>
              <a:srgbClr val="fffff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7709" name=""/>
          <p:cNvSpPr/>
          <p:nvPr/>
        </p:nvSpPr>
        <p:spPr>
          <a:xfrm>
            <a:off x="3630600" y="2886120"/>
            <a:ext cx="79560" cy="12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0" name=""/>
          <p:cNvSpPr/>
          <p:nvPr/>
        </p:nvSpPr>
        <p:spPr>
          <a:xfrm flipV="1">
            <a:off x="4492800" y="4059360"/>
            <a:ext cx="33120" cy="37800"/>
          </a:xfrm>
          <a:prstGeom prst="line">
            <a:avLst/>
          </a:prstGeom>
          <a:ln w="12600">
            <a:solidFill>
              <a:srgbClr val="ffffff"/>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711" name=""/>
          <p:cNvSpPr/>
          <p:nvPr/>
        </p:nvSpPr>
        <p:spPr>
          <a:xfrm>
            <a:off x="4446720" y="2886120"/>
            <a:ext cx="77760" cy="11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2" name=""/>
          <p:cNvSpPr/>
          <p:nvPr/>
        </p:nvSpPr>
        <p:spPr>
          <a:xfrm flipV="1">
            <a:off x="290052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3" name=""/>
          <p:cNvSpPr/>
          <p:nvPr/>
        </p:nvSpPr>
        <p:spPr>
          <a:xfrm flipV="1">
            <a:off x="290052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4" name=""/>
          <p:cNvSpPr/>
          <p:nvPr/>
        </p:nvSpPr>
        <p:spPr>
          <a:xfrm flipV="1">
            <a:off x="290052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5" name=""/>
          <p:cNvSpPr/>
          <p:nvPr/>
        </p:nvSpPr>
        <p:spPr>
          <a:xfrm flipV="1">
            <a:off x="4044960" y="4021200"/>
            <a:ext cx="0" cy="72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6" name=""/>
          <p:cNvSpPr/>
          <p:nvPr/>
        </p:nvSpPr>
        <p:spPr>
          <a:xfrm flipV="1">
            <a:off x="4044960" y="367992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7" name=""/>
          <p:cNvSpPr/>
          <p:nvPr/>
        </p:nvSpPr>
        <p:spPr>
          <a:xfrm flipV="1">
            <a:off x="4044960" y="2662200"/>
            <a:ext cx="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8" name=""/>
          <p:cNvSpPr/>
          <p:nvPr/>
        </p:nvSpPr>
        <p:spPr>
          <a:xfrm flipV="1">
            <a:off x="4044960" y="23223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9" name=""/>
          <p:cNvSpPr/>
          <p:nvPr/>
        </p:nvSpPr>
        <p:spPr>
          <a:xfrm flipV="1">
            <a:off x="4044960" y="143028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0" name=""/>
          <p:cNvSpPr/>
          <p:nvPr/>
        </p:nvSpPr>
        <p:spPr>
          <a:xfrm>
            <a:off x="31100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21" name=""/>
          <p:cNvSpPr/>
          <p:nvPr/>
        </p:nvSpPr>
        <p:spPr>
          <a:xfrm>
            <a:off x="31100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2" name=""/>
          <p:cNvSpPr/>
          <p:nvPr/>
        </p:nvSpPr>
        <p:spPr>
          <a:xfrm>
            <a:off x="31100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23" name=""/>
          <p:cNvSpPr/>
          <p:nvPr/>
        </p:nvSpPr>
        <p:spPr>
          <a:xfrm>
            <a:off x="2359080" y="2344680"/>
            <a:ext cx="0" cy="54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4" name=""/>
          <p:cNvSpPr/>
          <p:nvPr/>
        </p:nvSpPr>
        <p:spPr>
          <a:xfrm>
            <a:off x="26906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25" name=""/>
          <p:cNvSpPr/>
          <p:nvPr/>
        </p:nvSpPr>
        <p:spPr>
          <a:xfrm>
            <a:off x="26906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6" name=""/>
          <p:cNvSpPr/>
          <p:nvPr/>
        </p:nvSpPr>
        <p:spPr>
          <a:xfrm>
            <a:off x="26906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27" name=""/>
          <p:cNvSpPr/>
          <p:nvPr/>
        </p:nvSpPr>
        <p:spPr>
          <a:xfrm>
            <a:off x="497988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28" name=""/>
          <p:cNvSpPr/>
          <p:nvPr/>
        </p:nvSpPr>
        <p:spPr>
          <a:xfrm>
            <a:off x="497988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9" name=""/>
          <p:cNvSpPr/>
          <p:nvPr/>
        </p:nvSpPr>
        <p:spPr>
          <a:xfrm>
            <a:off x="497988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30" name=""/>
          <p:cNvSpPr/>
          <p:nvPr/>
        </p:nvSpPr>
        <p:spPr>
          <a:xfrm flipV="1">
            <a:off x="518796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1" name=""/>
          <p:cNvSpPr/>
          <p:nvPr/>
        </p:nvSpPr>
        <p:spPr>
          <a:xfrm flipV="1">
            <a:off x="518796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2" name=""/>
          <p:cNvSpPr/>
          <p:nvPr/>
        </p:nvSpPr>
        <p:spPr>
          <a:xfrm flipV="1">
            <a:off x="518796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3" name=""/>
          <p:cNvSpPr/>
          <p:nvPr/>
        </p:nvSpPr>
        <p:spPr>
          <a:xfrm>
            <a:off x="5729400" y="23446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4" name=""/>
          <p:cNvSpPr/>
          <p:nvPr/>
        </p:nvSpPr>
        <p:spPr>
          <a:xfrm>
            <a:off x="539892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35" name=""/>
          <p:cNvSpPr/>
          <p:nvPr/>
        </p:nvSpPr>
        <p:spPr>
          <a:xfrm>
            <a:off x="539892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6" name=""/>
          <p:cNvSpPr/>
          <p:nvPr/>
        </p:nvSpPr>
        <p:spPr>
          <a:xfrm>
            <a:off x="5398920" y="282744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7737" name=""/>
          <p:cNvSpPr txBox="1"/>
          <p:nvPr/>
        </p:nvSpPr>
        <p:spPr>
          <a:xfrm>
            <a:off x="4911840" y="348624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738" name=""/>
          <p:cNvSpPr txBox="1"/>
          <p:nvPr/>
        </p:nvSpPr>
        <p:spPr>
          <a:xfrm>
            <a:off x="2863800" y="179280"/>
            <a:ext cx="337176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MMC</a:t>
            </a:r>
            <a:endParaRPr b="0" lang="en-US" sz="3600" spc="-1" strike="noStrike">
              <a:solidFill>
                <a:srgbClr val="000000"/>
              </a:solidFill>
              <a:latin typeface="Arial"/>
            </a:endParaRPr>
          </a:p>
        </p:txBody>
      </p:sp>
      <p:sp>
        <p:nvSpPr>
          <p:cNvPr id="7739" name=""/>
          <p:cNvSpPr/>
          <p:nvPr/>
        </p:nvSpPr>
        <p:spPr>
          <a:xfrm flipH="1">
            <a:off x="6054840" y="2908440"/>
            <a:ext cx="593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0" name=""/>
          <p:cNvSpPr/>
          <p:nvPr/>
        </p:nvSpPr>
        <p:spPr>
          <a:xfrm flipH="1">
            <a:off x="5716440" y="2908440"/>
            <a:ext cx="168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1" name=""/>
          <p:cNvSpPr/>
          <p:nvPr/>
        </p:nvSpPr>
        <p:spPr>
          <a:xfrm flipH="1">
            <a:off x="5375160" y="29084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2" name=""/>
          <p:cNvSpPr/>
          <p:nvPr/>
        </p:nvSpPr>
        <p:spPr>
          <a:xfrm>
            <a:off x="1144440" y="2908440"/>
            <a:ext cx="768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3" name=""/>
          <p:cNvSpPr/>
          <p:nvPr/>
        </p:nvSpPr>
        <p:spPr>
          <a:xfrm>
            <a:off x="2092320" y="2908440"/>
            <a:ext cx="168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4" name=""/>
          <p:cNvSpPr/>
          <p:nvPr/>
        </p:nvSpPr>
        <p:spPr>
          <a:xfrm>
            <a:off x="2432160" y="29084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5" name=""/>
          <p:cNvSpPr/>
          <p:nvPr/>
        </p:nvSpPr>
        <p:spPr>
          <a:xfrm>
            <a:off x="5810400" y="2638440"/>
            <a:ext cx="81360" cy="248040"/>
          </a:xfrm>
          <a:custGeom>
            <a:avLst/>
            <a:gdLst/>
            <a:ahLst/>
            <a:rect l="0" t="0" r="r" b="b"/>
            <a:pathLst>
              <a:path w="226" h="689">
                <a:moveTo>
                  <a:pt x="226" y="26"/>
                </a:moveTo>
                <a:lnTo>
                  <a:pt x="26" y="689"/>
                </a:lnTo>
                <a:lnTo>
                  <a:pt x="0" y="0"/>
                </a:lnTo>
                <a:lnTo>
                  <a:pt x="226" y="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6" name=""/>
          <p:cNvSpPr/>
          <p:nvPr/>
        </p:nvSpPr>
        <p:spPr>
          <a:xfrm>
            <a:off x="5851440" y="1744560"/>
            <a:ext cx="359280" cy="919440"/>
          </a:xfrm>
          <a:custGeom>
            <a:avLst/>
            <a:gdLst/>
            <a:ahLst/>
            <a:rect l="0" t="0" r="r" b="b"/>
            <a:pathLst>
              <a:path fill="none" w="998" h="2554">
                <a:moveTo>
                  <a:pt x="0" y="2554"/>
                </a:moveTo>
                <a:lnTo>
                  <a:pt x="318" y="0"/>
                </a:lnTo>
                <a:lnTo>
                  <a:pt x="99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47" name=""/>
          <p:cNvSpPr txBox="1"/>
          <p:nvPr/>
        </p:nvSpPr>
        <p:spPr>
          <a:xfrm>
            <a:off x="6151680" y="1579680"/>
            <a:ext cx="28116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Datum plane B)</a:t>
            </a:r>
            <a:endParaRPr b="0" lang="en-US" sz="1800" spc="-1" strike="noStrike">
              <a:solidFill>
                <a:srgbClr val="000000"/>
              </a:solidFill>
              <a:latin typeface="Arial"/>
            </a:endParaRPr>
          </a:p>
        </p:txBody>
      </p:sp>
      <p:sp>
        <p:nvSpPr>
          <p:cNvPr id="7748" name=""/>
          <p:cNvSpPr/>
          <p:nvPr/>
        </p:nvSpPr>
        <p:spPr>
          <a:xfrm flipH="1">
            <a:off x="4587840" y="2909880"/>
            <a:ext cx="593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49" name=""/>
          <p:cNvSpPr/>
          <p:nvPr/>
        </p:nvSpPr>
        <p:spPr>
          <a:xfrm>
            <a:off x="2749680" y="2908440"/>
            <a:ext cx="768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750" name=""/>
          <p:cNvGrpSpPr/>
          <p:nvPr/>
        </p:nvGrpSpPr>
        <p:grpSpPr>
          <a:xfrm>
            <a:off x="625320" y="1138320"/>
            <a:ext cx="2960640" cy="430200"/>
            <a:chOff x="625320" y="1138320"/>
            <a:chExt cx="2960640" cy="430200"/>
          </a:xfrm>
        </p:grpSpPr>
        <p:sp>
          <p:nvSpPr>
            <p:cNvPr id="7751" name=""/>
            <p:cNvSpPr/>
            <p:nvPr/>
          </p:nvSpPr>
          <p:spPr>
            <a:xfrm>
              <a:off x="625320" y="1138320"/>
              <a:ext cx="296064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752" name=""/>
            <p:cNvGrpSpPr/>
            <p:nvPr/>
          </p:nvGrpSpPr>
          <p:grpSpPr>
            <a:xfrm>
              <a:off x="714240" y="1192320"/>
              <a:ext cx="306360" cy="303120"/>
              <a:chOff x="714240" y="1192320"/>
              <a:chExt cx="306360" cy="303120"/>
            </a:xfrm>
          </p:grpSpPr>
          <p:sp>
            <p:nvSpPr>
              <p:cNvPr id="7753"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54"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5"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756"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757" name=""/>
            <p:cNvGrpSpPr/>
            <p:nvPr/>
          </p:nvGrpSpPr>
          <p:grpSpPr>
            <a:xfrm>
              <a:off x="1217520" y="1254240"/>
              <a:ext cx="177840" cy="177840"/>
              <a:chOff x="1217520" y="1254240"/>
              <a:chExt cx="177840" cy="177840"/>
            </a:xfrm>
          </p:grpSpPr>
          <p:sp>
            <p:nvSpPr>
              <p:cNvPr id="7758"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59"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760" name=""/>
            <p:cNvSpPr txBox="1"/>
            <p:nvPr/>
          </p:nvSpPr>
          <p:spPr>
            <a:xfrm>
              <a:off x="1403280" y="1149480"/>
              <a:ext cx="21160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   M</a:t>
              </a:r>
              <a:endParaRPr b="0" lang="en-US" sz="2000" spc="-1" strike="noStrike">
                <a:solidFill>
                  <a:srgbClr val="000000"/>
                </a:solidFill>
                <a:latin typeface="Arial"/>
              </a:endParaRPr>
            </a:p>
          </p:txBody>
        </p:sp>
        <p:sp>
          <p:nvSpPr>
            <p:cNvPr id="7761" name=""/>
            <p:cNvSpPr/>
            <p:nvPr/>
          </p:nvSpPr>
          <p:spPr>
            <a:xfrm>
              <a:off x="199080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2"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63"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764" name=""/>
            <p:cNvSpPr/>
            <p:nvPr/>
          </p:nvSpPr>
          <p:spPr>
            <a:xfrm>
              <a:off x="3130560" y="119844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766" name=""/>
          <p:cNvSpPr/>
          <p:nvPr/>
        </p:nvSpPr>
        <p:spPr>
          <a:xfrm flipH="1">
            <a:off x="2359080" y="234468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7" name=""/>
          <p:cNvSpPr/>
          <p:nvPr/>
        </p:nvSpPr>
        <p:spPr>
          <a:xfrm flipH="1">
            <a:off x="2359080" y="288612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8" name=""/>
          <p:cNvSpPr/>
          <p:nvPr/>
        </p:nvSpPr>
        <p:spPr>
          <a:xfrm>
            <a:off x="4322880" y="2886120"/>
            <a:ext cx="143280" cy="238320"/>
          </a:xfrm>
          <a:custGeom>
            <a:avLst/>
            <a:gdLst/>
            <a:ahLst/>
            <a:rect l="0" t="0" r="r" b="b"/>
            <a:pathLst>
              <a:path w="398" h="662">
                <a:moveTo>
                  <a:pt x="190" y="662"/>
                </a:moveTo>
                <a:lnTo>
                  <a:pt x="0" y="0"/>
                </a:lnTo>
                <a:lnTo>
                  <a:pt x="398" y="565"/>
                </a:lnTo>
                <a:lnTo>
                  <a:pt x="19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69" name=""/>
          <p:cNvSpPr/>
          <p:nvPr/>
        </p:nvSpPr>
        <p:spPr>
          <a:xfrm>
            <a:off x="4427640" y="3106800"/>
            <a:ext cx="462240" cy="568800"/>
          </a:xfrm>
          <a:custGeom>
            <a:avLst/>
            <a:gdLst/>
            <a:ahLst/>
            <a:rect l="0" t="0" r="r" b="b"/>
            <a:pathLst>
              <a:path fill="none" w="1284" h="1580">
                <a:moveTo>
                  <a:pt x="0" y="0"/>
                </a:moveTo>
                <a:lnTo>
                  <a:pt x="759" y="1580"/>
                </a:lnTo>
                <a:lnTo>
                  <a:pt x="1284" y="15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770" name=""/>
          <p:cNvSpPr/>
          <p:nvPr/>
        </p:nvSpPr>
        <p:spPr>
          <a:xfrm flipH="1">
            <a:off x="3759120" y="4097160"/>
            <a:ext cx="74160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7771" name=""/>
          <p:cNvSpPr/>
          <p:nvPr/>
        </p:nvSpPr>
        <p:spPr>
          <a:xfrm flipH="1">
            <a:off x="3706920" y="4057560"/>
            <a:ext cx="8175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772" name=""/>
          <p:cNvSpPr/>
          <p:nvPr/>
        </p:nvSpPr>
        <p:spPr>
          <a:xfrm flipH="1" flipV="1">
            <a:off x="3711600" y="4114800"/>
            <a:ext cx="47520" cy="30240"/>
          </a:xfrm>
          <a:prstGeom prst="line">
            <a:avLst/>
          </a:prstGeom>
          <a:ln w="12600">
            <a:solidFill>
              <a:srgbClr val="fffff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7773" name=""/>
          <p:cNvSpPr/>
          <p:nvPr/>
        </p:nvSpPr>
        <p:spPr>
          <a:xfrm>
            <a:off x="3630600" y="2886120"/>
            <a:ext cx="79560" cy="12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4" name=""/>
          <p:cNvSpPr/>
          <p:nvPr/>
        </p:nvSpPr>
        <p:spPr>
          <a:xfrm flipV="1">
            <a:off x="4492800" y="4059360"/>
            <a:ext cx="33120" cy="37800"/>
          </a:xfrm>
          <a:prstGeom prst="line">
            <a:avLst/>
          </a:prstGeom>
          <a:ln w="12600">
            <a:solidFill>
              <a:srgbClr val="ffffff"/>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775" name=""/>
          <p:cNvSpPr/>
          <p:nvPr/>
        </p:nvSpPr>
        <p:spPr>
          <a:xfrm>
            <a:off x="4446720" y="2886120"/>
            <a:ext cx="77760" cy="11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6" name=""/>
          <p:cNvSpPr/>
          <p:nvPr/>
        </p:nvSpPr>
        <p:spPr>
          <a:xfrm flipV="1">
            <a:off x="290052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7" name=""/>
          <p:cNvSpPr/>
          <p:nvPr/>
        </p:nvSpPr>
        <p:spPr>
          <a:xfrm flipV="1">
            <a:off x="290052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8" name=""/>
          <p:cNvSpPr/>
          <p:nvPr/>
        </p:nvSpPr>
        <p:spPr>
          <a:xfrm flipV="1">
            <a:off x="290052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9" name=""/>
          <p:cNvSpPr/>
          <p:nvPr/>
        </p:nvSpPr>
        <p:spPr>
          <a:xfrm flipV="1">
            <a:off x="4044960" y="4021200"/>
            <a:ext cx="0" cy="72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0" name=""/>
          <p:cNvSpPr/>
          <p:nvPr/>
        </p:nvSpPr>
        <p:spPr>
          <a:xfrm flipV="1">
            <a:off x="4044960" y="367992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1" name=""/>
          <p:cNvSpPr/>
          <p:nvPr/>
        </p:nvSpPr>
        <p:spPr>
          <a:xfrm flipV="1">
            <a:off x="4044960" y="2662200"/>
            <a:ext cx="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2" name=""/>
          <p:cNvSpPr/>
          <p:nvPr/>
        </p:nvSpPr>
        <p:spPr>
          <a:xfrm flipV="1">
            <a:off x="4044960" y="23223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3" name=""/>
          <p:cNvSpPr/>
          <p:nvPr/>
        </p:nvSpPr>
        <p:spPr>
          <a:xfrm flipV="1">
            <a:off x="4044960" y="143028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4" name=""/>
          <p:cNvSpPr/>
          <p:nvPr/>
        </p:nvSpPr>
        <p:spPr>
          <a:xfrm>
            <a:off x="31100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85" name=""/>
          <p:cNvSpPr/>
          <p:nvPr/>
        </p:nvSpPr>
        <p:spPr>
          <a:xfrm>
            <a:off x="31100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6" name=""/>
          <p:cNvSpPr/>
          <p:nvPr/>
        </p:nvSpPr>
        <p:spPr>
          <a:xfrm>
            <a:off x="31100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87" name=""/>
          <p:cNvSpPr/>
          <p:nvPr/>
        </p:nvSpPr>
        <p:spPr>
          <a:xfrm>
            <a:off x="2359080" y="2344680"/>
            <a:ext cx="0" cy="54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8" name=""/>
          <p:cNvSpPr/>
          <p:nvPr/>
        </p:nvSpPr>
        <p:spPr>
          <a:xfrm>
            <a:off x="26906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89" name=""/>
          <p:cNvSpPr/>
          <p:nvPr/>
        </p:nvSpPr>
        <p:spPr>
          <a:xfrm>
            <a:off x="26906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0" name=""/>
          <p:cNvSpPr/>
          <p:nvPr/>
        </p:nvSpPr>
        <p:spPr>
          <a:xfrm>
            <a:off x="26906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91" name=""/>
          <p:cNvSpPr/>
          <p:nvPr/>
        </p:nvSpPr>
        <p:spPr>
          <a:xfrm>
            <a:off x="497988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92" name=""/>
          <p:cNvSpPr/>
          <p:nvPr/>
        </p:nvSpPr>
        <p:spPr>
          <a:xfrm>
            <a:off x="497988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3" name=""/>
          <p:cNvSpPr/>
          <p:nvPr/>
        </p:nvSpPr>
        <p:spPr>
          <a:xfrm>
            <a:off x="497988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94" name=""/>
          <p:cNvSpPr/>
          <p:nvPr/>
        </p:nvSpPr>
        <p:spPr>
          <a:xfrm flipV="1">
            <a:off x="518796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5" name=""/>
          <p:cNvSpPr/>
          <p:nvPr/>
        </p:nvSpPr>
        <p:spPr>
          <a:xfrm flipV="1">
            <a:off x="518796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6" name=""/>
          <p:cNvSpPr/>
          <p:nvPr/>
        </p:nvSpPr>
        <p:spPr>
          <a:xfrm flipV="1">
            <a:off x="518796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7" name=""/>
          <p:cNvSpPr/>
          <p:nvPr/>
        </p:nvSpPr>
        <p:spPr>
          <a:xfrm>
            <a:off x="5729400" y="23446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8" name=""/>
          <p:cNvSpPr/>
          <p:nvPr/>
        </p:nvSpPr>
        <p:spPr>
          <a:xfrm>
            <a:off x="539892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799" name=""/>
          <p:cNvSpPr/>
          <p:nvPr/>
        </p:nvSpPr>
        <p:spPr>
          <a:xfrm>
            <a:off x="539892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00" name=""/>
          <p:cNvSpPr/>
          <p:nvPr/>
        </p:nvSpPr>
        <p:spPr>
          <a:xfrm>
            <a:off x="5398920" y="282744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7801" name=""/>
          <p:cNvSpPr txBox="1"/>
          <p:nvPr/>
        </p:nvSpPr>
        <p:spPr>
          <a:xfrm>
            <a:off x="4911840" y="348624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802" name=""/>
          <p:cNvSpPr txBox="1"/>
          <p:nvPr/>
        </p:nvSpPr>
        <p:spPr>
          <a:xfrm>
            <a:off x="2863800" y="179280"/>
            <a:ext cx="337176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MMC</a:t>
            </a:r>
            <a:endParaRPr b="0" lang="en-US" sz="3600" spc="-1" strike="noStrike">
              <a:solidFill>
                <a:srgbClr val="000000"/>
              </a:solidFill>
              <a:latin typeface="Arial"/>
            </a:endParaRPr>
          </a:p>
        </p:txBody>
      </p:sp>
      <p:sp>
        <p:nvSpPr>
          <p:cNvPr id="7803" name=""/>
          <p:cNvSpPr/>
          <p:nvPr/>
        </p:nvSpPr>
        <p:spPr>
          <a:xfrm flipH="1">
            <a:off x="6054840" y="2908440"/>
            <a:ext cx="593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4" name=""/>
          <p:cNvSpPr/>
          <p:nvPr/>
        </p:nvSpPr>
        <p:spPr>
          <a:xfrm flipH="1">
            <a:off x="5716440" y="2908440"/>
            <a:ext cx="168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5" name=""/>
          <p:cNvSpPr/>
          <p:nvPr/>
        </p:nvSpPr>
        <p:spPr>
          <a:xfrm flipH="1">
            <a:off x="5375160" y="29084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6" name=""/>
          <p:cNvSpPr/>
          <p:nvPr/>
        </p:nvSpPr>
        <p:spPr>
          <a:xfrm>
            <a:off x="1144440" y="2908440"/>
            <a:ext cx="768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7" name=""/>
          <p:cNvSpPr/>
          <p:nvPr/>
        </p:nvSpPr>
        <p:spPr>
          <a:xfrm>
            <a:off x="2092320" y="2908440"/>
            <a:ext cx="168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8" name=""/>
          <p:cNvSpPr/>
          <p:nvPr/>
        </p:nvSpPr>
        <p:spPr>
          <a:xfrm>
            <a:off x="2432160" y="29084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09" name=""/>
          <p:cNvSpPr/>
          <p:nvPr/>
        </p:nvSpPr>
        <p:spPr>
          <a:xfrm>
            <a:off x="5810400" y="2638440"/>
            <a:ext cx="81360" cy="248040"/>
          </a:xfrm>
          <a:custGeom>
            <a:avLst/>
            <a:gdLst/>
            <a:ahLst/>
            <a:rect l="0" t="0" r="r" b="b"/>
            <a:pathLst>
              <a:path w="226" h="689">
                <a:moveTo>
                  <a:pt x="226" y="26"/>
                </a:moveTo>
                <a:lnTo>
                  <a:pt x="26" y="689"/>
                </a:lnTo>
                <a:lnTo>
                  <a:pt x="0" y="0"/>
                </a:lnTo>
                <a:lnTo>
                  <a:pt x="226" y="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0" name=""/>
          <p:cNvSpPr/>
          <p:nvPr/>
        </p:nvSpPr>
        <p:spPr>
          <a:xfrm>
            <a:off x="5851440" y="1744560"/>
            <a:ext cx="359280" cy="919440"/>
          </a:xfrm>
          <a:custGeom>
            <a:avLst/>
            <a:gdLst/>
            <a:ahLst/>
            <a:rect l="0" t="0" r="r" b="b"/>
            <a:pathLst>
              <a:path fill="none" w="998" h="2554">
                <a:moveTo>
                  <a:pt x="0" y="2554"/>
                </a:moveTo>
                <a:lnTo>
                  <a:pt x="318" y="0"/>
                </a:lnTo>
                <a:lnTo>
                  <a:pt x="99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1" name=""/>
          <p:cNvSpPr txBox="1"/>
          <p:nvPr/>
        </p:nvSpPr>
        <p:spPr>
          <a:xfrm>
            <a:off x="6151680" y="1579680"/>
            <a:ext cx="28116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Datum plane B)</a:t>
            </a:r>
            <a:endParaRPr b="0" lang="en-US" sz="1800" spc="-1" strike="noStrike">
              <a:solidFill>
                <a:srgbClr val="000000"/>
              </a:solidFill>
              <a:latin typeface="Arial"/>
            </a:endParaRPr>
          </a:p>
        </p:txBody>
      </p:sp>
      <p:sp>
        <p:nvSpPr>
          <p:cNvPr id="7812" name=""/>
          <p:cNvSpPr/>
          <p:nvPr/>
        </p:nvSpPr>
        <p:spPr>
          <a:xfrm flipH="1">
            <a:off x="4587840" y="2909880"/>
            <a:ext cx="593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3" name=""/>
          <p:cNvSpPr/>
          <p:nvPr/>
        </p:nvSpPr>
        <p:spPr>
          <a:xfrm>
            <a:off x="2749680" y="2908440"/>
            <a:ext cx="7682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14" name=""/>
          <p:cNvSpPr/>
          <p:nvPr/>
        </p:nvSpPr>
        <p:spPr>
          <a:xfrm>
            <a:off x="3692520" y="3425760"/>
            <a:ext cx="162360" cy="230400"/>
          </a:xfrm>
          <a:custGeom>
            <a:avLst/>
            <a:gdLst/>
            <a:ahLst/>
            <a:rect l="0" t="0" r="r" b="b"/>
            <a:pathLst>
              <a:path w="451" h="640">
                <a:moveTo>
                  <a:pt x="451" y="119"/>
                </a:moveTo>
                <a:lnTo>
                  <a:pt x="0" y="640"/>
                </a:lnTo>
                <a:lnTo>
                  <a:pt x="261" y="0"/>
                </a:lnTo>
                <a:lnTo>
                  <a:pt x="451" y="1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5" name=""/>
          <p:cNvSpPr/>
          <p:nvPr/>
        </p:nvSpPr>
        <p:spPr>
          <a:xfrm>
            <a:off x="3819600" y="1154160"/>
            <a:ext cx="1618200" cy="2294280"/>
          </a:xfrm>
          <a:custGeom>
            <a:avLst/>
            <a:gdLst/>
            <a:ahLst/>
            <a:rect l="0" t="0" r="r" b="b"/>
            <a:pathLst>
              <a:path fill="none" w="4495" h="6373">
                <a:moveTo>
                  <a:pt x="0" y="6373"/>
                </a:moveTo>
                <a:lnTo>
                  <a:pt x="3922" y="0"/>
                </a:lnTo>
                <a:lnTo>
                  <a:pt x="4495"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16" name=""/>
          <p:cNvSpPr txBox="1"/>
          <p:nvPr/>
        </p:nvSpPr>
        <p:spPr>
          <a:xfrm>
            <a:off x="5454720" y="973080"/>
            <a:ext cx="35733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A (Secondary Datum)</a:t>
            </a:r>
            <a:endParaRPr b="0" lang="en-US" sz="1800" spc="-1" strike="noStrike">
              <a:solidFill>
                <a:srgbClr val="000000"/>
              </a:solidFill>
              <a:latin typeface="Arial"/>
            </a:endParaRPr>
          </a:p>
        </p:txBody>
      </p:sp>
      <p:grpSp>
        <p:nvGrpSpPr>
          <p:cNvPr id="7817" name=""/>
          <p:cNvGrpSpPr/>
          <p:nvPr/>
        </p:nvGrpSpPr>
        <p:grpSpPr>
          <a:xfrm>
            <a:off x="625320" y="1138320"/>
            <a:ext cx="2960640" cy="430200"/>
            <a:chOff x="625320" y="1138320"/>
            <a:chExt cx="2960640" cy="430200"/>
          </a:xfrm>
        </p:grpSpPr>
        <p:sp>
          <p:nvSpPr>
            <p:cNvPr id="7818" name=""/>
            <p:cNvSpPr/>
            <p:nvPr/>
          </p:nvSpPr>
          <p:spPr>
            <a:xfrm>
              <a:off x="625320" y="1138320"/>
              <a:ext cx="296064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819" name=""/>
            <p:cNvGrpSpPr/>
            <p:nvPr/>
          </p:nvGrpSpPr>
          <p:grpSpPr>
            <a:xfrm>
              <a:off x="714240" y="1192320"/>
              <a:ext cx="306360" cy="303120"/>
              <a:chOff x="714240" y="1192320"/>
              <a:chExt cx="306360" cy="303120"/>
            </a:xfrm>
          </p:grpSpPr>
          <p:sp>
            <p:nvSpPr>
              <p:cNvPr id="7820"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1"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2"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23"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824" name=""/>
            <p:cNvGrpSpPr/>
            <p:nvPr/>
          </p:nvGrpSpPr>
          <p:grpSpPr>
            <a:xfrm>
              <a:off x="1217520" y="1254240"/>
              <a:ext cx="177840" cy="177840"/>
              <a:chOff x="1217520" y="1254240"/>
              <a:chExt cx="177840" cy="177840"/>
            </a:xfrm>
          </p:grpSpPr>
          <p:sp>
            <p:nvSpPr>
              <p:cNvPr id="7825"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6"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827" name=""/>
            <p:cNvSpPr txBox="1"/>
            <p:nvPr/>
          </p:nvSpPr>
          <p:spPr>
            <a:xfrm>
              <a:off x="1403280" y="1149480"/>
              <a:ext cx="21160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   M</a:t>
              </a:r>
              <a:endParaRPr b="0" lang="en-US" sz="2000" spc="-1" strike="noStrike">
                <a:solidFill>
                  <a:srgbClr val="000000"/>
                </a:solidFill>
                <a:latin typeface="Arial"/>
              </a:endParaRPr>
            </a:p>
          </p:txBody>
        </p:sp>
        <p:sp>
          <p:nvSpPr>
            <p:cNvPr id="7828" name=""/>
            <p:cNvSpPr/>
            <p:nvPr/>
          </p:nvSpPr>
          <p:spPr>
            <a:xfrm>
              <a:off x="199080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9"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30"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31" name=""/>
            <p:cNvSpPr/>
            <p:nvPr/>
          </p:nvSpPr>
          <p:spPr>
            <a:xfrm>
              <a:off x="3130560" y="119844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83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3" name=""/>
          <p:cNvSpPr/>
          <p:nvPr/>
        </p:nvSpPr>
        <p:spPr>
          <a:xfrm>
            <a:off x="3692520" y="3425760"/>
            <a:ext cx="162360" cy="230400"/>
          </a:xfrm>
          <a:custGeom>
            <a:avLst/>
            <a:gdLst/>
            <a:ahLst/>
            <a:rect l="0" t="0" r="r" b="b"/>
            <a:pathLst>
              <a:path w="451" h="640">
                <a:moveTo>
                  <a:pt x="451" y="119"/>
                </a:moveTo>
                <a:lnTo>
                  <a:pt x="0" y="640"/>
                </a:lnTo>
                <a:lnTo>
                  <a:pt x="261" y="0"/>
                </a:lnTo>
                <a:lnTo>
                  <a:pt x="451" y="1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34" name=""/>
          <p:cNvSpPr/>
          <p:nvPr/>
        </p:nvSpPr>
        <p:spPr>
          <a:xfrm>
            <a:off x="3819600" y="1154160"/>
            <a:ext cx="1618200" cy="2294280"/>
          </a:xfrm>
          <a:custGeom>
            <a:avLst/>
            <a:gdLst/>
            <a:ahLst/>
            <a:rect l="0" t="0" r="r" b="b"/>
            <a:pathLst>
              <a:path fill="none" w="4495" h="6373">
                <a:moveTo>
                  <a:pt x="0" y="6373"/>
                </a:moveTo>
                <a:lnTo>
                  <a:pt x="3922" y="0"/>
                </a:lnTo>
                <a:lnTo>
                  <a:pt x="4495"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35" name=""/>
          <p:cNvSpPr/>
          <p:nvPr/>
        </p:nvSpPr>
        <p:spPr>
          <a:xfrm flipH="1">
            <a:off x="2359080" y="234468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6" name=""/>
          <p:cNvSpPr/>
          <p:nvPr/>
        </p:nvSpPr>
        <p:spPr>
          <a:xfrm flipH="1">
            <a:off x="2359080" y="288612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37" name=""/>
          <p:cNvSpPr/>
          <p:nvPr/>
        </p:nvSpPr>
        <p:spPr>
          <a:xfrm>
            <a:off x="4322880" y="2886120"/>
            <a:ext cx="143280" cy="238320"/>
          </a:xfrm>
          <a:custGeom>
            <a:avLst/>
            <a:gdLst/>
            <a:ahLst/>
            <a:rect l="0" t="0" r="r" b="b"/>
            <a:pathLst>
              <a:path w="398" h="662">
                <a:moveTo>
                  <a:pt x="190" y="662"/>
                </a:moveTo>
                <a:lnTo>
                  <a:pt x="0" y="0"/>
                </a:lnTo>
                <a:lnTo>
                  <a:pt x="398" y="565"/>
                </a:lnTo>
                <a:lnTo>
                  <a:pt x="19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838" name=""/>
          <p:cNvGrpSpPr/>
          <p:nvPr/>
        </p:nvGrpSpPr>
        <p:grpSpPr>
          <a:xfrm>
            <a:off x="4613400" y="2908440"/>
            <a:ext cx="2035080" cy="2205000"/>
            <a:chOff x="4613400" y="2908440"/>
            <a:chExt cx="2035080" cy="2205000"/>
          </a:xfrm>
        </p:grpSpPr>
        <p:sp>
          <p:nvSpPr>
            <p:cNvPr id="7839" name=""/>
            <p:cNvSpPr/>
            <p:nvPr/>
          </p:nvSpPr>
          <p:spPr>
            <a:xfrm flipH="1">
              <a:off x="6054840" y="2908440"/>
              <a:ext cx="59364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40" name=""/>
            <p:cNvSpPr/>
            <p:nvPr/>
          </p:nvSpPr>
          <p:spPr>
            <a:xfrm flipH="1">
              <a:off x="5716440" y="2908440"/>
              <a:ext cx="16848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41" name=""/>
            <p:cNvSpPr/>
            <p:nvPr/>
          </p:nvSpPr>
          <p:spPr>
            <a:xfrm flipH="1">
              <a:off x="5375160" y="29084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42" name=""/>
            <p:cNvSpPr/>
            <p:nvPr/>
          </p:nvSpPr>
          <p:spPr>
            <a:xfrm>
              <a:off x="4613400" y="2908440"/>
              <a:ext cx="594000" cy="678240"/>
            </a:xfrm>
            <a:custGeom>
              <a:avLst/>
              <a:gdLst/>
              <a:ahLst/>
              <a:rect l="0" t="0" r="r" b="b"/>
              <a:pathLst>
                <a:path fill="none" w="1650" h="1884">
                  <a:moveTo>
                    <a:pt x="1650" y="0"/>
                  </a:moveTo>
                  <a:lnTo>
                    <a:pt x="0" y="0"/>
                  </a:lnTo>
                  <a:lnTo>
                    <a:pt x="0" y="1884"/>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43" name=""/>
            <p:cNvSpPr/>
            <p:nvPr/>
          </p:nvSpPr>
          <p:spPr>
            <a:xfrm>
              <a:off x="4613400" y="3755880"/>
              <a:ext cx="0" cy="16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44" name=""/>
            <p:cNvSpPr/>
            <p:nvPr/>
          </p:nvSpPr>
          <p:spPr>
            <a:xfrm>
              <a:off x="4613400" y="4095720"/>
              <a:ext cx="0" cy="16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45" name=""/>
            <p:cNvSpPr/>
            <p:nvPr/>
          </p:nvSpPr>
          <p:spPr>
            <a:xfrm>
              <a:off x="4613400" y="4433760"/>
              <a:ext cx="0" cy="6796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846" name=""/>
          <p:cNvSpPr/>
          <p:nvPr/>
        </p:nvSpPr>
        <p:spPr>
          <a:xfrm>
            <a:off x="4427640" y="3106800"/>
            <a:ext cx="462240" cy="568800"/>
          </a:xfrm>
          <a:custGeom>
            <a:avLst/>
            <a:gdLst/>
            <a:ahLst/>
            <a:rect l="0" t="0" r="r" b="b"/>
            <a:pathLst>
              <a:path fill="none" w="1284" h="1580">
                <a:moveTo>
                  <a:pt x="0" y="0"/>
                </a:moveTo>
                <a:lnTo>
                  <a:pt x="759" y="1580"/>
                </a:lnTo>
                <a:lnTo>
                  <a:pt x="1284" y="15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47" name=""/>
          <p:cNvSpPr/>
          <p:nvPr/>
        </p:nvSpPr>
        <p:spPr>
          <a:xfrm flipH="1">
            <a:off x="3759120" y="4097160"/>
            <a:ext cx="74160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7848" name=""/>
          <p:cNvSpPr/>
          <p:nvPr/>
        </p:nvSpPr>
        <p:spPr>
          <a:xfrm flipH="1">
            <a:off x="3706920" y="4057560"/>
            <a:ext cx="8175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849" name=""/>
          <p:cNvSpPr/>
          <p:nvPr/>
        </p:nvSpPr>
        <p:spPr>
          <a:xfrm flipH="1" flipV="1">
            <a:off x="3711600" y="4114800"/>
            <a:ext cx="47520" cy="30240"/>
          </a:xfrm>
          <a:prstGeom prst="line">
            <a:avLst/>
          </a:prstGeom>
          <a:ln w="12600">
            <a:solidFill>
              <a:srgbClr val="fffff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7850" name=""/>
          <p:cNvSpPr/>
          <p:nvPr/>
        </p:nvSpPr>
        <p:spPr>
          <a:xfrm>
            <a:off x="3630600" y="2886120"/>
            <a:ext cx="79560" cy="12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1" name=""/>
          <p:cNvSpPr/>
          <p:nvPr/>
        </p:nvSpPr>
        <p:spPr>
          <a:xfrm flipV="1">
            <a:off x="4492800" y="4059360"/>
            <a:ext cx="33120" cy="37800"/>
          </a:xfrm>
          <a:prstGeom prst="line">
            <a:avLst/>
          </a:prstGeom>
          <a:ln w="12600">
            <a:solidFill>
              <a:srgbClr val="ffffff"/>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852" name=""/>
          <p:cNvSpPr/>
          <p:nvPr/>
        </p:nvSpPr>
        <p:spPr>
          <a:xfrm>
            <a:off x="4446720" y="2886120"/>
            <a:ext cx="77760" cy="11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3" name=""/>
          <p:cNvSpPr/>
          <p:nvPr/>
        </p:nvSpPr>
        <p:spPr>
          <a:xfrm flipV="1">
            <a:off x="290052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4" name=""/>
          <p:cNvSpPr/>
          <p:nvPr/>
        </p:nvSpPr>
        <p:spPr>
          <a:xfrm flipV="1">
            <a:off x="290052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5" name=""/>
          <p:cNvSpPr/>
          <p:nvPr/>
        </p:nvSpPr>
        <p:spPr>
          <a:xfrm flipV="1">
            <a:off x="290052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56" name=""/>
          <p:cNvGrpSpPr/>
          <p:nvPr/>
        </p:nvGrpSpPr>
        <p:grpSpPr>
          <a:xfrm>
            <a:off x="1144440" y="2908440"/>
            <a:ext cx="2394360" cy="2189160"/>
            <a:chOff x="1144440" y="2908440"/>
            <a:chExt cx="2394360" cy="2189160"/>
          </a:xfrm>
        </p:grpSpPr>
        <p:sp>
          <p:nvSpPr>
            <p:cNvPr id="7857" name=""/>
            <p:cNvSpPr/>
            <p:nvPr/>
          </p:nvSpPr>
          <p:spPr>
            <a:xfrm>
              <a:off x="1144440" y="2908440"/>
              <a:ext cx="76860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58" name=""/>
            <p:cNvSpPr/>
            <p:nvPr/>
          </p:nvSpPr>
          <p:spPr>
            <a:xfrm>
              <a:off x="2092320" y="2908440"/>
              <a:ext cx="1681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59" name=""/>
            <p:cNvSpPr/>
            <p:nvPr/>
          </p:nvSpPr>
          <p:spPr>
            <a:xfrm>
              <a:off x="2432160" y="2908440"/>
              <a:ext cx="169920" cy="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60" name=""/>
            <p:cNvSpPr/>
            <p:nvPr/>
          </p:nvSpPr>
          <p:spPr>
            <a:xfrm>
              <a:off x="2770200" y="2908440"/>
              <a:ext cx="768600" cy="670320"/>
            </a:xfrm>
            <a:custGeom>
              <a:avLst/>
              <a:gdLst/>
              <a:ahLst/>
              <a:rect l="0" t="0" r="r" b="b"/>
              <a:pathLst>
                <a:path fill="none" w="2135" h="1862">
                  <a:moveTo>
                    <a:pt x="0" y="0"/>
                  </a:moveTo>
                  <a:lnTo>
                    <a:pt x="2135" y="0"/>
                  </a:lnTo>
                  <a:lnTo>
                    <a:pt x="2135" y="186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7861" name=""/>
            <p:cNvSpPr/>
            <p:nvPr/>
          </p:nvSpPr>
          <p:spPr>
            <a:xfrm>
              <a:off x="3538440" y="3747960"/>
              <a:ext cx="0" cy="16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62" name=""/>
            <p:cNvSpPr/>
            <p:nvPr/>
          </p:nvSpPr>
          <p:spPr>
            <a:xfrm>
              <a:off x="3538440" y="4086360"/>
              <a:ext cx="0" cy="171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863" name=""/>
            <p:cNvSpPr/>
            <p:nvPr/>
          </p:nvSpPr>
          <p:spPr>
            <a:xfrm>
              <a:off x="3538440" y="4427640"/>
              <a:ext cx="0" cy="6699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864" name=""/>
          <p:cNvSpPr/>
          <p:nvPr/>
        </p:nvSpPr>
        <p:spPr>
          <a:xfrm flipV="1">
            <a:off x="4044960" y="4021200"/>
            <a:ext cx="0" cy="72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5" name=""/>
          <p:cNvSpPr/>
          <p:nvPr/>
        </p:nvSpPr>
        <p:spPr>
          <a:xfrm flipV="1">
            <a:off x="4044960" y="367992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6" name=""/>
          <p:cNvSpPr/>
          <p:nvPr/>
        </p:nvSpPr>
        <p:spPr>
          <a:xfrm flipV="1">
            <a:off x="4044960" y="2662200"/>
            <a:ext cx="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7" name=""/>
          <p:cNvSpPr/>
          <p:nvPr/>
        </p:nvSpPr>
        <p:spPr>
          <a:xfrm flipV="1">
            <a:off x="4044960" y="23223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8" name=""/>
          <p:cNvSpPr/>
          <p:nvPr/>
        </p:nvSpPr>
        <p:spPr>
          <a:xfrm flipV="1">
            <a:off x="4044960" y="143028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9" name=""/>
          <p:cNvSpPr/>
          <p:nvPr/>
        </p:nvSpPr>
        <p:spPr>
          <a:xfrm>
            <a:off x="3805200" y="4960800"/>
            <a:ext cx="5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0" name=""/>
          <p:cNvSpPr/>
          <p:nvPr/>
        </p:nvSpPr>
        <p:spPr>
          <a:xfrm>
            <a:off x="3560760" y="4921200"/>
            <a:ext cx="244800" cy="79560"/>
          </a:xfrm>
          <a:custGeom>
            <a:avLst/>
            <a:gdLst/>
            <a:ahLst/>
            <a:rect l="0" t="0" r="r" b="b"/>
            <a:pathLst>
              <a:path w="680" h="221">
                <a:moveTo>
                  <a:pt x="680" y="0"/>
                </a:moveTo>
                <a:lnTo>
                  <a:pt x="680" y="221"/>
                </a:lnTo>
                <a:lnTo>
                  <a:pt x="0" y="111"/>
                </a:lnTo>
                <a:lnTo>
                  <a:pt x="680" y="0"/>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7871" name=""/>
          <p:cNvSpPr/>
          <p:nvPr/>
        </p:nvSpPr>
        <p:spPr>
          <a:xfrm>
            <a:off x="4349880" y="4921200"/>
            <a:ext cx="244800" cy="79560"/>
          </a:xfrm>
          <a:custGeom>
            <a:avLst/>
            <a:gdLst/>
            <a:ahLst/>
            <a:rect l="0" t="0" r="r" b="b"/>
            <a:pathLst>
              <a:path w="680" h="221">
                <a:moveTo>
                  <a:pt x="0" y="0"/>
                </a:moveTo>
                <a:lnTo>
                  <a:pt x="0" y="221"/>
                </a:lnTo>
                <a:lnTo>
                  <a:pt x="680" y="111"/>
                </a:lnTo>
                <a:lnTo>
                  <a:pt x="0" y="0"/>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7872" name=""/>
          <p:cNvSpPr/>
          <p:nvPr/>
        </p:nvSpPr>
        <p:spPr>
          <a:xfrm>
            <a:off x="4649760" y="497196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3" name=""/>
          <p:cNvSpPr/>
          <p:nvPr/>
        </p:nvSpPr>
        <p:spPr>
          <a:xfrm>
            <a:off x="31100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874" name=""/>
          <p:cNvSpPr/>
          <p:nvPr/>
        </p:nvSpPr>
        <p:spPr>
          <a:xfrm>
            <a:off x="31100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5" name=""/>
          <p:cNvSpPr/>
          <p:nvPr/>
        </p:nvSpPr>
        <p:spPr>
          <a:xfrm>
            <a:off x="31100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876" name=""/>
          <p:cNvSpPr/>
          <p:nvPr/>
        </p:nvSpPr>
        <p:spPr>
          <a:xfrm>
            <a:off x="2359080" y="2344680"/>
            <a:ext cx="0" cy="54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7" name=""/>
          <p:cNvSpPr/>
          <p:nvPr/>
        </p:nvSpPr>
        <p:spPr>
          <a:xfrm>
            <a:off x="26906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878" name=""/>
          <p:cNvSpPr/>
          <p:nvPr/>
        </p:nvSpPr>
        <p:spPr>
          <a:xfrm>
            <a:off x="26906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9" name=""/>
          <p:cNvSpPr/>
          <p:nvPr/>
        </p:nvSpPr>
        <p:spPr>
          <a:xfrm>
            <a:off x="26906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880" name=""/>
          <p:cNvSpPr/>
          <p:nvPr/>
        </p:nvSpPr>
        <p:spPr>
          <a:xfrm>
            <a:off x="497988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881" name=""/>
          <p:cNvSpPr/>
          <p:nvPr/>
        </p:nvSpPr>
        <p:spPr>
          <a:xfrm>
            <a:off x="497988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2" name=""/>
          <p:cNvSpPr/>
          <p:nvPr/>
        </p:nvSpPr>
        <p:spPr>
          <a:xfrm>
            <a:off x="497988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883" name=""/>
          <p:cNvSpPr/>
          <p:nvPr/>
        </p:nvSpPr>
        <p:spPr>
          <a:xfrm flipV="1">
            <a:off x="518796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4" name=""/>
          <p:cNvSpPr/>
          <p:nvPr/>
        </p:nvSpPr>
        <p:spPr>
          <a:xfrm flipV="1">
            <a:off x="518796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5" name=""/>
          <p:cNvSpPr/>
          <p:nvPr/>
        </p:nvSpPr>
        <p:spPr>
          <a:xfrm flipV="1">
            <a:off x="518796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6" name=""/>
          <p:cNvSpPr/>
          <p:nvPr/>
        </p:nvSpPr>
        <p:spPr>
          <a:xfrm>
            <a:off x="5810400" y="2638440"/>
            <a:ext cx="81360" cy="248040"/>
          </a:xfrm>
          <a:custGeom>
            <a:avLst/>
            <a:gdLst/>
            <a:ahLst/>
            <a:rect l="0" t="0" r="r" b="b"/>
            <a:pathLst>
              <a:path w="226" h="689">
                <a:moveTo>
                  <a:pt x="226" y="26"/>
                </a:moveTo>
                <a:lnTo>
                  <a:pt x="26" y="689"/>
                </a:lnTo>
                <a:lnTo>
                  <a:pt x="0" y="0"/>
                </a:lnTo>
                <a:lnTo>
                  <a:pt x="226" y="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7" name=""/>
          <p:cNvSpPr/>
          <p:nvPr/>
        </p:nvSpPr>
        <p:spPr>
          <a:xfrm>
            <a:off x="5851440" y="1744560"/>
            <a:ext cx="359280" cy="919440"/>
          </a:xfrm>
          <a:custGeom>
            <a:avLst/>
            <a:gdLst/>
            <a:ahLst/>
            <a:rect l="0" t="0" r="r" b="b"/>
            <a:pathLst>
              <a:path fill="none" w="998" h="2554">
                <a:moveTo>
                  <a:pt x="0" y="2554"/>
                </a:moveTo>
                <a:lnTo>
                  <a:pt x="318" y="0"/>
                </a:lnTo>
                <a:lnTo>
                  <a:pt x="99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8" name=""/>
          <p:cNvSpPr/>
          <p:nvPr/>
        </p:nvSpPr>
        <p:spPr>
          <a:xfrm>
            <a:off x="5729400" y="23446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9" name=""/>
          <p:cNvSpPr/>
          <p:nvPr/>
        </p:nvSpPr>
        <p:spPr>
          <a:xfrm>
            <a:off x="539892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890" name=""/>
          <p:cNvSpPr/>
          <p:nvPr/>
        </p:nvSpPr>
        <p:spPr>
          <a:xfrm>
            <a:off x="539892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1" name=""/>
          <p:cNvSpPr/>
          <p:nvPr/>
        </p:nvSpPr>
        <p:spPr>
          <a:xfrm>
            <a:off x="5398920" y="282744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7892" name=""/>
          <p:cNvSpPr txBox="1"/>
          <p:nvPr/>
        </p:nvSpPr>
        <p:spPr>
          <a:xfrm>
            <a:off x="5454720" y="973080"/>
            <a:ext cx="35733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A (Secondary Datum)</a:t>
            </a:r>
            <a:endParaRPr b="0" lang="en-US" sz="1800" spc="-1" strike="noStrike">
              <a:solidFill>
                <a:srgbClr val="000000"/>
              </a:solidFill>
              <a:latin typeface="Arial"/>
            </a:endParaRPr>
          </a:p>
        </p:txBody>
      </p:sp>
      <p:sp>
        <p:nvSpPr>
          <p:cNvPr id="7893" name=""/>
          <p:cNvSpPr txBox="1"/>
          <p:nvPr/>
        </p:nvSpPr>
        <p:spPr>
          <a:xfrm>
            <a:off x="6151680" y="1579680"/>
            <a:ext cx="28116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Datum plane B)</a:t>
            </a:r>
            <a:endParaRPr b="0" lang="en-US" sz="1800" spc="-1" strike="noStrike">
              <a:solidFill>
                <a:srgbClr val="000000"/>
              </a:solidFill>
              <a:latin typeface="Arial"/>
            </a:endParaRPr>
          </a:p>
        </p:txBody>
      </p:sp>
      <p:sp>
        <p:nvSpPr>
          <p:cNvPr id="7894" name=""/>
          <p:cNvSpPr txBox="1"/>
          <p:nvPr/>
        </p:nvSpPr>
        <p:spPr>
          <a:xfrm>
            <a:off x="4911840" y="348624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895" name=""/>
          <p:cNvSpPr txBox="1"/>
          <p:nvPr/>
        </p:nvSpPr>
        <p:spPr>
          <a:xfrm>
            <a:off x="5100480" y="4782960"/>
            <a:ext cx="2728800" cy="1190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Virtual condition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Fixed” gage cylinder held</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perpendicular to datum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plane B)</a:t>
            </a:r>
            <a:endParaRPr b="0" lang="en-US" sz="1800" spc="-1" strike="noStrike">
              <a:solidFill>
                <a:srgbClr val="000000"/>
              </a:solidFill>
              <a:latin typeface="Arial"/>
            </a:endParaRPr>
          </a:p>
        </p:txBody>
      </p:sp>
      <p:sp>
        <p:nvSpPr>
          <p:cNvPr id="7896" name=""/>
          <p:cNvSpPr txBox="1"/>
          <p:nvPr/>
        </p:nvSpPr>
        <p:spPr>
          <a:xfrm>
            <a:off x="2863800" y="179280"/>
            <a:ext cx="337176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MMC</a:t>
            </a:r>
            <a:endParaRPr b="0" lang="en-US" sz="3600" spc="-1" strike="noStrike">
              <a:solidFill>
                <a:srgbClr val="000000"/>
              </a:solidFill>
              <a:latin typeface="Arial"/>
            </a:endParaRPr>
          </a:p>
        </p:txBody>
      </p:sp>
      <p:grpSp>
        <p:nvGrpSpPr>
          <p:cNvPr id="7897" name=""/>
          <p:cNvGrpSpPr/>
          <p:nvPr/>
        </p:nvGrpSpPr>
        <p:grpSpPr>
          <a:xfrm>
            <a:off x="625320" y="1138320"/>
            <a:ext cx="2960640" cy="430200"/>
            <a:chOff x="625320" y="1138320"/>
            <a:chExt cx="2960640" cy="430200"/>
          </a:xfrm>
        </p:grpSpPr>
        <p:sp>
          <p:nvSpPr>
            <p:cNvPr id="7898" name=""/>
            <p:cNvSpPr/>
            <p:nvPr/>
          </p:nvSpPr>
          <p:spPr>
            <a:xfrm>
              <a:off x="625320" y="1138320"/>
              <a:ext cx="296064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899" name=""/>
            <p:cNvGrpSpPr/>
            <p:nvPr/>
          </p:nvGrpSpPr>
          <p:grpSpPr>
            <a:xfrm>
              <a:off x="714240" y="1192320"/>
              <a:ext cx="306360" cy="303120"/>
              <a:chOff x="714240" y="1192320"/>
              <a:chExt cx="306360" cy="303120"/>
            </a:xfrm>
          </p:grpSpPr>
          <p:sp>
            <p:nvSpPr>
              <p:cNvPr id="7900"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01"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2"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03"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904" name=""/>
            <p:cNvGrpSpPr/>
            <p:nvPr/>
          </p:nvGrpSpPr>
          <p:grpSpPr>
            <a:xfrm>
              <a:off x="1217520" y="1254240"/>
              <a:ext cx="177840" cy="177840"/>
              <a:chOff x="1217520" y="1254240"/>
              <a:chExt cx="177840" cy="177840"/>
            </a:xfrm>
          </p:grpSpPr>
          <p:sp>
            <p:nvSpPr>
              <p:cNvPr id="7905"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06"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07" name=""/>
            <p:cNvSpPr txBox="1"/>
            <p:nvPr/>
          </p:nvSpPr>
          <p:spPr>
            <a:xfrm>
              <a:off x="1403280" y="1149480"/>
              <a:ext cx="21160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   M</a:t>
              </a:r>
              <a:endParaRPr b="0" lang="en-US" sz="2000" spc="-1" strike="noStrike">
                <a:solidFill>
                  <a:srgbClr val="000000"/>
                </a:solidFill>
                <a:latin typeface="Arial"/>
              </a:endParaRPr>
            </a:p>
          </p:txBody>
        </p:sp>
        <p:sp>
          <p:nvSpPr>
            <p:cNvPr id="7908" name=""/>
            <p:cNvSpPr/>
            <p:nvPr/>
          </p:nvSpPr>
          <p:spPr>
            <a:xfrm>
              <a:off x="199080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09"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10"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11" name=""/>
            <p:cNvSpPr/>
            <p:nvPr/>
          </p:nvSpPr>
          <p:spPr>
            <a:xfrm>
              <a:off x="3130560" y="119844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91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3" name=""/>
          <p:cNvSpPr/>
          <p:nvPr/>
        </p:nvSpPr>
        <p:spPr>
          <a:xfrm>
            <a:off x="3692520" y="3425760"/>
            <a:ext cx="162360" cy="230400"/>
          </a:xfrm>
          <a:custGeom>
            <a:avLst/>
            <a:gdLst/>
            <a:ahLst/>
            <a:rect l="0" t="0" r="r" b="b"/>
            <a:pathLst>
              <a:path w="451" h="640">
                <a:moveTo>
                  <a:pt x="451" y="119"/>
                </a:moveTo>
                <a:lnTo>
                  <a:pt x="0" y="640"/>
                </a:lnTo>
                <a:lnTo>
                  <a:pt x="261" y="0"/>
                </a:lnTo>
                <a:lnTo>
                  <a:pt x="451" y="119"/>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14" name=""/>
          <p:cNvSpPr/>
          <p:nvPr/>
        </p:nvSpPr>
        <p:spPr>
          <a:xfrm>
            <a:off x="3819600" y="1154160"/>
            <a:ext cx="1618200" cy="2294280"/>
          </a:xfrm>
          <a:custGeom>
            <a:avLst/>
            <a:gdLst/>
            <a:ahLst/>
            <a:rect l="0" t="0" r="r" b="b"/>
            <a:pathLst>
              <a:path fill="none" w="4495" h="6373">
                <a:moveTo>
                  <a:pt x="0" y="6373"/>
                </a:moveTo>
                <a:lnTo>
                  <a:pt x="3922" y="0"/>
                </a:lnTo>
                <a:lnTo>
                  <a:pt x="4495"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15" name=""/>
          <p:cNvSpPr/>
          <p:nvPr/>
        </p:nvSpPr>
        <p:spPr>
          <a:xfrm flipH="1">
            <a:off x="2359080" y="234468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6" name=""/>
          <p:cNvSpPr/>
          <p:nvPr/>
        </p:nvSpPr>
        <p:spPr>
          <a:xfrm flipH="1">
            <a:off x="2359080" y="2886120"/>
            <a:ext cx="337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7" name=""/>
          <p:cNvSpPr/>
          <p:nvPr/>
        </p:nvSpPr>
        <p:spPr>
          <a:xfrm>
            <a:off x="4322880" y="2886120"/>
            <a:ext cx="143280" cy="238320"/>
          </a:xfrm>
          <a:custGeom>
            <a:avLst/>
            <a:gdLst/>
            <a:ahLst/>
            <a:rect l="0" t="0" r="r" b="b"/>
            <a:pathLst>
              <a:path w="398" h="662">
                <a:moveTo>
                  <a:pt x="190" y="662"/>
                </a:moveTo>
                <a:lnTo>
                  <a:pt x="0" y="0"/>
                </a:lnTo>
                <a:lnTo>
                  <a:pt x="398" y="565"/>
                </a:lnTo>
                <a:lnTo>
                  <a:pt x="190" y="662"/>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18" name=""/>
          <p:cNvGrpSpPr/>
          <p:nvPr/>
        </p:nvGrpSpPr>
        <p:grpSpPr>
          <a:xfrm>
            <a:off x="4613400" y="2908440"/>
            <a:ext cx="2035080" cy="2205000"/>
            <a:chOff x="4613400" y="2908440"/>
            <a:chExt cx="2035080" cy="2205000"/>
          </a:xfrm>
        </p:grpSpPr>
        <p:sp>
          <p:nvSpPr>
            <p:cNvPr id="7919" name=""/>
            <p:cNvSpPr/>
            <p:nvPr/>
          </p:nvSpPr>
          <p:spPr>
            <a:xfrm flipH="1">
              <a:off x="6054840" y="2908440"/>
              <a:ext cx="5936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20" name=""/>
            <p:cNvSpPr/>
            <p:nvPr/>
          </p:nvSpPr>
          <p:spPr>
            <a:xfrm flipH="1">
              <a:off x="5716440" y="2908440"/>
              <a:ext cx="1684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21" name=""/>
            <p:cNvSpPr/>
            <p:nvPr/>
          </p:nvSpPr>
          <p:spPr>
            <a:xfrm flipH="1">
              <a:off x="5375160" y="2908440"/>
              <a:ext cx="1699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22" name=""/>
            <p:cNvSpPr/>
            <p:nvPr/>
          </p:nvSpPr>
          <p:spPr>
            <a:xfrm>
              <a:off x="4613400" y="2908440"/>
              <a:ext cx="594000" cy="678240"/>
            </a:xfrm>
            <a:custGeom>
              <a:avLst/>
              <a:gdLst/>
              <a:ahLst/>
              <a:rect l="0" t="0" r="r" b="b"/>
              <a:pathLst>
                <a:path fill="none" w="1650" h="1884">
                  <a:moveTo>
                    <a:pt x="1650" y="0"/>
                  </a:moveTo>
                  <a:lnTo>
                    <a:pt x="0" y="0"/>
                  </a:lnTo>
                  <a:lnTo>
                    <a:pt x="0" y="1884"/>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23" name=""/>
            <p:cNvSpPr/>
            <p:nvPr/>
          </p:nvSpPr>
          <p:spPr>
            <a:xfrm>
              <a:off x="4613400" y="3755880"/>
              <a:ext cx="0" cy="169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24" name=""/>
            <p:cNvSpPr/>
            <p:nvPr/>
          </p:nvSpPr>
          <p:spPr>
            <a:xfrm>
              <a:off x="4613400" y="4095720"/>
              <a:ext cx="0" cy="169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25" name=""/>
            <p:cNvSpPr/>
            <p:nvPr/>
          </p:nvSpPr>
          <p:spPr>
            <a:xfrm>
              <a:off x="4613400" y="4433760"/>
              <a:ext cx="0" cy="679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926" name=""/>
          <p:cNvSpPr/>
          <p:nvPr/>
        </p:nvSpPr>
        <p:spPr>
          <a:xfrm>
            <a:off x="4427640" y="3106800"/>
            <a:ext cx="462240" cy="568800"/>
          </a:xfrm>
          <a:custGeom>
            <a:avLst/>
            <a:gdLst/>
            <a:ahLst/>
            <a:rect l="0" t="0" r="r" b="b"/>
            <a:pathLst>
              <a:path fill="none" w="1284" h="1580">
                <a:moveTo>
                  <a:pt x="0" y="0"/>
                </a:moveTo>
                <a:lnTo>
                  <a:pt x="759" y="1580"/>
                </a:lnTo>
                <a:lnTo>
                  <a:pt x="1284" y="15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27" name=""/>
          <p:cNvSpPr/>
          <p:nvPr/>
        </p:nvSpPr>
        <p:spPr>
          <a:xfrm flipH="1">
            <a:off x="3759120" y="4097160"/>
            <a:ext cx="74160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7928" name=""/>
          <p:cNvSpPr/>
          <p:nvPr/>
        </p:nvSpPr>
        <p:spPr>
          <a:xfrm flipH="1">
            <a:off x="3706920" y="4057560"/>
            <a:ext cx="8175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7929" name=""/>
          <p:cNvSpPr/>
          <p:nvPr/>
        </p:nvSpPr>
        <p:spPr>
          <a:xfrm flipH="1" flipV="1">
            <a:off x="3711600" y="4114800"/>
            <a:ext cx="47520" cy="30240"/>
          </a:xfrm>
          <a:prstGeom prst="line">
            <a:avLst/>
          </a:prstGeom>
          <a:ln w="12600">
            <a:solidFill>
              <a:srgbClr val="ffffff"/>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7930" name=""/>
          <p:cNvSpPr/>
          <p:nvPr/>
        </p:nvSpPr>
        <p:spPr>
          <a:xfrm>
            <a:off x="3630600" y="2886120"/>
            <a:ext cx="79560" cy="12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1" name=""/>
          <p:cNvSpPr/>
          <p:nvPr/>
        </p:nvSpPr>
        <p:spPr>
          <a:xfrm flipV="1">
            <a:off x="4492800" y="4059360"/>
            <a:ext cx="33120" cy="37800"/>
          </a:xfrm>
          <a:prstGeom prst="line">
            <a:avLst/>
          </a:prstGeom>
          <a:ln w="12600">
            <a:solidFill>
              <a:srgbClr val="ffffff"/>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932" name=""/>
          <p:cNvSpPr/>
          <p:nvPr/>
        </p:nvSpPr>
        <p:spPr>
          <a:xfrm>
            <a:off x="4446720" y="2886120"/>
            <a:ext cx="77760" cy="11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3" name=""/>
          <p:cNvSpPr/>
          <p:nvPr/>
        </p:nvSpPr>
        <p:spPr>
          <a:xfrm flipV="1">
            <a:off x="290052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4" name=""/>
          <p:cNvSpPr/>
          <p:nvPr/>
        </p:nvSpPr>
        <p:spPr>
          <a:xfrm flipV="1">
            <a:off x="290052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5" name=""/>
          <p:cNvSpPr/>
          <p:nvPr/>
        </p:nvSpPr>
        <p:spPr>
          <a:xfrm flipV="1">
            <a:off x="290052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936" name=""/>
          <p:cNvGrpSpPr/>
          <p:nvPr/>
        </p:nvGrpSpPr>
        <p:grpSpPr>
          <a:xfrm>
            <a:off x="1144440" y="2908440"/>
            <a:ext cx="2394360" cy="2189160"/>
            <a:chOff x="1144440" y="2908440"/>
            <a:chExt cx="2394360" cy="2189160"/>
          </a:xfrm>
        </p:grpSpPr>
        <p:sp>
          <p:nvSpPr>
            <p:cNvPr id="7937" name=""/>
            <p:cNvSpPr/>
            <p:nvPr/>
          </p:nvSpPr>
          <p:spPr>
            <a:xfrm>
              <a:off x="1144440" y="2908440"/>
              <a:ext cx="7686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38" name=""/>
            <p:cNvSpPr/>
            <p:nvPr/>
          </p:nvSpPr>
          <p:spPr>
            <a:xfrm>
              <a:off x="2092320" y="2908440"/>
              <a:ext cx="1681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39" name=""/>
            <p:cNvSpPr/>
            <p:nvPr/>
          </p:nvSpPr>
          <p:spPr>
            <a:xfrm>
              <a:off x="2432160" y="2908440"/>
              <a:ext cx="1699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0" name=""/>
            <p:cNvSpPr/>
            <p:nvPr/>
          </p:nvSpPr>
          <p:spPr>
            <a:xfrm>
              <a:off x="2770200" y="2908440"/>
              <a:ext cx="768600" cy="670320"/>
            </a:xfrm>
            <a:custGeom>
              <a:avLst/>
              <a:gdLst/>
              <a:ahLst/>
              <a:rect l="0" t="0" r="r" b="b"/>
              <a:pathLst>
                <a:path fill="none" w="2135" h="1862">
                  <a:moveTo>
                    <a:pt x="0" y="0"/>
                  </a:moveTo>
                  <a:lnTo>
                    <a:pt x="2135" y="0"/>
                  </a:lnTo>
                  <a:lnTo>
                    <a:pt x="2135" y="1862"/>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41" name=""/>
            <p:cNvSpPr/>
            <p:nvPr/>
          </p:nvSpPr>
          <p:spPr>
            <a:xfrm>
              <a:off x="3538440" y="3747960"/>
              <a:ext cx="0" cy="169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2" name=""/>
            <p:cNvSpPr/>
            <p:nvPr/>
          </p:nvSpPr>
          <p:spPr>
            <a:xfrm>
              <a:off x="3538440" y="4086360"/>
              <a:ext cx="0" cy="1713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43" name=""/>
            <p:cNvSpPr/>
            <p:nvPr/>
          </p:nvSpPr>
          <p:spPr>
            <a:xfrm>
              <a:off x="3538440" y="4427640"/>
              <a:ext cx="0" cy="6699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7944" name=""/>
          <p:cNvSpPr/>
          <p:nvPr/>
        </p:nvSpPr>
        <p:spPr>
          <a:xfrm flipV="1">
            <a:off x="4044960" y="4021200"/>
            <a:ext cx="0" cy="72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5" name=""/>
          <p:cNvSpPr/>
          <p:nvPr/>
        </p:nvSpPr>
        <p:spPr>
          <a:xfrm flipV="1">
            <a:off x="4044960" y="367992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6" name=""/>
          <p:cNvSpPr/>
          <p:nvPr/>
        </p:nvSpPr>
        <p:spPr>
          <a:xfrm flipV="1">
            <a:off x="4044960" y="2662200"/>
            <a:ext cx="0" cy="849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7" name=""/>
          <p:cNvSpPr/>
          <p:nvPr/>
        </p:nvSpPr>
        <p:spPr>
          <a:xfrm flipV="1">
            <a:off x="4044960" y="232236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8" name=""/>
          <p:cNvSpPr/>
          <p:nvPr/>
        </p:nvSpPr>
        <p:spPr>
          <a:xfrm flipV="1">
            <a:off x="4044960" y="143028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9" name=""/>
          <p:cNvSpPr/>
          <p:nvPr/>
        </p:nvSpPr>
        <p:spPr>
          <a:xfrm>
            <a:off x="3808440" y="4270320"/>
            <a:ext cx="236880" cy="144720"/>
          </a:xfrm>
          <a:custGeom>
            <a:avLst/>
            <a:gdLst/>
            <a:ahLst/>
            <a:rect l="0" t="0" r="r" b="b"/>
            <a:pathLst>
              <a:path w="658" h="402">
                <a:moveTo>
                  <a:pt x="97" y="0"/>
                </a:moveTo>
                <a:lnTo>
                  <a:pt x="658" y="402"/>
                </a:lnTo>
                <a:lnTo>
                  <a:pt x="0" y="203"/>
                </a:lnTo>
                <a:lnTo>
                  <a:pt x="97"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50" name=""/>
          <p:cNvSpPr/>
          <p:nvPr/>
        </p:nvSpPr>
        <p:spPr>
          <a:xfrm>
            <a:off x="3083040" y="4037040"/>
            <a:ext cx="743400" cy="270360"/>
          </a:xfrm>
          <a:custGeom>
            <a:avLst/>
            <a:gdLst/>
            <a:ahLst/>
            <a:rect l="0" t="0" r="r" b="b"/>
            <a:pathLst>
              <a:path fill="none" w="2065" h="751">
                <a:moveTo>
                  <a:pt x="2065" y="751"/>
                </a:moveTo>
                <a:lnTo>
                  <a:pt x="543" y="0"/>
                </a:lnTo>
                <a:lnTo>
                  <a:pt x="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51" name=""/>
          <p:cNvSpPr/>
          <p:nvPr/>
        </p:nvSpPr>
        <p:spPr>
          <a:xfrm>
            <a:off x="3805200" y="4960800"/>
            <a:ext cx="555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2" name=""/>
          <p:cNvSpPr/>
          <p:nvPr/>
        </p:nvSpPr>
        <p:spPr>
          <a:xfrm>
            <a:off x="3560760" y="4921200"/>
            <a:ext cx="244800" cy="79560"/>
          </a:xfrm>
          <a:custGeom>
            <a:avLst/>
            <a:gdLst/>
            <a:ahLst/>
            <a:rect l="0" t="0" r="r" b="b"/>
            <a:pathLst>
              <a:path w="680" h="221">
                <a:moveTo>
                  <a:pt x="680" y="0"/>
                </a:moveTo>
                <a:lnTo>
                  <a:pt x="680" y="221"/>
                </a:lnTo>
                <a:lnTo>
                  <a:pt x="0" y="111"/>
                </a:lnTo>
                <a:lnTo>
                  <a:pt x="680" y="0"/>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7953" name=""/>
          <p:cNvSpPr/>
          <p:nvPr/>
        </p:nvSpPr>
        <p:spPr>
          <a:xfrm>
            <a:off x="4349880" y="4921200"/>
            <a:ext cx="244800" cy="79560"/>
          </a:xfrm>
          <a:custGeom>
            <a:avLst/>
            <a:gdLst/>
            <a:ahLst/>
            <a:rect l="0" t="0" r="r" b="b"/>
            <a:pathLst>
              <a:path w="680" h="221">
                <a:moveTo>
                  <a:pt x="0" y="0"/>
                </a:moveTo>
                <a:lnTo>
                  <a:pt x="0" y="221"/>
                </a:lnTo>
                <a:lnTo>
                  <a:pt x="680" y="111"/>
                </a:lnTo>
                <a:lnTo>
                  <a:pt x="0" y="0"/>
                </a:lnTo>
                <a:close/>
              </a:path>
            </a:pathLst>
          </a:custGeom>
          <a:solidFill>
            <a:srgbClr val="ffffff"/>
          </a:solidFill>
          <a:ln w="12600">
            <a:solidFill>
              <a:srgbClr val="ffffff"/>
            </a:solidFill>
            <a:round/>
          </a:ln>
        </p:spPr>
        <p:txBody>
          <a:bodyPr lIns="96120" rIns="96120" tIns="28440" bIns="28440" anchor="t">
            <a:noAutofit/>
          </a:bodyPr>
          <a:p>
            <a:endParaRPr b="0" lang="en-US" sz="1800" spc="-1" strike="noStrike">
              <a:solidFill>
                <a:srgbClr val="000000"/>
              </a:solidFill>
              <a:latin typeface="Arial"/>
            </a:endParaRPr>
          </a:p>
        </p:txBody>
      </p:sp>
      <p:sp>
        <p:nvSpPr>
          <p:cNvPr id="7954" name=""/>
          <p:cNvSpPr/>
          <p:nvPr/>
        </p:nvSpPr>
        <p:spPr>
          <a:xfrm>
            <a:off x="4649760" y="4971960"/>
            <a:ext cx="40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5" name=""/>
          <p:cNvSpPr/>
          <p:nvPr/>
        </p:nvSpPr>
        <p:spPr>
          <a:xfrm>
            <a:off x="31100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956" name=""/>
          <p:cNvSpPr/>
          <p:nvPr/>
        </p:nvSpPr>
        <p:spPr>
          <a:xfrm>
            <a:off x="31100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7" name=""/>
          <p:cNvSpPr/>
          <p:nvPr/>
        </p:nvSpPr>
        <p:spPr>
          <a:xfrm>
            <a:off x="31100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958" name=""/>
          <p:cNvSpPr/>
          <p:nvPr/>
        </p:nvSpPr>
        <p:spPr>
          <a:xfrm>
            <a:off x="2359080" y="2344680"/>
            <a:ext cx="0" cy="54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9" name=""/>
          <p:cNvSpPr/>
          <p:nvPr/>
        </p:nvSpPr>
        <p:spPr>
          <a:xfrm>
            <a:off x="269064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960" name=""/>
          <p:cNvSpPr/>
          <p:nvPr/>
        </p:nvSpPr>
        <p:spPr>
          <a:xfrm>
            <a:off x="269064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1" name=""/>
          <p:cNvSpPr/>
          <p:nvPr/>
        </p:nvSpPr>
        <p:spPr>
          <a:xfrm>
            <a:off x="269064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962" name=""/>
          <p:cNvSpPr/>
          <p:nvPr/>
        </p:nvSpPr>
        <p:spPr>
          <a:xfrm>
            <a:off x="497988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963" name=""/>
          <p:cNvSpPr/>
          <p:nvPr/>
        </p:nvSpPr>
        <p:spPr>
          <a:xfrm>
            <a:off x="497988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4" name=""/>
          <p:cNvSpPr/>
          <p:nvPr/>
        </p:nvSpPr>
        <p:spPr>
          <a:xfrm>
            <a:off x="4979880" y="278604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965" name=""/>
          <p:cNvSpPr/>
          <p:nvPr/>
        </p:nvSpPr>
        <p:spPr>
          <a:xfrm flipV="1">
            <a:off x="5187960" y="28432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6" name=""/>
          <p:cNvSpPr/>
          <p:nvPr/>
        </p:nvSpPr>
        <p:spPr>
          <a:xfrm flipV="1">
            <a:off x="5187960" y="2503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7" name=""/>
          <p:cNvSpPr/>
          <p:nvPr/>
        </p:nvSpPr>
        <p:spPr>
          <a:xfrm flipV="1">
            <a:off x="5187960" y="1820880"/>
            <a:ext cx="0" cy="51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8" name=""/>
          <p:cNvSpPr/>
          <p:nvPr/>
        </p:nvSpPr>
        <p:spPr>
          <a:xfrm>
            <a:off x="5810400" y="2638440"/>
            <a:ext cx="81360" cy="248040"/>
          </a:xfrm>
          <a:custGeom>
            <a:avLst/>
            <a:gdLst/>
            <a:ahLst/>
            <a:rect l="0" t="0" r="r" b="b"/>
            <a:pathLst>
              <a:path w="226" h="689">
                <a:moveTo>
                  <a:pt x="226" y="26"/>
                </a:moveTo>
                <a:lnTo>
                  <a:pt x="26" y="689"/>
                </a:lnTo>
                <a:lnTo>
                  <a:pt x="0" y="0"/>
                </a:lnTo>
                <a:lnTo>
                  <a:pt x="226" y="26"/>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69" name=""/>
          <p:cNvSpPr/>
          <p:nvPr/>
        </p:nvSpPr>
        <p:spPr>
          <a:xfrm>
            <a:off x="5851440" y="1744560"/>
            <a:ext cx="359280" cy="919440"/>
          </a:xfrm>
          <a:custGeom>
            <a:avLst/>
            <a:gdLst/>
            <a:ahLst/>
            <a:rect l="0" t="0" r="r" b="b"/>
            <a:pathLst>
              <a:path fill="none" w="998" h="2554">
                <a:moveTo>
                  <a:pt x="0" y="2554"/>
                </a:moveTo>
                <a:lnTo>
                  <a:pt x="318" y="0"/>
                </a:lnTo>
                <a:lnTo>
                  <a:pt x="998"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70" name=""/>
          <p:cNvSpPr/>
          <p:nvPr/>
        </p:nvSpPr>
        <p:spPr>
          <a:xfrm>
            <a:off x="5729400" y="2344680"/>
            <a:ext cx="0" cy="51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1" name=""/>
          <p:cNvSpPr/>
          <p:nvPr/>
        </p:nvSpPr>
        <p:spPr>
          <a:xfrm>
            <a:off x="5398920" y="2344680"/>
            <a:ext cx="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7972" name=""/>
          <p:cNvSpPr/>
          <p:nvPr/>
        </p:nvSpPr>
        <p:spPr>
          <a:xfrm>
            <a:off x="5398920" y="253044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3" name=""/>
          <p:cNvSpPr/>
          <p:nvPr/>
        </p:nvSpPr>
        <p:spPr>
          <a:xfrm>
            <a:off x="5398920" y="2827440"/>
            <a:ext cx="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7974" name=""/>
          <p:cNvSpPr txBox="1"/>
          <p:nvPr/>
        </p:nvSpPr>
        <p:spPr>
          <a:xfrm>
            <a:off x="1589040" y="3841920"/>
            <a:ext cx="1917720" cy="641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Axis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Secondary MMC)</a:t>
            </a:r>
            <a:endParaRPr b="0" lang="en-US" sz="1800" spc="-1" strike="noStrike">
              <a:solidFill>
                <a:srgbClr val="000000"/>
              </a:solidFill>
              <a:latin typeface="Arial"/>
            </a:endParaRPr>
          </a:p>
        </p:txBody>
      </p:sp>
      <p:sp>
        <p:nvSpPr>
          <p:cNvPr id="7975" name=""/>
          <p:cNvSpPr txBox="1"/>
          <p:nvPr/>
        </p:nvSpPr>
        <p:spPr>
          <a:xfrm>
            <a:off x="5454720" y="973080"/>
            <a:ext cx="35733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A (Secondary Datum)</a:t>
            </a:r>
            <a:endParaRPr b="0" lang="en-US" sz="1800" spc="-1" strike="noStrike">
              <a:solidFill>
                <a:srgbClr val="000000"/>
              </a:solidFill>
              <a:latin typeface="Arial"/>
            </a:endParaRPr>
          </a:p>
        </p:txBody>
      </p:sp>
      <p:sp>
        <p:nvSpPr>
          <p:cNvPr id="7976" name=""/>
          <p:cNvSpPr txBox="1"/>
          <p:nvPr/>
        </p:nvSpPr>
        <p:spPr>
          <a:xfrm>
            <a:off x="6151680" y="1579680"/>
            <a:ext cx="28116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Gage plane (Datum plane B)</a:t>
            </a:r>
            <a:endParaRPr b="0" lang="en-US" sz="1800" spc="-1" strike="noStrike">
              <a:solidFill>
                <a:srgbClr val="000000"/>
              </a:solidFill>
              <a:latin typeface="Arial"/>
            </a:endParaRPr>
          </a:p>
        </p:txBody>
      </p:sp>
      <p:sp>
        <p:nvSpPr>
          <p:cNvPr id="7977" name=""/>
          <p:cNvSpPr txBox="1"/>
          <p:nvPr/>
        </p:nvSpPr>
        <p:spPr>
          <a:xfrm>
            <a:off x="4911840" y="3486240"/>
            <a:ext cx="333216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atum feature B (Primary Datum)</a:t>
            </a:r>
            <a:endParaRPr b="0" lang="en-US" sz="1800" spc="-1" strike="noStrike">
              <a:solidFill>
                <a:srgbClr val="000000"/>
              </a:solidFill>
              <a:latin typeface="Arial"/>
            </a:endParaRPr>
          </a:p>
        </p:txBody>
      </p:sp>
      <p:sp>
        <p:nvSpPr>
          <p:cNvPr id="7978" name=""/>
          <p:cNvSpPr txBox="1"/>
          <p:nvPr/>
        </p:nvSpPr>
        <p:spPr>
          <a:xfrm>
            <a:off x="5100480" y="4782960"/>
            <a:ext cx="2728800" cy="1190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Virtual condition cylinder</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Fixed” gage cylinder held</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perpendicular to datum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plane B)</a:t>
            </a:r>
            <a:endParaRPr b="0" lang="en-US" sz="1800" spc="-1" strike="noStrike">
              <a:solidFill>
                <a:srgbClr val="000000"/>
              </a:solidFill>
              <a:latin typeface="Arial"/>
            </a:endParaRPr>
          </a:p>
        </p:txBody>
      </p:sp>
      <p:sp>
        <p:nvSpPr>
          <p:cNvPr id="7979" name=""/>
          <p:cNvSpPr txBox="1"/>
          <p:nvPr/>
        </p:nvSpPr>
        <p:spPr>
          <a:xfrm>
            <a:off x="2863800" y="179280"/>
            <a:ext cx="3371760" cy="641520"/>
          </a:xfrm>
          <a:prstGeom prst="rect">
            <a:avLst/>
          </a:prstGeom>
          <a:noFill/>
          <a:ln w="0">
            <a:noFill/>
          </a:ln>
        </p:spPr>
        <p:txBody>
          <a:bodyPr lIns="0" rIns="0" tIns="0" bIns="0" anchor="t">
            <a:noAutofit/>
          </a:bodyPr>
          <a:p>
            <a:pPr>
              <a:lnSpc>
                <a:spcPct val="100000"/>
              </a:lnSpc>
            </a:pPr>
            <a:r>
              <a:rPr b="0" lang="en-US" sz="3600" spc="-1" strike="noStrike" u="sng">
                <a:solidFill>
                  <a:srgbClr val="fafd00"/>
                </a:solidFill>
                <a:uFillTx/>
                <a:latin typeface="Times New Roman"/>
                <a:ea typeface="Times New Roman"/>
              </a:rPr>
              <a:t>Datum A - MMC</a:t>
            </a:r>
            <a:endParaRPr b="0" lang="en-US" sz="3600" spc="-1" strike="noStrike">
              <a:solidFill>
                <a:srgbClr val="000000"/>
              </a:solidFill>
              <a:latin typeface="Arial"/>
            </a:endParaRPr>
          </a:p>
        </p:txBody>
      </p:sp>
      <p:grpSp>
        <p:nvGrpSpPr>
          <p:cNvPr id="7980" name=""/>
          <p:cNvGrpSpPr/>
          <p:nvPr/>
        </p:nvGrpSpPr>
        <p:grpSpPr>
          <a:xfrm>
            <a:off x="625320" y="1138320"/>
            <a:ext cx="2960640" cy="430200"/>
            <a:chOff x="625320" y="1138320"/>
            <a:chExt cx="2960640" cy="430200"/>
          </a:xfrm>
        </p:grpSpPr>
        <p:sp>
          <p:nvSpPr>
            <p:cNvPr id="7981" name=""/>
            <p:cNvSpPr/>
            <p:nvPr/>
          </p:nvSpPr>
          <p:spPr>
            <a:xfrm>
              <a:off x="625320" y="1138320"/>
              <a:ext cx="296064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7982" name=""/>
            <p:cNvGrpSpPr/>
            <p:nvPr/>
          </p:nvGrpSpPr>
          <p:grpSpPr>
            <a:xfrm>
              <a:off x="714240" y="1192320"/>
              <a:ext cx="306360" cy="303120"/>
              <a:chOff x="714240" y="1192320"/>
              <a:chExt cx="306360" cy="303120"/>
            </a:xfrm>
          </p:grpSpPr>
          <p:sp>
            <p:nvSpPr>
              <p:cNvPr id="7983" name=""/>
              <p:cNvSpPr/>
              <p:nvPr/>
            </p:nvSpPr>
            <p:spPr>
              <a:xfrm>
                <a:off x="757080" y="124776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4" name=""/>
              <p:cNvSpPr/>
              <p:nvPr/>
            </p:nvSpPr>
            <p:spPr>
              <a:xfrm>
                <a:off x="861840" y="119232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85" name=""/>
              <p:cNvSpPr/>
              <p:nvPr/>
            </p:nvSpPr>
            <p:spPr>
              <a:xfrm>
                <a:off x="714240" y="135108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86" name=""/>
            <p:cNvSpPr/>
            <p:nvPr/>
          </p:nvSpPr>
          <p:spPr>
            <a:xfrm>
              <a:off x="112536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7987" name=""/>
            <p:cNvGrpSpPr/>
            <p:nvPr/>
          </p:nvGrpSpPr>
          <p:grpSpPr>
            <a:xfrm>
              <a:off x="1217520" y="1254240"/>
              <a:ext cx="177840" cy="177840"/>
              <a:chOff x="1217520" y="1254240"/>
              <a:chExt cx="177840" cy="177840"/>
            </a:xfrm>
          </p:grpSpPr>
          <p:sp>
            <p:nvSpPr>
              <p:cNvPr id="7988" name=""/>
              <p:cNvSpPr/>
              <p:nvPr/>
            </p:nvSpPr>
            <p:spPr>
              <a:xfrm>
                <a:off x="1230480" y="126828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89" name=""/>
              <p:cNvSpPr/>
              <p:nvPr/>
            </p:nvSpPr>
            <p:spPr>
              <a:xfrm flipH="1">
                <a:off x="1217520" y="125424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990" name=""/>
            <p:cNvSpPr txBox="1"/>
            <p:nvPr/>
          </p:nvSpPr>
          <p:spPr>
            <a:xfrm>
              <a:off x="1403280" y="1149480"/>
              <a:ext cx="21160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   M</a:t>
              </a:r>
              <a:endParaRPr b="0" lang="en-US" sz="2000" spc="-1" strike="noStrike">
                <a:solidFill>
                  <a:srgbClr val="000000"/>
                </a:solidFill>
                <a:latin typeface="Arial"/>
              </a:endParaRPr>
            </a:p>
          </p:txBody>
        </p:sp>
        <p:sp>
          <p:nvSpPr>
            <p:cNvPr id="7991" name=""/>
            <p:cNvSpPr/>
            <p:nvPr/>
          </p:nvSpPr>
          <p:spPr>
            <a:xfrm>
              <a:off x="1990800" y="12016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92" name=""/>
            <p:cNvSpPr/>
            <p:nvPr/>
          </p:nvSpPr>
          <p:spPr>
            <a:xfrm>
              <a:off x="2359080" y="114948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93" name=""/>
            <p:cNvSpPr/>
            <p:nvPr/>
          </p:nvSpPr>
          <p:spPr>
            <a:xfrm>
              <a:off x="2685960" y="114948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994" name=""/>
            <p:cNvSpPr/>
            <p:nvPr/>
          </p:nvSpPr>
          <p:spPr>
            <a:xfrm>
              <a:off x="3130560" y="119844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995" name=""/>
          <p:cNvSpPr/>
          <p:nvPr/>
        </p:nvSpPr>
        <p:spPr>
          <a:xfrm>
            <a:off x="1895400" y="2052720"/>
            <a:ext cx="5216400" cy="192096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96" name=""/>
          <p:cNvSpPr txBox="1"/>
          <p:nvPr/>
        </p:nvSpPr>
        <p:spPr>
          <a:xfrm>
            <a:off x="685800" y="2454120"/>
            <a:ext cx="7772400" cy="1143000"/>
          </a:xfrm>
          <a:prstGeom prst="rect">
            <a:avLst/>
          </a:prstGeom>
          <a:noFill/>
          <a:ln w="0">
            <a:noFill/>
          </a:ln>
        </p:spPr>
        <p:txBody>
          <a:bodyPr lIns="0" rIns="0" tIns="0" bIns="0" anchor="t">
            <a:noAutofit/>
          </a:bodyPr>
          <a:p>
            <a:pPr algn="ctr">
              <a:lnSpc>
                <a:spcPct val="100000"/>
              </a:lnSpc>
            </a:pPr>
            <a:r>
              <a:rPr b="0" lang="en-US" sz="8000" spc="-1" strike="noStrike">
                <a:solidFill>
                  <a:srgbClr val="fafd00"/>
                </a:solidFill>
                <a:latin typeface="Times New Roman"/>
                <a:ea typeface="Times New Roman"/>
              </a:rPr>
              <a:t>REVIEW</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997" name=""/>
          <p:cNvSpPr/>
          <p:nvPr/>
        </p:nvSpPr>
        <p:spPr>
          <a:xfrm>
            <a:off x="711360" y="465120"/>
            <a:ext cx="2313000" cy="5805360"/>
          </a:xfrm>
          <a:prstGeom prst="rect">
            <a:avLst/>
          </a:prstGeom>
          <a:solidFill>
            <a:srgbClr val="00279f"/>
          </a:solidFill>
          <a:ln w="25560">
            <a:solidFill>
              <a:srgbClr val="004e47"/>
            </a:solidFill>
            <a:round/>
          </a:ln>
        </p:spPr>
        <p:txBody>
          <a:bodyPr lIns="102600" rIns="102600" tIns="57600" bIns="57600" anchor="t">
            <a:noAutofit/>
          </a:bodyPr>
          <a:p>
            <a:endParaRPr b="0" lang="en-US" sz="1800" spc="-1" strike="noStrike">
              <a:solidFill>
                <a:srgbClr val="ffffff"/>
              </a:solidFill>
              <a:latin typeface="Arial"/>
            </a:endParaRPr>
          </a:p>
        </p:txBody>
      </p:sp>
      <p:sp>
        <p:nvSpPr>
          <p:cNvPr id="799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999" name=""/>
          <p:cNvSpPr/>
          <p:nvPr/>
        </p:nvSpPr>
        <p:spPr>
          <a:xfrm flipV="1">
            <a:off x="1766880" y="183204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0" name=""/>
          <p:cNvSpPr/>
          <p:nvPr/>
        </p:nvSpPr>
        <p:spPr>
          <a:xfrm flipV="1">
            <a:off x="1766880" y="167148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01" name=""/>
          <p:cNvSpPr/>
          <p:nvPr/>
        </p:nvSpPr>
        <p:spPr>
          <a:xfrm flipV="1">
            <a:off x="1766880" y="11923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2" name=""/>
          <p:cNvSpPr/>
          <p:nvPr/>
        </p:nvSpPr>
        <p:spPr>
          <a:xfrm flipV="1">
            <a:off x="1766880" y="103176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03" name=""/>
          <p:cNvSpPr/>
          <p:nvPr/>
        </p:nvSpPr>
        <p:spPr>
          <a:xfrm flipV="1">
            <a:off x="1766880" y="61272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04" name=""/>
          <p:cNvGrpSpPr/>
          <p:nvPr/>
        </p:nvGrpSpPr>
        <p:grpSpPr>
          <a:xfrm>
            <a:off x="419040" y="1322280"/>
            <a:ext cx="1122840" cy="1032120"/>
            <a:chOff x="419040" y="1322280"/>
            <a:chExt cx="1122840" cy="1032120"/>
          </a:xfrm>
        </p:grpSpPr>
        <p:sp>
          <p:nvSpPr>
            <p:cNvPr id="8005" name=""/>
            <p:cNvSpPr/>
            <p:nvPr/>
          </p:nvSpPr>
          <p:spPr>
            <a:xfrm>
              <a:off x="419040" y="1322280"/>
              <a:ext cx="3621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06" name=""/>
            <p:cNvSpPr/>
            <p:nvPr/>
          </p:nvSpPr>
          <p:spPr>
            <a:xfrm>
              <a:off x="860400" y="1322280"/>
              <a:ext cx="810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07" name=""/>
            <p:cNvSpPr/>
            <p:nvPr/>
          </p:nvSpPr>
          <p:spPr>
            <a:xfrm>
              <a:off x="1020600" y="1322280"/>
              <a:ext cx="795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08" name=""/>
            <p:cNvSpPr/>
            <p:nvPr/>
          </p:nvSpPr>
          <p:spPr>
            <a:xfrm>
              <a:off x="1181160" y="1322280"/>
              <a:ext cx="360720" cy="316440"/>
            </a:xfrm>
            <a:custGeom>
              <a:avLst/>
              <a:gdLst/>
              <a:ahLst/>
              <a:rect l="0" t="0" r="r" b="b"/>
              <a:pathLst>
                <a:path fill="none" w="1002" h="879">
                  <a:moveTo>
                    <a:pt x="0" y="0"/>
                  </a:moveTo>
                  <a:lnTo>
                    <a:pt x="1002" y="0"/>
                  </a:lnTo>
                  <a:lnTo>
                    <a:pt x="1002" y="879"/>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09" name=""/>
            <p:cNvSpPr/>
            <p:nvPr/>
          </p:nvSpPr>
          <p:spPr>
            <a:xfrm>
              <a:off x="1538280" y="1717560"/>
              <a:ext cx="0" cy="79560"/>
            </a:xfrm>
            <a:prstGeom prst="line">
              <a:avLst/>
            </a:prstGeom>
            <a:ln w="25560">
              <a:solidFill>
                <a:srgbClr val="fc0128"/>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8010" name=""/>
            <p:cNvSpPr/>
            <p:nvPr/>
          </p:nvSpPr>
          <p:spPr>
            <a:xfrm>
              <a:off x="1538280" y="1878120"/>
              <a:ext cx="0" cy="79200"/>
            </a:xfrm>
            <a:prstGeom prst="line">
              <a:avLst/>
            </a:prstGeom>
            <a:ln w="25560">
              <a:solidFill>
                <a:srgbClr val="fc0128"/>
              </a:solidFill>
              <a:round/>
            </a:ln>
          </p:spPr>
          <p:style>
            <a:lnRef idx="0"/>
            <a:fillRef idx="0"/>
            <a:effectRef idx="0"/>
            <a:fontRef idx="minor"/>
          </p:style>
          <p:txBody>
            <a:bodyPr lIns="102600" rIns="102600" tIns="21600" bIns="21600" anchor="t">
              <a:noAutofit/>
            </a:bodyPr>
            <a:p>
              <a:endParaRPr b="0" lang="en-US" sz="1800" spc="-1" strike="noStrike">
                <a:solidFill>
                  <a:srgbClr val="000000"/>
                </a:solidFill>
                <a:latin typeface="Arial"/>
              </a:endParaRPr>
            </a:p>
          </p:txBody>
        </p:sp>
        <p:sp>
          <p:nvSpPr>
            <p:cNvPr id="8011" name=""/>
            <p:cNvSpPr/>
            <p:nvPr/>
          </p:nvSpPr>
          <p:spPr>
            <a:xfrm>
              <a:off x="1538280" y="2038320"/>
              <a:ext cx="0" cy="3160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012" name=""/>
          <p:cNvSpPr/>
          <p:nvPr/>
        </p:nvSpPr>
        <p:spPr>
          <a:xfrm>
            <a:off x="1560600" y="128268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3" name=""/>
          <p:cNvSpPr/>
          <p:nvPr/>
        </p:nvSpPr>
        <p:spPr>
          <a:xfrm>
            <a:off x="1971720" y="127152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4" name=""/>
          <p:cNvSpPr/>
          <p:nvPr/>
        </p:nvSpPr>
        <p:spPr>
          <a:xfrm flipH="1">
            <a:off x="1560600" y="1994040"/>
            <a:ext cx="41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5" name=""/>
          <p:cNvSpPr/>
          <p:nvPr/>
        </p:nvSpPr>
        <p:spPr>
          <a:xfrm flipH="1">
            <a:off x="1581120" y="201456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16" name=""/>
          <p:cNvSpPr/>
          <p:nvPr/>
        </p:nvSpPr>
        <p:spPr>
          <a:xfrm flipH="1" flipV="1">
            <a:off x="1560600" y="19940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017" name=""/>
          <p:cNvSpPr/>
          <p:nvPr/>
        </p:nvSpPr>
        <p:spPr>
          <a:xfrm flipV="1">
            <a:off x="1952640" y="1994040"/>
            <a:ext cx="1908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018" name=""/>
          <p:cNvSpPr/>
          <p:nvPr/>
        </p:nvSpPr>
        <p:spPr>
          <a:xfrm flipH="1">
            <a:off x="973080" y="1257480"/>
            <a:ext cx="1585800" cy="41040"/>
          </a:xfrm>
          <a:prstGeom prst="line">
            <a:avLst/>
          </a:prstGeom>
          <a:ln w="12600">
            <a:solidFill>
              <a:srgbClr val="ffffff"/>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sp>
        <p:nvSpPr>
          <p:cNvPr id="8019" name=""/>
          <p:cNvSpPr/>
          <p:nvPr/>
        </p:nvSpPr>
        <p:spPr>
          <a:xfrm flipH="1">
            <a:off x="966960" y="1000080"/>
            <a:ext cx="158580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020" name=""/>
          <p:cNvSpPr/>
          <p:nvPr/>
        </p:nvSpPr>
        <p:spPr>
          <a:xfrm flipV="1">
            <a:off x="122724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1" name=""/>
          <p:cNvSpPr/>
          <p:nvPr/>
        </p:nvSpPr>
        <p:spPr>
          <a:xfrm flipV="1">
            <a:off x="122724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22" name=""/>
          <p:cNvSpPr/>
          <p:nvPr/>
        </p:nvSpPr>
        <p:spPr>
          <a:xfrm flipV="1">
            <a:off x="122724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3" name=""/>
          <p:cNvSpPr/>
          <p:nvPr/>
        </p:nvSpPr>
        <p:spPr>
          <a:xfrm>
            <a:off x="1325520" y="103356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24" name=""/>
          <p:cNvSpPr/>
          <p:nvPr/>
        </p:nvSpPr>
        <p:spPr>
          <a:xfrm>
            <a:off x="1325520" y="112068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8025" name=""/>
          <p:cNvSpPr/>
          <p:nvPr/>
        </p:nvSpPr>
        <p:spPr>
          <a:xfrm>
            <a:off x="1325520" y="124128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026" name=""/>
          <p:cNvSpPr/>
          <p:nvPr/>
        </p:nvSpPr>
        <p:spPr>
          <a:xfrm>
            <a:off x="1128600" y="10382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27" name=""/>
          <p:cNvSpPr/>
          <p:nvPr/>
        </p:nvSpPr>
        <p:spPr>
          <a:xfrm>
            <a:off x="1128600" y="112716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028" name=""/>
          <p:cNvSpPr/>
          <p:nvPr/>
        </p:nvSpPr>
        <p:spPr>
          <a:xfrm>
            <a:off x="1128600" y="124632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29" name=""/>
          <p:cNvSpPr/>
          <p:nvPr/>
        </p:nvSpPr>
        <p:spPr>
          <a:xfrm>
            <a:off x="966960" y="1042920"/>
            <a:ext cx="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0" name=""/>
          <p:cNvSpPr/>
          <p:nvPr/>
        </p:nvSpPr>
        <p:spPr>
          <a:xfrm flipV="1">
            <a:off x="230508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1" name=""/>
          <p:cNvSpPr/>
          <p:nvPr/>
        </p:nvSpPr>
        <p:spPr>
          <a:xfrm flipV="1">
            <a:off x="230508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32" name=""/>
          <p:cNvSpPr/>
          <p:nvPr/>
        </p:nvSpPr>
        <p:spPr>
          <a:xfrm flipV="1">
            <a:off x="230508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33" name=""/>
          <p:cNvSpPr/>
          <p:nvPr/>
        </p:nvSpPr>
        <p:spPr>
          <a:xfrm>
            <a:off x="2403360" y="100476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034" name=""/>
          <p:cNvSpPr/>
          <p:nvPr/>
        </p:nvSpPr>
        <p:spPr>
          <a:xfrm>
            <a:off x="2403360" y="109224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035" name=""/>
          <p:cNvSpPr/>
          <p:nvPr/>
        </p:nvSpPr>
        <p:spPr>
          <a:xfrm>
            <a:off x="2403360" y="12128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36" name=""/>
          <p:cNvSpPr/>
          <p:nvPr/>
        </p:nvSpPr>
        <p:spPr>
          <a:xfrm>
            <a:off x="2206800" y="101124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037" name=""/>
          <p:cNvSpPr/>
          <p:nvPr/>
        </p:nvSpPr>
        <p:spPr>
          <a:xfrm>
            <a:off x="2206800" y="109872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038" name=""/>
          <p:cNvSpPr/>
          <p:nvPr/>
        </p:nvSpPr>
        <p:spPr>
          <a:xfrm>
            <a:off x="2206800" y="121752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039" name=""/>
          <p:cNvSpPr/>
          <p:nvPr/>
        </p:nvSpPr>
        <p:spPr>
          <a:xfrm>
            <a:off x="2552760" y="1000080"/>
            <a:ext cx="612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040" name=""/>
          <p:cNvGrpSpPr/>
          <p:nvPr/>
        </p:nvGrpSpPr>
        <p:grpSpPr>
          <a:xfrm>
            <a:off x="2001960" y="1330200"/>
            <a:ext cx="958680" cy="1057320"/>
            <a:chOff x="2001960" y="1330200"/>
            <a:chExt cx="958680" cy="1057320"/>
          </a:xfrm>
        </p:grpSpPr>
        <p:sp>
          <p:nvSpPr>
            <p:cNvPr id="8041" name=""/>
            <p:cNvSpPr/>
            <p:nvPr/>
          </p:nvSpPr>
          <p:spPr>
            <a:xfrm flipH="1">
              <a:off x="2679840" y="1330200"/>
              <a:ext cx="28080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2" name=""/>
            <p:cNvSpPr/>
            <p:nvPr/>
          </p:nvSpPr>
          <p:spPr>
            <a:xfrm flipH="1">
              <a:off x="2521080" y="1330200"/>
              <a:ext cx="8100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3" name=""/>
            <p:cNvSpPr/>
            <p:nvPr/>
          </p:nvSpPr>
          <p:spPr>
            <a:xfrm flipH="1">
              <a:off x="2362320" y="1330200"/>
              <a:ext cx="7920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044" name=""/>
            <p:cNvSpPr/>
            <p:nvPr/>
          </p:nvSpPr>
          <p:spPr>
            <a:xfrm>
              <a:off x="2001960" y="1330200"/>
              <a:ext cx="279720" cy="319320"/>
            </a:xfrm>
            <a:custGeom>
              <a:avLst/>
              <a:gdLst/>
              <a:ahLst/>
              <a:rect l="0" t="0" r="r" b="b"/>
              <a:pathLst>
                <a:path fill="none" w="777" h="887">
                  <a:moveTo>
                    <a:pt x="777" y="0"/>
                  </a:moveTo>
                  <a:lnTo>
                    <a:pt x="0" y="0"/>
                  </a:lnTo>
                  <a:lnTo>
                    <a:pt x="0" y="887"/>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45" name=""/>
            <p:cNvSpPr/>
            <p:nvPr/>
          </p:nvSpPr>
          <p:spPr>
            <a:xfrm>
              <a:off x="2001960" y="1730520"/>
              <a:ext cx="0" cy="79200"/>
            </a:xfrm>
            <a:prstGeom prst="line">
              <a:avLst/>
            </a:prstGeom>
            <a:ln w="25560">
              <a:solidFill>
                <a:srgbClr val="fd0700"/>
              </a:solidFill>
              <a:round/>
            </a:ln>
          </p:spPr>
          <p:style>
            <a:lnRef idx="0"/>
            <a:fillRef idx="0"/>
            <a:effectRef idx="0"/>
            <a:fontRef idx="minor"/>
          </p:style>
          <p:txBody>
            <a:bodyPr lIns="102600" rIns="102600" tIns="21600" bIns="21600" anchor="t">
              <a:noAutofit/>
            </a:bodyPr>
            <a:p>
              <a:endParaRPr b="0" lang="en-US" sz="1800" spc="-1" strike="noStrike">
                <a:solidFill>
                  <a:srgbClr val="000000"/>
                </a:solidFill>
                <a:latin typeface="Arial"/>
              </a:endParaRPr>
            </a:p>
          </p:txBody>
        </p:sp>
        <p:sp>
          <p:nvSpPr>
            <p:cNvPr id="8046" name=""/>
            <p:cNvSpPr/>
            <p:nvPr/>
          </p:nvSpPr>
          <p:spPr>
            <a:xfrm>
              <a:off x="2001960" y="1889280"/>
              <a:ext cx="0" cy="80640"/>
            </a:xfrm>
            <a:prstGeom prst="line">
              <a:avLst/>
            </a:prstGeom>
            <a:ln w="25560">
              <a:solidFill>
                <a:srgbClr val="fd0700"/>
              </a:solidFill>
              <a:round/>
            </a:ln>
          </p:spPr>
          <p:style>
            <a:lnRef idx="0"/>
            <a:fillRef idx="0"/>
            <a:effectRef idx="0"/>
            <a:fontRef idx="minor"/>
          </p:style>
          <p:txBody>
            <a:bodyPr lIns="102600" rIns="102600" tIns="23040" bIns="23040" anchor="t">
              <a:noAutofit/>
            </a:bodyPr>
            <a:p>
              <a:endParaRPr b="0" lang="en-US" sz="1800" spc="-1" strike="noStrike">
                <a:solidFill>
                  <a:srgbClr val="000000"/>
                </a:solidFill>
                <a:latin typeface="Arial"/>
              </a:endParaRPr>
            </a:p>
          </p:txBody>
        </p:sp>
        <p:sp>
          <p:nvSpPr>
            <p:cNvPr id="8047" name=""/>
            <p:cNvSpPr/>
            <p:nvPr/>
          </p:nvSpPr>
          <p:spPr>
            <a:xfrm>
              <a:off x="2001960" y="2057400"/>
              <a:ext cx="0" cy="33012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048" name=""/>
          <p:cNvSpPr/>
          <p:nvPr/>
        </p:nvSpPr>
        <p:spPr>
          <a:xfrm flipV="1">
            <a:off x="1766880" y="183204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9" name=""/>
          <p:cNvSpPr/>
          <p:nvPr/>
        </p:nvSpPr>
        <p:spPr>
          <a:xfrm flipV="1">
            <a:off x="1766880" y="167148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50" name=""/>
          <p:cNvSpPr/>
          <p:nvPr/>
        </p:nvSpPr>
        <p:spPr>
          <a:xfrm flipV="1">
            <a:off x="1766880" y="11923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1" name=""/>
          <p:cNvSpPr/>
          <p:nvPr/>
        </p:nvSpPr>
        <p:spPr>
          <a:xfrm flipV="1">
            <a:off x="1766880" y="103176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52" name=""/>
          <p:cNvSpPr/>
          <p:nvPr/>
        </p:nvSpPr>
        <p:spPr>
          <a:xfrm flipV="1">
            <a:off x="1766880" y="61272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3" name=""/>
          <p:cNvSpPr/>
          <p:nvPr/>
        </p:nvSpPr>
        <p:spPr>
          <a:xfrm>
            <a:off x="1560600" y="128268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4" name=""/>
          <p:cNvSpPr/>
          <p:nvPr/>
        </p:nvSpPr>
        <p:spPr>
          <a:xfrm>
            <a:off x="1971720" y="127152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5" name=""/>
          <p:cNvSpPr/>
          <p:nvPr/>
        </p:nvSpPr>
        <p:spPr>
          <a:xfrm flipH="1">
            <a:off x="1560600" y="1994040"/>
            <a:ext cx="41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6" name=""/>
          <p:cNvSpPr/>
          <p:nvPr/>
        </p:nvSpPr>
        <p:spPr>
          <a:xfrm flipH="1">
            <a:off x="1581120" y="201456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57" name=""/>
          <p:cNvSpPr/>
          <p:nvPr/>
        </p:nvSpPr>
        <p:spPr>
          <a:xfrm flipH="1" flipV="1">
            <a:off x="1560600" y="19940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058" name=""/>
          <p:cNvSpPr/>
          <p:nvPr/>
        </p:nvSpPr>
        <p:spPr>
          <a:xfrm flipV="1">
            <a:off x="1952640" y="1994040"/>
            <a:ext cx="1908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059" name=""/>
          <p:cNvSpPr/>
          <p:nvPr/>
        </p:nvSpPr>
        <p:spPr>
          <a:xfrm flipH="1">
            <a:off x="966960" y="1000080"/>
            <a:ext cx="158580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060" name=""/>
          <p:cNvSpPr/>
          <p:nvPr/>
        </p:nvSpPr>
        <p:spPr>
          <a:xfrm flipV="1">
            <a:off x="122724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1" name=""/>
          <p:cNvSpPr/>
          <p:nvPr/>
        </p:nvSpPr>
        <p:spPr>
          <a:xfrm flipV="1">
            <a:off x="122724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62" name=""/>
          <p:cNvSpPr/>
          <p:nvPr/>
        </p:nvSpPr>
        <p:spPr>
          <a:xfrm flipV="1">
            <a:off x="122724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3" name=""/>
          <p:cNvSpPr/>
          <p:nvPr/>
        </p:nvSpPr>
        <p:spPr>
          <a:xfrm>
            <a:off x="1325520" y="103356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64" name=""/>
          <p:cNvSpPr/>
          <p:nvPr/>
        </p:nvSpPr>
        <p:spPr>
          <a:xfrm>
            <a:off x="1325520" y="112068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8065" name=""/>
          <p:cNvSpPr/>
          <p:nvPr/>
        </p:nvSpPr>
        <p:spPr>
          <a:xfrm>
            <a:off x="1325520" y="124128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066" name=""/>
          <p:cNvSpPr/>
          <p:nvPr/>
        </p:nvSpPr>
        <p:spPr>
          <a:xfrm>
            <a:off x="1128600" y="10382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67" name=""/>
          <p:cNvSpPr/>
          <p:nvPr/>
        </p:nvSpPr>
        <p:spPr>
          <a:xfrm>
            <a:off x="1128600" y="112716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068" name=""/>
          <p:cNvSpPr/>
          <p:nvPr/>
        </p:nvSpPr>
        <p:spPr>
          <a:xfrm>
            <a:off x="1128600" y="124632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69" name=""/>
          <p:cNvSpPr/>
          <p:nvPr/>
        </p:nvSpPr>
        <p:spPr>
          <a:xfrm>
            <a:off x="966960" y="1042920"/>
            <a:ext cx="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0" name=""/>
          <p:cNvSpPr/>
          <p:nvPr/>
        </p:nvSpPr>
        <p:spPr>
          <a:xfrm flipV="1">
            <a:off x="230508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1" name=""/>
          <p:cNvSpPr/>
          <p:nvPr/>
        </p:nvSpPr>
        <p:spPr>
          <a:xfrm flipV="1">
            <a:off x="230508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072" name=""/>
          <p:cNvSpPr/>
          <p:nvPr/>
        </p:nvSpPr>
        <p:spPr>
          <a:xfrm flipV="1">
            <a:off x="230508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3" name=""/>
          <p:cNvSpPr/>
          <p:nvPr/>
        </p:nvSpPr>
        <p:spPr>
          <a:xfrm>
            <a:off x="2403360" y="100476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074" name=""/>
          <p:cNvSpPr/>
          <p:nvPr/>
        </p:nvSpPr>
        <p:spPr>
          <a:xfrm>
            <a:off x="2403360" y="109224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075" name=""/>
          <p:cNvSpPr/>
          <p:nvPr/>
        </p:nvSpPr>
        <p:spPr>
          <a:xfrm>
            <a:off x="2403360" y="12128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076" name=""/>
          <p:cNvSpPr/>
          <p:nvPr/>
        </p:nvSpPr>
        <p:spPr>
          <a:xfrm>
            <a:off x="2206800" y="101124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077" name=""/>
          <p:cNvSpPr/>
          <p:nvPr/>
        </p:nvSpPr>
        <p:spPr>
          <a:xfrm>
            <a:off x="2206800" y="109872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078" name=""/>
          <p:cNvSpPr/>
          <p:nvPr/>
        </p:nvSpPr>
        <p:spPr>
          <a:xfrm>
            <a:off x="2206800" y="121752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079" name=""/>
          <p:cNvSpPr/>
          <p:nvPr/>
        </p:nvSpPr>
        <p:spPr>
          <a:xfrm>
            <a:off x="2552760" y="1000080"/>
            <a:ext cx="612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0" name=""/>
          <p:cNvSpPr txBox="1"/>
          <p:nvPr/>
        </p:nvSpPr>
        <p:spPr>
          <a:xfrm>
            <a:off x="293760" y="1558800"/>
            <a:ext cx="73656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axis A</a:t>
            </a:r>
            <a:endParaRPr b="0" lang="en-US" sz="1600" spc="-1" strike="noStrike">
              <a:solidFill>
                <a:srgbClr val="000000"/>
              </a:solidFill>
              <a:latin typeface="Arial"/>
            </a:endParaRPr>
          </a:p>
        </p:txBody>
      </p:sp>
      <p:sp>
        <p:nvSpPr>
          <p:cNvPr id="8081" name=""/>
          <p:cNvSpPr/>
          <p:nvPr/>
        </p:nvSpPr>
        <p:spPr>
          <a:xfrm flipV="1">
            <a:off x="1093680" y="1535040"/>
            <a:ext cx="665280" cy="443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2" name=""/>
          <p:cNvSpPr txBox="1"/>
          <p:nvPr/>
        </p:nvSpPr>
        <p:spPr>
          <a:xfrm>
            <a:off x="1911240" y="252360"/>
            <a:ext cx="81108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Datum </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plane B</a:t>
            </a:r>
            <a:endParaRPr b="0" lang="en-US" sz="1600" spc="-1" strike="noStrike">
              <a:solidFill>
                <a:srgbClr val="000000"/>
              </a:solidFill>
              <a:latin typeface="Arial"/>
            </a:endParaRPr>
          </a:p>
        </p:txBody>
      </p:sp>
      <p:sp>
        <p:nvSpPr>
          <p:cNvPr id="8083" name=""/>
          <p:cNvSpPr/>
          <p:nvPr/>
        </p:nvSpPr>
        <p:spPr>
          <a:xfrm>
            <a:off x="2678040" y="660240"/>
            <a:ext cx="189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4" name=""/>
          <p:cNvSpPr/>
          <p:nvPr/>
        </p:nvSpPr>
        <p:spPr>
          <a:xfrm flipH="1">
            <a:off x="2744640" y="660240"/>
            <a:ext cx="122400" cy="65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5" name=""/>
          <p:cNvSpPr/>
          <p:nvPr/>
        </p:nvSpPr>
        <p:spPr>
          <a:xfrm flipH="1">
            <a:off x="917640" y="19782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6" name=""/>
          <p:cNvSpPr txBox="1"/>
          <p:nvPr/>
        </p:nvSpPr>
        <p:spPr>
          <a:xfrm>
            <a:off x="3117960" y="817560"/>
            <a:ext cx="5859360" cy="1190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iameter A is the primary datum feature.  It is held regardless</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of feature size.  Departure from perpendicularity between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datum axis A and datum feature B results in loss of contact</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with the datum plane.</a:t>
            </a:r>
            <a:endParaRPr b="0" lang="en-US" sz="1800" spc="-1" strike="noStrike">
              <a:solidFill>
                <a:srgbClr val="000000"/>
              </a:solidFill>
              <a:latin typeface="Arial"/>
            </a:endParaRPr>
          </a:p>
        </p:txBody>
      </p:sp>
      <p:grpSp>
        <p:nvGrpSpPr>
          <p:cNvPr id="8087" name=""/>
          <p:cNvGrpSpPr/>
          <p:nvPr/>
        </p:nvGrpSpPr>
        <p:grpSpPr>
          <a:xfrm>
            <a:off x="4070520" y="285840"/>
            <a:ext cx="2477880" cy="430200"/>
            <a:chOff x="4070520" y="285840"/>
            <a:chExt cx="2477880" cy="430200"/>
          </a:xfrm>
        </p:grpSpPr>
        <p:sp>
          <p:nvSpPr>
            <p:cNvPr id="8088" name=""/>
            <p:cNvSpPr/>
            <p:nvPr/>
          </p:nvSpPr>
          <p:spPr>
            <a:xfrm>
              <a:off x="4070520" y="28584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089" name=""/>
            <p:cNvGrpSpPr/>
            <p:nvPr/>
          </p:nvGrpSpPr>
          <p:grpSpPr>
            <a:xfrm>
              <a:off x="4159080" y="339840"/>
              <a:ext cx="306720" cy="303120"/>
              <a:chOff x="4159080" y="339840"/>
              <a:chExt cx="306720" cy="303120"/>
            </a:xfrm>
          </p:grpSpPr>
          <p:sp>
            <p:nvSpPr>
              <p:cNvPr id="8090" name=""/>
              <p:cNvSpPr/>
              <p:nvPr/>
            </p:nvSpPr>
            <p:spPr>
              <a:xfrm>
                <a:off x="4202280" y="39528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91" name=""/>
              <p:cNvSpPr/>
              <p:nvPr/>
            </p:nvSpPr>
            <p:spPr>
              <a:xfrm>
                <a:off x="4307040" y="33984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2" name=""/>
              <p:cNvSpPr/>
              <p:nvPr/>
            </p:nvSpPr>
            <p:spPr>
              <a:xfrm>
                <a:off x="4159080" y="498600"/>
                <a:ext cx="30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93" name=""/>
            <p:cNvSpPr/>
            <p:nvPr/>
          </p:nvSpPr>
          <p:spPr>
            <a:xfrm>
              <a:off x="4570560" y="29700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094" name=""/>
            <p:cNvGrpSpPr/>
            <p:nvPr/>
          </p:nvGrpSpPr>
          <p:grpSpPr>
            <a:xfrm>
              <a:off x="4662360" y="401760"/>
              <a:ext cx="177840" cy="177840"/>
              <a:chOff x="4662360" y="401760"/>
              <a:chExt cx="177840" cy="177840"/>
            </a:xfrm>
          </p:grpSpPr>
          <p:sp>
            <p:nvSpPr>
              <p:cNvPr id="8095" name=""/>
              <p:cNvSpPr/>
              <p:nvPr/>
            </p:nvSpPr>
            <p:spPr>
              <a:xfrm>
                <a:off x="4675320" y="41580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96" name=""/>
              <p:cNvSpPr/>
              <p:nvPr/>
            </p:nvSpPr>
            <p:spPr>
              <a:xfrm flipH="1">
                <a:off x="4662360" y="40176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97" name=""/>
            <p:cNvSpPr txBox="1"/>
            <p:nvPr/>
          </p:nvSpPr>
          <p:spPr>
            <a:xfrm>
              <a:off x="4848120" y="29700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8098" name=""/>
            <p:cNvSpPr/>
            <p:nvPr/>
          </p:nvSpPr>
          <p:spPr>
            <a:xfrm>
              <a:off x="5425920" y="34920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99" name=""/>
            <p:cNvSpPr/>
            <p:nvPr/>
          </p:nvSpPr>
          <p:spPr>
            <a:xfrm>
              <a:off x="5803920" y="29700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00" name=""/>
            <p:cNvSpPr/>
            <p:nvPr/>
          </p:nvSpPr>
          <p:spPr>
            <a:xfrm>
              <a:off x="6130800" y="29700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101" name=""/>
          <p:cNvSpPr/>
          <p:nvPr/>
        </p:nvSpPr>
        <p:spPr>
          <a:xfrm>
            <a:off x="704880" y="465120"/>
            <a:ext cx="2313000" cy="58053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10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3" name=""/>
          <p:cNvSpPr/>
          <p:nvPr/>
        </p:nvSpPr>
        <p:spPr>
          <a:xfrm flipH="1">
            <a:off x="1003320" y="3100320"/>
            <a:ext cx="152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4" name=""/>
          <p:cNvSpPr/>
          <p:nvPr/>
        </p:nvSpPr>
        <p:spPr>
          <a:xfrm flipH="1">
            <a:off x="1003320" y="2862360"/>
            <a:ext cx="152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5" name=""/>
          <p:cNvSpPr/>
          <p:nvPr/>
        </p:nvSpPr>
        <p:spPr>
          <a:xfrm flipH="1">
            <a:off x="1620720" y="3720960"/>
            <a:ext cx="330480" cy="20880"/>
          </a:xfrm>
          <a:prstGeom prst="line">
            <a:avLst/>
          </a:prstGeom>
          <a:ln w="12600">
            <a:solidFill>
              <a:srgbClr val="ffffff"/>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8106" name=""/>
          <p:cNvSpPr/>
          <p:nvPr/>
        </p:nvSpPr>
        <p:spPr>
          <a:xfrm flipH="1">
            <a:off x="1601640" y="3700440"/>
            <a:ext cx="36540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8107" name=""/>
          <p:cNvSpPr/>
          <p:nvPr/>
        </p:nvSpPr>
        <p:spPr>
          <a:xfrm flipH="1" flipV="1">
            <a:off x="1601640" y="3724200"/>
            <a:ext cx="19080" cy="17640"/>
          </a:xfrm>
          <a:prstGeom prst="line">
            <a:avLst/>
          </a:prstGeom>
          <a:ln w="12600">
            <a:solidFill>
              <a:srgbClr val="ffffff"/>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8108" name=""/>
          <p:cNvSpPr/>
          <p:nvPr/>
        </p:nvSpPr>
        <p:spPr>
          <a:xfrm>
            <a:off x="1560600" y="3105000"/>
            <a:ext cx="41040" cy="61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9" name=""/>
          <p:cNvSpPr/>
          <p:nvPr/>
        </p:nvSpPr>
        <p:spPr>
          <a:xfrm flipV="1">
            <a:off x="1951200" y="3700440"/>
            <a:ext cx="1584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110" name=""/>
          <p:cNvSpPr/>
          <p:nvPr/>
        </p:nvSpPr>
        <p:spPr>
          <a:xfrm>
            <a:off x="1927080" y="3105000"/>
            <a:ext cx="39960" cy="59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1" name=""/>
          <p:cNvSpPr/>
          <p:nvPr/>
        </p:nvSpPr>
        <p:spPr>
          <a:xfrm flipV="1">
            <a:off x="1763640" y="3621240"/>
            <a:ext cx="0" cy="3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2" name=""/>
          <p:cNvSpPr/>
          <p:nvPr/>
        </p:nvSpPr>
        <p:spPr>
          <a:xfrm flipV="1">
            <a:off x="1763640" y="3465360"/>
            <a:ext cx="0" cy="78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8113" name=""/>
          <p:cNvSpPr/>
          <p:nvPr/>
        </p:nvSpPr>
        <p:spPr>
          <a:xfrm flipV="1">
            <a:off x="1763640" y="300528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4" name=""/>
          <p:cNvSpPr/>
          <p:nvPr/>
        </p:nvSpPr>
        <p:spPr>
          <a:xfrm flipV="1">
            <a:off x="1763640" y="285120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8115" name=""/>
          <p:cNvSpPr/>
          <p:nvPr/>
        </p:nvSpPr>
        <p:spPr>
          <a:xfrm flipV="1">
            <a:off x="1763640" y="2448000"/>
            <a:ext cx="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16" name=""/>
          <p:cNvGrpSpPr/>
          <p:nvPr/>
        </p:nvGrpSpPr>
        <p:grpSpPr>
          <a:xfrm>
            <a:off x="453960" y="3125880"/>
            <a:ext cx="1076760" cy="992160"/>
            <a:chOff x="453960" y="3125880"/>
            <a:chExt cx="1076760" cy="992160"/>
          </a:xfrm>
        </p:grpSpPr>
        <p:sp>
          <p:nvSpPr>
            <p:cNvPr id="8117" name=""/>
            <p:cNvSpPr/>
            <p:nvPr/>
          </p:nvSpPr>
          <p:spPr>
            <a:xfrm>
              <a:off x="453960" y="3125880"/>
              <a:ext cx="3463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18" name=""/>
            <p:cNvSpPr/>
            <p:nvPr/>
          </p:nvSpPr>
          <p:spPr>
            <a:xfrm>
              <a:off x="878040" y="3125880"/>
              <a:ext cx="759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19" name=""/>
            <p:cNvSpPr/>
            <p:nvPr/>
          </p:nvSpPr>
          <p:spPr>
            <a:xfrm>
              <a:off x="1030320" y="3125880"/>
              <a:ext cx="777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20" name=""/>
            <p:cNvSpPr/>
            <p:nvPr/>
          </p:nvSpPr>
          <p:spPr>
            <a:xfrm>
              <a:off x="1182600" y="3125880"/>
              <a:ext cx="348120" cy="305280"/>
            </a:xfrm>
            <a:custGeom>
              <a:avLst/>
              <a:gdLst/>
              <a:ahLst/>
              <a:rect l="0" t="0" r="r" b="b"/>
              <a:pathLst>
                <a:path fill="none" w="967" h="848">
                  <a:moveTo>
                    <a:pt x="0" y="0"/>
                  </a:moveTo>
                  <a:lnTo>
                    <a:pt x="967" y="0"/>
                  </a:lnTo>
                  <a:lnTo>
                    <a:pt x="967" y="848"/>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21" name=""/>
            <p:cNvSpPr/>
            <p:nvPr/>
          </p:nvSpPr>
          <p:spPr>
            <a:xfrm>
              <a:off x="1530360" y="3506760"/>
              <a:ext cx="0" cy="77760"/>
            </a:xfrm>
            <a:prstGeom prst="line">
              <a:avLst/>
            </a:prstGeom>
            <a:ln w="25560">
              <a:solidFill>
                <a:srgbClr val="fc0128"/>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sp>
          <p:nvSpPr>
            <p:cNvPr id="8122" name=""/>
            <p:cNvSpPr/>
            <p:nvPr/>
          </p:nvSpPr>
          <p:spPr>
            <a:xfrm>
              <a:off x="1530360" y="3660840"/>
              <a:ext cx="0" cy="77760"/>
            </a:xfrm>
            <a:prstGeom prst="line">
              <a:avLst/>
            </a:prstGeom>
            <a:ln w="25560">
              <a:solidFill>
                <a:srgbClr val="fc0128"/>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sp>
          <p:nvSpPr>
            <p:cNvPr id="8123" name=""/>
            <p:cNvSpPr/>
            <p:nvPr/>
          </p:nvSpPr>
          <p:spPr>
            <a:xfrm>
              <a:off x="1530360" y="3813120"/>
              <a:ext cx="0" cy="304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124" name=""/>
          <p:cNvSpPr/>
          <p:nvPr/>
        </p:nvSpPr>
        <p:spPr>
          <a:xfrm>
            <a:off x="218592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125" name=""/>
          <p:cNvSpPr/>
          <p:nvPr/>
        </p:nvSpPr>
        <p:spPr>
          <a:xfrm>
            <a:off x="218592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126" name=""/>
          <p:cNvSpPr/>
          <p:nvPr/>
        </p:nvSpPr>
        <p:spPr>
          <a:xfrm>
            <a:off x="2185920" y="30621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127" name=""/>
          <p:cNvSpPr/>
          <p:nvPr/>
        </p:nvSpPr>
        <p:spPr>
          <a:xfrm>
            <a:off x="115236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128" name=""/>
          <p:cNvSpPr/>
          <p:nvPr/>
        </p:nvSpPr>
        <p:spPr>
          <a:xfrm>
            <a:off x="115236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129" name=""/>
          <p:cNvSpPr/>
          <p:nvPr/>
        </p:nvSpPr>
        <p:spPr>
          <a:xfrm>
            <a:off x="1152360" y="30621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130" name=""/>
          <p:cNvSpPr/>
          <p:nvPr/>
        </p:nvSpPr>
        <p:spPr>
          <a:xfrm>
            <a:off x="1003320" y="2862360"/>
            <a:ext cx="0" cy="24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1" name=""/>
          <p:cNvSpPr/>
          <p:nvPr/>
        </p:nvSpPr>
        <p:spPr>
          <a:xfrm>
            <a:off x="134136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132" name=""/>
          <p:cNvSpPr/>
          <p:nvPr/>
        </p:nvSpPr>
        <p:spPr>
          <a:xfrm>
            <a:off x="134136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133" name=""/>
          <p:cNvSpPr/>
          <p:nvPr/>
        </p:nvSpPr>
        <p:spPr>
          <a:xfrm>
            <a:off x="1341360" y="3062160"/>
            <a:ext cx="0" cy="42840"/>
          </a:xfrm>
          <a:prstGeom prst="line">
            <a:avLst/>
          </a:prstGeom>
          <a:ln w="12600">
            <a:solidFill>
              <a:srgbClr val="f2fefd"/>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134" name=""/>
          <p:cNvSpPr/>
          <p:nvPr/>
        </p:nvSpPr>
        <p:spPr>
          <a:xfrm flipV="1">
            <a:off x="1247760" y="308772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5" name=""/>
          <p:cNvSpPr/>
          <p:nvPr/>
        </p:nvSpPr>
        <p:spPr>
          <a:xfrm flipV="1">
            <a:off x="1247760" y="29336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136" name=""/>
          <p:cNvSpPr/>
          <p:nvPr/>
        </p:nvSpPr>
        <p:spPr>
          <a:xfrm flipV="1">
            <a:off x="1247760" y="262584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37" name=""/>
          <p:cNvSpPr/>
          <p:nvPr/>
        </p:nvSpPr>
        <p:spPr>
          <a:xfrm>
            <a:off x="237492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138" name=""/>
          <p:cNvSpPr/>
          <p:nvPr/>
        </p:nvSpPr>
        <p:spPr>
          <a:xfrm>
            <a:off x="237492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139" name=""/>
          <p:cNvSpPr/>
          <p:nvPr/>
        </p:nvSpPr>
        <p:spPr>
          <a:xfrm>
            <a:off x="2374920" y="30621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140" name=""/>
          <p:cNvSpPr/>
          <p:nvPr/>
        </p:nvSpPr>
        <p:spPr>
          <a:xfrm flipV="1">
            <a:off x="2281320" y="308772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1" name=""/>
          <p:cNvSpPr/>
          <p:nvPr/>
        </p:nvSpPr>
        <p:spPr>
          <a:xfrm flipV="1">
            <a:off x="2281320" y="29336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142" name=""/>
          <p:cNvSpPr/>
          <p:nvPr/>
        </p:nvSpPr>
        <p:spPr>
          <a:xfrm flipV="1">
            <a:off x="2281320" y="262584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3" name=""/>
          <p:cNvSpPr/>
          <p:nvPr/>
        </p:nvSpPr>
        <p:spPr>
          <a:xfrm>
            <a:off x="2523960" y="2862360"/>
            <a:ext cx="0" cy="24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44" name=""/>
          <p:cNvGrpSpPr/>
          <p:nvPr/>
        </p:nvGrpSpPr>
        <p:grpSpPr>
          <a:xfrm>
            <a:off x="1996920" y="3125880"/>
            <a:ext cx="917640" cy="984240"/>
            <a:chOff x="1996920" y="3125880"/>
            <a:chExt cx="917640" cy="984240"/>
          </a:xfrm>
        </p:grpSpPr>
        <p:grpSp>
          <p:nvGrpSpPr>
            <p:cNvPr id="8145" name=""/>
            <p:cNvGrpSpPr/>
            <p:nvPr/>
          </p:nvGrpSpPr>
          <p:grpSpPr>
            <a:xfrm>
              <a:off x="1996920" y="3125880"/>
              <a:ext cx="917640" cy="615960"/>
              <a:chOff x="1996920" y="3125880"/>
              <a:chExt cx="917640" cy="615960"/>
            </a:xfrm>
          </p:grpSpPr>
          <p:sp>
            <p:nvSpPr>
              <p:cNvPr id="8146" name=""/>
              <p:cNvSpPr/>
              <p:nvPr/>
            </p:nvSpPr>
            <p:spPr>
              <a:xfrm flipH="1">
                <a:off x="2647800" y="3125880"/>
                <a:ext cx="2667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47" name=""/>
              <p:cNvSpPr/>
              <p:nvPr/>
            </p:nvSpPr>
            <p:spPr>
              <a:xfrm flipH="1">
                <a:off x="2495520" y="3125880"/>
                <a:ext cx="745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48" name=""/>
              <p:cNvSpPr/>
              <p:nvPr/>
            </p:nvSpPr>
            <p:spPr>
              <a:xfrm flipH="1">
                <a:off x="2340000" y="3125880"/>
                <a:ext cx="777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49" name=""/>
              <p:cNvSpPr/>
              <p:nvPr/>
            </p:nvSpPr>
            <p:spPr>
              <a:xfrm>
                <a:off x="1996920" y="3125880"/>
                <a:ext cx="268560" cy="308160"/>
              </a:xfrm>
              <a:custGeom>
                <a:avLst/>
                <a:gdLst/>
                <a:ahLst/>
                <a:rect l="0" t="0" r="r" b="b"/>
                <a:pathLst>
                  <a:path fill="none" w="746" h="856">
                    <a:moveTo>
                      <a:pt x="746" y="0"/>
                    </a:moveTo>
                    <a:lnTo>
                      <a:pt x="0" y="0"/>
                    </a:lnTo>
                    <a:lnTo>
                      <a:pt x="0" y="856"/>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50" name=""/>
              <p:cNvSpPr/>
              <p:nvPr/>
            </p:nvSpPr>
            <p:spPr>
              <a:xfrm>
                <a:off x="1996920" y="3511440"/>
                <a:ext cx="0" cy="76320"/>
              </a:xfrm>
              <a:prstGeom prst="line">
                <a:avLst/>
              </a:prstGeom>
              <a:ln w="25560">
                <a:solidFill>
                  <a:srgbClr val="fc0128"/>
                </a:solidFill>
                <a:round/>
              </a:ln>
            </p:spPr>
            <p:style>
              <a:lnRef idx="0"/>
              <a:fillRef idx="0"/>
              <a:effectRef idx="0"/>
              <a:fontRef idx="minor"/>
            </p:style>
            <p:txBody>
              <a:bodyPr lIns="102600" rIns="102600" tIns="18720" bIns="18720" anchor="t">
                <a:noAutofit/>
              </a:bodyPr>
              <a:p>
                <a:endParaRPr b="0" lang="en-US" sz="1800" spc="-1" strike="noStrike">
                  <a:solidFill>
                    <a:srgbClr val="000000"/>
                  </a:solidFill>
                  <a:latin typeface="Arial"/>
                </a:endParaRPr>
              </a:p>
            </p:txBody>
          </p:sp>
          <p:sp>
            <p:nvSpPr>
              <p:cNvPr id="8151" name=""/>
              <p:cNvSpPr/>
              <p:nvPr/>
            </p:nvSpPr>
            <p:spPr>
              <a:xfrm>
                <a:off x="1996920" y="3664080"/>
                <a:ext cx="0" cy="77760"/>
              </a:xfrm>
              <a:prstGeom prst="line">
                <a:avLst/>
              </a:prstGeom>
              <a:ln w="25560">
                <a:solidFill>
                  <a:srgbClr val="fc0128"/>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grpSp>
        <p:sp>
          <p:nvSpPr>
            <p:cNvPr id="8152" name=""/>
            <p:cNvSpPr/>
            <p:nvPr/>
          </p:nvSpPr>
          <p:spPr>
            <a:xfrm>
              <a:off x="1996920" y="3809880"/>
              <a:ext cx="0" cy="3002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153" name=""/>
          <p:cNvSpPr txBox="1"/>
          <p:nvPr/>
        </p:nvSpPr>
        <p:spPr>
          <a:xfrm>
            <a:off x="3151080" y="2854440"/>
            <a:ext cx="5726160" cy="1190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urface B is the primary datum feature, and datum feature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is secondary, RFS.  The mating envelope is the smallest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enscribing cylinder that contacts the high points of diameter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 and is perpendicular to primary datum feature B.</a:t>
            </a:r>
            <a:endParaRPr b="0" lang="en-US" sz="1800" spc="-1" strike="noStrike">
              <a:solidFill>
                <a:srgbClr val="000000"/>
              </a:solidFill>
              <a:latin typeface="Arial"/>
            </a:endParaRPr>
          </a:p>
        </p:txBody>
      </p:sp>
      <p:sp>
        <p:nvSpPr>
          <p:cNvPr id="8154" name=""/>
          <p:cNvSpPr/>
          <p:nvPr/>
        </p:nvSpPr>
        <p:spPr>
          <a:xfrm flipV="1">
            <a:off x="1766880" y="183204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5" name=""/>
          <p:cNvSpPr/>
          <p:nvPr/>
        </p:nvSpPr>
        <p:spPr>
          <a:xfrm flipV="1">
            <a:off x="1766880" y="167148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156" name=""/>
          <p:cNvSpPr/>
          <p:nvPr/>
        </p:nvSpPr>
        <p:spPr>
          <a:xfrm flipV="1">
            <a:off x="1766880" y="11923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7" name=""/>
          <p:cNvSpPr/>
          <p:nvPr/>
        </p:nvSpPr>
        <p:spPr>
          <a:xfrm flipV="1">
            <a:off x="1766880" y="103176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158" name=""/>
          <p:cNvSpPr/>
          <p:nvPr/>
        </p:nvSpPr>
        <p:spPr>
          <a:xfrm flipV="1">
            <a:off x="1766880" y="61272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59" name=""/>
          <p:cNvGrpSpPr/>
          <p:nvPr/>
        </p:nvGrpSpPr>
        <p:grpSpPr>
          <a:xfrm>
            <a:off x="414360" y="1317600"/>
            <a:ext cx="1122840" cy="1031760"/>
            <a:chOff x="414360" y="1317600"/>
            <a:chExt cx="1122840" cy="1031760"/>
          </a:xfrm>
        </p:grpSpPr>
        <p:sp>
          <p:nvSpPr>
            <p:cNvPr id="8160" name=""/>
            <p:cNvSpPr/>
            <p:nvPr/>
          </p:nvSpPr>
          <p:spPr>
            <a:xfrm>
              <a:off x="414360" y="1317600"/>
              <a:ext cx="3618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1" name=""/>
            <p:cNvSpPr/>
            <p:nvPr/>
          </p:nvSpPr>
          <p:spPr>
            <a:xfrm>
              <a:off x="855720" y="1317600"/>
              <a:ext cx="810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2" name=""/>
            <p:cNvSpPr/>
            <p:nvPr/>
          </p:nvSpPr>
          <p:spPr>
            <a:xfrm>
              <a:off x="1015920" y="1317600"/>
              <a:ext cx="795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63" name=""/>
            <p:cNvSpPr/>
            <p:nvPr/>
          </p:nvSpPr>
          <p:spPr>
            <a:xfrm>
              <a:off x="1176480" y="1317600"/>
              <a:ext cx="360720" cy="316440"/>
            </a:xfrm>
            <a:custGeom>
              <a:avLst/>
              <a:gdLst/>
              <a:ahLst/>
              <a:rect l="0" t="0" r="r" b="b"/>
              <a:pathLst>
                <a:path fill="none" w="1002" h="879">
                  <a:moveTo>
                    <a:pt x="0" y="0"/>
                  </a:moveTo>
                  <a:lnTo>
                    <a:pt x="1002" y="0"/>
                  </a:lnTo>
                  <a:lnTo>
                    <a:pt x="1002" y="879"/>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64" name=""/>
            <p:cNvSpPr/>
            <p:nvPr/>
          </p:nvSpPr>
          <p:spPr>
            <a:xfrm>
              <a:off x="1533600" y="1712880"/>
              <a:ext cx="0" cy="79560"/>
            </a:xfrm>
            <a:prstGeom prst="line">
              <a:avLst/>
            </a:prstGeom>
            <a:ln w="25560">
              <a:solidFill>
                <a:srgbClr val="fc0128"/>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8165" name=""/>
            <p:cNvSpPr/>
            <p:nvPr/>
          </p:nvSpPr>
          <p:spPr>
            <a:xfrm>
              <a:off x="1533600" y="1873080"/>
              <a:ext cx="0" cy="79560"/>
            </a:xfrm>
            <a:prstGeom prst="line">
              <a:avLst/>
            </a:prstGeom>
            <a:ln w="25560">
              <a:solidFill>
                <a:srgbClr val="fc0128"/>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8166" name=""/>
            <p:cNvSpPr/>
            <p:nvPr/>
          </p:nvSpPr>
          <p:spPr>
            <a:xfrm>
              <a:off x="1533600" y="2033640"/>
              <a:ext cx="0" cy="315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167" name=""/>
          <p:cNvSpPr/>
          <p:nvPr/>
        </p:nvSpPr>
        <p:spPr>
          <a:xfrm>
            <a:off x="1560600" y="128268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8" name=""/>
          <p:cNvSpPr/>
          <p:nvPr/>
        </p:nvSpPr>
        <p:spPr>
          <a:xfrm>
            <a:off x="1971720" y="127152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9" name=""/>
          <p:cNvSpPr/>
          <p:nvPr/>
        </p:nvSpPr>
        <p:spPr>
          <a:xfrm flipH="1">
            <a:off x="1560600" y="1994040"/>
            <a:ext cx="41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0" name=""/>
          <p:cNvSpPr/>
          <p:nvPr/>
        </p:nvSpPr>
        <p:spPr>
          <a:xfrm flipH="1">
            <a:off x="1581120" y="201456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1" name=""/>
          <p:cNvSpPr/>
          <p:nvPr/>
        </p:nvSpPr>
        <p:spPr>
          <a:xfrm flipH="1" flipV="1">
            <a:off x="1560600" y="19940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172" name=""/>
          <p:cNvSpPr/>
          <p:nvPr/>
        </p:nvSpPr>
        <p:spPr>
          <a:xfrm flipV="1">
            <a:off x="1952640" y="1994040"/>
            <a:ext cx="1908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173" name=""/>
          <p:cNvSpPr/>
          <p:nvPr/>
        </p:nvSpPr>
        <p:spPr>
          <a:xfrm flipH="1">
            <a:off x="973080" y="1257480"/>
            <a:ext cx="1585800" cy="41040"/>
          </a:xfrm>
          <a:prstGeom prst="line">
            <a:avLst/>
          </a:prstGeom>
          <a:ln w="12600">
            <a:solidFill>
              <a:srgbClr val="ffffff"/>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sp>
        <p:nvSpPr>
          <p:cNvPr id="8174" name=""/>
          <p:cNvSpPr/>
          <p:nvPr/>
        </p:nvSpPr>
        <p:spPr>
          <a:xfrm flipH="1">
            <a:off x="966960" y="1000080"/>
            <a:ext cx="158580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175" name=""/>
          <p:cNvSpPr/>
          <p:nvPr/>
        </p:nvSpPr>
        <p:spPr>
          <a:xfrm flipV="1">
            <a:off x="122724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6" name=""/>
          <p:cNvSpPr/>
          <p:nvPr/>
        </p:nvSpPr>
        <p:spPr>
          <a:xfrm flipV="1">
            <a:off x="122724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177" name=""/>
          <p:cNvSpPr/>
          <p:nvPr/>
        </p:nvSpPr>
        <p:spPr>
          <a:xfrm flipV="1">
            <a:off x="122724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8" name=""/>
          <p:cNvSpPr/>
          <p:nvPr/>
        </p:nvSpPr>
        <p:spPr>
          <a:xfrm>
            <a:off x="1325520" y="103356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179" name=""/>
          <p:cNvSpPr/>
          <p:nvPr/>
        </p:nvSpPr>
        <p:spPr>
          <a:xfrm>
            <a:off x="1325520" y="112068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8180" name=""/>
          <p:cNvSpPr/>
          <p:nvPr/>
        </p:nvSpPr>
        <p:spPr>
          <a:xfrm>
            <a:off x="1325520" y="124128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181" name=""/>
          <p:cNvSpPr/>
          <p:nvPr/>
        </p:nvSpPr>
        <p:spPr>
          <a:xfrm>
            <a:off x="1128600" y="10382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182" name=""/>
          <p:cNvSpPr/>
          <p:nvPr/>
        </p:nvSpPr>
        <p:spPr>
          <a:xfrm>
            <a:off x="1128600" y="112716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183" name=""/>
          <p:cNvSpPr/>
          <p:nvPr/>
        </p:nvSpPr>
        <p:spPr>
          <a:xfrm>
            <a:off x="1128600" y="124632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184" name=""/>
          <p:cNvSpPr/>
          <p:nvPr/>
        </p:nvSpPr>
        <p:spPr>
          <a:xfrm>
            <a:off x="966960" y="1042920"/>
            <a:ext cx="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5" name=""/>
          <p:cNvSpPr/>
          <p:nvPr/>
        </p:nvSpPr>
        <p:spPr>
          <a:xfrm flipV="1">
            <a:off x="230508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6" name=""/>
          <p:cNvSpPr/>
          <p:nvPr/>
        </p:nvSpPr>
        <p:spPr>
          <a:xfrm flipV="1">
            <a:off x="230508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187" name=""/>
          <p:cNvSpPr/>
          <p:nvPr/>
        </p:nvSpPr>
        <p:spPr>
          <a:xfrm flipV="1">
            <a:off x="230508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88" name=""/>
          <p:cNvSpPr/>
          <p:nvPr/>
        </p:nvSpPr>
        <p:spPr>
          <a:xfrm>
            <a:off x="2403360" y="100476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189" name=""/>
          <p:cNvSpPr/>
          <p:nvPr/>
        </p:nvSpPr>
        <p:spPr>
          <a:xfrm>
            <a:off x="2403360" y="109224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190" name=""/>
          <p:cNvSpPr/>
          <p:nvPr/>
        </p:nvSpPr>
        <p:spPr>
          <a:xfrm>
            <a:off x="2403360" y="12128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191" name=""/>
          <p:cNvSpPr/>
          <p:nvPr/>
        </p:nvSpPr>
        <p:spPr>
          <a:xfrm>
            <a:off x="2206800" y="101124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192" name=""/>
          <p:cNvSpPr/>
          <p:nvPr/>
        </p:nvSpPr>
        <p:spPr>
          <a:xfrm>
            <a:off x="2206800" y="109872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193" name=""/>
          <p:cNvSpPr/>
          <p:nvPr/>
        </p:nvSpPr>
        <p:spPr>
          <a:xfrm>
            <a:off x="2206800" y="121752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194" name=""/>
          <p:cNvSpPr/>
          <p:nvPr/>
        </p:nvSpPr>
        <p:spPr>
          <a:xfrm>
            <a:off x="2552760" y="1000080"/>
            <a:ext cx="612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195" name=""/>
          <p:cNvGrpSpPr/>
          <p:nvPr/>
        </p:nvGrpSpPr>
        <p:grpSpPr>
          <a:xfrm>
            <a:off x="1996920" y="1325520"/>
            <a:ext cx="959040" cy="1057320"/>
            <a:chOff x="1996920" y="1325520"/>
            <a:chExt cx="959040" cy="1057320"/>
          </a:xfrm>
        </p:grpSpPr>
        <p:sp>
          <p:nvSpPr>
            <p:cNvPr id="8196" name=""/>
            <p:cNvSpPr/>
            <p:nvPr/>
          </p:nvSpPr>
          <p:spPr>
            <a:xfrm flipH="1">
              <a:off x="2674800" y="1325520"/>
              <a:ext cx="2811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97" name=""/>
            <p:cNvSpPr/>
            <p:nvPr/>
          </p:nvSpPr>
          <p:spPr>
            <a:xfrm flipH="1">
              <a:off x="2516040" y="1325520"/>
              <a:ext cx="8100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98" name=""/>
            <p:cNvSpPr/>
            <p:nvPr/>
          </p:nvSpPr>
          <p:spPr>
            <a:xfrm flipH="1">
              <a:off x="2357280" y="1325520"/>
              <a:ext cx="795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199" name=""/>
            <p:cNvSpPr/>
            <p:nvPr/>
          </p:nvSpPr>
          <p:spPr>
            <a:xfrm>
              <a:off x="1996920" y="1325520"/>
              <a:ext cx="279720" cy="319320"/>
            </a:xfrm>
            <a:custGeom>
              <a:avLst/>
              <a:gdLst/>
              <a:ahLst/>
              <a:rect l="0" t="0" r="r" b="b"/>
              <a:pathLst>
                <a:path fill="none" w="777" h="887">
                  <a:moveTo>
                    <a:pt x="777" y="0"/>
                  </a:moveTo>
                  <a:lnTo>
                    <a:pt x="0" y="0"/>
                  </a:lnTo>
                  <a:lnTo>
                    <a:pt x="0" y="887"/>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200" name=""/>
            <p:cNvSpPr/>
            <p:nvPr/>
          </p:nvSpPr>
          <p:spPr>
            <a:xfrm>
              <a:off x="1996920" y="1725480"/>
              <a:ext cx="0" cy="79560"/>
            </a:xfrm>
            <a:prstGeom prst="line">
              <a:avLst/>
            </a:prstGeom>
            <a:ln w="25560">
              <a:solidFill>
                <a:srgbClr val="fd0700"/>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8201" name=""/>
            <p:cNvSpPr/>
            <p:nvPr/>
          </p:nvSpPr>
          <p:spPr>
            <a:xfrm>
              <a:off x="1996920" y="1884240"/>
              <a:ext cx="0" cy="81000"/>
            </a:xfrm>
            <a:prstGeom prst="line">
              <a:avLst/>
            </a:prstGeom>
            <a:ln w="25560">
              <a:solidFill>
                <a:srgbClr val="fd0700"/>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8202" name=""/>
            <p:cNvSpPr/>
            <p:nvPr/>
          </p:nvSpPr>
          <p:spPr>
            <a:xfrm>
              <a:off x="1996920" y="2052720"/>
              <a:ext cx="0" cy="33012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203" name=""/>
          <p:cNvSpPr/>
          <p:nvPr/>
        </p:nvSpPr>
        <p:spPr>
          <a:xfrm flipV="1">
            <a:off x="1766880" y="183204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4" name=""/>
          <p:cNvSpPr/>
          <p:nvPr/>
        </p:nvSpPr>
        <p:spPr>
          <a:xfrm flipV="1">
            <a:off x="1766880" y="167148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205" name=""/>
          <p:cNvSpPr/>
          <p:nvPr/>
        </p:nvSpPr>
        <p:spPr>
          <a:xfrm flipV="1">
            <a:off x="1766880" y="11923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6" name=""/>
          <p:cNvSpPr/>
          <p:nvPr/>
        </p:nvSpPr>
        <p:spPr>
          <a:xfrm flipV="1">
            <a:off x="1766880" y="103176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207" name=""/>
          <p:cNvSpPr/>
          <p:nvPr/>
        </p:nvSpPr>
        <p:spPr>
          <a:xfrm flipV="1">
            <a:off x="1766880" y="61272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8" name=""/>
          <p:cNvSpPr/>
          <p:nvPr/>
        </p:nvSpPr>
        <p:spPr>
          <a:xfrm>
            <a:off x="1560600" y="128268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9" name=""/>
          <p:cNvSpPr/>
          <p:nvPr/>
        </p:nvSpPr>
        <p:spPr>
          <a:xfrm>
            <a:off x="1971720" y="127152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0" name=""/>
          <p:cNvSpPr/>
          <p:nvPr/>
        </p:nvSpPr>
        <p:spPr>
          <a:xfrm flipH="1">
            <a:off x="1560600" y="1994040"/>
            <a:ext cx="41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1" name=""/>
          <p:cNvSpPr/>
          <p:nvPr/>
        </p:nvSpPr>
        <p:spPr>
          <a:xfrm flipH="1">
            <a:off x="1581120" y="201456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2" name=""/>
          <p:cNvSpPr/>
          <p:nvPr/>
        </p:nvSpPr>
        <p:spPr>
          <a:xfrm flipH="1" flipV="1">
            <a:off x="1560600" y="19940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213" name=""/>
          <p:cNvSpPr/>
          <p:nvPr/>
        </p:nvSpPr>
        <p:spPr>
          <a:xfrm flipV="1">
            <a:off x="1952640" y="1994040"/>
            <a:ext cx="1908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214" name=""/>
          <p:cNvSpPr/>
          <p:nvPr/>
        </p:nvSpPr>
        <p:spPr>
          <a:xfrm flipH="1">
            <a:off x="966960" y="1000080"/>
            <a:ext cx="158580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215" name=""/>
          <p:cNvSpPr/>
          <p:nvPr/>
        </p:nvSpPr>
        <p:spPr>
          <a:xfrm flipV="1">
            <a:off x="122724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6" name=""/>
          <p:cNvSpPr/>
          <p:nvPr/>
        </p:nvSpPr>
        <p:spPr>
          <a:xfrm flipV="1">
            <a:off x="122724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217" name=""/>
          <p:cNvSpPr/>
          <p:nvPr/>
        </p:nvSpPr>
        <p:spPr>
          <a:xfrm flipV="1">
            <a:off x="122724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8" name=""/>
          <p:cNvSpPr/>
          <p:nvPr/>
        </p:nvSpPr>
        <p:spPr>
          <a:xfrm>
            <a:off x="1325520" y="103356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219" name=""/>
          <p:cNvSpPr/>
          <p:nvPr/>
        </p:nvSpPr>
        <p:spPr>
          <a:xfrm>
            <a:off x="1325520" y="112068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8220" name=""/>
          <p:cNvSpPr/>
          <p:nvPr/>
        </p:nvSpPr>
        <p:spPr>
          <a:xfrm>
            <a:off x="1325520" y="124128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221" name=""/>
          <p:cNvSpPr/>
          <p:nvPr/>
        </p:nvSpPr>
        <p:spPr>
          <a:xfrm>
            <a:off x="1128600" y="10382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222" name=""/>
          <p:cNvSpPr/>
          <p:nvPr/>
        </p:nvSpPr>
        <p:spPr>
          <a:xfrm>
            <a:off x="1128600" y="112716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223" name=""/>
          <p:cNvSpPr/>
          <p:nvPr/>
        </p:nvSpPr>
        <p:spPr>
          <a:xfrm>
            <a:off x="1128600" y="124632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224" name=""/>
          <p:cNvSpPr/>
          <p:nvPr/>
        </p:nvSpPr>
        <p:spPr>
          <a:xfrm>
            <a:off x="966960" y="1042920"/>
            <a:ext cx="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5" name=""/>
          <p:cNvSpPr/>
          <p:nvPr/>
        </p:nvSpPr>
        <p:spPr>
          <a:xfrm flipV="1">
            <a:off x="230508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6" name=""/>
          <p:cNvSpPr/>
          <p:nvPr/>
        </p:nvSpPr>
        <p:spPr>
          <a:xfrm flipV="1">
            <a:off x="230508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227" name=""/>
          <p:cNvSpPr/>
          <p:nvPr/>
        </p:nvSpPr>
        <p:spPr>
          <a:xfrm flipV="1">
            <a:off x="230508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8" name=""/>
          <p:cNvSpPr/>
          <p:nvPr/>
        </p:nvSpPr>
        <p:spPr>
          <a:xfrm>
            <a:off x="2403360" y="100476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229" name=""/>
          <p:cNvSpPr/>
          <p:nvPr/>
        </p:nvSpPr>
        <p:spPr>
          <a:xfrm>
            <a:off x="2403360" y="109224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230" name=""/>
          <p:cNvSpPr/>
          <p:nvPr/>
        </p:nvSpPr>
        <p:spPr>
          <a:xfrm>
            <a:off x="2403360" y="12128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231" name=""/>
          <p:cNvSpPr/>
          <p:nvPr/>
        </p:nvSpPr>
        <p:spPr>
          <a:xfrm>
            <a:off x="2206800" y="101124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232" name=""/>
          <p:cNvSpPr/>
          <p:nvPr/>
        </p:nvSpPr>
        <p:spPr>
          <a:xfrm>
            <a:off x="2206800" y="109872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233" name=""/>
          <p:cNvSpPr/>
          <p:nvPr/>
        </p:nvSpPr>
        <p:spPr>
          <a:xfrm>
            <a:off x="2206800" y="121752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234" name=""/>
          <p:cNvSpPr/>
          <p:nvPr/>
        </p:nvSpPr>
        <p:spPr>
          <a:xfrm>
            <a:off x="2552760" y="1000080"/>
            <a:ext cx="612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5" name=""/>
          <p:cNvSpPr txBox="1"/>
          <p:nvPr/>
        </p:nvSpPr>
        <p:spPr>
          <a:xfrm>
            <a:off x="293760" y="1558800"/>
            <a:ext cx="73656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axis A</a:t>
            </a:r>
            <a:endParaRPr b="0" lang="en-US" sz="1600" spc="-1" strike="noStrike">
              <a:solidFill>
                <a:srgbClr val="000000"/>
              </a:solidFill>
              <a:latin typeface="Arial"/>
            </a:endParaRPr>
          </a:p>
        </p:txBody>
      </p:sp>
      <p:sp>
        <p:nvSpPr>
          <p:cNvPr id="8236" name=""/>
          <p:cNvSpPr/>
          <p:nvPr/>
        </p:nvSpPr>
        <p:spPr>
          <a:xfrm flipV="1">
            <a:off x="1093680" y="1535040"/>
            <a:ext cx="665280" cy="443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7" name=""/>
          <p:cNvSpPr txBox="1"/>
          <p:nvPr/>
        </p:nvSpPr>
        <p:spPr>
          <a:xfrm>
            <a:off x="1911240" y="252360"/>
            <a:ext cx="81108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Datum </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plane B</a:t>
            </a:r>
            <a:endParaRPr b="0" lang="en-US" sz="1600" spc="-1" strike="noStrike">
              <a:solidFill>
                <a:srgbClr val="000000"/>
              </a:solidFill>
              <a:latin typeface="Arial"/>
            </a:endParaRPr>
          </a:p>
        </p:txBody>
      </p:sp>
      <p:sp>
        <p:nvSpPr>
          <p:cNvPr id="8238" name=""/>
          <p:cNvSpPr/>
          <p:nvPr/>
        </p:nvSpPr>
        <p:spPr>
          <a:xfrm>
            <a:off x="2678040" y="660240"/>
            <a:ext cx="189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9" name=""/>
          <p:cNvSpPr/>
          <p:nvPr/>
        </p:nvSpPr>
        <p:spPr>
          <a:xfrm flipH="1">
            <a:off x="2744640" y="660240"/>
            <a:ext cx="122400" cy="65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0" name=""/>
          <p:cNvSpPr/>
          <p:nvPr/>
        </p:nvSpPr>
        <p:spPr>
          <a:xfrm flipH="1">
            <a:off x="917640" y="19782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1" name=""/>
          <p:cNvSpPr txBox="1"/>
          <p:nvPr/>
        </p:nvSpPr>
        <p:spPr>
          <a:xfrm>
            <a:off x="3117960" y="817560"/>
            <a:ext cx="5859360" cy="1190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iameter A is the primary datum feature.  It is held regardless</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of feature size.  Departure from perpendicularity between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datum axis A and datum feature B results in loss of contact</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with the datum plane.</a:t>
            </a:r>
            <a:endParaRPr b="0" lang="en-US" sz="1800" spc="-1" strike="noStrike">
              <a:solidFill>
                <a:srgbClr val="000000"/>
              </a:solidFill>
              <a:latin typeface="Arial"/>
            </a:endParaRPr>
          </a:p>
        </p:txBody>
      </p:sp>
      <p:grpSp>
        <p:nvGrpSpPr>
          <p:cNvPr id="8242" name=""/>
          <p:cNvGrpSpPr/>
          <p:nvPr/>
        </p:nvGrpSpPr>
        <p:grpSpPr>
          <a:xfrm>
            <a:off x="4070520" y="285840"/>
            <a:ext cx="2477880" cy="430200"/>
            <a:chOff x="4070520" y="285840"/>
            <a:chExt cx="2477880" cy="430200"/>
          </a:xfrm>
        </p:grpSpPr>
        <p:sp>
          <p:nvSpPr>
            <p:cNvPr id="8243" name=""/>
            <p:cNvSpPr/>
            <p:nvPr/>
          </p:nvSpPr>
          <p:spPr>
            <a:xfrm>
              <a:off x="4070520" y="28584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244" name=""/>
            <p:cNvGrpSpPr/>
            <p:nvPr/>
          </p:nvGrpSpPr>
          <p:grpSpPr>
            <a:xfrm>
              <a:off x="4159080" y="339840"/>
              <a:ext cx="306720" cy="303120"/>
              <a:chOff x="4159080" y="339840"/>
              <a:chExt cx="306720" cy="303120"/>
            </a:xfrm>
          </p:grpSpPr>
          <p:sp>
            <p:nvSpPr>
              <p:cNvPr id="8245" name=""/>
              <p:cNvSpPr/>
              <p:nvPr/>
            </p:nvSpPr>
            <p:spPr>
              <a:xfrm>
                <a:off x="4202280" y="39528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46" name=""/>
              <p:cNvSpPr/>
              <p:nvPr/>
            </p:nvSpPr>
            <p:spPr>
              <a:xfrm>
                <a:off x="4307040" y="33984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7" name=""/>
              <p:cNvSpPr/>
              <p:nvPr/>
            </p:nvSpPr>
            <p:spPr>
              <a:xfrm>
                <a:off x="4159080" y="498600"/>
                <a:ext cx="30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48" name=""/>
            <p:cNvSpPr/>
            <p:nvPr/>
          </p:nvSpPr>
          <p:spPr>
            <a:xfrm>
              <a:off x="4570560" y="29700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249" name=""/>
            <p:cNvGrpSpPr/>
            <p:nvPr/>
          </p:nvGrpSpPr>
          <p:grpSpPr>
            <a:xfrm>
              <a:off x="4662360" y="401760"/>
              <a:ext cx="177840" cy="177840"/>
              <a:chOff x="4662360" y="401760"/>
              <a:chExt cx="177840" cy="177840"/>
            </a:xfrm>
          </p:grpSpPr>
          <p:sp>
            <p:nvSpPr>
              <p:cNvPr id="8250" name=""/>
              <p:cNvSpPr/>
              <p:nvPr/>
            </p:nvSpPr>
            <p:spPr>
              <a:xfrm>
                <a:off x="4675320" y="41580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51" name=""/>
              <p:cNvSpPr/>
              <p:nvPr/>
            </p:nvSpPr>
            <p:spPr>
              <a:xfrm flipH="1">
                <a:off x="4662360" y="40176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52" name=""/>
            <p:cNvSpPr txBox="1"/>
            <p:nvPr/>
          </p:nvSpPr>
          <p:spPr>
            <a:xfrm>
              <a:off x="4848120" y="29700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8253" name=""/>
            <p:cNvSpPr/>
            <p:nvPr/>
          </p:nvSpPr>
          <p:spPr>
            <a:xfrm>
              <a:off x="5425920" y="34920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54" name=""/>
            <p:cNvSpPr/>
            <p:nvPr/>
          </p:nvSpPr>
          <p:spPr>
            <a:xfrm>
              <a:off x="5803920" y="29700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55" name=""/>
            <p:cNvSpPr/>
            <p:nvPr/>
          </p:nvSpPr>
          <p:spPr>
            <a:xfrm>
              <a:off x="6130800" y="29700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8256" name=""/>
          <p:cNvGrpSpPr/>
          <p:nvPr/>
        </p:nvGrpSpPr>
        <p:grpSpPr>
          <a:xfrm>
            <a:off x="4068720" y="2367000"/>
            <a:ext cx="2478240" cy="430200"/>
            <a:chOff x="4068720" y="2367000"/>
            <a:chExt cx="2478240" cy="430200"/>
          </a:xfrm>
        </p:grpSpPr>
        <p:sp>
          <p:nvSpPr>
            <p:cNvPr id="8257" name=""/>
            <p:cNvSpPr/>
            <p:nvPr/>
          </p:nvSpPr>
          <p:spPr>
            <a:xfrm>
              <a:off x="4068720" y="236700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258" name=""/>
            <p:cNvGrpSpPr/>
            <p:nvPr/>
          </p:nvGrpSpPr>
          <p:grpSpPr>
            <a:xfrm>
              <a:off x="4157640" y="2421000"/>
              <a:ext cx="306360" cy="303120"/>
              <a:chOff x="4157640" y="2421000"/>
              <a:chExt cx="306360" cy="303120"/>
            </a:xfrm>
          </p:grpSpPr>
          <p:sp>
            <p:nvSpPr>
              <p:cNvPr id="8259" name=""/>
              <p:cNvSpPr/>
              <p:nvPr/>
            </p:nvSpPr>
            <p:spPr>
              <a:xfrm>
                <a:off x="4200480" y="247644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60" name=""/>
              <p:cNvSpPr/>
              <p:nvPr/>
            </p:nvSpPr>
            <p:spPr>
              <a:xfrm>
                <a:off x="4305240" y="2421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1" name=""/>
              <p:cNvSpPr/>
              <p:nvPr/>
            </p:nvSpPr>
            <p:spPr>
              <a:xfrm>
                <a:off x="4157640" y="257976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62" name=""/>
            <p:cNvSpPr/>
            <p:nvPr/>
          </p:nvSpPr>
          <p:spPr>
            <a:xfrm>
              <a:off x="4568760" y="237816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263" name=""/>
            <p:cNvGrpSpPr/>
            <p:nvPr/>
          </p:nvGrpSpPr>
          <p:grpSpPr>
            <a:xfrm>
              <a:off x="4660920" y="2482920"/>
              <a:ext cx="177840" cy="177840"/>
              <a:chOff x="4660920" y="2482920"/>
              <a:chExt cx="177840" cy="177840"/>
            </a:xfrm>
          </p:grpSpPr>
          <p:sp>
            <p:nvSpPr>
              <p:cNvPr id="8264" name=""/>
              <p:cNvSpPr/>
              <p:nvPr/>
            </p:nvSpPr>
            <p:spPr>
              <a:xfrm>
                <a:off x="4673520" y="249696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65" name=""/>
              <p:cNvSpPr/>
              <p:nvPr/>
            </p:nvSpPr>
            <p:spPr>
              <a:xfrm flipH="1">
                <a:off x="4660920" y="24829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66" name=""/>
            <p:cNvSpPr txBox="1"/>
            <p:nvPr/>
          </p:nvSpPr>
          <p:spPr>
            <a:xfrm>
              <a:off x="4846680" y="237816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8267" name=""/>
            <p:cNvSpPr/>
            <p:nvPr/>
          </p:nvSpPr>
          <p:spPr>
            <a:xfrm>
              <a:off x="5424480" y="243036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68" name=""/>
            <p:cNvSpPr/>
            <p:nvPr/>
          </p:nvSpPr>
          <p:spPr>
            <a:xfrm>
              <a:off x="5802480" y="237816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69" name=""/>
            <p:cNvSpPr/>
            <p:nvPr/>
          </p:nvSpPr>
          <p:spPr>
            <a:xfrm>
              <a:off x="6129360" y="237816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270" name=""/>
          <p:cNvSpPr/>
          <p:nvPr/>
        </p:nvSpPr>
        <p:spPr>
          <a:xfrm>
            <a:off x="701640" y="465120"/>
            <a:ext cx="2313000" cy="5805360"/>
          </a:xfrm>
          <a:prstGeom prst="rect">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271" name=""/>
          <p:cNvSpPr txBox="1"/>
          <p:nvPr/>
        </p:nvSpPr>
        <p:spPr>
          <a:xfrm>
            <a:off x="3117960" y="817560"/>
            <a:ext cx="5859360" cy="1190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Diameter A is the primary datum feature.  It is held regardless</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of feature size.  Departure from perpendicularity between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datum axis A and datum feature B results in loss of contact</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with the datum plane.</a:t>
            </a:r>
            <a:endParaRPr b="0" lang="en-US" sz="1800" spc="-1" strike="noStrike">
              <a:solidFill>
                <a:srgbClr val="000000"/>
              </a:solidFill>
              <a:latin typeface="Arial"/>
            </a:endParaRPr>
          </a:p>
        </p:txBody>
      </p:sp>
      <p:grpSp>
        <p:nvGrpSpPr>
          <p:cNvPr id="8272" name=""/>
          <p:cNvGrpSpPr/>
          <p:nvPr/>
        </p:nvGrpSpPr>
        <p:grpSpPr>
          <a:xfrm>
            <a:off x="4070520" y="285840"/>
            <a:ext cx="2477880" cy="430200"/>
            <a:chOff x="4070520" y="285840"/>
            <a:chExt cx="2477880" cy="430200"/>
          </a:xfrm>
        </p:grpSpPr>
        <p:sp>
          <p:nvSpPr>
            <p:cNvPr id="8273" name=""/>
            <p:cNvSpPr/>
            <p:nvPr/>
          </p:nvSpPr>
          <p:spPr>
            <a:xfrm>
              <a:off x="4070520" y="28584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274" name=""/>
            <p:cNvGrpSpPr/>
            <p:nvPr/>
          </p:nvGrpSpPr>
          <p:grpSpPr>
            <a:xfrm>
              <a:off x="4159080" y="339840"/>
              <a:ext cx="306720" cy="303120"/>
              <a:chOff x="4159080" y="339840"/>
              <a:chExt cx="306720" cy="303120"/>
            </a:xfrm>
          </p:grpSpPr>
          <p:sp>
            <p:nvSpPr>
              <p:cNvPr id="8275" name=""/>
              <p:cNvSpPr/>
              <p:nvPr/>
            </p:nvSpPr>
            <p:spPr>
              <a:xfrm>
                <a:off x="4202280" y="39528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76" name=""/>
              <p:cNvSpPr/>
              <p:nvPr/>
            </p:nvSpPr>
            <p:spPr>
              <a:xfrm>
                <a:off x="4307040" y="33984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7" name=""/>
              <p:cNvSpPr/>
              <p:nvPr/>
            </p:nvSpPr>
            <p:spPr>
              <a:xfrm>
                <a:off x="4159080" y="498600"/>
                <a:ext cx="306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78" name=""/>
            <p:cNvSpPr/>
            <p:nvPr/>
          </p:nvSpPr>
          <p:spPr>
            <a:xfrm>
              <a:off x="4570560" y="29700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279" name=""/>
            <p:cNvGrpSpPr/>
            <p:nvPr/>
          </p:nvGrpSpPr>
          <p:grpSpPr>
            <a:xfrm>
              <a:off x="4662360" y="401760"/>
              <a:ext cx="177840" cy="177840"/>
              <a:chOff x="4662360" y="401760"/>
              <a:chExt cx="177840" cy="177840"/>
            </a:xfrm>
          </p:grpSpPr>
          <p:sp>
            <p:nvSpPr>
              <p:cNvPr id="8280" name=""/>
              <p:cNvSpPr/>
              <p:nvPr/>
            </p:nvSpPr>
            <p:spPr>
              <a:xfrm>
                <a:off x="4675320" y="41580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81" name=""/>
              <p:cNvSpPr/>
              <p:nvPr/>
            </p:nvSpPr>
            <p:spPr>
              <a:xfrm flipH="1">
                <a:off x="4662360" y="40176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282" name=""/>
            <p:cNvSpPr txBox="1"/>
            <p:nvPr/>
          </p:nvSpPr>
          <p:spPr>
            <a:xfrm>
              <a:off x="4848120" y="29700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A   B</a:t>
              </a:r>
              <a:endParaRPr b="0" lang="en-US" sz="2000" spc="-1" strike="noStrike">
                <a:solidFill>
                  <a:srgbClr val="000000"/>
                </a:solidFill>
                <a:latin typeface="Arial"/>
              </a:endParaRPr>
            </a:p>
          </p:txBody>
        </p:sp>
        <p:sp>
          <p:nvSpPr>
            <p:cNvPr id="8283" name=""/>
            <p:cNvSpPr/>
            <p:nvPr/>
          </p:nvSpPr>
          <p:spPr>
            <a:xfrm>
              <a:off x="5425920" y="34920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84" name=""/>
            <p:cNvSpPr/>
            <p:nvPr/>
          </p:nvSpPr>
          <p:spPr>
            <a:xfrm>
              <a:off x="5803920" y="29700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5" name=""/>
            <p:cNvSpPr/>
            <p:nvPr/>
          </p:nvSpPr>
          <p:spPr>
            <a:xfrm>
              <a:off x="6130800" y="29700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2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8287" name=""/>
          <p:cNvGrpSpPr/>
          <p:nvPr/>
        </p:nvGrpSpPr>
        <p:grpSpPr>
          <a:xfrm>
            <a:off x="2017800" y="5114880"/>
            <a:ext cx="977760" cy="1060560"/>
            <a:chOff x="2017800" y="5114880"/>
            <a:chExt cx="977760" cy="1060560"/>
          </a:xfrm>
        </p:grpSpPr>
        <p:sp>
          <p:nvSpPr>
            <p:cNvPr id="8288" name=""/>
            <p:cNvSpPr/>
            <p:nvPr/>
          </p:nvSpPr>
          <p:spPr>
            <a:xfrm flipH="1">
              <a:off x="2711520" y="5114880"/>
              <a:ext cx="2840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89" name=""/>
            <p:cNvSpPr/>
            <p:nvPr/>
          </p:nvSpPr>
          <p:spPr>
            <a:xfrm flipH="1">
              <a:off x="2546280" y="5114880"/>
              <a:ext cx="828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0" name=""/>
            <p:cNvSpPr/>
            <p:nvPr/>
          </p:nvSpPr>
          <p:spPr>
            <a:xfrm flipH="1">
              <a:off x="2384280" y="5114880"/>
              <a:ext cx="810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291" name=""/>
            <p:cNvSpPr/>
            <p:nvPr/>
          </p:nvSpPr>
          <p:spPr>
            <a:xfrm>
              <a:off x="2017800" y="5114880"/>
              <a:ext cx="284400" cy="327240"/>
            </a:xfrm>
            <a:custGeom>
              <a:avLst/>
              <a:gdLst/>
              <a:ahLst/>
              <a:rect l="0" t="0" r="r" b="b"/>
              <a:pathLst>
                <a:path fill="none" w="790" h="909">
                  <a:moveTo>
                    <a:pt x="790" y="0"/>
                  </a:moveTo>
                  <a:lnTo>
                    <a:pt x="0" y="0"/>
                  </a:lnTo>
                  <a:lnTo>
                    <a:pt x="0" y="909"/>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292" name=""/>
            <p:cNvSpPr/>
            <p:nvPr/>
          </p:nvSpPr>
          <p:spPr>
            <a:xfrm>
              <a:off x="2017800" y="5524560"/>
              <a:ext cx="0" cy="81000"/>
            </a:xfrm>
            <a:prstGeom prst="line">
              <a:avLst/>
            </a:prstGeom>
            <a:ln w="25560">
              <a:solidFill>
                <a:srgbClr val="fc0128"/>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8293" name=""/>
            <p:cNvSpPr/>
            <p:nvPr/>
          </p:nvSpPr>
          <p:spPr>
            <a:xfrm>
              <a:off x="2017800" y="5686560"/>
              <a:ext cx="0" cy="82440"/>
            </a:xfrm>
            <a:prstGeom prst="line">
              <a:avLst/>
            </a:prstGeom>
            <a:ln w="25560">
              <a:solidFill>
                <a:srgbClr val="fc0128"/>
              </a:solidFill>
              <a:round/>
            </a:ln>
          </p:spPr>
          <p:style>
            <a:lnRef idx="0"/>
            <a:fillRef idx="0"/>
            <a:effectRef idx="0"/>
            <a:fontRef idx="minor"/>
          </p:style>
          <p:txBody>
            <a:bodyPr lIns="102600" rIns="102600" tIns="24840" bIns="24840" anchor="t">
              <a:noAutofit/>
            </a:bodyPr>
            <a:p>
              <a:endParaRPr b="0" lang="en-US" sz="1800" spc="-1" strike="noStrike">
                <a:solidFill>
                  <a:srgbClr val="000000"/>
                </a:solidFill>
                <a:latin typeface="Arial"/>
              </a:endParaRPr>
            </a:p>
          </p:txBody>
        </p:sp>
        <p:sp>
          <p:nvSpPr>
            <p:cNvPr id="8294" name=""/>
            <p:cNvSpPr/>
            <p:nvPr/>
          </p:nvSpPr>
          <p:spPr>
            <a:xfrm>
              <a:off x="2017800" y="5850000"/>
              <a:ext cx="0" cy="3254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295" name=""/>
          <p:cNvSpPr/>
          <p:nvPr/>
        </p:nvSpPr>
        <p:spPr>
          <a:xfrm flipH="1">
            <a:off x="957240" y="4832280"/>
            <a:ext cx="161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6" name=""/>
          <p:cNvSpPr/>
          <p:nvPr/>
        </p:nvSpPr>
        <p:spPr>
          <a:xfrm flipH="1">
            <a:off x="957240" y="5091120"/>
            <a:ext cx="1619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7" name=""/>
          <p:cNvSpPr/>
          <p:nvPr/>
        </p:nvSpPr>
        <p:spPr>
          <a:xfrm flipH="1">
            <a:off x="1630440" y="5676840"/>
            <a:ext cx="31428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298" name=""/>
          <p:cNvSpPr/>
          <p:nvPr/>
        </p:nvSpPr>
        <p:spPr>
          <a:xfrm flipH="1">
            <a:off x="1611360" y="5659560"/>
            <a:ext cx="349200" cy="21960"/>
          </a:xfrm>
          <a:prstGeom prst="line">
            <a:avLst/>
          </a:prstGeom>
          <a:ln w="12600">
            <a:solidFill>
              <a:srgbClr val="ffffff"/>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299" name=""/>
          <p:cNvSpPr/>
          <p:nvPr/>
        </p:nvSpPr>
        <p:spPr>
          <a:xfrm flipH="1" flipV="1">
            <a:off x="1611360" y="5681520"/>
            <a:ext cx="19080" cy="15840"/>
          </a:xfrm>
          <a:prstGeom prst="line">
            <a:avLst/>
          </a:prstGeom>
          <a:ln w="12600">
            <a:solidFill>
              <a:srgbClr val="ffffff"/>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8300" name=""/>
          <p:cNvSpPr/>
          <p:nvPr/>
        </p:nvSpPr>
        <p:spPr>
          <a:xfrm>
            <a:off x="1573200" y="5091120"/>
            <a:ext cx="38160" cy="59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1" name=""/>
          <p:cNvSpPr/>
          <p:nvPr/>
        </p:nvSpPr>
        <p:spPr>
          <a:xfrm flipV="1">
            <a:off x="1944720" y="5659560"/>
            <a:ext cx="15840" cy="17280"/>
          </a:xfrm>
          <a:prstGeom prst="line">
            <a:avLst/>
          </a:prstGeom>
          <a:ln w="12600">
            <a:solidFill>
              <a:srgbClr val="ffffff"/>
            </a:solidFill>
            <a:roun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8302" name=""/>
          <p:cNvSpPr/>
          <p:nvPr/>
        </p:nvSpPr>
        <p:spPr>
          <a:xfrm>
            <a:off x="1924200" y="5091120"/>
            <a:ext cx="36360" cy="56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3" name=""/>
          <p:cNvSpPr/>
          <p:nvPr/>
        </p:nvSpPr>
        <p:spPr>
          <a:xfrm flipV="1">
            <a:off x="1217520" y="507204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4" name=""/>
          <p:cNvSpPr/>
          <p:nvPr/>
        </p:nvSpPr>
        <p:spPr>
          <a:xfrm flipV="1">
            <a:off x="1217520" y="4906800"/>
            <a:ext cx="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8305" name=""/>
          <p:cNvSpPr/>
          <p:nvPr/>
        </p:nvSpPr>
        <p:spPr>
          <a:xfrm flipV="1">
            <a:off x="1217520" y="4579920"/>
            <a:ext cx="0" cy="24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06" name=""/>
          <p:cNvGrpSpPr/>
          <p:nvPr/>
        </p:nvGrpSpPr>
        <p:grpSpPr>
          <a:xfrm>
            <a:off x="358920" y="5114880"/>
            <a:ext cx="1144800" cy="1054080"/>
            <a:chOff x="358920" y="5114880"/>
            <a:chExt cx="1144800" cy="1054080"/>
          </a:xfrm>
        </p:grpSpPr>
        <p:sp>
          <p:nvSpPr>
            <p:cNvPr id="8307" name=""/>
            <p:cNvSpPr/>
            <p:nvPr/>
          </p:nvSpPr>
          <p:spPr>
            <a:xfrm>
              <a:off x="358920" y="5114880"/>
              <a:ext cx="3682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08" name=""/>
            <p:cNvSpPr/>
            <p:nvPr/>
          </p:nvSpPr>
          <p:spPr>
            <a:xfrm>
              <a:off x="808200" y="5114880"/>
              <a:ext cx="824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09" name=""/>
            <p:cNvSpPr/>
            <p:nvPr/>
          </p:nvSpPr>
          <p:spPr>
            <a:xfrm>
              <a:off x="971640" y="5114880"/>
              <a:ext cx="810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10" name=""/>
            <p:cNvSpPr/>
            <p:nvPr/>
          </p:nvSpPr>
          <p:spPr>
            <a:xfrm>
              <a:off x="1135080" y="5114880"/>
              <a:ext cx="368640" cy="324360"/>
            </a:xfrm>
            <a:custGeom>
              <a:avLst/>
              <a:gdLst/>
              <a:ahLst/>
              <a:rect l="0" t="0" r="r" b="b"/>
              <a:pathLst>
                <a:path fill="none" w="1024" h="901">
                  <a:moveTo>
                    <a:pt x="0" y="0"/>
                  </a:moveTo>
                  <a:lnTo>
                    <a:pt x="1024" y="0"/>
                  </a:lnTo>
                  <a:lnTo>
                    <a:pt x="1024" y="901"/>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11" name=""/>
            <p:cNvSpPr/>
            <p:nvPr/>
          </p:nvSpPr>
          <p:spPr>
            <a:xfrm>
              <a:off x="1503360" y="5519880"/>
              <a:ext cx="0" cy="81000"/>
            </a:xfrm>
            <a:prstGeom prst="line">
              <a:avLst/>
            </a:prstGeom>
            <a:ln w="25560">
              <a:solidFill>
                <a:srgbClr val="fc0128"/>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8312" name=""/>
            <p:cNvSpPr/>
            <p:nvPr/>
          </p:nvSpPr>
          <p:spPr>
            <a:xfrm>
              <a:off x="1503360" y="5683320"/>
              <a:ext cx="0" cy="81000"/>
            </a:xfrm>
            <a:prstGeom prst="line">
              <a:avLst/>
            </a:prstGeom>
            <a:ln w="25560">
              <a:solidFill>
                <a:srgbClr val="fc0128"/>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8313" name=""/>
            <p:cNvSpPr/>
            <p:nvPr/>
          </p:nvSpPr>
          <p:spPr>
            <a:xfrm>
              <a:off x="1503360" y="5845320"/>
              <a:ext cx="0" cy="3236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314" name=""/>
          <p:cNvSpPr/>
          <p:nvPr/>
        </p:nvSpPr>
        <p:spPr>
          <a:xfrm flipV="1">
            <a:off x="1768320" y="563724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5" name=""/>
          <p:cNvSpPr/>
          <p:nvPr/>
        </p:nvSpPr>
        <p:spPr>
          <a:xfrm flipV="1">
            <a:off x="1768320" y="54752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316" name=""/>
          <p:cNvSpPr/>
          <p:nvPr/>
        </p:nvSpPr>
        <p:spPr>
          <a:xfrm flipV="1">
            <a:off x="1768320" y="4984920"/>
            <a:ext cx="0" cy="406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7" name=""/>
          <p:cNvSpPr/>
          <p:nvPr/>
        </p:nvSpPr>
        <p:spPr>
          <a:xfrm flipV="1">
            <a:off x="1768320" y="4819680"/>
            <a:ext cx="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8318" name=""/>
          <p:cNvSpPr/>
          <p:nvPr/>
        </p:nvSpPr>
        <p:spPr>
          <a:xfrm flipV="1">
            <a:off x="1768320" y="439092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9" name=""/>
          <p:cNvSpPr/>
          <p:nvPr/>
        </p:nvSpPr>
        <p:spPr>
          <a:xfrm>
            <a:off x="1319040" y="48322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20" name=""/>
          <p:cNvSpPr/>
          <p:nvPr/>
        </p:nvSpPr>
        <p:spPr>
          <a:xfrm>
            <a:off x="1319040" y="491976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8321" name=""/>
          <p:cNvSpPr/>
          <p:nvPr/>
        </p:nvSpPr>
        <p:spPr>
          <a:xfrm>
            <a:off x="1319040" y="504360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22" name=""/>
          <p:cNvSpPr/>
          <p:nvPr/>
        </p:nvSpPr>
        <p:spPr>
          <a:xfrm>
            <a:off x="957240" y="4832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3" name=""/>
          <p:cNvSpPr/>
          <p:nvPr/>
        </p:nvSpPr>
        <p:spPr>
          <a:xfrm>
            <a:off x="1117440" y="48322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24" name=""/>
          <p:cNvSpPr/>
          <p:nvPr/>
        </p:nvSpPr>
        <p:spPr>
          <a:xfrm>
            <a:off x="1117440" y="491976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8325" name=""/>
          <p:cNvSpPr/>
          <p:nvPr/>
        </p:nvSpPr>
        <p:spPr>
          <a:xfrm>
            <a:off x="1117440" y="504360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26" name=""/>
          <p:cNvSpPr/>
          <p:nvPr/>
        </p:nvSpPr>
        <p:spPr>
          <a:xfrm>
            <a:off x="2216160" y="48322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27" name=""/>
          <p:cNvSpPr/>
          <p:nvPr/>
        </p:nvSpPr>
        <p:spPr>
          <a:xfrm>
            <a:off x="2216160" y="491976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8328" name=""/>
          <p:cNvSpPr/>
          <p:nvPr/>
        </p:nvSpPr>
        <p:spPr>
          <a:xfrm>
            <a:off x="2216160" y="504360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29" name=""/>
          <p:cNvSpPr/>
          <p:nvPr/>
        </p:nvSpPr>
        <p:spPr>
          <a:xfrm flipV="1">
            <a:off x="2316240" y="507204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0" name=""/>
          <p:cNvSpPr/>
          <p:nvPr/>
        </p:nvSpPr>
        <p:spPr>
          <a:xfrm flipV="1">
            <a:off x="2316240" y="4906800"/>
            <a:ext cx="0" cy="84240"/>
          </a:xfrm>
          <a:prstGeom prst="line">
            <a:avLst/>
          </a:prstGeom>
          <a:ln w="12600">
            <a:solidFill>
              <a:srgbClr val="ffffff"/>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8331" name=""/>
          <p:cNvSpPr/>
          <p:nvPr/>
        </p:nvSpPr>
        <p:spPr>
          <a:xfrm flipV="1">
            <a:off x="2316240" y="4579920"/>
            <a:ext cx="0" cy="246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2" name=""/>
          <p:cNvSpPr/>
          <p:nvPr/>
        </p:nvSpPr>
        <p:spPr>
          <a:xfrm>
            <a:off x="2576520" y="4832280"/>
            <a:ext cx="0" cy="258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3" name=""/>
          <p:cNvSpPr/>
          <p:nvPr/>
        </p:nvSpPr>
        <p:spPr>
          <a:xfrm>
            <a:off x="2417760" y="483228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34" name=""/>
          <p:cNvSpPr/>
          <p:nvPr/>
        </p:nvSpPr>
        <p:spPr>
          <a:xfrm>
            <a:off x="2417760" y="491976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8335" name=""/>
          <p:cNvSpPr/>
          <p:nvPr/>
        </p:nvSpPr>
        <p:spPr>
          <a:xfrm>
            <a:off x="2417760" y="504360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336" name=""/>
          <p:cNvSpPr/>
          <p:nvPr/>
        </p:nvSpPr>
        <p:spPr>
          <a:xfrm>
            <a:off x="3805200" y="4449600"/>
            <a:ext cx="296064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337" name=""/>
          <p:cNvGrpSpPr/>
          <p:nvPr/>
        </p:nvGrpSpPr>
        <p:grpSpPr>
          <a:xfrm>
            <a:off x="3894120" y="4503600"/>
            <a:ext cx="306360" cy="303480"/>
            <a:chOff x="3894120" y="4503600"/>
            <a:chExt cx="306360" cy="303480"/>
          </a:xfrm>
        </p:grpSpPr>
        <p:sp>
          <p:nvSpPr>
            <p:cNvPr id="8338" name=""/>
            <p:cNvSpPr/>
            <p:nvPr/>
          </p:nvSpPr>
          <p:spPr>
            <a:xfrm>
              <a:off x="3936960" y="455940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39" name=""/>
            <p:cNvSpPr/>
            <p:nvPr/>
          </p:nvSpPr>
          <p:spPr>
            <a:xfrm>
              <a:off x="4041720" y="4503600"/>
              <a:ext cx="0" cy="30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0" name=""/>
            <p:cNvSpPr/>
            <p:nvPr/>
          </p:nvSpPr>
          <p:spPr>
            <a:xfrm>
              <a:off x="3894120" y="466236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41" name=""/>
          <p:cNvSpPr/>
          <p:nvPr/>
        </p:nvSpPr>
        <p:spPr>
          <a:xfrm>
            <a:off x="4305240" y="4460760"/>
            <a:ext cx="0" cy="357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342" name=""/>
          <p:cNvGrpSpPr/>
          <p:nvPr/>
        </p:nvGrpSpPr>
        <p:grpSpPr>
          <a:xfrm>
            <a:off x="4397400" y="4565520"/>
            <a:ext cx="177840" cy="177840"/>
            <a:chOff x="4397400" y="4565520"/>
            <a:chExt cx="177840" cy="177840"/>
          </a:xfrm>
        </p:grpSpPr>
        <p:sp>
          <p:nvSpPr>
            <p:cNvPr id="8343" name=""/>
            <p:cNvSpPr/>
            <p:nvPr/>
          </p:nvSpPr>
          <p:spPr>
            <a:xfrm>
              <a:off x="4410000" y="457992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44" name=""/>
            <p:cNvSpPr/>
            <p:nvPr/>
          </p:nvSpPr>
          <p:spPr>
            <a:xfrm flipH="1">
              <a:off x="4397400" y="45655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345" name=""/>
          <p:cNvSpPr txBox="1"/>
          <p:nvPr/>
        </p:nvSpPr>
        <p:spPr>
          <a:xfrm>
            <a:off x="4583160" y="4460760"/>
            <a:ext cx="21160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   M</a:t>
            </a:r>
            <a:endParaRPr b="0" lang="en-US" sz="2000" spc="-1" strike="noStrike">
              <a:solidFill>
                <a:srgbClr val="000000"/>
              </a:solidFill>
              <a:latin typeface="Arial"/>
            </a:endParaRPr>
          </a:p>
        </p:txBody>
      </p:sp>
      <p:sp>
        <p:nvSpPr>
          <p:cNvPr id="8346" name=""/>
          <p:cNvSpPr/>
          <p:nvPr/>
        </p:nvSpPr>
        <p:spPr>
          <a:xfrm>
            <a:off x="5138640" y="451332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47" name=""/>
          <p:cNvSpPr/>
          <p:nvPr/>
        </p:nvSpPr>
        <p:spPr>
          <a:xfrm>
            <a:off x="5538960" y="4460760"/>
            <a:ext cx="0" cy="3574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48" name=""/>
          <p:cNvSpPr/>
          <p:nvPr/>
        </p:nvSpPr>
        <p:spPr>
          <a:xfrm>
            <a:off x="5865840" y="4460760"/>
            <a:ext cx="0" cy="3621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49" name=""/>
          <p:cNvSpPr/>
          <p:nvPr/>
        </p:nvSpPr>
        <p:spPr>
          <a:xfrm>
            <a:off x="6310440" y="451008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50" name=""/>
          <p:cNvSpPr txBox="1"/>
          <p:nvPr/>
        </p:nvSpPr>
        <p:spPr>
          <a:xfrm>
            <a:off x="3129120" y="4915080"/>
            <a:ext cx="5751360" cy="146520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urface B is the primary datum feature, and datum feature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is secondary with MMC applied.  A fixed cylinder gage with</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 diameter equal to the virtual condition of datum feature A,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nd perpendicular to datum feature B, is used to verify the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part and simulate assembly.</a:t>
            </a:r>
            <a:endParaRPr b="0" lang="en-US" sz="1800" spc="-1" strike="noStrike">
              <a:solidFill>
                <a:srgbClr val="000000"/>
              </a:solidFill>
              <a:latin typeface="Arial"/>
            </a:endParaRPr>
          </a:p>
        </p:txBody>
      </p:sp>
      <p:sp>
        <p:nvSpPr>
          <p:cNvPr id="8351" name=""/>
          <p:cNvSpPr/>
          <p:nvPr/>
        </p:nvSpPr>
        <p:spPr>
          <a:xfrm flipH="1">
            <a:off x="1003320" y="3100320"/>
            <a:ext cx="152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2" name=""/>
          <p:cNvSpPr/>
          <p:nvPr/>
        </p:nvSpPr>
        <p:spPr>
          <a:xfrm flipH="1">
            <a:off x="1003320" y="2862360"/>
            <a:ext cx="152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3" name=""/>
          <p:cNvSpPr/>
          <p:nvPr/>
        </p:nvSpPr>
        <p:spPr>
          <a:xfrm flipH="1">
            <a:off x="1620720" y="3720960"/>
            <a:ext cx="330480" cy="20880"/>
          </a:xfrm>
          <a:prstGeom prst="line">
            <a:avLst/>
          </a:prstGeom>
          <a:ln w="12600">
            <a:solidFill>
              <a:srgbClr val="ffffff"/>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8354" name=""/>
          <p:cNvSpPr/>
          <p:nvPr/>
        </p:nvSpPr>
        <p:spPr>
          <a:xfrm flipH="1">
            <a:off x="1601640" y="3700440"/>
            <a:ext cx="365400" cy="23760"/>
          </a:xfrm>
          <a:prstGeom prst="line">
            <a:avLst/>
          </a:prstGeom>
          <a:ln w="12600">
            <a:solidFill>
              <a:srgbClr val="ffffff"/>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8355" name=""/>
          <p:cNvSpPr/>
          <p:nvPr/>
        </p:nvSpPr>
        <p:spPr>
          <a:xfrm flipH="1" flipV="1">
            <a:off x="1601640" y="3724200"/>
            <a:ext cx="19080" cy="17640"/>
          </a:xfrm>
          <a:prstGeom prst="line">
            <a:avLst/>
          </a:prstGeom>
          <a:ln w="12600">
            <a:solidFill>
              <a:srgbClr val="ffffff"/>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8356" name=""/>
          <p:cNvSpPr/>
          <p:nvPr/>
        </p:nvSpPr>
        <p:spPr>
          <a:xfrm>
            <a:off x="1560600" y="3105000"/>
            <a:ext cx="41040" cy="61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7" name=""/>
          <p:cNvSpPr/>
          <p:nvPr/>
        </p:nvSpPr>
        <p:spPr>
          <a:xfrm flipV="1">
            <a:off x="1951200" y="3700440"/>
            <a:ext cx="1584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358" name=""/>
          <p:cNvSpPr/>
          <p:nvPr/>
        </p:nvSpPr>
        <p:spPr>
          <a:xfrm>
            <a:off x="1927080" y="3105000"/>
            <a:ext cx="39960" cy="59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9" name=""/>
          <p:cNvSpPr/>
          <p:nvPr/>
        </p:nvSpPr>
        <p:spPr>
          <a:xfrm flipV="1">
            <a:off x="1763640" y="3621240"/>
            <a:ext cx="0" cy="3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0" name=""/>
          <p:cNvSpPr/>
          <p:nvPr/>
        </p:nvSpPr>
        <p:spPr>
          <a:xfrm flipV="1">
            <a:off x="1763640" y="3465360"/>
            <a:ext cx="0" cy="78120"/>
          </a:xfrm>
          <a:prstGeom prst="line">
            <a:avLst/>
          </a:prstGeom>
          <a:ln w="12600">
            <a:solidFill>
              <a:srgbClr val="ffffff"/>
            </a:solidFill>
            <a:round/>
          </a:ln>
        </p:spPr>
        <p:style>
          <a:lnRef idx="0"/>
          <a:fillRef idx="0"/>
          <a:effectRef idx="0"/>
          <a:fontRef idx="minor"/>
        </p:style>
        <p:txBody>
          <a:bodyPr lIns="96120" rIns="96120" tIns="27000" bIns="27000" anchor="t">
            <a:noAutofit/>
          </a:bodyPr>
          <a:p>
            <a:endParaRPr b="0" lang="en-US" sz="1800" spc="-1" strike="noStrike">
              <a:solidFill>
                <a:srgbClr val="000000"/>
              </a:solidFill>
              <a:latin typeface="Arial"/>
            </a:endParaRPr>
          </a:p>
        </p:txBody>
      </p:sp>
      <p:sp>
        <p:nvSpPr>
          <p:cNvPr id="8361" name=""/>
          <p:cNvSpPr/>
          <p:nvPr/>
        </p:nvSpPr>
        <p:spPr>
          <a:xfrm flipV="1">
            <a:off x="1763640" y="3005280"/>
            <a:ext cx="0" cy="384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2" name=""/>
          <p:cNvSpPr/>
          <p:nvPr/>
        </p:nvSpPr>
        <p:spPr>
          <a:xfrm flipV="1">
            <a:off x="1763640" y="2851200"/>
            <a:ext cx="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8363" name=""/>
          <p:cNvSpPr/>
          <p:nvPr/>
        </p:nvSpPr>
        <p:spPr>
          <a:xfrm flipV="1">
            <a:off x="1763640" y="2448000"/>
            <a:ext cx="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64" name=""/>
          <p:cNvGrpSpPr/>
          <p:nvPr/>
        </p:nvGrpSpPr>
        <p:grpSpPr>
          <a:xfrm>
            <a:off x="453960" y="3125880"/>
            <a:ext cx="1076760" cy="992160"/>
            <a:chOff x="453960" y="3125880"/>
            <a:chExt cx="1076760" cy="992160"/>
          </a:xfrm>
        </p:grpSpPr>
        <p:sp>
          <p:nvSpPr>
            <p:cNvPr id="8365" name=""/>
            <p:cNvSpPr/>
            <p:nvPr/>
          </p:nvSpPr>
          <p:spPr>
            <a:xfrm>
              <a:off x="453960" y="3125880"/>
              <a:ext cx="3463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66" name=""/>
            <p:cNvSpPr/>
            <p:nvPr/>
          </p:nvSpPr>
          <p:spPr>
            <a:xfrm>
              <a:off x="878040" y="3125880"/>
              <a:ext cx="759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67" name=""/>
            <p:cNvSpPr/>
            <p:nvPr/>
          </p:nvSpPr>
          <p:spPr>
            <a:xfrm>
              <a:off x="1030320" y="3125880"/>
              <a:ext cx="777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68" name=""/>
            <p:cNvSpPr/>
            <p:nvPr/>
          </p:nvSpPr>
          <p:spPr>
            <a:xfrm>
              <a:off x="1182600" y="3125880"/>
              <a:ext cx="348120" cy="305280"/>
            </a:xfrm>
            <a:custGeom>
              <a:avLst/>
              <a:gdLst/>
              <a:ahLst/>
              <a:rect l="0" t="0" r="r" b="b"/>
              <a:pathLst>
                <a:path fill="none" w="967" h="848">
                  <a:moveTo>
                    <a:pt x="0" y="0"/>
                  </a:moveTo>
                  <a:lnTo>
                    <a:pt x="967" y="0"/>
                  </a:lnTo>
                  <a:lnTo>
                    <a:pt x="967" y="848"/>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69" name=""/>
            <p:cNvSpPr/>
            <p:nvPr/>
          </p:nvSpPr>
          <p:spPr>
            <a:xfrm>
              <a:off x="1530360" y="3506760"/>
              <a:ext cx="0" cy="77760"/>
            </a:xfrm>
            <a:prstGeom prst="line">
              <a:avLst/>
            </a:prstGeom>
            <a:ln w="25560">
              <a:solidFill>
                <a:srgbClr val="fc0128"/>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sp>
          <p:nvSpPr>
            <p:cNvPr id="8370" name=""/>
            <p:cNvSpPr/>
            <p:nvPr/>
          </p:nvSpPr>
          <p:spPr>
            <a:xfrm>
              <a:off x="1530360" y="3660840"/>
              <a:ext cx="0" cy="77760"/>
            </a:xfrm>
            <a:prstGeom prst="line">
              <a:avLst/>
            </a:prstGeom>
            <a:ln w="25560">
              <a:solidFill>
                <a:srgbClr val="fc0128"/>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sp>
          <p:nvSpPr>
            <p:cNvPr id="8371" name=""/>
            <p:cNvSpPr/>
            <p:nvPr/>
          </p:nvSpPr>
          <p:spPr>
            <a:xfrm>
              <a:off x="1530360" y="3813120"/>
              <a:ext cx="0" cy="3049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372" name=""/>
          <p:cNvSpPr/>
          <p:nvPr/>
        </p:nvSpPr>
        <p:spPr>
          <a:xfrm>
            <a:off x="218592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373" name=""/>
          <p:cNvSpPr/>
          <p:nvPr/>
        </p:nvSpPr>
        <p:spPr>
          <a:xfrm>
            <a:off x="218592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374" name=""/>
          <p:cNvSpPr/>
          <p:nvPr/>
        </p:nvSpPr>
        <p:spPr>
          <a:xfrm>
            <a:off x="2185920" y="30621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375" name=""/>
          <p:cNvSpPr/>
          <p:nvPr/>
        </p:nvSpPr>
        <p:spPr>
          <a:xfrm>
            <a:off x="115236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376" name=""/>
          <p:cNvSpPr/>
          <p:nvPr/>
        </p:nvSpPr>
        <p:spPr>
          <a:xfrm>
            <a:off x="115236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377" name=""/>
          <p:cNvSpPr/>
          <p:nvPr/>
        </p:nvSpPr>
        <p:spPr>
          <a:xfrm>
            <a:off x="1152360" y="30621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378" name=""/>
          <p:cNvSpPr/>
          <p:nvPr/>
        </p:nvSpPr>
        <p:spPr>
          <a:xfrm>
            <a:off x="1003320" y="2862360"/>
            <a:ext cx="0" cy="24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9" name=""/>
          <p:cNvSpPr/>
          <p:nvPr/>
        </p:nvSpPr>
        <p:spPr>
          <a:xfrm>
            <a:off x="134136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380" name=""/>
          <p:cNvSpPr/>
          <p:nvPr/>
        </p:nvSpPr>
        <p:spPr>
          <a:xfrm>
            <a:off x="134136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381" name=""/>
          <p:cNvSpPr/>
          <p:nvPr/>
        </p:nvSpPr>
        <p:spPr>
          <a:xfrm>
            <a:off x="1341360" y="3062160"/>
            <a:ext cx="0" cy="42840"/>
          </a:xfrm>
          <a:prstGeom prst="line">
            <a:avLst/>
          </a:prstGeom>
          <a:ln w="12600">
            <a:solidFill>
              <a:srgbClr val="f2fefd"/>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382" name=""/>
          <p:cNvSpPr/>
          <p:nvPr/>
        </p:nvSpPr>
        <p:spPr>
          <a:xfrm flipV="1">
            <a:off x="1247760" y="308772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3" name=""/>
          <p:cNvSpPr/>
          <p:nvPr/>
        </p:nvSpPr>
        <p:spPr>
          <a:xfrm flipV="1">
            <a:off x="1247760" y="29336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384" name=""/>
          <p:cNvSpPr/>
          <p:nvPr/>
        </p:nvSpPr>
        <p:spPr>
          <a:xfrm flipV="1">
            <a:off x="1247760" y="262584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5" name=""/>
          <p:cNvSpPr/>
          <p:nvPr/>
        </p:nvSpPr>
        <p:spPr>
          <a:xfrm>
            <a:off x="2374920" y="2862360"/>
            <a:ext cx="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386" name=""/>
          <p:cNvSpPr/>
          <p:nvPr/>
        </p:nvSpPr>
        <p:spPr>
          <a:xfrm>
            <a:off x="2374920" y="29462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387" name=""/>
          <p:cNvSpPr/>
          <p:nvPr/>
        </p:nvSpPr>
        <p:spPr>
          <a:xfrm>
            <a:off x="2374920" y="3062160"/>
            <a:ext cx="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388" name=""/>
          <p:cNvSpPr/>
          <p:nvPr/>
        </p:nvSpPr>
        <p:spPr>
          <a:xfrm flipV="1">
            <a:off x="2281320" y="308772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9" name=""/>
          <p:cNvSpPr/>
          <p:nvPr/>
        </p:nvSpPr>
        <p:spPr>
          <a:xfrm flipV="1">
            <a:off x="2281320" y="29336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8390" name=""/>
          <p:cNvSpPr/>
          <p:nvPr/>
        </p:nvSpPr>
        <p:spPr>
          <a:xfrm flipV="1">
            <a:off x="2281320" y="2625840"/>
            <a:ext cx="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91" name=""/>
          <p:cNvSpPr/>
          <p:nvPr/>
        </p:nvSpPr>
        <p:spPr>
          <a:xfrm>
            <a:off x="2523960" y="2862360"/>
            <a:ext cx="0" cy="242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392" name=""/>
          <p:cNvGrpSpPr/>
          <p:nvPr/>
        </p:nvGrpSpPr>
        <p:grpSpPr>
          <a:xfrm>
            <a:off x="1996920" y="3125880"/>
            <a:ext cx="917640" cy="984240"/>
            <a:chOff x="1996920" y="3125880"/>
            <a:chExt cx="917640" cy="984240"/>
          </a:xfrm>
        </p:grpSpPr>
        <p:grpSp>
          <p:nvGrpSpPr>
            <p:cNvPr id="8393" name=""/>
            <p:cNvGrpSpPr/>
            <p:nvPr/>
          </p:nvGrpSpPr>
          <p:grpSpPr>
            <a:xfrm>
              <a:off x="1996920" y="3125880"/>
              <a:ext cx="917640" cy="615960"/>
              <a:chOff x="1996920" y="3125880"/>
              <a:chExt cx="917640" cy="615960"/>
            </a:xfrm>
          </p:grpSpPr>
          <p:sp>
            <p:nvSpPr>
              <p:cNvPr id="8394" name=""/>
              <p:cNvSpPr/>
              <p:nvPr/>
            </p:nvSpPr>
            <p:spPr>
              <a:xfrm flipH="1">
                <a:off x="2647800" y="3125880"/>
                <a:ext cx="2667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95" name=""/>
              <p:cNvSpPr/>
              <p:nvPr/>
            </p:nvSpPr>
            <p:spPr>
              <a:xfrm flipH="1">
                <a:off x="2495520" y="3125880"/>
                <a:ext cx="745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96" name=""/>
              <p:cNvSpPr/>
              <p:nvPr/>
            </p:nvSpPr>
            <p:spPr>
              <a:xfrm flipH="1">
                <a:off x="2340000" y="3125880"/>
                <a:ext cx="777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397" name=""/>
              <p:cNvSpPr/>
              <p:nvPr/>
            </p:nvSpPr>
            <p:spPr>
              <a:xfrm>
                <a:off x="1996920" y="3125880"/>
                <a:ext cx="268560" cy="308160"/>
              </a:xfrm>
              <a:custGeom>
                <a:avLst/>
                <a:gdLst/>
                <a:ahLst/>
                <a:rect l="0" t="0" r="r" b="b"/>
                <a:pathLst>
                  <a:path fill="none" w="746" h="856">
                    <a:moveTo>
                      <a:pt x="746" y="0"/>
                    </a:moveTo>
                    <a:lnTo>
                      <a:pt x="0" y="0"/>
                    </a:lnTo>
                    <a:lnTo>
                      <a:pt x="0" y="856"/>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398" name=""/>
              <p:cNvSpPr/>
              <p:nvPr/>
            </p:nvSpPr>
            <p:spPr>
              <a:xfrm>
                <a:off x="1996920" y="3511440"/>
                <a:ext cx="0" cy="76320"/>
              </a:xfrm>
              <a:prstGeom prst="line">
                <a:avLst/>
              </a:prstGeom>
              <a:ln w="25560">
                <a:solidFill>
                  <a:srgbClr val="fc0128"/>
                </a:solidFill>
                <a:round/>
              </a:ln>
            </p:spPr>
            <p:style>
              <a:lnRef idx="0"/>
              <a:fillRef idx="0"/>
              <a:effectRef idx="0"/>
              <a:fontRef idx="minor"/>
            </p:style>
            <p:txBody>
              <a:bodyPr lIns="102600" rIns="102600" tIns="18720" bIns="18720" anchor="t">
                <a:noAutofit/>
              </a:bodyPr>
              <a:p>
                <a:endParaRPr b="0" lang="en-US" sz="1800" spc="-1" strike="noStrike">
                  <a:solidFill>
                    <a:srgbClr val="000000"/>
                  </a:solidFill>
                  <a:latin typeface="Arial"/>
                </a:endParaRPr>
              </a:p>
            </p:txBody>
          </p:sp>
          <p:sp>
            <p:nvSpPr>
              <p:cNvPr id="8399" name=""/>
              <p:cNvSpPr/>
              <p:nvPr/>
            </p:nvSpPr>
            <p:spPr>
              <a:xfrm>
                <a:off x="1996920" y="3664080"/>
                <a:ext cx="0" cy="77760"/>
              </a:xfrm>
              <a:prstGeom prst="line">
                <a:avLst/>
              </a:prstGeom>
              <a:ln w="25560">
                <a:solidFill>
                  <a:srgbClr val="fc0128"/>
                </a:solidFill>
                <a:round/>
              </a:ln>
            </p:spPr>
            <p:style>
              <a:lnRef idx="0"/>
              <a:fillRef idx="0"/>
              <a:effectRef idx="0"/>
              <a:fontRef idx="minor"/>
            </p:style>
            <p:txBody>
              <a:bodyPr lIns="102600" rIns="102600" tIns="20160" bIns="20160" anchor="t">
                <a:noAutofit/>
              </a:bodyPr>
              <a:p>
                <a:endParaRPr b="0" lang="en-US" sz="1800" spc="-1" strike="noStrike">
                  <a:solidFill>
                    <a:srgbClr val="000000"/>
                  </a:solidFill>
                  <a:latin typeface="Arial"/>
                </a:endParaRPr>
              </a:p>
            </p:txBody>
          </p:sp>
        </p:grpSp>
        <p:sp>
          <p:nvSpPr>
            <p:cNvPr id="8400" name=""/>
            <p:cNvSpPr/>
            <p:nvPr/>
          </p:nvSpPr>
          <p:spPr>
            <a:xfrm>
              <a:off x="1996920" y="3809880"/>
              <a:ext cx="0" cy="3002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grpSp>
        <p:nvGrpSpPr>
          <p:cNvPr id="8401" name=""/>
          <p:cNvGrpSpPr/>
          <p:nvPr/>
        </p:nvGrpSpPr>
        <p:grpSpPr>
          <a:xfrm>
            <a:off x="4068720" y="2367000"/>
            <a:ext cx="2478240" cy="430200"/>
            <a:chOff x="4068720" y="2367000"/>
            <a:chExt cx="2478240" cy="430200"/>
          </a:xfrm>
        </p:grpSpPr>
        <p:sp>
          <p:nvSpPr>
            <p:cNvPr id="8402" name=""/>
            <p:cNvSpPr/>
            <p:nvPr/>
          </p:nvSpPr>
          <p:spPr>
            <a:xfrm>
              <a:off x="4068720" y="2367000"/>
              <a:ext cx="2406600" cy="39852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8403" name=""/>
            <p:cNvGrpSpPr/>
            <p:nvPr/>
          </p:nvGrpSpPr>
          <p:grpSpPr>
            <a:xfrm>
              <a:off x="4157640" y="2421000"/>
              <a:ext cx="306360" cy="303120"/>
              <a:chOff x="4157640" y="2421000"/>
              <a:chExt cx="306360" cy="303120"/>
            </a:xfrm>
          </p:grpSpPr>
          <p:sp>
            <p:nvSpPr>
              <p:cNvPr id="8404" name=""/>
              <p:cNvSpPr/>
              <p:nvPr/>
            </p:nvSpPr>
            <p:spPr>
              <a:xfrm>
                <a:off x="4200480" y="2476440"/>
                <a:ext cx="208080" cy="208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05" name=""/>
              <p:cNvSpPr/>
              <p:nvPr/>
            </p:nvSpPr>
            <p:spPr>
              <a:xfrm>
                <a:off x="4305240" y="2421000"/>
                <a:ext cx="0" cy="303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6" name=""/>
              <p:cNvSpPr/>
              <p:nvPr/>
            </p:nvSpPr>
            <p:spPr>
              <a:xfrm>
                <a:off x="4157640" y="257976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07" name=""/>
            <p:cNvSpPr/>
            <p:nvPr/>
          </p:nvSpPr>
          <p:spPr>
            <a:xfrm>
              <a:off x="4568760" y="237816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8408" name=""/>
            <p:cNvGrpSpPr/>
            <p:nvPr/>
          </p:nvGrpSpPr>
          <p:grpSpPr>
            <a:xfrm>
              <a:off x="4660920" y="2482920"/>
              <a:ext cx="177840" cy="177840"/>
              <a:chOff x="4660920" y="2482920"/>
              <a:chExt cx="177840" cy="177840"/>
            </a:xfrm>
          </p:grpSpPr>
          <p:sp>
            <p:nvSpPr>
              <p:cNvPr id="8409" name=""/>
              <p:cNvSpPr/>
              <p:nvPr/>
            </p:nvSpPr>
            <p:spPr>
              <a:xfrm>
                <a:off x="4673520" y="2496960"/>
                <a:ext cx="154080" cy="152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10" name=""/>
              <p:cNvSpPr/>
              <p:nvPr/>
            </p:nvSpPr>
            <p:spPr>
              <a:xfrm flipH="1">
                <a:off x="4660920" y="248292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411" name=""/>
            <p:cNvSpPr txBox="1"/>
            <p:nvPr/>
          </p:nvSpPr>
          <p:spPr>
            <a:xfrm>
              <a:off x="4846680" y="2378160"/>
              <a:ext cx="1700280" cy="419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M   B   A</a:t>
              </a:r>
              <a:endParaRPr b="0" lang="en-US" sz="2000" spc="-1" strike="noStrike">
                <a:solidFill>
                  <a:srgbClr val="000000"/>
                </a:solidFill>
                <a:latin typeface="Arial"/>
              </a:endParaRPr>
            </a:p>
          </p:txBody>
        </p:sp>
        <p:sp>
          <p:nvSpPr>
            <p:cNvPr id="8412" name=""/>
            <p:cNvSpPr/>
            <p:nvPr/>
          </p:nvSpPr>
          <p:spPr>
            <a:xfrm>
              <a:off x="5424480" y="2430360"/>
              <a:ext cx="298440" cy="298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13" name=""/>
            <p:cNvSpPr/>
            <p:nvPr/>
          </p:nvSpPr>
          <p:spPr>
            <a:xfrm>
              <a:off x="5802480" y="2378160"/>
              <a:ext cx="0" cy="3571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14" name=""/>
            <p:cNvSpPr/>
            <p:nvPr/>
          </p:nvSpPr>
          <p:spPr>
            <a:xfrm>
              <a:off x="6129360" y="2378160"/>
              <a:ext cx="0" cy="3618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415" name=""/>
          <p:cNvSpPr/>
          <p:nvPr/>
        </p:nvSpPr>
        <p:spPr>
          <a:xfrm flipV="1">
            <a:off x="1766880" y="183204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6" name=""/>
          <p:cNvSpPr/>
          <p:nvPr/>
        </p:nvSpPr>
        <p:spPr>
          <a:xfrm flipV="1">
            <a:off x="1766880" y="167148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17" name=""/>
          <p:cNvSpPr/>
          <p:nvPr/>
        </p:nvSpPr>
        <p:spPr>
          <a:xfrm flipV="1">
            <a:off x="1766880" y="11923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8" name=""/>
          <p:cNvSpPr/>
          <p:nvPr/>
        </p:nvSpPr>
        <p:spPr>
          <a:xfrm flipV="1">
            <a:off x="1766880" y="103176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19" name=""/>
          <p:cNvSpPr/>
          <p:nvPr/>
        </p:nvSpPr>
        <p:spPr>
          <a:xfrm flipV="1">
            <a:off x="1766880" y="61272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20" name=""/>
          <p:cNvGrpSpPr/>
          <p:nvPr/>
        </p:nvGrpSpPr>
        <p:grpSpPr>
          <a:xfrm>
            <a:off x="414360" y="1317600"/>
            <a:ext cx="1122840" cy="1031760"/>
            <a:chOff x="414360" y="1317600"/>
            <a:chExt cx="1122840" cy="1031760"/>
          </a:xfrm>
        </p:grpSpPr>
        <p:sp>
          <p:nvSpPr>
            <p:cNvPr id="8421" name=""/>
            <p:cNvSpPr/>
            <p:nvPr/>
          </p:nvSpPr>
          <p:spPr>
            <a:xfrm>
              <a:off x="414360" y="1317600"/>
              <a:ext cx="3618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2" name=""/>
            <p:cNvSpPr/>
            <p:nvPr/>
          </p:nvSpPr>
          <p:spPr>
            <a:xfrm>
              <a:off x="855720" y="1317600"/>
              <a:ext cx="810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3" name=""/>
            <p:cNvSpPr/>
            <p:nvPr/>
          </p:nvSpPr>
          <p:spPr>
            <a:xfrm>
              <a:off x="1015920" y="1317600"/>
              <a:ext cx="795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24" name=""/>
            <p:cNvSpPr/>
            <p:nvPr/>
          </p:nvSpPr>
          <p:spPr>
            <a:xfrm>
              <a:off x="1176480" y="1317600"/>
              <a:ext cx="360720" cy="316440"/>
            </a:xfrm>
            <a:custGeom>
              <a:avLst/>
              <a:gdLst/>
              <a:ahLst/>
              <a:rect l="0" t="0" r="r" b="b"/>
              <a:pathLst>
                <a:path fill="none" w="1002" h="879">
                  <a:moveTo>
                    <a:pt x="0" y="0"/>
                  </a:moveTo>
                  <a:lnTo>
                    <a:pt x="1002" y="0"/>
                  </a:lnTo>
                  <a:lnTo>
                    <a:pt x="1002" y="879"/>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25" name=""/>
            <p:cNvSpPr/>
            <p:nvPr/>
          </p:nvSpPr>
          <p:spPr>
            <a:xfrm>
              <a:off x="1533600" y="1712880"/>
              <a:ext cx="0" cy="79560"/>
            </a:xfrm>
            <a:prstGeom prst="line">
              <a:avLst/>
            </a:prstGeom>
            <a:ln w="25560">
              <a:solidFill>
                <a:srgbClr val="fc0128"/>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8426" name=""/>
            <p:cNvSpPr/>
            <p:nvPr/>
          </p:nvSpPr>
          <p:spPr>
            <a:xfrm>
              <a:off x="1533600" y="1873080"/>
              <a:ext cx="0" cy="79560"/>
            </a:xfrm>
            <a:prstGeom prst="line">
              <a:avLst/>
            </a:prstGeom>
            <a:ln w="25560">
              <a:solidFill>
                <a:srgbClr val="fc0128"/>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8427" name=""/>
            <p:cNvSpPr/>
            <p:nvPr/>
          </p:nvSpPr>
          <p:spPr>
            <a:xfrm>
              <a:off x="1533600" y="2033640"/>
              <a:ext cx="0" cy="315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428" name=""/>
          <p:cNvSpPr/>
          <p:nvPr/>
        </p:nvSpPr>
        <p:spPr>
          <a:xfrm>
            <a:off x="1560600" y="128268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9" name=""/>
          <p:cNvSpPr/>
          <p:nvPr/>
        </p:nvSpPr>
        <p:spPr>
          <a:xfrm>
            <a:off x="1971720" y="127152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0" name=""/>
          <p:cNvSpPr/>
          <p:nvPr/>
        </p:nvSpPr>
        <p:spPr>
          <a:xfrm flipH="1">
            <a:off x="1560600" y="1994040"/>
            <a:ext cx="41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1" name=""/>
          <p:cNvSpPr/>
          <p:nvPr/>
        </p:nvSpPr>
        <p:spPr>
          <a:xfrm flipH="1">
            <a:off x="1581120" y="201456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2" name=""/>
          <p:cNvSpPr/>
          <p:nvPr/>
        </p:nvSpPr>
        <p:spPr>
          <a:xfrm flipH="1" flipV="1">
            <a:off x="1560600" y="19940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433" name=""/>
          <p:cNvSpPr/>
          <p:nvPr/>
        </p:nvSpPr>
        <p:spPr>
          <a:xfrm flipV="1">
            <a:off x="1952640" y="1994040"/>
            <a:ext cx="1908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434" name=""/>
          <p:cNvSpPr/>
          <p:nvPr/>
        </p:nvSpPr>
        <p:spPr>
          <a:xfrm flipH="1">
            <a:off x="973080" y="1257480"/>
            <a:ext cx="1585800" cy="41040"/>
          </a:xfrm>
          <a:prstGeom prst="line">
            <a:avLst/>
          </a:prstGeom>
          <a:ln w="12600">
            <a:solidFill>
              <a:srgbClr val="ffffff"/>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sp>
        <p:nvSpPr>
          <p:cNvPr id="8435" name=""/>
          <p:cNvSpPr/>
          <p:nvPr/>
        </p:nvSpPr>
        <p:spPr>
          <a:xfrm flipH="1">
            <a:off x="966960" y="1000080"/>
            <a:ext cx="158580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436" name=""/>
          <p:cNvSpPr/>
          <p:nvPr/>
        </p:nvSpPr>
        <p:spPr>
          <a:xfrm flipV="1">
            <a:off x="122724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7" name=""/>
          <p:cNvSpPr/>
          <p:nvPr/>
        </p:nvSpPr>
        <p:spPr>
          <a:xfrm flipV="1">
            <a:off x="122724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38" name=""/>
          <p:cNvSpPr/>
          <p:nvPr/>
        </p:nvSpPr>
        <p:spPr>
          <a:xfrm flipV="1">
            <a:off x="122724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9" name=""/>
          <p:cNvSpPr/>
          <p:nvPr/>
        </p:nvSpPr>
        <p:spPr>
          <a:xfrm>
            <a:off x="1325520" y="103356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40" name=""/>
          <p:cNvSpPr/>
          <p:nvPr/>
        </p:nvSpPr>
        <p:spPr>
          <a:xfrm>
            <a:off x="1325520" y="112068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8441" name=""/>
          <p:cNvSpPr/>
          <p:nvPr/>
        </p:nvSpPr>
        <p:spPr>
          <a:xfrm>
            <a:off x="1325520" y="124128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442" name=""/>
          <p:cNvSpPr/>
          <p:nvPr/>
        </p:nvSpPr>
        <p:spPr>
          <a:xfrm>
            <a:off x="1128600" y="10382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43" name=""/>
          <p:cNvSpPr/>
          <p:nvPr/>
        </p:nvSpPr>
        <p:spPr>
          <a:xfrm>
            <a:off x="1128600" y="112716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444" name=""/>
          <p:cNvSpPr/>
          <p:nvPr/>
        </p:nvSpPr>
        <p:spPr>
          <a:xfrm>
            <a:off x="1128600" y="124632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45" name=""/>
          <p:cNvSpPr/>
          <p:nvPr/>
        </p:nvSpPr>
        <p:spPr>
          <a:xfrm>
            <a:off x="966960" y="1042920"/>
            <a:ext cx="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6" name=""/>
          <p:cNvSpPr/>
          <p:nvPr/>
        </p:nvSpPr>
        <p:spPr>
          <a:xfrm flipV="1">
            <a:off x="230508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7" name=""/>
          <p:cNvSpPr/>
          <p:nvPr/>
        </p:nvSpPr>
        <p:spPr>
          <a:xfrm flipV="1">
            <a:off x="230508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48" name=""/>
          <p:cNvSpPr/>
          <p:nvPr/>
        </p:nvSpPr>
        <p:spPr>
          <a:xfrm flipV="1">
            <a:off x="230508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49" name=""/>
          <p:cNvSpPr/>
          <p:nvPr/>
        </p:nvSpPr>
        <p:spPr>
          <a:xfrm>
            <a:off x="2403360" y="100476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450" name=""/>
          <p:cNvSpPr/>
          <p:nvPr/>
        </p:nvSpPr>
        <p:spPr>
          <a:xfrm>
            <a:off x="2403360" y="109224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451" name=""/>
          <p:cNvSpPr/>
          <p:nvPr/>
        </p:nvSpPr>
        <p:spPr>
          <a:xfrm>
            <a:off x="2403360" y="12128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52" name=""/>
          <p:cNvSpPr/>
          <p:nvPr/>
        </p:nvSpPr>
        <p:spPr>
          <a:xfrm>
            <a:off x="2206800" y="101124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453" name=""/>
          <p:cNvSpPr/>
          <p:nvPr/>
        </p:nvSpPr>
        <p:spPr>
          <a:xfrm>
            <a:off x="2206800" y="109872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454" name=""/>
          <p:cNvSpPr/>
          <p:nvPr/>
        </p:nvSpPr>
        <p:spPr>
          <a:xfrm>
            <a:off x="2206800" y="121752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455" name=""/>
          <p:cNvSpPr/>
          <p:nvPr/>
        </p:nvSpPr>
        <p:spPr>
          <a:xfrm>
            <a:off x="2552760" y="1000080"/>
            <a:ext cx="612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56" name=""/>
          <p:cNvGrpSpPr/>
          <p:nvPr/>
        </p:nvGrpSpPr>
        <p:grpSpPr>
          <a:xfrm>
            <a:off x="1996920" y="1325520"/>
            <a:ext cx="959040" cy="1057320"/>
            <a:chOff x="1996920" y="1325520"/>
            <a:chExt cx="959040" cy="1057320"/>
          </a:xfrm>
        </p:grpSpPr>
        <p:sp>
          <p:nvSpPr>
            <p:cNvPr id="8457" name=""/>
            <p:cNvSpPr/>
            <p:nvPr/>
          </p:nvSpPr>
          <p:spPr>
            <a:xfrm flipH="1">
              <a:off x="2674800" y="1325520"/>
              <a:ext cx="2811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8" name=""/>
            <p:cNvSpPr/>
            <p:nvPr/>
          </p:nvSpPr>
          <p:spPr>
            <a:xfrm flipH="1">
              <a:off x="2516040" y="1325520"/>
              <a:ext cx="8100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59" name=""/>
            <p:cNvSpPr/>
            <p:nvPr/>
          </p:nvSpPr>
          <p:spPr>
            <a:xfrm flipH="1">
              <a:off x="2357280" y="1325520"/>
              <a:ext cx="795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460" name=""/>
            <p:cNvSpPr/>
            <p:nvPr/>
          </p:nvSpPr>
          <p:spPr>
            <a:xfrm>
              <a:off x="1996920" y="1325520"/>
              <a:ext cx="279720" cy="319320"/>
            </a:xfrm>
            <a:custGeom>
              <a:avLst/>
              <a:gdLst/>
              <a:ahLst/>
              <a:rect l="0" t="0" r="r" b="b"/>
              <a:pathLst>
                <a:path fill="none" w="777" h="887">
                  <a:moveTo>
                    <a:pt x="777" y="0"/>
                  </a:moveTo>
                  <a:lnTo>
                    <a:pt x="0" y="0"/>
                  </a:lnTo>
                  <a:lnTo>
                    <a:pt x="0" y="887"/>
                  </a:lnTo>
                </a:path>
              </a:pathLst>
            </a:custGeom>
            <a:ln w="25560">
              <a:solidFill>
                <a:srgbClr val="fd07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461" name=""/>
            <p:cNvSpPr/>
            <p:nvPr/>
          </p:nvSpPr>
          <p:spPr>
            <a:xfrm>
              <a:off x="1996920" y="1725480"/>
              <a:ext cx="0" cy="79560"/>
            </a:xfrm>
            <a:prstGeom prst="line">
              <a:avLst/>
            </a:prstGeom>
            <a:ln w="25560">
              <a:solidFill>
                <a:srgbClr val="fd0700"/>
              </a:solidFill>
              <a:round/>
            </a:ln>
          </p:spPr>
          <p:style>
            <a:lnRef idx="0"/>
            <a:fillRef idx="0"/>
            <a:effectRef idx="0"/>
            <a:fontRef idx="minor"/>
          </p:style>
          <p:txBody>
            <a:bodyPr lIns="102600" rIns="102600" tIns="21960" bIns="21960" anchor="t">
              <a:noAutofit/>
            </a:bodyPr>
            <a:p>
              <a:endParaRPr b="0" lang="en-US" sz="1800" spc="-1" strike="noStrike">
                <a:solidFill>
                  <a:srgbClr val="000000"/>
                </a:solidFill>
                <a:latin typeface="Arial"/>
              </a:endParaRPr>
            </a:p>
          </p:txBody>
        </p:sp>
        <p:sp>
          <p:nvSpPr>
            <p:cNvPr id="8462" name=""/>
            <p:cNvSpPr/>
            <p:nvPr/>
          </p:nvSpPr>
          <p:spPr>
            <a:xfrm>
              <a:off x="1996920" y="1884240"/>
              <a:ext cx="0" cy="81000"/>
            </a:xfrm>
            <a:prstGeom prst="line">
              <a:avLst/>
            </a:prstGeom>
            <a:ln w="25560">
              <a:solidFill>
                <a:srgbClr val="fd0700"/>
              </a:solidFill>
              <a:round/>
            </a:ln>
          </p:spPr>
          <p:style>
            <a:lnRef idx="0"/>
            <a:fillRef idx="0"/>
            <a:effectRef idx="0"/>
            <a:fontRef idx="minor"/>
          </p:style>
          <p:txBody>
            <a:bodyPr lIns="102600" rIns="102600" tIns="23400" bIns="23400" anchor="t">
              <a:noAutofit/>
            </a:bodyPr>
            <a:p>
              <a:endParaRPr b="0" lang="en-US" sz="1800" spc="-1" strike="noStrike">
                <a:solidFill>
                  <a:srgbClr val="000000"/>
                </a:solidFill>
                <a:latin typeface="Arial"/>
              </a:endParaRPr>
            </a:p>
          </p:txBody>
        </p:sp>
        <p:sp>
          <p:nvSpPr>
            <p:cNvPr id="8463" name=""/>
            <p:cNvSpPr/>
            <p:nvPr/>
          </p:nvSpPr>
          <p:spPr>
            <a:xfrm>
              <a:off x="1996920" y="2052720"/>
              <a:ext cx="0" cy="33012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8464" name=""/>
          <p:cNvSpPr/>
          <p:nvPr/>
        </p:nvSpPr>
        <p:spPr>
          <a:xfrm flipV="1">
            <a:off x="1766880" y="1832040"/>
            <a:ext cx="0" cy="341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5" name=""/>
          <p:cNvSpPr/>
          <p:nvPr/>
        </p:nvSpPr>
        <p:spPr>
          <a:xfrm flipV="1">
            <a:off x="1766880" y="167148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66" name=""/>
          <p:cNvSpPr/>
          <p:nvPr/>
        </p:nvSpPr>
        <p:spPr>
          <a:xfrm flipV="1">
            <a:off x="1766880" y="1192320"/>
            <a:ext cx="0" cy="39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7" name=""/>
          <p:cNvSpPr/>
          <p:nvPr/>
        </p:nvSpPr>
        <p:spPr>
          <a:xfrm flipV="1">
            <a:off x="1766880" y="103176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68" name=""/>
          <p:cNvSpPr/>
          <p:nvPr/>
        </p:nvSpPr>
        <p:spPr>
          <a:xfrm flipV="1">
            <a:off x="1766880" y="61272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9" name=""/>
          <p:cNvSpPr/>
          <p:nvPr/>
        </p:nvSpPr>
        <p:spPr>
          <a:xfrm>
            <a:off x="1560600" y="1282680"/>
            <a:ext cx="0" cy="711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0" name=""/>
          <p:cNvSpPr/>
          <p:nvPr/>
        </p:nvSpPr>
        <p:spPr>
          <a:xfrm>
            <a:off x="1971720" y="1271520"/>
            <a:ext cx="0" cy="72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1" name=""/>
          <p:cNvSpPr/>
          <p:nvPr/>
        </p:nvSpPr>
        <p:spPr>
          <a:xfrm flipH="1">
            <a:off x="1560600" y="1994040"/>
            <a:ext cx="41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2" name=""/>
          <p:cNvSpPr/>
          <p:nvPr/>
        </p:nvSpPr>
        <p:spPr>
          <a:xfrm flipH="1">
            <a:off x="1581120" y="201456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3" name=""/>
          <p:cNvSpPr/>
          <p:nvPr/>
        </p:nvSpPr>
        <p:spPr>
          <a:xfrm flipH="1" flipV="1">
            <a:off x="1560600" y="1994040"/>
            <a:ext cx="2052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474" name=""/>
          <p:cNvSpPr/>
          <p:nvPr/>
        </p:nvSpPr>
        <p:spPr>
          <a:xfrm flipV="1">
            <a:off x="1952640" y="1994040"/>
            <a:ext cx="19080" cy="20520"/>
          </a:xfrm>
          <a:prstGeom prst="line">
            <a:avLst/>
          </a:prstGeom>
          <a:ln w="12600">
            <a:solidFill>
              <a:srgbClr val="ffffff"/>
            </a:solidFill>
            <a:round/>
          </a:ln>
        </p:spPr>
        <p:style>
          <a:lnRef idx="0"/>
          <a:fillRef idx="0"/>
          <a:effectRef idx="0"/>
          <a:fontRef idx="minor"/>
        </p:style>
        <p:txBody>
          <a:bodyPr lIns="96120" rIns="96120" tIns="-30600" bIns="-30600" anchor="t">
            <a:noAutofit/>
          </a:bodyPr>
          <a:p>
            <a:endParaRPr b="0" lang="en-US" sz="1800" spc="-1" strike="noStrike">
              <a:solidFill>
                <a:srgbClr val="000000"/>
              </a:solidFill>
              <a:latin typeface="Arial"/>
            </a:endParaRPr>
          </a:p>
        </p:txBody>
      </p:sp>
      <p:sp>
        <p:nvSpPr>
          <p:cNvPr id="8475" name=""/>
          <p:cNvSpPr/>
          <p:nvPr/>
        </p:nvSpPr>
        <p:spPr>
          <a:xfrm flipH="1">
            <a:off x="966960" y="1000080"/>
            <a:ext cx="1585800" cy="42840"/>
          </a:xfrm>
          <a:prstGeom prst="line">
            <a:avLst/>
          </a:prstGeom>
          <a:ln w="12600">
            <a:solidFill>
              <a:srgbClr val="ffffff"/>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8476" name=""/>
          <p:cNvSpPr/>
          <p:nvPr/>
        </p:nvSpPr>
        <p:spPr>
          <a:xfrm flipV="1">
            <a:off x="122724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7" name=""/>
          <p:cNvSpPr/>
          <p:nvPr/>
        </p:nvSpPr>
        <p:spPr>
          <a:xfrm flipV="1">
            <a:off x="122724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78" name=""/>
          <p:cNvSpPr/>
          <p:nvPr/>
        </p:nvSpPr>
        <p:spPr>
          <a:xfrm flipV="1">
            <a:off x="122724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79" name=""/>
          <p:cNvSpPr/>
          <p:nvPr/>
        </p:nvSpPr>
        <p:spPr>
          <a:xfrm>
            <a:off x="1325520" y="103356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80" name=""/>
          <p:cNvSpPr/>
          <p:nvPr/>
        </p:nvSpPr>
        <p:spPr>
          <a:xfrm>
            <a:off x="1325520" y="1120680"/>
            <a:ext cx="0" cy="79560"/>
          </a:xfrm>
          <a:prstGeom prst="line">
            <a:avLst/>
          </a:prstGeom>
          <a:ln w="12600">
            <a:solidFill>
              <a:srgbClr val="ffffff"/>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8481" name=""/>
          <p:cNvSpPr/>
          <p:nvPr/>
        </p:nvSpPr>
        <p:spPr>
          <a:xfrm>
            <a:off x="1325520" y="124128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482" name=""/>
          <p:cNvSpPr/>
          <p:nvPr/>
        </p:nvSpPr>
        <p:spPr>
          <a:xfrm>
            <a:off x="1128600" y="10382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83" name=""/>
          <p:cNvSpPr/>
          <p:nvPr/>
        </p:nvSpPr>
        <p:spPr>
          <a:xfrm>
            <a:off x="1128600" y="112716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484" name=""/>
          <p:cNvSpPr/>
          <p:nvPr/>
        </p:nvSpPr>
        <p:spPr>
          <a:xfrm>
            <a:off x="1128600" y="124632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85" name=""/>
          <p:cNvSpPr/>
          <p:nvPr/>
        </p:nvSpPr>
        <p:spPr>
          <a:xfrm>
            <a:off x="966960" y="1042920"/>
            <a:ext cx="6120" cy="255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6" name=""/>
          <p:cNvSpPr/>
          <p:nvPr/>
        </p:nvSpPr>
        <p:spPr>
          <a:xfrm flipV="1">
            <a:off x="2305080" y="127800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7" name=""/>
          <p:cNvSpPr/>
          <p:nvPr/>
        </p:nvSpPr>
        <p:spPr>
          <a:xfrm flipV="1">
            <a:off x="2305080" y="1117440"/>
            <a:ext cx="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8488" name=""/>
          <p:cNvSpPr/>
          <p:nvPr/>
        </p:nvSpPr>
        <p:spPr>
          <a:xfrm flipV="1">
            <a:off x="2305080" y="79704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89" name=""/>
          <p:cNvSpPr/>
          <p:nvPr/>
        </p:nvSpPr>
        <p:spPr>
          <a:xfrm>
            <a:off x="2403360" y="100476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490" name=""/>
          <p:cNvSpPr/>
          <p:nvPr/>
        </p:nvSpPr>
        <p:spPr>
          <a:xfrm>
            <a:off x="2403360" y="109224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491" name=""/>
          <p:cNvSpPr/>
          <p:nvPr/>
        </p:nvSpPr>
        <p:spPr>
          <a:xfrm>
            <a:off x="2403360" y="1212840"/>
            <a:ext cx="0" cy="47520"/>
          </a:xfrm>
          <a:prstGeom prst="line">
            <a:avLst/>
          </a:prstGeom>
          <a:ln w="12600">
            <a:solidFill>
              <a:srgbClr val="ffffff"/>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8492" name=""/>
          <p:cNvSpPr/>
          <p:nvPr/>
        </p:nvSpPr>
        <p:spPr>
          <a:xfrm>
            <a:off x="2206800" y="1011240"/>
            <a:ext cx="0" cy="46080"/>
          </a:xfrm>
          <a:prstGeom prst="line">
            <a:avLst/>
          </a:prstGeom>
          <a:ln w="12600">
            <a:solidFill>
              <a:srgbClr val="ffffff"/>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8493" name=""/>
          <p:cNvSpPr/>
          <p:nvPr/>
        </p:nvSpPr>
        <p:spPr>
          <a:xfrm>
            <a:off x="2206800" y="1098720"/>
            <a:ext cx="0" cy="79200"/>
          </a:xfrm>
          <a:prstGeom prst="line">
            <a:avLst/>
          </a:prstGeom>
          <a:ln w="12600">
            <a:solidFill>
              <a:srgbClr val="ffffff"/>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494" name=""/>
          <p:cNvSpPr/>
          <p:nvPr/>
        </p:nvSpPr>
        <p:spPr>
          <a:xfrm>
            <a:off x="2206800" y="1217520"/>
            <a:ext cx="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8495" name=""/>
          <p:cNvSpPr/>
          <p:nvPr/>
        </p:nvSpPr>
        <p:spPr>
          <a:xfrm>
            <a:off x="2552760" y="1000080"/>
            <a:ext cx="6120" cy="257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6" name=""/>
          <p:cNvSpPr txBox="1"/>
          <p:nvPr/>
        </p:nvSpPr>
        <p:spPr>
          <a:xfrm>
            <a:off x="293760" y="1558800"/>
            <a:ext cx="73656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Datum</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axis A</a:t>
            </a:r>
            <a:endParaRPr b="0" lang="en-US" sz="1600" spc="-1" strike="noStrike">
              <a:solidFill>
                <a:srgbClr val="000000"/>
              </a:solidFill>
              <a:latin typeface="Arial"/>
            </a:endParaRPr>
          </a:p>
        </p:txBody>
      </p:sp>
      <p:sp>
        <p:nvSpPr>
          <p:cNvPr id="8497" name=""/>
          <p:cNvSpPr/>
          <p:nvPr/>
        </p:nvSpPr>
        <p:spPr>
          <a:xfrm flipV="1">
            <a:off x="1093680" y="1535040"/>
            <a:ext cx="665280" cy="443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98" name=""/>
          <p:cNvSpPr txBox="1"/>
          <p:nvPr/>
        </p:nvSpPr>
        <p:spPr>
          <a:xfrm>
            <a:off x="1911240" y="252360"/>
            <a:ext cx="811080" cy="58104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Datum </a:t>
            </a:r>
            <a:endParaRPr b="0" lang="en-US" sz="1600" spc="-1" strike="noStrike">
              <a:solidFill>
                <a:srgbClr val="000000"/>
              </a:solidFill>
              <a:latin typeface="Arial"/>
            </a:endParaRPr>
          </a:p>
          <a:p>
            <a:pPr>
              <a:lnSpc>
                <a:spcPct val="100000"/>
              </a:lnSpc>
            </a:pPr>
            <a:r>
              <a:rPr b="0" lang="en-US" sz="1600" spc="-1" strike="noStrike">
                <a:solidFill>
                  <a:srgbClr val="f2fefd"/>
                </a:solidFill>
                <a:latin typeface="Times New Roman"/>
                <a:ea typeface="Times New Roman"/>
              </a:rPr>
              <a:t>plane B</a:t>
            </a:r>
            <a:endParaRPr b="0" lang="en-US" sz="1600" spc="-1" strike="noStrike">
              <a:solidFill>
                <a:srgbClr val="000000"/>
              </a:solidFill>
              <a:latin typeface="Arial"/>
            </a:endParaRPr>
          </a:p>
        </p:txBody>
      </p:sp>
      <p:sp>
        <p:nvSpPr>
          <p:cNvPr id="8499" name=""/>
          <p:cNvSpPr/>
          <p:nvPr/>
        </p:nvSpPr>
        <p:spPr>
          <a:xfrm>
            <a:off x="2678040" y="660240"/>
            <a:ext cx="189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0" name=""/>
          <p:cNvSpPr/>
          <p:nvPr/>
        </p:nvSpPr>
        <p:spPr>
          <a:xfrm flipH="1">
            <a:off x="2744640" y="660240"/>
            <a:ext cx="122400" cy="65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1" name=""/>
          <p:cNvSpPr/>
          <p:nvPr/>
        </p:nvSpPr>
        <p:spPr>
          <a:xfrm flipH="1">
            <a:off x="917640" y="1978200"/>
            <a:ext cx="164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2" name=""/>
          <p:cNvSpPr txBox="1"/>
          <p:nvPr/>
        </p:nvSpPr>
        <p:spPr>
          <a:xfrm>
            <a:off x="3151080" y="2854440"/>
            <a:ext cx="5726160" cy="119052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Surface B is the primary datum feature, and datum feature A</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is secondary, RFS.  The mating envelope is the smallest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enscribing cylinder that contacts the high points of diameter </a:t>
            </a:r>
            <a:endParaRPr b="0" lang="en-US" sz="1800" spc="-1" strike="noStrike">
              <a:solidFill>
                <a:srgbClr val="000000"/>
              </a:solidFill>
              <a:latin typeface="Arial"/>
            </a:endParaRPr>
          </a:p>
          <a:p>
            <a:pPr>
              <a:lnSpc>
                <a:spcPct val="100000"/>
              </a:lnSpc>
            </a:pPr>
            <a:r>
              <a:rPr b="0" lang="en-US" sz="1800" spc="-1" strike="noStrike">
                <a:solidFill>
                  <a:srgbClr val="f2fefd"/>
                </a:solidFill>
                <a:latin typeface="Times New Roman"/>
                <a:ea typeface="Times New Roman"/>
              </a:rPr>
              <a:t>A and is perpendicular to primary datum feature B.</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03" name=""/>
          <p:cNvSpPr txBox="1"/>
          <p:nvPr/>
        </p:nvSpPr>
        <p:spPr>
          <a:xfrm>
            <a:off x="685800" y="2112840"/>
            <a:ext cx="7772400" cy="304056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Multiple Datum Features</a:t>
            </a:r>
            <a:br>
              <a:rPr sz="7200"/>
            </a:br>
            <a:r>
              <a:rPr b="0" lang="en-US" sz="7200" spc="-1" strike="noStrike">
                <a:solidFill>
                  <a:srgbClr val="ffffff"/>
                </a:solidFill>
                <a:latin typeface="Times New Roman"/>
                <a:ea typeface="Times New Roman"/>
              </a:rPr>
              <a:t>Co-Datum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0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05" name=""/>
          <p:cNvSpPr txBox="1"/>
          <p:nvPr/>
        </p:nvSpPr>
        <p:spPr>
          <a:xfrm>
            <a:off x="685800" y="40788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Multiple</a:t>
            </a:r>
            <a:r>
              <a:rPr b="0" lang="en-US" sz="3600" spc="-1" strike="noStrike">
                <a:solidFill>
                  <a:srgbClr val="fafd00"/>
                </a:solidFill>
                <a:latin typeface="Times New Roman"/>
                <a:ea typeface="Times New Roman"/>
              </a:rPr>
              <a:t> Datum Features</a:t>
            </a:r>
            <a:br>
              <a:rPr sz="3600"/>
            </a:br>
            <a:r>
              <a:rPr b="0" lang="en-US" sz="3600" spc="-1" strike="noStrike">
                <a:solidFill>
                  <a:srgbClr val="fafd00"/>
                </a:solidFill>
                <a:latin typeface="Times New Roman"/>
                <a:ea typeface="Times New Roman"/>
              </a:rPr>
              <a:t>(Co-Datums)</a:t>
            </a:r>
            <a:endParaRPr b="0" lang="en-US" sz="3600" spc="-1" strike="noStrike">
              <a:solidFill>
                <a:srgbClr val="000000"/>
              </a:solidFill>
              <a:latin typeface="Arial"/>
            </a:endParaRPr>
          </a:p>
        </p:txBody>
      </p:sp>
      <p:sp>
        <p:nvSpPr>
          <p:cNvPr id="8506" name=""/>
          <p:cNvSpPr txBox="1"/>
          <p:nvPr/>
        </p:nvSpPr>
        <p:spPr>
          <a:xfrm>
            <a:off x="581040" y="1736640"/>
            <a:ext cx="80280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more than one datum feature is used to establish a single datum, the appropriate datum reference letters and associated modifiers (where applicable), separated by a dash, are entered in the appropriate compartment of the feature control fr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ince the features have equal importance, datum reference letters may be entered in any order within the compart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3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2" name=""/>
          <p:cNvSpPr/>
          <p:nvPr/>
        </p:nvSpPr>
        <p:spPr>
          <a:xfrm>
            <a:off x="27669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3"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4" name=""/>
          <p:cNvSpPr/>
          <p:nvPr/>
        </p:nvSpPr>
        <p:spPr>
          <a:xfrm>
            <a:off x="5064120" y="3317760"/>
            <a:ext cx="0" cy="75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35" name=""/>
          <p:cNvGrpSpPr/>
          <p:nvPr/>
        </p:nvGrpSpPr>
        <p:grpSpPr>
          <a:xfrm>
            <a:off x="4413240" y="2560680"/>
            <a:ext cx="507960" cy="495360"/>
            <a:chOff x="4413240" y="2560680"/>
            <a:chExt cx="507960" cy="495360"/>
          </a:xfrm>
        </p:grpSpPr>
        <p:sp>
          <p:nvSpPr>
            <p:cNvPr id="936"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941"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42" name=""/>
          <p:cNvSpPr/>
          <p:nvPr/>
        </p:nvSpPr>
        <p:spPr>
          <a:xfrm>
            <a:off x="2676600" y="27957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a:off x="2882880" y="27957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3009960" y="2795760"/>
            <a:ext cx="642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947"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48" name=""/>
          <p:cNvGrpSpPr/>
          <p:nvPr/>
        </p:nvGrpSpPr>
        <p:grpSpPr>
          <a:xfrm>
            <a:off x="2523960" y="5121360"/>
            <a:ext cx="2523960" cy="1133280"/>
            <a:chOff x="2523960" y="5121360"/>
            <a:chExt cx="2523960" cy="1133280"/>
          </a:xfrm>
        </p:grpSpPr>
        <p:sp>
          <p:nvSpPr>
            <p:cNvPr id="949"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4" name=""/>
            <p:cNvGrpSpPr/>
            <p:nvPr/>
          </p:nvGrpSpPr>
          <p:grpSpPr>
            <a:xfrm>
              <a:off x="4651200" y="5127480"/>
              <a:ext cx="0" cy="1127160"/>
              <a:chOff x="4651200" y="5127480"/>
              <a:chExt cx="0" cy="1127160"/>
            </a:xfrm>
          </p:grpSpPr>
          <p:sp>
            <p:nvSpPr>
              <p:cNvPr id="955"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957"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958" name=""/>
            <p:cNvGrpSpPr/>
            <p:nvPr/>
          </p:nvGrpSpPr>
          <p:grpSpPr>
            <a:xfrm>
              <a:off x="2898720" y="5121360"/>
              <a:ext cx="0" cy="1127160"/>
              <a:chOff x="2898720" y="5121360"/>
              <a:chExt cx="0" cy="1127160"/>
            </a:xfrm>
          </p:grpSpPr>
          <p:sp>
            <p:nvSpPr>
              <p:cNvPr id="959"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961"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962"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sp>
        <p:nvSpPr>
          <p:cNvPr id="970"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1"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txBox="1"/>
          <p:nvPr/>
        </p:nvSpPr>
        <p:spPr>
          <a:xfrm>
            <a:off x="5327640" y="97776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973" name=""/>
          <p:cNvSpPr txBox="1"/>
          <p:nvPr/>
        </p:nvSpPr>
        <p:spPr>
          <a:xfrm>
            <a:off x="5943600" y="83520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974" name=""/>
          <p:cNvGrpSpPr/>
          <p:nvPr/>
        </p:nvGrpSpPr>
        <p:grpSpPr>
          <a:xfrm>
            <a:off x="5797440" y="1015920"/>
            <a:ext cx="174600" cy="174600"/>
            <a:chOff x="5797440" y="1015920"/>
            <a:chExt cx="174600" cy="174600"/>
          </a:xfrm>
        </p:grpSpPr>
        <p:sp>
          <p:nvSpPr>
            <p:cNvPr id="975" name=""/>
            <p:cNvSpPr/>
            <p:nvPr/>
          </p:nvSpPr>
          <p:spPr>
            <a:xfrm>
              <a:off x="5813280" y="10317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H="1">
              <a:off x="5797440" y="1015920"/>
              <a:ext cx="17460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77"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978"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79" name=""/>
          <p:cNvSpPr/>
          <p:nvPr/>
        </p:nvSpPr>
        <p:spPr>
          <a:xfrm flipH="1">
            <a:off x="5175360" y="11160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flipH="1">
            <a:off x="4714920" y="1109520"/>
            <a:ext cx="466560" cy="1541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1"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sp>
        <p:nvSpPr>
          <p:cNvPr id="982"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sp>
        <p:nvSpPr>
          <p:cNvPr id="983" name=""/>
          <p:cNvSpPr/>
          <p:nvPr/>
        </p:nvSpPr>
        <p:spPr>
          <a:xfrm flipH="1">
            <a:off x="2921040" y="36511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4" name=""/>
          <p:cNvSpPr/>
          <p:nvPr/>
        </p:nvSpPr>
        <p:spPr>
          <a:xfrm>
            <a:off x="2533680" y="3273480"/>
            <a:ext cx="0" cy="79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a:off x="2533680" y="3960720"/>
            <a:ext cx="1274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a:off x="4438800" y="39607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txBox="1"/>
          <p:nvPr/>
        </p:nvSpPr>
        <p:spPr>
          <a:xfrm>
            <a:off x="3848040" y="3797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68.0</a:t>
            </a:r>
            <a:endParaRPr b="0" lang="en-US" sz="1600" spc="-1" strike="noStrike">
              <a:solidFill>
                <a:srgbClr val="000000"/>
              </a:solidFill>
              <a:latin typeface="Arial"/>
            </a:endParaRPr>
          </a:p>
        </p:txBody>
      </p:sp>
      <p:sp>
        <p:nvSpPr>
          <p:cNvPr id="988" name=""/>
          <p:cNvSpPr/>
          <p:nvPr/>
        </p:nvSpPr>
        <p:spPr>
          <a:xfrm>
            <a:off x="5159520" y="5345280"/>
            <a:ext cx="85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5159520" y="5954760"/>
            <a:ext cx="84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5900760" y="53341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flipV="1">
            <a:off x="5900760" y="484668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5900760" y="48466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txBox="1"/>
          <p:nvPr/>
        </p:nvSpPr>
        <p:spPr>
          <a:xfrm>
            <a:off x="6162840" y="468324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5.0</a:t>
            </a:r>
            <a:endParaRPr b="0" lang="en-US" sz="1600" spc="-1" strike="noStrike">
              <a:solidFill>
                <a:srgbClr val="000000"/>
              </a:solidFill>
              <a:latin typeface="Arial"/>
            </a:endParaRPr>
          </a:p>
        </p:txBody>
      </p:sp>
      <p:sp>
        <p:nvSpPr>
          <p:cNvPr id="994"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sp>
        <p:nvSpPr>
          <p:cNvPr id="997"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8" name=""/>
          <p:cNvSpPr/>
          <p:nvPr/>
        </p:nvSpPr>
        <p:spPr>
          <a:xfrm>
            <a:off x="3730680" y="2797200"/>
            <a:ext cx="6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p:nvPr/>
        </p:nvSpPr>
        <p:spPr>
          <a:xfrm>
            <a:off x="3895560" y="2797200"/>
            <a:ext cx="543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0" name=""/>
          <p:cNvSpPr/>
          <p:nvPr/>
        </p:nvSpPr>
        <p:spPr>
          <a:xfrm>
            <a:off x="4948200" y="5965920"/>
            <a:ext cx="420840" cy="420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flipV="1">
            <a:off x="5369040" y="4314960"/>
            <a:ext cx="554040" cy="20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H="1">
            <a:off x="4881600" y="4314960"/>
            <a:ext cx="1041480" cy="1041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5923080" y="43149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6084720" y="4151160"/>
            <a:ext cx="12794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A (?)</a:t>
            </a:r>
            <a:endParaRPr b="0" lang="en-US" sz="1600" spc="-1" strike="noStrike">
              <a:solidFill>
                <a:srgbClr val="000000"/>
              </a:solidFill>
              <a:latin typeface="Arial"/>
            </a:endParaRPr>
          </a:p>
        </p:txBody>
      </p:sp>
      <p:sp>
        <p:nvSpPr>
          <p:cNvPr id="1005" name=""/>
          <p:cNvSpPr/>
          <p:nvPr/>
        </p:nvSpPr>
        <p:spPr>
          <a:xfrm>
            <a:off x="5059440" y="2908440"/>
            <a:ext cx="1239840" cy="676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6305400" y="358128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txBox="1"/>
          <p:nvPr/>
        </p:nvSpPr>
        <p:spPr>
          <a:xfrm>
            <a:off x="6485040" y="3413160"/>
            <a:ext cx="20239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B (?) or C (?)</a:t>
            </a:r>
            <a:endParaRPr b="0" lang="en-US" sz="1600" spc="-1" strike="noStrike">
              <a:solidFill>
                <a:srgbClr val="000000"/>
              </a:solidFill>
              <a:latin typeface="Arial"/>
            </a:endParaRPr>
          </a:p>
        </p:txBody>
      </p:sp>
      <p:sp>
        <p:nvSpPr>
          <p:cNvPr id="1008" name=""/>
          <p:cNvSpPr txBox="1"/>
          <p:nvPr/>
        </p:nvSpPr>
        <p:spPr>
          <a:xfrm>
            <a:off x="2560680" y="1289160"/>
            <a:ext cx="202392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Arial"/>
                <a:ea typeface="Arial"/>
              </a:rPr>
              <a:t>Datum C (?) or B (?)</a:t>
            </a:r>
            <a:endParaRPr b="0" lang="en-US" sz="1600" spc="-1" strike="noStrike">
              <a:solidFill>
                <a:srgbClr val="000000"/>
              </a:solidFill>
              <a:latin typeface="Arial"/>
            </a:endParaRPr>
          </a:p>
        </p:txBody>
      </p:sp>
      <p:sp>
        <p:nvSpPr>
          <p:cNvPr id="1009" name=""/>
          <p:cNvSpPr/>
          <p:nvPr/>
        </p:nvSpPr>
        <p:spPr>
          <a:xfrm>
            <a:off x="4548240" y="1442880"/>
            <a:ext cx="163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flipH="1">
            <a:off x="4340160" y="1442880"/>
            <a:ext cx="371520" cy="615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07" name=""/>
          <p:cNvSpPr/>
          <p:nvPr/>
        </p:nvSpPr>
        <p:spPr>
          <a:xfrm>
            <a:off x="4186080" y="4705200"/>
            <a:ext cx="16992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8" name=""/>
          <p:cNvSpPr/>
          <p:nvPr/>
        </p:nvSpPr>
        <p:spPr>
          <a:xfrm>
            <a:off x="4484520" y="4705200"/>
            <a:ext cx="341280" cy="0"/>
          </a:xfrm>
          <a:custGeom>
            <a:avLst/>
            <a:gdLst/>
            <a:ahLst/>
            <a:rect l="0" t="0" r="r" b="b"/>
            <a:pathLst>
              <a:path fill="none" w="948" h="0">
                <a:moveTo>
                  <a:pt x="0" y="0"/>
                </a:moveTo>
                <a:lnTo>
                  <a:pt x="478" y="0"/>
                </a:lnTo>
                <a:lnTo>
                  <a:pt x="948" y="0"/>
                </a:lnTo>
              </a:path>
            </a:pathLst>
          </a:custGeom>
          <a:ln w="12600">
            <a:solidFill>
              <a:srgbClr val="f2fefd"/>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509" name=""/>
          <p:cNvSpPr/>
          <p:nvPr/>
        </p:nvSpPr>
        <p:spPr>
          <a:xfrm>
            <a:off x="4956120" y="4705200"/>
            <a:ext cx="17136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0" name=""/>
          <p:cNvSpPr/>
          <p:nvPr/>
        </p:nvSpPr>
        <p:spPr>
          <a:xfrm>
            <a:off x="2390760" y="4927680"/>
            <a:ext cx="4530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1" name=""/>
          <p:cNvSpPr/>
          <p:nvPr/>
        </p:nvSpPr>
        <p:spPr>
          <a:xfrm flipH="1" flipV="1">
            <a:off x="5046840" y="3948120"/>
            <a:ext cx="134640" cy="133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2" name=""/>
          <p:cNvSpPr/>
          <p:nvPr/>
        </p:nvSpPr>
        <p:spPr>
          <a:xfrm flipV="1">
            <a:off x="6281640" y="3462480"/>
            <a:ext cx="0" cy="376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3" name=""/>
          <p:cNvSpPr/>
          <p:nvPr/>
        </p:nvSpPr>
        <p:spPr>
          <a:xfrm flipV="1">
            <a:off x="5189400" y="4094280"/>
            <a:ext cx="0" cy="169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4" name=""/>
          <p:cNvSpPr/>
          <p:nvPr/>
        </p:nvSpPr>
        <p:spPr>
          <a:xfrm flipH="1">
            <a:off x="5641920" y="3838680"/>
            <a:ext cx="957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5" name=""/>
          <p:cNvSpPr/>
          <p:nvPr/>
        </p:nvSpPr>
        <p:spPr>
          <a:xfrm>
            <a:off x="6921360" y="4168800"/>
            <a:ext cx="0" cy="758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6" name=""/>
          <p:cNvSpPr/>
          <p:nvPr/>
        </p:nvSpPr>
        <p:spPr>
          <a:xfrm>
            <a:off x="6132600" y="3838680"/>
            <a:ext cx="298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7" name=""/>
          <p:cNvSpPr/>
          <p:nvPr/>
        </p:nvSpPr>
        <p:spPr>
          <a:xfrm flipV="1">
            <a:off x="51274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8" name=""/>
          <p:cNvSpPr/>
          <p:nvPr/>
        </p:nvSpPr>
        <p:spPr>
          <a:xfrm flipH="1">
            <a:off x="5270400" y="4343400"/>
            <a:ext cx="290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19" name=""/>
          <p:cNvSpPr/>
          <p:nvPr/>
        </p:nvSpPr>
        <p:spPr>
          <a:xfrm>
            <a:off x="5560920" y="4264200"/>
            <a:ext cx="81360" cy="79560"/>
          </a:xfrm>
          <a:custGeom>
            <a:avLst/>
            <a:gdLst/>
            <a:ahLst/>
            <a:rect l="0" t="0" r="r" b="b"/>
            <a:pathLst>
              <a:path fill="none" w="226" h="221">
                <a:moveTo>
                  <a:pt x="0" y="221"/>
                </a:moveTo>
                <a:lnTo>
                  <a:pt x="16" y="221"/>
                </a:lnTo>
                <a:lnTo>
                  <a:pt x="33" y="221"/>
                </a:lnTo>
                <a:lnTo>
                  <a:pt x="49" y="213"/>
                </a:lnTo>
                <a:lnTo>
                  <a:pt x="59" y="213"/>
                </a:lnTo>
                <a:lnTo>
                  <a:pt x="75" y="205"/>
                </a:lnTo>
                <a:lnTo>
                  <a:pt x="92" y="205"/>
                </a:lnTo>
                <a:lnTo>
                  <a:pt x="100" y="196"/>
                </a:lnTo>
                <a:lnTo>
                  <a:pt x="117" y="188"/>
                </a:lnTo>
                <a:lnTo>
                  <a:pt x="125" y="180"/>
                </a:lnTo>
                <a:lnTo>
                  <a:pt x="142" y="172"/>
                </a:lnTo>
                <a:lnTo>
                  <a:pt x="150" y="164"/>
                </a:lnTo>
                <a:lnTo>
                  <a:pt x="159" y="156"/>
                </a:lnTo>
                <a:lnTo>
                  <a:pt x="176" y="147"/>
                </a:lnTo>
                <a:lnTo>
                  <a:pt x="185" y="131"/>
                </a:lnTo>
                <a:lnTo>
                  <a:pt x="193" y="123"/>
                </a:lnTo>
                <a:lnTo>
                  <a:pt x="201" y="106"/>
                </a:lnTo>
                <a:lnTo>
                  <a:pt x="210" y="97"/>
                </a:lnTo>
                <a:lnTo>
                  <a:pt x="210" y="81"/>
                </a:lnTo>
                <a:lnTo>
                  <a:pt x="218" y="73"/>
                </a:lnTo>
                <a:lnTo>
                  <a:pt x="218" y="57"/>
                </a:lnTo>
                <a:lnTo>
                  <a:pt x="226" y="40"/>
                </a:lnTo>
                <a:lnTo>
                  <a:pt x="226" y="32"/>
                </a:lnTo>
                <a:lnTo>
                  <a:pt x="226" y="16"/>
                </a:lnTo>
                <a:lnTo>
                  <a:pt x="226"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20" name=""/>
          <p:cNvSpPr/>
          <p:nvPr/>
        </p:nvSpPr>
        <p:spPr>
          <a:xfrm>
            <a:off x="5641920" y="3838680"/>
            <a:ext cx="0" cy="4255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1" name=""/>
          <p:cNvSpPr/>
          <p:nvPr/>
        </p:nvSpPr>
        <p:spPr>
          <a:xfrm>
            <a:off x="5189400" y="4264200"/>
            <a:ext cx="81360" cy="79560"/>
          </a:xfrm>
          <a:custGeom>
            <a:avLst/>
            <a:gdLst/>
            <a:ahLst/>
            <a:rect l="0" t="0" r="r" b="b"/>
            <a:pathLst>
              <a:path fill="none" w="226" h="221">
                <a:moveTo>
                  <a:pt x="0" y="0"/>
                </a:moveTo>
                <a:lnTo>
                  <a:pt x="0" y="16"/>
                </a:lnTo>
                <a:lnTo>
                  <a:pt x="0" y="32"/>
                </a:lnTo>
                <a:lnTo>
                  <a:pt x="8" y="40"/>
                </a:lnTo>
                <a:lnTo>
                  <a:pt x="8" y="57"/>
                </a:lnTo>
                <a:lnTo>
                  <a:pt x="8" y="73"/>
                </a:lnTo>
                <a:lnTo>
                  <a:pt x="16" y="81"/>
                </a:lnTo>
                <a:lnTo>
                  <a:pt x="24" y="97"/>
                </a:lnTo>
                <a:lnTo>
                  <a:pt x="33" y="106"/>
                </a:lnTo>
                <a:lnTo>
                  <a:pt x="41" y="123"/>
                </a:lnTo>
                <a:lnTo>
                  <a:pt x="49" y="131"/>
                </a:lnTo>
                <a:lnTo>
                  <a:pt x="59" y="147"/>
                </a:lnTo>
                <a:lnTo>
                  <a:pt x="67" y="156"/>
                </a:lnTo>
                <a:lnTo>
                  <a:pt x="75" y="164"/>
                </a:lnTo>
                <a:lnTo>
                  <a:pt x="92" y="172"/>
                </a:lnTo>
                <a:lnTo>
                  <a:pt x="100" y="180"/>
                </a:lnTo>
                <a:lnTo>
                  <a:pt x="117" y="188"/>
                </a:lnTo>
                <a:lnTo>
                  <a:pt x="125" y="196"/>
                </a:lnTo>
                <a:lnTo>
                  <a:pt x="142" y="205"/>
                </a:lnTo>
                <a:lnTo>
                  <a:pt x="150" y="205"/>
                </a:lnTo>
                <a:lnTo>
                  <a:pt x="167" y="213"/>
                </a:lnTo>
                <a:lnTo>
                  <a:pt x="185"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22" name=""/>
          <p:cNvSpPr/>
          <p:nvPr/>
        </p:nvSpPr>
        <p:spPr>
          <a:xfrm>
            <a:off x="6078600" y="3098880"/>
            <a:ext cx="410040" cy="351360"/>
          </a:xfrm>
          <a:custGeom>
            <a:avLst/>
            <a:gdLst/>
            <a:ahLst/>
            <a:rect l="0" t="0" r="r" b="b"/>
            <a:pathLst>
              <a:path fill="none" w="1139" h="976">
                <a:moveTo>
                  <a:pt x="1139" y="976"/>
                </a:moveTo>
                <a:lnTo>
                  <a:pt x="0" y="976"/>
                </a:lnTo>
                <a:lnTo>
                  <a:pt x="0" y="0"/>
                </a:lnTo>
                <a:lnTo>
                  <a:pt x="1139" y="0"/>
                </a:lnTo>
                <a:lnTo>
                  <a:pt x="1139" y="97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523" name=""/>
          <p:cNvSpPr/>
          <p:nvPr/>
        </p:nvSpPr>
        <p:spPr>
          <a:xfrm flipV="1">
            <a:off x="436572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4" name=""/>
          <p:cNvSpPr/>
          <p:nvPr/>
        </p:nvSpPr>
        <p:spPr>
          <a:xfrm flipV="1">
            <a:off x="494820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5" name=""/>
          <p:cNvSpPr/>
          <p:nvPr/>
        </p:nvSpPr>
        <p:spPr>
          <a:xfrm flipV="1">
            <a:off x="3032280" y="3451320"/>
            <a:ext cx="0" cy="387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6" name=""/>
          <p:cNvSpPr/>
          <p:nvPr/>
        </p:nvSpPr>
        <p:spPr>
          <a:xfrm>
            <a:off x="4260960" y="3451320"/>
            <a:ext cx="797040" cy="506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27" name=""/>
          <p:cNvSpPr/>
          <p:nvPr/>
        </p:nvSpPr>
        <p:spPr>
          <a:xfrm flipV="1">
            <a:off x="4122720" y="4087800"/>
            <a:ext cx="0" cy="176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8" name=""/>
          <p:cNvSpPr/>
          <p:nvPr/>
        </p:nvSpPr>
        <p:spPr>
          <a:xfrm flipV="1">
            <a:off x="4365720" y="3909960"/>
            <a:ext cx="0" cy="3621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9" name=""/>
          <p:cNvSpPr/>
          <p:nvPr/>
        </p:nvSpPr>
        <p:spPr>
          <a:xfrm flipV="1">
            <a:off x="4948200" y="3906720"/>
            <a:ext cx="0" cy="365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30" name=""/>
          <p:cNvGrpSpPr/>
          <p:nvPr/>
        </p:nvGrpSpPr>
        <p:grpSpPr>
          <a:xfrm>
            <a:off x="4656240" y="2610000"/>
            <a:ext cx="0" cy="2587320"/>
            <a:chOff x="4656240" y="2610000"/>
            <a:chExt cx="0" cy="2587320"/>
          </a:xfrm>
        </p:grpSpPr>
        <p:sp>
          <p:nvSpPr>
            <p:cNvPr id="8531" name=""/>
            <p:cNvSpPr/>
            <p:nvPr/>
          </p:nvSpPr>
          <p:spPr>
            <a:xfrm flipV="1">
              <a:off x="4656240" y="3878280"/>
              <a:ext cx="0" cy="131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2" name=""/>
            <p:cNvSpPr/>
            <p:nvPr/>
          </p:nvSpPr>
          <p:spPr>
            <a:xfrm flipV="1">
              <a:off x="4656240" y="3652920"/>
              <a:ext cx="0" cy="1299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3" name=""/>
            <p:cNvSpPr/>
            <p:nvPr/>
          </p:nvSpPr>
          <p:spPr>
            <a:xfrm flipV="1">
              <a:off x="4656240" y="2610000"/>
              <a:ext cx="0" cy="952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34" name=""/>
          <p:cNvSpPr/>
          <p:nvPr/>
        </p:nvSpPr>
        <p:spPr>
          <a:xfrm>
            <a:off x="3670200" y="4264200"/>
            <a:ext cx="81360" cy="79560"/>
          </a:xfrm>
          <a:custGeom>
            <a:avLst/>
            <a:gdLst/>
            <a:ahLst/>
            <a:rect l="0" t="0" r="r" b="b"/>
            <a:pathLst>
              <a:path fill="none" w="226" h="221">
                <a:moveTo>
                  <a:pt x="0" y="0"/>
                </a:moveTo>
                <a:lnTo>
                  <a:pt x="0" y="16"/>
                </a:lnTo>
                <a:lnTo>
                  <a:pt x="0" y="32"/>
                </a:lnTo>
                <a:lnTo>
                  <a:pt x="0" y="40"/>
                </a:lnTo>
                <a:lnTo>
                  <a:pt x="8" y="57"/>
                </a:lnTo>
                <a:lnTo>
                  <a:pt x="8" y="73"/>
                </a:lnTo>
                <a:lnTo>
                  <a:pt x="16" y="81"/>
                </a:lnTo>
                <a:lnTo>
                  <a:pt x="16" y="97"/>
                </a:lnTo>
                <a:lnTo>
                  <a:pt x="24" y="106"/>
                </a:lnTo>
                <a:lnTo>
                  <a:pt x="33" y="123"/>
                </a:lnTo>
                <a:lnTo>
                  <a:pt x="41" y="131"/>
                </a:lnTo>
                <a:lnTo>
                  <a:pt x="49" y="147"/>
                </a:lnTo>
                <a:lnTo>
                  <a:pt x="67" y="156"/>
                </a:lnTo>
                <a:lnTo>
                  <a:pt x="75" y="164"/>
                </a:lnTo>
                <a:lnTo>
                  <a:pt x="84" y="172"/>
                </a:lnTo>
                <a:lnTo>
                  <a:pt x="100" y="180"/>
                </a:lnTo>
                <a:lnTo>
                  <a:pt x="109" y="188"/>
                </a:lnTo>
                <a:lnTo>
                  <a:pt x="125" y="196"/>
                </a:lnTo>
                <a:lnTo>
                  <a:pt x="134" y="205"/>
                </a:lnTo>
                <a:lnTo>
                  <a:pt x="150" y="205"/>
                </a:lnTo>
                <a:lnTo>
                  <a:pt x="167" y="213"/>
                </a:lnTo>
                <a:lnTo>
                  <a:pt x="176"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35" name=""/>
          <p:cNvSpPr/>
          <p:nvPr/>
        </p:nvSpPr>
        <p:spPr>
          <a:xfrm flipV="1">
            <a:off x="41860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6" name=""/>
          <p:cNvSpPr/>
          <p:nvPr/>
        </p:nvSpPr>
        <p:spPr>
          <a:xfrm>
            <a:off x="3751200" y="4264200"/>
            <a:ext cx="371880" cy="79560"/>
          </a:xfrm>
          <a:custGeom>
            <a:avLst/>
            <a:gdLst/>
            <a:ahLst/>
            <a:rect l="0" t="0" r="r" b="b"/>
            <a:pathLst>
              <a:path fill="none" w="1033" h="221">
                <a:moveTo>
                  <a:pt x="0" y="221"/>
                </a:moveTo>
                <a:lnTo>
                  <a:pt x="810" y="221"/>
                </a:lnTo>
                <a:lnTo>
                  <a:pt x="827" y="221"/>
                </a:lnTo>
                <a:lnTo>
                  <a:pt x="844" y="221"/>
                </a:lnTo>
                <a:lnTo>
                  <a:pt x="852" y="213"/>
                </a:lnTo>
                <a:lnTo>
                  <a:pt x="868" y="213"/>
                </a:lnTo>
                <a:lnTo>
                  <a:pt x="885" y="205"/>
                </a:lnTo>
                <a:lnTo>
                  <a:pt x="893" y="205"/>
                </a:lnTo>
                <a:lnTo>
                  <a:pt x="910" y="196"/>
                </a:lnTo>
                <a:lnTo>
                  <a:pt x="918" y="188"/>
                </a:lnTo>
                <a:lnTo>
                  <a:pt x="934" y="180"/>
                </a:lnTo>
                <a:lnTo>
                  <a:pt x="943" y="172"/>
                </a:lnTo>
                <a:lnTo>
                  <a:pt x="959" y="164"/>
                </a:lnTo>
                <a:lnTo>
                  <a:pt x="967" y="156"/>
                </a:lnTo>
                <a:lnTo>
                  <a:pt x="976" y="147"/>
                </a:lnTo>
                <a:lnTo>
                  <a:pt x="984" y="131"/>
                </a:lnTo>
                <a:lnTo>
                  <a:pt x="992" y="123"/>
                </a:lnTo>
                <a:lnTo>
                  <a:pt x="1000" y="106"/>
                </a:lnTo>
                <a:lnTo>
                  <a:pt x="1009" y="97"/>
                </a:lnTo>
                <a:lnTo>
                  <a:pt x="1017" y="81"/>
                </a:lnTo>
                <a:lnTo>
                  <a:pt x="1017" y="73"/>
                </a:lnTo>
                <a:lnTo>
                  <a:pt x="1025" y="57"/>
                </a:lnTo>
                <a:lnTo>
                  <a:pt x="1025" y="40"/>
                </a:lnTo>
                <a:lnTo>
                  <a:pt x="1033" y="32"/>
                </a:lnTo>
                <a:lnTo>
                  <a:pt x="1033" y="16"/>
                </a:lnTo>
                <a:lnTo>
                  <a:pt x="1033"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37" name=""/>
          <p:cNvSpPr/>
          <p:nvPr/>
        </p:nvSpPr>
        <p:spPr>
          <a:xfrm>
            <a:off x="2706840" y="3838680"/>
            <a:ext cx="963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8" name=""/>
          <p:cNvSpPr/>
          <p:nvPr/>
        </p:nvSpPr>
        <p:spPr>
          <a:xfrm flipH="1">
            <a:off x="2882880" y="3838680"/>
            <a:ext cx="297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39" name=""/>
          <p:cNvSpPr/>
          <p:nvPr/>
        </p:nvSpPr>
        <p:spPr>
          <a:xfrm>
            <a:off x="3670200" y="3838680"/>
            <a:ext cx="0" cy="4255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0" name=""/>
          <p:cNvSpPr/>
          <p:nvPr/>
        </p:nvSpPr>
        <p:spPr>
          <a:xfrm>
            <a:off x="2390760" y="4157640"/>
            <a:ext cx="0" cy="770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1" name=""/>
          <p:cNvSpPr/>
          <p:nvPr/>
        </p:nvSpPr>
        <p:spPr>
          <a:xfrm>
            <a:off x="4257720" y="3954600"/>
            <a:ext cx="398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2" name=""/>
          <p:cNvSpPr/>
          <p:nvPr/>
        </p:nvSpPr>
        <p:spPr>
          <a:xfrm flipH="1">
            <a:off x="4656240" y="3954600"/>
            <a:ext cx="399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3" name=""/>
          <p:cNvSpPr/>
          <p:nvPr/>
        </p:nvSpPr>
        <p:spPr>
          <a:xfrm flipV="1">
            <a:off x="4127400" y="3951360"/>
            <a:ext cx="133560" cy="135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4" name=""/>
          <p:cNvSpPr/>
          <p:nvPr/>
        </p:nvSpPr>
        <p:spPr>
          <a:xfrm>
            <a:off x="2838600" y="3098880"/>
            <a:ext cx="383040" cy="351360"/>
          </a:xfrm>
          <a:custGeom>
            <a:avLst/>
            <a:gdLst/>
            <a:ahLst/>
            <a:rect l="0" t="0" r="r" b="b"/>
            <a:pathLst>
              <a:path fill="none" w="1064" h="976">
                <a:moveTo>
                  <a:pt x="1064" y="976"/>
                </a:moveTo>
                <a:lnTo>
                  <a:pt x="0" y="976"/>
                </a:lnTo>
                <a:lnTo>
                  <a:pt x="0" y="0"/>
                </a:lnTo>
                <a:lnTo>
                  <a:pt x="1064" y="0"/>
                </a:lnTo>
                <a:lnTo>
                  <a:pt x="1064" y="97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545" name=""/>
          <p:cNvSpPr/>
          <p:nvPr/>
        </p:nvSpPr>
        <p:spPr>
          <a:xfrm>
            <a:off x="4127400" y="4094280"/>
            <a:ext cx="10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6" name=""/>
          <p:cNvSpPr/>
          <p:nvPr/>
        </p:nvSpPr>
        <p:spPr>
          <a:xfrm flipV="1">
            <a:off x="4365720" y="3462480"/>
            <a:ext cx="0" cy="3142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7" name=""/>
          <p:cNvSpPr/>
          <p:nvPr/>
        </p:nvSpPr>
        <p:spPr>
          <a:xfrm flipV="1">
            <a:off x="4948200" y="3465360"/>
            <a:ext cx="0" cy="311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8" name=""/>
          <p:cNvSpPr/>
          <p:nvPr/>
        </p:nvSpPr>
        <p:spPr>
          <a:xfrm flipV="1">
            <a:off x="2390760" y="3841920"/>
            <a:ext cx="33336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9" name=""/>
          <p:cNvSpPr/>
          <p:nvPr/>
        </p:nvSpPr>
        <p:spPr>
          <a:xfrm flipH="1" flipV="1">
            <a:off x="6588000" y="3835440"/>
            <a:ext cx="33336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0" name=""/>
          <p:cNvSpPr txBox="1"/>
          <p:nvPr/>
        </p:nvSpPr>
        <p:spPr>
          <a:xfrm>
            <a:off x="2779560" y="3044880"/>
            <a:ext cx="515880" cy="4795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C</a:t>
            </a:r>
            <a:endParaRPr b="0" lang="en-US" sz="2000" spc="-1" strike="noStrike">
              <a:solidFill>
                <a:srgbClr val="000000"/>
              </a:solidFill>
              <a:latin typeface="Arial"/>
            </a:endParaRPr>
          </a:p>
        </p:txBody>
      </p:sp>
      <p:sp>
        <p:nvSpPr>
          <p:cNvPr id="8551" name=""/>
          <p:cNvSpPr txBox="1"/>
          <p:nvPr/>
        </p:nvSpPr>
        <p:spPr>
          <a:xfrm>
            <a:off x="6019920" y="3051000"/>
            <a:ext cx="530280" cy="4795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
            </a:r>
            <a:endParaRPr b="0" lang="en-US" sz="2000" spc="-1" strike="noStrike">
              <a:solidFill>
                <a:srgbClr val="000000"/>
              </a:solidFill>
              <a:latin typeface="Arial"/>
            </a:endParaRPr>
          </a:p>
        </p:txBody>
      </p:sp>
      <p:sp>
        <p:nvSpPr>
          <p:cNvPr id="8552" name=""/>
          <p:cNvSpPr/>
          <p:nvPr/>
        </p:nvSpPr>
        <p:spPr>
          <a:xfrm>
            <a:off x="3995640" y="4341960"/>
            <a:ext cx="131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3" name=""/>
          <p:cNvSpPr/>
          <p:nvPr/>
        </p:nvSpPr>
        <p:spPr>
          <a:xfrm>
            <a:off x="2489040" y="1668600"/>
            <a:ext cx="153972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4" name=""/>
          <p:cNvSpPr/>
          <p:nvPr/>
        </p:nvSpPr>
        <p:spPr>
          <a:xfrm>
            <a:off x="2290680" y="1501920"/>
            <a:ext cx="487800" cy="721080"/>
          </a:xfrm>
          <a:custGeom>
            <a:avLst/>
            <a:gdLst/>
            <a:ahLst/>
            <a:rect l="0" t="0" r="r" b="b"/>
            <a:pathLst>
              <a:path w="1355" h="2003">
                <a:moveTo>
                  <a:pt x="0" y="0"/>
                </a:moveTo>
                <a:lnTo>
                  <a:pt x="1355" y="0"/>
                </a:lnTo>
                <a:lnTo>
                  <a:pt x="860" y="2003"/>
                </a:lnTo>
                <a:lnTo>
                  <a:pt x="30" y="2003"/>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55" name=""/>
          <p:cNvSpPr/>
          <p:nvPr/>
        </p:nvSpPr>
        <p:spPr>
          <a:xfrm>
            <a:off x="3087720" y="166860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56" name=""/>
          <p:cNvSpPr txBox="1"/>
          <p:nvPr/>
        </p:nvSpPr>
        <p:spPr>
          <a:xfrm>
            <a:off x="3195720" y="165888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C - D</a:t>
            </a:r>
            <a:endParaRPr b="0" lang="en-US" sz="2000" spc="-1" strike="noStrike">
              <a:solidFill>
                <a:srgbClr val="000000"/>
              </a:solidFill>
              <a:latin typeface="Arial"/>
            </a:endParaRPr>
          </a:p>
        </p:txBody>
      </p:sp>
      <p:sp>
        <p:nvSpPr>
          <p:cNvPr id="8557" name=""/>
          <p:cNvSpPr/>
          <p:nvPr/>
        </p:nvSpPr>
        <p:spPr>
          <a:xfrm>
            <a:off x="2943360" y="3651120"/>
            <a:ext cx="178200" cy="178200"/>
          </a:xfrm>
          <a:custGeom>
            <a:avLst/>
            <a:gdLst/>
            <a:ahLst/>
            <a:rect l="0" t="0" r="r" b="b"/>
            <a:pathLst>
              <a:path w="495" h="495">
                <a:moveTo>
                  <a:pt x="0" y="495"/>
                </a:moveTo>
                <a:lnTo>
                  <a:pt x="495" y="495"/>
                </a:lnTo>
                <a:lnTo>
                  <a:pt x="247" y="0"/>
                </a:lnTo>
                <a:lnTo>
                  <a:pt x="0" y="495"/>
                </a:lnTo>
                <a:close/>
              </a:path>
            </a:pathLst>
          </a:custGeom>
          <a:solidFill>
            <a:srgbClr val="f2fe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8" name=""/>
          <p:cNvSpPr/>
          <p:nvPr/>
        </p:nvSpPr>
        <p:spPr>
          <a:xfrm>
            <a:off x="6184800" y="3648240"/>
            <a:ext cx="178200" cy="178200"/>
          </a:xfrm>
          <a:custGeom>
            <a:avLst/>
            <a:gdLst/>
            <a:ahLst/>
            <a:rect l="0" t="0" r="r" b="b"/>
            <a:pathLst>
              <a:path w="495" h="495">
                <a:moveTo>
                  <a:pt x="0" y="495"/>
                </a:moveTo>
                <a:lnTo>
                  <a:pt x="495" y="495"/>
                </a:lnTo>
                <a:lnTo>
                  <a:pt x="247" y="0"/>
                </a:lnTo>
                <a:lnTo>
                  <a:pt x="0" y="495"/>
                </a:lnTo>
                <a:close/>
              </a:path>
            </a:pathLst>
          </a:custGeom>
          <a:solidFill>
            <a:srgbClr val="f2fe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59" name=""/>
          <p:cNvSpPr txBox="1"/>
          <p:nvPr/>
        </p:nvSpPr>
        <p:spPr>
          <a:xfrm>
            <a:off x="2995560" y="5524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60" name=""/>
          <p:cNvSpPr/>
          <p:nvPr/>
        </p:nvSpPr>
        <p:spPr>
          <a:xfrm>
            <a:off x="4186080" y="4705200"/>
            <a:ext cx="16992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1" name=""/>
          <p:cNvSpPr/>
          <p:nvPr/>
        </p:nvSpPr>
        <p:spPr>
          <a:xfrm>
            <a:off x="4484520" y="4705200"/>
            <a:ext cx="341280" cy="0"/>
          </a:xfrm>
          <a:custGeom>
            <a:avLst/>
            <a:gdLst/>
            <a:ahLst/>
            <a:rect l="0" t="0" r="r" b="b"/>
            <a:pathLst>
              <a:path fill="none" w="948" h="0">
                <a:moveTo>
                  <a:pt x="0" y="0"/>
                </a:moveTo>
                <a:lnTo>
                  <a:pt x="478" y="0"/>
                </a:lnTo>
                <a:lnTo>
                  <a:pt x="948" y="0"/>
                </a:lnTo>
              </a:path>
            </a:pathLst>
          </a:custGeom>
          <a:ln w="12600">
            <a:solidFill>
              <a:srgbClr val="f2fefd"/>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562" name=""/>
          <p:cNvSpPr/>
          <p:nvPr/>
        </p:nvSpPr>
        <p:spPr>
          <a:xfrm>
            <a:off x="4956120" y="4705200"/>
            <a:ext cx="17136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3" name=""/>
          <p:cNvSpPr/>
          <p:nvPr/>
        </p:nvSpPr>
        <p:spPr>
          <a:xfrm>
            <a:off x="2390760" y="4927680"/>
            <a:ext cx="4530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4" name=""/>
          <p:cNvSpPr/>
          <p:nvPr/>
        </p:nvSpPr>
        <p:spPr>
          <a:xfrm flipH="1" flipV="1">
            <a:off x="5046840" y="3948120"/>
            <a:ext cx="134640" cy="133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5" name=""/>
          <p:cNvSpPr/>
          <p:nvPr/>
        </p:nvSpPr>
        <p:spPr>
          <a:xfrm flipV="1">
            <a:off x="6281640" y="3462480"/>
            <a:ext cx="0" cy="376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6" name=""/>
          <p:cNvSpPr/>
          <p:nvPr/>
        </p:nvSpPr>
        <p:spPr>
          <a:xfrm flipV="1">
            <a:off x="5189400" y="4094280"/>
            <a:ext cx="0" cy="169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7" name=""/>
          <p:cNvSpPr/>
          <p:nvPr/>
        </p:nvSpPr>
        <p:spPr>
          <a:xfrm flipH="1">
            <a:off x="5641920" y="3838680"/>
            <a:ext cx="957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8" name=""/>
          <p:cNvSpPr/>
          <p:nvPr/>
        </p:nvSpPr>
        <p:spPr>
          <a:xfrm>
            <a:off x="6921360" y="4168800"/>
            <a:ext cx="0" cy="758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9" name=""/>
          <p:cNvSpPr/>
          <p:nvPr/>
        </p:nvSpPr>
        <p:spPr>
          <a:xfrm>
            <a:off x="6132600" y="3838680"/>
            <a:ext cx="298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0" name=""/>
          <p:cNvSpPr/>
          <p:nvPr/>
        </p:nvSpPr>
        <p:spPr>
          <a:xfrm flipV="1">
            <a:off x="51274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1" name=""/>
          <p:cNvSpPr/>
          <p:nvPr/>
        </p:nvSpPr>
        <p:spPr>
          <a:xfrm flipH="1">
            <a:off x="5270400" y="4343400"/>
            <a:ext cx="290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2" name=""/>
          <p:cNvSpPr/>
          <p:nvPr/>
        </p:nvSpPr>
        <p:spPr>
          <a:xfrm>
            <a:off x="5560920" y="4264200"/>
            <a:ext cx="81360" cy="79560"/>
          </a:xfrm>
          <a:custGeom>
            <a:avLst/>
            <a:gdLst/>
            <a:ahLst/>
            <a:rect l="0" t="0" r="r" b="b"/>
            <a:pathLst>
              <a:path fill="none" w="226" h="221">
                <a:moveTo>
                  <a:pt x="0" y="221"/>
                </a:moveTo>
                <a:lnTo>
                  <a:pt x="16" y="221"/>
                </a:lnTo>
                <a:lnTo>
                  <a:pt x="33" y="221"/>
                </a:lnTo>
                <a:lnTo>
                  <a:pt x="49" y="213"/>
                </a:lnTo>
                <a:lnTo>
                  <a:pt x="59" y="213"/>
                </a:lnTo>
                <a:lnTo>
                  <a:pt x="75" y="205"/>
                </a:lnTo>
                <a:lnTo>
                  <a:pt x="92" y="205"/>
                </a:lnTo>
                <a:lnTo>
                  <a:pt x="100" y="196"/>
                </a:lnTo>
                <a:lnTo>
                  <a:pt x="117" y="188"/>
                </a:lnTo>
                <a:lnTo>
                  <a:pt x="125" y="180"/>
                </a:lnTo>
                <a:lnTo>
                  <a:pt x="142" y="172"/>
                </a:lnTo>
                <a:lnTo>
                  <a:pt x="150" y="164"/>
                </a:lnTo>
                <a:lnTo>
                  <a:pt x="159" y="156"/>
                </a:lnTo>
                <a:lnTo>
                  <a:pt x="176" y="147"/>
                </a:lnTo>
                <a:lnTo>
                  <a:pt x="185" y="131"/>
                </a:lnTo>
                <a:lnTo>
                  <a:pt x="193" y="123"/>
                </a:lnTo>
                <a:lnTo>
                  <a:pt x="201" y="106"/>
                </a:lnTo>
                <a:lnTo>
                  <a:pt x="210" y="97"/>
                </a:lnTo>
                <a:lnTo>
                  <a:pt x="210" y="81"/>
                </a:lnTo>
                <a:lnTo>
                  <a:pt x="218" y="73"/>
                </a:lnTo>
                <a:lnTo>
                  <a:pt x="218" y="57"/>
                </a:lnTo>
                <a:lnTo>
                  <a:pt x="226" y="40"/>
                </a:lnTo>
                <a:lnTo>
                  <a:pt x="226" y="32"/>
                </a:lnTo>
                <a:lnTo>
                  <a:pt x="226" y="16"/>
                </a:lnTo>
                <a:lnTo>
                  <a:pt x="226"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73" name=""/>
          <p:cNvSpPr/>
          <p:nvPr/>
        </p:nvSpPr>
        <p:spPr>
          <a:xfrm>
            <a:off x="5641920" y="3838680"/>
            <a:ext cx="0" cy="4255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4" name=""/>
          <p:cNvSpPr/>
          <p:nvPr/>
        </p:nvSpPr>
        <p:spPr>
          <a:xfrm>
            <a:off x="5189400" y="4264200"/>
            <a:ext cx="81360" cy="79560"/>
          </a:xfrm>
          <a:custGeom>
            <a:avLst/>
            <a:gdLst/>
            <a:ahLst/>
            <a:rect l="0" t="0" r="r" b="b"/>
            <a:pathLst>
              <a:path fill="none" w="226" h="221">
                <a:moveTo>
                  <a:pt x="0" y="0"/>
                </a:moveTo>
                <a:lnTo>
                  <a:pt x="0" y="16"/>
                </a:lnTo>
                <a:lnTo>
                  <a:pt x="0" y="32"/>
                </a:lnTo>
                <a:lnTo>
                  <a:pt x="8" y="40"/>
                </a:lnTo>
                <a:lnTo>
                  <a:pt x="8" y="57"/>
                </a:lnTo>
                <a:lnTo>
                  <a:pt x="8" y="73"/>
                </a:lnTo>
                <a:lnTo>
                  <a:pt x="16" y="81"/>
                </a:lnTo>
                <a:lnTo>
                  <a:pt x="24" y="97"/>
                </a:lnTo>
                <a:lnTo>
                  <a:pt x="33" y="106"/>
                </a:lnTo>
                <a:lnTo>
                  <a:pt x="41" y="123"/>
                </a:lnTo>
                <a:lnTo>
                  <a:pt x="49" y="131"/>
                </a:lnTo>
                <a:lnTo>
                  <a:pt x="59" y="147"/>
                </a:lnTo>
                <a:lnTo>
                  <a:pt x="67" y="156"/>
                </a:lnTo>
                <a:lnTo>
                  <a:pt x="75" y="164"/>
                </a:lnTo>
                <a:lnTo>
                  <a:pt x="92" y="172"/>
                </a:lnTo>
                <a:lnTo>
                  <a:pt x="100" y="180"/>
                </a:lnTo>
                <a:lnTo>
                  <a:pt x="117" y="188"/>
                </a:lnTo>
                <a:lnTo>
                  <a:pt x="125" y="196"/>
                </a:lnTo>
                <a:lnTo>
                  <a:pt x="142" y="205"/>
                </a:lnTo>
                <a:lnTo>
                  <a:pt x="150" y="205"/>
                </a:lnTo>
                <a:lnTo>
                  <a:pt x="167" y="213"/>
                </a:lnTo>
                <a:lnTo>
                  <a:pt x="185"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75" name=""/>
          <p:cNvSpPr/>
          <p:nvPr/>
        </p:nvSpPr>
        <p:spPr>
          <a:xfrm>
            <a:off x="6078600" y="3098880"/>
            <a:ext cx="410040" cy="351360"/>
          </a:xfrm>
          <a:custGeom>
            <a:avLst/>
            <a:gdLst/>
            <a:ahLst/>
            <a:rect l="0" t="0" r="r" b="b"/>
            <a:pathLst>
              <a:path fill="none" w="1139" h="976">
                <a:moveTo>
                  <a:pt x="1139" y="976"/>
                </a:moveTo>
                <a:lnTo>
                  <a:pt x="0" y="976"/>
                </a:lnTo>
                <a:lnTo>
                  <a:pt x="0" y="0"/>
                </a:lnTo>
                <a:lnTo>
                  <a:pt x="1139" y="0"/>
                </a:lnTo>
                <a:lnTo>
                  <a:pt x="1139" y="97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576" name=""/>
          <p:cNvSpPr/>
          <p:nvPr/>
        </p:nvSpPr>
        <p:spPr>
          <a:xfrm flipV="1">
            <a:off x="436572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7" name=""/>
          <p:cNvSpPr/>
          <p:nvPr/>
        </p:nvSpPr>
        <p:spPr>
          <a:xfrm flipV="1">
            <a:off x="494820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8" name=""/>
          <p:cNvSpPr/>
          <p:nvPr/>
        </p:nvSpPr>
        <p:spPr>
          <a:xfrm flipV="1">
            <a:off x="3032280" y="3451320"/>
            <a:ext cx="0" cy="387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9" name=""/>
          <p:cNvSpPr/>
          <p:nvPr/>
        </p:nvSpPr>
        <p:spPr>
          <a:xfrm>
            <a:off x="4260960" y="3451320"/>
            <a:ext cx="797040" cy="506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80" name=""/>
          <p:cNvSpPr/>
          <p:nvPr/>
        </p:nvSpPr>
        <p:spPr>
          <a:xfrm flipV="1">
            <a:off x="4122720" y="4087800"/>
            <a:ext cx="0" cy="176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1" name=""/>
          <p:cNvSpPr/>
          <p:nvPr/>
        </p:nvSpPr>
        <p:spPr>
          <a:xfrm flipV="1">
            <a:off x="4365720" y="3909960"/>
            <a:ext cx="0" cy="3621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2" name=""/>
          <p:cNvSpPr/>
          <p:nvPr/>
        </p:nvSpPr>
        <p:spPr>
          <a:xfrm flipV="1">
            <a:off x="4948200" y="3906720"/>
            <a:ext cx="0" cy="365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583" name=""/>
          <p:cNvGrpSpPr/>
          <p:nvPr/>
        </p:nvGrpSpPr>
        <p:grpSpPr>
          <a:xfrm>
            <a:off x="4656240" y="2610000"/>
            <a:ext cx="0" cy="2587320"/>
            <a:chOff x="4656240" y="2610000"/>
            <a:chExt cx="0" cy="2587320"/>
          </a:xfrm>
        </p:grpSpPr>
        <p:sp>
          <p:nvSpPr>
            <p:cNvPr id="8584" name=""/>
            <p:cNvSpPr/>
            <p:nvPr/>
          </p:nvSpPr>
          <p:spPr>
            <a:xfrm flipV="1">
              <a:off x="4656240" y="3878280"/>
              <a:ext cx="0" cy="131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5" name=""/>
            <p:cNvSpPr/>
            <p:nvPr/>
          </p:nvSpPr>
          <p:spPr>
            <a:xfrm flipV="1">
              <a:off x="4656240" y="3652920"/>
              <a:ext cx="0" cy="1299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6" name=""/>
            <p:cNvSpPr/>
            <p:nvPr/>
          </p:nvSpPr>
          <p:spPr>
            <a:xfrm flipV="1">
              <a:off x="4656240" y="2610000"/>
              <a:ext cx="0" cy="952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587" name=""/>
          <p:cNvSpPr/>
          <p:nvPr/>
        </p:nvSpPr>
        <p:spPr>
          <a:xfrm>
            <a:off x="3670200" y="4264200"/>
            <a:ext cx="81360" cy="79560"/>
          </a:xfrm>
          <a:custGeom>
            <a:avLst/>
            <a:gdLst/>
            <a:ahLst/>
            <a:rect l="0" t="0" r="r" b="b"/>
            <a:pathLst>
              <a:path fill="none" w="226" h="221">
                <a:moveTo>
                  <a:pt x="0" y="0"/>
                </a:moveTo>
                <a:lnTo>
                  <a:pt x="0" y="16"/>
                </a:lnTo>
                <a:lnTo>
                  <a:pt x="0" y="32"/>
                </a:lnTo>
                <a:lnTo>
                  <a:pt x="0" y="40"/>
                </a:lnTo>
                <a:lnTo>
                  <a:pt x="8" y="57"/>
                </a:lnTo>
                <a:lnTo>
                  <a:pt x="8" y="73"/>
                </a:lnTo>
                <a:lnTo>
                  <a:pt x="16" y="81"/>
                </a:lnTo>
                <a:lnTo>
                  <a:pt x="16" y="97"/>
                </a:lnTo>
                <a:lnTo>
                  <a:pt x="24" y="106"/>
                </a:lnTo>
                <a:lnTo>
                  <a:pt x="33" y="123"/>
                </a:lnTo>
                <a:lnTo>
                  <a:pt x="41" y="131"/>
                </a:lnTo>
                <a:lnTo>
                  <a:pt x="49" y="147"/>
                </a:lnTo>
                <a:lnTo>
                  <a:pt x="67" y="156"/>
                </a:lnTo>
                <a:lnTo>
                  <a:pt x="75" y="164"/>
                </a:lnTo>
                <a:lnTo>
                  <a:pt x="84" y="172"/>
                </a:lnTo>
                <a:lnTo>
                  <a:pt x="100" y="180"/>
                </a:lnTo>
                <a:lnTo>
                  <a:pt x="109" y="188"/>
                </a:lnTo>
                <a:lnTo>
                  <a:pt x="125" y="196"/>
                </a:lnTo>
                <a:lnTo>
                  <a:pt x="134" y="205"/>
                </a:lnTo>
                <a:lnTo>
                  <a:pt x="150" y="205"/>
                </a:lnTo>
                <a:lnTo>
                  <a:pt x="167" y="213"/>
                </a:lnTo>
                <a:lnTo>
                  <a:pt x="176"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88" name=""/>
          <p:cNvSpPr/>
          <p:nvPr/>
        </p:nvSpPr>
        <p:spPr>
          <a:xfrm flipV="1">
            <a:off x="41860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9" name=""/>
          <p:cNvSpPr/>
          <p:nvPr/>
        </p:nvSpPr>
        <p:spPr>
          <a:xfrm>
            <a:off x="3751200" y="4264200"/>
            <a:ext cx="371880" cy="79560"/>
          </a:xfrm>
          <a:custGeom>
            <a:avLst/>
            <a:gdLst/>
            <a:ahLst/>
            <a:rect l="0" t="0" r="r" b="b"/>
            <a:pathLst>
              <a:path fill="none" w="1033" h="221">
                <a:moveTo>
                  <a:pt x="0" y="221"/>
                </a:moveTo>
                <a:lnTo>
                  <a:pt x="810" y="221"/>
                </a:lnTo>
                <a:lnTo>
                  <a:pt x="827" y="221"/>
                </a:lnTo>
                <a:lnTo>
                  <a:pt x="844" y="221"/>
                </a:lnTo>
                <a:lnTo>
                  <a:pt x="852" y="213"/>
                </a:lnTo>
                <a:lnTo>
                  <a:pt x="868" y="213"/>
                </a:lnTo>
                <a:lnTo>
                  <a:pt x="885" y="205"/>
                </a:lnTo>
                <a:lnTo>
                  <a:pt x="893" y="205"/>
                </a:lnTo>
                <a:lnTo>
                  <a:pt x="910" y="196"/>
                </a:lnTo>
                <a:lnTo>
                  <a:pt x="918" y="188"/>
                </a:lnTo>
                <a:lnTo>
                  <a:pt x="934" y="180"/>
                </a:lnTo>
                <a:lnTo>
                  <a:pt x="943" y="172"/>
                </a:lnTo>
                <a:lnTo>
                  <a:pt x="959" y="164"/>
                </a:lnTo>
                <a:lnTo>
                  <a:pt x="967" y="156"/>
                </a:lnTo>
                <a:lnTo>
                  <a:pt x="976" y="147"/>
                </a:lnTo>
                <a:lnTo>
                  <a:pt x="984" y="131"/>
                </a:lnTo>
                <a:lnTo>
                  <a:pt x="992" y="123"/>
                </a:lnTo>
                <a:lnTo>
                  <a:pt x="1000" y="106"/>
                </a:lnTo>
                <a:lnTo>
                  <a:pt x="1009" y="97"/>
                </a:lnTo>
                <a:lnTo>
                  <a:pt x="1017" y="81"/>
                </a:lnTo>
                <a:lnTo>
                  <a:pt x="1017" y="73"/>
                </a:lnTo>
                <a:lnTo>
                  <a:pt x="1025" y="57"/>
                </a:lnTo>
                <a:lnTo>
                  <a:pt x="1025" y="40"/>
                </a:lnTo>
                <a:lnTo>
                  <a:pt x="1033" y="32"/>
                </a:lnTo>
                <a:lnTo>
                  <a:pt x="1033" y="16"/>
                </a:lnTo>
                <a:lnTo>
                  <a:pt x="1033"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590" name=""/>
          <p:cNvSpPr/>
          <p:nvPr/>
        </p:nvSpPr>
        <p:spPr>
          <a:xfrm>
            <a:off x="2706840" y="3838680"/>
            <a:ext cx="963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1" name=""/>
          <p:cNvSpPr/>
          <p:nvPr/>
        </p:nvSpPr>
        <p:spPr>
          <a:xfrm flipH="1">
            <a:off x="2882880" y="3838680"/>
            <a:ext cx="297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2" name=""/>
          <p:cNvSpPr/>
          <p:nvPr/>
        </p:nvSpPr>
        <p:spPr>
          <a:xfrm>
            <a:off x="3670200" y="3838680"/>
            <a:ext cx="0" cy="4255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3" name=""/>
          <p:cNvSpPr/>
          <p:nvPr/>
        </p:nvSpPr>
        <p:spPr>
          <a:xfrm>
            <a:off x="2390760" y="4157640"/>
            <a:ext cx="0" cy="770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4" name=""/>
          <p:cNvSpPr/>
          <p:nvPr/>
        </p:nvSpPr>
        <p:spPr>
          <a:xfrm>
            <a:off x="4257720" y="3954600"/>
            <a:ext cx="398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5" name=""/>
          <p:cNvSpPr/>
          <p:nvPr/>
        </p:nvSpPr>
        <p:spPr>
          <a:xfrm flipH="1">
            <a:off x="4656240" y="3954600"/>
            <a:ext cx="399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6" name=""/>
          <p:cNvSpPr/>
          <p:nvPr/>
        </p:nvSpPr>
        <p:spPr>
          <a:xfrm flipV="1">
            <a:off x="4127400" y="3951360"/>
            <a:ext cx="133560" cy="135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7" name=""/>
          <p:cNvSpPr/>
          <p:nvPr/>
        </p:nvSpPr>
        <p:spPr>
          <a:xfrm>
            <a:off x="2838600" y="3098880"/>
            <a:ext cx="383040" cy="351360"/>
          </a:xfrm>
          <a:custGeom>
            <a:avLst/>
            <a:gdLst/>
            <a:ahLst/>
            <a:rect l="0" t="0" r="r" b="b"/>
            <a:pathLst>
              <a:path fill="none" w="1064" h="976">
                <a:moveTo>
                  <a:pt x="1064" y="976"/>
                </a:moveTo>
                <a:lnTo>
                  <a:pt x="0" y="976"/>
                </a:lnTo>
                <a:lnTo>
                  <a:pt x="0" y="0"/>
                </a:lnTo>
                <a:lnTo>
                  <a:pt x="1064" y="0"/>
                </a:lnTo>
                <a:lnTo>
                  <a:pt x="1064" y="97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598" name=""/>
          <p:cNvSpPr/>
          <p:nvPr/>
        </p:nvSpPr>
        <p:spPr>
          <a:xfrm>
            <a:off x="4127400" y="4094280"/>
            <a:ext cx="10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9" name=""/>
          <p:cNvSpPr/>
          <p:nvPr/>
        </p:nvSpPr>
        <p:spPr>
          <a:xfrm flipV="1">
            <a:off x="4365720" y="3462480"/>
            <a:ext cx="0" cy="3142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0" name=""/>
          <p:cNvSpPr/>
          <p:nvPr/>
        </p:nvSpPr>
        <p:spPr>
          <a:xfrm flipV="1">
            <a:off x="4948200" y="3465360"/>
            <a:ext cx="0" cy="311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1" name=""/>
          <p:cNvSpPr/>
          <p:nvPr/>
        </p:nvSpPr>
        <p:spPr>
          <a:xfrm flipV="1">
            <a:off x="2390760" y="3841920"/>
            <a:ext cx="33336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2" name=""/>
          <p:cNvSpPr/>
          <p:nvPr/>
        </p:nvSpPr>
        <p:spPr>
          <a:xfrm flipH="1" flipV="1">
            <a:off x="6588000" y="3835440"/>
            <a:ext cx="33336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3" name=""/>
          <p:cNvSpPr txBox="1"/>
          <p:nvPr/>
        </p:nvSpPr>
        <p:spPr>
          <a:xfrm>
            <a:off x="2779560" y="3044880"/>
            <a:ext cx="515880" cy="4795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C</a:t>
            </a:r>
            <a:endParaRPr b="0" lang="en-US" sz="2000" spc="-1" strike="noStrike">
              <a:solidFill>
                <a:srgbClr val="000000"/>
              </a:solidFill>
              <a:latin typeface="Arial"/>
            </a:endParaRPr>
          </a:p>
        </p:txBody>
      </p:sp>
      <p:sp>
        <p:nvSpPr>
          <p:cNvPr id="8604" name=""/>
          <p:cNvSpPr txBox="1"/>
          <p:nvPr/>
        </p:nvSpPr>
        <p:spPr>
          <a:xfrm>
            <a:off x="6019920" y="3051000"/>
            <a:ext cx="530280" cy="4795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
            </a:r>
            <a:endParaRPr b="0" lang="en-US" sz="2000" spc="-1" strike="noStrike">
              <a:solidFill>
                <a:srgbClr val="000000"/>
              </a:solidFill>
              <a:latin typeface="Arial"/>
            </a:endParaRPr>
          </a:p>
        </p:txBody>
      </p:sp>
      <p:sp>
        <p:nvSpPr>
          <p:cNvPr id="8605" name=""/>
          <p:cNvSpPr/>
          <p:nvPr/>
        </p:nvSpPr>
        <p:spPr>
          <a:xfrm>
            <a:off x="3995640" y="4343400"/>
            <a:ext cx="131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606" name=""/>
          <p:cNvGrpSpPr/>
          <p:nvPr/>
        </p:nvGrpSpPr>
        <p:grpSpPr>
          <a:xfrm>
            <a:off x="2290680" y="1501920"/>
            <a:ext cx="1738080" cy="721080"/>
            <a:chOff x="2290680" y="1501920"/>
            <a:chExt cx="1738080" cy="721080"/>
          </a:xfrm>
        </p:grpSpPr>
        <p:sp>
          <p:nvSpPr>
            <p:cNvPr id="8607" name=""/>
            <p:cNvSpPr/>
            <p:nvPr/>
          </p:nvSpPr>
          <p:spPr>
            <a:xfrm>
              <a:off x="2489040" y="1668600"/>
              <a:ext cx="153972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08" name=""/>
            <p:cNvSpPr/>
            <p:nvPr/>
          </p:nvSpPr>
          <p:spPr>
            <a:xfrm>
              <a:off x="2290680" y="1501920"/>
              <a:ext cx="487800" cy="721080"/>
            </a:xfrm>
            <a:custGeom>
              <a:avLst/>
              <a:gdLst/>
              <a:ahLst/>
              <a:rect l="0" t="0" r="r" b="b"/>
              <a:pathLst>
                <a:path w="1355" h="2003">
                  <a:moveTo>
                    <a:pt x="0" y="0"/>
                  </a:moveTo>
                  <a:lnTo>
                    <a:pt x="1355" y="0"/>
                  </a:lnTo>
                  <a:lnTo>
                    <a:pt x="860" y="2003"/>
                  </a:lnTo>
                  <a:lnTo>
                    <a:pt x="30" y="2003"/>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09" name=""/>
            <p:cNvSpPr/>
            <p:nvPr/>
          </p:nvSpPr>
          <p:spPr>
            <a:xfrm>
              <a:off x="3087720" y="166860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0" name=""/>
            <p:cNvSpPr txBox="1"/>
            <p:nvPr/>
          </p:nvSpPr>
          <p:spPr>
            <a:xfrm>
              <a:off x="3195720" y="165888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C - D</a:t>
              </a:r>
              <a:endParaRPr b="0" lang="en-US" sz="2000" spc="-1" strike="noStrike">
                <a:solidFill>
                  <a:srgbClr val="000000"/>
                </a:solidFill>
                <a:latin typeface="Arial"/>
              </a:endParaRPr>
            </a:p>
          </p:txBody>
        </p:sp>
      </p:grpSp>
      <p:sp>
        <p:nvSpPr>
          <p:cNvPr id="8611" name=""/>
          <p:cNvSpPr/>
          <p:nvPr/>
        </p:nvSpPr>
        <p:spPr>
          <a:xfrm>
            <a:off x="2943360" y="3651120"/>
            <a:ext cx="178200" cy="178200"/>
          </a:xfrm>
          <a:custGeom>
            <a:avLst/>
            <a:gdLst/>
            <a:ahLst/>
            <a:rect l="0" t="0" r="r" b="b"/>
            <a:pathLst>
              <a:path w="495" h="495">
                <a:moveTo>
                  <a:pt x="0" y="495"/>
                </a:moveTo>
                <a:lnTo>
                  <a:pt x="495" y="495"/>
                </a:lnTo>
                <a:lnTo>
                  <a:pt x="247" y="0"/>
                </a:lnTo>
                <a:lnTo>
                  <a:pt x="0" y="495"/>
                </a:lnTo>
                <a:close/>
              </a:path>
            </a:pathLst>
          </a:custGeom>
          <a:solidFill>
            <a:srgbClr val="f2fe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2" name=""/>
          <p:cNvSpPr/>
          <p:nvPr/>
        </p:nvSpPr>
        <p:spPr>
          <a:xfrm>
            <a:off x="6184800" y="3648240"/>
            <a:ext cx="178200" cy="178200"/>
          </a:xfrm>
          <a:custGeom>
            <a:avLst/>
            <a:gdLst/>
            <a:ahLst/>
            <a:rect l="0" t="0" r="r" b="b"/>
            <a:pathLst>
              <a:path w="495" h="495">
                <a:moveTo>
                  <a:pt x="0" y="495"/>
                </a:moveTo>
                <a:lnTo>
                  <a:pt x="495" y="495"/>
                </a:lnTo>
                <a:lnTo>
                  <a:pt x="247" y="0"/>
                </a:lnTo>
                <a:lnTo>
                  <a:pt x="0" y="495"/>
                </a:lnTo>
                <a:close/>
              </a:path>
            </a:pathLst>
          </a:custGeom>
          <a:solidFill>
            <a:srgbClr val="f2fe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3" name=""/>
          <p:cNvSpPr txBox="1"/>
          <p:nvPr/>
        </p:nvSpPr>
        <p:spPr>
          <a:xfrm>
            <a:off x="2995560" y="55245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614" name=""/>
          <p:cNvSpPr txBox="1"/>
          <p:nvPr/>
        </p:nvSpPr>
        <p:spPr>
          <a:xfrm>
            <a:off x="4540320" y="1657440"/>
            <a:ext cx="45864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or </a:t>
            </a:r>
            <a:endParaRPr b="0" lang="en-US" sz="2000" spc="-1" strike="noStrike">
              <a:solidFill>
                <a:srgbClr val="000000"/>
              </a:solidFill>
              <a:latin typeface="Arial"/>
            </a:endParaRPr>
          </a:p>
        </p:txBody>
      </p:sp>
      <p:grpSp>
        <p:nvGrpSpPr>
          <p:cNvPr id="8615" name=""/>
          <p:cNvGrpSpPr/>
          <p:nvPr/>
        </p:nvGrpSpPr>
        <p:grpSpPr>
          <a:xfrm>
            <a:off x="4997520" y="1531800"/>
            <a:ext cx="1738080" cy="721080"/>
            <a:chOff x="4997520" y="1531800"/>
            <a:chExt cx="1738080" cy="721080"/>
          </a:xfrm>
        </p:grpSpPr>
        <p:sp>
          <p:nvSpPr>
            <p:cNvPr id="8616" name=""/>
            <p:cNvSpPr/>
            <p:nvPr/>
          </p:nvSpPr>
          <p:spPr>
            <a:xfrm>
              <a:off x="5195880" y="1698480"/>
              <a:ext cx="153972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17" name=""/>
            <p:cNvSpPr/>
            <p:nvPr/>
          </p:nvSpPr>
          <p:spPr>
            <a:xfrm>
              <a:off x="4997520" y="1531800"/>
              <a:ext cx="487800" cy="721080"/>
            </a:xfrm>
            <a:custGeom>
              <a:avLst/>
              <a:gdLst/>
              <a:ahLst/>
              <a:rect l="0" t="0" r="r" b="b"/>
              <a:pathLst>
                <a:path w="1355" h="2003">
                  <a:moveTo>
                    <a:pt x="0" y="0"/>
                  </a:moveTo>
                  <a:lnTo>
                    <a:pt x="1355" y="0"/>
                  </a:lnTo>
                  <a:lnTo>
                    <a:pt x="860" y="2003"/>
                  </a:lnTo>
                  <a:lnTo>
                    <a:pt x="30" y="2003"/>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18" name=""/>
            <p:cNvSpPr/>
            <p:nvPr/>
          </p:nvSpPr>
          <p:spPr>
            <a:xfrm>
              <a:off x="5794200" y="169848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9" name=""/>
            <p:cNvSpPr txBox="1"/>
            <p:nvPr/>
          </p:nvSpPr>
          <p:spPr>
            <a:xfrm>
              <a:off x="5902200" y="168912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 - 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620" name=""/>
          <p:cNvSpPr/>
          <p:nvPr/>
        </p:nvSpPr>
        <p:spPr>
          <a:xfrm>
            <a:off x="4186080" y="4705200"/>
            <a:ext cx="16992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1" name=""/>
          <p:cNvSpPr/>
          <p:nvPr/>
        </p:nvSpPr>
        <p:spPr>
          <a:xfrm>
            <a:off x="4484520" y="4705200"/>
            <a:ext cx="341280" cy="0"/>
          </a:xfrm>
          <a:custGeom>
            <a:avLst/>
            <a:gdLst/>
            <a:ahLst/>
            <a:rect l="0" t="0" r="r" b="b"/>
            <a:pathLst>
              <a:path fill="none" w="948" h="0">
                <a:moveTo>
                  <a:pt x="0" y="0"/>
                </a:moveTo>
                <a:lnTo>
                  <a:pt x="478" y="0"/>
                </a:lnTo>
                <a:lnTo>
                  <a:pt x="948" y="0"/>
                </a:lnTo>
              </a:path>
            </a:pathLst>
          </a:custGeom>
          <a:ln w="12600">
            <a:solidFill>
              <a:srgbClr val="f2fefd"/>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622" name=""/>
          <p:cNvSpPr/>
          <p:nvPr/>
        </p:nvSpPr>
        <p:spPr>
          <a:xfrm>
            <a:off x="4956120" y="4705200"/>
            <a:ext cx="17136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3" name=""/>
          <p:cNvSpPr/>
          <p:nvPr/>
        </p:nvSpPr>
        <p:spPr>
          <a:xfrm>
            <a:off x="2390760" y="4927680"/>
            <a:ext cx="4530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4" name=""/>
          <p:cNvSpPr/>
          <p:nvPr/>
        </p:nvSpPr>
        <p:spPr>
          <a:xfrm flipH="1" flipV="1">
            <a:off x="5046840" y="3948120"/>
            <a:ext cx="134640" cy="133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5" name=""/>
          <p:cNvSpPr/>
          <p:nvPr/>
        </p:nvSpPr>
        <p:spPr>
          <a:xfrm flipV="1">
            <a:off x="5189400" y="4094280"/>
            <a:ext cx="0" cy="169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6" name=""/>
          <p:cNvSpPr/>
          <p:nvPr/>
        </p:nvSpPr>
        <p:spPr>
          <a:xfrm>
            <a:off x="6921360" y="4168800"/>
            <a:ext cx="0" cy="758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7" name=""/>
          <p:cNvSpPr/>
          <p:nvPr/>
        </p:nvSpPr>
        <p:spPr>
          <a:xfrm flipV="1">
            <a:off x="51274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8" name=""/>
          <p:cNvSpPr/>
          <p:nvPr/>
        </p:nvSpPr>
        <p:spPr>
          <a:xfrm flipH="1">
            <a:off x="5270400" y="4343400"/>
            <a:ext cx="290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9" name=""/>
          <p:cNvSpPr/>
          <p:nvPr/>
        </p:nvSpPr>
        <p:spPr>
          <a:xfrm>
            <a:off x="5560920" y="4264200"/>
            <a:ext cx="81360" cy="79560"/>
          </a:xfrm>
          <a:custGeom>
            <a:avLst/>
            <a:gdLst/>
            <a:ahLst/>
            <a:rect l="0" t="0" r="r" b="b"/>
            <a:pathLst>
              <a:path fill="none" w="226" h="221">
                <a:moveTo>
                  <a:pt x="0" y="221"/>
                </a:moveTo>
                <a:lnTo>
                  <a:pt x="16" y="221"/>
                </a:lnTo>
                <a:lnTo>
                  <a:pt x="33" y="221"/>
                </a:lnTo>
                <a:lnTo>
                  <a:pt x="49" y="213"/>
                </a:lnTo>
                <a:lnTo>
                  <a:pt x="59" y="213"/>
                </a:lnTo>
                <a:lnTo>
                  <a:pt x="75" y="205"/>
                </a:lnTo>
                <a:lnTo>
                  <a:pt x="92" y="205"/>
                </a:lnTo>
                <a:lnTo>
                  <a:pt x="100" y="196"/>
                </a:lnTo>
                <a:lnTo>
                  <a:pt x="117" y="188"/>
                </a:lnTo>
                <a:lnTo>
                  <a:pt x="125" y="180"/>
                </a:lnTo>
                <a:lnTo>
                  <a:pt x="142" y="172"/>
                </a:lnTo>
                <a:lnTo>
                  <a:pt x="150" y="164"/>
                </a:lnTo>
                <a:lnTo>
                  <a:pt x="159" y="156"/>
                </a:lnTo>
                <a:lnTo>
                  <a:pt x="176" y="147"/>
                </a:lnTo>
                <a:lnTo>
                  <a:pt x="185" y="131"/>
                </a:lnTo>
                <a:lnTo>
                  <a:pt x="193" y="123"/>
                </a:lnTo>
                <a:lnTo>
                  <a:pt x="201" y="106"/>
                </a:lnTo>
                <a:lnTo>
                  <a:pt x="210" y="97"/>
                </a:lnTo>
                <a:lnTo>
                  <a:pt x="210" y="81"/>
                </a:lnTo>
                <a:lnTo>
                  <a:pt x="218" y="73"/>
                </a:lnTo>
                <a:lnTo>
                  <a:pt x="218" y="57"/>
                </a:lnTo>
                <a:lnTo>
                  <a:pt x="226" y="40"/>
                </a:lnTo>
                <a:lnTo>
                  <a:pt x="226" y="32"/>
                </a:lnTo>
                <a:lnTo>
                  <a:pt x="226" y="16"/>
                </a:lnTo>
                <a:lnTo>
                  <a:pt x="226"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30" name=""/>
          <p:cNvSpPr/>
          <p:nvPr/>
        </p:nvSpPr>
        <p:spPr>
          <a:xfrm>
            <a:off x="5641920" y="3862440"/>
            <a:ext cx="0" cy="401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1" name=""/>
          <p:cNvSpPr/>
          <p:nvPr/>
        </p:nvSpPr>
        <p:spPr>
          <a:xfrm>
            <a:off x="5189400" y="4264200"/>
            <a:ext cx="81360" cy="79560"/>
          </a:xfrm>
          <a:custGeom>
            <a:avLst/>
            <a:gdLst/>
            <a:ahLst/>
            <a:rect l="0" t="0" r="r" b="b"/>
            <a:pathLst>
              <a:path fill="none" w="226" h="221">
                <a:moveTo>
                  <a:pt x="0" y="0"/>
                </a:moveTo>
                <a:lnTo>
                  <a:pt x="0" y="16"/>
                </a:lnTo>
                <a:lnTo>
                  <a:pt x="0" y="32"/>
                </a:lnTo>
                <a:lnTo>
                  <a:pt x="8" y="40"/>
                </a:lnTo>
                <a:lnTo>
                  <a:pt x="8" y="57"/>
                </a:lnTo>
                <a:lnTo>
                  <a:pt x="8" y="73"/>
                </a:lnTo>
                <a:lnTo>
                  <a:pt x="16" y="81"/>
                </a:lnTo>
                <a:lnTo>
                  <a:pt x="24" y="97"/>
                </a:lnTo>
                <a:lnTo>
                  <a:pt x="33" y="106"/>
                </a:lnTo>
                <a:lnTo>
                  <a:pt x="41" y="123"/>
                </a:lnTo>
                <a:lnTo>
                  <a:pt x="49" y="131"/>
                </a:lnTo>
                <a:lnTo>
                  <a:pt x="59" y="147"/>
                </a:lnTo>
                <a:lnTo>
                  <a:pt x="67" y="156"/>
                </a:lnTo>
                <a:lnTo>
                  <a:pt x="75" y="164"/>
                </a:lnTo>
                <a:lnTo>
                  <a:pt x="92" y="172"/>
                </a:lnTo>
                <a:lnTo>
                  <a:pt x="100" y="180"/>
                </a:lnTo>
                <a:lnTo>
                  <a:pt x="117" y="188"/>
                </a:lnTo>
                <a:lnTo>
                  <a:pt x="125" y="196"/>
                </a:lnTo>
                <a:lnTo>
                  <a:pt x="142" y="205"/>
                </a:lnTo>
                <a:lnTo>
                  <a:pt x="150" y="205"/>
                </a:lnTo>
                <a:lnTo>
                  <a:pt x="167" y="213"/>
                </a:lnTo>
                <a:lnTo>
                  <a:pt x="185"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32" name=""/>
          <p:cNvSpPr/>
          <p:nvPr/>
        </p:nvSpPr>
        <p:spPr>
          <a:xfrm flipV="1">
            <a:off x="436572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3" name=""/>
          <p:cNvSpPr/>
          <p:nvPr/>
        </p:nvSpPr>
        <p:spPr>
          <a:xfrm flipV="1">
            <a:off x="494820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4" name=""/>
          <p:cNvSpPr/>
          <p:nvPr/>
        </p:nvSpPr>
        <p:spPr>
          <a:xfrm>
            <a:off x="4260960" y="3451320"/>
            <a:ext cx="797040" cy="506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35" name=""/>
          <p:cNvSpPr/>
          <p:nvPr/>
        </p:nvSpPr>
        <p:spPr>
          <a:xfrm flipV="1">
            <a:off x="4122720" y="4087800"/>
            <a:ext cx="0" cy="176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6" name=""/>
          <p:cNvSpPr/>
          <p:nvPr/>
        </p:nvSpPr>
        <p:spPr>
          <a:xfrm flipV="1">
            <a:off x="4365720" y="3909960"/>
            <a:ext cx="0" cy="3621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7" name=""/>
          <p:cNvSpPr/>
          <p:nvPr/>
        </p:nvSpPr>
        <p:spPr>
          <a:xfrm flipV="1">
            <a:off x="4948200" y="3906720"/>
            <a:ext cx="0" cy="365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638" name=""/>
          <p:cNvGrpSpPr/>
          <p:nvPr/>
        </p:nvGrpSpPr>
        <p:grpSpPr>
          <a:xfrm>
            <a:off x="4656240" y="2610000"/>
            <a:ext cx="0" cy="2587320"/>
            <a:chOff x="4656240" y="2610000"/>
            <a:chExt cx="0" cy="2587320"/>
          </a:xfrm>
        </p:grpSpPr>
        <p:sp>
          <p:nvSpPr>
            <p:cNvPr id="8639" name=""/>
            <p:cNvSpPr/>
            <p:nvPr/>
          </p:nvSpPr>
          <p:spPr>
            <a:xfrm flipV="1">
              <a:off x="4656240" y="3878280"/>
              <a:ext cx="0" cy="131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0" name=""/>
            <p:cNvSpPr/>
            <p:nvPr/>
          </p:nvSpPr>
          <p:spPr>
            <a:xfrm flipV="1">
              <a:off x="4656240" y="3652920"/>
              <a:ext cx="0" cy="1299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1" name=""/>
            <p:cNvSpPr/>
            <p:nvPr/>
          </p:nvSpPr>
          <p:spPr>
            <a:xfrm flipV="1">
              <a:off x="4656240" y="2610000"/>
              <a:ext cx="0" cy="952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42" name=""/>
          <p:cNvSpPr/>
          <p:nvPr/>
        </p:nvSpPr>
        <p:spPr>
          <a:xfrm>
            <a:off x="3670200" y="4264200"/>
            <a:ext cx="81360" cy="79560"/>
          </a:xfrm>
          <a:custGeom>
            <a:avLst/>
            <a:gdLst/>
            <a:ahLst/>
            <a:rect l="0" t="0" r="r" b="b"/>
            <a:pathLst>
              <a:path fill="none" w="226" h="221">
                <a:moveTo>
                  <a:pt x="0" y="0"/>
                </a:moveTo>
                <a:lnTo>
                  <a:pt x="0" y="16"/>
                </a:lnTo>
                <a:lnTo>
                  <a:pt x="0" y="32"/>
                </a:lnTo>
                <a:lnTo>
                  <a:pt x="0" y="40"/>
                </a:lnTo>
                <a:lnTo>
                  <a:pt x="8" y="57"/>
                </a:lnTo>
                <a:lnTo>
                  <a:pt x="8" y="73"/>
                </a:lnTo>
                <a:lnTo>
                  <a:pt x="16" y="81"/>
                </a:lnTo>
                <a:lnTo>
                  <a:pt x="16" y="97"/>
                </a:lnTo>
                <a:lnTo>
                  <a:pt x="24" y="106"/>
                </a:lnTo>
                <a:lnTo>
                  <a:pt x="33" y="123"/>
                </a:lnTo>
                <a:lnTo>
                  <a:pt x="41" y="131"/>
                </a:lnTo>
                <a:lnTo>
                  <a:pt x="49" y="147"/>
                </a:lnTo>
                <a:lnTo>
                  <a:pt x="67" y="156"/>
                </a:lnTo>
                <a:lnTo>
                  <a:pt x="75" y="164"/>
                </a:lnTo>
                <a:lnTo>
                  <a:pt x="84" y="172"/>
                </a:lnTo>
                <a:lnTo>
                  <a:pt x="100" y="180"/>
                </a:lnTo>
                <a:lnTo>
                  <a:pt x="109" y="188"/>
                </a:lnTo>
                <a:lnTo>
                  <a:pt x="125" y="196"/>
                </a:lnTo>
                <a:lnTo>
                  <a:pt x="134" y="205"/>
                </a:lnTo>
                <a:lnTo>
                  <a:pt x="150" y="205"/>
                </a:lnTo>
                <a:lnTo>
                  <a:pt x="167" y="213"/>
                </a:lnTo>
                <a:lnTo>
                  <a:pt x="176"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43" name=""/>
          <p:cNvSpPr/>
          <p:nvPr/>
        </p:nvSpPr>
        <p:spPr>
          <a:xfrm flipV="1">
            <a:off x="41860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4" name=""/>
          <p:cNvSpPr/>
          <p:nvPr/>
        </p:nvSpPr>
        <p:spPr>
          <a:xfrm>
            <a:off x="3751200" y="4264200"/>
            <a:ext cx="371880" cy="79560"/>
          </a:xfrm>
          <a:custGeom>
            <a:avLst/>
            <a:gdLst/>
            <a:ahLst/>
            <a:rect l="0" t="0" r="r" b="b"/>
            <a:pathLst>
              <a:path fill="none" w="1033" h="221">
                <a:moveTo>
                  <a:pt x="0" y="221"/>
                </a:moveTo>
                <a:lnTo>
                  <a:pt x="810" y="221"/>
                </a:lnTo>
                <a:lnTo>
                  <a:pt x="827" y="221"/>
                </a:lnTo>
                <a:lnTo>
                  <a:pt x="844" y="221"/>
                </a:lnTo>
                <a:lnTo>
                  <a:pt x="852" y="213"/>
                </a:lnTo>
                <a:lnTo>
                  <a:pt x="868" y="213"/>
                </a:lnTo>
                <a:lnTo>
                  <a:pt x="885" y="205"/>
                </a:lnTo>
                <a:lnTo>
                  <a:pt x="893" y="205"/>
                </a:lnTo>
                <a:lnTo>
                  <a:pt x="910" y="196"/>
                </a:lnTo>
                <a:lnTo>
                  <a:pt x="918" y="188"/>
                </a:lnTo>
                <a:lnTo>
                  <a:pt x="934" y="180"/>
                </a:lnTo>
                <a:lnTo>
                  <a:pt x="943" y="172"/>
                </a:lnTo>
                <a:lnTo>
                  <a:pt x="959" y="164"/>
                </a:lnTo>
                <a:lnTo>
                  <a:pt x="967" y="156"/>
                </a:lnTo>
                <a:lnTo>
                  <a:pt x="976" y="147"/>
                </a:lnTo>
                <a:lnTo>
                  <a:pt x="984" y="131"/>
                </a:lnTo>
                <a:lnTo>
                  <a:pt x="992" y="123"/>
                </a:lnTo>
                <a:lnTo>
                  <a:pt x="1000" y="106"/>
                </a:lnTo>
                <a:lnTo>
                  <a:pt x="1009" y="97"/>
                </a:lnTo>
                <a:lnTo>
                  <a:pt x="1017" y="81"/>
                </a:lnTo>
                <a:lnTo>
                  <a:pt x="1017" y="73"/>
                </a:lnTo>
                <a:lnTo>
                  <a:pt x="1025" y="57"/>
                </a:lnTo>
                <a:lnTo>
                  <a:pt x="1025" y="40"/>
                </a:lnTo>
                <a:lnTo>
                  <a:pt x="1033" y="32"/>
                </a:lnTo>
                <a:lnTo>
                  <a:pt x="1033" y="16"/>
                </a:lnTo>
                <a:lnTo>
                  <a:pt x="1033"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45" name=""/>
          <p:cNvSpPr/>
          <p:nvPr/>
        </p:nvSpPr>
        <p:spPr>
          <a:xfrm>
            <a:off x="3670200" y="3909960"/>
            <a:ext cx="0" cy="354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6" name=""/>
          <p:cNvSpPr/>
          <p:nvPr/>
        </p:nvSpPr>
        <p:spPr>
          <a:xfrm>
            <a:off x="2390760" y="4175280"/>
            <a:ext cx="0" cy="752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7" name=""/>
          <p:cNvSpPr/>
          <p:nvPr/>
        </p:nvSpPr>
        <p:spPr>
          <a:xfrm>
            <a:off x="4257720" y="3954600"/>
            <a:ext cx="398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8" name=""/>
          <p:cNvSpPr/>
          <p:nvPr/>
        </p:nvSpPr>
        <p:spPr>
          <a:xfrm flipH="1">
            <a:off x="4656240" y="3954600"/>
            <a:ext cx="399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9" name=""/>
          <p:cNvSpPr/>
          <p:nvPr/>
        </p:nvSpPr>
        <p:spPr>
          <a:xfrm flipV="1">
            <a:off x="4127400" y="3951360"/>
            <a:ext cx="133560" cy="135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0" name=""/>
          <p:cNvSpPr/>
          <p:nvPr/>
        </p:nvSpPr>
        <p:spPr>
          <a:xfrm>
            <a:off x="4127400" y="4094280"/>
            <a:ext cx="10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1" name=""/>
          <p:cNvSpPr/>
          <p:nvPr/>
        </p:nvSpPr>
        <p:spPr>
          <a:xfrm flipV="1">
            <a:off x="4365720" y="3462480"/>
            <a:ext cx="0" cy="3142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2" name=""/>
          <p:cNvSpPr/>
          <p:nvPr/>
        </p:nvSpPr>
        <p:spPr>
          <a:xfrm flipV="1">
            <a:off x="4948200" y="3465360"/>
            <a:ext cx="0" cy="311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3" name=""/>
          <p:cNvSpPr/>
          <p:nvPr/>
        </p:nvSpPr>
        <p:spPr>
          <a:xfrm flipV="1">
            <a:off x="2390760" y="393876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4" name=""/>
          <p:cNvSpPr/>
          <p:nvPr/>
        </p:nvSpPr>
        <p:spPr>
          <a:xfrm flipH="1" flipV="1">
            <a:off x="6588000" y="3835440"/>
            <a:ext cx="33336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5" name=""/>
          <p:cNvSpPr/>
          <p:nvPr/>
        </p:nvSpPr>
        <p:spPr>
          <a:xfrm>
            <a:off x="3995640" y="4343400"/>
            <a:ext cx="131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6" name=""/>
          <p:cNvSpPr/>
          <p:nvPr/>
        </p:nvSpPr>
        <p:spPr>
          <a:xfrm>
            <a:off x="2625840" y="3909960"/>
            <a:ext cx="1046520" cy="73440"/>
          </a:xfrm>
          <a:custGeom>
            <a:avLst/>
            <a:gdLst/>
            <a:ahLst/>
            <a:rect l="0" t="0" r="r" b="b"/>
            <a:pathLst>
              <a:path fill="none" w="2907" h="204">
                <a:moveTo>
                  <a:pt x="0" y="80"/>
                </a:moveTo>
                <a:lnTo>
                  <a:pt x="299" y="173"/>
                </a:lnTo>
                <a:lnTo>
                  <a:pt x="392" y="204"/>
                </a:lnTo>
                <a:lnTo>
                  <a:pt x="608" y="204"/>
                </a:lnTo>
                <a:lnTo>
                  <a:pt x="701" y="204"/>
                </a:lnTo>
                <a:lnTo>
                  <a:pt x="851" y="173"/>
                </a:lnTo>
                <a:lnTo>
                  <a:pt x="943" y="142"/>
                </a:lnTo>
                <a:lnTo>
                  <a:pt x="1084" y="48"/>
                </a:lnTo>
                <a:lnTo>
                  <a:pt x="1172" y="48"/>
                </a:lnTo>
                <a:lnTo>
                  <a:pt x="1252" y="111"/>
                </a:lnTo>
                <a:lnTo>
                  <a:pt x="1344" y="173"/>
                </a:lnTo>
                <a:lnTo>
                  <a:pt x="1500" y="173"/>
                </a:lnTo>
                <a:lnTo>
                  <a:pt x="1654" y="173"/>
                </a:lnTo>
                <a:lnTo>
                  <a:pt x="1747" y="173"/>
                </a:lnTo>
                <a:lnTo>
                  <a:pt x="1839" y="142"/>
                </a:lnTo>
                <a:lnTo>
                  <a:pt x="1963" y="142"/>
                </a:lnTo>
                <a:lnTo>
                  <a:pt x="2055" y="142"/>
                </a:lnTo>
                <a:lnTo>
                  <a:pt x="2139" y="106"/>
                </a:lnTo>
                <a:lnTo>
                  <a:pt x="2219" y="102"/>
                </a:lnTo>
                <a:lnTo>
                  <a:pt x="2329" y="48"/>
                </a:lnTo>
                <a:lnTo>
                  <a:pt x="2452" y="17"/>
                </a:lnTo>
                <a:lnTo>
                  <a:pt x="2545" y="17"/>
                </a:lnTo>
                <a:lnTo>
                  <a:pt x="2682" y="22"/>
                </a:lnTo>
                <a:lnTo>
                  <a:pt x="2765" y="0"/>
                </a:lnTo>
                <a:lnTo>
                  <a:pt x="2907" y="8"/>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8657" name=""/>
          <p:cNvSpPr/>
          <p:nvPr/>
        </p:nvSpPr>
        <p:spPr>
          <a:xfrm>
            <a:off x="5641920" y="3798720"/>
            <a:ext cx="949680" cy="62280"/>
          </a:xfrm>
          <a:custGeom>
            <a:avLst/>
            <a:gdLst/>
            <a:ahLst/>
            <a:rect l="0" t="0" r="r" b="b"/>
            <a:pathLst>
              <a:path fill="none" w="2638" h="173">
                <a:moveTo>
                  <a:pt x="0" y="173"/>
                </a:moveTo>
                <a:lnTo>
                  <a:pt x="92" y="143"/>
                </a:lnTo>
                <a:lnTo>
                  <a:pt x="216" y="143"/>
                </a:lnTo>
                <a:lnTo>
                  <a:pt x="335" y="173"/>
                </a:lnTo>
                <a:lnTo>
                  <a:pt x="458" y="173"/>
                </a:lnTo>
                <a:lnTo>
                  <a:pt x="551" y="143"/>
                </a:lnTo>
                <a:lnTo>
                  <a:pt x="643" y="111"/>
                </a:lnTo>
                <a:lnTo>
                  <a:pt x="798" y="80"/>
                </a:lnTo>
                <a:lnTo>
                  <a:pt x="890" y="49"/>
                </a:lnTo>
                <a:lnTo>
                  <a:pt x="996" y="39"/>
                </a:lnTo>
                <a:lnTo>
                  <a:pt x="1089" y="58"/>
                </a:lnTo>
                <a:lnTo>
                  <a:pt x="1230" y="80"/>
                </a:lnTo>
                <a:lnTo>
                  <a:pt x="1385" y="111"/>
                </a:lnTo>
                <a:lnTo>
                  <a:pt x="1539" y="80"/>
                </a:lnTo>
                <a:lnTo>
                  <a:pt x="1689" y="17"/>
                </a:lnTo>
                <a:lnTo>
                  <a:pt x="1906" y="17"/>
                </a:lnTo>
                <a:lnTo>
                  <a:pt x="1998" y="17"/>
                </a:lnTo>
                <a:lnTo>
                  <a:pt x="2091" y="4"/>
                </a:lnTo>
                <a:lnTo>
                  <a:pt x="2170" y="4"/>
                </a:lnTo>
                <a:lnTo>
                  <a:pt x="2249" y="58"/>
                </a:lnTo>
                <a:lnTo>
                  <a:pt x="2346" y="17"/>
                </a:lnTo>
                <a:lnTo>
                  <a:pt x="2461" y="0"/>
                </a:lnTo>
                <a:lnTo>
                  <a:pt x="2638" y="120"/>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8658" name=""/>
          <p:cNvSpPr txBox="1"/>
          <p:nvPr/>
        </p:nvSpPr>
        <p:spPr>
          <a:xfrm>
            <a:off x="3073320" y="5413320"/>
            <a:ext cx="32385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POSSIBLE INTERPRETATION</a:t>
            </a:r>
            <a:endParaRPr b="0" lang="en-US" sz="1800" spc="-1" strike="noStrike">
              <a:solidFill>
                <a:srgbClr val="000000"/>
              </a:solidFill>
              <a:latin typeface="Arial"/>
            </a:endParaRPr>
          </a:p>
        </p:txBody>
      </p:sp>
      <p:grpSp>
        <p:nvGrpSpPr>
          <p:cNvPr id="8659" name=""/>
          <p:cNvGrpSpPr/>
          <p:nvPr/>
        </p:nvGrpSpPr>
        <p:grpSpPr>
          <a:xfrm>
            <a:off x="2290680" y="1501920"/>
            <a:ext cx="1738080" cy="721080"/>
            <a:chOff x="2290680" y="1501920"/>
            <a:chExt cx="1738080" cy="721080"/>
          </a:xfrm>
        </p:grpSpPr>
        <p:sp>
          <p:nvSpPr>
            <p:cNvPr id="8660" name=""/>
            <p:cNvSpPr/>
            <p:nvPr/>
          </p:nvSpPr>
          <p:spPr>
            <a:xfrm>
              <a:off x="2489040" y="1668600"/>
              <a:ext cx="153972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61" name=""/>
            <p:cNvSpPr/>
            <p:nvPr/>
          </p:nvSpPr>
          <p:spPr>
            <a:xfrm>
              <a:off x="2290680" y="1501920"/>
              <a:ext cx="487800" cy="721080"/>
            </a:xfrm>
            <a:custGeom>
              <a:avLst/>
              <a:gdLst/>
              <a:ahLst/>
              <a:rect l="0" t="0" r="r" b="b"/>
              <a:pathLst>
                <a:path w="1355" h="2003">
                  <a:moveTo>
                    <a:pt x="0" y="0"/>
                  </a:moveTo>
                  <a:lnTo>
                    <a:pt x="1355" y="0"/>
                  </a:lnTo>
                  <a:lnTo>
                    <a:pt x="860" y="2003"/>
                  </a:lnTo>
                  <a:lnTo>
                    <a:pt x="30" y="2003"/>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2" name=""/>
            <p:cNvSpPr/>
            <p:nvPr/>
          </p:nvSpPr>
          <p:spPr>
            <a:xfrm>
              <a:off x="3087720" y="166860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3" name=""/>
            <p:cNvSpPr txBox="1"/>
            <p:nvPr/>
          </p:nvSpPr>
          <p:spPr>
            <a:xfrm>
              <a:off x="3195720" y="165888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C - D</a:t>
              </a:r>
              <a:endParaRPr b="0" lang="en-US" sz="2000" spc="-1" strike="noStrike">
                <a:solidFill>
                  <a:srgbClr val="000000"/>
                </a:solidFill>
                <a:latin typeface="Arial"/>
              </a:endParaRPr>
            </a:p>
          </p:txBody>
        </p:sp>
      </p:grpSp>
      <p:sp>
        <p:nvSpPr>
          <p:cNvPr id="8664" name=""/>
          <p:cNvSpPr txBox="1"/>
          <p:nvPr/>
        </p:nvSpPr>
        <p:spPr>
          <a:xfrm>
            <a:off x="4540320" y="1657440"/>
            <a:ext cx="45864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or </a:t>
            </a:r>
            <a:endParaRPr b="0" lang="en-US" sz="2000" spc="-1" strike="noStrike">
              <a:solidFill>
                <a:srgbClr val="000000"/>
              </a:solidFill>
              <a:latin typeface="Arial"/>
            </a:endParaRPr>
          </a:p>
        </p:txBody>
      </p:sp>
      <p:grpSp>
        <p:nvGrpSpPr>
          <p:cNvPr id="8665" name=""/>
          <p:cNvGrpSpPr/>
          <p:nvPr/>
        </p:nvGrpSpPr>
        <p:grpSpPr>
          <a:xfrm>
            <a:off x="4997520" y="1531800"/>
            <a:ext cx="1738080" cy="721080"/>
            <a:chOff x="4997520" y="1531800"/>
            <a:chExt cx="1738080" cy="721080"/>
          </a:xfrm>
        </p:grpSpPr>
        <p:sp>
          <p:nvSpPr>
            <p:cNvPr id="8666" name=""/>
            <p:cNvSpPr/>
            <p:nvPr/>
          </p:nvSpPr>
          <p:spPr>
            <a:xfrm>
              <a:off x="5195880" y="1698480"/>
              <a:ext cx="153972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67" name=""/>
            <p:cNvSpPr/>
            <p:nvPr/>
          </p:nvSpPr>
          <p:spPr>
            <a:xfrm>
              <a:off x="4997520" y="1531800"/>
              <a:ext cx="487800" cy="721080"/>
            </a:xfrm>
            <a:custGeom>
              <a:avLst/>
              <a:gdLst/>
              <a:ahLst/>
              <a:rect l="0" t="0" r="r" b="b"/>
              <a:pathLst>
                <a:path w="1355" h="2003">
                  <a:moveTo>
                    <a:pt x="0" y="0"/>
                  </a:moveTo>
                  <a:lnTo>
                    <a:pt x="1355" y="0"/>
                  </a:lnTo>
                  <a:lnTo>
                    <a:pt x="860" y="2003"/>
                  </a:lnTo>
                  <a:lnTo>
                    <a:pt x="30" y="2003"/>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68" name=""/>
            <p:cNvSpPr/>
            <p:nvPr/>
          </p:nvSpPr>
          <p:spPr>
            <a:xfrm>
              <a:off x="5794200" y="169848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9" name=""/>
            <p:cNvSpPr txBox="1"/>
            <p:nvPr/>
          </p:nvSpPr>
          <p:spPr>
            <a:xfrm>
              <a:off x="5902200" y="168912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 - C</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670" name=""/>
          <p:cNvSpPr/>
          <p:nvPr/>
        </p:nvSpPr>
        <p:spPr>
          <a:xfrm>
            <a:off x="4186080" y="4705200"/>
            <a:ext cx="16992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1" name=""/>
          <p:cNvSpPr/>
          <p:nvPr/>
        </p:nvSpPr>
        <p:spPr>
          <a:xfrm>
            <a:off x="4484520" y="4705200"/>
            <a:ext cx="341280" cy="0"/>
          </a:xfrm>
          <a:custGeom>
            <a:avLst/>
            <a:gdLst/>
            <a:ahLst/>
            <a:rect l="0" t="0" r="r" b="b"/>
            <a:pathLst>
              <a:path fill="none" w="948" h="0">
                <a:moveTo>
                  <a:pt x="0" y="0"/>
                </a:moveTo>
                <a:lnTo>
                  <a:pt x="478" y="0"/>
                </a:lnTo>
                <a:lnTo>
                  <a:pt x="948" y="0"/>
                </a:lnTo>
              </a:path>
            </a:pathLst>
          </a:custGeom>
          <a:ln w="12600">
            <a:solidFill>
              <a:srgbClr val="f2fefd"/>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8672" name=""/>
          <p:cNvSpPr/>
          <p:nvPr/>
        </p:nvSpPr>
        <p:spPr>
          <a:xfrm>
            <a:off x="4956120" y="4705200"/>
            <a:ext cx="171360" cy="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3" name=""/>
          <p:cNvSpPr/>
          <p:nvPr/>
        </p:nvSpPr>
        <p:spPr>
          <a:xfrm>
            <a:off x="2390760" y="4927680"/>
            <a:ext cx="4530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4" name=""/>
          <p:cNvSpPr/>
          <p:nvPr/>
        </p:nvSpPr>
        <p:spPr>
          <a:xfrm flipH="1" flipV="1">
            <a:off x="5046840" y="3948120"/>
            <a:ext cx="134640" cy="133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5" name=""/>
          <p:cNvSpPr/>
          <p:nvPr/>
        </p:nvSpPr>
        <p:spPr>
          <a:xfrm flipV="1">
            <a:off x="5189400" y="4094280"/>
            <a:ext cx="0" cy="169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6" name=""/>
          <p:cNvSpPr/>
          <p:nvPr/>
        </p:nvSpPr>
        <p:spPr>
          <a:xfrm>
            <a:off x="6921360" y="4168800"/>
            <a:ext cx="0" cy="758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7" name=""/>
          <p:cNvSpPr/>
          <p:nvPr/>
        </p:nvSpPr>
        <p:spPr>
          <a:xfrm flipV="1">
            <a:off x="51274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8" name=""/>
          <p:cNvSpPr/>
          <p:nvPr/>
        </p:nvSpPr>
        <p:spPr>
          <a:xfrm flipH="1">
            <a:off x="5270400" y="4343400"/>
            <a:ext cx="290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9" name=""/>
          <p:cNvSpPr/>
          <p:nvPr/>
        </p:nvSpPr>
        <p:spPr>
          <a:xfrm>
            <a:off x="5560920" y="4264200"/>
            <a:ext cx="81360" cy="79560"/>
          </a:xfrm>
          <a:custGeom>
            <a:avLst/>
            <a:gdLst/>
            <a:ahLst/>
            <a:rect l="0" t="0" r="r" b="b"/>
            <a:pathLst>
              <a:path fill="none" w="226" h="221">
                <a:moveTo>
                  <a:pt x="0" y="221"/>
                </a:moveTo>
                <a:lnTo>
                  <a:pt x="16" y="221"/>
                </a:lnTo>
                <a:lnTo>
                  <a:pt x="33" y="221"/>
                </a:lnTo>
                <a:lnTo>
                  <a:pt x="49" y="213"/>
                </a:lnTo>
                <a:lnTo>
                  <a:pt x="59" y="213"/>
                </a:lnTo>
                <a:lnTo>
                  <a:pt x="75" y="205"/>
                </a:lnTo>
                <a:lnTo>
                  <a:pt x="92" y="205"/>
                </a:lnTo>
                <a:lnTo>
                  <a:pt x="100" y="196"/>
                </a:lnTo>
                <a:lnTo>
                  <a:pt x="117" y="188"/>
                </a:lnTo>
                <a:lnTo>
                  <a:pt x="125" y="180"/>
                </a:lnTo>
                <a:lnTo>
                  <a:pt x="142" y="172"/>
                </a:lnTo>
                <a:lnTo>
                  <a:pt x="150" y="164"/>
                </a:lnTo>
                <a:lnTo>
                  <a:pt x="159" y="156"/>
                </a:lnTo>
                <a:lnTo>
                  <a:pt x="176" y="147"/>
                </a:lnTo>
                <a:lnTo>
                  <a:pt x="185" y="131"/>
                </a:lnTo>
                <a:lnTo>
                  <a:pt x="193" y="123"/>
                </a:lnTo>
                <a:lnTo>
                  <a:pt x="201" y="106"/>
                </a:lnTo>
                <a:lnTo>
                  <a:pt x="210" y="97"/>
                </a:lnTo>
                <a:lnTo>
                  <a:pt x="210" y="81"/>
                </a:lnTo>
                <a:lnTo>
                  <a:pt x="218" y="73"/>
                </a:lnTo>
                <a:lnTo>
                  <a:pt x="218" y="57"/>
                </a:lnTo>
                <a:lnTo>
                  <a:pt x="226" y="40"/>
                </a:lnTo>
                <a:lnTo>
                  <a:pt x="226" y="32"/>
                </a:lnTo>
                <a:lnTo>
                  <a:pt x="226" y="16"/>
                </a:lnTo>
                <a:lnTo>
                  <a:pt x="226"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80" name=""/>
          <p:cNvSpPr/>
          <p:nvPr/>
        </p:nvSpPr>
        <p:spPr>
          <a:xfrm>
            <a:off x="5641920" y="3862440"/>
            <a:ext cx="0" cy="401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1" name=""/>
          <p:cNvSpPr/>
          <p:nvPr/>
        </p:nvSpPr>
        <p:spPr>
          <a:xfrm>
            <a:off x="5189400" y="4264200"/>
            <a:ext cx="81360" cy="79560"/>
          </a:xfrm>
          <a:custGeom>
            <a:avLst/>
            <a:gdLst/>
            <a:ahLst/>
            <a:rect l="0" t="0" r="r" b="b"/>
            <a:pathLst>
              <a:path fill="none" w="226" h="221">
                <a:moveTo>
                  <a:pt x="0" y="0"/>
                </a:moveTo>
                <a:lnTo>
                  <a:pt x="0" y="16"/>
                </a:lnTo>
                <a:lnTo>
                  <a:pt x="0" y="32"/>
                </a:lnTo>
                <a:lnTo>
                  <a:pt x="8" y="40"/>
                </a:lnTo>
                <a:lnTo>
                  <a:pt x="8" y="57"/>
                </a:lnTo>
                <a:lnTo>
                  <a:pt x="8" y="73"/>
                </a:lnTo>
                <a:lnTo>
                  <a:pt x="16" y="81"/>
                </a:lnTo>
                <a:lnTo>
                  <a:pt x="24" y="97"/>
                </a:lnTo>
                <a:lnTo>
                  <a:pt x="33" y="106"/>
                </a:lnTo>
                <a:lnTo>
                  <a:pt x="41" y="123"/>
                </a:lnTo>
                <a:lnTo>
                  <a:pt x="49" y="131"/>
                </a:lnTo>
                <a:lnTo>
                  <a:pt x="59" y="147"/>
                </a:lnTo>
                <a:lnTo>
                  <a:pt x="67" y="156"/>
                </a:lnTo>
                <a:lnTo>
                  <a:pt x="75" y="164"/>
                </a:lnTo>
                <a:lnTo>
                  <a:pt x="92" y="172"/>
                </a:lnTo>
                <a:lnTo>
                  <a:pt x="100" y="180"/>
                </a:lnTo>
                <a:lnTo>
                  <a:pt x="117" y="188"/>
                </a:lnTo>
                <a:lnTo>
                  <a:pt x="125" y="196"/>
                </a:lnTo>
                <a:lnTo>
                  <a:pt x="142" y="205"/>
                </a:lnTo>
                <a:lnTo>
                  <a:pt x="150" y="205"/>
                </a:lnTo>
                <a:lnTo>
                  <a:pt x="167" y="213"/>
                </a:lnTo>
                <a:lnTo>
                  <a:pt x="185"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82" name=""/>
          <p:cNvSpPr/>
          <p:nvPr/>
        </p:nvSpPr>
        <p:spPr>
          <a:xfrm flipV="1">
            <a:off x="436572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3" name=""/>
          <p:cNvSpPr/>
          <p:nvPr/>
        </p:nvSpPr>
        <p:spPr>
          <a:xfrm flipV="1">
            <a:off x="4948200" y="4400640"/>
            <a:ext cx="0" cy="3045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4" name=""/>
          <p:cNvSpPr/>
          <p:nvPr/>
        </p:nvSpPr>
        <p:spPr>
          <a:xfrm>
            <a:off x="4260960" y="3451320"/>
            <a:ext cx="797040" cy="506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85" name=""/>
          <p:cNvSpPr/>
          <p:nvPr/>
        </p:nvSpPr>
        <p:spPr>
          <a:xfrm flipV="1">
            <a:off x="4122720" y="4087800"/>
            <a:ext cx="0" cy="176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6" name=""/>
          <p:cNvSpPr/>
          <p:nvPr/>
        </p:nvSpPr>
        <p:spPr>
          <a:xfrm flipV="1">
            <a:off x="4365720" y="3909960"/>
            <a:ext cx="0" cy="36216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7" name=""/>
          <p:cNvSpPr/>
          <p:nvPr/>
        </p:nvSpPr>
        <p:spPr>
          <a:xfrm flipV="1">
            <a:off x="4948200" y="3906720"/>
            <a:ext cx="0" cy="365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688" name=""/>
          <p:cNvGrpSpPr/>
          <p:nvPr/>
        </p:nvGrpSpPr>
        <p:grpSpPr>
          <a:xfrm>
            <a:off x="4656240" y="2610000"/>
            <a:ext cx="0" cy="2587320"/>
            <a:chOff x="4656240" y="2610000"/>
            <a:chExt cx="0" cy="2587320"/>
          </a:xfrm>
        </p:grpSpPr>
        <p:sp>
          <p:nvSpPr>
            <p:cNvPr id="8689" name=""/>
            <p:cNvSpPr/>
            <p:nvPr/>
          </p:nvSpPr>
          <p:spPr>
            <a:xfrm flipV="1">
              <a:off x="4656240" y="3878280"/>
              <a:ext cx="0" cy="131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0" name=""/>
            <p:cNvSpPr/>
            <p:nvPr/>
          </p:nvSpPr>
          <p:spPr>
            <a:xfrm flipV="1">
              <a:off x="4656240" y="3652920"/>
              <a:ext cx="0" cy="1299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1" name=""/>
            <p:cNvSpPr/>
            <p:nvPr/>
          </p:nvSpPr>
          <p:spPr>
            <a:xfrm flipV="1">
              <a:off x="4656240" y="2610000"/>
              <a:ext cx="0" cy="952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92" name=""/>
          <p:cNvSpPr/>
          <p:nvPr/>
        </p:nvSpPr>
        <p:spPr>
          <a:xfrm>
            <a:off x="3670200" y="4264200"/>
            <a:ext cx="81360" cy="79560"/>
          </a:xfrm>
          <a:custGeom>
            <a:avLst/>
            <a:gdLst/>
            <a:ahLst/>
            <a:rect l="0" t="0" r="r" b="b"/>
            <a:pathLst>
              <a:path fill="none" w="226" h="221">
                <a:moveTo>
                  <a:pt x="0" y="0"/>
                </a:moveTo>
                <a:lnTo>
                  <a:pt x="0" y="16"/>
                </a:lnTo>
                <a:lnTo>
                  <a:pt x="0" y="32"/>
                </a:lnTo>
                <a:lnTo>
                  <a:pt x="0" y="40"/>
                </a:lnTo>
                <a:lnTo>
                  <a:pt x="8" y="57"/>
                </a:lnTo>
                <a:lnTo>
                  <a:pt x="8" y="73"/>
                </a:lnTo>
                <a:lnTo>
                  <a:pt x="16" y="81"/>
                </a:lnTo>
                <a:lnTo>
                  <a:pt x="16" y="97"/>
                </a:lnTo>
                <a:lnTo>
                  <a:pt x="24" y="106"/>
                </a:lnTo>
                <a:lnTo>
                  <a:pt x="33" y="123"/>
                </a:lnTo>
                <a:lnTo>
                  <a:pt x="41" y="131"/>
                </a:lnTo>
                <a:lnTo>
                  <a:pt x="49" y="147"/>
                </a:lnTo>
                <a:lnTo>
                  <a:pt x="67" y="156"/>
                </a:lnTo>
                <a:lnTo>
                  <a:pt x="75" y="164"/>
                </a:lnTo>
                <a:lnTo>
                  <a:pt x="84" y="172"/>
                </a:lnTo>
                <a:lnTo>
                  <a:pt x="100" y="180"/>
                </a:lnTo>
                <a:lnTo>
                  <a:pt x="109" y="188"/>
                </a:lnTo>
                <a:lnTo>
                  <a:pt x="125" y="196"/>
                </a:lnTo>
                <a:lnTo>
                  <a:pt x="134" y="205"/>
                </a:lnTo>
                <a:lnTo>
                  <a:pt x="150" y="205"/>
                </a:lnTo>
                <a:lnTo>
                  <a:pt x="167" y="213"/>
                </a:lnTo>
                <a:lnTo>
                  <a:pt x="176" y="213"/>
                </a:lnTo>
                <a:lnTo>
                  <a:pt x="193" y="221"/>
                </a:lnTo>
                <a:lnTo>
                  <a:pt x="210" y="221"/>
                </a:lnTo>
                <a:lnTo>
                  <a:pt x="226"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93" name=""/>
          <p:cNvSpPr/>
          <p:nvPr/>
        </p:nvSpPr>
        <p:spPr>
          <a:xfrm flipV="1">
            <a:off x="4186080" y="4705200"/>
            <a:ext cx="0" cy="2224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4" name=""/>
          <p:cNvSpPr/>
          <p:nvPr/>
        </p:nvSpPr>
        <p:spPr>
          <a:xfrm>
            <a:off x="3751200" y="4264200"/>
            <a:ext cx="371880" cy="79560"/>
          </a:xfrm>
          <a:custGeom>
            <a:avLst/>
            <a:gdLst/>
            <a:ahLst/>
            <a:rect l="0" t="0" r="r" b="b"/>
            <a:pathLst>
              <a:path fill="none" w="1033" h="221">
                <a:moveTo>
                  <a:pt x="0" y="221"/>
                </a:moveTo>
                <a:lnTo>
                  <a:pt x="810" y="221"/>
                </a:lnTo>
                <a:lnTo>
                  <a:pt x="827" y="221"/>
                </a:lnTo>
                <a:lnTo>
                  <a:pt x="844" y="221"/>
                </a:lnTo>
                <a:lnTo>
                  <a:pt x="852" y="213"/>
                </a:lnTo>
                <a:lnTo>
                  <a:pt x="868" y="213"/>
                </a:lnTo>
                <a:lnTo>
                  <a:pt x="885" y="205"/>
                </a:lnTo>
                <a:lnTo>
                  <a:pt x="893" y="205"/>
                </a:lnTo>
                <a:lnTo>
                  <a:pt x="910" y="196"/>
                </a:lnTo>
                <a:lnTo>
                  <a:pt x="918" y="188"/>
                </a:lnTo>
                <a:lnTo>
                  <a:pt x="934" y="180"/>
                </a:lnTo>
                <a:lnTo>
                  <a:pt x="943" y="172"/>
                </a:lnTo>
                <a:lnTo>
                  <a:pt x="959" y="164"/>
                </a:lnTo>
                <a:lnTo>
                  <a:pt x="967" y="156"/>
                </a:lnTo>
                <a:lnTo>
                  <a:pt x="976" y="147"/>
                </a:lnTo>
                <a:lnTo>
                  <a:pt x="984" y="131"/>
                </a:lnTo>
                <a:lnTo>
                  <a:pt x="992" y="123"/>
                </a:lnTo>
                <a:lnTo>
                  <a:pt x="1000" y="106"/>
                </a:lnTo>
                <a:lnTo>
                  <a:pt x="1009" y="97"/>
                </a:lnTo>
                <a:lnTo>
                  <a:pt x="1017" y="81"/>
                </a:lnTo>
                <a:lnTo>
                  <a:pt x="1017" y="73"/>
                </a:lnTo>
                <a:lnTo>
                  <a:pt x="1025" y="57"/>
                </a:lnTo>
                <a:lnTo>
                  <a:pt x="1025" y="40"/>
                </a:lnTo>
                <a:lnTo>
                  <a:pt x="1033" y="32"/>
                </a:lnTo>
                <a:lnTo>
                  <a:pt x="1033" y="16"/>
                </a:lnTo>
                <a:lnTo>
                  <a:pt x="1033"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695" name=""/>
          <p:cNvSpPr/>
          <p:nvPr/>
        </p:nvSpPr>
        <p:spPr>
          <a:xfrm>
            <a:off x="3670200" y="3909960"/>
            <a:ext cx="0" cy="354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6" name=""/>
          <p:cNvSpPr/>
          <p:nvPr/>
        </p:nvSpPr>
        <p:spPr>
          <a:xfrm>
            <a:off x="2390760" y="4175280"/>
            <a:ext cx="0" cy="752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7" name=""/>
          <p:cNvSpPr/>
          <p:nvPr/>
        </p:nvSpPr>
        <p:spPr>
          <a:xfrm>
            <a:off x="4257720" y="3954600"/>
            <a:ext cx="398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8" name=""/>
          <p:cNvSpPr/>
          <p:nvPr/>
        </p:nvSpPr>
        <p:spPr>
          <a:xfrm flipH="1">
            <a:off x="4656240" y="3954600"/>
            <a:ext cx="399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9" name=""/>
          <p:cNvSpPr/>
          <p:nvPr/>
        </p:nvSpPr>
        <p:spPr>
          <a:xfrm flipV="1">
            <a:off x="4127400" y="3951360"/>
            <a:ext cx="133560" cy="135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0" name=""/>
          <p:cNvSpPr/>
          <p:nvPr/>
        </p:nvSpPr>
        <p:spPr>
          <a:xfrm>
            <a:off x="4127400" y="4094280"/>
            <a:ext cx="1059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1" name=""/>
          <p:cNvSpPr/>
          <p:nvPr/>
        </p:nvSpPr>
        <p:spPr>
          <a:xfrm flipV="1">
            <a:off x="4365720" y="3462480"/>
            <a:ext cx="0" cy="31428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2" name=""/>
          <p:cNvSpPr/>
          <p:nvPr/>
        </p:nvSpPr>
        <p:spPr>
          <a:xfrm flipV="1">
            <a:off x="4948200" y="3465360"/>
            <a:ext cx="0" cy="311400"/>
          </a:xfrm>
          <a:prstGeom prst="line">
            <a:avLst/>
          </a:prstGeom>
          <a:ln w="12600">
            <a:solidFill>
              <a:srgbClr val="f2fefd"/>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3" name=""/>
          <p:cNvSpPr/>
          <p:nvPr/>
        </p:nvSpPr>
        <p:spPr>
          <a:xfrm flipV="1">
            <a:off x="2390760" y="393876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4" name=""/>
          <p:cNvSpPr/>
          <p:nvPr/>
        </p:nvSpPr>
        <p:spPr>
          <a:xfrm flipH="1" flipV="1">
            <a:off x="6588000" y="3835440"/>
            <a:ext cx="33336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5" name=""/>
          <p:cNvSpPr/>
          <p:nvPr/>
        </p:nvSpPr>
        <p:spPr>
          <a:xfrm>
            <a:off x="3995640" y="4341960"/>
            <a:ext cx="1317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6" name=""/>
          <p:cNvSpPr/>
          <p:nvPr/>
        </p:nvSpPr>
        <p:spPr>
          <a:xfrm>
            <a:off x="2625840" y="3909960"/>
            <a:ext cx="1046520" cy="73440"/>
          </a:xfrm>
          <a:custGeom>
            <a:avLst/>
            <a:gdLst/>
            <a:ahLst/>
            <a:rect l="0" t="0" r="r" b="b"/>
            <a:pathLst>
              <a:path fill="none" w="2907" h="204">
                <a:moveTo>
                  <a:pt x="0" y="80"/>
                </a:moveTo>
                <a:lnTo>
                  <a:pt x="299" y="173"/>
                </a:lnTo>
                <a:lnTo>
                  <a:pt x="392" y="204"/>
                </a:lnTo>
                <a:lnTo>
                  <a:pt x="608" y="204"/>
                </a:lnTo>
                <a:lnTo>
                  <a:pt x="701" y="204"/>
                </a:lnTo>
                <a:lnTo>
                  <a:pt x="851" y="173"/>
                </a:lnTo>
                <a:lnTo>
                  <a:pt x="943" y="142"/>
                </a:lnTo>
                <a:lnTo>
                  <a:pt x="1084" y="48"/>
                </a:lnTo>
                <a:lnTo>
                  <a:pt x="1172" y="48"/>
                </a:lnTo>
                <a:lnTo>
                  <a:pt x="1252" y="111"/>
                </a:lnTo>
                <a:lnTo>
                  <a:pt x="1344" y="173"/>
                </a:lnTo>
                <a:lnTo>
                  <a:pt x="1500" y="173"/>
                </a:lnTo>
                <a:lnTo>
                  <a:pt x="1654" y="173"/>
                </a:lnTo>
                <a:lnTo>
                  <a:pt x="1747" y="173"/>
                </a:lnTo>
                <a:lnTo>
                  <a:pt x="1839" y="142"/>
                </a:lnTo>
                <a:lnTo>
                  <a:pt x="1963" y="142"/>
                </a:lnTo>
                <a:lnTo>
                  <a:pt x="2055" y="142"/>
                </a:lnTo>
                <a:lnTo>
                  <a:pt x="2139" y="106"/>
                </a:lnTo>
                <a:lnTo>
                  <a:pt x="2219" y="102"/>
                </a:lnTo>
                <a:lnTo>
                  <a:pt x="2329" y="48"/>
                </a:lnTo>
                <a:lnTo>
                  <a:pt x="2452" y="17"/>
                </a:lnTo>
                <a:lnTo>
                  <a:pt x="2545" y="17"/>
                </a:lnTo>
                <a:lnTo>
                  <a:pt x="2682" y="22"/>
                </a:lnTo>
                <a:lnTo>
                  <a:pt x="2765" y="0"/>
                </a:lnTo>
                <a:lnTo>
                  <a:pt x="2907" y="8"/>
                </a:lnTo>
              </a:path>
            </a:pathLst>
          </a:custGeom>
          <a:ln w="12600">
            <a:solidFill>
              <a:srgbClr val="ffffff"/>
            </a:solidFill>
            <a:round/>
          </a:ln>
        </p:spPr>
        <p:txBody>
          <a:bodyPr lIns="96120" rIns="96120" tIns="22320" bIns="22320" anchor="t">
            <a:noAutofit/>
          </a:bodyPr>
          <a:p>
            <a:endParaRPr b="0" lang="en-US" sz="1800" spc="-1" strike="noStrike">
              <a:solidFill>
                <a:srgbClr val="000000"/>
              </a:solidFill>
              <a:latin typeface="Arial"/>
            </a:endParaRPr>
          </a:p>
        </p:txBody>
      </p:sp>
      <p:sp>
        <p:nvSpPr>
          <p:cNvPr id="8707" name=""/>
          <p:cNvSpPr/>
          <p:nvPr/>
        </p:nvSpPr>
        <p:spPr>
          <a:xfrm>
            <a:off x="5641920" y="3801960"/>
            <a:ext cx="949680" cy="62280"/>
          </a:xfrm>
          <a:custGeom>
            <a:avLst/>
            <a:gdLst/>
            <a:ahLst/>
            <a:rect l="0" t="0" r="r" b="b"/>
            <a:pathLst>
              <a:path fill="none" w="2638" h="173">
                <a:moveTo>
                  <a:pt x="0" y="173"/>
                </a:moveTo>
                <a:lnTo>
                  <a:pt x="92" y="143"/>
                </a:lnTo>
                <a:lnTo>
                  <a:pt x="216" y="143"/>
                </a:lnTo>
                <a:lnTo>
                  <a:pt x="335" y="173"/>
                </a:lnTo>
                <a:lnTo>
                  <a:pt x="458" y="173"/>
                </a:lnTo>
                <a:lnTo>
                  <a:pt x="551" y="143"/>
                </a:lnTo>
                <a:lnTo>
                  <a:pt x="643" y="111"/>
                </a:lnTo>
                <a:lnTo>
                  <a:pt x="798" y="80"/>
                </a:lnTo>
                <a:lnTo>
                  <a:pt x="890" y="49"/>
                </a:lnTo>
                <a:lnTo>
                  <a:pt x="996" y="39"/>
                </a:lnTo>
                <a:lnTo>
                  <a:pt x="1089" y="58"/>
                </a:lnTo>
                <a:lnTo>
                  <a:pt x="1230" y="80"/>
                </a:lnTo>
                <a:lnTo>
                  <a:pt x="1385" y="111"/>
                </a:lnTo>
                <a:lnTo>
                  <a:pt x="1539" y="80"/>
                </a:lnTo>
                <a:lnTo>
                  <a:pt x="1689" y="17"/>
                </a:lnTo>
                <a:lnTo>
                  <a:pt x="1906" y="17"/>
                </a:lnTo>
                <a:lnTo>
                  <a:pt x="1998" y="17"/>
                </a:lnTo>
                <a:lnTo>
                  <a:pt x="2091" y="4"/>
                </a:lnTo>
                <a:lnTo>
                  <a:pt x="2170" y="4"/>
                </a:lnTo>
                <a:lnTo>
                  <a:pt x="2249" y="58"/>
                </a:lnTo>
                <a:lnTo>
                  <a:pt x="2346" y="17"/>
                </a:lnTo>
                <a:lnTo>
                  <a:pt x="2461" y="0"/>
                </a:lnTo>
                <a:lnTo>
                  <a:pt x="2638" y="120"/>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grpSp>
        <p:nvGrpSpPr>
          <p:cNvPr id="8708" name=""/>
          <p:cNvGrpSpPr/>
          <p:nvPr/>
        </p:nvGrpSpPr>
        <p:grpSpPr>
          <a:xfrm>
            <a:off x="2279520" y="3760920"/>
            <a:ext cx="4781520" cy="168120"/>
            <a:chOff x="2279520" y="3760920"/>
            <a:chExt cx="4781520" cy="168120"/>
          </a:xfrm>
        </p:grpSpPr>
        <p:sp>
          <p:nvSpPr>
            <p:cNvPr id="8709" name=""/>
            <p:cNvSpPr/>
            <p:nvPr/>
          </p:nvSpPr>
          <p:spPr>
            <a:xfrm flipV="1">
              <a:off x="2279520" y="3875040"/>
              <a:ext cx="1527480" cy="54000"/>
            </a:xfrm>
            <a:prstGeom prst="line">
              <a:avLst/>
            </a:prstGeom>
            <a:ln w="25560">
              <a:solidFill>
                <a:srgbClr val="fd0700"/>
              </a:solidFill>
              <a:round/>
            </a:ln>
          </p:spPr>
          <p:style>
            <a:lnRef idx="0"/>
            <a:fillRef idx="0"/>
            <a:effectRef idx="0"/>
            <a:fontRef idx="minor"/>
          </p:style>
          <p:txBody>
            <a:bodyPr lIns="102600" rIns="102600" tIns="-3600" bIns="-3600" anchor="t">
              <a:noAutofit/>
            </a:bodyPr>
            <a:p>
              <a:endParaRPr b="0" lang="en-US" sz="1800" spc="-1" strike="noStrike">
                <a:solidFill>
                  <a:srgbClr val="000000"/>
                </a:solidFill>
                <a:latin typeface="Arial"/>
              </a:endParaRPr>
            </a:p>
          </p:txBody>
        </p:sp>
        <p:sp>
          <p:nvSpPr>
            <p:cNvPr id="8710" name=""/>
            <p:cNvSpPr/>
            <p:nvPr/>
          </p:nvSpPr>
          <p:spPr>
            <a:xfrm flipV="1">
              <a:off x="3917880" y="3865680"/>
              <a:ext cx="154080" cy="6120"/>
            </a:xfrm>
            <a:prstGeom prst="line">
              <a:avLst/>
            </a:prstGeom>
            <a:ln w="25560">
              <a:solidFill>
                <a:srgbClr val="fd0700"/>
              </a:solidFill>
              <a:round/>
            </a:ln>
          </p:spPr>
          <p:style>
            <a:lnRef idx="0"/>
            <a:fillRef idx="0"/>
            <a:effectRef idx="0"/>
            <a:fontRef idx="minor"/>
          </p:style>
          <p:txBody>
            <a:bodyPr lIns="102600" rIns="102600" tIns="-51480" bIns="-51480" anchor="t">
              <a:noAutofit/>
            </a:bodyPr>
            <a:p>
              <a:endParaRPr b="0" lang="en-US" sz="1800" spc="-1" strike="noStrike">
                <a:solidFill>
                  <a:srgbClr val="000000"/>
                </a:solidFill>
                <a:latin typeface="Arial"/>
              </a:endParaRPr>
            </a:p>
          </p:txBody>
        </p:sp>
        <p:sp>
          <p:nvSpPr>
            <p:cNvPr id="8711" name=""/>
            <p:cNvSpPr/>
            <p:nvPr/>
          </p:nvSpPr>
          <p:spPr>
            <a:xfrm flipV="1">
              <a:off x="4172040" y="3857760"/>
              <a:ext cx="144360" cy="4680"/>
            </a:xfrm>
            <a:prstGeom prst="line">
              <a:avLst/>
            </a:prstGeom>
            <a:ln w="25560">
              <a:solidFill>
                <a:srgbClr val="fd0700"/>
              </a:solidFill>
              <a:round/>
            </a:ln>
          </p:spPr>
          <p:style>
            <a:lnRef idx="0"/>
            <a:fillRef idx="0"/>
            <a:effectRef idx="0"/>
            <a:fontRef idx="minor"/>
          </p:style>
          <p:txBody>
            <a:bodyPr lIns="102600" rIns="102600" tIns="-52920" bIns="-52920" anchor="t">
              <a:noAutofit/>
            </a:bodyPr>
            <a:p>
              <a:endParaRPr b="0" lang="en-US" sz="1800" spc="-1" strike="noStrike">
                <a:solidFill>
                  <a:srgbClr val="000000"/>
                </a:solidFill>
                <a:latin typeface="Arial"/>
              </a:endParaRPr>
            </a:p>
          </p:txBody>
        </p:sp>
        <p:sp>
          <p:nvSpPr>
            <p:cNvPr id="8712" name=""/>
            <p:cNvSpPr/>
            <p:nvPr/>
          </p:nvSpPr>
          <p:spPr>
            <a:xfrm flipV="1">
              <a:off x="4416480" y="3760920"/>
              <a:ext cx="2644560" cy="93600"/>
            </a:xfrm>
            <a:prstGeom prst="line">
              <a:avLst/>
            </a:prstGeom>
            <a:ln w="25560">
              <a:solidFill>
                <a:srgbClr val="fd0700"/>
              </a:solidFill>
              <a:round/>
            </a:ln>
          </p:spPr>
          <p:style>
            <a:lnRef idx="0"/>
            <a:fillRef idx="0"/>
            <a:effectRef idx="0"/>
            <a:fontRef idx="minor"/>
          </p:style>
          <p:txBody>
            <a:bodyPr lIns="102600" rIns="102600" tIns="36000" bIns="36000" anchor="t">
              <a:noAutofit/>
            </a:bodyPr>
            <a:p>
              <a:endParaRPr b="0" lang="en-US" sz="1800" spc="-1" strike="noStrike">
                <a:solidFill>
                  <a:srgbClr val="000000"/>
                </a:solidFill>
                <a:latin typeface="Arial"/>
              </a:endParaRPr>
            </a:p>
          </p:txBody>
        </p:sp>
      </p:grpSp>
      <p:sp>
        <p:nvSpPr>
          <p:cNvPr id="8713" name=""/>
          <p:cNvSpPr txBox="1"/>
          <p:nvPr/>
        </p:nvSpPr>
        <p:spPr>
          <a:xfrm>
            <a:off x="3073320" y="5413320"/>
            <a:ext cx="32385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POSSIBLE INTERPRETATION</a:t>
            </a:r>
            <a:endParaRPr b="0" lang="en-US" sz="1800" spc="-1" strike="noStrike">
              <a:solidFill>
                <a:srgbClr val="000000"/>
              </a:solidFill>
              <a:latin typeface="Arial"/>
            </a:endParaRPr>
          </a:p>
        </p:txBody>
      </p:sp>
      <p:grpSp>
        <p:nvGrpSpPr>
          <p:cNvPr id="8714" name=""/>
          <p:cNvGrpSpPr/>
          <p:nvPr/>
        </p:nvGrpSpPr>
        <p:grpSpPr>
          <a:xfrm>
            <a:off x="2290680" y="1501920"/>
            <a:ext cx="1738080" cy="721080"/>
            <a:chOff x="2290680" y="1501920"/>
            <a:chExt cx="1738080" cy="721080"/>
          </a:xfrm>
        </p:grpSpPr>
        <p:sp>
          <p:nvSpPr>
            <p:cNvPr id="8715" name=""/>
            <p:cNvSpPr/>
            <p:nvPr/>
          </p:nvSpPr>
          <p:spPr>
            <a:xfrm>
              <a:off x="2489040" y="1668600"/>
              <a:ext cx="153972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16" name=""/>
            <p:cNvSpPr/>
            <p:nvPr/>
          </p:nvSpPr>
          <p:spPr>
            <a:xfrm>
              <a:off x="2290680" y="1501920"/>
              <a:ext cx="487800" cy="721080"/>
            </a:xfrm>
            <a:custGeom>
              <a:avLst/>
              <a:gdLst/>
              <a:ahLst/>
              <a:rect l="0" t="0" r="r" b="b"/>
              <a:pathLst>
                <a:path w="1355" h="2003">
                  <a:moveTo>
                    <a:pt x="0" y="0"/>
                  </a:moveTo>
                  <a:lnTo>
                    <a:pt x="1355" y="0"/>
                  </a:lnTo>
                  <a:lnTo>
                    <a:pt x="860" y="2003"/>
                  </a:lnTo>
                  <a:lnTo>
                    <a:pt x="30" y="2003"/>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17" name=""/>
            <p:cNvSpPr/>
            <p:nvPr/>
          </p:nvSpPr>
          <p:spPr>
            <a:xfrm>
              <a:off x="3087720" y="1668600"/>
              <a:ext cx="0" cy="35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8" name=""/>
            <p:cNvSpPr txBox="1"/>
            <p:nvPr/>
          </p:nvSpPr>
          <p:spPr>
            <a:xfrm>
              <a:off x="3195720" y="165888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C - D</a:t>
              </a:r>
              <a:endParaRPr b="0" lang="en-US" sz="2000" spc="-1" strike="noStrike">
                <a:solidFill>
                  <a:srgbClr val="000000"/>
                </a:solidFill>
                <a:latin typeface="Arial"/>
              </a:endParaRPr>
            </a:p>
          </p:txBody>
        </p:sp>
      </p:grpSp>
      <p:sp>
        <p:nvSpPr>
          <p:cNvPr id="8719" name=""/>
          <p:cNvSpPr txBox="1"/>
          <p:nvPr/>
        </p:nvSpPr>
        <p:spPr>
          <a:xfrm>
            <a:off x="4540320" y="1657440"/>
            <a:ext cx="45864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or </a:t>
            </a:r>
            <a:endParaRPr b="0" lang="en-US" sz="2000" spc="-1" strike="noStrike">
              <a:solidFill>
                <a:srgbClr val="000000"/>
              </a:solidFill>
              <a:latin typeface="Arial"/>
            </a:endParaRPr>
          </a:p>
        </p:txBody>
      </p:sp>
      <p:grpSp>
        <p:nvGrpSpPr>
          <p:cNvPr id="8720" name=""/>
          <p:cNvGrpSpPr/>
          <p:nvPr/>
        </p:nvGrpSpPr>
        <p:grpSpPr>
          <a:xfrm>
            <a:off x="4997520" y="1531800"/>
            <a:ext cx="1738080" cy="721080"/>
            <a:chOff x="4997520" y="1531800"/>
            <a:chExt cx="1738080" cy="721080"/>
          </a:xfrm>
        </p:grpSpPr>
        <p:sp>
          <p:nvSpPr>
            <p:cNvPr id="8721" name=""/>
            <p:cNvSpPr/>
            <p:nvPr/>
          </p:nvSpPr>
          <p:spPr>
            <a:xfrm>
              <a:off x="5195880" y="1698480"/>
              <a:ext cx="1539720" cy="353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22" name=""/>
            <p:cNvSpPr/>
            <p:nvPr/>
          </p:nvSpPr>
          <p:spPr>
            <a:xfrm>
              <a:off x="4997520" y="1531800"/>
              <a:ext cx="487800" cy="721080"/>
            </a:xfrm>
            <a:custGeom>
              <a:avLst/>
              <a:gdLst/>
              <a:ahLst/>
              <a:rect l="0" t="0" r="r" b="b"/>
              <a:pathLst>
                <a:path w="1355" h="2003">
                  <a:moveTo>
                    <a:pt x="0" y="0"/>
                  </a:moveTo>
                  <a:lnTo>
                    <a:pt x="1355" y="0"/>
                  </a:lnTo>
                  <a:lnTo>
                    <a:pt x="860" y="2003"/>
                  </a:lnTo>
                  <a:lnTo>
                    <a:pt x="30" y="2003"/>
                  </a:lnTo>
                  <a:lnTo>
                    <a:pt x="0"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23" name=""/>
            <p:cNvSpPr/>
            <p:nvPr/>
          </p:nvSpPr>
          <p:spPr>
            <a:xfrm>
              <a:off x="5794200" y="1698480"/>
              <a:ext cx="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4" name=""/>
            <p:cNvSpPr txBox="1"/>
            <p:nvPr/>
          </p:nvSpPr>
          <p:spPr>
            <a:xfrm>
              <a:off x="5902200" y="1689120"/>
              <a:ext cx="74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 - C</a:t>
              </a:r>
              <a:endParaRPr b="0" lang="en-US" sz="2000" spc="-1" strike="noStrike">
                <a:solidFill>
                  <a:srgbClr val="000000"/>
                </a:solidFill>
                <a:latin typeface="Arial"/>
              </a:endParaRPr>
            </a:p>
          </p:txBody>
        </p:sp>
      </p:grpSp>
      <p:sp>
        <p:nvSpPr>
          <p:cNvPr id="8725" name=""/>
          <p:cNvSpPr txBox="1"/>
          <p:nvPr/>
        </p:nvSpPr>
        <p:spPr>
          <a:xfrm>
            <a:off x="5734080" y="2716200"/>
            <a:ext cx="200340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Plane C-D</a:t>
            </a:r>
            <a:endParaRPr b="0" lang="en-US" sz="2000" spc="-1" strike="noStrike">
              <a:solidFill>
                <a:srgbClr val="000000"/>
              </a:solidFill>
              <a:latin typeface="Arial"/>
            </a:endParaRPr>
          </a:p>
        </p:txBody>
      </p:sp>
      <p:sp>
        <p:nvSpPr>
          <p:cNvPr id="8726" name=""/>
          <p:cNvSpPr/>
          <p:nvPr/>
        </p:nvSpPr>
        <p:spPr>
          <a:xfrm flipH="1">
            <a:off x="5508720" y="2900520"/>
            <a:ext cx="212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7" name=""/>
          <p:cNvSpPr/>
          <p:nvPr/>
        </p:nvSpPr>
        <p:spPr>
          <a:xfrm>
            <a:off x="5494320" y="2900520"/>
            <a:ext cx="287280" cy="892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28" name=""/>
          <p:cNvSpPr txBox="1"/>
          <p:nvPr/>
        </p:nvSpPr>
        <p:spPr>
          <a:xfrm>
            <a:off x="685800" y="2251080"/>
            <a:ext cx="7772400" cy="304056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Single Datum Axis From Two Datum Featur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2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ingle Axis From Two Coaxial Features</a:t>
            </a:r>
            <a:endParaRPr b="0" lang="en-US" sz="3600" spc="-1" strike="noStrike">
              <a:solidFill>
                <a:srgbClr val="000000"/>
              </a:solidFill>
              <a:latin typeface="Arial"/>
            </a:endParaRPr>
          </a:p>
        </p:txBody>
      </p:sp>
      <p:sp>
        <p:nvSpPr>
          <p:cNvPr id="8731" name=""/>
          <p:cNvSpPr txBox="1"/>
          <p:nvPr/>
        </p:nvSpPr>
        <p:spPr>
          <a:xfrm>
            <a:off x="38088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a:t>
            </a:r>
            <a:r>
              <a:rPr b="0" lang="en-US" sz="2800" spc="-1" strike="noStrike">
                <a:solidFill>
                  <a:srgbClr val="fafd00"/>
                </a:solidFill>
                <a:latin typeface="Times New Roman"/>
                <a:ea typeface="Times New Roman"/>
              </a:rPr>
              <a:t>single datum axis </a:t>
            </a:r>
            <a:r>
              <a:rPr b="0" lang="en-US" sz="2800" spc="-1" strike="noStrike">
                <a:solidFill>
                  <a:srgbClr val="ffffff"/>
                </a:solidFill>
                <a:latin typeface="Times New Roman"/>
                <a:ea typeface="Times New Roman"/>
              </a:rPr>
              <a:t>can be established by two </a:t>
            </a:r>
            <a:r>
              <a:rPr b="0" lang="en-US" sz="2800" spc="-1" strike="noStrike">
                <a:solidFill>
                  <a:srgbClr val="fafd00"/>
                </a:solidFill>
                <a:latin typeface="Times New Roman"/>
                <a:ea typeface="Times New Roman"/>
              </a:rPr>
              <a:t>coaxial </a:t>
            </a:r>
            <a:r>
              <a:rPr b="0" lang="en-US" sz="2800" spc="-1" strike="noStrike">
                <a:solidFill>
                  <a:srgbClr val="ffffff"/>
                </a:solidFill>
                <a:latin typeface="Times New Roman"/>
                <a:ea typeface="Times New Roman"/>
              </a:rPr>
              <a:t>diamet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datum axis is simulated by simultaneously contacting the high points of both surfaces with two </a:t>
            </a:r>
            <a:r>
              <a:rPr b="0" lang="en-US" sz="2800" spc="-1" strike="noStrike">
                <a:solidFill>
                  <a:srgbClr val="fafd00"/>
                </a:solidFill>
                <a:latin typeface="Times New Roman"/>
                <a:ea typeface="Times New Roman"/>
              </a:rPr>
              <a:t>coaxial</a:t>
            </a:r>
            <a:r>
              <a:rPr b="0" lang="en-US" sz="2800" spc="-1" strike="noStrike">
                <a:solidFill>
                  <a:srgbClr val="ffffff"/>
                </a:solidFill>
                <a:latin typeface="Times New Roman"/>
                <a:ea typeface="Times New Roman"/>
              </a:rPr>
              <a:t> cylinder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datum axis established by coaxial datum features is normally used as a </a:t>
            </a:r>
            <a:r>
              <a:rPr b="0" lang="en-US" sz="2800" spc="-1" strike="noStrike">
                <a:solidFill>
                  <a:srgbClr val="fafd00"/>
                </a:solidFill>
                <a:latin typeface="Times New Roman"/>
                <a:ea typeface="Times New Roman"/>
              </a:rPr>
              <a:t>primary</a:t>
            </a:r>
            <a:r>
              <a:rPr b="0" lang="en-US" sz="2800" spc="-1" strike="noStrike">
                <a:solidFill>
                  <a:srgbClr val="ffffff"/>
                </a:solidFill>
                <a:latin typeface="Times New Roman"/>
                <a:ea typeface="Times New Roman"/>
              </a:rPr>
              <a:t> dat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32" name=""/>
          <p:cNvSpPr/>
          <p:nvPr/>
        </p:nvSpPr>
        <p:spPr>
          <a:xfrm>
            <a:off x="6904080" y="2963880"/>
            <a:ext cx="559080" cy="2286360"/>
          </a:xfrm>
          <a:custGeom>
            <a:avLst/>
            <a:gdLst/>
            <a:ahLst/>
            <a:rect l="0" t="0" r="r" b="b"/>
            <a:pathLst>
              <a:path fill="none" w="1553" h="6351">
                <a:moveTo>
                  <a:pt x="0" y="6351"/>
                </a:moveTo>
                <a:lnTo>
                  <a:pt x="0" y="0"/>
                </a:lnTo>
                <a:lnTo>
                  <a:pt x="1553" y="0"/>
                </a:lnTo>
                <a:lnTo>
                  <a:pt x="1553" y="6351"/>
                </a:lnTo>
                <a:lnTo>
                  <a:pt x="0" y="6351"/>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33" name=""/>
          <p:cNvSpPr/>
          <p:nvPr/>
        </p:nvSpPr>
        <p:spPr>
          <a:xfrm flipV="1">
            <a:off x="4656240" y="3838680"/>
            <a:ext cx="0" cy="193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4" name=""/>
          <p:cNvSpPr/>
          <p:nvPr/>
        </p:nvSpPr>
        <p:spPr>
          <a:xfrm flipH="1">
            <a:off x="4235400" y="4106880"/>
            <a:ext cx="3621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5" name=""/>
          <p:cNvSpPr/>
          <p:nvPr/>
        </p:nvSpPr>
        <p:spPr>
          <a:xfrm>
            <a:off x="4302000" y="3646440"/>
            <a:ext cx="1657800" cy="918000"/>
          </a:xfrm>
          <a:custGeom>
            <a:avLst/>
            <a:gdLst/>
            <a:ahLst/>
            <a:rect l="0" t="0" r="r" b="b"/>
            <a:pathLst>
              <a:path fill="none" w="4605" h="2550">
                <a:moveTo>
                  <a:pt x="0" y="0"/>
                </a:moveTo>
                <a:lnTo>
                  <a:pt x="0" y="2550"/>
                </a:lnTo>
                <a:lnTo>
                  <a:pt x="4605" y="2550"/>
                </a:lnTo>
                <a:lnTo>
                  <a:pt x="4605"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36" name=""/>
          <p:cNvSpPr/>
          <p:nvPr/>
        </p:nvSpPr>
        <p:spPr>
          <a:xfrm>
            <a:off x="5959440" y="3489480"/>
            <a:ext cx="945000" cy="1233720"/>
          </a:xfrm>
          <a:custGeom>
            <a:avLst/>
            <a:gdLst/>
            <a:ahLst/>
            <a:rect l="0" t="0" r="r" b="b"/>
            <a:pathLst>
              <a:path fill="none" w="2625" h="3427">
                <a:moveTo>
                  <a:pt x="0" y="3427"/>
                </a:moveTo>
                <a:lnTo>
                  <a:pt x="0" y="0"/>
                </a:lnTo>
                <a:lnTo>
                  <a:pt x="2625" y="0"/>
                </a:lnTo>
                <a:lnTo>
                  <a:pt x="2625" y="3427"/>
                </a:lnTo>
                <a:lnTo>
                  <a:pt x="0" y="3427"/>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37" name=""/>
          <p:cNvSpPr/>
          <p:nvPr/>
        </p:nvSpPr>
        <p:spPr>
          <a:xfrm>
            <a:off x="4791240" y="4106880"/>
            <a:ext cx="576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8" name=""/>
          <p:cNvSpPr/>
          <p:nvPr/>
        </p:nvSpPr>
        <p:spPr>
          <a:xfrm>
            <a:off x="5513400" y="4106880"/>
            <a:ext cx="1461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9" name=""/>
          <p:cNvSpPr/>
          <p:nvPr/>
        </p:nvSpPr>
        <p:spPr>
          <a:xfrm>
            <a:off x="5810400" y="4106880"/>
            <a:ext cx="741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0" name=""/>
          <p:cNvSpPr/>
          <p:nvPr/>
        </p:nvSpPr>
        <p:spPr>
          <a:xfrm>
            <a:off x="6699240" y="4106880"/>
            <a:ext cx="147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1" name=""/>
          <p:cNvSpPr/>
          <p:nvPr/>
        </p:nvSpPr>
        <p:spPr>
          <a:xfrm>
            <a:off x="6997680" y="4106880"/>
            <a:ext cx="571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2" name=""/>
          <p:cNvSpPr/>
          <p:nvPr/>
        </p:nvSpPr>
        <p:spPr>
          <a:xfrm>
            <a:off x="4716360" y="4106880"/>
            <a:ext cx="74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3" name=""/>
          <p:cNvSpPr/>
          <p:nvPr/>
        </p:nvSpPr>
        <p:spPr>
          <a:xfrm flipV="1">
            <a:off x="4656240" y="397188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8744" name=""/>
          <p:cNvSpPr/>
          <p:nvPr/>
        </p:nvSpPr>
        <p:spPr>
          <a:xfrm flipV="1">
            <a:off x="4656240" y="4078440"/>
            <a:ext cx="0" cy="58680"/>
          </a:xfrm>
          <a:prstGeom prst="line">
            <a:avLst/>
          </a:prstGeom>
          <a:ln w="12600">
            <a:solidFill>
              <a:srgbClr val="f2fefd"/>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745" name=""/>
          <p:cNvSpPr/>
          <p:nvPr/>
        </p:nvSpPr>
        <p:spPr>
          <a:xfrm>
            <a:off x="4627440" y="4106880"/>
            <a:ext cx="60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6" name=""/>
          <p:cNvSpPr/>
          <p:nvPr/>
        </p:nvSpPr>
        <p:spPr>
          <a:xfrm>
            <a:off x="4552920" y="4003560"/>
            <a:ext cx="206640" cy="206640"/>
          </a:xfrm>
          <a:custGeom>
            <a:avLst/>
            <a:gdLst/>
            <a:ahLst/>
            <a:rect l="0" t="0" r="r" b="b"/>
            <a:pathLst>
              <a:path fill="none" w="574" h="574">
                <a:moveTo>
                  <a:pt x="574" y="286"/>
                </a:moveTo>
                <a:lnTo>
                  <a:pt x="574" y="272"/>
                </a:lnTo>
                <a:lnTo>
                  <a:pt x="574" y="265"/>
                </a:lnTo>
                <a:lnTo>
                  <a:pt x="574" y="250"/>
                </a:lnTo>
                <a:lnTo>
                  <a:pt x="574" y="243"/>
                </a:lnTo>
                <a:lnTo>
                  <a:pt x="574" y="229"/>
                </a:lnTo>
                <a:lnTo>
                  <a:pt x="567" y="222"/>
                </a:lnTo>
                <a:lnTo>
                  <a:pt x="567" y="207"/>
                </a:lnTo>
                <a:lnTo>
                  <a:pt x="559" y="200"/>
                </a:lnTo>
                <a:lnTo>
                  <a:pt x="559" y="186"/>
                </a:lnTo>
                <a:lnTo>
                  <a:pt x="552" y="179"/>
                </a:lnTo>
                <a:lnTo>
                  <a:pt x="552" y="164"/>
                </a:lnTo>
                <a:lnTo>
                  <a:pt x="545" y="157"/>
                </a:lnTo>
                <a:lnTo>
                  <a:pt x="538" y="143"/>
                </a:lnTo>
                <a:lnTo>
                  <a:pt x="531" y="136"/>
                </a:lnTo>
                <a:lnTo>
                  <a:pt x="531" y="128"/>
                </a:lnTo>
                <a:lnTo>
                  <a:pt x="524" y="114"/>
                </a:lnTo>
                <a:lnTo>
                  <a:pt x="516" y="107"/>
                </a:lnTo>
                <a:lnTo>
                  <a:pt x="509" y="100"/>
                </a:lnTo>
                <a:lnTo>
                  <a:pt x="502" y="93"/>
                </a:lnTo>
                <a:lnTo>
                  <a:pt x="488" y="85"/>
                </a:lnTo>
                <a:lnTo>
                  <a:pt x="481" y="71"/>
                </a:lnTo>
                <a:lnTo>
                  <a:pt x="473" y="64"/>
                </a:lnTo>
                <a:lnTo>
                  <a:pt x="466" y="57"/>
                </a:lnTo>
                <a:lnTo>
                  <a:pt x="459" y="50"/>
                </a:lnTo>
                <a:lnTo>
                  <a:pt x="445" y="50"/>
                </a:lnTo>
                <a:lnTo>
                  <a:pt x="438" y="42"/>
                </a:lnTo>
                <a:lnTo>
                  <a:pt x="430" y="35"/>
                </a:lnTo>
                <a:lnTo>
                  <a:pt x="416" y="28"/>
                </a:lnTo>
                <a:lnTo>
                  <a:pt x="409" y="21"/>
                </a:lnTo>
                <a:lnTo>
                  <a:pt x="395" y="21"/>
                </a:lnTo>
                <a:lnTo>
                  <a:pt x="387" y="14"/>
                </a:lnTo>
                <a:lnTo>
                  <a:pt x="373" y="14"/>
                </a:lnTo>
                <a:lnTo>
                  <a:pt x="366" y="7"/>
                </a:lnTo>
                <a:lnTo>
                  <a:pt x="352" y="7"/>
                </a:lnTo>
                <a:lnTo>
                  <a:pt x="344" y="7"/>
                </a:lnTo>
                <a:lnTo>
                  <a:pt x="330" y="0"/>
                </a:lnTo>
                <a:lnTo>
                  <a:pt x="323" y="0"/>
                </a:lnTo>
                <a:lnTo>
                  <a:pt x="309" y="0"/>
                </a:lnTo>
                <a:lnTo>
                  <a:pt x="301" y="0"/>
                </a:lnTo>
                <a:lnTo>
                  <a:pt x="286" y="0"/>
                </a:lnTo>
                <a:lnTo>
                  <a:pt x="272" y="0"/>
                </a:lnTo>
                <a:lnTo>
                  <a:pt x="265" y="0"/>
                </a:lnTo>
                <a:lnTo>
                  <a:pt x="250" y="0"/>
                </a:lnTo>
                <a:lnTo>
                  <a:pt x="243" y="0"/>
                </a:lnTo>
                <a:lnTo>
                  <a:pt x="229" y="7"/>
                </a:lnTo>
                <a:lnTo>
                  <a:pt x="222" y="7"/>
                </a:lnTo>
                <a:lnTo>
                  <a:pt x="207" y="7"/>
                </a:lnTo>
                <a:lnTo>
                  <a:pt x="200" y="14"/>
                </a:lnTo>
                <a:lnTo>
                  <a:pt x="186" y="14"/>
                </a:lnTo>
                <a:lnTo>
                  <a:pt x="179" y="21"/>
                </a:lnTo>
                <a:lnTo>
                  <a:pt x="164" y="21"/>
                </a:lnTo>
                <a:lnTo>
                  <a:pt x="157" y="28"/>
                </a:lnTo>
                <a:lnTo>
                  <a:pt x="143" y="35"/>
                </a:lnTo>
                <a:lnTo>
                  <a:pt x="136" y="42"/>
                </a:lnTo>
                <a:lnTo>
                  <a:pt x="128" y="50"/>
                </a:lnTo>
                <a:lnTo>
                  <a:pt x="114" y="50"/>
                </a:lnTo>
                <a:lnTo>
                  <a:pt x="107" y="57"/>
                </a:lnTo>
                <a:lnTo>
                  <a:pt x="100" y="64"/>
                </a:lnTo>
                <a:lnTo>
                  <a:pt x="93" y="71"/>
                </a:lnTo>
                <a:lnTo>
                  <a:pt x="78" y="85"/>
                </a:lnTo>
                <a:lnTo>
                  <a:pt x="71" y="93"/>
                </a:lnTo>
                <a:lnTo>
                  <a:pt x="64" y="100"/>
                </a:lnTo>
                <a:lnTo>
                  <a:pt x="57" y="107"/>
                </a:lnTo>
                <a:lnTo>
                  <a:pt x="50" y="114"/>
                </a:lnTo>
                <a:lnTo>
                  <a:pt x="42" y="128"/>
                </a:lnTo>
                <a:lnTo>
                  <a:pt x="42" y="136"/>
                </a:lnTo>
                <a:lnTo>
                  <a:pt x="35" y="143"/>
                </a:lnTo>
                <a:lnTo>
                  <a:pt x="28" y="157"/>
                </a:lnTo>
                <a:lnTo>
                  <a:pt x="21" y="164"/>
                </a:lnTo>
                <a:lnTo>
                  <a:pt x="21" y="179"/>
                </a:lnTo>
                <a:lnTo>
                  <a:pt x="14" y="186"/>
                </a:lnTo>
                <a:lnTo>
                  <a:pt x="14" y="200"/>
                </a:lnTo>
                <a:lnTo>
                  <a:pt x="7" y="207"/>
                </a:lnTo>
                <a:lnTo>
                  <a:pt x="7" y="222"/>
                </a:lnTo>
                <a:lnTo>
                  <a:pt x="0" y="229"/>
                </a:lnTo>
                <a:lnTo>
                  <a:pt x="0" y="243"/>
                </a:lnTo>
                <a:lnTo>
                  <a:pt x="0" y="250"/>
                </a:lnTo>
                <a:lnTo>
                  <a:pt x="0" y="265"/>
                </a:lnTo>
                <a:lnTo>
                  <a:pt x="0" y="272"/>
                </a:lnTo>
                <a:lnTo>
                  <a:pt x="0" y="286"/>
                </a:lnTo>
                <a:lnTo>
                  <a:pt x="0" y="301"/>
                </a:lnTo>
                <a:lnTo>
                  <a:pt x="0" y="309"/>
                </a:lnTo>
                <a:lnTo>
                  <a:pt x="0" y="323"/>
                </a:lnTo>
                <a:lnTo>
                  <a:pt x="0" y="330"/>
                </a:lnTo>
                <a:lnTo>
                  <a:pt x="0" y="344"/>
                </a:lnTo>
                <a:lnTo>
                  <a:pt x="7" y="359"/>
                </a:lnTo>
                <a:lnTo>
                  <a:pt x="7" y="366"/>
                </a:lnTo>
                <a:lnTo>
                  <a:pt x="14" y="380"/>
                </a:lnTo>
                <a:lnTo>
                  <a:pt x="14" y="387"/>
                </a:lnTo>
                <a:lnTo>
                  <a:pt x="21" y="402"/>
                </a:lnTo>
                <a:lnTo>
                  <a:pt x="21" y="409"/>
                </a:lnTo>
                <a:lnTo>
                  <a:pt x="28" y="416"/>
                </a:lnTo>
                <a:lnTo>
                  <a:pt x="35" y="430"/>
                </a:lnTo>
                <a:lnTo>
                  <a:pt x="42" y="438"/>
                </a:lnTo>
                <a:lnTo>
                  <a:pt x="42" y="445"/>
                </a:lnTo>
                <a:lnTo>
                  <a:pt x="50" y="459"/>
                </a:lnTo>
                <a:lnTo>
                  <a:pt x="57" y="466"/>
                </a:lnTo>
                <a:lnTo>
                  <a:pt x="64" y="473"/>
                </a:lnTo>
                <a:lnTo>
                  <a:pt x="71" y="481"/>
                </a:lnTo>
                <a:lnTo>
                  <a:pt x="78" y="495"/>
                </a:lnTo>
                <a:lnTo>
                  <a:pt x="93" y="502"/>
                </a:lnTo>
                <a:lnTo>
                  <a:pt x="100" y="509"/>
                </a:lnTo>
                <a:lnTo>
                  <a:pt x="107" y="516"/>
                </a:lnTo>
                <a:lnTo>
                  <a:pt x="114" y="524"/>
                </a:lnTo>
                <a:lnTo>
                  <a:pt x="128" y="531"/>
                </a:lnTo>
                <a:lnTo>
                  <a:pt x="136" y="531"/>
                </a:lnTo>
                <a:lnTo>
                  <a:pt x="143" y="538"/>
                </a:lnTo>
                <a:lnTo>
                  <a:pt x="157" y="545"/>
                </a:lnTo>
                <a:lnTo>
                  <a:pt x="164" y="552"/>
                </a:lnTo>
                <a:lnTo>
                  <a:pt x="179" y="552"/>
                </a:lnTo>
                <a:lnTo>
                  <a:pt x="186" y="559"/>
                </a:lnTo>
                <a:lnTo>
                  <a:pt x="200" y="559"/>
                </a:lnTo>
                <a:lnTo>
                  <a:pt x="207" y="567"/>
                </a:lnTo>
                <a:lnTo>
                  <a:pt x="222" y="567"/>
                </a:lnTo>
                <a:lnTo>
                  <a:pt x="229" y="574"/>
                </a:lnTo>
                <a:lnTo>
                  <a:pt x="243" y="574"/>
                </a:lnTo>
                <a:lnTo>
                  <a:pt x="250" y="574"/>
                </a:lnTo>
                <a:lnTo>
                  <a:pt x="265" y="574"/>
                </a:lnTo>
                <a:lnTo>
                  <a:pt x="272" y="574"/>
                </a:lnTo>
                <a:lnTo>
                  <a:pt x="286" y="574"/>
                </a:lnTo>
                <a:lnTo>
                  <a:pt x="301" y="574"/>
                </a:lnTo>
                <a:lnTo>
                  <a:pt x="309" y="574"/>
                </a:lnTo>
                <a:lnTo>
                  <a:pt x="323" y="574"/>
                </a:lnTo>
                <a:lnTo>
                  <a:pt x="330" y="574"/>
                </a:lnTo>
                <a:lnTo>
                  <a:pt x="344" y="574"/>
                </a:lnTo>
                <a:lnTo>
                  <a:pt x="352" y="567"/>
                </a:lnTo>
                <a:lnTo>
                  <a:pt x="366" y="567"/>
                </a:lnTo>
                <a:lnTo>
                  <a:pt x="373" y="559"/>
                </a:lnTo>
                <a:lnTo>
                  <a:pt x="387" y="559"/>
                </a:lnTo>
                <a:lnTo>
                  <a:pt x="395" y="552"/>
                </a:lnTo>
                <a:lnTo>
                  <a:pt x="409" y="552"/>
                </a:lnTo>
                <a:lnTo>
                  <a:pt x="416" y="545"/>
                </a:lnTo>
                <a:lnTo>
                  <a:pt x="430" y="538"/>
                </a:lnTo>
                <a:lnTo>
                  <a:pt x="438" y="531"/>
                </a:lnTo>
                <a:lnTo>
                  <a:pt x="445" y="531"/>
                </a:lnTo>
                <a:lnTo>
                  <a:pt x="459" y="524"/>
                </a:lnTo>
                <a:lnTo>
                  <a:pt x="466" y="516"/>
                </a:lnTo>
                <a:lnTo>
                  <a:pt x="473" y="509"/>
                </a:lnTo>
                <a:lnTo>
                  <a:pt x="481" y="502"/>
                </a:lnTo>
                <a:lnTo>
                  <a:pt x="488" y="495"/>
                </a:lnTo>
                <a:lnTo>
                  <a:pt x="502" y="481"/>
                </a:lnTo>
                <a:lnTo>
                  <a:pt x="509" y="473"/>
                </a:lnTo>
                <a:lnTo>
                  <a:pt x="516" y="466"/>
                </a:lnTo>
                <a:lnTo>
                  <a:pt x="524" y="459"/>
                </a:lnTo>
                <a:lnTo>
                  <a:pt x="531" y="445"/>
                </a:lnTo>
                <a:lnTo>
                  <a:pt x="531" y="438"/>
                </a:lnTo>
                <a:lnTo>
                  <a:pt x="538" y="430"/>
                </a:lnTo>
                <a:lnTo>
                  <a:pt x="545" y="416"/>
                </a:lnTo>
                <a:lnTo>
                  <a:pt x="552" y="409"/>
                </a:lnTo>
                <a:lnTo>
                  <a:pt x="552" y="402"/>
                </a:lnTo>
                <a:lnTo>
                  <a:pt x="559" y="387"/>
                </a:lnTo>
                <a:lnTo>
                  <a:pt x="559" y="380"/>
                </a:lnTo>
                <a:lnTo>
                  <a:pt x="567" y="366"/>
                </a:lnTo>
                <a:lnTo>
                  <a:pt x="567" y="359"/>
                </a:lnTo>
                <a:lnTo>
                  <a:pt x="574" y="344"/>
                </a:lnTo>
                <a:lnTo>
                  <a:pt x="574" y="330"/>
                </a:lnTo>
                <a:lnTo>
                  <a:pt x="574" y="323"/>
                </a:lnTo>
                <a:lnTo>
                  <a:pt x="574" y="309"/>
                </a:lnTo>
                <a:lnTo>
                  <a:pt x="574" y="301"/>
                </a:lnTo>
                <a:lnTo>
                  <a:pt x="574" y="28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47" name=""/>
          <p:cNvSpPr/>
          <p:nvPr/>
        </p:nvSpPr>
        <p:spPr>
          <a:xfrm>
            <a:off x="878040" y="2971800"/>
            <a:ext cx="2260440" cy="2260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48" name=""/>
          <p:cNvSpPr/>
          <p:nvPr/>
        </p:nvSpPr>
        <p:spPr>
          <a:xfrm>
            <a:off x="1547640" y="3641760"/>
            <a:ext cx="919080" cy="919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49" name=""/>
          <p:cNvSpPr/>
          <p:nvPr/>
        </p:nvSpPr>
        <p:spPr>
          <a:xfrm>
            <a:off x="1392120" y="3486240"/>
            <a:ext cx="1231920" cy="123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50" name=""/>
          <p:cNvSpPr/>
          <p:nvPr/>
        </p:nvSpPr>
        <p:spPr>
          <a:xfrm flipH="1">
            <a:off x="1558800" y="3995640"/>
            <a:ext cx="8971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1" name=""/>
          <p:cNvSpPr/>
          <p:nvPr/>
        </p:nvSpPr>
        <p:spPr>
          <a:xfrm flipH="1">
            <a:off x="1547640" y="4195800"/>
            <a:ext cx="908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752" name=""/>
          <p:cNvGrpSpPr/>
          <p:nvPr/>
        </p:nvGrpSpPr>
        <p:grpSpPr>
          <a:xfrm>
            <a:off x="2046240" y="3122640"/>
            <a:ext cx="0" cy="1760400"/>
            <a:chOff x="2046240" y="3122640"/>
            <a:chExt cx="0" cy="1760400"/>
          </a:xfrm>
        </p:grpSpPr>
        <p:sp>
          <p:nvSpPr>
            <p:cNvPr id="8753" name=""/>
            <p:cNvSpPr/>
            <p:nvPr/>
          </p:nvSpPr>
          <p:spPr>
            <a:xfrm flipV="1">
              <a:off x="2046240" y="4307040"/>
              <a:ext cx="0" cy="576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4" name=""/>
            <p:cNvSpPr/>
            <p:nvPr/>
          </p:nvSpPr>
          <p:spPr>
            <a:xfrm flipV="1">
              <a:off x="2046240" y="4014720"/>
              <a:ext cx="0" cy="146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5" name=""/>
            <p:cNvSpPr/>
            <p:nvPr/>
          </p:nvSpPr>
          <p:spPr>
            <a:xfrm flipV="1">
              <a:off x="2046240" y="3122640"/>
              <a:ext cx="0" cy="74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756" name=""/>
          <p:cNvGrpSpPr/>
          <p:nvPr/>
        </p:nvGrpSpPr>
        <p:grpSpPr>
          <a:xfrm>
            <a:off x="1244520" y="4092480"/>
            <a:ext cx="1760760" cy="0"/>
            <a:chOff x="1244520" y="4092480"/>
            <a:chExt cx="1760760" cy="0"/>
          </a:xfrm>
        </p:grpSpPr>
        <p:sp>
          <p:nvSpPr>
            <p:cNvPr id="8757" name=""/>
            <p:cNvSpPr/>
            <p:nvPr/>
          </p:nvSpPr>
          <p:spPr>
            <a:xfrm>
              <a:off x="1244520" y="4092480"/>
              <a:ext cx="576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8" name=""/>
            <p:cNvSpPr/>
            <p:nvPr/>
          </p:nvSpPr>
          <p:spPr>
            <a:xfrm>
              <a:off x="1967040" y="4092480"/>
              <a:ext cx="145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9" name=""/>
            <p:cNvSpPr/>
            <p:nvPr/>
          </p:nvSpPr>
          <p:spPr>
            <a:xfrm>
              <a:off x="2263680" y="4092480"/>
              <a:ext cx="741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760" name=""/>
          <p:cNvSpPr txBox="1"/>
          <p:nvPr/>
        </p:nvSpPr>
        <p:spPr>
          <a:xfrm>
            <a:off x="1947960" y="433440"/>
            <a:ext cx="527688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ingle Datum Axis From </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Two Datum Features (RFS)</a:t>
            </a:r>
            <a:endParaRPr b="0" lang="en-US" sz="3600" spc="-1" strike="noStrike">
              <a:solidFill>
                <a:srgbClr val="000000"/>
              </a:solidFill>
              <a:latin typeface="Arial"/>
            </a:endParaRPr>
          </a:p>
        </p:txBody>
      </p:sp>
      <p:sp>
        <p:nvSpPr>
          <p:cNvPr id="8761" name=""/>
          <p:cNvSpPr txBox="1"/>
          <p:nvPr/>
        </p:nvSpPr>
        <p:spPr>
          <a:xfrm>
            <a:off x="1522440" y="17812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762" name=""/>
          <p:cNvSpPr/>
          <p:nvPr/>
        </p:nvSpPr>
        <p:spPr>
          <a:xfrm>
            <a:off x="4656240" y="4165560"/>
            <a:ext cx="0" cy="225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3" name=""/>
          <p:cNvSpPr txBox="1"/>
          <p:nvPr/>
        </p:nvSpPr>
        <p:spPr>
          <a:xfrm>
            <a:off x="631800" y="5621400"/>
            <a:ext cx="247032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Example Number O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64" name=""/>
          <p:cNvSpPr/>
          <p:nvPr/>
        </p:nvSpPr>
        <p:spPr>
          <a:xfrm>
            <a:off x="4786200" y="4397400"/>
            <a:ext cx="692640" cy="1080000"/>
          </a:xfrm>
          <a:custGeom>
            <a:avLst/>
            <a:gdLst/>
            <a:ahLst/>
            <a:rect l="0" t="0" r="r" b="b"/>
            <a:pathLst>
              <a:path fill="none" w="1924" h="3000">
                <a:moveTo>
                  <a:pt x="0" y="0"/>
                </a:moveTo>
                <a:lnTo>
                  <a:pt x="1328" y="3000"/>
                </a:lnTo>
                <a:lnTo>
                  <a:pt x="1924" y="300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65" name=""/>
          <p:cNvSpPr/>
          <p:nvPr/>
        </p:nvSpPr>
        <p:spPr>
          <a:xfrm>
            <a:off x="4697280" y="4202280"/>
            <a:ext cx="122760" cy="208440"/>
          </a:xfrm>
          <a:custGeom>
            <a:avLst/>
            <a:gdLst/>
            <a:ahLst/>
            <a:rect l="0" t="0" r="r" b="b"/>
            <a:pathLst>
              <a:path w="341" h="579">
                <a:moveTo>
                  <a:pt x="341" y="501"/>
                </a:moveTo>
                <a:lnTo>
                  <a:pt x="152" y="579"/>
                </a:lnTo>
                <a:lnTo>
                  <a:pt x="0" y="0"/>
                </a:lnTo>
                <a:lnTo>
                  <a:pt x="341" y="501"/>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66" name=""/>
          <p:cNvSpPr/>
          <p:nvPr/>
        </p:nvSpPr>
        <p:spPr>
          <a:xfrm>
            <a:off x="8016840" y="3178080"/>
            <a:ext cx="0" cy="185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7" name=""/>
          <p:cNvSpPr/>
          <p:nvPr/>
        </p:nvSpPr>
        <p:spPr>
          <a:xfrm>
            <a:off x="6904080" y="2963880"/>
            <a:ext cx="559080" cy="2286360"/>
          </a:xfrm>
          <a:custGeom>
            <a:avLst/>
            <a:gdLst/>
            <a:ahLst/>
            <a:rect l="0" t="0" r="r" b="b"/>
            <a:pathLst>
              <a:path fill="none" w="1553" h="6351">
                <a:moveTo>
                  <a:pt x="0" y="6351"/>
                </a:moveTo>
                <a:lnTo>
                  <a:pt x="0" y="0"/>
                </a:lnTo>
                <a:lnTo>
                  <a:pt x="1553" y="0"/>
                </a:lnTo>
                <a:lnTo>
                  <a:pt x="1553" y="6351"/>
                </a:lnTo>
                <a:lnTo>
                  <a:pt x="0" y="6351"/>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68" name=""/>
          <p:cNvSpPr/>
          <p:nvPr/>
        </p:nvSpPr>
        <p:spPr>
          <a:xfrm>
            <a:off x="7537320" y="5249880"/>
            <a:ext cx="760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9" name=""/>
          <p:cNvSpPr/>
          <p:nvPr/>
        </p:nvSpPr>
        <p:spPr>
          <a:xfrm>
            <a:off x="7978680" y="5037120"/>
            <a:ext cx="71640" cy="213120"/>
          </a:xfrm>
          <a:custGeom>
            <a:avLst/>
            <a:gdLst/>
            <a:ahLst/>
            <a:rect l="0" t="0" r="r" b="b"/>
            <a:pathLst>
              <a:path w="199" h="592">
                <a:moveTo>
                  <a:pt x="0" y="0"/>
                </a:moveTo>
                <a:lnTo>
                  <a:pt x="199" y="0"/>
                </a:lnTo>
                <a:lnTo>
                  <a:pt x="103" y="592"/>
                </a:lnTo>
                <a:lnTo>
                  <a:pt x="0" y="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70" name=""/>
          <p:cNvSpPr/>
          <p:nvPr/>
        </p:nvSpPr>
        <p:spPr>
          <a:xfrm>
            <a:off x="7537320" y="2963880"/>
            <a:ext cx="760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1" name=""/>
          <p:cNvSpPr/>
          <p:nvPr/>
        </p:nvSpPr>
        <p:spPr>
          <a:xfrm flipV="1">
            <a:off x="6904080" y="2135160"/>
            <a:ext cx="0" cy="754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2" name=""/>
          <p:cNvSpPr/>
          <p:nvPr/>
        </p:nvSpPr>
        <p:spPr>
          <a:xfrm flipV="1">
            <a:off x="4656240" y="2135160"/>
            <a:ext cx="0" cy="1897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3" name=""/>
          <p:cNvSpPr/>
          <p:nvPr/>
        </p:nvSpPr>
        <p:spPr>
          <a:xfrm flipH="1">
            <a:off x="6100920" y="2249640"/>
            <a:ext cx="588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4" name=""/>
          <p:cNvSpPr/>
          <p:nvPr/>
        </p:nvSpPr>
        <p:spPr>
          <a:xfrm>
            <a:off x="4871880" y="2249640"/>
            <a:ext cx="7160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5" name=""/>
          <p:cNvSpPr/>
          <p:nvPr/>
        </p:nvSpPr>
        <p:spPr>
          <a:xfrm>
            <a:off x="6689880" y="2212920"/>
            <a:ext cx="214560" cy="73440"/>
          </a:xfrm>
          <a:custGeom>
            <a:avLst/>
            <a:gdLst/>
            <a:ahLst/>
            <a:rect l="0" t="0" r="r" b="b"/>
            <a:pathLst>
              <a:path w="596" h="204">
                <a:moveTo>
                  <a:pt x="0" y="0"/>
                </a:moveTo>
                <a:lnTo>
                  <a:pt x="0" y="204"/>
                </a:lnTo>
                <a:lnTo>
                  <a:pt x="596" y="102"/>
                </a:lnTo>
                <a:lnTo>
                  <a:pt x="0" y="0"/>
                </a:lnTo>
                <a:close/>
              </a:path>
            </a:pathLst>
          </a:custGeom>
          <a:solidFill>
            <a:srgbClr val="f2fefd"/>
          </a:solidFill>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8776" name=""/>
          <p:cNvSpPr/>
          <p:nvPr/>
        </p:nvSpPr>
        <p:spPr>
          <a:xfrm>
            <a:off x="4656240" y="2212920"/>
            <a:ext cx="216360" cy="73440"/>
          </a:xfrm>
          <a:custGeom>
            <a:avLst/>
            <a:gdLst/>
            <a:ahLst/>
            <a:rect l="0" t="0" r="r" b="b"/>
            <a:pathLst>
              <a:path w="601" h="204">
                <a:moveTo>
                  <a:pt x="601" y="0"/>
                </a:moveTo>
                <a:lnTo>
                  <a:pt x="601" y="204"/>
                </a:lnTo>
                <a:lnTo>
                  <a:pt x="0" y="102"/>
                </a:lnTo>
                <a:lnTo>
                  <a:pt x="601" y="0"/>
                </a:lnTo>
                <a:close/>
              </a:path>
            </a:pathLst>
          </a:custGeom>
          <a:solidFill>
            <a:srgbClr val="f2fefd"/>
          </a:solidFill>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8777" name=""/>
          <p:cNvSpPr/>
          <p:nvPr/>
        </p:nvSpPr>
        <p:spPr>
          <a:xfrm>
            <a:off x="5587920" y="2111400"/>
            <a:ext cx="503640" cy="298800"/>
          </a:xfrm>
          <a:custGeom>
            <a:avLst/>
            <a:gdLst/>
            <a:ahLst/>
            <a:rect l="0" t="0" r="r" b="b"/>
            <a:pathLst>
              <a:path fill="none" w="1399" h="830">
                <a:moveTo>
                  <a:pt x="0" y="830"/>
                </a:moveTo>
                <a:lnTo>
                  <a:pt x="1399" y="830"/>
                </a:lnTo>
                <a:lnTo>
                  <a:pt x="1399" y="0"/>
                </a:lnTo>
                <a:lnTo>
                  <a:pt x="0" y="0"/>
                </a:lnTo>
                <a:lnTo>
                  <a:pt x="0" y="8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78" name=""/>
          <p:cNvSpPr/>
          <p:nvPr/>
        </p:nvSpPr>
        <p:spPr>
          <a:xfrm flipH="1">
            <a:off x="4235400" y="4106880"/>
            <a:ext cx="3621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9" name=""/>
          <p:cNvSpPr/>
          <p:nvPr/>
        </p:nvSpPr>
        <p:spPr>
          <a:xfrm>
            <a:off x="4302000" y="3646440"/>
            <a:ext cx="1657800" cy="918000"/>
          </a:xfrm>
          <a:custGeom>
            <a:avLst/>
            <a:gdLst/>
            <a:ahLst/>
            <a:rect l="0" t="0" r="r" b="b"/>
            <a:pathLst>
              <a:path fill="none" w="4605" h="2550">
                <a:moveTo>
                  <a:pt x="0" y="0"/>
                </a:moveTo>
                <a:lnTo>
                  <a:pt x="0" y="2550"/>
                </a:lnTo>
                <a:lnTo>
                  <a:pt x="4605" y="2550"/>
                </a:lnTo>
                <a:lnTo>
                  <a:pt x="4605"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80" name=""/>
          <p:cNvSpPr/>
          <p:nvPr/>
        </p:nvSpPr>
        <p:spPr>
          <a:xfrm>
            <a:off x="4043520" y="3646440"/>
            <a:ext cx="73440" cy="214560"/>
          </a:xfrm>
          <a:custGeom>
            <a:avLst/>
            <a:gdLst/>
            <a:ahLst/>
            <a:rect l="0" t="0" r="r" b="b"/>
            <a:pathLst>
              <a:path w="204" h="596">
                <a:moveTo>
                  <a:pt x="0" y="596"/>
                </a:moveTo>
                <a:lnTo>
                  <a:pt x="204" y="596"/>
                </a:lnTo>
                <a:lnTo>
                  <a:pt x="102" y="0"/>
                </a:lnTo>
                <a:lnTo>
                  <a:pt x="0" y="596"/>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81" name=""/>
          <p:cNvSpPr/>
          <p:nvPr/>
        </p:nvSpPr>
        <p:spPr>
          <a:xfrm flipV="1">
            <a:off x="4078440" y="3860640"/>
            <a:ext cx="0" cy="490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2" name=""/>
          <p:cNvSpPr/>
          <p:nvPr/>
        </p:nvSpPr>
        <p:spPr>
          <a:xfrm flipH="1">
            <a:off x="3865680" y="4564080"/>
            <a:ext cx="360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3" name=""/>
          <p:cNvSpPr/>
          <p:nvPr/>
        </p:nvSpPr>
        <p:spPr>
          <a:xfrm>
            <a:off x="4043520" y="4351320"/>
            <a:ext cx="73440" cy="213120"/>
          </a:xfrm>
          <a:custGeom>
            <a:avLst/>
            <a:gdLst/>
            <a:ahLst/>
            <a:rect l="0" t="0" r="r" b="b"/>
            <a:pathLst>
              <a:path w="204" h="592">
                <a:moveTo>
                  <a:pt x="0" y="0"/>
                </a:moveTo>
                <a:lnTo>
                  <a:pt x="204" y="0"/>
                </a:lnTo>
                <a:lnTo>
                  <a:pt x="102" y="592"/>
                </a:lnTo>
                <a:lnTo>
                  <a:pt x="0" y="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84" name=""/>
          <p:cNvSpPr/>
          <p:nvPr/>
        </p:nvSpPr>
        <p:spPr>
          <a:xfrm>
            <a:off x="3932280" y="3062160"/>
            <a:ext cx="297360" cy="295560"/>
          </a:xfrm>
          <a:custGeom>
            <a:avLst/>
            <a:gdLst/>
            <a:ahLst/>
            <a:rect l="0" t="0" r="r" b="b"/>
            <a:pathLst>
              <a:path fill="none" w="826" h="821">
                <a:moveTo>
                  <a:pt x="0" y="821"/>
                </a:moveTo>
                <a:lnTo>
                  <a:pt x="0" y="0"/>
                </a:lnTo>
                <a:lnTo>
                  <a:pt x="826" y="0"/>
                </a:lnTo>
                <a:lnTo>
                  <a:pt x="826" y="821"/>
                </a:lnTo>
                <a:lnTo>
                  <a:pt x="0" y="821"/>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85" name=""/>
          <p:cNvSpPr/>
          <p:nvPr/>
        </p:nvSpPr>
        <p:spPr>
          <a:xfrm>
            <a:off x="4078440" y="3357720"/>
            <a:ext cx="0" cy="288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6" name=""/>
          <p:cNvSpPr/>
          <p:nvPr/>
        </p:nvSpPr>
        <p:spPr>
          <a:xfrm>
            <a:off x="3994200" y="3497400"/>
            <a:ext cx="170280" cy="149760"/>
          </a:xfrm>
          <a:custGeom>
            <a:avLst/>
            <a:gdLst/>
            <a:ahLst/>
            <a:rect l="0" t="0" r="r" b="b"/>
            <a:pathLst>
              <a:path w="473" h="416">
                <a:moveTo>
                  <a:pt x="0" y="416"/>
                </a:moveTo>
                <a:lnTo>
                  <a:pt x="236" y="0"/>
                </a:lnTo>
                <a:lnTo>
                  <a:pt x="473" y="416"/>
                </a:lnTo>
                <a:lnTo>
                  <a:pt x="0" y="416"/>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87" name=""/>
          <p:cNvSpPr/>
          <p:nvPr/>
        </p:nvSpPr>
        <p:spPr>
          <a:xfrm flipH="1">
            <a:off x="3994200" y="3497400"/>
            <a:ext cx="84240" cy="14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8" name=""/>
          <p:cNvSpPr/>
          <p:nvPr/>
        </p:nvSpPr>
        <p:spPr>
          <a:xfrm flipH="1" flipV="1">
            <a:off x="4078440" y="3497400"/>
            <a:ext cx="85680" cy="14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89" name=""/>
          <p:cNvSpPr/>
          <p:nvPr/>
        </p:nvSpPr>
        <p:spPr>
          <a:xfrm flipH="1">
            <a:off x="3994200" y="3646440"/>
            <a:ext cx="169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0" name=""/>
          <p:cNvSpPr/>
          <p:nvPr/>
        </p:nvSpPr>
        <p:spPr>
          <a:xfrm flipH="1">
            <a:off x="3865680" y="3646440"/>
            <a:ext cx="360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1" name=""/>
          <p:cNvSpPr/>
          <p:nvPr/>
        </p:nvSpPr>
        <p:spPr>
          <a:xfrm>
            <a:off x="5959440" y="3489480"/>
            <a:ext cx="945000" cy="1233720"/>
          </a:xfrm>
          <a:custGeom>
            <a:avLst/>
            <a:gdLst/>
            <a:ahLst/>
            <a:rect l="0" t="0" r="r" b="b"/>
            <a:pathLst>
              <a:path fill="none" w="2625" h="3427">
                <a:moveTo>
                  <a:pt x="0" y="3427"/>
                </a:moveTo>
                <a:lnTo>
                  <a:pt x="0" y="0"/>
                </a:lnTo>
                <a:lnTo>
                  <a:pt x="2625" y="0"/>
                </a:lnTo>
                <a:lnTo>
                  <a:pt x="2625" y="3427"/>
                </a:lnTo>
                <a:lnTo>
                  <a:pt x="0" y="3427"/>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792" name=""/>
          <p:cNvSpPr/>
          <p:nvPr/>
        </p:nvSpPr>
        <p:spPr>
          <a:xfrm>
            <a:off x="4791240" y="4106880"/>
            <a:ext cx="576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3" name=""/>
          <p:cNvSpPr/>
          <p:nvPr/>
        </p:nvSpPr>
        <p:spPr>
          <a:xfrm>
            <a:off x="5513400" y="4106880"/>
            <a:ext cx="1461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4" name=""/>
          <p:cNvSpPr/>
          <p:nvPr/>
        </p:nvSpPr>
        <p:spPr>
          <a:xfrm>
            <a:off x="5810400" y="4106880"/>
            <a:ext cx="741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5" name=""/>
          <p:cNvSpPr/>
          <p:nvPr/>
        </p:nvSpPr>
        <p:spPr>
          <a:xfrm>
            <a:off x="6699240" y="4106880"/>
            <a:ext cx="147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6" name=""/>
          <p:cNvSpPr/>
          <p:nvPr/>
        </p:nvSpPr>
        <p:spPr>
          <a:xfrm>
            <a:off x="6997680" y="4106880"/>
            <a:ext cx="571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7" name=""/>
          <p:cNvSpPr/>
          <p:nvPr/>
        </p:nvSpPr>
        <p:spPr>
          <a:xfrm>
            <a:off x="4656240" y="4165560"/>
            <a:ext cx="0" cy="436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8" name=""/>
          <p:cNvSpPr/>
          <p:nvPr/>
        </p:nvSpPr>
        <p:spPr>
          <a:xfrm>
            <a:off x="4716360" y="4106880"/>
            <a:ext cx="74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99" name=""/>
          <p:cNvSpPr/>
          <p:nvPr/>
        </p:nvSpPr>
        <p:spPr>
          <a:xfrm flipV="1">
            <a:off x="4656240" y="397188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8800" name=""/>
          <p:cNvSpPr/>
          <p:nvPr/>
        </p:nvSpPr>
        <p:spPr>
          <a:xfrm flipV="1">
            <a:off x="4656240" y="4078440"/>
            <a:ext cx="0" cy="58680"/>
          </a:xfrm>
          <a:prstGeom prst="line">
            <a:avLst/>
          </a:prstGeom>
          <a:ln w="12600">
            <a:solidFill>
              <a:srgbClr val="f2fefd"/>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801" name=""/>
          <p:cNvSpPr/>
          <p:nvPr/>
        </p:nvSpPr>
        <p:spPr>
          <a:xfrm>
            <a:off x="4627440" y="4106880"/>
            <a:ext cx="60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02" name=""/>
          <p:cNvSpPr/>
          <p:nvPr/>
        </p:nvSpPr>
        <p:spPr>
          <a:xfrm>
            <a:off x="4552920" y="4003560"/>
            <a:ext cx="206640" cy="206640"/>
          </a:xfrm>
          <a:custGeom>
            <a:avLst/>
            <a:gdLst/>
            <a:ahLst/>
            <a:rect l="0" t="0" r="r" b="b"/>
            <a:pathLst>
              <a:path fill="none" w="574" h="574">
                <a:moveTo>
                  <a:pt x="574" y="286"/>
                </a:moveTo>
                <a:lnTo>
                  <a:pt x="574" y="272"/>
                </a:lnTo>
                <a:lnTo>
                  <a:pt x="574" y="265"/>
                </a:lnTo>
                <a:lnTo>
                  <a:pt x="574" y="250"/>
                </a:lnTo>
                <a:lnTo>
                  <a:pt x="574" y="243"/>
                </a:lnTo>
                <a:lnTo>
                  <a:pt x="574" y="229"/>
                </a:lnTo>
                <a:lnTo>
                  <a:pt x="567" y="222"/>
                </a:lnTo>
                <a:lnTo>
                  <a:pt x="567" y="207"/>
                </a:lnTo>
                <a:lnTo>
                  <a:pt x="559" y="200"/>
                </a:lnTo>
                <a:lnTo>
                  <a:pt x="559" y="186"/>
                </a:lnTo>
                <a:lnTo>
                  <a:pt x="552" y="179"/>
                </a:lnTo>
                <a:lnTo>
                  <a:pt x="552" y="164"/>
                </a:lnTo>
                <a:lnTo>
                  <a:pt x="545" y="157"/>
                </a:lnTo>
                <a:lnTo>
                  <a:pt x="538" y="143"/>
                </a:lnTo>
                <a:lnTo>
                  <a:pt x="531" y="136"/>
                </a:lnTo>
                <a:lnTo>
                  <a:pt x="531" y="128"/>
                </a:lnTo>
                <a:lnTo>
                  <a:pt x="524" y="114"/>
                </a:lnTo>
                <a:lnTo>
                  <a:pt x="516" y="107"/>
                </a:lnTo>
                <a:lnTo>
                  <a:pt x="509" y="100"/>
                </a:lnTo>
                <a:lnTo>
                  <a:pt x="502" y="93"/>
                </a:lnTo>
                <a:lnTo>
                  <a:pt x="488" y="85"/>
                </a:lnTo>
                <a:lnTo>
                  <a:pt x="481" y="71"/>
                </a:lnTo>
                <a:lnTo>
                  <a:pt x="473" y="64"/>
                </a:lnTo>
                <a:lnTo>
                  <a:pt x="466" y="57"/>
                </a:lnTo>
                <a:lnTo>
                  <a:pt x="459" y="50"/>
                </a:lnTo>
                <a:lnTo>
                  <a:pt x="445" y="50"/>
                </a:lnTo>
                <a:lnTo>
                  <a:pt x="438" y="42"/>
                </a:lnTo>
                <a:lnTo>
                  <a:pt x="430" y="35"/>
                </a:lnTo>
                <a:lnTo>
                  <a:pt x="416" y="28"/>
                </a:lnTo>
                <a:lnTo>
                  <a:pt x="409" y="21"/>
                </a:lnTo>
                <a:lnTo>
                  <a:pt x="395" y="21"/>
                </a:lnTo>
                <a:lnTo>
                  <a:pt x="387" y="14"/>
                </a:lnTo>
                <a:lnTo>
                  <a:pt x="373" y="14"/>
                </a:lnTo>
                <a:lnTo>
                  <a:pt x="366" y="7"/>
                </a:lnTo>
                <a:lnTo>
                  <a:pt x="352" y="7"/>
                </a:lnTo>
                <a:lnTo>
                  <a:pt x="344" y="7"/>
                </a:lnTo>
                <a:lnTo>
                  <a:pt x="330" y="0"/>
                </a:lnTo>
                <a:lnTo>
                  <a:pt x="323" y="0"/>
                </a:lnTo>
                <a:lnTo>
                  <a:pt x="309" y="0"/>
                </a:lnTo>
                <a:lnTo>
                  <a:pt x="301" y="0"/>
                </a:lnTo>
                <a:lnTo>
                  <a:pt x="286" y="0"/>
                </a:lnTo>
                <a:lnTo>
                  <a:pt x="272" y="0"/>
                </a:lnTo>
                <a:lnTo>
                  <a:pt x="265" y="0"/>
                </a:lnTo>
                <a:lnTo>
                  <a:pt x="250" y="0"/>
                </a:lnTo>
                <a:lnTo>
                  <a:pt x="243" y="0"/>
                </a:lnTo>
                <a:lnTo>
                  <a:pt x="229" y="7"/>
                </a:lnTo>
                <a:lnTo>
                  <a:pt x="222" y="7"/>
                </a:lnTo>
                <a:lnTo>
                  <a:pt x="207" y="7"/>
                </a:lnTo>
                <a:lnTo>
                  <a:pt x="200" y="14"/>
                </a:lnTo>
                <a:lnTo>
                  <a:pt x="186" y="14"/>
                </a:lnTo>
                <a:lnTo>
                  <a:pt x="179" y="21"/>
                </a:lnTo>
                <a:lnTo>
                  <a:pt x="164" y="21"/>
                </a:lnTo>
                <a:lnTo>
                  <a:pt x="157" y="28"/>
                </a:lnTo>
                <a:lnTo>
                  <a:pt x="143" y="35"/>
                </a:lnTo>
                <a:lnTo>
                  <a:pt x="136" y="42"/>
                </a:lnTo>
                <a:lnTo>
                  <a:pt x="128" y="50"/>
                </a:lnTo>
                <a:lnTo>
                  <a:pt x="114" y="50"/>
                </a:lnTo>
                <a:lnTo>
                  <a:pt x="107" y="57"/>
                </a:lnTo>
                <a:lnTo>
                  <a:pt x="100" y="64"/>
                </a:lnTo>
                <a:lnTo>
                  <a:pt x="93" y="71"/>
                </a:lnTo>
                <a:lnTo>
                  <a:pt x="78" y="85"/>
                </a:lnTo>
                <a:lnTo>
                  <a:pt x="71" y="93"/>
                </a:lnTo>
                <a:lnTo>
                  <a:pt x="64" y="100"/>
                </a:lnTo>
                <a:lnTo>
                  <a:pt x="57" y="107"/>
                </a:lnTo>
                <a:lnTo>
                  <a:pt x="50" y="114"/>
                </a:lnTo>
                <a:lnTo>
                  <a:pt x="42" y="128"/>
                </a:lnTo>
                <a:lnTo>
                  <a:pt x="42" y="136"/>
                </a:lnTo>
                <a:lnTo>
                  <a:pt x="35" y="143"/>
                </a:lnTo>
                <a:lnTo>
                  <a:pt x="28" y="157"/>
                </a:lnTo>
                <a:lnTo>
                  <a:pt x="21" y="164"/>
                </a:lnTo>
                <a:lnTo>
                  <a:pt x="21" y="179"/>
                </a:lnTo>
                <a:lnTo>
                  <a:pt x="14" y="186"/>
                </a:lnTo>
                <a:lnTo>
                  <a:pt x="14" y="200"/>
                </a:lnTo>
                <a:lnTo>
                  <a:pt x="7" y="207"/>
                </a:lnTo>
                <a:lnTo>
                  <a:pt x="7" y="222"/>
                </a:lnTo>
                <a:lnTo>
                  <a:pt x="0" y="229"/>
                </a:lnTo>
                <a:lnTo>
                  <a:pt x="0" y="243"/>
                </a:lnTo>
                <a:lnTo>
                  <a:pt x="0" y="250"/>
                </a:lnTo>
                <a:lnTo>
                  <a:pt x="0" y="265"/>
                </a:lnTo>
                <a:lnTo>
                  <a:pt x="0" y="272"/>
                </a:lnTo>
                <a:lnTo>
                  <a:pt x="0" y="286"/>
                </a:lnTo>
                <a:lnTo>
                  <a:pt x="0" y="301"/>
                </a:lnTo>
                <a:lnTo>
                  <a:pt x="0" y="309"/>
                </a:lnTo>
                <a:lnTo>
                  <a:pt x="0" y="323"/>
                </a:lnTo>
                <a:lnTo>
                  <a:pt x="0" y="330"/>
                </a:lnTo>
                <a:lnTo>
                  <a:pt x="0" y="344"/>
                </a:lnTo>
                <a:lnTo>
                  <a:pt x="7" y="359"/>
                </a:lnTo>
                <a:lnTo>
                  <a:pt x="7" y="366"/>
                </a:lnTo>
                <a:lnTo>
                  <a:pt x="14" y="380"/>
                </a:lnTo>
                <a:lnTo>
                  <a:pt x="14" y="387"/>
                </a:lnTo>
                <a:lnTo>
                  <a:pt x="21" y="402"/>
                </a:lnTo>
                <a:lnTo>
                  <a:pt x="21" y="409"/>
                </a:lnTo>
                <a:lnTo>
                  <a:pt x="28" y="416"/>
                </a:lnTo>
                <a:lnTo>
                  <a:pt x="35" y="430"/>
                </a:lnTo>
                <a:lnTo>
                  <a:pt x="42" y="438"/>
                </a:lnTo>
                <a:lnTo>
                  <a:pt x="42" y="445"/>
                </a:lnTo>
                <a:lnTo>
                  <a:pt x="50" y="459"/>
                </a:lnTo>
                <a:lnTo>
                  <a:pt x="57" y="466"/>
                </a:lnTo>
                <a:lnTo>
                  <a:pt x="64" y="473"/>
                </a:lnTo>
                <a:lnTo>
                  <a:pt x="71" y="481"/>
                </a:lnTo>
                <a:lnTo>
                  <a:pt x="78" y="495"/>
                </a:lnTo>
                <a:lnTo>
                  <a:pt x="93" y="502"/>
                </a:lnTo>
                <a:lnTo>
                  <a:pt x="100" y="509"/>
                </a:lnTo>
                <a:lnTo>
                  <a:pt x="107" y="516"/>
                </a:lnTo>
                <a:lnTo>
                  <a:pt x="114" y="524"/>
                </a:lnTo>
                <a:lnTo>
                  <a:pt x="128" y="531"/>
                </a:lnTo>
                <a:lnTo>
                  <a:pt x="136" y="531"/>
                </a:lnTo>
                <a:lnTo>
                  <a:pt x="143" y="538"/>
                </a:lnTo>
                <a:lnTo>
                  <a:pt x="157" y="545"/>
                </a:lnTo>
                <a:lnTo>
                  <a:pt x="164" y="552"/>
                </a:lnTo>
                <a:lnTo>
                  <a:pt x="179" y="552"/>
                </a:lnTo>
                <a:lnTo>
                  <a:pt x="186" y="559"/>
                </a:lnTo>
                <a:lnTo>
                  <a:pt x="200" y="559"/>
                </a:lnTo>
                <a:lnTo>
                  <a:pt x="207" y="567"/>
                </a:lnTo>
                <a:lnTo>
                  <a:pt x="222" y="567"/>
                </a:lnTo>
                <a:lnTo>
                  <a:pt x="229" y="574"/>
                </a:lnTo>
                <a:lnTo>
                  <a:pt x="243" y="574"/>
                </a:lnTo>
                <a:lnTo>
                  <a:pt x="250" y="574"/>
                </a:lnTo>
                <a:lnTo>
                  <a:pt x="265" y="574"/>
                </a:lnTo>
                <a:lnTo>
                  <a:pt x="272" y="574"/>
                </a:lnTo>
                <a:lnTo>
                  <a:pt x="286" y="574"/>
                </a:lnTo>
                <a:lnTo>
                  <a:pt x="301" y="574"/>
                </a:lnTo>
                <a:lnTo>
                  <a:pt x="309" y="574"/>
                </a:lnTo>
                <a:lnTo>
                  <a:pt x="323" y="574"/>
                </a:lnTo>
                <a:lnTo>
                  <a:pt x="330" y="574"/>
                </a:lnTo>
                <a:lnTo>
                  <a:pt x="344" y="574"/>
                </a:lnTo>
                <a:lnTo>
                  <a:pt x="352" y="567"/>
                </a:lnTo>
                <a:lnTo>
                  <a:pt x="366" y="567"/>
                </a:lnTo>
                <a:lnTo>
                  <a:pt x="373" y="559"/>
                </a:lnTo>
                <a:lnTo>
                  <a:pt x="387" y="559"/>
                </a:lnTo>
                <a:lnTo>
                  <a:pt x="395" y="552"/>
                </a:lnTo>
                <a:lnTo>
                  <a:pt x="409" y="552"/>
                </a:lnTo>
                <a:lnTo>
                  <a:pt x="416" y="545"/>
                </a:lnTo>
                <a:lnTo>
                  <a:pt x="430" y="538"/>
                </a:lnTo>
                <a:lnTo>
                  <a:pt x="438" y="531"/>
                </a:lnTo>
                <a:lnTo>
                  <a:pt x="445" y="531"/>
                </a:lnTo>
                <a:lnTo>
                  <a:pt x="459" y="524"/>
                </a:lnTo>
                <a:lnTo>
                  <a:pt x="466" y="516"/>
                </a:lnTo>
                <a:lnTo>
                  <a:pt x="473" y="509"/>
                </a:lnTo>
                <a:lnTo>
                  <a:pt x="481" y="502"/>
                </a:lnTo>
                <a:lnTo>
                  <a:pt x="488" y="495"/>
                </a:lnTo>
                <a:lnTo>
                  <a:pt x="502" y="481"/>
                </a:lnTo>
                <a:lnTo>
                  <a:pt x="509" y="473"/>
                </a:lnTo>
                <a:lnTo>
                  <a:pt x="516" y="466"/>
                </a:lnTo>
                <a:lnTo>
                  <a:pt x="524" y="459"/>
                </a:lnTo>
                <a:lnTo>
                  <a:pt x="531" y="445"/>
                </a:lnTo>
                <a:lnTo>
                  <a:pt x="531" y="438"/>
                </a:lnTo>
                <a:lnTo>
                  <a:pt x="538" y="430"/>
                </a:lnTo>
                <a:lnTo>
                  <a:pt x="545" y="416"/>
                </a:lnTo>
                <a:lnTo>
                  <a:pt x="552" y="409"/>
                </a:lnTo>
                <a:lnTo>
                  <a:pt x="552" y="402"/>
                </a:lnTo>
                <a:lnTo>
                  <a:pt x="559" y="387"/>
                </a:lnTo>
                <a:lnTo>
                  <a:pt x="559" y="380"/>
                </a:lnTo>
                <a:lnTo>
                  <a:pt x="567" y="366"/>
                </a:lnTo>
                <a:lnTo>
                  <a:pt x="567" y="359"/>
                </a:lnTo>
                <a:lnTo>
                  <a:pt x="574" y="344"/>
                </a:lnTo>
                <a:lnTo>
                  <a:pt x="574" y="330"/>
                </a:lnTo>
                <a:lnTo>
                  <a:pt x="574" y="323"/>
                </a:lnTo>
                <a:lnTo>
                  <a:pt x="574" y="309"/>
                </a:lnTo>
                <a:lnTo>
                  <a:pt x="574" y="301"/>
                </a:lnTo>
                <a:lnTo>
                  <a:pt x="574" y="28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03" name=""/>
          <p:cNvSpPr/>
          <p:nvPr/>
        </p:nvSpPr>
        <p:spPr>
          <a:xfrm flipV="1">
            <a:off x="6904080" y="2638440"/>
            <a:ext cx="0" cy="171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04" name=""/>
          <p:cNvGrpSpPr/>
          <p:nvPr/>
        </p:nvGrpSpPr>
        <p:grpSpPr>
          <a:xfrm>
            <a:off x="6904080" y="2421000"/>
            <a:ext cx="632160" cy="295560"/>
            <a:chOff x="6904080" y="2421000"/>
            <a:chExt cx="632160" cy="295560"/>
          </a:xfrm>
        </p:grpSpPr>
        <p:sp>
          <p:nvSpPr>
            <p:cNvPr id="8805" name=""/>
            <p:cNvSpPr/>
            <p:nvPr/>
          </p:nvSpPr>
          <p:spPr>
            <a:xfrm>
              <a:off x="7238880" y="2421000"/>
              <a:ext cx="297360" cy="295560"/>
            </a:xfrm>
            <a:custGeom>
              <a:avLst/>
              <a:gdLst/>
              <a:ahLst/>
              <a:rect l="0" t="0" r="r" b="b"/>
              <a:pathLst>
                <a:path fill="none" w="826" h="821">
                  <a:moveTo>
                    <a:pt x="0" y="821"/>
                  </a:moveTo>
                  <a:lnTo>
                    <a:pt x="0" y="0"/>
                  </a:lnTo>
                  <a:lnTo>
                    <a:pt x="826" y="0"/>
                  </a:lnTo>
                  <a:lnTo>
                    <a:pt x="826" y="821"/>
                  </a:lnTo>
                  <a:lnTo>
                    <a:pt x="0" y="821"/>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06" name=""/>
            <p:cNvSpPr/>
            <p:nvPr/>
          </p:nvSpPr>
          <p:spPr>
            <a:xfrm>
              <a:off x="6904080" y="2482920"/>
              <a:ext cx="146520" cy="171720"/>
            </a:xfrm>
            <a:custGeom>
              <a:avLst/>
              <a:gdLst/>
              <a:ahLst/>
              <a:rect l="0" t="0" r="r" b="b"/>
              <a:pathLst>
                <a:path w="407" h="477">
                  <a:moveTo>
                    <a:pt x="0" y="0"/>
                  </a:moveTo>
                  <a:lnTo>
                    <a:pt x="407" y="242"/>
                  </a:lnTo>
                  <a:lnTo>
                    <a:pt x="0" y="477"/>
                  </a:lnTo>
                  <a:lnTo>
                    <a:pt x="0" y="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07" name=""/>
            <p:cNvSpPr/>
            <p:nvPr/>
          </p:nvSpPr>
          <p:spPr>
            <a:xfrm flipH="1" flipV="1">
              <a:off x="6915240" y="2482920"/>
              <a:ext cx="14580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8808" name=""/>
            <p:cNvSpPr/>
            <p:nvPr/>
          </p:nvSpPr>
          <p:spPr>
            <a:xfrm flipV="1">
              <a:off x="6915240" y="2570040"/>
              <a:ext cx="145800" cy="84240"/>
            </a:xfrm>
            <a:prstGeom prst="line">
              <a:avLst/>
            </a:prstGeom>
            <a:ln w="12600">
              <a:solidFill>
                <a:srgbClr val="f2fefd"/>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8809" name=""/>
            <p:cNvSpPr/>
            <p:nvPr/>
          </p:nvSpPr>
          <p:spPr>
            <a:xfrm>
              <a:off x="7032600" y="2570040"/>
              <a:ext cx="2062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10" name=""/>
          <p:cNvSpPr/>
          <p:nvPr/>
        </p:nvSpPr>
        <p:spPr>
          <a:xfrm flipV="1">
            <a:off x="8016840" y="2674800"/>
            <a:ext cx="0" cy="2890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1" name=""/>
          <p:cNvSpPr/>
          <p:nvPr/>
        </p:nvSpPr>
        <p:spPr>
          <a:xfrm>
            <a:off x="7929720" y="2814480"/>
            <a:ext cx="173520" cy="149760"/>
          </a:xfrm>
          <a:custGeom>
            <a:avLst/>
            <a:gdLst/>
            <a:ahLst/>
            <a:rect l="0" t="0" r="r" b="b"/>
            <a:pathLst>
              <a:path w="482" h="416">
                <a:moveTo>
                  <a:pt x="0" y="416"/>
                </a:moveTo>
                <a:lnTo>
                  <a:pt x="237" y="0"/>
                </a:lnTo>
                <a:lnTo>
                  <a:pt x="482" y="416"/>
                </a:lnTo>
                <a:lnTo>
                  <a:pt x="0" y="416"/>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12" name=""/>
          <p:cNvSpPr/>
          <p:nvPr/>
        </p:nvSpPr>
        <p:spPr>
          <a:xfrm flipH="1">
            <a:off x="7929720" y="2814480"/>
            <a:ext cx="87120" cy="149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3" name=""/>
          <p:cNvSpPr/>
          <p:nvPr/>
        </p:nvSpPr>
        <p:spPr>
          <a:xfrm flipH="1" flipV="1">
            <a:off x="8016840" y="2814480"/>
            <a:ext cx="85680" cy="149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4" name=""/>
          <p:cNvSpPr/>
          <p:nvPr/>
        </p:nvSpPr>
        <p:spPr>
          <a:xfrm flipH="1">
            <a:off x="7929720" y="2963880"/>
            <a:ext cx="172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5" name=""/>
          <p:cNvSpPr/>
          <p:nvPr/>
        </p:nvSpPr>
        <p:spPr>
          <a:xfrm>
            <a:off x="7978680" y="2963880"/>
            <a:ext cx="71640" cy="214560"/>
          </a:xfrm>
          <a:custGeom>
            <a:avLst/>
            <a:gdLst/>
            <a:ahLst/>
            <a:rect l="0" t="0" r="r" b="b"/>
            <a:pathLst>
              <a:path w="199" h="596">
                <a:moveTo>
                  <a:pt x="0" y="596"/>
                </a:moveTo>
                <a:lnTo>
                  <a:pt x="199" y="596"/>
                </a:lnTo>
                <a:lnTo>
                  <a:pt x="103" y="0"/>
                </a:lnTo>
                <a:lnTo>
                  <a:pt x="0" y="596"/>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16" name=""/>
          <p:cNvSpPr/>
          <p:nvPr/>
        </p:nvSpPr>
        <p:spPr>
          <a:xfrm>
            <a:off x="7867800" y="2376360"/>
            <a:ext cx="297360" cy="298800"/>
          </a:xfrm>
          <a:custGeom>
            <a:avLst/>
            <a:gdLst/>
            <a:ahLst/>
            <a:rect l="0" t="0" r="r" b="b"/>
            <a:pathLst>
              <a:path fill="none" w="826" h="830">
                <a:moveTo>
                  <a:pt x="0" y="830"/>
                </a:moveTo>
                <a:lnTo>
                  <a:pt x="0" y="0"/>
                </a:lnTo>
                <a:lnTo>
                  <a:pt x="826" y="0"/>
                </a:lnTo>
                <a:lnTo>
                  <a:pt x="826" y="830"/>
                </a:lnTo>
                <a:lnTo>
                  <a:pt x="0" y="8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17" name=""/>
          <p:cNvSpPr/>
          <p:nvPr/>
        </p:nvSpPr>
        <p:spPr>
          <a:xfrm>
            <a:off x="878040" y="2971800"/>
            <a:ext cx="2260440" cy="2260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8" name=""/>
          <p:cNvSpPr/>
          <p:nvPr/>
        </p:nvSpPr>
        <p:spPr>
          <a:xfrm>
            <a:off x="1547640" y="3641760"/>
            <a:ext cx="919080" cy="919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19" name=""/>
          <p:cNvSpPr/>
          <p:nvPr/>
        </p:nvSpPr>
        <p:spPr>
          <a:xfrm>
            <a:off x="1392120" y="3486240"/>
            <a:ext cx="1231920" cy="1231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20" name=""/>
          <p:cNvSpPr/>
          <p:nvPr/>
        </p:nvSpPr>
        <p:spPr>
          <a:xfrm flipH="1">
            <a:off x="1558800" y="3995640"/>
            <a:ext cx="8971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1" name=""/>
          <p:cNvSpPr/>
          <p:nvPr/>
        </p:nvSpPr>
        <p:spPr>
          <a:xfrm flipH="1">
            <a:off x="1547640" y="4195800"/>
            <a:ext cx="908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22" name=""/>
          <p:cNvGrpSpPr/>
          <p:nvPr/>
        </p:nvGrpSpPr>
        <p:grpSpPr>
          <a:xfrm>
            <a:off x="2046240" y="3122640"/>
            <a:ext cx="0" cy="1760400"/>
            <a:chOff x="2046240" y="3122640"/>
            <a:chExt cx="0" cy="1760400"/>
          </a:xfrm>
        </p:grpSpPr>
        <p:sp>
          <p:nvSpPr>
            <p:cNvPr id="8823" name=""/>
            <p:cNvSpPr/>
            <p:nvPr/>
          </p:nvSpPr>
          <p:spPr>
            <a:xfrm flipV="1">
              <a:off x="2046240" y="4307040"/>
              <a:ext cx="0" cy="576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4" name=""/>
            <p:cNvSpPr/>
            <p:nvPr/>
          </p:nvSpPr>
          <p:spPr>
            <a:xfrm flipV="1">
              <a:off x="2046240" y="4014720"/>
              <a:ext cx="0" cy="146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5" name=""/>
            <p:cNvSpPr/>
            <p:nvPr/>
          </p:nvSpPr>
          <p:spPr>
            <a:xfrm flipV="1">
              <a:off x="2046240" y="3122640"/>
              <a:ext cx="0" cy="74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26" name=""/>
          <p:cNvGrpSpPr/>
          <p:nvPr/>
        </p:nvGrpSpPr>
        <p:grpSpPr>
          <a:xfrm>
            <a:off x="1244520" y="4092480"/>
            <a:ext cx="1760760" cy="0"/>
            <a:chOff x="1244520" y="4092480"/>
            <a:chExt cx="1760760" cy="0"/>
          </a:xfrm>
        </p:grpSpPr>
        <p:sp>
          <p:nvSpPr>
            <p:cNvPr id="8827" name=""/>
            <p:cNvSpPr/>
            <p:nvPr/>
          </p:nvSpPr>
          <p:spPr>
            <a:xfrm>
              <a:off x="1244520" y="4092480"/>
              <a:ext cx="576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8" name=""/>
            <p:cNvSpPr/>
            <p:nvPr/>
          </p:nvSpPr>
          <p:spPr>
            <a:xfrm>
              <a:off x="1967040" y="4092480"/>
              <a:ext cx="145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9" name=""/>
            <p:cNvSpPr/>
            <p:nvPr/>
          </p:nvSpPr>
          <p:spPr>
            <a:xfrm>
              <a:off x="2263680" y="4092480"/>
              <a:ext cx="741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30" name=""/>
          <p:cNvSpPr txBox="1"/>
          <p:nvPr/>
        </p:nvSpPr>
        <p:spPr>
          <a:xfrm>
            <a:off x="3925800" y="304308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A</a:t>
            </a:r>
            <a:endParaRPr b="0" lang="en-US" sz="1600" spc="-1" strike="noStrike">
              <a:solidFill>
                <a:srgbClr val="000000"/>
              </a:solidFill>
              <a:latin typeface="Arial"/>
            </a:endParaRPr>
          </a:p>
        </p:txBody>
      </p:sp>
      <p:sp>
        <p:nvSpPr>
          <p:cNvPr id="8831" name=""/>
          <p:cNvSpPr txBox="1"/>
          <p:nvPr/>
        </p:nvSpPr>
        <p:spPr>
          <a:xfrm>
            <a:off x="5643720" y="21016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32</a:t>
            </a:r>
            <a:endParaRPr b="0" lang="en-US" sz="1600" spc="-1" strike="noStrike">
              <a:solidFill>
                <a:srgbClr val="000000"/>
              </a:solidFill>
              <a:latin typeface="Arial"/>
            </a:endParaRPr>
          </a:p>
        </p:txBody>
      </p:sp>
      <p:sp>
        <p:nvSpPr>
          <p:cNvPr id="8832" name=""/>
          <p:cNvSpPr txBox="1"/>
          <p:nvPr/>
        </p:nvSpPr>
        <p:spPr>
          <a:xfrm>
            <a:off x="7846920" y="23464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B</a:t>
            </a:r>
            <a:endParaRPr b="0" lang="en-US" sz="1600" spc="-1" strike="noStrike">
              <a:solidFill>
                <a:srgbClr val="000000"/>
              </a:solidFill>
              <a:latin typeface="Arial"/>
            </a:endParaRPr>
          </a:p>
        </p:txBody>
      </p:sp>
      <p:sp>
        <p:nvSpPr>
          <p:cNvPr id="8833" name=""/>
          <p:cNvSpPr txBox="1"/>
          <p:nvPr/>
        </p:nvSpPr>
        <p:spPr>
          <a:xfrm>
            <a:off x="7226280" y="24130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C</a:t>
            </a:r>
            <a:endParaRPr b="0" lang="en-US" sz="1600" spc="-1" strike="noStrike">
              <a:solidFill>
                <a:srgbClr val="000000"/>
              </a:solidFill>
              <a:latin typeface="Arial"/>
            </a:endParaRPr>
          </a:p>
        </p:txBody>
      </p:sp>
      <p:sp>
        <p:nvSpPr>
          <p:cNvPr id="8834" name=""/>
          <p:cNvSpPr txBox="1"/>
          <p:nvPr/>
        </p:nvSpPr>
        <p:spPr>
          <a:xfrm>
            <a:off x="5749920" y="5330880"/>
            <a:ext cx="8618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2.3 - 2.5</a:t>
            </a:r>
            <a:endParaRPr b="0" lang="en-US" sz="1600" spc="-1" strike="noStrike">
              <a:solidFill>
                <a:srgbClr val="000000"/>
              </a:solidFill>
              <a:latin typeface="Arial"/>
            </a:endParaRPr>
          </a:p>
        </p:txBody>
      </p:sp>
      <p:grpSp>
        <p:nvGrpSpPr>
          <p:cNvPr id="8835" name=""/>
          <p:cNvGrpSpPr/>
          <p:nvPr/>
        </p:nvGrpSpPr>
        <p:grpSpPr>
          <a:xfrm>
            <a:off x="5559480" y="5373720"/>
            <a:ext cx="201600" cy="201600"/>
            <a:chOff x="5559480" y="5373720"/>
            <a:chExt cx="201600" cy="201600"/>
          </a:xfrm>
        </p:grpSpPr>
        <p:sp>
          <p:nvSpPr>
            <p:cNvPr id="8836" name=""/>
            <p:cNvSpPr/>
            <p:nvPr/>
          </p:nvSpPr>
          <p:spPr>
            <a:xfrm>
              <a:off x="5586480" y="539604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37" name=""/>
            <p:cNvSpPr/>
            <p:nvPr/>
          </p:nvSpPr>
          <p:spPr>
            <a:xfrm flipH="1">
              <a:off x="5559480" y="5373720"/>
              <a:ext cx="2016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8838" name=""/>
          <p:cNvGrpSpPr/>
          <p:nvPr/>
        </p:nvGrpSpPr>
        <p:grpSpPr>
          <a:xfrm>
            <a:off x="5324400" y="5683320"/>
            <a:ext cx="3314880" cy="385920"/>
            <a:chOff x="5324400" y="5683320"/>
            <a:chExt cx="3314880" cy="385920"/>
          </a:xfrm>
        </p:grpSpPr>
        <p:grpSp>
          <p:nvGrpSpPr>
            <p:cNvPr id="8839" name=""/>
            <p:cNvGrpSpPr/>
            <p:nvPr/>
          </p:nvGrpSpPr>
          <p:grpSpPr>
            <a:xfrm>
              <a:off x="5931000" y="5767560"/>
              <a:ext cx="201600" cy="201600"/>
              <a:chOff x="5931000" y="5767560"/>
              <a:chExt cx="201600" cy="201600"/>
            </a:xfrm>
          </p:grpSpPr>
          <p:sp>
            <p:nvSpPr>
              <p:cNvPr id="8840" name=""/>
              <p:cNvSpPr/>
              <p:nvPr/>
            </p:nvSpPr>
            <p:spPr>
              <a:xfrm>
                <a:off x="5958000" y="5789520"/>
                <a:ext cx="150840" cy="150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41" name=""/>
              <p:cNvSpPr/>
              <p:nvPr/>
            </p:nvSpPr>
            <p:spPr>
              <a:xfrm flipH="1">
                <a:off x="5931000" y="5767560"/>
                <a:ext cx="201600" cy="201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42" name=""/>
            <p:cNvSpPr/>
            <p:nvPr/>
          </p:nvSpPr>
          <p:spPr>
            <a:xfrm>
              <a:off x="5324400" y="5683320"/>
              <a:ext cx="3314880" cy="378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43" name=""/>
            <p:cNvSpPr/>
            <p:nvPr/>
          </p:nvSpPr>
          <p:spPr>
            <a:xfrm>
              <a:off x="5807160" y="5683320"/>
              <a:ext cx="0" cy="37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844" name=""/>
            <p:cNvGrpSpPr/>
            <p:nvPr/>
          </p:nvGrpSpPr>
          <p:grpSpPr>
            <a:xfrm>
              <a:off x="5419800" y="5722920"/>
              <a:ext cx="287280" cy="287280"/>
              <a:chOff x="5419800" y="5722920"/>
              <a:chExt cx="287280" cy="287280"/>
            </a:xfrm>
          </p:grpSpPr>
          <p:sp>
            <p:nvSpPr>
              <p:cNvPr id="8845" name=""/>
              <p:cNvSpPr/>
              <p:nvPr/>
            </p:nvSpPr>
            <p:spPr>
              <a:xfrm>
                <a:off x="5465880" y="5762520"/>
                <a:ext cx="210960" cy="210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46" name=""/>
              <p:cNvSpPr/>
              <p:nvPr/>
            </p:nvSpPr>
            <p:spPr>
              <a:xfrm>
                <a:off x="5570640" y="5722920"/>
                <a:ext cx="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7" name=""/>
              <p:cNvSpPr/>
              <p:nvPr/>
            </p:nvSpPr>
            <p:spPr>
              <a:xfrm>
                <a:off x="5419800" y="586728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848" name=""/>
            <p:cNvSpPr txBox="1"/>
            <p:nvPr/>
          </p:nvSpPr>
          <p:spPr>
            <a:xfrm>
              <a:off x="6165720" y="572292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0.2</a:t>
              </a:r>
              <a:endParaRPr b="0" lang="en-US" sz="1600" spc="-1" strike="noStrike">
                <a:solidFill>
                  <a:srgbClr val="000000"/>
                </a:solidFill>
                <a:latin typeface="Arial"/>
              </a:endParaRPr>
            </a:p>
          </p:txBody>
        </p:sp>
        <p:grpSp>
          <p:nvGrpSpPr>
            <p:cNvPr id="8849" name=""/>
            <p:cNvGrpSpPr/>
            <p:nvPr/>
          </p:nvGrpSpPr>
          <p:grpSpPr>
            <a:xfrm>
              <a:off x="7851600" y="5732640"/>
              <a:ext cx="365040" cy="336600"/>
              <a:chOff x="7851600" y="5732640"/>
              <a:chExt cx="365040" cy="336600"/>
            </a:xfrm>
          </p:grpSpPr>
          <p:sp>
            <p:nvSpPr>
              <p:cNvPr id="8850" name=""/>
              <p:cNvSpPr/>
              <p:nvPr/>
            </p:nvSpPr>
            <p:spPr>
              <a:xfrm>
                <a:off x="7905600" y="5762520"/>
                <a:ext cx="237960" cy="237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51" name=""/>
              <p:cNvSpPr txBox="1"/>
              <p:nvPr/>
            </p:nvSpPr>
            <p:spPr>
              <a:xfrm>
                <a:off x="7851600" y="573264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M</a:t>
                </a:r>
                <a:endParaRPr b="0" lang="en-US" sz="1600" spc="-1" strike="noStrike">
                  <a:solidFill>
                    <a:srgbClr val="000000"/>
                  </a:solidFill>
                  <a:latin typeface="Arial"/>
                </a:endParaRPr>
              </a:p>
            </p:txBody>
          </p:sp>
        </p:grpSp>
        <p:grpSp>
          <p:nvGrpSpPr>
            <p:cNvPr id="8852" name=""/>
            <p:cNvGrpSpPr/>
            <p:nvPr/>
          </p:nvGrpSpPr>
          <p:grpSpPr>
            <a:xfrm>
              <a:off x="7175520" y="5722920"/>
              <a:ext cx="365040" cy="336600"/>
              <a:chOff x="7175520" y="5722920"/>
              <a:chExt cx="365040" cy="336600"/>
            </a:xfrm>
          </p:grpSpPr>
          <p:sp>
            <p:nvSpPr>
              <p:cNvPr id="8853" name=""/>
              <p:cNvSpPr/>
              <p:nvPr/>
            </p:nvSpPr>
            <p:spPr>
              <a:xfrm>
                <a:off x="7229520" y="5753160"/>
                <a:ext cx="237960" cy="237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54" name=""/>
              <p:cNvSpPr txBox="1"/>
              <p:nvPr/>
            </p:nvSpPr>
            <p:spPr>
              <a:xfrm>
                <a:off x="7175520" y="57229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M</a:t>
                </a:r>
                <a:endParaRPr b="0" lang="en-US" sz="1600" spc="-1" strike="noStrike">
                  <a:solidFill>
                    <a:srgbClr val="000000"/>
                  </a:solidFill>
                  <a:latin typeface="Arial"/>
                </a:endParaRPr>
              </a:p>
            </p:txBody>
          </p:sp>
        </p:grpSp>
        <p:grpSp>
          <p:nvGrpSpPr>
            <p:cNvPr id="8855" name=""/>
            <p:cNvGrpSpPr/>
            <p:nvPr/>
          </p:nvGrpSpPr>
          <p:grpSpPr>
            <a:xfrm>
              <a:off x="6546960" y="5722920"/>
              <a:ext cx="365040" cy="336600"/>
              <a:chOff x="6546960" y="5722920"/>
              <a:chExt cx="365040" cy="336600"/>
            </a:xfrm>
          </p:grpSpPr>
          <p:sp>
            <p:nvSpPr>
              <p:cNvPr id="8856" name=""/>
              <p:cNvSpPr/>
              <p:nvPr/>
            </p:nvSpPr>
            <p:spPr>
              <a:xfrm>
                <a:off x="6600960" y="5753160"/>
                <a:ext cx="237960" cy="237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57" name=""/>
              <p:cNvSpPr txBox="1"/>
              <p:nvPr/>
            </p:nvSpPr>
            <p:spPr>
              <a:xfrm>
                <a:off x="6546960" y="57229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M</a:t>
                </a:r>
                <a:endParaRPr b="0" lang="en-US" sz="1600" spc="-1" strike="noStrike">
                  <a:solidFill>
                    <a:srgbClr val="000000"/>
                  </a:solidFill>
                  <a:latin typeface="Arial"/>
                </a:endParaRPr>
              </a:p>
            </p:txBody>
          </p:sp>
        </p:grpSp>
        <p:sp>
          <p:nvSpPr>
            <p:cNvPr id="8858" name=""/>
            <p:cNvSpPr/>
            <p:nvPr/>
          </p:nvSpPr>
          <p:spPr>
            <a:xfrm>
              <a:off x="6943680" y="5686560"/>
              <a:ext cx="0" cy="371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9" name=""/>
            <p:cNvSpPr txBox="1"/>
            <p:nvPr/>
          </p:nvSpPr>
          <p:spPr>
            <a:xfrm>
              <a:off x="6956280" y="57038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A</a:t>
              </a:r>
              <a:endParaRPr b="0" lang="en-US" sz="1600" spc="-1" strike="noStrike">
                <a:solidFill>
                  <a:srgbClr val="000000"/>
                </a:solidFill>
                <a:latin typeface="Arial"/>
              </a:endParaRPr>
            </a:p>
          </p:txBody>
        </p:sp>
        <p:sp>
          <p:nvSpPr>
            <p:cNvPr id="8860" name=""/>
            <p:cNvSpPr/>
            <p:nvPr/>
          </p:nvSpPr>
          <p:spPr>
            <a:xfrm>
              <a:off x="7543800" y="5886360"/>
              <a:ext cx="66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1" name=""/>
            <p:cNvSpPr txBox="1"/>
            <p:nvPr/>
          </p:nvSpPr>
          <p:spPr>
            <a:xfrm>
              <a:off x="7632720" y="572292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B</a:t>
              </a:r>
              <a:endParaRPr b="0" lang="en-US" sz="1600" spc="-1" strike="noStrike">
                <a:solidFill>
                  <a:srgbClr val="000000"/>
                </a:solidFill>
                <a:latin typeface="Arial"/>
              </a:endParaRPr>
            </a:p>
          </p:txBody>
        </p:sp>
        <p:sp>
          <p:nvSpPr>
            <p:cNvPr id="8862" name=""/>
            <p:cNvSpPr/>
            <p:nvPr/>
          </p:nvSpPr>
          <p:spPr>
            <a:xfrm>
              <a:off x="8229600" y="5686560"/>
              <a:ext cx="0" cy="361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3" name=""/>
            <p:cNvSpPr txBox="1"/>
            <p:nvPr/>
          </p:nvSpPr>
          <p:spPr>
            <a:xfrm>
              <a:off x="8271000" y="571356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C</a:t>
              </a:r>
              <a:endParaRPr b="0" lang="en-US" sz="1600" spc="-1" strike="noStrike">
                <a:solidFill>
                  <a:srgbClr val="000000"/>
                </a:solidFill>
                <a:latin typeface="Arial"/>
              </a:endParaRPr>
            </a:p>
          </p:txBody>
        </p:sp>
      </p:grpSp>
      <p:sp>
        <p:nvSpPr>
          <p:cNvPr id="8864" name=""/>
          <p:cNvSpPr txBox="1"/>
          <p:nvPr/>
        </p:nvSpPr>
        <p:spPr>
          <a:xfrm>
            <a:off x="1522440" y="17812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865" name=""/>
          <p:cNvSpPr txBox="1"/>
          <p:nvPr/>
        </p:nvSpPr>
        <p:spPr>
          <a:xfrm>
            <a:off x="631800" y="5621400"/>
            <a:ext cx="247032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Example Number One</a:t>
            </a:r>
            <a:endParaRPr b="0" lang="en-US" sz="2000" spc="-1" strike="noStrike">
              <a:solidFill>
                <a:srgbClr val="000000"/>
              </a:solidFill>
              <a:latin typeface="Arial"/>
            </a:endParaRPr>
          </a:p>
        </p:txBody>
      </p:sp>
      <p:sp>
        <p:nvSpPr>
          <p:cNvPr id="8866" name=""/>
          <p:cNvSpPr txBox="1"/>
          <p:nvPr/>
        </p:nvSpPr>
        <p:spPr>
          <a:xfrm>
            <a:off x="1947960" y="433440"/>
            <a:ext cx="527688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ingle Datum Axis From </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Two Datum Features (RF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867" name=""/>
          <p:cNvSpPr/>
          <p:nvPr/>
        </p:nvSpPr>
        <p:spPr>
          <a:xfrm>
            <a:off x="8016840" y="3178080"/>
            <a:ext cx="0" cy="1859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8" name=""/>
          <p:cNvSpPr/>
          <p:nvPr/>
        </p:nvSpPr>
        <p:spPr>
          <a:xfrm>
            <a:off x="6886440" y="5249880"/>
            <a:ext cx="14115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69" name=""/>
          <p:cNvSpPr/>
          <p:nvPr/>
        </p:nvSpPr>
        <p:spPr>
          <a:xfrm>
            <a:off x="7978680" y="5037120"/>
            <a:ext cx="71640" cy="213120"/>
          </a:xfrm>
          <a:custGeom>
            <a:avLst/>
            <a:gdLst/>
            <a:ahLst/>
            <a:rect l="0" t="0" r="r" b="b"/>
            <a:pathLst>
              <a:path w="199" h="592">
                <a:moveTo>
                  <a:pt x="0" y="0"/>
                </a:moveTo>
                <a:lnTo>
                  <a:pt x="199" y="0"/>
                </a:lnTo>
                <a:lnTo>
                  <a:pt x="103" y="592"/>
                </a:lnTo>
                <a:lnTo>
                  <a:pt x="0" y="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70" name=""/>
          <p:cNvSpPr/>
          <p:nvPr/>
        </p:nvSpPr>
        <p:spPr>
          <a:xfrm flipV="1">
            <a:off x="4656240" y="3857760"/>
            <a:ext cx="0" cy="1746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1" name=""/>
          <p:cNvSpPr/>
          <p:nvPr/>
        </p:nvSpPr>
        <p:spPr>
          <a:xfrm flipH="1">
            <a:off x="4057560" y="4106880"/>
            <a:ext cx="540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2" name=""/>
          <p:cNvSpPr/>
          <p:nvPr/>
        </p:nvSpPr>
        <p:spPr>
          <a:xfrm>
            <a:off x="5959440" y="3489480"/>
            <a:ext cx="945000" cy="1233720"/>
          </a:xfrm>
          <a:custGeom>
            <a:avLst/>
            <a:gdLst/>
            <a:ahLst/>
            <a:rect l="0" t="0" r="r" b="b"/>
            <a:pathLst>
              <a:path fill="none" w="2625" h="3427">
                <a:moveTo>
                  <a:pt x="0" y="3427"/>
                </a:moveTo>
                <a:lnTo>
                  <a:pt x="0" y="0"/>
                </a:lnTo>
                <a:lnTo>
                  <a:pt x="2625" y="0"/>
                </a:lnTo>
                <a:lnTo>
                  <a:pt x="2625" y="3427"/>
                </a:lnTo>
                <a:lnTo>
                  <a:pt x="0" y="3427"/>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73" name=""/>
          <p:cNvSpPr/>
          <p:nvPr/>
        </p:nvSpPr>
        <p:spPr>
          <a:xfrm>
            <a:off x="4791240" y="4106880"/>
            <a:ext cx="576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4" name=""/>
          <p:cNvSpPr/>
          <p:nvPr/>
        </p:nvSpPr>
        <p:spPr>
          <a:xfrm>
            <a:off x="5513400" y="4106880"/>
            <a:ext cx="1461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5" name=""/>
          <p:cNvSpPr/>
          <p:nvPr/>
        </p:nvSpPr>
        <p:spPr>
          <a:xfrm>
            <a:off x="5810400" y="4106880"/>
            <a:ext cx="741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6" name=""/>
          <p:cNvSpPr/>
          <p:nvPr/>
        </p:nvSpPr>
        <p:spPr>
          <a:xfrm>
            <a:off x="6699240" y="4106880"/>
            <a:ext cx="147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7" name=""/>
          <p:cNvSpPr/>
          <p:nvPr/>
        </p:nvSpPr>
        <p:spPr>
          <a:xfrm>
            <a:off x="6997680" y="4106880"/>
            <a:ext cx="822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8" name=""/>
          <p:cNvSpPr/>
          <p:nvPr/>
        </p:nvSpPr>
        <p:spPr>
          <a:xfrm>
            <a:off x="4656240" y="4165560"/>
            <a:ext cx="0" cy="216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9" name=""/>
          <p:cNvSpPr/>
          <p:nvPr/>
        </p:nvSpPr>
        <p:spPr>
          <a:xfrm>
            <a:off x="4716360" y="4106880"/>
            <a:ext cx="74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0" name=""/>
          <p:cNvSpPr/>
          <p:nvPr/>
        </p:nvSpPr>
        <p:spPr>
          <a:xfrm flipV="1">
            <a:off x="4656240" y="397188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8881" name=""/>
          <p:cNvSpPr/>
          <p:nvPr/>
        </p:nvSpPr>
        <p:spPr>
          <a:xfrm flipV="1">
            <a:off x="4656240" y="4078440"/>
            <a:ext cx="0" cy="58680"/>
          </a:xfrm>
          <a:prstGeom prst="line">
            <a:avLst/>
          </a:prstGeom>
          <a:ln w="12600">
            <a:solidFill>
              <a:srgbClr val="f2fefd"/>
            </a:solidFill>
            <a:round/>
          </a:ln>
        </p:spPr>
        <p:style>
          <a:lnRef idx="0"/>
          <a:fillRef idx="0"/>
          <a:effectRef idx="0"/>
          <a:fontRef idx="minor"/>
        </p:style>
        <p:txBody>
          <a:bodyPr lIns="96120" rIns="96120" tIns="7560" bIns="7560" anchor="t">
            <a:noAutofit/>
          </a:bodyPr>
          <a:p>
            <a:endParaRPr b="0" lang="en-US" sz="1800" spc="-1" strike="noStrike">
              <a:solidFill>
                <a:srgbClr val="000000"/>
              </a:solidFill>
              <a:latin typeface="Arial"/>
            </a:endParaRPr>
          </a:p>
        </p:txBody>
      </p:sp>
      <p:sp>
        <p:nvSpPr>
          <p:cNvPr id="8882" name=""/>
          <p:cNvSpPr/>
          <p:nvPr/>
        </p:nvSpPr>
        <p:spPr>
          <a:xfrm>
            <a:off x="4627440" y="4106880"/>
            <a:ext cx="60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3" name=""/>
          <p:cNvSpPr/>
          <p:nvPr/>
        </p:nvSpPr>
        <p:spPr>
          <a:xfrm>
            <a:off x="4552920" y="4003560"/>
            <a:ext cx="206640" cy="206640"/>
          </a:xfrm>
          <a:custGeom>
            <a:avLst/>
            <a:gdLst/>
            <a:ahLst/>
            <a:rect l="0" t="0" r="r" b="b"/>
            <a:pathLst>
              <a:path fill="none" w="574" h="574">
                <a:moveTo>
                  <a:pt x="574" y="286"/>
                </a:moveTo>
                <a:lnTo>
                  <a:pt x="574" y="272"/>
                </a:lnTo>
                <a:lnTo>
                  <a:pt x="574" y="265"/>
                </a:lnTo>
                <a:lnTo>
                  <a:pt x="574" y="250"/>
                </a:lnTo>
                <a:lnTo>
                  <a:pt x="574" y="243"/>
                </a:lnTo>
                <a:lnTo>
                  <a:pt x="574" y="229"/>
                </a:lnTo>
                <a:lnTo>
                  <a:pt x="567" y="222"/>
                </a:lnTo>
                <a:lnTo>
                  <a:pt x="567" y="207"/>
                </a:lnTo>
                <a:lnTo>
                  <a:pt x="559" y="200"/>
                </a:lnTo>
                <a:lnTo>
                  <a:pt x="559" y="186"/>
                </a:lnTo>
                <a:lnTo>
                  <a:pt x="552" y="179"/>
                </a:lnTo>
                <a:lnTo>
                  <a:pt x="552" y="164"/>
                </a:lnTo>
                <a:lnTo>
                  <a:pt x="545" y="157"/>
                </a:lnTo>
                <a:lnTo>
                  <a:pt x="538" y="143"/>
                </a:lnTo>
                <a:lnTo>
                  <a:pt x="531" y="136"/>
                </a:lnTo>
                <a:lnTo>
                  <a:pt x="531" y="128"/>
                </a:lnTo>
                <a:lnTo>
                  <a:pt x="524" y="114"/>
                </a:lnTo>
                <a:lnTo>
                  <a:pt x="516" y="107"/>
                </a:lnTo>
                <a:lnTo>
                  <a:pt x="509" y="100"/>
                </a:lnTo>
                <a:lnTo>
                  <a:pt x="502" y="93"/>
                </a:lnTo>
                <a:lnTo>
                  <a:pt x="488" y="85"/>
                </a:lnTo>
                <a:lnTo>
                  <a:pt x="481" y="71"/>
                </a:lnTo>
                <a:lnTo>
                  <a:pt x="473" y="64"/>
                </a:lnTo>
                <a:lnTo>
                  <a:pt x="466" y="57"/>
                </a:lnTo>
                <a:lnTo>
                  <a:pt x="459" y="50"/>
                </a:lnTo>
                <a:lnTo>
                  <a:pt x="445" y="50"/>
                </a:lnTo>
                <a:lnTo>
                  <a:pt x="438" y="42"/>
                </a:lnTo>
                <a:lnTo>
                  <a:pt x="430" y="35"/>
                </a:lnTo>
                <a:lnTo>
                  <a:pt x="416" y="28"/>
                </a:lnTo>
                <a:lnTo>
                  <a:pt x="409" y="21"/>
                </a:lnTo>
                <a:lnTo>
                  <a:pt x="395" y="21"/>
                </a:lnTo>
                <a:lnTo>
                  <a:pt x="387" y="14"/>
                </a:lnTo>
                <a:lnTo>
                  <a:pt x="373" y="14"/>
                </a:lnTo>
                <a:lnTo>
                  <a:pt x="366" y="7"/>
                </a:lnTo>
                <a:lnTo>
                  <a:pt x="352" y="7"/>
                </a:lnTo>
                <a:lnTo>
                  <a:pt x="344" y="7"/>
                </a:lnTo>
                <a:lnTo>
                  <a:pt x="330" y="0"/>
                </a:lnTo>
                <a:lnTo>
                  <a:pt x="323" y="0"/>
                </a:lnTo>
                <a:lnTo>
                  <a:pt x="309" y="0"/>
                </a:lnTo>
                <a:lnTo>
                  <a:pt x="301" y="0"/>
                </a:lnTo>
                <a:lnTo>
                  <a:pt x="286" y="0"/>
                </a:lnTo>
                <a:lnTo>
                  <a:pt x="272" y="0"/>
                </a:lnTo>
                <a:lnTo>
                  <a:pt x="265" y="0"/>
                </a:lnTo>
                <a:lnTo>
                  <a:pt x="250" y="0"/>
                </a:lnTo>
                <a:lnTo>
                  <a:pt x="243" y="0"/>
                </a:lnTo>
                <a:lnTo>
                  <a:pt x="229" y="7"/>
                </a:lnTo>
                <a:lnTo>
                  <a:pt x="222" y="7"/>
                </a:lnTo>
                <a:lnTo>
                  <a:pt x="207" y="7"/>
                </a:lnTo>
                <a:lnTo>
                  <a:pt x="200" y="14"/>
                </a:lnTo>
                <a:lnTo>
                  <a:pt x="186" y="14"/>
                </a:lnTo>
                <a:lnTo>
                  <a:pt x="179" y="21"/>
                </a:lnTo>
                <a:lnTo>
                  <a:pt x="164" y="21"/>
                </a:lnTo>
                <a:lnTo>
                  <a:pt x="157" y="28"/>
                </a:lnTo>
                <a:lnTo>
                  <a:pt x="143" y="35"/>
                </a:lnTo>
                <a:lnTo>
                  <a:pt x="136" y="42"/>
                </a:lnTo>
                <a:lnTo>
                  <a:pt x="128" y="50"/>
                </a:lnTo>
                <a:lnTo>
                  <a:pt x="114" y="50"/>
                </a:lnTo>
                <a:lnTo>
                  <a:pt x="107" y="57"/>
                </a:lnTo>
                <a:lnTo>
                  <a:pt x="100" y="64"/>
                </a:lnTo>
                <a:lnTo>
                  <a:pt x="93" y="71"/>
                </a:lnTo>
                <a:lnTo>
                  <a:pt x="78" y="85"/>
                </a:lnTo>
                <a:lnTo>
                  <a:pt x="71" y="93"/>
                </a:lnTo>
                <a:lnTo>
                  <a:pt x="64" y="100"/>
                </a:lnTo>
                <a:lnTo>
                  <a:pt x="57" y="107"/>
                </a:lnTo>
                <a:lnTo>
                  <a:pt x="50" y="114"/>
                </a:lnTo>
                <a:lnTo>
                  <a:pt x="42" y="128"/>
                </a:lnTo>
                <a:lnTo>
                  <a:pt x="42" y="136"/>
                </a:lnTo>
                <a:lnTo>
                  <a:pt x="35" y="143"/>
                </a:lnTo>
                <a:lnTo>
                  <a:pt x="28" y="157"/>
                </a:lnTo>
                <a:lnTo>
                  <a:pt x="21" y="164"/>
                </a:lnTo>
                <a:lnTo>
                  <a:pt x="21" y="179"/>
                </a:lnTo>
                <a:lnTo>
                  <a:pt x="14" y="186"/>
                </a:lnTo>
                <a:lnTo>
                  <a:pt x="14" y="200"/>
                </a:lnTo>
                <a:lnTo>
                  <a:pt x="7" y="207"/>
                </a:lnTo>
                <a:lnTo>
                  <a:pt x="7" y="222"/>
                </a:lnTo>
                <a:lnTo>
                  <a:pt x="0" y="229"/>
                </a:lnTo>
                <a:lnTo>
                  <a:pt x="0" y="243"/>
                </a:lnTo>
                <a:lnTo>
                  <a:pt x="0" y="250"/>
                </a:lnTo>
                <a:lnTo>
                  <a:pt x="0" y="265"/>
                </a:lnTo>
                <a:lnTo>
                  <a:pt x="0" y="272"/>
                </a:lnTo>
                <a:lnTo>
                  <a:pt x="0" y="286"/>
                </a:lnTo>
                <a:lnTo>
                  <a:pt x="0" y="301"/>
                </a:lnTo>
                <a:lnTo>
                  <a:pt x="0" y="309"/>
                </a:lnTo>
                <a:lnTo>
                  <a:pt x="0" y="323"/>
                </a:lnTo>
                <a:lnTo>
                  <a:pt x="0" y="330"/>
                </a:lnTo>
                <a:lnTo>
                  <a:pt x="0" y="344"/>
                </a:lnTo>
                <a:lnTo>
                  <a:pt x="7" y="359"/>
                </a:lnTo>
                <a:lnTo>
                  <a:pt x="7" y="366"/>
                </a:lnTo>
                <a:lnTo>
                  <a:pt x="14" y="380"/>
                </a:lnTo>
                <a:lnTo>
                  <a:pt x="14" y="387"/>
                </a:lnTo>
                <a:lnTo>
                  <a:pt x="21" y="402"/>
                </a:lnTo>
                <a:lnTo>
                  <a:pt x="21" y="409"/>
                </a:lnTo>
                <a:lnTo>
                  <a:pt x="28" y="416"/>
                </a:lnTo>
                <a:lnTo>
                  <a:pt x="35" y="430"/>
                </a:lnTo>
                <a:lnTo>
                  <a:pt x="42" y="438"/>
                </a:lnTo>
                <a:lnTo>
                  <a:pt x="42" y="445"/>
                </a:lnTo>
                <a:lnTo>
                  <a:pt x="50" y="459"/>
                </a:lnTo>
                <a:lnTo>
                  <a:pt x="57" y="466"/>
                </a:lnTo>
                <a:lnTo>
                  <a:pt x="64" y="473"/>
                </a:lnTo>
                <a:lnTo>
                  <a:pt x="71" y="481"/>
                </a:lnTo>
                <a:lnTo>
                  <a:pt x="78" y="495"/>
                </a:lnTo>
                <a:lnTo>
                  <a:pt x="93" y="502"/>
                </a:lnTo>
                <a:lnTo>
                  <a:pt x="100" y="509"/>
                </a:lnTo>
                <a:lnTo>
                  <a:pt x="107" y="516"/>
                </a:lnTo>
                <a:lnTo>
                  <a:pt x="114" y="524"/>
                </a:lnTo>
                <a:lnTo>
                  <a:pt x="128" y="531"/>
                </a:lnTo>
                <a:lnTo>
                  <a:pt x="136" y="531"/>
                </a:lnTo>
                <a:lnTo>
                  <a:pt x="143" y="538"/>
                </a:lnTo>
                <a:lnTo>
                  <a:pt x="157" y="545"/>
                </a:lnTo>
                <a:lnTo>
                  <a:pt x="164" y="552"/>
                </a:lnTo>
                <a:lnTo>
                  <a:pt x="179" y="552"/>
                </a:lnTo>
                <a:lnTo>
                  <a:pt x="186" y="559"/>
                </a:lnTo>
                <a:lnTo>
                  <a:pt x="200" y="559"/>
                </a:lnTo>
                <a:lnTo>
                  <a:pt x="207" y="567"/>
                </a:lnTo>
                <a:lnTo>
                  <a:pt x="222" y="567"/>
                </a:lnTo>
                <a:lnTo>
                  <a:pt x="229" y="574"/>
                </a:lnTo>
                <a:lnTo>
                  <a:pt x="243" y="574"/>
                </a:lnTo>
                <a:lnTo>
                  <a:pt x="250" y="574"/>
                </a:lnTo>
                <a:lnTo>
                  <a:pt x="265" y="574"/>
                </a:lnTo>
                <a:lnTo>
                  <a:pt x="272" y="574"/>
                </a:lnTo>
                <a:lnTo>
                  <a:pt x="286" y="574"/>
                </a:lnTo>
                <a:lnTo>
                  <a:pt x="301" y="574"/>
                </a:lnTo>
                <a:lnTo>
                  <a:pt x="309" y="574"/>
                </a:lnTo>
                <a:lnTo>
                  <a:pt x="323" y="574"/>
                </a:lnTo>
                <a:lnTo>
                  <a:pt x="330" y="574"/>
                </a:lnTo>
                <a:lnTo>
                  <a:pt x="344" y="574"/>
                </a:lnTo>
                <a:lnTo>
                  <a:pt x="352" y="567"/>
                </a:lnTo>
                <a:lnTo>
                  <a:pt x="366" y="567"/>
                </a:lnTo>
                <a:lnTo>
                  <a:pt x="373" y="559"/>
                </a:lnTo>
                <a:lnTo>
                  <a:pt x="387" y="559"/>
                </a:lnTo>
                <a:lnTo>
                  <a:pt x="395" y="552"/>
                </a:lnTo>
                <a:lnTo>
                  <a:pt x="409" y="552"/>
                </a:lnTo>
                <a:lnTo>
                  <a:pt x="416" y="545"/>
                </a:lnTo>
                <a:lnTo>
                  <a:pt x="430" y="538"/>
                </a:lnTo>
                <a:lnTo>
                  <a:pt x="438" y="531"/>
                </a:lnTo>
                <a:lnTo>
                  <a:pt x="445" y="531"/>
                </a:lnTo>
                <a:lnTo>
                  <a:pt x="459" y="524"/>
                </a:lnTo>
                <a:lnTo>
                  <a:pt x="466" y="516"/>
                </a:lnTo>
                <a:lnTo>
                  <a:pt x="473" y="509"/>
                </a:lnTo>
                <a:lnTo>
                  <a:pt x="481" y="502"/>
                </a:lnTo>
                <a:lnTo>
                  <a:pt x="488" y="495"/>
                </a:lnTo>
                <a:lnTo>
                  <a:pt x="502" y="481"/>
                </a:lnTo>
                <a:lnTo>
                  <a:pt x="509" y="473"/>
                </a:lnTo>
                <a:lnTo>
                  <a:pt x="516" y="466"/>
                </a:lnTo>
                <a:lnTo>
                  <a:pt x="524" y="459"/>
                </a:lnTo>
                <a:lnTo>
                  <a:pt x="531" y="445"/>
                </a:lnTo>
                <a:lnTo>
                  <a:pt x="531" y="438"/>
                </a:lnTo>
                <a:lnTo>
                  <a:pt x="538" y="430"/>
                </a:lnTo>
                <a:lnTo>
                  <a:pt x="545" y="416"/>
                </a:lnTo>
                <a:lnTo>
                  <a:pt x="552" y="409"/>
                </a:lnTo>
                <a:lnTo>
                  <a:pt x="552" y="402"/>
                </a:lnTo>
                <a:lnTo>
                  <a:pt x="559" y="387"/>
                </a:lnTo>
                <a:lnTo>
                  <a:pt x="559" y="380"/>
                </a:lnTo>
                <a:lnTo>
                  <a:pt x="567" y="366"/>
                </a:lnTo>
                <a:lnTo>
                  <a:pt x="567" y="359"/>
                </a:lnTo>
                <a:lnTo>
                  <a:pt x="574" y="344"/>
                </a:lnTo>
                <a:lnTo>
                  <a:pt x="574" y="330"/>
                </a:lnTo>
                <a:lnTo>
                  <a:pt x="574" y="323"/>
                </a:lnTo>
                <a:lnTo>
                  <a:pt x="574" y="309"/>
                </a:lnTo>
                <a:lnTo>
                  <a:pt x="574" y="301"/>
                </a:lnTo>
                <a:lnTo>
                  <a:pt x="574" y="28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84" name=""/>
          <p:cNvSpPr/>
          <p:nvPr/>
        </p:nvSpPr>
        <p:spPr>
          <a:xfrm flipH="1">
            <a:off x="7929720" y="2963880"/>
            <a:ext cx="172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5" name=""/>
          <p:cNvSpPr/>
          <p:nvPr/>
        </p:nvSpPr>
        <p:spPr>
          <a:xfrm>
            <a:off x="7978680" y="2963880"/>
            <a:ext cx="71640" cy="214560"/>
          </a:xfrm>
          <a:custGeom>
            <a:avLst/>
            <a:gdLst/>
            <a:ahLst/>
            <a:rect l="0" t="0" r="r" b="b"/>
            <a:pathLst>
              <a:path w="199" h="596">
                <a:moveTo>
                  <a:pt x="0" y="596"/>
                </a:moveTo>
                <a:lnTo>
                  <a:pt x="199" y="596"/>
                </a:lnTo>
                <a:lnTo>
                  <a:pt x="103" y="0"/>
                </a:lnTo>
                <a:lnTo>
                  <a:pt x="0" y="596"/>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86" name=""/>
          <p:cNvSpPr/>
          <p:nvPr/>
        </p:nvSpPr>
        <p:spPr>
          <a:xfrm>
            <a:off x="3895560" y="3613320"/>
            <a:ext cx="73440" cy="214560"/>
          </a:xfrm>
          <a:custGeom>
            <a:avLst/>
            <a:gdLst/>
            <a:ahLst/>
            <a:rect l="0" t="0" r="r" b="b"/>
            <a:pathLst>
              <a:path w="204" h="596">
                <a:moveTo>
                  <a:pt x="0" y="596"/>
                </a:moveTo>
                <a:lnTo>
                  <a:pt x="204" y="596"/>
                </a:lnTo>
                <a:lnTo>
                  <a:pt x="102" y="0"/>
                </a:lnTo>
                <a:lnTo>
                  <a:pt x="0" y="596"/>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87" name=""/>
          <p:cNvSpPr/>
          <p:nvPr/>
        </p:nvSpPr>
        <p:spPr>
          <a:xfrm flipV="1">
            <a:off x="3930480" y="3805200"/>
            <a:ext cx="0" cy="5842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8" name=""/>
          <p:cNvSpPr/>
          <p:nvPr/>
        </p:nvSpPr>
        <p:spPr>
          <a:xfrm flipH="1">
            <a:off x="3705120" y="4611600"/>
            <a:ext cx="225108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89" name=""/>
          <p:cNvSpPr/>
          <p:nvPr/>
        </p:nvSpPr>
        <p:spPr>
          <a:xfrm>
            <a:off x="3895560" y="4389480"/>
            <a:ext cx="73440" cy="213120"/>
          </a:xfrm>
          <a:custGeom>
            <a:avLst/>
            <a:gdLst/>
            <a:ahLst/>
            <a:rect l="0" t="0" r="r" b="b"/>
            <a:pathLst>
              <a:path w="204" h="592">
                <a:moveTo>
                  <a:pt x="0" y="0"/>
                </a:moveTo>
                <a:lnTo>
                  <a:pt x="204" y="0"/>
                </a:lnTo>
                <a:lnTo>
                  <a:pt x="102" y="592"/>
                </a:lnTo>
                <a:lnTo>
                  <a:pt x="0" y="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890" name=""/>
          <p:cNvSpPr/>
          <p:nvPr/>
        </p:nvSpPr>
        <p:spPr>
          <a:xfrm flipH="1">
            <a:off x="3718080" y="3603600"/>
            <a:ext cx="22269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1" name=""/>
          <p:cNvSpPr/>
          <p:nvPr/>
        </p:nvSpPr>
        <p:spPr>
          <a:xfrm>
            <a:off x="4313160" y="3629160"/>
            <a:ext cx="1657800" cy="981360"/>
          </a:xfrm>
          <a:custGeom>
            <a:avLst/>
            <a:gdLst/>
            <a:ahLst/>
            <a:rect l="0" t="0" r="r" b="b"/>
            <a:pathLst>
              <a:path fill="none" w="4605" h="2726">
                <a:moveTo>
                  <a:pt x="57" y="26"/>
                </a:moveTo>
                <a:lnTo>
                  <a:pt x="97" y="26"/>
                </a:lnTo>
                <a:lnTo>
                  <a:pt x="110" y="13"/>
                </a:lnTo>
                <a:lnTo>
                  <a:pt x="163" y="26"/>
                </a:lnTo>
                <a:lnTo>
                  <a:pt x="202" y="0"/>
                </a:lnTo>
                <a:lnTo>
                  <a:pt x="255" y="26"/>
                </a:lnTo>
                <a:lnTo>
                  <a:pt x="295" y="13"/>
                </a:lnTo>
                <a:lnTo>
                  <a:pt x="388" y="26"/>
                </a:lnTo>
                <a:lnTo>
                  <a:pt x="401" y="26"/>
                </a:lnTo>
                <a:lnTo>
                  <a:pt x="480" y="26"/>
                </a:lnTo>
                <a:lnTo>
                  <a:pt x="573" y="13"/>
                </a:lnTo>
                <a:lnTo>
                  <a:pt x="639" y="26"/>
                </a:lnTo>
                <a:lnTo>
                  <a:pt x="718" y="26"/>
                </a:lnTo>
                <a:lnTo>
                  <a:pt x="811" y="26"/>
                </a:lnTo>
                <a:lnTo>
                  <a:pt x="851" y="26"/>
                </a:lnTo>
                <a:lnTo>
                  <a:pt x="890" y="13"/>
                </a:lnTo>
                <a:lnTo>
                  <a:pt x="996" y="13"/>
                </a:lnTo>
                <a:lnTo>
                  <a:pt x="1102" y="26"/>
                </a:lnTo>
                <a:lnTo>
                  <a:pt x="1156" y="26"/>
                </a:lnTo>
                <a:lnTo>
                  <a:pt x="1178" y="0"/>
                </a:lnTo>
                <a:lnTo>
                  <a:pt x="1218" y="13"/>
                </a:lnTo>
                <a:lnTo>
                  <a:pt x="1257" y="26"/>
                </a:lnTo>
                <a:lnTo>
                  <a:pt x="1297" y="26"/>
                </a:lnTo>
                <a:lnTo>
                  <a:pt x="1363" y="26"/>
                </a:lnTo>
                <a:lnTo>
                  <a:pt x="1456" y="26"/>
                </a:lnTo>
                <a:lnTo>
                  <a:pt x="1522" y="26"/>
                </a:lnTo>
                <a:lnTo>
                  <a:pt x="1562" y="26"/>
                </a:lnTo>
                <a:lnTo>
                  <a:pt x="1601" y="26"/>
                </a:lnTo>
                <a:lnTo>
                  <a:pt x="1667" y="13"/>
                </a:lnTo>
                <a:lnTo>
                  <a:pt x="1786" y="13"/>
                </a:lnTo>
                <a:lnTo>
                  <a:pt x="1853" y="13"/>
                </a:lnTo>
                <a:lnTo>
                  <a:pt x="1906" y="13"/>
                </a:lnTo>
                <a:lnTo>
                  <a:pt x="1945" y="13"/>
                </a:lnTo>
                <a:lnTo>
                  <a:pt x="2011" y="13"/>
                </a:lnTo>
                <a:lnTo>
                  <a:pt x="2104" y="13"/>
                </a:lnTo>
                <a:lnTo>
                  <a:pt x="2223" y="39"/>
                </a:lnTo>
                <a:lnTo>
                  <a:pt x="2289" y="39"/>
                </a:lnTo>
                <a:lnTo>
                  <a:pt x="2329" y="39"/>
                </a:lnTo>
                <a:lnTo>
                  <a:pt x="2369" y="52"/>
                </a:lnTo>
                <a:lnTo>
                  <a:pt x="2421" y="52"/>
                </a:lnTo>
                <a:lnTo>
                  <a:pt x="2461" y="52"/>
                </a:lnTo>
                <a:lnTo>
                  <a:pt x="2607" y="66"/>
                </a:lnTo>
                <a:lnTo>
                  <a:pt x="2646" y="66"/>
                </a:lnTo>
                <a:lnTo>
                  <a:pt x="2779" y="66"/>
                </a:lnTo>
                <a:lnTo>
                  <a:pt x="2818" y="66"/>
                </a:lnTo>
                <a:lnTo>
                  <a:pt x="2884" y="79"/>
                </a:lnTo>
                <a:lnTo>
                  <a:pt x="2924" y="92"/>
                </a:lnTo>
                <a:lnTo>
                  <a:pt x="3056" y="92"/>
                </a:lnTo>
                <a:lnTo>
                  <a:pt x="3096" y="105"/>
                </a:lnTo>
                <a:lnTo>
                  <a:pt x="3189" y="119"/>
                </a:lnTo>
                <a:lnTo>
                  <a:pt x="3400" y="158"/>
                </a:lnTo>
                <a:lnTo>
                  <a:pt x="3481" y="158"/>
                </a:lnTo>
                <a:lnTo>
                  <a:pt x="3547" y="158"/>
                </a:lnTo>
                <a:lnTo>
                  <a:pt x="3587" y="171"/>
                </a:lnTo>
                <a:lnTo>
                  <a:pt x="3640" y="158"/>
                </a:lnTo>
                <a:lnTo>
                  <a:pt x="3706" y="158"/>
                </a:lnTo>
                <a:lnTo>
                  <a:pt x="3825" y="158"/>
                </a:lnTo>
                <a:lnTo>
                  <a:pt x="3878" y="158"/>
                </a:lnTo>
                <a:lnTo>
                  <a:pt x="3917" y="158"/>
                </a:lnTo>
                <a:lnTo>
                  <a:pt x="3957" y="171"/>
                </a:lnTo>
                <a:lnTo>
                  <a:pt x="3997" y="171"/>
                </a:lnTo>
                <a:lnTo>
                  <a:pt x="4103" y="171"/>
                </a:lnTo>
                <a:lnTo>
                  <a:pt x="4182" y="185"/>
                </a:lnTo>
                <a:lnTo>
                  <a:pt x="4235" y="185"/>
                </a:lnTo>
                <a:lnTo>
                  <a:pt x="4275" y="198"/>
                </a:lnTo>
                <a:lnTo>
                  <a:pt x="4354" y="198"/>
                </a:lnTo>
                <a:lnTo>
                  <a:pt x="4407" y="198"/>
                </a:lnTo>
                <a:lnTo>
                  <a:pt x="4460" y="211"/>
                </a:lnTo>
                <a:lnTo>
                  <a:pt x="4499" y="211"/>
                </a:lnTo>
                <a:lnTo>
                  <a:pt x="4539" y="211"/>
                </a:lnTo>
                <a:lnTo>
                  <a:pt x="4579" y="224"/>
                </a:lnTo>
                <a:lnTo>
                  <a:pt x="4605" y="238"/>
                </a:lnTo>
                <a:lnTo>
                  <a:pt x="4605" y="2726"/>
                </a:lnTo>
                <a:lnTo>
                  <a:pt x="4605" y="2726"/>
                </a:lnTo>
                <a:lnTo>
                  <a:pt x="4566" y="2699"/>
                </a:lnTo>
                <a:lnTo>
                  <a:pt x="4499" y="2673"/>
                </a:lnTo>
                <a:lnTo>
                  <a:pt x="4407" y="2673"/>
                </a:lnTo>
                <a:lnTo>
                  <a:pt x="4367" y="2673"/>
                </a:lnTo>
                <a:lnTo>
                  <a:pt x="4327" y="2673"/>
                </a:lnTo>
                <a:lnTo>
                  <a:pt x="4288" y="2673"/>
                </a:lnTo>
                <a:lnTo>
                  <a:pt x="4248" y="2673"/>
                </a:lnTo>
                <a:lnTo>
                  <a:pt x="4195" y="2673"/>
                </a:lnTo>
                <a:lnTo>
                  <a:pt x="4142" y="2673"/>
                </a:lnTo>
                <a:lnTo>
                  <a:pt x="4103" y="2686"/>
                </a:lnTo>
                <a:lnTo>
                  <a:pt x="4080" y="2660"/>
                </a:lnTo>
                <a:lnTo>
                  <a:pt x="4054" y="2673"/>
                </a:lnTo>
                <a:lnTo>
                  <a:pt x="3961" y="2673"/>
                </a:lnTo>
                <a:lnTo>
                  <a:pt x="3882" y="2660"/>
                </a:lnTo>
                <a:lnTo>
                  <a:pt x="3842" y="2646"/>
                </a:lnTo>
                <a:lnTo>
                  <a:pt x="3803" y="2660"/>
                </a:lnTo>
                <a:lnTo>
                  <a:pt x="3763" y="2646"/>
                </a:lnTo>
                <a:lnTo>
                  <a:pt x="3723" y="2660"/>
                </a:lnTo>
                <a:lnTo>
                  <a:pt x="3644" y="2660"/>
                </a:lnTo>
                <a:lnTo>
                  <a:pt x="3591" y="2660"/>
                </a:lnTo>
                <a:lnTo>
                  <a:pt x="3591" y="2646"/>
                </a:lnTo>
                <a:lnTo>
                  <a:pt x="3520" y="2673"/>
                </a:lnTo>
                <a:lnTo>
                  <a:pt x="3481" y="2660"/>
                </a:lnTo>
                <a:lnTo>
                  <a:pt x="3374" y="2646"/>
                </a:lnTo>
                <a:lnTo>
                  <a:pt x="3281" y="2646"/>
                </a:lnTo>
                <a:lnTo>
                  <a:pt x="3242" y="2646"/>
                </a:lnTo>
                <a:lnTo>
                  <a:pt x="3189" y="2646"/>
                </a:lnTo>
                <a:lnTo>
                  <a:pt x="3149" y="2646"/>
                </a:lnTo>
                <a:lnTo>
                  <a:pt x="3070" y="2646"/>
                </a:lnTo>
                <a:lnTo>
                  <a:pt x="3004" y="2633"/>
                </a:lnTo>
                <a:lnTo>
                  <a:pt x="2964" y="2633"/>
                </a:lnTo>
                <a:lnTo>
                  <a:pt x="2911" y="2620"/>
                </a:lnTo>
                <a:lnTo>
                  <a:pt x="2871" y="2620"/>
                </a:lnTo>
                <a:lnTo>
                  <a:pt x="2832" y="2620"/>
                </a:lnTo>
                <a:lnTo>
                  <a:pt x="2792" y="2607"/>
                </a:lnTo>
                <a:lnTo>
                  <a:pt x="2752" y="2607"/>
                </a:lnTo>
                <a:lnTo>
                  <a:pt x="2712" y="2607"/>
                </a:lnTo>
                <a:lnTo>
                  <a:pt x="2646" y="2607"/>
                </a:lnTo>
                <a:lnTo>
                  <a:pt x="2607" y="2607"/>
                </a:lnTo>
                <a:lnTo>
                  <a:pt x="2554" y="2607"/>
                </a:lnTo>
                <a:lnTo>
                  <a:pt x="2514" y="2607"/>
                </a:lnTo>
                <a:lnTo>
                  <a:pt x="2474" y="2593"/>
                </a:lnTo>
                <a:lnTo>
                  <a:pt x="2435" y="2593"/>
                </a:lnTo>
                <a:lnTo>
                  <a:pt x="2382" y="2593"/>
                </a:lnTo>
                <a:lnTo>
                  <a:pt x="2316" y="2593"/>
                </a:lnTo>
                <a:lnTo>
                  <a:pt x="2276" y="2593"/>
                </a:lnTo>
                <a:lnTo>
                  <a:pt x="2223" y="2593"/>
                </a:lnTo>
                <a:lnTo>
                  <a:pt x="2183" y="2580"/>
                </a:lnTo>
                <a:lnTo>
                  <a:pt x="2091" y="2580"/>
                </a:lnTo>
                <a:lnTo>
                  <a:pt x="2051" y="2580"/>
                </a:lnTo>
                <a:lnTo>
                  <a:pt x="1998" y="2580"/>
                </a:lnTo>
                <a:lnTo>
                  <a:pt x="1958" y="2580"/>
                </a:lnTo>
                <a:lnTo>
                  <a:pt x="1866" y="2580"/>
                </a:lnTo>
                <a:lnTo>
                  <a:pt x="1826" y="2567"/>
                </a:lnTo>
                <a:lnTo>
                  <a:pt x="1786" y="2567"/>
                </a:lnTo>
                <a:lnTo>
                  <a:pt x="1734" y="2567"/>
                </a:lnTo>
                <a:lnTo>
                  <a:pt x="1654" y="2567"/>
                </a:lnTo>
                <a:lnTo>
                  <a:pt x="1614" y="2567"/>
                </a:lnTo>
                <a:lnTo>
                  <a:pt x="1522" y="2567"/>
                </a:lnTo>
                <a:lnTo>
                  <a:pt x="1456" y="2567"/>
                </a:lnTo>
                <a:lnTo>
                  <a:pt x="1390" y="2554"/>
                </a:lnTo>
                <a:lnTo>
                  <a:pt x="1337" y="2554"/>
                </a:lnTo>
                <a:lnTo>
                  <a:pt x="1204" y="2554"/>
                </a:lnTo>
                <a:lnTo>
                  <a:pt x="1137" y="2541"/>
                </a:lnTo>
                <a:lnTo>
                  <a:pt x="1071" y="2541"/>
                </a:lnTo>
                <a:lnTo>
                  <a:pt x="1031" y="2527"/>
                </a:lnTo>
                <a:lnTo>
                  <a:pt x="992" y="2527"/>
                </a:lnTo>
                <a:lnTo>
                  <a:pt x="939" y="2514"/>
                </a:lnTo>
                <a:lnTo>
                  <a:pt x="886" y="2514"/>
                </a:lnTo>
                <a:lnTo>
                  <a:pt x="846" y="2501"/>
                </a:lnTo>
                <a:lnTo>
                  <a:pt x="806" y="2501"/>
                </a:lnTo>
                <a:lnTo>
                  <a:pt x="767" y="2501"/>
                </a:lnTo>
                <a:lnTo>
                  <a:pt x="727" y="2501"/>
                </a:lnTo>
                <a:lnTo>
                  <a:pt x="687" y="2501"/>
                </a:lnTo>
                <a:lnTo>
                  <a:pt x="621" y="2488"/>
                </a:lnTo>
                <a:lnTo>
                  <a:pt x="582" y="2488"/>
                </a:lnTo>
                <a:lnTo>
                  <a:pt x="515" y="2488"/>
                </a:lnTo>
                <a:lnTo>
                  <a:pt x="476" y="2488"/>
                </a:lnTo>
                <a:lnTo>
                  <a:pt x="436" y="2488"/>
                </a:lnTo>
                <a:lnTo>
                  <a:pt x="383" y="2488"/>
                </a:lnTo>
                <a:lnTo>
                  <a:pt x="277" y="2488"/>
                </a:lnTo>
                <a:lnTo>
                  <a:pt x="224" y="2488"/>
                </a:lnTo>
                <a:lnTo>
                  <a:pt x="158" y="2488"/>
                </a:lnTo>
                <a:lnTo>
                  <a:pt x="92" y="2488"/>
                </a:lnTo>
                <a:lnTo>
                  <a:pt x="52" y="2488"/>
                </a:lnTo>
                <a:lnTo>
                  <a:pt x="13" y="2474"/>
                </a:lnTo>
                <a:lnTo>
                  <a:pt x="0" y="2474"/>
                </a:lnTo>
                <a:lnTo>
                  <a:pt x="13" y="2421"/>
                </a:lnTo>
                <a:lnTo>
                  <a:pt x="26" y="2369"/>
                </a:lnTo>
                <a:lnTo>
                  <a:pt x="39" y="2276"/>
                </a:lnTo>
                <a:lnTo>
                  <a:pt x="52" y="2236"/>
                </a:lnTo>
                <a:lnTo>
                  <a:pt x="66" y="2157"/>
                </a:lnTo>
                <a:lnTo>
                  <a:pt x="79" y="2091"/>
                </a:lnTo>
                <a:lnTo>
                  <a:pt x="79" y="2051"/>
                </a:lnTo>
                <a:lnTo>
                  <a:pt x="79" y="2011"/>
                </a:lnTo>
                <a:lnTo>
                  <a:pt x="13" y="1945"/>
                </a:lnTo>
                <a:lnTo>
                  <a:pt x="13" y="1826"/>
                </a:lnTo>
                <a:lnTo>
                  <a:pt x="13" y="1773"/>
                </a:lnTo>
                <a:lnTo>
                  <a:pt x="13" y="1734"/>
                </a:lnTo>
                <a:lnTo>
                  <a:pt x="13" y="1694"/>
                </a:lnTo>
                <a:lnTo>
                  <a:pt x="13" y="1654"/>
                </a:lnTo>
                <a:lnTo>
                  <a:pt x="13" y="1575"/>
                </a:lnTo>
                <a:lnTo>
                  <a:pt x="13" y="1535"/>
                </a:lnTo>
                <a:lnTo>
                  <a:pt x="13" y="1456"/>
                </a:lnTo>
                <a:lnTo>
                  <a:pt x="26" y="1390"/>
                </a:lnTo>
                <a:lnTo>
                  <a:pt x="26" y="1349"/>
                </a:lnTo>
                <a:lnTo>
                  <a:pt x="39" y="1309"/>
                </a:lnTo>
                <a:lnTo>
                  <a:pt x="39" y="1270"/>
                </a:lnTo>
                <a:lnTo>
                  <a:pt x="52" y="1203"/>
                </a:lnTo>
                <a:lnTo>
                  <a:pt x="52" y="1164"/>
                </a:lnTo>
                <a:lnTo>
                  <a:pt x="52" y="1124"/>
                </a:lnTo>
                <a:lnTo>
                  <a:pt x="52" y="1084"/>
                </a:lnTo>
                <a:lnTo>
                  <a:pt x="52" y="1018"/>
                </a:lnTo>
                <a:lnTo>
                  <a:pt x="66" y="926"/>
                </a:lnTo>
                <a:lnTo>
                  <a:pt x="66" y="886"/>
                </a:lnTo>
                <a:lnTo>
                  <a:pt x="66" y="846"/>
                </a:lnTo>
                <a:lnTo>
                  <a:pt x="66" y="806"/>
                </a:lnTo>
                <a:lnTo>
                  <a:pt x="66" y="754"/>
                </a:lnTo>
                <a:lnTo>
                  <a:pt x="66" y="714"/>
                </a:lnTo>
                <a:lnTo>
                  <a:pt x="66" y="648"/>
                </a:lnTo>
                <a:lnTo>
                  <a:pt x="66" y="595"/>
                </a:lnTo>
                <a:lnTo>
                  <a:pt x="66" y="529"/>
                </a:lnTo>
                <a:lnTo>
                  <a:pt x="66" y="489"/>
                </a:lnTo>
                <a:lnTo>
                  <a:pt x="66" y="449"/>
                </a:lnTo>
                <a:lnTo>
                  <a:pt x="66" y="410"/>
                </a:lnTo>
                <a:lnTo>
                  <a:pt x="66" y="370"/>
                </a:lnTo>
                <a:lnTo>
                  <a:pt x="66" y="317"/>
                </a:lnTo>
                <a:lnTo>
                  <a:pt x="66" y="224"/>
                </a:lnTo>
                <a:lnTo>
                  <a:pt x="66" y="185"/>
                </a:lnTo>
                <a:lnTo>
                  <a:pt x="66" y="145"/>
                </a:lnTo>
                <a:lnTo>
                  <a:pt x="66" y="105"/>
                </a:lnTo>
                <a:lnTo>
                  <a:pt x="52" y="66"/>
                </a:lnTo>
                <a:lnTo>
                  <a:pt x="39" y="26"/>
                </a:lnTo>
                <a:lnTo>
                  <a:pt x="30" y="1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2" name=""/>
          <p:cNvSpPr/>
          <p:nvPr/>
        </p:nvSpPr>
        <p:spPr>
          <a:xfrm>
            <a:off x="6902280" y="2962440"/>
            <a:ext cx="557640" cy="2286360"/>
          </a:xfrm>
          <a:custGeom>
            <a:avLst/>
            <a:gdLst/>
            <a:ahLst/>
            <a:rect l="0" t="0" r="r" b="b"/>
            <a:pathLst>
              <a:path fill="none" w="1549" h="6351">
                <a:moveTo>
                  <a:pt x="0" y="158"/>
                </a:moveTo>
                <a:lnTo>
                  <a:pt x="39" y="158"/>
                </a:lnTo>
                <a:lnTo>
                  <a:pt x="92" y="158"/>
                </a:lnTo>
                <a:lnTo>
                  <a:pt x="132" y="158"/>
                </a:lnTo>
                <a:lnTo>
                  <a:pt x="171" y="158"/>
                </a:lnTo>
                <a:lnTo>
                  <a:pt x="238" y="158"/>
                </a:lnTo>
                <a:lnTo>
                  <a:pt x="304" y="132"/>
                </a:lnTo>
                <a:lnTo>
                  <a:pt x="370" y="132"/>
                </a:lnTo>
                <a:lnTo>
                  <a:pt x="437" y="132"/>
                </a:lnTo>
                <a:lnTo>
                  <a:pt x="503" y="132"/>
                </a:lnTo>
                <a:lnTo>
                  <a:pt x="543" y="132"/>
                </a:lnTo>
                <a:lnTo>
                  <a:pt x="609" y="132"/>
                </a:lnTo>
                <a:lnTo>
                  <a:pt x="662" y="132"/>
                </a:lnTo>
                <a:lnTo>
                  <a:pt x="715" y="132"/>
                </a:lnTo>
                <a:lnTo>
                  <a:pt x="755" y="145"/>
                </a:lnTo>
                <a:lnTo>
                  <a:pt x="821" y="132"/>
                </a:lnTo>
                <a:lnTo>
                  <a:pt x="860" y="132"/>
                </a:lnTo>
                <a:lnTo>
                  <a:pt x="927" y="119"/>
                </a:lnTo>
                <a:lnTo>
                  <a:pt x="966" y="119"/>
                </a:lnTo>
                <a:lnTo>
                  <a:pt x="1019" y="105"/>
                </a:lnTo>
                <a:lnTo>
                  <a:pt x="1112" y="105"/>
                </a:lnTo>
                <a:lnTo>
                  <a:pt x="1151" y="105"/>
                </a:lnTo>
                <a:lnTo>
                  <a:pt x="1192" y="92"/>
                </a:lnTo>
                <a:lnTo>
                  <a:pt x="1232" y="66"/>
                </a:lnTo>
                <a:lnTo>
                  <a:pt x="1272" y="66"/>
                </a:lnTo>
                <a:lnTo>
                  <a:pt x="1324" y="66"/>
                </a:lnTo>
                <a:lnTo>
                  <a:pt x="1377" y="66"/>
                </a:lnTo>
                <a:lnTo>
                  <a:pt x="1430" y="66"/>
                </a:lnTo>
                <a:lnTo>
                  <a:pt x="1470" y="52"/>
                </a:lnTo>
                <a:lnTo>
                  <a:pt x="1510" y="26"/>
                </a:lnTo>
                <a:lnTo>
                  <a:pt x="1549" y="13"/>
                </a:lnTo>
                <a:lnTo>
                  <a:pt x="1549" y="0"/>
                </a:lnTo>
                <a:lnTo>
                  <a:pt x="1549" y="39"/>
                </a:lnTo>
                <a:lnTo>
                  <a:pt x="1549" y="79"/>
                </a:lnTo>
                <a:lnTo>
                  <a:pt x="1549" y="6034"/>
                </a:lnTo>
                <a:lnTo>
                  <a:pt x="1510" y="6047"/>
                </a:lnTo>
                <a:lnTo>
                  <a:pt x="1470" y="6047"/>
                </a:lnTo>
                <a:lnTo>
                  <a:pt x="1417" y="6047"/>
                </a:lnTo>
                <a:lnTo>
                  <a:pt x="1338" y="6060"/>
                </a:lnTo>
                <a:lnTo>
                  <a:pt x="1285" y="6060"/>
                </a:lnTo>
                <a:lnTo>
                  <a:pt x="1245" y="6060"/>
                </a:lnTo>
                <a:lnTo>
                  <a:pt x="1179" y="6074"/>
                </a:lnTo>
                <a:lnTo>
                  <a:pt x="1138" y="6087"/>
                </a:lnTo>
                <a:lnTo>
                  <a:pt x="1099" y="6100"/>
                </a:lnTo>
                <a:lnTo>
                  <a:pt x="1046" y="6127"/>
                </a:lnTo>
                <a:lnTo>
                  <a:pt x="993" y="6166"/>
                </a:lnTo>
                <a:lnTo>
                  <a:pt x="900" y="6180"/>
                </a:lnTo>
                <a:lnTo>
                  <a:pt x="860" y="6180"/>
                </a:lnTo>
                <a:lnTo>
                  <a:pt x="821" y="6180"/>
                </a:lnTo>
                <a:lnTo>
                  <a:pt x="781" y="6180"/>
                </a:lnTo>
                <a:lnTo>
                  <a:pt x="728" y="6193"/>
                </a:lnTo>
                <a:lnTo>
                  <a:pt x="688" y="6193"/>
                </a:lnTo>
                <a:lnTo>
                  <a:pt x="649" y="6206"/>
                </a:lnTo>
                <a:lnTo>
                  <a:pt x="596" y="6219"/>
                </a:lnTo>
                <a:lnTo>
                  <a:pt x="556" y="6219"/>
                </a:lnTo>
                <a:lnTo>
                  <a:pt x="516" y="6219"/>
                </a:lnTo>
                <a:lnTo>
                  <a:pt x="477" y="6219"/>
                </a:lnTo>
                <a:lnTo>
                  <a:pt x="424" y="6232"/>
                </a:lnTo>
                <a:lnTo>
                  <a:pt x="370" y="6232"/>
                </a:lnTo>
                <a:lnTo>
                  <a:pt x="330" y="6246"/>
                </a:lnTo>
                <a:lnTo>
                  <a:pt x="291" y="6246"/>
                </a:lnTo>
                <a:lnTo>
                  <a:pt x="251" y="6272"/>
                </a:lnTo>
                <a:lnTo>
                  <a:pt x="211" y="6285"/>
                </a:lnTo>
                <a:lnTo>
                  <a:pt x="171" y="6299"/>
                </a:lnTo>
                <a:lnTo>
                  <a:pt x="132" y="6299"/>
                </a:lnTo>
                <a:lnTo>
                  <a:pt x="92" y="6312"/>
                </a:lnTo>
                <a:lnTo>
                  <a:pt x="52" y="6325"/>
                </a:lnTo>
                <a:lnTo>
                  <a:pt x="13" y="6351"/>
                </a:lnTo>
                <a:lnTo>
                  <a:pt x="0" y="6338"/>
                </a:lnTo>
                <a:lnTo>
                  <a:pt x="0" y="6299"/>
                </a:lnTo>
                <a:lnTo>
                  <a:pt x="13" y="6232"/>
                </a:lnTo>
                <a:lnTo>
                  <a:pt x="0" y="6193"/>
                </a:lnTo>
                <a:lnTo>
                  <a:pt x="0" y="158"/>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93" name=""/>
          <p:cNvSpPr txBox="1"/>
          <p:nvPr/>
        </p:nvSpPr>
        <p:spPr>
          <a:xfrm>
            <a:off x="2394000" y="4932360"/>
            <a:ext cx="32385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POSSIBLE INTERPRETATION</a:t>
            </a:r>
            <a:endParaRPr b="0" lang="en-US" sz="1800" spc="-1" strike="noStrike">
              <a:solidFill>
                <a:srgbClr val="000000"/>
              </a:solidFill>
              <a:latin typeface="Arial"/>
            </a:endParaRPr>
          </a:p>
        </p:txBody>
      </p:sp>
      <p:sp>
        <p:nvSpPr>
          <p:cNvPr id="8894" name=""/>
          <p:cNvSpPr txBox="1"/>
          <p:nvPr/>
        </p:nvSpPr>
        <p:spPr>
          <a:xfrm>
            <a:off x="2901960" y="1725480"/>
            <a:ext cx="3517920" cy="1552680"/>
          </a:xfrm>
          <a:prstGeom prst="rect">
            <a:avLst/>
          </a:prstGeom>
          <a:noFill/>
          <a:ln w="0">
            <a:noFill/>
          </a:ln>
        </p:spPr>
        <p:txBody>
          <a:bodyPr lIns="0" rIns="0" tIns="0" bIns="0" anchor="t">
            <a:noAutofit/>
          </a:bodyPr>
          <a:p>
            <a:pPr>
              <a:lnSpc>
                <a:spcPct val="100000"/>
              </a:lnSpc>
            </a:pPr>
            <a:r>
              <a:rPr b="0" lang="en-US" sz="2400" spc="-1" strike="noStrike">
                <a:solidFill>
                  <a:srgbClr val="f2fefd"/>
                </a:solidFill>
                <a:latin typeface="Times New Roman"/>
                <a:ea typeface="Times New Roman"/>
              </a:rPr>
              <a:t>Datum features (diameters)</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A and B are established by</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the </a:t>
            </a:r>
            <a:r>
              <a:rPr b="0" i="1" lang="en-US" sz="2400" spc="-1" strike="noStrike">
                <a:solidFill>
                  <a:srgbClr val="ffff00"/>
                </a:solidFill>
                <a:latin typeface="Times New Roman"/>
                <a:ea typeface="Times New Roman"/>
              </a:rPr>
              <a:t>smallest</a:t>
            </a:r>
            <a:r>
              <a:rPr b="0" lang="en-US" sz="2400" spc="-1" strike="noStrike">
                <a:solidFill>
                  <a:srgbClr val="f2fefd"/>
                </a:solidFill>
                <a:latin typeface="Times New Roman"/>
                <a:ea typeface="Times New Roman"/>
              </a:rPr>
              <a:t> pair of </a:t>
            </a:r>
            <a:r>
              <a:rPr b="0" lang="en-US" sz="2400" spc="-1" strike="noStrike">
                <a:solidFill>
                  <a:srgbClr val="ffff00"/>
                </a:solidFill>
                <a:latin typeface="Times New Roman"/>
                <a:ea typeface="Times New Roman"/>
              </a:rPr>
              <a:t>coaxial</a:t>
            </a:r>
            <a:endParaRPr b="0" lang="en-US" sz="2400" spc="-1" strike="noStrike">
              <a:solidFill>
                <a:srgbClr val="000000"/>
              </a:solidFill>
              <a:latin typeface="Arial"/>
            </a:endParaRPr>
          </a:p>
          <a:p>
            <a:pPr>
              <a:lnSpc>
                <a:spcPct val="100000"/>
              </a:lnSpc>
            </a:pPr>
            <a:r>
              <a:rPr b="0" lang="en-US" sz="2400" spc="-1" strike="noStrike">
                <a:solidFill>
                  <a:srgbClr val="f2fefd"/>
                </a:solidFill>
                <a:latin typeface="Times New Roman"/>
                <a:ea typeface="Times New Roman"/>
              </a:rPr>
              <a:t>cylinders.</a:t>
            </a:r>
            <a:endParaRPr b="0" lang="en-US" sz="2400" spc="-1" strike="noStrike">
              <a:solidFill>
                <a:srgbClr val="000000"/>
              </a:solidFill>
              <a:latin typeface="Arial"/>
            </a:endParaRPr>
          </a:p>
        </p:txBody>
      </p:sp>
      <p:sp>
        <p:nvSpPr>
          <p:cNvPr id="8895" name=""/>
          <p:cNvSpPr/>
          <p:nvPr/>
        </p:nvSpPr>
        <p:spPr>
          <a:xfrm>
            <a:off x="6897600" y="2963880"/>
            <a:ext cx="140040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96" name=""/>
          <p:cNvSpPr txBox="1"/>
          <p:nvPr/>
        </p:nvSpPr>
        <p:spPr>
          <a:xfrm>
            <a:off x="2943360" y="3830760"/>
            <a:ext cx="79848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ia A</a:t>
            </a:r>
            <a:endParaRPr b="0" lang="en-US" sz="2000" spc="-1" strike="noStrike">
              <a:solidFill>
                <a:srgbClr val="000000"/>
              </a:solidFill>
              <a:latin typeface="Arial"/>
            </a:endParaRPr>
          </a:p>
        </p:txBody>
      </p:sp>
      <p:sp>
        <p:nvSpPr>
          <p:cNvPr id="8897" name=""/>
          <p:cNvSpPr txBox="1"/>
          <p:nvPr/>
        </p:nvSpPr>
        <p:spPr>
          <a:xfrm>
            <a:off x="8075520" y="3522600"/>
            <a:ext cx="78408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ia B</a:t>
            </a:r>
            <a:endParaRPr b="0" lang="en-US" sz="2000" spc="-1" strike="noStrike">
              <a:solidFill>
                <a:srgbClr val="000000"/>
              </a:solidFill>
              <a:latin typeface="Arial"/>
            </a:endParaRPr>
          </a:p>
        </p:txBody>
      </p:sp>
      <p:sp>
        <p:nvSpPr>
          <p:cNvPr id="8898" name=""/>
          <p:cNvSpPr txBox="1"/>
          <p:nvPr/>
        </p:nvSpPr>
        <p:spPr>
          <a:xfrm>
            <a:off x="631800" y="5621400"/>
            <a:ext cx="247032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Example Number One</a:t>
            </a:r>
            <a:endParaRPr b="0" lang="en-US" sz="2000" spc="-1" strike="noStrike">
              <a:solidFill>
                <a:srgbClr val="000000"/>
              </a:solidFill>
              <a:latin typeface="Arial"/>
            </a:endParaRPr>
          </a:p>
        </p:txBody>
      </p:sp>
      <p:sp>
        <p:nvSpPr>
          <p:cNvPr id="8899" name=""/>
          <p:cNvSpPr txBox="1"/>
          <p:nvPr/>
        </p:nvSpPr>
        <p:spPr>
          <a:xfrm>
            <a:off x="1947960" y="433440"/>
            <a:ext cx="527688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ingle Datum Axis From </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Two Datum Features (RF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900" name=""/>
          <p:cNvSpPr/>
          <p:nvPr/>
        </p:nvSpPr>
        <p:spPr>
          <a:xfrm flipH="1">
            <a:off x="2065320" y="4919760"/>
            <a:ext cx="3477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1" name=""/>
          <p:cNvSpPr/>
          <p:nvPr/>
        </p:nvSpPr>
        <p:spPr>
          <a:xfrm flipH="1">
            <a:off x="2065320" y="2722680"/>
            <a:ext cx="3477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2" name=""/>
          <p:cNvSpPr/>
          <p:nvPr/>
        </p:nvSpPr>
        <p:spPr>
          <a:xfrm flipV="1">
            <a:off x="2281320" y="2941560"/>
            <a:ext cx="0" cy="1760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3" name=""/>
          <p:cNvSpPr/>
          <p:nvPr/>
        </p:nvSpPr>
        <p:spPr>
          <a:xfrm>
            <a:off x="2281320" y="2155680"/>
            <a:ext cx="217800" cy="567000"/>
          </a:xfrm>
          <a:custGeom>
            <a:avLst/>
            <a:gdLst/>
            <a:ahLst/>
            <a:rect l="0" t="0" r="r" b="b"/>
            <a:pathLst>
              <a:path fill="none" w="605" h="1575">
                <a:moveTo>
                  <a:pt x="0" y="1575"/>
                </a:moveTo>
                <a:lnTo>
                  <a:pt x="0" y="0"/>
                </a:lnTo>
                <a:lnTo>
                  <a:pt x="605"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04" name=""/>
          <p:cNvSpPr/>
          <p:nvPr/>
        </p:nvSpPr>
        <p:spPr>
          <a:xfrm>
            <a:off x="2246400" y="4702320"/>
            <a:ext cx="73440" cy="217800"/>
          </a:xfrm>
          <a:custGeom>
            <a:avLst/>
            <a:gdLst/>
            <a:ahLst/>
            <a:rect l="0" t="0" r="r" b="b"/>
            <a:pathLst>
              <a:path w="204" h="605">
                <a:moveTo>
                  <a:pt x="0" y="0"/>
                </a:moveTo>
                <a:lnTo>
                  <a:pt x="204" y="0"/>
                </a:lnTo>
                <a:lnTo>
                  <a:pt x="98" y="605"/>
                </a:lnTo>
                <a:lnTo>
                  <a:pt x="0" y="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05" name=""/>
          <p:cNvSpPr/>
          <p:nvPr/>
        </p:nvSpPr>
        <p:spPr>
          <a:xfrm>
            <a:off x="2246400" y="2722680"/>
            <a:ext cx="73440" cy="219600"/>
          </a:xfrm>
          <a:custGeom>
            <a:avLst/>
            <a:gdLst/>
            <a:ahLst/>
            <a:rect l="0" t="0" r="r" b="b"/>
            <a:pathLst>
              <a:path w="204" h="610">
                <a:moveTo>
                  <a:pt x="0" y="610"/>
                </a:moveTo>
                <a:lnTo>
                  <a:pt x="204" y="610"/>
                </a:lnTo>
                <a:lnTo>
                  <a:pt x="98" y="0"/>
                </a:lnTo>
                <a:lnTo>
                  <a:pt x="0" y="61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06" name=""/>
          <p:cNvSpPr/>
          <p:nvPr/>
        </p:nvSpPr>
        <p:spPr>
          <a:xfrm flipH="1">
            <a:off x="2604960" y="2079720"/>
            <a:ext cx="60480" cy="1508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7" name=""/>
          <p:cNvSpPr/>
          <p:nvPr/>
        </p:nvSpPr>
        <p:spPr>
          <a:xfrm>
            <a:off x="2665440" y="2079720"/>
            <a:ext cx="55440" cy="1508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8" name=""/>
          <p:cNvSpPr/>
          <p:nvPr/>
        </p:nvSpPr>
        <p:spPr>
          <a:xfrm>
            <a:off x="2629080" y="2181240"/>
            <a:ext cx="712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09" name=""/>
          <p:cNvSpPr/>
          <p:nvPr/>
        </p:nvSpPr>
        <p:spPr>
          <a:xfrm>
            <a:off x="6421320" y="3165480"/>
            <a:ext cx="0" cy="1476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0" name=""/>
          <p:cNvSpPr/>
          <p:nvPr/>
        </p:nvSpPr>
        <p:spPr>
          <a:xfrm>
            <a:off x="6421320" y="3165480"/>
            <a:ext cx="103680" cy="68760"/>
          </a:xfrm>
          <a:custGeom>
            <a:avLst/>
            <a:gdLst/>
            <a:ahLst/>
            <a:rect l="0" t="0" r="r" b="b"/>
            <a:pathLst>
              <a:path fill="none" w="288" h="191">
                <a:moveTo>
                  <a:pt x="0" y="0"/>
                </a:moveTo>
                <a:lnTo>
                  <a:pt x="189" y="0"/>
                </a:lnTo>
                <a:lnTo>
                  <a:pt x="250" y="14"/>
                </a:lnTo>
                <a:lnTo>
                  <a:pt x="266" y="36"/>
                </a:lnTo>
                <a:lnTo>
                  <a:pt x="288" y="73"/>
                </a:lnTo>
                <a:lnTo>
                  <a:pt x="288" y="117"/>
                </a:lnTo>
                <a:lnTo>
                  <a:pt x="266" y="155"/>
                </a:lnTo>
                <a:lnTo>
                  <a:pt x="250" y="177"/>
                </a:lnTo>
                <a:lnTo>
                  <a:pt x="189" y="191"/>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8911" name=""/>
          <p:cNvSpPr/>
          <p:nvPr/>
        </p:nvSpPr>
        <p:spPr>
          <a:xfrm>
            <a:off x="6421320" y="3233880"/>
            <a:ext cx="103680" cy="79560"/>
          </a:xfrm>
          <a:custGeom>
            <a:avLst/>
            <a:gdLst/>
            <a:ahLst/>
            <a:rect l="0" t="0" r="r" b="b"/>
            <a:pathLst>
              <a:path fill="none" w="288" h="221">
                <a:moveTo>
                  <a:pt x="0" y="0"/>
                </a:moveTo>
                <a:lnTo>
                  <a:pt x="189" y="0"/>
                </a:lnTo>
                <a:lnTo>
                  <a:pt x="250" y="22"/>
                </a:lnTo>
                <a:lnTo>
                  <a:pt x="266" y="44"/>
                </a:lnTo>
                <a:lnTo>
                  <a:pt x="288" y="80"/>
                </a:lnTo>
                <a:lnTo>
                  <a:pt x="288" y="140"/>
                </a:lnTo>
                <a:lnTo>
                  <a:pt x="266" y="184"/>
                </a:lnTo>
                <a:lnTo>
                  <a:pt x="250" y="199"/>
                </a:lnTo>
                <a:lnTo>
                  <a:pt x="189" y="221"/>
                </a:lnTo>
                <a:lnTo>
                  <a:pt x="0" y="221"/>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8912" name=""/>
          <p:cNvSpPr/>
          <p:nvPr/>
        </p:nvSpPr>
        <p:spPr>
          <a:xfrm>
            <a:off x="6313320" y="3089160"/>
            <a:ext cx="302040" cy="300240"/>
          </a:xfrm>
          <a:custGeom>
            <a:avLst/>
            <a:gdLst/>
            <a:ahLst/>
            <a:rect l="0" t="0" r="r" b="b"/>
            <a:pathLst>
              <a:path fill="none" w="839" h="834">
                <a:moveTo>
                  <a:pt x="0" y="834"/>
                </a:moveTo>
                <a:lnTo>
                  <a:pt x="0" y="0"/>
                </a:lnTo>
                <a:lnTo>
                  <a:pt x="839" y="0"/>
                </a:lnTo>
                <a:lnTo>
                  <a:pt x="839" y="834"/>
                </a:lnTo>
                <a:lnTo>
                  <a:pt x="0" y="834"/>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13" name=""/>
          <p:cNvSpPr/>
          <p:nvPr/>
        </p:nvSpPr>
        <p:spPr>
          <a:xfrm flipV="1">
            <a:off x="3243240" y="2722680"/>
            <a:ext cx="0" cy="5680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4" name=""/>
          <p:cNvSpPr/>
          <p:nvPr/>
        </p:nvSpPr>
        <p:spPr>
          <a:xfrm>
            <a:off x="2489040" y="2722680"/>
            <a:ext cx="754560" cy="2197440"/>
          </a:xfrm>
          <a:custGeom>
            <a:avLst/>
            <a:gdLst/>
            <a:ahLst/>
            <a:rect l="0" t="0" r="r" b="b"/>
            <a:pathLst>
              <a:path fill="none" w="2096" h="6104">
                <a:moveTo>
                  <a:pt x="0" y="0"/>
                </a:moveTo>
                <a:lnTo>
                  <a:pt x="0" y="6104"/>
                </a:lnTo>
                <a:lnTo>
                  <a:pt x="2096" y="6104"/>
                </a:lnTo>
                <a:lnTo>
                  <a:pt x="2096" y="452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15" name=""/>
          <p:cNvSpPr/>
          <p:nvPr/>
        </p:nvSpPr>
        <p:spPr>
          <a:xfrm>
            <a:off x="3243240" y="4260960"/>
            <a:ext cx="90720" cy="93960"/>
          </a:xfrm>
          <a:custGeom>
            <a:avLst/>
            <a:gdLst/>
            <a:ahLst/>
            <a:rect l="0" t="0" r="r" b="b"/>
            <a:pathLst>
              <a:path fill="none" w="252" h="261">
                <a:moveTo>
                  <a:pt x="252" y="0"/>
                </a:moveTo>
                <a:lnTo>
                  <a:pt x="237" y="0"/>
                </a:lnTo>
                <a:lnTo>
                  <a:pt x="222" y="0"/>
                </a:lnTo>
                <a:lnTo>
                  <a:pt x="215" y="0"/>
                </a:lnTo>
                <a:lnTo>
                  <a:pt x="200" y="7"/>
                </a:lnTo>
                <a:lnTo>
                  <a:pt x="185" y="7"/>
                </a:lnTo>
                <a:lnTo>
                  <a:pt x="178" y="7"/>
                </a:lnTo>
                <a:lnTo>
                  <a:pt x="163" y="15"/>
                </a:lnTo>
                <a:lnTo>
                  <a:pt x="156" y="15"/>
                </a:lnTo>
                <a:lnTo>
                  <a:pt x="141" y="22"/>
                </a:lnTo>
                <a:lnTo>
                  <a:pt x="134" y="30"/>
                </a:lnTo>
                <a:lnTo>
                  <a:pt x="118" y="38"/>
                </a:lnTo>
                <a:lnTo>
                  <a:pt x="110" y="45"/>
                </a:lnTo>
                <a:lnTo>
                  <a:pt x="96" y="53"/>
                </a:lnTo>
                <a:lnTo>
                  <a:pt x="88" y="61"/>
                </a:lnTo>
                <a:lnTo>
                  <a:pt x="81" y="68"/>
                </a:lnTo>
                <a:lnTo>
                  <a:pt x="73" y="76"/>
                </a:lnTo>
                <a:lnTo>
                  <a:pt x="66" y="84"/>
                </a:lnTo>
                <a:lnTo>
                  <a:pt x="51" y="91"/>
                </a:lnTo>
                <a:lnTo>
                  <a:pt x="44" y="107"/>
                </a:lnTo>
                <a:lnTo>
                  <a:pt x="36" y="114"/>
                </a:lnTo>
                <a:lnTo>
                  <a:pt x="36" y="122"/>
                </a:lnTo>
                <a:lnTo>
                  <a:pt x="29" y="138"/>
                </a:lnTo>
                <a:lnTo>
                  <a:pt x="22" y="146"/>
                </a:lnTo>
                <a:lnTo>
                  <a:pt x="14" y="161"/>
                </a:lnTo>
                <a:lnTo>
                  <a:pt x="14" y="169"/>
                </a:lnTo>
                <a:lnTo>
                  <a:pt x="7" y="184"/>
                </a:lnTo>
                <a:lnTo>
                  <a:pt x="7" y="192"/>
                </a:lnTo>
                <a:lnTo>
                  <a:pt x="0" y="207"/>
                </a:lnTo>
                <a:lnTo>
                  <a:pt x="0" y="222"/>
                </a:lnTo>
                <a:lnTo>
                  <a:pt x="0" y="230"/>
                </a:lnTo>
                <a:lnTo>
                  <a:pt x="0" y="245"/>
                </a:lnTo>
                <a:lnTo>
                  <a:pt x="0" y="261"/>
                </a:lnTo>
              </a:path>
            </a:pathLst>
          </a:custGeom>
          <a:ln w="12600">
            <a:solidFill>
              <a:srgbClr val="f2fefd"/>
            </a:solidFill>
            <a:round/>
          </a:ln>
        </p:spPr>
        <p:txBody>
          <a:bodyPr lIns="96120" rIns="96120" tIns="42840" bIns="42840" anchor="t">
            <a:noAutofit/>
          </a:bodyPr>
          <a:p>
            <a:endParaRPr b="0" lang="en-US" sz="1800" spc="-1" strike="noStrike">
              <a:solidFill>
                <a:srgbClr val="000000"/>
              </a:solidFill>
              <a:latin typeface="Arial"/>
            </a:endParaRPr>
          </a:p>
        </p:txBody>
      </p:sp>
      <p:sp>
        <p:nvSpPr>
          <p:cNvPr id="8916" name=""/>
          <p:cNvSpPr/>
          <p:nvPr/>
        </p:nvSpPr>
        <p:spPr>
          <a:xfrm>
            <a:off x="3333600" y="4260960"/>
            <a:ext cx="889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7" name=""/>
          <p:cNvSpPr/>
          <p:nvPr/>
        </p:nvSpPr>
        <p:spPr>
          <a:xfrm>
            <a:off x="4311720" y="2987640"/>
            <a:ext cx="0" cy="303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8" name=""/>
          <p:cNvSpPr/>
          <p:nvPr/>
        </p:nvSpPr>
        <p:spPr>
          <a:xfrm>
            <a:off x="5051520" y="2987640"/>
            <a:ext cx="0" cy="1665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19" name=""/>
          <p:cNvSpPr/>
          <p:nvPr/>
        </p:nvSpPr>
        <p:spPr>
          <a:xfrm>
            <a:off x="2066760" y="3821040"/>
            <a:ext cx="606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0" name=""/>
          <p:cNvSpPr/>
          <p:nvPr/>
        </p:nvSpPr>
        <p:spPr>
          <a:xfrm>
            <a:off x="2824200" y="3821040"/>
            <a:ext cx="1490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1" name=""/>
          <p:cNvSpPr/>
          <p:nvPr/>
        </p:nvSpPr>
        <p:spPr>
          <a:xfrm>
            <a:off x="3124080" y="3821040"/>
            <a:ext cx="754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2" name=""/>
          <p:cNvSpPr/>
          <p:nvPr/>
        </p:nvSpPr>
        <p:spPr>
          <a:xfrm>
            <a:off x="4029120" y="3821040"/>
            <a:ext cx="1522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3" name=""/>
          <p:cNvSpPr/>
          <p:nvPr/>
        </p:nvSpPr>
        <p:spPr>
          <a:xfrm>
            <a:off x="4330800" y="3821040"/>
            <a:ext cx="755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4" name=""/>
          <p:cNvSpPr/>
          <p:nvPr/>
        </p:nvSpPr>
        <p:spPr>
          <a:xfrm>
            <a:off x="5237280" y="3821040"/>
            <a:ext cx="147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5" name=""/>
          <p:cNvSpPr/>
          <p:nvPr/>
        </p:nvSpPr>
        <p:spPr>
          <a:xfrm>
            <a:off x="5535720" y="3821040"/>
            <a:ext cx="606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6" name=""/>
          <p:cNvSpPr/>
          <p:nvPr/>
        </p:nvSpPr>
        <p:spPr>
          <a:xfrm flipH="1">
            <a:off x="4311720" y="4653000"/>
            <a:ext cx="739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7" name=""/>
          <p:cNvSpPr/>
          <p:nvPr/>
        </p:nvSpPr>
        <p:spPr>
          <a:xfrm>
            <a:off x="3243240" y="3290760"/>
            <a:ext cx="0" cy="1063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8" name=""/>
          <p:cNvSpPr/>
          <p:nvPr/>
        </p:nvSpPr>
        <p:spPr>
          <a:xfrm flipV="1">
            <a:off x="4311720" y="3290760"/>
            <a:ext cx="0" cy="1063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9" name=""/>
          <p:cNvSpPr/>
          <p:nvPr/>
        </p:nvSpPr>
        <p:spPr>
          <a:xfrm>
            <a:off x="4222800" y="4260960"/>
            <a:ext cx="89280" cy="392400"/>
          </a:xfrm>
          <a:custGeom>
            <a:avLst/>
            <a:gdLst/>
            <a:ahLst/>
            <a:rect l="0" t="0" r="r" b="b"/>
            <a:pathLst>
              <a:path fill="none" w="248" h="1090">
                <a:moveTo>
                  <a:pt x="248" y="1090"/>
                </a:moveTo>
                <a:lnTo>
                  <a:pt x="248" y="253"/>
                </a:lnTo>
                <a:lnTo>
                  <a:pt x="248" y="238"/>
                </a:lnTo>
                <a:lnTo>
                  <a:pt x="248" y="223"/>
                </a:lnTo>
                <a:lnTo>
                  <a:pt x="248" y="216"/>
                </a:lnTo>
                <a:lnTo>
                  <a:pt x="248" y="201"/>
                </a:lnTo>
                <a:lnTo>
                  <a:pt x="241" y="186"/>
                </a:lnTo>
                <a:lnTo>
                  <a:pt x="241" y="179"/>
                </a:lnTo>
                <a:lnTo>
                  <a:pt x="233" y="164"/>
                </a:lnTo>
                <a:lnTo>
                  <a:pt x="233" y="156"/>
                </a:lnTo>
                <a:lnTo>
                  <a:pt x="226" y="141"/>
                </a:lnTo>
                <a:lnTo>
                  <a:pt x="219" y="134"/>
                </a:lnTo>
                <a:lnTo>
                  <a:pt x="219" y="119"/>
                </a:lnTo>
                <a:lnTo>
                  <a:pt x="211" y="111"/>
                </a:lnTo>
                <a:lnTo>
                  <a:pt x="204" y="104"/>
                </a:lnTo>
                <a:lnTo>
                  <a:pt x="196" y="89"/>
                </a:lnTo>
                <a:lnTo>
                  <a:pt x="189" y="82"/>
                </a:lnTo>
                <a:lnTo>
                  <a:pt x="180" y="74"/>
                </a:lnTo>
                <a:lnTo>
                  <a:pt x="165" y="67"/>
                </a:lnTo>
                <a:lnTo>
                  <a:pt x="158" y="59"/>
                </a:lnTo>
                <a:lnTo>
                  <a:pt x="150" y="52"/>
                </a:lnTo>
                <a:lnTo>
                  <a:pt x="135" y="44"/>
                </a:lnTo>
                <a:lnTo>
                  <a:pt x="128" y="37"/>
                </a:lnTo>
                <a:lnTo>
                  <a:pt x="120" y="29"/>
                </a:lnTo>
                <a:lnTo>
                  <a:pt x="105" y="22"/>
                </a:lnTo>
                <a:lnTo>
                  <a:pt x="98" y="14"/>
                </a:lnTo>
                <a:lnTo>
                  <a:pt x="83" y="14"/>
                </a:lnTo>
                <a:lnTo>
                  <a:pt x="68" y="7"/>
                </a:lnTo>
                <a:lnTo>
                  <a:pt x="59" y="7"/>
                </a:lnTo>
                <a:lnTo>
                  <a:pt x="44" y="7"/>
                </a:lnTo>
                <a:lnTo>
                  <a:pt x="37" y="0"/>
                </a:lnTo>
                <a:lnTo>
                  <a:pt x="22" y="0"/>
                </a:lnTo>
                <a:lnTo>
                  <a:pt x="7"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30" name=""/>
          <p:cNvSpPr/>
          <p:nvPr/>
        </p:nvSpPr>
        <p:spPr>
          <a:xfrm>
            <a:off x="3333600" y="3381480"/>
            <a:ext cx="889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1" name=""/>
          <p:cNvSpPr/>
          <p:nvPr/>
        </p:nvSpPr>
        <p:spPr>
          <a:xfrm>
            <a:off x="3243240" y="3290760"/>
            <a:ext cx="90720" cy="90720"/>
          </a:xfrm>
          <a:custGeom>
            <a:avLst/>
            <a:gdLst/>
            <a:ahLst/>
            <a:rect l="0" t="0" r="r" b="b"/>
            <a:pathLst>
              <a:path fill="none" w="252" h="252">
                <a:moveTo>
                  <a:pt x="0" y="0"/>
                </a:moveTo>
                <a:lnTo>
                  <a:pt x="0" y="7"/>
                </a:lnTo>
                <a:lnTo>
                  <a:pt x="0" y="22"/>
                </a:lnTo>
                <a:lnTo>
                  <a:pt x="0" y="36"/>
                </a:lnTo>
                <a:lnTo>
                  <a:pt x="0" y="44"/>
                </a:lnTo>
                <a:lnTo>
                  <a:pt x="7" y="59"/>
                </a:lnTo>
                <a:lnTo>
                  <a:pt x="7" y="73"/>
                </a:lnTo>
                <a:lnTo>
                  <a:pt x="14" y="81"/>
                </a:lnTo>
                <a:lnTo>
                  <a:pt x="14" y="96"/>
                </a:lnTo>
                <a:lnTo>
                  <a:pt x="22" y="103"/>
                </a:lnTo>
                <a:lnTo>
                  <a:pt x="29" y="118"/>
                </a:lnTo>
                <a:lnTo>
                  <a:pt x="36" y="125"/>
                </a:lnTo>
                <a:lnTo>
                  <a:pt x="36" y="141"/>
                </a:lnTo>
                <a:lnTo>
                  <a:pt x="44" y="148"/>
                </a:lnTo>
                <a:lnTo>
                  <a:pt x="51" y="156"/>
                </a:lnTo>
                <a:lnTo>
                  <a:pt x="66" y="171"/>
                </a:lnTo>
                <a:lnTo>
                  <a:pt x="73" y="178"/>
                </a:lnTo>
                <a:lnTo>
                  <a:pt x="81" y="185"/>
                </a:lnTo>
                <a:lnTo>
                  <a:pt x="88" y="193"/>
                </a:lnTo>
                <a:lnTo>
                  <a:pt x="96" y="200"/>
                </a:lnTo>
                <a:lnTo>
                  <a:pt x="110" y="207"/>
                </a:lnTo>
                <a:lnTo>
                  <a:pt x="118" y="215"/>
                </a:lnTo>
                <a:lnTo>
                  <a:pt x="134" y="222"/>
                </a:lnTo>
                <a:lnTo>
                  <a:pt x="141" y="222"/>
                </a:lnTo>
                <a:lnTo>
                  <a:pt x="156" y="230"/>
                </a:lnTo>
                <a:lnTo>
                  <a:pt x="163" y="237"/>
                </a:lnTo>
                <a:lnTo>
                  <a:pt x="178" y="237"/>
                </a:lnTo>
                <a:lnTo>
                  <a:pt x="185" y="244"/>
                </a:lnTo>
                <a:lnTo>
                  <a:pt x="200" y="244"/>
                </a:lnTo>
                <a:lnTo>
                  <a:pt x="215" y="244"/>
                </a:lnTo>
                <a:lnTo>
                  <a:pt x="222" y="244"/>
                </a:lnTo>
                <a:lnTo>
                  <a:pt x="237" y="252"/>
                </a:lnTo>
                <a:lnTo>
                  <a:pt x="252" y="252"/>
                </a:lnTo>
              </a:path>
            </a:pathLst>
          </a:custGeom>
          <a:ln w="12600">
            <a:solidFill>
              <a:srgbClr val="f2fefd"/>
            </a:solidFill>
            <a:round/>
          </a:ln>
        </p:spPr>
        <p:txBody>
          <a:bodyPr lIns="96120" rIns="96120" tIns="39600" bIns="39600" anchor="t">
            <a:noAutofit/>
          </a:bodyPr>
          <a:p>
            <a:endParaRPr b="0" lang="en-US" sz="1800" spc="-1" strike="noStrike">
              <a:solidFill>
                <a:srgbClr val="000000"/>
              </a:solidFill>
              <a:latin typeface="Arial"/>
            </a:endParaRPr>
          </a:p>
        </p:txBody>
      </p:sp>
      <p:sp>
        <p:nvSpPr>
          <p:cNvPr id="8932" name=""/>
          <p:cNvSpPr/>
          <p:nvPr/>
        </p:nvSpPr>
        <p:spPr>
          <a:xfrm>
            <a:off x="4222800" y="3290760"/>
            <a:ext cx="89280" cy="90720"/>
          </a:xfrm>
          <a:custGeom>
            <a:avLst/>
            <a:gdLst/>
            <a:ahLst/>
            <a:rect l="0" t="0" r="r" b="b"/>
            <a:pathLst>
              <a:path fill="none" w="248" h="252">
                <a:moveTo>
                  <a:pt x="0" y="252"/>
                </a:moveTo>
                <a:lnTo>
                  <a:pt x="7" y="252"/>
                </a:lnTo>
                <a:lnTo>
                  <a:pt x="22" y="244"/>
                </a:lnTo>
                <a:lnTo>
                  <a:pt x="37" y="244"/>
                </a:lnTo>
                <a:lnTo>
                  <a:pt x="44" y="244"/>
                </a:lnTo>
                <a:lnTo>
                  <a:pt x="59" y="244"/>
                </a:lnTo>
                <a:lnTo>
                  <a:pt x="68" y="237"/>
                </a:lnTo>
                <a:lnTo>
                  <a:pt x="83" y="237"/>
                </a:lnTo>
                <a:lnTo>
                  <a:pt x="98" y="230"/>
                </a:lnTo>
                <a:lnTo>
                  <a:pt x="105" y="222"/>
                </a:lnTo>
                <a:lnTo>
                  <a:pt x="120" y="222"/>
                </a:lnTo>
                <a:lnTo>
                  <a:pt x="128" y="215"/>
                </a:lnTo>
                <a:lnTo>
                  <a:pt x="135" y="207"/>
                </a:lnTo>
                <a:lnTo>
                  <a:pt x="150" y="200"/>
                </a:lnTo>
                <a:lnTo>
                  <a:pt x="158" y="193"/>
                </a:lnTo>
                <a:lnTo>
                  <a:pt x="165" y="185"/>
                </a:lnTo>
                <a:lnTo>
                  <a:pt x="180" y="178"/>
                </a:lnTo>
                <a:lnTo>
                  <a:pt x="189" y="171"/>
                </a:lnTo>
                <a:lnTo>
                  <a:pt x="196" y="156"/>
                </a:lnTo>
                <a:lnTo>
                  <a:pt x="204" y="148"/>
                </a:lnTo>
                <a:lnTo>
                  <a:pt x="211" y="141"/>
                </a:lnTo>
                <a:lnTo>
                  <a:pt x="219" y="125"/>
                </a:lnTo>
                <a:lnTo>
                  <a:pt x="219" y="118"/>
                </a:lnTo>
                <a:lnTo>
                  <a:pt x="226" y="103"/>
                </a:lnTo>
                <a:lnTo>
                  <a:pt x="233" y="96"/>
                </a:lnTo>
                <a:lnTo>
                  <a:pt x="233" y="81"/>
                </a:lnTo>
                <a:lnTo>
                  <a:pt x="241" y="73"/>
                </a:lnTo>
                <a:lnTo>
                  <a:pt x="241" y="59"/>
                </a:lnTo>
                <a:lnTo>
                  <a:pt x="248" y="44"/>
                </a:lnTo>
                <a:lnTo>
                  <a:pt x="248" y="36"/>
                </a:lnTo>
                <a:lnTo>
                  <a:pt x="248" y="22"/>
                </a:lnTo>
                <a:lnTo>
                  <a:pt x="248" y="7"/>
                </a:lnTo>
                <a:lnTo>
                  <a:pt x="248" y="0"/>
                </a:lnTo>
              </a:path>
            </a:pathLst>
          </a:custGeom>
          <a:ln w="12600">
            <a:solidFill>
              <a:srgbClr val="f2fefd"/>
            </a:solidFill>
            <a:round/>
          </a:ln>
        </p:spPr>
        <p:txBody>
          <a:bodyPr lIns="96120" rIns="96120" tIns="39600" bIns="39600" anchor="t">
            <a:noAutofit/>
          </a:bodyPr>
          <a:p>
            <a:endParaRPr b="0" lang="en-US" sz="1800" spc="-1" strike="noStrike">
              <a:solidFill>
                <a:srgbClr val="000000"/>
              </a:solidFill>
              <a:latin typeface="Arial"/>
            </a:endParaRPr>
          </a:p>
        </p:txBody>
      </p:sp>
      <p:sp>
        <p:nvSpPr>
          <p:cNvPr id="8933" name=""/>
          <p:cNvSpPr/>
          <p:nvPr/>
        </p:nvSpPr>
        <p:spPr>
          <a:xfrm>
            <a:off x="5051520" y="3564000"/>
            <a:ext cx="784440" cy="513000"/>
          </a:xfrm>
          <a:custGeom>
            <a:avLst/>
            <a:gdLst/>
            <a:ahLst/>
            <a:rect l="0" t="0" r="r" b="b"/>
            <a:pathLst>
              <a:path fill="none" w="2179" h="1425">
                <a:moveTo>
                  <a:pt x="0" y="0"/>
                </a:moveTo>
                <a:lnTo>
                  <a:pt x="0" y="1425"/>
                </a:lnTo>
                <a:lnTo>
                  <a:pt x="2179" y="1425"/>
                </a:lnTo>
                <a:lnTo>
                  <a:pt x="2179"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34" name=""/>
          <p:cNvSpPr/>
          <p:nvPr/>
        </p:nvSpPr>
        <p:spPr>
          <a:xfrm>
            <a:off x="6097680" y="4294080"/>
            <a:ext cx="0" cy="217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5" name=""/>
          <p:cNvSpPr/>
          <p:nvPr/>
        </p:nvSpPr>
        <p:spPr>
          <a:xfrm>
            <a:off x="6062760" y="4076640"/>
            <a:ext cx="71640" cy="217800"/>
          </a:xfrm>
          <a:custGeom>
            <a:avLst/>
            <a:gdLst/>
            <a:ahLst/>
            <a:rect l="0" t="0" r="r" b="b"/>
            <a:pathLst>
              <a:path w="199" h="605">
                <a:moveTo>
                  <a:pt x="0" y="605"/>
                </a:moveTo>
                <a:lnTo>
                  <a:pt x="199" y="605"/>
                </a:lnTo>
                <a:lnTo>
                  <a:pt x="95" y="0"/>
                </a:lnTo>
                <a:lnTo>
                  <a:pt x="0" y="605"/>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36" name=""/>
          <p:cNvSpPr/>
          <p:nvPr/>
        </p:nvSpPr>
        <p:spPr>
          <a:xfrm>
            <a:off x="5908680" y="4076640"/>
            <a:ext cx="404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7" name=""/>
          <p:cNvSpPr/>
          <p:nvPr/>
        </p:nvSpPr>
        <p:spPr>
          <a:xfrm flipV="1">
            <a:off x="6097680" y="3240000"/>
            <a:ext cx="0" cy="324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8" name=""/>
          <p:cNvSpPr/>
          <p:nvPr/>
        </p:nvSpPr>
        <p:spPr>
          <a:xfrm>
            <a:off x="6010200" y="3414600"/>
            <a:ext cx="176400" cy="149760"/>
          </a:xfrm>
          <a:custGeom>
            <a:avLst/>
            <a:gdLst/>
            <a:ahLst/>
            <a:rect l="0" t="0" r="r" b="b"/>
            <a:pathLst>
              <a:path w="490" h="416">
                <a:moveTo>
                  <a:pt x="0" y="416"/>
                </a:moveTo>
                <a:lnTo>
                  <a:pt x="240" y="0"/>
                </a:lnTo>
                <a:lnTo>
                  <a:pt x="490" y="416"/>
                </a:lnTo>
                <a:lnTo>
                  <a:pt x="0" y="416"/>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39" name=""/>
          <p:cNvSpPr/>
          <p:nvPr/>
        </p:nvSpPr>
        <p:spPr>
          <a:xfrm flipH="1">
            <a:off x="6010200" y="3414600"/>
            <a:ext cx="87480" cy="149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0" name=""/>
          <p:cNvSpPr/>
          <p:nvPr/>
        </p:nvSpPr>
        <p:spPr>
          <a:xfrm flipH="1" flipV="1">
            <a:off x="6097680" y="3414600"/>
            <a:ext cx="88920" cy="149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1" name=""/>
          <p:cNvSpPr/>
          <p:nvPr/>
        </p:nvSpPr>
        <p:spPr>
          <a:xfrm flipH="1">
            <a:off x="6010200" y="3564000"/>
            <a:ext cx="1764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2" name=""/>
          <p:cNvSpPr/>
          <p:nvPr/>
        </p:nvSpPr>
        <p:spPr>
          <a:xfrm>
            <a:off x="5908680" y="3564000"/>
            <a:ext cx="404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3" name=""/>
          <p:cNvSpPr/>
          <p:nvPr/>
        </p:nvSpPr>
        <p:spPr>
          <a:xfrm>
            <a:off x="6097680" y="3240000"/>
            <a:ext cx="215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4" name=""/>
          <p:cNvSpPr/>
          <p:nvPr/>
        </p:nvSpPr>
        <p:spPr>
          <a:xfrm>
            <a:off x="4646520" y="2770200"/>
            <a:ext cx="71640" cy="217800"/>
          </a:xfrm>
          <a:custGeom>
            <a:avLst/>
            <a:gdLst/>
            <a:ahLst/>
            <a:rect l="0" t="0" r="r" b="b"/>
            <a:pathLst>
              <a:path w="199" h="605">
                <a:moveTo>
                  <a:pt x="199" y="0"/>
                </a:moveTo>
                <a:lnTo>
                  <a:pt x="103" y="605"/>
                </a:lnTo>
                <a:lnTo>
                  <a:pt x="0" y="0"/>
                </a:lnTo>
                <a:lnTo>
                  <a:pt x="199" y="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45" name=""/>
          <p:cNvSpPr/>
          <p:nvPr/>
        </p:nvSpPr>
        <p:spPr>
          <a:xfrm>
            <a:off x="4683240" y="2459160"/>
            <a:ext cx="163800" cy="311400"/>
          </a:xfrm>
          <a:custGeom>
            <a:avLst/>
            <a:gdLst/>
            <a:ahLst/>
            <a:rect l="0" t="0" r="r" b="b"/>
            <a:pathLst>
              <a:path fill="none" w="455" h="865">
                <a:moveTo>
                  <a:pt x="0" y="865"/>
                </a:moveTo>
                <a:lnTo>
                  <a:pt x="0" y="0"/>
                </a:lnTo>
                <a:lnTo>
                  <a:pt x="455"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46" name=""/>
          <p:cNvSpPr/>
          <p:nvPr/>
        </p:nvSpPr>
        <p:spPr>
          <a:xfrm>
            <a:off x="4311720" y="2987640"/>
            <a:ext cx="739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7" name=""/>
          <p:cNvSpPr/>
          <p:nvPr/>
        </p:nvSpPr>
        <p:spPr>
          <a:xfrm>
            <a:off x="2489040" y="2722680"/>
            <a:ext cx="754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8" name=""/>
          <p:cNvSpPr/>
          <p:nvPr/>
        </p:nvSpPr>
        <p:spPr>
          <a:xfrm>
            <a:off x="2195640" y="2575080"/>
            <a:ext cx="173520" cy="147960"/>
          </a:xfrm>
          <a:custGeom>
            <a:avLst/>
            <a:gdLst/>
            <a:ahLst/>
            <a:rect l="0" t="0" r="r" b="b"/>
            <a:pathLst>
              <a:path w="482" h="411">
                <a:moveTo>
                  <a:pt x="0" y="411"/>
                </a:moveTo>
                <a:lnTo>
                  <a:pt x="241" y="0"/>
                </a:lnTo>
                <a:lnTo>
                  <a:pt x="482" y="411"/>
                </a:lnTo>
                <a:lnTo>
                  <a:pt x="0" y="411"/>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49" name=""/>
          <p:cNvSpPr/>
          <p:nvPr/>
        </p:nvSpPr>
        <p:spPr>
          <a:xfrm flipH="1">
            <a:off x="2195640" y="2575080"/>
            <a:ext cx="85680" cy="1476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0" name=""/>
          <p:cNvSpPr/>
          <p:nvPr/>
        </p:nvSpPr>
        <p:spPr>
          <a:xfrm flipH="1" flipV="1">
            <a:off x="2281320" y="2575080"/>
            <a:ext cx="87120" cy="1476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1" name=""/>
          <p:cNvSpPr/>
          <p:nvPr/>
        </p:nvSpPr>
        <p:spPr>
          <a:xfrm flipH="1">
            <a:off x="2195640" y="2722680"/>
            <a:ext cx="172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2" name=""/>
          <p:cNvSpPr/>
          <p:nvPr/>
        </p:nvSpPr>
        <p:spPr>
          <a:xfrm>
            <a:off x="2498760" y="2004840"/>
            <a:ext cx="300240" cy="302040"/>
          </a:xfrm>
          <a:custGeom>
            <a:avLst/>
            <a:gdLst/>
            <a:ahLst/>
            <a:rect l="0" t="0" r="r" b="b"/>
            <a:pathLst>
              <a:path fill="none" w="834" h="839">
                <a:moveTo>
                  <a:pt x="0" y="839"/>
                </a:moveTo>
                <a:lnTo>
                  <a:pt x="0" y="0"/>
                </a:lnTo>
                <a:lnTo>
                  <a:pt x="834" y="0"/>
                </a:lnTo>
                <a:lnTo>
                  <a:pt x="834" y="839"/>
                </a:lnTo>
                <a:lnTo>
                  <a:pt x="0" y="83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53" name=""/>
          <p:cNvSpPr/>
          <p:nvPr/>
        </p:nvSpPr>
        <p:spPr>
          <a:xfrm>
            <a:off x="5991120" y="2308320"/>
            <a:ext cx="0" cy="301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4" name=""/>
          <p:cNvSpPr/>
          <p:nvPr/>
        </p:nvSpPr>
        <p:spPr>
          <a:xfrm flipH="1">
            <a:off x="5478480" y="2390760"/>
            <a:ext cx="55440" cy="1508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5" name=""/>
          <p:cNvSpPr/>
          <p:nvPr/>
        </p:nvSpPr>
        <p:spPr>
          <a:xfrm>
            <a:off x="5533920" y="2390760"/>
            <a:ext cx="55800" cy="1508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6" name=""/>
          <p:cNvSpPr/>
          <p:nvPr/>
        </p:nvSpPr>
        <p:spPr>
          <a:xfrm>
            <a:off x="5499000" y="2494080"/>
            <a:ext cx="69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7" name=""/>
          <p:cNvSpPr/>
          <p:nvPr/>
        </p:nvSpPr>
        <p:spPr>
          <a:xfrm>
            <a:off x="5626080" y="2478240"/>
            <a:ext cx="130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8" name=""/>
          <p:cNvSpPr/>
          <p:nvPr/>
        </p:nvSpPr>
        <p:spPr>
          <a:xfrm>
            <a:off x="5811840" y="2390760"/>
            <a:ext cx="0" cy="1508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9" name=""/>
          <p:cNvSpPr/>
          <p:nvPr/>
        </p:nvSpPr>
        <p:spPr>
          <a:xfrm>
            <a:off x="5811840" y="2390760"/>
            <a:ext cx="103680" cy="73440"/>
          </a:xfrm>
          <a:custGeom>
            <a:avLst/>
            <a:gdLst/>
            <a:ahLst/>
            <a:rect l="0" t="0" r="r" b="b"/>
            <a:pathLst>
              <a:path fill="none" w="288" h="204">
                <a:moveTo>
                  <a:pt x="0" y="0"/>
                </a:moveTo>
                <a:lnTo>
                  <a:pt x="182" y="0"/>
                </a:lnTo>
                <a:lnTo>
                  <a:pt x="243" y="22"/>
                </a:lnTo>
                <a:lnTo>
                  <a:pt x="266" y="37"/>
                </a:lnTo>
                <a:lnTo>
                  <a:pt x="288" y="83"/>
                </a:lnTo>
                <a:lnTo>
                  <a:pt x="288" y="121"/>
                </a:lnTo>
                <a:lnTo>
                  <a:pt x="266" y="167"/>
                </a:lnTo>
                <a:lnTo>
                  <a:pt x="243" y="182"/>
                </a:lnTo>
                <a:lnTo>
                  <a:pt x="182" y="204"/>
                </a:lnTo>
              </a:path>
            </a:pathLst>
          </a:custGeom>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8960" name=""/>
          <p:cNvSpPr/>
          <p:nvPr/>
        </p:nvSpPr>
        <p:spPr>
          <a:xfrm>
            <a:off x="5811840" y="2463840"/>
            <a:ext cx="103680" cy="78120"/>
          </a:xfrm>
          <a:custGeom>
            <a:avLst/>
            <a:gdLst/>
            <a:ahLst/>
            <a:rect l="0" t="0" r="r" b="b"/>
            <a:pathLst>
              <a:path fill="none" w="288" h="217">
                <a:moveTo>
                  <a:pt x="0" y="0"/>
                </a:moveTo>
                <a:lnTo>
                  <a:pt x="182" y="0"/>
                </a:lnTo>
                <a:lnTo>
                  <a:pt x="243" y="22"/>
                </a:lnTo>
                <a:lnTo>
                  <a:pt x="266" y="37"/>
                </a:lnTo>
                <a:lnTo>
                  <a:pt x="288" y="81"/>
                </a:lnTo>
                <a:lnTo>
                  <a:pt x="288" y="142"/>
                </a:lnTo>
                <a:lnTo>
                  <a:pt x="266" y="179"/>
                </a:lnTo>
                <a:lnTo>
                  <a:pt x="243" y="202"/>
                </a:lnTo>
                <a:lnTo>
                  <a:pt x="182" y="217"/>
                </a:lnTo>
                <a:lnTo>
                  <a:pt x="0" y="217"/>
                </a:lnTo>
              </a:path>
            </a:pathLst>
          </a:custGeom>
          <a:ln w="12600">
            <a:solidFill>
              <a:srgbClr val="f2fefd"/>
            </a:solidFill>
            <a:round/>
          </a:ln>
        </p:spPr>
        <p:txBody>
          <a:bodyPr lIns="96120" rIns="96120" tIns="27000" bIns="27000" anchor="t">
            <a:noAutofit/>
          </a:bodyPr>
          <a:p>
            <a:endParaRPr b="0" lang="en-US" sz="1800" spc="-1" strike="noStrike">
              <a:solidFill>
                <a:srgbClr val="000000"/>
              </a:solidFill>
              <a:latin typeface="Arial"/>
            </a:endParaRPr>
          </a:p>
        </p:txBody>
      </p:sp>
      <p:sp>
        <p:nvSpPr>
          <p:cNvPr id="8961" name=""/>
          <p:cNvSpPr/>
          <p:nvPr/>
        </p:nvSpPr>
        <p:spPr>
          <a:xfrm>
            <a:off x="5106960" y="2308320"/>
            <a:ext cx="41760" cy="302040"/>
          </a:xfrm>
          <a:custGeom>
            <a:avLst/>
            <a:gdLst/>
            <a:ahLst/>
            <a:rect l="0" t="0" r="r" b="b"/>
            <a:pathLst>
              <a:path fill="none" w="116" h="839">
                <a:moveTo>
                  <a:pt x="116" y="839"/>
                </a:moveTo>
                <a:lnTo>
                  <a:pt x="15" y="675"/>
                </a:lnTo>
                <a:lnTo>
                  <a:pt x="77" y="524"/>
                </a:lnTo>
                <a:lnTo>
                  <a:pt x="46" y="397"/>
                </a:lnTo>
                <a:lnTo>
                  <a:pt x="54" y="292"/>
                </a:lnTo>
                <a:lnTo>
                  <a:pt x="0" y="209"/>
                </a:lnTo>
                <a:lnTo>
                  <a:pt x="116"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62" name=""/>
          <p:cNvSpPr/>
          <p:nvPr/>
        </p:nvSpPr>
        <p:spPr>
          <a:xfrm>
            <a:off x="5383080" y="2308320"/>
            <a:ext cx="0" cy="301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3" name=""/>
          <p:cNvSpPr/>
          <p:nvPr/>
        </p:nvSpPr>
        <p:spPr>
          <a:xfrm flipV="1">
            <a:off x="4846680" y="2308320"/>
            <a:ext cx="0" cy="301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4" name=""/>
          <p:cNvSpPr/>
          <p:nvPr/>
        </p:nvSpPr>
        <p:spPr>
          <a:xfrm>
            <a:off x="5195880" y="2308320"/>
            <a:ext cx="41760" cy="302040"/>
          </a:xfrm>
          <a:custGeom>
            <a:avLst/>
            <a:gdLst/>
            <a:ahLst/>
            <a:rect l="0" t="0" r="r" b="b"/>
            <a:pathLst>
              <a:path fill="none" w="116" h="839">
                <a:moveTo>
                  <a:pt x="116" y="839"/>
                </a:moveTo>
                <a:lnTo>
                  <a:pt x="15" y="675"/>
                </a:lnTo>
                <a:lnTo>
                  <a:pt x="77" y="524"/>
                </a:lnTo>
                <a:lnTo>
                  <a:pt x="46" y="397"/>
                </a:lnTo>
                <a:lnTo>
                  <a:pt x="54" y="292"/>
                </a:lnTo>
                <a:lnTo>
                  <a:pt x="0" y="209"/>
                </a:lnTo>
                <a:lnTo>
                  <a:pt x="116"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65" name=""/>
          <p:cNvSpPr/>
          <p:nvPr/>
        </p:nvSpPr>
        <p:spPr>
          <a:xfrm>
            <a:off x="5237280" y="2610000"/>
            <a:ext cx="753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6" name=""/>
          <p:cNvSpPr/>
          <p:nvPr/>
        </p:nvSpPr>
        <p:spPr>
          <a:xfrm flipH="1">
            <a:off x="4846680" y="2610000"/>
            <a:ext cx="301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7" name=""/>
          <p:cNvSpPr/>
          <p:nvPr/>
        </p:nvSpPr>
        <p:spPr>
          <a:xfrm>
            <a:off x="5237280" y="2308320"/>
            <a:ext cx="753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8" name=""/>
          <p:cNvSpPr/>
          <p:nvPr/>
        </p:nvSpPr>
        <p:spPr>
          <a:xfrm>
            <a:off x="4846680" y="2308320"/>
            <a:ext cx="301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969" name=""/>
          <p:cNvGrpSpPr/>
          <p:nvPr/>
        </p:nvGrpSpPr>
        <p:grpSpPr>
          <a:xfrm>
            <a:off x="6966000" y="1281240"/>
            <a:ext cx="1951560" cy="1230480"/>
            <a:chOff x="6966000" y="1281240"/>
            <a:chExt cx="1951560" cy="1230480"/>
          </a:xfrm>
        </p:grpSpPr>
        <p:sp>
          <p:nvSpPr>
            <p:cNvPr id="8970" name=""/>
            <p:cNvSpPr/>
            <p:nvPr/>
          </p:nvSpPr>
          <p:spPr>
            <a:xfrm flipH="1" flipV="1">
              <a:off x="8105760" y="1808280"/>
              <a:ext cx="6480" cy="90360"/>
            </a:xfrm>
            <a:prstGeom prst="line">
              <a:avLst/>
            </a:prstGeom>
            <a:ln w="12600">
              <a:solidFill>
                <a:srgbClr val="f2fefd"/>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971" name=""/>
            <p:cNvSpPr/>
            <p:nvPr/>
          </p:nvSpPr>
          <p:spPr>
            <a:xfrm flipH="1">
              <a:off x="7704000" y="1898640"/>
              <a:ext cx="408240" cy="50760"/>
            </a:xfrm>
            <a:prstGeom prst="line">
              <a:avLst/>
            </a:prstGeom>
            <a:ln w="12600">
              <a:solidFill>
                <a:srgbClr val="f2fefd"/>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8972" name=""/>
            <p:cNvSpPr/>
            <p:nvPr/>
          </p:nvSpPr>
          <p:spPr>
            <a:xfrm flipV="1">
              <a:off x="8105760" y="1898640"/>
              <a:ext cx="648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8973" name=""/>
            <p:cNvSpPr/>
            <p:nvPr/>
          </p:nvSpPr>
          <p:spPr>
            <a:xfrm flipV="1">
              <a:off x="7704000" y="1808280"/>
              <a:ext cx="401760" cy="131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74" name=""/>
            <p:cNvSpPr/>
            <p:nvPr/>
          </p:nvSpPr>
          <p:spPr>
            <a:xfrm flipV="1">
              <a:off x="8091360" y="1973160"/>
              <a:ext cx="14400" cy="54000"/>
            </a:xfrm>
            <a:prstGeom prst="line">
              <a:avLst/>
            </a:prstGeom>
            <a:ln w="12600">
              <a:solidFill>
                <a:srgbClr val="f2fefd"/>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8975" name=""/>
            <p:cNvSpPr/>
            <p:nvPr/>
          </p:nvSpPr>
          <p:spPr>
            <a:xfrm>
              <a:off x="7705800" y="1957320"/>
              <a:ext cx="400320" cy="66960"/>
            </a:xfrm>
            <a:custGeom>
              <a:avLst/>
              <a:gdLst/>
              <a:ahLst/>
              <a:rect l="0" t="0" r="r" b="b"/>
              <a:pathLst>
                <a:path fill="none" w="1112" h="186">
                  <a:moveTo>
                    <a:pt x="8" y="186"/>
                  </a:moveTo>
                  <a:lnTo>
                    <a:pt x="1112" y="45"/>
                  </a:lnTo>
                  <a:lnTo>
                    <a:pt x="0" y="0"/>
                  </a:lnTo>
                </a:path>
              </a:pathLst>
            </a:custGeom>
            <a:ln w="12600">
              <a:solidFill>
                <a:srgbClr val="f2fefd"/>
              </a:solidFill>
              <a:round/>
            </a:ln>
          </p:spPr>
          <p:txBody>
            <a:bodyPr lIns="96120" rIns="96120" tIns="15840" bIns="15840" anchor="t">
              <a:noAutofit/>
            </a:bodyPr>
            <a:p>
              <a:endParaRPr b="0" lang="en-US" sz="1800" spc="-1" strike="noStrike">
                <a:solidFill>
                  <a:srgbClr val="000000"/>
                </a:solidFill>
                <a:latin typeface="Arial"/>
              </a:endParaRPr>
            </a:p>
          </p:txBody>
        </p:sp>
        <p:sp>
          <p:nvSpPr>
            <p:cNvPr id="8976" name=""/>
            <p:cNvSpPr/>
            <p:nvPr/>
          </p:nvSpPr>
          <p:spPr>
            <a:xfrm flipH="1" flipV="1">
              <a:off x="8091360" y="1717560"/>
              <a:ext cx="14400" cy="90720"/>
            </a:xfrm>
            <a:prstGeom prst="line">
              <a:avLst/>
            </a:prstGeom>
            <a:ln w="12600">
              <a:solidFill>
                <a:srgbClr val="f2fefd"/>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8977" name=""/>
            <p:cNvSpPr/>
            <p:nvPr/>
          </p:nvSpPr>
          <p:spPr>
            <a:xfrm>
              <a:off x="7683480" y="1776240"/>
              <a:ext cx="422640" cy="82800"/>
            </a:xfrm>
            <a:custGeom>
              <a:avLst/>
              <a:gdLst/>
              <a:ahLst/>
              <a:rect l="0" t="0" r="r" b="b"/>
              <a:pathLst>
                <a:path fill="none" w="1174" h="230">
                  <a:moveTo>
                    <a:pt x="30" y="230"/>
                  </a:moveTo>
                  <a:lnTo>
                    <a:pt x="1174" y="86"/>
                  </a:lnTo>
                  <a:lnTo>
                    <a:pt x="0" y="0"/>
                  </a:lnTo>
                </a:path>
              </a:pathLst>
            </a:custGeom>
            <a:ln w="12600">
              <a:solidFill>
                <a:srgbClr val="f2fefd"/>
              </a:solidFill>
              <a:round/>
            </a:ln>
          </p:spPr>
          <p:txBody>
            <a:bodyPr lIns="96120" rIns="96120" tIns="31680" bIns="31680" anchor="t">
              <a:noAutofit/>
            </a:bodyPr>
            <a:p>
              <a:endParaRPr b="0" lang="en-US" sz="1800" spc="-1" strike="noStrike">
                <a:solidFill>
                  <a:srgbClr val="000000"/>
                </a:solidFill>
                <a:latin typeface="Arial"/>
              </a:endParaRPr>
            </a:p>
          </p:txBody>
        </p:sp>
        <p:sp>
          <p:nvSpPr>
            <p:cNvPr id="8978" name=""/>
            <p:cNvSpPr/>
            <p:nvPr/>
          </p:nvSpPr>
          <p:spPr>
            <a:xfrm flipV="1">
              <a:off x="8069400" y="2027160"/>
              <a:ext cx="21960" cy="17640"/>
            </a:xfrm>
            <a:prstGeom prst="line">
              <a:avLst/>
            </a:prstGeom>
            <a:ln w="12600">
              <a:solidFill>
                <a:srgbClr val="f2fef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8979" name=""/>
            <p:cNvSpPr/>
            <p:nvPr/>
          </p:nvSpPr>
          <p:spPr>
            <a:xfrm>
              <a:off x="7709040" y="2027160"/>
              <a:ext cx="383040" cy="47880"/>
            </a:xfrm>
            <a:custGeom>
              <a:avLst/>
              <a:gdLst/>
              <a:ahLst/>
              <a:rect l="0" t="0" r="r" b="b"/>
              <a:pathLst>
                <a:path fill="none" w="1064" h="133">
                  <a:moveTo>
                    <a:pt x="0" y="133"/>
                  </a:moveTo>
                  <a:lnTo>
                    <a:pt x="1064" y="0"/>
                  </a:lnTo>
                  <a:lnTo>
                    <a:pt x="0" y="15"/>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8980" name=""/>
            <p:cNvSpPr/>
            <p:nvPr/>
          </p:nvSpPr>
          <p:spPr>
            <a:xfrm flipH="1" flipV="1">
              <a:off x="8069400" y="1638360"/>
              <a:ext cx="21960" cy="79200"/>
            </a:xfrm>
            <a:prstGeom prst="line">
              <a:avLst/>
            </a:prstGeom>
            <a:ln w="12600">
              <a:solidFill>
                <a:srgbClr val="f2fefd"/>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8981" name=""/>
            <p:cNvSpPr/>
            <p:nvPr/>
          </p:nvSpPr>
          <p:spPr>
            <a:xfrm>
              <a:off x="7669080" y="1700280"/>
              <a:ext cx="422640" cy="68760"/>
            </a:xfrm>
            <a:custGeom>
              <a:avLst/>
              <a:gdLst/>
              <a:ahLst/>
              <a:rect l="0" t="0" r="r" b="b"/>
              <a:pathLst>
                <a:path fill="none" w="1174" h="191">
                  <a:moveTo>
                    <a:pt x="39" y="191"/>
                  </a:moveTo>
                  <a:lnTo>
                    <a:pt x="1174" y="49"/>
                  </a:lnTo>
                  <a:lnTo>
                    <a:pt x="0" y="0"/>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8982" name=""/>
            <p:cNvSpPr/>
            <p:nvPr/>
          </p:nvSpPr>
          <p:spPr>
            <a:xfrm>
              <a:off x="7709040" y="2044800"/>
              <a:ext cx="360720" cy="44640"/>
            </a:xfrm>
            <a:custGeom>
              <a:avLst/>
              <a:gdLst/>
              <a:ahLst/>
              <a:rect l="0" t="0" r="r" b="b"/>
              <a:pathLst>
                <a:path fill="none" w="1002" h="124">
                  <a:moveTo>
                    <a:pt x="8" y="124"/>
                  </a:moveTo>
                  <a:lnTo>
                    <a:pt x="1002" y="0"/>
                  </a:lnTo>
                  <a:lnTo>
                    <a:pt x="0" y="94"/>
                  </a:lnTo>
                </a:path>
              </a:pathLst>
            </a:custGeom>
            <a:ln w="12600">
              <a:solidFill>
                <a:srgbClr val="f2fefd"/>
              </a:solidFill>
              <a:round/>
            </a:ln>
          </p:spPr>
          <p:txBody>
            <a:bodyPr lIns="96120" rIns="96120" tIns="-6480" bIns="-6480" anchor="t">
              <a:noAutofit/>
            </a:bodyPr>
            <a:p>
              <a:endParaRPr b="0" lang="en-US" sz="1800" spc="-1" strike="noStrike">
                <a:solidFill>
                  <a:srgbClr val="000000"/>
                </a:solidFill>
                <a:latin typeface="Arial"/>
              </a:endParaRPr>
            </a:p>
          </p:txBody>
        </p:sp>
        <p:sp>
          <p:nvSpPr>
            <p:cNvPr id="8983" name=""/>
            <p:cNvSpPr/>
            <p:nvPr/>
          </p:nvSpPr>
          <p:spPr>
            <a:xfrm flipH="1" flipV="1">
              <a:off x="8042400" y="1587600"/>
              <a:ext cx="27000" cy="50760"/>
            </a:xfrm>
            <a:prstGeom prst="line">
              <a:avLst/>
            </a:prstGeom>
            <a:ln w="12600">
              <a:solidFill>
                <a:srgbClr val="f2fefd"/>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8984" name=""/>
            <p:cNvSpPr/>
            <p:nvPr/>
          </p:nvSpPr>
          <p:spPr>
            <a:xfrm>
              <a:off x="7658280" y="1638360"/>
              <a:ext cx="411480" cy="51120"/>
            </a:xfrm>
            <a:custGeom>
              <a:avLst/>
              <a:gdLst/>
              <a:ahLst/>
              <a:rect l="0" t="0" r="r" b="b"/>
              <a:pathLst>
                <a:path fill="none" w="1143" h="142">
                  <a:moveTo>
                    <a:pt x="24" y="142"/>
                  </a:moveTo>
                  <a:lnTo>
                    <a:pt x="1143" y="0"/>
                  </a:lnTo>
                  <a:lnTo>
                    <a:pt x="0" y="17"/>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8985" name=""/>
            <p:cNvSpPr/>
            <p:nvPr/>
          </p:nvSpPr>
          <p:spPr>
            <a:xfrm flipH="1" flipV="1">
              <a:off x="8013600" y="1571760"/>
              <a:ext cx="28800" cy="15840"/>
            </a:xfrm>
            <a:prstGeom prst="line">
              <a:avLst/>
            </a:prstGeom>
            <a:ln w="12600">
              <a:solidFill>
                <a:srgbClr val="f2fefd"/>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8986" name=""/>
            <p:cNvSpPr/>
            <p:nvPr/>
          </p:nvSpPr>
          <p:spPr>
            <a:xfrm>
              <a:off x="7653240" y="1587600"/>
              <a:ext cx="389160" cy="49680"/>
            </a:xfrm>
            <a:custGeom>
              <a:avLst/>
              <a:gdLst/>
              <a:ahLst/>
              <a:rect l="0" t="0" r="r" b="b"/>
              <a:pathLst>
                <a:path fill="none" w="1081" h="138">
                  <a:moveTo>
                    <a:pt x="8" y="138"/>
                  </a:moveTo>
                  <a:lnTo>
                    <a:pt x="1081" y="0"/>
                  </a:lnTo>
                  <a:lnTo>
                    <a:pt x="0" y="90"/>
                  </a:lnTo>
                </a:path>
              </a:pathLst>
            </a:custGeom>
            <a:ln w="12600">
              <a:solidFill>
                <a:srgbClr val="f2fefd"/>
              </a:solidFill>
              <a:round/>
            </a:ln>
          </p:spPr>
          <p:txBody>
            <a:bodyPr lIns="96120" rIns="96120" tIns="-1440" bIns="-1440" anchor="t">
              <a:noAutofit/>
            </a:bodyPr>
            <a:p>
              <a:endParaRPr b="0" lang="en-US" sz="1800" spc="-1" strike="noStrike">
                <a:solidFill>
                  <a:srgbClr val="000000"/>
                </a:solidFill>
                <a:latin typeface="Arial"/>
              </a:endParaRPr>
            </a:p>
          </p:txBody>
        </p:sp>
        <p:sp>
          <p:nvSpPr>
            <p:cNvPr id="8987" name=""/>
            <p:cNvSpPr/>
            <p:nvPr/>
          </p:nvSpPr>
          <p:spPr>
            <a:xfrm flipH="1">
              <a:off x="7650000" y="1571760"/>
              <a:ext cx="363600" cy="44280"/>
            </a:xfrm>
            <a:prstGeom prst="line">
              <a:avLst/>
            </a:prstGeom>
            <a:ln w="12600">
              <a:solidFill>
                <a:srgbClr val="f2fefd"/>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8988" name=""/>
            <p:cNvSpPr/>
            <p:nvPr/>
          </p:nvSpPr>
          <p:spPr>
            <a:xfrm>
              <a:off x="8148600" y="1692360"/>
              <a:ext cx="25920" cy="219600"/>
            </a:xfrm>
            <a:custGeom>
              <a:avLst/>
              <a:gdLst/>
              <a:ahLst/>
              <a:rect l="0" t="0" r="r" b="b"/>
              <a:pathLst>
                <a:path fill="none" w="72" h="610">
                  <a:moveTo>
                    <a:pt x="72" y="610"/>
                  </a:moveTo>
                  <a:lnTo>
                    <a:pt x="57" y="305"/>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8989" name=""/>
            <p:cNvSpPr/>
            <p:nvPr/>
          </p:nvSpPr>
          <p:spPr>
            <a:xfrm flipH="1" flipV="1">
              <a:off x="8151840" y="1900080"/>
              <a:ext cx="2232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8990" name=""/>
            <p:cNvSpPr/>
            <p:nvPr/>
          </p:nvSpPr>
          <p:spPr>
            <a:xfrm>
              <a:off x="8145360" y="1911240"/>
              <a:ext cx="28800" cy="93960"/>
            </a:xfrm>
            <a:custGeom>
              <a:avLst/>
              <a:gdLst/>
              <a:ahLst/>
              <a:rect l="0" t="0" r="r" b="b"/>
              <a:pathLst>
                <a:path fill="none" w="80" h="261">
                  <a:moveTo>
                    <a:pt x="64" y="261"/>
                  </a:moveTo>
                  <a:lnTo>
                    <a:pt x="80" y="0"/>
                  </a:lnTo>
                  <a:lnTo>
                    <a:pt x="0" y="198"/>
                  </a:lnTo>
                </a:path>
              </a:pathLst>
            </a:custGeom>
            <a:ln w="12600">
              <a:solidFill>
                <a:srgbClr val="f2fefd"/>
              </a:solidFill>
              <a:round/>
            </a:ln>
          </p:spPr>
          <p:txBody>
            <a:bodyPr lIns="96120" rIns="96120" tIns="42840" bIns="42840" anchor="t">
              <a:noAutofit/>
            </a:bodyPr>
            <a:p>
              <a:endParaRPr b="0" lang="en-US" sz="1800" spc="-1" strike="noStrike">
                <a:solidFill>
                  <a:srgbClr val="000000"/>
                </a:solidFill>
                <a:latin typeface="Arial"/>
              </a:endParaRPr>
            </a:p>
          </p:txBody>
        </p:sp>
        <p:sp>
          <p:nvSpPr>
            <p:cNvPr id="8991" name=""/>
            <p:cNvSpPr/>
            <p:nvPr/>
          </p:nvSpPr>
          <p:spPr>
            <a:xfrm flipH="1">
              <a:off x="8145360" y="1801800"/>
              <a:ext cx="22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2" name=""/>
            <p:cNvSpPr/>
            <p:nvPr/>
          </p:nvSpPr>
          <p:spPr>
            <a:xfrm flipV="1">
              <a:off x="8151840" y="1801800"/>
              <a:ext cx="15840" cy="98280"/>
            </a:xfrm>
            <a:prstGeom prst="line">
              <a:avLst/>
            </a:prstGeom>
            <a:ln w="12600">
              <a:solidFill>
                <a:srgbClr val="f2fefd"/>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8993" name=""/>
            <p:cNvSpPr/>
            <p:nvPr/>
          </p:nvSpPr>
          <p:spPr>
            <a:xfrm flipV="1">
              <a:off x="8145360" y="1692360"/>
              <a:ext cx="3240" cy="109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4" name=""/>
            <p:cNvSpPr/>
            <p:nvPr/>
          </p:nvSpPr>
          <p:spPr>
            <a:xfrm flipH="1" flipV="1">
              <a:off x="8145360" y="1982880"/>
              <a:ext cx="22320" cy="21960"/>
            </a:xfrm>
            <a:prstGeom prst="line">
              <a:avLst/>
            </a:prstGeom>
            <a:ln w="12600">
              <a:solidFill>
                <a:srgbClr val="f2fefd"/>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8995" name=""/>
            <p:cNvSpPr/>
            <p:nvPr/>
          </p:nvSpPr>
          <p:spPr>
            <a:xfrm>
              <a:off x="8128080" y="2004840"/>
              <a:ext cx="39960" cy="62280"/>
            </a:xfrm>
            <a:custGeom>
              <a:avLst/>
              <a:gdLst/>
              <a:ahLst/>
              <a:rect l="0" t="0" r="r" b="b"/>
              <a:pathLst>
                <a:path fill="none" w="111" h="173">
                  <a:moveTo>
                    <a:pt x="56" y="173"/>
                  </a:moveTo>
                  <a:lnTo>
                    <a:pt x="111" y="0"/>
                  </a:lnTo>
                  <a:lnTo>
                    <a:pt x="0" y="85"/>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8996" name=""/>
            <p:cNvSpPr/>
            <p:nvPr/>
          </p:nvSpPr>
          <p:spPr>
            <a:xfrm flipH="1" flipV="1">
              <a:off x="8120160" y="1600200"/>
              <a:ext cx="28440" cy="92160"/>
            </a:xfrm>
            <a:prstGeom prst="line">
              <a:avLst/>
            </a:prstGeom>
            <a:ln w="12600">
              <a:solidFill>
                <a:srgbClr val="f2fefd"/>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8997" name=""/>
            <p:cNvSpPr/>
            <p:nvPr/>
          </p:nvSpPr>
          <p:spPr>
            <a:xfrm flipV="1">
              <a:off x="8128080" y="1692360"/>
              <a:ext cx="20520" cy="14040"/>
            </a:xfrm>
            <a:prstGeom prst="line">
              <a:avLst/>
            </a:prstGeom>
            <a:ln w="12600">
              <a:solidFill>
                <a:srgbClr val="f2fefd"/>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8998" name=""/>
            <p:cNvSpPr/>
            <p:nvPr/>
          </p:nvSpPr>
          <p:spPr>
            <a:xfrm flipV="1">
              <a:off x="8145360" y="1900080"/>
              <a:ext cx="6480" cy="82800"/>
            </a:xfrm>
            <a:prstGeom prst="line">
              <a:avLst/>
            </a:prstGeom>
            <a:ln w="12600">
              <a:solidFill>
                <a:srgbClr val="f2fefd"/>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8999" name=""/>
            <p:cNvSpPr/>
            <p:nvPr/>
          </p:nvSpPr>
          <p:spPr>
            <a:xfrm flipH="1" flipV="1">
              <a:off x="8112240" y="1898640"/>
              <a:ext cx="33120" cy="84240"/>
            </a:xfrm>
            <a:prstGeom prst="line">
              <a:avLst/>
            </a:prstGeom>
            <a:ln w="12600">
              <a:solidFill>
                <a:srgbClr val="f2fefd"/>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9000" name=""/>
            <p:cNvSpPr/>
            <p:nvPr/>
          </p:nvSpPr>
          <p:spPr>
            <a:xfrm flipH="1" flipV="1">
              <a:off x="8145360" y="1801800"/>
              <a:ext cx="6480" cy="98280"/>
            </a:xfrm>
            <a:prstGeom prst="line">
              <a:avLst/>
            </a:prstGeom>
            <a:ln w="12600">
              <a:solidFill>
                <a:srgbClr val="f2fefd"/>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9001" name=""/>
            <p:cNvSpPr/>
            <p:nvPr/>
          </p:nvSpPr>
          <p:spPr>
            <a:xfrm>
              <a:off x="8105760" y="1808280"/>
              <a:ext cx="46440" cy="92520"/>
            </a:xfrm>
            <a:custGeom>
              <a:avLst/>
              <a:gdLst/>
              <a:ahLst/>
              <a:rect l="0" t="0" r="r" b="b"/>
              <a:pathLst>
                <a:path fill="none" w="129" h="257">
                  <a:moveTo>
                    <a:pt x="15" y="251"/>
                  </a:moveTo>
                  <a:lnTo>
                    <a:pt x="129" y="257"/>
                  </a:lnTo>
                  <a:lnTo>
                    <a:pt x="0" y="0"/>
                  </a:lnTo>
                </a:path>
              </a:pathLst>
            </a:custGeom>
            <a:ln w="12600">
              <a:solidFill>
                <a:srgbClr val="f2fefd"/>
              </a:solidFill>
              <a:round/>
            </a:ln>
          </p:spPr>
          <p:txBody>
            <a:bodyPr lIns="96120" rIns="96120" tIns="41400" bIns="41400" anchor="t">
              <a:noAutofit/>
            </a:bodyPr>
            <a:p>
              <a:endParaRPr b="0" lang="en-US" sz="1800" spc="-1" strike="noStrike">
                <a:solidFill>
                  <a:srgbClr val="000000"/>
                </a:solidFill>
                <a:latin typeface="Arial"/>
              </a:endParaRPr>
            </a:p>
          </p:txBody>
        </p:sp>
        <p:sp>
          <p:nvSpPr>
            <p:cNvPr id="9002" name=""/>
            <p:cNvSpPr/>
            <p:nvPr/>
          </p:nvSpPr>
          <p:spPr>
            <a:xfrm>
              <a:off x="8105760" y="1973160"/>
              <a:ext cx="39960" cy="62280"/>
            </a:xfrm>
            <a:custGeom>
              <a:avLst/>
              <a:gdLst/>
              <a:ahLst/>
              <a:rect l="0" t="0" r="r" b="b"/>
              <a:pathLst>
                <a:path fill="none" w="111" h="173">
                  <a:moveTo>
                    <a:pt x="62" y="173"/>
                  </a:moveTo>
                  <a:lnTo>
                    <a:pt x="111" y="24"/>
                  </a:lnTo>
                  <a:lnTo>
                    <a:pt x="0" y="0"/>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003" name=""/>
            <p:cNvSpPr/>
            <p:nvPr/>
          </p:nvSpPr>
          <p:spPr>
            <a:xfrm flipH="1" flipV="1">
              <a:off x="8120160" y="1600200"/>
              <a:ext cx="7920" cy="106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4" name=""/>
            <p:cNvSpPr/>
            <p:nvPr/>
          </p:nvSpPr>
          <p:spPr>
            <a:xfrm flipH="1" flipV="1">
              <a:off x="8128080" y="2035080"/>
              <a:ext cx="20520" cy="31680"/>
            </a:xfrm>
            <a:prstGeom prst="line">
              <a:avLst/>
            </a:prstGeom>
            <a:ln w="12600">
              <a:solidFill>
                <a:srgbClr val="f2fefd"/>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9005" name=""/>
            <p:cNvSpPr/>
            <p:nvPr/>
          </p:nvSpPr>
          <p:spPr>
            <a:xfrm>
              <a:off x="8104320" y="2055960"/>
              <a:ext cx="44640" cy="30600"/>
            </a:xfrm>
            <a:custGeom>
              <a:avLst/>
              <a:gdLst/>
              <a:ahLst/>
              <a:rect l="0" t="0" r="r" b="b"/>
              <a:pathLst>
                <a:path fill="none" w="124" h="85">
                  <a:moveTo>
                    <a:pt x="46" y="85"/>
                  </a:moveTo>
                  <a:lnTo>
                    <a:pt x="124" y="33"/>
                  </a:lnTo>
                  <a:lnTo>
                    <a:pt x="0" y="0"/>
                  </a:lnTo>
                </a:path>
              </a:pathLst>
            </a:custGeom>
            <a:ln w="12600">
              <a:solidFill>
                <a:srgbClr val="f2fefd"/>
              </a:solidFill>
              <a:round/>
            </a:ln>
          </p:spPr>
          <p:txBody>
            <a:bodyPr lIns="96120" rIns="96120" tIns="-20520" bIns="-20520" anchor="t">
              <a:noAutofit/>
            </a:bodyPr>
            <a:p>
              <a:endParaRPr b="0" lang="en-US" sz="1800" spc="-1" strike="noStrike">
                <a:solidFill>
                  <a:srgbClr val="000000"/>
                </a:solidFill>
                <a:latin typeface="Arial"/>
              </a:endParaRPr>
            </a:p>
          </p:txBody>
        </p:sp>
        <p:sp>
          <p:nvSpPr>
            <p:cNvPr id="9006" name=""/>
            <p:cNvSpPr/>
            <p:nvPr/>
          </p:nvSpPr>
          <p:spPr>
            <a:xfrm flipH="1" flipV="1">
              <a:off x="8128080" y="1706400"/>
              <a:ext cx="17280" cy="95400"/>
            </a:xfrm>
            <a:prstGeom prst="line">
              <a:avLst/>
            </a:prstGeom>
            <a:ln w="12600">
              <a:solidFill>
                <a:srgbClr val="f2fefd"/>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9007" name=""/>
            <p:cNvSpPr/>
            <p:nvPr/>
          </p:nvSpPr>
          <p:spPr>
            <a:xfrm>
              <a:off x="8091360" y="1717560"/>
              <a:ext cx="54360" cy="90720"/>
            </a:xfrm>
            <a:custGeom>
              <a:avLst/>
              <a:gdLst/>
              <a:ahLst/>
              <a:rect l="0" t="0" r="r" b="b"/>
              <a:pathLst>
                <a:path fill="none" w="151" h="252">
                  <a:moveTo>
                    <a:pt x="40" y="252"/>
                  </a:moveTo>
                  <a:lnTo>
                    <a:pt x="151" y="236"/>
                  </a:lnTo>
                  <a:lnTo>
                    <a:pt x="0" y="0"/>
                  </a:lnTo>
                </a:path>
              </a:pathLst>
            </a:custGeom>
            <a:ln w="12600">
              <a:solidFill>
                <a:srgbClr val="f2fefd"/>
              </a:solidFill>
              <a:round/>
            </a:ln>
          </p:spPr>
          <p:txBody>
            <a:bodyPr lIns="96120" rIns="96120" tIns="39600" bIns="39600" anchor="t">
              <a:noAutofit/>
            </a:bodyPr>
            <a:p>
              <a:endParaRPr b="0" lang="en-US" sz="1800" spc="-1" strike="noStrike">
                <a:solidFill>
                  <a:srgbClr val="000000"/>
                </a:solidFill>
                <a:latin typeface="Arial"/>
              </a:endParaRPr>
            </a:p>
          </p:txBody>
        </p:sp>
        <p:sp>
          <p:nvSpPr>
            <p:cNvPr id="9008" name=""/>
            <p:cNvSpPr/>
            <p:nvPr/>
          </p:nvSpPr>
          <p:spPr>
            <a:xfrm flipV="1">
              <a:off x="8104320" y="2035080"/>
              <a:ext cx="23760" cy="20880"/>
            </a:xfrm>
            <a:prstGeom prst="line">
              <a:avLst/>
            </a:prstGeom>
            <a:ln w="12600">
              <a:solidFill>
                <a:srgbClr val="f2fef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9009" name=""/>
            <p:cNvSpPr/>
            <p:nvPr/>
          </p:nvSpPr>
          <p:spPr>
            <a:xfrm>
              <a:off x="8091360" y="1973160"/>
              <a:ext cx="36720" cy="62280"/>
            </a:xfrm>
            <a:custGeom>
              <a:avLst/>
              <a:gdLst/>
              <a:ahLst/>
              <a:rect l="0" t="0" r="r" b="b"/>
              <a:pathLst>
                <a:path fill="none" w="102" h="173">
                  <a:moveTo>
                    <a:pt x="0" y="151"/>
                  </a:moveTo>
                  <a:lnTo>
                    <a:pt x="102" y="173"/>
                  </a:lnTo>
                  <a:lnTo>
                    <a:pt x="39" y="0"/>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010" name=""/>
            <p:cNvSpPr/>
            <p:nvPr/>
          </p:nvSpPr>
          <p:spPr>
            <a:xfrm flipH="1" flipV="1">
              <a:off x="8089920" y="1538280"/>
              <a:ext cx="30240" cy="61920"/>
            </a:xfrm>
            <a:prstGeom prst="line">
              <a:avLst/>
            </a:prstGeom>
            <a:ln w="12600">
              <a:solidFill>
                <a:srgbClr val="f2fefd"/>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9011" name=""/>
            <p:cNvSpPr/>
            <p:nvPr/>
          </p:nvSpPr>
          <p:spPr>
            <a:xfrm flipV="1">
              <a:off x="8104320" y="1600200"/>
              <a:ext cx="15840" cy="25560"/>
            </a:xfrm>
            <a:prstGeom prst="line">
              <a:avLst/>
            </a:prstGeom>
            <a:ln w="12600">
              <a:solidFill>
                <a:srgbClr val="f2fefd"/>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9012" name=""/>
            <p:cNvSpPr/>
            <p:nvPr/>
          </p:nvSpPr>
          <p:spPr>
            <a:xfrm flipH="1" flipV="1">
              <a:off x="8089920" y="1538280"/>
              <a:ext cx="1440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013" name=""/>
            <p:cNvSpPr/>
            <p:nvPr/>
          </p:nvSpPr>
          <p:spPr>
            <a:xfrm flipH="1" flipV="1">
              <a:off x="8104320" y="2055960"/>
              <a:ext cx="15840" cy="29880"/>
            </a:xfrm>
            <a:prstGeom prst="line">
              <a:avLst/>
            </a:prstGeom>
            <a:ln w="12600">
              <a:solidFill>
                <a:srgbClr val="f2fefd"/>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9014" name=""/>
            <p:cNvSpPr/>
            <p:nvPr/>
          </p:nvSpPr>
          <p:spPr>
            <a:xfrm>
              <a:off x="8086680" y="2049480"/>
              <a:ext cx="33840" cy="36720"/>
            </a:xfrm>
            <a:custGeom>
              <a:avLst/>
              <a:gdLst/>
              <a:ahLst/>
              <a:rect l="0" t="0" r="r" b="b"/>
              <a:pathLst>
                <a:path fill="none" w="94" h="102">
                  <a:moveTo>
                    <a:pt x="8" y="48"/>
                  </a:moveTo>
                  <a:lnTo>
                    <a:pt x="94" y="102"/>
                  </a:lnTo>
                  <a:lnTo>
                    <a:pt x="0" y="0"/>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015" name=""/>
            <p:cNvSpPr/>
            <p:nvPr/>
          </p:nvSpPr>
          <p:spPr>
            <a:xfrm flipH="1" flipV="1">
              <a:off x="8104320" y="1625760"/>
              <a:ext cx="23760" cy="80640"/>
            </a:xfrm>
            <a:prstGeom prst="line">
              <a:avLst/>
            </a:prstGeom>
            <a:ln w="12600">
              <a:solidFill>
                <a:srgbClr val="f2fefd"/>
              </a:solidFill>
              <a:round/>
            </a:ln>
          </p:spPr>
          <p:style>
            <a:lnRef idx="0"/>
            <a:fillRef idx="0"/>
            <a:effectRef idx="0"/>
            <a:fontRef idx="minor"/>
          </p:style>
          <p:txBody>
            <a:bodyPr lIns="96120" rIns="96120" tIns="29520" bIns="29520" anchor="t">
              <a:noAutofit/>
            </a:bodyPr>
            <a:p>
              <a:endParaRPr b="0" lang="en-US" sz="1800" spc="-1" strike="noStrike">
                <a:solidFill>
                  <a:srgbClr val="000000"/>
                </a:solidFill>
                <a:latin typeface="Arial"/>
              </a:endParaRPr>
            </a:p>
          </p:txBody>
        </p:sp>
        <p:sp>
          <p:nvSpPr>
            <p:cNvPr id="9016" name=""/>
            <p:cNvSpPr/>
            <p:nvPr/>
          </p:nvSpPr>
          <p:spPr>
            <a:xfrm>
              <a:off x="8069400" y="1638360"/>
              <a:ext cx="59040" cy="79560"/>
            </a:xfrm>
            <a:custGeom>
              <a:avLst/>
              <a:gdLst/>
              <a:ahLst/>
              <a:rect l="0" t="0" r="r" b="b"/>
              <a:pathLst>
                <a:path fill="none" w="164" h="221">
                  <a:moveTo>
                    <a:pt x="61" y="221"/>
                  </a:moveTo>
                  <a:lnTo>
                    <a:pt x="164" y="188"/>
                  </a:lnTo>
                  <a:lnTo>
                    <a:pt x="0"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9017" name=""/>
            <p:cNvSpPr/>
            <p:nvPr/>
          </p:nvSpPr>
          <p:spPr>
            <a:xfrm>
              <a:off x="8069400" y="2027160"/>
              <a:ext cx="35280" cy="28800"/>
            </a:xfrm>
            <a:custGeom>
              <a:avLst/>
              <a:gdLst/>
              <a:ahLst/>
              <a:rect l="0" t="0" r="r" b="b"/>
              <a:pathLst>
                <a:path fill="none" w="98" h="80">
                  <a:moveTo>
                    <a:pt x="0" y="48"/>
                  </a:moveTo>
                  <a:lnTo>
                    <a:pt x="98" y="80"/>
                  </a:lnTo>
                  <a:lnTo>
                    <a:pt x="64" y="0"/>
                  </a:lnTo>
                </a:path>
              </a:pathLst>
            </a:custGeom>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9018" name=""/>
            <p:cNvSpPr/>
            <p:nvPr/>
          </p:nvSpPr>
          <p:spPr>
            <a:xfrm flipH="1" flipV="1">
              <a:off x="8055000" y="1514520"/>
              <a:ext cx="34920" cy="23760"/>
            </a:xfrm>
            <a:prstGeom prst="line">
              <a:avLst/>
            </a:prstGeom>
            <a:ln w="12600">
              <a:solidFill>
                <a:srgbClr val="f2fef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9019" name=""/>
            <p:cNvSpPr/>
            <p:nvPr/>
          </p:nvSpPr>
          <p:spPr>
            <a:xfrm flipV="1">
              <a:off x="8075520" y="1538280"/>
              <a:ext cx="14400" cy="33480"/>
            </a:xfrm>
            <a:prstGeom prst="line">
              <a:avLst/>
            </a:prstGeom>
            <a:ln w="12600">
              <a:solidFill>
                <a:srgbClr val="f2fefd"/>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020" name=""/>
            <p:cNvSpPr/>
            <p:nvPr/>
          </p:nvSpPr>
          <p:spPr>
            <a:xfrm flipH="1" flipV="1">
              <a:off x="8080200" y="2048040"/>
              <a:ext cx="9720" cy="18720"/>
            </a:xfrm>
            <a:prstGeom prst="line">
              <a:avLst/>
            </a:prstGeom>
            <a:ln w="12600">
              <a:solidFill>
                <a:srgbClr val="f2fef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9021" name=""/>
            <p:cNvSpPr/>
            <p:nvPr/>
          </p:nvSpPr>
          <p:spPr>
            <a:xfrm>
              <a:off x="8078760" y="2048040"/>
              <a:ext cx="11160" cy="18720"/>
            </a:xfrm>
            <a:prstGeom prst="line">
              <a:avLst/>
            </a:prstGeom>
            <a:ln w="12600">
              <a:solidFill>
                <a:srgbClr val="f2fef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9022" name=""/>
            <p:cNvSpPr/>
            <p:nvPr/>
          </p:nvSpPr>
          <p:spPr>
            <a:xfrm flipH="1" flipV="1">
              <a:off x="8055000" y="1514520"/>
              <a:ext cx="2052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023" name=""/>
            <p:cNvSpPr/>
            <p:nvPr/>
          </p:nvSpPr>
          <p:spPr>
            <a:xfrm flipH="1" flipV="1">
              <a:off x="8043840" y="1550880"/>
              <a:ext cx="31680" cy="20880"/>
            </a:xfrm>
            <a:prstGeom prst="line">
              <a:avLst/>
            </a:prstGeom>
            <a:ln w="12600">
              <a:solidFill>
                <a:srgbClr val="f2fef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9024" name=""/>
            <p:cNvSpPr/>
            <p:nvPr/>
          </p:nvSpPr>
          <p:spPr>
            <a:xfrm>
              <a:off x="8042400" y="1571760"/>
              <a:ext cx="62280" cy="54360"/>
            </a:xfrm>
            <a:custGeom>
              <a:avLst/>
              <a:gdLst/>
              <a:ahLst/>
              <a:rect l="0" t="0" r="r" b="b"/>
              <a:pathLst>
                <a:path fill="none" w="173" h="151">
                  <a:moveTo>
                    <a:pt x="173" y="151"/>
                  </a:moveTo>
                  <a:lnTo>
                    <a:pt x="93" y="0"/>
                  </a:lnTo>
                  <a:lnTo>
                    <a:pt x="0" y="47"/>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025" name=""/>
            <p:cNvSpPr/>
            <p:nvPr/>
          </p:nvSpPr>
          <p:spPr>
            <a:xfrm>
              <a:off x="8042400" y="1587600"/>
              <a:ext cx="62280" cy="51120"/>
            </a:xfrm>
            <a:custGeom>
              <a:avLst/>
              <a:gdLst/>
              <a:ahLst/>
              <a:rect l="0" t="0" r="r" b="b"/>
              <a:pathLst>
                <a:path fill="none" w="173" h="142">
                  <a:moveTo>
                    <a:pt x="78" y="142"/>
                  </a:moveTo>
                  <a:lnTo>
                    <a:pt x="173" y="104"/>
                  </a:lnTo>
                  <a:lnTo>
                    <a:pt x="0" y="0"/>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9026" name=""/>
            <p:cNvSpPr/>
            <p:nvPr/>
          </p:nvSpPr>
          <p:spPr>
            <a:xfrm flipV="1">
              <a:off x="8043840" y="1514520"/>
              <a:ext cx="11160" cy="36360"/>
            </a:xfrm>
            <a:prstGeom prst="line">
              <a:avLst/>
            </a:prstGeom>
            <a:ln w="12600">
              <a:solidFill>
                <a:srgbClr val="f2fefd"/>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9027" name=""/>
            <p:cNvSpPr/>
            <p:nvPr/>
          </p:nvSpPr>
          <p:spPr>
            <a:xfrm flipH="1" flipV="1">
              <a:off x="8028000" y="1538280"/>
              <a:ext cx="15840" cy="12600"/>
            </a:xfrm>
            <a:prstGeom prst="line">
              <a:avLst/>
            </a:prstGeom>
            <a:ln w="12600">
              <a:solidFill>
                <a:srgbClr val="f2fefd"/>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9028" name=""/>
            <p:cNvSpPr/>
            <p:nvPr/>
          </p:nvSpPr>
          <p:spPr>
            <a:xfrm>
              <a:off x="8013600" y="1550880"/>
              <a:ext cx="30600" cy="36720"/>
            </a:xfrm>
            <a:custGeom>
              <a:avLst/>
              <a:gdLst/>
              <a:ahLst/>
              <a:rect l="0" t="0" r="r" b="b"/>
              <a:pathLst>
                <a:path fill="none" w="85" h="102">
                  <a:moveTo>
                    <a:pt x="79" y="102"/>
                  </a:moveTo>
                  <a:lnTo>
                    <a:pt x="85" y="0"/>
                  </a:lnTo>
                  <a:lnTo>
                    <a:pt x="0" y="56"/>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029" name=""/>
            <p:cNvSpPr/>
            <p:nvPr/>
          </p:nvSpPr>
          <p:spPr>
            <a:xfrm flipV="1">
              <a:off x="8021520" y="1538280"/>
              <a:ext cx="6480" cy="27000"/>
            </a:xfrm>
            <a:prstGeom prst="line">
              <a:avLst/>
            </a:prstGeom>
            <a:ln w="12600">
              <a:solidFill>
                <a:srgbClr val="f2fefd"/>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9030" name=""/>
            <p:cNvSpPr/>
            <p:nvPr/>
          </p:nvSpPr>
          <p:spPr>
            <a:xfrm flipH="1" flipV="1">
              <a:off x="8221680" y="1889280"/>
              <a:ext cx="3240" cy="83880"/>
            </a:xfrm>
            <a:prstGeom prst="line">
              <a:avLst/>
            </a:prstGeom>
            <a:ln w="12600">
              <a:solidFill>
                <a:srgbClr val="f2fefd"/>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9031" name=""/>
            <p:cNvSpPr/>
            <p:nvPr/>
          </p:nvSpPr>
          <p:spPr>
            <a:xfrm flipV="1">
              <a:off x="8221680" y="1973160"/>
              <a:ext cx="3240" cy="76320"/>
            </a:xfrm>
            <a:prstGeom prst="line">
              <a:avLst/>
            </a:prstGeom>
            <a:ln w="12600">
              <a:solidFill>
                <a:srgbClr val="f2fefd"/>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032" name=""/>
            <p:cNvSpPr/>
            <p:nvPr/>
          </p:nvSpPr>
          <p:spPr>
            <a:xfrm flipH="1" flipV="1">
              <a:off x="8202600" y="1714680"/>
              <a:ext cx="1116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9033" name=""/>
            <p:cNvSpPr/>
            <p:nvPr/>
          </p:nvSpPr>
          <p:spPr>
            <a:xfrm flipH="1" flipV="1">
              <a:off x="8213760" y="1801800"/>
              <a:ext cx="792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034" name=""/>
            <p:cNvSpPr/>
            <p:nvPr/>
          </p:nvSpPr>
          <p:spPr>
            <a:xfrm>
              <a:off x="8202600" y="2049480"/>
              <a:ext cx="19440" cy="124200"/>
            </a:xfrm>
            <a:custGeom>
              <a:avLst/>
              <a:gdLst/>
              <a:ahLst/>
              <a:rect l="0" t="0" r="r" b="b"/>
              <a:pathLst>
                <a:path fill="none" w="54" h="345">
                  <a:moveTo>
                    <a:pt x="0" y="345"/>
                  </a:moveTo>
                  <a:lnTo>
                    <a:pt x="31" y="188"/>
                  </a:lnTo>
                  <a:lnTo>
                    <a:pt x="54"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035" name=""/>
            <p:cNvSpPr/>
            <p:nvPr/>
          </p:nvSpPr>
          <p:spPr>
            <a:xfrm flipH="1" flipV="1">
              <a:off x="8163000" y="1550880"/>
              <a:ext cx="22320" cy="79560"/>
            </a:xfrm>
            <a:prstGeom prst="line">
              <a:avLst/>
            </a:prstGeom>
            <a:ln w="12600">
              <a:solidFill>
                <a:srgbClr val="f2fefd"/>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9036" name=""/>
            <p:cNvSpPr/>
            <p:nvPr/>
          </p:nvSpPr>
          <p:spPr>
            <a:xfrm flipH="1" flipV="1">
              <a:off x="8185320" y="1630440"/>
              <a:ext cx="17280" cy="84240"/>
            </a:xfrm>
            <a:prstGeom prst="line">
              <a:avLst/>
            </a:prstGeom>
            <a:ln w="12600">
              <a:solidFill>
                <a:srgbClr val="f2fefd"/>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9037" name=""/>
            <p:cNvSpPr/>
            <p:nvPr/>
          </p:nvSpPr>
          <p:spPr>
            <a:xfrm>
              <a:off x="8163000" y="2173320"/>
              <a:ext cx="39960" cy="68760"/>
            </a:xfrm>
            <a:custGeom>
              <a:avLst/>
              <a:gdLst/>
              <a:ahLst/>
              <a:rect l="0" t="0" r="r" b="b"/>
              <a:pathLst>
                <a:path fill="none" w="111" h="191">
                  <a:moveTo>
                    <a:pt x="0" y="191"/>
                  </a:moveTo>
                  <a:lnTo>
                    <a:pt x="62" y="119"/>
                  </a:lnTo>
                  <a:lnTo>
                    <a:pt x="111" y="0"/>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038" name=""/>
            <p:cNvSpPr/>
            <p:nvPr/>
          </p:nvSpPr>
          <p:spPr>
            <a:xfrm flipH="1" flipV="1">
              <a:off x="8140680" y="1484280"/>
              <a:ext cx="22320" cy="66600"/>
            </a:xfrm>
            <a:prstGeom prst="line">
              <a:avLst/>
            </a:prstGeom>
            <a:ln w="12600">
              <a:solidFill>
                <a:srgbClr val="f2fefd"/>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039" name=""/>
            <p:cNvSpPr/>
            <p:nvPr/>
          </p:nvSpPr>
          <p:spPr>
            <a:xfrm flipV="1">
              <a:off x="8140680" y="2241720"/>
              <a:ext cx="22320" cy="7920"/>
            </a:xfrm>
            <a:prstGeom prst="line">
              <a:avLst/>
            </a:prstGeom>
            <a:ln w="12600">
              <a:solidFill>
                <a:srgbClr val="f2fef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040" name=""/>
            <p:cNvSpPr/>
            <p:nvPr/>
          </p:nvSpPr>
          <p:spPr>
            <a:xfrm flipH="1" flipV="1">
              <a:off x="8115480" y="1427040"/>
              <a:ext cx="2520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041" name=""/>
            <p:cNvSpPr/>
            <p:nvPr/>
          </p:nvSpPr>
          <p:spPr>
            <a:xfrm>
              <a:off x="8115480" y="2241720"/>
              <a:ext cx="25200" cy="7920"/>
            </a:xfrm>
            <a:prstGeom prst="line">
              <a:avLst/>
            </a:prstGeom>
            <a:ln w="12600">
              <a:solidFill>
                <a:srgbClr val="f2fef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042" name=""/>
            <p:cNvSpPr/>
            <p:nvPr/>
          </p:nvSpPr>
          <p:spPr>
            <a:xfrm flipH="1" flipV="1">
              <a:off x="8089920" y="1389240"/>
              <a:ext cx="25560" cy="37800"/>
            </a:xfrm>
            <a:prstGeom prst="line">
              <a:avLst/>
            </a:prstGeom>
            <a:ln w="12600">
              <a:solidFill>
                <a:srgbClr val="f2fefd"/>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9043" name=""/>
            <p:cNvSpPr/>
            <p:nvPr/>
          </p:nvSpPr>
          <p:spPr>
            <a:xfrm>
              <a:off x="8089920" y="2216160"/>
              <a:ext cx="25560" cy="25560"/>
            </a:xfrm>
            <a:prstGeom prst="line">
              <a:avLst/>
            </a:prstGeom>
            <a:ln w="12600">
              <a:solidFill>
                <a:srgbClr val="f2fefd"/>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9044" name=""/>
            <p:cNvSpPr/>
            <p:nvPr/>
          </p:nvSpPr>
          <p:spPr>
            <a:xfrm flipH="1" flipV="1">
              <a:off x="8061480" y="1363680"/>
              <a:ext cx="28440" cy="25560"/>
            </a:xfrm>
            <a:prstGeom prst="line">
              <a:avLst/>
            </a:prstGeom>
            <a:ln w="12600">
              <a:solidFill>
                <a:srgbClr val="f2fefd"/>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9045" name=""/>
            <p:cNvSpPr/>
            <p:nvPr/>
          </p:nvSpPr>
          <p:spPr>
            <a:xfrm>
              <a:off x="8061480" y="2173320"/>
              <a:ext cx="28440" cy="42840"/>
            </a:xfrm>
            <a:prstGeom prst="line">
              <a:avLst/>
            </a:prstGeom>
            <a:ln w="12600">
              <a:solidFill>
                <a:srgbClr val="f2fefd"/>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9046" name=""/>
            <p:cNvSpPr/>
            <p:nvPr/>
          </p:nvSpPr>
          <p:spPr>
            <a:xfrm flipH="1" flipV="1">
              <a:off x="8035920" y="1353960"/>
              <a:ext cx="2556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047" name=""/>
            <p:cNvSpPr/>
            <p:nvPr/>
          </p:nvSpPr>
          <p:spPr>
            <a:xfrm>
              <a:off x="8035920" y="2120760"/>
              <a:ext cx="25560" cy="52560"/>
            </a:xfrm>
            <a:prstGeom prst="line">
              <a:avLst/>
            </a:prstGeom>
            <a:ln w="12600">
              <a:solidFill>
                <a:srgbClr val="f2fefd"/>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9048" name=""/>
            <p:cNvSpPr/>
            <p:nvPr/>
          </p:nvSpPr>
          <p:spPr>
            <a:xfrm flipV="1">
              <a:off x="8028000" y="1514520"/>
              <a:ext cx="27000" cy="23760"/>
            </a:xfrm>
            <a:prstGeom prst="line">
              <a:avLst/>
            </a:prstGeom>
            <a:ln w="12600">
              <a:solidFill>
                <a:srgbClr val="f2fef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9049" name=""/>
            <p:cNvSpPr/>
            <p:nvPr/>
          </p:nvSpPr>
          <p:spPr>
            <a:xfrm flipH="1">
              <a:off x="8013600" y="1353960"/>
              <a:ext cx="2232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050" name=""/>
            <p:cNvSpPr/>
            <p:nvPr/>
          </p:nvSpPr>
          <p:spPr>
            <a:xfrm>
              <a:off x="8013600" y="2052720"/>
              <a:ext cx="22320" cy="68040"/>
            </a:xfrm>
            <a:prstGeom prst="line">
              <a:avLst/>
            </a:prstGeom>
            <a:ln w="12600">
              <a:solidFill>
                <a:srgbClr val="f2fefd"/>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9051" name=""/>
            <p:cNvSpPr/>
            <p:nvPr/>
          </p:nvSpPr>
          <p:spPr>
            <a:xfrm>
              <a:off x="7977240" y="1363680"/>
              <a:ext cx="36720" cy="66960"/>
            </a:xfrm>
            <a:custGeom>
              <a:avLst/>
              <a:gdLst/>
              <a:ahLst/>
              <a:rect l="0" t="0" r="r" b="b"/>
              <a:pathLst>
                <a:path fill="none" w="102" h="186">
                  <a:moveTo>
                    <a:pt x="102" y="0"/>
                  </a:moveTo>
                  <a:lnTo>
                    <a:pt x="46" y="69"/>
                  </a:lnTo>
                  <a:lnTo>
                    <a:pt x="0" y="186"/>
                  </a:lnTo>
                </a:path>
              </a:pathLst>
            </a:custGeom>
            <a:ln w="12600">
              <a:solidFill>
                <a:srgbClr val="f2fefd"/>
              </a:solidFill>
              <a:round/>
            </a:ln>
          </p:spPr>
          <p:txBody>
            <a:bodyPr lIns="96120" rIns="96120" tIns="15840" bIns="15840" anchor="t">
              <a:noAutofit/>
            </a:bodyPr>
            <a:p>
              <a:endParaRPr b="0" lang="en-US" sz="1800" spc="-1" strike="noStrike">
                <a:solidFill>
                  <a:srgbClr val="000000"/>
                </a:solidFill>
                <a:latin typeface="Arial"/>
              </a:endParaRPr>
            </a:p>
          </p:txBody>
        </p:sp>
        <p:sp>
          <p:nvSpPr>
            <p:cNvPr id="9052" name=""/>
            <p:cNvSpPr/>
            <p:nvPr/>
          </p:nvSpPr>
          <p:spPr>
            <a:xfrm flipV="1">
              <a:off x="8018640" y="1538280"/>
              <a:ext cx="9360" cy="30240"/>
            </a:xfrm>
            <a:prstGeom prst="line">
              <a:avLst/>
            </a:prstGeom>
            <a:ln w="12600">
              <a:solidFill>
                <a:srgbClr val="f2fefd"/>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9053" name=""/>
            <p:cNvSpPr/>
            <p:nvPr/>
          </p:nvSpPr>
          <p:spPr>
            <a:xfrm>
              <a:off x="7954920" y="1430280"/>
              <a:ext cx="22680" cy="146520"/>
            </a:xfrm>
            <a:custGeom>
              <a:avLst/>
              <a:gdLst/>
              <a:ahLst/>
              <a:rect l="0" t="0" r="r" b="b"/>
              <a:pathLst>
                <a:path fill="none" w="63" h="407">
                  <a:moveTo>
                    <a:pt x="63" y="0"/>
                  </a:moveTo>
                  <a:lnTo>
                    <a:pt x="23" y="148"/>
                  </a:lnTo>
                  <a:lnTo>
                    <a:pt x="0" y="345"/>
                  </a:lnTo>
                  <a:lnTo>
                    <a:pt x="0" y="407"/>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054" name=""/>
            <p:cNvSpPr/>
            <p:nvPr/>
          </p:nvSpPr>
          <p:spPr>
            <a:xfrm flipH="1" flipV="1">
              <a:off x="8601120" y="1841400"/>
              <a:ext cx="3240" cy="84240"/>
            </a:xfrm>
            <a:prstGeom prst="line">
              <a:avLst/>
            </a:prstGeom>
            <a:ln w="12600">
              <a:solidFill>
                <a:srgbClr val="f2fefd"/>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9055" name=""/>
            <p:cNvSpPr/>
            <p:nvPr/>
          </p:nvSpPr>
          <p:spPr>
            <a:xfrm flipH="1">
              <a:off x="8224920" y="1925640"/>
              <a:ext cx="37944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056" name=""/>
            <p:cNvSpPr/>
            <p:nvPr/>
          </p:nvSpPr>
          <p:spPr>
            <a:xfrm flipV="1">
              <a:off x="8601120" y="1925640"/>
              <a:ext cx="3240" cy="76320"/>
            </a:xfrm>
            <a:prstGeom prst="line">
              <a:avLst/>
            </a:prstGeom>
            <a:ln w="12600">
              <a:solidFill>
                <a:srgbClr val="f2fefd"/>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057" name=""/>
            <p:cNvSpPr/>
            <p:nvPr/>
          </p:nvSpPr>
          <p:spPr>
            <a:xfrm>
              <a:off x="8224920" y="1754280"/>
              <a:ext cx="376560" cy="219600"/>
            </a:xfrm>
            <a:custGeom>
              <a:avLst/>
              <a:gdLst/>
              <a:ahLst/>
              <a:rect l="0" t="0" r="r" b="b"/>
              <a:pathLst>
                <a:path fill="none" w="1046" h="610">
                  <a:moveTo>
                    <a:pt x="0" y="610"/>
                  </a:moveTo>
                  <a:lnTo>
                    <a:pt x="1046" y="243"/>
                  </a:lnTo>
                  <a:lnTo>
                    <a:pt x="1024"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058" name=""/>
            <p:cNvSpPr/>
            <p:nvPr/>
          </p:nvSpPr>
          <p:spPr>
            <a:xfrm flipV="1">
              <a:off x="8221680" y="1841400"/>
              <a:ext cx="379440" cy="47880"/>
            </a:xfrm>
            <a:prstGeom prst="line">
              <a:avLst/>
            </a:prstGeom>
            <a:ln w="12600">
              <a:solidFill>
                <a:srgbClr val="f2fefd"/>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059" name=""/>
            <p:cNvSpPr/>
            <p:nvPr/>
          </p:nvSpPr>
          <p:spPr>
            <a:xfrm flipV="1">
              <a:off x="8593200" y="2001960"/>
              <a:ext cx="7920" cy="71280"/>
            </a:xfrm>
            <a:prstGeom prst="line">
              <a:avLst/>
            </a:prstGeom>
            <a:ln w="12600">
              <a:solidFill>
                <a:srgbClr val="f2fefd"/>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9060" name=""/>
            <p:cNvSpPr/>
            <p:nvPr/>
          </p:nvSpPr>
          <p:spPr>
            <a:xfrm>
              <a:off x="8221680" y="1973160"/>
              <a:ext cx="379800" cy="76680"/>
            </a:xfrm>
            <a:custGeom>
              <a:avLst/>
              <a:gdLst/>
              <a:ahLst/>
              <a:rect l="0" t="0" r="r" b="b"/>
              <a:pathLst>
                <a:path fill="none" w="1055" h="213">
                  <a:moveTo>
                    <a:pt x="0" y="213"/>
                  </a:moveTo>
                  <a:lnTo>
                    <a:pt x="1055" y="80"/>
                  </a:lnTo>
                  <a:lnTo>
                    <a:pt x="8" y="0"/>
                  </a:lnTo>
                </a:path>
              </a:pathLst>
            </a:custGeom>
            <a:ln w="12600">
              <a:solidFill>
                <a:srgbClr val="f2fefd"/>
              </a:solidFill>
              <a:round/>
            </a:ln>
          </p:spPr>
          <p:txBody>
            <a:bodyPr lIns="96120" rIns="96120" tIns="25560" bIns="25560" anchor="t">
              <a:noAutofit/>
            </a:bodyPr>
            <a:p>
              <a:endParaRPr b="0" lang="en-US" sz="1800" spc="-1" strike="noStrike">
                <a:solidFill>
                  <a:srgbClr val="000000"/>
                </a:solidFill>
                <a:latin typeface="Arial"/>
              </a:endParaRPr>
            </a:p>
          </p:txBody>
        </p:sp>
        <p:sp>
          <p:nvSpPr>
            <p:cNvPr id="9061" name=""/>
            <p:cNvSpPr/>
            <p:nvPr/>
          </p:nvSpPr>
          <p:spPr>
            <a:xfrm flipV="1">
              <a:off x="8221680" y="1754280"/>
              <a:ext cx="371520" cy="135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2" name=""/>
            <p:cNvSpPr/>
            <p:nvPr/>
          </p:nvSpPr>
          <p:spPr>
            <a:xfrm flipV="1">
              <a:off x="8582040" y="2073240"/>
              <a:ext cx="11160" cy="52560"/>
            </a:xfrm>
            <a:prstGeom prst="line">
              <a:avLst/>
            </a:prstGeom>
            <a:ln w="12600">
              <a:solidFill>
                <a:srgbClr val="f2fefd"/>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9063" name=""/>
            <p:cNvSpPr/>
            <p:nvPr/>
          </p:nvSpPr>
          <p:spPr>
            <a:xfrm>
              <a:off x="8213760" y="2049480"/>
              <a:ext cx="379800" cy="68760"/>
            </a:xfrm>
            <a:custGeom>
              <a:avLst/>
              <a:gdLst/>
              <a:ahLst/>
              <a:rect l="0" t="0" r="r" b="b"/>
              <a:pathLst>
                <a:path fill="none" w="1055" h="191">
                  <a:moveTo>
                    <a:pt x="0" y="191"/>
                  </a:moveTo>
                  <a:lnTo>
                    <a:pt x="1055" y="65"/>
                  </a:lnTo>
                  <a:lnTo>
                    <a:pt x="22" y="0"/>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064" name=""/>
            <p:cNvSpPr/>
            <p:nvPr/>
          </p:nvSpPr>
          <p:spPr>
            <a:xfrm flipH="1" flipV="1">
              <a:off x="8582040" y="1666800"/>
              <a:ext cx="1116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065" name=""/>
            <p:cNvSpPr/>
            <p:nvPr/>
          </p:nvSpPr>
          <p:spPr>
            <a:xfrm>
              <a:off x="8202600" y="1714680"/>
              <a:ext cx="390960" cy="87840"/>
            </a:xfrm>
            <a:custGeom>
              <a:avLst/>
              <a:gdLst/>
              <a:ahLst/>
              <a:rect l="0" t="0" r="r" b="b"/>
              <a:pathLst>
                <a:path fill="none" w="1086" h="244">
                  <a:moveTo>
                    <a:pt x="30" y="244"/>
                  </a:moveTo>
                  <a:lnTo>
                    <a:pt x="1086" y="111"/>
                  </a:lnTo>
                  <a:lnTo>
                    <a:pt x="0" y="0"/>
                  </a:lnTo>
                </a:path>
              </a:pathLst>
            </a:custGeom>
            <a:ln w="12600">
              <a:solidFill>
                <a:srgbClr val="f2fefd"/>
              </a:solidFill>
              <a:round/>
            </a:ln>
          </p:spPr>
          <p:txBody>
            <a:bodyPr lIns="96120" rIns="96120" tIns="36720" bIns="36720" anchor="t">
              <a:noAutofit/>
            </a:bodyPr>
            <a:p>
              <a:endParaRPr b="0" lang="en-US" sz="1800" spc="-1" strike="noStrike">
                <a:solidFill>
                  <a:srgbClr val="000000"/>
                </a:solidFill>
                <a:latin typeface="Arial"/>
              </a:endParaRPr>
            </a:p>
          </p:txBody>
        </p:sp>
        <p:sp>
          <p:nvSpPr>
            <p:cNvPr id="9066" name=""/>
            <p:cNvSpPr/>
            <p:nvPr/>
          </p:nvSpPr>
          <p:spPr>
            <a:xfrm flipV="1">
              <a:off x="8564400" y="2125800"/>
              <a:ext cx="17640" cy="42840"/>
            </a:xfrm>
            <a:prstGeom prst="line">
              <a:avLst/>
            </a:prstGeom>
            <a:ln w="12600">
              <a:solidFill>
                <a:srgbClr val="f2fefd"/>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9067" name=""/>
            <p:cNvSpPr/>
            <p:nvPr/>
          </p:nvSpPr>
          <p:spPr>
            <a:xfrm>
              <a:off x="8202600" y="2117880"/>
              <a:ext cx="379800" cy="55800"/>
            </a:xfrm>
            <a:custGeom>
              <a:avLst/>
              <a:gdLst/>
              <a:ahLst/>
              <a:rect l="0" t="0" r="r" b="b"/>
              <a:pathLst>
                <a:path fill="none" w="1055" h="155">
                  <a:moveTo>
                    <a:pt x="0" y="155"/>
                  </a:moveTo>
                  <a:lnTo>
                    <a:pt x="1055" y="23"/>
                  </a:lnTo>
                  <a:lnTo>
                    <a:pt x="30" y="0"/>
                  </a:lnTo>
                </a:path>
              </a:pathLst>
            </a:custGeom>
            <a:ln w="12600">
              <a:solidFill>
                <a:srgbClr val="f2fefd"/>
              </a:solidFill>
              <a:round/>
            </a:ln>
          </p:spPr>
          <p:txBody>
            <a:bodyPr lIns="96120" rIns="96120" tIns="4680" bIns="4680" anchor="t">
              <a:noAutofit/>
            </a:bodyPr>
            <a:p>
              <a:endParaRPr b="0" lang="en-US" sz="1800" spc="-1" strike="noStrike">
                <a:solidFill>
                  <a:srgbClr val="000000"/>
                </a:solidFill>
                <a:latin typeface="Arial"/>
              </a:endParaRPr>
            </a:p>
          </p:txBody>
        </p:sp>
        <p:sp>
          <p:nvSpPr>
            <p:cNvPr id="9068" name=""/>
            <p:cNvSpPr/>
            <p:nvPr/>
          </p:nvSpPr>
          <p:spPr>
            <a:xfrm>
              <a:off x="8545680" y="1503360"/>
              <a:ext cx="36720" cy="163800"/>
            </a:xfrm>
            <a:custGeom>
              <a:avLst/>
              <a:gdLst/>
              <a:ahLst/>
              <a:rect l="0" t="0" r="r" b="b"/>
              <a:pathLst>
                <a:path fill="none" w="102" h="455">
                  <a:moveTo>
                    <a:pt x="102" y="455"/>
                  </a:moveTo>
                  <a:lnTo>
                    <a:pt x="56" y="218"/>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069" name=""/>
            <p:cNvSpPr/>
            <p:nvPr/>
          </p:nvSpPr>
          <p:spPr>
            <a:xfrm flipV="1">
              <a:off x="8185320" y="1582560"/>
              <a:ext cx="379080" cy="47880"/>
            </a:xfrm>
            <a:prstGeom prst="line">
              <a:avLst/>
            </a:prstGeom>
            <a:ln w="12600">
              <a:solidFill>
                <a:srgbClr val="f2fefd"/>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070" name=""/>
            <p:cNvSpPr/>
            <p:nvPr/>
          </p:nvSpPr>
          <p:spPr>
            <a:xfrm flipH="1" flipV="1">
              <a:off x="8185320" y="1630440"/>
              <a:ext cx="396720" cy="36360"/>
            </a:xfrm>
            <a:prstGeom prst="line">
              <a:avLst/>
            </a:prstGeom>
            <a:ln w="12600">
              <a:solidFill>
                <a:srgbClr val="f2fefd"/>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9071" name=""/>
            <p:cNvSpPr/>
            <p:nvPr/>
          </p:nvSpPr>
          <p:spPr>
            <a:xfrm flipV="1">
              <a:off x="8202600" y="1666800"/>
              <a:ext cx="379440" cy="47880"/>
            </a:xfrm>
            <a:prstGeom prst="line">
              <a:avLst/>
            </a:prstGeom>
            <a:ln w="12600">
              <a:solidFill>
                <a:srgbClr val="f2fefd"/>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072" name=""/>
            <p:cNvSpPr/>
            <p:nvPr/>
          </p:nvSpPr>
          <p:spPr>
            <a:xfrm flipV="1">
              <a:off x="8545680" y="2168640"/>
              <a:ext cx="18720" cy="25200"/>
            </a:xfrm>
            <a:prstGeom prst="line">
              <a:avLst/>
            </a:prstGeom>
            <a:ln w="12600">
              <a:solidFill>
                <a:srgbClr val="f2fefd"/>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9073" name=""/>
            <p:cNvSpPr/>
            <p:nvPr/>
          </p:nvSpPr>
          <p:spPr>
            <a:xfrm>
              <a:off x="8185320" y="2168640"/>
              <a:ext cx="379800" cy="47880"/>
            </a:xfrm>
            <a:custGeom>
              <a:avLst/>
              <a:gdLst/>
              <a:ahLst/>
              <a:rect l="0" t="0" r="r" b="b"/>
              <a:pathLst>
                <a:path fill="none" w="1055" h="133">
                  <a:moveTo>
                    <a:pt x="0" y="133"/>
                  </a:moveTo>
                  <a:lnTo>
                    <a:pt x="1055" y="0"/>
                  </a:lnTo>
                  <a:lnTo>
                    <a:pt x="48" y="15"/>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074" name=""/>
            <p:cNvSpPr/>
            <p:nvPr/>
          </p:nvSpPr>
          <p:spPr>
            <a:xfrm flipV="1">
              <a:off x="8185320" y="1503360"/>
              <a:ext cx="360360" cy="1270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5" name=""/>
            <p:cNvSpPr/>
            <p:nvPr/>
          </p:nvSpPr>
          <p:spPr>
            <a:xfrm flipV="1">
              <a:off x="8520120" y="2193840"/>
              <a:ext cx="25560" cy="7920"/>
            </a:xfrm>
            <a:prstGeom prst="line">
              <a:avLst/>
            </a:prstGeom>
            <a:ln w="12600">
              <a:solidFill>
                <a:srgbClr val="f2fef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076" name=""/>
            <p:cNvSpPr/>
            <p:nvPr/>
          </p:nvSpPr>
          <p:spPr>
            <a:xfrm>
              <a:off x="8163000" y="2193840"/>
              <a:ext cx="383040" cy="47880"/>
            </a:xfrm>
            <a:custGeom>
              <a:avLst/>
              <a:gdLst/>
              <a:ahLst/>
              <a:rect l="0" t="0" r="r" b="b"/>
              <a:pathLst>
                <a:path fill="none" w="1064" h="133">
                  <a:moveTo>
                    <a:pt x="0" y="133"/>
                  </a:moveTo>
                  <a:lnTo>
                    <a:pt x="1064" y="0"/>
                  </a:lnTo>
                  <a:lnTo>
                    <a:pt x="61" y="61"/>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077" name=""/>
            <p:cNvSpPr/>
            <p:nvPr/>
          </p:nvSpPr>
          <p:spPr>
            <a:xfrm>
              <a:off x="8163000" y="1436760"/>
              <a:ext cx="383040" cy="114840"/>
            </a:xfrm>
            <a:custGeom>
              <a:avLst/>
              <a:gdLst/>
              <a:ahLst/>
              <a:rect l="0" t="0" r="r" b="b"/>
              <a:pathLst>
                <a:path fill="none" w="1064" h="319">
                  <a:moveTo>
                    <a:pt x="0" y="319"/>
                  </a:moveTo>
                  <a:lnTo>
                    <a:pt x="1064" y="187"/>
                  </a:lnTo>
                  <a:lnTo>
                    <a:pt x="994"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078" name=""/>
            <p:cNvSpPr/>
            <p:nvPr/>
          </p:nvSpPr>
          <p:spPr>
            <a:xfrm>
              <a:off x="8140680" y="1484280"/>
              <a:ext cx="405000" cy="19080"/>
            </a:xfrm>
            <a:prstGeom prst="line">
              <a:avLst/>
            </a:prstGeom>
            <a:ln w="12600">
              <a:solidFill>
                <a:srgbClr val="f2fef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9079" name=""/>
            <p:cNvSpPr/>
            <p:nvPr/>
          </p:nvSpPr>
          <p:spPr>
            <a:xfrm>
              <a:off x="8140680" y="2201760"/>
              <a:ext cx="379800" cy="47880"/>
            </a:xfrm>
            <a:custGeom>
              <a:avLst/>
              <a:gdLst/>
              <a:ahLst/>
              <a:rect l="0" t="0" r="r" b="b"/>
              <a:pathLst>
                <a:path fill="none" w="1055" h="133">
                  <a:moveTo>
                    <a:pt x="0" y="133"/>
                  </a:moveTo>
                  <a:lnTo>
                    <a:pt x="1055" y="0"/>
                  </a:lnTo>
                  <a:lnTo>
                    <a:pt x="61" y="109"/>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080" name=""/>
            <p:cNvSpPr/>
            <p:nvPr/>
          </p:nvSpPr>
          <p:spPr>
            <a:xfrm>
              <a:off x="8140680" y="1379520"/>
              <a:ext cx="379800" cy="105120"/>
            </a:xfrm>
            <a:custGeom>
              <a:avLst/>
              <a:gdLst/>
              <a:ahLst/>
              <a:rect l="0" t="0" r="r" b="b"/>
              <a:pathLst>
                <a:path fill="none" w="1055" h="292">
                  <a:moveTo>
                    <a:pt x="0" y="292"/>
                  </a:moveTo>
                  <a:lnTo>
                    <a:pt x="1055" y="158"/>
                  </a:lnTo>
                  <a:lnTo>
                    <a:pt x="987"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081" name=""/>
            <p:cNvSpPr/>
            <p:nvPr/>
          </p:nvSpPr>
          <p:spPr>
            <a:xfrm>
              <a:off x="8115480" y="1427040"/>
              <a:ext cx="40464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082" name=""/>
            <p:cNvSpPr/>
            <p:nvPr/>
          </p:nvSpPr>
          <p:spPr>
            <a:xfrm>
              <a:off x="8115480" y="1339920"/>
              <a:ext cx="379800" cy="87840"/>
            </a:xfrm>
            <a:custGeom>
              <a:avLst/>
              <a:gdLst/>
              <a:ahLst/>
              <a:rect l="0" t="0" r="r" b="b"/>
              <a:pathLst>
                <a:path fill="none" w="1055" h="244">
                  <a:moveTo>
                    <a:pt x="0" y="244"/>
                  </a:moveTo>
                  <a:lnTo>
                    <a:pt x="1055" y="111"/>
                  </a:lnTo>
                  <a:lnTo>
                    <a:pt x="985" y="0"/>
                  </a:lnTo>
                </a:path>
              </a:pathLst>
            </a:custGeom>
            <a:ln w="12600">
              <a:solidFill>
                <a:srgbClr val="f2fefd"/>
              </a:solidFill>
              <a:round/>
            </a:ln>
          </p:spPr>
          <p:txBody>
            <a:bodyPr lIns="96120" rIns="96120" tIns="36720" bIns="36720" anchor="t">
              <a:noAutofit/>
            </a:bodyPr>
            <a:p>
              <a:endParaRPr b="0" lang="en-US" sz="1800" spc="-1" strike="noStrike">
                <a:solidFill>
                  <a:srgbClr val="000000"/>
                </a:solidFill>
                <a:latin typeface="Arial"/>
              </a:endParaRPr>
            </a:p>
          </p:txBody>
        </p:sp>
        <p:sp>
          <p:nvSpPr>
            <p:cNvPr id="9083" name=""/>
            <p:cNvSpPr/>
            <p:nvPr/>
          </p:nvSpPr>
          <p:spPr>
            <a:xfrm flipV="1">
              <a:off x="8089920" y="1379520"/>
              <a:ext cx="40464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084" name=""/>
            <p:cNvSpPr/>
            <p:nvPr/>
          </p:nvSpPr>
          <p:spPr>
            <a:xfrm>
              <a:off x="8089920" y="1316160"/>
              <a:ext cx="379800" cy="73440"/>
            </a:xfrm>
            <a:custGeom>
              <a:avLst/>
              <a:gdLst/>
              <a:ahLst/>
              <a:rect l="0" t="0" r="r" b="b"/>
              <a:pathLst>
                <a:path fill="none" w="1055" h="204">
                  <a:moveTo>
                    <a:pt x="0" y="204"/>
                  </a:moveTo>
                  <a:lnTo>
                    <a:pt x="1055" y="69"/>
                  </a:lnTo>
                  <a:lnTo>
                    <a:pt x="985" y="0"/>
                  </a:lnTo>
                </a:path>
              </a:pathLst>
            </a:custGeom>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9085" name=""/>
            <p:cNvSpPr/>
            <p:nvPr/>
          </p:nvSpPr>
          <p:spPr>
            <a:xfrm flipV="1">
              <a:off x="8061480" y="1339920"/>
              <a:ext cx="407880" cy="23760"/>
            </a:xfrm>
            <a:prstGeom prst="line">
              <a:avLst/>
            </a:prstGeom>
            <a:ln w="12600">
              <a:solidFill>
                <a:srgbClr val="f2fef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9086" name=""/>
            <p:cNvSpPr/>
            <p:nvPr/>
          </p:nvSpPr>
          <p:spPr>
            <a:xfrm>
              <a:off x="8061480" y="1306440"/>
              <a:ext cx="383040" cy="57600"/>
            </a:xfrm>
            <a:custGeom>
              <a:avLst/>
              <a:gdLst/>
              <a:ahLst/>
              <a:rect l="0" t="0" r="r" b="b"/>
              <a:pathLst>
                <a:path fill="none" w="1064" h="160">
                  <a:moveTo>
                    <a:pt x="0" y="160"/>
                  </a:moveTo>
                  <a:lnTo>
                    <a:pt x="1064" y="24"/>
                  </a:lnTo>
                  <a:lnTo>
                    <a:pt x="994" y="0"/>
                  </a:lnTo>
                </a:path>
              </a:pathLst>
            </a:custGeom>
            <a:ln w="12600">
              <a:solidFill>
                <a:srgbClr val="f2fefd"/>
              </a:solidFill>
              <a:round/>
            </a:ln>
          </p:spPr>
          <p:txBody>
            <a:bodyPr lIns="96120" rIns="96120" tIns="6480" bIns="6480" anchor="t">
              <a:noAutofit/>
            </a:bodyPr>
            <a:p>
              <a:endParaRPr b="0" lang="en-US" sz="1800" spc="-1" strike="noStrike">
                <a:solidFill>
                  <a:srgbClr val="000000"/>
                </a:solidFill>
                <a:latin typeface="Arial"/>
              </a:endParaRPr>
            </a:p>
          </p:txBody>
        </p:sp>
        <p:sp>
          <p:nvSpPr>
            <p:cNvPr id="9087" name=""/>
            <p:cNvSpPr/>
            <p:nvPr/>
          </p:nvSpPr>
          <p:spPr>
            <a:xfrm flipV="1">
              <a:off x="8035920" y="1316160"/>
              <a:ext cx="407880" cy="37800"/>
            </a:xfrm>
            <a:prstGeom prst="line">
              <a:avLst/>
            </a:prstGeom>
            <a:ln w="12600">
              <a:solidFill>
                <a:srgbClr val="f2fefd"/>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9088" name=""/>
            <p:cNvSpPr/>
            <p:nvPr/>
          </p:nvSpPr>
          <p:spPr>
            <a:xfrm flipH="1">
              <a:off x="8035920" y="1306440"/>
              <a:ext cx="38268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089" name=""/>
            <p:cNvSpPr/>
            <p:nvPr/>
          </p:nvSpPr>
          <p:spPr>
            <a:xfrm>
              <a:off x="8913960" y="1703520"/>
              <a:ext cx="3600" cy="98640"/>
            </a:xfrm>
            <a:custGeom>
              <a:avLst/>
              <a:gdLst/>
              <a:ahLst/>
              <a:rect l="0" t="0" r="r" b="b"/>
              <a:pathLst>
                <a:path fill="none" w="10" h="274">
                  <a:moveTo>
                    <a:pt x="0" y="274"/>
                  </a:moveTo>
                  <a:lnTo>
                    <a:pt x="10" y="148"/>
                  </a:lnTo>
                  <a:lnTo>
                    <a:pt x="0" y="0"/>
                  </a:lnTo>
                </a:path>
              </a:pathLst>
            </a:custGeom>
            <a:ln w="12600">
              <a:solidFill>
                <a:srgbClr val="f2fefd"/>
              </a:solidFill>
              <a:round/>
            </a:ln>
          </p:spPr>
          <p:txBody>
            <a:bodyPr lIns="96120" rIns="96120" tIns="47520" bIns="47520" anchor="t">
              <a:noAutofit/>
            </a:bodyPr>
            <a:p>
              <a:endParaRPr b="0" lang="en-US" sz="1800" spc="-1" strike="noStrike">
                <a:solidFill>
                  <a:srgbClr val="000000"/>
                </a:solidFill>
                <a:latin typeface="Arial"/>
              </a:endParaRPr>
            </a:p>
          </p:txBody>
        </p:sp>
        <p:sp>
          <p:nvSpPr>
            <p:cNvPr id="9090" name=""/>
            <p:cNvSpPr/>
            <p:nvPr/>
          </p:nvSpPr>
          <p:spPr>
            <a:xfrm>
              <a:off x="8593200" y="1754280"/>
              <a:ext cx="324360" cy="43200"/>
            </a:xfrm>
            <a:custGeom>
              <a:avLst/>
              <a:gdLst/>
              <a:ahLst/>
              <a:rect l="0" t="0" r="r" b="b"/>
              <a:pathLst>
                <a:path fill="none" w="901" h="120">
                  <a:moveTo>
                    <a:pt x="15" y="120"/>
                  </a:moveTo>
                  <a:lnTo>
                    <a:pt x="901" y="6"/>
                  </a:lnTo>
                  <a:lnTo>
                    <a:pt x="0" y="0"/>
                  </a:lnTo>
                </a:path>
              </a:pathLst>
            </a:custGeom>
            <a:ln w="12600">
              <a:solidFill>
                <a:srgbClr val="f2fefd"/>
              </a:solidFill>
              <a:round/>
            </a:ln>
          </p:spPr>
          <p:txBody>
            <a:bodyPr lIns="96120" rIns="96120" tIns="-7920" bIns="-7920" anchor="t">
              <a:noAutofit/>
            </a:bodyPr>
            <a:p>
              <a:endParaRPr b="0" lang="en-US" sz="1800" spc="-1" strike="noStrike">
                <a:solidFill>
                  <a:srgbClr val="000000"/>
                </a:solidFill>
                <a:latin typeface="Arial"/>
              </a:endParaRPr>
            </a:p>
          </p:txBody>
        </p:sp>
        <p:sp>
          <p:nvSpPr>
            <p:cNvPr id="9091" name=""/>
            <p:cNvSpPr/>
            <p:nvPr/>
          </p:nvSpPr>
          <p:spPr>
            <a:xfrm flipV="1">
              <a:off x="8906040" y="1801800"/>
              <a:ext cx="7920" cy="28440"/>
            </a:xfrm>
            <a:prstGeom prst="line">
              <a:avLst/>
            </a:prstGeom>
            <a:ln w="12600">
              <a:solidFill>
                <a:srgbClr val="f2fefd"/>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9092" name=""/>
            <p:cNvSpPr/>
            <p:nvPr/>
          </p:nvSpPr>
          <p:spPr>
            <a:xfrm>
              <a:off x="8599320" y="1801800"/>
              <a:ext cx="314640" cy="36720"/>
            </a:xfrm>
            <a:custGeom>
              <a:avLst/>
              <a:gdLst/>
              <a:ahLst/>
              <a:rect l="0" t="0" r="r" b="b"/>
              <a:pathLst>
                <a:path fill="none" w="874" h="102">
                  <a:moveTo>
                    <a:pt x="6" y="102"/>
                  </a:moveTo>
                  <a:lnTo>
                    <a:pt x="874" y="0"/>
                  </a:lnTo>
                  <a:lnTo>
                    <a:pt x="0" y="8"/>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093" name=""/>
            <p:cNvSpPr/>
            <p:nvPr/>
          </p:nvSpPr>
          <p:spPr>
            <a:xfrm flipH="1" flipV="1">
              <a:off x="8906040" y="1650960"/>
              <a:ext cx="7920" cy="52560"/>
            </a:xfrm>
            <a:prstGeom prst="line">
              <a:avLst/>
            </a:prstGeom>
            <a:ln w="12600">
              <a:solidFill>
                <a:srgbClr val="f2fefd"/>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9094" name=""/>
            <p:cNvSpPr/>
            <p:nvPr/>
          </p:nvSpPr>
          <p:spPr>
            <a:xfrm>
              <a:off x="8588520" y="1700280"/>
              <a:ext cx="325800" cy="43200"/>
            </a:xfrm>
            <a:custGeom>
              <a:avLst/>
              <a:gdLst/>
              <a:ahLst/>
              <a:rect l="0" t="0" r="r" b="b"/>
              <a:pathLst>
                <a:path fill="none" w="905" h="120">
                  <a:moveTo>
                    <a:pt x="15" y="120"/>
                  </a:moveTo>
                  <a:lnTo>
                    <a:pt x="905" y="8"/>
                  </a:lnTo>
                  <a:lnTo>
                    <a:pt x="0" y="0"/>
                  </a:lnTo>
                </a:path>
              </a:pathLst>
            </a:custGeom>
            <a:ln w="12600">
              <a:solidFill>
                <a:srgbClr val="f2fefd"/>
              </a:solidFill>
              <a:round/>
            </a:ln>
          </p:spPr>
          <p:txBody>
            <a:bodyPr lIns="96120" rIns="96120" tIns="-7920" bIns="-7920" anchor="t">
              <a:noAutofit/>
            </a:bodyPr>
            <a:p>
              <a:endParaRPr b="0" lang="en-US" sz="1800" spc="-1" strike="noStrike">
                <a:solidFill>
                  <a:srgbClr val="000000"/>
                </a:solidFill>
                <a:latin typeface="Arial"/>
              </a:endParaRPr>
            </a:p>
          </p:txBody>
        </p:sp>
        <p:sp>
          <p:nvSpPr>
            <p:cNvPr id="9095" name=""/>
            <p:cNvSpPr/>
            <p:nvPr/>
          </p:nvSpPr>
          <p:spPr>
            <a:xfrm flipV="1">
              <a:off x="8891640" y="1830240"/>
              <a:ext cx="1440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096" name=""/>
            <p:cNvSpPr/>
            <p:nvPr/>
          </p:nvSpPr>
          <p:spPr>
            <a:xfrm>
              <a:off x="8601120" y="1830240"/>
              <a:ext cx="305280" cy="39960"/>
            </a:xfrm>
            <a:custGeom>
              <a:avLst/>
              <a:gdLst/>
              <a:ahLst/>
              <a:rect l="0" t="0" r="r" b="b"/>
              <a:pathLst>
                <a:path fill="none" w="848" h="111">
                  <a:moveTo>
                    <a:pt x="0" y="111"/>
                  </a:moveTo>
                  <a:lnTo>
                    <a:pt x="848" y="0"/>
                  </a:lnTo>
                  <a:lnTo>
                    <a:pt x="0" y="47"/>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097" name=""/>
            <p:cNvSpPr/>
            <p:nvPr/>
          </p:nvSpPr>
          <p:spPr>
            <a:xfrm flipH="1" flipV="1">
              <a:off x="8891640" y="1604880"/>
              <a:ext cx="14400" cy="46080"/>
            </a:xfrm>
            <a:prstGeom prst="line">
              <a:avLst/>
            </a:prstGeom>
            <a:ln w="12600">
              <a:solidFill>
                <a:srgbClr val="f2fefd"/>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9098" name=""/>
            <p:cNvSpPr/>
            <p:nvPr/>
          </p:nvSpPr>
          <p:spPr>
            <a:xfrm>
              <a:off x="8578800" y="1650960"/>
              <a:ext cx="327240" cy="38520"/>
            </a:xfrm>
            <a:custGeom>
              <a:avLst/>
              <a:gdLst/>
              <a:ahLst/>
              <a:rect l="0" t="0" r="r" b="b"/>
              <a:pathLst>
                <a:path fill="none" w="909" h="107">
                  <a:moveTo>
                    <a:pt x="15" y="107"/>
                  </a:moveTo>
                  <a:lnTo>
                    <a:pt x="909" y="0"/>
                  </a:lnTo>
                  <a:lnTo>
                    <a:pt x="0" y="15"/>
                  </a:lnTo>
                </a:path>
              </a:pathLst>
            </a:custGeom>
            <a:ln w="12600">
              <a:solidFill>
                <a:srgbClr val="f2fefd"/>
              </a:solidFill>
              <a:round/>
            </a:ln>
          </p:spPr>
          <p:txBody>
            <a:bodyPr lIns="96120" rIns="96120" tIns="-12600" bIns="-12600" anchor="t">
              <a:noAutofit/>
            </a:bodyPr>
            <a:p>
              <a:endParaRPr b="0" lang="en-US" sz="1800" spc="-1" strike="noStrike">
                <a:solidFill>
                  <a:srgbClr val="000000"/>
                </a:solidFill>
                <a:latin typeface="Arial"/>
              </a:endParaRPr>
            </a:p>
          </p:txBody>
        </p:sp>
        <p:sp>
          <p:nvSpPr>
            <p:cNvPr id="9099" name=""/>
            <p:cNvSpPr/>
            <p:nvPr/>
          </p:nvSpPr>
          <p:spPr>
            <a:xfrm>
              <a:off x="8601120" y="1841400"/>
              <a:ext cx="290880" cy="36720"/>
            </a:xfrm>
            <a:custGeom>
              <a:avLst/>
              <a:gdLst/>
              <a:ahLst/>
              <a:rect l="0" t="0" r="r" b="b"/>
              <a:pathLst>
                <a:path fill="none" w="808" h="102">
                  <a:moveTo>
                    <a:pt x="8" y="102"/>
                  </a:moveTo>
                  <a:lnTo>
                    <a:pt x="808" y="0"/>
                  </a:lnTo>
                  <a:lnTo>
                    <a:pt x="0" y="78"/>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100" name=""/>
            <p:cNvSpPr/>
            <p:nvPr/>
          </p:nvSpPr>
          <p:spPr>
            <a:xfrm flipH="1" flipV="1">
              <a:off x="8874000" y="1576440"/>
              <a:ext cx="17640" cy="28440"/>
            </a:xfrm>
            <a:prstGeom prst="line">
              <a:avLst/>
            </a:prstGeom>
            <a:ln w="12600">
              <a:solidFill>
                <a:srgbClr val="f2fefd"/>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9101" name=""/>
            <p:cNvSpPr/>
            <p:nvPr/>
          </p:nvSpPr>
          <p:spPr>
            <a:xfrm>
              <a:off x="8574120" y="1604880"/>
              <a:ext cx="317880" cy="39960"/>
            </a:xfrm>
            <a:custGeom>
              <a:avLst/>
              <a:gdLst/>
              <a:ahLst/>
              <a:rect l="0" t="0" r="r" b="b"/>
              <a:pathLst>
                <a:path fill="none" w="883" h="111">
                  <a:moveTo>
                    <a:pt x="6" y="111"/>
                  </a:moveTo>
                  <a:lnTo>
                    <a:pt x="883" y="0"/>
                  </a:lnTo>
                  <a:lnTo>
                    <a:pt x="0" y="46"/>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102" name=""/>
            <p:cNvSpPr/>
            <p:nvPr/>
          </p:nvSpPr>
          <p:spPr>
            <a:xfrm flipH="1" flipV="1">
              <a:off x="8861400" y="1565280"/>
              <a:ext cx="1260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103" name=""/>
            <p:cNvSpPr/>
            <p:nvPr/>
          </p:nvSpPr>
          <p:spPr>
            <a:xfrm>
              <a:off x="8570880" y="1576440"/>
              <a:ext cx="303480" cy="38520"/>
            </a:xfrm>
            <a:custGeom>
              <a:avLst/>
              <a:gdLst/>
              <a:ahLst/>
              <a:rect l="0" t="0" r="r" b="b"/>
              <a:pathLst>
                <a:path fill="none" w="843" h="107">
                  <a:moveTo>
                    <a:pt x="0" y="107"/>
                  </a:moveTo>
                  <a:lnTo>
                    <a:pt x="843" y="0"/>
                  </a:lnTo>
                  <a:lnTo>
                    <a:pt x="0" y="83"/>
                  </a:lnTo>
                </a:path>
              </a:pathLst>
            </a:custGeom>
            <a:ln w="12600">
              <a:solidFill>
                <a:srgbClr val="f2fefd"/>
              </a:solidFill>
              <a:round/>
            </a:ln>
          </p:spPr>
          <p:txBody>
            <a:bodyPr lIns="96120" rIns="96120" tIns="-12600" bIns="-12600" anchor="t">
              <a:noAutofit/>
            </a:bodyPr>
            <a:p>
              <a:endParaRPr b="0" lang="en-US" sz="1800" spc="-1" strike="noStrike">
                <a:solidFill>
                  <a:srgbClr val="000000"/>
                </a:solidFill>
                <a:latin typeface="Arial"/>
              </a:endParaRPr>
            </a:p>
          </p:txBody>
        </p:sp>
        <p:sp>
          <p:nvSpPr>
            <p:cNvPr id="9104" name=""/>
            <p:cNvSpPr/>
            <p:nvPr/>
          </p:nvSpPr>
          <p:spPr>
            <a:xfrm flipH="1">
              <a:off x="8567640" y="1565280"/>
              <a:ext cx="293760" cy="36360"/>
            </a:xfrm>
            <a:prstGeom prst="line">
              <a:avLst/>
            </a:prstGeom>
            <a:ln w="12600">
              <a:solidFill>
                <a:srgbClr val="f2fefd"/>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9105" name=""/>
            <p:cNvSpPr/>
            <p:nvPr/>
          </p:nvSpPr>
          <p:spPr>
            <a:xfrm>
              <a:off x="7045200" y="2249640"/>
              <a:ext cx="3024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9106" name=""/>
            <p:cNvSpPr/>
            <p:nvPr/>
          </p:nvSpPr>
          <p:spPr>
            <a:xfrm>
              <a:off x="7016760" y="2146320"/>
              <a:ext cx="28440" cy="1033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7" name=""/>
            <p:cNvSpPr/>
            <p:nvPr/>
          </p:nvSpPr>
          <p:spPr>
            <a:xfrm>
              <a:off x="6994440" y="2035080"/>
              <a:ext cx="2232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8" name=""/>
            <p:cNvSpPr/>
            <p:nvPr/>
          </p:nvSpPr>
          <p:spPr>
            <a:xfrm>
              <a:off x="7075440" y="2336760"/>
              <a:ext cx="3492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109" name=""/>
            <p:cNvSpPr/>
            <p:nvPr/>
          </p:nvSpPr>
          <p:spPr>
            <a:xfrm>
              <a:off x="6977160" y="1920960"/>
              <a:ext cx="17280" cy="114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10" name=""/>
            <p:cNvSpPr/>
            <p:nvPr/>
          </p:nvSpPr>
          <p:spPr>
            <a:xfrm flipH="1">
              <a:off x="6969240" y="1503360"/>
              <a:ext cx="792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111" name=""/>
            <p:cNvSpPr/>
            <p:nvPr/>
          </p:nvSpPr>
          <p:spPr>
            <a:xfrm flipH="1">
              <a:off x="6977160" y="1427040"/>
              <a:ext cx="17280" cy="76320"/>
            </a:xfrm>
            <a:prstGeom prst="line">
              <a:avLst/>
            </a:prstGeom>
            <a:ln w="12600">
              <a:solidFill>
                <a:srgbClr val="f2fefd"/>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112" name=""/>
            <p:cNvSpPr/>
            <p:nvPr/>
          </p:nvSpPr>
          <p:spPr>
            <a:xfrm flipH="1">
              <a:off x="6994440" y="1374840"/>
              <a:ext cx="22320" cy="52200"/>
            </a:xfrm>
            <a:prstGeom prst="line">
              <a:avLst/>
            </a:prstGeom>
            <a:ln w="12600">
              <a:solidFill>
                <a:srgbClr val="f2fefd"/>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113" name=""/>
            <p:cNvSpPr/>
            <p:nvPr/>
          </p:nvSpPr>
          <p:spPr>
            <a:xfrm flipH="1">
              <a:off x="7016760" y="1339920"/>
              <a:ext cx="28440" cy="34920"/>
            </a:xfrm>
            <a:prstGeom prst="line">
              <a:avLst/>
            </a:prstGeom>
            <a:ln w="12600">
              <a:solidFill>
                <a:srgbClr val="f2fefd"/>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114" name=""/>
            <p:cNvSpPr/>
            <p:nvPr/>
          </p:nvSpPr>
          <p:spPr>
            <a:xfrm flipH="1">
              <a:off x="7045200" y="1328760"/>
              <a:ext cx="3024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115" name=""/>
            <p:cNvSpPr/>
            <p:nvPr/>
          </p:nvSpPr>
          <p:spPr>
            <a:xfrm flipH="1" flipV="1">
              <a:off x="7075440" y="1328760"/>
              <a:ext cx="3492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116" name=""/>
            <p:cNvSpPr/>
            <p:nvPr/>
          </p:nvSpPr>
          <p:spPr>
            <a:xfrm flipH="1" flipV="1">
              <a:off x="7110360" y="1339920"/>
              <a:ext cx="33480" cy="34920"/>
            </a:xfrm>
            <a:prstGeom prst="line">
              <a:avLst/>
            </a:prstGeom>
            <a:ln w="12600">
              <a:solidFill>
                <a:srgbClr val="f2fefd"/>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117" name=""/>
            <p:cNvSpPr/>
            <p:nvPr/>
          </p:nvSpPr>
          <p:spPr>
            <a:xfrm flipH="1" flipV="1">
              <a:off x="7143840" y="1374840"/>
              <a:ext cx="33120" cy="52200"/>
            </a:xfrm>
            <a:prstGeom prst="line">
              <a:avLst/>
            </a:prstGeom>
            <a:ln w="12600">
              <a:solidFill>
                <a:srgbClr val="f2fefd"/>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118" name=""/>
            <p:cNvSpPr/>
            <p:nvPr/>
          </p:nvSpPr>
          <p:spPr>
            <a:xfrm flipH="1" flipV="1">
              <a:off x="7176960" y="1427040"/>
              <a:ext cx="33480" cy="74880"/>
            </a:xfrm>
            <a:prstGeom prst="line">
              <a:avLst/>
            </a:prstGeom>
            <a:ln w="12600">
              <a:solidFill>
                <a:srgbClr val="f2fefd"/>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9119" name=""/>
            <p:cNvSpPr/>
            <p:nvPr/>
          </p:nvSpPr>
          <p:spPr>
            <a:xfrm flipH="1" flipV="1">
              <a:off x="7210440" y="1501920"/>
              <a:ext cx="31680" cy="88920"/>
            </a:xfrm>
            <a:prstGeom prst="line">
              <a:avLst/>
            </a:prstGeom>
            <a:ln w="12600">
              <a:solidFill>
                <a:srgbClr val="f2fefd"/>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9120" name=""/>
            <p:cNvSpPr/>
            <p:nvPr/>
          </p:nvSpPr>
          <p:spPr>
            <a:xfrm flipH="1" flipV="1">
              <a:off x="7242120" y="1590840"/>
              <a:ext cx="28800" cy="101520"/>
            </a:xfrm>
            <a:prstGeom prst="line">
              <a:avLst/>
            </a:prstGeom>
            <a:ln w="12600">
              <a:solidFill>
                <a:srgbClr val="f2fefd"/>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9121" name=""/>
            <p:cNvSpPr/>
            <p:nvPr/>
          </p:nvSpPr>
          <p:spPr>
            <a:xfrm flipH="1" flipV="1">
              <a:off x="7270920" y="1692360"/>
              <a:ext cx="21960" cy="112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2" name=""/>
            <p:cNvSpPr/>
            <p:nvPr/>
          </p:nvSpPr>
          <p:spPr>
            <a:xfrm flipH="1" flipV="1">
              <a:off x="7292880" y="1805040"/>
              <a:ext cx="14400" cy="115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3" name=""/>
            <p:cNvSpPr/>
            <p:nvPr/>
          </p:nvSpPr>
          <p:spPr>
            <a:xfrm flipH="1" flipV="1">
              <a:off x="7307280" y="1920960"/>
              <a:ext cx="11160" cy="114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4" name=""/>
            <p:cNvSpPr/>
            <p:nvPr/>
          </p:nvSpPr>
          <p:spPr>
            <a:xfrm flipH="1" flipV="1">
              <a:off x="7318440" y="2035080"/>
              <a:ext cx="144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25" name=""/>
            <p:cNvSpPr/>
            <p:nvPr/>
          </p:nvSpPr>
          <p:spPr>
            <a:xfrm flipV="1">
              <a:off x="7318440" y="2146320"/>
              <a:ext cx="1440" cy="101520"/>
            </a:xfrm>
            <a:prstGeom prst="line">
              <a:avLst/>
            </a:prstGeom>
            <a:ln w="12600">
              <a:solidFill>
                <a:srgbClr val="f2fefd"/>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9126" name=""/>
            <p:cNvSpPr/>
            <p:nvPr/>
          </p:nvSpPr>
          <p:spPr>
            <a:xfrm flipV="1">
              <a:off x="7307280" y="2247840"/>
              <a:ext cx="11160" cy="88920"/>
            </a:xfrm>
            <a:prstGeom prst="line">
              <a:avLst/>
            </a:prstGeom>
            <a:ln w="12600">
              <a:solidFill>
                <a:srgbClr val="f2fefd"/>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9127" name=""/>
            <p:cNvSpPr/>
            <p:nvPr/>
          </p:nvSpPr>
          <p:spPr>
            <a:xfrm flipV="1">
              <a:off x="7292880" y="2336760"/>
              <a:ext cx="1440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128" name=""/>
            <p:cNvSpPr/>
            <p:nvPr/>
          </p:nvSpPr>
          <p:spPr>
            <a:xfrm flipV="1">
              <a:off x="7270920" y="2409840"/>
              <a:ext cx="2196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129" name=""/>
            <p:cNvSpPr/>
            <p:nvPr/>
          </p:nvSpPr>
          <p:spPr>
            <a:xfrm flipV="1">
              <a:off x="7242120" y="2467080"/>
              <a:ext cx="28800" cy="33120"/>
            </a:xfrm>
            <a:prstGeom prst="line">
              <a:avLst/>
            </a:prstGeom>
            <a:ln w="12600">
              <a:solidFill>
                <a:srgbClr val="f2fefd"/>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sp>
          <p:nvSpPr>
            <p:cNvPr id="9130" name=""/>
            <p:cNvSpPr/>
            <p:nvPr/>
          </p:nvSpPr>
          <p:spPr>
            <a:xfrm flipV="1">
              <a:off x="7210440" y="2500200"/>
              <a:ext cx="3168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131" name=""/>
            <p:cNvSpPr/>
            <p:nvPr/>
          </p:nvSpPr>
          <p:spPr>
            <a:xfrm>
              <a:off x="7176960" y="2500200"/>
              <a:ext cx="3348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132" name=""/>
            <p:cNvSpPr/>
            <p:nvPr/>
          </p:nvSpPr>
          <p:spPr>
            <a:xfrm>
              <a:off x="7143840" y="2467080"/>
              <a:ext cx="33120" cy="33120"/>
            </a:xfrm>
            <a:prstGeom prst="line">
              <a:avLst/>
            </a:prstGeom>
            <a:ln w="12600">
              <a:solidFill>
                <a:srgbClr val="f2fefd"/>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sp>
          <p:nvSpPr>
            <p:cNvPr id="9133" name=""/>
            <p:cNvSpPr/>
            <p:nvPr/>
          </p:nvSpPr>
          <p:spPr>
            <a:xfrm>
              <a:off x="7110360" y="2409840"/>
              <a:ext cx="3348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134" name=""/>
            <p:cNvSpPr/>
            <p:nvPr/>
          </p:nvSpPr>
          <p:spPr>
            <a:xfrm>
              <a:off x="6969240" y="1805040"/>
              <a:ext cx="7920" cy="115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5" name=""/>
            <p:cNvSpPr/>
            <p:nvPr/>
          </p:nvSpPr>
          <p:spPr>
            <a:xfrm>
              <a:off x="6966000" y="1590840"/>
              <a:ext cx="3600" cy="214560"/>
            </a:xfrm>
            <a:custGeom>
              <a:avLst/>
              <a:gdLst/>
              <a:ahLst/>
              <a:rect l="0" t="0" r="r" b="b"/>
              <a:pathLst>
                <a:path fill="none" w="10" h="596">
                  <a:moveTo>
                    <a:pt x="10" y="0"/>
                  </a:moveTo>
                  <a:lnTo>
                    <a:pt x="0" y="288"/>
                  </a:lnTo>
                  <a:lnTo>
                    <a:pt x="10" y="59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36" name=""/>
            <p:cNvSpPr/>
            <p:nvPr/>
          </p:nvSpPr>
          <p:spPr>
            <a:xfrm flipH="1" flipV="1">
              <a:off x="7705800" y="1986120"/>
              <a:ext cx="6120" cy="112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7" name=""/>
            <p:cNvSpPr/>
            <p:nvPr/>
          </p:nvSpPr>
          <p:spPr>
            <a:xfrm flipH="1">
              <a:off x="7319880" y="2098800"/>
              <a:ext cx="39204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138" name=""/>
            <p:cNvSpPr/>
            <p:nvPr/>
          </p:nvSpPr>
          <p:spPr>
            <a:xfrm flipV="1">
              <a:off x="7705800" y="2098800"/>
              <a:ext cx="6120" cy="99720"/>
            </a:xfrm>
            <a:prstGeom prst="line">
              <a:avLst/>
            </a:prstGeom>
            <a:ln w="12600">
              <a:solidFill>
                <a:srgbClr val="f2fefd"/>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9139" name=""/>
            <p:cNvSpPr/>
            <p:nvPr/>
          </p:nvSpPr>
          <p:spPr>
            <a:xfrm>
              <a:off x="7319880" y="1870200"/>
              <a:ext cx="386280" cy="276480"/>
            </a:xfrm>
            <a:custGeom>
              <a:avLst/>
              <a:gdLst/>
              <a:ahLst/>
              <a:rect l="0" t="0" r="r" b="b"/>
              <a:pathLst>
                <a:path fill="none" w="1073" h="768">
                  <a:moveTo>
                    <a:pt x="0" y="768"/>
                  </a:moveTo>
                  <a:lnTo>
                    <a:pt x="1073" y="321"/>
                  </a:lnTo>
                  <a:lnTo>
                    <a:pt x="1051"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40" name=""/>
            <p:cNvSpPr/>
            <p:nvPr/>
          </p:nvSpPr>
          <p:spPr>
            <a:xfrm flipV="1">
              <a:off x="7318440" y="1986120"/>
              <a:ext cx="387360" cy="48960"/>
            </a:xfrm>
            <a:prstGeom prst="line">
              <a:avLst/>
            </a:prstGeom>
            <a:ln w="12600">
              <a:solidFill>
                <a:srgbClr val="f2fefd"/>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9141" name=""/>
            <p:cNvSpPr/>
            <p:nvPr/>
          </p:nvSpPr>
          <p:spPr>
            <a:xfrm flipV="1">
              <a:off x="7697880" y="2198520"/>
              <a:ext cx="7920" cy="90720"/>
            </a:xfrm>
            <a:prstGeom prst="line">
              <a:avLst/>
            </a:prstGeom>
            <a:ln w="12600">
              <a:solidFill>
                <a:srgbClr val="f2fefd"/>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9142" name=""/>
            <p:cNvSpPr/>
            <p:nvPr/>
          </p:nvSpPr>
          <p:spPr>
            <a:xfrm>
              <a:off x="7318440" y="2146320"/>
              <a:ext cx="387720" cy="101880"/>
            </a:xfrm>
            <a:custGeom>
              <a:avLst/>
              <a:gdLst/>
              <a:ahLst/>
              <a:rect l="0" t="0" r="r" b="b"/>
              <a:pathLst>
                <a:path fill="none" w="1077" h="283">
                  <a:moveTo>
                    <a:pt x="0" y="283"/>
                  </a:moveTo>
                  <a:lnTo>
                    <a:pt x="1077" y="148"/>
                  </a:lnTo>
                  <a:lnTo>
                    <a:pt x="6" y="0"/>
                  </a:lnTo>
                </a:path>
              </a:pathLst>
            </a:custGeom>
            <a:ln w="12600">
              <a:solidFill>
                <a:srgbClr val="f2fefd"/>
              </a:solidFill>
              <a:round/>
            </a:ln>
          </p:spPr>
          <p:txBody>
            <a:bodyPr lIns="96120" rIns="96120" tIns="50760" bIns="50760" anchor="t">
              <a:noAutofit/>
            </a:bodyPr>
            <a:p>
              <a:endParaRPr b="0" lang="en-US" sz="1800" spc="-1" strike="noStrike">
                <a:solidFill>
                  <a:srgbClr val="000000"/>
                </a:solidFill>
                <a:latin typeface="Arial"/>
              </a:endParaRPr>
            </a:p>
          </p:txBody>
        </p:sp>
        <p:sp>
          <p:nvSpPr>
            <p:cNvPr id="9143" name=""/>
            <p:cNvSpPr/>
            <p:nvPr/>
          </p:nvSpPr>
          <p:spPr>
            <a:xfrm flipV="1">
              <a:off x="7318440" y="1870200"/>
              <a:ext cx="379440" cy="164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4" name=""/>
            <p:cNvSpPr/>
            <p:nvPr/>
          </p:nvSpPr>
          <p:spPr>
            <a:xfrm flipH="1" flipV="1">
              <a:off x="7318440" y="2247840"/>
              <a:ext cx="379440" cy="41400"/>
            </a:xfrm>
            <a:prstGeom prst="line">
              <a:avLst/>
            </a:prstGeom>
            <a:ln w="12600">
              <a:solidFill>
                <a:srgbClr val="f2fefd"/>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9145" name=""/>
            <p:cNvSpPr/>
            <p:nvPr/>
          </p:nvSpPr>
          <p:spPr>
            <a:xfrm flipH="1">
              <a:off x="7307280" y="2289240"/>
              <a:ext cx="39060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146" name=""/>
            <p:cNvSpPr/>
            <p:nvPr/>
          </p:nvSpPr>
          <p:spPr>
            <a:xfrm flipV="1">
              <a:off x="7680240" y="2289240"/>
              <a:ext cx="1764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147" name=""/>
            <p:cNvSpPr/>
            <p:nvPr/>
          </p:nvSpPr>
          <p:spPr>
            <a:xfrm flipH="1" flipV="1">
              <a:off x="7658280" y="1644480"/>
              <a:ext cx="21960" cy="109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48" name=""/>
            <p:cNvSpPr/>
            <p:nvPr/>
          </p:nvSpPr>
          <p:spPr>
            <a:xfrm flipH="1">
              <a:off x="7292880" y="1754280"/>
              <a:ext cx="387360" cy="50760"/>
            </a:xfrm>
            <a:prstGeom prst="line">
              <a:avLst/>
            </a:prstGeom>
            <a:ln w="12600">
              <a:solidFill>
                <a:srgbClr val="f2fefd"/>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9149" name=""/>
            <p:cNvSpPr/>
            <p:nvPr/>
          </p:nvSpPr>
          <p:spPr>
            <a:xfrm flipH="1" flipV="1">
              <a:off x="7680240" y="1754280"/>
              <a:ext cx="17640" cy="115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0" name=""/>
            <p:cNvSpPr/>
            <p:nvPr/>
          </p:nvSpPr>
          <p:spPr>
            <a:xfrm>
              <a:off x="7292880" y="1805040"/>
              <a:ext cx="405000" cy="116280"/>
            </a:xfrm>
            <a:custGeom>
              <a:avLst/>
              <a:gdLst/>
              <a:ahLst/>
              <a:rect l="0" t="0" r="r" b="b"/>
              <a:pathLst>
                <a:path fill="none" w="1125" h="323">
                  <a:moveTo>
                    <a:pt x="39" y="323"/>
                  </a:moveTo>
                  <a:lnTo>
                    <a:pt x="1125" y="18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51" name=""/>
            <p:cNvSpPr/>
            <p:nvPr/>
          </p:nvSpPr>
          <p:spPr>
            <a:xfrm flipV="1">
              <a:off x="7658280" y="2362320"/>
              <a:ext cx="21960" cy="54000"/>
            </a:xfrm>
            <a:prstGeom prst="line">
              <a:avLst/>
            </a:prstGeom>
            <a:ln w="12600">
              <a:solidFill>
                <a:srgbClr val="f2fefd"/>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9152" name=""/>
            <p:cNvSpPr/>
            <p:nvPr/>
          </p:nvSpPr>
          <p:spPr>
            <a:xfrm>
              <a:off x="7292880" y="2336760"/>
              <a:ext cx="387720" cy="73440"/>
            </a:xfrm>
            <a:custGeom>
              <a:avLst/>
              <a:gdLst/>
              <a:ahLst/>
              <a:rect l="0" t="0" r="r" b="b"/>
              <a:pathLst>
                <a:path fill="none" w="1077" h="204">
                  <a:moveTo>
                    <a:pt x="0" y="204"/>
                  </a:moveTo>
                  <a:lnTo>
                    <a:pt x="1077" y="71"/>
                  </a:lnTo>
                  <a:lnTo>
                    <a:pt x="39" y="0"/>
                  </a:lnTo>
                </a:path>
              </a:pathLst>
            </a:custGeom>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9153" name=""/>
            <p:cNvSpPr/>
            <p:nvPr/>
          </p:nvSpPr>
          <p:spPr>
            <a:xfrm flipV="1">
              <a:off x="7292880" y="1644480"/>
              <a:ext cx="365400" cy="1605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54" name=""/>
            <p:cNvSpPr/>
            <p:nvPr/>
          </p:nvSpPr>
          <p:spPr>
            <a:xfrm flipV="1">
              <a:off x="7632720" y="2416320"/>
              <a:ext cx="25560" cy="33120"/>
            </a:xfrm>
            <a:prstGeom prst="line">
              <a:avLst/>
            </a:prstGeom>
            <a:ln w="12600">
              <a:solidFill>
                <a:srgbClr val="f2fefd"/>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sp>
          <p:nvSpPr>
            <p:cNvPr id="9155" name=""/>
            <p:cNvSpPr/>
            <p:nvPr/>
          </p:nvSpPr>
          <p:spPr>
            <a:xfrm>
              <a:off x="7270920" y="2409840"/>
              <a:ext cx="387720" cy="57600"/>
            </a:xfrm>
            <a:custGeom>
              <a:avLst/>
              <a:gdLst/>
              <a:ahLst/>
              <a:rect l="0" t="0" r="r" b="b"/>
              <a:pathLst>
                <a:path fill="none" w="1077" h="160">
                  <a:moveTo>
                    <a:pt x="0" y="160"/>
                  </a:moveTo>
                  <a:lnTo>
                    <a:pt x="1077" y="15"/>
                  </a:lnTo>
                  <a:lnTo>
                    <a:pt x="61" y="0"/>
                  </a:lnTo>
                </a:path>
              </a:pathLst>
            </a:custGeom>
            <a:ln w="12600">
              <a:solidFill>
                <a:srgbClr val="f2fefd"/>
              </a:solidFill>
              <a:round/>
            </a:ln>
          </p:spPr>
          <p:txBody>
            <a:bodyPr lIns="96120" rIns="96120" tIns="6480" bIns="6480" anchor="t">
              <a:noAutofit/>
            </a:bodyPr>
            <a:p>
              <a:endParaRPr b="0" lang="en-US" sz="1800" spc="-1" strike="noStrike">
                <a:solidFill>
                  <a:srgbClr val="000000"/>
                </a:solidFill>
                <a:latin typeface="Arial"/>
              </a:endParaRPr>
            </a:p>
          </p:txBody>
        </p:sp>
        <p:sp>
          <p:nvSpPr>
            <p:cNvPr id="9156" name=""/>
            <p:cNvSpPr/>
            <p:nvPr/>
          </p:nvSpPr>
          <p:spPr>
            <a:xfrm flipH="1" flipV="1">
              <a:off x="7632720" y="1542960"/>
              <a:ext cx="25560" cy="101520"/>
            </a:xfrm>
            <a:prstGeom prst="line">
              <a:avLst/>
            </a:prstGeom>
            <a:ln w="12600">
              <a:solidFill>
                <a:srgbClr val="f2fefd"/>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9157" name=""/>
            <p:cNvSpPr/>
            <p:nvPr/>
          </p:nvSpPr>
          <p:spPr>
            <a:xfrm>
              <a:off x="7242120" y="1590840"/>
              <a:ext cx="416160" cy="101880"/>
            </a:xfrm>
            <a:custGeom>
              <a:avLst/>
              <a:gdLst/>
              <a:ahLst/>
              <a:rect l="0" t="0" r="r" b="b"/>
              <a:pathLst>
                <a:path fill="none" w="1156" h="283">
                  <a:moveTo>
                    <a:pt x="79" y="283"/>
                  </a:moveTo>
                  <a:lnTo>
                    <a:pt x="1156" y="150"/>
                  </a:lnTo>
                  <a:lnTo>
                    <a:pt x="0" y="0"/>
                  </a:lnTo>
                </a:path>
              </a:pathLst>
            </a:custGeom>
            <a:ln w="12600">
              <a:solidFill>
                <a:srgbClr val="f2fefd"/>
              </a:solidFill>
              <a:round/>
            </a:ln>
          </p:spPr>
          <p:txBody>
            <a:bodyPr lIns="96120" rIns="96120" tIns="50760" bIns="50760" anchor="t">
              <a:noAutofit/>
            </a:bodyPr>
            <a:p>
              <a:endParaRPr b="0" lang="en-US" sz="1800" spc="-1" strike="noStrike">
                <a:solidFill>
                  <a:srgbClr val="000000"/>
                </a:solidFill>
                <a:latin typeface="Arial"/>
              </a:endParaRPr>
            </a:p>
          </p:txBody>
        </p:sp>
        <p:sp>
          <p:nvSpPr>
            <p:cNvPr id="9158" name=""/>
            <p:cNvSpPr/>
            <p:nvPr/>
          </p:nvSpPr>
          <p:spPr>
            <a:xfrm flipV="1">
              <a:off x="7602480" y="2449440"/>
              <a:ext cx="3024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159" name=""/>
            <p:cNvSpPr/>
            <p:nvPr/>
          </p:nvSpPr>
          <p:spPr>
            <a:xfrm>
              <a:off x="7242120" y="2449440"/>
              <a:ext cx="390960" cy="51120"/>
            </a:xfrm>
            <a:custGeom>
              <a:avLst/>
              <a:gdLst/>
              <a:ahLst/>
              <a:rect l="0" t="0" r="r" b="b"/>
              <a:pathLst>
                <a:path fill="none" w="1086" h="142">
                  <a:moveTo>
                    <a:pt x="0" y="142"/>
                  </a:moveTo>
                  <a:lnTo>
                    <a:pt x="1086" y="0"/>
                  </a:lnTo>
                  <a:lnTo>
                    <a:pt x="79" y="46"/>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9160" name=""/>
            <p:cNvSpPr/>
            <p:nvPr/>
          </p:nvSpPr>
          <p:spPr>
            <a:xfrm>
              <a:off x="7242120" y="1452600"/>
              <a:ext cx="390960" cy="138600"/>
            </a:xfrm>
            <a:custGeom>
              <a:avLst/>
              <a:gdLst/>
              <a:ahLst/>
              <a:rect l="0" t="0" r="r" b="b"/>
              <a:pathLst>
                <a:path fill="none" w="1086" h="385">
                  <a:moveTo>
                    <a:pt x="0" y="385"/>
                  </a:moveTo>
                  <a:lnTo>
                    <a:pt x="1086" y="252"/>
                  </a:lnTo>
                  <a:lnTo>
                    <a:pt x="100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61" name=""/>
            <p:cNvSpPr/>
            <p:nvPr/>
          </p:nvSpPr>
          <p:spPr>
            <a:xfrm>
              <a:off x="7210440" y="1501920"/>
              <a:ext cx="422280" cy="41040"/>
            </a:xfrm>
            <a:prstGeom prst="line">
              <a:avLst/>
            </a:prstGeom>
            <a:ln w="12600">
              <a:solidFill>
                <a:srgbClr val="f2fefd"/>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sp>
          <p:nvSpPr>
            <p:cNvPr id="9162" name=""/>
            <p:cNvSpPr/>
            <p:nvPr/>
          </p:nvSpPr>
          <p:spPr>
            <a:xfrm flipH="1" flipV="1">
              <a:off x="7569360" y="1379520"/>
              <a:ext cx="3312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163" name=""/>
            <p:cNvSpPr/>
            <p:nvPr/>
          </p:nvSpPr>
          <p:spPr>
            <a:xfrm flipV="1">
              <a:off x="7210440" y="1452600"/>
              <a:ext cx="392040" cy="49320"/>
            </a:xfrm>
            <a:prstGeom prst="line">
              <a:avLst/>
            </a:prstGeom>
            <a:ln w="12600">
              <a:solidFill>
                <a:srgbClr val="f2fefd"/>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164" name=""/>
            <p:cNvSpPr/>
            <p:nvPr/>
          </p:nvSpPr>
          <p:spPr>
            <a:xfrm>
              <a:off x="7210440" y="2460600"/>
              <a:ext cx="392400" cy="51120"/>
            </a:xfrm>
            <a:custGeom>
              <a:avLst/>
              <a:gdLst/>
              <a:ahLst/>
              <a:rect l="0" t="0" r="r" b="b"/>
              <a:pathLst>
                <a:path fill="none" w="1090" h="142">
                  <a:moveTo>
                    <a:pt x="0" y="142"/>
                  </a:moveTo>
                  <a:lnTo>
                    <a:pt x="1090" y="0"/>
                  </a:lnTo>
                  <a:lnTo>
                    <a:pt x="86" y="111"/>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9165" name=""/>
            <p:cNvSpPr/>
            <p:nvPr/>
          </p:nvSpPr>
          <p:spPr>
            <a:xfrm flipH="1" flipV="1">
              <a:off x="7532640" y="1327320"/>
              <a:ext cx="36720" cy="52200"/>
            </a:xfrm>
            <a:prstGeom prst="line">
              <a:avLst/>
            </a:prstGeom>
            <a:ln w="12600">
              <a:solidFill>
                <a:srgbClr val="f2fefd"/>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166" name=""/>
            <p:cNvSpPr/>
            <p:nvPr/>
          </p:nvSpPr>
          <p:spPr>
            <a:xfrm>
              <a:off x="7176960" y="1327320"/>
              <a:ext cx="392400" cy="174960"/>
            </a:xfrm>
            <a:custGeom>
              <a:avLst/>
              <a:gdLst/>
              <a:ahLst/>
              <a:rect l="0" t="0" r="r" b="b"/>
              <a:pathLst>
                <a:path fill="none" w="1090" h="486">
                  <a:moveTo>
                    <a:pt x="92" y="486"/>
                  </a:moveTo>
                  <a:lnTo>
                    <a:pt x="1090" y="147"/>
                  </a:lnTo>
                  <a:lnTo>
                    <a:pt x="0" y="281"/>
                  </a:lnTo>
                  <a:lnTo>
                    <a:pt x="988"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67" name=""/>
            <p:cNvSpPr/>
            <p:nvPr/>
          </p:nvSpPr>
          <p:spPr>
            <a:xfrm>
              <a:off x="7143840" y="1292400"/>
              <a:ext cx="389160" cy="82800"/>
            </a:xfrm>
            <a:custGeom>
              <a:avLst/>
              <a:gdLst/>
              <a:ahLst/>
              <a:rect l="0" t="0" r="r" b="b"/>
              <a:pathLst>
                <a:path fill="none" w="1081" h="230">
                  <a:moveTo>
                    <a:pt x="0" y="230"/>
                  </a:moveTo>
                  <a:lnTo>
                    <a:pt x="1081" y="95"/>
                  </a:lnTo>
                  <a:lnTo>
                    <a:pt x="986" y="0"/>
                  </a:lnTo>
                </a:path>
              </a:pathLst>
            </a:custGeom>
            <a:ln w="12600">
              <a:solidFill>
                <a:srgbClr val="f2fefd"/>
              </a:solidFill>
              <a:round/>
            </a:ln>
          </p:spPr>
          <p:txBody>
            <a:bodyPr lIns="96120" rIns="96120" tIns="31680" bIns="31680" anchor="t">
              <a:noAutofit/>
            </a:bodyPr>
            <a:p>
              <a:endParaRPr b="0" lang="en-US" sz="1800" spc="-1" strike="noStrike">
                <a:solidFill>
                  <a:srgbClr val="000000"/>
                </a:solidFill>
                <a:latin typeface="Arial"/>
              </a:endParaRPr>
            </a:p>
          </p:txBody>
        </p:sp>
        <p:sp>
          <p:nvSpPr>
            <p:cNvPr id="9168" name=""/>
            <p:cNvSpPr/>
            <p:nvPr/>
          </p:nvSpPr>
          <p:spPr>
            <a:xfrm flipV="1">
              <a:off x="7110360" y="1327320"/>
              <a:ext cx="422280" cy="12600"/>
            </a:xfrm>
            <a:prstGeom prst="line">
              <a:avLst/>
            </a:prstGeom>
            <a:ln w="12600">
              <a:solidFill>
                <a:srgbClr val="f2fefd"/>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9169" name=""/>
            <p:cNvSpPr/>
            <p:nvPr/>
          </p:nvSpPr>
          <p:spPr>
            <a:xfrm flipH="1" flipV="1">
              <a:off x="7464600" y="1281240"/>
              <a:ext cx="3312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170" name=""/>
            <p:cNvSpPr/>
            <p:nvPr/>
          </p:nvSpPr>
          <p:spPr>
            <a:xfrm flipV="1">
              <a:off x="7110360" y="1292400"/>
              <a:ext cx="38736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171" name=""/>
            <p:cNvSpPr/>
            <p:nvPr/>
          </p:nvSpPr>
          <p:spPr>
            <a:xfrm>
              <a:off x="7075440" y="1281240"/>
              <a:ext cx="389160" cy="59040"/>
            </a:xfrm>
            <a:custGeom>
              <a:avLst/>
              <a:gdLst/>
              <a:ahLst/>
              <a:rect l="0" t="0" r="r" b="b"/>
              <a:pathLst>
                <a:path fill="none" w="1081" h="164">
                  <a:moveTo>
                    <a:pt x="95" y="164"/>
                  </a:moveTo>
                  <a:lnTo>
                    <a:pt x="1081" y="0"/>
                  </a:lnTo>
                  <a:lnTo>
                    <a:pt x="0" y="133"/>
                  </a:lnTo>
                </a:path>
              </a:pathLst>
            </a:custGeom>
            <a:ln w="12600">
              <a:solidFill>
                <a:srgbClr val="f2fefd"/>
              </a:solidFill>
              <a:round/>
            </a:ln>
          </p:spPr>
          <p:txBody>
            <a:bodyPr lIns="96120" rIns="96120" tIns="7920" bIns="7920" anchor="t">
              <a:noAutofit/>
            </a:bodyPr>
            <a:p>
              <a:endParaRPr b="0" lang="en-US" sz="1800" spc="-1" strike="noStrike">
                <a:solidFill>
                  <a:srgbClr val="000000"/>
                </a:solidFill>
                <a:latin typeface="Arial"/>
              </a:endParaRPr>
            </a:p>
          </p:txBody>
        </p:sp>
      </p:grpSp>
      <p:sp>
        <p:nvSpPr>
          <p:cNvPr id="9172" name=""/>
          <p:cNvSpPr txBox="1"/>
          <p:nvPr/>
        </p:nvSpPr>
        <p:spPr>
          <a:xfrm>
            <a:off x="504720" y="15652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173" name=""/>
          <p:cNvSpPr txBox="1"/>
          <p:nvPr/>
        </p:nvSpPr>
        <p:spPr>
          <a:xfrm>
            <a:off x="1155600" y="5621400"/>
            <a:ext cx="251136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Example Number Two</a:t>
            </a:r>
            <a:endParaRPr b="0" lang="en-US" sz="2000" spc="-1" strike="noStrike">
              <a:solidFill>
                <a:srgbClr val="000000"/>
              </a:solidFill>
              <a:latin typeface="Arial"/>
            </a:endParaRPr>
          </a:p>
        </p:txBody>
      </p:sp>
      <p:sp>
        <p:nvSpPr>
          <p:cNvPr id="9174" name=""/>
          <p:cNvSpPr txBox="1"/>
          <p:nvPr/>
        </p:nvSpPr>
        <p:spPr>
          <a:xfrm>
            <a:off x="2436840" y="433440"/>
            <a:ext cx="429912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ingle Datum Axis of </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Two Coaxial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011" name=""/>
          <p:cNvGrpSpPr/>
          <p:nvPr/>
        </p:nvGrpSpPr>
        <p:grpSpPr>
          <a:xfrm>
            <a:off x="3651120" y="3699000"/>
            <a:ext cx="522360" cy="523800"/>
            <a:chOff x="3651120" y="3699000"/>
            <a:chExt cx="522360" cy="523800"/>
          </a:xfrm>
        </p:grpSpPr>
        <p:grpSp>
          <p:nvGrpSpPr>
            <p:cNvPr id="1012" name=""/>
            <p:cNvGrpSpPr/>
            <p:nvPr/>
          </p:nvGrpSpPr>
          <p:grpSpPr>
            <a:xfrm>
              <a:off x="3651120" y="3933720"/>
              <a:ext cx="522360" cy="1800"/>
              <a:chOff x="3651120" y="3933720"/>
              <a:chExt cx="522360" cy="1800"/>
            </a:xfrm>
          </p:grpSpPr>
          <p:sp>
            <p:nvSpPr>
              <p:cNvPr id="1013" name=""/>
              <p:cNvSpPr/>
              <p:nvPr/>
            </p:nvSpPr>
            <p:spPr>
              <a:xfrm>
                <a:off x="3651120" y="3933720"/>
                <a:ext cx="141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flipV="1">
                <a:off x="3855960" y="3933720"/>
                <a:ext cx="6516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1015" name=""/>
              <p:cNvSpPr/>
              <p:nvPr/>
            </p:nvSpPr>
            <p:spPr>
              <a:xfrm>
                <a:off x="3998880" y="3933720"/>
                <a:ext cx="17460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grpSp>
        <p:sp>
          <p:nvSpPr>
            <p:cNvPr id="1016" name=""/>
            <p:cNvSpPr/>
            <p:nvPr/>
          </p:nvSpPr>
          <p:spPr>
            <a:xfrm>
              <a:off x="3747960" y="379584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17" name=""/>
            <p:cNvGrpSpPr/>
            <p:nvPr/>
          </p:nvGrpSpPr>
          <p:grpSpPr>
            <a:xfrm>
              <a:off x="3889440" y="3699000"/>
              <a:ext cx="1440" cy="523800"/>
              <a:chOff x="3889440" y="3699000"/>
              <a:chExt cx="1440" cy="523800"/>
            </a:xfrm>
          </p:grpSpPr>
          <p:sp>
            <p:nvSpPr>
              <p:cNvPr id="1018" name=""/>
              <p:cNvSpPr/>
              <p:nvPr/>
            </p:nvSpPr>
            <p:spPr>
              <a:xfrm>
                <a:off x="3889440" y="3699000"/>
                <a:ext cx="1440" cy="14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3889440" y="3903840"/>
                <a:ext cx="1440" cy="64800"/>
              </a:xfrm>
              <a:prstGeom prst="line">
                <a:avLst/>
              </a:prstGeom>
              <a:ln w="12600">
                <a:solidFill>
                  <a:srgbClr val="ffffff"/>
                </a:solidFill>
                <a:round/>
              </a:ln>
            </p:spPr>
            <p:style>
              <a:lnRef idx="0"/>
              <a:fillRef idx="0"/>
              <a:effectRef idx="0"/>
              <a:fontRef idx="minor"/>
            </p:style>
            <p:txBody>
              <a:bodyPr lIns="96120" rIns="96120" tIns="13680" bIns="13680" anchor="t">
                <a:noAutofit/>
              </a:bodyPr>
              <a:p>
                <a:endParaRPr b="0" lang="en-US" sz="1800" spc="-1" strike="noStrike">
                  <a:solidFill>
                    <a:srgbClr val="000000"/>
                  </a:solidFill>
                  <a:latin typeface="Arial"/>
                </a:endParaRPr>
              </a:p>
            </p:txBody>
          </p:sp>
          <p:sp>
            <p:nvSpPr>
              <p:cNvPr id="1020" name=""/>
              <p:cNvSpPr/>
              <p:nvPr/>
            </p:nvSpPr>
            <p:spPr>
              <a:xfrm>
                <a:off x="3889440" y="4046400"/>
                <a:ext cx="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21" name=""/>
          <p:cNvGrpSpPr/>
          <p:nvPr/>
        </p:nvGrpSpPr>
        <p:grpSpPr>
          <a:xfrm>
            <a:off x="5348160" y="3641760"/>
            <a:ext cx="628920" cy="523800"/>
            <a:chOff x="5348160" y="3641760"/>
            <a:chExt cx="628920" cy="523800"/>
          </a:xfrm>
        </p:grpSpPr>
        <p:sp>
          <p:nvSpPr>
            <p:cNvPr id="1022" name=""/>
            <p:cNvSpPr/>
            <p:nvPr/>
          </p:nvSpPr>
          <p:spPr>
            <a:xfrm>
              <a:off x="5472000" y="37321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5348160" y="3873600"/>
              <a:ext cx="173160" cy="4680"/>
            </a:xfrm>
            <a:prstGeom prst="line">
              <a:avLst/>
            </a:prstGeom>
            <a:ln w="12600">
              <a:solidFill>
                <a:srgbClr val="ffffff"/>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024" name=""/>
            <p:cNvSpPr/>
            <p:nvPr/>
          </p:nvSpPr>
          <p:spPr>
            <a:xfrm>
              <a:off x="5711760" y="3879720"/>
              <a:ext cx="265320" cy="5040"/>
            </a:xfrm>
            <a:prstGeom prst="line">
              <a:avLst/>
            </a:prstGeom>
            <a:ln w="12600">
              <a:solidFill>
                <a:srgbClr val="ffffff"/>
              </a:solidFill>
              <a:round/>
            </a:ln>
          </p:spPr>
          <p:style>
            <a:lnRef idx="0"/>
            <a:fillRef idx="0"/>
            <a:effectRef idx="0"/>
            <a:fontRef idx="minor"/>
          </p:style>
          <p:txBody>
            <a:bodyPr lIns="96120" rIns="96120" tIns="-46080" bIns="-46080" anchor="t">
              <a:noAutofit/>
            </a:bodyPr>
            <a:p>
              <a:endParaRPr b="0" lang="en-US" sz="1800" spc="-1" strike="noStrike">
                <a:solidFill>
                  <a:srgbClr val="000000"/>
                </a:solidFill>
                <a:latin typeface="Arial"/>
              </a:endParaRPr>
            </a:p>
          </p:txBody>
        </p:sp>
        <p:sp>
          <p:nvSpPr>
            <p:cNvPr id="1025" name=""/>
            <p:cNvSpPr/>
            <p:nvPr/>
          </p:nvSpPr>
          <p:spPr>
            <a:xfrm>
              <a:off x="5586480" y="3878280"/>
              <a:ext cx="63360" cy="1440"/>
            </a:xfrm>
            <a:prstGeom prst="line">
              <a:avLst/>
            </a:prstGeom>
            <a:ln w="12600">
              <a:solidFill>
                <a:srgbClr val="ffffff"/>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grpSp>
          <p:nvGrpSpPr>
            <p:cNvPr id="1026" name=""/>
            <p:cNvGrpSpPr/>
            <p:nvPr/>
          </p:nvGrpSpPr>
          <p:grpSpPr>
            <a:xfrm>
              <a:off x="5613480" y="3641760"/>
              <a:ext cx="11160" cy="523800"/>
              <a:chOff x="5613480" y="3641760"/>
              <a:chExt cx="11160" cy="523800"/>
            </a:xfrm>
          </p:grpSpPr>
          <p:sp>
            <p:nvSpPr>
              <p:cNvPr id="1027" name=""/>
              <p:cNvSpPr/>
              <p:nvPr/>
            </p:nvSpPr>
            <p:spPr>
              <a:xfrm flipH="1">
                <a:off x="5622840" y="3641760"/>
                <a:ext cx="180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5619600" y="3848040"/>
                <a:ext cx="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1029" name=""/>
              <p:cNvSpPr/>
              <p:nvPr/>
            </p:nvSpPr>
            <p:spPr>
              <a:xfrm flipH="1">
                <a:off x="5613480" y="3990960"/>
                <a:ext cx="468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030" name=""/>
          <p:cNvGrpSpPr/>
          <p:nvPr/>
        </p:nvGrpSpPr>
        <p:grpSpPr>
          <a:xfrm>
            <a:off x="3467160" y="3063960"/>
            <a:ext cx="2578320" cy="1260720"/>
            <a:chOff x="3467160" y="3063960"/>
            <a:chExt cx="2578320" cy="1260720"/>
          </a:xfrm>
        </p:grpSpPr>
        <p:sp>
          <p:nvSpPr>
            <p:cNvPr id="1031" name=""/>
            <p:cNvSpPr/>
            <p:nvPr/>
          </p:nvSpPr>
          <p:spPr>
            <a:xfrm>
              <a:off x="5873760" y="3071880"/>
              <a:ext cx="171720" cy="1151280"/>
            </a:xfrm>
            <a:custGeom>
              <a:avLst/>
              <a:gdLst/>
              <a:ahLst/>
              <a:rect l="0" t="0" r="r" b="b"/>
              <a:pathLst>
                <a:path fill="none" w="477" h="3198">
                  <a:moveTo>
                    <a:pt x="477" y="0"/>
                  </a:moveTo>
                  <a:lnTo>
                    <a:pt x="477" y="127"/>
                  </a:lnTo>
                  <a:lnTo>
                    <a:pt x="349" y="268"/>
                  </a:lnTo>
                  <a:lnTo>
                    <a:pt x="305" y="401"/>
                  </a:lnTo>
                  <a:lnTo>
                    <a:pt x="314" y="533"/>
                  </a:lnTo>
                  <a:lnTo>
                    <a:pt x="322" y="665"/>
                  </a:lnTo>
                  <a:lnTo>
                    <a:pt x="274" y="802"/>
                  </a:lnTo>
                  <a:lnTo>
                    <a:pt x="239" y="934"/>
                  </a:lnTo>
                  <a:lnTo>
                    <a:pt x="243" y="1062"/>
                  </a:lnTo>
                  <a:lnTo>
                    <a:pt x="292" y="1239"/>
                  </a:lnTo>
                  <a:lnTo>
                    <a:pt x="300" y="1371"/>
                  </a:lnTo>
                  <a:lnTo>
                    <a:pt x="216" y="1512"/>
                  </a:lnTo>
                  <a:lnTo>
                    <a:pt x="220" y="1641"/>
                  </a:lnTo>
                  <a:lnTo>
                    <a:pt x="220" y="1778"/>
                  </a:lnTo>
                  <a:lnTo>
                    <a:pt x="224" y="1910"/>
                  </a:lnTo>
                  <a:lnTo>
                    <a:pt x="233" y="2038"/>
                  </a:lnTo>
                  <a:lnTo>
                    <a:pt x="239" y="2214"/>
                  </a:lnTo>
                  <a:lnTo>
                    <a:pt x="198" y="2346"/>
                  </a:lnTo>
                  <a:lnTo>
                    <a:pt x="110" y="2483"/>
                  </a:lnTo>
                  <a:lnTo>
                    <a:pt x="119" y="2611"/>
                  </a:lnTo>
                  <a:lnTo>
                    <a:pt x="79" y="2752"/>
                  </a:lnTo>
                  <a:lnTo>
                    <a:pt x="83" y="2884"/>
                  </a:lnTo>
                  <a:lnTo>
                    <a:pt x="88" y="3017"/>
                  </a:lnTo>
                  <a:lnTo>
                    <a:pt x="92" y="3149"/>
                  </a:lnTo>
                  <a:lnTo>
                    <a:pt x="4" y="3198"/>
                  </a:lnTo>
                  <a:lnTo>
                    <a:pt x="0" y="3153"/>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3467160" y="3063960"/>
              <a:ext cx="2576880" cy="1260720"/>
            </a:xfrm>
            <a:custGeom>
              <a:avLst/>
              <a:gdLst/>
              <a:ahLst/>
              <a:rect l="0" t="0" r="r" b="b"/>
              <a:pathLst>
                <a:path fill="none" w="7158" h="3502">
                  <a:moveTo>
                    <a:pt x="7158" y="8"/>
                  </a:moveTo>
                  <a:lnTo>
                    <a:pt x="7132" y="22"/>
                  </a:lnTo>
                  <a:lnTo>
                    <a:pt x="7106" y="22"/>
                  </a:lnTo>
                  <a:lnTo>
                    <a:pt x="7079" y="17"/>
                  </a:lnTo>
                  <a:lnTo>
                    <a:pt x="7035" y="13"/>
                  </a:lnTo>
                  <a:lnTo>
                    <a:pt x="6991" y="8"/>
                  </a:lnTo>
                  <a:lnTo>
                    <a:pt x="6947" y="4"/>
                  </a:lnTo>
                  <a:lnTo>
                    <a:pt x="6903" y="0"/>
                  </a:lnTo>
                  <a:lnTo>
                    <a:pt x="6841" y="0"/>
                  </a:lnTo>
                  <a:lnTo>
                    <a:pt x="6810" y="17"/>
                  </a:lnTo>
                  <a:lnTo>
                    <a:pt x="6735" y="39"/>
                  </a:lnTo>
                  <a:lnTo>
                    <a:pt x="6709" y="48"/>
                  </a:lnTo>
                  <a:lnTo>
                    <a:pt x="6682" y="52"/>
                  </a:lnTo>
                  <a:lnTo>
                    <a:pt x="6647" y="57"/>
                  </a:lnTo>
                  <a:lnTo>
                    <a:pt x="6612" y="61"/>
                  </a:lnTo>
                  <a:lnTo>
                    <a:pt x="6576" y="57"/>
                  </a:lnTo>
                  <a:lnTo>
                    <a:pt x="6510" y="61"/>
                  </a:lnTo>
                  <a:lnTo>
                    <a:pt x="6484" y="57"/>
                  </a:lnTo>
                  <a:lnTo>
                    <a:pt x="6444" y="61"/>
                  </a:lnTo>
                  <a:lnTo>
                    <a:pt x="6382" y="66"/>
                  </a:lnTo>
                  <a:lnTo>
                    <a:pt x="6356" y="70"/>
                  </a:lnTo>
                  <a:lnTo>
                    <a:pt x="6299" y="74"/>
                  </a:lnTo>
                  <a:lnTo>
                    <a:pt x="6246" y="97"/>
                  </a:lnTo>
                  <a:lnTo>
                    <a:pt x="6210" y="101"/>
                  </a:lnTo>
                  <a:lnTo>
                    <a:pt x="6162" y="123"/>
                  </a:lnTo>
                  <a:lnTo>
                    <a:pt x="6118" y="127"/>
                  </a:lnTo>
                  <a:lnTo>
                    <a:pt x="6074" y="132"/>
                  </a:lnTo>
                  <a:lnTo>
                    <a:pt x="6047" y="127"/>
                  </a:lnTo>
                  <a:lnTo>
                    <a:pt x="5999" y="132"/>
                  </a:lnTo>
                  <a:lnTo>
                    <a:pt x="5963" y="136"/>
                  </a:lnTo>
                  <a:lnTo>
                    <a:pt x="5911" y="132"/>
                  </a:lnTo>
                  <a:lnTo>
                    <a:pt x="5866" y="127"/>
                  </a:lnTo>
                  <a:lnTo>
                    <a:pt x="5805" y="119"/>
                  </a:lnTo>
                  <a:lnTo>
                    <a:pt x="5778" y="127"/>
                  </a:lnTo>
                  <a:lnTo>
                    <a:pt x="5734" y="132"/>
                  </a:lnTo>
                  <a:lnTo>
                    <a:pt x="5681" y="127"/>
                  </a:lnTo>
                  <a:lnTo>
                    <a:pt x="5619" y="136"/>
                  </a:lnTo>
                  <a:lnTo>
                    <a:pt x="5593" y="132"/>
                  </a:lnTo>
                  <a:lnTo>
                    <a:pt x="5549" y="127"/>
                  </a:lnTo>
                  <a:lnTo>
                    <a:pt x="5522" y="127"/>
                  </a:lnTo>
                  <a:lnTo>
                    <a:pt x="5496" y="123"/>
                  </a:lnTo>
                  <a:lnTo>
                    <a:pt x="5443" y="119"/>
                  </a:lnTo>
                  <a:lnTo>
                    <a:pt x="5399" y="114"/>
                  </a:lnTo>
                  <a:lnTo>
                    <a:pt x="5373" y="110"/>
                  </a:lnTo>
                  <a:lnTo>
                    <a:pt x="5345" y="119"/>
                  </a:lnTo>
                  <a:lnTo>
                    <a:pt x="5283" y="119"/>
                  </a:lnTo>
                  <a:lnTo>
                    <a:pt x="5248" y="114"/>
                  </a:lnTo>
                  <a:lnTo>
                    <a:pt x="5178" y="119"/>
                  </a:lnTo>
                  <a:lnTo>
                    <a:pt x="5142" y="114"/>
                  </a:lnTo>
                  <a:lnTo>
                    <a:pt x="5107" y="110"/>
                  </a:lnTo>
                  <a:lnTo>
                    <a:pt x="5067" y="114"/>
                  </a:lnTo>
                  <a:lnTo>
                    <a:pt x="5023" y="110"/>
                  </a:lnTo>
                  <a:lnTo>
                    <a:pt x="4997" y="123"/>
                  </a:lnTo>
                  <a:lnTo>
                    <a:pt x="4961" y="132"/>
                  </a:lnTo>
                  <a:lnTo>
                    <a:pt x="4935" y="136"/>
                  </a:lnTo>
                  <a:lnTo>
                    <a:pt x="4869" y="163"/>
                  </a:lnTo>
                  <a:lnTo>
                    <a:pt x="4825" y="194"/>
                  </a:lnTo>
                  <a:lnTo>
                    <a:pt x="4781" y="198"/>
                  </a:lnTo>
                  <a:lnTo>
                    <a:pt x="4754" y="207"/>
                  </a:lnTo>
                  <a:lnTo>
                    <a:pt x="4609" y="198"/>
                  </a:lnTo>
                  <a:lnTo>
                    <a:pt x="4573" y="207"/>
                  </a:lnTo>
                  <a:lnTo>
                    <a:pt x="4512" y="198"/>
                  </a:lnTo>
                  <a:lnTo>
                    <a:pt x="4432" y="189"/>
                  </a:lnTo>
                  <a:lnTo>
                    <a:pt x="4406" y="189"/>
                  </a:lnTo>
                  <a:lnTo>
                    <a:pt x="4335" y="171"/>
                  </a:lnTo>
                  <a:lnTo>
                    <a:pt x="4274" y="163"/>
                  </a:lnTo>
                  <a:lnTo>
                    <a:pt x="4168" y="154"/>
                  </a:lnTo>
                  <a:lnTo>
                    <a:pt x="4124" y="149"/>
                  </a:lnTo>
                  <a:lnTo>
                    <a:pt x="4088" y="145"/>
                  </a:lnTo>
                  <a:lnTo>
                    <a:pt x="4035" y="149"/>
                  </a:lnTo>
                  <a:lnTo>
                    <a:pt x="4005" y="145"/>
                  </a:lnTo>
                  <a:lnTo>
                    <a:pt x="3969" y="149"/>
                  </a:lnTo>
                  <a:lnTo>
                    <a:pt x="3934" y="154"/>
                  </a:lnTo>
                  <a:lnTo>
                    <a:pt x="3872" y="158"/>
                  </a:lnTo>
                  <a:lnTo>
                    <a:pt x="3841" y="163"/>
                  </a:lnTo>
                  <a:lnTo>
                    <a:pt x="3771" y="185"/>
                  </a:lnTo>
                  <a:lnTo>
                    <a:pt x="3722" y="189"/>
                  </a:lnTo>
                  <a:lnTo>
                    <a:pt x="3696" y="194"/>
                  </a:lnTo>
                  <a:lnTo>
                    <a:pt x="3669" y="198"/>
                  </a:lnTo>
                  <a:lnTo>
                    <a:pt x="3634" y="202"/>
                  </a:lnTo>
                  <a:lnTo>
                    <a:pt x="3603" y="229"/>
                  </a:lnTo>
                  <a:lnTo>
                    <a:pt x="3577" y="251"/>
                  </a:lnTo>
                  <a:lnTo>
                    <a:pt x="3546" y="260"/>
                  </a:lnTo>
                  <a:lnTo>
                    <a:pt x="3502" y="260"/>
                  </a:lnTo>
                  <a:lnTo>
                    <a:pt x="3475" y="260"/>
                  </a:lnTo>
                  <a:lnTo>
                    <a:pt x="3422" y="255"/>
                  </a:lnTo>
                  <a:lnTo>
                    <a:pt x="3343" y="238"/>
                  </a:lnTo>
                  <a:lnTo>
                    <a:pt x="3299" y="233"/>
                  </a:lnTo>
                  <a:lnTo>
                    <a:pt x="3264" y="229"/>
                  </a:lnTo>
                  <a:lnTo>
                    <a:pt x="3220" y="224"/>
                  </a:lnTo>
                  <a:lnTo>
                    <a:pt x="3145" y="216"/>
                  </a:lnTo>
                  <a:lnTo>
                    <a:pt x="3109" y="211"/>
                  </a:lnTo>
                  <a:lnTo>
                    <a:pt x="3083" y="207"/>
                  </a:lnTo>
                  <a:lnTo>
                    <a:pt x="3021" y="211"/>
                  </a:lnTo>
                  <a:lnTo>
                    <a:pt x="2995" y="207"/>
                  </a:lnTo>
                  <a:lnTo>
                    <a:pt x="2933" y="202"/>
                  </a:lnTo>
                  <a:lnTo>
                    <a:pt x="2862" y="194"/>
                  </a:lnTo>
                  <a:lnTo>
                    <a:pt x="2836" y="194"/>
                  </a:lnTo>
                  <a:lnTo>
                    <a:pt x="2805" y="171"/>
                  </a:lnTo>
                  <a:lnTo>
                    <a:pt x="2779" y="167"/>
                  </a:lnTo>
                  <a:lnTo>
                    <a:pt x="2717" y="154"/>
                  </a:lnTo>
                  <a:lnTo>
                    <a:pt x="2664" y="145"/>
                  </a:lnTo>
                  <a:lnTo>
                    <a:pt x="2585" y="141"/>
                  </a:lnTo>
                  <a:lnTo>
                    <a:pt x="2549" y="136"/>
                  </a:lnTo>
                  <a:lnTo>
                    <a:pt x="2523" y="132"/>
                  </a:lnTo>
                  <a:lnTo>
                    <a:pt x="2496" y="127"/>
                  </a:lnTo>
                  <a:lnTo>
                    <a:pt x="2452" y="123"/>
                  </a:lnTo>
                  <a:lnTo>
                    <a:pt x="2417" y="123"/>
                  </a:lnTo>
                  <a:lnTo>
                    <a:pt x="2395" y="127"/>
                  </a:lnTo>
                  <a:lnTo>
                    <a:pt x="2351" y="123"/>
                  </a:lnTo>
                  <a:lnTo>
                    <a:pt x="2311" y="127"/>
                  </a:lnTo>
                  <a:lnTo>
                    <a:pt x="2276" y="132"/>
                  </a:lnTo>
                  <a:lnTo>
                    <a:pt x="2223" y="136"/>
                  </a:lnTo>
                  <a:lnTo>
                    <a:pt x="2197" y="132"/>
                  </a:lnTo>
                  <a:lnTo>
                    <a:pt x="2152" y="136"/>
                  </a:lnTo>
                  <a:lnTo>
                    <a:pt x="1941" y="123"/>
                  </a:lnTo>
                  <a:lnTo>
                    <a:pt x="1892" y="127"/>
                  </a:lnTo>
                  <a:lnTo>
                    <a:pt x="1866" y="127"/>
                  </a:lnTo>
                  <a:lnTo>
                    <a:pt x="1822" y="123"/>
                  </a:lnTo>
                  <a:lnTo>
                    <a:pt x="1785" y="127"/>
                  </a:lnTo>
                  <a:lnTo>
                    <a:pt x="1759" y="123"/>
                  </a:lnTo>
                  <a:lnTo>
                    <a:pt x="1733" y="127"/>
                  </a:lnTo>
                  <a:lnTo>
                    <a:pt x="1706" y="136"/>
                  </a:lnTo>
                  <a:lnTo>
                    <a:pt x="1666" y="158"/>
                  </a:lnTo>
                  <a:lnTo>
                    <a:pt x="1640" y="171"/>
                  </a:lnTo>
                  <a:lnTo>
                    <a:pt x="1613" y="171"/>
                  </a:lnTo>
                  <a:lnTo>
                    <a:pt x="1525" y="189"/>
                  </a:lnTo>
                  <a:lnTo>
                    <a:pt x="1481" y="194"/>
                  </a:lnTo>
                  <a:lnTo>
                    <a:pt x="1437" y="198"/>
                  </a:lnTo>
                  <a:lnTo>
                    <a:pt x="1336" y="202"/>
                  </a:lnTo>
                  <a:lnTo>
                    <a:pt x="1309" y="211"/>
                  </a:lnTo>
                  <a:lnTo>
                    <a:pt x="1283" y="207"/>
                  </a:lnTo>
                  <a:lnTo>
                    <a:pt x="1247" y="211"/>
                  </a:lnTo>
                  <a:lnTo>
                    <a:pt x="1168" y="211"/>
                  </a:lnTo>
                  <a:lnTo>
                    <a:pt x="1058" y="238"/>
                  </a:lnTo>
                  <a:lnTo>
                    <a:pt x="996" y="233"/>
                  </a:lnTo>
                  <a:lnTo>
                    <a:pt x="970" y="233"/>
                  </a:lnTo>
                  <a:lnTo>
                    <a:pt x="939" y="238"/>
                  </a:lnTo>
                  <a:lnTo>
                    <a:pt x="912" y="233"/>
                  </a:lnTo>
                  <a:lnTo>
                    <a:pt x="877" y="242"/>
                  </a:lnTo>
                  <a:lnTo>
                    <a:pt x="824" y="242"/>
                  </a:lnTo>
                  <a:lnTo>
                    <a:pt x="780" y="255"/>
                  </a:lnTo>
                  <a:lnTo>
                    <a:pt x="718" y="268"/>
                  </a:lnTo>
                  <a:lnTo>
                    <a:pt x="692" y="264"/>
                  </a:lnTo>
                  <a:lnTo>
                    <a:pt x="657" y="260"/>
                  </a:lnTo>
                  <a:lnTo>
                    <a:pt x="630" y="268"/>
                  </a:lnTo>
                  <a:lnTo>
                    <a:pt x="604" y="264"/>
                  </a:lnTo>
                  <a:lnTo>
                    <a:pt x="524" y="255"/>
                  </a:lnTo>
                  <a:lnTo>
                    <a:pt x="498" y="255"/>
                  </a:lnTo>
                  <a:lnTo>
                    <a:pt x="471" y="251"/>
                  </a:lnTo>
                  <a:lnTo>
                    <a:pt x="436" y="246"/>
                  </a:lnTo>
                  <a:lnTo>
                    <a:pt x="374" y="251"/>
                  </a:lnTo>
                  <a:lnTo>
                    <a:pt x="348" y="246"/>
                  </a:lnTo>
                  <a:lnTo>
                    <a:pt x="313" y="242"/>
                  </a:lnTo>
                  <a:lnTo>
                    <a:pt x="286" y="242"/>
                  </a:lnTo>
                  <a:lnTo>
                    <a:pt x="260" y="238"/>
                  </a:lnTo>
                  <a:lnTo>
                    <a:pt x="216" y="233"/>
                  </a:lnTo>
                  <a:lnTo>
                    <a:pt x="185" y="238"/>
                  </a:lnTo>
                  <a:lnTo>
                    <a:pt x="149" y="242"/>
                  </a:lnTo>
                  <a:lnTo>
                    <a:pt x="105" y="246"/>
                  </a:lnTo>
                  <a:lnTo>
                    <a:pt x="79" y="255"/>
                  </a:lnTo>
                  <a:lnTo>
                    <a:pt x="48" y="268"/>
                  </a:lnTo>
                  <a:lnTo>
                    <a:pt x="22" y="277"/>
                  </a:lnTo>
                  <a:lnTo>
                    <a:pt x="22" y="277"/>
                  </a:lnTo>
                  <a:lnTo>
                    <a:pt x="26" y="330"/>
                  </a:lnTo>
                  <a:lnTo>
                    <a:pt x="30" y="374"/>
                  </a:lnTo>
                  <a:lnTo>
                    <a:pt x="26" y="410"/>
                  </a:lnTo>
                  <a:lnTo>
                    <a:pt x="39" y="436"/>
                  </a:lnTo>
                  <a:lnTo>
                    <a:pt x="57" y="467"/>
                  </a:lnTo>
                  <a:lnTo>
                    <a:pt x="52" y="493"/>
                  </a:lnTo>
                  <a:lnTo>
                    <a:pt x="52" y="520"/>
                  </a:lnTo>
                  <a:lnTo>
                    <a:pt x="57" y="546"/>
                  </a:lnTo>
                  <a:lnTo>
                    <a:pt x="52" y="573"/>
                  </a:lnTo>
                  <a:lnTo>
                    <a:pt x="61" y="599"/>
                  </a:lnTo>
                  <a:lnTo>
                    <a:pt x="57" y="626"/>
                  </a:lnTo>
                  <a:lnTo>
                    <a:pt x="52" y="670"/>
                  </a:lnTo>
                  <a:lnTo>
                    <a:pt x="48" y="714"/>
                  </a:lnTo>
                  <a:lnTo>
                    <a:pt x="35" y="749"/>
                  </a:lnTo>
                  <a:lnTo>
                    <a:pt x="22" y="776"/>
                  </a:lnTo>
                  <a:lnTo>
                    <a:pt x="22" y="802"/>
                  </a:lnTo>
                  <a:lnTo>
                    <a:pt x="8" y="846"/>
                  </a:lnTo>
                  <a:lnTo>
                    <a:pt x="4" y="881"/>
                  </a:lnTo>
                  <a:lnTo>
                    <a:pt x="0" y="917"/>
                  </a:lnTo>
                  <a:lnTo>
                    <a:pt x="0" y="939"/>
                  </a:lnTo>
                  <a:lnTo>
                    <a:pt x="4" y="965"/>
                  </a:lnTo>
                  <a:lnTo>
                    <a:pt x="8" y="1001"/>
                  </a:lnTo>
                  <a:lnTo>
                    <a:pt x="13" y="1036"/>
                  </a:lnTo>
                  <a:lnTo>
                    <a:pt x="26" y="1075"/>
                  </a:lnTo>
                  <a:lnTo>
                    <a:pt x="52" y="1111"/>
                  </a:lnTo>
                  <a:lnTo>
                    <a:pt x="48" y="1146"/>
                  </a:lnTo>
                  <a:lnTo>
                    <a:pt x="52" y="1172"/>
                  </a:lnTo>
                  <a:lnTo>
                    <a:pt x="57" y="1221"/>
                  </a:lnTo>
                  <a:lnTo>
                    <a:pt x="52" y="1247"/>
                  </a:lnTo>
                  <a:lnTo>
                    <a:pt x="70" y="1283"/>
                  </a:lnTo>
                  <a:lnTo>
                    <a:pt x="83" y="1314"/>
                  </a:lnTo>
                  <a:lnTo>
                    <a:pt x="74" y="1375"/>
                  </a:lnTo>
                  <a:lnTo>
                    <a:pt x="74" y="1402"/>
                  </a:lnTo>
                  <a:lnTo>
                    <a:pt x="70" y="1437"/>
                  </a:lnTo>
                  <a:lnTo>
                    <a:pt x="66" y="1464"/>
                  </a:lnTo>
                  <a:lnTo>
                    <a:pt x="66" y="1490"/>
                  </a:lnTo>
                  <a:lnTo>
                    <a:pt x="61" y="1516"/>
                  </a:lnTo>
                  <a:lnTo>
                    <a:pt x="57" y="1552"/>
                  </a:lnTo>
                  <a:lnTo>
                    <a:pt x="57" y="1578"/>
                  </a:lnTo>
                  <a:lnTo>
                    <a:pt x="52" y="1605"/>
                  </a:lnTo>
                  <a:lnTo>
                    <a:pt x="48" y="1658"/>
                  </a:lnTo>
                  <a:lnTo>
                    <a:pt x="44" y="1684"/>
                  </a:lnTo>
                  <a:lnTo>
                    <a:pt x="57" y="1728"/>
                  </a:lnTo>
                  <a:lnTo>
                    <a:pt x="57" y="1804"/>
                  </a:lnTo>
                  <a:lnTo>
                    <a:pt x="61" y="1866"/>
                  </a:lnTo>
                  <a:lnTo>
                    <a:pt x="57" y="1892"/>
                  </a:lnTo>
                  <a:lnTo>
                    <a:pt x="52" y="1928"/>
                  </a:lnTo>
                  <a:lnTo>
                    <a:pt x="57" y="1976"/>
                  </a:lnTo>
                  <a:lnTo>
                    <a:pt x="66" y="2003"/>
                  </a:lnTo>
                  <a:lnTo>
                    <a:pt x="61" y="2038"/>
                  </a:lnTo>
                  <a:lnTo>
                    <a:pt x="66" y="2064"/>
                  </a:lnTo>
                  <a:lnTo>
                    <a:pt x="70" y="2108"/>
                  </a:lnTo>
                  <a:lnTo>
                    <a:pt x="74" y="2144"/>
                  </a:lnTo>
                  <a:lnTo>
                    <a:pt x="79" y="2219"/>
                  </a:lnTo>
                  <a:lnTo>
                    <a:pt x="83" y="2263"/>
                  </a:lnTo>
                  <a:lnTo>
                    <a:pt x="83" y="2324"/>
                  </a:lnTo>
                  <a:lnTo>
                    <a:pt x="79" y="2351"/>
                  </a:lnTo>
                  <a:lnTo>
                    <a:pt x="97" y="2377"/>
                  </a:lnTo>
                  <a:lnTo>
                    <a:pt x="101" y="2408"/>
                  </a:lnTo>
                  <a:lnTo>
                    <a:pt x="105" y="2452"/>
                  </a:lnTo>
                  <a:lnTo>
                    <a:pt x="123" y="2479"/>
                  </a:lnTo>
                  <a:lnTo>
                    <a:pt x="127" y="2505"/>
                  </a:lnTo>
                  <a:lnTo>
                    <a:pt x="158" y="2545"/>
                  </a:lnTo>
                  <a:lnTo>
                    <a:pt x="154" y="2576"/>
                  </a:lnTo>
                  <a:lnTo>
                    <a:pt x="158" y="2615"/>
                  </a:lnTo>
                  <a:lnTo>
                    <a:pt x="158" y="2642"/>
                  </a:lnTo>
                  <a:lnTo>
                    <a:pt x="154" y="2668"/>
                  </a:lnTo>
                  <a:lnTo>
                    <a:pt x="149" y="2712"/>
                  </a:lnTo>
                  <a:lnTo>
                    <a:pt x="145" y="2757"/>
                  </a:lnTo>
                  <a:lnTo>
                    <a:pt x="132" y="2796"/>
                  </a:lnTo>
                  <a:lnTo>
                    <a:pt x="114" y="2973"/>
                  </a:lnTo>
                  <a:lnTo>
                    <a:pt x="101" y="2999"/>
                  </a:lnTo>
                  <a:lnTo>
                    <a:pt x="92" y="3026"/>
                  </a:lnTo>
                  <a:lnTo>
                    <a:pt x="88" y="3052"/>
                  </a:lnTo>
                  <a:lnTo>
                    <a:pt x="74" y="3078"/>
                  </a:lnTo>
                  <a:lnTo>
                    <a:pt x="66" y="3101"/>
                  </a:lnTo>
                  <a:lnTo>
                    <a:pt x="61" y="3127"/>
                  </a:lnTo>
                  <a:lnTo>
                    <a:pt x="57" y="3153"/>
                  </a:lnTo>
                  <a:lnTo>
                    <a:pt x="57" y="3189"/>
                  </a:lnTo>
                  <a:lnTo>
                    <a:pt x="52" y="3215"/>
                  </a:lnTo>
                  <a:lnTo>
                    <a:pt x="48" y="3242"/>
                  </a:lnTo>
                  <a:lnTo>
                    <a:pt x="48" y="3268"/>
                  </a:lnTo>
                  <a:lnTo>
                    <a:pt x="39" y="3321"/>
                  </a:lnTo>
                  <a:lnTo>
                    <a:pt x="35" y="3365"/>
                  </a:lnTo>
                  <a:lnTo>
                    <a:pt x="30" y="3405"/>
                  </a:lnTo>
                  <a:lnTo>
                    <a:pt x="48" y="3436"/>
                  </a:lnTo>
                  <a:lnTo>
                    <a:pt x="39" y="3436"/>
                  </a:lnTo>
                  <a:lnTo>
                    <a:pt x="74" y="3431"/>
                  </a:lnTo>
                  <a:lnTo>
                    <a:pt x="119" y="3418"/>
                  </a:lnTo>
                  <a:lnTo>
                    <a:pt x="149" y="3409"/>
                  </a:lnTo>
                  <a:lnTo>
                    <a:pt x="176" y="3405"/>
                  </a:lnTo>
                  <a:lnTo>
                    <a:pt x="202" y="3405"/>
                  </a:lnTo>
                  <a:lnTo>
                    <a:pt x="246" y="3405"/>
                  </a:lnTo>
                  <a:lnTo>
                    <a:pt x="273" y="3405"/>
                  </a:lnTo>
                  <a:lnTo>
                    <a:pt x="317" y="3409"/>
                  </a:lnTo>
                  <a:lnTo>
                    <a:pt x="343" y="3414"/>
                  </a:lnTo>
                  <a:lnTo>
                    <a:pt x="370" y="3414"/>
                  </a:lnTo>
                  <a:lnTo>
                    <a:pt x="414" y="3418"/>
                  </a:lnTo>
                  <a:lnTo>
                    <a:pt x="440" y="3422"/>
                  </a:lnTo>
                  <a:lnTo>
                    <a:pt x="463" y="3427"/>
                  </a:lnTo>
                  <a:lnTo>
                    <a:pt x="498" y="3440"/>
                  </a:lnTo>
                  <a:lnTo>
                    <a:pt x="533" y="3449"/>
                  </a:lnTo>
                  <a:lnTo>
                    <a:pt x="560" y="3453"/>
                  </a:lnTo>
                  <a:lnTo>
                    <a:pt x="621" y="3458"/>
                  </a:lnTo>
                  <a:lnTo>
                    <a:pt x="657" y="3462"/>
                  </a:lnTo>
                  <a:lnTo>
                    <a:pt x="692" y="3467"/>
                  </a:lnTo>
                  <a:lnTo>
                    <a:pt x="762" y="3467"/>
                  </a:lnTo>
                  <a:lnTo>
                    <a:pt x="798" y="3462"/>
                  </a:lnTo>
                  <a:lnTo>
                    <a:pt x="833" y="3467"/>
                  </a:lnTo>
                  <a:lnTo>
                    <a:pt x="868" y="3484"/>
                  </a:lnTo>
                  <a:lnTo>
                    <a:pt x="912" y="3489"/>
                  </a:lnTo>
                  <a:lnTo>
                    <a:pt x="956" y="3493"/>
                  </a:lnTo>
                  <a:lnTo>
                    <a:pt x="983" y="3497"/>
                  </a:lnTo>
                  <a:lnTo>
                    <a:pt x="1009" y="3502"/>
                  </a:lnTo>
                  <a:lnTo>
                    <a:pt x="1115" y="3493"/>
                  </a:lnTo>
                  <a:lnTo>
                    <a:pt x="1181" y="3480"/>
                  </a:lnTo>
                  <a:lnTo>
                    <a:pt x="1208" y="3471"/>
                  </a:lnTo>
                  <a:lnTo>
                    <a:pt x="1252" y="3449"/>
                  </a:lnTo>
                  <a:lnTo>
                    <a:pt x="1318" y="3414"/>
                  </a:lnTo>
                  <a:lnTo>
                    <a:pt x="1344" y="3414"/>
                  </a:lnTo>
                  <a:lnTo>
                    <a:pt x="1371" y="3400"/>
                  </a:lnTo>
                  <a:lnTo>
                    <a:pt x="1415" y="3396"/>
                  </a:lnTo>
                  <a:lnTo>
                    <a:pt x="1464" y="3383"/>
                  </a:lnTo>
                  <a:lnTo>
                    <a:pt x="1490" y="3370"/>
                  </a:lnTo>
                  <a:lnTo>
                    <a:pt x="1543" y="3356"/>
                  </a:lnTo>
                  <a:lnTo>
                    <a:pt x="1569" y="3361"/>
                  </a:lnTo>
                  <a:lnTo>
                    <a:pt x="1596" y="3361"/>
                  </a:lnTo>
                  <a:lnTo>
                    <a:pt x="1644" y="3356"/>
                  </a:lnTo>
                  <a:lnTo>
                    <a:pt x="1680" y="3361"/>
                  </a:lnTo>
                  <a:lnTo>
                    <a:pt x="1741" y="3370"/>
                  </a:lnTo>
                  <a:lnTo>
                    <a:pt x="1768" y="3370"/>
                  </a:lnTo>
                  <a:lnTo>
                    <a:pt x="1795" y="3374"/>
                  </a:lnTo>
                  <a:lnTo>
                    <a:pt x="1831" y="3378"/>
                  </a:lnTo>
                  <a:lnTo>
                    <a:pt x="1857" y="3378"/>
                  </a:lnTo>
                  <a:lnTo>
                    <a:pt x="1901" y="3374"/>
                  </a:lnTo>
                  <a:lnTo>
                    <a:pt x="1954" y="3374"/>
                  </a:lnTo>
                  <a:lnTo>
                    <a:pt x="2016" y="3370"/>
                  </a:lnTo>
                  <a:lnTo>
                    <a:pt x="2042" y="3365"/>
                  </a:lnTo>
                  <a:lnTo>
                    <a:pt x="2100" y="3370"/>
                  </a:lnTo>
                  <a:lnTo>
                    <a:pt x="2130" y="3365"/>
                  </a:lnTo>
                  <a:lnTo>
                    <a:pt x="2157" y="3365"/>
                  </a:lnTo>
                  <a:lnTo>
                    <a:pt x="2201" y="3370"/>
                  </a:lnTo>
                  <a:lnTo>
                    <a:pt x="2227" y="3365"/>
                  </a:lnTo>
                  <a:lnTo>
                    <a:pt x="2263" y="3361"/>
                  </a:lnTo>
                  <a:lnTo>
                    <a:pt x="2351" y="3361"/>
                  </a:lnTo>
                  <a:lnTo>
                    <a:pt x="2382" y="3356"/>
                  </a:lnTo>
                  <a:lnTo>
                    <a:pt x="2408" y="3347"/>
                  </a:lnTo>
                  <a:lnTo>
                    <a:pt x="2435" y="3325"/>
                  </a:lnTo>
                  <a:lnTo>
                    <a:pt x="2466" y="3312"/>
                  </a:lnTo>
                  <a:lnTo>
                    <a:pt x="2510" y="3308"/>
                  </a:lnTo>
                  <a:lnTo>
                    <a:pt x="2580" y="3303"/>
                  </a:lnTo>
                  <a:lnTo>
                    <a:pt x="2615" y="3299"/>
                  </a:lnTo>
                  <a:lnTo>
                    <a:pt x="2646" y="3295"/>
                  </a:lnTo>
                  <a:lnTo>
                    <a:pt x="2673" y="3295"/>
                  </a:lnTo>
                  <a:lnTo>
                    <a:pt x="2699" y="3299"/>
                  </a:lnTo>
                  <a:lnTo>
                    <a:pt x="2748" y="3321"/>
                  </a:lnTo>
                  <a:lnTo>
                    <a:pt x="2783" y="3334"/>
                  </a:lnTo>
                  <a:lnTo>
                    <a:pt x="2818" y="3347"/>
                  </a:lnTo>
                  <a:lnTo>
                    <a:pt x="2893" y="3365"/>
                  </a:lnTo>
                  <a:lnTo>
                    <a:pt x="3145" y="3436"/>
                  </a:lnTo>
                  <a:lnTo>
                    <a:pt x="3184" y="3449"/>
                  </a:lnTo>
                  <a:lnTo>
                    <a:pt x="3246" y="3462"/>
                  </a:lnTo>
                  <a:lnTo>
                    <a:pt x="3290" y="3475"/>
                  </a:lnTo>
                  <a:lnTo>
                    <a:pt x="3343" y="3484"/>
                  </a:lnTo>
                  <a:lnTo>
                    <a:pt x="3396" y="3480"/>
                  </a:lnTo>
                  <a:lnTo>
                    <a:pt x="3431" y="3475"/>
                  </a:lnTo>
                  <a:lnTo>
                    <a:pt x="3471" y="3462"/>
                  </a:lnTo>
                  <a:lnTo>
                    <a:pt x="3515" y="3458"/>
                  </a:lnTo>
                  <a:lnTo>
                    <a:pt x="3568" y="3444"/>
                  </a:lnTo>
                  <a:lnTo>
                    <a:pt x="3599" y="3431"/>
                  </a:lnTo>
                  <a:lnTo>
                    <a:pt x="3625" y="3422"/>
                  </a:lnTo>
                  <a:lnTo>
                    <a:pt x="3674" y="3392"/>
                  </a:lnTo>
                  <a:lnTo>
                    <a:pt x="3713" y="3370"/>
                  </a:lnTo>
                  <a:lnTo>
                    <a:pt x="3753" y="3365"/>
                  </a:lnTo>
                  <a:lnTo>
                    <a:pt x="3833" y="3365"/>
                  </a:lnTo>
                  <a:lnTo>
                    <a:pt x="3894" y="3361"/>
                  </a:lnTo>
                  <a:lnTo>
                    <a:pt x="3930" y="3356"/>
                  </a:lnTo>
                  <a:lnTo>
                    <a:pt x="3991" y="3356"/>
                  </a:lnTo>
                  <a:lnTo>
                    <a:pt x="4053" y="3361"/>
                  </a:lnTo>
                  <a:lnTo>
                    <a:pt x="4079" y="3365"/>
                  </a:lnTo>
                  <a:lnTo>
                    <a:pt x="4106" y="3365"/>
                  </a:lnTo>
                  <a:lnTo>
                    <a:pt x="4168" y="3374"/>
                  </a:lnTo>
                  <a:lnTo>
                    <a:pt x="4282" y="3396"/>
                  </a:lnTo>
                  <a:lnTo>
                    <a:pt x="4326" y="3400"/>
                  </a:lnTo>
                  <a:lnTo>
                    <a:pt x="4371" y="3405"/>
                  </a:lnTo>
                  <a:lnTo>
                    <a:pt x="4397" y="3405"/>
                  </a:lnTo>
                  <a:lnTo>
                    <a:pt x="4490" y="3444"/>
                  </a:lnTo>
                  <a:lnTo>
                    <a:pt x="4534" y="3449"/>
                  </a:lnTo>
                  <a:lnTo>
                    <a:pt x="4578" y="3427"/>
                  </a:lnTo>
                  <a:lnTo>
                    <a:pt x="4626" y="3414"/>
                  </a:lnTo>
                  <a:lnTo>
                    <a:pt x="4688" y="3392"/>
                  </a:lnTo>
                  <a:lnTo>
                    <a:pt x="4737" y="3370"/>
                  </a:lnTo>
                  <a:lnTo>
                    <a:pt x="4820" y="3343"/>
                  </a:lnTo>
                  <a:lnTo>
                    <a:pt x="4847" y="3339"/>
                  </a:lnTo>
                  <a:lnTo>
                    <a:pt x="4873" y="3339"/>
                  </a:lnTo>
                  <a:lnTo>
                    <a:pt x="4904" y="3317"/>
                  </a:lnTo>
                  <a:lnTo>
                    <a:pt x="4957" y="3312"/>
                  </a:lnTo>
                  <a:lnTo>
                    <a:pt x="5001" y="3308"/>
                  </a:lnTo>
                  <a:lnTo>
                    <a:pt x="5063" y="3308"/>
                  </a:lnTo>
                  <a:lnTo>
                    <a:pt x="5089" y="3308"/>
                  </a:lnTo>
                  <a:lnTo>
                    <a:pt x="5155" y="3290"/>
                  </a:lnTo>
                  <a:lnTo>
                    <a:pt x="5208" y="3286"/>
                  </a:lnTo>
                  <a:lnTo>
                    <a:pt x="5235" y="3281"/>
                  </a:lnTo>
                  <a:lnTo>
                    <a:pt x="5279" y="3286"/>
                  </a:lnTo>
                  <a:lnTo>
                    <a:pt x="5395" y="3273"/>
                  </a:lnTo>
                  <a:lnTo>
                    <a:pt x="5421" y="3273"/>
                  </a:lnTo>
                  <a:lnTo>
                    <a:pt x="5465" y="3268"/>
                  </a:lnTo>
                  <a:lnTo>
                    <a:pt x="5509" y="3273"/>
                  </a:lnTo>
                  <a:lnTo>
                    <a:pt x="5536" y="3268"/>
                  </a:lnTo>
                  <a:lnTo>
                    <a:pt x="5584" y="3255"/>
                  </a:lnTo>
                  <a:lnTo>
                    <a:pt x="5628" y="3250"/>
                  </a:lnTo>
                  <a:lnTo>
                    <a:pt x="5694" y="3228"/>
                  </a:lnTo>
                  <a:lnTo>
                    <a:pt x="5730" y="3215"/>
                  </a:lnTo>
                  <a:lnTo>
                    <a:pt x="5765" y="3211"/>
                  </a:lnTo>
                  <a:lnTo>
                    <a:pt x="5800" y="3206"/>
                  </a:lnTo>
                  <a:lnTo>
                    <a:pt x="5831" y="3202"/>
                  </a:lnTo>
                  <a:lnTo>
                    <a:pt x="5884" y="3198"/>
                  </a:lnTo>
                  <a:lnTo>
                    <a:pt x="5919" y="3193"/>
                  </a:lnTo>
                  <a:lnTo>
                    <a:pt x="5946" y="3184"/>
                  </a:lnTo>
                  <a:lnTo>
                    <a:pt x="6008" y="3189"/>
                  </a:lnTo>
                  <a:lnTo>
                    <a:pt x="6034" y="3189"/>
                  </a:lnTo>
                  <a:lnTo>
                    <a:pt x="6060" y="3193"/>
                  </a:lnTo>
                  <a:lnTo>
                    <a:pt x="6127" y="3202"/>
                  </a:lnTo>
                  <a:lnTo>
                    <a:pt x="6171" y="3206"/>
                  </a:lnTo>
                  <a:lnTo>
                    <a:pt x="6206" y="3211"/>
                  </a:lnTo>
                  <a:lnTo>
                    <a:pt x="6268" y="3215"/>
                  </a:lnTo>
                  <a:lnTo>
                    <a:pt x="6294" y="3220"/>
                  </a:lnTo>
                  <a:lnTo>
                    <a:pt x="6321" y="3220"/>
                  </a:lnTo>
                  <a:lnTo>
                    <a:pt x="6374" y="3228"/>
                  </a:lnTo>
                  <a:lnTo>
                    <a:pt x="6409" y="3228"/>
                  </a:lnTo>
                  <a:lnTo>
                    <a:pt x="6444" y="3233"/>
                  </a:lnTo>
                  <a:lnTo>
                    <a:pt x="6488" y="3237"/>
                  </a:lnTo>
                  <a:lnTo>
                    <a:pt x="6523" y="3242"/>
                  </a:lnTo>
                  <a:lnTo>
                    <a:pt x="6563" y="3237"/>
                  </a:lnTo>
                  <a:lnTo>
                    <a:pt x="6598" y="3233"/>
                  </a:lnTo>
                  <a:lnTo>
                    <a:pt x="6625" y="3215"/>
                  </a:lnTo>
                  <a:lnTo>
                    <a:pt x="6665" y="3193"/>
                  </a:lnTo>
                  <a:lnTo>
                    <a:pt x="6691" y="3198"/>
                  </a:lnTo>
                  <a:lnTo>
                    <a:pt x="6718" y="3198"/>
                  </a:lnTo>
                  <a:lnTo>
                    <a:pt x="6744" y="3202"/>
                  </a:lnTo>
                  <a:lnTo>
                    <a:pt x="6770" y="320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33"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034"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sp>
        <p:nvSpPr>
          <p:cNvPr id="1035"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2357280" y="2797200"/>
            <a:ext cx="3821400" cy="2205360"/>
          </a:xfrm>
          <a:custGeom>
            <a:avLst/>
            <a:gdLst/>
            <a:ahLst/>
            <a:rect l="0" t="0" r="r" b="b"/>
            <a:pathLst>
              <a:path fill="none" w="10615" h="6126">
                <a:moveTo>
                  <a:pt x="2614" y="0"/>
                </a:moveTo>
                <a:lnTo>
                  <a:pt x="0" y="0"/>
                </a:lnTo>
                <a:lnTo>
                  <a:pt x="0" y="92"/>
                </a:lnTo>
                <a:lnTo>
                  <a:pt x="0" y="216"/>
                </a:lnTo>
                <a:lnTo>
                  <a:pt x="0" y="308"/>
                </a:lnTo>
                <a:lnTo>
                  <a:pt x="0" y="463"/>
                </a:lnTo>
                <a:lnTo>
                  <a:pt x="30" y="555"/>
                </a:lnTo>
                <a:lnTo>
                  <a:pt x="61" y="648"/>
                </a:lnTo>
                <a:lnTo>
                  <a:pt x="123" y="771"/>
                </a:lnTo>
                <a:lnTo>
                  <a:pt x="185" y="895"/>
                </a:lnTo>
                <a:lnTo>
                  <a:pt x="273" y="1049"/>
                </a:lnTo>
                <a:lnTo>
                  <a:pt x="335" y="1168"/>
                </a:lnTo>
                <a:lnTo>
                  <a:pt x="366" y="1261"/>
                </a:lnTo>
                <a:lnTo>
                  <a:pt x="489" y="1446"/>
                </a:lnTo>
                <a:lnTo>
                  <a:pt x="582" y="1569"/>
                </a:lnTo>
                <a:lnTo>
                  <a:pt x="582" y="1662"/>
                </a:lnTo>
                <a:lnTo>
                  <a:pt x="612" y="1878"/>
                </a:lnTo>
                <a:lnTo>
                  <a:pt x="612" y="1971"/>
                </a:lnTo>
                <a:lnTo>
                  <a:pt x="612" y="2125"/>
                </a:lnTo>
                <a:lnTo>
                  <a:pt x="612" y="2310"/>
                </a:lnTo>
                <a:lnTo>
                  <a:pt x="612" y="2460"/>
                </a:lnTo>
                <a:lnTo>
                  <a:pt x="612" y="2707"/>
                </a:lnTo>
                <a:lnTo>
                  <a:pt x="612" y="2831"/>
                </a:lnTo>
                <a:lnTo>
                  <a:pt x="612" y="2923"/>
                </a:lnTo>
                <a:lnTo>
                  <a:pt x="612" y="3202"/>
                </a:lnTo>
                <a:lnTo>
                  <a:pt x="643" y="3449"/>
                </a:lnTo>
                <a:lnTo>
                  <a:pt x="736" y="3665"/>
                </a:lnTo>
                <a:lnTo>
                  <a:pt x="736" y="3815"/>
                </a:lnTo>
                <a:lnTo>
                  <a:pt x="829" y="4031"/>
                </a:lnTo>
                <a:lnTo>
                  <a:pt x="859" y="4185"/>
                </a:lnTo>
                <a:lnTo>
                  <a:pt x="859" y="4278"/>
                </a:lnTo>
                <a:lnTo>
                  <a:pt x="829" y="4556"/>
                </a:lnTo>
                <a:lnTo>
                  <a:pt x="829" y="4772"/>
                </a:lnTo>
                <a:lnTo>
                  <a:pt x="829" y="4988"/>
                </a:lnTo>
                <a:lnTo>
                  <a:pt x="829" y="5385"/>
                </a:lnTo>
                <a:lnTo>
                  <a:pt x="1508" y="5663"/>
                </a:lnTo>
                <a:lnTo>
                  <a:pt x="1719" y="5755"/>
                </a:lnTo>
                <a:lnTo>
                  <a:pt x="1812" y="5817"/>
                </a:lnTo>
                <a:lnTo>
                  <a:pt x="1935" y="5817"/>
                </a:lnTo>
                <a:lnTo>
                  <a:pt x="2337" y="5817"/>
                </a:lnTo>
                <a:lnTo>
                  <a:pt x="2429" y="5817"/>
                </a:lnTo>
                <a:lnTo>
                  <a:pt x="2522" y="5817"/>
                </a:lnTo>
                <a:lnTo>
                  <a:pt x="2676" y="5817"/>
                </a:lnTo>
                <a:lnTo>
                  <a:pt x="2800" y="5848"/>
                </a:lnTo>
                <a:lnTo>
                  <a:pt x="2950" y="5879"/>
                </a:lnTo>
                <a:lnTo>
                  <a:pt x="3104" y="5971"/>
                </a:lnTo>
                <a:lnTo>
                  <a:pt x="3258" y="6002"/>
                </a:lnTo>
                <a:lnTo>
                  <a:pt x="3474" y="6095"/>
                </a:lnTo>
                <a:lnTo>
                  <a:pt x="3567" y="6126"/>
                </a:lnTo>
                <a:lnTo>
                  <a:pt x="4030" y="6126"/>
                </a:lnTo>
                <a:lnTo>
                  <a:pt x="4519" y="6126"/>
                </a:lnTo>
                <a:lnTo>
                  <a:pt x="4674" y="6126"/>
                </a:lnTo>
                <a:lnTo>
                  <a:pt x="4766" y="6126"/>
                </a:lnTo>
                <a:lnTo>
                  <a:pt x="4859" y="6002"/>
                </a:lnTo>
                <a:lnTo>
                  <a:pt x="5199" y="5879"/>
                </a:lnTo>
                <a:lnTo>
                  <a:pt x="5229" y="5817"/>
                </a:lnTo>
                <a:lnTo>
                  <a:pt x="5447" y="5786"/>
                </a:lnTo>
                <a:lnTo>
                  <a:pt x="5535" y="5755"/>
                </a:lnTo>
                <a:lnTo>
                  <a:pt x="5751" y="5693"/>
                </a:lnTo>
                <a:lnTo>
                  <a:pt x="6183" y="5848"/>
                </a:lnTo>
                <a:lnTo>
                  <a:pt x="6276" y="5786"/>
                </a:lnTo>
                <a:lnTo>
                  <a:pt x="6739" y="5786"/>
                </a:lnTo>
                <a:lnTo>
                  <a:pt x="7444" y="5508"/>
                </a:lnTo>
                <a:lnTo>
                  <a:pt x="7722" y="5477"/>
                </a:lnTo>
                <a:lnTo>
                  <a:pt x="7907" y="5416"/>
                </a:lnTo>
                <a:lnTo>
                  <a:pt x="8061" y="5539"/>
                </a:lnTo>
                <a:lnTo>
                  <a:pt x="8181" y="5570"/>
                </a:lnTo>
                <a:lnTo>
                  <a:pt x="8674" y="5601"/>
                </a:lnTo>
                <a:lnTo>
                  <a:pt x="8860" y="5601"/>
                </a:lnTo>
                <a:lnTo>
                  <a:pt x="8983" y="5570"/>
                </a:lnTo>
                <a:lnTo>
                  <a:pt x="9107" y="5477"/>
                </a:lnTo>
                <a:lnTo>
                  <a:pt x="9199" y="5477"/>
                </a:lnTo>
                <a:lnTo>
                  <a:pt x="9477" y="5477"/>
                </a:lnTo>
                <a:lnTo>
                  <a:pt x="9596" y="5477"/>
                </a:lnTo>
                <a:lnTo>
                  <a:pt x="9689" y="5447"/>
                </a:lnTo>
                <a:lnTo>
                  <a:pt x="9812" y="5447"/>
                </a:lnTo>
                <a:lnTo>
                  <a:pt x="9905" y="5477"/>
                </a:lnTo>
                <a:lnTo>
                  <a:pt x="9997" y="5477"/>
                </a:lnTo>
                <a:lnTo>
                  <a:pt x="10090" y="5570"/>
                </a:lnTo>
                <a:lnTo>
                  <a:pt x="10183" y="5663"/>
                </a:lnTo>
                <a:lnTo>
                  <a:pt x="10275" y="5786"/>
                </a:lnTo>
                <a:lnTo>
                  <a:pt x="10429" y="5817"/>
                </a:lnTo>
                <a:lnTo>
                  <a:pt x="10522" y="5848"/>
                </a:lnTo>
                <a:lnTo>
                  <a:pt x="10615" y="5879"/>
                </a:lnTo>
                <a:lnTo>
                  <a:pt x="10615" y="5786"/>
                </a:lnTo>
                <a:lnTo>
                  <a:pt x="10615" y="5693"/>
                </a:lnTo>
                <a:lnTo>
                  <a:pt x="10615" y="54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8" name=""/>
          <p:cNvSpPr txBox="1"/>
          <p:nvPr/>
        </p:nvSpPr>
        <p:spPr>
          <a:xfrm>
            <a:off x="6816600" y="2965320"/>
            <a:ext cx="2230560" cy="13111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Part is placed on</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a:t>
            </a:r>
            <a:r>
              <a:rPr b="0" lang="en-US" sz="2000" spc="-1" strike="noStrike">
                <a:solidFill>
                  <a:srgbClr val="f2fefd"/>
                </a:solidFill>
                <a:latin typeface="Times New Roman"/>
                <a:ea typeface="Times New Roman"/>
              </a:rPr>
              <a:t>assumed” datum A</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minimum thre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points of contact).</a:t>
            </a:r>
            <a:endParaRPr b="0" lang="en-US" sz="2000" spc="-1" strike="noStrike">
              <a:solidFill>
                <a:srgbClr val="000000"/>
              </a:solidFill>
              <a:latin typeface="Arial"/>
            </a:endParaRPr>
          </a:p>
        </p:txBody>
      </p:sp>
      <p:sp>
        <p:nvSpPr>
          <p:cNvPr id="1039" name=""/>
          <p:cNvSpPr/>
          <p:nvPr/>
        </p:nvSpPr>
        <p:spPr>
          <a:xfrm flipH="1">
            <a:off x="6665760" y="3164040"/>
            <a:ext cx="198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flipH="1">
            <a:off x="6091200" y="3164040"/>
            <a:ext cx="574560" cy="57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6022800" y="3705120"/>
            <a:ext cx="100080" cy="100080"/>
          </a:xfrm>
          <a:prstGeom prst="ellipse">
            <a:avLst/>
          </a:prstGeom>
          <a:solidFill>
            <a:srgbClr val="f2fefd"/>
          </a:solid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1042" name=""/>
          <p:cNvSpPr txBox="1"/>
          <p:nvPr/>
        </p:nvSpPr>
        <p:spPr>
          <a:xfrm>
            <a:off x="4114800" y="5181480"/>
            <a:ext cx="3683160" cy="131112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 (th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primary datum establishes the </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orientation of the 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75" name=""/>
          <p:cNvSpPr/>
          <p:nvPr/>
        </p:nvSpPr>
        <p:spPr>
          <a:xfrm>
            <a:off x="3522600" y="3643200"/>
            <a:ext cx="111600" cy="233640"/>
          </a:xfrm>
          <a:custGeom>
            <a:avLst/>
            <a:gdLst/>
            <a:ahLst/>
            <a:rect l="0" t="0" r="r" b="b"/>
            <a:pathLst>
              <a:path w="310" h="649">
                <a:moveTo>
                  <a:pt x="310" y="67"/>
                </a:moveTo>
                <a:lnTo>
                  <a:pt x="0" y="649"/>
                </a:lnTo>
                <a:lnTo>
                  <a:pt x="100" y="0"/>
                </a:lnTo>
                <a:lnTo>
                  <a:pt x="310" y="67"/>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76" name=""/>
          <p:cNvSpPr/>
          <p:nvPr/>
        </p:nvSpPr>
        <p:spPr>
          <a:xfrm>
            <a:off x="3598920" y="2232000"/>
            <a:ext cx="667080" cy="1427400"/>
          </a:xfrm>
          <a:custGeom>
            <a:avLst/>
            <a:gdLst/>
            <a:ahLst/>
            <a:rect l="0" t="0" r="r" b="b"/>
            <a:pathLst>
              <a:path fill="none" w="1853" h="3965">
                <a:moveTo>
                  <a:pt x="0" y="3965"/>
                </a:moveTo>
                <a:lnTo>
                  <a:pt x="1303" y="0"/>
                </a:lnTo>
                <a:lnTo>
                  <a:pt x="1853"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77" name=""/>
          <p:cNvSpPr/>
          <p:nvPr/>
        </p:nvSpPr>
        <p:spPr>
          <a:xfrm flipV="1">
            <a:off x="6219720" y="3205080"/>
            <a:ext cx="0" cy="144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8" name=""/>
          <p:cNvSpPr/>
          <p:nvPr/>
        </p:nvSpPr>
        <p:spPr>
          <a:xfrm>
            <a:off x="2357280" y="2801880"/>
            <a:ext cx="0" cy="2252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79" name=""/>
          <p:cNvSpPr/>
          <p:nvPr/>
        </p:nvSpPr>
        <p:spPr>
          <a:xfrm>
            <a:off x="1859040" y="2935440"/>
            <a:ext cx="0" cy="1882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0" name=""/>
          <p:cNvSpPr/>
          <p:nvPr/>
        </p:nvSpPr>
        <p:spPr>
          <a:xfrm>
            <a:off x="5095800" y="2984400"/>
            <a:ext cx="0" cy="17859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1" name=""/>
          <p:cNvSpPr/>
          <p:nvPr/>
        </p:nvSpPr>
        <p:spPr>
          <a:xfrm>
            <a:off x="4308480" y="2984400"/>
            <a:ext cx="0" cy="322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2" name=""/>
          <p:cNvSpPr/>
          <p:nvPr/>
        </p:nvSpPr>
        <p:spPr>
          <a:xfrm flipV="1">
            <a:off x="3162240" y="2701800"/>
            <a:ext cx="0" cy="604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3" name=""/>
          <p:cNvSpPr/>
          <p:nvPr/>
        </p:nvSpPr>
        <p:spPr>
          <a:xfrm flipV="1">
            <a:off x="3162240" y="4446720"/>
            <a:ext cx="0" cy="509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4" name=""/>
          <p:cNvSpPr/>
          <p:nvPr/>
        </p:nvSpPr>
        <p:spPr>
          <a:xfrm>
            <a:off x="1822320" y="4836960"/>
            <a:ext cx="78120" cy="236880"/>
          </a:xfrm>
          <a:custGeom>
            <a:avLst/>
            <a:gdLst/>
            <a:ahLst/>
            <a:rect l="0" t="0" r="r" b="b"/>
            <a:pathLst>
              <a:path w="217" h="658">
                <a:moveTo>
                  <a:pt x="0" y="0"/>
                </a:moveTo>
                <a:lnTo>
                  <a:pt x="217" y="0"/>
                </a:lnTo>
                <a:lnTo>
                  <a:pt x="108" y="658"/>
                </a:lnTo>
                <a:lnTo>
                  <a:pt x="0" y="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85" name=""/>
          <p:cNvSpPr/>
          <p:nvPr/>
        </p:nvSpPr>
        <p:spPr>
          <a:xfrm flipV="1">
            <a:off x="2357280" y="4956120"/>
            <a:ext cx="804960" cy="98640"/>
          </a:xfrm>
          <a:prstGeom prst="line">
            <a:avLst/>
          </a:prstGeom>
          <a:ln w="12600">
            <a:solidFill>
              <a:srgbClr val="f2fefd"/>
            </a:solidFill>
            <a:round/>
          </a:ln>
        </p:spPr>
        <p:style>
          <a:lnRef idx="0"/>
          <a:fillRef idx="0"/>
          <a:effectRef idx="0"/>
          <a:fontRef idx="minor"/>
        </p:style>
        <p:txBody>
          <a:bodyPr lIns="96120" rIns="96120" tIns="47520" bIns="47520" anchor="t">
            <a:noAutofit/>
          </a:bodyPr>
          <a:p>
            <a:endParaRPr b="0" lang="en-US" sz="1800" spc="-1" strike="noStrike">
              <a:solidFill>
                <a:srgbClr val="000000"/>
              </a:solidFill>
              <a:latin typeface="Arial"/>
            </a:endParaRPr>
          </a:p>
        </p:txBody>
      </p:sp>
      <p:sp>
        <p:nvSpPr>
          <p:cNvPr id="9186" name=""/>
          <p:cNvSpPr/>
          <p:nvPr/>
        </p:nvSpPr>
        <p:spPr>
          <a:xfrm flipH="1">
            <a:off x="1627200" y="5073480"/>
            <a:ext cx="15350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87" name=""/>
          <p:cNvSpPr/>
          <p:nvPr/>
        </p:nvSpPr>
        <p:spPr>
          <a:xfrm>
            <a:off x="1859040" y="5054760"/>
            <a:ext cx="233640" cy="584640"/>
          </a:xfrm>
          <a:custGeom>
            <a:avLst/>
            <a:gdLst/>
            <a:ahLst/>
            <a:rect l="0" t="0" r="r" b="b"/>
            <a:pathLst>
              <a:path fill="none" w="649" h="1624">
                <a:moveTo>
                  <a:pt x="0" y="0"/>
                </a:moveTo>
                <a:lnTo>
                  <a:pt x="0" y="1624"/>
                </a:lnTo>
                <a:lnTo>
                  <a:pt x="649" y="1624"/>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88" name=""/>
          <p:cNvSpPr/>
          <p:nvPr/>
        </p:nvSpPr>
        <p:spPr>
          <a:xfrm>
            <a:off x="1903320" y="3876840"/>
            <a:ext cx="649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9" name=""/>
          <p:cNvSpPr/>
          <p:nvPr/>
        </p:nvSpPr>
        <p:spPr>
          <a:xfrm>
            <a:off x="2716200" y="3876840"/>
            <a:ext cx="160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0" name=""/>
          <p:cNvSpPr/>
          <p:nvPr/>
        </p:nvSpPr>
        <p:spPr>
          <a:xfrm>
            <a:off x="3035160" y="3876840"/>
            <a:ext cx="809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1" name=""/>
          <p:cNvSpPr/>
          <p:nvPr/>
        </p:nvSpPr>
        <p:spPr>
          <a:xfrm>
            <a:off x="4005360" y="3876840"/>
            <a:ext cx="1587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2" name=""/>
          <p:cNvSpPr/>
          <p:nvPr/>
        </p:nvSpPr>
        <p:spPr>
          <a:xfrm>
            <a:off x="4327560" y="3876840"/>
            <a:ext cx="809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3" name=""/>
          <p:cNvSpPr/>
          <p:nvPr/>
        </p:nvSpPr>
        <p:spPr>
          <a:xfrm>
            <a:off x="5297400" y="3876840"/>
            <a:ext cx="163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4" name=""/>
          <p:cNvSpPr/>
          <p:nvPr/>
        </p:nvSpPr>
        <p:spPr>
          <a:xfrm>
            <a:off x="5619600" y="3876840"/>
            <a:ext cx="652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5" name=""/>
          <p:cNvSpPr/>
          <p:nvPr/>
        </p:nvSpPr>
        <p:spPr>
          <a:xfrm flipV="1">
            <a:off x="5937120" y="3602160"/>
            <a:ext cx="0" cy="5126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6" name=""/>
          <p:cNvSpPr/>
          <p:nvPr/>
        </p:nvSpPr>
        <p:spPr>
          <a:xfrm flipV="1">
            <a:off x="4308480" y="3306600"/>
            <a:ext cx="0" cy="1140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7" name=""/>
          <p:cNvSpPr/>
          <p:nvPr/>
        </p:nvSpPr>
        <p:spPr>
          <a:xfrm>
            <a:off x="3162240" y="3306600"/>
            <a:ext cx="0" cy="1140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8" name=""/>
          <p:cNvSpPr/>
          <p:nvPr/>
        </p:nvSpPr>
        <p:spPr>
          <a:xfrm>
            <a:off x="4308480" y="4446720"/>
            <a:ext cx="787680" cy="324360"/>
          </a:xfrm>
          <a:custGeom>
            <a:avLst/>
            <a:gdLst/>
            <a:ahLst/>
            <a:rect l="0" t="0" r="r" b="b"/>
            <a:pathLst>
              <a:path fill="none" w="2188" h="901">
                <a:moveTo>
                  <a:pt x="2188" y="901"/>
                </a:moveTo>
                <a:lnTo>
                  <a:pt x="0" y="901"/>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199" name=""/>
          <p:cNvSpPr/>
          <p:nvPr/>
        </p:nvSpPr>
        <p:spPr>
          <a:xfrm>
            <a:off x="3259080" y="4349880"/>
            <a:ext cx="957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0" name=""/>
          <p:cNvSpPr/>
          <p:nvPr/>
        </p:nvSpPr>
        <p:spPr>
          <a:xfrm>
            <a:off x="3162240" y="4349880"/>
            <a:ext cx="97200" cy="97200"/>
          </a:xfrm>
          <a:custGeom>
            <a:avLst/>
            <a:gdLst/>
            <a:ahLst/>
            <a:rect l="0" t="0" r="r" b="b"/>
            <a:pathLst>
              <a:path fill="none" w="270" h="270">
                <a:moveTo>
                  <a:pt x="270" y="0"/>
                </a:moveTo>
                <a:lnTo>
                  <a:pt x="251" y="0"/>
                </a:lnTo>
                <a:lnTo>
                  <a:pt x="242" y="0"/>
                </a:lnTo>
                <a:lnTo>
                  <a:pt x="222" y="9"/>
                </a:lnTo>
                <a:lnTo>
                  <a:pt x="202" y="9"/>
                </a:lnTo>
                <a:lnTo>
                  <a:pt x="193" y="9"/>
                </a:lnTo>
                <a:lnTo>
                  <a:pt x="173" y="19"/>
                </a:lnTo>
                <a:lnTo>
                  <a:pt x="164" y="19"/>
                </a:lnTo>
                <a:lnTo>
                  <a:pt x="154" y="28"/>
                </a:lnTo>
                <a:lnTo>
                  <a:pt x="135" y="38"/>
                </a:lnTo>
                <a:lnTo>
                  <a:pt x="125" y="48"/>
                </a:lnTo>
                <a:lnTo>
                  <a:pt x="116" y="48"/>
                </a:lnTo>
                <a:lnTo>
                  <a:pt x="97" y="57"/>
                </a:lnTo>
                <a:lnTo>
                  <a:pt x="87" y="68"/>
                </a:lnTo>
                <a:lnTo>
                  <a:pt x="77" y="77"/>
                </a:lnTo>
                <a:lnTo>
                  <a:pt x="68" y="87"/>
                </a:lnTo>
                <a:lnTo>
                  <a:pt x="57" y="106"/>
                </a:lnTo>
                <a:lnTo>
                  <a:pt x="48" y="116"/>
                </a:lnTo>
                <a:lnTo>
                  <a:pt x="38" y="125"/>
                </a:lnTo>
                <a:lnTo>
                  <a:pt x="28" y="145"/>
                </a:lnTo>
                <a:lnTo>
                  <a:pt x="28" y="154"/>
                </a:lnTo>
                <a:lnTo>
                  <a:pt x="19" y="164"/>
                </a:lnTo>
                <a:lnTo>
                  <a:pt x="9" y="183"/>
                </a:lnTo>
                <a:lnTo>
                  <a:pt x="9" y="193"/>
                </a:lnTo>
                <a:lnTo>
                  <a:pt x="9" y="213"/>
                </a:lnTo>
                <a:lnTo>
                  <a:pt x="0" y="222"/>
                </a:lnTo>
                <a:lnTo>
                  <a:pt x="0" y="242"/>
                </a:lnTo>
                <a:lnTo>
                  <a:pt x="0" y="251"/>
                </a:lnTo>
                <a:lnTo>
                  <a:pt x="0" y="270"/>
                </a:lnTo>
              </a:path>
            </a:pathLst>
          </a:custGeom>
          <a:ln w="12600">
            <a:solidFill>
              <a:srgbClr val="f2fefd"/>
            </a:solidFill>
            <a:round/>
          </a:ln>
        </p:spPr>
        <p:txBody>
          <a:bodyPr lIns="96120" rIns="96120" tIns="46080" bIns="46080" anchor="t">
            <a:noAutofit/>
          </a:bodyPr>
          <a:p>
            <a:endParaRPr b="0" lang="en-US" sz="1800" spc="-1" strike="noStrike">
              <a:solidFill>
                <a:srgbClr val="000000"/>
              </a:solidFill>
              <a:latin typeface="Arial"/>
            </a:endParaRPr>
          </a:p>
        </p:txBody>
      </p:sp>
      <p:sp>
        <p:nvSpPr>
          <p:cNvPr id="9201" name=""/>
          <p:cNvSpPr/>
          <p:nvPr/>
        </p:nvSpPr>
        <p:spPr>
          <a:xfrm>
            <a:off x="4216320" y="4349880"/>
            <a:ext cx="92520" cy="97200"/>
          </a:xfrm>
          <a:custGeom>
            <a:avLst/>
            <a:gdLst/>
            <a:ahLst/>
            <a:rect l="0" t="0" r="r" b="b"/>
            <a:pathLst>
              <a:path fill="none" w="257" h="270">
                <a:moveTo>
                  <a:pt x="257" y="270"/>
                </a:moveTo>
                <a:lnTo>
                  <a:pt x="257" y="251"/>
                </a:lnTo>
                <a:lnTo>
                  <a:pt x="257" y="242"/>
                </a:lnTo>
                <a:lnTo>
                  <a:pt x="257" y="222"/>
                </a:lnTo>
                <a:lnTo>
                  <a:pt x="257" y="213"/>
                </a:lnTo>
                <a:lnTo>
                  <a:pt x="248" y="193"/>
                </a:lnTo>
                <a:lnTo>
                  <a:pt x="248" y="183"/>
                </a:lnTo>
                <a:lnTo>
                  <a:pt x="238" y="164"/>
                </a:lnTo>
                <a:lnTo>
                  <a:pt x="238" y="154"/>
                </a:lnTo>
                <a:lnTo>
                  <a:pt x="229" y="145"/>
                </a:lnTo>
                <a:lnTo>
                  <a:pt x="219" y="125"/>
                </a:lnTo>
                <a:lnTo>
                  <a:pt x="210" y="116"/>
                </a:lnTo>
                <a:lnTo>
                  <a:pt x="200" y="106"/>
                </a:lnTo>
                <a:lnTo>
                  <a:pt x="190" y="87"/>
                </a:lnTo>
                <a:lnTo>
                  <a:pt x="180" y="77"/>
                </a:lnTo>
                <a:lnTo>
                  <a:pt x="171" y="68"/>
                </a:lnTo>
                <a:lnTo>
                  <a:pt x="162" y="57"/>
                </a:lnTo>
                <a:lnTo>
                  <a:pt x="152" y="48"/>
                </a:lnTo>
                <a:lnTo>
                  <a:pt x="133" y="48"/>
                </a:lnTo>
                <a:lnTo>
                  <a:pt x="124" y="38"/>
                </a:lnTo>
                <a:lnTo>
                  <a:pt x="114" y="28"/>
                </a:lnTo>
                <a:lnTo>
                  <a:pt x="95" y="19"/>
                </a:lnTo>
                <a:lnTo>
                  <a:pt x="86" y="19"/>
                </a:lnTo>
                <a:lnTo>
                  <a:pt x="67" y="9"/>
                </a:lnTo>
                <a:lnTo>
                  <a:pt x="56" y="9"/>
                </a:lnTo>
                <a:lnTo>
                  <a:pt x="37" y="9"/>
                </a:lnTo>
                <a:lnTo>
                  <a:pt x="28" y="0"/>
                </a:lnTo>
                <a:lnTo>
                  <a:pt x="9" y="0"/>
                </a:lnTo>
                <a:lnTo>
                  <a:pt x="0" y="0"/>
                </a:lnTo>
              </a:path>
            </a:pathLst>
          </a:custGeom>
          <a:ln w="12600">
            <a:solidFill>
              <a:srgbClr val="f2fefd"/>
            </a:solidFill>
            <a:round/>
          </a:ln>
        </p:spPr>
        <p:txBody>
          <a:bodyPr lIns="96120" rIns="96120" tIns="46080" bIns="46080" anchor="t">
            <a:noAutofit/>
          </a:bodyPr>
          <a:p>
            <a:endParaRPr b="0" lang="en-US" sz="1800" spc="-1" strike="noStrike">
              <a:solidFill>
                <a:srgbClr val="000000"/>
              </a:solidFill>
              <a:latin typeface="Arial"/>
            </a:endParaRPr>
          </a:p>
        </p:txBody>
      </p:sp>
      <p:sp>
        <p:nvSpPr>
          <p:cNvPr id="9202" name=""/>
          <p:cNvSpPr/>
          <p:nvPr/>
        </p:nvSpPr>
        <p:spPr>
          <a:xfrm>
            <a:off x="6219720" y="4344840"/>
            <a:ext cx="0" cy="2336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3" name=""/>
          <p:cNvSpPr/>
          <p:nvPr/>
        </p:nvSpPr>
        <p:spPr>
          <a:xfrm>
            <a:off x="5443560" y="4138560"/>
            <a:ext cx="54360" cy="14760"/>
          </a:xfrm>
          <a:custGeom>
            <a:avLst/>
            <a:gdLst/>
            <a:ahLst/>
            <a:rect l="0" t="0" r="r" b="b"/>
            <a:pathLst>
              <a:path fill="none" w="151" h="41">
                <a:moveTo>
                  <a:pt x="0" y="0"/>
                </a:moveTo>
                <a:lnTo>
                  <a:pt x="0" y="9"/>
                </a:lnTo>
                <a:lnTo>
                  <a:pt x="9" y="20"/>
                </a:lnTo>
                <a:lnTo>
                  <a:pt x="19" y="20"/>
                </a:lnTo>
                <a:lnTo>
                  <a:pt x="29" y="30"/>
                </a:lnTo>
                <a:lnTo>
                  <a:pt x="40" y="30"/>
                </a:lnTo>
                <a:lnTo>
                  <a:pt x="50" y="30"/>
                </a:lnTo>
                <a:lnTo>
                  <a:pt x="60" y="30"/>
                </a:lnTo>
                <a:lnTo>
                  <a:pt x="70" y="41"/>
                </a:lnTo>
                <a:lnTo>
                  <a:pt x="80" y="41"/>
                </a:lnTo>
                <a:lnTo>
                  <a:pt x="90" y="41"/>
                </a:lnTo>
                <a:lnTo>
                  <a:pt x="90" y="30"/>
                </a:lnTo>
                <a:lnTo>
                  <a:pt x="100" y="30"/>
                </a:lnTo>
                <a:lnTo>
                  <a:pt x="110" y="30"/>
                </a:lnTo>
                <a:lnTo>
                  <a:pt x="121" y="30"/>
                </a:lnTo>
                <a:lnTo>
                  <a:pt x="131" y="20"/>
                </a:lnTo>
                <a:lnTo>
                  <a:pt x="141" y="20"/>
                </a:lnTo>
                <a:lnTo>
                  <a:pt x="151" y="9"/>
                </a:lnTo>
                <a:lnTo>
                  <a:pt x="151" y="0"/>
                </a:lnTo>
              </a:path>
            </a:pathLst>
          </a:custGeom>
          <a:ln w="12600">
            <a:solidFill>
              <a:srgbClr val="f2fefd"/>
            </a:solidFill>
            <a:round/>
          </a:ln>
        </p:spPr>
        <p:txBody>
          <a:bodyPr lIns="96120" rIns="96120" tIns="-36360" bIns="-36360" anchor="t">
            <a:noAutofit/>
          </a:bodyPr>
          <a:p>
            <a:endParaRPr b="0" lang="en-US" sz="1800" spc="-1" strike="noStrike">
              <a:solidFill>
                <a:srgbClr val="000000"/>
              </a:solidFill>
              <a:latin typeface="Arial"/>
            </a:endParaRPr>
          </a:p>
        </p:txBody>
      </p:sp>
      <p:sp>
        <p:nvSpPr>
          <p:cNvPr id="9204" name=""/>
          <p:cNvSpPr/>
          <p:nvPr/>
        </p:nvSpPr>
        <p:spPr>
          <a:xfrm>
            <a:off x="6183360" y="4181400"/>
            <a:ext cx="74880" cy="232200"/>
          </a:xfrm>
          <a:custGeom>
            <a:avLst/>
            <a:gdLst/>
            <a:ahLst/>
            <a:rect l="0" t="0" r="r" b="b"/>
            <a:pathLst>
              <a:path w="208" h="645">
                <a:moveTo>
                  <a:pt x="0" y="645"/>
                </a:moveTo>
                <a:lnTo>
                  <a:pt x="208" y="645"/>
                </a:lnTo>
                <a:lnTo>
                  <a:pt x="103" y="0"/>
                </a:lnTo>
                <a:lnTo>
                  <a:pt x="0" y="645"/>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205" name=""/>
          <p:cNvSpPr/>
          <p:nvPr/>
        </p:nvSpPr>
        <p:spPr>
          <a:xfrm>
            <a:off x="3259080" y="3405240"/>
            <a:ext cx="957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6" name=""/>
          <p:cNvSpPr/>
          <p:nvPr/>
        </p:nvSpPr>
        <p:spPr>
          <a:xfrm>
            <a:off x="3162240" y="3306600"/>
            <a:ext cx="97200" cy="98640"/>
          </a:xfrm>
          <a:custGeom>
            <a:avLst/>
            <a:gdLst/>
            <a:ahLst/>
            <a:rect l="0" t="0" r="r" b="b"/>
            <a:pathLst>
              <a:path fill="none" w="270" h="274">
                <a:moveTo>
                  <a:pt x="0" y="0"/>
                </a:moveTo>
                <a:lnTo>
                  <a:pt x="0" y="9"/>
                </a:lnTo>
                <a:lnTo>
                  <a:pt x="0" y="29"/>
                </a:lnTo>
                <a:lnTo>
                  <a:pt x="0" y="48"/>
                </a:lnTo>
                <a:lnTo>
                  <a:pt x="9" y="58"/>
                </a:lnTo>
                <a:lnTo>
                  <a:pt x="9" y="78"/>
                </a:lnTo>
                <a:lnTo>
                  <a:pt x="9" y="87"/>
                </a:lnTo>
                <a:lnTo>
                  <a:pt x="19" y="107"/>
                </a:lnTo>
                <a:lnTo>
                  <a:pt x="28" y="117"/>
                </a:lnTo>
                <a:lnTo>
                  <a:pt x="28" y="126"/>
                </a:lnTo>
                <a:lnTo>
                  <a:pt x="38" y="147"/>
                </a:lnTo>
                <a:lnTo>
                  <a:pt x="48" y="157"/>
                </a:lnTo>
                <a:lnTo>
                  <a:pt x="57" y="166"/>
                </a:lnTo>
                <a:lnTo>
                  <a:pt x="68" y="176"/>
                </a:lnTo>
                <a:lnTo>
                  <a:pt x="77" y="196"/>
                </a:lnTo>
                <a:lnTo>
                  <a:pt x="87" y="206"/>
                </a:lnTo>
                <a:lnTo>
                  <a:pt x="97" y="215"/>
                </a:lnTo>
                <a:lnTo>
                  <a:pt x="116" y="225"/>
                </a:lnTo>
                <a:lnTo>
                  <a:pt x="125" y="225"/>
                </a:lnTo>
                <a:lnTo>
                  <a:pt x="135" y="235"/>
                </a:lnTo>
                <a:lnTo>
                  <a:pt x="154" y="245"/>
                </a:lnTo>
                <a:lnTo>
                  <a:pt x="164" y="254"/>
                </a:lnTo>
                <a:lnTo>
                  <a:pt x="173" y="254"/>
                </a:lnTo>
                <a:lnTo>
                  <a:pt x="193" y="264"/>
                </a:lnTo>
                <a:lnTo>
                  <a:pt x="202" y="264"/>
                </a:lnTo>
                <a:lnTo>
                  <a:pt x="222" y="264"/>
                </a:lnTo>
                <a:lnTo>
                  <a:pt x="242" y="274"/>
                </a:lnTo>
                <a:lnTo>
                  <a:pt x="251" y="274"/>
                </a:lnTo>
                <a:lnTo>
                  <a:pt x="270" y="274"/>
                </a:lnTo>
              </a:path>
            </a:pathLst>
          </a:custGeom>
          <a:ln w="12600">
            <a:solidFill>
              <a:srgbClr val="f2fefd"/>
            </a:solidFill>
            <a:round/>
          </a:ln>
        </p:spPr>
        <p:txBody>
          <a:bodyPr lIns="96120" rIns="96120" tIns="47520" bIns="47520" anchor="t">
            <a:noAutofit/>
          </a:bodyPr>
          <a:p>
            <a:endParaRPr b="0" lang="en-US" sz="1800" spc="-1" strike="noStrike">
              <a:solidFill>
                <a:srgbClr val="000000"/>
              </a:solidFill>
              <a:latin typeface="Arial"/>
            </a:endParaRPr>
          </a:p>
        </p:txBody>
      </p:sp>
      <p:sp>
        <p:nvSpPr>
          <p:cNvPr id="9207" name=""/>
          <p:cNvSpPr/>
          <p:nvPr/>
        </p:nvSpPr>
        <p:spPr>
          <a:xfrm>
            <a:off x="4216320" y="3306600"/>
            <a:ext cx="92520" cy="98640"/>
          </a:xfrm>
          <a:custGeom>
            <a:avLst/>
            <a:gdLst/>
            <a:ahLst/>
            <a:rect l="0" t="0" r="r" b="b"/>
            <a:pathLst>
              <a:path fill="none" w="257" h="274">
                <a:moveTo>
                  <a:pt x="0" y="274"/>
                </a:moveTo>
                <a:lnTo>
                  <a:pt x="9" y="274"/>
                </a:lnTo>
                <a:lnTo>
                  <a:pt x="28" y="274"/>
                </a:lnTo>
                <a:lnTo>
                  <a:pt x="37" y="264"/>
                </a:lnTo>
                <a:lnTo>
                  <a:pt x="56" y="264"/>
                </a:lnTo>
                <a:lnTo>
                  <a:pt x="67" y="264"/>
                </a:lnTo>
                <a:lnTo>
                  <a:pt x="86" y="254"/>
                </a:lnTo>
                <a:lnTo>
                  <a:pt x="95" y="254"/>
                </a:lnTo>
                <a:lnTo>
                  <a:pt x="114" y="245"/>
                </a:lnTo>
                <a:lnTo>
                  <a:pt x="124" y="235"/>
                </a:lnTo>
                <a:lnTo>
                  <a:pt x="133" y="225"/>
                </a:lnTo>
                <a:lnTo>
                  <a:pt x="152" y="225"/>
                </a:lnTo>
                <a:lnTo>
                  <a:pt x="162" y="215"/>
                </a:lnTo>
                <a:lnTo>
                  <a:pt x="171" y="206"/>
                </a:lnTo>
                <a:lnTo>
                  <a:pt x="180" y="196"/>
                </a:lnTo>
                <a:lnTo>
                  <a:pt x="190" y="176"/>
                </a:lnTo>
                <a:lnTo>
                  <a:pt x="200" y="166"/>
                </a:lnTo>
                <a:lnTo>
                  <a:pt x="210" y="157"/>
                </a:lnTo>
                <a:lnTo>
                  <a:pt x="219" y="147"/>
                </a:lnTo>
                <a:lnTo>
                  <a:pt x="229" y="126"/>
                </a:lnTo>
                <a:lnTo>
                  <a:pt x="238" y="117"/>
                </a:lnTo>
                <a:lnTo>
                  <a:pt x="238" y="107"/>
                </a:lnTo>
                <a:lnTo>
                  <a:pt x="248" y="87"/>
                </a:lnTo>
                <a:lnTo>
                  <a:pt x="248" y="78"/>
                </a:lnTo>
                <a:lnTo>
                  <a:pt x="257" y="58"/>
                </a:lnTo>
                <a:lnTo>
                  <a:pt x="257" y="48"/>
                </a:lnTo>
                <a:lnTo>
                  <a:pt x="257" y="29"/>
                </a:lnTo>
                <a:lnTo>
                  <a:pt x="257" y="9"/>
                </a:lnTo>
                <a:lnTo>
                  <a:pt x="257" y="0"/>
                </a:lnTo>
              </a:path>
            </a:pathLst>
          </a:custGeom>
          <a:ln w="12600">
            <a:solidFill>
              <a:srgbClr val="f2fefd"/>
            </a:solidFill>
            <a:round/>
          </a:ln>
        </p:spPr>
        <p:txBody>
          <a:bodyPr lIns="96120" rIns="96120" tIns="47520" bIns="47520" anchor="t">
            <a:noAutofit/>
          </a:bodyPr>
          <a:p>
            <a:endParaRPr b="0" lang="en-US" sz="1800" spc="-1" strike="noStrike">
              <a:solidFill>
                <a:srgbClr val="000000"/>
              </a:solidFill>
              <a:latin typeface="Arial"/>
            </a:endParaRPr>
          </a:p>
        </p:txBody>
      </p:sp>
      <p:sp>
        <p:nvSpPr>
          <p:cNvPr id="9208" name=""/>
          <p:cNvSpPr/>
          <p:nvPr/>
        </p:nvSpPr>
        <p:spPr>
          <a:xfrm flipH="1">
            <a:off x="5102280" y="3606840"/>
            <a:ext cx="834840" cy="36360"/>
          </a:xfrm>
          <a:prstGeom prst="line">
            <a:avLst/>
          </a:prstGeom>
          <a:ln w="12600">
            <a:solidFill>
              <a:srgbClr val="f2fefd"/>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9209" name=""/>
          <p:cNvSpPr/>
          <p:nvPr/>
        </p:nvSpPr>
        <p:spPr>
          <a:xfrm>
            <a:off x="5095800" y="3592440"/>
            <a:ext cx="12574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10" name=""/>
          <p:cNvSpPr/>
          <p:nvPr/>
        </p:nvSpPr>
        <p:spPr>
          <a:xfrm>
            <a:off x="6183360" y="3349800"/>
            <a:ext cx="74880" cy="233640"/>
          </a:xfrm>
          <a:custGeom>
            <a:avLst/>
            <a:gdLst/>
            <a:ahLst/>
            <a:rect l="0" t="0" r="r" b="b"/>
            <a:pathLst>
              <a:path w="208" h="649">
                <a:moveTo>
                  <a:pt x="0" y="0"/>
                </a:moveTo>
                <a:lnTo>
                  <a:pt x="208" y="0"/>
                </a:lnTo>
                <a:lnTo>
                  <a:pt x="103" y="649"/>
                </a:lnTo>
                <a:lnTo>
                  <a:pt x="0" y="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211" name=""/>
          <p:cNvSpPr/>
          <p:nvPr/>
        </p:nvSpPr>
        <p:spPr>
          <a:xfrm flipV="1">
            <a:off x="2357280" y="2701800"/>
            <a:ext cx="804960" cy="100080"/>
          </a:xfrm>
          <a:prstGeom prst="line">
            <a:avLst/>
          </a:prstGeom>
          <a:ln w="12600">
            <a:solidFill>
              <a:srgbClr val="f2fefd"/>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9212" name=""/>
          <p:cNvSpPr/>
          <p:nvPr/>
        </p:nvSpPr>
        <p:spPr>
          <a:xfrm>
            <a:off x="1822320" y="2701800"/>
            <a:ext cx="78120" cy="233640"/>
          </a:xfrm>
          <a:custGeom>
            <a:avLst/>
            <a:gdLst/>
            <a:ahLst/>
            <a:rect l="0" t="0" r="r" b="b"/>
            <a:pathLst>
              <a:path w="217" h="649">
                <a:moveTo>
                  <a:pt x="0" y="649"/>
                </a:moveTo>
                <a:lnTo>
                  <a:pt x="217" y="649"/>
                </a:lnTo>
                <a:lnTo>
                  <a:pt x="108" y="0"/>
                </a:lnTo>
                <a:lnTo>
                  <a:pt x="0" y="649"/>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213" name=""/>
          <p:cNvSpPr/>
          <p:nvPr/>
        </p:nvSpPr>
        <p:spPr>
          <a:xfrm>
            <a:off x="5246640" y="3409920"/>
            <a:ext cx="133560" cy="227520"/>
          </a:xfrm>
          <a:custGeom>
            <a:avLst/>
            <a:gdLst/>
            <a:ahLst/>
            <a:rect l="0" t="0" r="r" b="b"/>
            <a:pathLst>
              <a:path w="371" h="632">
                <a:moveTo>
                  <a:pt x="371" y="97"/>
                </a:moveTo>
                <a:lnTo>
                  <a:pt x="0" y="632"/>
                </a:lnTo>
                <a:lnTo>
                  <a:pt x="175" y="0"/>
                </a:lnTo>
                <a:lnTo>
                  <a:pt x="371" y="97"/>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214" name=""/>
          <p:cNvSpPr/>
          <p:nvPr/>
        </p:nvSpPr>
        <p:spPr>
          <a:xfrm>
            <a:off x="2502000" y="1641600"/>
            <a:ext cx="284400" cy="873360"/>
          </a:xfrm>
          <a:custGeom>
            <a:avLst/>
            <a:gdLst/>
            <a:ahLst/>
            <a:rect l="0" t="0" r="r" b="b"/>
            <a:pathLst>
              <a:path fill="none" w="790" h="2426">
                <a:moveTo>
                  <a:pt x="790" y="2426"/>
                </a:moveTo>
                <a:lnTo>
                  <a:pt x="488"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215" name=""/>
          <p:cNvSpPr/>
          <p:nvPr/>
        </p:nvSpPr>
        <p:spPr>
          <a:xfrm>
            <a:off x="4308480" y="2984400"/>
            <a:ext cx="787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6" name=""/>
          <p:cNvSpPr txBox="1"/>
          <p:nvPr/>
        </p:nvSpPr>
        <p:spPr>
          <a:xfrm>
            <a:off x="625320" y="1471680"/>
            <a:ext cx="19479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A</a:t>
            </a:r>
            <a:endParaRPr b="0" lang="en-US" sz="2000" spc="-1" strike="noStrike">
              <a:solidFill>
                <a:srgbClr val="000000"/>
              </a:solidFill>
              <a:latin typeface="Arial"/>
            </a:endParaRPr>
          </a:p>
        </p:txBody>
      </p:sp>
      <p:sp>
        <p:nvSpPr>
          <p:cNvPr id="9217" name=""/>
          <p:cNvSpPr txBox="1"/>
          <p:nvPr/>
        </p:nvSpPr>
        <p:spPr>
          <a:xfrm>
            <a:off x="4203720" y="2057400"/>
            <a:ext cx="19191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Axis A-B</a:t>
            </a:r>
            <a:endParaRPr b="0" lang="en-US" sz="2000" spc="-1" strike="noStrike">
              <a:solidFill>
                <a:srgbClr val="000000"/>
              </a:solidFill>
              <a:latin typeface="Arial"/>
            </a:endParaRPr>
          </a:p>
        </p:txBody>
      </p:sp>
      <p:sp>
        <p:nvSpPr>
          <p:cNvPr id="9218" name=""/>
          <p:cNvSpPr txBox="1"/>
          <p:nvPr/>
        </p:nvSpPr>
        <p:spPr>
          <a:xfrm>
            <a:off x="5830920" y="2624040"/>
            <a:ext cx="19335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B</a:t>
            </a:r>
            <a:endParaRPr b="0" lang="en-US" sz="2000" spc="-1" strike="noStrike">
              <a:solidFill>
                <a:srgbClr val="000000"/>
              </a:solidFill>
              <a:latin typeface="Arial"/>
            </a:endParaRPr>
          </a:p>
        </p:txBody>
      </p:sp>
      <p:sp>
        <p:nvSpPr>
          <p:cNvPr id="9219" name=""/>
          <p:cNvSpPr txBox="1"/>
          <p:nvPr/>
        </p:nvSpPr>
        <p:spPr>
          <a:xfrm>
            <a:off x="2076480" y="5413320"/>
            <a:ext cx="265284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Smallest pair of </a:t>
            </a:r>
            <a:r>
              <a:rPr b="0" lang="en-US" sz="2000" spc="-1" strike="noStrike">
                <a:solidFill>
                  <a:srgbClr val="ffff00"/>
                </a:solidFill>
                <a:latin typeface="Times New Roman"/>
                <a:ea typeface="Times New Roman"/>
              </a:rPr>
              <a:t>coaxial </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circumscribed cylinders</a:t>
            </a:r>
            <a:endParaRPr b="0" lang="en-US" sz="2000" spc="-1" strike="noStrike">
              <a:solidFill>
                <a:srgbClr val="000000"/>
              </a:solidFill>
              <a:latin typeface="Arial"/>
            </a:endParaRPr>
          </a:p>
        </p:txBody>
      </p:sp>
      <p:sp>
        <p:nvSpPr>
          <p:cNvPr id="9220" name=""/>
          <p:cNvSpPr/>
          <p:nvPr/>
        </p:nvSpPr>
        <p:spPr>
          <a:xfrm>
            <a:off x="4583160" y="5921280"/>
            <a:ext cx="264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1" name=""/>
          <p:cNvSpPr/>
          <p:nvPr/>
        </p:nvSpPr>
        <p:spPr>
          <a:xfrm flipV="1">
            <a:off x="4859280" y="4591080"/>
            <a:ext cx="1360440" cy="1319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2" name=""/>
          <p:cNvSpPr/>
          <p:nvPr/>
        </p:nvSpPr>
        <p:spPr>
          <a:xfrm flipV="1">
            <a:off x="5095800" y="4114800"/>
            <a:ext cx="838440" cy="38160"/>
          </a:xfrm>
          <a:prstGeom prst="line">
            <a:avLst/>
          </a:prstGeom>
          <a:ln w="12600">
            <a:solidFill>
              <a:srgbClr val="ffffff"/>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9223" name=""/>
          <p:cNvSpPr/>
          <p:nvPr/>
        </p:nvSpPr>
        <p:spPr>
          <a:xfrm>
            <a:off x="5095800" y="4172040"/>
            <a:ext cx="12477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4" name=""/>
          <p:cNvSpPr/>
          <p:nvPr/>
        </p:nvSpPr>
        <p:spPr>
          <a:xfrm flipH="1">
            <a:off x="1627200" y="2682720"/>
            <a:ext cx="15350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25" name=""/>
          <p:cNvSpPr/>
          <p:nvPr/>
        </p:nvSpPr>
        <p:spPr>
          <a:xfrm>
            <a:off x="2744640" y="2506680"/>
            <a:ext cx="78120" cy="236880"/>
          </a:xfrm>
          <a:custGeom>
            <a:avLst/>
            <a:gdLst/>
            <a:ahLst/>
            <a:rect l="0" t="0" r="r" b="b"/>
            <a:pathLst>
              <a:path w="217" h="658">
                <a:moveTo>
                  <a:pt x="217" y="0"/>
                </a:moveTo>
                <a:lnTo>
                  <a:pt x="187" y="658"/>
                </a:lnTo>
                <a:lnTo>
                  <a:pt x="0" y="28"/>
                </a:lnTo>
                <a:lnTo>
                  <a:pt x="217" y="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226" name=""/>
          <p:cNvGrpSpPr/>
          <p:nvPr/>
        </p:nvGrpSpPr>
        <p:grpSpPr>
          <a:xfrm>
            <a:off x="6966000" y="1281240"/>
            <a:ext cx="1951560" cy="1230480"/>
            <a:chOff x="6966000" y="1281240"/>
            <a:chExt cx="1951560" cy="1230480"/>
          </a:xfrm>
        </p:grpSpPr>
        <p:sp>
          <p:nvSpPr>
            <p:cNvPr id="9227" name=""/>
            <p:cNvSpPr/>
            <p:nvPr/>
          </p:nvSpPr>
          <p:spPr>
            <a:xfrm flipH="1" flipV="1">
              <a:off x="8105760" y="1808280"/>
              <a:ext cx="6480" cy="90360"/>
            </a:xfrm>
            <a:prstGeom prst="line">
              <a:avLst/>
            </a:prstGeom>
            <a:ln w="12600">
              <a:solidFill>
                <a:srgbClr val="f2fefd"/>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9228" name=""/>
            <p:cNvSpPr/>
            <p:nvPr/>
          </p:nvSpPr>
          <p:spPr>
            <a:xfrm flipH="1">
              <a:off x="7704000" y="1898640"/>
              <a:ext cx="408240" cy="50760"/>
            </a:xfrm>
            <a:prstGeom prst="line">
              <a:avLst/>
            </a:prstGeom>
            <a:ln w="12600">
              <a:solidFill>
                <a:srgbClr val="f2fefd"/>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9229" name=""/>
            <p:cNvSpPr/>
            <p:nvPr/>
          </p:nvSpPr>
          <p:spPr>
            <a:xfrm flipV="1">
              <a:off x="8105760" y="1898640"/>
              <a:ext cx="648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230" name=""/>
            <p:cNvSpPr/>
            <p:nvPr/>
          </p:nvSpPr>
          <p:spPr>
            <a:xfrm flipV="1">
              <a:off x="7704000" y="1808280"/>
              <a:ext cx="401760" cy="131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31" name=""/>
            <p:cNvSpPr/>
            <p:nvPr/>
          </p:nvSpPr>
          <p:spPr>
            <a:xfrm flipV="1">
              <a:off x="8091360" y="1973160"/>
              <a:ext cx="14400" cy="54000"/>
            </a:xfrm>
            <a:prstGeom prst="line">
              <a:avLst/>
            </a:prstGeom>
            <a:ln w="12600">
              <a:solidFill>
                <a:srgbClr val="f2fefd"/>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9232" name=""/>
            <p:cNvSpPr/>
            <p:nvPr/>
          </p:nvSpPr>
          <p:spPr>
            <a:xfrm>
              <a:off x="7705800" y="1957320"/>
              <a:ext cx="400320" cy="66960"/>
            </a:xfrm>
            <a:custGeom>
              <a:avLst/>
              <a:gdLst/>
              <a:ahLst/>
              <a:rect l="0" t="0" r="r" b="b"/>
              <a:pathLst>
                <a:path fill="none" w="1112" h="186">
                  <a:moveTo>
                    <a:pt x="8" y="186"/>
                  </a:moveTo>
                  <a:lnTo>
                    <a:pt x="1112" y="45"/>
                  </a:lnTo>
                  <a:lnTo>
                    <a:pt x="0" y="0"/>
                  </a:lnTo>
                </a:path>
              </a:pathLst>
            </a:custGeom>
            <a:ln w="12600">
              <a:solidFill>
                <a:srgbClr val="f2fefd"/>
              </a:solidFill>
              <a:round/>
            </a:ln>
          </p:spPr>
          <p:txBody>
            <a:bodyPr lIns="96120" rIns="96120" tIns="15840" bIns="15840" anchor="t">
              <a:noAutofit/>
            </a:bodyPr>
            <a:p>
              <a:endParaRPr b="0" lang="en-US" sz="1800" spc="-1" strike="noStrike">
                <a:solidFill>
                  <a:srgbClr val="000000"/>
                </a:solidFill>
                <a:latin typeface="Arial"/>
              </a:endParaRPr>
            </a:p>
          </p:txBody>
        </p:sp>
        <p:sp>
          <p:nvSpPr>
            <p:cNvPr id="9233" name=""/>
            <p:cNvSpPr/>
            <p:nvPr/>
          </p:nvSpPr>
          <p:spPr>
            <a:xfrm flipH="1" flipV="1">
              <a:off x="8091360" y="1717560"/>
              <a:ext cx="14400" cy="90720"/>
            </a:xfrm>
            <a:prstGeom prst="line">
              <a:avLst/>
            </a:prstGeom>
            <a:ln w="12600">
              <a:solidFill>
                <a:srgbClr val="f2fefd"/>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9234" name=""/>
            <p:cNvSpPr/>
            <p:nvPr/>
          </p:nvSpPr>
          <p:spPr>
            <a:xfrm>
              <a:off x="7683480" y="1776240"/>
              <a:ext cx="422640" cy="82800"/>
            </a:xfrm>
            <a:custGeom>
              <a:avLst/>
              <a:gdLst/>
              <a:ahLst/>
              <a:rect l="0" t="0" r="r" b="b"/>
              <a:pathLst>
                <a:path fill="none" w="1174" h="230">
                  <a:moveTo>
                    <a:pt x="30" y="230"/>
                  </a:moveTo>
                  <a:lnTo>
                    <a:pt x="1174" y="86"/>
                  </a:lnTo>
                  <a:lnTo>
                    <a:pt x="0" y="0"/>
                  </a:lnTo>
                </a:path>
              </a:pathLst>
            </a:custGeom>
            <a:ln w="12600">
              <a:solidFill>
                <a:srgbClr val="f2fefd"/>
              </a:solidFill>
              <a:round/>
            </a:ln>
          </p:spPr>
          <p:txBody>
            <a:bodyPr lIns="96120" rIns="96120" tIns="31680" bIns="31680" anchor="t">
              <a:noAutofit/>
            </a:bodyPr>
            <a:p>
              <a:endParaRPr b="0" lang="en-US" sz="1800" spc="-1" strike="noStrike">
                <a:solidFill>
                  <a:srgbClr val="000000"/>
                </a:solidFill>
                <a:latin typeface="Arial"/>
              </a:endParaRPr>
            </a:p>
          </p:txBody>
        </p:sp>
        <p:sp>
          <p:nvSpPr>
            <p:cNvPr id="9235" name=""/>
            <p:cNvSpPr/>
            <p:nvPr/>
          </p:nvSpPr>
          <p:spPr>
            <a:xfrm flipV="1">
              <a:off x="8069400" y="2027160"/>
              <a:ext cx="21960" cy="17640"/>
            </a:xfrm>
            <a:prstGeom prst="line">
              <a:avLst/>
            </a:prstGeom>
            <a:ln w="12600">
              <a:solidFill>
                <a:srgbClr val="f2fefd"/>
              </a:solidFill>
              <a:round/>
            </a:ln>
          </p:spPr>
          <p:style>
            <a:lnRef idx="0"/>
            <a:fillRef idx="0"/>
            <a:effectRef idx="0"/>
            <a:fontRef idx="minor"/>
          </p:style>
          <p:txBody>
            <a:bodyPr lIns="96120" rIns="96120" tIns="-33480" bIns="-33480" anchor="t">
              <a:noAutofit/>
            </a:bodyPr>
            <a:p>
              <a:endParaRPr b="0" lang="en-US" sz="1800" spc="-1" strike="noStrike">
                <a:solidFill>
                  <a:srgbClr val="000000"/>
                </a:solidFill>
                <a:latin typeface="Arial"/>
              </a:endParaRPr>
            </a:p>
          </p:txBody>
        </p:sp>
        <p:sp>
          <p:nvSpPr>
            <p:cNvPr id="9236" name=""/>
            <p:cNvSpPr/>
            <p:nvPr/>
          </p:nvSpPr>
          <p:spPr>
            <a:xfrm>
              <a:off x="7709040" y="2027160"/>
              <a:ext cx="383040" cy="47880"/>
            </a:xfrm>
            <a:custGeom>
              <a:avLst/>
              <a:gdLst/>
              <a:ahLst/>
              <a:rect l="0" t="0" r="r" b="b"/>
              <a:pathLst>
                <a:path fill="none" w="1064" h="133">
                  <a:moveTo>
                    <a:pt x="0" y="133"/>
                  </a:moveTo>
                  <a:lnTo>
                    <a:pt x="1064" y="0"/>
                  </a:lnTo>
                  <a:lnTo>
                    <a:pt x="0" y="15"/>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237" name=""/>
            <p:cNvSpPr/>
            <p:nvPr/>
          </p:nvSpPr>
          <p:spPr>
            <a:xfrm flipH="1" flipV="1">
              <a:off x="8069400" y="1638360"/>
              <a:ext cx="21960" cy="79200"/>
            </a:xfrm>
            <a:prstGeom prst="line">
              <a:avLst/>
            </a:prstGeom>
            <a:ln w="12600">
              <a:solidFill>
                <a:srgbClr val="f2fefd"/>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9238" name=""/>
            <p:cNvSpPr/>
            <p:nvPr/>
          </p:nvSpPr>
          <p:spPr>
            <a:xfrm>
              <a:off x="7669080" y="1700280"/>
              <a:ext cx="422640" cy="68760"/>
            </a:xfrm>
            <a:custGeom>
              <a:avLst/>
              <a:gdLst/>
              <a:ahLst/>
              <a:rect l="0" t="0" r="r" b="b"/>
              <a:pathLst>
                <a:path fill="none" w="1174" h="191">
                  <a:moveTo>
                    <a:pt x="39" y="191"/>
                  </a:moveTo>
                  <a:lnTo>
                    <a:pt x="1174" y="49"/>
                  </a:lnTo>
                  <a:lnTo>
                    <a:pt x="0" y="0"/>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239" name=""/>
            <p:cNvSpPr/>
            <p:nvPr/>
          </p:nvSpPr>
          <p:spPr>
            <a:xfrm>
              <a:off x="7709040" y="2044800"/>
              <a:ext cx="360720" cy="44640"/>
            </a:xfrm>
            <a:custGeom>
              <a:avLst/>
              <a:gdLst/>
              <a:ahLst/>
              <a:rect l="0" t="0" r="r" b="b"/>
              <a:pathLst>
                <a:path fill="none" w="1002" h="124">
                  <a:moveTo>
                    <a:pt x="8" y="124"/>
                  </a:moveTo>
                  <a:lnTo>
                    <a:pt x="1002" y="0"/>
                  </a:lnTo>
                  <a:lnTo>
                    <a:pt x="0" y="94"/>
                  </a:lnTo>
                </a:path>
              </a:pathLst>
            </a:custGeom>
            <a:ln w="12600">
              <a:solidFill>
                <a:srgbClr val="f2fefd"/>
              </a:solidFill>
              <a:round/>
            </a:ln>
          </p:spPr>
          <p:txBody>
            <a:bodyPr lIns="96120" rIns="96120" tIns="-6480" bIns="-6480" anchor="t">
              <a:noAutofit/>
            </a:bodyPr>
            <a:p>
              <a:endParaRPr b="0" lang="en-US" sz="1800" spc="-1" strike="noStrike">
                <a:solidFill>
                  <a:srgbClr val="000000"/>
                </a:solidFill>
                <a:latin typeface="Arial"/>
              </a:endParaRPr>
            </a:p>
          </p:txBody>
        </p:sp>
        <p:sp>
          <p:nvSpPr>
            <p:cNvPr id="9240" name=""/>
            <p:cNvSpPr/>
            <p:nvPr/>
          </p:nvSpPr>
          <p:spPr>
            <a:xfrm flipH="1" flipV="1">
              <a:off x="8042400" y="1587600"/>
              <a:ext cx="27000" cy="50760"/>
            </a:xfrm>
            <a:prstGeom prst="line">
              <a:avLst/>
            </a:prstGeom>
            <a:ln w="12600">
              <a:solidFill>
                <a:srgbClr val="f2fefd"/>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9241" name=""/>
            <p:cNvSpPr/>
            <p:nvPr/>
          </p:nvSpPr>
          <p:spPr>
            <a:xfrm>
              <a:off x="7658280" y="1638360"/>
              <a:ext cx="411480" cy="51120"/>
            </a:xfrm>
            <a:custGeom>
              <a:avLst/>
              <a:gdLst/>
              <a:ahLst/>
              <a:rect l="0" t="0" r="r" b="b"/>
              <a:pathLst>
                <a:path fill="none" w="1143" h="142">
                  <a:moveTo>
                    <a:pt x="24" y="142"/>
                  </a:moveTo>
                  <a:lnTo>
                    <a:pt x="1143" y="0"/>
                  </a:lnTo>
                  <a:lnTo>
                    <a:pt x="0" y="17"/>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9242" name=""/>
            <p:cNvSpPr/>
            <p:nvPr/>
          </p:nvSpPr>
          <p:spPr>
            <a:xfrm flipH="1" flipV="1">
              <a:off x="8013600" y="1571760"/>
              <a:ext cx="28800" cy="15840"/>
            </a:xfrm>
            <a:prstGeom prst="line">
              <a:avLst/>
            </a:prstGeom>
            <a:ln w="12600">
              <a:solidFill>
                <a:srgbClr val="f2fefd"/>
              </a:solidFill>
              <a:round/>
            </a:ln>
          </p:spPr>
          <p:style>
            <a:lnRef idx="0"/>
            <a:fillRef idx="0"/>
            <a:effectRef idx="0"/>
            <a:fontRef idx="minor"/>
          </p:style>
          <p:txBody>
            <a:bodyPr lIns="96120" rIns="96120" tIns="-35280" bIns="-35280" anchor="t">
              <a:noAutofit/>
            </a:bodyPr>
            <a:p>
              <a:endParaRPr b="0" lang="en-US" sz="1800" spc="-1" strike="noStrike">
                <a:solidFill>
                  <a:srgbClr val="000000"/>
                </a:solidFill>
                <a:latin typeface="Arial"/>
              </a:endParaRPr>
            </a:p>
          </p:txBody>
        </p:sp>
        <p:sp>
          <p:nvSpPr>
            <p:cNvPr id="9243" name=""/>
            <p:cNvSpPr/>
            <p:nvPr/>
          </p:nvSpPr>
          <p:spPr>
            <a:xfrm>
              <a:off x="7653240" y="1587600"/>
              <a:ext cx="389160" cy="49680"/>
            </a:xfrm>
            <a:custGeom>
              <a:avLst/>
              <a:gdLst/>
              <a:ahLst/>
              <a:rect l="0" t="0" r="r" b="b"/>
              <a:pathLst>
                <a:path fill="none" w="1081" h="138">
                  <a:moveTo>
                    <a:pt x="8" y="138"/>
                  </a:moveTo>
                  <a:lnTo>
                    <a:pt x="1081" y="0"/>
                  </a:lnTo>
                  <a:lnTo>
                    <a:pt x="0" y="90"/>
                  </a:lnTo>
                </a:path>
              </a:pathLst>
            </a:custGeom>
            <a:ln w="12600">
              <a:solidFill>
                <a:srgbClr val="f2fefd"/>
              </a:solidFill>
              <a:round/>
            </a:ln>
          </p:spPr>
          <p:txBody>
            <a:bodyPr lIns="96120" rIns="96120" tIns="-1440" bIns="-1440" anchor="t">
              <a:noAutofit/>
            </a:bodyPr>
            <a:p>
              <a:endParaRPr b="0" lang="en-US" sz="1800" spc="-1" strike="noStrike">
                <a:solidFill>
                  <a:srgbClr val="000000"/>
                </a:solidFill>
                <a:latin typeface="Arial"/>
              </a:endParaRPr>
            </a:p>
          </p:txBody>
        </p:sp>
        <p:sp>
          <p:nvSpPr>
            <p:cNvPr id="9244" name=""/>
            <p:cNvSpPr/>
            <p:nvPr/>
          </p:nvSpPr>
          <p:spPr>
            <a:xfrm flipH="1">
              <a:off x="7650000" y="1571760"/>
              <a:ext cx="363600" cy="44280"/>
            </a:xfrm>
            <a:prstGeom prst="line">
              <a:avLst/>
            </a:prstGeom>
            <a:ln w="12600">
              <a:solidFill>
                <a:srgbClr val="f2fefd"/>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9245" name=""/>
            <p:cNvSpPr/>
            <p:nvPr/>
          </p:nvSpPr>
          <p:spPr>
            <a:xfrm>
              <a:off x="8148600" y="1692360"/>
              <a:ext cx="25920" cy="219600"/>
            </a:xfrm>
            <a:custGeom>
              <a:avLst/>
              <a:gdLst/>
              <a:ahLst/>
              <a:rect l="0" t="0" r="r" b="b"/>
              <a:pathLst>
                <a:path fill="none" w="72" h="610">
                  <a:moveTo>
                    <a:pt x="72" y="610"/>
                  </a:moveTo>
                  <a:lnTo>
                    <a:pt x="57" y="305"/>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246" name=""/>
            <p:cNvSpPr/>
            <p:nvPr/>
          </p:nvSpPr>
          <p:spPr>
            <a:xfrm flipH="1" flipV="1">
              <a:off x="8151840" y="1900080"/>
              <a:ext cx="2232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247" name=""/>
            <p:cNvSpPr/>
            <p:nvPr/>
          </p:nvSpPr>
          <p:spPr>
            <a:xfrm>
              <a:off x="8145360" y="1911240"/>
              <a:ext cx="28800" cy="93960"/>
            </a:xfrm>
            <a:custGeom>
              <a:avLst/>
              <a:gdLst/>
              <a:ahLst/>
              <a:rect l="0" t="0" r="r" b="b"/>
              <a:pathLst>
                <a:path fill="none" w="80" h="261">
                  <a:moveTo>
                    <a:pt x="64" y="261"/>
                  </a:moveTo>
                  <a:lnTo>
                    <a:pt x="80" y="0"/>
                  </a:lnTo>
                  <a:lnTo>
                    <a:pt x="0" y="198"/>
                  </a:lnTo>
                </a:path>
              </a:pathLst>
            </a:custGeom>
            <a:ln w="12600">
              <a:solidFill>
                <a:srgbClr val="f2fefd"/>
              </a:solidFill>
              <a:round/>
            </a:ln>
          </p:spPr>
          <p:txBody>
            <a:bodyPr lIns="96120" rIns="96120" tIns="42840" bIns="42840" anchor="t">
              <a:noAutofit/>
            </a:bodyPr>
            <a:p>
              <a:endParaRPr b="0" lang="en-US" sz="1800" spc="-1" strike="noStrike">
                <a:solidFill>
                  <a:srgbClr val="000000"/>
                </a:solidFill>
                <a:latin typeface="Arial"/>
              </a:endParaRPr>
            </a:p>
          </p:txBody>
        </p:sp>
        <p:sp>
          <p:nvSpPr>
            <p:cNvPr id="9248" name=""/>
            <p:cNvSpPr/>
            <p:nvPr/>
          </p:nvSpPr>
          <p:spPr>
            <a:xfrm flipH="1">
              <a:off x="8145360" y="1801800"/>
              <a:ext cx="22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9" name=""/>
            <p:cNvSpPr/>
            <p:nvPr/>
          </p:nvSpPr>
          <p:spPr>
            <a:xfrm flipV="1">
              <a:off x="8151840" y="1801800"/>
              <a:ext cx="15840" cy="98280"/>
            </a:xfrm>
            <a:prstGeom prst="line">
              <a:avLst/>
            </a:prstGeom>
            <a:ln w="12600">
              <a:solidFill>
                <a:srgbClr val="f2fefd"/>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9250" name=""/>
            <p:cNvSpPr/>
            <p:nvPr/>
          </p:nvSpPr>
          <p:spPr>
            <a:xfrm flipV="1">
              <a:off x="8145360" y="1692360"/>
              <a:ext cx="3240" cy="109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1" name=""/>
            <p:cNvSpPr/>
            <p:nvPr/>
          </p:nvSpPr>
          <p:spPr>
            <a:xfrm flipH="1" flipV="1">
              <a:off x="8145360" y="1982880"/>
              <a:ext cx="22320" cy="21960"/>
            </a:xfrm>
            <a:prstGeom prst="line">
              <a:avLst/>
            </a:prstGeom>
            <a:ln w="12600">
              <a:solidFill>
                <a:srgbClr val="f2fefd"/>
              </a:solidFill>
              <a:round/>
            </a:ln>
          </p:spPr>
          <p:style>
            <a:lnRef idx="0"/>
            <a:fillRef idx="0"/>
            <a:effectRef idx="0"/>
            <a:fontRef idx="minor"/>
          </p:style>
          <p:txBody>
            <a:bodyPr lIns="96120" rIns="96120" tIns="-29160" bIns="-29160" anchor="t">
              <a:noAutofit/>
            </a:bodyPr>
            <a:p>
              <a:endParaRPr b="0" lang="en-US" sz="1800" spc="-1" strike="noStrike">
                <a:solidFill>
                  <a:srgbClr val="000000"/>
                </a:solidFill>
                <a:latin typeface="Arial"/>
              </a:endParaRPr>
            </a:p>
          </p:txBody>
        </p:sp>
        <p:sp>
          <p:nvSpPr>
            <p:cNvPr id="9252" name=""/>
            <p:cNvSpPr/>
            <p:nvPr/>
          </p:nvSpPr>
          <p:spPr>
            <a:xfrm>
              <a:off x="8128080" y="2004840"/>
              <a:ext cx="39960" cy="62280"/>
            </a:xfrm>
            <a:custGeom>
              <a:avLst/>
              <a:gdLst/>
              <a:ahLst/>
              <a:rect l="0" t="0" r="r" b="b"/>
              <a:pathLst>
                <a:path fill="none" w="111" h="173">
                  <a:moveTo>
                    <a:pt x="56" y="173"/>
                  </a:moveTo>
                  <a:lnTo>
                    <a:pt x="111" y="0"/>
                  </a:lnTo>
                  <a:lnTo>
                    <a:pt x="0" y="85"/>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253" name=""/>
            <p:cNvSpPr/>
            <p:nvPr/>
          </p:nvSpPr>
          <p:spPr>
            <a:xfrm flipH="1" flipV="1">
              <a:off x="8120160" y="1600200"/>
              <a:ext cx="28440" cy="92160"/>
            </a:xfrm>
            <a:prstGeom prst="line">
              <a:avLst/>
            </a:prstGeom>
            <a:ln w="12600">
              <a:solidFill>
                <a:srgbClr val="f2fefd"/>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9254" name=""/>
            <p:cNvSpPr/>
            <p:nvPr/>
          </p:nvSpPr>
          <p:spPr>
            <a:xfrm flipV="1">
              <a:off x="8128080" y="1692360"/>
              <a:ext cx="20520" cy="14040"/>
            </a:xfrm>
            <a:prstGeom prst="line">
              <a:avLst/>
            </a:prstGeom>
            <a:ln w="12600">
              <a:solidFill>
                <a:srgbClr val="f2fefd"/>
              </a:solidFill>
              <a:round/>
            </a:ln>
          </p:spPr>
          <p:style>
            <a:lnRef idx="0"/>
            <a:fillRef idx="0"/>
            <a:effectRef idx="0"/>
            <a:fontRef idx="minor"/>
          </p:style>
          <p:txBody>
            <a:bodyPr lIns="96120" rIns="96120" tIns="-37080" bIns="-37080" anchor="t">
              <a:noAutofit/>
            </a:bodyPr>
            <a:p>
              <a:endParaRPr b="0" lang="en-US" sz="1800" spc="-1" strike="noStrike">
                <a:solidFill>
                  <a:srgbClr val="000000"/>
                </a:solidFill>
                <a:latin typeface="Arial"/>
              </a:endParaRPr>
            </a:p>
          </p:txBody>
        </p:sp>
        <p:sp>
          <p:nvSpPr>
            <p:cNvPr id="9255" name=""/>
            <p:cNvSpPr/>
            <p:nvPr/>
          </p:nvSpPr>
          <p:spPr>
            <a:xfrm flipV="1">
              <a:off x="8145360" y="1900080"/>
              <a:ext cx="6480" cy="82800"/>
            </a:xfrm>
            <a:prstGeom prst="line">
              <a:avLst/>
            </a:prstGeom>
            <a:ln w="12600">
              <a:solidFill>
                <a:srgbClr val="f2fefd"/>
              </a:solidFill>
              <a:round/>
            </a:ln>
          </p:spPr>
          <p:style>
            <a:lnRef idx="0"/>
            <a:fillRef idx="0"/>
            <a:effectRef idx="0"/>
            <a:fontRef idx="minor"/>
          </p:style>
          <p:txBody>
            <a:bodyPr lIns="96120" rIns="96120" tIns="31680" bIns="31680" anchor="t">
              <a:noAutofit/>
            </a:bodyPr>
            <a:p>
              <a:endParaRPr b="0" lang="en-US" sz="1800" spc="-1" strike="noStrike">
                <a:solidFill>
                  <a:srgbClr val="000000"/>
                </a:solidFill>
                <a:latin typeface="Arial"/>
              </a:endParaRPr>
            </a:p>
          </p:txBody>
        </p:sp>
        <p:sp>
          <p:nvSpPr>
            <p:cNvPr id="9256" name=""/>
            <p:cNvSpPr/>
            <p:nvPr/>
          </p:nvSpPr>
          <p:spPr>
            <a:xfrm flipH="1" flipV="1">
              <a:off x="8112240" y="1898640"/>
              <a:ext cx="33120" cy="84240"/>
            </a:xfrm>
            <a:prstGeom prst="line">
              <a:avLst/>
            </a:prstGeom>
            <a:ln w="12600">
              <a:solidFill>
                <a:srgbClr val="f2fefd"/>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9257" name=""/>
            <p:cNvSpPr/>
            <p:nvPr/>
          </p:nvSpPr>
          <p:spPr>
            <a:xfrm flipH="1" flipV="1">
              <a:off x="8145360" y="1801800"/>
              <a:ext cx="6480" cy="98280"/>
            </a:xfrm>
            <a:prstGeom prst="line">
              <a:avLst/>
            </a:prstGeom>
            <a:ln w="12600">
              <a:solidFill>
                <a:srgbClr val="f2fefd"/>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9258" name=""/>
            <p:cNvSpPr/>
            <p:nvPr/>
          </p:nvSpPr>
          <p:spPr>
            <a:xfrm>
              <a:off x="8105760" y="1808280"/>
              <a:ext cx="46440" cy="92520"/>
            </a:xfrm>
            <a:custGeom>
              <a:avLst/>
              <a:gdLst/>
              <a:ahLst/>
              <a:rect l="0" t="0" r="r" b="b"/>
              <a:pathLst>
                <a:path fill="none" w="129" h="257">
                  <a:moveTo>
                    <a:pt x="15" y="251"/>
                  </a:moveTo>
                  <a:lnTo>
                    <a:pt x="129" y="257"/>
                  </a:lnTo>
                  <a:lnTo>
                    <a:pt x="0" y="0"/>
                  </a:lnTo>
                </a:path>
              </a:pathLst>
            </a:custGeom>
            <a:ln w="12600">
              <a:solidFill>
                <a:srgbClr val="f2fefd"/>
              </a:solidFill>
              <a:round/>
            </a:ln>
          </p:spPr>
          <p:txBody>
            <a:bodyPr lIns="96120" rIns="96120" tIns="41400" bIns="41400" anchor="t">
              <a:noAutofit/>
            </a:bodyPr>
            <a:p>
              <a:endParaRPr b="0" lang="en-US" sz="1800" spc="-1" strike="noStrike">
                <a:solidFill>
                  <a:srgbClr val="000000"/>
                </a:solidFill>
                <a:latin typeface="Arial"/>
              </a:endParaRPr>
            </a:p>
          </p:txBody>
        </p:sp>
        <p:sp>
          <p:nvSpPr>
            <p:cNvPr id="9259" name=""/>
            <p:cNvSpPr/>
            <p:nvPr/>
          </p:nvSpPr>
          <p:spPr>
            <a:xfrm>
              <a:off x="8105760" y="1973160"/>
              <a:ext cx="39960" cy="62280"/>
            </a:xfrm>
            <a:custGeom>
              <a:avLst/>
              <a:gdLst/>
              <a:ahLst/>
              <a:rect l="0" t="0" r="r" b="b"/>
              <a:pathLst>
                <a:path fill="none" w="111" h="173">
                  <a:moveTo>
                    <a:pt x="62" y="173"/>
                  </a:moveTo>
                  <a:lnTo>
                    <a:pt x="111" y="24"/>
                  </a:lnTo>
                  <a:lnTo>
                    <a:pt x="0" y="0"/>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260" name=""/>
            <p:cNvSpPr/>
            <p:nvPr/>
          </p:nvSpPr>
          <p:spPr>
            <a:xfrm flipH="1" flipV="1">
              <a:off x="8120160" y="1600200"/>
              <a:ext cx="7920" cy="106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61" name=""/>
            <p:cNvSpPr/>
            <p:nvPr/>
          </p:nvSpPr>
          <p:spPr>
            <a:xfrm flipH="1" flipV="1">
              <a:off x="8128080" y="2035080"/>
              <a:ext cx="20520" cy="31680"/>
            </a:xfrm>
            <a:prstGeom prst="line">
              <a:avLst/>
            </a:prstGeom>
            <a:ln w="12600">
              <a:solidFill>
                <a:srgbClr val="f2fefd"/>
              </a:solidFill>
              <a:round/>
            </a:ln>
          </p:spPr>
          <p:style>
            <a:lnRef idx="0"/>
            <a:fillRef idx="0"/>
            <a:effectRef idx="0"/>
            <a:fontRef idx="minor"/>
          </p:style>
          <p:txBody>
            <a:bodyPr lIns="96120" rIns="96120" tIns="-19440" bIns="-19440" anchor="t">
              <a:noAutofit/>
            </a:bodyPr>
            <a:p>
              <a:endParaRPr b="0" lang="en-US" sz="1800" spc="-1" strike="noStrike">
                <a:solidFill>
                  <a:srgbClr val="000000"/>
                </a:solidFill>
                <a:latin typeface="Arial"/>
              </a:endParaRPr>
            </a:p>
          </p:txBody>
        </p:sp>
        <p:sp>
          <p:nvSpPr>
            <p:cNvPr id="9262" name=""/>
            <p:cNvSpPr/>
            <p:nvPr/>
          </p:nvSpPr>
          <p:spPr>
            <a:xfrm>
              <a:off x="8104320" y="2055960"/>
              <a:ext cx="44640" cy="30600"/>
            </a:xfrm>
            <a:custGeom>
              <a:avLst/>
              <a:gdLst/>
              <a:ahLst/>
              <a:rect l="0" t="0" r="r" b="b"/>
              <a:pathLst>
                <a:path fill="none" w="124" h="85">
                  <a:moveTo>
                    <a:pt x="46" y="85"/>
                  </a:moveTo>
                  <a:lnTo>
                    <a:pt x="124" y="33"/>
                  </a:lnTo>
                  <a:lnTo>
                    <a:pt x="0" y="0"/>
                  </a:lnTo>
                </a:path>
              </a:pathLst>
            </a:custGeom>
            <a:ln w="12600">
              <a:solidFill>
                <a:srgbClr val="f2fefd"/>
              </a:solidFill>
              <a:round/>
            </a:ln>
          </p:spPr>
          <p:txBody>
            <a:bodyPr lIns="96120" rIns="96120" tIns="-20520" bIns="-20520" anchor="t">
              <a:noAutofit/>
            </a:bodyPr>
            <a:p>
              <a:endParaRPr b="0" lang="en-US" sz="1800" spc="-1" strike="noStrike">
                <a:solidFill>
                  <a:srgbClr val="000000"/>
                </a:solidFill>
                <a:latin typeface="Arial"/>
              </a:endParaRPr>
            </a:p>
          </p:txBody>
        </p:sp>
        <p:sp>
          <p:nvSpPr>
            <p:cNvPr id="9263" name=""/>
            <p:cNvSpPr/>
            <p:nvPr/>
          </p:nvSpPr>
          <p:spPr>
            <a:xfrm flipH="1" flipV="1">
              <a:off x="8128080" y="1706400"/>
              <a:ext cx="17280" cy="95400"/>
            </a:xfrm>
            <a:prstGeom prst="line">
              <a:avLst/>
            </a:prstGeom>
            <a:ln w="12600">
              <a:solidFill>
                <a:srgbClr val="f2fefd"/>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9264" name=""/>
            <p:cNvSpPr/>
            <p:nvPr/>
          </p:nvSpPr>
          <p:spPr>
            <a:xfrm>
              <a:off x="8091360" y="1717560"/>
              <a:ext cx="54360" cy="90720"/>
            </a:xfrm>
            <a:custGeom>
              <a:avLst/>
              <a:gdLst/>
              <a:ahLst/>
              <a:rect l="0" t="0" r="r" b="b"/>
              <a:pathLst>
                <a:path fill="none" w="151" h="252">
                  <a:moveTo>
                    <a:pt x="40" y="252"/>
                  </a:moveTo>
                  <a:lnTo>
                    <a:pt x="151" y="236"/>
                  </a:lnTo>
                  <a:lnTo>
                    <a:pt x="0" y="0"/>
                  </a:lnTo>
                </a:path>
              </a:pathLst>
            </a:custGeom>
            <a:ln w="12600">
              <a:solidFill>
                <a:srgbClr val="f2fefd"/>
              </a:solidFill>
              <a:round/>
            </a:ln>
          </p:spPr>
          <p:txBody>
            <a:bodyPr lIns="96120" rIns="96120" tIns="39600" bIns="39600" anchor="t">
              <a:noAutofit/>
            </a:bodyPr>
            <a:p>
              <a:endParaRPr b="0" lang="en-US" sz="1800" spc="-1" strike="noStrike">
                <a:solidFill>
                  <a:srgbClr val="000000"/>
                </a:solidFill>
                <a:latin typeface="Arial"/>
              </a:endParaRPr>
            </a:p>
          </p:txBody>
        </p:sp>
        <p:sp>
          <p:nvSpPr>
            <p:cNvPr id="9265" name=""/>
            <p:cNvSpPr/>
            <p:nvPr/>
          </p:nvSpPr>
          <p:spPr>
            <a:xfrm flipV="1">
              <a:off x="8104320" y="2035080"/>
              <a:ext cx="23760" cy="20880"/>
            </a:xfrm>
            <a:prstGeom prst="line">
              <a:avLst/>
            </a:prstGeom>
            <a:ln w="12600">
              <a:solidFill>
                <a:srgbClr val="f2fef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9266" name=""/>
            <p:cNvSpPr/>
            <p:nvPr/>
          </p:nvSpPr>
          <p:spPr>
            <a:xfrm>
              <a:off x="8091360" y="1973160"/>
              <a:ext cx="36720" cy="62280"/>
            </a:xfrm>
            <a:custGeom>
              <a:avLst/>
              <a:gdLst/>
              <a:ahLst/>
              <a:rect l="0" t="0" r="r" b="b"/>
              <a:pathLst>
                <a:path fill="none" w="102" h="173">
                  <a:moveTo>
                    <a:pt x="0" y="151"/>
                  </a:moveTo>
                  <a:lnTo>
                    <a:pt x="102" y="173"/>
                  </a:lnTo>
                  <a:lnTo>
                    <a:pt x="39" y="0"/>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267" name=""/>
            <p:cNvSpPr/>
            <p:nvPr/>
          </p:nvSpPr>
          <p:spPr>
            <a:xfrm flipH="1" flipV="1">
              <a:off x="8089920" y="1538280"/>
              <a:ext cx="30240" cy="61920"/>
            </a:xfrm>
            <a:prstGeom prst="line">
              <a:avLst/>
            </a:prstGeom>
            <a:ln w="12600">
              <a:solidFill>
                <a:srgbClr val="f2fefd"/>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9268" name=""/>
            <p:cNvSpPr/>
            <p:nvPr/>
          </p:nvSpPr>
          <p:spPr>
            <a:xfrm flipV="1">
              <a:off x="8104320" y="1600200"/>
              <a:ext cx="15840" cy="25560"/>
            </a:xfrm>
            <a:prstGeom prst="line">
              <a:avLst/>
            </a:prstGeom>
            <a:ln w="12600">
              <a:solidFill>
                <a:srgbClr val="f2fefd"/>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9269" name=""/>
            <p:cNvSpPr/>
            <p:nvPr/>
          </p:nvSpPr>
          <p:spPr>
            <a:xfrm flipH="1" flipV="1">
              <a:off x="8089920" y="1538280"/>
              <a:ext cx="1440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270" name=""/>
            <p:cNvSpPr/>
            <p:nvPr/>
          </p:nvSpPr>
          <p:spPr>
            <a:xfrm flipH="1" flipV="1">
              <a:off x="8104320" y="2055960"/>
              <a:ext cx="15840" cy="29880"/>
            </a:xfrm>
            <a:prstGeom prst="line">
              <a:avLst/>
            </a:prstGeom>
            <a:ln w="12600">
              <a:solidFill>
                <a:srgbClr val="f2fefd"/>
              </a:solidFill>
              <a:round/>
            </a:ln>
          </p:spPr>
          <p:style>
            <a:lnRef idx="0"/>
            <a:fillRef idx="0"/>
            <a:effectRef idx="0"/>
            <a:fontRef idx="minor"/>
          </p:style>
          <p:txBody>
            <a:bodyPr lIns="96120" rIns="96120" tIns="-21240" bIns="-21240" anchor="t">
              <a:noAutofit/>
            </a:bodyPr>
            <a:p>
              <a:endParaRPr b="0" lang="en-US" sz="1800" spc="-1" strike="noStrike">
                <a:solidFill>
                  <a:srgbClr val="000000"/>
                </a:solidFill>
                <a:latin typeface="Arial"/>
              </a:endParaRPr>
            </a:p>
          </p:txBody>
        </p:sp>
        <p:sp>
          <p:nvSpPr>
            <p:cNvPr id="9271" name=""/>
            <p:cNvSpPr/>
            <p:nvPr/>
          </p:nvSpPr>
          <p:spPr>
            <a:xfrm>
              <a:off x="8086680" y="2049480"/>
              <a:ext cx="33840" cy="36720"/>
            </a:xfrm>
            <a:custGeom>
              <a:avLst/>
              <a:gdLst/>
              <a:ahLst/>
              <a:rect l="0" t="0" r="r" b="b"/>
              <a:pathLst>
                <a:path fill="none" w="94" h="102">
                  <a:moveTo>
                    <a:pt x="8" y="48"/>
                  </a:moveTo>
                  <a:lnTo>
                    <a:pt x="94" y="102"/>
                  </a:lnTo>
                  <a:lnTo>
                    <a:pt x="0" y="0"/>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272" name=""/>
            <p:cNvSpPr/>
            <p:nvPr/>
          </p:nvSpPr>
          <p:spPr>
            <a:xfrm flipH="1" flipV="1">
              <a:off x="8104320" y="1625760"/>
              <a:ext cx="23760" cy="80640"/>
            </a:xfrm>
            <a:prstGeom prst="line">
              <a:avLst/>
            </a:prstGeom>
            <a:ln w="12600">
              <a:solidFill>
                <a:srgbClr val="f2fefd"/>
              </a:solidFill>
              <a:round/>
            </a:ln>
          </p:spPr>
          <p:style>
            <a:lnRef idx="0"/>
            <a:fillRef idx="0"/>
            <a:effectRef idx="0"/>
            <a:fontRef idx="minor"/>
          </p:style>
          <p:txBody>
            <a:bodyPr lIns="96120" rIns="96120" tIns="29520" bIns="29520" anchor="t">
              <a:noAutofit/>
            </a:bodyPr>
            <a:p>
              <a:endParaRPr b="0" lang="en-US" sz="1800" spc="-1" strike="noStrike">
                <a:solidFill>
                  <a:srgbClr val="000000"/>
                </a:solidFill>
                <a:latin typeface="Arial"/>
              </a:endParaRPr>
            </a:p>
          </p:txBody>
        </p:sp>
        <p:sp>
          <p:nvSpPr>
            <p:cNvPr id="9273" name=""/>
            <p:cNvSpPr/>
            <p:nvPr/>
          </p:nvSpPr>
          <p:spPr>
            <a:xfrm>
              <a:off x="8069400" y="1638360"/>
              <a:ext cx="59040" cy="79560"/>
            </a:xfrm>
            <a:custGeom>
              <a:avLst/>
              <a:gdLst/>
              <a:ahLst/>
              <a:rect l="0" t="0" r="r" b="b"/>
              <a:pathLst>
                <a:path fill="none" w="164" h="221">
                  <a:moveTo>
                    <a:pt x="61" y="221"/>
                  </a:moveTo>
                  <a:lnTo>
                    <a:pt x="164" y="188"/>
                  </a:lnTo>
                  <a:lnTo>
                    <a:pt x="0" y="0"/>
                  </a:lnTo>
                </a:path>
              </a:pathLst>
            </a:custGeom>
            <a:ln w="12600">
              <a:solidFill>
                <a:srgbClr val="f2fefd"/>
              </a:solidFill>
              <a:round/>
            </a:ln>
          </p:spPr>
          <p:txBody>
            <a:bodyPr lIns="96120" rIns="96120" tIns="28440" bIns="28440" anchor="t">
              <a:noAutofit/>
            </a:bodyPr>
            <a:p>
              <a:endParaRPr b="0" lang="en-US" sz="1800" spc="-1" strike="noStrike">
                <a:solidFill>
                  <a:srgbClr val="000000"/>
                </a:solidFill>
                <a:latin typeface="Arial"/>
              </a:endParaRPr>
            </a:p>
          </p:txBody>
        </p:sp>
        <p:sp>
          <p:nvSpPr>
            <p:cNvPr id="9274" name=""/>
            <p:cNvSpPr/>
            <p:nvPr/>
          </p:nvSpPr>
          <p:spPr>
            <a:xfrm>
              <a:off x="8069400" y="2027160"/>
              <a:ext cx="35280" cy="28800"/>
            </a:xfrm>
            <a:custGeom>
              <a:avLst/>
              <a:gdLst/>
              <a:ahLst/>
              <a:rect l="0" t="0" r="r" b="b"/>
              <a:pathLst>
                <a:path fill="none" w="98" h="80">
                  <a:moveTo>
                    <a:pt x="0" y="48"/>
                  </a:moveTo>
                  <a:lnTo>
                    <a:pt x="98" y="80"/>
                  </a:lnTo>
                  <a:lnTo>
                    <a:pt x="64" y="0"/>
                  </a:lnTo>
                </a:path>
              </a:pathLst>
            </a:custGeom>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9275" name=""/>
            <p:cNvSpPr/>
            <p:nvPr/>
          </p:nvSpPr>
          <p:spPr>
            <a:xfrm flipH="1" flipV="1">
              <a:off x="8055000" y="1514520"/>
              <a:ext cx="34920" cy="23760"/>
            </a:xfrm>
            <a:prstGeom prst="line">
              <a:avLst/>
            </a:prstGeom>
            <a:ln w="12600">
              <a:solidFill>
                <a:srgbClr val="f2fef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9276" name=""/>
            <p:cNvSpPr/>
            <p:nvPr/>
          </p:nvSpPr>
          <p:spPr>
            <a:xfrm flipV="1">
              <a:off x="8075520" y="1538280"/>
              <a:ext cx="14400" cy="33480"/>
            </a:xfrm>
            <a:prstGeom prst="line">
              <a:avLst/>
            </a:prstGeom>
            <a:ln w="12600">
              <a:solidFill>
                <a:srgbClr val="f2fefd"/>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9277" name=""/>
            <p:cNvSpPr/>
            <p:nvPr/>
          </p:nvSpPr>
          <p:spPr>
            <a:xfrm flipH="1" flipV="1">
              <a:off x="8080200" y="2048040"/>
              <a:ext cx="9720" cy="18720"/>
            </a:xfrm>
            <a:prstGeom prst="line">
              <a:avLst/>
            </a:prstGeom>
            <a:ln w="12600">
              <a:solidFill>
                <a:srgbClr val="f2fef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9278" name=""/>
            <p:cNvSpPr/>
            <p:nvPr/>
          </p:nvSpPr>
          <p:spPr>
            <a:xfrm>
              <a:off x="8078760" y="2048040"/>
              <a:ext cx="11160" cy="18720"/>
            </a:xfrm>
            <a:prstGeom prst="line">
              <a:avLst/>
            </a:prstGeom>
            <a:ln w="12600">
              <a:solidFill>
                <a:srgbClr val="f2fefd"/>
              </a:solidFill>
              <a:round/>
            </a:ln>
          </p:spPr>
          <p:style>
            <a:lnRef idx="0"/>
            <a:fillRef idx="0"/>
            <a:effectRef idx="0"/>
            <a:fontRef idx="minor"/>
          </p:style>
          <p:txBody>
            <a:bodyPr lIns="96120" rIns="96120" tIns="-32400" bIns="-32400" anchor="t">
              <a:noAutofit/>
            </a:bodyPr>
            <a:p>
              <a:endParaRPr b="0" lang="en-US" sz="1800" spc="-1" strike="noStrike">
                <a:solidFill>
                  <a:srgbClr val="000000"/>
                </a:solidFill>
                <a:latin typeface="Arial"/>
              </a:endParaRPr>
            </a:p>
          </p:txBody>
        </p:sp>
        <p:sp>
          <p:nvSpPr>
            <p:cNvPr id="9279" name=""/>
            <p:cNvSpPr/>
            <p:nvPr/>
          </p:nvSpPr>
          <p:spPr>
            <a:xfrm flipH="1" flipV="1">
              <a:off x="8055000" y="1514520"/>
              <a:ext cx="2052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280" name=""/>
            <p:cNvSpPr/>
            <p:nvPr/>
          </p:nvSpPr>
          <p:spPr>
            <a:xfrm flipH="1" flipV="1">
              <a:off x="8043840" y="1550880"/>
              <a:ext cx="31680" cy="20880"/>
            </a:xfrm>
            <a:prstGeom prst="line">
              <a:avLst/>
            </a:prstGeom>
            <a:ln w="12600">
              <a:solidFill>
                <a:srgbClr val="f2fefd"/>
              </a:solidFill>
              <a:round/>
            </a:ln>
          </p:spPr>
          <p:style>
            <a:lnRef idx="0"/>
            <a:fillRef idx="0"/>
            <a:effectRef idx="0"/>
            <a:fontRef idx="minor"/>
          </p:style>
          <p:txBody>
            <a:bodyPr lIns="96120" rIns="96120" tIns="-30240" bIns="-30240" anchor="t">
              <a:noAutofit/>
            </a:bodyPr>
            <a:p>
              <a:endParaRPr b="0" lang="en-US" sz="1800" spc="-1" strike="noStrike">
                <a:solidFill>
                  <a:srgbClr val="000000"/>
                </a:solidFill>
                <a:latin typeface="Arial"/>
              </a:endParaRPr>
            </a:p>
          </p:txBody>
        </p:sp>
        <p:sp>
          <p:nvSpPr>
            <p:cNvPr id="9281" name=""/>
            <p:cNvSpPr/>
            <p:nvPr/>
          </p:nvSpPr>
          <p:spPr>
            <a:xfrm>
              <a:off x="8042400" y="1571760"/>
              <a:ext cx="62280" cy="54360"/>
            </a:xfrm>
            <a:custGeom>
              <a:avLst/>
              <a:gdLst/>
              <a:ahLst/>
              <a:rect l="0" t="0" r="r" b="b"/>
              <a:pathLst>
                <a:path fill="none" w="173" h="151">
                  <a:moveTo>
                    <a:pt x="173" y="151"/>
                  </a:moveTo>
                  <a:lnTo>
                    <a:pt x="93" y="0"/>
                  </a:lnTo>
                  <a:lnTo>
                    <a:pt x="0" y="47"/>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282" name=""/>
            <p:cNvSpPr/>
            <p:nvPr/>
          </p:nvSpPr>
          <p:spPr>
            <a:xfrm>
              <a:off x="8042400" y="1587600"/>
              <a:ext cx="62280" cy="51120"/>
            </a:xfrm>
            <a:custGeom>
              <a:avLst/>
              <a:gdLst/>
              <a:ahLst/>
              <a:rect l="0" t="0" r="r" b="b"/>
              <a:pathLst>
                <a:path fill="none" w="173" h="142">
                  <a:moveTo>
                    <a:pt x="78" y="142"/>
                  </a:moveTo>
                  <a:lnTo>
                    <a:pt x="173" y="104"/>
                  </a:lnTo>
                  <a:lnTo>
                    <a:pt x="0" y="0"/>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9283" name=""/>
            <p:cNvSpPr/>
            <p:nvPr/>
          </p:nvSpPr>
          <p:spPr>
            <a:xfrm flipV="1">
              <a:off x="8043840" y="1514520"/>
              <a:ext cx="11160" cy="36360"/>
            </a:xfrm>
            <a:prstGeom prst="line">
              <a:avLst/>
            </a:prstGeom>
            <a:ln w="12600">
              <a:solidFill>
                <a:srgbClr val="f2fefd"/>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9284" name=""/>
            <p:cNvSpPr/>
            <p:nvPr/>
          </p:nvSpPr>
          <p:spPr>
            <a:xfrm flipH="1" flipV="1">
              <a:off x="8028000" y="1538280"/>
              <a:ext cx="15840" cy="12600"/>
            </a:xfrm>
            <a:prstGeom prst="line">
              <a:avLst/>
            </a:prstGeom>
            <a:ln w="12600">
              <a:solidFill>
                <a:srgbClr val="f2fefd"/>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9285" name=""/>
            <p:cNvSpPr/>
            <p:nvPr/>
          </p:nvSpPr>
          <p:spPr>
            <a:xfrm>
              <a:off x="8013600" y="1550880"/>
              <a:ext cx="30600" cy="36720"/>
            </a:xfrm>
            <a:custGeom>
              <a:avLst/>
              <a:gdLst/>
              <a:ahLst/>
              <a:rect l="0" t="0" r="r" b="b"/>
              <a:pathLst>
                <a:path fill="none" w="85" h="102">
                  <a:moveTo>
                    <a:pt x="79" y="102"/>
                  </a:moveTo>
                  <a:lnTo>
                    <a:pt x="85" y="0"/>
                  </a:lnTo>
                  <a:lnTo>
                    <a:pt x="0" y="56"/>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286" name=""/>
            <p:cNvSpPr/>
            <p:nvPr/>
          </p:nvSpPr>
          <p:spPr>
            <a:xfrm flipV="1">
              <a:off x="8021520" y="1538280"/>
              <a:ext cx="6480" cy="27000"/>
            </a:xfrm>
            <a:prstGeom prst="line">
              <a:avLst/>
            </a:prstGeom>
            <a:ln w="12600">
              <a:solidFill>
                <a:srgbClr val="f2fefd"/>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9287" name=""/>
            <p:cNvSpPr/>
            <p:nvPr/>
          </p:nvSpPr>
          <p:spPr>
            <a:xfrm flipH="1" flipV="1">
              <a:off x="8221680" y="1889280"/>
              <a:ext cx="3240" cy="83880"/>
            </a:xfrm>
            <a:prstGeom prst="line">
              <a:avLst/>
            </a:prstGeom>
            <a:ln w="12600">
              <a:solidFill>
                <a:srgbClr val="f2fefd"/>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9288" name=""/>
            <p:cNvSpPr/>
            <p:nvPr/>
          </p:nvSpPr>
          <p:spPr>
            <a:xfrm flipV="1">
              <a:off x="8221680" y="1973160"/>
              <a:ext cx="3240" cy="76320"/>
            </a:xfrm>
            <a:prstGeom prst="line">
              <a:avLst/>
            </a:prstGeom>
            <a:ln w="12600">
              <a:solidFill>
                <a:srgbClr val="f2fefd"/>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289" name=""/>
            <p:cNvSpPr/>
            <p:nvPr/>
          </p:nvSpPr>
          <p:spPr>
            <a:xfrm flipH="1" flipV="1">
              <a:off x="8202600" y="1714680"/>
              <a:ext cx="1116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9290" name=""/>
            <p:cNvSpPr/>
            <p:nvPr/>
          </p:nvSpPr>
          <p:spPr>
            <a:xfrm flipH="1" flipV="1">
              <a:off x="8213760" y="1801800"/>
              <a:ext cx="792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291" name=""/>
            <p:cNvSpPr/>
            <p:nvPr/>
          </p:nvSpPr>
          <p:spPr>
            <a:xfrm>
              <a:off x="8202600" y="2049480"/>
              <a:ext cx="19440" cy="124200"/>
            </a:xfrm>
            <a:custGeom>
              <a:avLst/>
              <a:gdLst/>
              <a:ahLst/>
              <a:rect l="0" t="0" r="r" b="b"/>
              <a:pathLst>
                <a:path fill="none" w="54" h="345">
                  <a:moveTo>
                    <a:pt x="0" y="345"/>
                  </a:moveTo>
                  <a:lnTo>
                    <a:pt x="31" y="188"/>
                  </a:lnTo>
                  <a:lnTo>
                    <a:pt x="54"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292" name=""/>
            <p:cNvSpPr/>
            <p:nvPr/>
          </p:nvSpPr>
          <p:spPr>
            <a:xfrm flipH="1" flipV="1">
              <a:off x="8163000" y="1550880"/>
              <a:ext cx="22320" cy="79560"/>
            </a:xfrm>
            <a:prstGeom prst="line">
              <a:avLst/>
            </a:prstGeom>
            <a:ln w="12600">
              <a:solidFill>
                <a:srgbClr val="f2fefd"/>
              </a:solidFill>
              <a:round/>
            </a:ln>
          </p:spPr>
          <p:style>
            <a:lnRef idx="0"/>
            <a:fillRef idx="0"/>
            <a:effectRef idx="0"/>
            <a:fontRef idx="minor"/>
          </p:style>
          <p:txBody>
            <a:bodyPr lIns="96120" rIns="96120" tIns="28440" bIns="28440" anchor="t">
              <a:noAutofit/>
            </a:bodyPr>
            <a:p>
              <a:endParaRPr b="0" lang="en-US" sz="1800" spc="-1" strike="noStrike">
                <a:solidFill>
                  <a:srgbClr val="000000"/>
                </a:solidFill>
                <a:latin typeface="Arial"/>
              </a:endParaRPr>
            </a:p>
          </p:txBody>
        </p:sp>
        <p:sp>
          <p:nvSpPr>
            <p:cNvPr id="9293" name=""/>
            <p:cNvSpPr/>
            <p:nvPr/>
          </p:nvSpPr>
          <p:spPr>
            <a:xfrm flipH="1" flipV="1">
              <a:off x="8185320" y="1630440"/>
              <a:ext cx="17280" cy="84240"/>
            </a:xfrm>
            <a:prstGeom prst="line">
              <a:avLst/>
            </a:prstGeom>
            <a:ln w="12600">
              <a:solidFill>
                <a:srgbClr val="f2fefd"/>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9294" name=""/>
            <p:cNvSpPr/>
            <p:nvPr/>
          </p:nvSpPr>
          <p:spPr>
            <a:xfrm>
              <a:off x="8163000" y="2173320"/>
              <a:ext cx="39960" cy="68760"/>
            </a:xfrm>
            <a:custGeom>
              <a:avLst/>
              <a:gdLst/>
              <a:ahLst/>
              <a:rect l="0" t="0" r="r" b="b"/>
              <a:pathLst>
                <a:path fill="none" w="111" h="191">
                  <a:moveTo>
                    <a:pt x="0" y="191"/>
                  </a:moveTo>
                  <a:lnTo>
                    <a:pt x="62" y="119"/>
                  </a:lnTo>
                  <a:lnTo>
                    <a:pt x="111" y="0"/>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295" name=""/>
            <p:cNvSpPr/>
            <p:nvPr/>
          </p:nvSpPr>
          <p:spPr>
            <a:xfrm flipH="1" flipV="1">
              <a:off x="8140680" y="1484280"/>
              <a:ext cx="22320" cy="66600"/>
            </a:xfrm>
            <a:prstGeom prst="line">
              <a:avLst/>
            </a:prstGeom>
            <a:ln w="12600">
              <a:solidFill>
                <a:srgbClr val="f2fefd"/>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9296" name=""/>
            <p:cNvSpPr/>
            <p:nvPr/>
          </p:nvSpPr>
          <p:spPr>
            <a:xfrm flipV="1">
              <a:off x="8140680" y="2241720"/>
              <a:ext cx="22320" cy="7920"/>
            </a:xfrm>
            <a:prstGeom prst="line">
              <a:avLst/>
            </a:prstGeom>
            <a:ln w="12600">
              <a:solidFill>
                <a:srgbClr val="f2fef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297" name=""/>
            <p:cNvSpPr/>
            <p:nvPr/>
          </p:nvSpPr>
          <p:spPr>
            <a:xfrm flipH="1" flipV="1">
              <a:off x="8115480" y="1427040"/>
              <a:ext cx="2520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298" name=""/>
            <p:cNvSpPr/>
            <p:nvPr/>
          </p:nvSpPr>
          <p:spPr>
            <a:xfrm>
              <a:off x="8115480" y="2241720"/>
              <a:ext cx="25200" cy="7920"/>
            </a:xfrm>
            <a:prstGeom prst="line">
              <a:avLst/>
            </a:prstGeom>
            <a:ln w="12600">
              <a:solidFill>
                <a:srgbClr val="f2fef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299" name=""/>
            <p:cNvSpPr/>
            <p:nvPr/>
          </p:nvSpPr>
          <p:spPr>
            <a:xfrm flipH="1" flipV="1">
              <a:off x="8089920" y="1389240"/>
              <a:ext cx="25560" cy="37800"/>
            </a:xfrm>
            <a:prstGeom prst="line">
              <a:avLst/>
            </a:prstGeom>
            <a:ln w="12600">
              <a:solidFill>
                <a:srgbClr val="f2fefd"/>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9300" name=""/>
            <p:cNvSpPr/>
            <p:nvPr/>
          </p:nvSpPr>
          <p:spPr>
            <a:xfrm>
              <a:off x="8089920" y="2216160"/>
              <a:ext cx="25560" cy="25560"/>
            </a:xfrm>
            <a:prstGeom prst="line">
              <a:avLst/>
            </a:prstGeom>
            <a:ln w="12600">
              <a:solidFill>
                <a:srgbClr val="f2fefd"/>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9301" name=""/>
            <p:cNvSpPr/>
            <p:nvPr/>
          </p:nvSpPr>
          <p:spPr>
            <a:xfrm flipH="1" flipV="1">
              <a:off x="8061480" y="1363680"/>
              <a:ext cx="28440" cy="25560"/>
            </a:xfrm>
            <a:prstGeom prst="line">
              <a:avLst/>
            </a:prstGeom>
            <a:ln w="12600">
              <a:solidFill>
                <a:srgbClr val="f2fefd"/>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9302" name=""/>
            <p:cNvSpPr/>
            <p:nvPr/>
          </p:nvSpPr>
          <p:spPr>
            <a:xfrm>
              <a:off x="8061480" y="2173320"/>
              <a:ext cx="28440" cy="42840"/>
            </a:xfrm>
            <a:prstGeom prst="line">
              <a:avLst/>
            </a:prstGeom>
            <a:ln w="12600">
              <a:solidFill>
                <a:srgbClr val="f2fefd"/>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9303" name=""/>
            <p:cNvSpPr/>
            <p:nvPr/>
          </p:nvSpPr>
          <p:spPr>
            <a:xfrm flipH="1" flipV="1">
              <a:off x="8035920" y="1353960"/>
              <a:ext cx="2556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304" name=""/>
            <p:cNvSpPr/>
            <p:nvPr/>
          </p:nvSpPr>
          <p:spPr>
            <a:xfrm>
              <a:off x="8035920" y="2120760"/>
              <a:ext cx="25560" cy="52560"/>
            </a:xfrm>
            <a:prstGeom prst="line">
              <a:avLst/>
            </a:prstGeom>
            <a:ln w="12600">
              <a:solidFill>
                <a:srgbClr val="f2fefd"/>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9305" name=""/>
            <p:cNvSpPr/>
            <p:nvPr/>
          </p:nvSpPr>
          <p:spPr>
            <a:xfrm flipV="1">
              <a:off x="8028000" y="1514520"/>
              <a:ext cx="27000" cy="23760"/>
            </a:xfrm>
            <a:prstGeom prst="line">
              <a:avLst/>
            </a:prstGeom>
            <a:ln w="12600">
              <a:solidFill>
                <a:srgbClr val="f2fef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9306" name=""/>
            <p:cNvSpPr/>
            <p:nvPr/>
          </p:nvSpPr>
          <p:spPr>
            <a:xfrm flipH="1">
              <a:off x="8013600" y="1353960"/>
              <a:ext cx="2232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307" name=""/>
            <p:cNvSpPr/>
            <p:nvPr/>
          </p:nvSpPr>
          <p:spPr>
            <a:xfrm>
              <a:off x="8013600" y="2052720"/>
              <a:ext cx="22320" cy="68040"/>
            </a:xfrm>
            <a:prstGeom prst="line">
              <a:avLst/>
            </a:prstGeom>
            <a:ln w="12600">
              <a:solidFill>
                <a:srgbClr val="f2fefd"/>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9308" name=""/>
            <p:cNvSpPr/>
            <p:nvPr/>
          </p:nvSpPr>
          <p:spPr>
            <a:xfrm>
              <a:off x="7977240" y="1363680"/>
              <a:ext cx="36720" cy="66960"/>
            </a:xfrm>
            <a:custGeom>
              <a:avLst/>
              <a:gdLst/>
              <a:ahLst/>
              <a:rect l="0" t="0" r="r" b="b"/>
              <a:pathLst>
                <a:path fill="none" w="102" h="186">
                  <a:moveTo>
                    <a:pt x="102" y="0"/>
                  </a:moveTo>
                  <a:lnTo>
                    <a:pt x="46" y="69"/>
                  </a:lnTo>
                  <a:lnTo>
                    <a:pt x="0" y="186"/>
                  </a:lnTo>
                </a:path>
              </a:pathLst>
            </a:custGeom>
            <a:ln w="12600">
              <a:solidFill>
                <a:srgbClr val="f2fefd"/>
              </a:solidFill>
              <a:round/>
            </a:ln>
          </p:spPr>
          <p:txBody>
            <a:bodyPr lIns="96120" rIns="96120" tIns="15840" bIns="15840" anchor="t">
              <a:noAutofit/>
            </a:bodyPr>
            <a:p>
              <a:endParaRPr b="0" lang="en-US" sz="1800" spc="-1" strike="noStrike">
                <a:solidFill>
                  <a:srgbClr val="000000"/>
                </a:solidFill>
                <a:latin typeface="Arial"/>
              </a:endParaRPr>
            </a:p>
          </p:txBody>
        </p:sp>
        <p:sp>
          <p:nvSpPr>
            <p:cNvPr id="9309" name=""/>
            <p:cNvSpPr/>
            <p:nvPr/>
          </p:nvSpPr>
          <p:spPr>
            <a:xfrm flipV="1">
              <a:off x="8018640" y="1538280"/>
              <a:ext cx="9360" cy="30240"/>
            </a:xfrm>
            <a:prstGeom prst="line">
              <a:avLst/>
            </a:prstGeom>
            <a:ln w="12600">
              <a:solidFill>
                <a:srgbClr val="f2fefd"/>
              </a:solidFill>
              <a:round/>
            </a:ln>
          </p:spPr>
          <p:style>
            <a:lnRef idx="0"/>
            <a:fillRef idx="0"/>
            <a:effectRef idx="0"/>
            <a:fontRef idx="minor"/>
          </p:style>
          <p:txBody>
            <a:bodyPr lIns="96120" rIns="96120" tIns="-20880" bIns="-20880" anchor="t">
              <a:noAutofit/>
            </a:bodyPr>
            <a:p>
              <a:endParaRPr b="0" lang="en-US" sz="1800" spc="-1" strike="noStrike">
                <a:solidFill>
                  <a:srgbClr val="000000"/>
                </a:solidFill>
                <a:latin typeface="Arial"/>
              </a:endParaRPr>
            </a:p>
          </p:txBody>
        </p:sp>
        <p:sp>
          <p:nvSpPr>
            <p:cNvPr id="9310" name=""/>
            <p:cNvSpPr/>
            <p:nvPr/>
          </p:nvSpPr>
          <p:spPr>
            <a:xfrm>
              <a:off x="7954920" y="1430280"/>
              <a:ext cx="22680" cy="146520"/>
            </a:xfrm>
            <a:custGeom>
              <a:avLst/>
              <a:gdLst/>
              <a:ahLst/>
              <a:rect l="0" t="0" r="r" b="b"/>
              <a:pathLst>
                <a:path fill="none" w="63" h="407">
                  <a:moveTo>
                    <a:pt x="63" y="0"/>
                  </a:moveTo>
                  <a:lnTo>
                    <a:pt x="23" y="148"/>
                  </a:lnTo>
                  <a:lnTo>
                    <a:pt x="0" y="345"/>
                  </a:lnTo>
                  <a:lnTo>
                    <a:pt x="0" y="407"/>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311" name=""/>
            <p:cNvSpPr/>
            <p:nvPr/>
          </p:nvSpPr>
          <p:spPr>
            <a:xfrm flipH="1" flipV="1">
              <a:off x="8601120" y="1841400"/>
              <a:ext cx="3240" cy="84240"/>
            </a:xfrm>
            <a:prstGeom prst="line">
              <a:avLst/>
            </a:prstGeom>
            <a:ln w="12600">
              <a:solidFill>
                <a:srgbClr val="f2fefd"/>
              </a:solidFill>
              <a:round/>
            </a:ln>
          </p:spPr>
          <p:style>
            <a:lnRef idx="0"/>
            <a:fillRef idx="0"/>
            <a:effectRef idx="0"/>
            <a:fontRef idx="minor"/>
          </p:style>
          <p:txBody>
            <a:bodyPr lIns="96120" rIns="96120" tIns="33120" bIns="33120" anchor="t">
              <a:noAutofit/>
            </a:bodyPr>
            <a:p>
              <a:endParaRPr b="0" lang="en-US" sz="1800" spc="-1" strike="noStrike">
                <a:solidFill>
                  <a:srgbClr val="000000"/>
                </a:solidFill>
                <a:latin typeface="Arial"/>
              </a:endParaRPr>
            </a:p>
          </p:txBody>
        </p:sp>
        <p:sp>
          <p:nvSpPr>
            <p:cNvPr id="9312" name=""/>
            <p:cNvSpPr/>
            <p:nvPr/>
          </p:nvSpPr>
          <p:spPr>
            <a:xfrm flipH="1">
              <a:off x="8224920" y="1925640"/>
              <a:ext cx="37944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313" name=""/>
            <p:cNvSpPr/>
            <p:nvPr/>
          </p:nvSpPr>
          <p:spPr>
            <a:xfrm flipV="1">
              <a:off x="8601120" y="1925640"/>
              <a:ext cx="3240" cy="76320"/>
            </a:xfrm>
            <a:prstGeom prst="line">
              <a:avLst/>
            </a:prstGeom>
            <a:ln w="12600">
              <a:solidFill>
                <a:srgbClr val="f2fefd"/>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314" name=""/>
            <p:cNvSpPr/>
            <p:nvPr/>
          </p:nvSpPr>
          <p:spPr>
            <a:xfrm>
              <a:off x="8224920" y="1754280"/>
              <a:ext cx="376560" cy="219600"/>
            </a:xfrm>
            <a:custGeom>
              <a:avLst/>
              <a:gdLst/>
              <a:ahLst/>
              <a:rect l="0" t="0" r="r" b="b"/>
              <a:pathLst>
                <a:path fill="none" w="1046" h="610">
                  <a:moveTo>
                    <a:pt x="0" y="610"/>
                  </a:moveTo>
                  <a:lnTo>
                    <a:pt x="1046" y="243"/>
                  </a:lnTo>
                  <a:lnTo>
                    <a:pt x="1024"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315" name=""/>
            <p:cNvSpPr/>
            <p:nvPr/>
          </p:nvSpPr>
          <p:spPr>
            <a:xfrm flipV="1">
              <a:off x="8221680" y="1841400"/>
              <a:ext cx="379440" cy="47880"/>
            </a:xfrm>
            <a:prstGeom prst="line">
              <a:avLst/>
            </a:prstGeom>
            <a:ln w="12600">
              <a:solidFill>
                <a:srgbClr val="f2fefd"/>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316" name=""/>
            <p:cNvSpPr/>
            <p:nvPr/>
          </p:nvSpPr>
          <p:spPr>
            <a:xfrm flipV="1">
              <a:off x="8593200" y="2001960"/>
              <a:ext cx="7920" cy="71280"/>
            </a:xfrm>
            <a:prstGeom prst="line">
              <a:avLst/>
            </a:prstGeom>
            <a:ln w="12600">
              <a:solidFill>
                <a:srgbClr val="f2fefd"/>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9317" name=""/>
            <p:cNvSpPr/>
            <p:nvPr/>
          </p:nvSpPr>
          <p:spPr>
            <a:xfrm>
              <a:off x="8221680" y="1973160"/>
              <a:ext cx="379800" cy="76680"/>
            </a:xfrm>
            <a:custGeom>
              <a:avLst/>
              <a:gdLst/>
              <a:ahLst/>
              <a:rect l="0" t="0" r="r" b="b"/>
              <a:pathLst>
                <a:path fill="none" w="1055" h="213">
                  <a:moveTo>
                    <a:pt x="0" y="213"/>
                  </a:moveTo>
                  <a:lnTo>
                    <a:pt x="1055" y="80"/>
                  </a:lnTo>
                  <a:lnTo>
                    <a:pt x="8" y="0"/>
                  </a:lnTo>
                </a:path>
              </a:pathLst>
            </a:custGeom>
            <a:ln w="12600">
              <a:solidFill>
                <a:srgbClr val="f2fefd"/>
              </a:solidFill>
              <a:round/>
            </a:ln>
          </p:spPr>
          <p:txBody>
            <a:bodyPr lIns="96120" rIns="96120" tIns="25560" bIns="25560" anchor="t">
              <a:noAutofit/>
            </a:bodyPr>
            <a:p>
              <a:endParaRPr b="0" lang="en-US" sz="1800" spc="-1" strike="noStrike">
                <a:solidFill>
                  <a:srgbClr val="000000"/>
                </a:solidFill>
                <a:latin typeface="Arial"/>
              </a:endParaRPr>
            </a:p>
          </p:txBody>
        </p:sp>
        <p:sp>
          <p:nvSpPr>
            <p:cNvPr id="9318" name=""/>
            <p:cNvSpPr/>
            <p:nvPr/>
          </p:nvSpPr>
          <p:spPr>
            <a:xfrm flipV="1">
              <a:off x="8221680" y="1754280"/>
              <a:ext cx="371520" cy="135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9" name=""/>
            <p:cNvSpPr/>
            <p:nvPr/>
          </p:nvSpPr>
          <p:spPr>
            <a:xfrm flipV="1">
              <a:off x="8582040" y="2073240"/>
              <a:ext cx="11160" cy="52560"/>
            </a:xfrm>
            <a:prstGeom prst="line">
              <a:avLst/>
            </a:prstGeom>
            <a:ln w="12600">
              <a:solidFill>
                <a:srgbClr val="f2fefd"/>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9320" name=""/>
            <p:cNvSpPr/>
            <p:nvPr/>
          </p:nvSpPr>
          <p:spPr>
            <a:xfrm>
              <a:off x="8213760" y="2049480"/>
              <a:ext cx="379800" cy="68760"/>
            </a:xfrm>
            <a:custGeom>
              <a:avLst/>
              <a:gdLst/>
              <a:ahLst/>
              <a:rect l="0" t="0" r="r" b="b"/>
              <a:pathLst>
                <a:path fill="none" w="1055" h="191">
                  <a:moveTo>
                    <a:pt x="0" y="191"/>
                  </a:moveTo>
                  <a:lnTo>
                    <a:pt x="1055" y="65"/>
                  </a:lnTo>
                  <a:lnTo>
                    <a:pt x="22" y="0"/>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321" name=""/>
            <p:cNvSpPr/>
            <p:nvPr/>
          </p:nvSpPr>
          <p:spPr>
            <a:xfrm flipH="1" flipV="1">
              <a:off x="8582040" y="1666800"/>
              <a:ext cx="1116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322" name=""/>
            <p:cNvSpPr/>
            <p:nvPr/>
          </p:nvSpPr>
          <p:spPr>
            <a:xfrm>
              <a:off x="8202600" y="1714680"/>
              <a:ext cx="390960" cy="87840"/>
            </a:xfrm>
            <a:custGeom>
              <a:avLst/>
              <a:gdLst/>
              <a:ahLst/>
              <a:rect l="0" t="0" r="r" b="b"/>
              <a:pathLst>
                <a:path fill="none" w="1086" h="244">
                  <a:moveTo>
                    <a:pt x="30" y="244"/>
                  </a:moveTo>
                  <a:lnTo>
                    <a:pt x="1086" y="111"/>
                  </a:lnTo>
                  <a:lnTo>
                    <a:pt x="0" y="0"/>
                  </a:lnTo>
                </a:path>
              </a:pathLst>
            </a:custGeom>
            <a:ln w="12600">
              <a:solidFill>
                <a:srgbClr val="f2fefd"/>
              </a:solidFill>
              <a:round/>
            </a:ln>
          </p:spPr>
          <p:txBody>
            <a:bodyPr lIns="96120" rIns="96120" tIns="36720" bIns="36720" anchor="t">
              <a:noAutofit/>
            </a:bodyPr>
            <a:p>
              <a:endParaRPr b="0" lang="en-US" sz="1800" spc="-1" strike="noStrike">
                <a:solidFill>
                  <a:srgbClr val="000000"/>
                </a:solidFill>
                <a:latin typeface="Arial"/>
              </a:endParaRPr>
            </a:p>
          </p:txBody>
        </p:sp>
        <p:sp>
          <p:nvSpPr>
            <p:cNvPr id="9323" name=""/>
            <p:cNvSpPr/>
            <p:nvPr/>
          </p:nvSpPr>
          <p:spPr>
            <a:xfrm flipV="1">
              <a:off x="8564400" y="2125800"/>
              <a:ext cx="17640" cy="42840"/>
            </a:xfrm>
            <a:prstGeom prst="line">
              <a:avLst/>
            </a:prstGeom>
            <a:ln w="12600">
              <a:solidFill>
                <a:srgbClr val="f2fefd"/>
              </a:solidFill>
              <a:round/>
            </a:ln>
          </p:spPr>
          <p:style>
            <a:lnRef idx="0"/>
            <a:fillRef idx="0"/>
            <a:effectRef idx="0"/>
            <a:fontRef idx="minor"/>
          </p:style>
          <p:txBody>
            <a:bodyPr lIns="96120" rIns="96120" tIns="-8280" bIns="-8280" anchor="t">
              <a:noAutofit/>
            </a:bodyPr>
            <a:p>
              <a:endParaRPr b="0" lang="en-US" sz="1800" spc="-1" strike="noStrike">
                <a:solidFill>
                  <a:srgbClr val="000000"/>
                </a:solidFill>
                <a:latin typeface="Arial"/>
              </a:endParaRPr>
            </a:p>
          </p:txBody>
        </p:sp>
        <p:sp>
          <p:nvSpPr>
            <p:cNvPr id="9324" name=""/>
            <p:cNvSpPr/>
            <p:nvPr/>
          </p:nvSpPr>
          <p:spPr>
            <a:xfrm>
              <a:off x="8202600" y="2117880"/>
              <a:ext cx="379800" cy="55800"/>
            </a:xfrm>
            <a:custGeom>
              <a:avLst/>
              <a:gdLst/>
              <a:ahLst/>
              <a:rect l="0" t="0" r="r" b="b"/>
              <a:pathLst>
                <a:path fill="none" w="1055" h="155">
                  <a:moveTo>
                    <a:pt x="0" y="155"/>
                  </a:moveTo>
                  <a:lnTo>
                    <a:pt x="1055" y="23"/>
                  </a:lnTo>
                  <a:lnTo>
                    <a:pt x="30" y="0"/>
                  </a:lnTo>
                </a:path>
              </a:pathLst>
            </a:custGeom>
            <a:ln w="12600">
              <a:solidFill>
                <a:srgbClr val="f2fefd"/>
              </a:solidFill>
              <a:round/>
            </a:ln>
          </p:spPr>
          <p:txBody>
            <a:bodyPr lIns="96120" rIns="96120" tIns="4680" bIns="4680" anchor="t">
              <a:noAutofit/>
            </a:bodyPr>
            <a:p>
              <a:endParaRPr b="0" lang="en-US" sz="1800" spc="-1" strike="noStrike">
                <a:solidFill>
                  <a:srgbClr val="000000"/>
                </a:solidFill>
                <a:latin typeface="Arial"/>
              </a:endParaRPr>
            </a:p>
          </p:txBody>
        </p:sp>
        <p:sp>
          <p:nvSpPr>
            <p:cNvPr id="9325" name=""/>
            <p:cNvSpPr/>
            <p:nvPr/>
          </p:nvSpPr>
          <p:spPr>
            <a:xfrm>
              <a:off x="8545680" y="1503360"/>
              <a:ext cx="36720" cy="163800"/>
            </a:xfrm>
            <a:custGeom>
              <a:avLst/>
              <a:gdLst/>
              <a:ahLst/>
              <a:rect l="0" t="0" r="r" b="b"/>
              <a:pathLst>
                <a:path fill="none" w="102" h="455">
                  <a:moveTo>
                    <a:pt x="102" y="455"/>
                  </a:moveTo>
                  <a:lnTo>
                    <a:pt x="56" y="218"/>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326" name=""/>
            <p:cNvSpPr/>
            <p:nvPr/>
          </p:nvSpPr>
          <p:spPr>
            <a:xfrm flipV="1">
              <a:off x="8185320" y="1582560"/>
              <a:ext cx="379080" cy="47880"/>
            </a:xfrm>
            <a:prstGeom prst="line">
              <a:avLst/>
            </a:prstGeom>
            <a:ln w="12600">
              <a:solidFill>
                <a:srgbClr val="f2fefd"/>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327" name=""/>
            <p:cNvSpPr/>
            <p:nvPr/>
          </p:nvSpPr>
          <p:spPr>
            <a:xfrm flipH="1" flipV="1">
              <a:off x="8185320" y="1630440"/>
              <a:ext cx="396720" cy="36360"/>
            </a:xfrm>
            <a:prstGeom prst="line">
              <a:avLst/>
            </a:prstGeom>
            <a:ln w="12600">
              <a:solidFill>
                <a:srgbClr val="f2fefd"/>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9328" name=""/>
            <p:cNvSpPr/>
            <p:nvPr/>
          </p:nvSpPr>
          <p:spPr>
            <a:xfrm flipV="1">
              <a:off x="8202600" y="1666800"/>
              <a:ext cx="379440" cy="47880"/>
            </a:xfrm>
            <a:prstGeom prst="line">
              <a:avLst/>
            </a:prstGeom>
            <a:ln w="12600">
              <a:solidFill>
                <a:srgbClr val="f2fefd"/>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9329" name=""/>
            <p:cNvSpPr/>
            <p:nvPr/>
          </p:nvSpPr>
          <p:spPr>
            <a:xfrm flipV="1">
              <a:off x="8545680" y="2168640"/>
              <a:ext cx="18720" cy="25200"/>
            </a:xfrm>
            <a:prstGeom prst="line">
              <a:avLst/>
            </a:prstGeom>
            <a:ln w="12600">
              <a:solidFill>
                <a:srgbClr val="f2fefd"/>
              </a:solidFill>
              <a:round/>
            </a:ln>
          </p:spPr>
          <p:style>
            <a:lnRef idx="0"/>
            <a:fillRef idx="0"/>
            <a:effectRef idx="0"/>
            <a:fontRef idx="minor"/>
          </p:style>
          <p:txBody>
            <a:bodyPr lIns="96120" rIns="96120" tIns="-25920" bIns="-25920" anchor="t">
              <a:noAutofit/>
            </a:bodyPr>
            <a:p>
              <a:endParaRPr b="0" lang="en-US" sz="1800" spc="-1" strike="noStrike">
                <a:solidFill>
                  <a:srgbClr val="000000"/>
                </a:solidFill>
                <a:latin typeface="Arial"/>
              </a:endParaRPr>
            </a:p>
          </p:txBody>
        </p:sp>
        <p:sp>
          <p:nvSpPr>
            <p:cNvPr id="9330" name=""/>
            <p:cNvSpPr/>
            <p:nvPr/>
          </p:nvSpPr>
          <p:spPr>
            <a:xfrm>
              <a:off x="8185320" y="2168640"/>
              <a:ext cx="379800" cy="47880"/>
            </a:xfrm>
            <a:custGeom>
              <a:avLst/>
              <a:gdLst/>
              <a:ahLst/>
              <a:rect l="0" t="0" r="r" b="b"/>
              <a:pathLst>
                <a:path fill="none" w="1055" h="133">
                  <a:moveTo>
                    <a:pt x="0" y="133"/>
                  </a:moveTo>
                  <a:lnTo>
                    <a:pt x="1055" y="0"/>
                  </a:lnTo>
                  <a:lnTo>
                    <a:pt x="48" y="15"/>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331" name=""/>
            <p:cNvSpPr/>
            <p:nvPr/>
          </p:nvSpPr>
          <p:spPr>
            <a:xfrm flipV="1">
              <a:off x="8185320" y="1503360"/>
              <a:ext cx="360360" cy="1270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32" name=""/>
            <p:cNvSpPr/>
            <p:nvPr/>
          </p:nvSpPr>
          <p:spPr>
            <a:xfrm flipV="1">
              <a:off x="8520120" y="2193840"/>
              <a:ext cx="25560" cy="7920"/>
            </a:xfrm>
            <a:prstGeom prst="line">
              <a:avLst/>
            </a:prstGeom>
            <a:ln w="12600">
              <a:solidFill>
                <a:srgbClr val="f2fefd"/>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9333" name=""/>
            <p:cNvSpPr/>
            <p:nvPr/>
          </p:nvSpPr>
          <p:spPr>
            <a:xfrm>
              <a:off x="8163000" y="2193840"/>
              <a:ext cx="383040" cy="47880"/>
            </a:xfrm>
            <a:custGeom>
              <a:avLst/>
              <a:gdLst/>
              <a:ahLst/>
              <a:rect l="0" t="0" r="r" b="b"/>
              <a:pathLst>
                <a:path fill="none" w="1064" h="133">
                  <a:moveTo>
                    <a:pt x="0" y="133"/>
                  </a:moveTo>
                  <a:lnTo>
                    <a:pt x="1064" y="0"/>
                  </a:lnTo>
                  <a:lnTo>
                    <a:pt x="61" y="61"/>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334" name=""/>
            <p:cNvSpPr/>
            <p:nvPr/>
          </p:nvSpPr>
          <p:spPr>
            <a:xfrm>
              <a:off x="8163000" y="1436760"/>
              <a:ext cx="383040" cy="114840"/>
            </a:xfrm>
            <a:custGeom>
              <a:avLst/>
              <a:gdLst/>
              <a:ahLst/>
              <a:rect l="0" t="0" r="r" b="b"/>
              <a:pathLst>
                <a:path fill="none" w="1064" h="319">
                  <a:moveTo>
                    <a:pt x="0" y="319"/>
                  </a:moveTo>
                  <a:lnTo>
                    <a:pt x="1064" y="187"/>
                  </a:lnTo>
                  <a:lnTo>
                    <a:pt x="994"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335" name=""/>
            <p:cNvSpPr/>
            <p:nvPr/>
          </p:nvSpPr>
          <p:spPr>
            <a:xfrm>
              <a:off x="8140680" y="1484280"/>
              <a:ext cx="405000" cy="19080"/>
            </a:xfrm>
            <a:prstGeom prst="line">
              <a:avLst/>
            </a:prstGeom>
            <a:ln w="12600">
              <a:solidFill>
                <a:srgbClr val="f2fefd"/>
              </a:solidFill>
              <a:round/>
            </a:ln>
          </p:spPr>
          <p:style>
            <a:lnRef idx="0"/>
            <a:fillRef idx="0"/>
            <a:effectRef idx="0"/>
            <a:fontRef idx="minor"/>
          </p:style>
          <p:txBody>
            <a:bodyPr lIns="96120" rIns="96120" tIns="-32040" bIns="-32040" anchor="t">
              <a:noAutofit/>
            </a:bodyPr>
            <a:p>
              <a:endParaRPr b="0" lang="en-US" sz="1800" spc="-1" strike="noStrike">
                <a:solidFill>
                  <a:srgbClr val="000000"/>
                </a:solidFill>
                <a:latin typeface="Arial"/>
              </a:endParaRPr>
            </a:p>
          </p:txBody>
        </p:sp>
        <p:sp>
          <p:nvSpPr>
            <p:cNvPr id="9336" name=""/>
            <p:cNvSpPr/>
            <p:nvPr/>
          </p:nvSpPr>
          <p:spPr>
            <a:xfrm>
              <a:off x="8140680" y="2201760"/>
              <a:ext cx="379800" cy="47880"/>
            </a:xfrm>
            <a:custGeom>
              <a:avLst/>
              <a:gdLst/>
              <a:ahLst/>
              <a:rect l="0" t="0" r="r" b="b"/>
              <a:pathLst>
                <a:path fill="none" w="1055" h="133">
                  <a:moveTo>
                    <a:pt x="0" y="133"/>
                  </a:moveTo>
                  <a:lnTo>
                    <a:pt x="1055" y="0"/>
                  </a:lnTo>
                  <a:lnTo>
                    <a:pt x="61" y="109"/>
                  </a:lnTo>
                </a:path>
              </a:pathLst>
            </a:custGeom>
            <a:ln w="12600">
              <a:solidFill>
                <a:srgbClr val="f2fefd"/>
              </a:solidFill>
              <a:round/>
            </a:ln>
          </p:spPr>
          <p:txBody>
            <a:bodyPr lIns="96120" rIns="96120" tIns="-3240" bIns="-3240" anchor="t">
              <a:noAutofit/>
            </a:bodyPr>
            <a:p>
              <a:endParaRPr b="0" lang="en-US" sz="1800" spc="-1" strike="noStrike">
                <a:solidFill>
                  <a:srgbClr val="000000"/>
                </a:solidFill>
                <a:latin typeface="Arial"/>
              </a:endParaRPr>
            </a:p>
          </p:txBody>
        </p:sp>
        <p:sp>
          <p:nvSpPr>
            <p:cNvPr id="9337" name=""/>
            <p:cNvSpPr/>
            <p:nvPr/>
          </p:nvSpPr>
          <p:spPr>
            <a:xfrm>
              <a:off x="8140680" y="1379520"/>
              <a:ext cx="379800" cy="105120"/>
            </a:xfrm>
            <a:custGeom>
              <a:avLst/>
              <a:gdLst/>
              <a:ahLst/>
              <a:rect l="0" t="0" r="r" b="b"/>
              <a:pathLst>
                <a:path fill="none" w="1055" h="292">
                  <a:moveTo>
                    <a:pt x="0" y="292"/>
                  </a:moveTo>
                  <a:lnTo>
                    <a:pt x="1055" y="158"/>
                  </a:lnTo>
                  <a:lnTo>
                    <a:pt x="987"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338" name=""/>
            <p:cNvSpPr/>
            <p:nvPr/>
          </p:nvSpPr>
          <p:spPr>
            <a:xfrm>
              <a:off x="8115480" y="1427040"/>
              <a:ext cx="40464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339" name=""/>
            <p:cNvSpPr/>
            <p:nvPr/>
          </p:nvSpPr>
          <p:spPr>
            <a:xfrm>
              <a:off x="8115480" y="1339920"/>
              <a:ext cx="379800" cy="87840"/>
            </a:xfrm>
            <a:custGeom>
              <a:avLst/>
              <a:gdLst/>
              <a:ahLst/>
              <a:rect l="0" t="0" r="r" b="b"/>
              <a:pathLst>
                <a:path fill="none" w="1055" h="244">
                  <a:moveTo>
                    <a:pt x="0" y="244"/>
                  </a:moveTo>
                  <a:lnTo>
                    <a:pt x="1055" y="111"/>
                  </a:lnTo>
                  <a:lnTo>
                    <a:pt x="985" y="0"/>
                  </a:lnTo>
                </a:path>
              </a:pathLst>
            </a:custGeom>
            <a:ln w="12600">
              <a:solidFill>
                <a:srgbClr val="f2fefd"/>
              </a:solidFill>
              <a:round/>
            </a:ln>
          </p:spPr>
          <p:txBody>
            <a:bodyPr lIns="96120" rIns="96120" tIns="36720" bIns="36720" anchor="t">
              <a:noAutofit/>
            </a:bodyPr>
            <a:p>
              <a:endParaRPr b="0" lang="en-US" sz="1800" spc="-1" strike="noStrike">
                <a:solidFill>
                  <a:srgbClr val="000000"/>
                </a:solidFill>
                <a:latin typeface="Arial"/>
              </a:endParaRPr>
            </a:p>
          </p:txBody>
        </p:sp>
        <p:sp>
          <p:nvSpPr>
            <p:cNvPr id="9340" name=""/>
            <p:cNvSpPr/>
            <p:nvPr/>
          </p:nvSpPr>
          <p:spPr>
            <a:xfrm flipV="1">
              <a:off x="8089920" y="1379520"/>
              <a:ext cx="40464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341" name=""/>
            <p:cNvSpPr/>
            <p:nvPr/>
          </p:nvSpPr>
          <p:spPr>
            <a:xfrm>
              <a:off x="8089920" y="1316160"/>
              <a:ext cx="379800" cy="73440"/>
            </a:xfrm>
            <a:custGeom>
              <a:avLst/>
              <a:gdLst/>
              <a:ahLst/>
              <a:rect l="0" t="0" r="r" b="b"/>
              <a:pathLst>
                <a:path fill="none" w="1055" h="204">
                  <a:moveTo>
                    <a:pt x="0" y="204"/>
                  </a:moveTo>
                  <a:lnTo>
                    <a:pt x="1055" y="69"/>
                  </a:lnTo>
                  <a:lnTo>
                    <a:pt x="985" y="0"/>
                  </a:lnTo>
                </a:path>
              </a:pathLst>
            </a:custGeom>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9342" name=""/>
            <p:cNvSpPr/>
            <p:nvPr/>
          </p:nvSpPr>
          <p:spPr>
            <a:xfrm flipV="1">
              <a:off x="8061480" y="1339920"/>
              <a:ext cx="407880" cy="23760"/>
            </a:xfrm>
            <a:prstGeom prst="line">
              <a:avLst/>
            </a:prstGeom>
            <a:ln w="12600">
              <a:solidFill>
                <a:srgbClr val="f2fefd"/>
              </a:solidFill>
              <a:roun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9343" name=""/>
            <p:cNvSpPr/>
            <p:nvPr/>
          </p:nvSpPr>
          <p:spPr>
            <a:xfrm>
              <a:off x="8061480" y="1306440"/>
              <a:ext cx="383040" cy="57600"/>
            </a:xfrm>
            <a:custGeom>
              <a:avLst/>
              <a:gdLst/>
              <a:ahLst/>
              <a:rect l="0" t="0" r="r" b="b"/>
              <a:pathLst>
                <a:path fill="none" w="1064" h="160">
                  <a:moveTo>
                    <a:pt x="0" y="160"/>
                  </a:moveTo>
                  <a:lnTo>
                    <a:pt x="1064" y="24"/>
                  </a:lnTo>
                  <a:lnTo>
                    <a:pt x="994" y="0"/>
                  </a:lnTo>
                </a:path>
              </a:pathLst>
            </a:custGeom>
            <a:ln w="12600">
              <a:solidFill>
                <a:srgbClr val="f2fefd"/>
              </a:solidFill>
              <a:round/>
            </a:ln>
          </p:spPr>
          <p:txBody>
            <a:bodyPr lIns="96120" rIns="96120" tIns="6480" bIns="6480" anchor="t">
              <a:noAutofit/>
            </a:bodyPr>
            <a:p>
              <a:endParaRPr b="0" lang="en-US" sz="1800" spc="-1" strike="noStrike">
                <a:solidFill>
                  <a:srgbClr val="000000"/>
                </a:solidFill>
                <a:latin typeface="Arial"/>
              </a:endParaRPr>
            </a:p>
          </p:txBody>
        </p:sp>
        <p:sp>
          <p:nvSpPr>
            <p:cNvPr id="9344" name=""/>
            <p:cNvSpPr/>
            <p:nvPr/>
          </p:nvSpPr>
          <p:spPr>
            <a:xfrm flipV="1">
              <a:off x="8035920" y="1316160"/>
              <a:ext cx="407880" cy="37800"/>
            </a:xfrm>
            <a:prstGeom prst="line">
              <a:avLst/>
            </a:prstGeom>
            <a:ln w="12600">
              <a:solidFill>
                <a:srgbClr val="f2fefd"/>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9345" name=""/>
            <p:cNvSpPr/>
            <p:nvPr/>
          </p:nvSpPr>
          <p:spPr>
            <a:xfrm flipH="1">
              <a:off x="8035920" y="1306440"/>
              <a:ext cx="38268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346" name=""/>
            <p:cNvSpPr/>
            <p:nvPr/>
          </p:nvSpPr>
          <p:spPr>
            <a:xfrm>
              <a:off x="8913960" y="1703520"/>
              <a:ext cx="3600" cy="98640"/>
            </a:xfrm>
            <a:custGeom>
              <a:avLst/>
              <a:gdLst/>
              <a:ahLst/>
              <a:rect l="0" t="0" r="r" b="b"/>
              <a:pathLst>
                <a:path fill="none" w="10" h="274">
                  <a:moveTo>
                    <a:pt x="0" y="274"/>
                  </a:moveTo>
                  <a:lnTo>
                    <a:pt x="10" y="148"/>
                  </a:lnTo>
                  <a:lnTo>
                    <a:pt x="0" y="0"/>
                  </a:lnTo>
                </a:path>
              </a:pathLst>
            </a:custGeom>
            <a:ln w="12600">
              <a:solidFill>
                <a:srgbClr val="f2fefd"/>
              </a:solidFill>
              <a:round/>
            </a:ln>
          </p:spPr>
          <p:txBody>
            <a:bodyPr lIns="96120" rIns="96120" tIns="47520" bIns="47520" anchor="t">
              <a:noAutofit/>
            </a:bodyPr>
            <a:p>
              <a:endParaRPr b="0" lang="en-US" sz="1800" spc="-1" strike="noStrike">
                <a:solidFill>
                  <a:srgbClr val="000000"/>
                </a:solidFill>
                <a:latin typeface="Arial"/>
              </a:endParaRPr>
            </a:p>
          </p:txBody>
        </p:sp>
        <p:sp>
          <p:nvSpPr>
            <p:cNvPr id="9347" name=""/>
            <p:cNvSpPr/>
            <p:nvPr/>
          </p:nvSpPr>
          <p:spPr>
            <a:xfrm>
              <a:off x="8593200" y="1754280"/>
              <a:ext cx="324360" cy="43200"/>
            </a:xfrm>
            <a:custGeom>
              <a:avLst/>
              <a:gdLst/>
              <a:ahLst/>
              <a:rect l="0" t="0" r="r" b="b"/>
              <a:pathLst>
                <a:path fill="none" w="901" h="120">
                  <a:moveTo>
                    <a:pt x="15" y="120"/>
                  </a:moveTo>
                  <a:lnTo>
                    <a:pt x="901" y="6"/>
                  </a:lnTo>
                  <a:lnTo>
                    <a:pt x="0" y="0"/>
                  </a:lnTo>
                </a:path>
              </a:pathLst>
            </a:custGeom>
            <a:ln w="12600">
              <a:solidFill>
                <a:srgbClr val="f2fefd"/>
              </a:solidFill>
              <a:round/>
            </a:ln>
          </p:spPr>
          <p:txBody>
            <a:bodyPr lIns="96120" rIns="96120" tIns="-7920" bIns="-7920" anchor="t">
              <a:noAutofit/>
            </a:bodyPr>
            <a:p>
              <a:endParaRPr b="0" lang="en-US" sz="1800" spc="-1" strike="noStrike">
                <a:solidFill>
                  <a:srgbClr val="000000"/>
                </a:solidFill>
                <a:latin typeface="Arial"/>
              </a:endParaRPr>
            </a:p>
          </p:txBody>
        </p:sp>
        <p:sp>
          <p:nvSpPr>
            <p:cNvPr id="9348" name=""/>
            <p:cNvSpPr/>
            <p:nvPr/>
          </p:nvSpPr>
          <p:spPr>
            <a:xfrm flipV="1">
              <a:off x="8906040" y="1801800"/>
              <a:ext cx="7920" cy="28440"/>
            </a:xfrm>
            <a:prstGeom prst="line">
              <a:avLst/>
            </a:prstGeom>
            <a:ln w="12600">
              <a:solidFill>
                <a:srgbClr val="f2fefd"/>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9349" name=""/>
            <p:cNvSpPr/>
            <p:nvPr/>
          </p:nvSpPr>
          <p:spPr>
            <a:xfrm>
              <a:off x="8599320" y="1801800"/>
              <a:ext cx="314640" cy="36720"/>
            </a:xfrm>
            <a:custGeom>
              <a:avLst/>
              <a:gdLst/>
              <a:ahLst/>
              <a:rect l="0" t="0" r="r" b="b"/>
              <a:pathLst>
                <a:path fill="none" w="874" h="102">
                  <a:moveTo>
                    <a:pt x="6" y="102"/>
                  </a:moveTo>
                  <a:lnTo>
                    <a:pt x="874" y="0"/>
                  </a:lnTo>
                  <a:lnTo>
                    <a:pt x="0" y="8"/>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350" name=""/>
            <p:cNvSpPr/>
            <p:nvPr/>
          </p:nvSpPr>
          <p:spPr>
            <a:xfrm flipH="1" flipV="1">
              <a:off x="8906040" y="1650960"/>
              <a:ext cx="7920" cy="52560"/>
            </a:xfrm>
            <a:prstGeom prst="line">
              <a:avLst/>
            </a:prstGeom>
            <a:ln w="12600">
              <a:solidFill>
                <a:srgbClr val="f2fefd"/>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9351" name=""/>
            <p:cNvSpPr/>
            <p:nvPr/>
          </p:nvSpPr>
          <p:spPr>
            <a:xfrm>
              <a:off x="8588520" y="1700280"/>
              <a:ext cx="325800" cy="43200"/>
            </a:xfrm>
            <a:custGeom>
              <a:avLst/>
              <a:gdLst/>
              <a:ahLst/>
              <a:rect l="0" t="0" r="r" b="b"/>
              <a:pathLst>
                <a:path fill="none" w="905" h="120">
                  <a:moveTo>
                    <a:pt x="15" y="120"/>
                  </a:moveTo>
                  <a:lnTo>
                    <a:pt x="905" y="8"/>
                  </a:lnTo>
                  <a:lnTo>
                    <a:pt x="0" y="0"/>
                  </a:lnTo>
                </a:path>
              </a:pathLst>
            </a:custGeom>
            <a:ln w="12600">
              <a:solidFill>
                <a:srgbClr val="f2fefd"/>
              </a:solidFill>
              <a:round/>
            </a:ln>
          </p:spPr>
          <p:txBody>
            <a:bodyPr lIns="96120" rIns="96120" tIns="-7920" bIns="-7920" anchor="t">
              <a:noAutofit/>
            </a:bodyPr>
            <a:p>
              <a:endParaRPr b="0" lang="en-US" sz="1800" spc="-1" strike="noStrike">
                <a:solidFill>
                  <a:srgbClr val="000000"/>
                </a:solidFill>
                <a:latin typeface="Arial"/>
              </a:endParaRPr>
            </a:p>
          </p:txBody>
        </p:sp>
        <p:sp>
          <p:nvSpPr>
            <p:cNvPr id="9352" name=""/>
            <p:cNvSpPr/>
            <p:nvPr/>
          </p:nvSpPr>
          <p:spPr>
            <a:xfrm flipV="1">
              <a:off x="8891640" y="1830240"/>
              <a:ext cx="1440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353" name=""/>
            <p:cNvSpPr/>
            <p:nvPr/>
          </p:nvSpPr>
          <p:spPr>
            <a:xfrm>
              <a:off x="8601120" y="1830240"/>
              <a:ext cx="305280" cy="39960"/>
            </a:xfrm>
            <a:custGeom>
              <a:avLst/>
              <a:gdLst/>
              <a:ahLst/>
              <a:rect l="0" t="0" r="r" b="b"/>
              <a:pathLst>
                <a:path fill="none" w="848" h="111">
                  <a:moveTo>
                    <a:pt x="0" y="111"/>
                  </a:moveTo>
                  <a:lnTo>
                    <a:pt x="848" y="0"/>
                  </a:lnTo>
                  <a:lnTo>
                    <a:pt x="0" y="47"/>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354" name=""/>
            <p:cNvSpPr/>
            <p:nvPr/>
          </p:nvSpPr>
          <p:spPr>
            <a:xfrm flipH="1" flipV="1">
              <a:off x="8891640" y="1604880"/>
              <a:ext cx="14400" cy="46080"/>
            </a:xfrm>
            <a:prstGeom prst="line">
              <a:avLst/>
            </a:prstGeom>
            <a:ln w="12600">
              <a:solidFill>
                <a:srgbClr val="f2fefd"/>
              </a:solidFill>
              <a:round/>
            </a:ln>
          </p:spPr>
          <p:style>
            <a:lnRef idx="0"/>
            <a:fillRef idx="0"/>
            <a:effectRef idx="0"/>
            <a:fontRef idx="minor"/>
          </p:style>
          <p:txBody>
            <a:bodyPr lIns="96120" rIns="96120" tIns="-5040" bIns="-5040" anchor="t">
              <a:noAutofit/>
            </a:bodyPr>
            <a:p>
              <a:endParaRPr b="0" lang="en-US" sz="1800" spc="-1" strike="noStrike">
                <a:solidFill>
                  <a:srgbClr val="000000"/>
                </a:solidFill>
                <a:latin typeface="Arial"/>
              </a:endParaRPr>
            </a:p>
          </p:txBody>
        </p:sp>
        <p:sp>
          <p:nvSpPr>
            <p:cNvPr id="9355" name=""/>
            <p:cNvSpPr/>
            <p:nvPr/>
          </p:nvSpPr>
          <p:spPr>
            <a:xfrm>
              <a:off x="8578800" y="1650960"/>
              <a:ext cx="327240" cy="38520"/>
            </a:xfrm>
            <a:custGeom>
              <a:avLst/>
              <a:gdLst/>
              <a:ahLst/>
              <a:rect l="0" t="0" r="r" b="b"/>
              <a:pathLst>
                <a:path fill="none" w="909" h="107">
                  <a:moveTo>
                    <a:pt x="15" y="107"/>
                  </a:moveTo>
                  <a:lnTo>
                    <a:pt x="909" y="0"/>
                  </a:lnTo>
                  <a:lnTo>
                    <a:pt x="0" y="15"/>
                  </a:lnTo>
                </a:path>
              </a:pathLst>
            </a:custGeom>
            <a:ln w="12600">
              <a:solidFill>
                <a:srgbClr val="f2fefd"/>
              </a:solidFill>
              <a:round/>
            </a:ln>
          </p:spPr>
          <p:txBody>
            <a:bodyPr lIns="96120" rIns="96120" tIns="-12600" bIns="-12600" anchor="t">
              <a:noAutofit/>
            </a:bodyPr>
            <a:p>
              <a:endParaRPr b="0" lang="en-US" sz="1800" spc="-1" strike="noStrike">
                <a:solidFill>
                  <a:srgbClr val="000000"/>
                </a:solidFill>
                <a:latin typeface="Arial"/>
              </a:endParaRPr>
            </a:p>
          </p:txBody>
        </p:sp>
        <p:sp>
          <p:nvSpPr>
            <p:cNvPr id="9356" name=""/>
            <p:cNvSpPr/>
            <p:nvPr/>
          </p:nvSpPr>
          <p:spPr>
            <a:xfrm>
              <a:off x="8601120" y="1841400"/>
              <a:ext cx="290880" cy="36720"/>
            </a:xfrm>
            <a:custGeom>
              <a:avLst/>
              <a:gdLst/>
              <a:ahLst/>
              <a:rect l="0" t="0" r="r" b="b"/>
              <a:pathLst>
                <a:path fill="none" w="808" h="102">
                  <a:moveTo>
                    <a:pt x="8" y="102"/>
                  </a:moveTo>
                  <a:lnTo>
                    <a:pt x="808" y="0"/>
                  </a:lnTo>
                  <a:lnTo>
                    <a:pt x="0" y="78"/>
                  </a:lnTo>
                </a:path>
              </a:pathLst>
            </a:custGeom>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357" name=""/>
            <p:cNvSpPr/>
            <p:nvPr/>
          </p:nvSpPr>
          <p:spPr>
            <a:xfrm flipH="1" flipV="1">
              <a:off x="8874000" y="1576440"/>
              <a:ext cx="17640" cy="28440"/>
            </a:xfrm>
            <a:prstGeom prst="line">
              <a:avLst/>
            </a:prstGeom>
            <a:ln w="12600">
              <a:solidFill>
                <a:srgbClr val="f2fefd"/>
              </a:solidFill>
              <a:round/>
            </a:ln>
          </p:spPr>
          <p:style>
            <a:lnRef idx="0"/>
            <a:fillRef idx="0"/>
            <a:effectRef idx="0"/>
            <a:fontRef idx="minor"/>
          </p:style>
          <p:txBody>
            <a:bodyPr lIns="96120" rIns="96120" tIns="-22680" bIns="-22680" anchor="t">
              <a:noAutofit/>
            </a:bodyPr>
            <a:p>
              <a:endParaRPr b="0" lang="en-US" sz="1800" spc="-1" strike="noStrike">
                <a:solidFill>
                  <a:srgbClr val="000000"/>
                </a:solidFill>
                <a:latin typeface="Arial"/>
              </a:endParaRPr>
            </a:p>
          </p:txBody>
        </p:sp>
        <p:sp>
          <p:nvSpPr>
            <p:cNvPr id="9358" name=""/>
            <p:cNvSpPr/>
            <p:nvPr/>
          </p:nvSpPr>
          <p:spPr>
            <a:xfrm>
              <a:off x="8574120" y="1604880"/>
              <a:ext cx="317880" cy="39960"/>
            </a:xfrm>
            <a:custGeom>
              <a:avLst/>
              <a:gdLst/>
              <a:ahLst/>
              <a:rect l="0" t="0" r="r" b="b"/>
              <a:pathLst>
                <a:path fill="none" w="883" h="111">
                  <a:moveTo>
                    <a:pt x="6" y="111"/>
                  </a:moveTo>
                  <a:lnTo>
                    <a:pt x="883" y="0"/>
                  </a:lnTo>
                  <a:lnTo>
                    <a:pt x="0" y="46"/>
                  </a:lnTo>
                </a:path>
              </a:pathLst>
            </a:custGeom>
            <a:ln w="12600">
              <a:solidFill>
                <a:srgbClr val="f2fefd"/>
              </a:solidFill>
              <a:round/>
            </a:ln>
          </p:spPr>
          <p:txBody>
            <a:bodyPr lIns="96120" rIns="96120" tIns="-11160" bIns="-11160" anchor="t">
              <a:noAutofit/>
            </a:bodyPr>
            <a:p>
              <a:endParaRPr b="0" lang="en-US" sz="1800" spc="-1" strike="noStrike">
                <a:solidFill>
                  <a:srgbClr val="000000"/>
                </a:solidFill>
                <a:latin typeface="Arial"/>
              </a:endParaRPr>
            </a:p>
          </p:txBody>
        </p:sp>
        <p:sp>
          <p:nvSpPr>
            <p:cNvPr id="9359" name=""/>
            <p:cNvSpPr/>
            <p:nvPr/>
          </p:nvSpPr>
          <p:spPr>
            <a:xfrm flipH="1" flipV="1">
              <a:off x="8861400" y="1565280"/>
              <a:ext cx="1260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360" name=""/>
            <p:cNvSpPr/>
            <p:nvPr/>
          </p:nvSpPr>
          <p:spPr>
            <a:xfrm>
              <a:off x="8570880" y="1576440"/>
              <a:ext cx="303480" cy="38520"/>
            </a:xfrm>
            <a:custGeom>
              <a:avLst/>
              <a:gdLst/>
              <a:ahLst/>
              <a:rect l="0" t="0" r="r" b="b"/>
              <a:pathLst>
                <a:path fill="none" w="843" h="107">
                  <a:moveTo>
                    <a:pt x="0" y="107"/>
                  </a:moveTo>
                  <a:lnTo>
                    <a:pt x="843" y="0"/>
                  </a:lnTo>
                  <a:lnTo>
                    <a:pt x="0" y="83"/>
                  </a:lnTo>
                </a:path>
              </a:pathLst>
            </a:custGeom>
            <a:ln w="12600">
              <a:solidFill>
                <a:srgbClr val="f2fefd"/>
              </a:solidFill>
              <a:round/>
            </a:ln>
          </p:spPr>
          <p:txBody>
            <a:bodyPr lIns="96120" rIns="96120" tIns="-12600" bIns="-12600" anchor="t">
              <a:noAutofit/>
            </a:bodyPr>
            <a:p>
              <a:endParaRPr b="0" lang="en-US" sz="1800" spc="-1" strike="noStrike">
                <a:solidFill>
                  <a:srgbClr val="000000"/>
                </a:solidFill>
                <a:latin typeface="Arial"/>
              </a:endParaRPr>
            </a:p>
          </p:txBody>
        </p:sp>
        <p:sp>
          <p:nvSpPr>
            <p:cNvPr id="9361" name=""/>
            <p:cNvSpPr/>
            <p:nvPr/>
          </p:nvSpPr>
          <p:spPr>
            <a:xfrm flipH="1">
              <a:off x="8567640" y="1565280"/>
              <a:ext cx="293760" cy="36360"/>
            </a:xfrm>
            <a:prstGeom prst="line">
              <a:avLst/>
            </a:prstGeom>
            <a:ln w="12600">
              <a:solidFill>
                <a:srgbClr val="f2fefd"/>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sp>
          <p:nvSpPr>
            <p:cNvPr id="9362" name=""/>
            <p:cNvSpPr/>
            <p:nvPr/>
          </p:nvSpPr>
          <p:spPr>
            <a:xfrm>
              <a:off x="7045200" y="2249640"/>
              <a:ext cx="3024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9363" name=""/>
            <p:cNvSpPr/>
            <p:nvPr/>
          </p:nvSpPr>
          <p:spPr>
            <a:xfrm>
              <a:off x="7016760" y="2146320"/>
              <a:ext cx="28440" cy="1033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4" name=""/>
            <p:cNvSpPr/>
            <p:nvPr/>
          </p:nvSpPr>
          <p:spPr>
            <a:xfrm>
              <a:off x="6994440" y="2035080"/>
              <a:ext cx="2232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5" name=""/>
            <p:cNvSpPr/>
            <p:nvPr/>
          </p:nvSpPr>
          <p:spPr>
            <a:xfrm>
              <a:off x="7075440" y="2336760"/>
              <a:ext cx="3492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366" name=""/>
            <p:cNvSpPr/>
            <p:nvPr/>
          </p:nvSpPr>
          <p:spPr>
            <a:xfrm>
              <a:off x="6977160" y="1920960"/>
              <a:ext cx="17280" cy="114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7" name=""/>
            <p:cNvSpPr/>
            <p:nvPr/>
          </p:nvSpPr>
          <p:spPr>
            <a:xfrm flipH="1">
              <a:off x="6969240" y="1503360"/>
              <a:ext cx="792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9368" name=""/>
            <p:cNvSpPr/>
            <p:nvPr/>
          </p:nvSpPr>
          <p:spPr>
            <a:xfrm flipH="1">
              <a:off x="6977160" y="1427040"/>
              <a:ext cx="17280" cy="76320"/>
            </a:xfrm>
            <a:prstGeom prst="line">
              <a:avLst/>
            </a:prstGeom>
            <a:ln w="12600">
              <a:solidFill>
                <a:srgbClr val="f2fefd"/>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9369" name=""/>
            <p:cNvSpPr/>
            <p:nvPr/>
          </p:nvSpPr>
          <p:spPr>
            <a:xfrm flipH="1">
              <a:off x="6994440" y="1374840"/>
              <a:ext cx="22320" cy="52200"/>
            </a:xfrm>
            <a:prstGeom prst="line">
              <a:avLst/>
            </a:prstGeom>
            <a:ln w="12600">
              <a:solidFill>
                <a:srgbClr val="f2fefd"/>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370" name=""/>
            <p:cNvSpPr/>
            <p:nvPr/>
          </p:nvSpPr>
          <p:spPr>
            <a:xfrm flipH="1">
              <a:off x="7016760" y="1339920"/>
              <a:ext cx="28440" cy="34920"/>
            </a:xfrm>
            <a:prstGeom prst="line">
              <a:avLst/>
            </a:prstGeom>
            <a:ln w="12600">
              <a:solidFill>
                <a:srgbClr val="f2fefd"/>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371" name=""/>
            <p:cNvSpPr/>
            <p:nvPr/>
          </p:nvSpPr>
          <p:spPr>
            <a:xfrm flipH="1">
              <a:off x="7045200" y="1328760"/>
              <a:ext cx="3024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372" name=""/>
            <p:cNvSpPr/>
            <p:nvPr/>
          </p:nvSpPr>
          <p:spPr>
            <a:xfrm flipH="1" flipV="1">
              <a:off x="7075440" y="1328760"/>
              <a:ext cx="3492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373" name=""/>
            <p:cNvSpPr/>
            <p:nvPr/>
          </p:nvSpPr>
          <p:spPr>
            <a:xfrm flipH="1" flipV="1">
              <a:off x="7110360" y="1339920"/>
              <a:ext cx="33480" cy="34920"/>
            </a:xfrm>
            <a:prstGeom prst="line">
              <a:avLst/>
            </a:prstGeom>
            <a:ln w="12600">
              <a:solidFill>
                <a:srgbClr val="f2fefd"/>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sp>
          <p:nvSpPr>
            <p:cNvPr id="9374" name=""/>
            <p:cNvSpPr/>
            <p:nvPr/>
          </p:nvSpPr>
          <p:spPr>
            <a:xfrm flipH="1" flipV="1">
              <a:off x="7143840" y="1374840"/>
              <a:ext cx="33120" cy="52200"/>
            </a:xfrm>
            <a:prstGeom prst="line">
              <a:avLst/>
            </a:prstGeom>
            <a:ln w="12600">
              <a:solidFill>
                <a:srgbClr val="f2fefd"/>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375" name=""/>
            <p:cNvSpPr/>
            <p:nvPr/>
          </p:nvSpPr>
          <p:spPr>
            <a:xfrm flipH="1" flipV="1">
              <a:off x="7176960" y="1427040"/>
              <a:ext cx="33480" cy="74880"/>
            </a:xfrm>
            <a:prstGeom prst="line">
              <a:avLst/>
            </a:prstGeom>
            <a:ln w="12600">
              <a:solidFill>
                <a:srgbClr val="f2fefd"/>
              </a:solidFill>
              <a:round/>
            </a:ln>
          </p:spPr>
          <p:style>
            <a:lnRef idx="0"/>
            <a:fillRef idx="0"/>
            <a:effectRef idx="0"/>
            <a:fontRef idx="minor"/>
          </p:style>
          <p:txBody>
            <a:bodyPr lIns="96120" rIns="96120" tIns="23760" bIns="23760" anchor="t">
              <a:noAutofit/>
            </a:bodyPr>
            <a:p>
              <a:endParaRPr b="0" lang="en-US" sz="1800" spc="-1" strike="noStrike">
                <a:solidFill>
                  <a:srgbClr val="000000"/>
                </a:solidFill>
                <a:latin typeface="Arial"/>
              </a:endParaRPr>
            </a:p>
          </p:txBody>
        </p:sp>
        <p:sp>
          <p:nvSpPr>
            <p:cNvPr id="9376" name=""/>
            <p:cNvSpPr/>
            <p:nvPr/>
          </p:nvSpPr>
          <p:spPr>
            <a:xfrm flipH="1" flipV="1">
              <a:off x="7210440" y="1501920"/>
              <a:ext cx="31680" cy="88920"/>
            </a:xfrm>
            <a:prstGeom prst="line">
              <a:avLst/>
            </a:prstGeom>
            <a:ln w="12600">
              <a:solidFill>
                <a:srgbClr val="f2fefd"/>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9377" name=""/>
            <p:cNvSpPr/>
            <p:nvPr/>
          </p:nvSpPr>
          <p:spPr>
            <a:xfrm flipH="1" flipV="1">
              <a:off x="7242120" y="1590840"/>
              <a:ext cx="28800" cy="101520"/>
            </a:xfrm>
            <a:prstGeom prst="line">
              <a:avLst/>
            </a:prstGeom>
            <a:ln w="12600">
              <a:solidFill>
                <a:srgbClr val="f2fefd"/>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9378" name=""/>
            <p:cNvSpPr/>
            <p:nvPr/>
          </p:nvSpPr>
          <p:spPr>
            <a:xfrm flipH="1" flipV="1">
              <a:off x="7270920" y="1692360"/>
              <a:ext cx="21960" cy="112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9" name=""/>
            <p:cNvSpPr/>
            <p:nvPr/>
          </p:nvSpPr>
          <p:spPr>
            <a:xfrm flipH="1" flipV="1">
              <a:off x="7292880" y="1805040"/>
              <a:ext cx="14400" cy="115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0" name=""/>
            <p:cNvSpPr/>
            <p:nvPr/>
          </p:nvSpPr>
          <p:spPr>
            <a:xfrm flipH="1" flipV="1">
              <a:off x="7307280" y="1920960"/>
              <a:ext cx="11160" cy="114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1" name=""/>
            <p:cNvSpPr/>
            <p:nvPr/>
          </p:nvSpPr>
          <p:spPr>
            <a:xfrm flipH="1" flipV="1">
              <a:off x="7318440" y="2035080"/>
              <a:ext cx="144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82" name=""/>
            <p:cNvSpPr/>
            <p:nvPr/>
          </p:nvSpPr>
          <p:spPr>
            <a:xfrm flipV="1">
              <a:off x="7318440" y="2146320"/>
              <a:ext cx="1440" cy="101520"/>
            </a:xfrm>
            <a:prstGeom prst="line">
              <a:avLst/>
            </a:prstGeom>
            <a:ln w="12600">
              <a:solidFill>
                <a:srgbClr val="f2fefd"/>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9383" name=""/>
            <p:cNvSpPr/>
            <p:nvPr/>
          </p:nvSpPr>
          <p:spPr>
            <a:xfrm flipV="1">
              <a:off x="7307280" y="2247840"/>
              <a:ext cx="11160" cy="88920"/>
            </a:xfrm>
            <a:prstGeom prst="line">
              <a:avLst/>
            </a:prstGeom>
            <a:ln w="12600">
              <a:solidFill>
                <a:srgbClr val="f2fefd"/>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9384" name=""/>
            <p:cNvSpPr/>
            <p:nvPr/>
          </p:nvSpPr>
          <p:spPr>
            <a:xfrm flipV="1">
              <a:off x="7292880" y="2336760"/>
              <a:ext cx="1440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385" name=""/>
            <p:cNvSpPr/>
            <p:nvPr/>
          </p:nvSpPr>
          <p:spPr>
            <a:xfrm flipV="1">
              <a:off x="7270920" y="2409840"/>
              <a:ext cx="2196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386" name=""/>
            <p:cNvSpPr/>
            <p:nvPr/>
          </p:nvSpPr>
          <p:spPr>
            <a:xfrm flipV="1">
              <a:off x="7242120" y="2467080"/>
              <a:ext cx="28800" cy="33120"/>
            </a:xfrm>
            <a:prstGeom prst="line">
              <a:avLst/>
            </a:prstGeom>
            <a:ln w="12600">
              <a:solidFill>
                <a:srgbClr val="f2fefd"/>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sp>
          <p:nvSpPr>
            <p:cNvPr id="9387" name=""/>
            <p:cNvSpPr/>
            <p:nvPr/>
          </p:nvSpPr>
          <p:spPr>
            <a:xfrm flipV="1">
              <a:off x="7210440" y="2500200"/>
              <a:ext cx="3168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388" name=""/>
            <p:cNvSpPr/>
            <p:nvPr/>
          </p:nvSpPr>
          <p:spPr>
            <a:xfrm>
              <a:off x="7176960" y="2500200"/>
              <a:ext cx="3348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389" name=""/>
            <p:cNvSpPr/>
            <p:nvPr/>
          </p:nvSpPr>
          <p:spPr>
            <a:xfrm>
              <a:off x="7143840" y="2467080"/>
              <a:ext cx="33120" cy="33120"/>
            </a:xfrm>
            <a:prstGeom prst="line">
              <a:avLst/>
            </a:prstGeom>
            <a:ln w="12600">
              <a:solidFill>
                <a:srgbClr val="f2fefd"/>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sp>
          <p:nvSpPr>
            <p:cNvPr id="9390" name=""/>
            <p:cNvSpPr/>
            <p:nvPr/>
          </p:nvSpPr>
          <p:spPr>
            <a:xfrm>
              <a:off x="7110360" y="2409840"/>
              <a:ext cx="33480" cy="57240"/>
            </a:xfrm>
            <a:prstGeom prst="line">
              <a:avLst/>
            </a:prstGeom>
            <a:ln w="12600">
              <a:solidFill>
                <a:srgbClr val="f2fefd"/>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9391" name=""/>
            <p:cNvSpPr/>
            <p:nvPr/>
          </p:nvSpPr>
          <p:spPr>
            <a:xfrm>
              <a:off x="6969240" y="1805040"/>
              <a:ext cx="7920" cy="115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2" name=""/>
            <p:cNvSpPr/>
            <p:nvPr/>
          </p:nvSpPr>
          <p:spPr>
            <a:xfrm>
              <a:off x="6966000" y="1590840"/>
              <a:ext cx="3600" cy="214560"/>
            </a:xfrm>
            <a:custGeom>
              <a:avLst/>
              <a:gdLst/>
              <a:ahLst/>
              <a:rect l="0" t="0" r="r" b="b"/>
              <a:pathLst>
                <a:path fill="none" w="10" h="596">
                  <a:moveTo>
                    <a:pt x="10" y="0"/>
                  </a:moveTo>
                  <a:lnTo>
                    <a:pt x="0" y="288"/>
                  </a:lnTo>
                  <a:lnTo>
                    <a:pt x="10" y="596"/>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393" name=""/>
            <p:cNvSpPr/>
            <p:nvPr/>
          </p:nvSpPr>
          <p:spPr>
            <a:xfrm flipH="1" flipV="1">
              <a:off x="7705800" y="1986120"/>
              <a:ext cx="6120" cy="112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4" name=""/>
            <p:cNvSpPr/>
            <p:nvPr/>
          </p:nvSpPr>
          <p:spPr>
            <a:xfrm flipH="1">
              <a:off x="7319880" y="2098800"/>
              <a:ext cx="39204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395" name=""/>
            <p:cNvSpPr/>
            <p:nvPr/>
          </p:nvSpPr>
          <p:spPr>
            <a:xfrm flipV="1">
              <a:off x="7705800" y="2098800"/>
              <a:ext cx="6120" cy="99720"/>
            </a:xfrm>
            <a:prstGeom prst="line">
              <a:avLst/>
            </a:prstGeom>
            <a:ln w="12600">
              <a:solidFill>
                <a:srgbClr val="f2fefd"/>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9396" name=""/>
            <p:cNvSpPr/>
            <p:nvPr/>
          </p:nvSpPr>
          <p:spPr>
            <a:xfrm>
              <a:off x="7319880" y="1870200"/>
              <a:ext cx="386280" cy="276480"/>
            </a:xfrm>
            <a:custGeom>
              <a:avLst/>
              <a:gdLst/>
              <a:ahLst/>
              <a:rect l="0" t="0" r="r" b="b"/>
              <a:pathLst>
                <a:path fill="none" w="1073" h="768">
                  <a:moveTo>
                    <a:pt x="0" y="768"/>
                  </a:moveTo>
                  <a:lnTo>
                    <a:pt x="1073" y="321"/>
                  </a:lnTo>
                  <a:lnTo>
                    <a:pt x="1051"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397" name=""/>
            <p:cNvSpPr/>
            <p:nvPr/>
          </p:nvSpPr>
          <p:spPr>
            <a:xfrm flipV="1">
              <a:off x="7318440" y="1986120"/>
              <a:ext cx="387360" cy="48960"/>
            </a:xfrm>
            <a:prstGeom prst="line">
              <a:avLst/>
            </a:prstGeom>
            <a:ln w="12600">
              <a:solidFill>
                <a:srgbClr val="f2fefd"/>
              </a:solidFill>
              <a:round/>
            </a:ln>
          </p:spPr>
          <p:style>
            <a:lnRef idx="0"/>
            <a:fillRef idx="0"/>
            <a:effectRef idx="0"/>
            <a:fontRef idx="minor"/>
          </p:style>
          <p:txBody>
            <a:bodyPr lIns="96120" rIns="96120" tIns="-2160" bIns="-2160" anchor="t">
              <a:noAutofit/>
            </a:bodyPr>
            <a:p>
              <a:endParaRPr b="0" lang="en-US" sz="1800" spc="-1" strike="noStrike">
                <a:solidFill>
                  <a:srgbClr val="000000"/>
                </a:solidFill>
                <a:latin typeface="Arial"/>
              </a:endParaRPr>
            </a:p>
          </p:txBody>
        </p:sp>
        <p:sp>
          <p:nvSpPr>
            <p:cNvPr id="9398" name=""/>
            <p:cNvSpPr/>
            <p:nvPr/>
          </p:nvSpPr>
          <p:spPr>
            <a:xfrm flipV="1">
              <a:off x="7697880" y="2198520"/>
              <a:ext cx="7920" cy="90720"/>
            </a:xfrm>
            <a:prstGeom prst="line">
              <a:avLst/>
            </a:prstGeom>
            <a:ln w="12600">
              <a:solidFill>
                <a:srgbClr val="f2fefd"/>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9399" name=""/>
            <p:cNvSpPr/>
            <p:nvPr/>
          </p:nvSpPr>
          <p:spPr>
            <a:xfrm>
              <a:off x="7318440" y="2146320"/>
              <a:ext cx="387720" cy="101880"/>
            </a:xfrm>
            <a:custGeom>
              <a:avLst/>
              <a:gdLst/>
              <a:ahLst/>
              <a:rect l="0" t="0" r="r" b="b"/>
              <a:pathLst>
                <a:path fill="none" w="1077" h="283">
                  <a:moveTo>
                    <a:pt x="0" y="283"/>
                  </a:moveTo>
                  <a:lnTo>
                    <a:pt x="1077" y="148"/>
                  </a:lnTo>
                  <a:lnTo>
                    <a:pt x="6" y="0"/>
                  </a:lnTo>
                </a:path>
              </a:pathLst>
            </a:custGeom>
            <a:ln w="12600">
              <a:solidFill>
                <a:srgbClr val="f2fefd"/>
              </a:solidFill>
              <a:round/>
            </a:ln>
          </p:spPr>
          <p:txBody>
            <a:bodyPr lIns="96120" rIns="96120" tIns="50760" bIns="50760" anchor="t">
              <a:noAutofit/>
            </a:bodyPr>
            <a:p>
              <a:endParaRPr b="0" lang="en-US" sz="1800" spc="-1" strike="noStrike">
                <a:solidFill>
                  <a:srgbClr val="000000"/>
                </a:solidFill>
                <a:latin typeface="Arial"/>
              </a:endParaRPr>
            </a:p>
          </p:txBody>
        </p:sp>
        <p:sp>
          <p:nvSpPr>
            <p:cNvPr id="9400" name=""/>
            <p:cNvSpPr/>
            <p:nvPr/>
          </p:nvSpPr>
          <p:spPr>
            <a:xfrm flipV="1">
              <a:off x="7318440" y="1870200"/>
              <a:ext cx="379440" cy="164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1" name=""/>
            <p:cNvSpPr/>
            <p:nvPr/>
          </p:nvSpPr>
          <p:spPr>
            <a:xfrm flipH="1" flipV="1">
              <a:off x="7318440" y="2247840"/>
              <a:ext cx="379440" cy="41400"/>
            </a:xfrm>
            <a:prstGeom prst="line">
              <a:avLst/>
            </a:prstGeom>
            <a:ln w="12600">
              <a:solidFill>
                <a:srgbClr val="f2fefd"/>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9402" name=""/>
            <p:cNvSpPr/>
            <p:nvPr/>
          </p:nvSpPr>
          <p:spPr>
            <a:xfrm flipH="1">
              <a:off x="7307280" y="2289240"/>
              <a:ext cx="39060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403" name=""/>
            <p:cNvSpPr/>
            <p:nvPr/>
          </p:nvSpPr>
          <p:spPr>
            <a:xfrm flipV="1">
              <a:off x="7680240" y="2289240"/>
              <a:ext cx="1764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404" name=""/>
            <p:cNvSpPr/>
            <p:nvPr/>
          </p:nvSpPr>
          <p:spPr>
            <a:xfrm flipH="1" flipV="1">
              <a:off x="7658280" y="1644480"/>
              <a:ext cx="21960" cy="109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5" name=""/>
            <p:cNvSpPr/>
            <p:nvPr/>
          </p:nvSpPr>
          <p:spPr>
            <a:xfrm flipH="1">
              <a:off x="7292880" y="1754280"/>
              <a:ext cx="387360" cy="50760"/>
            </a:xfrm>
            <a:prstGeom prst="line">
              <a:avLst/>
            </a:prstGeom>
            <a:ln w="12600">
              <a:solidFill>
                <a:srgbClr val="f2fefd"/>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9406" name=""/>
            <p:cNvSpPr/>
            <p:nvPr/>
          </p:nvSpPr>
          <p:spPr>
            <a:xfrm flipH="1" flipV="1">
              <a:off x="7680240" y="1754280"/>
              <a:ext cx="17640" cy="115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07" name=""/>
            <p:cNvSpPr/>
            <p:nvPr/>
          </p:nvSpPr>
          <p:spPr>
            <a:xfrm>
              <a:off x="7292880" y="1805040"/>
              <a:ext cx="405000" cy="116280"/>
            </a:xfrm>
            <a:custGeom>
              <a:avLst/>
              <a:gdLst/>
              <a:ahLst/>
              <a:rect l="0" t="0" r="r" b="b"/>
              <a:pathLst>
                <a:path fill="none" w="1125" h="323">
                  <a:moveTo>
                    <a:pt x="39" y="323"/>
                  </a:moveTo>
                  <a:lnTo>
                    <a:pt x="1125" y="18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408" name=""/>
            <p:cNvSpPr/>
            <p:nvPr/>
          </p:nvSpPr>
          <p:spPr>
            <a:xfrm flipV="1">
              <a:off x="7658280" y="2362320"/>
              <a:ext cx="21960" cy="54000"/>
            </a:xfrm>
            <a:prstGeom prst="line">
              <a:avLst/>
            </a:prstGeom>
            <a:ln w="12600">
              <a:solidFill>
                <a:srgbClr val="f2fefd"/>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9409" name=""/>
            <p:cNvSpPr/>
            <p:nvPr/>
          </p:nvSpPr>
          <p:spPr>
            <a:xfrm>
              <a:off x="7292880" y="2336760"/>
              <a:ext cx="387720" cy="73440"/>
            </a:xfrm>
            <a:custGeom>
              <a:avLst/>
              <a:gdLst/>
              <a:ahLst/>
              <a:rect l="0" t="0" r="r" b="b"/>
              <a:pathLst>
                <a:path fill="none" w="1077" h="204">
                  <a:moveTo>
                    <a:pt x="0" y="204"/>
                  </a:moveTo>
                  <a:lnTo>
                    <a:pt x="1077" y="71"/>
                  </a:lnTo>
                  <a:lnTo>
                    <a:pt x="39" y="0"/>
                  </a:lnTo>
                </a:path>
              </a:pathLst>
            </a:custGeom>
            <a:ln w="12600">
              <a:solidFill>
                <a:srgbClr val="f2fefd"/>
              </a:solidFill>
              <a:round/>
            </a:ln>
          </p:spPr>
          <p:txBody>
            <a:bodyPr lIns="96120" rIns="96120" tIns="22320" bIns="22320" anchor="t">
              <a:noAutofit/>
            </a:bodyPr>
            <a:p>
              <a:endParaRPr b="0" lang="en-US" sz="1800" spc="-1" strike="noStrike">
                <a:solidFill>
                  <a:srgbClr val="000000"/>
                </a:solidFill>
                <a:latin typeface="Arial"/>
              </a:endParaRPr>
            </a:p>
          </p:txBody>
        </p:sp>
        <p:sp>
          <p:nvSpPr>
            <p:cNvPr id="9410" name=""/>
            <p:cNvSpPr/>
            <p:nvPr/>
          </p:nvSpPr>
          <p:spPr>
            <a:xfrm flipV="1">
              <a:off x="7292880" y="1644480"/>
              <a:ext cx="365400" cy="1605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1" name=""/>
            <p:cNvSpPr/>
            <p:nvPr/>
          </p:nvSpPr>
          <p:spPr>
            <a:xfrm flipV="1">
              <a:off x="7632720" y="2416320"/>
              <a:ext cx="25560" cy="33120"/>
            </a:xfrm>
            <a:prstGeom prst="line">
              <a:avLst/>
            </a:prstGeom>
            <a:ln w="12600">
              <a:solidFill>
                <a:srgbClr val="f2fefd"/>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sp>
          <p:nvSpPr>
            <p:cNvPr id="9412" name=""/>
            <p:cNvSpPr/>
            <p:nvPr/>
          </p:nvSpPr>
          <p:spPr>
            <a:xfrm>
              <a:off x="7270920" y="2409840"/>
              <a:ext cx="387720" cy="57600"/>
            </a:xfrm>
            <a:custGeom>
              <a:avLst/>
              <a:gdLst/>
              <a:ahLst/>
              <a:rect l="0" t="0" r="r" b="b"/>
              <a:pathLst>
                <a:path fill="none" w="1077" h="160">
                  <a:moveTo>
                    <a:pt x="0" y="160"/>
                  </a:moveTo>
                  <a:lnTo>
                    <a:pt x="1077" y="15"/>
                  </a:lnTo>
                  <a:lnTo>
                    <a:pt x="61" y="0"/>
                  </a:lnTo>
                </a:path>
              </a:pathLst>
            </a:custGeom>
            <a:ln w="12600">
              <a:solidFill>
                <a:srgbClr val="f2fefd"/>
              </a:solidFill>
              <a:round/>
            </a:ln>
          </p:spPr>
          <p:txBody>
            <a:bodyPr lIns="96120" rIns="96120" tIns="6480" bIns="6480" anchor="t">
              <a:noAutofit/>
            </a:bodyPr>
            <a:p>
              <a:endParaRPr b="0" lang="en-US" sz="1800" spc="-1" strike="noStrike">
                <a:solidFill>
                  <a:srgbClr val="000000"/>
                </a:solidFill>
                <a:latin typeface="Arial"/>
              </a:endParaRPr>
            </a:p>
          </p:txBody>
        </p:sp>
        <p:sp>
          <p:nvSpPr>
            <p:cNvPr id="9413" name=""/>
            <p:cNvSpPr/>
            <p:nvPr/>
          </p:nvSpPr>
          <p:spPr>
            <a:xfrm flipH="1" flipV="1">
              <a:off x="7632720" y="1542960"/>
              <a:ext cx="25560" cy="101520"/>
            </a:xfrm>
            <a:prstGeom prst="line">
              <a:avLst/>
            </a:prstGeom>
            <a:ln w="12600">
              <a:solidFill>
                <a:srgbClr val="f2fefd"/>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9414" name=""/>
            <p:cNvSpPr/>
            <p:nvPr/>
          </p:nvSpPr>
          <p:spPr>
            <a:xfrm>
              <a:off x="7242120" y="1590840"/>
              <a:ext cx="416160" cy="101880"/>
            </a:xfrm>
            <a:custGeom>
              <a:avLst/>
              <a:gdLst/>
              <a:ahLst/>
              <a:rect l="0" t="0" r="r" b="b"/>
              <a:pathLst>
                <a:path fill="none" w="1156" h="283">
                  <a:moveTo>
                    <a:pt x="79" y="283"/>
                  </a:moveTo>
                  <a:lnTo>
                    <a:pt x="1156" y="150"/>
                  </a:lnTo>
                  <a:lnTo>
                    <a:pt x="0" y="0"/>
                  </a:lnTo>
                </a:path>
              </a:pathLst>
            </a:custGeom>
            <a:ln w="12600">
              <a:solidFill>
                <a:srgbClr val="f2fefd"/>
              </a:solidFill>
              <a:round/>
            </a:ln>
          </p:spPr>
          <p:txBody>
            <a:bodyPr lIns="96120" rIns="96120" tIns="50760" bIns="50760" anchor="t">
              <a:noAutofit/>
            </a:bodyPr>
            <a:p>
              <a:endParaRPr b="0" lang="en-US" sz="1800" spc="-1" strike="noStrike">
                <a:solidFill>
                  <a:srgbClr val="000000"/>
                </a:solidFill>
                <a:latin typeface="Arial"/>
              </a:endParaRPr>
            </a:p>
          </p:txBody>
        </p:sp>
        <p:sp>
          <p:nvSpPr>
            <p:cNvPr id="9415" name=""/>
            <p:cNvSpPr/>
            <p:nvPr/>
          </p:nvSpPr>
          <p:spPr>
            <a:xfrm flipV="1">
              <a:off x="7602480" y="2449440"/>
              <a:ext cx="3024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416" name=""/>
            <p:cNvSpPr/>
            <p:nvPr/>
          </p:nvSpPr>
          <p:spPr>
            <a:xfrm>
              <a:off x="7242120" y="2449440"/>
              <a:ext cx="390960" cy="51120"/>
            </a:xfrm>
            <a:custGeom>
              <a:avLst/>
              <a:gdLst/>
              <a:ahLst/>
              <a:rect l="0" t="0" r="r" b="b"/>
              <a:pathLst>
                <a:path fill="none" w="1086" h="142">
                  <a:moveTo>
                    <a:pt x="0" y="142"/>
                  </a:moveTo>
                  <a:lnTo>
                    <a:pt x="1086" y="0"/>
                  </a:lnTo>
                  <a:lnTo>
                    <a:pt x="79" y="46"/>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9417" name=""/>
            <p:cNvSpPr/>
            <p:nvPr/>
          </p:nvSpPr>
          <p:spPr>
            <a:xfrm>
              <a:off x="7242120" y="1452600"/>
              <a:ext cx="390960" cy="138600"/>
            </a:xfrm>
            <a:custGeom>
              <a:avLst/>
              <a:gdLst/>
              <a:ahLst/>
              <a:rect l="0" t="0" r="r" b="b"/>
              <a:pathLst>
                <a:path fill="none" w="1086" h="385">
                  <a:moveTo>
                    <a:pt x="0" y="385"/>
                  </a:moveTo>
                  <a:lnTo>
                    <a:pt x="1086" y="252"/>
                  </a:lnTo>
                  <a:lnTo>
                    <a:pt x="100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418" name=""/>
            <p:cNvSpPr/>
            <p:nvPr/>
          </p:nvSpPr>
          <p:spPr>
            <a:xfrm>
              <a:off x="7210440" y="1501920"/>
              <a:ext cx="422280" cy="41040"/>
            </a:xfrm>
            <a:prstGeom prst="line">
              <a:avLst/>
            </a:prstGeom>
            <a:ln w="12600">
              <a:solidFill>
                <a:srgbClr val="f2fefd"/>
              </a:solidFill>
              <a:round/>
            </a:ln>
          </p:spPr>
          <p:style>
            <a:lnRef idx="0"/>
            <a:fillRef idx="0"/>
            <a:effectRef idx="0"/>
            <a:fontRef idx="minor"/>
          </p:style>
          <p:txBody>
            <a:bodyPr lIns="96120" rIns="96120" tIns="-10080" bIns="-10080" anchor="t">
              <a:noAutofit/>
            </a:bodyPr>
            <a:p>
              <a:endParaRPr b="0" lang="en-US" sz="1800" spc="-1" strike="noStrike">
                <a:solidFill>
                  <a:srgbClr val="000000"/>
                </a:solidFill>
                <a:latin typeface="Arial"/>
              </a:endParaRPr>
            </a:p>
          </p:txBody>
        </p:sp>
        <p:sp>
          <p:nvSpPr>
            <p:cNvPr id="9419" name=""/>
            <p:cNvSpPr/>
            <p:nvPr/>
          </p:nvSpPr>
          <p:spPr>
            <a:xfrm flipH="1" flipV="1">
              <a:off x="7569360" y="1379520"/>
              <a:ext cx="33120" cy="73080"/>
            </a:xfrm>
            <a:prstGeom prst="line">
              <a:avLst/>
            </a:prstGeom>
            <a:ln w="12600">
              <a:solidFill>
                <a:srgbClr val="f2fefd"/>
              </a:solidFill>
              <a:round/>
            </a:ln>
          </p:spPr>
          <p:style>
            <a:lnRef idx="0"/>
            <a:fillRef idx="0"/>
            <a:effectRef idx="0"/>
            <a:fontRef idx="minor"/>
          </p:style>
          <p:txBody>
            <a:bodyPr lIns="96120" rIns="96120" tIns="21960" bIns="21960" anchor="t">
              <a:noAutofit/>
            </a:bodyPr>
            <a:p>
              <a:endParaRPr b="0" lang="en-US" sz="1800" spc="-1" strike="noStrike">
                <a:solidFill>
                  <a:srgbClr val="000000"/>
                </a:solidFill>
                <a:latin typeface="Arial"/>
              </a:endParaRPr>
            </a:p>
          </p:txBody>
        </p:sp>
        <p:sp>
          <p:nvSpPr>
            <p:cNvPr id="9420" name=""/>
            <p:cNvSpPr/>
            <p:nvPr/>
          </p:nvSpPr>
          <p:spPr>
            <a:xfrm flipV="1">
              <a:off x="7210440" y="1452600"/>
              <a:ext cx="392040" cy="49320"/>
            </a:xfrm>
            <a:prstGeom prst="line">
              <a:avLst/>
            </a:prstGeom>
            <a:ln w="12600">
              <a:solidFill>
                <a:srgbClr val="f2fefd"/>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9421" name=""/>
            <p:cNvSpPr/>
            <p:nvPr/>
          </p:nvSpPr>
          <p:spPr>
            <a:xfrm>
              <a:off x="7210440" y="2460600"/>
              <a:ext cx="392400" cy="51120"/>
            </a:xfrm>
            <a:custGeom>
              <a:avLst/>
              <a:gdLst/>
              <a:ahLst/>
              <a:rect l="0" t="0" r="r" b="b"/>
              <a:pathLst>
                <a:path fill="none" w="1090" h="142">
                  <a:moveTo>
                    <a:pt x="0" y="142"/>
                  </a:moveTo>
                  <a:lnTo>
                    <a:pt x="1090" y="0"/>
                  </a:lnTo>
                  <a:lnTo>
                    <a:pt x="86" y="111"/>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9422" name=""/>
            <p:cNvSpPr/>
            <p:nvPr/>
          </p:nvSpPr>
          <p:spPr>
            <a:xfrm flipH="1" flipV="1">
              <a:off x="7532640" y="1327320"/>
              <a:ext cx="36720" cy="52200"/>
            </a:xfrm>
            <a:prstGeom prst="line">
              <a:avLst/>
            </a:prstGeom>
            <a:ln w="12600">
              <a:solidFill>
                <a:srgbClr val="f2fefd"/>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9423" name=""/>
            <p:cNvSpPr/>
            <p:nvPr/>
          </p:nvSpPr>
          <p:spPr>
            <a:xfrm>
              <a:off x="7176960" y="1327320"/>
              <a:ext cx="392400" cy="174960"/>
            </a:xfrm>
            <a:custGeom>
              <a:avLst/>
              <a:gdLst/>
              <a:ahLst/>
              <a:rect l="0" t="0" r="r" b="b"/>
              <a:pathLst>
                <a:path fill="none" w="1090" h="486">
                  <a:moveTo>
                    <a:pt x="92" y="486"/>
                  </a:moveTo>
                  <a:lnTo>
                    <a:pt x="1090" y="147"/>
                  </a:lnTo>
                  <a:lnTo>
                    <a:pt x="0" y="281"/>
                  </a:lnTo>
                  <a:lnTo>
                    <a:pt x="988"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424" name=""/>
            <p:cNvSpPr/>
            <p:nvPr/>
          </p:nvSpPr>
          <p:spPr>
            <a:xfrm>
              <a:off x="7143840" y="1292400"/>
              <a:ext cx="389160" cy="82800"/>
            </a:xfrm>
            <a:custGeom>
              <a:avLst/>
              <a:gdLst/>
              <a:ahLst/>
              <a:rect l="0" t="0" r="r" b="b"/>
              <a:pathLst>
                <a:path fill="none" w="1081" h="230">
                  <a:moveTo>
                    <a:pt x="0" y="230"/>
                  </a:moveTo>
                  <a:lnTo>
                    <a:pt x="1081" y="95"/>
                  </a:lnTo>
                  <a:lnTo>
                    <a:pt x="986" y="0"/>
                  </a:lnTo>
                </a:path>
              </a:pathLst>
            </a:custGeom>
            <a:ln w="12600">
              <a:solidFill>
                <a:srgbClr val="f2fefd"/>
              </a:solidFill>
              <a:round/>
            </a:ln>
          </p:spPr>
          <p:txBody>
            <a:bodyPr lIns="96120" rIns="96120" tIns="31680" bIns="31680" anchor="t">
              <a:noAutofit/>
            </a:bodyPr>
            <a:p>
              <a:endParaRPr b="0" lang="en-US" sz="1800" spc="-1" strike="noStrike">
                <a:solidFill>
                  <a:srgbClr val="000000"/>
                </a:solidFill>
                <a:latin typeface="Arial"/>
              </a:endParaRPr>
            </a:p>
          </p:txBody>
        </p:sp>
        <p:sp>
          <p:nvSpPr>
            <p:cNvPr id="9425" name=""/>
            <p:cNvSpPr/>
            <p:nvPr/>
          </p:nvSpPr>
          <p:spPr>
            <a:xfrm flipV="1">
              <a:off x="7110360" y="1327320"/>
              <a:ext cx="422280" cy="12600"/>
            </a:xfrm>
            <a:prstGeom prst="line">
              <a:avLst/>
            </a:prstGeom>
            <a:ln w="12600">
              <a:solidFill>
                <a:srgbClr val="f2fefd"/>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9426" name=""/>
            <p:cNvSpPr/>
            <p:nvPr/>
          </p:nvSpPr>
          <p:spPr>
            <a:xfrm flipH="1" flipV="1">
              <a:off x="7464600" y="1281240"/>
              <a:ext cx="33120" cy="11160"/>
            </a:xfrm>
            <a:prstGeom prst="line">
              <a:avLst/>
            </a:prstGeom>
            <a:ln w="12600">
              <a:solidFill>
                <a:srgbClr val="f2fefd"/>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9427" name=""/>
            <p:cNvSpPr/>
            <p:nvPr/>
          </p:nvSpPr>
          <p:spPr>
            <a:xfrm flipV="1">
              <a:off x="7110360" y="1292400"/>
              <a:ext cx="387360" cy="47520"/>
            </a:xfrm>
            <a:prstGeom prst="line">
              <a:avLst/>
            </a:prstGeom>
            <a:ln w="12600">
              <a:solidFill>
                <a:srgbClr val="f2fefd"/>
              </a:solidFill>
              <a:round/>
            </a:ln>
          </p:spPr>
          <p:style>
            <a:lnRef idx="0"/>
            <a:fillRef idx="0"/>
            <a:effectRef idx="0"/>
            <a:fontRef idx="minor"/>
          </p:style>
          <p:txBody>
            <a:bodyPr lIns="96120" rIns="96120" tIns="-3600" bIns="-3600" anchor="t">
              <a:noAutofit/>
            </a:bodyPr>
            <a:p>
              <a:endParaRPr b="0" lang="en-US" sz="1800" spc="-1" strike="noStrike">
                <a:solidFill>
                  <a:srgbClr val="000000"/>
                </a:solidFill>
                <a:latin typeface="Arial"/>
              </a:endParaRPr>
            </a:p>
          </p:txBody>
        </p:sp>
        <p:sp>
          <p:nvSpPr>
            <p:cNvPr id="9428" name=""/>
            <p:cNvSpPr/>
            <p:nvPr/>
          </p:nvSpPr>
          <p:spPr>
            <a:xfrm>
              <a:off x="7075440" y="1281240"/>
              <a:ext cx="389160" cy="59040"/>
            </a:xfrm>
            <a:custGeom>
              <a:avLst/>
              <a:gdLst/>
              <a:ahLst/>
              <a:rect l="0" t="0" r="r" b="b"/>
              <a:pathLst>
                <a:path fill="none" w="1081" h="164">
                  <a:moveTo>
                    <a:pt x="95" y="164"/>
                  </a:moveTo>
                  <a:lnTo>
                    <a:pt x="1081" y="0"/>
                  </a:lnTo>
                  <a:lnTo>
                    <a:pt x="0" y="133"/>
                  </a:lnTo>
                </a:path>
              </a:pathLst>
            </a:custGeom>
            <a:ln w="12600">
              <a:solidFill>
                <a:srgbClr val="f2fefd"/>
              </a:solidFill>
              <a:round/>
            </a:ln>
          </p:spPr>
          <p:txBody>
            <a:bodyPr lIns="96120" rIns="96120" tIns="7920" bIns="7920" anchor="t">
              <a:noAutofit/>
            </a:bodyPr>
            <a:p>
              <a:endParaRPr b="0" lang="en-US" sz="1800" spc="-1" strike="noStrike">
                <a:solidFill>
                  <a:srgbClr val="000000"/>
                </a:solidFill>
                <a:latin typeface="Arial"/>
              </a:endParaRPr>
            </a:p>
          </p:txBody>
        </p:sp>
      </p:grpSp>
      <p:sp>
        <p:nvSpPr>
          <p:cNvPr id="9429" name=""/>
          <p:cNvSpPr txBox="1"/>
          <p:nvPr/>
        </p:nvSpPr>
        <p:spPr>
          <a:xfrm>
            <a:off x="2131920" y="433440"/>
            <a:ext cx="4908600" cy="1190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ingle Datum Axis From </a:t>
            </a:r>
            <a:endParaRPr b="0" lang="en-US" sz="3600" spc="-1" strike="noStrike">
              <a:solidFill>
                <a:srgbClr val="000000"/>
              </a:solidFill>
              <a:latin typeface="Arial"/>
            </a:endParaRPr>
          </a:p>
          <a:p>
            <a:pPr algn="ctr">
              <a:lnSpc>
                <a:spcPct val="100000"/>
              </a:lnSpc>
            </a:pPr>
            <a:r>
              <a:rPr b="0" lang="en-US" sz="3600" spc="-1" strike="noStrike">
                <a:solidFill>
                  <a:srgbClr val="fafd00"/>
                </a:solidFill>
                <a:latin typeface="Times New Roman"/>
                <a:ea typeface="Times New Roman"/>
              </a:rPr>
              <a:t>Two Datum Features</a:t>
            </a:r>
            <a:endParaRPr b="0" lang="en-US" sz="3600" spc="-1" strike="noStrike">
              <a:solidFill>
                <a:srgbClr val="000000"/>
              </a:solidFill>
              <a:latin typeface="Arial"/>
            </a:endParaRPr>
          </a:p>
        </p:txBody>
      </p:sp>
      <p:sp>
        <p:nvSpPr>
          <p:cNvPr id="9430" name=""/>
          <p:cNvSpPr txBox="1"/>
          <p:nvPr/>
        </p:nvSpPr>
        <p:spPr>
          <a:xfrm>
            <a:off x="5985000" y="52354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9431" name=""/>
          <p:cNvSpPr/>
          <p:nvPr/>
        </p:nvSpPr>
        <p:spPr>
          <a:xfrm flipV="1">
            <a:off x="5356080" y="2830680"/>
            <a:ext cx="244800" cy="582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2" name=""/>
          <p:cNvSpPr/>
          <p:nvPr/>
        </p:nvSpPr>
        <p:spPr>
          <a:xfrm>
            <a:off x="5605560" y="2824200"/>
            <a:ext cx="15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33" name=""/>
          <p:cNvSpPr txBox="1"/>
          <p:nvPr/>
        </p:nvSpPr>
        <p:spPr>
          <a:xfrm>
            <a:off x="685800" y="1766880"/>
            <a:ext cx="7772400" cy="290196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Partial Surfaces as Datum Featur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43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3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tial Surfaces as Datum Features</a:t>
            </a:r>
            <a:endParaRPr b="0" lang="en-US" sz="3600" spc="-1" strike="noStrike">
              <a:solidFill>
                <a:srgbClr val="000000"/>
              </a:solidFill>
              <a:latin typeface="Arial"/>
            </a:endParaRPr>
          </a:p>
        </p:txBody>
      </p:sp>
      <p:sp>
        <p:nvSpPr>
          <p:cNvPr id="9436" name=""/>
          <p:cNvSpPr txBox="1"/>
          <p:nvPr/>
        </p:nvSpPr>
        <p:spPr>
          <a:xfrm>
            <a:off x="533520" y="2057400"/>
            <a:ext cx="807732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following options are frequently used to designate a small part of a surface to serve as a datum feature:  1) a </a:t>
            </a:r>
            <a:r>
              <a:rPr b="0" lang="en-US" sz="2800" spc="-1" strike="noStrike">
                <a:solidFill>
                  <a:srgbClr val="fafd00"/>
                </a:solidFill>
                <a:latin typeface="Times New Roman"/>
                <a:ea typeface="Times New Roman"/>
              </a:rPr>
              <a:t>chain line </a:t>
            </a:r>
            <a:r>
              <a:rPr b="0" lang="en-US" sz="2800" spc="-1" strike="noStrike">
                <a:solidFill>
                  <a:srgbClr val="ffffff"/>
                </a:solidFill>
                <a:latin typeface="Times New Roman"/>
                <a:ea typeface="Times New Roman"/>
              </a:rPr>
              <a:t>drawn parallel to the surface profile and dimensioned for length and location, 2) a </a:t>
            </a:r>
            <a:r>
              <a:rPr b="0" lang="en-US" sz="2800" spc="-1" strike="noStrike">
                <a:solidFill>
                  <a:srgbClr val="fafd00"/>
                </a:solidFill>
                <a:latin typeface="Times New Roman"/>
                <a:ea typeface="Times New Roman"/>
              </a:rPr>
              <a:t>note</a:t>
            </a:r>
            <a:r>
              <a:rPr b="0" lang="en-US" sz="2800" spc="-1" strike="noStrike">
                <a:solidFill>
                  <a:srgbClr val="ffffff"/>
                </a:solidFill>
                <a:latin typeface="Times New Roman"/>
                <a:ea typeface="Times New Roman"/>
              </a:rPr>
              <a:t> specifying the physical limits and orientaion of the area, or 3) </a:t>
            </a:r>
            <a:r>
              <a:rPr b="0" lang="en-US" sz="2800" spc="-1" strike="noStrike">
                <a:solidFill>
                  <a:srgbClr val="fafd00"/>
                </a:solidFill>
                <a:latin typeface="Times New Roman"/>
                <a:ea typeface="Times New Roman"/>
              </a:rPr>
              <a:t>datum targets</a:t>
            </a:r>
            <a:r>
              <a:rPr b="0" lang="en-US" sz="2800" spc="-1" strike="noStrike">
                <a:solidFill>
                  <a:srgbClr val="ffffff"/>
                </a:solidFill>
                <a:latin typeface="Times New Roman"/>
                <a:ea typeface="Times New Roman"/>
              </a:rPr>
              <a:t>.  Each method is acceptable, and represents appropriate alternatives for identifying partial surfaces to be used as datum featur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9437" name=""/>
          <p:cNvGrpSpPr/>
          <p:nvPr/>
        </p:nvGrpSpPr>
        <p:grpSpPr>
          <a:xfrm>
            <a:off x="1346040" y="2894040"/>
            <a:ext cx="1500480" cy="1349280"/>
            <a:chOff x="1346040" y="2894040"/>
            <a:chExt cx="1500480" cy="1349280"/>
          </a:xfrm>
        </p:grpSpPr>
        <p:sp>
          <p:nvSpPr>
            <p:cNvPr id="9438" name=""/>
            <p:cNvSpPr/>
            <p:nvPr/>
          </p:nvSpPr>
          <p:spPr>
            <a:xfrm flipV="1">
              <a:off x="2095560" y="3781440"/>
              <a:ext cx="0" cy="461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9" name=""/>
            <p:cNvSpPr/>
            <p:nvPr/>
          </p:nvSpPr>
          <p:spPr>
            <a:xfrm flipV="1">
              <a:off x="2095560" y="3498840"/>
              <a:ext cx="0" cy="139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0" name=""/>
            <p:cNvSpPr/>
            <p:nvPr/>
          </p:nvSpPr>
          <p:spPr>
            <a:xfrm flipV="1">
              <a:off x="2095560" y="2894040"/>
              <a:ext cx="0" cy="461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1" name=""/>
            <p:cNvSpPr/>
            <p:nvPr/>
          </p:nvSpPr>
          <p:spPr>
            <a:xfrm>
              <a:off x="1346040" y="3087720"/>
              <a:ext cx="0" cy="941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2" name=""/>
            <p:cNvSpPr/>
            <p:nvPr/>
          </p:nvSpPr>
          <p:spPr>
            <a:xfrm>
              <a:off x="2846520" y="3087720"/>
              <a:ext cx="0" cy="941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3" name=""/>
            <p:cNvSpPr/>
            <p:nvPr/>
          </p:nvSpPr>
          <p:spPr>
            <a:xfrm flipV="1">
              <a:off x="1844640" y="3660840"/>
              <a:ext cx="0" cy="75960"/>
            </a:xfrm>
            <a:prstGeom prst="line">
              <a:avLst/>
            </a:prstGeom>
            <a:ln w="12600">
              <a:solidFill>
                <a:srgbClr val="f2fefd"/>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444" name=""/>
            <p:cNvSpPr/>
            <p:nvPr/>
          </p:nvSpPr>
          <p:spPr>
            <a:xfrm flipV="1">
              <a:off x="1844640" y="3448080"/>
              <a:ext cx="0" cy="141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5" name=""/>
            <p:cNvSpPr/>
            <p:nvPr/>
          </p:nvSpPr>
          <p:spPr>
            <a:xfrm flipV="1">
              <a:off x="1844640" y="3233880"/>
              <a:ext cx="0" cy="1425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6" name=""/>
            <p:cNvSpPr/>
            <p:nvPr/>
          </p:nvSpPr>
          <p:spPr>
            <a:xfrm flipV="1">
              <a:off x="1844640" y="308772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447" name=""/>
            <p:cNvSpPr/>
            <p:nvPr/>
          </p:nvSpPr>
          <p:spPr>
            <a:xfrm flipV="1">
              <a:off x="2346480" y="3660840"/>
              <a:ext cx="0" cy="75960"/>
            </a:xfrm>
            <a:prstGeom prst="line">
              <a:avLst/>
            </a:prstGeom>
            <a:ln w="12600">
              <a:solidFill>
                <a:srgbClr val="f2fefd"/>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448" name=""/>
            <p:cNvSpPr/>
            <p:nvPr/>
          </p:nvSpPr>
          <p:spPr>
            <a:xfrm flipV="1">
              <a:off x="2346480" y="3448080"/>
              <a:ext cx="0" cy="141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9" name=""/>
            <p:cNvSpPr/>
            <p:nvPr/>
          </p:nvSpPr>
          <p:spPr>
            <a:xfrm flipV="1">
              <a:off x="2346480" y="3233880"/>
              <a:ext cx="0" cy="1425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0" name=""/>
            <p:cNvSpPr/>
            <p:nvPr/>
          </p:nvSpPr>
          <p:spPr>
            <a:xfrm flipV="1">
              <a:off x="2346480" y="308772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451" name=""/>
            <p:cNvSpPr/>
            <p:nvPr/>
          </p:nvSpPr>
          <p:spPr>
            <a:xfrm>
              <a:off x="1346040" y="3522600"/>
              <a:ext cx="74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2" name=""/>
            <p:cNvSpPr/>
            <p:nvPr/>
          </p:nvSpPr>
          <p:spPr>
            <a:xfrm>
              <a:off x="1492200" y="3522600"/>
              <a:ext cx="142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3" name=""/>
            <p:cNvSpPr/>
            <p:nvPr/>
          </p:nvSpPr>
          <p:spPr>
            <a:xfrm>
              <a:off x="1706400" y="3522600"/>
              <a:ext cx="1400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4" name=""/>
            <p:cNvSpPr/>
            <p:nvPr/>
          </p:nvSpPr>
          <p:spPr>
            <a:xfrm>
              <a:off x="1917720" y="3522600"/>
              <a:ext cx="142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5" name=""/>
            <p:cNvSpPr/>
            <p:nvPr/>
          </p:nvSpPr>
          <p:spPr>
            <a:xfrm>
              <a:off x="2131920" y="3522600"/>
              <a:ext cx="141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6" name=""/>
            <p:cNvSpPr/>
            <p:nvPr/>
          </p:nvSpPr>
          <p:spPr>
            <a:xfrm>
              <a:off x="2344680" y="3522600"/>
              <a:ext cx="142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7" name=""/>
            <p:cNvSpPr/>
            <p:nvPr/>
          </p:nvSpPr>
          <p:spPr>
            <a:xfrm>
              <a:off x="2554200" y="3522600"/>
              <a:ext cx="142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8" name=""/>
            <p:cNvSpPr/>
            <p:nvPr/>
          </p:nvSpPr>
          <p:spPr>
            <a:xfrm>
              <a:off x="2768760" y="3522600"/>
              <a:ext cx="777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9" name=""/>
            <p:cNvSpPr/>
            <p:nvPr/>
          </p:nvSpPr>
          <p:spPr>
            <a:xfrm flipH="1">
              <a:off x="1346040" y="4029120"/>
              <a:ext cx="1500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0" name=""/>
            <p:cNvSpPr/>
            <p:nvPr/>
          </p:nvSpPr>
          <p:spPr>
            <a:xfrm>
              <a:off x="1689120" y="3736800"/>
              <a:ext cx="157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1" name=""/>
            <p:cNvSpPr/>
            <p:nvPr/>
          </p:nvSpPr>
          <p:spPr>
            <a:xfrm>
              <a:off x="1917720" y="3736800"/>
              <a:ext cx="142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2" name=""/>
            <p:cNvSpPr/>
            <p:nvPr/>
          </p:nvSpPr>
          <p:spPr>
            <a:xfrm>
              <a:off x="2131920" y="3736800"/>
              <a:ext cx="141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3" name=""/>
            <p:cNvSpPr/>
            <p:nvPr/>
          </p:nvSpPr>
          <p:spPr>
            <a:xfrm>
              <a:off x="2344680" y="3736800"/>
              <a:ext cx="155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4" name=""/>
            <p:cNvSpPr/>
            <p:nvPr/>
          </p:nvSpPr>
          <p:spPr>
            <a:xfrm flipV="1">
              <a:off x="1689120" y="391788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5" name=""/>
            <p:cNvSpPr/>
            <p:nvPr/>
          </p:nvSpPr>
          <p:spPr>
            <a:xfrm flipV="1">
              <a:off x="1689120" y="3736800"/>
              <a:ext cx="0" cy="109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6" name=""/>
            <p:cNvSpPr/>
            <p:nvPr/>
          </p:nvSpPr>
          <p:spPr>
            <a:xfrm flipV="1">
              <a:off x="2500200" y="391788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7" name=""/>
            <p:cNvSpPr/>
            <p:nvPr/>
          </p:nvSpPr>
          <p:spPr>
            <a:xfrm flipV="1">
              <a:off x="2500200" y="3736800"/>
              <a:ext cx="0" cy="109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8" name=""/>
            <p:cNvSpPr/>
            <p:nvPr/>
          </p:nvSpPr>
          <p:spPr>
            <a:xfrm>
              <a:off x="1346040" y="3087720"/>
              <a:ext cx="1500120" cy="0"/>
            </a:xfrm>
            <a:custGeom>
              <a:avLst/>
              <a:gdLst/>
              <a:ahLst/>
              <a:rect l="0" t="0" r="r" b="b"/>
              <a:pathLst>
                <a:path fill="none" w="4167" h="0">
                  <a:moveTo>
                    <a:pt x="4167" y="0"/>
                  </a:moveTo>
                  <a:lnTo>
                    <a:pt x="0" y="0"/>
                  </a:lnTo>
                  <a:lnTo>
                    <a:pt x="4167"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469" name=""/>
          <p:cNvGrpSpPr/>
          <p:nvPr/>
        </p:nvGrpSpPr>
        <p:grpSpPr>
          <a:xfrm>
            <a:off x="4579920" y="1662120"/>
            <a:ext cx="3900600" cy="3381480"/>
            <a:chOff x="4579920" y="1662120"/>
            <a:chExt cx="3900600" cy="3381480"/>
          </a:xfrm>
        </p:grpSpPr>
        <p:sp>
          <p:nvSpPr>
            <p:cNvPr id="9470" name=""/>
            <p:cNvSpPr/>
            <p:nvPr/>
          </p:nvSpPr>
          <p:spPr>
            <a:xfrm flipV="1">
              <a:off x="7186680" y="3736800"/>
              <a:ext cx="0" cy="460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1" name=""/>
            <p:cNvSpPr/>
            <p:nvPr/>
          </p:nvSpPr>
          <p:spPr>
            <a:xfrm flipV="1">
              <a:off x="7186680" y="3451320"/>
              <a:ext cx="0" cy="142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2" name=""/>
            <p:cNvSpPr/>
            <p:nvPr/>
          </p:nvSpPr>
          <p:spPr>
            <a:xfrm flipV="1">
              <a:off x="7186680" y="2849400"/>
              <a:ext cx="0" cy="460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3" name=""/>
            <p:cNvSpPr/>
            <p:nvPr/>
          </p:nvSpPr>
          <p:spPr>
            <a:xfrm flipV="1">
              <a:off x="6591240" y="3781440"/>
              <a:ext cx="0" cy="461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4" name=""/>
            <p:cNvSpPr/>
            <p:nvPr/>
          </p:nvSpPr>
          <p:spPr>
            <a:xfrm flipV="1">
              <a:off x="6591240" y="3498840"/>
              <a:ext cx="0" cy="139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5" name=""/>
            <p:cNvSpPr/>
            <p:nvPr/>
          </p:nvSpPr>
          <p:spPr>
            <a:xfrm flipV="1">
              <a:off x="6591240" y="2894040"/>
              <a:ext cx="0" cy="461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6" name=""/>
            <p:cNvSpPr/>
            <p:nvPr/>
          </p:nvSpPr>
          <p:spPr>
            <a:xfrm flipV="1">
              <a:off x="6843600" y="3660840"/>
              <a:ext cx="0" cy="75960"/>
            </a:xfrm>
            <a:prstGeom prst="line">
              <a:avLst/>
            </a:prstGeom>
            <a:ln w="12600">
              <a:solidFill>
                <a:srgbClr val="f2fefd"/>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477" name=""/>
            <p:cNvSpPr/>
            <p:nvPr/>
          </p:nvSpPr>
          <p:spPr>
            <a:xfrm flipV="1">
              <a:off x="6843600" y="3448080"/>
              <a:ext cx="0" cy="141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8" name=""/>
            <p:cNvSpPr/>
            <p:nvPr/>
          </p:nvSpPr>
          <p:spPr>
            <a:xfrm flipV="1">
              <a:off x="6843600" y="3233880"/>
              <a:ext cx="0" cy="1425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9" name=""/>
            <p:cNvSpPr/>
            <p:nvPr/>
          </p:nvSpPr>
          <p:spPr>
            <a:xfrm flipV="1">
              <a:off x="6843600" y="308772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480" name=""/>
            <p:cNvSpPr/>
            <p:nvPr/>
          </p:nvSpPr>
          <p:spPr>
            <a:xfrm flipV="1">
              <a:off x="6337440" y="3660840"/>
              <a:ext cx="0" cy="75960"/>
            </a:xfrm>
            <a:prstGeom prst="line">
              <a:avLst/>
            </a:prstGeom>
            <a:ln w="12600">
              <a:solidFill>
                <a:srgbClr val="f2fefd"/>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9481" name=""/>
            <p:cNvSpPr/>
            <p:nvPr/>
          </p:nvSpPr>
          <p:spPr>
            <a:xfrm flipV="1">
              <a:off x="6337440" y="3448080"/>
              <a:ext cx="0" cy="141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2" name=""/>
            <p:cNvSpPr/>
            <p:nvPr/>
          </p:nvSpPr>
          <p:spPr>
            <a:xfrm flipV="1">
              <a:off x="6337440" y="3233880"/>
              <a:ext cx="0" cy="1425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3" name=""/>
            <p:cNvSpPr/>
            <p:nvPr/>
          </p:nvSpPr>
          <p:spPr>
            <a:xfrm flipV="1">
              <a:off x="6337440" y="308772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484" name=""/>
            <p:cNvSpPr/>
            <p:nvPr/>
          </p:nvSpPr>
          <p:spPr>
            <a:xfrm>
              <a:off x="6989760" y="3452760"/>
              <a:ext cx="68760" cy="70200"/>
            </a:xfrm>
            <a:custGeom>
              <a:avLst/>
              <a:gdLst/>
              <a:ahLst/>
              <a:rect l="0" t="0" r="r" b="b"/>
              <a:pathLst>
                <a:path fill="none" w="191" h="195">
                  <a:moveTo>
                    <a:pt x="0" y="0"/>
                  </a:moveTo>
                  <a:lnTo>
                    <a:pt x="0" y="8"/>
                  </a:lnTo>
                  <a:lnTo>
                    <a:pt x="0" y="25"/>
                  </a:lnTo>
                  <a:lnTo>
                    <a:pt x="0" y="33"/>
                  </a:lnTo>
                  <a:lnTo>
                    <a:pt x="8" y="50"/>
                  </a:lnTo>
                  <a:lnTo>
                    <a:pt x="8" y="59"/>
                  </a:lnTo>
                  <a:lnTo>
                    <a:pt x="16" y="67"/>
                  </a:lnTo>
                  <a:lnTo>
                    <a:pt x="16" y="84"/>
                  </a:lnTo>
                  <a:lnTo>
                    <a:pt x="24" y="92"/>
                  </a:lnTo>
                  <a:lnTo>
                    <a:pt x="24" y="102"/>
                  </a:lnTo>
                  <a:lnTo>
                    <a:pt x="32" y="110"/>
                  </a:lnTo>
                  <a:lnTo>
                    <a:pt x="41" y="119"/>
                  </a:lnTo>
                  <a:lnTo>
                    <a:pt x="50" y="127"/>
                  </a:lnTo>
                  <a:lnTo>
                    <a:pt x="58" y="135"/>
                  </a:lnTo>
                  <a:lnTo>
                    <a:pt x="66" y="144"/>
                  </a:lnTo>
                  <a:lnTo>
                    <a:pt x="75" y="152"/>
                  </a:lnTo>
                  <a:lnTo>
                    <a:pt x="83" y="161"/>
                  </a:lnTo>
                  <a:lnTo>
                    <a:pt x="91" y="169"/>
                  </a:lnTo>
                  <a:lnTo>
                    <a:pt x="99" y="178"/>
                  </a:lnTo>
                  <a:lnTo>
                    <a:pt x="116" y="178"/>
                  </a:lnTo>
                  <a:lnTo>
                    <a:pt x="124" y="186"/>
                  </a:lnTo>
                  <a:lnTo>
                    <a:pt x="132" y="186"/>
                  </a:lnTo>
                  <a:lnTo>
                    <a:pt x="150" y="195"/>
                  </a:lnTo>
                  <a:lnTo>
                    <a:pt x="158" y="195"/>
                  </a:lnTo>
                  <a:lnTo>
                    <a:pt x="166" y="195"/>
                  </a:lnTo>
                  <a:lnTo>
                    <a:pt x="183" y="195"/>
                  </a:lnTo>
                  <a:lnTo>
                    <a:pt x="191" y="195"/>
                  </a:lnTo>
                </a:path>
              </a:pathLst>
            </a:custGeom>
            <a:ln w="12600">
              <a:solidFill>
                <a:srgbClr val="f2fefd"/>
              </a:solidFill>
              <a:round/>
            </a:ln>
          </p:spPr>
          <p:txBody>
            <a:bodyPr lIns="96120" rIns="96120" tIns="19080" bIns="19080" anchor="t">
              <a:noAutofit/>
            </a:bodyPr>
            <a:p>
              <a:endParaRPr b="0" lang="en-US" sz="1800" spc="-1" strike="noStrike">
                <a:solidFill>
                  <a:srgbClr val="000000"/>
                </a:solidFill>
                <a:latin typeface="Arial"/>
              </a:endParaRPr>
            </a:p>
          </p:txBody>
        </p:sp>
        <p:sp>
          <p:nvSpPr>
            <p:cNvPr id="9485" name=""/>
            <p:cNvSpPr/>
            <p:nvPr/>
          </p:nvSpPr>
          <p:spPr>
            <a:xfrm>
              <a:off x="7311960" y="3452760"/>
              <a:ext cx="66960" cy="70200"/>
            </a:xfrm>
            <a:custGeom>
              <a:avLst/>
              <a:gdLst/>
              <a:ahLst/>
              <a:rect l="0" t="0" r="r" b="b"/>
              <a:pathLst>
                <a:path fill="none" w="186" h="195">
                  <a:moveTo>
                    <a:pt x="0" y="195"/>
                  </a:moveTo>
                  <a:lnTo>
                    <a:pt x="8" y="195"/>
                  </a:lnTo>
                  <a:lnTo>
                    <a:pt x="24" y="195"/>
                  </a:lnTo>
                  <a:lnTo>
                    <a:pt x="32" y="195"/>
                  </a:lnTo>
                  <a:lnTo>
                    <a:pt x="48" y="195"/>
                  </a:lnTo>
                  <a:lnTo>
                    <a:pt x="56" y="186"/>
                  </a:lnTo>
                  <a:lnTo>
                    <a:pt x="64" y="186"/>
                  </a:lnTo>
                  <a:lnTo>
                    <a:pt x="80" y="178"/>
                  </a:lnTo>
                  <a:lnTo>
                    <a:pt x="88" y="178"/>
                  </a:lnTo>
                  <a:lnTo>
                    <a:pt x="97" y="169"/>
                  </a:lnTo>
                  <a:lnTo>
                    <a:pt x="105" y="161"/>
                  </a:lnTo>
                  <a:lnTo>
                    <a:pt x="113" y="152"/>
                  </a:lnTo>
                  <a:lnTo>
                    <a:pt x="121" y="144"/>
                  </a:lnTo>
                  <a:lnTo>
                    <a:pt x="129" y="135"/>
                  </a:lnTo>
                  <a:lnTo>
                    <a:pt x="137" y="127"/>
                  </a:lnTo>
                  <a:lnTo>
                    <a:pt x="145" y="119"/>
                  </a:lnTo>
                  <a:lnTo>
                    <a:pt x="153" y="110"/>
                  </a:lnTo>
                  <a:lnTo>
                    <a:pt x="162" y="102"/>
                  </a:lnTo>
                  <a:lnTo>
                    <a:pt x="162" y="92"/>
                  </a:lnTo>
                  <a:lnTo>
                    <a:pt x="170" y="84"/>
                  </a:lnTo>
                  <a:lnTo>
                    <a:pt x="178" y="67"/>
                  </a:lnTo>
                  <a:lnTo>
                    <a:pt x="178" y="59"/>
                  </a:lnTo>
                  <a:lnTo>
                    <a:pt x="178" y="50"/>
                  </a:lnTo>
                  <a:lnTo>
                    <a:pt x="186" y="33"/>
                  </a:lnTo>
                  <a:lnTo>
                    <a:pt x="186" y="25"/>
                  </a:lnTo>
                  <a:lnTo>
                    <a:pt x="186" y="8"/>
                  </a:lnTo>
                  <a:lnTo>
                    <a:pt x="186" y="0"/>
                  </a:lnTo>
                </a:path>
              </a:pathLst>
            </a:custGeom>
            <a:ln w="12600">
              <a:solidFill>
                <a:srgbClr val="f2fefd"/>
              </a:solidFill>
              <a:round/>
            </a:ln>
          </p:spPr>
          <p:txBody>
            <a:bodyPr lIns="96120" rIns="96120" tIns="19080" bIns="19080" anchor="t">
              <a:noAutofit/>
            </a:bodyPr>
            <a:p>
              <a:endParaRPr b="0" lang="en-US" sz="1800" spc="-1" strike="noStrike">
                <a:solidFill>
                  <a:srgbClr val="000000"/>
                </a:solidFill>
                <a:latin typeface="Arial"/>
              </a:endParaRPr>
            </a:p>
          </p:txBody>
        </p:sp>
        <p:sp>
          <p:nvSpPr>
            <p:cNvPr id="9486" name=""/>
            <p:cNvSpPr/>
            <p:nvPr/>
          </p:nvSpPr>
          <p:spPr>
            <a:xfrm>
              <a:off x="8480520" y="3087720"/>
              <a:ext cx="0" cy="941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7" name=""/>
            <p:cNvSpPr/>
            <p:nvPr/>
          </p:nvSpPr>
          <p:spPr>
            <a:xfrm>
              <a:off x="4579920" y="3087720"/>
              <a:ext cx="0" cy="941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8" name=""/>
            <p:cNvSpPr/>
            <p:nvPr/>
          </p:nvSpPr>
          <p:spPr>
            <a:xfrm>
              <a:off x="4579920" y="4100400"/>
              <a:ext cx="0" cy="943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9" name=""/>
            <p:cNvSpPr/>
            <p:nvPr/>
          </p:nvSpPr>
          <p:spPr>
            <a:xfrm>
              <a:off x="6591240" y="4100400"/>
              <a:ext cx="0" cy="943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0" name=""/>
            <p:cNvSpPr/>
            <p:nvPr/>
          </p:nvSpPr>
          <p:spPr>
            <a:xfrm>
              <a:off x="4782960" y="4840200"/>
              <a:ext cx="649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1" name=""/>
            <p:cNvSpPr/>
            <p:nvPr/>
          </p:nvSpPr>
          <p:spPr>
            <a:xfrm flipH="1">
              <a:off x="5950080" y="4840200"/>
              <a:ext cx="434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2" name=""/>
            <p:cNvSpPr/>
            <p:nvPr/>
          </p:nvSpPr>
          <p:spPr>
            <a:xfrm>
              <a:off x="4579920" y="4805280"/>
              <a:ext cx="203400" cy="70200"/>
            </a:xfrm>
            <a:custGeom>
              <a:avLst/>
              <a:gdLst/>
              <a:ahLst/>
              <a:rect l="0" t="0" r="r" b="b"/>
              <a:pathLst>
                <a:path w="565" h="195">
                  <a:moveTo>
                    <a:pt x="565" y="0"/>
                  </a:moveTo>
                  <a:lnTo>
                    <a:pt x="565" y="195"/>
                  </a:lnTo>
                  <a:lnTo>
                    <a:pt x="0" y="102"/>
                  </a:lnTo>
                  <a:lnTo>
                    <a:pt x="565" y="0"/>
                  </a:lnTo>
                  <a:close/>
                </a:path>
              </a:pathLst>
            </a:custGeom>
            <a:solidFill>
              <a:srgbClr val="f2fefd"/>
            </a:solidFill>
            <a:ln w="12600">
              <a:solidFill>
                <a:srgbClr val="f2fefd"/>
              </a:solidFill>
              <a:round/>
            </a:ln>
          </p:spPr>
          <p:txBody>
            <a:bodyPr lIns="96120" rIns="96120" tIns="19080" bIns="19080" anchor="t">
              <a:noAutofit/>
            </a:bodyPr>
            <a:p>
              <a:endParaRPr b="0" lang="en-US" sz="1800" spc="-1" strike="noStrike">
                <a:solidFill>
                  <a:srgbClr val="000000"/>
                </a:solidFill>
                <a:latin typeface="Arial"/>
              </a:endParaRPr>
            </a:p>
          </p:txBody>
        </p:sp>
        <p:sp>
          <p:nvSpPr>
            <p:cNvPr id="9493" name=""/>
            <p:cNvSpPr/>
            <p:nvPr/>
          </p:nvSpPr>
          <p:spPr>
            <a:xfrm>
              <a:off x="6384960" y="4805280"/>
              <a:ext cx="206640" cy="70200"/>
            </a:xfrm>
            <a:custGeom>
              <a:avLst/>
              <a:gdLst/>
              <a:ahLst/>
              <a:rect l="0" t="0" r="r" b="b"/>
              <a:pathLst>
                <a:path w="574" h="195">
                  <a:moveTo>
                    <a:pt x="0" y="0"/>
                  </a:moveTo>
                  <a:lnTo>
                    <a:pt x="0" y="195"/>
                  </a:lnTo>
                  <a:lnTo>
                    <a:pt x="574" y="102"/>
                  </a:lnTo>
                  <a:lnTo>
                    <a:pt x="0" y="0"/>
                  </a:lnTo>
                  <a:close/>
                </a:path>
              </a:pathLst>
            </a:custGeom>
            <a:solidFill>
              <a:srgbClr val="f2fefd"/>
            </a:solidFill>
            <a:ln w="12600">
              <a:solidFill>
                <a:srgbClr val="f2fefd"/>
              </a:solidFill>
              <a:round/>
            </a:ln>
          </p:spPr>
          <p:txBody>
            <a:bodyPr lIns="96120" rIns="96120" tIns="19080" bIns="19080" anchor="t">
              <a:noAutofit/>
            </a:bodyPr>
            <a:p>
              <a:endParaRPr b="0" lang="en-US" sz="1800" spc="-1" strike="noStrike">
                <a:solidFill>
                  <a:srgbClr val="000000"/>
                </a:solidFill>
                <a:latin typeface="Arial"/>
              </a:endParaRPr>
            </a:p>
          </p:txBody>
        </p:sp>
        <p:sp>
          <p:nvSpPr>
            <p:cNvPr id="9494" name=""/>
            <p:cNvSpPr/>
            <p:nvPr/>
          </p:nvSpPr>
          <p:spPr>
            <a:xfrm>
              <a:off x="5432400" y="4691160"/>
              <a:ext cx="518040" cy="300240"/>
            </a:xfrm>
            <a:custGeom>
              <a:avLst/>
              <a:gdLst/>
              <a:ahLst/>
              <a:rect l="0" t="0" r="r" b="b"/>
              <a:pathLst>
                <a:path fill="none" w="1439" h="834">
                  <a:moveTo>
                    <a:pt x="0" y="834"/>
                  </a:moveTo>
                  <a:lnTo>
                    <a:pt x="1439" y="834"/>
                  </a:lnTo>
                  <a:lnTo>
                    <a:pt x="1439" y="0"/>
                  </a:lnTo>
                  <a:lnTo>
                    <a:pt x="0" y="0"/>
                  </a:lnTo>
                  <a:lnTo>
                    <a:pt x="0" y="834"/>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495" name=""/>
            <p:cNvSpPr/>
            <p:nvPr/>
          </p:nvSpPr>
          <p:spPr>
            <a:xfrm>
              <a:off x="4579920" y="4029120"/>
              <a:ext cx="3900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6" name=""/>
            <p:cNvSpPr/>
            <p:nvPr/>
          </p:nvSpPr>
          <p:spPr>
            <a:xfrm>
              <a:off x="6591240" y="4100400"/>
              <a:ext cx="0" cy="6969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7" name=""/>
            <p:cNvSpPr/>
            <p:nvPr/>
          </p:nvSpPr>
          <p:spPr>
            <a:xfrm>
              <a:off x="7186680" y="4100400"/>
              <a:ext cx="0" cy="905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8" name=""/>
            <p:cNvSpPr/>
            <p:nvPr/>
          </p:nvSpPr>
          <p:spPr>
            <a:xfrm>
              <a:off x="7389720" y="4838760"/>
              <a:ext cx="204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9" name=""/>
            <p:cNvSpPr/>
            <p:nvPr/>
          </p:nvSpPr>
          <p:spPr>
            <a:xfrm>
              <a:off x="7186680" y="4807080"/>
              <a:ext cx="203400" cy="66960"/>
            </a:xfrm>
            <a:custGeom>
              <a:avLst/>
              <a:gdLst/>
              <a:ahLst/>
              <a:rect l="0" t="0" r="r" b="b"/>
              <a:pathLst>
                <a:path w="565" h="186">
                  <a:moveTo>
                    <a:pt x="565" y="0"/>
                  </a:moveTo>
                  <a:lnTo>
                    <a:pt x="565" y="186"/>
                  </a:lnTo>
                  <a:lnTo>
                    <a:pt x="0" y="88"/>
                  </a:lnTo>
                  <a:lnTo>
                    <a:pt x="565" y="0"/>
                  </a:lnTo>
                  <a:close/>
                </a:path>
              </a:pathLst>
            </a:custGeom>
            <a:solidFill>
              <a:srgbClr val="f2fefd"/>
            </a:solidFill>
            <a:ln w="12600">
              <a:solidFill>
                <a:srgbClr val="f2fefd"/>
              </a:solidFill>
              <a:round/>
            </a:ln>
          </p:spPr>
          <p:txBody>
            <a:bodyPr lIns="96120" rIns="96120" tIns="15840" bIns="15840" anchor="t">
              <a:noAutofit/>
            </a:bodyPr>
            <a:p>
              <a:endParaRPr b="0" lang="en-US" sz="1800" spc="-1" strike="noStrike">
                <a:solidFill>
                  <a:srgbClr val="000000"/>
                </a:solidFill>
                <a:latin typeface="Arial"/>
              </a:endParaRPr>
            </a:p>
          </p:txBody>
        </p:sp>
        <p:sp>
          <p:nvSpPr>
            <p:cNvPr id="9500" name=""/>
            <p:cNvSpPr/>
            <p:nvPr/>
          </p:nvSpPr>
          <p:spPr>
            <a:xfrm>
              <a:off x="6673680" y="4686120"/>
              <a:ext cx="429120" cy="305280"/>
            </a:xfrm>
            <a:custGeom>
              <a:avLst/>
              <a:gdLst/>
              <a:ahLst/>
              <a:rect l="0" t="0" r="r" b="b"/>
              <a:pathLst>
                <a:path fill="none" w="1192" h="848">
                  <a:moveTo>
                    <a:pt x="0" y="848"/>
                  </a:moveTo>
                  <a:lnTo>
                    <a:pt x="1192" y="848"/>
                  </a:lnTo>
                  <a:lnTo>
                    <a:pt x="1192" y="0"/>
                  </a:lnTo>
                  <a:lnTo>
                    <a:pt x="0" y="0"/>
                  </a:lnTo>
                  <a:lnTo>
                    <a:pt x="0" y="848"/>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501" name=""/>
            <p:cNvSpPr/>
            <p:nvPr/>
          </p:nvSpPr>
          <p:spPr>
            <a:xfrm>
              <a:off x="6186600" y="3736800"/>
              <a:ext cx="156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2" name=""/>
            <p:cNvSpPr/>
            <p:nvPr/>
          </p:nvSpPr>
          <p:spPr>
            <a:xfrm>
              <a:off x="6413400" y="3736800"/>
              <a:ext cx="142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3" name=""/>
            <p:cNvSpPr/>
            <p:nvPr/>
          </p:nvSpPr>
          <p:spPr>
            <a:xfrm>
              <a:off x="6627960" y="3736800"/>
              <a:ext cx="137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4" name=""/>
            <p:cNvSpPr/>
            <p:nvPr/>
          </p:nvSpPr>
          <p:spPr>
            <a:xfrm>
              <a:off x="6837480" y="3736800"/>
              <a:ext cx="1587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5" name=""/>
            <p:cNvSpPr/>
            <p:nvPr/>
          </p:nvSpPr>
          <p:spPr>
            <a:xfrm flipV="1">
              <a:off x="6186600" y="391788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6" name=""/>
            <p:cNvSpPr/>
            <p:nvPr/>
          </p:nvSpPr>
          <p:spPr>
            <a:xfrm flipV="1">
              <a:off x="6186600" y="3736800"/>
              <a:ext cx="0" cy="109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7" name=""/>
            <p:cNvSpPr/>
            <p:nvPr/>
          </p:nvSpPr>
          <p:spPr>
            <a:xfrm flipV="1">
              <a:off x="6996240" y="391788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8" name=""/>
            <p:cNvSpPr/>
            <p:nvPr/>
          </p:nvSpPr>
          <p:spPr>
            <a:xfrm flipV="1">
              <a:off x="6996240" y="3736800"/>
              <a:ext cx="0" cy="109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9" name=""/>
            <p:cNvSpPr/>
            <p:nvPr/>
          </p:nvSpPr>
          <p:spPr>
            <a:xfrm flipH="1">
              <a:off x="7058160" y="3522600"/>
              <a:ext cx="253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0" name=""/>
            <p:cNvSpPr/>
            <p:nvPr/>
          </p:nvSpPr>
          <p:spPr>
            <a:xfrm>
              <a:off x="4579920" y="3019320"/>
              <a:ext cx="630720" cy="9720"/>
            </a:xfrm>
            <a:custGeom>
              <a:avLst/>
              <a:gdLst/>
              <a:ahLst/>
              <a:rect l="0" t="0" r="r" b="b"/>
              <a:pathLst>
                <a:path w="1752" h="27">
                  <a:moveTo>
                    <a:pt x="0" y="0"/>
                  </a:moveTo>
                  <a:lnTo>
                    <a:pt x="1752" y="0"/>
                  </a:lnTo>
                  <a:lnTo>
                    <a:pt x="1752" y="27"/>
                  </a:lnTo>
                  <a:lnTo>
                    <a:pt x="0" y="27"/>
                  </a:lnTo>
                  <a:lnTo>
                    <a:pt x="0" y="0"/>
                  </a:lnTo>
                  <a:close/>
                </a:path>
              </a:pathLst>
            </a:custGeom>
            <a:solidFill>
              <a:srgbClr val="000000"/>
            </a:solidFill>
            <a:ln w="25560">
              <a:solidFill>
                <a:srgbClr val="f2fefd"/>
              </a:solidFill>
              <a:round/>
            </a:ln>
          </p:spPr>
          <p:txBody>
            <a:bodyPr lIns="102600" rIns="102600" tIns="-47880" bIns="-47880" anchor="t">
              <a:noAutofit/>
            </a:bodyPr>
            <a:p>
              <a:endParaRPr b="0" lang="en-US" sz="1800" spc="-1" strike="noStrike">
                <a:solidFill>
                  <a:srgbClr val="ffffff"/>
                </a:solidFill>
                <a:latin typeface="Arial"/>
              </a:endParaRPr>
            </a:p>
          </p:txBody>
        </p:sp>
        <p:sp>
          <p:nvSpPr>
            <p:cNvPr id="9511" name=""/>
            <p:cNvSpPr/>
            <p:nvPr/>
          </p:nvSpPr>
          <p:spPr>
            <a:xfrm>
              <a:off x="5353200" y="3019320"/>
              <a:ext cx="140040" cy="9720"/>
            </a:xfrm>
            <a:custGeom>
              <a:avLst/>
              <a:gdLst/>
              <a:ahLst/>
              <a:rect l="0" t="0" r="r" b="b"/>
              <a:pathLst>
                <a:path w="389" h="27">
                  <a:moveTo>
                    <a:pt x="0" y="0"/>
                  </a:moveTo>
                  <a:lnTo>
                    <a:pt x="389" y="0"/>
                  </a:lnTo>
                  <a:lnTo>
                    <a:pt x="389" y="27"/>
                  </a:lnTo>
                  <a:lnTo>
                    <a:pt x="0" y="27"/>
                  </a:lnTo>
                  <a:lnTo>
                    <a:pt x="0" y="0"/>
                  </a:lnTo>
                  <a:close/>
                </a:path>
              </a:pathLst>
            </a:custGeom>
            <a:solidFill>
              <a:srgbClr val="000000"/>
            </a:solidFill>
            <a:ln w="25560">
              <a:solidFill>
                <a:srgbClr val="f2fefd"/>
              </a:solidFill>
              <a:round/>
            </a:ln>
          </p:spPr>
          <p:txBody>
            <a:bodyPr lIns="102600" rIns="102600" tIns="-47880" bIns="-47880" anchor="t">
              <a:noAutofit/>
            </a:bodyPr>
            <a:p>
              <a:endParaRPr b="0" lang="en-US" sz="1800" spc="-1" strike="noStrike">
                <a:solidFill>
                  <a:srgbClr val="ffffff"/>
                </a:solidFill>
                <a:latin typeface="Arial"/>
              </a:endParaRPr>
            </a:p>
          </p:txBody>
        </p:sp>
        <p:sp>
          <p:nvSpPr>
            <p:cNvPr id="9512" name=""/>
            <p:cNvSpPr/>
            <p:nvPr/>
          </p:nvSpPr>
          <p:spPr>
            <a:xfrm>
              <a:off x="5635800" y="3019320"/>
              <a:ext cx="630720" cy="9720"/>
            </a:xfrm>
            <a:custGeom>
              <a:avLst/>
              <a:gdLst/>
              <a:ahLst/>
              <a:rect l="0" t="0" r="r" b="b"/>
              <a:pathLst>
                <a:path w="1752" h="27">
                  <a:moveTo>
                    <a:pt x="0" y="0"/>
                  </a:moveTo>
                  <a:lnTo>
                    <a:pt x="1752" y="0"/>
                  </a:lnTo>
                  <a:lnTo>
                    <a:pt x="1752" y="27"/>
                  </a:lnTo>
                  <a:lnTo>
                    <a:pt x="0" y="27"/>
                  </a:lnTo>
                  <a:lnTo>
                    <a:pt x="0" y="0"/>
                  </a:lnTo>
                  <a:close/>
                </a:path>
              </a:pathLst>
            </a:custGeom>
            <a:solidFill>
              <a:srgbClr val="000000"/>
            </a:solidFill>
            <a:ln w="25560">
              <a:solidFill>
                <a:srgbClr val="f2fefd"/>
              </a:solidFill>
              <a:round/>
            </a:ln>
          </p:spPr>
          <p:txBody>
            <a:bodyPr lIns="102600" rIns="102600" tIns="-47880" bIns="-47880" anchor="t">
              <a:noAutofit/>
            </a:bodyPr>
            <a:p>
              <a:endParaRPr b="0" lang="en-US" sz="1800" spc="-1" strike="noStrike">
                <a:solidFill>
                  <a:srgbClr val="ffffff"/>
                </a:solidFill>
                <a:latin typeface="Arial"/>
              </a:endParaRPr>
            </a:p>
          </p:txBody>
        </p:sp>
        <p:sp>
          <p:nvSpPr>
            <p:cNvPr id="9513" name=""/>
            <p:cNvSpPr/>
            <p:nvPr/>
          </p:nvSpPr>
          <p:spPr>
            <a:xfrm>
              <a:off x="6265800" y="3019320"/>
              <a:ext cx="0" cy="9720"/>
            </a:xfrm>
            <a:prstGeom prst="line">
              <a:avLst/>
            </a:prstGeom>
            <a:ln w="12600">
              <a:solidFill>
                <a:srgbClr val="f2fefd"/>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9514" name=""/>
            <p:cNvSpPr/>
            <p:nvPr/>
          </p:nvSpPr>
          <p:spPr>
            <a:xfrm flipV="1">
              <a:off x="6265800" y="1700280"/>
              <a:ext cx="0" cy="1251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5" name=""/>
            <p:cNvSpPr/>
            <p:nvPr/>
          </p:nvSpPr>
          <p:spPr>
            <a:xfrm flipV="1">
              <a:off x="4579920" y="1685880"/>
              <a:ext cx="0" cy="1265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6" name=""/>
            <p:cNvSpPr/>
            <p:nvPr/>
          </p:nvSpPr>
          <p:spPr>
            <a:xfrm flipH="1">
              <a:off x="5788080" y="1833480"/>
              <a:ext cx="272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7" name=""/>
            <p:cNvSpPr/>
            <p:nvPr/>
          </p:nvSpPr>
          <p:spPr>
            <a:xfrm>
              <a:off x="4782960" y="1833480"/>
              <a:ext cx="471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8" name=""/>
            <p:cNvSpPr/>
            <p:nvPr/>
          </p:nvSpPr>
          <p:spPr>
            <a:xfrm>
              <a:off x="6060960" y="1800360"/>
              <a:ext cx="205200" cy="68760"/>
            </a:xfrm>
            <a:custGeom>
              <a:avLst/>
              <a:gdLst/>
              <a:ahLst/>
              <a:rect l="0" t="0" r="r" b="b"/>
              <a:pathLst>
                <a:path w="570" h="191">
                  <a:moveTo>
                    <a:pt x="0" y="0"/>
                  </a:moveTo>
                  <a:lnTo>
                    <a:pt x="0" y="191"/>
                  </a:lnTo>
                  <a:lnTo>
                    <a:pt x="570" y="91"/>
                  </a:lnTo>
                  <a:lnTo>
                    <a:pt x="0" y="0"/>
                  </a:lnTo>
                  <a:close/>
                </a:path>
              </a:pathLst>
            </a:custGeom>
            <a:solidFill>
              <a:srgbClr val="f2fefd"/>
            </a:solidFill>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519" name=""/>
            <p:cNvSpPr/>
            <p:nvPr/>
          </p:nvSpPr>
          <p:spPr>
            <a:xfrm>
              <a:off x="4579920" y="1800360"/>
              <a:ext cx="203400" cy="68760"/>
            </a:xfrm>
            <a:custGeom>
              <a:avLst/>
              <a:gdLst/>
              <a:ahLst/>
              <a:rect l="0" t="0" r="r" b="b"/>
              <a:pathLst>
                <a:path w="565" h="191">
                  <a:moveTo>
                    <a:pt x="565" y="0"/>
                  </a:moveTo>
                  <a:lnTo>
                    <a:pt x="565" y="191"/>
                  </a:lnTo>
                  <a:lnTo>
                    <a:pt x="0" y="91"/>
                  </a:lnTo>
                  <a:lnTo>
                    <a:pt x="565" y="0"/>
                  </a:lnTo>
                  <a:close/>
                </a:path>
              </a:pathLst>
            </a:custGeom>
            <a:solidFill>
              <a:srgbClr val="f2fefd"/>
            </a:solidFill>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520" name=""/>
            <p:cNvSpPr/>
            <p:nvPr/>
          </p:nvSpPr>
          <p:spPr>
            <a:xfrm>
              <a:off x="5259240" y="1668600"/>
              <a:ext cx="528840" cy="309960"/>
            </a:xfrm>
            <a:custGeom>
              <a:avLst/>
              <a:gdLst/>
              <a:ahLst/>
              <a:rect l="0" t="0" r="r" b="b"/>
              <a:pathLst>
                <a:path fill="none" w="1469" h="861">
                  <a:moveTo>
                    <a:pt x="0" y="861"/>
                  </a:moveTo>
                  <a:lnTo>
                    <a:pt x="1469" y="861"/>
                  </a:lnTo>
                  <a:lnTo>
                    <a:pt x="1469" y="0"/>
                  </a:lnTo>
                  <a:lnTo>
                    <a:pt x="0" y="0"/>
                  </a:lnTo>
                  <a:lnTo>
                    <a:pt x="0" y="861"/>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521" name=""/>
            <p:cNvSpPr/>
            <p:nvPr/>
          </p:nvSpPr>
          <p:spPr>
            <a:xfrm>
              <a:off x="4579920" y="3087720"/>
              <a:ext cx="2409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9522" name=""/>
            <p:cNvGrpSpPr/>
            <p:nvPr/>
          </p:nvGrpSpPr>
          <p:grpSpPr>
            <a:xfrm>
              <a:off x="4842000" y="2301840"/>
              <a:ext cx="517680" cy="721080"/>
              <a:chOff x="4842000" y="2301840"/>
              <a:chExt cx="517680" cy="721080"/>
            </a:xfrm>
          </p:grpSpPr>
          <p:sp>
            <p:nvSpPr>
              <p:cNvPr id="9523" name=""/>
              <p:cNvSpPr/>
              <p:nvPr/>
            </p:nvSpPr>
            <p:spPr>
              <a:xfrm>
                <a:off x="4842000" y="2879640"/>
                <a:ext cx="162360" cy="143280"/>
              </a:xfrm>
              <a:custGeom>
                <a:avLst/>
                <a:gdLst/>
                <a:ahLst/>
                <a:rect l="0" t="0" r="r" b="b"/>
                <a:pathLst>
                  <a:path w="451" h="398">
                    <a:moveTo>
                      <a:pt x="451" y="398"/>
                    </a:moveTo>
                    <a:lnTo>
                      <a:pt x="229" y="0"/>
                    </a:lnTo>
                    <a:lnTo>
                      <a:pt x="0" y="398"/>
                    </a:lnTo>
                    <a:lnTo>
                      <a:pt x="451" y="398"/>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524" name=""/>
              <p:cNvSpPr/>
              <p:nvPr/>
            </p:nvSpPr>
            <p:spPr>
              <a:xfrm>
                <a:off x="4924440" y="2879640"/>
                <a:ext cx="79200" cy="142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5" name=""/>
              <p:cNvSpPr/>
              <p:nvPr/>
            </p:nvSpPr>
            <p:spPr>
              <a:xfrm flipV="1">
                <a:off x="4842000" y="2879640"/>
                <a:ext cx="82440" cy="142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6" name=""/>
              <p:cNvSpPr/>
              <p:nvPr/>
            </p:nvSpPr>
            <p:spPr>
              <a:xfrm>
                <a:off x="4842000" y="3022560"/>
                <a:ext cx="161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7" name=""/>
              <p:cNvSpPr/>
              <p:nvPr/>
            </p:nvSpPr>
            <p:spPr>
              <a:xfrm>
                <a:off x="5075280" y="2301840"/>
                <a:ext cx="284400" cy="284400"/>
              </a:xfrm>
              <a:custGeom>
                <a:avLst/>
                <a:gdLst/>
                <a:ahLst/>
                <a:rect l="0" t="0" r="r" b="b"/>
                <a:pathLst>
                  <a:path fill="none" w="790" h="790">
                    <a:moveTo>
                      <a:pt x="0" y="790"/>
                    </a:moveTo>
                    <a:lnTo>
                      <a:pt x="790" y="790"/>
                    </a:lnTo>
                    <a:lnTo>
                      <a:pt x="790" y="0"/>
                    </a:lnTo>
                    <a:lnTo>
                      <a:pt x="0" y="0"/>
                    </a:lnTo>
                    <a:lnTo>
                      <a:pt x="0" y="79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528" name=""/>
              <p:cNvSpPr/>
              <p:nvPr/>
            </p:nvSpPr>
            <p:spPr>
              <a:xfrm>
                <a:off x="4923000" y="2444760"/>
                <a:ext cx="152640" cy="498960"/>
              </a:xfrm>
              <a:custGeom>
                <a:avLst/>
                <a:gdLst/>
                <a:ahLst/>
                <a:rect l="0" t="0" r="r" b="b"/>
                <a:pathLst>
                  <a:path fill="none" w="424" h="1386">
                    <a:moveTo>
                      <a:pt x="0" y="1386"/>
                    </a:moveTo>
                    <a:lnTo>
                      <a:pt x="0" y="0"/>
                    </a:lnTo>
                    <a:lnTo>
                      <a:pt x="424"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529" name=""/>
            <p:cNvSpPr/>
            <p:nvPr/>
          </p:nvSpPr>
          <p:spPr>
            <a:xfrm>
              <a:off x="7378560" y="3087720"/>
              <a:ext cx="1101960" cy="365400"/>
            </a:xfrm>
            <a:custGeom>
              <a:avLst/>
              <a:gdLst/>
              <a:ahLst/>
              <a:rect l="0" t="0" r="r" b="b"/>
              <a:pathLst>
                <a:path fill="none" w="3061" h="1015">
                  <a:moveTo>
                    <a:pt x="0" y="0"/>
                  </a:moveTo>
                  <a:lnTo>
                    <a:pt x="3061" y="0"/>
                  </a:lnTo>
                  <a:lnTo>
                    <a:pt x="0" y="0"/>
                  </a:lnTo>
                  <a:lnTo>
                    <a:pt x="0" y="1015"/>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530" name=""/>
            <p:cNvSpPr/>
            <p:nvPr/>
          </p:nvSpPr>
          <p:spPr>
            <a:xfrm flipV="1">
              <a:off x="6989760" y="3087720"/>
              <a:ext cx="0" cy="365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1" name=""/>
            <p:cNvSpPr txBox="1"/>
            <p:nvPr/>
          </p:nvSpPr>
          <p:spPr>
            <a:xfrm>
              <a:off x="5045040" y="226692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A</a:t>
              </a:r>
              <a:endParaRPr b="0" lang="en-US" sz="1800" spc="-1" strike="noStrike">
                <a:solidFill>
                  <a:srgbClr val="000000"/>
                </a:solidFill>
                <a:latin typeface="Arial"/>
              </a:endParaRPr>
            </a:p>
          </p:txBody>
        </p:sp>
        <p:sp>
          <p:nvSpPr>
            <p:cNvPr id="9532" name=""/>
            <p:cNvSpPr txBox="1"/>
            <p:nvPr/>
          </p:nvSpPr>
          <p:spPr>
            <a:xfrm>
              <a:off x="5237280" y="1662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12.5</a:t>
              </a:r>
              <a:endParaRPr b="0" lang="en-US" sz="1800" spc="-1" strike="noStrike">
                <a:solidFill>
                  <a:srgbClr val="000000"/>
                </a:solidFill>
                <a:latin typeface="Arial"/>
              </a:endParaRPr>
            </a:p>
          </p:txBody>
        </p:sp>
        <p:sp>
          <p:nvSpPr>
            <p:cNvPr id="9533" name=""/>
            <p:cNvSpPr txBox="1"/>
            <p:nvPr/>
          </p:nvSpPr>
          <p:spPr>
            <a:xfrm>
              <a:off x="5424480" y="465768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14.0</a:t>
              </a:r>
              <a:endParaRPr b="0" lang="en-US" sz="1800" spc="-1" strike="noStrike">
                <a:solidFill>
                  <a:srgbClr val="000000"/>
                </a:solidFill>
                <a:latin typeface="Arial"/>
              </a:endParaRPr>
            </a:p>
          </p:txBody>
        </p:sp>
        <p:sp>
          <p:nvSpPr>
            <p:cNvPr id="9534" name=""/>
            <p:cNvSpPr txBox="1"/>
            <p:nvPr/>
          </p:nvSpPr>
          <p:spPr>
            <a:xfrm>
              <a:off x="6672240" y="46530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4.0</a:t>
              </a:r>
              <a:endParaRPr b="0" lang="en-US" sz="1800" spc="-1" strike="noStrike">
                <a:solidFill>
                  <a:srgbClr val="000000"/>
                </a:solidFill>
                <a:latin typeface="Arial"/>
              </a:endParaRPr>
            </a:p>
          </p:txBody>
        </p:sp>
      </p:grpSp>
      <p:sp>
        <p:nvSpPr>
          <p:cNvPr id="9535" name=""/>
          <p:cNvSpPr txBox="1"/>
          <p:nvPr/>
        </p:nvSpPr>
        <p:spPr>
          <a:xfrm>
            <a:off x="3693960" y="54468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536" name=""/>
          <p:cNvSpPr txBox="1"/>
          <p:nvPr/>
        </p:nvSpPr>
        <p:spPr>
          <a:xfrm>
            <a:off x="2432160" y="422280"/>
            <a:ext cx="4551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tial (Surface) Datu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537" name=""/>
          <p:cNvSpPr/>
          <p:nvPr/>
        </p:nvSpPr>
        <p:spPr>
          <a:xfrm>
            <a:off x="4578480" y="4089240"/>
            <a:ext cx="0" cy="536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8" name=""/>
          <p:cNvSpPr/>
          <p:nvPr/>
        </p:nvSpPr>
        <p:spPr>
          <a:xfrm>
            <a:off x="6248520" y="3154320"/>
            <a:ext cx="0" cy="1471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9" name=""/>
          <p:cNvSpPr/>
          <p:nvPr/>
        </p:nvSpPr>
        <p:spPr>
          <a:xfrm>
            <a:off x="4781520" y="4422600"/>
            <a:ext cx="322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0" name=""/>
          <p:cNvSpPr/>
          <p:nvPr/>
        </p:nvSpPr>
        <p:spPr>
          <a:xfrm flipH="1">
            <a:off x="5713560" y="4422600"/>
            <a:ext cx="334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1" name=""/>
          <p:cNvSpPr/>
          <p:nvPr/>
        </p:nvSpPr>
        <p:spPr>
          <a:xfrm>
            <a:off x="4578480" y="4389480"/>
            <a:ext cx="203400" cy="65520"/>
          </a:xfrm>
          <a:custGeom>
            <a:avLst/>
            <a:gdLst/>
            <a:ahLst/>
            <a:rect l="0" t="0" r="r" b="b"/>
            <a:pathLst>
              <a:path w="565" h="182">
                <a:moveTo>
                  <a:pt x="565" y="0"/>
                </a:moveTo>
                <a:lnTo>
                  <a:pt x="565" y="182"/>
                </a:lnTo>
                <a:lnTo>
                  <a:pt x="0" y="95"/>
                </a:lnTo>
                <a:lnTo>
                  <a:pt x="565" y="0"/>
                </a:lnTo>
                <a:close/>
              </a:path>
            </a:pathLst>
          </a:custGeom>
          <a:solidFill>
            <a:srgbClr val="ffffff"/>
          </a:solidFill>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542" name=""/>
          <p:cNvSpPr/>
          <p:nvPr/>
        </p:nvSpPr>
        <p:spPr>
          <a:xfrm>
            <a:off x="6048360" y="4389480"/>
            <a:ext cx="200520" cy="65520"/>
          </a:xfrm>
          <a:custGeom>
            <a:avLst/>
            <a:gdLst/>
            <a:ahLst/>
            <a:rect l="0" t="0" r="r" b="b"/>
            <a:pathLst>
              <a:path w="557" h="182">
                <a:moveTo>
                  <a:pt x="0" y="0"/>
                </a:moveTo>
                <a:lnTo>
                  <a:pt x="0" y="182"/>
                </a:lnTo>
                <a:lnTo>
                  <a:pt x="557" y="95"/>
                </a:lnTo>
                <a:lnTo>
                  <a:pt x="0" y="0"/>
                </a:lnTo>
                <a:close/>
              </a:path>
            </a:pathLst>
          </a:custGeom>
          <a:solidFill>
            <a:srgbClr val="ffffff"/>
          </a:solidFill>
          <a:ln w="12600">
            <a:solidFill>
              <a:srgbClr val="f2fefd"/>
            </a:solidFill>
            <a:round/>
          </a:ln>
        </p:spPr>
        <p:txBody>
          <a:bodyPr lIns="96120" rIns="96120" tIns="14400" bIns="14400" anchor="t">
            <a:noAutofit/>
          </a:bodyPr>
          <a:p>
            <a:endParaRPr b="0" lang="en-US" sz="1800" spc="-1" strike="noStrike">
              <a:solidFill>
                <a:srgbClr val="000000"/>
              </a:solidFill>
              <a:latin typeface="Arial"/>
            </a:endParaRPr>
          </a:p>
        </p:txBody>
      </p:sp>
      <p:sp>
        <p:nvSpPr>
          <p:cNvPr id="9543" name=""/>
          <p:cNvSpPr/>
          <p:nvPr/>
        </p:nvSpPr>
        <p:spPr>
          <a:xfrm>
            <a:off x="4578480" y="3086280"/>
            <a:ext cx="0" cy="933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4" name=""/>
          <p:cNvSpPr/>
          <p:nvPr/>
        </p:nvSpPr>
        <p:spPr>
          <a:xfrm>
            <a:off x="8442360" y="3086280"/>
            <a:ext cx="0" cy="933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5" name=""/>
          <p:cNvSpPr/>
          <p:nvPr/>
        </p:nvSpPr>
        <p:spPr>
          <a:xfrm>
            <a:off x="7284960" y="3449520"/>
            <a:ext cx="65520" cy="68760"/>
          </a:xfrm>
          <a:custGeom>
            <a:avLst/>
            <a:gdLst/>
            <a:ahLst/>
            <a:rect l="0" t="0" r="r" b="b"/>
            <a:pathLst>
              <a:path fill="none" w="182" h="191">
                <a:moveTo>
                  <a:pt x="0" y="191"/>
                </a:moveTo>
                <a:lnTo>
                  <a:pt x="7" y="191"/>
                </a:lnTo>
                <a:lnTo>
                  <a:pt x="15" y="191"/>
                </a:lnTo>
                <a:lnTo>
                  <a:pt x="31" y="191"/>
                </a:lnTo>
                <a:lnTo>
                  <a:pt x="39" y="191"/>
                </a:lnTo>
                <a:lnTo>
                  <a:pt x="56" y="183"/>
                </a:lnTo>
                <a:lnTo>
                  <a:pt x="63" y="183"/>
                </a:lnTo>
                <a:lnTo>
                  <a:pt x="71" y="175"/>
                </a:lnTo>
                <a:lnTo>
                  <a:pt x="87" y="175"/>
                </a:lnTo>
                <a:lnTo>
                  <a:pt x="95" y="167"/>
                </a:lnTo>
                <a:lnTo>
                  <a:pt x="103" y="160"/>
                </a:lnTo>
                <a:lnTo>
                  <a:pt x="111" y="152"/>
                </a:lnTo>
                <a:lnTo>
                  <a:pt x="118" y="144"/>
                </a:lnTo>
                <a:lnTo>
                  <a:pt x="126" y="135"/>
                </a:lnTo>
                <a:lnTo>
                  <a:pt x="134" y="127"/>
                </a:lnTo>
                <a:lnTo>
                  <a:pt x="143" y="119"/>
                </a:lnTo>
                <a:lnTo>
                  <a:pt x="151" y="111"/>
                </a:lnTo>
                <a:lnTo>
                  <a:pt x="159" y="103"/>
                </a:lnTo>
                <a:lnTo>
                  <a:pt x="167" y="87"/>
                </a:lnTo>
                <a:lnTo>
                  <a:pt x="167" y="80"/>
                </a:lnTo>
                <a:lnTo>
                  <a:pt x="174" y="72"/>
                </a:lnTo>
                <a:lnTo>
                  <a:pt x="174" y="56"/>
                </a:lnTo>
                <a:lnTo>
                  <a:pt x="182" y="47"/>
                </a:lnTo>
                <a:lnTo>
                  <a:pt x="182" y="39"/>
                </a:lnTo>
                <a:lnTo>
                  <a:pt x="182" y="23"/>
                </a:lnTo>
                <a:lnTo>
                  <a:pt x="182" y="15"/>
                </a:lnTo>
                <a:lnTo>
                  <a:pt x="182" y="0"/>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546" name=""/>
          <p:cNvSpPr/>
          <p:nvPr/>
        </p:nvSpPr>
        <p:spPr>
          <a:xfrm>
            <a:off x="6964200" y="3449520"/>
            <a:ext cx="70200" cy="68760"/>
          </a:xfrm>
          <a:custGeom>
            <a:avLst/>
            <a:gdLst/>
            <a:ahLst/>
            <a:rect l="0" t="0" r="r" b="b"/>
            <a:pathLst>
              <a:path fill="none" w="195" h="191">
                <a:moveTo>
                  <a:pt x="0" y="0"/>
                </a:moveTo>
                <a:lnTo>
                  <a:pt x="0" y="15"/>
                </a:lnTo>
                <a:lnTo>
                  <a:pt x="0" y="23"/>
                </a:lnTo>
                <a:lnTo>
                  <a:pt x="8" y="39"/>
                </a:lnTo>
                <a:lnTo>
                  <a:pt x="8" y="47"/>
                </a:lnTo>
                <a:lnTo>
                  <a:pt x="8" y="56"/>
                </a:lnTo>
                <a:lnTo>
                  <a:pt x="16" y="72"/>
                </a:lnTo>
                <a:lnTo>
                  <a:pt x="16" y="80"/>
                </a:lnTo>
                <a:lnTo>
                  <a:pt x="24" y="87"/>
                </a:lnTo>
                <a:lnTo>
                  <a:pt x="32" y="103"/>
                </a:lnTo>
                <a:lnTo>
                  <a:pt x="32" y="111"/>
                </a:lnTo>
                <a:lnTo>
                  <a:pt x="40" y="119"/>
                </a:lnTo>
                <a:lnTo>
                  <a:pt x="48" y="127"/>
                </a:lnTo>
                <a:lnTo>
                  <a:pt x="56" y="135"/>
                </a:lnTo>
                <a:lnTo>
                  <a:pt x="64" y="144"/>
                </a:lnTo>
                <a:lnTo>
                  <a:pt x="72" y="152"/>
                </a:lnTo>
                <a:lnTo>
                  <a:pt x="80" y="160"/>
                </a:lnTo>
                <a:lnTo>
                  <a:pt x="98" y="167"/>
                </a:lnTo>
                <a:lnTo>
                  <a:pt x="106" y="175"/>
                </a:lnTo>
                <a:lnTo>
                  <a:pt x="114" y="175"/>
                </a:lnTo>
                <a:lnTo>
                  <a:pt x="130" y="183"/>
                </a:lnTo>
                <a:lnTo>
                  <a:pt x="138" y="183"/>
                </a:lnTo>
                <a:lnTo>
                  <a:pt x="146" y="191"/>
                </a:lnTo>
                <a:lnTo>
                  <a:pt x="162" y="191"/>
                </a:lnTo>
                <a:lnTo>
                  <a:pt x="170" y="191"/>
                </a:lnTo>
                <a:lnTo>
                  <a:pt x="186" y="191"/>
                </a:lnTo>
                <a:lnTo>
                  <a:pt x="195" y="191"/>
                </a:lnTo>
              </a:path>
            </a:pathLst>
          </a:custGeom>
          <a:ln w="12600">
            <a:solidFill>
              <a:srgbClr val="f2fefd"/>
            </a:solidFill>
            <a:round/>
          </a:ln>
        </p:spPr>
        <p:txBody>
          <a:bodyPr lIns="96120" rIns="96120" tIns="17640" bIns="17640" anchor="t">
            <a:noAutofit/>
          </a:bodyPr>
          <a:p>
            <a:endParaRPr b="0" lang="en-US" sz="1800" spc="-1" strike="noStrike">
              <a:solidFill>
                <a:srgbClr val="000000"/>
              </a:solidFill>
              <a:latin typeface="Arial"/>
            </a:endParaRPr>
          </a:p>
        </p:txBody>
      </p:sp>
      <p:sp>
        <p:nvSpPr>
          <p:cNvPr id="9547" name=""/>
          <p:cNvSpPr/>
          <p:nvPr/>
        </p:nvSpPr>
        <p:spPr>
          <a:xfrm flipV="1">
            <a:off x="6319800" y="365436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548" name=""/>
          <p:cNvSpPr/>
          <p:nvPr/>
        </p:nvSpPr>
        <p:spPr>
          <a:xfrm flipV="1">
            <a:off x="6319800" y="3443400"/>
            <a:ext cx="0" cy="139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9" name=""/>
          <p:cNvSpPr/>
          <p:nvPr/>
        </p:nvSpPr>
        <p:spPr>
          <a:xfrm flipV="1">
            <a:off x="6319800" y="3232080"/>
            <a:ext cx="0" cy="139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0" name=""/>
          <p:cNvSpPr/>
          <p:nvPr/>
        </p:nvSpPr>
        <p:spPr>
          <a:xfrm flipV="1">
            <a:off x="6319800" y="3121200"/>
            <a:ext cx="0" cy="39600"/>
          </a:xfrm>
          <a:prstGeom prst="line">
            <a:avLst/>
          </a:prstGeom>
          <a:ln w="12600">
            <a:solidFill>
              <a:srgbClr val="f2fefd"/>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9551" name=""/>
          <p:cNvSpPr/>
          <p:nvPr/>
        </p:nvSpPr>
        <p:spPr>
          <a:xfrm flipV="1">
            <a:off x="6819840" y="3654360"/>
            <a:ext cx="0" cy="74520"/>
          </a:xfrm>
          <a:prstGeom prst="line">
            <a:avLst/>
          </a:prstGeom>
          <a:ln w="12600">
            <a:solidFill>
              <a:srgbClr val="f2fefd"/>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9552" name=""/>
          <p:cNvSpPr/>
          <p:nvPr/>
        </p:nvSpPr>
        <p:spPr>
          <a:xfrm flipV="1">
            <a:off x="6819840" y="3443400"/>
            <a:ext cx="0" cy="139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3" name=""/>
          <p:cNvSpPr/>
          <p:nvPr/>
        </p:nvSpPr>
        <p:spPr>
          <a:xfrm flipV="1">
            <a:off x="6819840" y="3232080"/>
            <a:ext cx="0" cy="139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4" name=""/>
          <p:cNvSpPr/>
          <p:nvPr/>
        </p:nvSpPr>
        <p:spPr>
          <a:xfrm flipV="1">
            <a:off x="6819840" y="3106800"/>
            <a:ext cx="0" cy="54000"/>
          </a:xfrm>
          <a:prstGeom prst="line">
            <a:avLst/>
          </a:prstGeom>
          <a:ln w="12600">
            <a:solidFill>
              <a:srgbClr val="f2fefd"/>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9555" name=""/>
          <p:cNvSpPr/>
          <p:nvPr/>
        </p:nvSpPr>
        <p:spPr>
          <a:xfrm flipV="1">
            <a:off x="6570720" y="3774960"/>
            <a:ext cx="0" cy="457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6" name=""/>
          <p:cNvSpPr/>
          <p:nvPr/>
        </p:nvSpPr>
        <p:spPr>
          <a:xfrm flipV="1">
            <a:off x="6570720" y="3492360"/>
            <a:ext cx="0" cy="142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7" name=""/>
          <p:cNvSpPr/>
          <p:nvPr/>
        </p:nvSpPr>
        <p:spPr>
          <a:xfrm flipV="1">
            <a:off x="6570720" y="2894040"/>
            <a:ext cx="0" cy="457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8" name=""/>
          <p:cNvSpPr/>
          <p:nvPr/>
        </p:nvSpPr>
        <p:spPr>
          <a:xfrm flipV="1">
            <a:off x="7159680" y="3728880"/>
            <a:ext cx="0" cy="457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9" name=""/>
          <p:cNvSpPr/>
          <p:nvPr/>
        </p:nvSpPr>
        <p:spPr>
          <a:xfrm flipV="1">
            <a:off x="7159680" y="3449520"/>
            <a:ext cx="0" cy="139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0" name=""/>
          <p:cNvSpPr/>
          <p:nvPr/>
        </p:nvSpPr>
        <p:spPr>
          <a:xfrm flipV="1">
            <a:off x="7159680" y="2849400"/>
            <a:ext cx="0" cy="457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1" name=""/>
          <p:cNvSpPr/>
          <p:nvPr/>
        </p:nvSpPr>
        <p:spPr>
          <a:xfrm>
            <a:off x="4578480" y="4019400"/>
            <a:ext cx="3863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2" name=""/>
          <p:cNvSpPr/>
          <p:nvPr/>
        </p:nvSpPr>
        <p:spPr>
          <a:xfrm>
            <a:off x="6167520" y="3728880"/>
            <a:ext cx="156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3" name=""/>
          <p:cNvSpPr/>
          <p:nvPr/>
        </p:nvSpPr>
        <p:spPr>
          <a:xfrm>
            <a:off x="6392880" y="3728880"/>
            <a:ext cx="1411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4" name=""/>
          <p:cNvSpPr/>
          <p:nvPr/>
        </p:nvSpPr>
        <p:spPr>
          <a:xfrm>
            <a:off x="6605640" y="3728880"/>
            <a:ext cx="139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5" name=""/>
          <p:cNvSpPr/>
          <p:nvPr/>
        </p:nvSpPr>
        <p:spPr>
          <a:xfrm>
            <a:off x="6816600" y="3728880"/>
            <a:ext cx="1540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6" name=""/>
          <p:cNvSpPr/>
          <p:nvPr/>
        </p:nvSpPr>
        <p:spPr>
          <a:xfrm flipV="1">
            <a:off x="6167520" y="3908520"/>
            <a:ext cx="0" cy="110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7" name=""/>
          <p:cNvSpPr/>
          <p:nvPr/>
        </p:nvSpPr>
        <p:spPr>
          <a:xfrm flipV="1">
            <a:off x="6167520" y="372888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8" name=""/>
          <p:cNvSpPr/>
          <p:nvPr/>
        </p:nvSpPr>
        <p:spPr>
          <a:xfrm flipV="1">
            <a:off x="6970680" y="3908520"/>
            <a:ext cx="0" cy="110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9" name=""/>
          <p:cNvSpPr/>
          <p:nvPr/>
        </p:nvSpPr>
        <p:spPr>
          <a:xfrm flipV="1">
            <a:off x="6970680" y="372888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0" name=""/>
          <p:cNvSpPr/>
          <p:nvPr/>
        </p:nvSpPr>
        <p:spPr>
          <a:xfrm flipH="1">
            <a:off x="7034040" y="3517920"/>
            <a:ext cx="2509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1" name=""/>
          <p:cNvSpPr/>
          <p:nvPr/>
        </p:nvSpPr>
        <p:spPr>
          <a:xfrm>
            <a:off x="4424400" y="3086280"/>
            <a:ext cx="18241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2" name=""/>
          <p:cNvSpPr/>
          <p:nvPr/>
        </p:nvSpPr>
        <p:spPr>
          <a:xfrm>
            <a:off x="4424400" y="2197080"/>
            <a:ext cx="378360" cy="889200"/>
          </a:xfrm>
          <a:custGeom>
            <a:avLst/>
            <a:gdLst/>
            <a:ahLst/>
            <a:rect l="0" t="0" r="r" b="b"/>
            <a:pathLst>
              <a:path fill="none" w="1051" h="2470">
                <a:moveTo>
                  <a:pt x="0" y="2470"/>
                </a:moveTo>
                <a:lnTo>
                  <a:pt x="0" y="0"/>
                </a:lnTo>
                <a:lnTo>
                  <a:pt x="565" y="71"/>
                </a:lnTo>
                <a:lnTo>
                  <a:pt x="1051" y="47"/>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573" name=""/>
          <p:cNvSpPr/>
          <p:nvPr/>
        </p:nvSpPr>
        <p:spPr>
          <a:xfrm flipV="1">
            <a:off x="6248520" y="2103480"/>
            <a:ext cx="0" cy="982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4" name=""/>
          <p:cNvSpPr/>
          <p:nvPr/>
        </p:nvSpPr>
        <p:spPr>
          <a:xfrm>
            <a:off x="4578480" y="3086280"/>
            <a:ext cx="160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5" name=""/>
          <p:cNvSpPr/>
          <p:nvPr/>
        </p:nvSpPr>
        <p:spPr>
          <a:xfrm>
            <a:off x="7350120" y="3085920"/>
            <a:ext cx="1091880" cy="0"/>
          </a:xfrm>
          <a:custGeom>
            <a:avLst/>
            <a:gdLst/>
            <a:ahLst/>
            <a:rect l="0" t="0" r="r" b="b"/>
            <a:pathLst>
              <a:path fill="none" w="3033" h="0">
                <a:moveTo>
                  <a:pt x="3033" y="0"/>
                </a:moveTo>
                <a:lnTo>
                  <a:pt x="0" y="0"/>
                </a:lnTo>
                <a:lnTo>
                  <a:pt x="3033"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576" name=""/>
          <p:cNvSpPr/>
          <p:nvPr/>
        </p:nvSpPr>
        <p:spPr>
          <a:xfrm flipV="1">
            <a:off x="6964200" y="3086280"/>
            <a:ext cx="0" cy="363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7" name=""/>
          <p:cNvSpPr/>
          <p:nvPr/>
        </p:nvSpPr>
        <p:spPr>
          <a:xfrm>
            <a:off x="7350120" y="3086280"/>
            <a:ext cx="0" cy="363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8" name=""/>
          <p:cNvSpPr/>
          <p:nvPr/>
        </p:nvSpPr>
        <p:spPr>
          <a:xfrm flipV="1">
            <a:off x="1843200" y="3552840"/>
            <a:ext cx="0" cy="171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9" name=""/>
          <p:cNvSpPr/>
          <p:nvPr/>
        </p:nvSpPr>
        <p:spPr>
          <a:xfrm flipV="1">
            <a:off x="1843200" y="3340080"/>
            <a:ext cx="0" cy="1414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0" name=""/>
          <p:cNvSpPr/>
          <p:nvPr/>
        </p:nvSpPr>
        <p:spPr>
          <a:xfrm flipV="1">
            <a:off x="1843200" y="3097080"/>
            <a:ext cx="0" cy="171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1" name=""/>
          <p:cNvSpPr/>
          <p:nvPr/>
        </p:nvSpPr>
        <p:spPr>
          <a:xfrm flipV="1">
            <a:off x="2340000" y="3552840"/>
            <a:ext cx="0" cy="171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2" name=""/>
          <p:cNvSpPr/>
          <p:nvPr/>
        </p:nvSpPr>
        <p:spPr>
          <a:xfrm flipV="1">
            <a:off x="2340000" y="3340080"/>
            <a:ext cx="0" cy="1414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3" name=""/>
          <p:cNvSpPr/>
          <p:nvPr/>
        </p:nvSpPr>
        <p:spPr>
          <a:xfrm flipV="1">
            <a:off x="2340000" y="3097080"/>
            <a:ext cx="0" cy="171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4" name=""/>
          <p:cNvSpPr/>
          <p:nvPr/>
        </p:nvSpPr>
        <p:spPr>
          <a:xfrm>
            <a:off x="2835360" y="3081240"/>
            <a:ext cx="0" cy="9334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5" name=""/>
          <p:cNvSpPr/>
          <p:nvPr/>
        </p:nvSpPr>
        <p:spPr>
          <a:xfrm>
            <a:off x="1349280" y="3081240"/>
            <a:ext cx="0" cy="9334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6" name=""/>
          <p:cNvSpPr/>
          <p:nvPr/>
        </p:nvSpPr>
        <p:spPr>
          <a:xfrm flipV="1">
            <a:off x="2092320" y="3768840"/>
            <a:ext cx="0" cy="457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7" name=""/>
          <p:cNvSpPr/>
          <p:nvPr/>
        </p:nvSpPr>
        <p:spPr>
          <a:xfrm flipV="1">
            <a:off x="2092320" y="3486240"/>
            <a:ext cx="0" cy="1429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8" name=""/>
          <p:cNvSpPr/>
          <p:nvPr/>
        </p:nvSpPr>
        <p:spPr>
          <a:xfrm flipV="1">
            <a:off x="2092320" y="2889360"/>
            <a:ext cx="0" cy="457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9" name=""/>
          <p:cNvSpPr/>
          <p:nvPr/>
        </p:nvSpPr>
        <p:spPr>
          <a:xfrm flipH="1">
            <a:off x="1349280" y="4014720"/>
            <a:ext cx="14860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0" name=""/>
          <p:cNvSpPr/>
          <p:nvPr/>
        </p:nvSpPr>
        <p:spPr>
          <a:xfrm>
            <a:off x="1349280" y="3511440"/>
            <a:ext cx="76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1" name=""/>
          <p:cNvSpPr/>
          <p:nvPr/>
        </p:nvSpPr>
        <p:spPr>
          <a:xfrm>
            <a:off x="1494000" y="3511440"/>
            <a:ext cx="1411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2" name=""/>
          <p:cNvSpPr/>
          <p:nvPr/>
        </p:nvSpPr>
        <p:spPr>
          <a:xfrm>
            <a:off x="1706400" y="3511440"/>
            <a:ext cx="1400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3" name=""/>
          <p:cNvSpPr/>
          <p:nvPr/>
        </p:nvSpPr>
        <p:spPr>
          <a:xfrm>
            <a:off x="1917720" y="3511440"/>
            <a:ext cx="139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4" name=""/>
          <p:cNvSpPr/>
          <p:nvPr/>
        </p:nvSpPr>
        <p:spPr>
          <a:xfrm>
            <a:off x="2125800" y="3511440"/>
            <a:ext cx="139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5" name=""/>
          <p:cNvSpPr/>
          <p:nvPr/>
        </p:nvSpPr>
        <p:spPr>
          <a:xfrm>
            <a:off x="2336760" y="3511440"/>
            <a:ext cx="141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6" name=""/>
          <p:cNvSpPr/>
          <p:nvPr/>
        </p:nvSpPr>
        <p:spPr>
          <a:xfrm>
            <a:off x="2549520" y="3511440"/>
            <a:ext cx="139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7" name=""/>
          <p:cNvSpPr/>
          <p:nvPr/>
        </p:nvSpPr>
        <p:spPr>
          <a:xfrm>
            <a:off x="2757600" y="3511440"/>
            <a:ext cx="777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8" name=""/>
          <p:cNvSpPr/>
          <p:nvPr/>
        </p:nvSpPr>
        <p:spPr>
          <a:xfrm>
            <a:off x="1689120" y="3724200"/>
            <a:ext cx="157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9" name=""/>
          <p:cNvSpPr/>
          <p:nvPr/>
        </p:nvSpPr>
        <p:spPr>
          <a:xfrm>
            <a:off x="1917720" y="3724200"/>
            <a:ext cx="139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0" name=""/>
          <p:cNvSpPr/>
          <p:nvPr/>
        </p:nvSpPr>
        <p:spPr>
          <a:xfrm>
            <a:off x="2125800" y="3724200"/>
            <a:ext cx="139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1" name=""/>
          <p:cNvSpPr/>
          <p:nvPr/>
        </p:nvSpPr>
        <p:spPr>
          <a:xfrm>
            <a:off x="2336760" y="3724200"/>
            <a:ext cx="157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2" name=""/>
          <p:cNvSpPr/>
          <p:nvPr/>
        </p:nvSpPr>
        <p:spPr>
          <a:xfrm flipV="1">
            <a:off x="1689120" y="3903840"/>
            <a:ext cx="0" cy="110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3" name=""/>
          <p:cNvSpPr/>
          <p:nvPr/>
        </p:nvSpPr>
        <p:spPr>
          <a:xfrm flipV="1">
            <a:off x="1689120" y="372420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4" name=""/>
          <p:cNvSpPr/>
          <p:nvPr/>
        </p:nvSpPr>
        <p:spPr>
          <a:xfrm flipV="1">
            <a:off x="2494080" y="3903840"/>
            <a:ext cx="0" cy="1108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5" name=""/>
          <p:cNvSpPr/>
          <p:nvPr/>
        </p:nvSpPr>
        <p:spPr>
          <a:xfrm flipV="1">
            <a:off x="2494080" y="3724200"/>
            <a:ext cx="0" cy="1112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6" name=""/>
          <p:cNvSpPr/>
          <p:nvPr/>
        </p:nvSpPr>
        <p:spPr>
          <a:xfrm>
            <a:off x="1185840" y="3081240"/>
            <a:ext cx="18255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7" name=""/>
          <p:cNvSpPr/>
          <p:nvPr/>
        </p:nvSpPr>
        <p:spPr>
          <a:xfrm>
            <a:off x="1185840" y="2192400"/>
            <a:ext cx="360720" cy="889200"/>
          </a:xfrm>
          <a:custGeom>
            <a:avLst/>
            <a:gdLst/>
            <a:ahLst/>
            <a:rect l="0" t="0" r="r" b="b"/>
            <a:pathLst>
              <a:path fill="none" w="1002" h="2470">
                <a:moveTo>
                  <a:pt x="0" y="2470"/>
                </a:moveTo>
                <a:lnTo>
                  <a:pt x="0" y="0"/>
                </a:lnTo>
                <a:lnTo>
                  <a:pt x="580" y="111"/>
                </a:lnTo>
                <a:lnTo>
                  <a:pt x="1002" y="87"/>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608" name=""/>
          <p:cNvSpPr/>
          <p:nvPr/>
        </p:nvSpPr>
        <p:spPr>
          <a:xfrm flipV="1">
            <a:off x="3011400" y="2098800"/>
            <a:ext cx="0" cy="982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9" name=""/>
          <p:cNvSpPr/>
          <p:nvPr/>
        </p:nvSpPr>
        <p:spPr>
          <a:xfrm>
            <a:off x="2706840" y="3081240"/>
            <a:ext cx="128520" cy="0"/>
          </a:xfrm>
          <a:custGeom>
            <a:avLst/>
            <a:gdLst/>
            <a:ahLst/>
            <a:rect l="0" t="0" r="r" b="b"/>
            <a:pathLst>
              <a:path fill="none" w="357" h="0">
                <a:moveTo>
                  <a:pt x="357" y="0"/>
                </a:moveTo>
                <a:lnTo>
                  <a:pt x="0" y="0"/>
                </a:lnTo>
                <a:lnTo>
                  <a:pt x="357"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9610" name=""/>
          <p:cNvSpPr/>
          <p:nvPr/>
        </p:nvSpPr>
        <p:spPr>
          <a:xfrm>
            <a:off x="4594320" y="3085920"/>
            <a:ext cx="2370600" cy="55800"/>
          </a:xfrm>
          <a:custGeom>
            <a:avLst/>
            <a:gdLst/>
            <a:ahLst/>
            <a:rect l="0" t="0" r="r" b="b"/>
            <a:pathLst>
              <a:path fill="none" w="6585" h="155">
                <a:moveTo>
                  <a:pt x="0" y="0"/>
                </a:moveTo>
                <a:lnTo>
                  <a:pt x="92" y="0"/>
                </a:lnTo>
                <a:lnTo>
                  <a:pt x="185" y="30"/>
                </a:lnTo>
                <a:lnTo>
                  <a:pt x="308" y="61"/>
                </a:lnTo>
                <a:lnTo>
                  <a:pt x="401" y="93"/>
                </a:lnTo>
                <a:lnTo>
                  <a:pt x="555" y="124"/>
                </a:lnTo>
                <a:lnTo>
                  <a:pt x="736" y="124"/>
                </a:lnTo>
                <a:lnTo>
                  <a:pt x="829" y="155"/>
                </a:lnTo>
                <a:lnTo>
                  <a:pt x="921" y="124"/>
                </a:lnTo>
                <a:lnTo>
                  <a:pt x="1014" y="93"/>
                </a:lnTo>
                <a:lnTo>
                  <a:pt x="1106" y="93"/>
                </a:lnTo>
                <a:lnTo>
                  <a:pt x="1199" y="124"/>
                </a:lnTo>
                <a:lnTo>
                  <a:pt x="1292" y="124"/>
                </a:lnTo>
                <a:lnTo>
                  <a:pt x="1384" y="124"/>
                </a:lnTo>
                <a:lnTo>
                  <a:pt x="1477" y="124"/>
                </a:lnTo>
                <a:lnTo>
                  <a:pt x="1569" y="124"/>
                </a:lnTo>
                <a:lnTo>
                  <a:pt x="1663" y="124"/>
                </a:lnTo>
                <a:lnTo>
                  <a:pt x="1756" y="93"/>
                </a:lnTo>
                <a:lnTo>
                  <a:pt x="1848" y="61"/>
                </a:lnTo>
                <a:lnTo>
                  <a:pt x="2060" y="30"/>
                </a:lnTo>
                <a:lnTo>
                  <a:pt x="2183" y="30"/>
                </a:lnTo>
                <a:lnTo>
                  <a:pt x="2307" y="30"/>
                </a:lnTo>
                <a:lnTo>
                  <a:pt x="2399" y="30"/>
                </a:lnTo>
                <a:lnTo>
                  <a:pt x="2492" y="61"/>
                </a:lnTo>
                <a:lnTo>
                  <a:pt x="2585" y="93"/>
                </a:lnTo>
                <a:lnTo>
                  <a:pt x="2677" y="93"/>
                </a:lnTo>
                <a:lnTo>
                  <a:pt x="2770" y="155"/>
                </a:lnTo>
                <a:lnTo>
                  <a:pt x="2924" y="155"/>
                </a:lnTo>
                <a:lnTo>
                  <a:pt x="3078" y="155"/>
                </a:lnTo>
                <a:lnTo>
                  <a:pt x="3171" y="155"/>
                </a:lnTo>
                <a:lnTo>
                  <a:pt x="3290" y="155"/>
                </a:lnTo>
                <a:lnTo>
                  <a:pt x="3383" y="155"/>
                </a:lnTo>
                <a:lnTo>
                  <a:pt x="3506" y="155"/>
                </a:lnTo>
                <a:lnTo>
                  <a:pt x="3599" y="124"/>
                </a:lnTo>
                <a:lnTo>
                  <a:pt x="3691" y="93"/>
                </a:lnTo>
                <a:lnTo>
                  <a:pt x="3784" y="61"/>
                </a:lnTo>
                <a:lnTo>
                  <a:pt x="3877" y="61"/>
                </a:lnTo>
                <a:lnTo>
                  <a:pt x="3969" y="30"/>
                </a:lnTo>
                <a:lnTo>
                  <a:pt x="4062" y="30"/>
                </a:lnTo>
                <a:lnTo>
                  <a:pt x="4154" y="61"/>
                </a:lnTo>
                <a:lnTo>
                  <a:pt x="4247" y="93"/>
                </a:lnTo>
                <a:lnTo>
                  <a:pt x="4340" y="93"/>
                </a:lnTo>
                <a:lnTo>
                  <a:pt x="4432" y="93"/>
                </a:lnTo>
                <a:lnTo>
                  <a:pt x="4613" y="93"/>
                </a:lnTo>
                <a:lnTo>
                  <a:pt x="4706" y="93"/>
                </a:lnTo>
                <a:lnTo>
                  <a:pt x="4798" y="93"/>
                </a:lnTo>
                <a:lnTo>
                  <a:pt x="4891" y="61"/>
                </a:lnTo>
                <a:lnTo>
                  <a:pt x="4984" y="61"/>
                </a:lnTo>
                <a:lnTo>
                  <a:pt x="5108" y="61"/>
                </a:lnTo>
                <a:lnTo>
                  <a:pt x="5201" y="61"/>
                </a:lnTo>
                <a:lnTo>
                  <a:pt x="5293" y="30"/>
                </a:lnTo>
                <a:lnTo>
                  <a:pt x="5386" y="30"/>
                </a:lnTo>
                <a:lnTo>
                  <a:pt x="5478" y="30"/>
                </a:lnTo>
                <a:lnTo>
                  <a:pt x="5571" y="30"/>
                </a:lnTo>
                <a:lnTo>
                  <a:pt x="5664" y="61"/>
                </a:lnTo>
                <a:lnTo>
                  <a:pt x="5756" y="61"/>
                </a:lnTo>
                <a:lnTo>
                  <a:pt x="5849" y="61"/>
                </a:lnTo>
                <a:lnTo>
                  <a:pt x="6030" y="61"/>
                </a:lnTo>
                <a:lnTo>
                  <a:pt x="6122" y="61"/>
                </a:lnTo>
                <a:lnTo>
                  <a:pt x="6215" y="61"/>
                </a:lnTo>
                <a:lnTo>
                  <a:pt x="6307" y="61"/>
                </a:lnTo>
                <a:lnTo>
                  <a:pt x="6400" y="61"/>
                </a:lnTo>
                <a:lnTo>
                  <a:pt x="6493" y="30"/>
                </a:lnTo>
                <a:lnTo>
                  <a:pt x="6585" y="0"/>
                </a:lnTo>
              </a:path>
            </a:pathLst>
          </a:custGeom>
          <a:ln w="12600">
            <a:solidFill>
              <a:srgbClr val="ffffff"/>
            </a:solidFill>
            <a:round/>
          </a:ln>
        </p:spPr>
        <p:txBody>
          <a:bodyPr lIns="96120" rIns="96120" tIns="4680" bIns="4680" anchor="t">
            <a:noAutofit/>
          </a:bodyPr>
          <a:p>
            <a:endParaRPr b="0" lang="en-US" sz="1800" spc="-1" strike="noStrike">
              <a:solidFill>
                <a:srgbClr val="000000"/>
              </a:solidFill>
              <a:latin typeface="Arial"/>
            </a:endParaRPr>
          </a:p>
        </p:txBody>
      </p:sp>
      <p:sp>
        <p:nvSpPr>
          <p:cNvPr id="9611" name=""/>
          <p:cNvSpPr/>
          <p:nvPr/>
        </p:nvSpPr>
        <p:spPr>
          <a:xfrm>
            <a:off x="1536840" y="2100240"/>
            <a:ext cx="1473480" cy="143280"/>
          </a:xfrm>
          <a:custGeom>
            <a:avLst/>
            <a:gdLst/>
            <a:ahLst/>
            <a:rect l="0" t="0" r="r" b="b"/>
            <a:pathLst>
              <a:path fill="none" w="4093" h="398">
                <a:moveTo>
                  <a:pt x="0" y="341"/>
                </a:moveTo>
                <a:lnTo>
                  <a:pt x="92" y="310"/>
                </a:lnTo>
                <a:lnTo>
                  <a:pt x="246" y="310"/>
                </a:lnTo>
                <a:lnTo>
                  <a:pt x="401" y="310"/>
                </a:lnTo>
                <a:lnTo>
                  <a:pt x="524" y="310"/>
                </a:lnTo>
                <a:lnTo>
                  <a:pt x="617" y="278"/>
                </a:lnTo>
                <a:lnTo>
                  <a:pt x="709" y="247"/>
                </a:lnTo>
                <a:lnTo>
                  <a:pt x="802" y="186"/>
                </a:lnTo>
                <a:lnTo>
                  <a:pt x="895" y="124"/>
                </a:lnTo>
                <a:lnTo>
                  <a:pt x="1049" y="124"/>
                </a:lnTo>
                <a:lnTo>
                  <a:pt x="1142" y="124"/>
                </a:lnTo>
                <a:lnTo>
                  <a:pt x="1261" y="155"/>
                </a:lnTo>
                <a:lnTo>
                  <a:pt x="1384" y="186"/>
                </a:lnTo>
                <a:lnTo>
                  <a:pt x="1538" y="186"/>
                </a:lnTo>
                <a:lnTo>
                  <a:pt x="1662" y="217"/>
                </a:lnTo>
                <a:lnTo>
                  <a:pt x="1755" y="217"/>
                </a:lnTo>
                <a:lnTo>
                  <a:pt x="1847" y="217"/>
                </a:lnTo>
                <a:lnTo>
                  <a:pt x="2002" y="217"/>
                </a:lnTo>
                <a:lnTo>
                  <a:pt x="2126" y="217"/>
                </a:lnTo>
                <a:lnTo>
                  <a:pt x="2280" y="217"/>
                </a:lnTo>
                <a:lnTo>
                  <a:pt x="2492" y="247"/>
                </a:lnTo>
                <a:lnTo>
                  <a:pt x="2646" y="341"/>
                </a:lnTo>
                <a:lnTo>
                  <a:pt x="2801" y="398"/>
                </a:lnTo>
                <a:lnTo>
                  <a:pt x="3017" y="310"/>
                </a:lnTo>
                <a:lnTo>
                  <a:pt x="3109" y="278"/>
                </a:lnTo>
                <a:lnTo>
                  <a:pt x="3202" y="247"/>
                </a:lnTo>
                <a:lnTo>
                  <a:pt x="3356" y="186"/>
                </a:lnTo>
                <a:lnTo>
                  <a:pt x="3480" y="155"/>
                </a:lnTo>
                <a:lnTo>
                  <a:pt x="3572" y="124"/>
                </a:lnTo>
                <a:lnTo>
                  <a:pt x="3665" y="92"/>
                </a:lnTo>
                <a:lnTo>
                  <a:pt x="3758" y="61"/>
                </a:lnTo>
                <a:lnTo>
                  <a:pt x="3908" y="61"/>
                </a:lnTo>
                <a:lnTo>
                  <a:pt x="4000" y="61"/>
                </a:lnTo>
                <a:lnTo>
                  <a:pt x="409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12" name=""/>
          <p:cNvSpPr/>
          <p:nvPr/>
        </p:nvSpPr>
        <p:spPr>
          <a:xfrm>
            <a:off x="4805280" y="2100240"/>
            <a:ext cx="1449720" cy="133560"/>
          </a:xfrm>
          <a:custGeom>
            <a:avLst/>
            <a:gdLst/>
            <a:ahLst/>
            <a:rect l="0" t="0" r="r" b="b"/>
            <a:pathLst>
              <a:path fill="none" w="4027" h="371">
                <a:moveTo>
                  <a:pt x="0" y="309"/>
                </a:moveTo>
                <a:lnTo>
                  <a:pt x="119" y="309"/>
                </a:lnTo>
                <a:lnTo>
                  <a:pt x="211" y="309"/>
                </a:lnTo>
                <a:lnTo>
                  <a:pt x="366" y="247"/>
                </a:lnTo>
                <a:lnTo>
                  <a:pt x="458" y="186"/>
                </a:lnTo>
                <a:lnTo>
                  <a:pt x="520" y="92"/>
                </a:lnTo>
                <a:lnTo>
                  <a:pt x="612" y="92"/>
                </a:lnTo>
                <a:lnTo>
                  <a:pt x="736" y="92"/>
                </a:lnTo>
                <a:lnTo>
                  <a:pt x="859" y="123"/>
                </a:lnTo>
                <a:lnTo>
                  <a:pt x="983" y="123"/>
                </a:lnTo>
                <a:lnTo>
                  <a:pt x="1075" y="154"/>
                </a:lnTo>
                <a:lnTo>
                  <a:pt x="1199" y="154"/>
                </a:lnTo>
                <a:lnTo>
                  <a:pt x="1292" y="154"/>
                </a:lnTo>
                <a:lnTo>
                  <a:pt x="1411" y="123"/>
                </a:lnTo>
                <a:lnTo>
                  <a:pt x="1627" y="123"/>
                </a:lnTo>
                <a:lnTo>
                  <a:pt x="1719" y="154"/>
                </a:lnTo>
                <a:lnTo>
                  <a:pt x="1812" y="186"/>
                </a:lnTo>
                <a:lnTo>
                  <a:pt x="1997" y="217"/>
                </a:lnTo>
                <a:lnTo>
                  <a:pt x="2091" y="247"/>
                </a:lnTo>
                <a:lnTo>
                  <a:pt x="2183" y="247"/>
                </a:lnTo>
                <a:lnTo>
                  <a:pt x="2276" y="309"/>
                </a:lnTo>
                <a:lnTo>
                  <a:pt x="2430" y="340"/>
                </a:lnTo>
                <a:lnTo>
                  <a:pt x="2554" y="340"/>
                </a:lnTo>
                <a:lnTo>
                  <a:pt x="2704" y="340"/>
                </a:lnTo>
                <a:lnTo>
                  <a:pt x="2796" y="371"/>
                </a:lnTo>
                <a:lnTo>
                  <a:pt x="2981" y="371"/>
                </a:lnTo>
                <a:lnTo>
                  <a:pt x="3074" y="309"/>
                </a:lnTo>
                <a:lnTo>
                  <a:pt x="3198" y="309"/>
                </a:lnTo>
                <a:lnTo>
                  <a:pt x="3290" y="217"/>
                </a:lnTo>
                <a:lnTo>
                  <a:pt x="3444" y="217"/>
                </a:lnTo>
                <a:lnTo>
                  <a:pt x="3537" y="186"/>
                </a:lnTo>
                <a:lnTo>
                  <a:pt x="3630" y="154"/>
                </a:lnTo>
                <a:lnTo>
                  <a:pt x="3722" y="92"/>
                </a:lnTo>
                <a:lnTo>
                  <a:pt x="3815" y="61"/>
                </a:lnTo>
                <a:lnTo>
                  <a:pt x="3908" y="30"/>
                </a:lnTo>
                <a:lnTo>
                  <a:pt x="402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13" name=""/>
          <p:cNvSpPr/>
          <p:nvPr/>
        </p:nvSpPr>
        <p:spPr>
          <a:xfrm>
            <a:off x="1349280" y="3083040"/>
            <a:ext cx="1479960" cy="38520"/>
          </a:xfrm>
          <a:custGeom>
            <a:avLst/>
            <a:gdLst/>
            <a:ahLst/>
            <a:rect l="0" t="0" r="r" b="b"/>
            <a:pathLst>
              <a:path fill="none" w="4111" h="107">
                <a:moveTo>
                  <a:pt x="0" y="0"/>
                </a:moveTo>
                <a:lnTo>
                  <a:pt x="26" y="17"/>
                </a:lnTo>
                <a:lnTo>
                  <a:pt x="52" y="26"/>
                </a:lnTo>
                <a:lnTo>
                  <a:pt x="105" y="36"/>
                </a:lnTo>
                <a:lnTo>
                  <a:pt x="141" y="45"/>
                </a:lnTo>
                <a:lnTo>
                  <a:pt x="167" y="53"/>
                </a:lnTo>
                <a:lnTo>
                  <a:pt x="220" y="53"/>
                </a:lnTo>
                <a:lnTo>
                  <a:pt x="246" y="53"/>
                </a:lnTo>
                <a:lnTo>
                  <a:pt x="291" y="53"/>
                </a:lnTo>
                <a:lnTo>
                  <a:pt x="317" y="53"/>
                </a:lnTo>
                <a:lnTo>
                  <a:pt x="343" y="71"/>
                </a:lnTo>
                <a:lnTo>
                  <a:pt x="370" y="90"/>
                </a:lnTo>
                <a:lnTo>
                  <a:pt x="396" y="90"/>
                </a:lnTo>
                <a:lnTo>
                  <a:pt x="423" y="107"/>
                </a:lnTo>
                <a:lnTo>
                  <a:pt x="449" y="107"/>
                </a:lnTo>
                <a:lnTo>
                  <a:pt x="476" y="107"/>
                </a:lnTo>
                <a:lnTo>
                  <a:pt x="511" y="107"/>
                </a:lnTo>
                <a:lnTo>
                  <a:pt x="546" y="107"/>
                </a:lnTo>
                <a:lnTo>
                  <a:pt x="590" y="107"/>
                </a:lnTo>
                <a:lnTo>
                  <a:pt x="617" y="107"/>
                </a:lnTo>
                <a:lnTo>
                  <a:pt x="652" y="90"/>
                </a:lnTo>
                <a:lnTo>
                  <a:pt x="679" y="90"/>
                </a:lnTo>
                <a:lnTo>
                  <a:pt x="723" y="90"/>
                </a:lnTo>
                <a:lnTo>
                  <a:pt x="767" y="81"/>
                </a:lnTo>
                <a:lnTo>
                  <a:pt x="811" y="71"/>
                </a:lnTo>
                <a:lnTo>
                  <a:pt x="837" y="71"/>
                </a:lnTo>
                <a:lnTo>
                  <a:pt x="864" y="71"/>
                </a:lnTo>
                <a:lnTo>
                  <a:pt x="890" y="71"/>
                </a:lnTo>
                <a:lnTo>
                  <a:pt x="917" y="71"/>
                </a:lnTo>
                <a:lnTo>
                  <a:pt x="943" y="71"/>
                </a:lnTo>
                <a:lnTo>
                  <a:pt x="970" y="71"/>
                </a:lnTo>
                <a:lnTo>
                  <a:pt x="1023" y="71"/>
                </a:lnTo>
                <a:lnTo>
                  <a:pt x="1050" y="81"/>
                </a:lnTo>
                <a:lnTo>
                  <a:pt x="1094" y="81"/>
                </a:lnTo>
                <a:lnTo>
                  <a:pt x="1121" y="62"/>
                </a:lnTo>
                <a:lnTo>
                  <a:pt x="1147" y="53"/>
                </a:lnTo>
                <a:lnTo>
                  <a:pt x="1173" y="45"/>
                </a:lnTo>
                <a:lnTo>
                  <a:pt x="1209" y="36"/>
                </a:lnTo>
                <a:lnTo>
                  <a:pt x="1253" y="26"/>
                </a:lnTo>
                <a:lnTo>
                  <a:pt x="1279" y="17"/>
                </a:lnTo>
                <a:lnTo>
                  <a:pt x="1306" y="17"/>
                </a:lnTo>
                <a:lnTo>
                  <a:pt x="1350" y="17"/>
                </a:lnTo>
                <a:lnTo>
                  <a:pt x="1394" y="17"/>
                </a:lnTo>
                <a:lnTo>
                  <a:pt x="1420" y="17"/>
                </a:lnTo>
                <a:lnTo>
                  <a:pt x="1447" y="17"/>
                </a:lnTo>
                <a:lnTo>
                  <a:pt x="1491" y="17"/>
                </a:lnTo>
                <a:lnTo>
                  <a:pt x="1526" y="26"/>
                </a:lnTo>
                <a:lnTo>
                  <a:pt x="1562" y="45"/>
                </a:lnTo>
                <a:lnTo>
                  <a:pt x="1570" y="71"/>
                </a:lnTo>
                <a:lnTo>
                  <a:pt x="1614" y="81"/>
                </a:lnTo>
                <a:lnTo>
                  <a:pt x="1676" y="81"/>
                </a:lnTo>
                <a:lnTo>
                  <a:pt x="1703" y="99"/>
                </a:lnTo>
                <a:lnTo>
                  <a:pt x="1738" y="99"/>
                </a:lnTo>
                <a:lnTo>
                  <a:pt x="1764" y="99"/>
                </a:lnTo>
                <a:lnTo>
                  <a:pt x="1800" y="81"/>
                </a:lnTo>
                <a:lnTo>
                  <a:pt x="1835" y="71"/>
                </a:lnTo>
                <a:lnTo>
                  <a:pt x="1870" y="45"/>
                </a:lnTo>
                <a:lnTo>
                  <a:pt x="1932" y="36"/>
                </a:lnTo>
                <a:lnTo>
                  <a:pt x="1985" y="36"/>
                </a:lnTo>
                <a:lnTo>
                  <a:pt x="2020" y="36"/>
                </a:lnTo>
                <a:lnTo>
                  <a:pt x="2055" y="36"/>
                </a:lnTo>
                <a:lnTo>
                  <a:pt x="2161" y="36"/>
                </a:lnTo>
                <a:lnTo>
                  <a:pt x="2205" y="36"/>
                </a:lnTo>
                <a:lnTo>
                  <a:pt x="2241" y="36"/>
                </a:lnTo>
                <a:lnTo>
                  <a:pt x="2267" y="36"/>
                </a:lnTo>
                <a:lnTo>
                  <a:pt x="2294" y="36"/>
                </a:lnTo>
                <a:lnTo>
                  <a:pt x="2320" y="36"/>
                </a:lnTo>
                <a:lnTo>
                  <a:pt x="2346" y="36"/>
                </a:lnTo>
                <a:lnTo>
                  <a:pt x="2391" y="36"/>
                </a:lnTo>
                <a:lnTo>
                  <a:pt x="2417" y="36"/>
                </a:lnTo>
                <a:lnTo>
                  <a:pt x="2443" y="26"/>
                </a:lnTo>
                <a:lnTo>
                  <a:pt x="2470" y="26"/>
                </a:lnTo>
                <a:lnTo>
                  <a:pt x="2496" y="17"/>
                </a:lnTo>
                <a:lnTo>
                  <a:pt x="2523" y="17"/>
                </a:lnTo>
                <a:lnTo>
                  <a:pt x="2558" y="17"/>
                </a:lnTo>
                <a:lnTo>
                  <a:pt x="2593" y="17"/>
                </a:lnTo>
                <a:lnTo>
                  <a:pt x="2638" y="17"/>
                </a:lnTo>
                <a:lnTo>
                  <a:pt x="2664" y="17"/>
                </a:lnTo>
                <a:lnTo>
                  <a:pt x="2690" y="17"/>
                </a:lnTo>
                <a:lnTo>
                  <a:pt x="2761" y="17"/>
                </a:lnTo>
                <a:lnTo>
                  <a:pt x="2787" y="17"/>
                </a:lnTo>
                <a:lnTo>
                  <a:pt x="2832" y="17"/>
                </a:lnTo>
                <a:lnTo>
                  <a:pt x="2876" y="17"/>
                </a:lnTo>
                <a:lnTo>
                  <a:pt x="2920" y="36"/>
                </a:lnTo>
                <a:lnTo>
                  <a:pt x="2946" y="36"/>
                </a:lnTo>
                <a:lnTo>
                  <a:pt x="2999" y="45"/>
                </a:lnTo>
                <a:lnTo>
                  <a:pt x="3034" y="53"/>
                </a:lnTo>
                <a:lnTo>
                  <a:pt x="3078" y="53"/>
                </a:lnTo>
                <a:lnTo>
                  <a:pt x="3124" y="71"/>
                </a:lnTo>
                <a:lnTo>
                  <a:pt x="3168" y="81"/>
                </a:lnTo>
                <a:lnTo>
                  <a:pt x="3194" y="81"/>
                </a:lnTo>
                <a:lnTo>
                  <a:pt x="3238" y="81"/>
                </a:lnTo>
                <a:lnTo>
                  <a:pt x="3265" y="81"/>
                </a:lnTo>
                <a:lnTo>
                  <a:pt x="3326" y="81"/>
                </a:lnTo>
                <a:lnTo>
                  <a:pt x="3353" y="71"/>
                </a:lnTo>
                <a:lnTo>
                  <a:pt x="3388" y="71"/>
                </a:lnTo>
                <a:lnTo>
                  <a:pt x="3415" y="71"/>
                </a:lnTo>
                <a:lnTo>
                  <a:pt x="3459" y="71"/>
                </a:lnTo>
                <a:lnTo>
                  <a:pt x="3503" y="62"/>
                </a:lnTo>
                <a:lnTo>
                  <a:pt x="3547" y="62"/>
                </a:lnTo>
                <a:lnTo>
                  <a:pt x="3582" y="71"/>
                </a:lnTo>
                <a:lnTo>
                  <a:pt x="3626" y="71"/>
                </a:lnTo>
                <a:lnTo>
                  <a:pt x="3653" y="81"/>
                </a:lnTo>
                <a:lnTo>
                  <a:pt x="3697" y="81"/>
                </a:lnTo>
                <a:lnTo>
                  <a:pt x="3741" y="90"/>
                </a:lnTo>
                <a:lnTo>
                  <a:pt x="3776" y="99"/>
                </a:lnTo>
                <a:lnTo>
                  <a:pt x="3803" y="107"/>
                </a:lnTo>
                <a:lnTo>
                  <a:pt x="3829" y="107"/>
                </a:lnTo>
                <a:lnTo>
                  <a:pt x="3856" y="107"/>
                </a:lnTo>
                <a:lnTo>
                  <a:pt x="3900" y="81"/>
                </a:lnTo>
                <a:lnTo>
                  <a:pt x="3944" y="71"/>
                </a:lnTo>
                <a:lnTo>
                  <a:pt x="3979" y="62"/>
                </a:lnTo>
                <a:lnTo>
                  <a:pt x="4006" y="45"/>
                </a:lnTo>
                <a:lnTo>
                  <a:pt x="4032" y="36"/>
                </a:lnTo>
                <a:lnTo>
                  <a:pt x="4058" y="26"/>
                </a:lnTo>
                <a:lnTo>
                  <a:pt x="4085" y="8"/>
                </a:lnTo>
                <a:lnTo>
                  <a:pt x="4111" y="8"/>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9614" name=""/>
          <p:cNvSpPr txBox="1"/>
          <p:nvPr/>
        </p:nvSpPr>
        <p:spPr>
          <a:xfrm>
            <a:off x="830160" y="1123920"/>
            <a:ext cx="5516640" cy="701640"/>
          </a:xfrm>
          <a:prstGeom prst="rect">
            <a:avLst/>
          </a:prstGeom>
          <a:noFill/>
          <a:ln w="0">
            <a:noFill/>
          </a:ln>
        </p:spPr>
        <p:txBody>
          <a:bodyPr lIns="0" rIns="0" tIns="0" bIns="0" anchor="t">
            <a:noAutofit/>
          </a:bodyPr>
          <a:p>
            <a:pPr>
              <a:lnSpc>
                <a:spcPct val="100000"/>
              </a:lnSpc>
            </a:pPr>
            <a:r>
              <a:rPr b="1" lang="en-US" sz="2000" spc="-1" strike="noStrike">
                <a:solidFill>
                  <a:srgbClr val="f2fefd"/>
                </a:solidFill>
                <a:latin typeface="Times New Roman"/>
                <a:ea typeface="Times New Roman"/>
              </a:rPr>
              <a:t>Gage (simulating the true geometric counterpart </a:t>
            </a:r>
            <a:endParaRPr b="0" lang="en-US" sz="2000" spc="-1" strike="noStrike">
              <a:solidFill>
                <a:srgbClr val="000000"/>
              </a:solidFill>
              <a:latin typeface="Arial"/>
            </a:endParaRPr>
          </a:p>
          <a:p>
            <a:pPr>
              <a:lnSpc>
                <a:spcPct val="100000"/>
              </a:lnSpc>
            </a:pPr>
            <a:r>
              <a:rPr b="1" lang="en-US" sz="2000" spc="-1" strike="noStrike">
                <a:solidFill>
                  <a:srgbClr val="f2fefd"/>
                </a:solidFill>
                <a:latin typeface="Times New Roman"/>
                <a:ea typeface="Times New Roman"/>
              </a:rPr>
              <a:t>of datum feature A)</a:t>
            </a:r>
            <a:endParaRPr b="0" lang="en-US" sz="2000" spc="-1" strike="noStrike">
              <a:solidFill>
                <a:srgbClr val="000000"/>
              </a:solidFill>
              <a:latin typeface="Arial"/>
            </a:endParaRPr>
          </a:p>
        </p:txBody>
      </p:sp>
      <p:sp>
        <p:nvSpPr>
          <p:cNvPr id="9615" name=""/>
          <p:cNvSpPr/>
          <p:nvPr/>
        </p:nvSpPr>
        <p:spPr>
          <a:xfrm>
            <a:off x="3165480" y="164628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6" name=""/>
          <p:cNvSpPr/>
          <p:nvPr/>
        </p:nvSpPr>
        <p:spPr>
          <a:xfrm flipH="1">
            <a:off x="2611440" y="1646280"/>
            <a:ext cx="874800" cy="144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7" name=""/>
          <p:cNvSpPr/>
          <p:nvPr/>
        </p:nvSpPr>
        <p:spPr>
          <a:xfrm>
            <a:off x="3486240" y="1646280"/>
            <a:ext cx="1584360" cy="144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8" name=""/>
          <p:cNvSpPr txBox="1"/>
          <p:nvPr/>
        </p:nvSpPr>
        <p:spPr>
          <a:xfrm>
            <a:off x="5111640" y="422892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2fefd"/>
                </a:solidFill>
                <a:latin typeface="Times New Roman"/>
                <a:ea typeface="Times New Roman"/>
              </a:rPr>
              <a:t>12.5</a:t>
            </a:r>
            <a:endParaRPr b="0" lang="en-US" sz="1800" spc="-1" strike="noStrike">
              <a:solidFill>
                <a:srgbClr val="000000"/>
              </a:solidFill>
              <a:latin typeface="Arial"/>
            </a:endParaRPr>
          </a:p>
        </p:txBody>
      </p:sp>
      <p:sp>
        <p:nvSpPr>
          <p:cNvPr id="9619" name=""/>
          <p:cNvSpPr txBox="1"/>
          <p:nvPr/>
        </p:nvSpPr>
        <p:spPr>
          <a:xfrm>
            <a:off x="2432160" y="422280"/>
            <a:ext cx="4551480" cy="641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tial (Surface) Datum</a:t>
            </a:r>
            <a:endParaRPr b="0" lang="en-US" sz="3600" spc="-1" strike="noStrike">
              <a:solidFill>
                <a:srgbClr val="000000"/>
              </a:solidFill>
              <a:latin typeface="Arial"/>
            </a:endParaRPr>
          </a:p>
        </p:txBody>
      </p:sp>
      <p:sp>
        <p:nvSpPr>
          <p:cNvPr id="9620" name=""/>
          <p:cNvSpPr txBox="1"/>
          <p:nvPr/>
        </p:nvSpPr>
        <p:spPr>
          <a:xfrm>
            <a:off x="3627360" y="53802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21" name=""/>
          <p:cNvSpPr/>
          <p:nvPr/>
        </p:nvSpPr>
        <p:spPr>
          <a:xfrm>
            <a:off x="0" y="0"/>
            <a:ext cx="9131400" cy="684540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4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4" name=""/>
          <p:cNvSpPr/>
          <p:nvPr/>
        </p:nvSpPr>
        <p:spPr>
          <a:xfrm>
            <a:off x="3971880" y="387684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5680080" y="363204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5556240" y="3778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a:off x="5921280" y="377820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5794200" y="3778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4113360" y="3780000"/>
            <a:ext cx="0" cy="14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4113360" y="39862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51" name=""/>
          <p:cNvSpPr/>
          <p:nvPr/>
        </p:nvSpPr>
        <p:spPr>
          <a:xfrm>
            <a:off x="4113360" y="41292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5827680" y="3541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5827680" y="3747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054" name=""/>
          <p:cNvSpPr/>
          <p:nvPr/>
        </p:nvSpPr>
        <p:spPr>
          <a:xfrm>
            <a:off x="5827680" y="389088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55" name=""/>
          <p:cNvGrpSpPr/>
          <p:nvPr/>
        </p:nvGrpSpPr>
        <p:grpSpPr>
          <a:xfrm>
            <a:off x="3889440" y="4016520"/>
            <a:ext cx="523800" cy="0"/>
            <a:chOff x="3889440" y="4016520"/>
            <a:chExt cx="523800" cy="0"/>
          </a:xfrm>
        </p:grpSpPr>
        <p:sp>
          <p:nvSpPr>
            <p:cNvPr id="1056" name=""/>
            <p:cNvSpPr/>
            <p:nvPr/>
          </p:nvSpPr>
          <p:spPr>
            <a:xfrm>
              <a:off x="3889440" y="40165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4095720" y="401652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4238640" y="40165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59" name=""/>
          <p:cNvGrpSpPr/>
          <p:nvPr/>
        </p:nvGrpSpPr>
        <p:grpSpPr>
          <a:xfrm>
            <a:off x="3629160" y="2930400"/>
            <a:ext cx="2549520" cy="1495800"/>
            <a:chOff x="3629160" y="2930400"/>
            <a:chExt cx="2549520" cy="1495800"/>
          </a:xfrm>
        </p:grpSpPr>
        <p:sp>
          <p:nvSpPr>
            <p:cNvPr id="1060" name=""/>
            <p:cNvSpPr/>
            <p:nvPr/>
          </p:nvSpPr>
          <p:spPr>
            <a:xfrm>
              <a:off x="6122880" y="2935440"/>
              <a:ext cx="55800" cy="1162440"/>
            </a:xfrm>
            <a:custGeom>
              <a:avLst/>
              <a:gdLst/>
              <a:ahLst/>
              <a:rect l="0" t="0" r="r" b="b"/>
              <a:pathLst>
                <a:path fill="none" w="155" h="3229">
                  <a:moveTo>
                    <a:pt x="142" y="0"/>
                  </a:moveTo>
                  <a:lnTo>
                    <a:pt x="155" y="132"/>
                  </a:lnTo>
                  <a:lnTo>
                    <a:pt x="44" y="282"/>
                  </a:lnTo>
                  <a:lnTo>
                    <a:pt x="13" y="418"/>
                  </a:lnTo>
                  <a:lnTo>
                    <a:pt x="35" y="546"/>
                  </a:lnTo>
                  <a:lnTo>
                    <a:pt x="57" y="679"/>
                  </a:lnTo>
                  <a:lnTo>
                    <a:pt x="26" y="821"/>
                  </a:lnTo>
                  <a:lnTo>
                    <a:pt x="4" y="957"/>
                  </a:lnTo>
                  <a:lnTo>
                    <a:pt x="22" y="1085"/>
                  </a:lnTo>
                  <a:lnTo>
                    <a:pt x="89" y="1253"/>
                  </a:lnTo>
                  <a:lnTo>
                    <a:pt x="111" y="1385"/>
                  </a:lnTo>
                  <a:lnTo>
                    <a:pt x="39" y="1531"/>
                  </a:lnTo>
                  <a:lnTo>
                    <a:pt x="57" y="1663"/>
                  </a:lnTo>
                  <a:lnTo>
                    <a:pt x="74" y="1795"/>
                  </a:lnTo>
                  <a:lnTo>
                    <a:pt x="93" y="1928"/>
                  </a:lnTo>
                  <a:lnTo>
                    <a:pt x="115" y="2055"/>
                  </a:lnTo>
                  <a:lnTo>
                    <a:pt x="137" y="2227"/>
                  </a:lnTo>
                  <a:lnTo>
                    <a:pt x="111" y="2364"/>
                  </a:lnTo>
                  <a:lnTo>
                    <a:pt x="39" y="2511"/>
                  </a:lnTo>
                  <a:lnTo>
                    <a:pt x="61" y="2639"/>
                  </a:lnTo>
                  <a:lnTo>
                    <a:pt x="35" y="2780"/>
                  </a:lnTo>
                  <a:lnTo>
                    <a:pt x="52" y="2912"/>
                  </a:lnTo>
                  <a:lnTo>
                    <a:pt x="70" y="3044"/>
                  </a:lnTo>
                  <a:lnTo>
                    <a:pt x="89" y="3172"/>
                  </a:lnTo>
                  <a:lnTo>
                    <a:pt x="8" y="3229"/>
                  </a:lnTo>
                  <a:lnTo>
                    <a:pt x="0" y="31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629160" y="2930400"/>
              <a:ext cx="2543400" cy="1495800"/>
            </a:xfrm>
            <a:custGeom>
              <a:avLst/>
              <a:gdLst/>
              <a:ahLst/>
              <a:rect l="0" t="0" r="r" b="b"/>
              <a:pathLst>
                <a:path fill="none" w="7065" h="4155">
                  <a:moveTo>
                    <a:pt x="7065" y="0"/>
                  </a:moveTo>
                  <a:lnTo>
                    <a:pt x="7038" y="17"/>
                  </a:lnTo>
                  <a:lnTo>
                    <a:pt x="7012" y="17"/>
                  </a:lnTo>
                  <a:lnTo>
                    <a:pt x="6986" y="17"/>
                  </a:lnTo>
                  <a:lnTo>
                    <a:pt x="6941" y="17"/>
                  </a:lnTo>
                  <a:lnTo>
                    <a:pt x="6897" y="17"/>
                  </a:lnTo>
                  <a:lnTo>
                    <a:pt x="6853" y="17"/>
                  </a:lnTo>
                  <a:lnTo>
                    <a:pt x="6809" y="17"/>
                  </a:lnTo>
                  <a:lnTo>
                    <a:pt x="6747" y="26"/>
                  </a:lnTo>
                  <a:lnTo>
                    <a:pt x="6721" y="44"/>
                  </a:lnTo>
                  <a:lnTo>
                    <a:pt x="6650" y="79"/>
                  </a:lnTo>
                  <a:lnTo>
                    <a:pt x="6624" y="88"/>
                  </a:lnTo>
                  <a:lnTo>
                    <a:pt x="6597" y="97"/>
                  </a:lnTo>
                  <a:lnTo>
                    <a:pt x="6562" y="105"/>
                  </a:lnTo>
                  <a:lnTo>
                    <a:pt x="6527" y="114"/>
                  </a:lnTo>
                  <a:lnTo>
                    <a:pt x="6492" y="114"/>
                  </a:lnTo>
                  <a:lnTo>
                    <a:pt x="6430" y="123"/>
                  </a:lnTo>
                  <a:lnTo>
                    <a:pt x="6403" y="123"/>
                  </a:lnTo>
                  <a:lnTo>
                    <a:pt x="6359" y="132"/>
                  </a:lnTo>
                  <a:lnTo>
                    <a:pt x="6298" y="141"/>
                  </a:lnTo>
                  <a:lnTo>
                    <a:pt x="6271" y="149"/>
                  </a:lnTo>
                  <a:lnTo>
                    <a:pt x="6218" y="158"/>
                  </a:lnTo>
                  <a:lnTo>
                    <a:pt x="6165" y="185"/>
                  </a:lnTo>
                  <a:lnTo>
                    <a:pt x="6130" y="194"/>
                  </a:lnTo>
                  <a:lnTo>
                    <a:pt x="6086" y="220"/>
                  </a:lnTo>
                  <a:lnTo>
                    <a:pt x="6042" y="229"/>
                  </a:lnTo>
                  <a:lnTo>
                    <a:pt x="5998" y="238"/>
                  </a:lnTo>
                  <a:lnTo>
                    <a:pt x="5971" y="238"/>
                  </a:lnTo>
                  <a:lnTo>
                    <a:pt x="5927" y="246"/>
                  </a:lnTo>
                  <a:lnTo>
                    <a:pt x="5892" y="255"/>
                  </a:lnTo>
                  <a:lnTo>
                    <a:pt x="5839" y="255"/>
                  </a:lnTo>
                  <a:lnTo>
                    <a:pt x="5795" y="255"/>
                  </a:lnTo>
                  <a:lnTo>
                    <a:pt x="5733" y="255"/>
                  </a:lnTo>
                  <a:lnTo>
                    <a:pt x="5707" y="264"/>
                  </a:lnTo>
                  <a:lnTo>
                    <a:pt x="5663" y="273"/>
                  </a:lnTo>
                  <a:lnTo>
                    <a:pt x="5610" y="273"/>
                  </a:lnTo>
                  <a:lnTo>
                    <a:pt x="5548" y="291"/>
                  </a:lnTo>
                  <a:lnTo>
                    <a:pt x="5521" y="291"/>
                  </a:lnTo>
                  <a:lnTo>
                    <a:pt x="5477" y="291"/>
                  </a:lnTo>
                  <a:lnTo>
                    <a:pt x="5451" y="291"/>
                  </a:lnTo>
                  <a:lnTo>
                    <a:pt x="5424" y="291"/>
                  </a:lnTo>
                  <a:lnTo>
                    <a:pt x="5372" y="291"/>
                  </a:lnTo>
                  <a:lnTo>
                    <a:pt x="5327" y="291"/>
                  </a:lnTo>
                  <a:lnTo>
                    <a:pt x="5301" y="291"/>
                  </a:lnTo>
                  <a:lnTo>
                    <a:pt x="5275" y="299"/>
                  </a:lnTo>
                  <a:lnTo>
                    <a:pt x="5213" y="308"/>
                  </a:lnTo>
                  <a:lnTo>
                    <a:pt x="5178" y="308"/>
                  </a:lnTo>
                  <a:lnTo>
                    <a:pt x="5107" y="317"/>
                  </a:lnTo>
                  <a:lnTo>
                    <a:pt x="5072" y="317"/>
                  </a:lnTo>
                  <a:lnTo>
                    <a:pt x="5036" y="317"/>
                  </a:lnTo>
                  <a:lnTo>
                    <a:pt x="5001" y="326"/>
                  </a:lnTo>
                  <a:lnTo>
                    <a:pt x="4957" y="326"/>
                  </a:lnTo>
                  <a:lnTo>
                    <a:pt x="4931" y="343"/>
                  </a:lnTo>
                  <a:lnTo>
                    <a:pt x="4895" y="352"/>
                  </a:lnTo>
                  <a:lnTo>
                    <a:pt x="4869" y="361"/>
                  </a:lnTo>
                  <a:lnTo>
                    <a:pt x="4807" y="396"/>
                  </a:lnTo>
                  <a:lnTo>
                    <a:pt x="4763" y="432"/>
                  </a:lnTo>
                  <a:lnTo>
                    <a:pt x="4719" y="440"/>
                  </a:lnTo>
                  <a:lnTo>
                    <a:pt x="4692" y="449"/>
                  </a:lnTo>
                  <a:lnTo>
                    <a:pt x="4551" y="458"/>
                  </a:lnTo>
                  <a:lnTo>
                    <a:pt x="4516" y="467"/>
                  </a:lnTo>
                  <a:lnTo>
                    <a:pt x="4454" y="467"/>
                  </a:lnTo>
                  <a:lnTo>
                    <a:pt x="4375" y="467"/>
                  </a:lnTo>
                  <a:lnTo>
                    <a:pt x="4348" y="467"/>
                  </a:lnTo>
                  <a:lnTo>
                    <a:pt x="4278" y="458"/>
                  </a:lnTo>
                  <a:lnTo>
                    <a:pt x="4216" y="458"/>
                  </a:lnTo>
                  <a:lnTo>
                    <a:pt x="4110" y="458"/>
                  </a:lnTo>
                  <a:lnTo>
                    <a:pt x="4066" y="458"/>
                  </a:lnTo>
                  <a:lnTo>
                    <a:pt x="4031" y="458"/>
                  </a:lnTo>
                  <a:lnTo>
                    <a:pt x="3978" y="467"/>
                  </a:lnTo>
                  <a:lnTo>
                    <a:pt x="3943" y="467"/>
                  </a:lnTo>
                  <a:lnTo>
                    <a:pt x="3908" y="476"/>
                  </a:lnTo>
                  <a:lnTo>
                    <a:pt x="3872" y="485"/>
                  </a:lnTo>
                  <a:lnTo>
                    <a:pt x="3811" y="493"/>
                  </a:lnTo>
                  <a:lnTo>
                    <a:pt x="3784" y="502"/>
                  </a:lnTo>
                  <a:lnTo>
                    <a:pt x="3713" y="529"/>
                  </a:lnTo>
                  <a:lnTo>
                    <a:pt x="3669" y="537"/>
                  </a:lnTo>
                  <a:lnTo>
                    <a:pt x="3643" y="546"/>
                  </a:lnTo>
                  <a:lnTo>
                    <a:pt x="3616" y="555"/>
                  </a:lnTo>
                  <a:lnTo>
                    <a:pt x="3581" y="564"/>
                  </a:lnTo>
                  <a:lnTo>
                    <a:pt x="3555" y="590"/>
                  </a:lnTo>
                  <a:lnTo>
                    <a:pt x="3527" y="617"/>
                  </a:lnTo>
                  <a:lnTo>
                    <a:pt x="3501" y="626"/>
                  </a:lnTo>
                  <a:lnTo>
                    <a:pt x="3457" y="635"/>
                  </a:lnTo>
                  <a:lnTo>
                    <a:pt x="3430" y="635"/>
                  </a:lnTo>
                  <a:lnTo>
                    <a:pt x="3377" y="635"/>
                  </a:lnTo>
                  <a:lnTo>
                    <a:pt x="3298" y="626"/>
                  </a:lnTo>
                  <a:lnTo>
                    <a:pt x="3254" y="626"/>
                  </a:lnTo>
                  <a:lnTo>
                    <a:pt x="3219" y="626"/>
                  </a:lnTo>
                  <a:lnTo>
                    <a:pt x="3175" y="626"/>
                  </a:lnTo>
                  <a:lnTo>
                    <a:pt x="3095" y="626"/>
                  </a:lnTo>
                  <a:lnTo>
                    <a:pt x="3060" y="626"/>
                  </a:lnTo>
                  <a:lnTo>
                    <a:pt x="3033" y="626"/>
                  </a:lnTo>
                  <a:lnTo>
                    <a:pt x="2972" y="635"/>
                  </a:lnTo>
                  <a:lnTo>
                    <a:pt x="2945" y="635"/>
                  </a:lnTo>
                  <a:lnTo>
                    <a:pt x="2883" y="635"/>
                  </a:lnTo>
                  <a:lnTo>
                    <a:pt x="2813" y="635"/>
                  </a:lnTo>
                  <a:lnTo>
                    <a:pt x="2786" y="635"/>
                  </a:lnTo>
                  <a:lnTo>
                    <a:pt x="2751" y="617"/>
                  </a:lnTo>
                  <a:lnTo>
                    <a:pt x="2725" y="617"/>
                  </a:lnTo>
                  <a:lnTo>
                    <a:pt x="2663" y="608"/>
                  </a:lnTo>
                  <a:lnTo>
                    <a:pt x="2610" y="608"/>
                  </a:lnTo>
                  <a:lnTo>
                    <a:pt x="2531" y="608"/>
                  </a:lnTo>
                  <a:lnTo>
                    <a:pt x="2495" y="608"/>
                  </a:lnTo>
                  <a:lnTo>
                    <a:pt x="2469" y="608"/>
                  </a:lnTo>
                  <a:lnTo>
                    <a:pt x="2442" y="608"/>
                  </a:lnTo>
                  <a:lnTo>
                    <a:pt x="2398" y="608"/>
                  </a:lnTo>
                  <a:lnTo>
                    <a:pt x="2363" y="608"/>
                  </a:lnTo>
                  <a:lnTo>
                    <a:pt x="2337" y="617"/>
                  </a:lnTo>
                  <a:lnTo>
                    <a:pt x="2293" y="617"/>
                  </a:lnTo>
                  <a:lnTo>
                    <a:pt x="2257" y="626"/>
                  </a:lnTo>
                  <a:lnTo>
                    <a:pt x="2222" y="635"/>
                  </a:lnTo>
                  <a:lnTo>
                    <a:pt x="2169" y="643"/>
                  </a:lnTo>
                  <a:lnTo>
                    <a:pt x="2143" y="643"/>
                  </a:lnTo>
                  <a:lnTo>
                    <a:pt x="2099" y="652"/>
                  </a:lnTo>
                  <a:lnTo>
                    <a:pt x="1887" y="661"/>
                  </a:lnTo>
                  <a:lnTo>
                    <a:pt x="1843" y="670"/>
                  </a:lnTo>
                  <a:lnTo>
                    <a:pt x="1816" y="670"/>
                  </a:lnTo>
                  <a:lnTo>
                    <a:pt x="1772" y="670"/>
                  </a:lnTo>
                  <a:lnTo>
                    <a:pt x="1737" y="679"/>
                  </a:lnTo>
                  <a:lnTo>
                    <a:pt x="1710" y="679"/>
                  </a:lnTo>
                  <a:lnTo>
                    <a:pt x="1684" y="687"/>
                  </a:lnTo>
                  <a:lnTo>
                    <a:pt x="1658" y="696"/>
                  </a:lnTo>
                  <a:lnTo>
                    <a:pt x="1622" y="723"/>
                  </a:lnTo>
                  <a:lnTo>
                    <a:pt x="1596" y="740"/>
                  </a:lnTo>
                  <a:lnTo>
                    <a:pt x="1569" y="740"/>
                  </a:lnTo>
                  <a:lnTo>
                    <a:pt x="1481" y="767"/>
                  </a:lnTo>
                  <a:lnTo>
                    <a:pt x="1437" y="776"/>
                  </a:lnTo>
                  <a:lnTo>
                    <a:pt x="1393" y="784"/>
                  </a:lnTo>
                  <a:lnTo>
                    <a:pt x="1296" y="802"/>
                  </a:lnTo>
                  <a:lnTo>
                    <a:pt x="1270" y="811"/>
                  </a:lnTo>
                  <a:lnTo>
                    <a:pt x="1243" y="811"/>
                  </a:lnTo>
                  <a:lnTo>
                    <a:pt x="1208" y="820"/>
                  </a:lnTo>
                  <a:lnTo>
                    <a:pt x="1128" y="829"/>
                  </a:lnTo>
                  <a:lnTo>
                    <a:pt x="1023" y="864"/>
                  </a:lnTo>
                  <a:lnTo>
                    <a:pt x="961" y="873"/>
                  </a:lnTo>
                  <a:lnTo>
                    <a:pt x="934" y="873"/>
                  </a:lnTo>
                  <a:lnTo>
                    <a:pt x="908" y="881"/>
                  </a:lnTo>
                  <a:lnTo>
                    <a:pt x="881" y="881"/>
                  </a:lnTo>
                  <a:lnTo>
                    <a:pt x="846" y="890"/>
                  </a:lnTo>
                  <a:lnTo>
                    <a:pt x="793" y="899"/>
                  </a:lnTo>
                  <a:lnTo>
                    <a:pt x="749" y="917"/>
                  </a:lnTo>
                  <a:lnTo>
                    <a:pt x="687" y="934"/>
                  </a:lnTo>
                  <a:lnTo>
                    <a:pt x="661" y="934"/>
                  </a:lnTo>
                  <a:lnTo>
                    <a:pt x="626" y="934"/>
                  </a:lnTo>
                  <a:lnTo>
                    <a:pt x="599" y="943"/>
                  </a:lnTo>
                  <a:lnTo>
                    <a:pt x="573" y="943"/>
                  </a:lnTo>
                  <a:lnTo>
                    <a:pt x="493" y="943"/>
                  </a:lnTo>
                  <a:lnTo>
                    <a:pt x="467" y="943"/>
                  </a:lnTo>
                  <a:lnTo>
                    <a:pt x="440" y="943"/>
                  </a:lnTo>
                  <a:lnTo>
                    <a:pt x="405" y="943"/>
                  </a:lnTo>
                  <a:lnTo>
                    <a:pt x="343" y="952"/>
                  </a:lnTo>
                  <a:lnTo>
                    <a:pt x="317" y="952"/>
                  </a:lnTo>
                  <a:lnTo>
                    <a:pt x="282" y="952"/>
                  </a:lnTo>
                  <a:lnTo>
                    <a:pt x="255" y="952"/>
                  </a:lnTo>
                  <a:lnTo>
                    <a:pt x="229" y="952"/>
                  </a:lnTo>
                  <a:lnTo>
                    <a:pt x="185" y="952"/>
                  </a:lnTo>
                  <a:lnTo>
                    <a:pt x="158" y="961"/>
                  </a:lnTo>
                  <a:lnTo>
                    <a:pt x="123" y="970"/>
                  </a:lnTo>
                  <a:lnTo>
                    <a:pt x="79" y="978"/>
                  </a:lnTo>
                  <a:lnTo>
                    <a:pt x="52" y="987"/>
                  </a:lnTo>
                  <a:lnTo>
                    <a:pt x="26" y="1005"/>
                  </a:lnTo>
                  <a:lnTo>
                    <a:pt x="0" y="1014"/>
                  </a:lnTo>
                  <a:lnTo>
                    <a:pt x="0" y="1014"/>
                  </a:lnTo>
                  <a:lnTo>
                    <a:pt x="8" y="1068"/>
                  </a:lnTo>
                  <a:lnTo>
                    <a:pt x="17" y="1112"/>
                  </a:lnTo>
                  <a:lnTo>
                    <a:pt x="17" y="1147"/>
                  </a:lnTo>
                  <a:lnTo>
                    <a:pt x="35" y="1173"/>
                  </a:lnTo>
                  <a:lnTo>
                    <a:pt x="52" y="1200"/>
                  </a:lnTo>
                  <a:lnTo>
                    <a:pt x="52" y="1226"/>
                  </a:lnTo>
                  <a:lnTo>
                    <a:pt x="52" y="1253"/>
                  </a:lnTo>
                  <a:lnTo>
                    <a:pt x="61" y="1279"/>
                  </a:lnTo>
                  <a:lnTo>
                    <a:pt x="61" y="1306"/>
                  </a:lnTo>
                  <a:lnTo>
                    <a:pt x="70" y="1332"/>
                  </a:lnTo>
                  <a:lnTo>
                    <a:pt x="70" y="1359"/>
                  </a:lnTo>
                  <a:lnTo>
                    <a:pt x="70" y="1403"/>
                  </a:lnTo>
                  <a:lnTo>
                    <a:pt x="70" y="1447"/>
                  </a:lnTo>
                  <a:lnTo>
                    <a:pt x="61" y="1482"/>
                  </a:lnTo>
                  <a:lnTo>
                    <a:pt x="52" y="1509"/>
                  </a:lnTo>
                  <a:lnTo>
                    <a:pt x="52" y="1535"/>
                  </a:lnTo>
                  <a:lnTo>
                    <a:pt x="44" y="1579"/>
                  </a:lnTo>
                  <a:lnTo>
                    <a:pt x="44" y="1614"/>
                  </a:lnTo>
                  <a:lnTo>
                    <a:pt x="44" y="1650"/>
                  </a:lnTo>
                  <a:lnTo>
                    <a:pt x="44" y="1676"/>
                  </a:lnTo>
                  <a:lnTo>
                    <a:pt x="52" y="1703"/>
                  </a:lnTo>
                  <a:lnTo>
                    <a:pt x="61" y="1738"/>
                  </a:lnTo>
                  <a:lnTo>
                    <a:pt x="70" y="1773"/>
                  </a:lnTo>
                  <a:lnTo>
                    <a:pt x="88" y="1808"/>
                  </a:lnTo>
                  <a:lnTo>
                    <a:pt x="114" y="1844"/>
                  </a:lnTo>
                  <a:lnTo>
                    <a:pt x="114" y="1879"/>
                  </a:lnTo>
                  <a:lnTo>
                    <a:pt x="123" y="1906"/>
                  </a:lnTo>
                  <a:lnTo>
                    <a:pt x="132" y="1950"/>
                  </a:lnTo>
                  <a:lnTo>
                    <a:pt x="132" y="1976"/>
                  </a:lnTo>
                  <a:lnTo>
                    <a:pt x="149" y="2011"/>
                  </a:lnTo>
                  <a:lnTo>
                    <a:pt x="167" y="2038"/>
                  </a:lnTo>
                  <a:lnTo>
                    <a:pt x="167" y="2100"/>
                  </a:lnTo>
                  <a:lnTo>
                    <a:pt x="167" y="2126"/>
                  </a:lnTo>
                  <a:lnTo>
                    <a:pt x="167" y="2161"/>
                  </a:lnTo>
                  <a:lnTo>
                    <a:pt x="167" y="2188"/>
                  </a:lnTo>
                  <a:lnTo>
                    <a:pt x="167" y="2214"/>
                  </a:lnTo>
                  <a:lnTo>
                    <a:pt x="167" y="2241"/>
                  </a:lnTo>
                  <a:lnTo>
                    <a:pt x="167" y="2276"/>
                  </a:lnTo>
                  <a:lnTo>
                    <a:pt x="167" y="2302"/>
                  </a:lnTo>
                  <a:lnTo>
                    <a:pt x="167" y="2329"/>
                  </a:lnTo>
                  <a:lnTo>
                    <a:pt x="167" y="2382"/>
                  </a:lnTo>
                  <a:lnTo>
                    <a:pt x="167" y="2408"/>
                  </a:lnTo>
                  <a:lnTo>
                    <a:pt x="185" y="2452"/>
                  </a:lnTo>
                  <a:lnTo>
                    <a:pt x="194" y="2532"/>
                  </a:lnTo>
                  <a:lnTo>
                    <a:pt x="202" y="2593"/>
                  </a:lnTo>
                  <a:lnTo>
                    <a:pt x="202" y="2620"/>
                  </a:lnTo>
                  <a:lnTo>
                    <a:pt x="202" y="2655"/>
                  </a:lnTo>
                  <a:lnTo>
                    <a:pt x="211" y="2699"/>
                  </a:lnTo>
                  <a:lnTo>
                    <a:pt x="220" y="2726"/>
                  </a:lnTo>
                  <a:lnTo>
                    <a:pt x="220" y="2761"/>
                  </a:lnTo>
                  <a:lnTo>
                    <a:pt x="229" y="2787"/>
                  </a:lnTo>
                  <a:lnTo>
                    <a:pt x="238" y="2832"/>
                  </a:lnTo>
                  <a:lnTo>
                    <a:pt x="246" y="2867"/>
                  </a:lnTo>
                  <a:lnTo>
                    <a:pt x="255" y="2937"/>
                  </a:lnTo>
                  <a:lnTo>
                    <a:pt x="264" y="2981"/>
                  </a:lnTo>
                  <a:lnTo>
                    <a:pt x="273" y="3043"/>
                  </a:lnTo>
                  <a:lnTo>
                    <a:pt x="273" y="3070"/>
                  </a:lnTo>
                  <a:lnTo>
                    <a:pt x="291" y="3096"/>
                  </a:lnTo>
                  <a:lnTo>
                    <a:pt x="299" y="3124"/>
                  </a:lnTo>
                  <a:lnTo>
                    <a:pt x="308" y="3168"/>
                  </a:lnTo>
                  <a:lnTo>
                    <a:pt x="326" y="3194"/>
                  </a:lnTo>
                  <a:lnTo>
                    <a:pt x="335" y="3221"/>
                  </a:lnTo>
                  <a:lnTo>
                    <a:pt x="370" y="3256"/>
                  </a:lnTo>
                  <a:lnTo>
                    <a:pt x="370" y="3291"/>
                  </a:lnTo>
                  <a:lnTo>
                    <a:pt x="379" y="3326"/>
                  </a:lnTo>
                  <a:lnTo>
                    <a:pt x="379" y="3353"/>
                  </a:lnTo>
                  <a:lnTo>
                    <a:pt x="379" y="3379"/>
                  </a:lnTo>
                  <a:lnTo>
                    <a:pt x="379" y="3423"/>
                  </a:lnTo>
                  <a:lnTo>
                    <a:pt x="379" y="3468"/>
                  </a:lnTo>
                  <a:lnTo>
                    <a:pt x="370" y="3512"/>
                  </a:lnTo>
                  <a:lnTo>
                    <a:pt x="370" y="3688"/>
                  </a:lnTo>
                  <a:lnTo>
                    <a:pt x="361" y="3714"/>
                  </a:lnTo>
                  <a:lnTo>
                    <a:pt x="352" y="3741"/>
                  </a:lnTo>
                  <a:lnTo>
                    <a:pt x="352" y="3767"/>
                  </a:lnTo>
                  <a:lnTo>
                    <a:pt x="343" y="3794"/>
                  </a:lnTo>
                  <a:lnTo>
                    <a:pt x="335" y="3820"/>
                  </a:lnTo>
                  <a:lnTo>
                    <a:pt x="335" y="3847"/>
                  </a:lnTo>
                  <a:lnTo>
                    <a:pt x="335" y="3873"/>
                  </a:lnTo>
                  <a:lnTo>
                    <a:pt x="335" y="3909"/>
                  </a:lnTo>
                  <a:lnTo>
                    <a:pt x="335" y="3935"/>
                  </a:lnTo>
                  <a:lnTo>
                    <a:pt x="335" y="3961"/>
                  </a:lnTo>
                  <a:lnTo>
                    <a:pt x="335" y="3988"/>
                  </a:lnTo>
                  <a:lnTo>
                    <a:pt x="335" y="4041"/>
                  </a:lnTo>
                  <a:lnTo>
                    <a:pt x="335" y="4085"/>
                  </a:lnTo>
                  <a:lnTo>
                    <a:pt x="335" y="4129"/>
                  </a:lnTo>
                  <a:lnTo>
                    <a:pt x="352" y="4155"/>
                  </a:lnTo>
                  <a:lnTo>
                    <a:pt x="343" y="4155"/>
                  </a:lnTo>
                  <a:lnTo>
                    <a:pt x="379" y="4147"/>
                  </a:lnTo>
                  <a:lnTo>
                    <a:pt x="423" y="4129"/>
                  </a:lnTo>
                  <a:lnTo>
                    <a:pt x="449" y="4120"/>
                  </a:lnTo>
                  <a:lnTo>
                    <a:pt x="476" y="4111"/>
                  </a:lnTo>
                  <a:lnTo>
                    <a:pt x="502" y="4111"/>
                  </a:lnTo>
                  <a:lnTo>
                    <a:pt x="546" y="4103"/>
                  </a:lnTo>
                  <a:lnTo>
                    <a:pt x="573" y="4103"/>
                  </a:lnTo>
                  <a:lnTo>
                    <a:pt x="617" y="4103"/>
                  </a:lnTo>
                  <a:lnTo>
                    <a:pt x="643" y="4103"/>
                  </a:lnTo>
                  <a:lnTo>
                    <a:pt x="670" y="4103"/>
                  </a:lnTo>
                  <a:lnTo>
                    <a:pt x="714" y="4103"/>
                  </a:lnTo>
                  <a:lnTo>
                    <a:pt x="740" y="4103"/>
                  </a:lnTo>
                  <a:lnTo>
                    <a:pt x="767" y="4103"/>
                  </a:lnTo>
                  <a:lnTo>
                    <a:pt x="802" y="4111"/>
                  </a:lnTo>
                  <a:lnTo>
                    <a:pt x="837" y="4120"/>
                  </a:lnTo>
                  <a:lnTo>
                    <a:pt x="864" y="4120"/>
                  </a:lnTo>
                  <a:lnTo>
                    <a:pt x="926" y="4120"/>
                  </a:lnTo>
                  <a:lnTo>
                    <a:pt x="961" y="4120"/>
                  </a:lnTo>
                  <a:lnTo>
                    <a:pt x="996" y="4120"/>
                  </a:lnTo>
                  <a:lnTo>
                    <a:pt x="1067" y="4111"/>
                  </a:lnTo>
                  <a:lnTo>
                    <a:pt x="1102" y="4103"/>
                  </a:lnTo>
                  <a:lnTo>
                    <a:pt x="1137" y="4103"/>
                  </a:lnTo>
                  <a:lnTo>
                    <a:pt x="1172" y="4120"/>
                  </a:lnTo>
                  <a:lnTo>
                    <a:pt x="1217" y="4120"/>
                  </a:lnTo>
                  <a:lnTo>
                    <a:pt x="1261" y="4120"/>
                  </a:lnTo>
                  <a:lnTo>
                    <a:pt x="1287" y="4120"/>
                  </a:lnTo>
                  <a:lnTo>
                    <a:pt x="1314" y="4120"/>
                  </a:lnTo>
                  <a:lnTo>
                    <a:pt x="1419" y="4103"/>
                  </a:lnTo>
                  <a:lnTo>
                    <a:pt x="1481" y="4076"/>
                  </a:lnTo>
                  <a:lnTo>
                    <a:pt x="1508" y="4067"/>
                  </a:lnTo>
                  <a:lnTo>
                    <a:pt x="1552" y="4041"/>
                  </a:lnTo>
                  <a:lnTo>
                    <a:pt x="1613" y="3997"/>
                  </a:lnTo>
                  <a:lnTo>
                    <a:pt x="1640" y="3997"/>
                  </a:lnTo>
                  <a:lnTo>
                    <a:pt x="1666" y="3979"/>
                  </a:lnTo>
                  <a:lnTo>
                    <a:pt x="1710" y="3970"/>
                  </a:lnTo>
                  <a:lnTo>
                    <a:pt x="1755" y="3953"/>
                  </a:lnTo>
                  <a:lnTo>
                    <a:pt x="1781" y="3935"/>
                  </a:lnTo>
                  <a:lnTo>
                    <a:pt x="1834" y="3917"/>
                  </a:lnTo>
                  <a:lnTo>
                    <a:pt x="1860" y="3917"/>
                  </a:lnTo>
                  <a:lnTo>
                    <a:pt x="1887" y="3917"/>
                  </a:lnTo>
                  <a:lnTo>
                    <a:pt x="1931" y="3909"/>
                  </a:lnTo>
                  <a:lnTo>
                    <a:pt x="1966" y="3909"/>
                  </a:lnTo>
                  <a:lnTo>
                    <a:pt x="2028" y="3909"/>
                  </a:lnTo>
                  <a:lnTo>
                    <a:pt x="2054" y="3909"/>
                  </a:lnTo>
                  <a:lnTo>
                    <a:pt x="2081" y="3909"/>
                  </a:lnTo>
                  <a:lnTo>
                    <a:pt x="2116" y="3909"/>
                  </a:lnTo>
                  <a:lnTo>
                    <a:pt x="2143" y="3909"/>
                  </a:lnTo>
                  <a:lnTo>
                    <a:pt x="2187" y="3900"/>
                  </a:lnTo>
                  <a:lnTo>
                    <a:pt x="2240" y="3891"/>
                  </a:lnTo>
                  <a:lnTo>
                    <a:pt x="2301" y="3882"/>
                  </a:lnTo>
                  <a:lnTo>
                    <a:pt x="2328" y="3873"/>
                  </a:lnTo>
                  <a:lnTo>
                    <a:pt x="2390" y="3873"/>
                  </a:lnTo>
                  <a:lnTo>
                    <a:pt x="2416" y="3864"/>
                  </a:lnTo>
                  <a:lnTo>
                    <a:pt x="2442" y="3864"/>
                  </a:lnTo>
                  <a:lnTo>
                    <a:pt x="2487" y="3864"/>
                  </a:lnTo>
                  <a:lnTo>
                    <a:pt x="2513" y="3856"/>
                  </a:lnTo>
                  <a:lnTo>
                    <a:pt x="2548" y="3847"/>
                  </a:lnTo>
                  <a:lnTo>
                    <a:pt x="2637" y="3838"/>
                  </a:lnTo>
                  <a:lnTo>
                    <a:pt x="2663" y="3829"/>
                  </a:lnTo>
                  <a:lnTo>
                    <a:pt x="2689" y="3820"/>
                  </a:lnTo>
                  <a:lnTo>
                    <a:pt x="2716" y="3794"/>
                  </a:lnTo>
                  <a:lnTo>
                    <a:pt x="2742" y="3776"/>
                  </a:lnTo>
                  <a:lnTo>
                    <a:pt x="2786" y="3767"/>
                  </a:lnTo>
                  <a:lnTo>
                    <a:pt x="2857" y="3759"/>
                  </a:lnTo>
                  <a:lnTo>
                    <a:pt x="2892" y="3750"/>
                  </a:lnTo>
                  <a:lnTo>
                    <a:pt x="2919" y="3741"/>
                  </a:lnTo>
                  <a:lnTo>
                    <a:pt x="2945" y="3741"/>
                  </a:lnTo>
                  <a:lnTo>
                    <a:pt x="2972" y="3741"/>
                  </a:lnTo>
                  <a:lnTo>
                    <a:pt x="3025" y="3759"/>
                  </a:lnTo>
                  <a:lnTo>
                    <a:pt x="3060" y="3767"/>
                  </a:lnTo>
                  <a:lnTo>
                    <a:pt x="3095" y="3776"/>
                  </a:lnTo>
                  <a:lnTo>
                    <a:pt x="3175" y="3785"/>
                  </a:lnTo>
                  <a:lnTo>
                    <a:pt x="3430" y="3829"/>
                  </a:lnTo>
                  <a:lnTo>
                    <a:pt x="3474" y="3838"/>
                  </a:lnTo>
                  <a:lnTo>
                    <a:pt x="3537" y="3847"/>
                  </a:lnTo>
                  <a:lnTo>
                    <a:pt x="3581" y="3856"/>
                  </a:lnTo>
                  <a:lnTo>
                    <a:pt x="3634" y="3856"/>
                  </a:lnTo>
                  <a:lnTo>
                    <a:pt x="3687" y="3847"/>
                  </a:lnTo>
                  <a:lnTo>
                    <a:pt x="3722" y="3838"/>
                  </a:lnTo>
                  <a:lnTo>
                    <a:pt x="3758" y="3820"/>
                  </a:lnTo>
                  <a:lnTo>
                    <a:pt x="3802" y="3811"/>
                  </a:lnTo>
                  <a:lnTo>
                    <a:pt x="3855" y="3794"/>
                  </a:lnTo>
                  <a:lnTo>
                    <a:pt x="3881" y="3776"/>
                  </a:lnTo>
                  <a:lnTo>
                    <a:pt x="3908" y="3767"/>
                  </a:lnTo>
                  <a:lnTo>
                    <a:pt x="3952" y="3732"/>
                  </a:lnTo>
                  <a:lnTo>
                    <a:pt x="3996" y="3706"/>
                  </a:lnTo>
                  <a:lnTo>
                    <a:pt x="4031" y="3697"/>
                  </a:lnTo>
                  <a:lnTo>
                    <a:pt x="4110" y="3688"/>
                  </a:lnTo>
                  <a:lnTo>
                    <a:pt x="4172" y="3679"/>
                  </a:lnTo>
                  <a:lnTo>
                    <a:pt x="4207" y="3670"/>
                  </a:lnTo>
                  <a:lnTo>
                    <a:pt x="4269" y="3662"/>
                  </a:lnTo>
                  <a:lnTo>
                    <a:pt x="4331" y="3662"/>
                  </a:lnTo>
                  <a:lnTo>
                    <a:pt x="4357" y="3662"/>
                  </a:lnTo>
                  <a:lnTo>
                    <a:pt x="4384" y="3662"/>
                  </a:lnTo>
                  <a:lnTo>
                    <a:pt x="4446" y="3662"/>
                  </a:lnTo>
                  <a:lnTo>
                    <a:pt x="4560" y="3670"/>
                  </a:lnTo>
                  <a:lnTo>
                    <a:pt x="4604" y="3670"/>
                  </a:lnTo>
                  <a:lnTo>
                    <a:pt x="4648" y="3670"/>
                  </a:lnTo>
                  <a:lnTo>
                    <a:pt x="4675" y="3670"/>
                  </a:lnTo>
                  <a:lnTo>
                    <a:pt x="4772" y="3697"/>
                  </a:lnTo>
                  <a:lnTo>
                    <a:pt x="4816" y="3697"/>
                  </a:lnTo>
                  <a:lnTo>
                    <a:pt x="4860" y="3670"/>
                  </a:lnTo>
                  <a:lnTo>
                    <a:pt x="4904" y="3653"/>
                  </a:lnTo>
                  <a:lnTo>
                    <a:pt x="4966" y="3626"/>
                  </a:lnTo>
                  <a:lnTo>
                    <a:pt x="5010" y="3600"/>
                  </a:lnTo>
                  <a:lnTo>
                    <a:pt x="5089" y="3565"/>
                  </a:lnTo>
                  <a:lnTo>
                    <a:pt x="5116" y="3556"/>
                  </a:lnTo>
                  <a:lnTo>
                    <a:pt x="5142" y="3556"/>
                  </a:lnTo>
                  <a:lnTo>
                    <a:pt x="5169" y="3529"/>
                  </a:lnTo>
                  <a:lnTo>
                    <a:pt x="5222" y="3520"/>
                  </a:lnTo>
                  <a:lnTo>
                    <a:pt x="5266" y="3512"/>
                  </a:lnTo>
                  <a:lnTo>
                    <a:pt x="5327" y="3503"/>
                  </a:lnTo>
                  <a:lnTo>
                    <a:pt x="5354" y="3503"/>
                  </a:lnTo>
                  <a:lnTo>
                    <a:pt x="5416" y="3476"/>
                  </a:lnTo>
                  <a:lnTo>
                    <a:pt x="5469" y="3468"/>
                  </a:lnTo>
                  <a:lnTo>
                    <a:pt x="5495" y="3459"/>
                  </a:lnTo>
                  <a:lnTo>
                    <a:pt x="5539" y="3459"/>
                  </a:lnTo>
                  <a:lnTo>
                    <a:pt x="5654" y="3432"/>
                  </a:lnTo>
                  <a:lnTo>
                    <a:pt x="5680" y="3432"/>
                  </a:lnTo>
                  <a:lnTo>
                    <a:pt x="5724" y="3423"/>
                  </a:lnTo>
                  <a:lnTo>
                    <a:pt x="5768" y="3423"/>
                  </a:lnTo>
                  <a:lnTo>
                    <a:pt x="5795" y="3415"/>
                  </a:lnTo>
                  <a:lnTo>
                    <a:pt x="5839" y="3397"/>
                  </a:lnTo>
                  <a:lnTo>
                    <a:pt x="5883" y="3388"/>
                  </a:lnTo>
                  <a:lnTo>
                    <a:pt x="5945" y="3362"/>
                  </a:lnTo>
                  <a:lnTo>
                    <a:pt x="5980" y="3344"/>
                  </a:lnTo>
                  <a:lnTo>
                    <a:pt x="6015" y="3335"/>
                  </a:lnTo>
                  <a:lnTo>
                    <a:pt x="6051" y="3326"/>
                  </a:lnTo>
                  <a:lnTo>
                    <a:pt x="6077" y="3318"/>
                  </a:lnTo>
                  <a:lnTo>
                    <a:pt x="6130" y="3309"/>
                  </a:lnTo>
                  <a:lnTo>
                    <a:pt x="6165" y="3300"/>
                  </a:lnTo>
                  <a:lnTo>
                    <a:pt x="6192" y="3291"/>
                  </a:lnTo>
                  <a:lnTo>
                    <a:pt x="6253" y="3282"/>
                  </a:lnTo>
                  <a:lnTo>
                    <a:pt x="6280" y="3282"/>
                  </a:lnTo>
                  <a:lnTo>
                    <a:pt x="6306" y="3282"/>
                  </a:lnTo>
                  <a:lnTo>
                    <a:pt x="6377" y="3282"/>
                  </a:lnTo>
                  <a:lnTo>
                    <a:pt x="6421" y="3282"/>
                  </a:lnTo>
                  <a:lnTo>
                    <a:pt x="6456" y="3282"/>
                  </a:lnTo>
                  <a:lnTo>
                    <a:pt x="6518" y="3282"/>
                  </a:lnTo>
                  <a:lnTo>
                    <a:pt x="6545" y="3282"/>
                  </a:lnTo>
                  <a:lnTo>
                    <a:pt x="6571" y="3282"/>
                  </a:lnTo>
                  <a:lnTo>
                    <a:pt x="6624" y="3282"/>
                  </a:lnTo>
                  <a:lnTo>
                    <a:pt x="6659" y="3282"/>
                  </a:lnTo>
                  <a:lnTo>
                    <a:pt x="6694" y="3282"/>
                  </a:lnTo>
                  <a:lnTo>
                    <a:pt x="6739" y="3282"/>
                  </a:lnTo>
                  <a:lnTo>
                    <a:pt x="6774" y="3282"/>
                  </a:lnTo>
                  <a:lnTo>
                    <a:pt x="6809" y="3274"/>
                  </a:lnTo>
                  <a:lnTo>
                    <a:pt x="6844" y="3265"/>
                  </a:lnTo>
                  <a:lnTo>
                    <a:pt x="6871" y="3247"/>
                  </a:lnTo>
                  <a:lnTo>
                    <a:pt x="6906" y="3221"/>
                  </a:lnTo>
                  <a:lnTo>
                    <a:pt x="6933" y="3221"/>
                  </a:lnTo>
                  <a:lnTo>
                    <a:pt x="6959" y="3221"/>
                  </a:lnTo>
                  <a:lnTo>
                    <a:pt x="6986" y="3221"/>
                  </a:lnTo>
                  <a:lnTo>
                    <a:pt x="7012" y="32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62"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063"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2357280" y="2797200"/>
            <a:ext cx="3821400" cy="2205360"/>
          </a:xfrm>
          <a:custGeom>
            <a:avLst/>
            <a:gdLst/>
            <a:ahLst/>
            <a:rect l="0" t="0" r="r" b="b"/>
            <a:pathLst>
              <a:path fill="none" w="10615" h="6126">
                <a:moveTo>
                  <a:pt x="2614" y="0"/>
                </a:moveTo>
                <a:lnTo>
                  <a:pt x="0" y="0"/>
                </a:lnTo>
                <a:lnTo>
                  <a:pt x="0" y="92"/>
                </a:lnTo>
                <a:lnTo>
                  <a:pt x="0" y="216"/>
                </a:lnTo>
                <a:lnTo>
                  <a:pt x="0" y="308"/>
                </a:lnTo>
                <a:lnTo>
                  <a:pt x="0" y="463"/>
                </a:lnTo>
                <a:lnTo>
                  <a:pt x="30" y="555"/>
                </a:lnTo>
                <a:lnTo>
                  <a:pt x="61" y="648"/>
                </a:lnTo>
                <a:lnTo>
                  <a:pt x="123" y="771"/>
                </a:lnTo>
                <a:lnTo>
                  <a:pt x="185" y="895"/>
                </a:lnTo>
                <a:lnTo>
                  <a:pt x="273" y="1049"/>
                </a:lnTo>
                <a:lnTo>
                  <a:pt x="335" y="1168"/>
                </a:lnTo>
                <a:lnTo>
                  <a:pt x="366" y="1261"/>
                </a:lnTo>
                <a:lnTo>
                  <a:pt x="489" y="1446"/>
                </a:lnTo>
                <a:lnTo>
                  <a:pt x="582" y="1569"/>
                </a:lnTo>
                <a:lnTo>
                  <a:pt x="582" y="1662"/>
                </a:lnTo>
                <a:lnTo>
                  <a:pt x="612" y="1878"/>
                </a:lnTo>
                <a:lnTo>
                  <a:pt x="612" y="1971"/>
                </a:lnTo>
                <a:lnTo>
                  <a:pt x="612" y="2125"/>
                </a:lnTo>
                <a:lnTo>
                  <a:pt x="612" y="2310"/>
                </a:lnTo>
                <a:lnTo>
                  <a:pt x="612" y="2460"/>
                </a:lnTo>
                <a:lnTo>
                  <a:pt x="612" y="2707"/>
                </a:lnTo>
                <a:lnTo>
                  <a:pt x="612" y="2831"/>
                </a:lnTo>
                <a:lnTo>
                  <a:pt x="612" y="2923"/>
                </a:lnTo>
                <a:lnTo>
                  <a:pt x="612" y="3202"/>
                </a:lnTo>
                <a:lnTo>
                  <a:pt x="643" y="3449"/>
                </a:lnTo>
                <a:lnTo>
                  <a:pt x="736" y="3665"/>
                </a:lnTo>
                <a:lnTo>
                  <a:pt x="736" y="3815"/>
                </a:lnTo>
                <a:lnTo>
                  <a:pt x="829" y="4031"/>
                </a:lnTo>
                <a:lnTo>
                  <a:pt x="859" y="4185"/>
                </a:lnTo>
                <a:lnTo>
                  <a:pt x="859" y="4278"/>
                </a:lnTo>
                <a:lnTo>
                  <a:pt x="829" y="4556"/>
                </a:lnTo>
                <a:lnTo>
                  <a:pt x="829" y="4772"/>
                </a:lnTo>
                <a:lnTo>
                  <a:pt x="829" y="4988"/>
                </a:lnTo>
                <a:lnTo>
                  <a:pt x="829" y="5385"/>
                </a:lnTo>
                <a:lnTo>
                  <a:pt x="1508" y="5663"/>
                </a:lnTo>
                <a:lnTo>
                  <a:pt x="1719" y="5755"/>
                </a:lnTo>
                <a:lnTo>
                  <a:pt x="1812" y="5817"/>
                </a:lnTo>
                <a:lnTo>
                  <a:pt x="1935" y="5817"/>
                </a:lnTo>
                <a:lnTo>
                  <a:pt x="2337" y="5817"/>
                </a:lnTo>
                <a:lnTo>
                  <a:pt x="2429" y="5817"/>
                </a:lnTo>
                <a:lnTo>
                  <a:pt x="2522" y="5817"/>
                </a:lnTo>
                <a:lnTo>
                  <a:pt x="2676" y="5817"/>
                </a:lnTo>
                <a:lnTo>
                  <a:pt x="2800" y="5848"/>
                </a:lnTo>
                <a:lnTo>
                  <a:pt x="2950" y="5879"/>
                </a:lnTo>
                <a:lnTo>
                  <a:pt x="3104" y="5971"/>
                </a:lnTo>
                <a:lnTo>
                  <a:pt x="3258" y="6002"/>
                </a:lnTo>
                <a:lnTo>
                  <a:pt x="3474" y="6095"/>
                </a:lnTo>
                <a:lnTo>
                  <a:pt x="3567" y="6126"/>
                </a:lnTo>
                <a:lnTo>
                  <a:pt x="4030" y="6126"/>
                </a:lnTo>
                <a:lnTo>
                  <a:pt x="4519" y="6126"/>
                </a:lnTo>
                <a:lnTo>
                  <a:pt x="4674" y="6126"/>
                </a:lnTo>
                <a:lnTo>
                  <a:pt x="4766" y="6126"/>
                </a:lnTo>
                <a:lnTo>
                  <a:pt x="4859" y="6002"/>
                </a:lnTo>
                <a:lnTo>
                  <a:pt x="5199" y="5879"/>
                </a:lnTo>
                <a:lnTo>
                  <a:pt x="5229" y="5817"/>
                </a:lnTo>
                <a:lnTo>
                  <a:pt x="5447" y="5786"/>
                </a:lnTo>
                <a:lnTo>
                  <a:pt x="5535" y="5755"/>
                </a:lnTo>
                <a:lnTo>
                  <a:pt x="5751" y="5693"/>
                </a:lnTo>
                <a:lnTo>
                  <a:pt x="6183" y="5848"/>
                </a:lnTo>
                <a:lnTo>
                  <a:pt x="6276" y="5786"/>
                </a:lnTo>
                <a:lnTo>
                  <a:pt x="6739" y="5786"/>
                </a:lnTo>
                <a:lnTo>
                  <a:pt x="7444" y="5508"/>
                </a:lnTo>
                <a:lnTo>
                  <a:pt x="7722" y="5477"/>
                </a:lnTo>
                <a:lnTo>
                  <a:pt x="7907" y="5416"/>
                </a:lnTo>
                <a:lnTo>
                  <a:pt x="8061" y="5539"/>
                </a:lnTo>
                <a:lnTo>
                  <a:pt x="8181" y="5570"/>
                </a:lnTo>
                <a:lnTo>
                  <a:pt x="8674" y="5601"/>
                </a:lnTo>
                <a:lnTo>
                  <a:pt x="8860" y="5601"/>
                </a:lnTo>
                <a:lnTo>
                  <a:pt x="8983" y="5570"/>
                </a:lnTo>
                <a:lnTo>
                  <a:pt x="9107" y="5477"/>
                </a:lnTo>
                <a:lnTo>
                  <a:pt x="9199" y="5477"/>
                </a:lnTo>
                <a:lnTo>
                  <a:pt x="9477" y="5477"/>
                </a:lnTo>
                <a:lnTo>
                  <a:pt x="9596" y="5477"/>
                </a:lnTo>
                <a:lnTo>
                  <a:pt x="9689" y="5447"/>
                </a:lnTo>
                <a:lnTo>
                  <a:pt x="9812" y="5447"/>
                </a:lnTo>
                <a:lnTo>
                  <a:pt x="9905" y="5477"/>
                </a:lnTo>
                <a:lnTo>
                  <a:pt x="9997" y="5477"/>
                </a:lnTo>
                <a:lnTo>
                  <a:pt x="10090" y="5570"/>
                </a:lnTo>
                <a:lnTo>
                  <a:pt x="10183" y="5663"/>
                </a:lnTo>
                <a:lnTo>
                  <a:pt x="10275" y="5786"/>
                </a:lnTo>
                <a:lnTo>
                  <a:pt x="10429" y="5817"/>
                </a:lnTo>
                <a:lnTo>
                  <a:pt x="10522" y="5848"/>
                </a:lnTo>
                <a:lnTo>
                  <a:pt x="10615" y="5879"/>
                </a:lnTo>
                <a:lnTo>
                  <a:pt x="10615" y="5786"/>
                </a:lnTo>
                <a:lnTo>
                  <a:pt x="10615" y="5693"/>
                </a:lnTo>
                <a:lnTo>
                  <a:pt x="10615" y="54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6" name=""/>
          <p:cNvSpPr txBox="1"/>
          <p:nvPr/>
        </p:nvSpPr>
        <p:spPr>
          <a:xfrm>
            <a:off x="3981600" y="1149480"/>
            <a:ext cx="461484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Part is brought into contact with “assumed”</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datum B (minimum two points of contact).</a:t>
            </a:r>
            <a:endParaRPr b="0" lang="en-US" sz="2000" spc="-1" strike="noStrike">
              <a:solidFill>
                <a:srgbClr val="000000"/>
              </a:solidFill>
              <a:latin typeface="Arial"/>
            </a:endParaRPr>
          </a:p>
        </p:txBody>
      </p:sp>
      <p:sp>
        <p:nvSpPr>
          <p:cNvPr id="1067" name=""/>
          <p:cNvSpPr/>
          <p:nvPr/>
        </p:nvSpPr>
        <p:spPr>
          <a:xfrm>
            <a:off x="8515440" y="1657440"/>
            <a:ext cx="18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flipH="1">
            <a:off x="6178680" y="1657440"/>
            <a:ext cx="2523960" cy="1593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sp>
        <p:nvSpPr>
          <p:cNvPr id="1070" name=""/>
          <p:cNvSpPr txBox="1"/>
          <p:nvPr/>
        </p:nvSpPr>
        <p:spPr>
          <a:xfrm>
            <a:off x="4114800" y="5181480"/>
            <a:ext cx="3683160" cy="131112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 (th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primary datum establishes the </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orientation of the 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2"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a:off x="3971880" y="3733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5680080" y="34894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75" name=""/>
          <p:cNvGrpSpPr/>
          <p:nvPr/>
        </p:nvGrpSpPr>
        <p:grpSpPr>
          <a:xfrm>
            <a:off x="3873600" y="3873600"/>
            <a:ext cx="523800" cy="0"/>
            <a:chOff x="3873600" y="3873600"/>
            <a:chExt cx="523800" cy="0"/>
          </a:xfrm>
        </p:grpSpPr>
        <p:sp>
          <p:nvSpPr>
            <p:cNvPr id="1076" name=""/>
            <p:cNvSpPr/>
            <p:nvPr/>
          </p:nvSpPr>
          <p:spPr>
            <a:xfrm>
              <a:off x="3873600" y="38736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4079880" y="3873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4222800" y="38736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79" name=""/>
          <p:cNvSpPr/>
          <p:nvPr/>
        </p:nvSpPr>
        <p:spPr>
          <a:xfrm>
            <a:off x="5556240" y="363528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5921280" y="3635280"/>
            <a:ext cx="217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5794200" y="363528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82" name=""/>
          <p:cNvGrpSpPr/>
          <p:nvPr/>
        </p:nvGrpSpPr>
        <p:grpSpPr>
          <a:xfrm>
            <a:off x="4113360" y="3637080"/>
            <a:ext cx="0" cy="523800"/>
            <a:chOff x="4113360" y="3637080"/>
            <a:chExt cx="0" cy="523800"/>
          </a:xfrm>
        </p:grpSpPr>
        <p:sp>
          <p:nvSpPr>
            <p:cNvPr id="1083" name=""/>
            <p:cNvSpPr/>
            <p:nvPr/>
          </p:nvSpPr>
          <p:spPr>
            <a:xfrm>
              <a:off x="4113360" y="36370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4113360" y="384336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085" name=""/>
            <p:cNvSpPr/>
            <p:nvPr/>
          </p:nvSpPr>
          <p:spPr>
            <a:xfrm>
              <a:off x="4113360" y="398628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86" name=""/>
          <p:cNvGrpSpPr/>
          <p:nvPr/>
        </p:nvGrpSpPr>
        <p:grpSpPr>
          <a:xfrm>
            <a:off x="5827680" y="3398760"/>
            <a:ext cx="0" cy="523800"/>
            <a:chOff x="5827680" y="3398760"/>
            <a:chExt cx="0" cy="523800"/>
          </a:xfrm>
        </p:grpSpPr>
        <p:sp>
          <p:nvSpPr>
            <p:cNvPr id="1087" name=""/>
            <p:cNvSpPr/>
            <p:nvPr/>
          </p:nvSpPr>
          <p:spPr>
            <a:xfrm>
              <a:off x="5827680" y="339876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5827680" y="360504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089" name=""/>
            <p:cNvSpPr/>
            <p:nvPr/>
          </p:nvSpPr>
          <p:spPr>
            <a:xfrm>
              <a:off x="5827680" y="374796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90" name=""/>
          <p:cNvSpPr txBox="1"/>
          <p:nvPr/>
        </p:nvSpPr>
        <p:spPr>
          <a:xfrm>
            <a:off x="5156280" y="1235160"/>
            <a:ext cx="36273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inimum of one point of contact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n “assumed” datum C.</a:t>
            </a:r>
            <a:endParaRPr b="0" lang="en-US" sz="2000" spc="-1" strike="noStrike">
              <a:solidFill>
                <a:srgbClr val="000000"/>
              </a:solidFill>
              <a:latin typeface="Arial"/>
            </a:endParaRPr>
          </a:p>
        </p:txBody>
      </p:sp>
      <p:sp>
        <p:nvSpPr>
          <p:cNvPr id="1091" name=""/>
          <p:cNvSpPr/>
          <p:nvPr/>
        </p:nvSpPr>
        <p:spPr>
          <a:xfrm flipH="1">
            <a:off x="4802040" y="1401840"/>
            <a:ext cx="308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4802040" y="1401840"/>
            <a:ext cx="1366920" cy="1366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93" name=""/>
          <p:cNvGrpSpPr/>
          <p:nvPr/>
        </p:nvGrpSpPr>
        <p:grpSpPr>
          <a:xfrm>
            <a:off x="3629160" y="2786040"/>
            <a:ext cx="2549520" cy="1495800"/>
            <a:chOff x="3629160" y="2786040"/>
            <a:chExt cx="2549520" cy="1495800"/>
          </a:xfrm>
        </p:grpSpPr>
        <p:sp>
          <p:nvSpPr>
            <p:cNvPr id="1094" name=""/>
            <p:cNvSpPr/>
            <p:nvPr/>
          </p:nvSpPr>
          <p:spPr>
            <a:xfrm>
              <a:off x="6122880" y="2790720"/>
              <a:ext cx="55800" cy="1162440"/>
            </a:xfrm>
            <a:custGeom>
              <a:avLst/>
              <a:gdLst/>
              <a:ahLst/>
              <a:rect l="0" t="0" r="r" b="b"/>
              <a:pathLst>
                <a:path fill="none" w="155" h="3229">
                  <a:moveTo>
                    <a:pt x="142" y="0"/>
                  </a:moveTo>
                  <a:lnTo>
                    <a:pt x="155" y="132"/>
                  </a:lnTo>
                  <a:lnTo>
                    <a:pt x="44" y="282"/>
                  </a:lnTo>
                  <a:lnTo>
                    <a:pt x="13" y="418"/>
                  </a:lnTo>
                  <a:lnTo>
                    <a:pt x="35" y="546"/>
                  </a:lnTo>
                  <a:lnTo>
                    <a:pt x="57" y="679"/>
                  </a:lnTo>
                  <a:lnTo>
                    <a:pt x="26" y="821"/>
                  </a:lnTo>
                  <a:lnTo>
                    <a:pt x="4" y="957"/>
                  </a:lnTo>
                  <a:lnTo>
                    <a:pt x="22" y="1085"/>
                  </a:lnTo>
                  <a:lnTo>
                    <a:pt x="89" y="1253"/>
                  </a:lnTo>
                  <a:lnTo>
                    <a:pt x="111" y="1385"/>
                  </a:lnTo>
                  <a:lnTo>
                    <a:pt x="39" y="1531"/>
                  </a:lnTo>
                  <a:lnTo>
                    <a:pt x="57" y="1663"/>
                  </a:lnTo>
                  <a:lnTo>
                    <a:pt x="74" y="1795"/>
                  </a:lnTo>
                  <a:lnTo>
                    <a:pt x="93" y="1928"/>
                  </a:lnTo>
                  <a:lnTo>
                    <a:pt x="115" y="2055"/>
                  </a:lnTo>
                  <a:lnTo>
                    <a:pt x="137" y="2227"/>
                  </a:lnTo>
                  <a:lnTo>
                    <a:pt x="111" y="2364"/>
                  </a:lnTo>
                  <a:lnTo>
                    <a:pt x="39" y="2511"/>
                  </a:lnTo>
                  <a:lnTo>
                    <a:pt x="61" y="2639"/>
                  </a:lnTo>
                  <a:lnTo>
                    <a:pt x="35" y="2780"/>
                  </a:lnTo>
                  <a:lnTo>
                    <a:pt x="52" y="2912"/>
                  </a:lnTo>
                  <a:lnTo>
                    <a:pt x="70" y="3044"/>
                  </a:lnTo>
                  <a:lnTo>
                    <a:pt x="89" y="3172"/>
                  </a:lnTo>
                  <a:lnTo>
                    <a:pt x="8" y="3229"/>
                  </a:lnTo>
                  <a:lnTo>
                    <a:pt x="0" y="31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5" name=""/>
            <p:cNvSpPr/>
            <p:nvPr/>
          </p:nvSpPr>
          <p:spPr>
            <a:xfrm>
              <a:off x="3629160" y="2786040"/>
              <a:ext cx="2543400" cy="1495800"/>
            </a:xfrm>
            <a:custGeom>
              <a:avLst/>
              <a:gdLst/>
              <a:ahLst/>
              <a:rect l="0" t="0" r="r" b="b"/>
              <a:pathLst>
                <a:path fill="none" w="7065" h="4155">
                  <a:moveTo>
                    <a:pt x="7065" y="0"/>
                  </a:moveTo>
                  <a:lnTo>
                    <a:pt x="7038" y="17"/>
                  </a:lnTo>
                  <a:lnTo>
                    <a:pt x="7012" y="17"/>
                  </a:lnTo>
                  <a:lnTo>
                    <a:pt x="6986" y="17"/>
                  </a:lnTo>
                  <a:lnTo>
                    <a:pt x="6941" y="17"/>
                  </a:lnTo>
                  <a:lnTo>
                    <a:pt x="6897" y="17"/>
                  </a:lnTo>
                  <a:lnTo>
                    <a:pt x="6853" y="17"/>
                  </a:lnTo>
                  <a:lnTo>
                    <a:pt x="6809" y="17"/>
                  </a:lnTo>
                  <a:lnTo>
                    <a:pt x="6747" y="26"/>
                  </a:lnTo>
                  <a:lnTo>
                    <a:pt x="6721" y="44"/>
                  </a:lnTo>
                  <a:lnTo>
                    <a:pt x="6650" y="79"/>
                  </a:lnTo>
                  <a:lnTo>
                    <a:pt x="6624" y="88"/>
                  </a:lnTo>
                  <a:lnTo>
                    <a:pt x="6597" y="97"/>
                  </a:lnTo>
                  <a:lnTo>
                    <a:pt x="6562" y="105"/>
                  </a:lnTo>
                  <a:lnTo>
                    <a:pt x="6527" y="114"/>
                  </a:lnTo>
                  <a:lnTo>
                    <a:pt x="6492" y="114"/>
                  </a:lnTo>
                  <a:lnTo>
                    <a:pt x="6430" y="123"/>
                  </a:lnTo>
                  <a:lnTo>
                    <a:pt x="6403" y="123"/>
                  </a:lnTo>
                  <a:lnTo>
                    <a:pt x="6359" y="132"/>
                  </a:lnTo>
                  <a:lnTo>
                    <a:pt x="6298" y="141"/>
                  </a:lnTo>
                  <a:lnTo>
                    <a:pt x="6271" y="149"/>
                  </a:lnTo>
                  <a:lnTo>
                    <a:pt x="6218" y="158"/>
                  </a:lnTo>
                  <a:lnTo>
                    <a:pt x="6165" y="185"/>
                  </a:lnTo>
                  <a:lnTo>
                    <a:pt x="6130" y="194"/>
                  </a:lnTo>
                  <a:lnTo>
                    <a:pt x="6086" y="220"/>
                  </a:lnTo>
                  <a:lnTo>
                    <a:pt x="6042" y="229"/>
                  </a:lnTo>
                  <a:lnTo>
                    <a:pt x="5998" y="238"/>
                  </a:lnTo>
                  <a:lnTo>
                    <a:pt x="5971" y="238"/>
                  </a:lnTo>
                  <a:lnTo>
                    <a:pt x="5927" y="246"/>
                  </a:lnTo>
                  <a:lnTo>
                    <a:pt x="5892" y="255"/>
                  </a:lnTo>
                  <a:lnTo>
                    <a:pt x="5839" y="255"/>
                  </a:lnTo>
                  <a:lnTo>
                    <a:pt x="5795" y="255"/>
                  </a:lnTo>
                  <a:lnTo>
                    <a:pt x="5733" y="255"/>
                  </a:lnTo>
                  <a:lnTo>
                    <a:pt x="5707" y="264"/>
                  </a:lnTo>
                  <a:lnTo>
                    <a:pt x="5663" y="273"/>
                  </a:lnTo>
                  <a:lnTo>
                    <a:pt x="5610" y="273"/>
                  </a:lnTo>
                  <a:lnTo>
                    <a:pt x="5548" y="291"/>
                  </a:lnTo>
                  <a:lnTo>
                    <a:pt x="5521" y="291"/>
                  </a:lnTo>
                  <a:lnTo>
                    <a:pt x="5477" y="291"/>
                  </a:lnTo>
                  <a:lnTo>
                    <a:pt x="5451" y="291"/>
                  </a:lnTo>
                  <a:lnTo>
                    <a:pt x="5424" y="291"/>
                  </a:lnTo>
                  <a:lnTo>
                    <a:pt x="5372" y="291"/>
                  </a:lnTo>
                  <a:lnTo>
                    <a:pt x="5327" y="291"/>
                  </a:lnTo>
                  <a:lnTo>
                    <a:pt x="5301" y="291"/>
                  </a:lnTo>
                  <a:lnTo>
                    <a:pt x="5275" y="299"/>
                  </a:lnTo>
                  <a:lnTo>
                    <a:pt x="5213" y="308"/>
                  </a:lnTo>
                  <a:lnTo>
                    <a:pt x="5178" y="308"/>
                  </a:lnTo>
                  <a:lnTo>
                    <a:pt x="5107" y="317"/>
                  </a:lnTo>
                  <a:lnTo>
                    <a:pt x="5072" y="317"/>
                  </a:lnTo>
                  <a:lnTo>
                    <a:pt x="5036" y="317"/>
                  </a:lnTo>
                  <a:lnTo>
                    <a:pt x="5001" y="326"/>
                  </a:lnTo>
                  <a:lnTo>
                    <a:pt x="4957" y="326"/>
                  </a:lnTo>
                  <a:lnTo>
                    <a:pt x="4931" y="343"/>
                  </a:lnTo>
                  <a:lnTo>
                    <a:pt x="4895" y="352"/>
                  </a:lnTo>
                  <a:lnTo>
                    <a:pt x="4869" y="361"/>
                  </a:lnTo>
                  <a:lnTo>
                    <a:pt x="4807" y="396"/>
                  </a:lnTo>
                  <a:lnTo>
                    <a:pt x="4763" y="432"/>
                  </a:lnTo>
                  <a:lnTo>
                    <a:pt x="4719" y="440"/>
                  </a:lnTo>
                  <a:lnTo>
                    <a:pt x="4692" y="449"/>
                  </a:lnTo>
                  <a:lnTo>
                    <a:pt x="4551" y="458"/>
                  </a:lnTo>
                  <a:lnTo>
                    <a:pt x="4516" y="467"/>
                  </a:lnTo>
                  <a:lnTo>
                    <a:pt x="4454" y="467"/>
                  </a:lnTo>
                  <a:lnTo>
                    <a:pt x="4375" y="467"/>
                  </a:lnTo>
                  <a:lnTo>
                    <a:pt x="4348" y="467"/>
                  </a:lnTo>
                  <a:lnTo>
                    <a:pt x="4278" y="458"/>
                  </a:lnTo>
                  <a:lnTo>
                    <a:pt x="4216" y="458"/>
                  </a:lnTo>
                  <a:lnTo>
                    <a:pt x="4110" y="458"/>
                  </a:lnTo>
                  <a:lnTo>
                    <a:pt x="4066" y="458"/>
                  </a:lnTo>
                  <a:lnTo>
                    <a:pt x="4031" y="458"/>
                  </a:lnTo>
                  <a:lnTo>
                    <a:pt x="3978" y="467"/>
                  </a:lnTo>
                  <a:lnTo>
                    <a:pt x="3943" y="467"/>
                  </a:lnTo>
                  <a:lnTo>
                    <a:pt x="3908" y="476"/>
                  </a:lnTo>
                  <a:lnTo>
                    <a:pt x="3872" y="485"/>
                  </a:lnTo>
                  <a:lnTo>
                    <a:pt x="3811" y="493"/>
                  </a:lnTo>
                  <a:lnTo>
                    <a:pt x="3784" y="502"/>
                  </a:lnTo>
                  <a:lnTo>
                    <a:pt x="3713" y="529"/>
                  </a:lnTo>
                  <a:lnTo>
                    <a:pt x="3669" y="537"/>
                  </a:lnTo>
                  <a:lnTo>
                    <a:pt x="3643" y="546"/>
                  </a:lnTo>
                  <a:lnTo>
                    <a:pt x="3616" y="555"/>
                  </a:lnTo>
                  <a:lnTo>
                    <a:pt x="3581" y="564"/>
                  </a:lnTo>
                  <a:lnTo>
                    <a:pt x="3555" y="590"/>
                  </a:lnTo>
                  <a:lnTo>
                    <a:pt x="3527" y="617"/>
                  </a:lnTo>
                  <a:lnTo>
                    <a:pt x="3501" y="626"/>
                  </a:lnTo>
                  <a:lnTo>
                    <a:pt x="3457" y="635"/>
                  </a:lnTo>
                  <a:lnTo>
                    <a:pt x="3430" y="635"/>
                  </a:lnTo>
                  <a:lnTo>
                    <a:pt x="3377" y="635"/>
                  </a:lnTo>
                  <a:lnTo>
                    <a:pt x="3298" y="626"/>
                  </a:lnTo>
                  <a:lnTo>
                    <a:pt x="3254" y="626"/>
                  </a:lnTo>
                  <a:lnTo>
                    <a:pt x="3219" y="626"/>
                  </a:lnTo>
                  <a:lnTo>
                    <a:pt x="3175" y="626"/>
                  </a:lnTo>
                  <a:lnTo>
                    <a:pt x="3095" y="626"/>
                  </a:lnTo>
                  <a:lnTo>
                    <a:pt x="3060" y="626"/>
                  </a:lnTo>
                  <a:lnTo>
                    <a:pt x="3033" y="626"/>
                  </a:lnTo>
                  <a:lnTo>
                    <a:pt x="2972" y="635"/>
                  </a:lnTo>
                  <a:lnTo>
                    <a:pt x="2945" y="635"/>
                  </a:lnTo>
                  <a:lnTo>
                    <a:pt x="2883" y="635"/>
                  </a:lnTo>
                  <a:lnTo>
                    <a:pt x="2813" y="635"/>
                  </a:lnTo>
                  <a:lnTo>
                    <a:pt x="2786" y="635"/>
                  </a:lnTo>
                  <a:lnTo>
                    <a:pt x="2751" y="617"/>
                  </a:lnTo>
                  <a:lnTo>
                    <a:pt x="2725" y="617"/>
                  </a:lnTo>
                  <a:lnTo>
                    <a:pt x="2663" y="608"/>
                  </a:lnTo>
                  <a:lnTo>
                    <a:pt x="2610" y="608"/>
                  </a:lnTo>
                  <a:lnTo>
                    <a:pt x="2531" y="608"/>
                  </a:lnTo>
                  <a:lnTo>
                    <a:pt x="2495" y="608"/>
                  </a:lnTo>
                  <a:lnTo>
                    <a:pt x="2469" y="608"/>
                  </a:lnTo>
                  <a:lnTo>
                    <a:pt x="2442" y="608"/>
                  </a:lnTo>
                  <a:lnTo>
                    <a:pt x="2398" y="608"/>
                  </a:lnTo>
                  <a:lnTo>
                    <a:pt x="2363" y="608"/>
                  </a:lnTo>
                  <a:lnTo>
                    <a:pt x="2337" y="617"/>
                  </a:lnTo>
                  <a:lnTo>
                    <a:pt x="2293" y="617"/>
                  </a:lnTo>
                  <a:lnTo>
                    <a:pt x="2257" y="626"/>
                  </a:lnTo>
                  <a:lnTo>
                    <a:pt x="2222" y="635"/>
                  </a:lnTo>
                  <a:lnTo>
                    <a:pt x="2169" y="643"/>
                  </a:lnTo>
                  <a:lnTo>
                    <a:pt x="2143" y="643"/>
                  </a:lnTo>
                  <a:lnTo>
                    <a:pt x="2099" y="652"/>
                  </a:lnTo>
                  <a:lnTo>
                    <a:pt x="1887" y="661"/>
                  </a:lnTo>
                  <a:lnTo>
                    <a:pt x="1843" y="670"/>
                  </a:lnTo>
                  <a:lnTo>
                    <a:pt x="1816" y="670"/>
                  </a:lnTo>
                  <a:lnTo>
                    <a:pt x="1772" y="670"/>
                  </a:lnTo>
                  <a:lnTo>
                    <a:pt x="1737" y="679"/>
                  </a:lnTo>
                  <a:lnTo>
                    <a:pt x="1710" y="679"/>
                  </a:lnTo>
                  <a:lnTo>
                    <a:pt x="1684" y="687"/>
                  </a:lnTo>
                  <a:lnTo>
                    <a:pt x="1658" y="696"/>
                  </a:lnTo>
                  <a:lnTo>
                    <a:pt x="1622" y="723"/>
                  </a:lnTo>
                  <a:lnTo>
                    <a:pt x="1596" y="740"/>
                  </a:lnTo>
                  <a:lnTo>
                    <a:pt x="1569" y="740"/>
                  </a:lnTo>
                  <a:lnTo>
                    <a:pt x="1481" y="767"/>
                  </a:lnTo>
                  <a:lnTo>
                    <a:pt x="1437" y="776"/>
                  </a:lnTo>
                  <a:lnTo>
                    <a:pt x="1393" y="784"/>
                  </a:lnTo>
                  <a:lnTo>
                    <a:pt x="1296" y="802"/>
                  </a:lnTo>
                  <a:lnTo>
                    <a:pt x="1270" y="811"/>
                  </a:lnTo>
                  <a:lnTo>
                    <a:pt x="1243" y="811"/>
                  </a:lnTo>
                  <a:lnTo>
                    <a:pt x="1208" y="820"/>
                  </a:lnTo>
                  <a:lnTo>
                    <a:pt x="1128" y="829"/>
                  </a:lnTo>
                  <a:lnTo>
                    <a:pt x="1023" y="864"/>
                  </a:lnTo>
                  <a:lnTo>
                    <a:pt x="961" y="873"/>
                  </a:lnTo>
                  <a:lnTo>
                    <a:pt x="934" y="873"/>
                  </a:lnTo>
                  <a:lnTo>
                    <a:pt x="908" y="881"/>
                  </a:lnTo>
                  <a:lnTo>
                    <a:pt x="881" y="881"/>
                  </a:lnTo>
                  <a:lnTo>
                    <a:pt x="846" y="890"/>
                  </a:lnTo>
                  <a:lnTo>
                    <a:pt x="793" y="899"/>
                  </a:lnTo>
                  <a:lnTo>
                    <a:pt x="749" y="917"/>
                  </a:lnTo>
                  <a:lnTo>
                    <a:pt x="687" y="934"/>
                  </a:lnTo>
                  <a:lnTo>
                    <a:pt x="661" y="934"/>
                  </a:lnTo>
                  <a:lnTo>
                    <a:pt x="626" y="934"/>
                  </a:lnTo>
                  <a:lnTo>
                    <a:pt x="599" y="943"/>
                  </a:lnTo>
                  <a:lnTo>
                    <a:pt x="573" y="943"/>
                  </a:lnTo>
                  <a:lnTo>
                    <a:pt x="493" y="943"/>
                  </a:lnTo>
                  <a:lnTo>
                    <a:pt x="467" y="943"/>
                  </a:lnTo>
                  <a:lnTo>
                    <a:pt x="440" y="943"/>
                  </a:lnTo>
                  <a:lnTo>
                    <a:pt x="405" y="943"/>
                  </a:lnTo>
                  <a:lnTo>
                    <a:pt x="343" y="952"/>
                  </a:lnTo>
                  <a:lnTo>
                    <a:pt x="317" y="952"/>
                  </a:lnTo>
                  <a:lnTo>
                    <a:pt x="282" y="952"/>
                  </a:lnTo>
                  <a:lnTo>
                    <a:pt x="255" y="952"/>
                  </a:lnTo>
                  <a:lnTo>
                    <a:pt x="229" y="952"/>
                  </a:lnTo>
                  <a:lnTo>
                    <a:pt x="185" y="952"/>
                  </a:lnTo>
                  <a:lnTo>
                    <a:pt x="158" y="961"/>
                  </a:lnTo>
                  <a:lnTo>
                    <a:pt x="123" y="970"/>
                  </a:lnTo>
                  <a:lnTo>
                    <a:pt x="79" y="978"/>
                  </a:lnTo>
                  <a:lnTo>
                    <a:pt x="52" y="987"/>
                  </a:lnTo>
                  <a:lnTo>
                    <a:pt x="26" y="1005"/>
                  </a:lnTo>
                  <a:lnTo>
                    <a:pt x="0" y="1014"/>
                  </a:lnTo>
                  <a:lnTo>
                    <a:pt x="0" y="1014"/>
                  </a:lnTo>
                  <a:lnTo>
                    <a:pt x="8" y="1068"/>
                  </a:lnTo>
                  <a:lnTo>
                    <a:pt x="17" y="1112"/>
                  </a:lnTo>
                  <a:lnTo>
                    <a:pt x="17" y="1147"/>
                  </a:lnTo>
                  <a:lnTo>
                    <a:pt x="35" y="1173"/>
                  </a:lnTo>
                  <a:lnTo>
                    <a:pt x="52" y="1200"/>
                  </a:lnTo>
                  <a:lnTo>
                    <a:pt x="52" y="1226"/>
                  </a:lnTo>
                  <a:lnTo>
                    <a:pt x="52" y="1253"/>
                  </a:lnTo>
                  <a:lnTo>
                    <a:pt x="61" y="1279"/>
                  </a:lnTo>
                  <a:lnTo>
                    <a:pt x="61" y="1306"/>
                  </a:lnTo>
                  <a:lnTo>
                    <a:pt x="70" y="1332"/>
                  </a:lnTo>
                  <a:lnTo>
                    <a:pt x="70" y="1359"/>
                  </a:lnTo>
                  <a:lnTo>
                    <a:pt x="70" y="1403"/>
                  </a:lnTo>
                  <a:lnTo>
                    <a:pt x="70" y="1447"/>
                  </a:lnTo>
                  <a:lnTo>
                    <a:pt x="61" y="1482"/>
                  </a:lnTo>
                  <a:lnTo>
                    <a:pt x="52" y="1509"/>
                  </a:lnTo>
                  <a:lnTo>
                    <a:pt x="52" y="1535"/>
                  </a:lnTo>
                  <a:lnTo>
                    <a:pt x="44" y="1579"/>
                  </a:lnTo>
                  <a:lnTo>
                    <a:pt x="44" y="1614"/>
                  </a:lnTo>
                  <a:lnTo>
                    <a:pt x="44" y="1650"/>
                  </a:lnTo>
                  <a:lnTo>
                    <a:pt x="44" y="1676"/>
                  </a:lnTo>
                  <a:lnTo>
                    <a:pt x="52" y="1703"/>
                  </a:lnTo>
                  <a:lnTo>
                    <a:pt x="61" y="1738"/>
                  </a:lnTo>
                  <a:lnTo>
                    <a:pt x="70" y="1773"/>
                  </a:lnTo>
                  <a:lnTo>
                    <a:pt x="88" y="1808"/>
                  </a:lnTo>
                  <a:lnTo>
                    <a:pt x="114" y="1844"/>
                  </a:lnTo>
                  <a:lnTo>
                    <a:pt x="114" y="1879"/>
                  </a:lnTo>
                  <a:lnTo>
                    <a:pt x="123" y="1906"/>
                  </a:lnTo>
                  <a:lnTo>
                    <a:pt x="132" y="1950"/>
                  </a:lnTo>
                  <a:lnTo>
                    <a:pt x="132" y="1976"/>
                  </a:lnTo>
                  <a:lnTo>
                    <a:pt x="149" y="2011"/>
                  </a:lnTo>
                  <a:lnTo>
                    <a:pt x="167" y="2038"/>
                  </a:lnTo>
                  <a:lnTo>
                    <a:pt x="167" y="2100"/>
                  </a:lnTo>
                  <a:lnTo>
                    <a:pt x="167" y="2126"/>
                  </a:lnTo>
                  <a:lnTo>
                    <a:pt x="167" y="2161"/>
                  </a:lnTo>
                  <a:lnTo>
                    <a:pt x="167" y="2188"/>
                  </a:lnTo>
                  <a:lnTo>
                    <a:pt x="167" y="2214"/>
                  </a:lnTo>
                  <a:lnTo>
                    <a:pt x="167" y="2241"/>
                  </a:lnTo>
                  <a:lnTo>
                    <a:pt x="167" y="2276"/>
                  </a:lnTo>
                  <a:lnTo>
                    <a:pt x="167" y="2302"/>
                  </a:lnTo>
                  <a:lnTo>
                    <a:pt x="167" y="2329"/>
                  </a:lnTo>
                  <a:lnTo>
                    <a:pt x="167" y="2382"/>
                  </a:lnTo>
                  <a:lnTo>
                    <a:pt x="167" y="2408"/>
                  </a:lnTo>
                  <a:lnTo>
                    <a:pt x="185" y="2452"/>
                  </a:lnTo>
                  <a:lnTo>
                    <a:pt x="194" y="2532"/>
                  </a:lnTo>
                  <a:lnTo>
                    <a:pt x="202" y="2593"/>
                  </a:lnTo>
                  <a:lnTo>
                    <a:pt x="202" y="2620"/>
                  </a:lnTo>
                  <a:lnTo>
                    <a:pt x="202" y="2655"/>
                  </a:lnTo>
                  <a:lnTo>
                    <a:pt x="211" y="2699"/>
                  </a:lnTo>
                  <a:lnTo>
                    <a:pt x="220" y="2726"/>
                  </a:lnTo>
                  <a:lnTo>
                    <a:pt x="220" y="2761"/>
                  </a:lnTo>
                  <a:lnTo>
                    <a:pt x="229" y="2787"/>
                  </a:lnTo>
                  <a:lnTo>
                    <a:pt x="238" y="2832"/>
                  </a:lnTo>
                  <a:lnTo>
                    <a:pt x="246" y="2867"/>
                  </a:lnTo>
                  <a:lnTo>
                    <a:pt x="255" y="2937"/>
                  </a:lnTo>
                  <a:lnTo>
                    <a:pt x="264" y="2981"/>
                  </a:lnTo>
                  <a:lnTo>
                    <a:pt x="273" y="3043"/>
                  </a:lnTo>
                  <a:lnTo>
                    <a:pt x="273" y="3070"/>
                  </a:lnTo>
                  <a:lnTo>
                    <a:pt x="291" y="3096"/>
                  </a:lnTo>
                  <a:lnTo>
                    <a:pt x="299" y="3124"/>
                  </a:lnTo>
                  <a:lnTo>
                    <a:pt x="308" y="3168"/>
                  </a:lnTo>
                  <a:lnTo>
                    <a:pt x="326" y="3194"/>
                  </a:lnTo>
                  <a:lnTo>
                    <a:pt x="335" y="3221"/>
                  </a:lnTo>
                  <a:lnTo>
                    <a:pt x="370" y="3256"/>
                  </a:lnTo>
                  <a:lnTo>
                    <a:pt x="370" y="3291"/>
                  </a:lnTo>
                  <a:lnTo>
                    <a:pt x="379" y="3326"/>
                  </a:lnTo>
                  <a:lnTo>
                    <a:pt x="379" y="3353"/>
                  </a:lnTo>
                  <a:lnTo>
                    <a:pt x="379" y="3379"/>
                  </a:lnTo>
                  <a:lnTo>
                    <a:pt x="379" y="3423"/>
                  </a:lnTo>
                  <a:lnTo>
                    <a:pt x="379" y="3468"/>
                  </a:lnTo>
                  <a:lnTo>
                    <a:pt x="370" y="3512"/>
                  </a:lnTo>
                  <a:lnTo>
                    <a:pt x="370" y="3688"/>
                  </a:lnTo>
                  <a:lnTo>
                    <a:pt x="361" y="3714"/>
                  </a:lnTo>
                  <a:lnTo>
                    <a:pt x="352" y="3741"/>
                  </a:lnTo>
                  <a:lnTo>
                    <a:pt x="352" y="3767"/>
                  </a:lnTo>
                  <a:lnTo>
                    <a:pt x="343" y="3794"/>
                  </a:lnTo>
                  <a:lnTo>
                    <a:pt x="335" y="3820"/>
                  </a:lnTo>
                  <a:lnTo>
                    <a:pt x="335" y="3847"/>
                  </a:lnTo>
                  <a:lnTo>
                    <a:pt x="335" y="3873"/>
                  </a:lnTo>
                  <a:lnTo>
                    <a:pt x="335" y="3909"/>
                  </a:lnTo>
                  <a:lnTo>
                    <a:pt x="335" y="3935"/>
                  </a:lnTo>
                  <a:lnTo>
                    <a:pt x="335" y="3961"/>
                  </a:lnTo>
                  <a:lnTo>
                    <a:pt x="335" y="3988"/>
                  </a:lnTo>
                  <a:lnTo>
                    <a:pt x="335" y="4041"/>
                  </a:lnTo>
                  <a:lnTo>
                    <a:pt x="335" y="4085"/>
                  </a:lnTo>
                  <a:lnTo>
                    <a:pt x="335" y="4129"/>
                  </a:lnTo>
                  <a:lnTo>
                    <a:pt x="352" y="4155"/>
                  </a:lnTo>
                  <a:lnTo>
                    <a:pt x="343" y="4155"/>
                  </a:lnTo>
                  <a:lnTo>
                    <a:pt x="379" y="4147"/>
                  </a:lnTo>
                  <a:lnTo>
                    <a:pt x="423" y="4129"/>
                  </a:lnTo>
                  <a:lnTo>
                    <a:pt x="449" y="4120"/>
                  </a:lnTo>
                  <a:lnTo>
                    <a:pt x="476" y="4111"/>
                  </a:lnTo>
                  <a:lnTo>
                    <a:pt x="502" y="4111"/>
                  </a:lnTo>
                  <a:lnTo>
                    <a:pt x="546" y="4103"/>
                  </a:lnTo>
                  <a:lnTo>
                    <a:pt x="573" y="4103"/>
                  </a:lnTo>
                  <a:lnTo>
                    <a:pt x="617" y="4103"/>
                  </a:lnTo>
                  <a:lnTo>
                    <a:pt x="643" y="4103"/>
                  </a:lnTo>
                  <a:lnTo>
                    <a:pt x="670" y="4103"/>
                  </a:lnTo>
                  <a:lnTo>
                    <a:pt x="714" y="4103"/>
                  </a:lnTo>
                  <a:lnTo>
                    <a:pt x="740" y="4103"/>
                  </a:lnTo>
                  <a:lnTo>
                    <a:pt x="767" y="4103"/>
                  </a:lnTo>
                  <a:lnTo>
                    <a:pt x="802" y="4111"/>
                  </a:lnTo>
                  <a:lnTo>
                    <a:pt x="837" y="4120"/>
                  </a:lnTo>
                  <a:lnTo>
                    <a:pt x="864" y="4120"/>
                  </a:lnTo>
                  <a:lnTo>
                    <a:pt x="926" y="4120"/>
                  </a:lnTo>
                  <a:lnTo>
                    <a:pt x="961" y="4120"/>
                  </a:lnTo>
                  <a:lnTo>
                    <a:pt x="996" y="4120"/>
                  </a:lnTo>
                  <a:lnTo>
                    <a:pt x="1067" y="4111"/>
                  </a:lnTo>
                  <a:lnTo>
                    <a:pt x="1102" y="4103"/>
                  </a:lnTo>
                  <a:lnTo>
                    <a:pt x="1137" y="4103"/>
                  </a:lnTo>
                  <a:lnTo>
                    <a:pt x="1172" y="4120"/>
                  </a:lnTo>
                  <a:lnTo>
                    <a:pt x="1217" y="4120"/>
                  </a:lnTo>
                  <a:lnTo>
                    <a:pt x="1261" y="4120"/>
                  </a:lnTo>
                  <a:lnTo>
                    <a:pt x="1287" y="4120"/>
                  </a:lnTo>
                  <a:lnTo>
                    <a:pt x="1314" y="4120"/>
                  </a:lnTo>
                  <a:lnTo>
                    <a:pt x="1419" y="4103"/>
                  </a:lnTo>
                  <a:lnTo>
                    <a:pt x="1481" y="4076"/>
                  </a:lnTo>
                  <a:lnTo>
                    <a:pt x="1508" y="4067"/>
                  </a:lnTo>
                  <a:lnTo>
                    <a:pt x="1552" y="4041"/>
                  </a:lnTo>
                  <a:lnTo>
                    <a:pt x="1613" y="3997"/>
                  </a:lnTo>
                  <a:lnTo>
                    <a:pt x="1640" y="3997"/>
                  </a:lnTo>
                  <a:lnTo>
                    <a:pt x="1666" y="3979"/>
                  </a:lnTo>
                  <a:lnTo>
                    <a:pt x="1710" y="3970"/>
                  </a:lnTo>
                  <a:lnTo>
                    <a:pt x="1755" y="3953"/>
                  </a:lnTo>
                  <a:lnTo>
                    <a:pt x="1781" y="3935"/>
                  </a:lnTo>
                  <a:lnTo>
                    <a:pt x="1834" y="3917"/>
                  </a:lnTo>
                  <a:lnTo>
                    <a:pt x="1860" y="3917"/>
                  </a:lnTo>
                  <a:lnTo>
                    <a:pt x="1887" y="3917"/>
                  </a:lnTo>
                  <a:lnTo>
                    <a:pt x="1931" y="3909"/>
                  </a:lnTo>
                  <a:lnTo>
                    <a:pt x="1966" y="3909"/>
                  </a:lnTo>
                  <a:lnTo>
                    <a:pt x="2028" y="3909"/>
                  </a:lnTo>
                  <a:lnTo>
                    <a:pt x="2054" y="3909"/>
                  </a:lnTo>
                  <a:lnTo>
                    <a:pt x="2081" y="3909"/>
                  </a:lnTo>
                  <a:lnTo>
                    <a:pt x="2116" y="3909"/>
                  </a:lnTo>
                  <a:lnTo>
                    <a:pt x="2143" y="3909"/>
                  </a:lnTo>
                  <a:lnTo>
                    <a:pt x="2187" y="3900"/>
                  </a:lnTo>
                  <a:lnTo>
                    <a:pt x="2240" y="3891"/>
                  </a:lnTo>
                  <a:lnTo>
                    <a:pt x="2301" y="3882"/>
                  </a:lnTo>
                  <a:lnTo>
                    <a:pt x="2328" y="3873"/>
                  </a:lnTo>
                  <a:lnTo>
                    <a:pt x="2390" y="3873"/>
                  </a:lnTo>
                  <a:lnTo>
                    <a:pt x="2416" y="3864"/>
                  </a:lnTo>
                  <a:lnTo>
                    <a:pt x="2442" y="3864"/>
                  </a:lnTo>
                  <a:lnTo>
                    <a:pt x="2487" y="3864"/>
                  </a:lnTo>
                  <a:lnTo>
                    <a:pt x="2513" y="3856"/>
                  </a:lnTo>
                  <a:lnTo>
                    <a:pt x="2548" y="3847"/>
                  </a:lnTo>
                  <a:lnTo>
                    <a:pt x="2637" y="3838"/>
                  </a:lnTo>
                  <a:lnTo>
                    <a:pt x="2663" y="3829"/>
                  </a:lnTo>
                  <a:lnTo>
                    <a:pt x="2689" y="3820"/>
                  </a:lnTo>
                  <a:lnTo>
                    <a:pt x="2716" y="3794"/>
                  </a:lnTo>
                  <a:lnTo>
                    <a:pt x="2742" y="3776"/>
                  </a:lnTo>
                  <a:lnTo>
                    <a:pt x="2786" y="3767"/>
                  </a:lnTo>
                  <a:lnTo>
                    <a:pt x="2857" y="3759"/>
                  </a:lnTo>
                  <a:lnTo>
                    <a:pt x="2892" y="3750"/>
                  </a:lnTo>
                  <a:lnTo>
                    <a:pt x="2919" y="3741"/>
                  </a:lnTo>
                  <a:lnTo>
                    <a:pt x="2945" y="3741"/>
                  </a:lnTo>
                  <a:lnTo>
                    <a:pt x="2972" y="3741"/>
                  </a:lnTo>
                  <a:lnTo>
                    <a:pt x="3025" y="3759"/>
                  </a:lnTo>
                  <a:lnTo>
                    <a:pt x="3060" y="3767"/>
                  </a:lnTo>
                  <a:lnTo>
                    <a:pt x="3095" y="3776"/>
                  </a:lnTo>
                  <a:lnTo>
                    <a:pt x="3175" y="3785"/>
                  </a:lnTo>
                  <a:lnTo>
                    <a:pt x="3430" y="3829"/>
                  </a:lnTo>
                  <a:lnTo>
                    <a:pt x="3474" y="3838"/>
                  </a:lnTo>
                  <a:lnTo>
                    <a:pt x="3537" y="3847"/>
                  </a:lnTo>
                  <a:lnTo>
                    <a:pt x="3581" y="3856"/>
                  </a:lnTo>
                  <a:lnTo>
                    <a:pt x="3634" y="3856"/>
                  </a:lnTo>
                  <a:lnTo>
                    <a:pt x="3687" y="3847"/>
                  </a:lnTo>
                  <a:lnTo>
                    <a:pt x="3722" y="3838"/>
                  </a:lnTo>
                  <a:lnTo>
                    <a:pt x="3758" y="3820"/>
                  </a:lnTo>
                  <a:lnTo>
                    <a:pt x="3802" y="3812"/>
                  </a:lnTo>
                  <a:lnTo>
                    <a:pt x="3855" y="3794"/>
                  </a:lnTo>
                  <a:lnTo>
                    <a:pt x="3881" y="3776"/>
                  </a:lnTo>
                  <a:lnTo>
                    <a:pt x="3908" y="3767"/>
                  </a:lnTo>
                  <a:lnTo>
                    <a:pt x="3952" y="3732"/>
                  </a:lnTo>
                  <a:lnTo>
                    <a:pt x="3996" y="3706"/>
                  </a:lnTo>
                  <a:lnTo>
                    <a:pt x="4031" y="3697"/>
                  </a:lnTo>
                  <a:lnTo>
                    <a:pt x="4110" y="3688"/>
                  </a:lnTo>
                  <a:lnTo>
                    <a:pt x="4172" y="3679"/>
                  </a:lnTo>
                  <a:lnTo>
                    <a:pt x="4207" y="3670"/>
                  </a:lnTo>
                  <a:lnTo>
                    <a:pt x="4269" y="3662"/>
                  </a:lnTo>
                  <a:lnTo>
                    <a:pt x="4331" y="3662"/>
                  </a:lnTo>
                  <a:lnTo>
                    <a:pt x="4357" y="3662"/>
                  </a:lnTo>
                  <a:lnTo>
                    <a:pt x="4384" y="3662"/>
                  </a:lnTo>
                  <a:lnTo>
                    <a:pt x="4446" y="3662"/>
                  </a:lnTo>
                  <a:lnTo>
                    <a:pt x="4560" y="3670"/>
                  </a:lnTo>
                  <a:lnTo>
                    <a:pt x="4604" y="3670"/>
                  </a:lnTo>
                  <a:lnTo>
                    <a:pt x="4648" y="3670"/>
                  </a:lnTo>
                  <a:lnTo>
                    <a:pt x="4675" y="3670"/>
                  </a:lnTo>
                  <a:lnTo>
                    <a:pt x="4772" y="3697"/>
                  </a:lnTo>
                  <a:lnTo>
                    <a:pt x="4816" y="3697"/>
                  </a:lnTo>
                  <a:lnTo>
                    <a:pt x="4860" y="3670"/>
                  </a:lnTo>
                  <a:lnTo>
                    <a:pt x="4904" y="3653"/>
                  </a:lnTo>
                  <a:lnTo>
                    <a:pt x="4966" y="3626"/>
                  </a:lnTo>
                  <a:lnTo>
                    <a:pt x="5010" y="3600"/>
                  </a:lnTo>
                  <a:lnTo>
                    <a:pt x="5089" y="3565"/>
                  </a:lnTo>
                  <a:lnTo>
                    <a:pt x="5116" y="3556"/>
                  </a:lnTo>
                  <a:lnTo>
                    <a:pt x="5142" y="3556"/>
                  </a:lnTo>
                  <a:lnTo>
                    <a:pt x="5169" y="3529"/>
                  </a:lnTo>
                  <a:lnTo>
                    <a:pt x="5222" y="3520"/>
                  </a:lnTo>
                  <a:lnTo>
                    <a:pt x="5266" y="3512"/>
                  </a:lnTo>
                  <a:lnTo>
                    <a:pt x="5327" y="3503"/>
                  </a:lnTo>
                  <a:lnTo>
                    <a:pt x="5354" y="3503"/>
                  </a:lnTo>
                  <a:lnTo>
                    <a:pt x="5416" y="3476"/>
                  </a:lnTo>
                  <a:lnTo>
                    <a:pt x="5469" y="3468"/>
                  </a:lnTo>
                  <a:lnTo>
                    <a:pt x="5495" y="3459"/>
                  </a:lnTo>
                  <a:lnTo>
                    <a:pt x="5539" y="3459"/>
                  </a:lnTo>
                  <a:lnTo>
                    <a:pt x="5654" y="3432"/>
                  </a:lnTo>
                  <a:lnTo>
                    <a:pt x="5680" y="3432"/>
                  </a:lnTo>
                  <a:lnTo>
                    <a:pt x="5724" y="3423"/>
                  </a:lnTo>
                  <a:lnTo>
                    <a:pt x="5768" y="3423"/>
                  </a:lnTo>
                  <a:lnTo>
                    <a:pt x="5795" y="3415"/>
                  </a:lnTo>
                  <a:lnTo>
                    <a:pt x="5839" y="3397"/>
                  </a:lnTo>
                  <a:lnTo>
                    <a:pt x="5883" y="3388"/>
                  </a:lnTo>
                  <a:lnTo>
                    <a:pt x="5945" y="3362"/>
                  </a:lnTo>
                  <a:lnTo>
                    <a:pt x="5980" y="3344"/>
                  </a:lnTo>
                  <a:lnTo>
                    <a:pt x="6015" y="3335"/>
                  </a:lnTo>
                  <a:lnTo>
                    <a:pt x="6051" y="3326"/>
                  </a:lnTo>
                  <a:lnTo>
                    <a:pt x="6077" y="3318"/>
                  </a:lnTo>
                  <a:lnTo>
                    <a:pt x="6130" y="3309"/>
                  </a:lnTo>
                  <a:lnTo>
                    <a:pt x="6165" y="3300"/>
                  </a:lnTo>
                  <a:lnTo>
                    <a:pt x="6192" y="3291"/>
                  </a:lnTo>
                  <a:lnTo>
                    <a:pt x="6253" y="3282"/>
                  </a:lnTo>
                  <a:lnTo>
                    <a:pt x="6280" y="3282"/>
                  </a:lnTo>
                  <a:lnTo>
                    <a:pt x="6306" y="3282"/>
                  </a:lnTo>
                  <a:lnTo>
                    <a:pt x="6377" y="3282"/>
                  </a:lnTo>
                  <a:lnTo>
                    <a:pt x="6421" y="3282"/>
                  </a:lnTo>
                  <a:lnTo>
                    <a:pt x="6456" y="3282"/>
                  </a:lnTo>
                  <a:lnTo>
                    <a:pt x="6518" y="3282"/>
                  </a:lnTo>
                  <a:lnTo>
                    <a:pt x="6545" y="3282"/>
                  </a:lnTo>
                  <a:lnTo>
                    <a:pt x="6571" y="3282"/>
                  </a:lnTo>
                  <a:lnTo>
                    <a:pt x="6624" y="3282"/>
                  </a:lnTo>
                  <a:lnTo>
                    <a:pt x="6659" y="3282"/>
                  </a:lnTo>
                  <a:lnTo>
                    <a:pt x="6694" y="3282"/>
                  </a:lnTo>
                  <a:lnTo>
                    <a:pt x="6739" y="3282"/>
                  </a:lnTo>
                  <a:lnTo>
                    <a:pt x="6774" y="3282"/>
                  </a:lnTo>
                  <a:lnTo>
                    <a:pt x="6809" y="3274"/>
                  </a:lnTo>
                  <a:lnTo>
                    <a:pt x="6844" y="3265"/>
                  </a:lnTo>
                  <a:lnTo>
                    <a:pt x="6871" y="3247"/>
                  </a:lnTo>
                  <a:lnTo>
                    <a:pt x="6906" y="3221"/>
                  </a:lnTo>
                  <a:lnTo>
                    <a:pt x="6933" y="3221"/>
                  </a:lnTo>
                  <a:lnTo>
                    <a:pt x="6959" y="3221"/>
                  </a:lnTo>
                  <a:lnTo>
                    <a:pt x="6986" y="3221"/>
                  </a:lnTo>
                  <a:lnTo>
                    <a:pt x="7012" y="32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09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097" name=""/>
          <p:cNvSpPr/>
          <p:nvPr/>
        </p:nvSpPr>
        <p:spPr>
          <a:xfrm flipH="1">
            <a:off x="2424240" y="279720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2357280" y="2797200"/>
            <a:ext cx="3821400" cy="2205360"/>
          </a:xfrm>
          <a:custGeom>
            <a:avLst/>
            <a:gdLst/>
            <a:ahLst/>
            <a:rect l="0" t="0" r="r" b="b"/>
            <a:pathLst>
              <a:path fill="none" w="10615" h="6126">
                <a:moveTo>
                  <a:pt x="2614" y="0"/>
                </a:moveTo>
                <a:lnTo>
                  <a:pt x="0" y="0"/>
                </a:lnTo>
                <a:lnTo>
                  <a:pt x="0" y="92"/>
                </a:lnTo>
                <a:lnTo>
                  <a:pt x="0" y="216"/>
                </a:lnTo>
                <a:lnTo>
                  <a:pt x="0" y="308"/>
                </a:lnTo>
                <a:lnTo>
                  <a:pt x="0" y="463"/>
                </a:lnTo>
                <a:lnTo>
                  <a:pt x="30" y="555"/>
                </a:lnTo>
                <a:lnTo>
                  <a:pt x="61" y="648"/>
                </a:lnTo>
                <a:lnTo>
                  <a:pt x="123" y="771"/>
                </a:lnTo>
                <a:lnTo>
                  <a:pt x="185" y="895"/>
                </a:lnTo>
                <a:lnTo>
                  <a:pt x="273" y="1049"/>
                </a:lnTo>
                <a:lnTo>
                  <a:pt x="335" y="1168"/>
                </a:lnTo>
                <a:lnTo>
                  <a:pt x="366" y="1261"/>
                </a:lnTo>
                <a:lnTo>
                  <a:pt x="489" y="1446"/>
                </a:lnTo>
                <a:lnTo>
                  <a:pt x="582" y="1569"/>
                </a:lnTo>
                <a:lnTo>
                  <a:pt x="582" y="1662"/>
                </a:lnTo>
                <a:lnTo>
                  <a:pt x="612" y="1878"/>
                </a:lnTo>
                <a:lnTo>
                  <a:pt x="612" y="1971"/>
                </a:lnTo>
                <a:lnTo>
                  <a:pt x="612" y="2125"/>
                </a:lnTo>
                <a:lnTo>
                  <a:pt x="612" y="2310"/>
                </a:lnTo>
                <a:lnTo>
                  <a:pt x="612" y="2460"/>
                </a:lnTo>
                <a:lnTo>
                  <a:pt x="612" y="2707"/>
                </a:lnTo>
                <a:lnTo>
                  <a:pt x="612" y="2831"/>
                </a:lnTo>
                <a:lnTo>
                  <a:pt x="612" y="2923"/>
                </a:lnTo>
                <a:lnTo>
                  <a:pt x="612" y="3202"/>
                </a:lnTo>
                <a:lnTo>
                  <a:pt x="643" y="3449"/>
                </a:lnTo>
                <a:lnTo>
                  <a:pt x="736" y="3665"/>
                </a:lnTo>
                <a:lnTo>
                  <a:pt x="736" y="3815"/>
                </a:lnTo>
                <a:lnTo>
                  <a:pt x="829" y="4031"/>
                </a:lnTo>
                <a:lnTo>
                  <a:pt x="859" y="4185"/>
                </a:lnTo>
                <a:lnTo>
                  <a:pt x="859" y="4278"/>
                </a:lnTo>
                <a:lnTo>
                  <a:pt x="829" y="4556"/>
                </a:lnTo>
                <a:lnTo>
                  <a:pt x="829" y="4772"/>
                </a:lnTo>
                <a:lnTo>
                  <a:pt x="829" y="4988"/>
                </a:lnTo>
                <a:lnTo>
                  <a:pt x="829" y="5385"/>
                </a:lnTo>
                <a:lnTo>
                  <a:pt x="1508" y="5663"/>
                </a:lnTo>
                <a:lnTo>
                  <a:pt x="1719" y="5755"/>
                </a:lnTo>
                <a:lnTo>
                  <a:pt x="1812" y="5817"/>
                </a:lnTo>
                <a:lnTo>
                  <a:pt x="1935" y="5817"/>
                </a:lnTo>
                <a:lnTo>
                  <a:pt x="2337" y="5817"/>
                </a:lnTo>
                <a:lnTo>
                  <a:pt x="2429" y="5817"/>
                </a:lnTo>
                <a:lnTo>
                  <a:pt x="2522" y="5817"/>
                </a:lnTo>
                <a:lnTo>
                  <a:pt x="2676" y="5817"/>
                </a:lnTo>
                <a:lnTo>
                  <a:pt x="2800" y="5848"/>
                </a:lnTo>
                <a:lnTo>
                  <a:pt x="2950" y="5879"/>
                </a:lnTo>
                <a:lnTo>
                  <a:pt x="3104" y="5971"/>
                </a:lnTo>
                <a:lnTo>
                  <a:pt x="3258" y="6002"/>
                </a:lnTo>
                <a:lnTo>
                  <a:pt x="3474" y="6095"/>
                </a:lnTo>
                <a:lnTo>
                  <a:pt x="3567" y="6126"/>
                </a:lnTo>
                <a:lnTo>
                  <a:pt x="4030" y="6126"/>
                </a:lnTo>
                <a:lnTo>
                  <a:pt x="4519" y="6126"/>
                </a:lnTo>
                <a:lnTo>
                  <a:pt x="4674" y="6126"/>
                </a:lnTo>
                <a:lnTo>
                  <a:pt x="4766" y="6126"/>
                </a:lnTo>
                <a:lnTo>
                  <a:pt x="4859" y="6002"/>
                </a:lnTo>
                <a:lnTo>
                  <a:pt x="5199" y="5879"/>
                </a:lnTo>
                <a:lnTo>
                  <a:pt x="5229" y="5817"/>
                </a:lnTo>
                <a:lnTo>
                  <a:pt x="5447" y="5786"/>
                </a:lnTo>
                <a:lnTo>
                  <a:pt x="5535" y="5755"/>
                </a:lnTo>
                <a:lnTo>
                  <a:pt x="5751" y="5693"/>
                </a:lnTo>
                <a:lnTo>
                  <a:pt x="6183" y="5848"/>
                </a:lnTo>
                <a:lnTo>
                  <a:pt x="6276" y="5786"/>
                </a:lnTo>
                <a:lnTo>
                  <a:pt x="6739" y="5786"/>
                </a:lnTo>
                <a:lnTo>
                  <a:pt x="7537" y="5508"/>
                </a:lnTo>
                <a:lnTo>
                  <a:pt x="7784" y="5447"/>
                </a:lnTo>
                <a:lnTo>
                  <a:pt x="7907" y="5416"/>
                </a:lnTo>
                <a:lnTo>
                  <a:pt x="8061" y="5539"/>
                </a:lnTo>
                <a:lnTo>
                  <a:pt x="8181" y="5570"/>
                </a:lnTo>
                <a:lnTo>
                  <a:pt x="8674" y="5601"/>
                </a:lnTo>
                <a:lnTo>
                  <a:pt x="8860" y="5601"/>
                </a:lnTo>
                <a:lnTo>
                  <a:pt x="8983" y="5570"/>
                </a:lnTo>
                <a:lnTo>
                  <a:pt x="9107" y="5477"/>
                </a:lnTo>
                <a:lnTo>
                  <a:pt x="9199" y="5477"/>
                </a:lnTo>
                <a:lnTo>
                  <a:pt x="9477" y="5477"/>
                </a:lnTo>
                <a:lnTo>
                  <a:pt x="9596" y="5477"/>
                </a:lnTo>
                <a:lnTo>
                  <a:pt x="9689" y="5447"/>
                </a:lnTo>
                <a:lnTo>
                  <a:pt x="9812" y="5447"/>
                </a:lnTo>
                <a:lnTo>
                  <a:pt x="9905" y="5477"/>
                </a:lnTo>
                <a:lnTo>
                  <a:pt x="9997" y="5477"/>
                </a:lnTo>
                <a:lnTo>
                  <a:pt x="10090" y="5570"/>
                </a:lnTo>
                <a:lnTo>
                  <a:pt x="10183" y="5663"/>
                </a:lnTo>
                <a:lnTo>
                  <a:pt x="10275" y="5786"/>
                </a:lnTo>
                <a:lnTo>
                  <a:pt x="10429" y="5817"/>
                </a:lnTo>
                <a:lnTo>
                  <a:pt x="10522" y="5848"/>
                </a:lnTo>
                <a:lnTo>
                  <a:pt x="10615" y="5879"/>
                </a:lnTo>
                <a:lnTo>
                  <a:pt x="10615" y="5786"/>
                </a:lnTo>
                <a:lnTo>
                  <a:pt x="10615" y="5693"/>
                </a:lnTo>
                <a:lnTo>
                  <a:pt x="10615" y="54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1830240" y="3011400"/>
            <a:ext cx="1033560" cy="31284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0" name=""/>
          <p:cNvSpPr txBox="1"/>
          <p:nvPr/>
        </p:nvSpPr>
        <p:spPr>
          <a:xfrm>
            <a:off x="4003560" y="44830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1101" name=""/>
          <p:cNvSpPr txBox="1"/>
          <p:nvPr/>
        </p:nvSpPr>
        <p:spPr>
          <a:xfrm>
            <a:off x="1879560" y="297972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1102" name=""/>
          <p:cNvSpPr/>
          <p:nvPr/>
        </p:nvSpPr>
        <p:spPr>
          <a:xfrm>
            <a:off x="2968560" y="315900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flipV="1">
            <a:off x="3195720" y="2797200"/>
            <a:ext cx="361800" cy="361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flipV="1">
            <a:off x="5214960" y="43149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flipH="1">
            <a:off x="5025960" y="46911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6" name=""/>
          <p:cNvGrpSpPr/>
          <p:nvPr/>
        </p:nvGrpSpPr>
        <p:grpSpPr>
          <a:xfrm>
            <a:off x="1728720" y="4511520"/>
            <a:ext cx="1663560" cy="366840"/>
            <a:chOff x="1728720" y="4511520"/>
            <a:chExt cx="1663560" cy="366840"/>
          </a:xfrm>
        </p:grpSpPr>
        <p:sp>
          <p:nvSpPr>
            <p:cNvPr id="1107" name=""/>
            <p:cNvSpPr/>
            <p:nvPr/>
          </p:nvSpPr>
          <p:spPr>
            <a:xfrm>
              <a:off x="3313080" y="465444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108" name=""/>
            <p:cNvSpPr txBox="1"/>
            <p:nvPr/>
          </p:nvSpPr>
          <p:spPr>
            <a:xfrm>
              <a:off x="1728720" y="4511520"/>
              <a:ext cx="10288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A</a:t>
              </a:r>
              <a:endParaRPr b="0" lang="en-US" sz="1800" spc="-1" strike="noStrike">
                <a:solidFill>
                  <a:srgbClr val="000000"/>
                </a:solidFill>
                <a:latin typeface="Arial"/>
              </a:endParaRPr>
            </a:p>
          </p:txBody>
        </p:sp>
        <p:sp>
          <p:nvSpPr>
            <p:cNvPr id="1109" name=""/>
            <p:cNvSpPr/>
            <p:nvPr/>
          </p:nvSpPr>
          <p:spPr>
            <a:xfrm>
              <a:off x="2700360" y="4702320"/>
              <a:ext cx="620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0"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11"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5" name=""/>
          <p:cNvGrpSpPr/>
          <p:nvPr/>
        </p:nvGrpSpPr>
        <p:grpSpPr>
          <a:xfrm>
            <a:off x="0" y="101520"/>
            <a:ext cx="9020160" cy="6743880"/>
            <a:chOff x="0" y="101520"/>
            <a:chExt cx="9020160" cy="6743880"/>
          </a:xfrm>
        </p:grpSpPr>
        <p:sp>
          <p:nvSpPr>
            <p:cNvPr id="46"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9"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7"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9"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2"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3"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4"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5"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6"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7"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8"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81"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82"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1527120" y="2725560"/>
              <a:ext cx="5079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106"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 name=""/>
            <p:cNvGrpSpPr/>
            <p:nvPr/>
          </p:nvGrpSpPr>
          <p:grpSpPr>
            <a:xfrm>
              <a:off x="7902720" y="1098720"/>
              <a:ext cx="204480" cy="193680"/>
              <a:chOff x="7902720" y="1098720"/>
              <a:chExt cx="204480" cy="193680"/>
            </a:xfrm>
          </p:grpSpPr>
          <p:sp>
            <p:nvSpPr>
              <p:cNvPr id="133"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36"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7"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8"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9"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40"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41"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2" name=""/>
            <p:cNvGrpSpPr/>
            <p:nvPr/>
          </p:nvGrpSpPr>
          <p:grpSpPr>
            <a:xfrm>
              <a:off x="6835680" y="396720"/>
              <a:ext cx="279360" cy="292320"/>
              <a:chOff x="6835680" y="396720"/>
              <a:chExt cx="279360" cy="292320"/>
            </a:xfrm>
          </p:grpSpPr>
          <p:sp>
            <p:nvSpPr>
              <p:cNvPr id="143"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6"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51"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53"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6" name=""/>
            <p:cNvGrpSpPr/>
            <p:nvPr/>
          </p:nvGrpSpPr>
          <p:grpSpPr>
            <a:xfrm>
              <a:off x="5981760" y="5961240"/>
              <a:ext cx="190440" cy="196560"/>
              <a:chOff x="5981760" y="5961240"/>
              <a:chExt cx="190440" cy="196560"/>
            </a:xfrm>
          </p:grpSpPr>
          <p:sp>
            <p:nvSpPr>
              <p:cNvPr id="157"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9"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60"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61" name=""/>
            <p:cNvGrpSpPr/>
            <p:nvPr/>
          </p:nvGrpSpPr>
          <p:grpSpPr>
            <a:xfrm>
              <a:off x="6891480" y="6418440"/>
              <a:ext cx="190440" cy="196560"/>
              <a:chOff x="6891480" y="6418440"/>
              <a:chExt cx="190440" cy="196560"/>
            </a:xfrm>
          </p:grpSpPr>
          <p:sp>
            <p:nvSpPr>
              <p:cNvPr id="162"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4"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7"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8"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75"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76"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7"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8"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9"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80"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81"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82"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83"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5" name=""/>
            <p:cNvGrpSpPr/>
            <p:nvPr/>
          </p:nvGrpSpPr>
          <p:grpSpPr>
            <a:xfrm>
              <a:off x="7164360" y="422280"/>
              <a:ext cx="204840" cy="193680"/>
              <a:chOff x="7164360" y="422280"/>
              <a:chExt cx="204840" cy="193680"/>
            </a:xfrm>
          </p:grpSpPr>
          <p:sp>
            <p:nvSpPr>
              <p:cNvPr id="186"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8" name=""/>
            <p:cNvGrpSpPr/>
            <p:nvPr/>
          </p:nvGrpSpPr>
          <p:grpSpPr>
            <a:xfrm>
              <a:off x="7340760" y="184320"/>
              <a:ext cx="163440" cy="155520"/>
              <a:chOff x="7340760" y="184320"/>
              <a:chExt cx="163440" cy="155520"/>
            </a:xfrm>
          </p:grpSpPr>
          <p:sp>
            <p:nvSpPr>
              <p:cNvPr id="189"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1" name=""/>
            <p:cNvGrpSpPr/>
            <p:nvPr/>
          </p:nvGrpSpPr>
          <p:grpSpPr>
            <a:xfrm>
              <a:off x="2940120" y="1822320"/>
              <a:ext cx="204840" cy="193680"/>
              <a:chOff x="2940120" y="1822320"/>
              <a:chExt cx="204840" cy="193680"/>
            </a:xfrm>
          </p:grpSpPr>
          <p:sp>
            <p:nvSpPr>
              <p:cNvPr id="192"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4"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95"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9"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01"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03"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8"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9"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12"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3" name=""/>
            <p:cNvGrpSpPr/>
            <p:nvPr/>
          </p:nvGrpSpPr>
          <p:grpSpPr>
            <a:xfrm>
              <a:off x="2998800" y="985680"/>
              <a:ext cx="279360" cy="292320"/>
              <a:chOff x="2998800" y="985680"/>
              <a:chExt cx="279360" cy="292320"/>
            </a:xfrm>
          </p:grpSpPr>
          <p:sp>
            <p:nvSpPr>
              <p:cNvPr id="214"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7"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8" name=""/>
            <p:cNvGrpSpPr/>
            <p:nvPr/>
          </p:nvGrpSpPr>
          <p:grpSpPr>
            <a:xfrm>
              <a:off x="3355920" y="1035000"/>
              <a:ext cx="204840" cy="193680"/>
              <a:chOff x="3355920" y="1035000"/>
              <a:chExt cx="204840" cy="193680"/>
            </a:xfrm>
          </p:grpSpPr>
          <p:sp>
            <p:nvSpPr>
              <p:cNvPr id="219"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1"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22"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30"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34"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40"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41"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46"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1" name=""/>
            <p:cNvGrpSpPr/>
            <p:nvPr/>
          </p:nvGrpSpPr>
          <p:grpSpPr>
            <a:xfrm>
              <a:off x="501480" y="146160"/>
              <a:ext cx="204840" cy="193680"/>
              <a:chOff x="501480" y="146160"/>
              <a:chExt cx="204840" cy="193680"/>
            </a:xfrm>
          </p:grpSpPr>
          <p:sp>
            <p:nvSpPr>
              <p:cNvPr id="252"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4"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55"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62"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47520" y="581652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66"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70"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8"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577800" y="1235160"/>
              <a:ext cx="7772400" cy="1856520"/>
            </a:xfrm>
            <a:prstGeom prst="rect">
              <a:avLst/>
            </a:prstGeom>
            <a:noFill/>
            <a:ln w="0">
              <a:noFill/>
            </a:ln>
          </p:spPr>
          <p:txBody>
            <a:bodyPr lIns="0" rIns="0" tIns="0" bIns="0" anchor="t">
              <a:noAutofit/>
            </a:bodyPr>
            <a:p>
              <a:pPr algn="ctr">
                <a:lnSpc>
                  <a:spcPct val="100000"/>
                </a:lnSpc>
              </a:pPr>
              <a:r>
                <a:rPr b="1" lang="en-US" sz="6600" spc="-1" strike="noStrike">
                  <a:solidFill>
                    <a:srgbClr val="fc0707"/>
                  </a:solidFill>
                  <a:latin typeface="Times New Roman"/>
                  <a:ea typeface="Times New Roman"/>
                </a:rPr>
                <a:t>GEOMETRIC TOLERANCING</a:t>
              </a:r>
              <a:endParaRPr b="0" lang="en-US" sz="6600" spc="-1" strike="noStrike">
                <a:solidFill>
                  <a:srgbClr val="000000"/>
                </a:solidFill>
                <a:latin typeface="Arial"/>
              </a:endParaRPr>
            </a:p>
          </p:txBody>
        </p:sp>
        <p:sp>
          <p:nvSpPr>
            <p:cNvPr id="293"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9"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302"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304"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6" name=""/>
            <p:cNvGrpSpPr/>
            <p:nvPr/>
          </p:nvGrpSpPr>
          <p:grpSpPr>
            <a:xfrm>
              <a:off x="3422520" y="4789440"/>
              <a:ext cx="204840" cy="193680"/>
              <a:chOff x="3422520" y="4789440"/>
              <a:chExt cx="204840" cy="193680"/>
            </a:xfrm>
          </p:grpSpPr>
          <p:sp>
            <p:nvSpPr>
              <p:cNvPr id="307"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9"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10"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14"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15"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txBox="1"/>
            <p:nvPr/>
          </p:nvSpPr>
          <p:spPr>
            <a:xfrm>
              <a:off x="1314360" y="4842000"/>
              <a:ext cx="6400800" cy="1350360"/>
            </a:xfrm>
            <a:prstGeom prst="rect">
              <a:avLst/>
            </a:prstGeom>
            <a:noFill/>
            <a:ln w="0">
              <a:noFill/>
            </a:ln>
          </p:spPr>
          <p:txBody>
            <a:bodyPr lIns="0" rIns="0" tIns="0" bIns="0" anchor="t">
              <a:noAutofit/>
            </a:bodyPr>
            <a:p>
              <a:pPr marL="343080" indent="-343080" algn="ctr">
                <a:lnSpc>
                  <a:spcPct val="100000"/>
                </a:lnSpc>
                <a:spcBef>
                  <a:spcPts val="479"/>
                </a:spcBef>
              </a:pPr>
              <a:r>
                <a:rPr b="1" lang="en-US" sz="4800" spc="-1" strike="noStrike">
                  <a:solidFill>
                    <a:srgbClr val="ffffff"/>
                  </a:solidFill>
                  <a:latin typeface="Times New Roman"/>
                  <a:ea typeface="Times New Roman"/>
                </a:rPr>
                <a:t>MECHANICAL ENGINEERING 172</a:t>
              </a:r>
              <a:endParaRPr b="0" lang="en-US" sz="4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1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3"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a:off x="3971880" y="3733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5680080" y="34894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3873600" y="38736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4079880" y="3873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4222800" y="38736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556240" y="363528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5921280" y="3635280"/>
            <a:ext cx="139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1" name=""/>
          <p:cNvSpPr/>
          <p:nvPr/>
        </p:nvSpPr>
        <p:spPr>
          <a:xfrm>
            <a:off x="5794200" y="363528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4113360" y="36370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a:off x="4113360" y="384336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124" name=""/>
          <p:cNvSpPr/>
          <p:nvPr/>
        </p:nvSpPr>
        <p:spPr>
          <a:xfrm>
            <a:off x="4113360" y="398628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5827680" y="339876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5827680" y="360504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127" name=""/>
          <p:cNvSpPr/>
          <p:nvPr/>
        </p:nvSpPr>
        <p:spPr>
          <a:xfrm>
            <a:off x="5827680" y="374796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8" name=""/>
          <p:cNvSpPr/>
          <p:nvPr/>
        </p:nvSpPr>
        <p:spPr>
          <a:xfrm>
            <a:off x="6254640" y="279396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a:off x="7223040" y="279396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7223040" y="3349800"/>
            <a:ext cx="0" cy="26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txBox="1"/>
          <p:nvPr/>
        </p:nvSpPr>
        <p:spPr>
          <a:xfrm>
            <a:off x="7042320" y="304164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1132" name=""/>
          <p:cNvSpPr txBox="1"/>
          <p:nvPr/>
        </p:nvSpPr>
        <p:spPr>
          <a:xfrm>
            <a:off x="6769080" y="1465200"/>
            <a:ext cx="1778040" cy="701640"/>
          </a:xfrm>
          <a:prstGeom prst="rect">
            <a:avLst/>
          </a:prstGeom>
          <a:noFill/>
          <a:ln w="0">
            <a:noFill/>
          </a:ln>
        </p:spPr>
        <p:txBody>
          <a:bodyPr lIns="0" rIns="0" tIns="0" bIns="0" anchor="t">
            <a:noAutofit/>
          </a:bodyPr>
          <a:p>
            <a:pPr>
              <a:lnSpc>
                <a:spcPct val="100000"/>
              </a:lnSpc>
            </a:pPr>
            <a:r>
              <a:rPr b="1" lang="en-US" sz="2000" spc="-1" strike="noStrike" u="sng">
                <a:solidFill>
                  <a:srgbClr val="ffffff"/>
                </a:solidFill>
                <a:uFillTx/>
                <a:latin typeface="Times New Roman"/>
                <a:ea typeface="Times New Roman"/>
              </a:rPr>
              <a:t>Hole Location</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from Datum C</a:t>
            </a:r>
            <a:endParaRPr b="0" lang="en-US" sz="2000" spc="-1" strike="noStrike">
              <a:solidFill>
                <a:srgbClr val="000000"/>
              </a:solidFill>
              <a:latin typeface="Arial"/>
            </a:endParaRPr>
          </a:p>
        </p:txBody>
      </p:sp>
      <p:grpSp>
        <p:nvGrpSpPr>
          <p:cNvPr id="1133" name=""/>
          <p:cNvGrpSpPr/>
          <p:nvPr/>
        </p:nvGrpSpPr>
        <p:grpSpPr>
          <a:xfrm>
            <a:off x="3629160" y="2786040"/>
            <a:ext cx="2549520" cy="1495800"/>
            <a:chOff x="3629160" y="2786040"/>
            <a:chExt cx="2549520" cy="1495800"/>
          </a:xfrm>
        </p:grpSpPr>
        <p:sp>
          <p:nvSpPr>
            <p:cNvPr id="1134" name=""/>
            <p:cNvSpPr/>
            <p:nvPr/>
          </p:nvSpPr>
          <p:spPr>
            <a:xfrm>
              <a:off x="6122880" y="2790720"/>
              <a:ext cx="55800" cy="1162440"/>
            </a:xfrm>
            <a:custGeom>
              <a:avLst/>
              <a:gdLst/>
              <a:ahLst/>
              <a:rect l="0" t="0" r="r" b="b"/>
              <a:pathLst>
                <a:path fill="none" w="155" h="3229">
                  <a:moveTo>
                    <a:pt x="142" y="0"/>
                  </a:moveTo>
                  <a:lnTo>
                    <a:pt x="155" y="132"/>
                  </a:lnTo>
                  <a:lnTo>
                    <a:pt x="44" y="282"/>
                  </a:lnTo>
                  <a:lnTo>
                    <a:pt x="13" y="418"/>
                  </a:lnTo>
                  <a:lnTo>
                    <a:pt x="35" y="546"/>
                  </a:lnTo>
                  <a:lnTo>
                    <a:pt x="57" y="679"/>
                  </a:lnTo>
                  <a:lnTo>
                    <a:pt x="26" y="821"/>
                  </a:lnTo>
                  <a:lnTo>
                    <a:pt x="4" y="957"/>
                  </a:lnTo>
                  <a:lnTo>
                    <a:pt x="22" y="1085"/>
                  </a:lnTo>
                  <a:lnTo>
                    <a:pt x="89" y="1253"/>
                  </a:lnTo>
                  <a:lnTo>
                    <a:pt x="111" y="1385"/>
                  </a:lnTo>
                  <a:lnTo>
                    <a:pt x="39" y="1531"/>
                  </a:lnTo>
                  <a:lnTo>
                    <a:pt x="57" y="1663"/>
                  </a:lnTo>
                  <a:lnTo>
                    <a:pt x="74" y="1795"/>
                  </a:lnTo>
                  <a:lnTo>
                    <a:pt x="93" y="1928"/>
                  </a:lnTo>
                  <a:lnTo>
                    <a:pt x="115" y="2055"/>
                  </a:lnTo>
                  <a:lnTo>
                    <a:pt x="137" y="2227"/>
                  </a:lnTo>
                  <a:lnTo>
                    <a:pt x="111" y="2364"/>
                  </a:lnTo>
                  <a:lnTo>
                    <a:pt x="39" y="2511"/>
                  </a:lnTo>
                  <a:lnTo>
                    <a:pt x="61" y="2639"/>
                  </a:lnTo>
                  <a:lnTo>
                    <a:pt x="35" y="2780"/>
                  </a:lnTo>
                  <a:lnTo>
                    <a:pt x="52" y="2912"/>
                  </a:lnTo>
                  <a:lnTo>
                    <a:pt x="70" y="3044"/>
                  </a:lnTo>
                  <a:lnTo>
                    <a:pt x="89" y="3172"/>
                  </a:lnTo>
                  <a:lnTo>
                    <a:pt x="8" y="3229"/>
                  </a:lnTo>
                  <a:lnTo>
                    <a:pt x="0" y="31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3629160" y="2786040"/>
              <a:ext cx="2543400" cy="1495800"/>
            </a:xfrm>
            <a:custGeom>
              <a:avLst/>
              <a:gdLst/>
              <a:ahLst/>
              <a:rect l="0" t="0" r="r" b="b"/>
              <a:pathLst>
                <a:path fill="none" w="7065" h="4155">
                  <a:moveTo>
                    <a:pt x="7065" y="0"/>
                  </a:moveTo>
                  <a:lnTo>
                    <a:pt x="7038" y="17"/>
                  </a:lnTo>
                  <a:lnTo>
                    <a:pt x="7012" y="17"/>
                  </a:lnTo>
                  <a:lnTo>
                    <a:pt x="6986" y="17"/>
                  </a:lnTo>
                  <a:lnTo>
                    <a:pt x="6941" y="17"/>
                  </a:lnTo>
                  <a:lnTo>
                    <a:pt x="6897" y="17"/>
                  </a:lnTo>
                  <a:lnTo>
                    <a:pt x="6853" y="17"/>
                  </a:lnTo>
                  <a:lnTo>
                    <a:pt x="6809" y="17"/>
                  </a:lnTo>
                  <a:lnTo>
                    <a:pt x="6747" y="26"/>
                  </a:lnTo>
                  <a:lnTo>
                    <a:pt x="6721" y="44"/>
                  </a:lnTo>
                  <a:lnTo>
                    <a:pt x="6650" y="79"/>
                  </a:lnTo>
                  <a:lnTo>
                    <a:pt x="6624" y="88"/>
                  </a:lnTo>
                  <a:lnTo>
                    <a:pt x="6597" y="97"/>
                  </a:lnTo>
                  <a:lnTo>
                    <a:pt x="6562" y="105"/>
                  </a:lnTo>
                  <a:lnTo>
                    <a:pt x="6527" y="114"/>
                  </a:lnTo>
                  <a:lnTo>
                    <a:pt x="6492" y="114"/>
                  </a:lnTo>
                  <a:lnTo>
                    <a:pt x="6430" y="123"/>
                  </a:lnTo>
                  <a:lnTo>
                    <a:pt x="6403" y="123"/>
                  </a:lnTo>
                  <a:lnTo>
                    <a:pt x="6359" y="132"/>
                  </a:lnTo>
                  <a:lnTo>
                    <a:pt x="6298" y="141"/>
                  </a:lnTo>
                  <a:lnTo>
                    <a:pt x="6271" y="149"/>
                  </a:lnTo>
                  <a:lnTo>
                    <a:pt x="6218" y="158"/>
                  </a:lnTo>
                  <a:lnTo>
                    <a:pt x="6165" y="185"/>
                  </a:lnTo>
                  <a:lnTo>
                    <a:pt x="6130" y="194"/>
                  </a:lnTo>
                  <a:lnTo>
                    <a:pt x="6086" y="220"/>
                  </a:lnTo>
                  <a:lnTo>
                    <a:pt x="6042" y="229"/>
                  </a:lnTo>
                  <a:lnTo>
                    <a:pt x="5998" y="238"/>
                  </a:lnTo>
                  <a:lnTo>
                    <a:pt x="5971" y="238"/>
                  </a:lnTo>
                  <a:lnTo>
                    <a:pt x="5927" y="246"/>
                  </a:lnTo>
                  <a:lnTo>
                    <a:pt x="5892" y="255"/>
                  </a:lnTo>
                  <a:lnTo>
                    <a:pt x="5839" y="255"/>
                  </a:lnTo>
                  <a:lnTo>
                    <a:pt x="5795" y="255"/>
                  </a:lnTo>
                  <a:lnTo>
                    <a:pt x="5733" y="255"/>
                  </a:lnTo>
                  <a:lnTo>
                    <a:pt x="5707" y="264"/>
                  </a:lnTo>
                  <a:lnTo>
                    <a:pt x="5663" y="273"/>
                  </a:lnTo>
                  <a:lnTo>
                    <a:pt x="5610" y="273"/>
                  </a:lnTo>
                  <a:lnTo>
                    <a:pt x="5548" y="291"/>
                  </a:lnTo>
                  <a:lnTo>
                    <a:pt x="5521" y="291"/>
                  </a:lnTo>
                  <a:lnTo>
                    <a:pt x="5477" y="291"/>
                  </a:lnTo>
                  <a:lnTo>
                    <a:pt x="5451" y="291"/>
                  </a:lnTo>
                  <a:lnTo>
                    <a:pt x="5424" y="291"/>
                  </a:lnTo>
                  <a:lnTo>
                    <a:pt x="5372" y="291"/>
                  </a:lnTo>
                  <a:lnTo>
                    <a:pt x="5327" y="291"/>
                  </a:lnTo>
                  <a:lnTo>
                    <a:pt x="5301" y="291"/>
                  </a:lnTo>
                  <a:lnTo>
                    <a:pt x="5275" y="299"/>
                  </a:lnTo>
                  <a:lnTo>
                    <a:pt x="5213" y="308"/>
                  </a:lnTo>
                  <a:lnTo>
                    <a:pt x="5178" y="308"/>
                  </a:lnTo>
                  <a:lnTo>
                    <a:pt x="5107" y="317"/>
                  </a:lnTo>
                  <a:lnTo>
                    <a:pt x="5072" y="317"/>
                  </a:lnTo>
                  <a:lnTo>
                    <a:pt x="5036" y="317"/>
                  </a:lnTo>
                  <a:lnTo>
                    <a:pt x="5001" y="326"/>
                  </a:lnTo>
                  <a:lnTo>
                    <a:pt x="4957" y="326"/>
                  </a:lnTo>
                  <a:lnTo>
                    <a:pt x="4931" y="343"/>
                  </a:lnTo>
                  <a:lnTo>
                    <a:pt x="4895" y="352"/>
                  </a:lnTo>
                  <a:lnTo>
                    <a:pt x="4869" y="361"/>
                  </a:lnTo>
                  <a:lnTo>
                    <a:pt x="4807" y="396"/>
                  </a:lnTo>
                  <a:lnTo>
                    <a:pt x="4763" y="432"/>
                  </a:lnTo>
                  <a:lnTo>
                    <a:pt x="4719" y="440"/>
                  </a:lnTo>
                  <a:lnTo>
                    <a:pt x="4692" y="449"/>
                  </a:lnTo>
                  <a:lnTo>
                    <a:pt x="4551" y="458"/>
                  </a:lnTo>
                  <a:lnTo>
                    <a:pt x="4516" y="467"/>
                  </a:lnTo>
                  <a:lnTo>
                    <a:pt x="4454" y="467"/>
                  </a:lnTo>
                  <a:lnTo>
                    <a:pt x="4375" y="467"/>
                  </a:lnTo>
                  <a:lnTo>
                    <a:pt x="4348" y="467"/>
                  </a:lnTo>
                  <a:lnTo>
                    <a:pt x="4278" y="458"/>
                  </a:lnTo>
                  <a:lnTo>
                    <a:pt x="4216" y="458"/>
                  </a:lnTo>
                  <a:lnTo>
                    <a:pt x="4110" y="458"/>
                  </a:lnTo>
                  <a:lnTo>
                    <a:pt x="4066" y="458"/>
                  </a:lnTo>
                  <a:lnTo>
                    <a:pt x="4031" y="458"/>
                  </a:lnTo>
                  <a:lnTo>
                    <a:pt x="3978" y="467"/>
                  </a:lnTo>
                  <a:lnTo>
                    <a:pt x="3943" y="467"/>
                  </a:lnTo>
                  <a:lnTo>
                    <a:pt x="3908" y="476"/>
                  </a:lnTo>
                  <a:lnTo>
                    <a:pt x="3872" y="485"/>
                  </a:lnTo>
                  <a:lnTo>
                    <a:pt x="3811" y="493"/>
                  </a:lnTo>
                  <a:lnTo>
                    <a:pt x="3784" y="502"/>
                  </a:lnTo>
                  <a:lnTo>
                    <a:pt x="3713" y="529"/>
                  </a:lnTo>
                  <a:lnTo>
                    <a:pt x="3669" y="537"/>
                  </a:lnTo>
                  <a:lnTo>
                    <a:pt x="3643" y="546"/>
                  </a:lnTo>
                  <a:lnTo>
                    <a:pt x="3616" y="555"/>
                  </a:lnTo>
                  <a:lnTo>
                    <a:pt x="3581" y="564"/>
                  </a:lnTo>
                  <a:lnTo>
                    <a:pt x="3555" y="590"/>
                  </a:lnTo>
                  <a:lnTo>
                    <a:pt x="3527" y="617"/>
                  </a:lnTo>
                  <a:lnTo>
                    <a:pt x="3501" y="626"/>
                  </a:lnTo>
                  <a:lnTo>
                    <a:pt x="3457" y="635"/>
                  </a:lnTo>
                  <a:lnTo>
                    <a:pt x="3430" y="635"/>
                  </a:lnTo>
                  <a:lnTo>
                    <a:pt x="3377" y="635"/>
                  </a:lnTo>
                  <a:lnTo>
                    <a:pt x="3298" y="626"/>
                  </a:lnTo>
                  <a:lnTo>
                    <a:pt x="3254" y="626"/>
                  </a:lnTo>
                  <a:lnTo>
                    <a:pt x="3219" y="626"/>
                  </a:lnTo>
                  <a:lnTo>
                    <a:pt x="3175" y="626"/>
                  </a:lnTo>
                  <a:lnTo>
                    <a:pt x="3095" y="626"/>
                  </a:lnTo>
                  <a:lnTo>
                    <a:pt x="3060" y="626"/>
                  </a:lnTo>
                  <a:lnTo>
                    <a:pt x="3033" y="626"/>
                  </a:lnTo>
                  <a:lnTo>
                    <a:pt x="2972" y="635"/>
                  </a:lnTo>
                  <a:lnTo>
                    <a:pt x="2945" y="635"/>
                  </a:lnTo>
                  <a:lnTo>
                    <a:pt x="2883" y="635"/>
                  </a:lnTo>
                  <a:lnTo>
                    <a:pt x="2813" y="635"/>
                  </a:lnTo>
                  <a:lnTo>
                    <a:pt x="2786" y="635"/>
                  </a:lnTo>
                  <a:lnTo>
                    <a:pt x="2751" y="617"/>
                  </a:lnTo>
                  <a:lnTo>
                    <a:pt x="2725" y="617"/>
                  </a:lnTo>
                  <a:lnTo>
                    <a:pt x="2663" y="608"/>
                  </a:lnTo>
                  <a:lnTo>
                    <a:pt x="2610" y="608"/>
                  </a:lnTo>
                  <a:lnTo>
                    <a:pt x="2531" y="608"/>
                  </a:lnTo>
                  <a:lnTo>
                    <a:pt x="2495" y="608"/>
                  </a:lnTo>
                  <a:lnTo>
                    <a:pt x="2469" y="608"/>
                  </a:lnTo>
                  <a:lnTo>
                    <a:pt x="2442" y="608"/>
                  </a:lnTo>
                  <a:lnTo>
                    <a:pt x="2398" y="608"/>
                  </a:lnTo>
                  <a:lnTo>
                    <a:pt x="2363" y="608"/>
                  </a:lnTo>
                  <a:lnTo>
                    <a:pt x="2337" y="617"/>
                  </a:lnTo>
                  <a:lnTo>
                    <a:pt x="2293" y="617"/>
                  </a:lnTo>
                  <a:lnTo>
                    <a:pt x="2257" y="626"/>
                  </a:lnTo>
                  <a:lnTo>
                    <a:pt x="2222" y="635"/>
                  </a:lnTo>
                  <a:lnTo>
                    <a:pt x="2169" y="643"/>
                  </a:lnTo>
                  <a:lnTo>
                    <a:pt x="2143" y="643"/>
                  </a:lnTo>
                  <a:lnTo>
                    <a:pt x="2099" y="652"/>
                  </a:lnTo>
                  <a:lnTo>
                    <a:pt x="1887" y="661"/>
                  </a:lnTo>
                  <a:lnTo>
                    <a:pt x="1843" y="670"/>
                  </a:lnTo>
                  <a:lnTo>
                    <a:pt x="1816" y="670"/>
                  </a:lnTo>
                  <a:lnTo>
                    <a:pt x="1772" y="670"/>
                  </a:lnTo>
                  <a:lnTo>
                    <a:pt x="1737" y="679"/>
                  </a:lnTo>
                  <a:lnTo>
                    <a:pt x="1710" y="679"/>
                  </a:lnTo>
                  <a:lnTo>
                    <a:pt x="1684" y="687"/>
                  </a:lnTo>
                  <a:lnTo>
                    <a:pt x="1658" y="696"/>
                  </a:lnTo>
                  <a:lnTo>
                    <a:pt x="1622" y="723"/>
                  </a:lnTo>
                  <a:lnTo>
                    <a:pt x="1596" y="740"/>
                  </a:lnTo>
                  <a:lnTo>
                    <a:pt x="1569" y="740"/>
                  </a:lnTo>
                  <a:lnTo>
                    <a:pt x="1481" y="767"/>
                  </a:lnTo>
                  <a:lnTo>
                    <a:pt x="1437" y="776"/>
                  </a:lnTo>
                  <a:lnTo>
                    <a:pt x="1393" y="784"/>
                  </a:lnTo>
                  <a:lnTo>
                    <a:pt x="1296" y="802"/>
                  </a:lnTo>
                  <a:lnTo>
                    <a:pt x="1270" y="811"/>
                  </a:lnTo>
                  <a:lnTo>
                    <a:pt x="1243" y="811"/>
                  </a:lnTo>
                  <a:lnTo>
                    <a:pt x="1208" y="820"/>
                  </a:lnTo>
                  <a:lnTo>
                    <a:pt x="1128" y="829"/>
                  </a:lnTo>
                  <a:lnTo>
                    <a:pt x="1023" y="864"/>
                  </a:lnTo>
                  <a:lnTo>
                    <a:pt x="961" y="873"/>
                  </a:lnTo>
                  <a:lnTo>
                    <a:pt x="934" y="873"/>
                  </a:lnTo>
                  <a:lnTo>
                    <a:pt x="908" y="881"/>
                  </a:lnTo>
                  <a:lnTo>
                    <a:pt x="881" y="881"/>
                  </a:lnTo>
                  <a:lnTo>
                    <a:pt x="846" y="890"/>
                  </a:lnTo>
                  <a:lnTo>
                    <a:pt x="793" y="899"/>
                  </a:lnTo>
                  <a:lnTo>
                    <a:pt x="749" y="917"/>
                  </a:lnTo>
                  <a:lnTo>
                    <a:pt x="687" y="934"/>
                  </a:lnTo>
                  <a:lnTo>
                    <a:pt x="661" y="934"/>
                  </a:lnTo>
                  <a:lnTo>
                    <a:pt x="626" y="934"/>
                  </a:lnTo>
                  <a:lnTo>
                    <a:pt x="599" y="943"/>
                  </a:lnTo>
                  <a:lnTo>
                    <a:pt x="573" y="943"/>
                  </a:lnTo>
                  <a:lnTo>
                    <a:pt x="493" y="943"/>
                  </a:lnTo>
                  <a:lnTo>
                    <a:pt x="467" y="943"/>
                  </a:lnTo>
                  <a:lnTo>
                    <a:pt x="440" y="943"/>
                  </a:lnTo>
                  <a:lnTo>
                    <a:pt x="405" y="943"/>
                  </a:lnTo>
                  <a:lnTo>
                    <a:pt x="343" y="952"/>
                  </a:lnTo>
                  <a:lnTo>
                    <a:pt x="317" y="952"/>
                  </a:lnTo>
                  <a:lnTo>
                    <a:pt x="282" y="952"/>
                  </a:lnTo>
                  <a:lnTo>
                    <a:pt x="255" y="952"/>
                  </a:lnTo>
                  <a:lnTo>
                    <a:pt x="229" y="952"/>
                  </a:lnTo>
                  <a:lnTo>
                    <a:pt x="185" y="952"/>
                  </a:lnTo>
                  <a:lnTo>
                    <a:pt x="158" y="961"/>
                  </a:lnTo>
                  <a:lnTo>
                    <a:pt x="123" y="970"/>
                  </a:lnTo>
                  <a:lnTo>
                    <a:pt x="79" y="978"/>
                  </a:lnTo>
                  <a:lnTo>
                    <a:pt x="52" y="987"/>
                  </a:lnTo>
                  <a:lnTo>
                    <a:pt x="26" y="1005"/>
                  </a:lnTo>
                  <a:lnTo>
                    <a:pt x="0" y="1014"/>
                  </a:lnTo>
                  <a:lnTo>
                    <a:pt x="0" y="1014"/>
                  </a:lnTo>
                  <a:lnTo>
                    <a:pt x="8" y="1068"/>
                  </a:lnTo>
                  <a:lnTo>
                    <a:pt x="17" y="1112"/>
                  </a:lnTo>
                  <a:lnTo>
                    <a:pt x="17" y="1147"/>
                  </a:lnTo>
                  <a:lnTo>
                    <a:pt x="35" y="1173"/>
                  </a:lnTo>
                  <a:lnTo>
                    <a:pt x="52" y="1200"/>
                  </a:lnTo>
                  <a:lnTo>
                    <a:pt x="52" y="1226"/>
                  </a:lnTo>
                  <a:lnTo>
                    <a:pt x="52" y="1253"/>
                  </a:lnTo>
                  <a:lnTo>
                    <a:pt x="61" y="1279"/>
                  </a:lnTo>
                  <a:lnTo>
                    <a:pt x="61" y="1306"/>
                  </a:lnTo>
                  <a:lnTo>
                    <a:pt x="70" y="1332"/>
                  </a:lnTo>
                  <a:lnTo>
                    <a:pt x="70" y="1359"/>
                  </a:lnTo>
                  <a:lnTo>
                    <a:pt x="70" y="1403"/>
                  </a:lnTo>
                  <a:lnTo>
                    <a:pt x="70" y="1447"/>
                  </a:lnTo>
                  <a:lnTo>
                    <a:pt x="61" y="1482"/>
                  </a:lnTo>
                  <a:lnTo>
                    <a:pt x="52" y="1509"/>
                  </a:lnTo>
                  <a:lnTo>
                    <a:pt x="52" y="1535"/>
                  </a:lnTo>
                  <a:lnTo>
                    <a:pt x="44" y="1579"/>
                  </a:lnTo>
                  <a:lnTo>
                    <a:pt x="44" y="1614"/>
                  </a:lnTo>
                  <a:lnTo>
                    <a:pt x="44" y="1650"/>
                  </a:lnTo>
                  <a:lnTo>
                    <a:pt x="44" y="1676"/>
                  </a:lnTo>
                  <a:lnTo>
                    <a:pt x="52" y="1703"/>
                  </a:lnTo>
                  <a:lnTo>
                    <a:pt x="61" y="1738"/>
                  </a:lnTo>
                  <a:lnTo>
                    <a:pt x="70" y="1773"/>
                  </a:lnTo>
                  <a:lnTo>
                    <a:pt x="88" y="1808"/>
                  </a:lnTo>
                  <a:lnTo>
                    <a:pt x="114" y="1844"/>
                  </a:lnTo>
                  <a:lnTo>
                    <a:pt x="114" y="1879"/>
                  </a:lnTo>
                  <a:lnTo>
                    <a:pt x="123" y="1906"/>
                  </a:lnTo>
                  <a:lnTo>
                    <a:pt x="132" y="1950"/>
                  </a:lnTo>
                  <a:lnTo>
                    <a:pt x="132" y="1976"/>
                  </a:lnTo>
                  <a:lnTo>
                    <a:pt x="149" y="2011"/>
                  </a:lnTo>
                  <a:lnTo>
                    <a:pt x="167" y="2038"/>
                  </a:lnTo>
                  <a:lnTo>
                    <a:pt x="167" y="2100"/>
                  </a:lnTo>
                  <a:lnTo>
                    <a:pt x="167" y="2126"/>
                  </a:lnTo>
                  <a:lnTo>
                    <a:pt x="167" y="2161"/>
                  </a:lnTo>
                  <a:lnTo>
                    <a:pt x="167" y="2188"/>
                  </a:lnTo>
                  <a:lnTo>
                    <a:pt x="167" y="2214"/>
                  </a:lnTo>
                  <a:lnTo>
                    <a:pt x="167" y="2241"/>
                  </a:lnTo>
                  <a:lnTo>
                    <a:pt x="167" y="2276"/>
                  </a:lnTo>
                  <a:lnTo>
                    <a:pt x="167" y="2302"/>
                  </a:lnTo>
                  <a:lnTo>
                    <a:pt x="167" y="2329"/>
                  </a:lnTo>
                  <a:lnTo>
                    <a:pt x="167" y="2382"/>
                  </a:lnTo>
                  <a:lnTo>
                    <a:pt x="167" y="2408"/>
                  </a:lnTo>
                  <a:lnTo>
                    <a:pt x="185" y="2452"/>
                  </a:lnTo>
                  <a:lnTo>
                    <a:pt x="194" y="2532"/>
                  </a:lnTo>
                  <a:lnTo>
                    <a:pt x="202" y="2593"/>
                  </a:lnTo>
                  <a:lnTo>
                    <a:pt x="202" y="2620"/>
                  </a:lnTo>
                  <a:lnTo>
                    <a:pt x="202" y="2655"/>
                  </a:lnTo>
                  <a:lnTo>
                    <a:pt x="211" y="2699"/>
                  </a:lnTo>
                  <a:lnTo>
                    <a:pt x="220" y="2726"/>
                  </a:lnTo>
                  <a:lnTo>
                    <a:pt x="220" y="2761"/>
                  </a:lnTo>
                  <a:lnTo>
                    <a:pt x="229" y="2787"/>
                  </a:lnTo>
                  <a:lnTo>
                    <a:pt x="238" y="2832"/>
                  </a:lnTo>
                  <a:lnTo>
                    <a:pt x="246" y="2867"/>
                  </a:lnTo>
                  <a:lnTo>
                    <a:pt x="255" y="2937"/>
                  </a:lnTo>
                  <a:lnTo>
                    <a:pt x="264" y="2981"/>
                  </a:lnTo>
                  <a:lnTo>
                    <a:pt x="273" y="3043"/>
                  </a:lnTo>
                  <a:lnTo>
                    <a:pt x="273" y="3070"/>
                  </a:lnTo>
                  <a:lnTo>
                    <a:pt x="291" y="3096"/>
                  </a:lnTo>
                  <a:lnTo>
                    <a:pt x="299" y="3124"/>
                  </a:lnTo>
                  <a:lnTo>
                    <a:pt x="308" y="3168"/>
                  </a:lnTo>
                  <a:lnTo>
                    <a:pt x="326" y="3194"/>
                  </a:lnTo>
                  <a:lnTo>
                    <a:pt x="335" y="3221"/>
                  </a:lnTo>
                  <a:lnTo>
                    <a:pt x="370" y="3256"/>
                  </a:lnTo>
                  <a:lnTo>
                    <a:pt x="370" y="3291"/>
                  </a:lnTo>
                  <a:lnTo>
                    <a:pt x="379" y="3326"/>
                  </a:lnTo>
                  <a:lnTo>
                    <a:pt x="379" y="3353"/>
                  </a:lnTo>
                  <a:lnTo>
                    <a:pt x="379" y="3379"/>
                  </a:lnTo>
                  <a:lnTo>
                    <a:pt x="379" y="3423"/>
                  </a:lnTo>
                  <a:lnTo>
                    <a:pt x="379" y="3468"/>
                  </a:lnTo>
                  <a:lnTo>
                    <a:pt x="370" y="3512"/>
                  </a:lnTo>
                  <a:lnTo>
                    <a:pt x="370" y="3688"/>
                  </a:lnTo>
                  <a:lnTo>
                    <a:pt x="361" y="3714"/>
                  </a:lnTo>
                  <a:lnTo>
                    <a:pt x="352" y="3741"/>
                  </a:lnTo>
                  <a:lnTo>
                    <a:pt x="352" y="3767"/>
                  </a:lnTo>
                  <a:lnTo>
                    <a:pt x="343" y="3794"/>
                  </a:lnTo>
                  <a:lnTo>
                    <a:pt x="335" y="3820"/>
                  </a:lnTo>
                  <a:lnTo>
                    <a:pt x="335" y="3847"/>
                  </a:lnTo>
                  <a:lnTo>
                    <a:pt x="335" y="3873"/>
                  </a:lnTo>
                  <a:lnTo>
                    <a:pt x="335" y="3909"/>
                  </a:lnTo>
                  <a:lnTo>
                    <a:pt x="335" y="3935"/>
                  </a:lnTo>
                  <a:lnTo>
                    <a:pt x="335" y="3961"/>
                  </a:lnTo>
                  <a:lnTo>
                    <a:pt x="335" y="3988"/>
                  </a:lnTo>
                  <a:lnTo>
                    <a:pt x="335" y="4041"/>
                  </a:lnTo>
                  <a:lnTo>
                    <a:pt x="335" y="4085"/>
                  </a:lnTo>
                  <a:lnTo>
                    <a:pt x="335" y="4129"/>
                  </a:lnTo>
                  <a:lnTo>
                    <a:pt x="352" y="4155"/>
                  </a:lnTo>
                  <a:lnTo>
                    <a:pt x="343" y="4155"/>
                  </a:lnTo>
                  <a:lnTo>
                    <a:pt x="379" y="4147"/>
                  </a:lnTo>
                  <a:lnTo>
                    <a:pt x="423" y="4129"/>
                  </a:lnTo>
                  <a:lnTo>
                    <a:pt x="449" y="4120"/>
                  </a:lnTo>
                  <a:lnTo>
                    <a:pt x="476" y="4111"/>
                  </a:lnTo>
                  <a:lnTo>
                    <a:pt x="502" y="4111"/>
                  </a:lnTo>
                  <a:lnTo>
                    <a:pt x="546" y="4103"/>
                  </a:lnTo>
                  <a:lnTo>
                    <a:pt x="573" y="4103"/>
                  </a:lnTo>
                  <a:lnTo>
                    <a:pt x="617" y="4103"/>
                  </a:lnTo>
                  <a:lnTo>
                    <a:pt x="643" y="4103"/>
                  </a:lnTo>
                  <a:lnTo>
                    <a:pt x="670" y="4103"/>
                  </a:lnTo>
                  <a:lnTo>
                    <a:pt x="714" y="4103"/>
                  </a:lnTo>
                  <a:lnTo>
                    <a:pt x="740" y="4103"/>
                  </a:lnTo>
                  <a:lnTo>
                    <a:pt x="767" y="4103"/>
                  </a:lnTo>
                  <a:lnTo>
                    <a:pt x="802" y="4111"/>
                  </a:lnTo>
                  <a:lnTo>
                    <a:pt x="837" y="4120"/>
                  </a:lnTo>
                  <a:lnTo>
                    <a:pt x="864" y="4120"/>
                  </a:lnTo>
                  <a:lnTo>
                    <a:pt x="926" y="4120"/>
                  </a:lnTo>
                  <a:lnTo>
                    <a:pt x="961" y="4120"/>
                  </a:lnTo>
                  <a:lnTo>
                    <a:pt x="996" y="4120"/>
                  </a:lnTo>
                  <a:lnTo>
                    <a:pt x="1067" y="4111"/>
                  </a:lnTo>
                  <a:lnTo>
                    <a:pt x="1102" y="4103"/>
                  </a:lnTo>
                  <a:lnTo>
                    <a:pt x="1137" y="4103"/>
                  </a:lnTo>
                  <a:lnTo>
                    <a:pt x="1172" y="4120"/>
                  </a:lnTo>
                  <a:lnTo>
                    <a:pt x="1217" y="4120"/>
                  </a:lnTo>
                  <a:lnTo>
                    <a:pt x="1261" y="4120"/>
                  </a:lnTo>
                  <a:lnTo>
                    <a:pt x="1287" y="4120"/>
                  </a:lnTo>
                  <a:lnTo>
                    <a:pt x="1314" y="4120"/>
                  </a:lnTo>
                  <a:lnTo>
                    <a:pt x="1419" y="4103"/>
                  </a:lnTo>
                  <a:lnTo>
                    <a:pt x="1481" y="4076"/>
                  </a:lnTo>
                  <a:lnTo>
                    <a:pt x="1508" y="4067"/>
                  </a:lnTo>
                  <a:lnTo>
                    <a:pt x="1552" y="4041"/>
                  </a:lnTo>
                  <a:lnTo>
                    <a:pt x="1613" y="3997"/>
                  </a:lnTo>
                  <a:lnTo>
                    <a:pt x="1640" y="3997"/>
                  </a:lnTo>
                  <a:lnTo>
                    <a:pt x="1666" y="3979"/>
                  </a:lnTo>
                  <a:lnTo>
                    <a:pt x="1710" y="3970"/>
                  </a:lnTo>
                  <a:lnTo>
                    <a:pt x="1755" y="3953"/>
                  </a:lnTo>
                  <a:lnTo>
                    <a:pt x="1781" y="3935"/>
                  </a:lnTo>
                  <a:lnTo>
                    <a:pt x="1834" y="3917"/>
                  </a:lnTo>
                  <a:lnTo>
                    <a:pt x="1860" y="3917"/>
                  </a:lnTo>
                  <a:lnTo>
                    <a:pt x="1887" y="3917"/>
                  </a:lnTo>
                  <a:lnTo>
                    <a:pt x="1931" y="3909"/>
                  </a:lnTo>
                  <a:lnTo>
                    <a:pt x="1966" y="3909"/>
                  </a:lnTo>
                  <a:lnTo>
                    <a:pt x="2028" y="3909"/>
                  </a:lnTo>
                  <a:lnTo>
                    <a:pt x="2054" y="3909"/>
                  </a:lnTo>
                  <a:lnTo>
                    <a:pt x="2081" y="3909"/>
                  </a:lnTo>
                  <a:lnTo>
                    <a:pt x="2116" y="3909"/>
                  </a:lnTo>
                  <a:lnTo>
                    <a:pt x="2143" y="3909"/>
                  </a:lnTo>
                  <a:lnTo>
                    <a:pt x="2187" y="3900"/>
                  </a:lnTo>
                  <a:lnTo>
                    <a:pt x="2240" y="3891"/>
                  </a:lnTo>
                  <a:lnTo>
                    <a:pt x="2301" y="3882"/>
                  </a:lnTo>
                  <a:lnTo>
                    <a:pt x="2328" y="3873"/>
                  </a:lnTo>
                  <a:lnTo>
                    <a:pt x="2390" y="3873"/>
                  </a:lnTo>
                  <a:lnTo>
                    <a:pt x="2416" y="3864"/>
                  </a:lnTo>
                  <a:lnTo>
                    <a:pt x="2442" y="3864"/>
                  </a:lnTo>
                  <a:lnTo>
                    <a:pt x="2487" y="3864"/>
                  </a:lnTo>
                  <a:lnTo>
                    <a:pt x="2513" y="3856"/>
                  </a:lnTo>
                  <a:lnTo>
                    <a:pt x="2548" y="3847"/>
                  </a:lnTo>
                  <a:lnTo>
                    <a:pt x="2637" y="3838"/>
                  </a:lnTo>
                  <a:lnTo>
                    <a:pt x="2663" y="3829"/>
                  </a:lnTo>
                  <a:lnTo>
                    <a:pt x="2689" y="3820"/>
                  </a:lnTo>
                  <a:lnTo>
                    <a:pt x="2716" y="3794"/>
                  </a:lnTo>
                  <a:lnTo>
                    <a:pt x="2742" y="3776"/>
                  </a:lnTo>
                  <a:lnTo>
                    <a:pt x="2786" y="3767"/>
                  </a:lnTo>
                  <a:lnTo>
                    <a:pt x="2857" y="3759"/>
                  </a:lnTo>
                  <a:lnTo>
                    <a:pt x="2892" y="3750"/>
                  </a:lnTo>
                  <a:lnTo>
                    <a:pt x="2919" y="3741"/>
                  </a:lnTo>
                  <a:lnTo>
                    <a:pt x="2945" y="3741"/>
                  </a:lnTo>
                  <a:lnTo>
                    <a:pt x="2972" y="3741"/>
                  </a:lnTo>
                  <a:lnTo>
                    <a:pt x="3025" y="3759"/>
                  </a:lnTo>
                  <a:lnTo>
                    <a:pt x="3060" y="3767"/>
                  </a:lnTo>
                  <a:lnTo>
                    <a:pt x="3095" y="3776"/>
                  </a:lnTo>
                  <a:lnTo>
                    <a:pt x="3175" y="3785"/>
                  </a:lnTo>
                  <a:lnTo>
                    <a:pt x="3430" y="3829"/>
                  </a:lnTo>
                  <a:lnTo>
                    <a:pt x="3474" y="3838"/>
                  </a:lnTo>
                  <a:lnTo>
                    <a:pt x="3537" y="3847"/>
                  </a:lnTo>
                  <a:lnTo>
                    <a:pt x="3581" y="3856"/>
                  </a:lnTo>
                  <a:lnTo>
                    <a:pt x="3634" y="3856"/>
                  </a:lnTo>
                  <a:lnTo>
                    <a:pt x="3687" y="3847"/>
                  </a:lnTo>
                  <a:lnTo>
                    <a:pt x="3722" y="3838"/>
                  </a:lnTo>
                  <a:lnTo>
                    <a:pt x="3758" y="3820"/>
                  </a:lnTo>
                  <a:lnTo>
                    <a:pt x="3802" y="3812"/>
                  </a:lnTo>
                  <a:lnTo>
                    <a:pt x="3855" y="3794"/>
                  </a:lnTo>
                  <a:lnTo>
                    <a:pt x="3881" y="3776"/>
                  </a:lnTo>
                  <a:lnTo>
                    <a:pt x="3908" y="3767"/>
                  </a:lnTo>
                  <a:lnTo>
                    <a:pt x="3952" y="3732"/>
                  </a:lnTo>
                  <a:lnTo>
                    <a:pt x="3996" y="3706"/>
                  </a:lnTo>
                  <a:lnTo>
                    <a:pt x="4031" y="3697"/>
                  </a:lnTo>
                  <a:lnTo>
                    <a:pt x="4110" y="3688"/>
                  </a:lnTo>
                  <a:lnTo>
                    <a:pt x="4172" y="3679"/>
                  </a:lnTo>
                  <a:lnTo>
                    <a:pt x="4207" y="3670"/>
                  </a:lnTo>
                  <a:lnTo>
                    <a:pt x="4269" y="3662"/>
                  </a:lnTo>
                  <a:lnTo>
                    <a:pt x="4331" y="3662"/>
                  </a:lnTo>
                  <a:lnTo>
                    <a:pt x="4357" y="3662"/>
                  </a:lnTo>
                  <a:lnTo>
                    <a:pt x="4384" y="3662"/>
                  </a:lnTo>
                  <a:lnTo>
                    <a:pt x="4446" y="3662"/>
                  </a:lnTo>
                  <a:lnTo>
                    <a:pt x="4560" y="3670"/>
                  </a:lnTo>
                  <a:lnTo>
                    <a:pt x="4604" y="3670"/>
                  </a:lnTo>
                  <a:lnTo>
                    <a:pt x="4648" y="3670"/>
                  </a:lnTo>
                  <a:lnTo>
                    <a:pt x="4675" y="3670"/>
                  </a:lnTo>
                  <a:lnTo>
                    <a:pt x="4772" y="3697"/>
                  </a:lnTo>
                  <a:lnTo>
                    <a:pt x="4816" y="3697"/>
                  </a:lnTo>
                  <a:lnTo>
                    <a:pt x="4860" y="3670"/>
                  </a:lnTo>
                  <a:lnTo>
                    <a:pt x="4904" y="3653"/>
                  </a:lnTo>
                  <a:lnTo>
                    <a:pt x="4966" y="3626"/>
                  </a:lnTo>
                  <a:lnTo>
                    <a:pt x="5010" y="3600"/>
                  </a:lnTo>
                  <a:lnTo>
                    <a:pt x="5089" y="3565"/>
                  </a:lnTo>
                  <a:lnTo>
                    <a:pt x="5116" y="3556"/>
                  </a:lnTo>
                  <a:lnTo>
                    <a:pt x="5142" y="3556"/>
                  </a:lnTo>
                  <a:lnTo>
                    <a:pt x="5169" y="3529"/>
                  </a:lnTo>
                  <a:lnTo>
                    <a:pt x="5222" y="3520"/>
                  </a:lnTo>
                  <a:lnTo>
                    <a:pt x="5266" y="3512"/>
                  </a:lnTo>
                  <a:lnTo>
                    <a:pt x="5327" y="3503"/>
                  </a:lnTo>
                  <a:lnTo>
                    <a:pt x="5354" y="3503"/>
                  </a:lnTo>
                  <a:lnTo>
                    <a:pt x="5416" y="3476"/>
                  </a:lnTo>
                  <a:lnTo>
                    <a:pt x="5469" y="3468"/>
                  </a:lnTo>
                  <a:lnTo>
                    <a:pt x="5495" y="3459"/>
                  </a:lnTo>
                  <a:lnTo>
                    <a:pt x="5539" y="3459"/>
                  </a:lnTo>
                  <a:lnTo>
                    <a:pt x="5654" y="3432"/>
                  </a:lnTo>
                  <a:lnTo>
                    <a:pt x="5680" y="3432"/>
                  </a:lnTo>
                  <a:lnTo>
                    <a:pt x="5724" y="3423"/>
                  </a:lnTo>
                  <a:lnTo>
                    <a:pt x="5768" y="3423"/>
                  </a:lnTo>
                  <a:lnTo>
                    <a:pt x="5795" y="3415"/>
                  </a:lnTo>
                  <a:lnTo>
                    <a:pt x="5839" y="3397"/>
                  </a:lnTo>
                  <a:lnTo>
                    <a:pt x="5883" y="3388"/>
                  </a:lnTo>
                  <a:lnTo>
                    <a:pt x="5945" y="3362"/>
                  </a:lnTo>
                  <a:lnTo>
                    <a:pt x="5980" y="3344"/>
                  </a:lnTo>
                  <a:lnTo>
                    <a:pt x="6015" y="3335"/>
                  </a:lnTo>
                  <a:lnTo>
                    <a:pt x="6051" y="3326"/>
                  </a:lnTo>
                  <a:lnTo>
                    <a:pt x="6077" y="3318"/>
                  </a:lnTo>
                  <a:lnTo>
                    <a:pt x="6130" y="3309"/>
                  </a:lnTo>
                  <a:lnTo>
                    <a:pt x="6165" y="3300"/>
                  </a:lnTo>
                  <a:lnTo>
                    <a:pt x="6192" y="3291"/>
                  </a:lnTo>
                  <a:lnTo>
                    <a:pt x="6253" y="3282"/>
                  </a:lnTo>
                  <a:lnTo>
                    <a:pt x="6280" y="3282"/>
                  </a:lnTo>
                  <a:lnTo>
                    <a:pt x="6306" y="3282"/>
                  </a:lnTo>
                  <a:lnTo>
                    <a:pt x="6377" y="3282"/>
                  </a:lnTo>
                  <a:lnTo>
                    <a:pt x="6421" y="3282"/>
                  </a:lnTo>
                  <a:lnTo>
                    <a:pt x="6456" y="3282"/>
                  </a:lnTo>
                  <a:lnTo>
                    <a:pt x="6518" y="3282"/>
                  </a:lnTo>
                  <a:lnTo>
                    <a:pt x="6545" y="3282"/>
                  </a:lnTo>
                  <a:lnTo>
                    <a:pt x="6571" y="3282"/>
                  </a:lnTo>
                  <a:lnTo>
                    <a:pt x="6624" y="3282"/>
                  </a:lnTo>
                  <a:lnTo>
                    <a:pt x="6659" y="3282"/>
                  </a:lnTo>
                  <a:lnTo>
                    <a:pt x="6694" y="3282"/>
                  </a:lnTo>
                  <a:lnTo>
                    <a:pt x="6739" y="3282"/>
                  </a:lnTo>
                  <a:lnTo>
                    <a:pt x="6774" y="3282"/>
                  </a:lnTo>
                  <a:lnTo>
                    <a:pt x="6809" y="3274"/>
                  </a:lnTo>
                  <a:lnTo>
                    <a:pt x="6844" y="3265"/>
                  </a:lnTo>
                  <a:lnTo>
                    <a:pt x="6871" y="3247"/>
                  </a:lnTo>
                  <a:lnTo>
                    <a:pt x="6906" y="3221"/>
                  </a:lnTo>
                  <a:lnTo>
                    <a:pt x="6933" y="3221"/>
                  </a:lnTo>
                  <a:lnTo>
                    <a:pt x="6959" y="3221"/>
                  </a:lnTo>
                  <a:lnTo>
                    <a:pt x="6986" y="3221"/>
                  </a:lnTo>
                  <a:lnTo>
                    <a:pt x="7012" y="32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3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137" name=""/>
          <p:cNvSpPr/>
          <p:nvPr/>
        </p:nvSpPr>
        <p:spPr>
          <a:xfrm>
            <a:off x="2357280" y="2797200"/>
            <a:ext cx="3821400" cy="2205360"/>
          </a:xfrm>
          <a:custGeom>
            <a:avLst/>
            <a:gdLst/>
            <a:ahLst/>
            <a:rect l="0" t="0" r="r" b="b"/>
            <a:pathLst>
              <a:path fill="none" w="10615" h="6126">
                <a:moveTo>
                  <a:pt x="2614" y="0"/>
                </a:moveTo>
                <a:lnTo>
                  <a:pt x="0" y="0"/>
                </a:lnTo>
                <a:lnTo>
                  <a:pt x="0" y="92"/>
                </a:lnTo>
                <a:lnTo>
                  <a:pt x="0" y="216"/>
                </a:lnTo>
                <a:lnTo>
                  <a:pt x="0" y="308"/>
                </a:lnTo>
                <a:lnTo>
                  <a:pt x="0" y="463"/>
                </a:lnTo>
                <a:lnTo>
                  <a:pt x="30" y="555"/>
                </a:lnTo>
                <a:lnTo>
                  <a:pt x="61" y="648"/>
                </a:lnTo>
                <a:lnTo>
                  <a:pt x="123" y="771"/>
                </a:lnTo>
                <a:lnTo>
                  <a:pt x="185" y="895"/>
                </a:lnTo>
                <a:lnTo>
                  <a:pt x="273" y="1049"/>
                </a:lnTo>
                <a:lnTo>
                  <a:pt x="335" y="1168"/>
                </a:lnTo>
                <a:lnTo>
                  <a:pt x="366" y="1261"/>
                </a:lnTo>
                <a:lnTo>
                  <a:pt x="489" y="1446"/>
                </a:lnTo>
                <a:lnTo>
                  <a:pt x="582" y="1569"/>
                </a:lnTo>
                <a:lnTo>
                  <a:pt x="582" y="1662"/>
                </a:lnTo>
                <a:lnTo>
                  <a:pt x="612" y="1878"/>
                </a:lnTo>
                <a:lnTo>
                  <a:pt x="612" y="1971"/>
                </a:lnTo>
                <a:lnTo>
                  <a:pt x="612" y="2125"/>
                </a:lnTo>
                <a:lnTo>
                  <a:pt x="612" y="2310"/>
                </a:lnTo>
                <a:lnTo>
                  <a:pt x="612" y="2460"/>
                </a:lnTo>
                <a:lnTo>
                  <a:pt x="612" y="2707"/>
                </a:lnTo>
                <a:lnTo>
                  <a:pt x="612" y="2831"/>
                </a:lnTo>
                <a:lnTo>
                  <a:pt x="612" y="2923"/>
                </a:lnTo>
                <a:lnTo>
                  <a:pt x="612" y="3202"/>
                </a:lnTo>
                <a:lnTo>
                  <a:pt x="643" y="3449"/>
                </a:lnTo>
                <a:lnTo>
                  <a:pt x="736" y="3665"/>
                </a:lnTo>
                <a:lnTo>
                  <a:pt x="736" y="3815"/>
                </a:lnTo>
                <a:lnTo>
                  <a:pt x="829" y="4031"/>
                </a:lnTo>
                <a:lnTo>
                  <a:pt x="859" y="4185"/>
                </a:lnTo>
                <a:lnTo>
                  <a:pt x="859" y="4278"/>
                </a:lnTo>
                <a:lnTo>
                  <a:pt x="829" y="4556"/>
                </a:lnTo>
                <a:lnTo>
                  <a:pt x="829" y="4772"/>
                </a:lnTo>
                <a:lnTo>
                  <a:pt x="829" y="4988"/>
                </a:lnTo>
                <a:lnTo>
                  <a:pt x="829" y="5385"/>
                </a:lnTo>
                <a:lnTo>
                  <a:pt x="1508" y="5663"/>
                </a:lnTo>
                <a:lnTo>
                  <a:pt x="1719" y="5755"/>
                </a:lnTo>
                <a:lnTo>
                  <a:pt x="1812" y="5817"/>
                </a:lnTo>
                <a:lnTo>
                  <a:pt x="1935" y="5817"/>
                </a:lnTo>
                <a:lnTo>
                  <a:pt x="2337" y="5817"/>
                </a:lnTo>
                <a:lnTo>
                  <a:pt x="2429" y="5817"/>
                </a:lnTo>
                <a:lnTo>
                  <a:pt x="2522" y="5817"/>
                </a:lnTo>
                <a:lnTo>
                  <a:pt x="2676" y="5817"/>
                </a:lnTo>
                <a:lnTo>
                  <a:pt x="2800" y="5848"/>
                </a:lnTo>
                <a:lnTo>
                  <a:pt x="2950" y="5879"/>
                </a:lnTo>
                <a:lnTo>
                  <a:pt x="3104" y="5971"/>
                </a:lnTo>
                <a:lnTo>
                  <a:pt x="3258" y="6002"/>
                </a:lnTo>
                <a:lnTo>
                  <a:pt x="3474" y="6095"/>
                </a:lnTo>
                <a:lnTo>
                  <a:pt x="3567" y="6126"/>
                </a:lnTo>
                <a:lnTo>
                  <a:pt x="4030" y="6126"/>
                </a:lnTo>
                <a:lnTo>
                  <a:pt x="4519" y="6126"/>
                </a:lnTo>
                <a:lnTo>
                  <a:pt x="4674" y="6126"/>
                </a:lnTo>
                <a:lnTo>
                  <a:pt x="4766" y="6126"/>
                </a:lnTo>
                <a:lnTo>
                  <a:pt x="4859" y="6002"/>
                </a:lnTo>
                <a:lnTo>
                  <a:pt x="5199" y="5879"/>
                </a:lnTo>
                <a:lnTo>
                  <a:pt x="5229" y="5817"/>
                </a:lnTo>
                <a:lnTo>
                  <a:pt x="5447" y="5786"/>
                </a:lnTo>
                <a:lnTo>
                  <a:pt x="5535" y="5755"/>
                </a:lnTo>
                <a:lnTo>
                  <a:pt x="5751" y="5693"/>
                </a:lnTo>
                <a:lnTo>
                  <a:pt x="6183" y="5848"/>
                </a:lnTo>
                <a:lnTo>
                  <a:pt x="6276" y="5786"/>
                </a:lnTo>
                <a:lnTo>
                  <a:pt x="6739" y="5786"/>
                </a:lnTo>
                <a:lnTo>
                  <a:pt x="7444" y="5508"/>
                </a:lnTo>
                <a:lnTo>
                  <a:pt x="7722" y="5477"/>
                </a:lnTo>
                <a:lnTo>
                  <a:pt x="7907" y="5416"/>
                </a:lnTo>
                <a:lnTo>
                  <a:pt x="8061" y="5539"/>
                </a:lnTo>
                <a:lnTo>
                  <a:pt x="8181" y="5570"/>
                </a:lnTo>
                <a:lnTo>
                  <a:pt x="8674" y="5601"/>
                </a:lnTo>
                <a:lnTo>
                  <a:pt x="8860" y="5601"/>
                </a:lnTo>
                <a:lnTo>
                  <a:pt x="8983" y="5570"/>
                </a:lnTo>
                <a:lnTo>
                  <a:pt x="9107" y="5477"/>
                </a:lnTo>
                <a:lnTo>
                  <a:pt x="9199" y="5477"/>
                </a:lnTo>
                <a:lnTo>
                  <a:pt x="9477" y="5477"/>
                </a:lnTo>
                <a:lnTo>
                  <a:pt x="9596" y="5477"/>
                </a:lnTo>
                <a:lnTo>
                  <a:pt x="9689" y="5447"/>
                </a:lnTo>
                <a:lnTo>
                  <a:pt x="9812" y="5447"/>
                </a:lnTo>
                <a:lnTo>
                  <a:pt x="9905" y="5477"/>
                </a:lnTo>
                <a:lnTo>
                  <a:pt x="9997" y="5477"/>
                </a:lnTo>
                <a:lnTo>
                  <a:pt x="10090" y="5570"/>
                </a:lnTo>
                <a:lnTo>
                  <a:pt x="10183" y="5663"/>
                </a:lnTo>
                <a:lnTo>
                  <a:pt x="10275" y="5786"/>
                </a:lnTo>
                <a:lnTo>
                  <a:pt x="10429" y="5817"/>
                </a:lnTo>
                <a:lnTo>
                  <a:pt x="10522" y="5848"/>
                </a:lnTo>
                <a:lnTo>
                  <a:pt x="10615" y="5879"/>
                </a:lnTo>
                <a:lnTo>
                  <a:pt x="10615" y="5786"/>
                </a:lnTo>
                <a:lnTo>
                  <a:pt x="10615" y="5693"/>
                </a:lnTo>
                <a:lnTo>
                  <a:pt x="10615" y="54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39" name=""/>
          <p:cNvSpPr txBox="1"/>
          <p:nvPr/>
        </p:nvSpPr>
        <p:spPr>
          <a:xfrm>
            <a:off x="4114800" y="518148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
        <p:nvSpPr>
          <p:cNvPr id="1140"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2"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3" name=""/>
          <p:cNvSpPr/>
          <p:nvPr/>
        </p:nvSpPr>
        <p:spPr>
          <a:xfrm>
            <a:off x="3971880" y="3733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5680080" y="34894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45" name=""/>
          <p:cNvGrpSpPr/>
          <p:nvPr/>
        </p:nvGrpSpPr>
        <p:grpSpPr>
          <a:xfrm>
            <a:off x="3873600" y="3873600"/>
            <a:ext cx="523800" cy="0"/>
            <a:chOff x="3873600" y="3873600"/>
            <a:chExt cx="523800" cy="0"/>
          </a:xfrm>
        </p:grpSpPr>
        <p:sp>
          <p:nvSpPr>
            <p:cNvPr id="1146" name=""/>
            <p:cNvSpPr/>
            <p:nvPr/>
          </p:nvSpPr>
          <p:spPr>
            <a:xfrm>
              <a:off x="3873600" y="38736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4079880" y="3873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4222800" y="38736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49" name=""/>
          <p:cNvSpPr/>
          <p:nvPr/>
        </p:nvSpPr>
        <p:spPr>
          <a:xfrm>
            <a:off x="5556240" y="363528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a:off x="5921280" y="3635280"/>
            <a:ext cx="139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5794200" y="363528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52" name=""/>
          <p:cNvGrpSpPr/>
          <p:nvPr/>
        </p:nvGrpSpPr>
        <p:grpSpPr>
          <a:xfrm>
            <a:off x="4113360" y="3637080"/>
            <a:ext cx="0" cy="523800"/>
            <a:chOff x="4113360" y="3637080"/>
            <a:chExt cx="0" cy="523800"/>
          </a:xfrm>
        </p:grpSpPr>
        <p:sp>
          <p:nvSpPr>
            <p:cNvPr id="1153" name=""/>
            <p:cNvSpPr/>
            <p:nvPr/>
          </p:nvSpPr>
          <p:spPr>
            <a:xfrm>
              <a:off x="4113360" y="36370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4" name=""/>
            <p:cNvSpPr/>
            <p:nvPr/>
          </p:nvSpPr>
          <p:spPr>
            <a:xfrm>
              <a:off x="4113360" y="384336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155" name=""/>
            <p:cNvSpPr/>
            <p:nvPr/>
          </p:nvSpPr>
          <p:spPr>
            <a:xfrm>
              <a:off x="4113360" y="398628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56" name=""/>
          <p:cNvGrpSpPr/>
          <p:nvPr/>
        </p:nvGrpSpPr>
        <p:grpSpPr>
          <a:xfrm>
            <a:off x="5827680" y="3398760"/>
            <a:ext cx="0" cy="523800"/>
            <a:chOff x="5827680" y="3398760"/>
            <a:chExt cx="0" cy="523800"/>
          </a:xfrm>
        </p:grpSpPr>
        <p:sp>
          <p:nvSpPr>
            <p:cNvPr id="1157" name=""/>
            <p:cNvSpPr/>
            <p:nvPr/>
          </p:nvSpPr>
          <p:spPr>
            <a:xfrm>
              <a:off x="5827680" y="339876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5827680" y="360504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159" name=""/>
            <p:cNvSpPr/>
            <p:nvPr/>
          </p:nvSpPr>
          <p:spPr>
            <a:xfrm>
              <a:off x="5827680" y="374796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0" name=""/>
          <p:cNvSpPr/>
          <p:nvPr/>
        </p:nvSpPr>
        <p:spPr>
          <a:xfrm>
            <a:off x="6254640" y="2793960"/>
            <a:ext cx="21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7223040" y="279396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7223040" y="3349800"/>
            <a:ext cx="0" cy="26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txBox="1"/>
          <p:nvPr/>
        </p:nvSpPr>
        <p:spPr>
          <a:xfrm>
            <a:off x="7042320" y="304164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1164" name=""/>
          <p:cNvSpPr/>
          <p:nvPr/>
        </p:nvSpPr>
        <p:spPr>
          <a:xfrm>
            <a:off x="4444920" y="3873600"/>
            <a:ext cx="390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5" name=""/>
          <p:cNvSpPr/>
          <p:nvPr/>
        </p:nvSpPr>
        <p:spPr>
          <a:xfrm>
            <a:off x="8255160" y="280980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p:nvPr/>
        </p:nvSpPr>
        <p:spPr>
          <a:xfrm flipV="1">
            <a:off x="8255160" y="3524400"/>
            <a:ext cx="0" cy="333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txBox="1"/>
          <p:nvPr/>
        </p:nvSpPr>
        <p:spPr>
          <a:xfrm>
            <a:off x="8085240" y="3139920"/>
            <a:ext cx="311040" cy="396720"/>
          </a:xfrm>
          <a:prstGeom prst="rect">
            <a:avLst/>
          </a:prstGeom>
          <a:noFill/>
          <a:ln w="0">
            <a:noFill/>
          </a:ln>
        </p:spPr>
        <p:txBody>
          <a:bodyPr lIns="0" rIns="0" tIns="0" bIns="0" anchor="t">
            <a:noAutofit/>
          </a:bodyPr>
          <a:p>
            <a:pPr algn="ctr">
              <a:lnSpc>
                <a:spcPct val="100000"/>
              </a:lnSpc>
            </a:pPr>
            <a:r>
              <a:rPr b="1" lang="en-US" sz="2000" spc="-1" strike="noStrike">
                <a:solidFill>
                  <a:srgbClr val="fd0000"/>
                </a:solidFill>
                <a:latin typeface="Times New Roman"/>
                <a:ea typeface="Times New Roman"/>
              </a:rPr>
              <a:t>?</a:t>
            </a:r>
            <a:endParaRPr b="0" lang="en-US" sz="2000" spc="-1" strike="noStrike">
              <a:solidFill>
                <a:srgbClr val="000000"/>
              </a:solidFill>
              <a:latin typeface="Arial"/>
            </a:endParaRPr>
          </a:p>
        </p:txBody>
      </p:sp>
      <p:sp>
        <p:nvSpPr>
          <p:cNvPr id="1168" name=""/>
          <p:cNvSpPr txBox="1"/>
          <p:nvPr/>
        </p:nvSpPr>
        <p:spPr>
          <a:xfrm>
            <a:off x="6769080" y="1465200"/>
            <a:ext cx="1778040" cy="701640"/>
          </a:xfrm>
          <a:prstGeom prst="rect">
            <a:avLst/>
          </a:prstGeom>
          <a:noFill/>
          <a:ln w="0">
            <a:noFill/>
          </a:ln>
        </p:spPr>
        <p:txBody>
          <a:bodyPr lIns="0" rIns="0" tIns="0" bIns="0" anchor="t">
            <a:noAutofit/>
          </a:bodyPr>
          <a:p>
            <a:pPr>
              <a:lnSpc>
                <a:spcPct val="100000"/>
              </a:lnSpc>
            </a:pPr>
            <a:r>
              <a:rPr b="1" lang="en-US" sz="2000" spc="-1" strike="noStrike" u="sng">
                <a:solidFill>
                  <a:srgbClr val="ffffff"/>
                </a:solidFill>
                <a:uFillTx/>
                <a:latin typeface="Times New Roman"/>
                <a:ea typeface="Times New Roman"/>
              </a:rPr>
              <a:t>Hole Location</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from Datum C</a:t>
            </a:r>
            <a:endParaRPr b="0" lang="en-US" sz="2000" spc="-1" strike="noStrike">
              <a:solidFill>
                <a:srgbClr val="000000"/>
              </a:solidFill>
              <a:latin typeface="Arial"/>
            </a:endParaRPr>
          </a:p>
        </p:txBody>
      </p:sp>
      <p:grpSp>
        <p:nvGrpSpPr>
          <p:cNvPr id="1169" name=""/>
          <p:cNvGrpSpPr/>
          <p:nvPr/>
        </p:nvGrpSpPr>
        <p:grpSpPr>
          <a:xfrm>
            <a:off x="3629160" y="2786040"/>
            <a:ext cx="2549520" cy="1495800"/>
            <a:chOff x="3629160" y="2786040"/>
            <a:chExt cx="2549520" cy="1495800"/>
          </a:xfrm>
        </p:grpSpPr>
        <p:sp>
          <p:nvSpPr>
            <p:cNvPr id="1170" name=""/>
            <p:cNvSpPr/>
            <p:nvPr/>
          </p:nvSpPr>
          <p:spPr>
            <a:xfrm>
              <a:off x="6122880" y="2790720"/>
              <a:ext cx="55800" cy="1162440"/>
            </a:xfrm>
            <a:custGeom>
              <a:avLst/>
              <a:gdLst/>
              <a:ahLst/>
              <a:rect l="0" t="0" r="r" b="b"/>
              <a:pathLst>
                <a:path fill="none" w="155" h="3229">
                  <a:moveTo>
                    <a:pt x="142" y="0"/>
                  </a:moveTo>
                  <a:lnTo>
                    <a:pt x="155" y="132"/>
                  </a:lnTo>
                  <a:lnTo>
                    <a:pt x="44" y="282"/>
                  </a:lnTo>
                  <a:lnTo>
                    <a:pt x="13" y="418"/>
                  </a:lnTo>
                  <a:lnTo>
                    <a:pt x="35" y="546"/>
                  </a:lnTo>
                  <a:lnTo>
                    <a:pt x="57" y="679"/>
                  </a:lnTo>
                  <a:lnTo>
                    <a:pt x="26" y="821"/>
                  </a:lnTo>
                  <a:lnTo>
                    <a:pt x="4" y="957"/>
                  </a:lnTo>
                  <a:lnTo>
                    <a:pt x="22" y="1085"/>
                  </a:lnTo>
                  <a:lnTo>
                    <a:pt x="89" y="1253"/>
                  </a:lnTo>
                  <a:lnTo>
                    <a:pt x="111" y="1385"/>
                  </a:lnTo>
                  <a:lnTo>
                    <a:pt x="39" y="1531"/>
                  </a:lnTo>
                  <a:lnTo>
                    <a:pt x="57" y="1663"/>
                  </a:lnTo>
                  <a:lnTo>
                    <a:pt x="74" y="1795"/>
                  </a:lnTo>
                  <a:lnTo>
                    <a:pt x="93" y="1928"/>
                  </a:lnTo>
                  <a:lnTo>
                    <a:pt x="115" y="2055"/>
                  </a:lnTo>
                  <a:lnTo>
                    <a:pt x="137" y="2227"/>
                  </a:lnTo>
                  <a:lnTo>
                    <a:pt x="111" y="2364"/>
                  </a:lnTo>
                  <a:lnTo>
                    <a:pt x="39" y="2511"/>
                  </a:lnTo>
                  <a:lnTo>
                    <a:pt x="61" y="2639"/>
                  </a:lnTo>
                  <a:lnTo>
                    <a:pt x="35" y="2780"/>
                  </a:lnTo>
                  <a:lnTo>
                    <a:pt x="52" y="2912"/>
                  </a:lnTo>
                  <a:lnTo>
                    <a:pt x="70" y="3044"/>
                  </a:lnTo>
                  <a:lnTo>
                    <a:pt x="89" y="3172"/>
                  </a:lnTo>
                  <a:lnTo>
                    <a:pt x="8" y="3229"/>
                  </a:lnTo>
                  <a:lnTo>
                    <a:pt x="0" y="31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3629160" y="2786040"/>
              <a:ext cx="2543400" cy="1495800"/>
            </a:xfrm>
            <a:custGeom>
              <a:avLst/>
              <a:gdLst/>
              <a:ahLst/>
              <a:rect l="0" t="0" r="r" b="b"/>
              <a:pathLst>
                <a:path fill="none" w="7065" h="4155">
                  <a:moveTo>
                    <a:pt x="7065" y="0"/>
                  </a:moveTo>
                  <a:lnTo>
                    <a:pt x="7038" y="17"/>
                  </a:lnTo>
                  <a:lnTo>
                    <a:pt x="7012" y="17"/>
                  </a:lnTo>
                  <a:lnTo>
                    <a:pt x="6986" y="17"/>
                  </a:lnTo>
                  <a:lnTo>
                    <a:pt x="6941" y="17"/>
                  </a:lnTo>
                  <a:lnTo>
                    <a:pt x="6897" y="17"/>
                  </a:lnTo>
                  <a:lnTo>
                    <a:pt x="6853" y="17"/>
                  </a:lnTo>
                  <a:lnTo>
                    <a:pt x="6809" y="17"/>
                  </a:lnTo>
                  <a:lnTo>
                    <a:pt x="6747" y="26"/>
                  </a:lnTo>
                  <a:lnTo>
                    <a:pt x="6721" y="44"/>
                  </a:lnTo>
                  <a:lnTo>
                    <a:pt x="6650" y="79"/>
                  </a:lnTo>
                  <a:lnTo>
                    <a:pt x="6624" y="88"/>
                  </a:lnTo>
                  <a:lnTo>
                    <a:pt x="6597" y="97"/>
                  </a:lnTo>
                  <a:lnTo>
                    <a:pt x="6562" y="105"/>
                  </a:lnTo>
                  <a:lnTo>
                    <a:pt x="6527" y="114"/>
                  </a:lnTo>
                  <a:lnTo>
                    <a:pt x="6492" y="114"/>
                  </a:lnTo>
                  <a:lnTo>
                    <a:pt x="6430" y="123"/>
                  </a:lnTo>
                  <a:lnTo>
                    <a:pt x="6403" y="123"/>
                  </a:lnTo>
                  <a:lnTo>
                    <a:pt x="6359" y="132"/>
                  </a:lnTo>
                  <a:lnTo>
                    <a:pt x="6298" y="141"/>
                  </a:lnTo>
                  <a:lnTo>
                    <a:pt x="6271" y="149"/>
                  </a:lnTo>
                  <a:lnTo>
                    <a:pt x="6218" y="158"/>
                  </a:lnTo>
                  <a:lnTo>
                    <a:pt x="6165" y="185"/>
                  </a:lnTo>
                  <a:lnTo>
                    <a:pt x="6130" y="194"/>
                  </a:lnTo>
                  <a:lnTo>
                    <a:pt x="6086" y="220"/>
                  </a:lnTo>
                  <a:lnTo>
                    <a:pt x="6042" y="229"/>
                  </a:lnTo>
                  <a:lnTo>
                    <a:pt x="5998" y="238"/>
                  </a:lnTo>
                  <a:lnTo>
                    <a:pt x="5971" y="238"/>
                  </a:lnTo>
                  <a:lnTo>
                    <a:pt x="5927" y="246"/>
                  </a:lnTo>
                  <a:lnTo>
                    <a:pt x="5892" y="255"/>
                  </a:lnTo>
                  <a:lnTo>
                    <a:pt x="5839" y="255"/>
                  </a:lnTo>
                  <a:lnTo>
                    <a:pt x="5795" y="255"/>
                  </a:lnTo>
                  <a:lnTo>
                    <a:pt x="5733" y="255"/>
                  </a:lnTo>
                  <a:lnTo>
                    <a:pt x="5707" y="264"/>
                  </a:lnTo>
                  <a:lnTo>
                    <a:pt x="5663" y="273"/>
                  </a:lnTo>
                  <a:lnTo>
                    <a:pt x="5610" y="273"/>
                  </a:lnTo>
                  <a:lnTo>
                    <a:pt x="5548" y="291"/>
                  </a:lnTo>
                  <a:lnTo>
                    <a:pt x="5521" y="291"/>
                  </a:lnTo>
                  <a:lnTo>
                    <a:pt x="5477" y="291"/>
                  </a:lnTo>
                  <a:lnTo>
                    <a:pt x="5451" y="291"/>
                  </a:lnTo>
                  <a:lnTo>
                    <a:pt x="5424" y="291"/>
                  </a:lnTo>
                  <a:lnTo>
                    <a:pt x="5372" y="291"/>
                  </a:lnTo>
                  <a:lnTo>
                    <a:pt x="5327" y="291"/>
                  </a:lnTo>
                  <a:lnTo>
                    <a:pt x="5301" y="291"/>
                  </a:lnTo>
                  <a:lnTo>
                    <a:pt x="5275" y="299"/>
                  </a:lnTo>
                  <a:lnTo>
                    <a:pt x="5213" y="308"/>
                  </a:lnTo>
                  <a:lnTo>
                    <a:pt x="5178" y="308"/>
                  </a:lnTo>
                  <a:lnTo>
                    <a:pt x="5107" y="317"/>
                  </a:lnTo>
                  <a:lnTo>
                    <a:pt x="5072" y="317"/>
                  </a:lnTo>
                  <a:lnTo>
                    <a:pt x="5036" y="317"/>
                  </a:lnTo>
                  <a:lnTo>
                    <a:pt x="5001" y="326"/>
                  </a:lnTo>
                  <a:lnTo>
                    <a:pt x="4957" y="326"/>
                  </a:lnTo>
                  <a:lnTo>
                    <a:pt x="4931" y="343"/>
                  </a:lnTo>
                  <a:lnTo>
                    <a:pt x="4895" y="352"/>
                  </a:lnTo>
                  <a:lnTo>
                    <a:pt x="4869" y="361"/>
                  </a:lnTo>
                  <a:lnTo>
                    <a:pt x="4807" y="396"/>
                  </a:lnTo>
                  <a:lnTo>
                    <a:pt x="4763" y="432"/>
                  </a:lnTo>
                  <a:lnTo>
                    <a:pt x="4719" y="440"/>
                  </a:lnTo>
                  <a:lnTo>
                    <a:pt x="4692" y="449"/>
                  </a:lnTo>
                  <a:lnTo>
                    <a:pt x="4551" y="458"/>
                  </a:lnTo>
                  <a:lnTo>
                    <a:pt x="4516" y="467"/>
                  </a:lnTo>
                  <a:lnTo>
                    <a:pt x="4454" y="467"/>
                  </a:lnTo>
                  <a:lnTo>
                    <a:pt x="4375" y="467"/>
                  </a:lnTo>
                  <a:lnTo>
                    <a:pt x="4348" y="467"/>
                  </a:lnTo>
                  <a:lnTo>
                    <a:pt x="4278" y="458"/>
                  </a:lnTo>
                  <a:lnTo>
                    <a:pt x="4216" y="458"/>
                  </a:lnTo>
                  <a:lnTo>
                    <a:pt x="4110" y="458"/>
                  </a:lnTo>
                  <a:lnTo>
                    <a:pt x="4066" y="458"/>
                  </a:lnTo>
                  <a:lnTo>
                    <a:pt x="4031" y="458"/>
                  </a:lnTo>
                  <a:lnTo>
                    <a:pt x="3978" y="467"/>
                  </a:lnTo>
                  <a:lnTo>
                    <a:pt x="3943" y="467"/>
                  </a:lnTo>
                  <a:lnTo>
                    <a:pt x="3908" y="476"/>
                  </a:lnTo>
                  <a:lnTo>
                    <a:pt x="3872" y="485"/>
                  </a:lnTo>
                  <a:lnTo>
                    <a:pt x="3811" y="493"/>
                  </a:lnTo>
                  <a:lnTo>
                    <a:pt x="3784" y="502"/>
                  </a:lnTo>
                  <a:lnTo>
                    <a:pt x="3713" y="529"/>
                  </a:lnTo>
                  <a:lnTo>
                    <a:pt x="3669" y="537"/>
                  </a:lnTo>
                  <a:lnTo>
                    <a:pt x="3643" y="546"/>
                  </a:lnTo>
                  <a:lnTo>
                    <a:pt x="3616" y="555"/>
                  </a:lnTo>
                  <a:lnTo>
                    <a:pt x="3581" y="564"/>
                  </a:lnTo>
                  <a:lnTo>
                    <a:pt x="3555" y="590"/>
                  </a:lnTo>
                  <a:lnTo>
                    <a:pt x="3527" y="617"/>
                  </a:lnTo>
                  <a:lnTo>
                    <a:pt x="3501" y="626"/>
                  </a:lnTo>
                  <a:lnTo>
                    <a:pt x="3457" y="635"/>
                  </a:lnTo>
                  <a:lnTo>
                    <a:pt x="3430" y="635"/>
                  </a:lnTo>
                  <a:lnTo>
                    <a:pt x="3377" y="635"/>
                  </a:lnTo>
                  <a:lnTo>
                    <a:pt x="3298" y="626"/>
                  </a:lnTo>
                  <a:lnTo>
                    <a:pt x="3254" y="626"/>
                  </a:lnTo>
                  <a:lnTo>
                    <a:pt x="3219" y="626"/>
                  </a:lnTo>
                  <a:lnTo>
                    <a:pt x="3175" y="626"/>
                  </a:lnTo>
                  <a:lnTo>
                    <a:pt x="3095" y="626"/>
                  </a:lnTo>
                  <a:lnTo>
                    <a:pt x="3060" y="626"/>
                  </a:lnTo>
                  <a:lnTo>
                    <a:pt x="3033" y="626"/>
                  </a:lnTo>
                  <a:lnTo>
                    <a:pt x="2972" y="635"/>
                  </a:lnTo>
                  <a:lnTo>
                    <a:pt x="2945" y="635"/>
                  </a:lnTo>
                  <a:lnTo>
                    <a:pt x="2883" y="635"/>
                  </a:lnTo>
                  <a:lnTo>
                    <a:pt x="2813" y="635"/>
                  </a:lnTo>
                  <a:lnTo>
                    <a:pt x="2786" y="635"/>
                  </a:lnTo>
                  <a:lnTo>
                    <a:pt x="2751" y="617"/>
                  </a:lnTo>
                  <a:lnTo>
                    <a:pt x="2725" y="617"/>
                  </a:lnTo>
                  <a:lnTo>
                    <a:pt x="2663" y="608"/>
                  </a:lnTo>
                  <a:lnTo>
                    <a:pt x="2610" y="608"/>
                  </a:lnTo>
                  <a:lnTo>
                    <a:pt x="2531" y="608"/>
                  </a:lnTo>
                  <a:lnTo>
                    <a:pt x="2495" y="608"/>
                  </a:lnTo>
                  <a:lnTo>
                    <a:pt x="2469" y="608"/>
                  </a:lnTo>
                  <a:lnTo>
                    <a:pt x="2442" y="608"/>
                  </a:lnTo>
                  <a:lnTo>
                    <a:pt x="2398" y="608"/>
                  </a:lnTo>
                  <a:lnTo>
                    <a:pt x="2363" y="608"/>
                  </a:lnTo>
                  <a:lnTo>
                    <a:pt x="2337" y="617"/>
                  </a:lnTo>
                  <a:lnTo>
                    <a:pt x="2293" y="617"/>
                  </a:lnTo>
                  <a:lnTo>
                    <a:pt x="2257" y="626"/>
                  </a:lnTo>
                  <a:lnTo>
                    <a:pt x="2222" y="635"/>
                  </a:lnTo>
                  <a:lnTo>
                    <a:pt x="2169" y="643"/>
                  </a:lnTo>
                  <a:lnTo>
                    <a:pt x="2143" y="643"/>
                  </a:lnTo>
                  <a:lnTo>
                    <a:pt x="2099" y="652"/>
                  </a:lnTo>
                  <a:lnTo>
                    <a:pt x="1887" y="661"/>
                  </a:lnTo>
                  <a:lnTo>
                    <a:pt x="1843" y="670"/>
                  </a:lnTo>
                  <a:lnTo>
                    <a:pt x="1816" y="670"/>
                  </a:lnTo>
                  <a:lnTo>
                    <a:pt x="1772" y="670"/>
                  </a:lnTo>
                  <a:lnTo>
                    <a:pt x="1737" y="679"/>
                  </a:lnTo>
                  <a:lnTo>
                    <a:pt x="1710" y="679"/>
                  </a:lnTo>
                  <a:lnTo>
                    <a:pt x="1684" y="687"/>
                  </a:lnTo>
                  <a:lnTo>
                    <a:pt x="1658" y="696"/>
                  </a:lnTo>
                  <a:lnTo>
                    <a:pt x="1622" y="723"/>
                  </a:lnTo>
                  <a:lnTo>
                    <a:pt x="1596" y="740"/>
                  </a:lnTo>
                  <a:lnTo>
                    <a:pt x="1569" y="740"/>
                  </a:lnTo>
                  <a:lnTo>
                    <a:pt x="1481" y="767"/>
                  </a:lnTo>
                  <a:lnTo>
                    <a:pt x="1437" y="776"/>
                  </a:lnTo>
                  <a:lnTo>
                    <a:pt x="1393" y="784"/>
                  </a:lnTo>
                  <a:lnTo>
                    <a:pt x="1296" y="802"/>
                  </a:lnTo>
                  <a:lnTo>
                    <a:pt x="1270" y="811"/>
                  </a:lnTo>
                  <a:lnTo>
                    <a:pt x="1243" y="811"/>
                  </a:lnTo>
                  <a:lnTo>
                    <a:pt x="1208" y="820"/>
                  </a:lnTo>
                  <a:lnTo>
                    <a:pt x="1128" y="829"/>
                  </a:lnTo>
                  <a:lnTo>
                    <a:pt x="1023" y="864"/>
                  </a:lnTo>
                  <a:lnTo>
                    <a:pt x="961" y="873"/>
                  </a:lnTo>
                  <a:lnTo>
                    <a:pt x="934" y="873"/>
                  </a:lnTo>
                  <a:lnTo>
                    <a:pt x="908" y="881"/>
                  </a:lnTo>
                  <a:lnTo>
                    <a:pt x="881" y="881"/>
                  </a:lnTo>
                  <a:lnTo>
                    <a:pt x="846" y="890"/>
                  </a:lnTo>
                  <a:lnTo>
                    <a:pt x="793" y="899"/>
                  </a:lnTo>
                  <a:lnTo>
                    <a:pt x="749" y="917"/>
                  </a:lnTo>
                  <a:lnTo>
                    <a:pt x="687" y="934"/>
                  </a:lnTo>
                  <a:lnTo>
                    <a:pt x="661" y="934"/>
                  </a:lnTo>
                  <a:lnTo>
                    <a:pt x="626" y="934"/>
                  </a:lnTo>
                  <a:lnTo>
                    <a:pt x="599" y="943"/>
                  </a:lnTo>
                  <a:lnTo>
                    <a:pt x="573" y="943"/>
                  </a:lnTo>
                  <a:lnTo>
                    <a:pt x="493" y="943"/>
                  </a:lnTo>
                  <a:lnTo>
                    <a:pt x="467" y="943"/>
                  </a:lnTo>
                  <a:lnTo>
                    <a:pt x="440" y="943"/>
                  </a:lnTo>
                  <a:lnTo>
                    <a:pt x="405" y="943"/>
                  </a:lnTo>
                  <a:lnTo>
                    <a:pt x="343" y="952"/>
                  </a:lnTo>
                  <a:lnTo>
                    <a:pt x="317" y="952"/>
                  </a:lnTo>
                  <a:lnTo>
                    <a:pt x="282" y="952"/>
                  </a:lnTo>
                  <a:lnTo>
                    <a:pt x="255" y="952"/>
                  </a:lnTo>
                  <a:lnTo>
                    <a:pt x="229" y="952"/>
                  </a:lnTo>
                  <a:lnTo>
                    <a:pt x="185" y="952"/>
                  </a:lnTo>
                  <a:lnTo>
                    <a:pt x="158" y="961"/>
                  </a:lnTo>
                  <a:lnTo>
                    <a:pt x="123" y="970"/>
                  </a:lnTo>
                  <a:lnTo>
                    <a:pt x="79" y="978"/>
                  </a:lnTo>
                  <a:lnTo>
                    <a:pt x="52" y="987"/>
                  </a:lnTo>
                  <a:lnTo>
                    <a:pt x="26" y="1005"/>
                  </a:lnTo>
                  <a:lnTo>
                    <a:pt x="0" y="1014"/>
                  </a:lnTo>
                  <a:lnTo>
                    <a:pt x="0" y="1014"/>
                  </a:lnTo>
                  <a:lnTo>
                    <a:pt x="8" y="1068"/>
                  </a:lnTo>
                  <a:lnTo>
                    <a:pt x="17" y="1112"/>
                  </a:lnTo>
                  <a:lnTo>
                    <a:pt x="17" y="1147"/>
                  </a:lnTo>
                  <a:lnTo>
                    <a:pt x="35" y="1173"/>
                  </a:lnTo>
                  <a:lnTo>
                    <a:pt x="52" y="1200"/>
                  </a:lnTo>
                  <a:lnTo>
                    <a:pt x="52" y="1226"/>
                  </a:lnTo>
                  <a:lnTo>
                    <a:pt x="52" y="1253"/>
                  </a:lnTo>
                  <a:lnTo>
                    <a:pt x="61" y="1279"/>
                  </a:lnTo>
                  <a:lnTo>
                    <a:pt x="61" y="1306"/>
                  </a:lnTo>
                  <a:lnTo>
                    <a:pt x="70" y="1332"/>
                  </a:lnTo>
                  <a:lnTo>
                    <a:pt x="70" y="1359"/>
                  </a:lnTo>
                  <a:lnTo>
                    <a:pt x="70" y="1403"/>
                  </a:lnTo>
                  <a:lnTo>
                    <a:pt x="70" y="1447"/>
                  </a:lnTo>
                  <a:lnTo>
                    <a:pt x="61" y="1482"/>
                  </a:lnTo>
                  <a:lnTo>
                    <a:pt x="52" y="1509"/>
                  </a:lnTo>
                  <a:lnTo>
                    <a:pt x="52" y="1535"/>
                  </a:lnTo>
                  <a:lnTo>
                    <a:pt x="44" y="1579"/>
                  </a:lnTo>
                  <a:lnTo>
                    <a:pt x="44" y="1614"/>
                  </a:lnTo>
                  <a:lnTo>
                    <a:pt x="44" y="1650"/>
                  </a:lnTo>
                  <a:lnTo>
                    <a:pt x="44" y="1676"/>
                  </a:lnTo>
                  <a:lnTo>
                    <a:pt x="52" y="1703"/>
                  </a:lnTo>
                  <a:lnTo>
                    <a:pt x="61" y="1738"/>
                  </a:lnTo>
                  <a:lnTo>
                    <a:pt x="70" y="1773"/>
                  </a:lnTo>
                  <a:lnTo>
                    <a:pt x="88" y="1808"/>
                  </a:lnTo>
                  <a:lnTo>
                    <a:pt x="114" y="1844"/>
                  </a:lnTo>
                  <a:lnTo>
                    <a:pt x="114" y="1879"/>
                  </a:lnTo>
                  <a:lnTo>
                    <a:pt x="123" y="1906"/>
                  </a:lnTo>
                  <a:lnTo>
                    <a:pt x="132" y="1950"/>
                  </a:lnTo>
                  <a:lnTo>
                    <a:pt x="132" y="1976"/>
                  </a:lnTo>
                  <a:lnTo>
                    <a:pt x="149" y="2011"/>
                  </a:lnTo>
                  <a:lnTo>
                    <a:pt x="167" y="2038"/>
                  </a:lnTo>
                  <a:lnTo>
                    <a:pt x="167" y="2100"/>
                  </a:lnTo>
                  <a:lnTo>
                    <a:pt x="167" y="2126"/>
                  </a:lnTo>
                  <a:lnTo>
                    <a:pt x="167" y="2161"/>
                  </a:lnTo>
                  <a:lnTo>
                    <a:pt x="167" y="2188"/>
                  </a:lnTo>
                  <a:lnTo>
                    <a:pt x="167" y="2214"/>
                  </a:lnTo>
                  <a:lnTo>
                    <a:pt x="167" y="2241"/>
                  </a:lnTo>
                  <a:lnTo>
                    <a:pt x="167" y="2276"/>
                  </a:lnTo>
                  <a:lnTo>
                    <a:pt x="167" y="2302"/>
                  </a:lnTo>
                  <a:lnTo>
                    <a:pt x="167" y="2329"/>
                  </a:lnTo>
                  <a:lnTo>
                    <a:pt x="167" y="2382"/>
                  </a:lnTo>
                  <a:lnTo>
                    <a:pt x="167" y="2408"/>
                  </a:lnTo>
                  <a:lnTo>
                    <a:pt x="185" y="2452"/>
                  </a:lnTo>
                  <a:lnTo>
                    <a:pt x="194" y="2532"/>
                  </a:lnTo>
                  <a:lnTo>
                    <a:pt x="202" y="2593"/>
                  </a:lnTo>
                  <a:lnTo>
                    <a:pt x="202" y="2620"/>
                  </a:lnTo>
                  <a:lnTo>
                    <a:pt x="202" y="2655"/>
                  </a:lnTo>
                  <a:lnTo>
                    <a:pt x="211" y="2699"/>
                  </a:lnTo>
                  <a:lnTo>
                    <a:pt x="220" y="2726"/>
                  </a:lnTo>
                  <a:lnTo>
                    <a:pt x="220" y="2761"/>
                  </a:lnTo>
                  <a:lnTo>
                    <a:pt x="229" y="2787"/>
                  </a:lnTo>
                  <a:lnTo>
                    <a:pt x="238" y="2832"/>
                  </a:lnTo>
                  <a:lnTo>
                    <a:pt x="246" y="2867"/>
                  </a:lnTo>
                  <a:lnTo>
                    <a:pt x="255" y="2937"/>
                  </a:lnTo>
                  <a:lnTo>
                    <a:pt x="264" y="2981"/>
                  </a:lnTo>
                  <a:lnTo>
                    <a:pt x="273" y="3043"/>
                  </a:lnTo>
                  <a:lnTo>
                    <a:pt x="273" y="3070"/>
                  </a:lnTo>
                  <a:lnTo>
                    <a:pt x="291" y="3096"/>
                  </a:lnTo>
                  <a:lnTo>
                    <a:pt x="299" y="3124"/>
                  </a:lnTo>
                  <a:lnTo>
                    <a:pt x="308" y="3168"/>
                  </a:lnTo>
                  <a:lnTo>
                    <a:pt x="326" y="3194"/>
                  </a:lnTo>
                  <a:lnTo>
                    <a:pt x="335" y="3221"/>
                  </a:lnTo>
                  <a:lnTo>
                    <a:pt x="370" y="3256"/>
                  </a:lnTo>
                  <a:lnTo>
                    <a:pt x="370" y="3291"/>
                  </a:lnTo>
                  <a:lnTo>
                    <a:pt x="379" y="3326"/>
                  </a:lnTo>
                  <a:lnTo>
                    <a:pt x="379" y="3353"/>
                  </a:lnTo>
                  <a:lnTo>
                    <a:pt x="379" y="3379"/>
                  </a:lnTo>
                  <a:lnTo>
                    <a:pt x="379" y="3423"/>
                  </a:lnTo>
                  <a:lnTo>
                    <a:pt x="379" y="3468"/>
                  </a:lnTo>
                  <a:lnTo>
                    <a:pt x="370" y="3512"/>
                  </a:lnTo>
                  <a:lnTo>
                    <a:pt x="370" y="3688"/>
                  </a:lnTo>
                  <a:lnTo>
                    <a:pt x="361" y="3714"/>
                  </a:lnTo>
                  <a:lnTo>
                    <a:pt x="352" y="3741"/>
                  </a:lnTo>
                  <a:lnTo>
                    <a:pt x="352" y="3767"/>
                  </a:lnTo>
                  <a:lnTo>
                    <a:pt x="343" y="3794"/>
                  </a:lnTo>
                  <a:lnTo>
                    <a:pt x="335" y="3820"/>
                  </a:lnTo>
                  <a:lnTo>
                    <a:pt x="335" y="3847"/>
                  </a:lnTo>
                  <a:lnTo>
                    <a:pt x="335" y="3873"/>
                  </a:lnTo>
                  <a:lnTo>
                    <a:pt x="335" y="3909"/>
                  </a:lnTo>
                  <a:lnTo>
                    <a:pt x="335" y="3935"/>
                  </a:lnTo>
                  <a:lnTo>
                    <a:pt x="335" y="3961"/>
                  </a:lnTo>
                  <a:lnTo>
                    <a:pt x="335" y="3988"/>
                  </a:lnTo>
                  <a:lnTo>
                    <a:pt x="335" y="4041"/>
                  </a:lnTo>
                  <a:lnTo>
                    <a:pt x="335" y="4085"/>
                  </a:lnTo>
                  <a:lnTo>
                    <a:pt x="335" y="4129"/>
                  </a:lnTo>
                  <a:lnTo>
                    <a:pt x="352" y="4155"/>
                  </a:lnTo>
                  <a:lnTo>
                    <a:pt x="343" y="4155"/>
                  </a:lnTo>
                  <a:lnTo>
                    <a:pt x="379" y="4147"/>
                  </a:lnTo>
                  <a:lnTo>
                    <a:pt x="423" y="4129"/>
                  </a:lnTo>
                  <a:lnTo>
                    <a:pt x="449" y="4120"/>
                  </a:lnTo>
                  <a:lnTo>
                    <a:pt x="476" y="4111"/>
                  </a:lnTo>
                  <a:lnTo>
                    <a:pt x="502" y="4111"/>
                  </a:lnTo>
                  <a:lnTo>
                    <a:pt x="546" y="4103"/>
                  </a:lnTo>
                  <a:lnTo>
                    <a:pt x="573" y="4103"/>
                  </a:lnTo>
                  <a:lnTo>
                    <a:pt x="617" y="4103"/>
                  </a:lnTo>
                  <a:lnTo>
                    <a:pt x="643" y="4103"/>
                  </a:lnTo>
                  <a:lnTo>
                    <a:pt x="670" y="4103"/>
                  </a:lnTo>
                  <a:lnTo>
                    <a:pt x="714" y="4103"/>
                  </a:lnTo>
                  <a:lnTo>
                    <a:pt x="740" y="4103"/>
                  </a:lnTo>
                  <a:lnTo>
                    <a:pt x="767" y="4103"/>
                  </a:lnTo>
                  <a:lnTo>
                    <a:pt x="802" y="4111"/>
                  </a:lnTo>
                  <a:lnTo>
                    <a:pt x="837" y="4120"/>
                  </a:lnTo>
                  <a:lnTo>
                    <a:pt x="864" y="4120"/>
                  </a:lnTo>
                  <a:lnTo>
                    <a:pt x="926" y="4120"/>
                  </a:lnTo>
                  <a:lnTo>
                    <a:pt x="961" y="4120"/>
                  </a:lnTo>
                  <a:lnTo>
                    <a:pt x="996" y="4120"/>
                  </a:lnTo>
                  <a:lnTo>
                    <a:pt x="1067" y="4111"/>
                  </a:lnTo>
                  <a:lnTo>
                    <a:pt x="1102" y="4103"/>
                  </a:lnTo>
                  <a:lnTo>
                    <a:pt x="1137" y="4103"/>
                  </a:lnTo>
                  <a:lnTo>
                    <a:pt x="1172" y="4120"/>
                  </a:lnTo>
                  <a:lnTo>
                    <a:pt x="1217" y="4120"/>
                  </a:lnTo>
                  <a:lnTo>
                    <a:pt x="1261" y="4120"/>
                  </a:lnTo>
                  <a:lnTo>
                    <a:pt x="1287" y="4120"/>
                  </a:lnTo>
                  <a:lnTo>
                    <a:pt x="1314" y="4120"/>
                  </a:lnTo>
                  <a:lnTo>
                    <a:pt x="1419" y="4103"/>
                  </a:lnTo>
                  <a:lnTo>
                    <a:pt x="1481" y="4076"/>
                  </a:lnTo>
                  <a:lnTo>
                    <a:pt x="1508" y="4067"/>
                  </a:lnTo>
                  <a:lnTo>
                    <a:pt x="1552" y="4041"/>
                  </a:lnTo>
                  <a:lnTo>
                    <a:pt x="1613" y="3997"/>
                  </a:lnTo>
                  <a:lnTo>
                    <a:pt x="1640" y="3997"/>
                  </a:lnTo>
                  <a:lnTo>
                    <a:pt x="1666" y="3979"/>
                  </a:lnTo>
                  <a:lnTo>
                    <a:pt x="1710" y="3970"/>
                  </a:lnTo>
                  <a:lnTo>
                    <a:pt x="1755" y="3953"/>
                  </a:lnTo>
                  <a:lnTo>
                    <a:pt x="1781" y="3935"/>
                  </a:lnTo>
                  <a:lnTo>
                    <a:pt x="1834" y="3917"/>
                  </a:lnTo>
                  <a:lnTo>
                    <a:pt x="1860" y="3917"/>
                  </a:lnTo>
                  <a:lnTo>
                    <a:pt x="1887" y="3917"/>
                  </a:lnTo>
                  <a:lnTo>
                    <a:pt x="1931" y="3909"/>
                  </a:lnTo>
                  <a:lnTo>
                    <a:pt x="1966" y="3909"/>
                  </a:lnTo>
                  <a:lnTo>
                    <a:pt x="2028" y="3909"/>
                  </a:lnTo>
                  <a:lnTo>
                    <a:pt x="2054" y="3909"/>
                  </a:lnTo>
                  <a:lnTo>
                    <a:pt x="2081" y="3909"/>
                  </a:lnTo>
                  <a:lnTo>
                    <a:pt x="2116" y="3909"/>
                  </a:lnTo>
                  <a:lnTo>
                    <a:pt x="2143" y="3909"/>
                  </a:lnTo>
                  <a:lnTo>
                    <a:pt x="2187" y="3900"/>
                  </a:lnTo>
                  <a:lnTo>
                    <a:pt x="2240" y="3891"/>
                  </a:lnTo>
                  <a:lnTo>
                    <a:pt x="2301" y="3882"/>
                  </a:lnTo>
                  <a:lnTo>
                    <a:pt x="2328" y="3873"/>
                  </a:lnTo>
                  <a:lnTo>
                    <a:pt x="2390" y="3873"/>
                  </a:lnTo>
                  <a:lnTo>
                    <a:pt x="2416" y="3864"/>
                  </a:lnTo>
                  <a:lnTo>
                    <a:pt x="2442" y="3864"/>
                  </a:lnTo>
                  <a:lnTo>
                    <a:pt x="2487" y="3864"/>
                  </a:lnTo>
                  <a:lnTo>
                    <a:pt x="2513" y="3856"/>
                  </a:lnTo>
                  <a:lnTo>
                    <a:pt x="2548" y="3847"/>
                  </a:lnTo>
                  <a:lnTo>
                    <a:pt x="2637" y="3838"/>
                  </a:lnTo>
                  <a:lnTo>
                    <a:pt x="2663" y="3829"/>
                  </a:lnTo>
                  <a:lnTo>
                    <a:pt x="2689" y="3820"/>
                  </a:lnTo>
                  <a:lnTo>
                    <a:pt x="2716" y="3794"/>
                  </a:lnTo>
                  <a:lnTo>
                    <a:pt x="2742" y="3776"/>
                  </a:lnTo>
                  <a:lnTo>
                    <a:pt x="2786" y="3767"/>
                  </a:lnTo>
                  <a:lnTo>
                    <a:pt x="2857" y="3759"/>
                  </a:lnTo>
                  <a:lnTo>
                    <a:pt x="2892" y="3750"/>
                  </a:lnTo>
                  <a:lnTo>
                    <a:pt x="2919" y="3741"/>
                  </a:lnTo>
                  <a:lnTo>
                    <a:pt x="2945" y="3741"/>
                  </a:lnTo>
                  <a:lnTo>
                    <a:pt x="2972" y="3741"/>
                  </a:lnTo>
                  <a:lnTo>
                    <a:pt x="3025" y="3759"/>
                  </a:lnTo>
                  <a:lnTo>
                    <a:pt x="3060" y="3767"/>
                  </a:lnTo>
                  <a:lnTo>
                    <a:pt x="3095" y="3776"/>
                  </a:lnTo>
                  <a:lnTo>
                    <a:pt x="3175" y="3785"/>
                  </a:lnTo>
                  <a:lnTo>
                    <a:pt x="3430" y="3829"/>
                  </a:lnTo>
                  <a:lnTo>
                    <a:pt x="3474" y="3838"/>
                  </a:lnTo>
                  <a:lnTo>
                    <a:pt x="3537" y="3847"/>
                  </a:lnTo>
                  <a:lnTo>
                    <a:pt x="3581" y="3856"/>
                  </a:lnTo>
                  <a:lnTo>
                    <a:pt x="3634" y="3856"/>
                  </a:lnTo>
                  <a:lnTo>
                    <a:pt x="3687" y="3847"/>
                  </a:lnTo>
                  <a:lnTo>
                    <a:pt x="3722" y="3838"/>
                  </a:lnTo>
                  <a:lnTo>
                    <a:pt x="3758" y="3820"/>
                  </a:lnTo>
                  <a:lnTo>
                    <a:pt x="3802" y="3812"/>
                  </a:lnTo>
                  <a:lnTo>
                    <a:pt x="3855" y="3794"/>
                  </a:lnTo>
                  <a:lnTo>
                    <a:pt x="3881" y="3776"/>
                  </a:lnTo>
                  <a:lnTo>
                    <a:pt x="3908" y="3767"/>
                  </a:lnTo>
                  <a:lnTo>
                    <a:pt x="3952" y="3732"/>
                  </a:lnTo>
                  <a:lnTo>
                    <a:pt x="3996" y="3706"/>
                  </a:lnTo>
                  <a:lnTo>
                    <a:pt x="4031" y="3697"/>
                  </a:lnTo>
                  <a:lnTo>
                    <a:pt x="4110" y="3688"/>
                  </a:lnTo>
                  <a:lnTo>
                    <a:pt x="4172" y="3679"/>
                  </a:lnTo>
                  <a:lnTo>
                    <a:pt x="4207" y="3670"/>
                  </a:lnTo>
                  <a:lnTo>
                    <a:pt x="4269" y="3662"/>
                  </a:lnTo>
                  <a:lnTo>
                    <a:pt x="4331" y="3662"/>
                  </a:lnTo>
                  <a:lnTo>
                    <a:pt x="4357" y="3662"/>
                  </a:lnTo>
                  <a:lnTo>
                    <a:pt x="4384" y="3662"/>
                  </a:lnTo>
                  <a:lnTo>
                    <a:pt x="4446" y="3662"/>
                  </a:lnTo>
                  <a:lnTo>
                    <a:pt x="4560" y="3670"/>
                  </a:lnTo>
                  <a:lnTo>
                    <a:pt x="4604" y="3670"/>
                  </a:lnTo>
                  <a:lnTo>
                    <a:pt x="4648" y="3670"/>
                  </a:lnTo>
                  <a:lnTo>
                    <a:pt x="4675" y="3670"/>
                  </a:lnTo>
                  <a:lnTo>
                    <a:pt x="4772" y="3697"/>
                  </a:lnTo>
                  <a:lnTo>
                    <a:pt x="4816" y="3697"/>
                  </a:lnTo>
                  <a:lnTo>
                    <a:pt x="4860" y="3670"/>
                  </a:lnTo>
                  <a:lnTo>
                    <a:pt x="4904" y="3653"/>
                  </a:lnTo>
                  <a:lnTo>
                    <a:pt x="4966" y="3626"/>
                  </a:lnTo>
                  <a:lnTo>
                    <a:pt x="5010" y="3600"/>
                  </a:lnTo>
                  <a:lnTo>
                    <a:pt x="5089" y="3565"/>
                  </a:lnTo>
                  <a:lnTo>
                    <a:pt x="5116" y="3556"/>
                  </a:lnTo>
                  <a:lnTo>
                    <a:pt x="5142" y="3556"/>
                  </a:lnTo>
                  <a:lnTo>
                    <a:pt x="5169" y="3529"/>
                  </a:lnTo>
                  <a:lnTo>
                    <a:pt x="5222" y="3520"/>
                  </a:lnTo>
                  <a:lnTo>
                    <a:pt x="5266" y="3512"/>
                  </a:lnTo>
                  <a:lnTo>
                    <a:pt x="5327" y="3503"/>
                  </a:lnTo>
                  <a:lnTo>
                    <a:pt x="5354" y="3503"/>
                  </a:lnTo>
                  <a:lnTo>
                    <a:pt x="5416" y="3476"/>
                  </a:lnTo>
                  <a:lnTo>
                    <a:pt x="5469" y="3468"/>
                  </a:lnTo>
                  <a:lnTo>
                    <a:pt x="5495" y="3459"/>
                  </a:lnTo>
                  <a:lnTo>
                    <a:pt x="5539" y="3459"/>
                  </a:lnTo>
                  <a:lnTo>
                    <a:pt x="5654" y="3432"/>
                  </a:lnTo>
                  <a:lnTo>
                    <a:pt x="5680" y="3432"/>
                  </a:lnTo>
                  <a:lnTo>
                    <a:pt x="5724" y="3423"/>
                  </a:lnTo>
                  <a:lnTo>
                    <a:pt x="5768" y="3423"/>
                  </a:lnTo>
                  <a:lnTo>
                    <a:pt x="5795" y="3415"/>
                  </a:lnTo>
                  <a:lnTo>
                    <a:pt x="5839" y="3397"/>
                  </a:lnTo>
                  <a:lnTo>
                    <a:pt x="5883" y="3388"/>
                  </a:lnTo>
                  <a:lnTo>
                    <a:pt x="5945" y="3362"/>
                  </a:lnTo>
                  <a:lnTo>
                    <a:pt x="5980" y="3344"/>
                  </a:lnTo>
                  <a:lnTo>
                    <a:pt x="6015" y="3335"/>
                  </a:lnTo>
                  <a:lnTo>
                    <a:pt x="6051" y="3326"/>
                  </a:lnTo>
                  <a:lnTo>
                    <a:pt x="6077" y="3318"/>
                  </a:lnTo>
                  <a:lnTo>
                    <a:pt x="6130" y="3309"/>
                  </a:lnTo>
                  <a:lnTo>
                    <a:pt x="6165" y="3300"/>
                  </a:lnTo>
                  <a:lnTo>
                    <a:pt x="6192" y="3291"/>
                  </a:lnTo>
                  <a:lnTo>
                    <a:pt x="6253" y="3282"/>
                  </a:lnTo>
                  <a:lnTo>
                    <a:pt x="6280" y="3282"/>
                  </a:lnTo>
                  <a:lnTo>
                    <a:pt x="6306" y="3282"/>
                  </a:lnTo>
                  <a:lnTo>
                    <a:pt x="6377" y="3282"/>
                  </a:lnTo>
                  <a:lnTo>
                    <a:pt x="6421" y="3282"/>
                  </a:lnTo>
                  <a:lnTo>
                    <a:pt x="6456" y="3282"/>
                  </a:lnTo>
                  <a:lnTo>
                    <a:pt x="6518" y="3282"/>
                  </a:lnTo>
                  <a:lnTo>
                    <a:pt x="6545" y="3282"/>
                  </a:lnTo>
                  <a:lnTo>
                    <a:pt x="6571" y="3282"/>
                  </a:lnTo>
                  <a:lnTo>
                    <a:pt x="6624" y="3282"/>
                  </a:lnTo>
                  <a:lnTo>
                    <a:pt x="6659" y="3282"/>
                  </a:lnTo>
                  <a:lnTo>
                    <a:pt x="6694" y="3282"/>
                  </a:lnTo>
                  <a:lnTo>
                    <a:pt x="6739" y="3282"/>
                  </a:lnTo>
                  <a:lnTo>
                    <a:pt x="6774" y="3282"/>
                  </a:lnTo>
                  <a:lnTo>
                    <a:pt x="6809" y="3274"/>
                  </a:lnTo>
                  <a:lnTo>
                    <a:pt x="6844" y="3265"/>
                  </a:lnTo>
                  <a:lnTo>
                    <a:pt x="6871" y="3247"/>
                  </a:lnTo>
                  <a:lnTo>
                    <a:pt x="6906" y="3221"/>
                  </a:lnTo>
                  <a:lnTo>
                    <a:pt x="6933" y="3221"/>
                  </a:lnTo>
                  <a:lnTo>
                    <a:pt x="6959" y="3221"/>
                  </a:lnTo>
                  <a:lnTo>
                    <a:pt x="6986" y="3221"/>
                  </a:lnTo>
                  <a:lnTo>
                    <a:pt x="7012" y="32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172"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173" name=""/>
          <p:cNvSpPr/>
          <p:nvPr/>
        </p:nvSpPr>
        <p:spPr>
          <a:xfrm>
            <a:off x="2357280" y="2797200"/>
            <a:ext cx="3821400" cy="2205360"/>
          </a:xfrm>
          <a:custGeom>
            <a:avLst/>
            <a:gdLst/>
            <a:ahLst/>
            <a:rect l="0" t="0" r="r" b="b"/>
            <a:pathLst>
              <a:path fill="none" w="10615" h="6126">
                <a:moveTo>
                  <a:pt x="2614" y="0"/>
                </a:moveTo>
                <a:lnTo>
                  <a:pt x="0" y="0"/>
                </a:lnTo>
                <a:lnTo>
                  <a:pt x="0" y="92"/>
                </a:lnTo>
                <a:lnTo>
                  <a:pt x="0" y="216"/>
                </a:lnTo>
                <a:lnTo>
                  <a:pt x="0" y="308"/>
                </a:lnTo>
                <a:lnTo>
                  <a:pt x="0" y="463"/>
                </a:lnTo>
                <a:lnTo>
                  <a:pt x="30" y="555"/>
                </a:lnTo>
                <a:lnTo>
                  <a:pt x="61" y="648"/>
                </a:lnTo>
                <a:lnTo>
                  <a:pt x="123" y="771"/>
                </a:lnTo>
                <a:lnTo>
                  <a:pt x="185" y="895"/>
                </a:lnTo>
                <a:lnTo>
                  <a:pt x="273" y="1049"/>
                </a:lnTo>
                <a:lnTo>
                  <a:pt x="335" y="1168"/>
                </a:lnTo>
                <a:lnTo>
                  <a:pt x="366" y="1261"/>
                </a:lnTo>
                <a:lnTo>
                  <a:pt x="489" y="1446"/>
                </a:lnTo>
                <a:lnTo>
                  <a:pt x="582" y="1569"/>
                </a:lnTo>
                <a:lnTo>
                  <a:pt x="582" y="1662"/>
                </a:lnTo>
                <a:lnTo>
                  <a:pt x="612" y="1878"/>
                </a:lnTo>
                <a:lnTo>
                  <a:pt x="612" y="1971"/>
                </a:lnTo>
                <a:lnTo>
                  <a:pt x="612" y="2125"/>
                </a:lnTo>
                <a:lnTo>
                  <a:pt x="612" y="2310"/>
                </a:lnTo>
                <a:lnTo>
                  <a:pt x="612" y="2460"/>
                </a:lnTo>
                <a:lnTo>
                  <a:pt x="612" y="2707"/>
                </a:lnTo>
                <a:lnTo>
                  <a:pt x="612" y="2831"/>
                </a:lnTo>
                <a:lnTo>
                  <a:pt x="612" y="2923"/>
                </a:lnTo>
                <a:lnTo>
                  <a:pt x="612" y="3202"/>
                </a:lnTo>
                <a:lnTo>
                  <a:pt x="643" y="3449"/>
                </a:lnTo>
                <a:lnTo>
                  <a:pt x="736" y="3665"/>
                </a:lnTo>
                <a:lnTo>
                  <a:pt x="736" y="3815"/>
                </a:lnTo>
                <a:lnTo>
                  <a:pt x="829" y="4031"/>
                </a:lnTo>
                <a:lnTo>
                  <a:pt x="859" y="4185"/>
                </a:lnTo>
                <a:lnTo>
                  <a:pt x="859" y="4278"/>
                </a:lnTo>
                <a:lnTo>
                  <a:pt x="829" y="4556"/>
                </a:lnTo>
                <a:lnTo>
                  <a:pt x="829" y="4772"/>
                </a:lnTo>
                <a:lnTo>
                  <a:pt x="829" y="4988"/>
                </a:lnTo>
                <a:lnTo>
                  <a:pt x="829" y="5385"/>
                </a:lnTo>
                <a:lnTo>
                  <a:pt x="1508" y="5663"/>
                </a:lnTo>
                <a:lnTo>
                  <a:pt x="1719" y="5755"/>
                </a:lnTo>
                <a:lnTo>
                  <a:pt x="1812" y="5817"/>
                </a:lnTo>
                <a:lnTo>
                  <a:pt x="1935" y="5817"/>
                </a:lnTo>
                <a:lnTo>
                  <a:pt x="2337" y="5817"/>
                </a:lnTo>
                <a:lnTo>
                  <a:pt x="2429" y="5817"/>
                </a:lnTo>
                <a:lnTo>
                  <a:pt x="2522" y="5817"/>
                </a:lnTo>
                <a:lnTo>
                  <a:pt x="2676" y="5817"/>
                </a:lnTo>
                <a:lnTo>
                  <a:pt x="2800" y="5848"/>
                </a:lnTo>
                <a:lnTo>
                  <a:pt x="2950" y="5879"/>
                </a:lnTo>
                <a:lnTo>
                  <a:pt x="3104" y="5971"/>
                </a:lnTo>
                <a:lnTo>
                  <a:pt x="3258" y="6002"/>
                </a:lnTo>
                <a:lnTo>
                  <a:pt x="3474" y="6095"/>
                </a:lnTo>
                <a:lnTo>
                  <a:pt x="3567" y="6126"/>
                </a:lnTo>
                <a:lnTo>
                  <a:pt x="4030" y="6126"/>
                </a:lnTo>
                <a:lnTo>
                  <a:pt x="4519" y="6126"/>
                </a:lnTo>
                <a:lnTo>
                  <a:pt x="4674" y="6126"/>
                </a:lnTo>
                <a:lnTo>
                  <a:pt x="4766" y="6126"/>
                </a:lnTo>
                <a:lnTo>
                  <a:pt x="4859" y="6002"/>
                </a:lnTo>
                <a:lnTo>
                  <a:pt x="5199" y="5879"/>
                </a:lnTo>
                <a:lnTo>
                  <a:pt x="5229" y="5817"/>
                </a:lnTo>
                <a:lnTo>
                  <a:pt x="5447" y="5786"/>
                </a:lnTo>
                <a:lnTo>
                  <a:pt x="5535" y="5755"/>
                </a:lnTo>
                <a:lnTo>
                  <a:pt x="5751" y="5693"/>
                </a:lnTo>
                <a:lnTo>
                  <a:pt x="6183" y="5848"/>
                </a:lnTo>
                <a:lnTo>
                  <a:pt x="6276" y="5786"/>
                </a:lnTo>
                <a:lnTo>
                  <a:pt x="6739" y="5786"/>
                </a:lnTo>
                <a:lnTo>
                  <a:pt x="7444" y="5508"/>
                </a:lnTo>
                <a:lnTo>
                  <a:pt x="7722" y="5477"/>
                </a:lnTo>
                <a:lnTo>
                  <a:pt x="7907" y="5416"/>
                </a:lnTo>
                <a:lnTo>
                  <a:pt x="8061" y="5539"/>
                </a:lnTo>
                <a:lnTo>
                  <a:pt x="8181" y="5570"/>
                </a:lnTo>
                <a:lnTo>
                  <a:pt x="8674" y="5601"/>
                </a:lnTo>
                <a:lnTo>
                  <a:pt x="8860" y="5601"/>
                </a:lnTo>
                <a:lnTo>
                  <a:pt x="8983" y="5570"/>
                </a:lnTo>
                <a:lnTo>
                  <a:pt x="9107" y="5477"/>
                </a:lnTo>
                <a:lnTo>
                  <a:pt x="9199" y="5477"/>
                </a:lnTo>
                <a:lnTo>
                  <a:pt x="9477" y="5477"/>
                </a:lnTo>
                <a:lnTo>
                  <a:pt x="9596" y="5477"/>
                </a:lnTo>
                <a:lnTo>
                  <a:pt x="9689" y="5447"/>
                </a:lnTo>
                <a:lnTo>
                  <a:pt x="9812" y="5447"/>
                </a:lnTo>
                <a:lnTo>
                  <a:pt x="9905" y="5477"/>
                </a:lnTo>
                <a:lnTo>
                  <a:pt x="9997" y="5477"/>
                </a:lnTo>
                <a:lnTo>
                  <a:pt x="10090" y="5570"/>
                </a:lnTo>
                <a:lnTo>
                  <a:pt x="10183" y="5663"/>
                </a:lnTo>
                <a:lnTo>
                  <a:pt x="10275" y="5786"/>
                </a:lnTo>
                <a:lnTo>
                  <a:pt x="10429" y="5817"/>
                </a:lnTo>
                <a:lnTo>
                  <a:pt x="10522" y="5848"/>
                </a:lnTo>
                <a:lnTo>
                  <a:pt x="10615" y="5879"/>
                </a:lnTo>
                <a:lnTo>
                  <a:pt x="10615" y="5786"/>
                </a:lnTo>
                <a:lnTo>
                  <a:pt x="10615" y="5693"/>
                </a:lnTo>
                <a:lnTo>
                  <a:pt x="10615" y="54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75" name=""/>
          <p:cNvSpPr txBox="1"/>
          <p:nvPr/>
        </p:nvSpPr>
        <p:spPr>
          <a:xfrm>
            <a:off x="4114800" y="518148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
        <p:nvSpPr>
          <p:cNvPr id="1176"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7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8"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a:off x="3971880" y="3733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0" name=""/>
          <p:cNvSpPr/>
          <p:nvPr/>
        </p:nvSpPr>
        <p:spPr>
          <a:xfrm>
            <a:off x="5680080" y="34894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81" name=""/>
          <p:cNvGrpSpPr/>
          <p:nvPr/>
        </p:nvGrpSpPr>
        <p:grpSpPr>
          <a:xfrm>
            <a:off x="3873600" y="3873600"/>
            <a:ext cx="523800" cy="0"/>
            <a:chOff x="3873600" y="3873600"/>
            <a:chExt cx="523800" cy="0"/>
          </a:xfrm>
        </p:grpSpPr>
        <p:sp>
          <p:nvSpPr>
            <p:cNvPr id="1182" name=""/>
            <p:cNvSpPr/>
            <p:nvPr/>
          </p:nvSpPr>
          <p:spPr>
            <a:xfrm>
              <a:off x="3873600" y="38736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3" name=""/>
            <p:cNvSpPr/>
            <p:nvPr/>
          </p:nvSpPr>
          <p:spPr>
            <a:xfrm>
              <a:off x="4079880" y="387360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4" name=""/>
            <p:cNvSpPr/>
            <p:nvPr/>
          </p:nvSpPr>
          <p:spPr>
            <a:xfrm>
              <a:off x="4222800" y="38736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85" name=""/>
          <p:cNvSpPr/>
          <p:nvPr/>
        </p:nvSpPr>
        <p:spPr>
          <a:xfrm>
            <a:off x="5556240" y="363528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5921280" y="3635280"/>
            <a:ext cx="139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5794200" y="363528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88" name=""/>
          <p:cNvGrpSpPr/>
          <p:nvPr/>
        </p:nvGrpSpPr>
        <p:grpSpPr>
          <a:xfrm>
            <a:off x="4113360" y="3637080"/>
            <a:ext cx="0" cy="523800"/>
            <a:chOff x="4113360" y="3637080"/>
            <a:chExt cx="0" cy="523800"/>
          </a:xfrm>
        </p:grpSpPr>
        <p:sp>
          <p:nvSpPr>
            <p:cNvPr id="1189" name=""/>
            <p:cNvSpPr/>
            <p:nvPr/>
          </p:nvSpPr>
          <p:spPr>
            <a:xfrm>
              <a:off x="4113360" y="36370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0" name=""/>
            <p:cNvSpPr/>
            <p:nvPr/>
          </p:nvSpPr>
          <p:spPr>
            <a:xfrm>
              <a:off x="4113360" y="384336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191" name=""/>
            <p:cNvSpPr/>
            <p:nvPr/>
          </p:nvSpPr>
          <p:spPr>
            <a:xfrm>
              <a:off x="4113360" y="398628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92" name=""/>
          <p:cNvGrpSpPr/>
          <p:nvPr/>
        </p:nvGrpSpPr>
        <p:grpSpPr>
          <a:xfrm>
            <a:off x="5827680" y="3398760"/>
            <a:ext cx="0" cy="523800"/>
            <a:chOff x="5827680" y="3398760"/>
            <a:chExt cx="0" cy="523800"/>
          </a:xfrm>
        </p:grpSpPr>
        <p:sp>
          <p:nvSpPr>
            <p:cNvPr id="1193" name=""/>
            <p:cNvSpPr/>
            <p:nvPr/>
          </p:nvSpPr>
          <p:spPr>
            <a:xfrm>
              <a:off x="5827680" y="339876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a:off x="5827680" y="360504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195" name=""/>
            <p:cNvSpPr/>
            <p:nvPr/>
          </p:nvSpPr>
          <p:spPr>
            <a:xfrm>
              <a:off x="5827680" y="374796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96" name=""/>
          <p:cNvSpPr/>
          <p:nvPr/>
        </p:nvSpPr>
        <p:spPr>
          <a:xfrm>
            <a:off x="6254640" y="279396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7" name=""/>
          <p:cNvSpPr/>
          <p:nvPr/>
        </p:nvSpPr>
        <p:spPr>
          <a:xfrm>
            <a:off x="7223040" y="279396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7223040" y="3349800"/>
            <a:ext cx="0" cy="269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 name=""/>
          <p:cNvSpPr txBox="1"/>
          <p:nvPr/>
        </p:nvSpPr>
        <p:spPr>
          <a:xfrm>
            <a:off x="7042320" y="304164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1200" name=""/>
          <p:cNvSpPr/>
          <p:nvPr/>
        </p:nvSpPr>
        <p:spPr>
          <a:xfrm>
            <a:off x="6254640" y="2793960"/>
            <a:ext cx="21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p:nvPr/>
        </p:nvSpPr>
        <p:spPr>
          <a:xfrm>
            <a:off x="4444920" y="3873600"/>
            <a:ext cx="390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 name=""/>
          <p:cNvSpPr/>
          <p:nvPr/>
        </p:nvSpPr>
        <p:spPr>
          <a:xfrm>
            <a:off x="8255160" y="2809800"/>
            <a:ext cx="0" cy="830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flipV="1">
            <a:off x="8255160" y="3595680"/>
            <a:ext cx="0" cy="2620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4" name=""/>
          <p:cNvSpPr/>
          <p:nvPr/>
        </p:nvSpPr>
        <p:spPr>
          <a:xfrm>
            <a:off x="8085240" y="313992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5" name=""/>
          <p:cNvSpPr txBox="1"/>
          <p:nvPr/>
        </p:nvSpPr>
        <p:spPr>
          <a:xfrm>
            <a:off x="5661000" y="4827600"/>
            <a:ext cx="24703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00"/>
                </a:solidFill>
                <a:latin typeface="Times New Roman"/>
                <a:ea typeface="Times New Roman"/>
              </a:rPr>
              <a:t>Beyond tolerance limits?</a:t>
            </a:r>
            <a:endParaRPr b="0" lang="en-US" sz="1800" spc="-1" strike="noStrike">
              <a:solidFill>
                <a:srgbClr val="000000"/>
              </a:solidFill>
              <a:latin typeface="Arial"/>
            </a:endParaRPr>
          </a:p>
        </p:txBody>
      </p:sp>
      <p:sp>
        <p:nvSpPr>
          <p:cNvPr id="1206" name=""/>
          <p:cNvSpPr/>
          <p:nvPr/>
        </p:nvSpPr>
        <p:spPr>
          <a:xfrm>
            <a:off x="8259840" y="3772080"/>
            <a:ext cx="0" cy="12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 name=""/>
          <p:cNvSpPr/>
          <p:nvPr/>
        </p:nvSpPr>
        <p:spPr>
          <a:xfrm flipH="1">
            <a:off x="8116920" y="50338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08" name=""/>
          <p:cNvGrpSpPr/>
          <p:nvPr/>
        </p:nvGrpSpPr>
        <p:grpSpPr>
          <a:xfrm>
            <a:off x="3629160" y="2786040"/>
            <a:ext cx="2549520" cy="1495800"/>
            <a:chOff x="3629160" y="2786040"/>
            <a:chExt cx="2549520" cy="1495800"/>
          </a:xfrm>
        </p:grpSpPr>
        <p:sp>
          <p:nvSpPr>
            <p:cNvPr id="1209" name=""/>
            <p:cNvSpPr/>
            <p:nvPr/>
          </p:nvSpPr>
          <p:spPr>
            <a:xfrm>
              <a:off x="6122880" y="2790720"/>
              <a:ext cx="55800" cy="1162440"/>
            </a:xfrm>
            <a:custGeom>
              <a:avLst/>
              <a:gdLst/>
              <a:ahLst/>
              <a:rect l="0" t="0" r="r" b="b"/>
              <a:pathLst>
                <a:path fill="none" w="155" h="3229">
                  <a:moveTo>
                    <a:pt x="142" y="0"/>
                  </a:moveTo>
                  <a:lnTo>
                    <a:pt x="155" y="132"/>
                  </a:lnTo>
                  <a:lnTo>
                    <a:pt x="44" y="282"/>
                  </a:lnTo>
                  <a:lnTo>
                    <a:pt x="13" y="418"/>
                  </a:lnTo>
                  <a:lnTo>
                    <a:pt x="35" y="546"/>
                  </a:lnTo>
                  <a:lnTo>
                    <a:pt x="57" y="679"/>
                  </a:lnTo>
                  <a:lnTo>
                    <a:pt x="26" y="821"/>
                  </a:lnTo>
                  <a:lnTo>
                    <a:pt x="4" y="957"/>
                  </a:lnTo>
                  <a:lnTo>
                    <a:pt x="22" y="1085"/>
                  </a:lnTo>
                  <a:lnTo>
                    <a:pt x="89" y="1253"/>
                  </a:lnTo>
                  <a:lnTo>
                    <a:pt x="111" y="1385"/>
                  </a:lnTo>
                  <a:lnTo>
                    <a:pt x="39" y="1531"/>
                  </a:lnTo>
                  <a:lnTo>
                    <a:pt x="57" y="1663"/>
                  </a:lnTo>
                  <a:lnTo>
                    <a:pt x="74" y="1795"/>
                  </a:lnTo>
                  <a:lnTo>
                    <a:pt x="93" y="1928"/>
                  </a:lnTo>
                  <a:lnTo>
                    <a:pt x="115" y="2055"/>
                  </a:lnTo>
                  <a:lnTo>
                    <a:pt x="137" y="2227"/>
                  </a:lnTo>
                  <a:lnTo>
                    <a:pt x="111" y="2364"/>
                  </a:lnTo>
                  <a:lnTo>
                    <a:pt x="39" y="2511"/>
                  </a:lnTo>
                  <a:lnTo>
                    <a:pt x="61" y="2639"/>
                  </a:lnTo>
                  <a:lnTo>
                    <a:pt x="35" y="2780"/>
                  </a:lnTo>
                  <a:lnTo>
                    <a:pt x="52" y="2912"/>
                  </a:lnTo>
                  <a:lnTo>
                    <a:pt x="70" y="3044"/>
                  </a:lnTo>
                  <a:lnTo>
                    <a:pt x="89" y="3172"/>
                  </a:lnTo>
                  <a:lnTo>
                    <a:pt x="8" y="3229"/>
                  </a:lnTo>
                  <a:lnTo>
                    <a:pt x="0" y="318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a:off x="3629160" y="2786040"/>
              <a:ext cx="2543400" cy="1495800"/>
            </a:xfrm>
            <a:custGeom>
              <a:avLst/>
              <a:gdLst/>
              <a:ahLst/>
              <a:rect l="0" t="0" r="r" b="b"/>
              <a:pathLst>
                <a:path fill="none" w="7065" h="4155">
                  <a:moveTo>
                    <a:pt x="7065" y="0"/>
                  </a:moveTo>
                  <a:lnTo>
                    <a:pt x="7038" y="17"/>
                  </a:lnTo>
                  <a:lnTo>
                    <a:pt x="7012" y="17"/>
                  </a:lnTo>
                  <a:lnTo>
                    <a:pt x="6986" y="17"/>
                  </a:lnTo>
                  <a:lnTo>
                    <a:pt x="6941" y="17"/>
                  </a:lnTo>
                  <a:lnTo>
                    <a:pt x="6897" y="17"/>
                  </a:lnTo>
                  <a:lnTo>
                    <a:pt x="6853" y="17"/>
                  </a:lnTo>
                  <a:lnTo>
                    <a:pt x="6809" y="17"/>
                  </a:lnTo>
                  <a:lnTo>
                    <a:pt x="6747" y="26"/>
                  </a:lnTo>
                  <a:lnTo>
                    <a:pt x="6721" y="44"/>
                  </a:lnTo>
                  <a:lnTo>
                    <a:pt x="6650" y="79"/>
                  </a:lnTo>
                  <a:lnTo>
                    <a:pt x="6624" y="88"/>
                  </a:lnTo>
                  <a:lnTo>
                    <a:pt x="6597" y="97"/>
                  </a:lnTo>
                  <a:lnTo>
                    <a:pt x="6562" y="105"/>
                  </a:lnTo>
                  <a:lnTo>
                    <a:pt x="6527" y="114"/>
                  </a:lnTo>
                  <a:lnTo>
                    <a:pt x="6492" y="114"/>
                  </a:lnTo>
                  <a:lnTo>
                    <a:pt x="6430" y="123"/>
                  </a:lnTo>
                  <a:lnTo>
                    <a:pt x="6403" y="123"/>
                  </a:lnTo>
                  <a:lnTo>
                    <a:pt x="6359" y="132"/>
                  </a:lnTo>
                  <a:lnTo>
                    <a:pt x="6298" y="141"/>
                  </a:lnTo>
                  <a:lnTo>
                    <a:pt x="6271" y="149"/>
                  </a:lnTo>
                  <a:lnTo>
                    <a:pt x="6218" y="158"/>
                  </a:lnTo>
                  <a:lnTo>
                    <a:pt x="6165" y="185"/>
                  </a:lnTo>
                  <a:lnTo>
                    <a:pt x="6130" y="194"/>
                  </a:lnTo>
                  <a:lnTo>
                    <a:pt x="6086" y="220"/>
                  </a:lnTo>
                  <a:lnTo>
                    <a:pt x="6042" y="229"/>
                  </a:lnTo>
                  <a:lnTo>
                    <a:pt x="5998" y="238"/>
                  </a:lnTo>
                  <a:lnTo>
                    <a:pt x="5971" y="238"/>
                  </a:lnTo>
                  <a:lnTo>
                    <a:pt x="5927" y="246"/>
                  </a:lnTo>
                  <a:lnTo>
                    <a:pt x="5892" y="255"/>
                  </a:lnTo>
                  <a:lnTo>
                    <a:pt x="5839" y="255"/>
                  </a:lnTo>
                  <a:lnTo>
                    <a:pt x="5795" y="255"/>
                  </a:lnTo>
                  <a:lnTo>
                    <a:pt x="5733" y="255"/>
                  </a:lnTo>
                  <a:lnTo>
                    <a:pt x="5707" y="264"/>
                  </a:lnTo>
                  <a:lnTo>
                    <a:pt x="5663" y="273"/>
                  </a:lnTo>
                  <a:lnTo>
                    <a:pt x="5610" y="273"/>
                  </a:lnTo>
                  <a:lnTo>
                    <a:pt x="5548" y="291"/>
                  </a:lnTo>
                  <a:lnTo>
                    <a:pt x="5521" y="291"/>
                  </a:lnTo>
                  <a:lnTo>
                    <a:pt x="5477" y="291"/>
                  </a:lnTo>
                  <a:lnTo>
                    <a:pt x="5451" y="291"/>
                  </a:lnTo>
                  <a:lnTo>
                    <a:pt x="5424" y="291"/>
                  </a:lnTo>
                  <a:lnTo>
                    <a:pt x="5372" y="291"/>
                  </a:lnTo>
                  <a:lnTo>
                    <a:pt x="5327" y="291"/>
                  </a:lnTo>
                  <a:lnTo>
                    <a:pt x="5301" y="291"/>
                  </a:lnTo>
                  <a:lnTo>
                    <a:pt x="5275" y="299"/>
                  </a:lnTo>
                  <a:lnTo>
                    <a:pt x="5213" y="308"/>
                  </a:lnTo>
                  <a:lnTo>
                    <a:pt x="5178" y="308"/>
                  </a:lnTo>
                  <a:lnTo>
                    <a:pt x="5107" y="317"/>
                  </a:lnTo>
                  <a:lnTo>
                    <a:pt x="5072" y="317"/>
                  </a:lnTo>
                  <a:lnTo>
                    <a:pt x="5036" y="317"/>
                  </a:lnTo>
                  <a:lnTo>
                    <a:pt x="5001" y="326"/>
                  </a:lnTo>
                  <a:lnTo>
                    <a:pt x="4957" y="326"/>
                  </a:lnTo>
                  <a:lnTo>
                    <a:pt x="4931" y="343"/>
                  </a:lnTo>
                  <a:lnTo>
                    <a:pt x="4895" y="352"/>
                  </a:lnTo>
                  <a:lnTo>
                    <a:pt x="4869" y="361"/>
                  </a:lnTo>
                  <a:lnTo>
                    <a:pt x="4807" y="396"/>
                  </a:lnTo>
                  <a:lnTo>
                    <a:pt x="4763" y="432"/>
                  </a:lnTo>
                  <a:lnTo>
                    <a:pt x="4719" y="440"/>
                  </a:lnTo>
                  <a:lnTo>
                    <a:pt x="4692" y="449"/>
                  </a:lnTo>
                  <a:lnTo>
                    <a:pt x="4551" y="458"/>
                  </a:lnTo>
                  <a:lnTo>
                    <a:pt x="4516" y="467"/>
                  </a:lnTo>
                  <a:lnTo>
                    <a:pt x="4454" y="467"/>
                  </a:lnTo>
                  <a:lnTo>
                    <a:pt x="4375" y="467"/>
                  </a:lnTo>
                  <a:lnTo>
                    <a:pt x="4348" y="467"/>
                  </a:lnTo>
                  <a:lnTo>
                    <a:pt x="4278" y="458"/>
                  </a:lnTo>
                  <a:lnTo>
                    <a:pt x="4216" y="458"/>
                  </a:lnTo>
                  <a:lnTo>
                    <a:pt x="4110" y="458"/>
                  </a:lnTo>
                  <a:lnTo>
                    <a:pt x="4066" y="458"/>
                  </a:lnTo>
                  <a:lnTo>
                    <a:pt x="4031" y="458"/>
                  </a:lnTo>
                  <a:lnTo>
                    <a:pt x="3978" y="467"/>
                  </a:lnTo>
                  <a:lnTo>
                    <a:pt x="3943" y="467"/>
                  </a:lnTo>
                  <a:lnTo>
                    <a:pt x="3908" y="476"/>
                  </a:lnTo>
                  <a:lnTo>
                    <a:pt x="3872" y="485"/>
                  </a:lnTo>
                  <a:lnTo>
                    <a:pt x="3811" y="493"/>
                  </a:lnTo>
                  <a:lnTo>
                    <a:pt x="3784" y="502"/>
                  </a:lnTo>
                  <a:lnTo>
                    <a:pt x="3713" y="529"/>
                  </a:lnTo>
                  <a:lnTo>
                    <a:pt x="3669" y="537"/>
                  </a:lnTo>
                  <a:lnTo>
                    <a:pt x="3643" y="546"/>
                  </a:lnTo>
                  <a:lnTo>
                    <a:pt x="3616" y="555"/>
                  </a:lnTo>
                  <a:lnTo>
                    <a:pt x="3581" y="564"/>
                  </a:lnTo>
                  <a:lnTo>
                    <a:pt x="3555" y="590"/>
                  </a:lnTo>
                  <a:lnTo>
                    <a:pt x="3527" y="617"/>
                  </a:lnTo>
                  <a:lnTo>
                    <a:pt x="3501" y="626"/>
                  </a:lnTo>
                  <a:lnTo>
                    <a:pt x="3457" y="635"/>
                  </a:lnTo>
                  <a:lnTo>
                    <a:pt x="3430" y="635"/>
                  </a:lnTo>
                  <a:lnTo>
                    <a:pt x="3377" y="635"/>
                  </a:lnTo>
                  <a:lnTo>
                    <a:pt x="3298" y="626"/>
                  </a:lnTo>
                  <a:lnTo>
                    <a:pt x="3254" y="626"/>
                  </a:lnTo>
                  <a:lnTo>
                    <a:pt x="3219" y="626"/>
                  </a:lnTo>
                  <a:lnTo>
                    <a:pt x="3175" y="626"/>
                  </a:lnTo>
                  <a:lnTo>
                    <a:pt x="3095" y="626"/>
                  </a:lnTo>
                  <a:lnTo>
                    <a:pt x="3060" y="626"/>
                  </a:lnTo>
                  <a:lnTo>
                    <a:pt x="3033" y="626"/>
                  </a:lnTo>
                  <a:lnTo>
                    <a:pt x="2972" y="635"/>
                  </a:lnTo>
                  <a:lnTo>
                    <a:pt x="2945" y="635"/>
                  </a:lnTo>
                  <a:lnTo>
                    <a:pt x="2883" y="635"/>
                  </a:lnTo>
                  <a:lnTo>
                    <a:pt x="2813" y="635"/>
                  </a:lnTo>
                  <a:lnTo>
                    <a:pt x="2786" y="635"/>
                  </a:lnTo>
                  <a:lnTo>
                    <a:pt x="2751" y="617"/>
                  </a:lnTo>
                  <a:lnTo>
                    <a:pt x="2725" y="617"/>
                  </a:lnTo>
                  <a:lnTo>
                    <a:pt x="2663" y="608"/>
                  </a:lnTo>
                  <a:lnTo>
                    <a:pt x="2610" y="608"/>
                  </a:lnTo>
                  <a:lnTo>
                    <a:pt x="2531" y="608"/>
                  </a:lnTo>
                  <a:lnTo>
                    <a:pt x="2495" y="608"/>
                  </a:lnTo>
                  <a:lnTo>
                    <a:pt x="2469" y="608"/>
                  </a:lnTo>
                  <a:lnTo>
                    <a:pt x="2442" y="608"/>
                  </a:lnTo>
                  <a:lnTo>
                    <a:pt x="2398" y="608"/>
                  </a:lnTo>
                  <a:lnTo>
                    <a:pt x="2363" y="608"/>
                  </a:lnTo>
                  <a:lnTo>
                    <a:pt x="2337" y="617"/>
                  </a:lnTo>
                  <a:lnTo>
                    <a:pt x="2293" y="617"/>
                  </a:lnTo>
                  <a:lnTo>
                    <a:pt x="2257" y="626"/>
                  </a:lnTo>
                  <a:lnTo>
                    <a:pt x="2222" y="635"/>
                  </a:lnTo>
                  <a:lnTo>
                    <a:pt x="2169" y="643"/>
                  </a:lnTo>
                  <a:lnTo>
                    <a:pt x="2143" y="643"/>
                  </a:lnTo>
                  <a:lnTo>
                    <a:pt x="2099" y="652"/>
                  </a:lnTo>
                  <a:lnTo>
                    <a:pt x="1887" y="661"/>
                  </a:lnTo>
                  <a:lnTo>
                    <a:pt x="1843" y="670"/>
                  </a:lnTo>
                  <a:lnTo>
                    <a:pt x="1816" y="670"/>
                  </a:lnTo>
                  <a:lnTo>
                    <a:pt x="1772" y="670"/>
                  </a:lnTo>
                  <a:lnTo>
                    <a:pt x="1737" y="679"/>
                  </a:lnTo>
                  <a:lnTo>
                    <a:pt x="1710" y="679"/>
                  </a:lnTo>
                  <a:lnTo>
                    <a:pt x="1684" y="687"/>
                  </a:lnTo>
                  <a:lnTo>
                    <a:pt x="1658" y="696"/>
                  </a:lnTo>
                  <a:lnTo>
                    <a:pt x="1622" y="723"/>
                  </a:lnTo>
                  <a:lnTo>
                    <a:pt x="1596" y="740"/>
                  </a:lnTo>
                  <a:lnTo>
                    <a:pt x="1569" y="740"/>
                  </a:lnTo>
                  <a:lnTo>
                    <a:pt x="1481" y="767"/>
                  </a:lnTo>
                  <a:lnTo>
                    <a:pt x="1437" y="776"/>
                  </a:lnTo>
                  <a:lnTo>
                    <a:pt x="1393" y="784"/>
                  </a:lnTo>
                  <a:lnTo>
                    <a:pt x="1296" y="802"/>
                  </a:lnTo>
                  <a:lnTo>
                    <a:pt x="1270" y="811"/>
                  </a:lnTo>
                  <a:lnTo>
                    <a:pt x="1243" y="811"/>
                  </a:lnTo>
                  <a:lnTo>
                    <a:pt x="1208" y="820"/>
                  </a:lnTo>
                  <a:lnTo>
                    <a:pt x="1128" y="829"/>
                  </a:lnTo>
                  <a:lnTo>
                    <a:pt x="1023" y="864"/>
                  </a:lnTo>
                  <a:lnTo>
                    <a:pt x="961" y="873"/>
                  </a:lnTo>
                  <a:lnTo>
                    <a:pt x="934" y="873"/>
                  </a:lnTo>
                  <a:lnTo>
                    <a:pt x="908" y="881"/>
                  </a:lnTo>
                  <a:lnTo>
                    <a:pt x="881" y="881"/>
                  </a:lnTo>
                  <a:lnTo>
                    <a:pt x="846" y="890"/>
                  </a:lnTo>
                  <a:lnTo>
                    <a:pt x="793" y="899"/>
                  </a:lnTo>
                  <a:lnTo>
                    <a:pt x="749" y="917"/>
                  </a:lnTo>
                  <a:lnTo>
                    <a:pt x="687" y="934"/>
                  </a:lnTo>
                  <a:lnTo>
                    <a:pt x="661" y="934"/>
                  </a:lnTo>
                  <a:lnTo>
                    <a:pt x="626" y="934"/>
                  </a:lnTo>
                  <a:lnTo>
                    <a:pt x="599" y="943"/>
                  </a:lnTo>
                  <a:lnTo>
                    <a:pt x="573" y="943"/>
                  </a:lnTo>
                  <a:lnTo>
                    <a:pt x="493" y="943"/>
                  </a:lnTo>
                  <a:lnTo>
                    <a:pt x="467" y="943"/>
                  </a:lnTo>
                  <a:lnTo>
                    <a:pt x="440" y="943"/>
                  </a:lnTo>
                  <a:lnTo>
                    <a:pt x="405" y="943"/>
                  </a:lnTo>
                  <a:lnTo>
                    <a:pt x="343" y="952"/>
                  </a:lnTo>
                  <a:lnTo>
                    <a:pt x="317" y="952"/>
                  </a:lnTo>
                  <a:lnTo>
                    <a:pt x="282" y="952"/>
                  </a:lnTo>
                  <a:lnTo>
                    <a:pt x="255" y="952"/>
                  </a:lnTo>
                  <a:lnTo>
                    <a:pt x="229" y="952"/>
                  </a:lnTo>
                  <a:lnTo>
                    <a:pt x="185" y="952"/>
                  </a:lnTo>
                  <a:lnTo>
                    <a:pt x="158" y="961"/>
                  </a:lnTo>
                  <a:lnTo>
                    <a:pt x="123" y="970"/>
                  </a:lnTo>
                  <a:lnTo>
                    <a:pt x="79" y="978"/>
                  </a:lnTo>
                  <a:lnTo>
                    <a:pt x="52" y="987"/>
                  </a:lnTo>
                  <a:lnTo>
                    <a:pt x="26" y="1005"/>
                  </a:lnTo>
                  <a:lnTo>
                    <a:pt x="0" y="1014"/>
                  </a:lnTo>
                  <a:lnTo>
                    <a:pt x="0" y="1014"/>
                  </a:lnTo>
                  <a:lnTo>
                    <a:pt x="8" y="1068"/>
                  </a:lnTo>
                  <a:lnTo>
                    <a:pt x="17" y="1112"/>
                  </a:lnTo>
                  <a:lnTo>
                    <a:pt x="17" y="1147"/>
                  </a:lnTo>
                  <a:lnTo>
                    <a:pt x="35" y="1173"/>
                  </a:lnTo>
                  <a:lnTo>
                    <a:pt x="52" y="1200"/>
                  </a:lnTo>
                  <a:lnTo>
                    <a:pt x="52" y="1226"/>
                  </a:lnTo>
                  <a:lnTo>
                    <a:pt x="52" y="1253"/>
                  </a:lnTo>
                  <a:lnTo>
                    <a:pt x="61" y="1279"/>
                  </a:lnTo>
                  <a:lnTo>
                    <a:pt x="61" y="1306"/>
                  </a:lnTo>
                  <a:lnTo>
                    <a:pt x="70" y="1332"/>
                  </a:lnTo>
                  <a:lnTo>
                    <a:pt x="70" y="1359"/>
                  </a:lnTo>
                  <a:lnTo>
                    <a:pt x="70" y="1403"/>
                  </a:lnTo>
                  <a:lnTo>
                    <a:pt x="70" y="1447"/>
                  </a:lnTo>
                  <a:lnTo>
                    <a:pt x="61" y="1482"/>
                  </a:lnTo>
                  <a:lnTo>
                    <a:pt x="52" y="1509"/>
                  </a:lnTo>
                  <a:lnTo>
                    <a:pt x="52" y="1535"/>
                  </a:lnTo>
                  <a:lnTo>
                    <a:pt x="44" y="1579"/>
                  </a:lnTo>
                  <a:lnTo>
                    <a:pt x="44" y="1614"/>
                  </a:lnTo>
                  <a:lnTo>
                    <a:pt x="44" y="1650"/>
                  </a:lnTo>
                  <a:lnTo>
                    <a:pt x="44" y="1676"/>
                  </a:lnTo>
                  <a:lnTo>
                    <a:pt x="52" y="1703"/>
                  </a:lnTo>
                  <a:lnTo>
                    <a:pt x="61" y="1738"/>
                  </a:lnTo>
                  <a:lnTo>
                    <a:pt x="70" y="1773"/>
                  </a:lnTo>
                  <a:lnTo>
                    <a:pt x="88" y="1808"/>
                  </a:lnTo>
                  <a:lnTo>
                    <a:pt x="114" y="1844"/>
                  </a:lnTo>
                  <a:lnTo>
                    <a:pt x="114" y="1879"/>
                  </a:lnTo>
                  <a:lnTo>
                    <a:pt x="123" y="1906"/>
                  </a:lnTo>
                  <a:lnTo>
                    <a:pt x="132" y="1950"/>
                  </a:lnTo>
                  <a:lnTo>
                    <a:pt x="132" y="1976"/>
                  </a:lnTo>
                  <a:lnTo>
                    <a:pt x="149" y="2011"/>
                  </a:lnTo>
                  <a:lnTo>
                    <a:pt x="167" y="2038"/>
                  </a:lnTo>
                  <a:lnTo>
                    <a:pt x="167" y="2100"/>
                  </a:lnTo>
                  <a:lnTo>
                    <a:pt x="167" y="2126"/>
                  </a:lnTo>
                  <a:lnTo>
                    <a:pt x="167" y="2161"/>
                  </a:lnTo>
                  <a:lnTo>
                    <a:pt x="167" y="2188"/>
                  </a:lnTo>
                  <a:lnTo>
                    <a:pt x="167" y="2214"/>
                  </a:lnTo>
                  <a:lnTo>
                    <a:pt x="167" y="2241"/>
                  </a:lnTo>
                  <a:lnTo>
                    <a:pt x="167" y="2276"/>
                  </a:lnTo>
                  <a:lnTo>
                    <a:pt x="167" y="2302"/>
                  </a:lnTo>
                  <a:lnTo>
                    <a:pt x="167" y="2329"/>
                  </a:lnTo>
                  <a:lnTo>
                    <a:pt x="167" y="2382"/>
                  </a:lnTo>
                  <a:lnTo>
                    <a:pt x="167" y="2408"/>
                  </a:lnTo>
                  <a:lnTo>
                    <a:pt x="185" y="2452"/>
                  </a:lnTo>
                  <a:lnTo>
                    <a:pt x="194" y="2532"/>
                  </a:lnTo>
                  <a:lnTo>
                    <a:pt x="202" y="2593"/>
                  </a:lnTo>
                  <a:lnTo>
                    <a:pt x="202" y="2620"/>
                  </a:lnTo>
                  <a:lnTo>
                    <a:pt x="202" y="2655"/>
                  </a:lnTo>
                  <a:lnTo>
                    <a:pt x="211" y="2699"/>
                  </a:lnTo>
                  <a:lnTo>
                    <a:pt x="220" y="2726"/>
                  </a:lnTo>
                  <a:lnTo>
                    <a:pt x="220" y="2761"/>
                  </a:lnTo>
                  <a:lnTo>
                    <a:pt x="229" y="2787"/>
                  </a:lnTo>
                  <a:lnTo>
                    <a:pt x="238" y="2832"/>
                  </a:lnTo>
                  <a:lnTo>
                    <a:pt x="246" y="2867"/>
                  </a:lnTo>
                  <a:lnTo>
                    <a:pt x="255" y="2937"/>
                  </a:lnTo>
                  <a:lnTo>
                    <a:pt x="264" y="2981"/>
                  </a:lnTo>
                  <a:lnTo>
                    <a:pt x="273" y="3043"/>
                  </a:lnTo>
                  <a:lnTo>
                    <a:pt x="273" y="3070"/>
                  </a:lnTo>
                  <a:lnTo>
                    <a:pt x="291" y="3096"/>
                  </a:lnTo>
                  <a:lnTo>
                    <a:pt x="299" y="3124"/>
                  </a:lnTo>
                  <a:lnTo>
                    <a:pt x="308" y="3168"/>
                  </a:lnTo>
                  <a:lnTo>
                    <a:pt x="326" y="3194"/>
                  </a:lnTo>
                  <a:lnTo>
                    <a:pt x="335" y="3221"/>
                  </a:lnTo>
                  <a:lnTo>
                    <a:pt x="370" y="3256"/>
                  </a:lnTo>
                  <a:lnTo>
                    <a:pt x="370" y="3291"/>
                  </a:lnTo>
                  <a:lnTo>
                    <a:pt x="379" y="3326"/>
                  </a:lnTo>
                  <a:lnTo>
                    <a:pt x="379" y="3353"/>
                  </a:lnTo>
                  <a:lnTo>
                    <a:pt x="379" y="3379"/>
                  </a:lnTo>
                  <a:lnTo>
                    <a:pt x="379" y="3423"/>
                  </a:lnTo>
                  <a:lnTo>
                    <a:pt x="379" y="3468"/>
                  </a:lnTo>
                  <a:lnTo>
                    <a:pt x="370" y="3512"/>
                  </a:lnTo>
                  <a:lnTo>
                    <a:pt x="370" y="3688"/>
                  </a:lnTo>
                  <a:lnTo>
                    <a:pt x="361" y="3714"/>
                  </a:lnTo>
                  <a:lnTo>
                    <a:pt x="352" y="3741"/>
                  </a:lnTo>
                  <a:lnTo>
                    <a:pt x="352" y="3767"/>
                  </a:lnTo>
                  <a:lnTo>
                    <a:pt x="343" y="3794"/>
                  </a:lnTo>
                  <a:lnTo>
                    <a:pt x="335" y="3820"/>
                  </a:lnTo>
                  <a:lnTo>
                    <a:pt x="335" y="3847"/>
                  </a:lnTo>
                  <a:lnTo>
                    <a:pt x="335" y="3873"/>
                  </a:lnTo>
                  <a:lnTo>
                    <a:pt x="335" y="3909"/>
                  </a:lnTo>
                  <a:lnTo>
                    <a:pt x="335" y="3935"/>
                  </a:lnTo>
                  <a:lnTo>
                    <a:pt x="335" y="3961"/>
                  </a:lnTo>
                  <a:lnTo>
                    <a:pt x="335" y="3988"/>
                  </a:lnTo>
                  <a:lnTo>
                    <a:pt x="335" y="4041"/>
                  </a:lnTo>
                  <a:lnTo>
                    <a:pt x="335" y="4085"/>
                  </a:lnTo>
                  <a:lnTo>
                    <a:pt x="335" y="4129"/>
                  </a:lnTo>
                  <a:lnTo>
                    <a:pt x="352" y="4155"/>
                  </a:lnTo>
                  <a:lnTo>
                    <a:pt x="343" y="4155"/>
                  </a:lnTo>
                  <a:lnTo>
                    <a:pt x="379" y="4147"/>
                  </a:lnTo>
                  <a:lnTo>
                    <a:pt x="423" y="4129"/>
                  </a:lnTo>
                  <a:lnTo>
                    <a:pt x="449" y="4120"/>
                  </a:lnTo>
                  <a:lnTo>
                    <a:pt x="476" y="4111"/>
                  </a:lnTo>
                  <a:lnTo>
                    <a:pt x="502" y="4111"/>
                  </a:lnTo>
                  <a:lnTo>
                    <a:pt x="546" y="4103"/>
                  </a:lnTo>
                  <a:lnTo>
                    <a:pt x="573" y="4103"/>
                  </a:lnTo>
                  <a:lnTo>
                    <a:pt x="617" y="4103"/>
                  </a:lnTo>
                  <a:lnTo>
                    <a:pt x="643" y="4103"/>
                  </a:lnTo>
                  <a:lnTo>
                    <a:pt x="670" y="4103"/>
                  </a:lnTo>
                  <a:lnTo>
                    <a:pt x="714" y="4103"/>
                  </a:lnTo>
                  <a:lnTo>
                    <a:pt x="740" y="4103"/>
                  </a:lnTo>
                  <a:lnTo>
                    <a:pt x="767" y="4103"/>
                  </a:lnTo>
                  <a:lnTo>
                    <a:pt x="802" y="4111"/>
                  </a:lnTo>
                  <a:lnTo>
                    <a:pt x="837" y="4120"/>
                  </a:lnTo>
                  <a:lnTo>
                    <a:pt x="864" y="4120"/>
                  </a:lnTo>
                  <a:lnTo>
                    <a:pt x="926" y="4120"/>
                  </a:lnTo>
                  <a:lnTo>
                    <a:pt x="961" y="4120"/>
                  </a:lnTo>
                  <a:lnTo>
                    <a:pt x="996" y="4120"/>
                  </a:lnTo>
                  <a:lnTo>
                    <a:pt x="1067" y="4111"/>
                  </a:lnTo>
                  <a:lnTo>
                    <a:pt x="1102" y="4103"/>
                  </a:lnTo>
                  <a:lnTo>
                    <a:pt x="1137" y="4103"/>
                  </a:lnTo>
                  <a:lnTo>
                    <a:pt x="1172" y="4120"/>
                  </a:lnTo>
                  <a:lnTo>
                    <a:pt x="1217" y="4120"/>
                  </a:lnTo>
                  <a:lnTo>
                    <a:pt x="1261" y="4120"/>
                  </a:lnTo>
                  <a:lnTo>
                    <a:pt x="1287" y="4120"/>
                  </a:lnTo>
                  <a:lnTo>
                    <a:pt x="1314" y="4120"/>
                  </a:lnTo>
                  <a:lnTo>
                    <a:pt x="1419" y="4103"/>
                  </a:lnTo>
                  <a:lnTo>
                    <a:pt x="1481" y="4076"/>
                  </a:lnTo>
                  <a:lnTo>
                    <a:pt x="1508" y="4067"/>
                  </a:lnTo>
                  <a:lnTo>
                    <a:pt x="1552" y="4041"/>
                  </a:lnTo>
                  <a:lnTo>
                    <a:pt x="1613" y="3997"/>
                  </a:lnTo>
                  <a:lnTo>
                    <a:pt x="1640" y="3997"/>
                  </a:lnTo>
                  <a:lnTo>
                    <a:pt x="1666" y="3979"/>
                  </a:lnTo>
                  <a:lnTo>
                    <a:pt x="1710" y="3970"/>
                  </a:lnTo>
                  <a:lnTo>
                    <a:pt x="1755" y="3953"/>
                  </a:lnTo>
                  <a:lnTo>
                    <a:pt x="1781" y="3935"/>
                  </a:lnTo>
                  <a:lnTo>
                    <a:pt x="1834" y="3917"/>
                  </a:lnTo>
                  <a:lnTo>
                    <a:pt x="1860" y="3917"/>
                  </a:lnTo>
                  <a:lnTo>
                    <a:pt x="1887" y="3917"/>
                  </a:lnTo>
                  <a:lnTo>
                    <a:pt x="1931" y="3909"/>
                  </a:lnTo>
                  <a:lnTo>
                    <a:pt x="1966" y="3909"/>
                  </a:lnTo>
                  <a:lnTo>
                    <a:pt x="2028" y="3909"/>
                  </a:lnTo>
                  <a:lnTo>
                    <a:pt x="2054" y="3909"/>
                  </a:lnTo>
                  <a:lnTo>
                    <a:pt x="2081" y="3909"/>
                  </a:lnTo>
                  <a:lnTo>
                    <a:pt x="2116" y="3909"/>
                  </a:lnTo>
                  <a:lnTo>
                    <a:pt x="2143" y="3909"/>
                  </a:lnTo>
                  <a:lnTo>
                    <a:pt x="2187" y="3900"/>
                  </a:lnTo>
                  <a:lnTo>
                    <a:pt x="2240" y="3891"/>
                  </a:lnTo>
                  <a:lnTo>
                    <a:pt x="2301" y="3882"/>
                  </a:lnTo>
                  <a:lnTo>
                    <a:pt x="2328" y="3873"/>
                  </a:lnTo>
                  <a:lnTo>
                    <a:pt x="2390" y="3873"/>
                  </a:lnTo>
                  <a:lnTo>
                    <a:pt x="2416" y="3864"/>
                  </a:lnTo>
                  <a:lnTo>
                    <a:pt x="2442" y="3864"/>
                  </a:lnTo>
                  <a:lnTo>
                    <a:pt x="2487" y="3864"/>
                  </a:lnTo>
                  <a:lnTo>
                    <a:pt x="2513" y="3856"/>
                  </a:lnTo>
                  <a:lnTo>
                    <a:pt x="2548" y="3847"/>
                  </a:lnTo>
                  <a:lnTo>
                    <a:pt x="2637" y="3838"/>
                  </a:lnTo>
                  <a:lnTo>
                    <a:pt x="2663" y="3829"/>
                  </a:lnTo>
                  <a:lnTo>
                    <a:pt x="2689" y="3820"/>
                  </a:lnTo>
                  <a:lnTo>
                    <a:pt x="2716" y="3794"/>
                  </a:lnTo>
                  <a:lnTo>
                    <a:pt x="2742" y="3776"/>
                  </a:lnTo>
                  <a:lnTo>
                    <a:pt x="2786" y="3767"/>
                  </a:lnTo>
                  <a:lnTo>
                    <a:pt x="2857" y="3759"/>
                  </a:lnTo>
                  <a:lnTo>
                    <a:pt x="2892" y="3750"/>
                  </a:lnTo>
                  <a:lnTo>
                    <a:pt x="2919" y="3741"/>
                  </a:lnTo>
                  <a:lnTo>
                    <a:pt x="2945" y="3741"/>
                  </a:lnTo>
                  <a:lnTo>
                    <a:pt x="2972" y="3741"/>
                  </a:lnTo>
                  <a:lnTo>
                    <a:pt x="3025" y="3759"/>
                  </a:lnTo>
                  <a:lnTo>
                    <a:pt x="3060" y="3767"/>
                  </a:lnTo>
                  <a:lnTo>
                    <a:pt x="3095" y="3776"/>
                  </a:lnTo>
                  <a:lnTo>
                    <a:pt x="3175" y="3785"/>
                  </a:lnTo>
                  <a:lnTo>
                    <a:pt x="3430" y="3829"/>
                  </a:lnTo>
                  <a:lnTo>
                    <a:pt x="3474" y="3838"/>
                  </a:lnTo>
                  <a:lnTo>
                    <a:pt x="3537" y="3847"/>
                  </a:lnTo>
                  <a:lnTo>
                    <a:pt x="3581" y="3856"/>
                  </a:lnTo>
                  <a:lnTo>
                    <a:pt x="3634" y="3856"/>
                  </a:lnTo>
                  <a:lnTo>
                    <a:pt x="3687" y="3847"/>
                  </a:lnTo>
                  <a:lnTo>
                    <a:pt x="3722" y="3838"/>
                  </a:lnTo>
                  <a:lnTo>
                    <a:pt x="3758" y="3820"/>
                  </a:lnTo>
                  <a:lnTo>
                    <a:pt x="3802" y="3812"/>
                  </a:lnTo>
                  <a:lnTo>
                    <a:pt x="3855" y="3794"/>
                  </a:lnTo>
                  <a:lnTo>
                    <a:pt x="3881" y="3776"/>
                  </a:lnTo>
                  <a:lnTo>
                    <a:pt x="3908" y="3767"/>
                  </a:lnTo>
                  <a:lnTo>
                    <a:pt x="3952" y="3732"/>
                  </a:lnTo>
                  <a:lnTo>
                    <a:pt x="3996" y="3706"/>
                  </a:lnTo>
                  <a:lnTo>
                    <a:pt x="4031" y="3697"/>
                  </a:lnTo>
                  <a:lnTo>
                    <a:pt x="4110" y="3688"/>
                  </a:lnTo>
                  <a:lnTo>
                    <a:pt x="4172" y="3679"/>
                  </a:lnTo>
                  <a:lnTo>
                    <a:pt x="4207" y="3670"/>
                  </a:lnTo>
                  <a:lnTo>
                    <a:pt x="4269" y="3662"/>
                  </a:lnTo>
                  <a:lnTo>
                    <a:pt x="4331" y="3662"/>
                  </a:lnTo>
                  <a:lnTo>
                    <a:pt x="4357" y="3662"/>
                  </a:lnTo>
                  <a:lnTo>
                    <a:pt x="4384" y="3662"/>
                  </a:lnTo>
                  <a:lnTo>
                    <a:pt x="4446" y="3662"/>
                  </a:lnTo>
                  <a:lnTo>
                    <a:pt x="4560" y="3670"/>
                  </a:lnTo>
                  <a:lnTo>
                    <a:pt x="4604" y="3670"/>
                  </a:lnTo>
                  <a:lnTo>
                    <a:pt x="4648" y="3670"/>
                  </a:lnTo>
                  <a:lnTo>
                    <a:pt x="4675" y="3670"/>
                  </a:lnTo>
                  <a:lnTo>
                    <a:pt x="4772" y="3697"/>
                  </a:lnTo>
                  <a:lnTo>
                    <a:pt x="4816" y="3697"/>
                  </a:lnTo>
                  <a:lnTo>
                    <a:pt x="4860" y="3670"/>
                  </a:lnTo>
                  <a:lnTo>
                    <a:pt x="4904" y="3653"/>
                  </a:lnTo>
                  <a:lnTo>
                    <a:pt x="4966" y="3626"/>
                  </a:lnTo>
                  <a:lnTo>
                    <a:pt x="5010" y="3600"/>
                  </a:lnTo>
                  <a:lnTo>
                    <a:pt x="5089" y="3565"/>
                  </a:lnTo>
                  <a:lnTo>
                    <a:pt x="5116" y="3556"/>
                  </a:lnTo>
                  <a:lnTo>
                    <a:pt x="5142" y="3556"/>
                  </a:lnTo>
                  <a:lnTo>
                    <a:pt x="5169" y="3529"/>
                  </a:lnTo>
                  <a:lnTo>
                    <a:pt x="5222" y="3520"/>
                  </a:lnTo>
                  <a:lnTo>
                    <a:pt x="5266" y="3512"/>
                  </a:lnTo>
                  <a:lnTo>
                    <a:pt x="5327" y="3503"/>
                  </a:lnTo>
                  <a:lnTo>
                    <a:pt x="5354" y="3503"/>
                  </a:lnTo>
                  <a:lnTo>
                    <a:pt x="5416" y="3476"/>
                  </a:lnTo>
                  <a:lnTo>
                    <a:pt x="5469" y="3468"/>
                  </a:lnTo>
                  <a:lnTo>
                    <a:pt x="5495" y="3459"/>
                  </a:lnTo>
                  <a:lnTo>
                    <a:pt x="5539" y="3459"/>
                  </a:lnTo>
                  <a:lnTo>
                    <a:pt x="5654" y="3432"/>
                  </a:lnTo>
                  <a:lnTo>
                    <a:pt x="5680" y="3432"/>
                  </a:lnTo>
                  <a:lnTo>
                    <a:pt x="5724" y="3423"/>
                  </a:lnTo>
                  <a:lnTo>
                    <a:pt x="5768" y="3423"/>
                  </a:lnTo>
                  <a:lnTo>
                    <a:pt x="5795" y="3415"/>
                  </a:lnTo>
                  <a:lnTo>
                    <a:pt x="5839" y="3397"/>
                  </a:lnTo>
                  <a:lnTo>
                    <a:pt x="5883" y="3388"/>
                  </a:lnTo>
                  <a:lnTo>
                    <a:pt x="5945" y="3362"/>
                  </a:lnTo>
                  <a:lnTo>
                    <a:pt x="5980" y="3344"/>
                  </a:lnTo>
                  <a:lnTo>
                    <a:pt x="6015" y="3335"/>
                  </a:lnTo>
                  <a:lnTo>
                    <a:pt x="6051" y="3326"/>
                  </a:lnTo>
                  <a:lnTo>
                    <a:pt x="6077" y="3318"/>
                  </a:lnTo>
                  <a:lnTo>
                    <a:pt x="6130" y="3309"/>
                  </a:lnTo>
                  <a:lnTo>
                    <a:pt x="6165" y="3300"/>
                  </a:lnTo>
                  <a:lnTo>
                    <a:pt x="6192" y="3291"/>
                  </a:lnTo>
                  <a:lnTo>
                    <a:pt x="6253" y="3282"/>
                  </a:lnTo>
                  <a:lnTo>
                    <a:pt x="6280" y="3282"/>
                  </a:lnTo>
                  <a:lnTo>
                    <a:pt x="6306" y="3282"/>
                  </a:lnTo>
                  <a:lnTo>
                    <a:pt x="6377" y="3282"/>
                  </a:lnTo>
                  <a:lnTo>
                    <a:pt x="6421" y="3282"/>
                  </a:lnTo>
                  <a:lnTo>
                    <a:pt x="6456" y="3282"/>
                  </a:lnTo>
                  <a:lnTo>
                    <a:pt x="6518" y="3282"/>
                  </a:lnTo>
                  <a:lnTo>
                    <a:pt x="6545" y="3282"/>
                  </a:lnTo>
                  <a:lnTo>
                    <a:pt x="6571" y="3282"/>
                  </a:lnTo>
                  <a:lnTo>
                    <a:pt x="6624" y="3282"/>
                  </a:lnTo>
                  <a:lnTo>
                    <a:pt x="6659" y="3282"/>
                  </a:lnTo>
                  <a:lnTo>
                    <a:pt x="6694" y="3282"/>
                  </a:lnTo>
                  <a:lnTo>
                    <a:pt x="6739" y="3282"/>
                  </a:lnTo>
                  <a:lnTo>
                    <a:pt x="6774" y="3282"/>
                  </a:lnTo>
                  <a:lnTo>
                    <a:pt x="6809" y="3274"/>
                  </a:lnTo>
                  <a:lnTo>
                    <a:pt x="6844" y="3265"/>
                  </a:lnTo>
                  <a:lnTo>
                    <a:pt x="6871" y="3247"/>
                  </a:lnTo>
                  <a:lnTo>
                    <a:pt x="6906" y="3221"/>
                  </a:lnTo>
                  <a:lnTo>
                    <a:pt x="6933" y="3221"/>
                  </a:lnTo>
                  <a:lnTo>
                    <a:pt x="6959" y="3221"/>
                  </a:lnTo>
                  <a:lnTo>
                    <a:pt x="6986" y="3221"/>
                  </a:lnTo>
                  <a:lnTo>
                    <a:pt x="7012" y="32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211" name=""/>
          <p:cNvSpPr/>
          <p:nvPr/>
        </p:nvSpPr>
        <p:spPr>
          <a:xfrm>
            <a:off x="2357280" y="2797200"/>
            <a:ext cx="3821400" cy="2205360"/>
          </a:xfrm>
          <a:custGeom>
            <a:avLst/>
            <a:gdLst/>
            <a:ahLst/>
            <a:rect l="0" t="0" r="r" b="b"/>
            <a:pathLst>
              <a:path fill="none" w="10615" h="6126">
                <a:moveTo>
                  <a:pt x="2614" y="0"/>
                </a:moveTo>
                <a:lnTo>
                  <a:pt x="0" y="0"/>
                </a:lnTo>
                <a:lnTo>
                  <a:pt x="0" y="92"/>
                </a:lnTo>
                <a:lnTo>
                  <a:pt x="0" y="216"/>
                </a:lnTo>
                <a:lnTo>
                  <a:pt x="0" y="308"/>
                </a:lnTo>
                <a:lnTo>
                  <a:pt x="0" y="463"/>
                </a:lnTo>
                <a:lnTo>
                  <a:pt x="30" y="555"/>
                </a:lnTo>
                <a:lnTo>
                  <a:pt x="61" y="648"/>
                </a:lnTo>
                <a:lnTo>
                  <a:pt x="123" y="771"/>
                </a:lnTo>
                <a:lnTo>
                  <a:pt x="185" y="895"/>
                </a:lnTo>
                <a:lnTo>
                  <a:pt x="273" y="1049"/>
                </a:lnTo>
                <a:lnTo>
                  <a:pt x="335" y="1168"/>
                </a:lnTo>
                <a:lnTo>
                  <a:pt x="366" y="1261"/>
                </a:lnTo>
                <a:lnTo>
                  <a:pt x="489" y="1446"/>
                </a:lnTo>
                <a:lnTo>
                  <a:pt x="582" y="1569"/>
                </a:lnTo>
                <a:lnTo>
                  <a:pt x="582" y="1662"/>
                </a:lnTo>
                <a:lnTo>
                  <a:pt x="612" y="1878"/>
                </a:lnTo>
                <a:lnTo>
                  <a:pt x="612" y="1971"/>
                </a:lnTo>
                <a:lnTo>
                  <a:pt x="612" y="2125"/>
                </a:lnTo>
                <a:lnTo>
                  <a:pt x="612" y="2310"/>
                </a:lnTo>
                <a:lnTo>
                  <a:pt x="612" y="2460"/>
                </a:lnTo>
                <a:lnTo>
                  <a:pt x="612" y="2707"/>
                </a:lnTo>
                <a:lnTo>
                  <a:pt x="612" y="2831"/>
                </a:lnTo>
                <a:lnTo>
                  <a:pt x="612" y="2923"/>
                </a:lnTo>
                <a:lnTo>
                  <a:pt x="612" y="3202"/>
                </a:lnTo>
                <a:lnTo>
                  <a:pt x="643" y="3449"/>
                </a:lnTo>
                <a:lnTo>
                  <a:pt x="736" y="3665"/>
                </a:lnTo>
                <a:lnTo>
                  <a:pt x="736" y="3815"/>
                </a:lnTo>
                <a:lnTo>
                  <a:pt x="829" y="4031"/>
                </a:lnTo>
                <a:lnTo>
                  <a:pt x="859" y="4185"/>
                </a:lnTo>
                <a:lnTo>
                  <a:pt x="859" y="4278"/>
                </a:lnTo>
                <a:lnTo>
                  <a:pt x="829" y="4556"/>
                </a:lnTo>
                <a:lnTo>
                  <a:pt x="829" y="4772"/>
                </a:lnTo>
                <a:lnTo>
                  <a:pt x="829" y="4988"/>
                </a:lnTo>
                <a:lnTo>
                  <a:pt x="829" y="5385"/>
                </a:lnTo>
                <a:lnTo>
                  <a:pt x="1508" y="5663"/>
                </a:lnTo>
                <a:lnTo>
                  <a:pt x="1719" y="5755"/>
                </a:lnTo>
                <a:lnTo>
                  <a:pt x="1812" y="5817"/>
                </a:lnTo>
                <a:lnTo>
                  <a:pt x="1935" y="5817"/>
                </a:lnTo>
                <a:lnTo>
                  <a:pt x="2337" y="5817"/>
                </a:lnTo>
                <a:lnTo>
                  <a:pt x="2429" y="5817"/>
                </a:lnTo>
                <a:lnTo>
                  <a:pt x="2522" y="5817"/>
                </a:lnTo>
                <a:lnTo>
                  <a:pt x="2676" y="5817"/>
                </a:lnTo>
                <a:lnTo>
                  <a:pt x="2800" y="5848"/>
                </a:lnTo>
                <a:lnTo>
                  <a:pt x="2950" y="5879"/>
                </a:lnTo>
                <a:lnTo>
                  <a:pt x="3104" y="5971"/>
                </a:lnTo>
                <a:lnTo>
                  <a:pt x="3258" y="6002"/>
                </a:lnTo>
                <a:lnTo>
                  <a:pt x="3474" y="6095"/>
                </a:lnTo>
                <a:lnTo>
                  <a:pt x="3567" y="6126"/>
                </a:lnTo>
                <a:lnTo>
                  <a:pt x="4030" y="6126"/>
                </a:lnTo>
                <a:lnTo>
                  <a:pt x="4519" y="6126"/>
                </a:lnTo>
                <a:lnTo>
                  <a:pt x="4674" y="6126"/>
                </a:lnTo>
                <a:lnTo>
                  <a:pt x="4766" y="6126"/>
                </a:lnTo>
                <a:lnTo>
                  <a:pt x="4859" y="6002"/>
                </a:lnTo>
                <a:lnTo>
                  <a:pt x="5199" y="5879"/>
                </a:lnTo>
                <a:lnTo>
                  <a:pt x="5229" y="5817"/>
                </a:lnTo>
                <a:lnTo>
                  <a:pt x="5447" y="5786"/>
                </a:lnTo>
                <a:lnTo>
                  <a:pt x="5535" y="5755"/>
                </a:lnTo>
                <a:lnTo>
                  <a:pt x="5751" y="5693"/>
                </a:lnTo>
                <a:lnTo>
                  <a:pt x="6183" y="5848"/>
                </a:lnTo>
                <a:lnTo>
                  <a:pt x="6276" y="5786"/>
                </a:lnTo>
                <a:lnTo>
                  <a:pt x="6739" y="5786"/>
                </a:lnTo>
                <a:lnTo>
                  <a:pt x="7444" y="5508"/>
                </a:lnTo>
                <a:lnTo>
                  <a:pt x="7722" y="5477"/>
                </a:lnTo>
                <a:lnTo>
                  <a:pt x="7907" y="5416"/>
                </a:lnTo>
                <a:lnTo>
                  <a:pt x="8061" y="5539"/>
                </a:lnTo>
                <a:lnTo>
                  <a:pt x="8181" y="5570"/>
                </a:lnTo>
                <a:lnTo>
                  <a:pt x="8674" y="5601"/>
                </a:lnTo>
                <a:lnTo>
                  <a:pt x="8860" y="5601"/>
                </a:lnTo>
                <a:lnTo>
                  <a:pt x="8983" y="5570"/>
                </a:lnTo>
                <a:lnTo>
                  <a:pt x="9107" y="5477"/>
                </a:lnTo>
                <a:lnTo>
                  <a:pt x="9199" y="5477"/>
                </a:lnTo>
                <a:lnTo>
                  <a:pt x="9477" y="5477"/>
                </a:lnTo>
                <a:lnTo>
                  <a:pt x="9596" y="5477"/>
                </a:lnTo>
                <a:lnTo>
                  <a:pt x="9689" y="5447"/>
                </a:lnTo>
                <a:lnTo>
                  <a:pt x="9812" y="5447"/>
                </a:lnTo>
                <a:lnTo>
                  <a:pt x="9905" y="5477"/>
                </a:lnTo>
                <a:lnTo>
                  <a:pt x="9997" y="5477"/>
                </a:lnTo>
                <a:lnTo>
                  <a:pt x="10090" y="5570"/>
                </a:lnTo>
                <a:lnTo>
                  <a:pt x="10183" y="5663"/>
                </a:lnTo>
                <a:lnTo>
                  <a:pt x="10275" y="5786"/>
                </a:lnTo>
                <a:lnTo>
                  <a:pt x="10429" y="5817"/>
                </a:lnTo>
                <a:lnTo>
                  <a:pt x="10522" y="5848"/>
                </a:lnTo>
                <a:lnTo>
                  <a:pt x="10615" y="5879"/>
                </a:lnTo>
                <a:lnTo>
                  <a:pt x="10615" y="5786"/>
                </a:lnTo>
                <a:lnTo>
                  <a:pt x="10615" y="5693"/>
                </a:lnTo>
                <a:lnTo>
                  <a:pt x="10615" y="54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12" name=""/>
          <p:cNvGrpSpPr/>
          <p:nvPr/>
        </p:nvGrpSpPr>
        <p:grpSpPr>
          <a:xfrm>
            <a:off x="560520" y="447840"/>
            <a:ext cx="3624120" cy="1190520"/>
            <a:chOff x="560520" y="447840"/>
            <a:chExt cx="3624120" cy="1190520"/>
          </a:xfrm>
        </p:grpSpPr>
        <p:sp>
          <p:nvSpPr>
            <p:cNvPr id="1213"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214"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215" name=""/>
          <p:cNvSpPr txBox="1"/>
          <p:nvPr/>
        </p:nvSpPr>
        <p:spPr>
          <a:xfrm>
            <a:off x="4114800" y="518148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1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7"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8" name=""/>
          <p:cNvSpPr/>
          <p:nvPr/>
        </p:nvSpPr>
        <p:spPr>
          <a:xfrm>
            <a:off x="2778120" y="26668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9"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0" name=""/>
          <p:cNvSpPr/>
          <p:nvPr/>
        </p:nvSpPr>
        <p:spPr>
          <a:xfrm>
            <a:off x="5064120" y="3317760"/>
            <a:ext cx="0" cy="754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1" name=""/>
          <p:cNvGrpSpPr/>
          <p:nvPr/>
        </p:nvGrpSpPr>
        <p:grpSpPr>
          <a:xfrm>
            <a:off x="4413240" y="2560680"/>
            <a:ext cx="507960" cy="495360"/>
            <a:chOff x="4413240" y="2560680"/>
            <a:chExt cx="507960" cy="495360"/>
          </a:xfrm>
        </p:grpSpPr>
        <p:sp>
          <p:nvSpPr>
            <p:cNvPr id="1222"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3"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227"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28" name=""/>
          <p:cNvGrpSpPr/>
          <p:nvPr/>
        </p:nvGrpSpPr>
        <p:grpSpPr>
          <a:xfrm>
            <a:off x="2676600" y="2570040"/>
            <a:ext cx="507960" cy="495360"/>
            <a:chOff x="2676600" y="2570040"/>
            <a:chExt cx="507960" cy="495360"/>
          </a:xfrm>
        </p:grpSpPr>
        <p:sp>
          <p:nvSpPr>
            <p:cNvPr id="1229" name=""/>
            <p:cNvSpPr/>
            <p:nvPr/>
          </p:nvSpPr>
          <p:spPr>
            <a:xfrm>
              <a:off x="2676600" y="2806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2882880" y="2806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3009960" y="2806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234"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35" name=""/>
          <p:cNvGrpSpPr/>
          <p:nvPr/>
        </p:nvGrpSpPr>
        <p:grpSpPr>
          <a:xfrm>
            <a:off x="2523960" y="5121360"/>
            <a:ext cx="2523960" cy="1133280"/>
            <a:chOff x="2523960" y="5121360"/>
            <a:chExt cx="2523960" cy="1133280"/>
          </a:xfrm>
        </p:grpSpPr>
        <p:sp>
          <p:nvSpPr>
            <p:cNvPr id="1236"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8"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9"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41" name=""/>
            <p:cNvGrpSpPr/>
            <p:nvPr/>
          </p:nvGrpSpPr>
          <p:grpSpPr>
            <a:xfrm>
              <a:off x="4651200" y="5127480"/>
              <a:ext cx="0" cy="1127160"/>
              <a:chOff x="4651200" y="5127480"/>
              <a:chExt cx="0" cy="1127160"/>
            </a:xfrm>
          </p:grpSpPr>
          <p:sp>
            <p:nvSpPr>
              <p:cNvPr id="1242"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3"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244"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45" name=""/>
            <p:cNvGrpSpPr/>
            <p:nvPr/>
          </p:nvGrpSpPr>
          <p:grpSpPr>
            <a:xfrm>
              <a:off x="2898720" y="5121360"/>
              <a:ext cx="0" cy="1127160"/>
              <a:chOff x="2898720" y="5121360"/>
              <a:chExt cx="0" cy="1127160"/>
            </a:xfrm>
          </p:grpSpPr>
          <p:sp>
            <p:nvSpPr>
              <p:cNvPr id="1246"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248"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249"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3"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6"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8" name=""/>
          <p:cNvSpPr txBox="1"/>
          <p:nvPr/>
        </p:nvSpPr>
        <p:spPr>
          <a:xfrm>
            <a:off x="5483160" y="42228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1259" name=""/>
          <p:cNvSpPr txBox="1"/>
          <p:nvPr/>
        </p:nvSpPr>
        <p:spPr>
          <a:xfrm>
            <a:off x="6099120" y="27936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1260" name=""/>
          <p:cNvGrpSpPr/>
          <p:nvPr/>
        </p:nvGrpSpPr>
        <p:grpSpPr>
          <a:xfrm>
            <a:off x="5952960" y="460440"/>
            <a:ext cx="174960" cy="174600"/>
            <a:chOff x="5952960" y="460440"/>
            <a:chExt cx="174960" cy="174600"/>
          </a:xfrm>
        </p:grpSpPr>
        <p:sp>
          <p:nvSpPr>
            <p:cNvPr id="1261" name=""/>
            <p:cNvSpPr/>
            <p:nvPr/>
          </p:nvSpPr>
          <p:spPr>
            <a:xfrm>
              <a:off x="5969160" y="4762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62" name=""/>
            <p:cNvSpPr/>
            <p:nvPr/>
          </p:nvSpPr>
          <p:spPr>
            <a:xfrm flipH="1">
              <a:off x="5952960" y="460440"/>
              <a:ext cx="17496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3"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264" name=""/>
          <p:cNvSpPr/>
          <p:nvPr/>
        </p:nvSpPr>
        <p:spPr>
          <a:xfrm flipH="1">
            <a:off x="5349960" y="5554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5" name=""/>
          <p:cNvSpPr/>
          <p:nvPr/>
        </p:nvSpPr>
        <p:spPr>
          <a:xfrm flipH="1">
            <a:off x="4714920" y="555480"/>
            <a:ext cx="635040" cy="209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sp>
        <p:nvSpPr>
          <p:cNvPr id="1267"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sp>
        <p:nvSpPr>
          <p:cNvPr id="1268" name=""/>
          <p:cNvSpPr/>
          <p:nvPr/>
        </p:nvSpPr>
        <p:spPr>
          <a:xfrm flipH="1">
            <a:off x="2921040" y="36511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2533680" y="3273480"/>
            <a:ext cx="0" cy="79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2533680" y="3960720"/>
            <a:ext cx="1274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p:nvPr/>
        </p:nvSpPr>
        <p:spPr>
          <a:xfrm>
            <a:off x="4438800" y="396072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2" name=""/>
          <p:cNvSpPr txBox="1"/>
          <p:nvPr/>
        </p:nvSpPr>
        <p:spPr>
          <a:xfrm>
            <a:off x="3848040" y="3797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2fefd"/>
                </a:solidFill>
                <a:latin typeface="Times New Roman"/>
                <a:ea typeface="Times New Roman"/>
              </a:rPr>
              <a:t>68.0</a:t>
            </a:r>
            <a:endParaRPr b="0" lang="en-US" sz="1600" spc="-1" strike="noStrike">
              <a:solidFill>
                <a:srgbClr val="000000"/>
              </a:solidFill>
              <a:latin typeface="Arial"/>
            </a:endParaRPr>
          </a:p>
        </p:txBody>
      </p:sp>
      <p:sp>
        <p:nvSpPr>
          <p:cNvPr id="1273" name=""/>
          <p:cNvSpPr/>
          <p:nvPr/>
        </p:nvSpPr>
        <p:spPr>
          <a:xfrm>
            <a:off x="5159520" y="5345280"/>
            <a:ext cx="85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4" name=""/>
          <p:cNvSpPr/>
          <p:nvPr/>
        </p:nvSpPr>
        <p:spPr>
          <a:xfrm>
            <a:off x="5159520" y="5954760"/>
            <a:ext cx="84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5900760" y="5334120"/>
            <a:ext cx="0" cy="620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flipV="1">
            <a:off x="5900760" y="484668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a:off x="5900760" y="4846680"/>
            <a:ext cx="2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txBox="1"/>
          <p:nvPr/>
        </p:nvSpPr>
        <p:spPr>
          <a:xfrm>
            <a:off x="6162840" y="468324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5.0</a:t>
            </a:r>
            <a:endParaRPr b="0" lang="en-US" sz="1600" spc="-1" strike="noStrike">
              <a:solidFill>
                <a:srgbClr val="000000"/>
              </a:solidFill>
              <a:latin typeface="Arial"/>
            </a:endParaRPr>
          </a:p>
        </p:txBody>
      </p:sp>
      <p:sp>
        <p:nvSpPr>
          <p:cNvPr id="1279"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0"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1"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sp>
        <p:nvSpPr>
          <p:cNvPr id="1282"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grpSp>
        <p:nvGrpSpPr>
          <p:cNvPr id="1283" name=""/>
          <p:cNvGrpSpPr/>
          <p:nvPr/>
        </p:nvGrpSpPr>
        <p:grpSpPr>
          <a:xfrm>
            <a:off x="560520" y="447840"/>
            <a:ext cx="3624120" cy="1190520"/>
            <a:chOff x="560520" y="447840"/>
            <a:chExt cx="3624120" cy="1190520"/>
          </a:xfrm>
        </p:grpSpPr>
        <p:sp>
          <p:nvSpPr>
            <p:cNvPr id="1284"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285"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8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2357280" y="2797200"/>
            <a:ext cx="3821400" cy="2205360"/>
          </a:xfrm>
          <a:custGeom>
            <a:avLst/>
            <a:gdLst/>
            <a:ahLst/>
            <a:rect l="0" t="0" r="r" b="b"/>
            <a:pathLst>
              <a:path fill="none" w="10615" h="6126">
                <a:moveTo>
                  <a:pt x="2614" y="0"/>
                </a:moveTo>
                <a:lnTo>
                  <a:pt x="0" y="0"/>
                </a:lnTo>
                <a:lnTo>
                  <a:pt x="0" y="92"/>
                </a:lnTo>
                <a:lnTo>
                  <a:pt x="0" y="216"/>
                </a:lnTo>
                <a:lnTo>
                  <a:pt x="0" y="308"/>
                </a:lnTo>
                <a:lnTo>
                  <a:pt x="0" y="463"/>
                </a:lnTo>
                <a:lnTo>
                  <a:pt x="30" y="555"/>
                </a:lnTo>
                <a:lnTo>
                  <a:pt x="61" y="648"/>
                </a:lnTo>
                <a:lnTo>
                  <a:pt x="123" y="771"/>
                </a:lnTo>
                <a:lnTo>
                  <a:pt x="185" y="895"/>
                </a:lnTo>
                <a:lnTo>
                  <a:pt x="273" y="1049"/>
                </a:lnTo>
                <a:lnTo>
                  <a:pt x="335" y="1168"/>
                </a:lnTo>
                <a:lnTo>
                  <a:pt x="366" y="1261"/>
                </a:lnTo>
                <a:lnTo>
                  <a:pt x="489" y="1446"/>
                </a:lnTo>
                <a:lnTo>
                  <a:pt x="582" y="1569"/>
                </a:lnTo>
                <a:lnTo>
                  <a:pt x="582" y="1662"/>
                </a:lnTo>
                <a:lnTo>
                  <a:pt x="612" y="1878"/>
                </a:lnTo>
                <a:lnTo>
                  <a:pt x="612" y="1971"/>
                </a:lnTo>
                <a:lnTo>
                  <a:pt x="612" y="2125"/>
                </a:lnTo>
                <a:lnTo>
                  <a:pt x="612" y="2310"/>
                </a:lnTo>
                <a:lnTo>
                  <a:pt x="612" y="2460"/>
                </a:lnTo>
                <a:lnTo>
                  <a:pt x="612" y="2707"/>
                </a:lnTo>
                <a:lnTo>
                  <a:pt x="612" y="2831"/>
                </a:lnTo>
                <a:lnTo>
                  <a:pt x="612" y="2923"/>
                </a:lnTo>
                <a:lnTo>
                  <a:pt x="612" y="3202"/>
                </a:lnTo>
                <a:lnTo>
                  <a:pt x="643" y="3449"/>
                </a:lnTo>
                <a:lnTo>
                  <a:pt x="736" y="3665"/>
                </a:lnTo>
                <a:lnTo>
                  <a:pt x="736" y="3815"/>
                </a:lnTo>
                <a:lnTo>
                  <a:pt x="829" y="4031"/>
                </a:lnTo>
                <a:lnTo>
                  <a:pt x="859" y="4185"/>
                </a:lnTo>
                <a:lnTo>
                  <a:pt x="859" y="4278"/>
                </a:lnTo>
                <a:lnTo>
                  <a:pt x="829" y="4556"/>
                </a:lnTo>
                <a:lnTo>
                  <a:pt x="829" y="4772"/>
                </a:lnTo>
                <a:lnTo>
                  <a:pt x="829" y="4988"/>
                </a:lnTo>
                <a:lnTo>
                  <a:pt x="829" y="5385"/>
                </a:lnTo>
                <a:lnTo>
                  <a:pt x="1508" y="5663"/>
                </a:lnTo>
                <a:lnTo>
                  <a:pt x="1719" y="5755"/>
                </a:lnTo>
                <a:lnTo>
                  <a:pt x="1812" y="5817"/>
                </a:lnTo>
                <a:lnTo>
                  <a:pt x="1935" y="5817"/>
                </a:lnTo>
                <a:lnTo>
                  <a:pt x="2337" y="5817"/>
                </a:lnTo>
                <a:lnTo>
                  <a:pt x="2429" y="5817"/>
                </a:lnTo>
                <a:lnTo>
                  <a:pt x="2522" y="5817"/>
                </a:lnTo>
                <a:lnTo>
                  <a:pt x="2676" y="5817"/>
                </a:lnTo>
                <a:lnTo>
                  <a:pt x="2800" y="5848"/>
                </a:lnTo>
                <a:lnTo>
                  <a:pt x="2950" y="5879"/>
                </a:lnTo>
                <a:lnTo>
                  <a:pt x="3104" y="5971"/>
                </a:lnTo>
                <a:lnTo>
                  <a:pt x="3258" y="6002"/>
                </a:lnTo>
                <a:lnTo>
                  <a:pt x="3474" y="6095"/>
                </a:lnTo>
                <a:lnTo>
                  <a:pt x="3567" y="6126"/>
                </a:lnTo>
                <a:lnTo>
                  <a:pt x="4030" y="6126"/>
                </a:lnTo>
                <a:lnTo>
                  <a:pt x="4519" y="6126"/>
                </a:lnTo>
                <a:lnTo>
                  <a:pt x="4674" y="6126"/>
                </a:lnTo>
                <a:lnTo>
                  <a:pt x="4766" y="6126"/>
                </a:lnTo>
                <a:lnTo>
                  <a:pt x="4859" y="6002"/>
                </a:lnTo>
                <a:lnTo>
                  <a:pt x="5199" y="5879"/>
                </a:lnTo>
                <a:lnTo>
                  <a:pt x="5229" y="5817"/>
                </a:lnTo>
                <a:lnTo>
                  <a:pt x="5447" y="5786"/>
                </a:lnTo>
                <a:lnTo>
                  <a:pt x="5535" y="5755"/>
                </a:lnTo>
                <a:lnTo>
                  <a:pt x="5751" y="5693"/>
                </a:lnTo>
                <a:lnTo>
                  <a:pt x="6183" y="5848"/>
                </a:lnTo>
                <a:lnTo>
                  <a:pt x="6276" y="5786"/>
                </a:lnTo>
                <a:lnTo>
                  <a:pt x="6739" y="5786"/>
                </a:lnTo>
                <a:lnTo>
                  <a:pt x="7444" y="5508"/>
                </a:lnTo>
                <a:lnTo>
                  <a:pt x="7722" y="5477"/>
                </a:lnTo>
                <a:lnTo>
                  <a:pt x="7907" y="5416"/>
                </a:lnTo>
                <a:lnTo>
                  <a:pt x="8061" y="5539"/>
                </a:lnTo>
                <a:lnTo>
                  <a:pt x="8181" y="5570"/>
                </a:lnTo>
                <a:lnTo>
                  <a:pt x="8674" y="5601"/>
                </a:lnTo>
                <a:lnTo>
                  <a:pt x="8860" y="5601"/>
                </a:lnTo>
                <a:lnTo>
                  <a:pt x="8983" y="5570"/>
                </a:lnTo>
                <a:lnTo>
                  <a:pt x="9107" y="5477"/>
                </a:lnTo>
                <a:lnTo>
                  <a:pt x="9199" y="5477"/>
                </a:lnTo>
                <a:lnTo>
                  <a:pt x="9477" y="5477"/>
                </a:lnTo>
                <a:lnTo>
                  <a:pt x="9596" y="5477"/>
                </a:lnTo>
                <a:lnTo>
                  <a:pt x="9689" y="5447"/>
                </a:lnTo>
                <a:lnTo>
                  <a:pt x="9812" y="5447"/>
                </a:lnTo>
                <a:lnTo>
                  <a:pt x="9905" y="5477"/>
                </a:lnTo>
                <a:lnTo>
                  <a:pt x="9997" y="5477"/>
                </a:lnTo>
                <a:lnTo>
                  <a:pt x="10090" y="5570"/>
                </a:lnTo>
                <a:lnTo>
                  <a:pt x="10183" y="5663"/>
                </a:lnTo>
                <a:lnTo>
                  <a:pt x="10275" y="5786"/>
                </a:lnTo>
                <a:lnTo>
                  <a:pt x="10429" y="5817"/>
                </a:lnTo>
                <a:lnTo>
                  <a:pt x="10522" y="5848"/>
                </a:lnTo>
                <a:lnTo>
                  <a:pt x="10615" y="5879"/>
                </a:lnTo>
                <a:lnTo>
                  <a:pt x="10615" y="5786"/>
                </a:lnTo>
                <a:lnTo>
                  <a:pt x="10615" y="5693"/>
                </a:lnTo>
                <a:lnTo>
                  <a:pt x="10615" y="541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0"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291" name=""/>
          <p:cNvGrpSpPr/>
          <p:nvPr/>
        </p:nvGrpSpPr>
        <p:grpSpPr>
          <a:xfrm>
            <a:off x="560520" y="447840"/>
            <a:ext cx="3624120" cy="1190520"/>
            <a:chOff x="560520" y="447840"/>
            <a:chExt cx="3624120" cy="1190520"/>
          </a:xfrm>
        </p:grpSpPr>
        <p:sp>
          <p:nvSpPr>
            <p:cNvPr id="1292"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293"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1294" name=""/>
          <p:cNvSpPr txBox="1"/>
          <p:nvPr/>
        </p:nvSpPr>
        <p:spPr>
          <a:xfrm>
            <a:off x="3727440" y="574524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9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6"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2598840" y="1754280"/>
            <a:ext cx="4758120" cy="3472200"/>
          </a:xfrm>
          <a:custGeom>
            <a:avLst/>
            <a:gdLst/>
            <a:ahLst/>
            <a:rect l="0" t="0" r="r" b="b"/>
            <a:pathLst>
              <a:path w="13217" h="9645">
                <a:moveTo>
                  <a:pt x="61" y="2204"/>
                </a:moveTo>
                <a:lnTo>
                  <a:pt x="10779" y="2204"/>
                </a:lnTo>
                <a:lnTo>
                  <a:pt x="10774" y="9543"/>
                </a:lnTo>
                <a:lnTo>
                  <a:pt x="10779" y="9645"/>
                </a:lnTo>
                <a:lnTo>
                  <a:pt x="10955" y="9645"/>
                </a:lnTo>
                <a:lnTo>
                  <a:pt x="11017" y="9468"/>
                </a:lnTo>
                <a:lnTo>
                  <a:pt x="11193" y="9349"/>
                </a:lnTo>
                <a:lnTo>
                  <a:pt x="11374" y="9349"/>
                </a:lnTo>
                <a:lnTo>
                  <a:pt x="11551" y="9230"/>
                </a:lnTo>
                <a:lnTo>
                  <a:pt x="11731" y="9049"/>
                </a:lnTo>
                <a:lnTo>
                  <a:pt x="11789" y="8873"/>
                </a:lnTo>
                <a:lnTo>
                  <a:pt x="11850" y="8692"/>
                </a:lnTo>
                <a:lnTo>
                  <a:pt x="11908" y="8516"/>
                </a:lnTo>
                <a:lnTo>
                  <a:pt x="11969" y="8335"/>
                </a:lnTo>
                <a:lnTo>
                  <a:pt x="11969" y="8158"/>
                </a:lnTo>
                <a:lnTo>
                  <a:pt x="12027" y="7920"/>
                </a:lnTo>
                <a:lnTo>
                  <a:pt x="12208" y="7740"/>
                </a:lnTo>
                <a:lnTo>
                  <a:pt x="12327" y="7563"/>
                </a:lnTo>
                <a:lnTo>
                  <a:pt x="12446" y="7382"/>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3"/>
                </a:lnTo>
                <a:lnTo>
                  <a:pt x="13098" y="4405"/>
                </a:lnTo>
                <a:lnTo>
                  <a:pt x="13160" y="4048"/>
                </a:lnTo>
                <a:lnTo>
                  <a:pt x="13217" y="3871"/>
                </a:lnTo>
                <a:lnTo>
                  <a:pt x="13217" y="3633"/>
                </a:lnTo>
                <a:lnTo>
                  <a:pt x="13160" y="3452"/>
                </a:lnTo>
                <a:lnTo>
                  <a:pt x="13098" y="3157"/>
                </a:lnTo>
                <a:lnTo>
                  <a:pt x="13041" y="2976"/>
                </a:lnTo>
                <a:lnTo>
                  <a:pt x="12979" y="2681"/>
                </a:lnTo>
                <a:lnTo>
                  <a:pt x="12922" y="2442"/>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98" name=""/>
          <p:cNvGrpSpPr/>
          <p:nvPr/>
        </p:nvGrpSpPr>
        <p:grpSpPr>
          <a:xfrm>
            <a:off x="2781360" y="2782800"/>
            <a:ext cx="3497760" cy="1594080"/>
            <a:chOff x="2781360" y="2782800"/>
            <a:chExt cx="3497760" cy="1594080"/>
          </a:xfrm>
        </p:grpSpPr>
        <p:sp>
          <p:nvSpPr>
            <p:cNvPr id="1299" name=""/>
            <p:cNvSpPr/>
            <p:nvPr/>
          </p:nvSpPr>
          <p:spPr>
            <a:xfrm>
              <a:off x="3043080" y="387036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0" name=""/>
            <p:cNvSpPr/>
            <p:nvPr/>
          </p:nvSpPr>
          <p:spPr>
            <a:xfrm>
              <a:off x="3294000" y="387684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3440160" y="3873600"/>
              <a:ext cx="27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3338640" y="358308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3341520" y="3840120"/>
              <a:ext cx="0" cy="87480"/>
            </a:xfrm>
            <a:prstGeom prst="line">
              <a:avLst/>
            </a:prstGeom>
            <a:ln w="12600">
              <a:solidFill>
                <a:srgbClr val="ffffff"/>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304" name=""/>
            <p:cNvSpPr/>
            <p:nvPr/>
          </p:nvSpPr>
          <p:spPr>
            <a:xfrm>
              <a:off x="3338640" y="398772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5" name=""/>
            <p:cNvSpPr/>
            <p:nvPr/>
          </p:nvSpPr>
          <p:spPr>
            <a:xfrm>
              <a:off x="5146560" y="387828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5481720" y="355932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479920" y="384012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308" name=""/>
            <p:cNvSpPr/>
            <p:nvPr/>
          </p:nvSpPr>
          <p:spPr>
            <a:xfrm>
              <a:off x="5479920" y="4017960"/>
              <a:ext cx="0" cy="208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a:off x="5432400" y="387828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5583240" y="387828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11" name=""/>
            <p:cNvGrpSpPr/>
            <p:nvPr/>
          </p:nvGrpSpPr>
          <p:grpSpPr>
            <a:xfrm>
              <a:off x="2781360" y="2782800"/>
              <a:ext cx="3497760" cy="1594080"/>
              <a:chOff x="2781360" y="2782800"/>
              <a:chExt cx="3497760" cy="1594080"/>
            </a:xfrm>
          </p:grpSpPr>
          <p:sp>
            <p:nvSpPr>
              <p:cNvPr id="1312" name=""/>
              <p:cNvSpPr/>
              <p:nvPr/>
            </p:nvSpPr>
            <p:spPr>
              <a:xfrm>
                <a:off x="6035760" y="279072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3139920" y="366876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5291280" y="368136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2795760" y="278280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2781360" y="287172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317"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19" name=""/>
          <p:cNvSpPr txBox="1"/>
          <p:nvPr/>
        </p:nvSpPr>
        <p:spPr>
          <a:xfrm>
            <a:off x="3727440" y="574524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
        <p:nvSpPr>
          <p:cNvPr id="1320" name=""/>
          <p:cNvSpPr txBox="1"/>
          <p:nvPr/>
        </p:nvSpPr>
        <p:spPr>
          <a:xfrm>
            <a:off x="5443560" y="806400"/>
            <a:ext cx="3203640" cy="100656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Part is positioned on assumed</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datum A (minumum 3 points</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of contact). </a:t>
            </a:r>
            <a:endParaRPr b="0" lang="en-US" sz="2000" spc="-1" strike="noStrike">
              <a:solidFill>
                <a:srgbClr val="000000"/>
              </a:solidFill>
              <a:latin typeface="Arial"/>
            </a:endParaRPr>
          </a:p>
        </p:txBody>
      </p:sp>
      <p:sp>
        <p:nvSpPr>
          <p:cNvPr id="1321" name=""/>
          <p:cNvSpPr/>
          <p:nvPr/>
        </p:nvSpPr>
        <p:spPr>
          <a:xfrm>
            <a:off x="6797520" y="1590840"/>
            <a:ext cx="24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flipH="1">
            <a:off x="6276960" y="1590840"/>
            <a:ext cx="765360" cy="23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3" name=""/>
          <p:cNvSpPr/>
          <p:nvPr/>
        </p:nvSpPr>
        <p:spPr>
          <a:xfrm>
            <a:off x="6210360" y="3871800"/>
            <a:ext cx="98280" cy="100080"/>
          </a:xfrm>
          <a:prstGeom prst="ellipse">
            <a:avLst/>
          </a:prstGeom>
          <a:solidFill>
            <a:srgbClr val="ffffff"/>
          </a:solidFill>
          <a:ln w="12600">
            <a:solidFill>
              <a:srgbClr val="ffffff"/>
            </a:solidFill>
            <a:round/>
          </a:ln>
        </p:spPr>
        <p:txBody>
          <a:bodyPr lIns="96120" rIns="96120" tIns="48960" bIns="48960" anchor="t">
            <a:noAutofit/>
          </a:bodyPr>
          <a:p>
            <a:endParaRPr b="0" lang="en-US" sz="1800" spc="-1" strike="noStrike">
              <a:solidFill>
                <a:srgbClr val="000000"/>
              </a:solidFill>
              <a:latin typeface="Arial"/>
            </a:endParaRPr>
          </a:p>
        </p:txBody>
      </p:sp>
      <p:sp>
        <p:nvSpPr>
          <p:cNvPr id="1324"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325" name=""/>
          <p:cNvGrpSpPr/>
          <p:nvPr/>
        </p:nvGrpSpPr>
        <p:grpSpPr>
          <a:xfrm>
            <a:off x="560520" y="447840"/>
            <a:ext cx="3624120" cy="1190520"/>
            <a:chOff x="560520" y="447840"/>
            <a:chExt cx="3624120" cy="1190520"/>
          </a:xfrm>
        </p:grpSpPr>
        <p:sp>
          <p:nvSpPr>
            <p:cNvPr id="132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327"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30" name=""/>
          <p:cNvGrpSpPr/>
          <p:nvPr/>
        </p:nvGrpSpPr>
        <p:grpSpPr>
          <a:xfrm>
            <a:off x="2781360" y="2549520"/>
            <a:ext cx="3497760" cy="1594080"/>
            <a:chOff x="2781360" y="2549520"/>
            <a:chExt cx="3497760" cy="1594080"/>
          </a:xfrm>
        </p:grpSpPr>
        <p:sp>
          <p:nvSpPr>
            <p:cNvPr id="1331" name=""/>
            <p:cNvSpPr/>
            <p:nvPr/>
          </p:nvSpPr>
          <p:spPr>
            <a:xfrm>
              <a:off x="3043080" y="363708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2" name=""/>
            <p:cNvSpPr/>
            <p:nvPr/>
          </p:nvSpPr>
          <p:spPr>
            <a:xfrm>
              <a:off x="329400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3440160" y="3639960"/>
              <a:ext cx="27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333864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5" name=""/>
            <p:cNvSpPr/>
            <p:nvPr/>
          </p:nvSpPr>
          <p:spPr>
            <a:xfrm>
              <a:off x="334152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336" name=""/>
            <p:cNvSpPr/>
            <p:nvPr/>
          </p:nvSpPr>
          <p:spPr>
            <a:xfrm>
              <a:off x="3338640" y="375444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a:off x="5146560" y="3645000"/>
              <a:ext cx="24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p:nvPr/>
          </p:nvSpPr>
          <p:spPr>
            <a:xfrm>
              <a:off x="548172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5479920" y="360684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340" name=""/>
            <p:cNvSpPr/>
            <p:nvPr/>
          </p:nvSpPr>
          <p:spPr>
            <a:xfrm>
              <a:off x="5479920" y="378468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5432400" y="36450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2" name=""/>
            <p:cNvSpPr/>
            <p:nvPr/>
          </p:nvSpPr>
          <p:spPr>
            <a:xfrm>
              <a:off x="5583240" y="364500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43" name=""/>
            <p:cNvGrpSpPr/>
            <p:nvPr/>
          </p:nvGrpSpPr>
          <p:grpSpPr>
            <a:xfrm>
              <a:off x="2781360" y="2549520"/>
              <a:ext cx="3497760" cy="1594080"/>
              <a:chOff x="2781360" y="2549520"/>
              <a:chExt cx="3497760" cy="1594080"/>
            </a:xfrm>
          </p:grpSpPr>
          <p:sp>
            <p:nvSpPr>
              <p:cNvPr id="1344" name=""/>
              <p:cNvSpPr/>
              <p:nvPr/>
            </p:nvSpPr>
            <p:spPr>
              <a:xfrm>
                <a:off x="6035760" y="255744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5" name=""/>
              <p:cNvSpPr/>
              <p:nvPr/>
            </p:nvSpPr>
            <p:spPr>
              <a:xfrm>
                <a:off x="3139920" y="34354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5291280" y="34480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2795760" y="254952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a:off x="2781360" y="263844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349" name=""/>
          <p:cNvSpPr txBox="1"/>
          <p:nvPr/>
        </p:nvSpPr>
        <p:spPr>
          <a:xfrm>
            <a:off x="4627440" y="1044720"/>
            <a:ext cx="4403880" cy="701640"/>
          </a:xfrm>
          <a:prstGeom prst="rect">
            <a:avLst/>
          </a:prstGeom>
          <a:noFill/>
          <a:ln w="0">
            <a:noFill/>
          </a:ln>
        </p:spPr>
        <p:txBody>
          <a:bodyPr lIns="0" rIns="0" tIns="0" bIns="0" anchor="t">
            <a:noAutofit/>
          </a:bodyPr>
          <a:p>
            <a:pPr>
              <a:lnSpc>
                <a:spcPct val="100000"/>
              </a:lnSpc>
            </a:pPr>
            <a:r>
              <a:rPr b="1" lang="en-US" sz="2000" spc="-1" strike="noStrike">
                <a:solidFill>
                  <a:srgbClr val="fafd00"/>
                </a:solidFill>
                <a:latin typeface="Times New Roman"/>
                <a:ea typeface="Times New Roman"/>
              </a:rPr>
              <a:t>Two points of contact on </a:t>
            </a:r>
            <a:endParaRPr b="0" lang="en-US" sz="2000" spc="-1" strike="noStrike">
              <a:solidFill>
                <a:srgbClr val="000000"/>
              </a:solidFill>
              <a:latin typeface="Arial"/>
            </a:endParaRPr>
          </a:p>
          <a:p>
            <a:pPr>
              <a:lnSpc>
                <a:spcPct val="100000"/>
              </a:lnSpc>
            </a:pPr>
            <a:r>
              <a:rPr b="1" lang="en-US" sz="2000" spc="-1" strike="noStrike">
                <a:solidFill>
                  <a:srgbClr val="fafd00"/>
                </a:solidFill>
                <a:latin typeface="Times New Roman"/>
                <a:ea typeface="Times New Roman"/>
              </a:rPr>
              <a:t>assumed datum B (this time, the back).</a:t>
            </a:r>
            <a:endParaRPr b="0" lang="en-US" sz="2000" spc="-1" strike="noStrike">
              <a:solidFill>
                <a:srgbClr val="000000"/>
              </a:solidFill>
              <a:latin typeface="Arial"/>
            </a:endParaRPr>
          </a:p>
        </p:txBody>
      </p:sp>
      <p:sp>
        <p:nvSpPr>
          <p:cNvPr id="1350" name=""/>
          <p:cNvSpPr/>
          <p:nvPr/>
        </p:nvSpPr>
        <p:spPr>
          <a:xfrm flipH="1">
            <a:off x="4438800" y="122544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 name=""/>
          <p:cNvSpPr/>
          <p:nvPr/>
        </p:nvSpPr>
        <p:spPr>
          <a:xfrm>
            <a:off x="4438800" y="1225440"/>
            <a:ext cx="776160" cy="1328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54" name=""/>
          <p:cNvSpPr txBox="1"/>
          <p:nvPr/>
        </p:nvSpPr>
        <p:spPr>
          <a:xfrm>
            <a:off x="3727440" y="574524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
        <p:nvSpPr>
          <p:cNvPr id="1355"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356" name=""/>
          <p:cNvGrpSpPr/>
          <p:nvPr/>
        </p:nvGrpSpPr>
        <p:grpSpPr>
          <a:xfrm>
            <a:off x="560520" y="447840"/>
            <a:ext cx="3624120" cy="1190520"/>
            <a:chOff x="560520" y="447840"/>
            <a:chExt cx="3624120" cy="1190520"/>
          </a:xfrm>
        </p:grpSpPr>
        <p:sp>
          <p:nvSpPr>
            <p:cNvPr id="1357"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358"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5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60"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61" name=""/>
          <p:cNvGrpSpPr/>
          <p:nvPr/>
        </p:nvGrpSpPr>
        <p:grpSpPr>
          <a:xfrm>
            <a:off x="2981160" y="2549520"/>
            <a:ext cx="3497760" cy="1594080"/>
            <a:chOff x="2981160" y="2549520"/>
            <a:chExt cx="3497760" cy="1594080"/>
          </a:xfrm>
        </p:grpSpPr>
        <p:sp>
          <p:nvSpPr>
            <p:cNvPr id="1362" name=""/>
            <p:cNvSpPr/>
            <p:nvPr/>
          </p:nvSpPr>
          <p:spPr>
            <a:xfrm>
              <a:off x="3243240" y="3637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349416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3639960" y="3639960"/>
              <a:ext cx="27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353844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a:off x="354168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367" name=""/>
            <p:cNvSpPr/>
            <p:nvPr/>
          </p:nvSpPr>
          <p:spPr>
            <a:xfrm>
              <a:off x="3538440" y="375444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5346720" y="3645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568152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5680080" y="360684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371" name=""/>
            <p:cNvSpPr/>
            <p:nvPr/>
          </p:nvSpPr>
          <p:spPr>
            <a:xfrm>
              <a:off x="5680080" y="3784680"/>
              <a:ext cx="0" cy="207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2" name=""/>
            <p:cNvSpPr/>
            <p:nvPr/>
          </p:nvSpPr>
          <p:spPr>
            <a:xfrm>
              <a:off x="5632560" y="36450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p:nvPr/>
          </p:nvSpPr>
          <p:spPr>
            <a:xfrm>
              <a:off x="5783400" y="3645000"/>
              <a:ext cx="37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74" name=""/>
            <p:cNvGrpSpPr/>
            <p:nvPr/>
          </p:nvGrpSpPr>
          <p:grpSpPr>
            <a:xfrm>
              <a:off x="2981160" y="2549520"/>
              <a:ext cx="3497760" cy="1594080"/>
              <a:chOff x="2981160" y="2549520"/>
              <a:chExt cx="3497760" cy="1594080"/>
            </a:xfrm>
          </p:grpSpPr>
          <p:sp>
            <p:nvSpPr>
              <p:cNvPr id="1375" name=""/>
              <p:cNvSpPr/>
              <p:nvPr/>
            </p:nvSpPr>
            <p:spPr>
              <a:xfrm>
                <a:off x="6235560" y="255744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6" name=""/>
              <p:cNvSpPr/>
              <p:nvPr/>
            </p:nvSpPr>
            <p:spPr>
              <a:xfrm>
                <a:off x="3340080" y="34354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7" name=""/>
              <p:cNvSpPr/>
              <p:nvPr/>
            </p:nvSpPr>
            <p:spPr>
              <a:xfrm>
                <a:off x="5491080" y="34480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8" name=""/>
              <p:cNvSpPr/>
              <p:nvPr/>
            </p:nvSpPr>
            <p:spPr>
              <a:xfrm>
                <a:off x="2995560" y="254952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2981160" y="263844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380"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1"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382" name=""/>
          <p:cNvSpPr txBox="1"/>
          <p:nvPr/>
        </p:nvSpPr>
        <p:spPr>
          <a:xfrm>
            <a:off x="3727440" y="574524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
        <p:nvSpPr>
          <p:cNvPr id="1383" name=""/>
          <p:cNvSpPr txBox="1"/>
          <p:nvPr/>
        </p:nvSpPr>
        <p:spPr>
          <a:xfrm>
            <a:off x="5675400" y="806400"/>
            <a:ext cx="328788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Minimum one point of contact</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with assumed datum C</a:t>
            </a:r>
            <a:endParaRPr b="0" lang="en-US" sz="2000" spc="-1" strike="noStrike">
              <a:solidFill>
                <a:srgbClr val="000000"/>
              </a:solidFill>
              <a:latin typeface="Arial"/>
            </a:endParaRPr>
          </a:p>
        </p:txBody>
      </p:sp>
      <p:sp>
        <p:nvSpPr>
          <p:cNvPr id="1384" name=""/>
          <p:cNvSpPr/>
          <p:nvPr/>
        </p:nvSpPr>
        <p:spPr>
          <a:xfrm>
            <a:off x="8159760" y="130176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flipH="1">
            <a:off x="6477120" y="1301760"/>
            <a:ext cx="1893600" cy="1893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387" name=""/>
          <p:cNvGrpSpPr/>
          <p:nvPr/>
        </p:nvGrpSpPr>
        <p:grpSpPr>
          <a:xfrm>
            <a:off x="560520" y="447840"/>
            <a:ext cx="3624120" cy="1190520"/>
            <a:chOff x="560520" y="447840"/>
            <a:chExt cx="3624120" cy="1190520"/>
          </a:xfrm>
        </p:grpSpPr>
        <p:sp>
          <p:nvSpPr>
            <p:cNvPr id="1388"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389"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9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1"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92"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a:off x="6135840" y="3643200"/>
            <a:ext cx="18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 name=""/>
          <p:cNvSpPr/>
          <p:nvPr/>
        </p:nvSpPr>
        <p:spPr>
          <a:xfrm>
            <a:off x="6235560" y="255744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5" name=""/>
          <p:cNvSpPr/>
          <p:nvPr/>
        </p:nvSpPr>
        <p:spPr>
          <a:xfrm>
            <a:off x="3340080" y="34354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3254400" y="3637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3651120" y="3639960"/>
            <a:ext cx="175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401" name=""/>
          <p:cNvSpPr/>
          <p:nvPr/>
        </p:nvSpPr>
        <p:spPr>
          <a:xfrm>
            <a:off x="3549600" y="3754440"/>
            <a:ext cx="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 name=""/>
          <p:cNvSpPr/>
          <p:nvPr/>
        </p:nvSpPr>
        <p:spPr>
          <a:xfrm>
            <a:off x="6585120" y="254808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7893000" y="2548080"/>
            <a:ext cx="0" cy="320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7893000" y="3276720"/>
            <a:ext cx="0" cy="363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5" name=""/>
          <p:cNvSpPr txBox="1"/>
          <p:nvPr/>
        </p:nvSpPr>
        <p:spPr>
          <a:xfrm>
            <a:off x="7655040" y="2879640"/>
            <a:ext cx="431640" cy="42876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X</a:t>
            </a:r>
            <a:endParaRPr b="0" lang="en-US" sz="2000" spc="-1" strike="noStrike">
              <a:solidFill>
                <a:srgbClr val="000000"/>
              </a:solidFill>
              <a:latin typeface="Arial"/>
            </a:endParaRPr>
          </a:p>
        </p:txBody>
      </p:sp>
      <p:sp>
        <p:nvSpPr>
          <p:cNvPr id="1406" name=""/>
          <p:cNvSpPr/>
          <p:nvPr/>
        </p:nvSpPr>
        <p:spPr>
          <a:xfrm>
            <a:off x="5491080" y="34480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5357880" y="3645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569268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5691240" y="360684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410" name=""/>
          <p:cNvSpPr/>
          <p:nvPr/>
        </p:nvSpPr>
        <p:spPr>
          <a:xfrm>
            <a:off x="5691240" y="3784680"/>
            <a:ext cx="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5643720" y="36450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5794200" y="364500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3" name=""/>
          <p:cNvSpPr/>
          <p:nvPr/>
        </p:nvSpPr>
        <p:spPr>
          <a:xfrm>
            <a:off x="2995560" y="254952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2981160" y="263844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17" name=""/>
          <p:cNvSpPr txBox="1"/>
          <p:nvPr/>
        </p:nvSpPr>
        <p:spPr>
          <a:xfrm>
            <a:off x="3727440" y="574524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
        <p:nvSpPr>
          <p:cNvPr id="1418"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419" name=""/>
          <p:cNvGrpSpPr/>
          <p:nvPr/>
        </p:nvGrpSpPr>
        <p:grpSpPr>
          <a:xfrm>
            <a:off x="560520" y="447840"/>
            <a:ext cx="3624120" cy="1190520"/>
            <a:chOff x="560520" y="447840"/>
            <a:chExt cx="3624120" cy="1190520"/>
          </a:xfrm>
        </p:grpSpPr>
        <p:sp>
          <p:nvSpPr>
            <p:cNvPr id="1420"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421"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3"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4"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6135840" y="3643200"/>
            <a:ext cx="18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6235560" y="255744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a:off x="3340080" y="34354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8" name=""/>
          <p:cNvSpPr/>
          <p:nvPr/>
        </p:nvSpPr>
        <p:spPr>
          <a:xfrm>
            <a:off x="3254400" y="3637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9"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0" name=""/>
          <p:cNvSpPr/>
          <p:nvPr/>
        </p:nvSpPr>
        <p:spPr>
          <a:xfrm>
            <a:off x="3651120" y="3639960"/>
            <a:ext cx="175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433" name=""/>
          <p:cNvSpPr/>
          <p:nvPr/>
        </p:nvSpPr>
        <p:spPr>
          <a:xfrm>
            <a:off x="3549600" y="3754440"/>
            <a:ext cx="0" cy="12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6585120" y="254808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7893000" y="2548080"/>
            <a:ext cx="0" cy="320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7893000" y="3276720"/>
            <a:ext cx="0" cy="363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 name=""/>
          <p:cNvSpPr txBox="1"/>
          <p:nvPr/>
        </p:nvSpPr>
        <p:spPr>
          <a:xfrm>
            <a:off x="7655040" y="2879640"/>
            <a:ext cx="431640" cy="42876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X</a:t>
            </a:r>
            <a:endParaRPr b="0" lang="en-US" sz="2000" spc="-1" strike="noStrike">
              <a:solidFill>
                <a:srgbClr val="000000"/>
              </a:solidFill>
              <a:latin typeface="Arial"/>
            </a:endParaRPr>
          </a:p>
        </p:txBody>
      </p:sp>
      <p:sp>
        <p:nvSpPr>
          <p:cNvPr id="1438" name=""/>
          <p:cNvSpPr/>
          <p:nvPr/>
        </p:nvSpPr>
        <p:spPr>
          <a:xfrm>
            <a:off x="5491080" y="34480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5357880" y="3645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569268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5691240" y="360684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442" name=""/>
          <p:cNvSpPr/>
          <p:nvPr/>
        </p:nvSpPr>
        <p:spPr>
          <a:xfrm>
            <a:off x="5691240" y="3784680"/>
            <a:ext cx="0" cy="12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5643720" y="36450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5794200" y="364500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3541680" y="4840200"/>
            <a:ext cx="2157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6478560" y="4840200"/>
            <a:ext cx="1220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txBox="1"/>
          <p:nvPr/>
        </p:nvSpPr>
        <p:spPr>
          <a:xfrm>
            <a:off x="7683480" y="4567320"/>
            <a:ext cx="419040" cy="534960"/>
          </a:xfrm>
          <a:prstGeom prst="rect">
            <a:avLst/>
          </a:prstGeom>
          <a:noFill/>
          <a:ln w="0">
            <a:noFill/>
          </a:ln>
        </p:spPr>
        <p:txBody>
          <a:bodyPr lIns="0" rIns="0" tIns="0" bIns="0" anchor="t">
            <a:noAutofit/>
          </a:bodyPr>
          <a:p>
            <a:pPr algn="ctr">
              <a:lnSpc>
                <a:spcPct val="100000"/>
              </a:lnSpc>
            </a:pPr>
            <a:r>
              <a:rPr b="1" lang="en-US" sz="2700" spc="-1" strike="noStrike">
                <a:solidFill>
                  <a:srgbClr val="fd0000"/>
                </a:solidFill>
                <a:latin typeface="Times New Roman"/>
                <a:ea typeface="Times New Roman"/>
              </a:rPr>
              <a:t>?</a:t>
            </a:r>
            <a:endParaRPr b="0" lang="en-US" sz="2700" spc="-1" strike="noStrike">
              <a:solidFill>
                <a:srgbClr val="000000"/>
              </a:solidFill>
              <a:latin typeface="Arial"/>
            </a:endParaRPr>
          </a:p>
        </p:txBody>
      </p:sp>
      <p:sp>
        <p:nvSpPr>
          <p:cNvPr id="1448" name=""/>
          <p:cNvSpPr/>
          <p:nvPr/>
        </p:nvSpPr>
        <p:spPr>
          <a:xfrm>
            <a:off x="2995560" y="254952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2981160" y="263844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52" name=""/>
          <p:cNvSpPr txBox="1"/>
          <p:nvPr/>
        </p:nvSpPr>
        <p:spPr>
          <a:xfrm>
            <a:off x="3727440" y="5745240"/>
            <a:ext cx="3492360" cy="701640"/>
          </a:xfrm>
          <a:prstGeom prst="rect">
            <a:avLst/>
          </a:prstGeom>
          <a:noFill/>
          <a:ln w="0">
            <a:noFill/>
          </a:ln>
        </p:spPr>
        <p:txBody>
          <a:bodyPr lIns="0" rIns="0" tIns="0" bIns="0" anchor="t">
            <a:noAutofit/>
          </a:bodyPr>
          <a:p>
            <a:pPr>
              <a:lnSpc>
                <a:spcPct val="100000"/>
              </a:lnSpc>
            </a:pPr>
            <a:r>
              <a:rPr b="0" lang="en-US" sz="2000" spc="-1" strike="noStrike" u="sng">
                <a:solidFill>
                  <a:srgbClr val="ffff00"/>
                </a:solidFill>
                <a:uFillTx/>
                <a:latin typeface="Times New Roman"/>
                <a:ea typeface="Times New Roman"/>
              </a:rPr>
              <a:t>Assumed</a:t>
            </a:r>
            <a:r>
              <a:rPr b="0" lang="en-US" sz="2000" spc="-1" strike="noStrike">
                <a:solidFill>
                  <a:srgbClr val="f2fefd"/>
                </a:solidFill>
                <a:latin typeface="Times New Roman"/>
                <a:ea typeface="Times New Roman"/>
              </a:rPr>
              <a:t> datum reference frame</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used for inspection of the part.</a:t>
            </a:r>
            <a:endParaRPr b="0" lang="en-US" sz="2000" spc="-1" strike="noStrike">
              <a:solidFill>
                <a:srgbClr val="000000"/>
              </a:solidFill>
              <a:latin typeface="Arial"/>
            </a:endParaRPr>
          </a:p>
        </p:txBody>
      </p:sp>
      <p:sp>
        <p:nvSpPr>
          <p:cNvPr id="1453" name=""/>
          <p:cNvSpPr txBox="1"/>
          <p:nvPr/>
        </p:nvSpPr>
        <p:spPr>
          <a:xfrm>
            <a:off x="4889520" y="750960"/>
            <a:ext cx="392904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Hole location and surface alignment.</a:t>
            </a:r>
            <a:endParaRPr b="0" lang="en-US" sz="2000" spc="-1" strike="noStrike">
              <a:solidFill>
                <a:srgbClr val="000000"/>
              </a:solidFill>
              <a:latin typeface="Arial"/>
            </a:endParaRPr>
          </a:p>
        </p:txBody>
      </p:sp>
      <p:sp>
        <p:nvSpPr>
          <p:cNvPr id="1454"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455" name=""/>
          <p:cNvGrpSpPr/>
          <p:nvPr/>
        </p:nvGrpSpPr>
        <p:grpSpPr>
          <a:xfrm>
            <a:off x="560520" y="447840"/>
            <a:ext cx="3624120" cy="1190520"/>
            <a:chOff x="560520" y="447840"/>
            <a:chExt cx="3624120" cy="1190520"/>
          </a:xfrm>
        </p:grpSpPr>
        <p:sp>
          <p:nvSpPr>
            <p:cNvPr id="145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457"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19" name=""/>
          <p:cNvGrpSpPr/>
          <p:nvPr/>
        </p:nvGrpSpPr>
        <p:grpSpPr>
          <a:xfrm>
            <a:off x="0" y="0"/>
            <a:ext cx="9131400" cy="6872400"/>
            <a:chOff x="0" y="0"/>
            <a:chExt cx="9131400" cy="6872400"/>
          </a:xfrm>
        </p:grpSpPr>
        <p:sp>
          <p:nvSpPr>
            <p:cNvPr id="320" name=""/>
            <p:cNvSpPr/>
            <p:nvPr/>
          </p:nvSpPr>
          <p:spPr>
            <a:xfrm>
              <a:off x="4965840" y="9360"/>
              <a:ext cx="4165560" cy="59529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24"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43"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44"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7"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8"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9"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50"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1"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2"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7"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81"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7" name=""/>
            <p:cNvGrpSpPr/>
            <p:nvPr/>
          </p:nvGrpSpPr>
          <p:grpSpPr>
            <a:xfrm>
              <a:off x="7902720" y="1098720"/>
              <a:ext cx="204480" cy="193680"/>
              <a:chOff x="7902720" y="1098720"/>
              <a:chExt cx="204480" cy="193680"/>
            </a:xfrm>
          </p:grpSpPr>
          <p:sp>
            <p:nvSpPr>
              <p:cNvPr id="408"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0"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11"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12"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13"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14"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15"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16"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7" name=""/>
            <p:cNvGrpSpPr/>
            <p:nvPr/>
          </p:nvGrpSpPr>
          <p:grpSpPr>
            <a:xfrm>
              <a:off x="6835680" y="396720"/>
              <a:ext cx="279360" cy="292320"/>
              <a:chOff x="6835680" y="396720"/>
              <a:chExt cx="279360" cy="292320"/>
            </a:xfrm>
          </p:grpSpPr>
          <p:sp>
            <p:nvSpPr>
              <p:cNvPr id="418"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1"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26"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28"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31" name=""/>
            <p:cNvGrpSpPr/>
            <p:nvPr/>
          </p:nvGrpSpPr>
          <p:grpSpPr>
            <a:xfrm>
              <a:off x="5981760" y="5961240"/>
              <a:ext cx="190440" cy="196560"/>
              <a:chOff x="5981760" y="5961240"/>
              <a:chExt cx="190440" cy="196560"/>
            </a:xfrm>
          </p:grpSpPr>
          <p:sp>
            <p:nvSpPr>
              <p:cNvPr id="432"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4"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35"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36" name=""/>
            <p:cNvGrpSpPr/>
            <p:nvPr/>
          </p:nvGrpSpPr>
          <p:grpSpPr>
            <a:xfrm>
              <a:off x="6891480" y="6418440"/>
              <a:ext cx="190440" cy="196560"/>
              <a:chOff x="6891480" y="6418440"/>
              <a:chExt cx="190440" cy="196560"/>
            </a:xfrm>
          </p:grpSpPr>
          <p:sp>
            <p:nvSpPr>
              <p:cNvPr id="437"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9"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42"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43"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50"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51"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52"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53"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54"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5"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6"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57"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8"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60" name=""/>
            <p:cNvGrpSpPr/>
            <p:nvPr/>
          </p:nvGrpSpPr>
          <p:grpSpPr>
            <a:xfrm>
              <a:off x="7164360" y="422280"/>
              <a:ext cx="204840" cy="193680"/>
              <a:chOff x="7164360" y="422280"/>
              <a:chExt cx="204840" cy="193680"/>
            </a:xfrm>
          </p:grpSpPr>
          <p:sp>
            <p:nvSpPr>
              <p:cNvPr id="461"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3" name=""/>
            <p:cNvGrpSpPr/>
            <p:nvPr/>
          </p:nvGrpSpPr>
          <p:grpSpPr>
            <a:xfrm>
              <a:off x="7413480" y="162000"/>
              <a:ext cx="163800" cy="155520"/>
              <a:chOff x="7413480" y="162000"/>
              <a:chExt cx="163800" cy="155520"/>
            </a:xfrm>
          </p:grpSpPr>
          <p:sp>
            <p:nvSpPr>
              <p:cNvPr id="464"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6" name=""/>
            <p:cNvGrpSpPr/>
            <p:nvPr/>
          </p:nvGrpSpPr>
          <p:grpSpPr>
            <a:xfrm>
              <a:off x="2940120" y="1822320"/>
              <a:ext cx="204840" cy="193680"/>
              <a:chOff x="2940120" y="1822320"/>
              <a:chExt cx="204840" cy="193680"/>
            </a:xfrm>
          </p:grpSpPr>
          <p:sp>
            <p:nvSpPr>
              <p:cNvPr id="467"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9"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70"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1"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74"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76"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78"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9"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2"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83"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84"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87"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8" name=""/>
            <p:cNvGrpSpPr/>
            <p:nvPr/>
          </p:nvGrpSpPr>
          <p:grpSpPr>
            <a:xfrm>
              <a:off x="2998800" y="985680"/>
              <a:ext cx="279360" cy="292320"/>
              <a:chOff x="2998800" y="985680"/>
              <a:chExt cx="279360" cy="292320"/>
            </a:xfrm>
          </p:grpSpPr>
          <p:sp>
            <p:nvSpPr>
              <p:cNvPr id="489"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2"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93" name=""/>
            <p:cNvGrpSpPr/>
            <p:nvPr/>
          </p:nvGrpSpPr>
          <p:grpSpPr>
            <a:xfrm>
              <a:off x="3355920" y="1035000"/>
              <a:ext cx="204840" cy="193680"/>
              <a:chOff x="3355920" y="1035000"/>
              <a:chExt cx="204840" cy="193680"/>
            </a:xfrm>
          </p:grpSpPr>
          <p:sp>
            <p:nvSpPr>
              <p:cNvPr id="494"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6"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97"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9"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15"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16"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21"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2"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4"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6" name=""/>
            <p:cNvGrpSpPr/>
            <p:nvPr/>
          </p:nvGrpSpPr>
          <p:grpSpPr>
            <a:xfrm>
              <a:off x="501480" y="146160"/>
              <a:ext cx="204840" cy="193680"/>
              <a:chOff x="501480" y="146160"/>
              <a:chExt cx="204840" cy="193680"/>
            </a:xfrm>
          </p:grpSpPr>
          <p:sp>
            <p:nvSpPr>
              <p:cNvPr id="527"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9"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30"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2"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6"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37"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0"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41"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45"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63"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8"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1"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73"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76"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78"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80" name=""/>
            <p:cNvGrpSpPr/>
            <p:nvPr/>
          </p:nvGrpSpPr>
          <p:grpSpPr>
            <a:xfrm>
              <a:off x="3422520" y="4789440"/>
              <a:ext cx="204840" cy="193680"/>
              <a:chOff x="3422520" y="4789440"/>
              <a:chExt cx="204840" cy="193680"/>
            </a:xfrm>
          </p:grpSpPr>
          <p:sp>
            <p:nvSpPr>
              <p:cNvPr id="581"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3"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84"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88"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9"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1"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93"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txBox="1"/>
            <p:nvPr/>
          </p:nvSpPr>
          <p:spPr>
            <a:xfrm>
              <a:off x="0" y="5168880"/>
              <a:ext cx="777240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DATUMS AND </a:t>
              </a:r>
              <a:r>
                <a:rPr b="1" lang="en-US" sz="4800" spc="-1" strike="noStrike">
                  <a:solidFill>
                    <a:srgbClr val="fafd00"/>
                  </a:solidFill>
                  <a:latin typeface="Times New Roman"/>
                  <a:ea typeface="Times New Roman"/>
                </a:rPr>
                <a:t>DATUM</a:t>
              </a:r>
              <a:endParaRPr b="0" lang="en-US" sz="4800" spc="-1" strike="noStrike">
                <a:solidFill>
                  <a:srgbClr val="000000"/>
                </a:solidFill>
                <a:latin typeface="Arial"/>
              </a:endParaRPr>
            </a:p>
            <a:p>
              <a:pPr>
                <a:lnSpc>
                  <a:spcPct val="100000"/>
                </a:lnSpc>
                <a:spcBef>
                  <a:spcPts val="479"/>
                </a:spcBef>
              </a:pPr>
              <a:r>
                <a:rPr b="1" lang="en-US" sz="4800" spc="-1" strike="noStrike">
                  <a:solidFill>
                    <a:srgbClr val="ffffff"/>
                  </a:solidFill>
                  <a:latin typeface="Times New Roman"/>
                  <a:ea typeface="Times New Roman"/>
                </a:rPr>
                <a:t>REFERENCING</a:t>
              </a:r>
              <a:endParaRPr b="0" lang="en-US" sz="4800" spc="-1" strike="noStrike">
                <a:solidFill>
                  <a:srgbClr val="000000"/>
                </a:solidFill>
                <a:latin typeface="Arial"/>
              </a:endParaRPr>
            </a:p>
          </p:txBody>
        </p:sp>
        <p:sp>
          <p:nvSpPr>
            <p:cNvPr id="595" name=""/>
            <p:cNvSpPr txBox="1"/>
            <p:nvPr/>
          </p:nvSpPr>
          <p:spPr>
            <a:xfrm>
              <a:off x="3691080" y="0"/>
              <a:ext cx="356220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9</a:t>
              </a:r>
              <a:endParaRPr b="0" lang="en-US" sz="42200" spc="-1" strike="noStrike">
                <a:solidFill>
                  <a:srgbClr val="000000"/>
                </a:solidFill>
                <a:latin typeface="Arial"/>
              </a:endParaRPr>
            </a:p>
          </p:txBody>
        </p:sp>
        <p:grpSp>
          <p:nvGrpSpPr>
            <p:cNvPr id="596" name=""/>
            <p:cNvGrpSpPr/>
            <p:nvPr/>
          </p:nvGrpSpPr>
          <p:grpSpPr>
            <a:xfrm>
              <a:off x="6924600" y="1039680"/>
              <a:ext cx="2130480" cy="798480"/>
              <a:chOff x="6924600" y="1039680"/>
              <a:chExt cx="2130480" cy="798480"/>
            </a:xfrm>
          </p:grpSpPr>
          <p:sp>
            <p:nvSpPr>
              <p:cNvPr id="597" name=""/>
              <p:cNvSpPr/>
              <p:nvPr/>
            </p:nvSpPr>
            <p:spPr>
              <a:xfrm>
                <a:off x="6924600" y="103968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98" name=""/>
              <p:cNvSpPr txBox="1"/>
              <p:nvPr/>
            </p:nvSpPr>
            <p:spPr>
              <a:xfrm>
                <a:off x="6969240" y="108432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99"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600" name=""/>
            <p:cNvSpPr/>
            <p:nvPr/>
          </p:nvSpPr>
          <p:spPr>
            <a:xfrm>
              <a:off x="2835360" y="3943440"/>
              <a:ext cx="5510160" cy="378000"/>
            </a:xfrm>
            <a:prstGeom prst="rect">
              <a:avLst/>
            </a:prstGeom>
            <a:gradFill rotWithShape="0">
              <a:gsLst>
                <a:gs pos="0">
                  <a:srgbClr val="4c4c4c"/>
                </a:gs>
                <a:gs pos="50000">
                  <a:srgbClr val="ffffff"/>
                </a:gs>
                <a:gs pos="100000">
                  <a:srgbClr val="4c4c4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6718320" y="6149880"/>
              <a:ext cx="2117880" cy="42372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txBox="1"/>
            <p:nvPr/>
          </p:nvSpPr>
          <p:spPr>
            <a:xfrm>
              <a:off x="6762600" y="6230880"/>
              <a:ext cx="2090880" cy="304920"/>
            </a:xfrm>
            <a:prstGeom prst="rect">
              <a:avLst/>
            </a:prstGeom>
            <a:noFill/>
            <a:ln w="0">
              <a:noFill/>
            </a:ln>
          </p:spPr>
          <p:txBody>
            <a:bodyPr lIns="0" rIns="0" tIns="0" bIns="0" anchor="t">
              <a:noAutofit/>
            </a:bodyPr>
            <a:p>
              <a:pPr>
                <a:lnSpc>
                  <a:spcPct val="100000"/>
                </a:lnSpc>
              </a:pPr>
              <a:r>
                <a:rPr b="0" lang="en-US" sz="1400" spc="-1" strike="noStrike">
                  <a:solidFill>
                    <a:srgbClr val="fafd00"/>
                  </a:solidFill>
                  <a:latin typeface="Arial"/>
                  <a:ea typeface="Arial"/>
                </a:rPr>
                <a:t>Part 2 of a 3-Part Serie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58"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9"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0" name=""/>
          <p:cNvSpPr/>
          <p:nvPr/>
        </p:nvSpPr>
        <p:spPr>
          <a:xfrm>
            <a:off x="6135840" y="3643200"/>
            <a:ext cx="18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1" name=""/>
          <p:cNvSpPr/>
          <p:nvPr/>
        </p:nvSpPr>
        <p:spPr>
          <a:xfrm>
            <a:off x="3254400" y="3637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3651120" y="3639960"/>
            <a:ext cx="2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4"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465" name=""/>
          <p:cNvSpPr/>
          <p:nvPr/>
        </p:nvSpPr>
        <p:spPr>
          <a:xfrm>
            <a:off x="6585120" y="254808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7893000" y="2548080"/>
            <a:ext cx="0" cy="320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a:off x="7893000" y="3276720"/>
            <a:ext cx="0" cy="363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txBox="1"/>
          <p:nvPr/>
        </p:nvSpPr>
        <p:spPr>
          <a:xfrm>
            <a:off x="7655040" y="2879640"/>
            <a:ext cx="431640" cy="42876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X</a:t>
            </a:r>
            <a:endParaRPr b="0" lang="en-US" sz="2000" spc="-1" strike="noStrike">
              <a:solidFill>
                <a:srgbClr val="000000"/>
              </a:solidFill>
              <a:latin typeface="Arial"/>
            </a:endParaRPr>
          </a:p>
        </p:txBody>
      </p:sp>
      <p:sp>
        <p:nvSpPr>
          <p:cNvPr id="1469" name=""/>
          <p:cNvSpPr/>
          <p:nvPr/>
        </p:nvSpPr>
        <p:spPr>
          <a:xfrm>
            <a:off x="5357880" y="3645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0" name=""/>
          <p:cNvSpPr/>
          <p:nvPr/>
        </p:nvSpPr>
        <p:spPr>
          <a:xfrm>
            <a:off x="5643720" y="36450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1" name=""/>
          <p:cNvSpPr/>
          <p:nvPr/>
        </p:nvSpPr>
        <p:spPr>
          <a:xfrm>
            <a:off x="5794200" y="364500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2" name=""/>
          <p:cNvSpPr/>
          <p:nvPr/>
        </p:nvSpPr>
        <p:spPr>
          <a:xfrm>
            <a:off x="354636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3546360" y="3754440"/>
            <a:ext cx="0" cy="12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568944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5688000" y="360684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476" name=""/>
          <p:cNvSpPr/>
          <p:nvPr/>
        </p:nvSpPr>
        <p:spPr>
          <a:xfrm>
            <a:off x="5688000" y="3784680"/>
            <a:ext cx="0" cy="12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3538440" y="4840200"/>
            <a:ext cx="2157480" cy="0"/>
          </a:xfrm>
          <a:prstGeom prst="line">
            <a:avLst/>
          </a:prstGeom>
          <a:ln w="12600">
            <a:solidFill>
              <a:srgbClr val="fafd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7551720" y="4500720"/>
            <a:ext cx="665280" cy="665280"/>
          </a:xfrm>
          <a:prstGeom prst="ellipse">
            <a:avLst/>
          </a:prstGeom>
          <a:noFill/>
          <a:ln w="38160">
            <a:solidFill>
              <a:srgbClr val="ffff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1479" name=""/>
          <p:cNvSpPr txBox="1"/>
          <p:nvPr/>
        </p:nvSpPr>
        <p:spPr>
          <a:xfrm>
            <a:off x="7683480" y="4567320"/>
            <a:ext cx="419040" cy="534960"/>
          </a:xfrm>
          <a:prstGeom prst="rect">
            <a:avLst/>
          </a:prstGeom>
          <a:noFill/>
          <a:ln w="0">
            <a:noFill/>
          </a:ln>
        </p:spPr>
        <p:txBody>
          <a:bodyPr lIns="0" rIns="0" tIns="0" bIns="0" anchor="t">
            <a:noAutofit/>
          </a:bodyPr>
          <a:p>
            <a:pPr algn="ctr">
              <a:lnSpc>
                <a:spcPct val="100000"/>
              </a:lnSpc>
            </a:pPr>
            <a:r>
              <a:rPr b="1" lang="en-US" sz="2700" spc="-1" strike="noStrike">
                <a:solidFill>
                  <a:srgbClr val="fd0000"/>
                </a:solidFill>
                <a:latin typeface="Times New Roman"/>
                <a:ea typeface="Times New Roman"/>
              </a:rPr>
              <a:t>?</a:t>
            </a:r>
            <a:endParaRPr b="0" lang="en-US" sz="2700" spc="-1" strike="noStrike">
              <a:solidFill>
                <a:srgbClr val="000000"/>
              </a:solidFill>
              <a:latin typeface="Arial"/>
            </a:endParaRPr>
          </a:p>
        </p:txBody>
      </p:sp>
      <p:sp>
        <p:nvSpPr>
          <p:cNvPr id="1480" name=""/>
          <p:cNvSpPr/>
          <p:nvPr/>
        </p:nvSpPr>
        <p:spPr>
          <a:xfrm>
            <a:off x="6478560" y="4840200"/>
            <a:ext cx="1220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3336840" y="3435480"/>
            <a:ext cx="407880" cy="4064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82" name=""/>
          <p:cNvSpPr/>
          <p:nvPr/>
        </p:nvSpPr>
        <p:spPr>
          <a:xfrm>
            <a:off x="5487840" y="3448080"/>
            <a:ext cx="407880" cy="40644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83" name=""/>
          <p:cNvGrpSpPr/>
          <p:nvPr/>
        </p:nvGrpSpPr>
        <p:grpSpPr>
          <a:xfrm>
            <a:off x="2975040" y="2549520"/>
            <a:ext cx="3497760" cy="1594080"/>
            <a:chOff x="2975040" y="2549520"/>
            <a:chExt cx="3497760" cy="1594080"/>
          </a:xfrm>
        </p:grpSpPr>
        <p:sp>
          <p:nvSpPr>
            <p:cNvPr id="1484" name=""/>
            <p:cNvSpPr/>
            <p:nvPr/>
          </p:nvSpPr>
          <p:spPr>
            <a:xfrm>
              <a:off x="6229440" y="255744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2989440" y="254952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2975040" y="263844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487" name=""/>
          <p:cNvSpPr/>
          <p:nvPr/>
        </p:nvSpPr>
        <p:spPr>
          <a:xfrm>
            <a:off x="3984480" y="3639960"/>
            <a:ext cx="125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txBox="1"/>
          <p:nvPr/>
        </p:nvSpPr>
        <p:spPr>
          <a:xfrm>
            <a:off x="3936960" y="5530680"/>
            <a:ext cx="49323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s now in tolerance with datum C, but ma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e out of tolerance with datum B.</a:t>
            </a:r>
            <a:endParaRPr b="0" lang="en-US" sz="2000" spc="-1" strike="noStrike">
              <a:solidFill>
                <a:srgbClr val="000000"/>
              </a:solidFill>
              <a:latin typeface="Arial"/>
            </a:endParaRPr>
          </a:p>
        </p:txBody>
      </p:sp>
      <p:grpSp>
        <p:nvGrpSpPr>
          <p:cNvPr id="1489" name=""/>
          <p:cNvGrpSpPr/>
          <p:nvPr/>
        </p:nvGrpSpPr>
        <p:grpSpPr>
          <a:xfrm>
            <a:off x="3757680" y="3322800"/>
            <a:ext cx="2157480" cy="1685880"/>
            <a:chOff x="3757680" y="3322800"/>
            <a:chExt cx="2157480" cy="1685880"/>
          </a:xfrm>
        </p:grpSpPr>
        <p:sp>
          <p:nvSpPr>
            <p:cNvPr id="1490" name=""/>
            <p:cNvSpPr/>
            <p:nvPr/>
          </p:nvSpPr>
          <p:spPr>
            <a:xfrm>
              <a:off x="3765600" y="334656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a:off x="3765600" y="3751200"/>
              <a:ext cx="0" cy="125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5908680" y="3322800"/>
              <a:ext cx="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5907240" y="360360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494" name=""/>
            <p:cNvSpPr/>
            <p:nvPr/>
          </p:nvSpPr>
          <p:spPr>
            <a:xfrm>
              <a:off x="5907240" y="3781440"/>
              <a:ext cx="0" cy="12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5" name=""/>
            <p:cNvSpPr/>
            <p:nvPr/>
          </p:nvSpPr>
          <p:spPr>
            <a:xfrm>
              <a:off x="3757680" y="4836960"/>
              <a:ext cx="2157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96" name=""/>
          <p:cNvSpPr/>
          <p:nvPr/>
        </p:nvSpPr>
        <p:spPr>
          <a:xfrm>
            <a:off x="3763800" y="3606840"/>
            <a:ext cx="0" cy="76320"/>
          </a:xfrm>
          <a:prstGeom prst="line">
            <a:avLst/>
          </a:prstGeom>
          <a:ln w="12600">
            <a:solidFill>
              <a:srgbClr val="ffffff"/>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1497" name=""/>
          <p:cNvSpPr/>
          <p:nvPr/>
        </p:nvSpPr>
        <p:spPr>
          <a:xfrm>
            <a:off x="5705640" y="34354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8" name=""/>
          <p:cNvSpPr/>
          <p:nvPr/>
        </p:nvSpPr>
        <p:spPr>
          <a:xfrm>
            <a:off x="3552840" y="34480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99" name=""/>
          <p:cNvSpPr txBox="1"/>
          <p:nvPr/>
        </p:nvSpPr>
        <p:spPr>
          <a:xfrm>
            <a:off x="4889520" y="750960"/>
            <a:ext cx="392904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Hole location and surface alignment.</a:t>
            </a:r>
            <a:endParaRPr b="0" lang="en-US" sz="2000" spc="-1" strike="noStrike">
              <a:solidFill>
                <a:srgbClr val="000000"/>
              </a:solidFill>
              <a:latin typeface="Arial"/>
            </a:endParaRPr>
          </a:p>
        </p:txBody>
      </p:sp>
      <p:sp>
        <p:nvSpPr>
          <p:cNvPr id="1500"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2"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503" name=""/>
          <p:cNvGrpSpPr/>
          <p:nvPr/>
        </p:nvGrpSpPr>
        <p:grpSpPr>
          <a:xfrm>
            <a:off x="560520" y="447840"/>
            <a:ext cx="3624120" cy="1190520"/>
            <a:chOff x="560520" y="447840"/>
            <a:chExt cx="3624120" cy="1190520"/>
          </a:xfrm>
        </p:grpSpPr>
        <p:sp>
          <p:nvSpPr>
            <p:cNvPr id="1504"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505"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0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7"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8"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6135840" y="3643200"/>
            <a:ext cx="18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6235560" y="255744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3340080" y="34354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3254400" y="3637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a:off x="3651120" y="3639960"/>
            <a:ext cx="1752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517" name=""/>
          <p:cNvSpPr/>
          <p:nvPr/>
        </p:nvSpPr>
        <p:spPr>
          <a:xfrm>
            <a:off x="3549600" y="3754440"/>
            <a:ext cx="0" cy="12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6585120" y="254808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9" name=""/>
          <p:cNvSpPr/>
          <p:nvPr/>
        </p:nvSpPr>
        <p:spPr>
          <a:xfrm>
            <a:off x="7893000" y="2548080"/>
            <a:ext cx="0" cy="320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a:off x="7893000" y="3276720"/>
            <a:ext cx="0" cy="363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txBox="1"/>
          <p:nvPr/>
        </p:nvSpPr>
        <p:spPr>
          <a:xfrm>
            <a:off x="7655040" y="2879640"/>
            <a:ext cx="431640" cy="42876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X</a:t>
            </a:r>
            <a:endParaRPr b="0" lang="en-US" sz="2000" spc="-1" strike="noStrike">
              <a:solidFill>
                <a:srgbClr val="000000"/>
              </a:solidFill>
              <a:latin typeface="Arial"/>
            </a:endParaRPr>
          </a:p>
        </p:txBody>
      </p:sp>
      <p:sp>
        <p:nvSpPr>
          <p:cNvPr id="1522" name=""/>
          <p:cNvSpPr/>
          <p:nvPr/>
        </p:nvSpPr>
        <p:spPr>
          <a:xfrm>
            <a:off x="5491080" y="34480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3" name=""/>
          <p:cNvSpPr/>
          <p:nvPr/>
        </p:nvSpPr>
        <p:spPr>
          <a:xfrm>
            <a:off x="5357880" y="3645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a:off x="569268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p:nvPr/>
        </p:nvSpPr>
        <p:spPr>
          <a:xfrm>
            <a:off x="5691240" y="360684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526" name=""/>
          <p:cNvSpPr/>
          <p:nvPr/>
        </p:nvSpPr>
        <p:spPr>
          <a:xfrm>
            <a:off x="5691240" y="3784680"/>
            <a:ext cx="0" cy="12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7" name=""/>
          <p:cNvSpPr/>
          <p:nvPr/>
        </p:nvSpPr>
        <p:spPr>
          <a:xfrm>
            <a:off x="5643720" y="3645000"/>
            <a:ext cx="93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5794200" y="3645000"/>
            <a:ext cx="3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541680" y="4840200"/>
            <a:ext cx="215748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0" name=""/>
          <p:cNvSpPr/>
          <p:nvPr/>
        </p:nvSpPr>
        <p:spPr>
          <a:xfrm>
            <a:off x="6478560" y="4840200"/>
            <a:ext cx="1220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1" name=""/>
          <p:cNvSpPr txBox="1"/>
          <p:nvPr/>
        </p:nvSpPr>
        <p:spPr>
          <a:xfrm>
            <a:off x="7683480" y="4567320"/>
            <a:ext cx="419040" cy="534960"/>
          </a:xfrm>
          <a:prstGeom prst="rect">
            <a:avLst/>
          </a:prstGeom>
          <a:noFill/>
          <a:ln w="0">
            <a:noFill/>
          </a:ln>
        </p:spPr>
        <p:txBody>
          <a:bodyPr lIns="0" rIns="0" tIns="0" bIns="0" anchor="t">
            <a:noAutofit/>
          </a:bodyPr>
          <a:p>
            <a:pPr algn="ctr">
              <a:lnSpc>
                <a:spcPct val="100000"/>
              </a:lnSpc>
            </a:pPr>
            <a:r>
              <a:rPr b="1" lang="en-US" sz="2700" spc="-1" strike="noStrike">
                <a:solidFill>
                  <a:srgbClr val="fd0000"/>
                </a:solidFill>
                <a:latin typeface="Times New Roman"/>
                <a:ea typeface="Times New Roman"/>
              </a:rPr>
              <a:t>?</a:t>
            </a:r>
            <a:endParaRPr b="0" lang="en-US" sz="2700" spc="-1" strike="noStrike">
              <a:solidFill>
                <a:srgbClr val="000000"/>
              </a:solidFill>
              <a:latin typeface="Arial"/>
            </a:endParaRPr>
          </a:p>
        </p:txBody>
      </p:sp>
      <p:sp>
        <p:nvSpPr>
          <p:cNvPr id="1532" name=""/>
          <p:cNvSpPr/>
          <p:nvPr/>
        </p:nvSpPr>
        <p:spPr>
          <a:xfrm>
            <a:off x="2995560" y="254952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3" name=""/>
          <p:cNvSpPr txBox="1"/>
          <p:nvPr/>
        </p:nvSpPr>
        <p:spPr>
          <a:xfrm>
            <a:off x="4307040" y="5343480"/>
            <a:ext cx="372600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wo points of contact on datum 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ne point of contact on datum B.</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Holes now in tolerance with datum C.</a:t>
            </a:r>
            <a:endParaRPr b="0" lang="en-US" sz="1800" spc="-1" strike="noStrike">
              <a:solidFill>
                <a:srgbClr val="000000"/>
              </a:solidFill>
              <a:latin typeface="Arial"/>
            </a:endParaRPr>
          </a:p>
          <a:p>
            <a:pPr>
              <a:lnSpc>
                <a:spcPct val="100000"/>
              </a:lnSpc>
            </a:pPr>
            <a:r>
              <a:rPr b="0" lang="en-US" sz="1800" spc="-1" strike="noStrike">
                <a:solidFill>
                  <a:srgbClr val="fafd00"/>
                </a:solidFill>
                <a:latin typeface="Times New Roman"/>
                <a:ea typeface="Times New Roman"/>
              </a:rPr>
              <a:t>May be out of tolerance with datum B.</a:t>
            </a:r>
            <a:endParaRPr b="0" lang="en-US" sz="1800" spc="-1" strike="noStrike">
              <a:solidFill>
                <a:srgbClr val="000000"/>
              </a:solidFill>
              <a:latin typeface="Arial"/>
            </a:endParaRPr>
          </a:p>
        </p:txBody>
      </p:sp>
      <p:sp>
        <p:nvSpPr>
          <p:cNvPr id="1534" name=""/>
          <p:cNvSpPr/>
          <p:nvPr/>
        </p:nvSpPr>
        <p:spPr>
          <a:xfrm>
            <a:off x="2981160" y="263844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5" name=""/>
          <p:cNvSpPr/>
          <p:nvPr/>
        </p:nvSpPr>
        <p:spPr>
          <a:xfrm flipH="1">
            <a:off x="6145200" y="2665440"/>
            <a:ext cx="320760" cy="20476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6" name=""/>
          <p:cNvSpPr/>
          <p:nvPr/>
        </p:nvSpPr>
        <p:spPr>
          <a:xfrm flipH="1">
            <a:off x="5524560" y="3676680"/>
            <a:ext cx="156960" cy="90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6167520" y="4570560"/>
            <a:ext cx="450720" cy="68040"/>
          </a:xfrm>
          <a:prstGeom prst="line">
            <a:avLst/>
          </a:prstGeom>
          <a:ln w="12600">
            <a:solidFill>
              <a:srgbClr val="ffffff"/>
            </a:solidFill>
            <a:round/>
            <a:headEnd len="med" type="triangle" w="me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1538" name=""/>
          <p:cNvSpPr/>
          <p:nvPr/>
        </p:nvSpPr>
        <p:spPr>
          <a:xfrm flipH="1" flipV="1">
            <a:off x="3429000" y="4114800"/>
            <a:ext cx="2124000" cy="3189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9" name=""/>
          <p:cNvSpPr/>
          <p:nvPr/>
        </p:nvSpPr>
        <p:spPr>
          <a:xfrm flipH="1" flipV="1">
            <a:off x="4660920" y="3487680"/>
            <a:ext cx="1162080" cy="17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flipH="1" flipV="1">
            <a:off x="4449600" y="3454560"/>
            <a:ext cx="100080" cy="10800"/>
          </a:xfrm>
          <a:prstGeom prst="line">
            <a:avLst/>
          </a:prstGeom>
          <a:ln w="12600">
            <a:solidFill>
              <a:srgbClr val="ffffff"/>
            </a:solidFill>
            <a:round/>
          </a:ln>
        </p:spPr>
        <p:style>
          <a:lnRef idx="0"/>
          <a:fillRef idx="0"/>
          <a:effectRef idx="0"/>
          <a:fontRef idx="minor"/>
        </p:style>
        <p:txBody>
          <a:bodyPr lIns="96120" rIns="96120" tIns="-40320" bIns="-40320" anchor="t">
            <a:noAutofit/>
          </a:bodyPr>
          <a:p>
            <a:endParaRPr b="0" lang="en-US" sz="1800" spc="-1" strike="noStrike">
              <a:solidFill>
                <a:srgbClr val="000000"/>
              </a:solidFill>
              <a:latin typeface="Arial"/>
            </a:endParaRPr>
          </a:p>
        </p:txBody>
      </p:sp>
      <p:sp>
        <p:nvSpPr>
          <p:cNvPr id="1541" name=""/>
          <p:cNvSpPr/>
          <p:nvPr/>
        </p:nvSpPr>
        <p:spPr>
          <a:xfrm flipH="1" flipV="1">
            <a:off x="3276720" y="3257640"/>
            <a:ext cx="103032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3381480" y="3111480"/>
            <a:ext cx="407880" cy="40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flipH="1">
            <a:off x="3608280" y="3022560"/>
            <a:ext cx="44640" cy="231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flipH="1">
            <a:off x="3586320" y="3287880"/>
            <a:ext cx="10800" cy="44280"/>
          </a:xfrm>
          <a:prstGeom prst="line">
            <a:avLst/>
          </a:prstGeom>
          <a:ln w="12600">
            <a:solidFill>
              <a:srgbClr val="ffffff"/>
            </a:solidFill>
            <a:round/>
          </a:ln>
        </p:spPr>
        <p:style>
          <a:lnRef idx="0"/>
          <a:fillRef idx="0"/>
          <a:effectRef idx="0"/>
          <a:fontRef idx="minor"/>
        </p:style>
        <p:txBody>
          <a:bodyPr lIns="96120" rIns="96120" tIns="-6840" bIns="-6840" anchor="t">
            <a:noAutofit/>
          </a:bodyPr>
          <a:p>
            <a:endParaRPr b="0" lang="en-US" sz="1800" spc="-1" strike="noStrike">
              <a:solidFill>
                <a:srgbClr val="000000"/>
              </a:solidFill>
              <a:latin typeface="Arial"/>
            </a:endParaRPr>
          </a:p>
        </p:txBody>
      </p:sp>
      <p:sp>
        <p:nvSpPr>
          <p:cNvPr id="1545" name=""/>
          <p:cNvSpPr/>
          <p:nvPr/>
        </p:nvSpPr>
        <p:spPr>
          <a:xfrm flipH="1">
            <a:off x="3408480" y="3398760"/>
            <a:ext cx="155520" cy="797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8"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549" name=""/>
          <p:cNvGrpSpPr/>
          <p:nvPr/>
        </p:nvGrpSpPr>
        <p:grpSpPr>
          <a:xfrm>
            <a:off x="560520" y="447840"/>
            <a:ext cx="3624120" cy="1190520"/>
            <a:chOff x="560520" y="447840"/>
            <a:chExt cx="3624120" cy="1190520"/>
          </a:xfrm>
        </p:grpSpPr>
        <p:sp>
          <p:nvSpPr>
            <p:cNvPr id="1550"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551"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52" name=""/>
          <p:cNvSpPr txBox="1"/>
          <p:nvPr/>
        </p:nvSpPr>
        <p:spPr>
          <a:xfrm>
            <a:off x="441360" y="2657520"/>
            <a:ext cx="8317080" cy="1143000"/>
          </a:xfrm>
          <a:prstGeom prst="rect">
            <a:avLst/>
          </a:prstGeom>
          <a:noFill/>
          <a:ln w="0">
            <a:noFill/>
          </a:ln>
        </p:spPr>
        <p:txBody>
          <a:bodyPr lIns="0" rIns="0" tIns="0" bIns="0" anchor="t">
            <a:noAutofit/>
          </a:bodyPr>
          <a:p>
            <a:pPr algn="ctr">
              <a:lnSpc>
                <a:spcPct val="100000"/>
              </a:lnSpc>
            </a:pPr>
            <a:r>
              <a:rPr b="0" lang="en-US" sz="5400" spc="-1" strike="noStrike">
                <a:solidFill>
                  <a:srgbClr val="fafd00"/>
                </a:solidFill>
                <a:latin typeface="Times New Roman"/>
                <a:ea typeface="Times New Roman"/>
              </a:rPr>
              <a:t>Inspector Number Three</a:t>
            </a:r>
            <a:endParaRPr b="0" lang="en-US" sz="5400" spc="-1" strike="noStrike">
              <a:solidFill>
                <a:srgbClr val="000000"/>
              </a:solidFill>
              <a:latin typeface="Arial"/>
            </a:endParaRPr>
          </a:p>
        </p:txBody>
      </p:sp>
      <p:sp>
        <p:nvSpPr>
          <p:cNvPr id="1553" name=""/>
          <p:cNvSpPr txBox="1"/>
          <p:nvPr/>
        </p:nvSpPr>
        <p:spPr>
          <a:xfrm>
            <a:off x="617400" y="4130640"/>
            <a:ext cx="7958160" cy="762120"/>
          </a:xfrm>
          <a:prstGeom prst="rect">
            <a:avLst/>
          </a:prstGeom>
          <a:noFill/>
          <a:ln w="0">
            <a:noFill/>
          </a:ln>
        </p:spPr>
        <p:txBody>
          <a:bodyPr lIns="0" rIns="0" tIns="0" bIns="0" anchor="t">
            <a:noAutofit/>
          </a:bodyPr>
          <a:p>
            <a:pPr algn="ctr">
              <a:lnSpc>
                <a:spcPct val="100000"/>
              </a:lnSpc>
            </a:pPr>
            <a:r>
              <a:rPr b="1" lang="en-US" sz="4400" spc="-1" strike="noStrike">
                <a:solidFill>
                  <a:srgbClr val="ffffff"/>
                </a:solidFill>
                <a:latin typeface="Times New Roman"/>
                <a:ea typeface="Times New Roman"/>
              </a:rPr>
              <a:t>(Inadvertently reverses the par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5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5"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6"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57" name=""/>
          <p:cNvGrpSpPr/>
          <p:nvPr/>
        </p:nvGrpSpPr>
        <p:grpSpPr>
          <a:xfrm>
            <a:off x="2778120" y="2782800"/>
            <a:ext cx="3497760" cy="1594080"/>
            <a:chOff x="2778120" y="2782800"/>
            <a:chExt cx="3497760" cy="1594080"/>
          </a:xfrm>
        </p:grpSpPr>
        <p:sp>
          <p:nvSpPr>
            <p:cNvPr id="1558" name=""/>
            <p:cNvSpPr/>
            <p:nvPr/>
          </p:nvSpPr>
          <p:spPr>
            <a:xfrm>
              <a:off x="3040200" y="3870360"/>
              <a:ext cx="190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9" name=""/>
            <p:cNvSpPr/>
            <p:nvPr/>
          </p:nvSpPr>
          <p:spPr>
            <a:xfrm>
              <a:off x="3290760" y="3876840"/>
              <a:ext cx="85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0" name=""/>
            <p:cNvSpPr/>
            <p:nvPr/>
          </p:nvSpPr>
          <p:spPr>
            <a:xfrm>
              <a:off x="3436920" y="3873600"/>
              <a:ext cx="279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335400" y="3583080"/>
              <a:ext cx="0" cy="198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a:off x="3338640" y="3840120"/>
              <a:ext cx="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563" name=""/>
            <p:cNvSpPr/>
            <p:nvPr/>
          </p:nvSpPr>
          <p:spPr>
            <a:xfrm>
              <a:off x="3335400" y="3987720"/>
              <a:ext cx="0" cy="227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4" name=""/>
            <p:cNvSpPr/>
            <p:nvPr/>
          </p:nvSpPr>
          <p:spPr>
            <a:xfrm>
              <a:off x="5143680" y="3878280"/>
              <a:ext cx="245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a:off x="5478480" y="3559320"/>
              <a:ext cx="0" cy="190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5477040" y="3840120"/>
              <a:ext cx="0" cy="82440"/>
            </a:xfrm>
            <a:prstGeom prst="line">
              <a:avLst/>
            </a:prstGeom>
            <a:ln w="12600">
              <a:solidFill>
                <a:srgbClr val="f2fefd"/>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567" name=""/>
            <p:cNvSpPr/>
            <p:nvPr/>
          </p:nvSpPr>
          <p:spPr>
            <a:xfrm>
              <a:off x="5477040" y="4017960"/>
              <a:ext cx="0" cy="2080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a:off x="5429160" y="3878280"/>
              <a:ext cx="93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9" name=""/>
            <p:cNvSpPr/>
            <p:nvPr/>
          </p:nvSpPr>
          <p:spPr>
            <a:xfrm>
              <a:off x="5580000" y="3878280"/>
              <a:ext cx="378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70" name=""/>
            <p:cNvGrpSpPr/>
            <p:nvPr/>
          </p:nvGrpSpPr>
          <p:grpSpPr>
            <a:xfrm>
              <a:off x="2778120" y="2782800"/>
              <a:ext cx="3497760" cy="1594080"/>
              <a:chOff x="2778120" y="2782800"/>
              <a:chExt cx="3497760" cy="1594080"/>
            </a:xfrm>
          </p:grpSpPr>
          <p:sp>
            <p:nvSpPr>
              <p:cNvPr id="1571" name=""/>
              <p:cNvSpPr/>
              <p:nvPr/>
            </p:nvSpPr>
            <p:spPr>
              <a:xfrm>
                <a:off x="6032520" y="279072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3137040" y="366876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573" name=""/>
              <p:cNvSpPr/>
              <p:nvPr/>
            </p:nvSpPr>
            <p:spPr>
              <a:xfrm>
                <a:off x="5288040" y="368136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574" name=""/>
              <p:cNvSpPr/>
              <p:nvPr/>
            </p:nvSpPr>
            <p:spPr>
              <a:xfrm>
                <a:off x="2792520" y="278280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2778120" y="287172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576" name=""/>
          <p:cNvSpPr txBox="1"/>
          <p:nvPr/>
        </p:nvSpPr>
        <p:spPr>
          <a:xfrm>
            <a:off x="4111560" y="5433840"/>
            <a:ext cx="4826160" cy="100656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The first two inspectors oriented the part as</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shown in white.  The next inspector turns the </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part over.</a:t>
            </a:r>
            <a:endParaRPr b="0" lang="en-US" sz="2000" spc="-1" strike="noStrike">
              <a:solidFill>
                <a:srgbClr val="000000"/>
              </a:solidFill>
              <a:latin typeface="Arial"/>
            </a:endParaRPr>
          </a:p>
        </p:txBody>
      </p:sp>
      <p:sp>
        <p:nvSpPr>
          <p:cNvPr id="1577"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8"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9"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580" name=""/>
          <p:cNvGrpSpPr/>
          <p:nvPr/>
        </p:nvGrpSpPr>
        <p:grpSpPr>
          <a:xfrm>
            <a:off x="560520" y="447840"/>
            <a:ext cx="3624120" cy="1190520"/>
            <a:chOff x="560520" y="447840"/>
            <a:chExt cx="3624120" cy="1190520"/>
          </a:xfrm>
        </p:grpSpPr>
        <p:sp>
          <p:nvSpPr>
            <p:cNvPr id="1581"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582"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8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5"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86" name=""/>
          <p:cNvGrpSpPr/>
          <p:nvPr/>
        </p:nvGrpSpPr>
        <p:grpSpPr>
          <a:xfrm>
            <a:off x="2778120" y="2782800"/>
            <a:ext cx="3497760" cy="1594080"/>
            <a:chOff x="2778120" y="2782800"/>
            <a:chExt cx="3497760" cy="1594080"/>
          </a:xfrm>
        </p:grpSpPr>
        <p:sp>
          <p:nvSpPr>
            <p:cNvPr id="1587" name=""/>
            <p:cNvSpPr/>
            <p:nvPr/>
          </p:nvSpPr>
          <p:spPr>
            <a:xfrm>
              <a:off x="3040200" y="3870360"/>
              <a:ext cx="190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8" name=""/>
            <p:cNvSpPr/>
            <p:nvPr/>
          </p:nvSpPr>
          <p:spPr>
            <a:xfrm>
              <a:off x="3290760" y="3876840"/>
              <a:ext cx="85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9" name=""/>
            <p:cNvSpPr/>
            <p:nvPr/>
          </p:nvSpPr>
          <p:spPr>
            <a:xfrm>
              <a:off x="3436920" y="3873600"/>
              <a:ext cx="279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0" name=""/>
            <p:cNvSpPr/>
            <p:nvPr/>
          </p:nvSpPr>
          <p:spPr>
            <a:xfrm>
              <a:off x="3335400" y="3583080"/>
              <a:ext cx="0" cy="198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a:off x="3338640" y="3840120"/>
              <a:ext cx="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592" name=""/>
            <p:cNvSpPr/>
            <p:nvPr/>
          </p:nvSpPr>
          <p:spPr>
            <a:xfrm>
              <a:off x="3335400" y="3987720"/>
              <a:ext cx="0" cy="227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5143680" y="3878280"/>
              <a:ext cx="245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4" name=""/>
            <p:cNvSpPr/>
            <p:nvPr/>
          </p:nvSpPr>
          <p:spPr>
            <a:xfrm>
              <a:off x="5478480" y="3559320"/>
              <a:ext cx="0" cy="190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5" name=""/>
            <p:cNvSpPr/>
            <p:nvPr/>
          </p:nvSpPr>
          <p:spPr>
            <a:xfrm>
              <a:off x="5477040" y="3840120"/>
              <a:ext cx="0" cy="82440"/>
            </a:xfrm>
            <a:prstGeom prst="line">
              <a:avLst/>
            </a:prstGeom>
            <a:ln w="12600">
              <a:solidFill>
                <a:srgbClr val="f2fefd"/>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596" name=""/>
            <p:cNvSpPr/>
            <p:nvPr/>
          </p:nvSpPr>
          <p:spPr>
            <a:xfrm>
              <a:off x="5477040" y="4017960"/>
              <a:ext cx="0" cy="2080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7" name=""/>
            <p:cNvSpPr/>
            <p:nvPr/>
          </p:nvSpPr>
          <p:spPr>
            <a:xfrm>
              <a:off x="5429160" y="3878280"/>
              <a:ext cx="93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8" name=""/>
            <p:cNvSpPr/>
            <p:nvPr/>
          </p:nvSpPr>
          <p:spPr>
            <a:xfrm>
              <a:off x="5580000" y="3878280"/>
              <a:ext cx="378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99" name=""/>
            <p:cNvGrpSpPr/>
            <p:nvPr/>
          </p:nvGrpSpPr>
          <p:grpSpPr>
            <a:xfrm>
              <a:off x="2778120" y="2782800"/>
              <a:ext cx="3497760" cy="1594080"/>
              <a:chOff x="2778120" y="2782800"/>
              <a:chExt cx="3497760" cy="1594080"/>
            </a:xfrm>
          </p:grpSpPr>
          <p:sp>
            <p:nvSpPr>
              <p:cNvPr id="1600" name=""/>
              <p:cNvSpPr/>
              <p:nvPr/>
            </p:nvSpPr>
            <p:spPr>
              <a:xfrm>
                <a:off x="6032520" y="2790720"/>
                <a:ext cx="243360" cy="1541880"/>
              </a:xfrm>
              <a:custGeom>
                <a:avLst/>
                <a:gdLst/>
                <a:ahLst/>
                <a:rect l="0" t="0" r="r" b="b"/>
                <a:pathLst>
                  <a:path fill="none" w="676" h="4283">
                    <a:moveTo>
                      <a:pt x="676" y="0"/>
                    </a:moveTo>
                    <a:lnTo>
                      <a:pt x="672" y="180"/>
                    </a:lnTo>
                    <a:lnTo>
                      <a:pt x="490" y="357"/>
                    </a:lnTo>
                    <a:lnTo>
                      <a:pt x="424" y="537"/>
                    </a:lnTo>
                    <a:lnTo>
                      <a:pt x="428" y="709"/>
                    </a:lnTo>
                    <a:lnTo>
                      <a:pt x="437" y="895"/>
                    </a:lnTo>
                    <a:lnTo>
                      <a:pt x="367" y="1076"/>
                    </a:lnTo>
                    <a:lnTo>
                      <a:pt x="318" y="1253"/>
                    </a:lnTo>
                    <a:lnTo>
                      <a:pt x="309" y="1429"/>
                    </a:lnTo>
                    <a:lnTo>
                      <a:pt x="371" y="1667"/>
                    </a:lnTo>
                    <a:lnTo>
                      <a:pt x="375" y="1848"/>
                    </a:lnTo>
                    <a:lnTo>
                      <a:pt x="252" y="2025"/>
                    </a:lnTo>
                    <a:lnTo>
                      <a:pt x="252" y="2210"/>
                    </a:lnTo>
                    <a:lnTo>
                      <a:pt x="252" y="2391"/>
                    </a:lnTo>
                    <a:lnTo>
                      <a:pt x="247" y="2567"/>
                    </a:lnTo>
                    <a:lnTo>
                      <a:pt x="252" y="2748"/>
                    </a:lnTo>
                    <a:lnTo>
                      <a:pt x="252" y="2977"/>
                    </a:lnTo>
                    <a:lnTo>
                      <a:pt x="190" y="3149"/>
                    </a:lnTo>
                    <a:lnTo>
                      <a:pt x="66" y="3335"/>
                    </a:lnTo>
                    <a:lnTo>
                      <a:pt x="70" y="3516"/>
                    </a:lnTo>
                    <a:lnTo>
                      <a:pt x="13" y="3692"/>
                    </a:lnTo>
                    <a:lnTo>
                      <a:pt x="4" y="3878"/>
                    </a:lnTo>
                    <a:lnTo>
                      <a:pt x="4" y="4058"/>
                    </a:lnTo>
                    <a:lnTo>
                      <a:pt x="4" y="4235"/>
                    </a:lnTo>
                    <a:lnTo>
                      <a:pt x="0" y="4283"/>
                    </a:lnTo>
                    <a:lnTo>
                      <a:pt x="17" y="42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01" name=""/>
              <p:cNvSpPr/>
              <p:nvPr/>
            </p:nvSpPr>
            <p:spPr>
              <a:xfrm>
                <a:off x="3137040" y="366876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02" name=""/>
              <p:cNvSpPr/>
              <p:nvPr/>
            </p:nvSpPr>
            <p:spPr>
              <a:xfrm>
                <a:off x="5288040" y="368136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2792520" y="2782800"/>
                <a:ext cx="3472200" cy="127440"/>
              </a:xfrm>
              <a:custGeom>
                <a:avLst/>
                <a:gdLst/>
                <a:ahLst/>
                <a:rect l="0" t="0" r="r" b="b"/>
                <a:pathLst>
                  <a:path fill="none" w="9645" h="354">
                    <a:moveTo>
                      <a:pt x="0" y="234"/>
                    </a:moveTo>
                    <a:lnTo>
                      <a:pt x="268" y="172"/>
                    </a:lnTo>
                    <a:lnTo>
                      <a:pt x="445" y="172"/>
                    </a:lnTo>
                    <a:lnTo>
                      <a:pt x="626" y="172"/>
                    </a:lnTo>
                    <a:lnTo>
                      <a:pt x="802" y="172"/>
                    </a:lnTo>
                    <a:lnTo>
                      <a:pt x="983" y="115"/>
                    </a:lnTo>
                    <a:lnTo>
                      <a:pt x="1159" y="115"/>
                    </a:lnTo>
                    <a:lnTo>
                      <a:pt x="1340" y="115"/>
                    </a:lnTo>
                    <a:lnTo>
                      <a:pt x="1516" y="52"/>
                    </a:lnTo>
                    <a:lnTo>
                      <a:pt x="1715" y="0"/>
                    </a:lnTo>
                    <a:lnTo>
                      <a:pt x="1874" y="52"/>
                    </a:lnTo>
                    <a:lnTo>
                      <a:pt x="2054" y="172"/>
                    </a:lnTo>
                    <a:lnTo>
                      <a:pt x="2231" y="172"/>
                    </a:lnTo>
                    <a:lnTo>
                      <a:pt x="2412" y="234"/>
                    </a:lnTo>
                    <a:lnTo>
                      <a:pt x="2588" y="293"/>
                    </a:lnTo>
                    <a:lnTo>
                      <a:pt x="2826" y="354"/>
                    </a:lnTo>
                    <a:lnTo>
                      <a:pt x="3007" y="354"/>
                    </a:lnTo>
                    <a:lnTo>
                      <a:pt x="3183" y="354"/>
                    </a:lnTo>
                    <a:lnTo>
                      <a:pt x="3364" y="293"/>
                    </a:lnTo>
                    <a:lnTo>
                      <a:pt x="3602" y="234"/>
                    </a:lnTo>
                    <a:lnTo>
                      <a:pt x="3779" y="234"/>
                    </a:lnTo>
                    <a:lnTo>
                      <a:pt x="3959" y="234"/>
                    </a:lnTo>
                    <a:lnTo>
                      <a:pt x="4136" y="234"/>
                    </a:lnTo>
                    <a:lnTo>
                      <a:pt x="4317" y="234"/>
                    </a:lnTo>
                    <a:lnTo>
                      <a:pt x="4493" y="172"/>
                    </a:lnTo>
                    <a:lnTo>
                      <a:pt x="4674" y="172"/>
                    </a:lnTo>
                    <a:lnTo>
                      <a:pt x="4851" y="172"/>
                    </a:lnTo>
                    <a:lnTo>
                      <a:pt x="5208" y="172"/>
                    </a:lnTo>
                    <a:lnTo>
                      <a:pt x="5424" y="79"/>
                    </a:lnTo>
                    <a:lnTo>
                      <a:pt x="5557" y="35"/>
                    </a:lnTo>
                    <a:lnTo>
                      <a:pt x="5716" y="35"/>
                    </a:lnTo>
                    <a:lnTo>
                      <a:pt x="5874" y="106"/>
                    </a:lnTo>
                    <a:lnTo>
                      <a:pt x="6161" y="115"/>
                    </a:lnTo>
                    <a:lnTo>
                      <a:pt x="6342" y="115"/>
                    </a:lnTo>
                    <a:lnTo>
                      <a:pt x="6580" y="234"/>
                    </a:lnTo>
                    <a:lnTo>
                      <a:pt x="6756" y="293"/>
                    </a:lnTo>
                    <a:lnTo>
                      <a:pt x="6937" y="293"/>
                    </a:lnTo>
                    <a:lnTo>
                      <a:pt x="7113" y="293"/>
                    </a:lnTo>
                    <a:lnTo>
                      <a:pt x="7294" y="234"/>
                    </a:lnTo>
                    <a:lnTo>
                      <a:pt x="7532" y="115"/>
                    </a:lnTo>
                    <a:lnTo>
                      <a:pt x="7709" y="115"/>
                    </a:lnTo>
                    <a:lnTo>
                      <a:pt x="7876" y="106"/>
                    </a:lnTo>
                    <a:lnTo>
                      <a:pt x="8128" y="172"/>
                    </a:lnTo>
                    <a:lnTo>
                      <a:pt x="8366" y="234"/>
                    </a:lnTo>
                    <a:lnTo>
                      <a:pt x="8494" y="164"/>
                    </a:lnTo>
                    <a:lnTo>
                      <a:pt x="8674" y="115"/>
                    </a:lnTo>
                    <a:lnTo>
                      <a:pt x="8824" y="133"/>
                    </a:lnTo>
                    <a:lnTo>
                      <a:pt x="9001" y="186"/>
                    </a:lnTo>
                    <a:lnTo>
                      <a:pt x="9155" y="146"/>
                    </a:lnTo>
                    <a:lnTo>
                      <a:pt x="9376" y="35"/>
                    </a:lnTo>
                    <a:lnTo>
                      <a:pt x="9645" y="22"/>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04" name=""/>
              <p:cNvSpPr/>
              <p:nvPr/>
            </p:nvSpPr>
            <p:spPr>
              <a:xfrm>
                <a:off x="2778120" y="2871720"/>
                <a:ext cx="3248280" cy="1505160"/>
              </a:xfrm>
              <a:custGeom>
                <a:avLst/>
                <a:gdLst/>
                <a:ahLst/>
                <a:rect l="0" t="0" r="r" b="b"/>
                <a:pathLst>
                  <a:path fill="none" w="9023" h="4181">
                    <a:moveTo>
                      <a:pt x="39" y="0"/>
                    </a:moveTo>
                    <a:lnTo>
                      <a:pt x="52" y="39"/>
                    </a:lnTo>
                    <a:lnTo>
                      <a:pt x="79" y="105"/>
                    </a:lnTo>
                    <a:lnTo>
                      <a:pt x="92" y="145"/>
                    </a:lnTo>
                    <a:lnTo>
                      <a:pt x="105" y="185"/>
                    </a:lnTo>
                    <a:lnTo>
                      <a:pt x="119" y="238"/>
                    </a:lnTo>
                    <a:lnTo>
                      <a:pt x="145" y="277"/>
                    </a:lnTo>
                    <a:lnTo>
                      <a:pt x="158" y="317"/>
                    </a:lnTo>
                    <a:lnTo>
                      <a:pt x="171" y="357"/>
                    </a:lnTo>
                    <a:lnTo>
                      <a:pt x="171" y="396"/>
                    </a:lnTo>
                    <a:lnTo>
                      <a:pt x="171" y="436"/>
                    </a:lnTo>
                    <a:lnTo>
                      <a:pt x="171" y="489"/>
                    </a:lnTo>
                    <a:lnTo>
                      <a:pt x="171" y="542"/>
                    </a:lnTo>
                    <a:lnTo>
                      <a:pt x="158" y="582"/>
                    </a:lnTo>
                    <a:lnTo>
                      <a:pt x="145" y="621"/>
                    </a:lnTo>
                    <a:lnTo>
                      <a:pt x="132" y="687"/>
                    </a:lnTo>
                    <a:lnTo>
                      <a:pt x="119" y="754"/>
                    </a:lnTo>
                    <a:lnTo>
                      <a:pt x="105" y="793"/>
                    </a:lnTo>
                    <a:lnTo>
                      <a:pt x="79" y="833"/>
                    </a:lnTo>
                    <a:lnTo>
                      <a:pt x="66" y="886"/>
                    </a:lnTo>
                    <a:lnTo>
                      <a:pt x="52" y="926"/>
                    </a:lnTo>
                    <a:lnTo>
                      <a:pt x="39" y="965"/>
                    </a:lnTo>
                    <a:lnTo>
                      <a:pt x="26" y="1005"/>
                    </a:lnTo>
                    <a:lnTo>
                      <a:pt x="13" y="1071"/>
                    </a:lnTo>
                    <a:lnTo>
                      <a:pt x="0" y="1150"/>
                    </a:lnTo>
                    <a:lnTo>
                      <a:pt x="0" y="1203"/>
                    </a:lnTo>
                    <a:lnTo>
                      <a:pt x="0" y="1243"/>
                    </a:lnTo>
                    <a:lnTo>
                      <a:pt x="0" y="1283"/>
                    </a:lnTo>
                    <a:lnTo>
                      <a:pt x="0" y="1322"/>
                    </a:lnTo>
                    <a:lnTo>
                      <a:pt x="0" y="1428"/>
                    </a:lnTo>
                    <a:lnTo>
                      <a:pt x="0" y="1468"/>
                    </a:lnTo>
                    <a:lnTo>
                      <a:pt x="13" y="1521"/>
                    </a:lnTo>
                    <a:lnTo>
                      <a:pt x="13" y="1561"/>
                    </a:lnTo>
                    <a:lnTo>
                      <a:pt x="26" y="1627"/>
                    </a:lnTo>
                    <a:lnTo>
                      <a:pt x="39" y="1666"/>
                    </a:lnTo>
                    <a:lnTo>
                      <a:pt x="39" y="1733"/>
                    </a:lnTo>
                    <a:lnTo>
                      <a:pt x="52" y="1772"/>
                    </a:lnTo>
                    <a:lnTo>
                      <a:pt x="52" y="1812"/>
                    </a:lnTo>
                    <a:lnTo>
                      <a:pt x="66" y="1891"/>
                    </a:lnTo>
                    <a:lnTo>
                      <a:pt x="79" y="1944"/>
                    </a:lnTo>
                    <a:lnTo>
                      <a:pt x="79" y="1984"/>
                    </a:lnTo>
                    <a:lnTo>
                      <a:pt x="92" y="2024"/>
                    </a:lnTo>
                    <a:lnTo>
                      <a:pt x="92" y="2063"/>
                    </a:lnTo>
                    <a:lnTo>
                      <a:pt x="92" y="2117"/>
                    </a:lnTo>
                    <a:lnTo>
                      <a:pt x="105" y="2183"/>
                    </a:lnTo>
                    <a:lnTo>
                      <a:pt x="105" y="2276"/>
                    </a:lnTo>
                    <a:lnTo>
                      <a:pt x="105" y="2342"/>
                    </a:lnTo>
                    <a:lnTo>
                      <a:pt x="92" y="2395"/>
                    </a:lnTo>
                    <a:lnTo>
                      <a:pt x="92" y="2435"/>
                    </a:lnTo>
                    <a:lnTo>
                      <a:pt x="66" y="2488"/>
                    </a:lnTo>
                    <a:lnTo>
                      <a:pt x="52" y="2541"/>
                    </a:lnTo>
                    <a:lnTo>
                      <a:pt x="39" y="2593"/>
                    </a:lnTo>
                    <a:lnTo>
                      <a:pt x="39" y="2633"/>
                    </a:lnTo>
                    <a:lnTo>
                      <a:pt x="26" y="2699"/>
                    </a:lnTo>
                    <a:lnTo>
                      <a:pt x="13" y="2739"/>
                    </a:lnTo>
                    <a:lnTo>
                      <a:pt x="13" y="2805"/>
                    </a:lnTo>
                    <a:lnTo>
                      <a:pt x="0" y="2871"/>
                    </a:lnTo>
                    <a:lnTo>
                      <a:pt x="0" y="2937"/>
                    </a:lnTo>
                    <a:lnTo>
                      <a:pt x="0" y="3004"/>
                    </a:lnTo>
                    <a:lnTo>
                      <a:pt x="0" y="3043"/>
                    </a:lnTo>
                    <a:lnTo>
                      <a:pt x="0" y="3083"/>
                    </a:lnTo>
                    <a:lnTo>
                      <a:pt x="13" y="3123"/>
                    </a:lnTo>
                    <a:lnTo>
                      <a:pt x="13" y="3176"/>
                    </a:lnTo>
                    <a:lnTo>
                      <a:pt x="52" y="3215"/>
                    </a:lnTo>
                    <a:lnTo>
                      <a:pt x="66" y="3295"/>
                    </a:lnTo>
                    <a:lnTo>
                      <a:pt x="79" y="3334"/>
                    </a:lnTo>
                    <a:lnTo>
                      <a:pt x="79" y="3453"/>
                    </a:lnTo>
                    <a:lnTo>
                      <a:pt x="79" y="3506"/>
                    </a:lnTo>
                    <a:lnTo>
                      <a:pt x="79" y="3546"/>
                    </a:lnTo>
                    <a:lnTo>
                      <a:pt x="79" y="3612"/>
                    </a:lnTo>
                    <a:lnTo>
                      <a:pt x="79" y="3652"/>
                    </a:lnTo>
                    <a:lnTo>
                      <a:pt x="66" y="3731"/>
                    </a:lnTo>
                    <a:lnTo>
                      <a:pt x="52" y="3784"/>
                    </a:lnTo>
                    <a:lnTo>
                      <a:pt x="52" y="3837"/>
                    </a:lnTo>
                    <a:lnTo>
                      <a:pt x="39" y="3877"/>
                    </a:lnTo>
                    <a:lnTo>
                      <a:pt x="39" y="3916"/>
                    </a:lnTo>
                    <a:lnTo>
                      <a:pt x="39" y="3956"/>
                    </a:lnTo>
                    <a:lnTo>
                      <a:pt x="26" y="3996"/>
                    </a:lnTo>
                    <a:lnTo>
                      <a:pt x="26" y="4062"/>
                    </a:lnTo>
                    <a:lnTo>
                      <a:pt x="52" y="4035"/>
                    </a:lnTo>
                    <a:lnTo>
                      <a:pt x="211" y="4049"/>
                    </a:lnTo>
                    <a:lnTo>
                      <a:pt x="251" y="4049"/>
                    </a:lnTo>
                    <a:lnTo>
                      <a:pt x="343" y="4049"/>
                    </a:lnTo>
                    <a:lnTo>
                      <a:pt x="449" y="4035"/>
                    </a:lnTo>
                    <a:lnTo>
                      <a:pt x="489" y="4035"/>
                    </a:lnTo>
                    <a:lnTo>
                      <a:pt x="529" y="4009"/>
                    </a:lnTo>
                    <a:lnTo>
                      <a:pt x="568" y="4009"/>
                    </a:lnTo>
                    <a:lnTo>
                      <a:pt x="608" y="3969"/>
                    </a:lnTo>
                    <a:lnTo>
                      <a:pt x="674" y="3930"/>
                    </a:lnTo>
                    <a:lnTo>
                      <a:pt x="714" y="3916"/>
                    </a:lnTo>
                    <a:lnTo>
                      <a:pt x="754" y="3916"/>
                    </a:lnTo>
                    <a:lnTo>
                      <a:pt x="820" y="3930"/>
                    </a:lnTo>
                    <a:lnTo>
                      <a:pt x="859" y="3943"/>
                    </a:lnTo>
                    <a:lnTo>
                      <a:pt x="939" y="3956"/>
                    </a:lnTo>
                    <a:lnTo>
                      <a:pt x="992" y="3969"/>
                    </a:lnTo>
                    <a:lnTo>
                      <a:pt x="1045" y="3982"/>
                    </a:lnTo>
                    <a:lnTo>
                      <a:pt x="1137" y="3982"/>
                    </a:lnTo>
                    <a:lnTo>
                      <a:pt x="1203" y="3996"/>
                    </a:lnTo>
                    <a:lnTo>
                      <a:pt x="1270" y="3996"/>
                    </a:lnTo>
                    <a:lnTo>
                      <a:pt x="1336" y="4009"/>
                    </a:lnTo>
                    <a:lnTo>
                      <a:pt x="1415" y="4022"/>
                    </a:lnTo>
                    <a:lnTo>
                      <a:pt x="1481" y="4035"/>
                    </a:lnTo>
                    <a:lnTo>
                      <a:pt x="1521" y="4035"/>
                    </a:lnTo>
                    <a:lnTo>
                      <a:pt x="1587" y="4035"/>
                    </a:lnTo>
                    <a:lnTo>
                      <a:pt x="1759" y="4035"/>
                    </a:lnTo>
                    <a:lnTo>
                      <a:pt x="1825" y="4049"/>
                    </a:lnTo>
                    <a:lnTo>
                      <a:pt x="1905" y="4062"/>
                    </a:lnTo>
                    <a:lnTo>
                      <a:pt x="1957" y="4075"/>
                    </a:lnTo>
                    <a:lnTo>
                      <a:pt x="1997" y="4075"/>
                    </a:lnTo>
                    <a:lnTo>
                      <a:pt x="2090" y="4075"/>
                    </a:lnTo>
                    <a:lnTo>
                      <a:pt x="2129" y="4075"/>
                    </a:lnTo>
                    <a:lnTo>
                      <a:pt x="2196" y="4088"/>
                    </a:lnTo>
                    <a:lnTo>
                      <a:pt x="2368" y="4088"/>
                    </a:lnTo>
                    <a:lnTo>
                      <a:pt x="2434" y="4088"/>
                    </a:lnTo>
                    <a:lnTo>
                      <a:pt x="2500" y="4075"/>
                    </a:lnTo>
                    <a:lnTo>
                      <a:pt x="2540" y="4075"/>
                    </a:lnTo>
                    <a:lnTo>
                      <a:pt x="2579" y="4075"/>
                    </a:lnTo>
                    <a:lnTo>
                      <a:pt x="2659" y="4062"/>
                    </a:lnTo>
                    <a:lnTo>
                      <a:pt x="2711" y="4062"/>
                    </a:lnTo>
                    <a:lnTo>
                      <a:pt x="2831" y="4062"/>
                    </a:lnTo>
                    <a:lnTo>
                      <a:pt x="2870" y="4062"/>
                    </a:lnTo>
                    <a:lnTo>
                      <a:pt x="2923" y="4062"/>
                    </a:lnTo>
                    <a:lnTo>
                      <a:pt x="3042" y="4049"/>
                    </a:lnTo>
                    <a:lnTo>
                      <a:pt x="3201" y="4049"/>
                    </a:lnTo>
                    <a:lnTo>
                      <a:pt x="3267" y="4049"/>
                    </a:lnTo>
                    <a:lnTo>
                      <a:pt x="3346" y="4049"/>
                    </a:lnTo>
                    <a:lnTo>
                      <a:pt x="3413" y="4062"/>
                    </a:lnTo>
                    <a:lnTo>
                      <a:pt x="3981" y="4128"/>
                    </a:lnTo>
                    <a:lnTo>
                      <a:pt x="4048" y="4128"/>
                    </a:lnTo>
                    <a:lnTo>
                      <a:pt x="4180" y="4141"/>
                    </a:lnTo>
                    <a:lnTo>
                      <a:pt x="4220" y="4154"/>
                    </a:lnTo>
                    <a:lnTo>
                      <a:pt x="4259" y="4154"/>
                    </a:lnTo>
                    <a:lnTo>
                      <a:pt x="4339" y="4181"/>
                    </a:lnTo>
                    <a:lnTo>
                      <a:pt x="4378" y="4181"/>
                    </a:lnTo>
                    <a:lnTo>
                      <a:pt x="4418" y="4181"/>
                    </a:lnTo>
                    <a:lnTo>
                      <a:pt x="4512" y="4181"/>
                    </a:lnTo>
                    <a:lnTo>
                      <a:pt x="4565" y="4181"/>
                    </a:lnTo>
                    <a:lnTo>
                      <a:pt x="4631" y="4154"/>
                    </a:lnTo>
                    <a:lnTo>
                      <a:pt x="4697" y="4141"/>
                    </a:lnTo>
                    <a:lnTo>
                      <a:pt x="4763" y="4128"/>
                    </a:lnTo>
                    <a:lnTo>
                      <a:pt x="4869" y="4102"/>
                    </a:lnTo>
                    <a:lnTo>
                      <a:pt x="4935" y="4102"/>
                    </a:lnTo>
                    <a:lnTo>
                      <a:pt x="5107" y="4102"/>
                    </a:lnTo>
                    <a:lnTo>
                      <a:pt x="5173" y="4102"/>
                    </a:lnTo>
                    <a:lnTo>
                      <a:pt x="5266" y="4088"/>
                    </a:lnTo>
                    <a:lnTo>
                      <a:pt x="5438" y="4088"/>
                    </a:lnTo>
                    <a:lnTo>
                      <a:pt x="5504" y="4102"/>
                    </a:lnTo>
                    <a:lnTo>
                      <a:pt x="5557" y="4102"/>
                    </a:lnTo>
                    <a:lnTo>
                      <a:pt x="5610" y="4102"/>
                    </a:lnTo>
                    <a:lnTo>
                      <a:pt x="5649" y="4088"/>
                    </a:lnTo>
                    <a:lnTo>
                      <a:pt x="5689" y="4075"/>
                    </a:lnTo>
                    <a:lnTo>
                      <a:pt x="5821" y="4062"/>
                    </a:lnTo>
                    <a:lnTo>
                      <a:pt x="5980" y="4049"/>
                    </a:lnTo>
                    <a:lnTo>
                      <a:pt x="6073" y="4049"/>
                    </a:lnTo>
                    <a:lnTo>
                      <a:pt x="6231" y="4049"/>
                    </a:lnTo>
                    <a:lnTo>
                      <a:pt x="6443" y="4075"/>
                    </a:lnTo>
                    <a:lnTo>
                      <a:pt x="6509" y="4075"/>
                    </a:lnTo>
                    <a:lnTo>
                      <a:pt x="6549" y="4075"/>
                    </a:lnTo>
                    <a:lnTo>
                      <a:pt x="6602" y="4075"/>
                    </a:lnTo>
                    <a:lnTo>
                      <a:pt x="6655" y="4075"/>
                    </a:lnTo>
                    <a:lnTo>
                      <a:pt x="6721" y="4088"/>
                    </a:lnTo>
                    <a:lnTo>
                      <a:pt x="6787" y="4088"/>
                    </a:lnTo>
                    <a:lnTo>
                      <a:pt x="6840" y="4088"/>
                    </a:lnTo>
                    <a:lnTo>
                      <a:pt x="6880" y="4088"/>
                    </a:lnTo>
                    <a:lnTo>
                      <a:pt x="6972" y="4075"/>
                    </a:lnTo>
                    <a:lnTo>
                      <a:pt x="7038" y="4049"/>
                    </a:lnTo>
                    <a:lnTo>
                      <a:pt x="7078" y="4049"/>
                    </a:lnTo>
                    <a:lnTo>
                      <a:pt x="7144" y="4035"/>
                    </a:lnTo>
                    <a:lnTo>
                      <a:pt x="7184" y="4035"/>
                    </a:lnTo>
                    <a:lnTo>
                      <a:pt x="7250" y="4022"/>
                    </a:lnTo>
                    <a:lnTo>
                      <a:pt x="7290" y="4022"/>
                    </a:lnTo>
                    <a:lnTo>
                      <a:pt x="7329" y="4022"/>
                    </a:lnTo>
                    <a:lnTo>
                      <a:pt x="7369" y="4009"/>
                    </a:lnTo>
                    <a:lnTo>
                      <a:pt x="7449" y="4009"/>
                    </a:lnTo>
                    <a:lnTo>
                      <a:pt x="7607" y="4009"/>
                    </a:lnTo>
                    <a:lnTo>
                      <a:pt x="7647" y="4009"/>
                    </a:lnTo>
                    <a:lnTo>
                      <a:pt x="7687" y="4009"/>
                    </a:lnTo>
                    <a:lnTo>
                      <a:pt x="7779" y="4022"/>
                    </a:lnTo>
                    <a:lnTo>
                      <a:pt x="7819" y="4022"/>
                    </a:lnTo>
                    <a:lnTo>
                      <a:pt x="7872" y="4035"/>
                    </a:lnTo>
                    <a:lnTo>
                      <a:pt x="7912" y="4049"/>
                    </a:lnTo>
                    <a:lnTo>
                      <a:pt x="7951" y="4049"/>
                    </a:lnTo>
                    <a:lnTo>
                      <a:pt x="8017" y="4049"/>
                    </a:lnTo>
                    <a:lnTo>
                      <a:pt x="8084" y="4062"/>
                    </a:lnTo>
                    <a:lnTo>
                      <a:pt x="8163" y="4062"/>
                    </a:lnTo>
                    <a:lnTo>
                      <a:pt x="8203" y="4062"/>
                    </a:lnTo>
                    <a:lnTo>
                      <a:pt x="8256" y="4062"/>
                    </a:lnTo>
                    <a:lnTo>
                      <a:pt x="8295" y="4062"/>
                    </a:lnTo>
                    <a:lnTo>
                      <a:pt x="8335" y="4062"/>
                    </a:lnTo>
                    <a:lnTo>
                      <a:pt x="8401" y="4062"/>
                    </a:lnTo>
                    <a:lnTo>
                      <a:pt x="8454" y="4062"/>
                    </a:lnTo>
                    <a:lnTo>
                      <a:pt x="8520" y="4049"/>
                    </a:lnTo>
                    <a:lnTo>
                      <a:pt x="8560" y="4049"/>
                    </a:lnTo>
                    <a:lnTo>
                      <a:pt x="8599" y="4049"/>
                    </a:lnTo>
                    <a:lnTo>
                      <a:pt x="8666" y="4049"/>
                    </a:lnTo>
                    <a:lnTo>
                      <a:pt x="8705" y="4049"/>
                    </a:lnTo>
                    <a:lnTo>
                      <a:pt x="8771" y="4049"/>
                    </a:lnTo>
                    <a:lnTo>
                      <a:pt x="8838" y="4049"/>
                    </a:lnTo>
                    <a:lnTo>
                      <a:pt x="8877" y="4049"/>
                    </a:lnTo>
                    <a:lnTo>
                      <a:pt x="8917" y="4049"/>
                    </a:lnTo>
                    <a:lnTo>
                      <a:pt x="8983" y="4049"/>
                    </a:lnTo>
                    <a:lnTo>
                      <a:pt x="9023" y="404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1605" name=""/>
          <p:cNvGrpSpPr/>
          <p:nvPr/>
        </p:nvGrpSpPr>
        <p:grpSpPr>
          <a:xfrm>
            <a:off x="2776680" y="2782800"/>
            <a:ext cx="3497400" cy="1594080"/>
            <a:chOff x="2776680" y="2782800"/>
            <a:chExt cx="3497400" cy="1594080"/>
          </a:xfrm>
        </p:grpSpPr>
        <p:sp>
          <p:nvSpPr>
            <p:cNvPr id="1606" name=""/>
            <p:cNvSpPr/>
            <p:nvPr/>
          </p:nvSpPr>
          <p:spPr>
            <a:xfrm flipH="1">
              <a:off x="5821200" y="3870360"/>
              <a:ext cx="1908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7" name=""/>
            <p:cNvSpPr/>
            <p:nvPr/>
          </p:nvSpPr>
          <p:spPr>
            <a:xfrm flipH="1">
              <a:off x="5675400" y="3876840"/>
              <a:ext cx="856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8" name=""/>
            <p:cNvSpPr/>
            <p:nvPr/>
          </p:nvSpPr>
          <p:spPr>
            <a:xfrm flipH="1">
              <a:off x="5335560" y="3873600"/>
              <a:ext cx="27936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9" name=""/>
            <p:cNvSpPr/>
            <p:nvPr/>
          </p:nvSpPr>
          <p:spPr>
            <a:xfrm>
              <a:off x="5716440" y="3583080"/>
              <a:ext cx="0" cy="1983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0" name=""/>
            <p:cNvSpPr/>
            <p:nvPr/>
          </p:nvSpPr>
          <p:spPr>
            <a:xfrm>
              <a:off x="5713560" y="3840120"/>
              <a:ext cx="0" cy="87480"/>
            </a:xfrm>
            <a:prstGeom prst="line">
              <a:avLst/>
            </a:prstGeom>
            <a:ln w="25560">
              <a:solidFill>
                <a:srgbClr val="fc0128"/>
              </a:solidFill>
              <a:round/>
            </a:ln>
          </p:spPr>
          <p:style>
            <a:lnRef idx="0"/>
            <a:fillRef idx="0"/>
            <a:effectRef idx="0"/>
            <a:fontRef idx="minor"/>
          </p:style>
          <p:txBody>
            <a:bodyPr lIns="102600" rIns="102600" tIns="29880" bIns="29880" anchor="t">
              <a:noAutofit/>
            </a:bodyPr>
            <a:p>
              <a:endParaRPr b="0" lang="en-US" sz="1800" spc="-1" strike="noStrike">
                <a:solidFill>
                  <a:srgbClr val="000000"/>
                </a:solidFill>
                <a:latin typeface="Arial"/>
              </a:endParaRPr>
            </a:p>
          </p:txBody>
        </p:sp>
        <p:sp>
          <p:nvSpPr>
            <p:cNvPr id="1611" name=""/>
            <p:cNvSpPr/>
            <p:nvPr/>
          </p:nvSpPr>
          <p:spPr>
            <a:xfrm>
              <a:off x="5716440" y="3987720"/>
              <a:ext cx="0" cy="22716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2" name=""/>
            <p:cNvSpPr/>
            <p:nvPr/>
          </p:nvSpPr>
          <p:spPr>
            <a:xfrm flipH="1">
              <a:off x="3662280" y="3878280"/>
              <a:ext cx="2462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3" name=""/>
            <p:cNvSpPr/>
            <p:nvPr/>
          </p:nvSpPr>
          <p:spPr>
            <a:xfrm>
              <a:off x="3573360" y="3559320"/>
              <a:ext cx="0" cy="19044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4" name=""/>
            <p:cNvSpPr/>
            <p:nvPr/>
          </p:nvSpPr>
          <p:spPr>
            <a:xfrm>
              <a:off x="3575160" y="3840120"/>
              <a:ext cx="0" cy="82440"/>
            </a:xfrm>
            <a:prstGeom prst="line">
              <a:avLst/>
            </a:prstGeom>
            <a:ln w="25560">
              <a:solidFill>
                <a:srgbClr val="fc0128"/>
              </a:solidFill>
              <a:round/>
            </a:ln>
          </p:spPr>
          <p:style>
            <a:lnRef idx="0"/>
            <a:fillRef idx="0"/>
            <a:effectRef idx="0"/>
            <a:fontRef idx="minor"/>
          </p:style>
          <p:txBody>
            <a:bodyPr lIns="102600" rIns="102600" tIns="24840" bIns="24840" anchor="t">
              <a:noAutofit/>
            </a:bodyPr>
            <a:p>
              <a:endParaRPr b="0" lang="en-US" sz="1800" spc="-1" strike="noStrike">
                <a:solidFill>
                  <a:srgbClr val="000000"/>
                </a:solidFill>
                <a:latin typeface="Arial"/>
              </a:endParaRPr>
            </a:p>
          </p:txBody>
        </p:sp>
        <p:sp>
          <p:nvSpPr>
            <p:cNvPr id="1615" name=""/>
            <p:cNvSpPr/>
            <p:nvPr/>
          </p:nvSpPr>
          <p:spPr>
            <a:xfrm>
              <a:off x="3575160" y="4017960"/>
              <a:ext cx="0" cy="2080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6" name=""/>
            <p:cNvSpPr/>
            <p:nvPr/>
          </p:nvSpPr>
          <p:spPr>
            <a:xfrm flipH="1">
              <a:off x="3529080" y="3878280"/>
              <a:ext cx="9360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7" name=""/>
            <p:cNvSpPr/>
            <p:nvPr/>
          </p:nvSpPr>
          <p:spPr>
            <a:xfrm flipH="1">
              <a:off x="3094200" y="3878280"/>
              <a:ext cx="37764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618" name=""/>
            <p:cNvGrpSpPr/>
            <p:nvPr/>
          </p:nvGrpSpPr>
          <p:grpSpPr>
            <a:xfrm>
              <a:off x="2776680" y="2782800"/>
              <a:ext cx="3497400" cy="1594080"/>
              <a:chOff x="2776680" y="2782800"/>
              <a:chExt cx="3497400" cy="1594080"/>
            </a:xfrm>
          </p:grpSpPr>
          <p:sp>
            <p:nvSpPr>
              <p:cNvPr id="1619" name=""/>
              <p:cNvSpPr/>
              <p:nvPr/>
            </p:nvSpPr>
            <p:spPr>
              <a:xfrm>
                <a:off x="2776680" y="2790720"/>
                <a:ext cx="243360" cy="1541880"/>
              </a:xfrm>
              <a:custGeom>
                <a:avLst/>
                <a:gdLst/>
                <a:ahLst/>
                <a:rect l="0" t="0" r="r" b="b"/>
                <a:pathLst>
                  <a:path fill="none" w="676" h="4283">
                    <a:moveTo>
                      <a:pt x="0" y="0"/>
                    </a:moveTo>
                    <a:lnTo>
                      <a:pt x="4" y="180"/>
                    </a:lnTo>
                    <a:lnTo>
                      <a:pt x="186" y="357"/>
                    </a:lnTo>
                    <a:lnTo>
                      <a:pt x="252" y="537"/>
                    </a:lnTo>
                    <a:lnTo>
                      <a:pt x="247" y="709"/>
                    </a:lnTo>
                    <a:lnTo>
                      <a:pt x="239" y="895"/>
                    </a:lnTo>
                    <a:lnTo>
                      <a:pt x="309" y="1076"/>
                    </a:lnTo>
                    <a:lnTo>
                      <a:pt x="358" y="1253"/>
                    </a:lnTo>
                    <a:lnTo>
                      <a:pt x="367" y="1429"/>
                    </a:lnTo>
                    <a:lnTo>
                      <a:pt x="305" y="1667"/>
                    </a:lnTo>
                    <a:lnTo>
                      <a:pt x="300" y="1848"/>
                    </a:lnTo>
                    <a:lnTo>
                      <a:pt x="424" y="2025"/>
                    </a:lnTo>
                    <a:lnTo>
                      <a:pt x="424" y="2210"/>
                    </a:lnTo>
                    <a:lnTo>
                      <a:pt x="424" y="2391"/>
                    </a:lnTo>
                    <a:lnTo>
                      <a:pt x="428" y="2567"/>
                    </a:lnTo>
                    <a:lnTo>
                      <a:pt x="424" y="2748"/>
                    </a:lnTo>
                    <a:lnTo>
                      <a:pt x="424" y="2977"/>
                    </a:lnTo>
                    <a:lnTo>
                      <a:pt x="486" y="3149"/>
                    </a:lnTo>
                    <a:lnTo>
                      <a:pt x="610" y="3335"/>
                    </a:lnTo>
                    <a:lnTo>
                      <a:pt x="606" y="3516"/>
                    </a:lnTo>
                    <a:lnTo>
                      <a:pt x="663" y="3692"/>
                    </a:lnTo>
                    <a:lnTo>
                      <a:pt x="672" y="3878"/>
                    </a:lnTo>
                    <a:lnTo>
                      <a:pt x="672" y="4058"/>
                    </a:lnTo>
                    <a:lnTo>
                      <a:pt x="672" y="4235"/>
                    </a:lnTo>
                    <a:lnTo>
                      <a:pt x="676" y="4283"/>
                    </a:lnTo>
                    <a:lnTo>
                      <a:pt x="659" y="4230"/>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0" name=""/>
              <p:cNvSpPr/>
              <p:nvPr/>
            </p:nvSpPr>
            <p:spPr>
              <a:xfrm>
                <a:off x="5508720" y="3668760"/>
                <a:ext cx="407880" cy="40644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1" name=""/>
              <p:cNvSpPr/>
              <p:nvPr/>
            </p:nvSpPr>
            <p:spPr>
              <a:xfrm>
                <a:off x="3355920" y="3681360"/>
                <a:ext cx="407880" cy="406440"/>
              </a:xfrm>
              <a:prstGeom prst="ellipse">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2" name=""/>
              <p:cNvSpPr/>
              <p:nvPr/>
            </p:nvSpPr>
            <p:spPr>
              <a:xfrm>
                <a:off x="2787480" y="2782800"/>
                <a:ext cx="3472200" cy="127440"/>
              </a:xfrm>
              <a:custGeom>
                <a:avLst/>
                <a:gdLst/>
                <a:ahLst/>
                <a:rect l="0" t="0" r="r" b="b"/>
                <a:pathLst>
                  <a:path fill="none" w="9645" h="354">
                    <a:moveTo>
                      <a:pt x="9645" y="234"/>
                    </a:moveTo>
                    <a:lnTo>
                      <a:pt x="9376" y="172"/>
                    </a:lnTo>
                    <a:lnTo>
                      <a:pt x="9199" y="172"/>
                    </a:lnTo>
                    <a:lnTo>
                      <a:pt x="9018" y="172"/>
                    </a:lnTo>
                    <a:lnTo>
                      <a:pt x="8842" y="172"/>
                    </a:lnTo>
                    <a:lnTo>
                      <a:pt x="8661" y="115"/>
                    </a:lnTo>
                    <a:lnTo>
                      <a:pt x="8485" y="115"/>
                    </a:lnTo>
                    <a:lnTo>
                      <a:pt x="8304" y="115"/>
                    </a:lnTo>
                    <a:lnTo>
                      <a:pt x="8128" y="52"/>
                    </a:lnTo>
                    <a:lnTo>
                      <a:pt x="7929" y="0"/>
                    </a:lnTo>
                    <a:lnTo>
                      <a:pt x="7770" y="52"/>
                    </a:lnTo>
                    <a:lnTo>
                      <a:pt x="7590" y="172"/>
                    </a:lnTo>
                    <a:lnTo>
                      <a:pt x="7413" y="172"/>
                    </a:lnTo>
                    <a:lnTo>
                      <a:pt x="7232" y="234"/>
                    </a:lnTo>
                    <a:lnTo>
                      <a:pt x="7056" y="293"/>
                    </a:lnTo>
                    <a:lnTo>
                      <a:pt x="6818" y="354"/>
                    </a:lnTo>
                    <a:lnTo>
                      <a:pt x="6637" y="354"/>
                    </a:lnTo>
                    <a:lnTo>
                      <a:pt x="6461" y="354"/>
                    </a:lnTo>
                    <a:lnTo>
                      <a:pt x="6280" y="293"/>
                    </a:lnTo>
                    <a:lnTo>
                      <a:pt x="6042" y="234"/>
                    </a:lnTo>
                    <a:lnTo>
                      <a:pt x="5865" y="234"/>
                    </a:lnTo>
                    <a:lnTo>
                      <a:pt x="5685" y="234"/>
                    </a:lnTo>
                    <a:lnTo>
                      <a:pt x="5508" y="234"/>
                    </a:lnTo>
                    <a:lnTo>
                      <a:pt x="5327" y="234"/>
                    </a:lnTo>
                    <a:lnTo>
                      <a:pt x="5151" y="172"/>
                    </a:lnTo>
                    <a:lnTo>
                      <a:pt x="4970" y="172"/>
                    </a:lnTo>
                    <a:lnTo>
                      <a:pt x="4793" y="172"/>
                    </a:lnTo>
                    <a:lnTo>
                      <a:pt x="4436" y="172"/>
                    </a:lnTo>
                    <a:lnTo>
                      <a:pt x="4220" y="79"/>
                    </a:lnTo>
                    <a:lnTo>
                      <a:pt x="4087" y="35"/>
                    </a:lnTo>
                    <a:lnTo>
                      <a:pt x="3929" y="35"/>
                    </a:lnTo>
                    <a:lnTo>
                      <a:pt x="3770" y="106"/>
                    </a:lnTo>
                    <a:lnTo>
                      <a:pt x="3483" y="115"/>
                    </a:lnTo>
                    <a:lnTo>
                      <a:pt x="3302" y="115"/>
                    </a:lnTo>
                    <a:lnTo>
                      <a:pt x="3064" y="234"/>
                    </a:lnTo>
                    <a:lnTo>
                      <a:pt x="2888" y="293"/>
                    </a:lnTo>
                    <a:lnTo>
                      <a:pt x="2707" y="293"/>
                    </a:lnTo>
                    <a:lnTo>
                      <a:pt x="2531" y="293"/>
                    </a:lnTo>
                    <a:lnTo>
                      <a:pt x="2350" y="234"/>
                    </a:lnTo>
                    <a:lnTo>
                      <a:pt x="2112" y="115"/>
                    </a:lnTo>
                    <a:lnTo>
                      <a:pt x="1935" y="115"/>
                    </a:lnTo>
                    <a:lnTo>
                      <a:pt x="1768" y="106"/>
                    </a:lnTo>
                    <a:lnTo>
                      <a:pt x="1516" y="172"/>
                    </a:lnTo>
                    <a:lnTo>
                      <a:pt x="1278" y="234"/>
                    </a:lnTo>
                    <a:lnTo>
                      <a:pt x="1150" y="164"/>
                    </a:lnTo>
                    <a:lnTo>
                      <a:pt x="970" y="115"/>
                    </a:lnTo>
                    <a:lnTo>
                      <a:pt x="820" y="133"/>
                    </a:lnTo>
                    <a:lnTo>
                      <a:pt x="643" y="186"/>
                    </a:lnTo>
                    <a:lnTo>
                      <a:pt x="489" y="146"/>
                    </a:lnTo>
                    <a:lnTo>
                      <a:pt x="268" y="35"/>
                    </a:lnTo>
                    <a:lnTo>
                      <a:pt x="0" y="22"/>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1623" name=""/>
              <p:cNvSpPr/>
              <p:nvPr/>
            </p:nvSpPr>
            <p:spPr>
              <a:xfrm>
                <a:off x="3025800" y="2871720"/>
                <a:ext cx="3248280" cy="1505160"/>
              </a:xfrm>
              <a:custGeom>
                <a:avLst/>
                <a:gdLst/>
                <a:ahLst/>
                <a:rect l="0" t="0" r="r" b="b"/>
                <a:pathLst>
                  <a:path fill="none" w="9023" h="4181">
                    <a:moveTo>
                      <a:pt x="8983" y="0"/>
                    </a:moveTo>
                    <a:lnTo>
                      <a:pt x="8970" y="39"/>
                    </a:lnTo>
                    <a:lnTo>
                      <a:pt x="8943" y="105"/>
                    </a:lnTo>
                    <a:lnTo>
                      <a:pt x="8930" y="145"/>
                    </a:lnTo>
                    <a:lnTo>
                      <a:pt x="8917" y="185"/>
                    </a:lnTo>
                    <a:lnTo>
                      <a:pt x="8904" y="238"/>
                    </a:lnTo>
                    <a:lnTo>
                      <a:pt x="8877" y="277"/>
                    </a:lnTo>
                    <a:lnTo>
                      <a:pt x="8864" y="317"/>
                    </a:lnTo>
                    <a:lnTo>
                      <a:pt x="8851" y="357"/>
                    </a:lnTo>
                    <a:lnTo>
                      <a:pt x="8851" y="396"/>
                    </a:lnTo>
                    <a:lnTo>
                      <a:pt x="8851" y="436"/>
                    </a:lnTo>
                    <a:lnTo>
                      <a:pt x="8851" y="489"/>
                    </a:lnTo>
                    <a:lnTo>
                      <a:pt x="8851" y="542"/>
                    </a:lnTo>
                    <a:lnTo>
                      <a:pt x="8864" y="582"/>
                    </a:lnTo>
                    <a:lnTo>
                      <a:pt x="8877" y="621"/>
                    </a:lnTo>
                    <a:lnTo>
                      <a:pt x="8891" y="687"/>
                    </a:lnTo>
                    <a:lnTo>
                      <a:pt x="8904" y="754"/>
                    </a:lnTo>
                    <a:lnTo>
                      <a:pt x="8917" y="793"/>
                    </a:lnTo>
                    <a:lnTo>
                      <a:pt x="8943" y="833"/>
                    </a:lnTo>
                    <a:lnTo>
                      <a:pt x="8957" y="886"/>
                    </a:lnTo>
                    <a:lnTo>
                      <a:pt x="8970" y="926"/>
                    </a:lnTo>
                    <a:lnTo>
                      <a:pt x="8983" y="965"/>
                    </a:lnTo>
                    <a:lnTo>
                      <a:pt x="8996" y="1005"/>
                    </a:lnTo>
                    <a:lnTo>
                      <a:pt x="9010" y="1071"/>
                    </a:lnTo>
                    <a:lnTo>
                      <a:pt x="9023" y="1150"/>
                    </a:lnTo>
                    <a:lnTo>
                      <a:pt x="9023" y="1203"/>
                    </a:lnTo>
                    <a:lnTo>
                      <a:pt x="9023" y="1243"/>
                    </a:lnTo>
                    <a:lnTo>
                      <a:pt x="9023" y="1283"/>
                    </a:lnTo>
                    <a:lnTo>
                      <a:pt x="9023" y="1322"/>
                    </a:lnTo>
                    <a:lnTo>
                      <a:pt x="9023" y="1428"/>
                    </a:lnTo>
                    <a:lnTo>
                      <a:pt x="9023" y="1468"/>
                    </a:lnTo>
                    <a:lnTo>
                      <a:pt x="9010" y="1521"/>
                    </a:lnTo>
                    <a:lnTo>
                      <a:pt x="9010" y="1561"/>
                    </a:lnTo>
                    <a:lnTo>
                      <a:pt x="8996" y="1627"/>
                    </a:lnTo>
                    <a:lnTo>
                      <a:pt x="8983" y="1666"/>
                    </a:lnTo>
                    <a:lnTo>
                      <a:pt x="8983" y="1733"/>
                    </a:lnTo>
                    <a:lnTo>
                      <a:pt x="8970" y="1772"/>
                    </a:lnTo>
                    <a:lnTo>
                      <a:pt x="8970" y="1812"/>
                    </a:lnTo>
                    <a:lnTo>
                      <a:pt x="8957" y="1891"/>
                    </a:lnTo>
                    <a:lnTo>
                      <a:pt x="8943" y="1944"/>
                    </a:lnTo>
                    <a:lnTo>
                      <a:pt x="8943" y="1984"/>
                    </a:lnTo>
                    <a:lnTo>
                      <a:pt x="8930" y="2024"/>
                    </a:lnTo>
                    <a:lnTo>
                      <a:pt x="8930" y="2063"/>
                    </a:lnTo>
                    <a:lnTo>
                      <a:pt x="8930" y="2117"/>
                    </a:lnTo>
                    <a:lnTo>
                      <a:pt x="8917" y="2183"/>
                    </a:lnTo>
                    <a:lnTo>
                      <a:pt x="8917" y="2276"/>
                    </a:lnTo>
                    <a:lnTo>
                      <a:pt x="8917" y="2342"/>
                    </a:lnTo>
                    <a:lnTo>
                      <a:pt x="8930" y="2395"/>
                    </a:lnTo>
                    <a:lnTo>
                      <a:pt x="8930" y="2435"/>
                    </a:lnTo>
                    <a:lnTo>
                      <a:pt x="8957" y="2488"/>
                    </a:lnTo>
                    <a:lnTo>
                      <a:pt x="8970" y="2541"/>
                    </a:lnTo>
                    <a:lnTo>
                      <a:pt x="8983" y="2593"/>
                    </a:lnTo>
                    <a:lnTo>
                      <a:pt x="8983" y="2633"/>
                    </a:lnTo>
                    <a:lnTo>
                      <a:pt x="8996" y="2699"/>
                    </a:lnTo>
                    <a:lnTo>
                      <a:pt x="9010" y="2739"/>
                    </a:lnTo>
                    <a:lnTo>
                      <a:pt x="9010" y="2805"/>
                    </a:lnTo>
                    <a:lnTo>
                      <a:pt x="9023" y="2871"/>
                    </a:lnTo>
                    <a:lnTo>
                      <a:pt x="9023" y="2937"/>
                    </a:lnTo>
                    <a:lnTo>
                      <a:pt x="9023" y="3004"/>
                    </a:lnTo>
                    <a:lnTo>
                      <a:pt x="9023" y="3043"/>
                    </a:lnTo>
                    <a:lnTo>
                      <a:pt x="9023" y="3083"/>
                    </a:lnTo>
                    <a:lnTo>
                      <a:pt x="9010" y="3123"/>
                    </a:lnTo>
                    <a:lnTo>
                      <a:pt x="9010" y="3176"/>
                    </a:lnTo>
                    <a:lnTo>
                      <a:pt x="8970" y="3215"/>
                    </a:lnTo>
                    <a:lnTo>
                      <a:pt x="8957" y="3295"/>
                    </a:lnTo>
                    <a:lnTo>
                      <a:pt x="8943" y="3334"/>
                    </a:lnTo>
                    <a:lnTo>
                      <a:pt x="8943" y="3453"/>
                    </a:lnTo>
                    <a:lnTo>
                      <a:pt x="8943" y="3506"/>
                    </a:lnTo>
                    <a:lnTo>
                      <a:pt x="8943" y="3546"/>
                    </a:lnTo>
                    <a:lnTo>
                      <a:pt x="8943" y="3612"/>
                    </a:lnTo>
                    <a:lnTo>
                      <a:pt x="8943" y="3652"/>
                    </a:lnTo>
                    <a:lnTo>
                      <a:pt x="8957" y="3731"/>
                    </a:lnTo>
                    <a:lnTo>
                      <a:pt x="8970" y="3784"/>
                    </a:lnTo>
                    <a:lnTo>
                      <a:pt x="8970" y="3837"/>
                    </a:lnTo>
                    <a:lnTo>
                      <a:pt x="8983" y="3877"/>
                    </a:lnTo>
                    <a:lnTo>
                      <a:pt x="8983" y="3916"/>
                    </a:lnTo>
                    <a:lnTo>
                      <a:pt x="8983" y="3956"/>
                    </a:lnTo>
                    <a:lnTo>
                      <a:pt x="8996" y="3996"/>
                    </a:lnTo>
                    <a:lnTo>
                      <a:pt x="8996" y="4062"/>
                    </a:lnTo>
                    <a:lnTo>
                      <a:pt x="8970" y="4035"/>
                    </a:lnTo>
                    <a:lnTo>
                      <a:pt x="8811" y="4049"/>
                    </a:lnTo>
                    <a:lnTo>
                      <a:pt x="8771" y="4049"/>
                    </a:lnTo>
                    <a:lnTo>
                      <a:pt x="8679" y="4049"/>
                    </a:lnTo>
                    <a:lnTo>
                      <a:pt x="8573" y="4035"/>
                    </a:lnTo>
                    <a:lnTo>
                      <a:pt x="8533" y="4035"/>
                    </a:lnTo>
                    <a:lnTo>
                      <a:pt x="8494" y="4009"/>
                    </a:lnTo>
                    <a:lnTo>
                      <a:pt x="8454" y="4009"/>
                    </a:lnTo>
                    <a:lnTo>
                      <a:pt x="8414" y="3969"/>
                    </a:lnTo>
                    <a:lnTo>
                      <a:pt x="8348" y="3930"/>
                    </a:lnTo>
                    <a:lnTo>
                      <a:pt x="8308" y="3916"/>
                    </a:lnTo>
                    <a:lnTo>
                      <a:pt x="8269" y="3916"/>
                    </a:lnTo>
                    <a:lnTo>
                      <a:pt x="8203" y="3930"/>
                    </a:lnTo>
                    <a:lnTo>
                      <a:pt x="8163" y="3943"/>
                    </a:lnTo>
                    <a:lnTo>
                      <a:pt x="8084" y="3956"/>
                    </a:lnTo>
                    <a:lnTo>
                      <a:pt x="8031" y="3969"/>
                    </a:lnTo>
                    <a:lnTo>
                      <a:pt x="7978" y="3982"/>
                    </a:lnTo>
                    <a:lnTo>
                      <a:pt x="7885" y="3982"/>
                    </a:lnTo>
                    <a:lnTo>
                      <a:pt x="7819" y="3996"/>
                    </a:lnTo>
                    <a:lnTo>
                      <a:pt x="7753" y="3996"/>
                    </a:lnTo>
                    <a:lnTo>
                      <a:pt x="7687" y="4009"/>
                    </a:lnTo>
                    <a:lnTo>
                      <a:pt x="7607" y="4022"/>
                    </a:lnTo>
                    <a:lnTo>
                      <a:pt x="7541" y="4035"/>
                    </a:lnTo>
                    <a:lnTo>
                      <a:pt x="7501" y="4035"/>
                    </a:lnTo>
                    <a:lnTo>
                      <a:pt x="7435" y="4035"/>
                    </a:lnTo>
                    <a:lnTo>
                      <a:pt x="7263" y="4035"/>
                    </a:lnTo>
                    <a:lnTo>
                      <a:pt x="7197" y="4049"/>
                    </a:lnTo>
                    <a:lnTo>
                      <a:pt x="7118" y="4062"/>
                    </a:lnTo>
                    <a:lnTo>
                      <a:pt x="7065" y="4075"/>
                    </a:lnTo>
                    <a:lnTo>
                      <a:pt x="7025" y="4075"/>
                    </a:lnTo>
                    <a:lnTo>
                      <a:pt x="6933" y="4075"/>
                    </a:lnTo>
                    <a:lnTo>
                      <a:pt x="6893" y="4075"/>
                    </a:lnTo>
                    <a:lnTo>
                      <a:pt x="6827" y="4088"/>
                    </a:lnTo>
                    <a:lnTo>
                      <a:pt x="6655" y="4088"/>
                    </a:lnTo>
                    <a:lnTo>
                      <a:pt x="6589" y="4088"/>
                    </a:lnTo>
                    <a:lnTo>
                      <a:pt x="6522" y="4075"/>
                    </a:lnTo>
                    <a:lnTo>
                      <a:pt x="6483" y="4075"/>
                    </a:lnTo>
                    <a:lnTo>
                      <a:pt x="6443" y="4075"/>
                    </a:lnTo>
                    <a:lnTo>
                      <a:pt x="6364" y="4062"/>
                    </a:lnTo>
                    <a:lnTo>
                      <a:pt x="6311" y="4062"/>
                    </a:lnTo>
                    <a:lnTo>
                      <a:pt x="6192" y="4062"/>
                    </a:lnTo>
                    <a:lnTo>
                      <a:pt x="6152" y="4062"/>
                    </a:lnTo>
                    <a:lnTo>
                      <a:pt x="6099" y="4062"/>
                    </a:lnTo>
                    <a:lnTo>
                      <a:pt x="5980" y="4049"/>
                    </a:lnTo>
                    <a:lnTo>
                      <a:pt x="5821" y="4049"/>
                    </a:lnTo>
                    <a:lnTo>
                      <a:pt x="5755" y="4049"/>
                    </a:lnTo>
                    <a:lnTo>
                      <a:pt x="5676" y="4049"/>
                    </a:lnTo>
                    <a:lnTo>
                      <a:pt x="5610" y="4062"/>
                    </a:lnTo>
                    <a:lnTo>
                      <a:pt x="5041" y="4128"/>
                    </a:lnTo>
                    <a:lnTo>
                      <a:pt x="4975" y="4128"/>
                    </a:lnTo>
                    <a:lnTo>
                      <a:pt x="4842" y="4141"/>
                    </a:lnTo>
                    <a:lnTo>
                      <a:pt x="4803" y="4154"/>
                    </a:lnTo>
                    <a:lnTo>
                      <a:pt x="4763" y="4154"/>
                    </a:lnTo>
                    <a:lnTo>
                      <a:pt x="4684" y="4181"/>
                    </a:lnTo>
                    <a:lnTo>
                      <a:pt x="4644" y="4181"/>
                    </a:lnTo>
                    <a:lnTo>
                      <a:pt x="4604" y="4181"/>
                    </a:lnTo>
                    <a:lnTo>
                      <a:pt x="4512" y="4181"/>
                    </a:lnTo>
                    <a:lnTo>
                      <a:pt x="4458" y="4181"/>
                    </a:lnTo>
                    <a:lnTo>
                      <a:pt x="4392" y="4154"/>
                    </a:lnTo>
                    <a:lnTo>
                      <a:pt x="4325" y="4141"/>
                    </a:lnTo>
                    <a:lnTo>
                      <a:pt x="4259" y="4128"/>
                    </a:lnTo>
                    <a:lnTo>
                      <a:pt x="4153" y="4102"/>
                    </a:lnTo>
                    <a:lnTo>
                      <a:pt x="4087" y="4102"/>
                    </a:lnTo>
                    <a:lnTo>
                      <a:pt x="3915" y="4102"/>
                    </a:lnTo>
                    <a:lnTo>
                      <a:pt x="3849" y="4102"/>
                    </a:lnTo>
                    <a:lnTo>
                      <a:pt x="3757" y="4088"/>
                    </a:lnTo>
                    <a:lnTo>
                      <a:pt x="3585" y="4088"/>
                    </a:lnTo>
                    <a:lnTo>
                      <a:pt x="3518" y="4102"/>
                    </a:lnTo>
                    <a:lnTo>
                      <a:pt x="3466" y="4102"/>
                    </a:lnTo>
                    <a:lnTo>
                      <a:pt x="3413" y="4102"/>
                    </a:lnTo>
                    <a:lnTo>
                      <a:pt x="3373" y="4088"/>
                    </a:lnTo>
                    <a:lnTo>
                      <a:pt x="3333" y="4075"/>
                    </a:lnTo>
                    <a:lnTo>
                      <a:pt x="3201" y="4062"/>
                    </a:lnTo>
                    <a:lnTo>
                      <a:pt x="3042" y="4049"/>
                    </a:lnTo>
                    <a:lnTo>
                      <a:pt x="2950" y="4049"/>
                    </a:lnTo>
                    <a:lnTo>
                      <a:pt x="2791" y="4049"/>
                    </a:lnTo>
                    <a:lnTo>
                      <a:pt x="2579" y="4075"/>
                    </a:lnTo>
                    <a:lnTo>
                      <a:pt x="2513" y="4075"/>
                    </a:lnTo>
                    <a:lnTo>
                      <a:pt x="2473" y="4075"/>
                    </a:lnTo>
                    <a:lnTo>
                      <a:pt x="2420" y="4075"/>
                    </a:lnTo>
                    <a:lnTo>
                      <a:pt x="2368" y="4075"/>
                    </a:lnTo>
                    <a:lnTo>
                      <a:pt x="2301" y="4088"/>
                    </a:lnTo>
                    <a:lnTo>
                      <a:pt x="2235" y="4088"/>
                    </a:lnTo>
                    <a:lnTo>
                      <a:pt x="2182" y="4088"/>
                    </a:lnTo>
                    <a:lnTo>
                      <a:pt x="2143" y="4088"/>
                    </a:lnTo>
                    <a:lnTo>
                      <a:pt x="2050" y="4075"/>
                    </a:lnTo>
                    <a:lnTo>
                      <a:pt x="1984" y="4049"/>
                    </a:lnTo>
                    <a:lnTo>
                      <a:pt x="1944" y="4049"/>
                    </a:lnTo>
                    <a:lnTo>
                      <a:pt x="1878" y="4035"/>
                    </a:lnTo>
                    <a:lnTo>
                      <a:pt x="1838" y="4035"/>
                    </a:lnTo>
                    <a:lnTo>
                      <a:pt x="1772" y="4022"/>
                    </a:lnTo>
                    <a:lnTo>
                      <a:pt x="1733" y="4022"/>
                    </a:lnTo>
                    <a:lnTo>
                      <a:pt x="1693" y="4022"/>
                    </a:lnTo>
                    <a:lnTo>
                      <a:pt x="1653" y="4009"/>
                    </a:lnTo>
                    <a:lnTo>
                      <a:pt x="1574" y="4009"/>
                    </a:lnTo>
                    <a:lnTo>
                      <a:pt x="1415" y="4009"/>
                    </a:lnTo>
                    <a:lnTo>
                      <a:pt x="1375" y="4009"/>
                    </a:lnTo>
                    <a:lnTo>
                      <a:pt x="1336" y="4009"/>
                    </a:lnTo>
                    <a:lnTo>
                      <a:pt x="1243" y="4022"/>
                    </a:lnTo>
                    <a:lnTo>
                      <a:pt x="1203" y="4022"/>
                    </a:lnTo>
                    <a:lnTo>
                      <a:pt x="1150" y="4035"/>
                    </a:lnTo>
                    <a:lnTo>
                      <a:pt x="1111" y="4049"/>
                    </a:lnTo>
                    <a:lnTo>
                      <a:pt x="1071" y="4049"/>
                    </a:lnTo>
                    <a:lnTo>
                      <a:pt x="1005" y="4049"/>
                    </a:lnTo>
                    <a:lnTo>
                      <a:pt x="939" y="4062"/>
                    </a:lnTo>
                    <a:lnTo>
                      <a:pt x="859" y="4062"/>
                    </a:lnTo>
                    <a:lnTo>
                      <a:pt x="820" y="4062"/>
                    </a:lnTo>
                    <a:lnTo>
                      <a:pt x="767" y="4062"/>
                    </a:lnTo>
                    <a:lnTo>
                      <a:pt x="727" y="4062"/>
                    </a:lnTo>
                    <a:lnTo>
                      <a:pt x="687" y="4062"/>
                    </a:lnTo>
                    <a:lnTo>
                      <a:pt x="621" y="4062"/>
                    </a:lnTo>
                    <a:lnTo>
                      <a:pt x="568" y="4062"/>
                    </a:lnTo>
                    <a:lnTo>
                      <a:pt x="502" y="4049"/>
                    </a:lnTo>
                    <a:lnTo>
                      <a:pt x="463" y="4049"/>
                    </a:lnTo>
                    <a:lnTo>
                      <a:pt x="423" y="4049"/>
                    </a:lnTo>
                    <a:lnTo>
                      <a:pt x="357" y="4049"/>
                    </a:lnTo>
                    <a:lnTo>
                      <a:pt x="317" y="4049"/>
                    </a:lnTo>
                    <a:lnTo>
                      <a:pt x="251" y="4049"/>
                    </a:lnTo>
                    <a:lnTo>
                      <a:pt x="185" y="4049"/>
                    </a:lnTo>
                    <a:lnTo>
                      <a:pt x="145" y="4049"/>
                    </a:lnTo>
                    <a:lnTo>
                      <a:pt x="105" y="4049"/>
                    </a:lnTo>
                    <a:lnTo>
                      <a:pt x="39" y="4049"/>
                    </a:lnTo>
                    <a:lnTo>
                      <a:pt x="0" y="4049"/>
                    </a:lnTo>
                  </a:path>
                </a:pathLst>
              </a:custGeom>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grpSp>
      <p:sp>
        <p:nvSpPr>
          <p:cNvPr id="1624"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6"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sp>
        <p:nvSpPr>
          <p:cNvPr id="1627" name=""/>
          <p:cNvSpPr txBox="1"/>
          <p:nvPr/>
        </p:nvSpPr>
        <p:spPr>
          <a:xfrm>
            <a:off x="4111560" y="5433840"/>
            <a:ext cx="4826160" cy="100656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The first two inspectors oriented the part as</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shown in white.  The next inspector turns the </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part over (shown in red).</a:t>
            </a:r>
            <a:endParaRPr b="0" lang="en-US" sz="2000" spc="-1" strike="noStrike">
              <a:solidFill>
                <a:srgbClr val="000000"/>
              </a:solidFill>
              <a:latin typeface="Arial"/>
            </a:endParaRPr>
          </a:p>
        </p:txBody>
      </p:sp>
      <p:grpSp>
        <p:nvGrpSpPr>
          <p:cNvPr id="1628" name=""/>
          <p:cNvGrpSpPr/>
          <p:nvPr/>
        </p:nvGrpSpPr>
        <p:grpSpPr>
          <a:xfrm>
            <a:off x="560520" y="447840"/>
            <a:ext cx="3624120" cy="1190520"/>
            <a:chOff x="560520" y="447840"/>
            <a:chExt cx="3624120" cy="1190520"/>
          </a:xfrm>
        </p:grpSpPr>
        <p:sp>
          <p:nvSpPr>
            <p:cNvPr id="1629"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630"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3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2"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3"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34" name=""/>
          <p:cNvGrpSpPr/>
          <p:nvPr/>
        </p:nvGrpSpPr>
        <p:grpSpPr>
          <a:xfrm>
            <a:off x="2776680" y="2782800"/>
            <a:ext cx="3497400" cy="1594080"/>
            <a:chOff x="2776680" y="2782800"/>
            <a:chExt cx="3497400" cy="1594080"/>
          </a:xfrm>
        </p:grpSpPr>
        <p:sp>
          <p:nvSpPr>
            <p:cNvPr id="1635" name=""/>
            <p:cNvSpPr/>
            <p:nvPr/>
          </p:nvSpPr>
          <p:spPr>
            <a:xfrm flipH="1">
              <a:off x="5821200" y="3870360"/>
              <a:ext cx="190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6" name=""/>
            <p:cNvSpPr/>
            <p:nvPr/>
          </p:nvSpPr>
          <p:spPr>
            <a:xfrm flipH="1">
              <a:off x="5675400" y="3876840"/>
              <a:ext cx="85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flipH="1">
              <a:off x="5335560" y="3873600"/>
              <a:ext cx="279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5716440" y="3583080"/>
              <a:ext cx="0" cy="198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9" name=""/>
            <p:cNvSpPr/>
            <p:nvPr/>
          </p:nvSpPr>
          <p:spPr>
            <a:xfrm>
              <a:off x="5713560" y="3840120"/>
              <a:ext cx="0" cy="87480"/>
            </a:xfrm>
            <a:prstGeom prst="line">
              <a:avLst/>
            </a:prstGeom>
            <a:ln w="12600">
              <a:solidFill>
                <a:srgbClr val="f2fefd"/>
              </a:solidFill>
              <a:round/>
            </a:ln>
          </p:spPr>
          <p:style>
            <a:lnRef idx="0"/>
            <a:fillRef idx="0"/>
            <a:effectRef idx="0"/>
            <a:fontRef idx="minor"/>
          </p:style>
          <p:txBody>
            <a:bodyPr lIns="96120" rIns="96120" tIns="36360" bIns="36360" anchor="t">
              <a:noAutofit/>
            </a:bodyPr>
            <a:p>
              <a:endParaRPr b="0" lang="en-US" sz="1800" spc="-1" strike="noStrike">
                <a:solidFill>
                  <a:srgbClr val="000000"/>
                </a:solidFill>
                <a:latin typeface="Arial"/>
              </a:endParaRPr>
            </a:p>
          </p:txBody>
        </p:sp>
        <p:sp>
          <p:nvSpPr>
            <p:cNvPr id="1640" name=""/>
            <p:cNvSpPr/>
            <p:nvPr/>
          </p:nvSpPr>
          <p:spPr>
            <a:xfrm>
              <a:off x="5716440" y="3987720"/>
              <a:ext cx="0" cy="227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1" name=""/>
            <p:cNvSpPr/>
            <p:nvPr/>
          </p:nvSpPr>
          <p:spPr>
            <a:xfrm flipH="1">
              <a:off x="3662280" y="3878280"/>
              <a:ext cx="246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2" name=""/>
            <p:cNvSpPr/>
            <p:nvPr/>
          </p:nvSpPr>
          <p:spPr>
            <a:xfrm>
              <a:off x="3573360" y="3559320"/>
              <a:ext cx="0" cy="190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3" name=""/>
            <p:cNvSpPr/>
            <p:nvPr/>
          </p:nvSpPr>
          <p:spPr>
            <a:xfrm>
              <a:off x="3575160" y="3840120"/>
              <a:ext cx="0" cy="82440"/>
            </a:xfrm>
            <a:prstGeom prst="line">
              <a:avLst/>
            </a:prstGeom>
            <a:ln w="12600">
              <a:solidFill>
                <a:srgbClr val="f2fefd"/>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44" name=""/>
            <p:cNvSpPr/>
            <p:nvPr/>
          </p:nvSpPr>
          <p:spPr>
            <a:xfrm>
              <a:off x="3575160" y="4017960"/>
              <a:ext cx="0" cy="2080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flipH="1">
              <a:off x="3529080" y="3878280"/>
              <a:ext cx="93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6" name=""/>
            <p:cNvSpPr/>
            <p:nvPr/>
          </p:nvSpPr>
          <p:spPr>
            <a:xfrm flipH="1">
              <a:off x="3094200" y="3878280"/>
              <a:ext cx="377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47" name=""/>
            <p:cNvGrpSpPr/>
            <p:nvPr/>
          </p:nvGrpSpPr>
          <p:grpSpPr>
            <a:xfrm>
              <a:off x="2776680" y="2782800"/>
              <a:ext cx="3497400" cy="1594080"/>
              <a:chOff x="2776680" y="2782800"/>
              <a:chExt cx="3497400" cy="1594080"/>
            </a:xfrm>
          </p:grpSpPr>
          <p:sp>
            <p:nvSpPr>
              <p:cNvPr id="1648" name=""/>
              <p:cNvSpPr/>
              <p:nvPr/>
            </p:nvSpPr>
            <p:spPr>
              <a:xfrm>
                <a:off x="2776680" y="2790720"/>
                <a:ext cx="243360" cy="1541880"/>
              </a:xfrm>
              <a:custGeom>
                <a:avLst/>
                <a:gdLst/>
                <a:ahLst/>
                <a:rect l="0" t="0" r="r" b="b"/>
                <a:pathLst>
                  <a:path fill="none" w="676" h="4283">
                    <a:moveTo>
                      <a:pt x="0" y="0"/>
                    </a:moveTo>
                    <a:lnTo>
                      <a:pt x="4" y="180"/>
                    </a:lnTo>
                    <a:lnTo>
                      <a:pt x="186" y="357"/>
                    </a:lnTo>
                    <a:lnTo>
                      <a:pt x="252" y="537"/>
                    </a:lnTo>
                    <a:lnTo>
                      <a:pt x="247" y="709"/>
                    </a:lnTo>
                    <a:lnTo>
                      <a:pt x="239" y="895"/>
                    </a:lnTo>
                    <a:lnTo>
                      <a:pt x="309" y="1076"/>
                    </a:lnTo>
                    <a:lnTo>
                      <a:pt x="358" y="1253"/>
                    </a:lnTo>
                    <a:lnTo>
                      <a:pt x="367" y="1429"/>
                    </a:lnTo>
                    <a:lnTo>
                      <a:pt x="305" y="1667"/>
                    </a:lnTo>
                    <a:lnTo>
                      <a:pt x="300" y="1848"/>
                    </a:lnTo>
                    <a:lnTo>
                      <a:pt x="424" y="2025"/>
                    </a:lnTo>
                    <a:lnTo>
                      <a:pt x="424" y="2210"/>
                    </a:lnTo>
                    <a:lnTo>
                      <a:pt x="424" y="2391"/>
                    </a:lnTo>
                    <a:lnTo>
                      <a:pt x="428" y="2567"/>
                    </a:lnTo>
                    <a:lnTo>
                      <a:pt x="424" y="2748"/>
                    </a:lnTo>
                    <a:lnTo>
                      <a:pt x="424" y="2977"/>
                    </a:lnTo>
                    <a:lnTo>
                      <a:pt x="486" y="3149"/>
                    </a:lnTo>
                    <a:lnTo>
                      <a:pt x="610" y="3335"/>
                    </a:lnTo>
                    <a:lnTo>
                      <a:pt x="606" y="3516"/>
                    </a:lnTo>
                    <a:lnTo>
                      <a:pt x="663" y="3692"/>
                    </a:lnTo>
                    <a:lnTo>
                      <a:pt x="672" y="3878"/>
                    </a:lnTo>
                    <a:lnTo>
                      <a:pt x="672" y="4058"/>
                    </a:lnTo>
                    <a:lnTo>
                      <a:pt x="672" y="4235"/>
                    </a:lnTo>
                    <a:lnTo>
                      <a:pt x="676" y="4283"/>
                    </a:lnTo>
                    <a:lnTo>
                      <a:pt x="659" y="42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49" name=""/>
              <p:cNvSpPr/>
              <p:nvPr/>
            </p:nvSpPr>
            <p:spPr>
              <a:xfrm>
                <a:off x="5508720" y="366876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a:off x="3355920" y="368136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2787480" y="2782800"/>
                <a:ext cx="3472200" cy="127440"/>
              </a:xfrm>
              <a:custGeom>
                <a:avLst/>
                <a:gdLst/>
                <a:ahLst/>
                <a:rect l="0" t="0" r="r" b="b"/>
                <a:pathLst>
                  <a:path fill="none" w="9645" h="354">
                    <a:moveTo>
                      <a:pt x="9645" y="234"/>
                    </a:moveTo>
                    <a:lnTo>
                      <a:pt x="9376" y="172"/>
                    </a:lnTo>
                    <a:lnTo>
                      <a:pt x="9199" y="172"/>
                    </a:lnTo>
                    <a:lnTo>
                      <a:pt x="9018" y="172"/>
                    </a:lnTo>
                    <a:lnTo>
                      <a:pt x="8842" y="172"/>
                    </a:lnTo>
                    <a:lnTo>
                      <a:pt x="8661" y="115"/>
                    </a:lnTo>
                    <a:lnTo>
                      <a:pt x="8485" y="115"/>
                    </a:lnTo>
                    <a:lnTo>
                      <a:pt x="8304" y="115"/>
                    </a:lnTo>
                    <a:lnTo>
                      <a:pt x="8128" y="52"/>
                    </a:lnTo>
                    <a:lnTo>
                      <a:pt x="7929" y="0"/>
                    </a:lnTo>
                    <a:lnTo>
                      <a:pt x="7770" y="52"/>
                    </a:lnTo>
                    <a:lnTo>
                      <a:pt x="7590" y="172"/>
                    </a:lnTo>
                    <a:lnTo>
                      <a:pt x="7413" y="172"/>
                    </a:lnTo>
                    <a:lnTo>
                      <a:pt x="7232" y="234"/>
                    </a:lnTo>
                    <a:lnTo>
                      <a:pt x="7056" y="293"/>
                    </a:lnTo>
                    <a:lnTo>
                      <a:pt x="6818" y="354"/>
                    </a:lnTo>
                    <a:lnTo>
                      <a:pt x="6637" y="354"/>
                    </a:lnTo>
                    <a:lnTo>
                      <a:pt x="6461" y="354"/>
                    </a:lnTo>
                    <a:lnTo>
                      <a:pt x="6280" y="293"/>
                    </a:lnTo>
                    <a:lnTo>
                      <a:pt x="6042" y="234"/>
                    </a:lnTo>
                    <a:lnTo>
                      <a:pt x="5865" y="234"/>
                    </a:lnTo>
                    <a:lnTo>
                      <a:pt x="5685" y="234"/>
                    </a:lnTo>
                    <a:lnTo>
                      <a:pt x="5508" y="234"/>
                    </a:lnTo>
                    <a:lnTo>
                      <a:pt x="5327" y="234"/>
                    </a:lnTo>
                    <a:lnTo>
                      <a:pt x="5151" y="172"/>
                    </a:lnTo>
                    <a:lnTo>
                      <a:pt x="4970" y="172"/>
                    </a:lnTo>
                    <a:lnTo>
                      <a:pt x="4793" y="172"/>
                    </a:lnTo>
                    <a:lnTo>
                      <a:pt x="4436" y="172"/>
                    </a:lnTo>
                    <a:lnTo>
                      <a:pt x="4220" y="79"/>
                    </a:lnTo>
                    <a:lnTo>
                      <a:pt x="4087" y="35"/>
                    </a:lnTo>
                    <a:lnTo>
                      <a:pt x="3929" y="35"/>
                    </a:lnTo>
                    <a:lnTo>
                      <a:pt x="3770" y="106"/>
                    </a:lnTo>
                    <a:lnTo>
                      <a:pt x="3483" y="115"/>
                    </a:lnTo>
                    <a:lnTo>
                      <a:pt x="3302" y="115"/>
                    </a:lnTo>
                    <a:lnTo>
                      <a:pt x="3064" y="234"/>
                    </a:lnTo>
                    <a:lnTo>
                      <a:pt x="2888" y="293"/>
                    </a:lnTo>
                    <a:lnTo>
                      <a:pt x="2707" y="293"/>
                    </a:lnTo>
                    <a:lnTo>
                      <a:pt x="2531" y="293"/>
                    </a:lnTo>
                    <a:lnTo>
                      <a:pt x="2350" y="234"/>
                    </a:lnTo>
                    <a:lnTo>
                      <a:pt x="2112" y="115"/>
                    </a:lnTo>
                    <a:lnTo>
                      <a:pt x="1935" y="115"/>
                    </a:lnTo>
                    <a:lnTo>
                      <a:pt x="1768" y="106"/>
                    </a:lnTo>
                    <a:lnTo>
                      <a:pt x="1516" y="172"/>
                    </a:lnTo>
                    <a:lnTo>
                      <a:pt x="1278" y="234"/>
                    </a:lnTo>
                    <a:lnTo>
                      <a:pt x="1150" y="164"/>
                    </a:lnTo>
                    <a:lnTo>
                      <a:pt x="970" y="115"/>
                    </a:lnTo>
                    <a:lnTo>
                      <a:pt x="820" y="133"/>
                    </a:lnTo>
                    <a:lnTo>
                      <a:pt x="643" y="186"/>
                    </a:lnTo>
                    <a:lnTo>
                      <a:pt x="489" y="146"/>
                    </a:lnTo>
                    <a:lnTo>
                      <a:pt x="268" y="35"/>
                    </a:lnTo>
                    <a:lnTo>
                      <a:pt x="0" y="22"/>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3025800" y="2871720"/>
                <a:ext cx="3248280" cy="1505160"/>
              </a:xfrm>
              <a:custGeom>
                <a:avLst/>
                <a:gdLst/>
                <a:ahLst/>
                <a:rect l="0" t="0" r="r" b="b"/>
                <a:pathLst>
                  <a:path fill="none" w="9023" h="4181">
                    <a:moveTo>
                      <a:pt x="8983" y="0"/>
                    </a:moveTo>
                    <a:lnTo>
                      <a:pt x="8970" y="39"/>
                    </a:lnTo>
                    <a:lnTo>
                      <a:pt x="8943" y="105"/>
                    </a:lnTo>
                    <a:lnTo>
                      <a:pt x="8930" y="145"/>
                    </a:lnTo>
                    <a:lnTo>
                      <a:pt x="8917" y="185"/>
                    </a:lnTo>
                    <a:lnTo>
                      <a:pt x="8904" y="238"/>
                    </a:lnTo>
                    <a:lnTo>
                      <a:pt x="8877" y="277"/>
                    </a:lnTo>
                    <a:lnTo>
                      <a:pt x="8864" y="317"/>
                    </a:lnTo>
                    <a:lnTo>
                      <a:pt x="8851" y="357"/>
                    </a:lnTo>
                    <a:lnTo>
                      <a:pt x="8851" y="396"/>
                    </a:lnTo>
                    <a:lnTo>
                      <a:pt x="8851" y="436"/>
                    </a:lnTo>
                    <a:lnTo>
                      <a:pt x="8851" y="489"/>
                    </a:lnTo>
                    <a:lnTo>
                      <a:pt x="8851" y="542"/>
                    </a:lnTo>
                    <a:lnTo>
                      <a:pt x="8864" y="582"/>
                    </a:lnTo>
                    <a:lnTo>
                      <a:pt x="8877" y="621"/>
                    </a:lnTo>
                    <a:lnTo>
                      <a:pt x="8891" y="687"/>
                    </a:lnTo>
                    <a:lnTo>
                      <a:pt x="8904" y="754"/>
                    </a:lnTo>
                    <a:lnTo>
                      <a:pt x="8917" y="793"/>
                    </a:lnTo>
                    <a:lnTo>
                      <a:pt x="8943" y="833"/>
                    </a:lnTo>
                    <a:lnTo>
                      <a:pt x="8957" y="886"/>
                    </a:lnTo>
                    <a:lnTo>
                      <a:pt x="8970" y="926"/>
                    </a:lnTo>
                    <a:lnTo>
                      <a:pt x="8983" y="965"/>
                    </a:lnTo>
                    <a:lnTo>
                      <a:pt x="8996" y="1005"/>
                    </a:lnTo>
                    <a:lnTo>
                      <a:pt x="9010" y="1071"/>
                    </a:lnTo>
                    <a:lnTo>
                      <a:pt x="9023" y="1150"/>
                    </a:lnTo>
                    <a:lnTo>
                      <a:pt x="9023" y="1203"/>
                    </a:lnTo>
                    <a:lnTo>
                      <a:pt x="9023" y="1243"/>
                    </a:lnTo>
                    <a:lnTo>
                      <a:pt x="9023" y="1283"/>
                    </a:lnTo>
                    <a:lnTo>
                      <a:pt x="9023" y="1322"/>
                    </a:lnTo>
                    <a:lnTo>
                      <a:pt x="9023" y="1428"/>
                    </a:lnTo>
                    <a:lnTo>
                      <a:pt x="9023" y="1468"/>
                    </a:lnTo>
                    <a:lnTo>
                      <a:pt x="9010" y="1521"/>
                    </a:lnTo>
                    <a:lnTo>
                      <a:pt x="9010" y="1561"/>
                    </a:lnTo>
                    <a:lnTo>
                      <a:pt x="8996" y="1627"/>
                    </a:lnTo>
                    <a:lnTo>
                      <a:pt x="8983" y="1666"/>
                    </a:lnTo>
                    <a:lnTo>
                      <a:pt x="8983" y="1733"/>
                    </a:lnTo>
                    <a:lnTo>
                      <a:pt x="8970" y="1772"/>
                    </a:lnTo>
                    <a:lnTo>
                      <a:pt x="8970" y="1812"/>
                    </a:lnTo>
                    <a:lnTo>
                      <a:pt x="8957" y="1891"/>
                    </a:lnTo>
                    <a:lnTo>
                      <a:pt x="8943" y="1944"/>
                    </a:lnTo>
                    <a:lnTo>
                      <a:pt x="8943" y="1984"/>
                    </a:lnTo>
                    <a:lnTo>
                      <a:pt x="8930" y="2024"/>
                    </a:lnTo>
                    <a:lnTo>
                      <a:pt x="8930" y="2063"/>
                    </a:lnTo>
                    <a:lnTo>
                      <a:pt x="8930" y="2117"/>
                    </a:lnTo>
                    <a:lnTo>
                      <a:pt x="8917" y="2183"/>
                    </a:lnTo>
                    <a:lnTo>
                      <a:pt x="8917" y="2276"/>
                    </a:lnTo>
                    <a:lnTo>
                      <a:pt x="8917" y="2342"/>
                    </a:lnTo>
                    <a:lnTo>
                      <a:pt x="8930" y="2395"/>
                    </a:lnTo>
                    <a:lnTo>
                      <a:pt x="8930" y="2435"/>
                    </a:lnTo>
                    <a:lnTo>
                      <a:pt x="8957" y="2488"/>
                    </a:lnTo>
                    <a:lnTo>
                      <a:pt x="8970" y="2541"/>
                    </a:lnTo>
                    <a:lnTo>
                      <a:pt x="8983" y="2593"/>
                    </a:lnTo>
                    <a:lnTo>
                      <a:pt x="8983" y="2633"/>
                    </a:lnTo>
                    <a:lnTo>
                      <a:pt x="8996" y="2699"/>
                    </a:lnTo>
                    <a:lnTo>
                      <a:pt x="9010" y="2739"/>
                    </a:lnTo>
                    <a:lnTo>
                      <a:pt x="9010" y="2805"/>
                    </a:lnTo>
                    <a:lnTo>
                      <a:pt x="9023" y="2871"/>
                    </a:lnTo>
                    <a:lnTo>
                      <a:pt x="9023" y="2937"/>
                    </a:lnTo>
                    <a:lnTo>
                      <a:pt x="9023" y="3004"/>
                    </a:lnTo>
                    <a:lnTo>
                      <a:pt x="9023" y="3043"/>
                    </a:lnTo>
                    <a:lnTo>
                      <a:pt x="9023" y="3083"/>
                    </a:lnTo>
                    <a:lnTo>
                      <a:pt x="9010" y="3123"/>
                    </a:lnTo>
                    <a:lnTo>
                      <a:pt x="9010" y="3176"/>
                    </a:lnTo>
                    <a:lnTo>
                      <a:pt x="8970" y="3215"/>
                    </a:lnTo>
                    <a:lnTo>
                      <a:pt x="8957" y="3295"/>
                    </a:lnTo>
                    <a:lnTo>
                      <a:pt x="8943" y="3334"/>
                    </a:lnTo>
                    <a:lnTo>
                      <a:pt x="8943" y="3453"/>
                    </a:lnTo>
                    <a:lnTo>
                      <a:pt x="8943" y="3506"/>
                    </a:lnTo>
                    <a:lnTo>
                      <a:pt x="8943" y="3546"/>
                    </a:lnTo>
                    <a:lnTo>
                      <a:pt x="8943" y="3612"/>
                    </a:lnTo>
                    <a:lnTo>
                      <a:pt x="8943" y="3652"/>
                    </a:lnTo>
                    <a:lnTo>
                      <a:pt x="8957" y="3731"/>
                    </a:lnTo>
                    <a:lnTo>
                      <a:pt x="8970" y="3784"/>
                    </a:lnTo>
                    <a:lnTo>
                      <a:pt x="8970" y="3837"/>
                    </a:lnTo>
                    <a:lnTo>
                      <a:pt x="8983" y="3877"/>
                    </a:lnTo>
                    <a:lnTo>
                      <a:pt x="8983" y="3916"/>
                    </a:lnTo>
                    <a:lnTo>
                      <a:pt x="8983" y="3956"/>
                    </a:lnTo>
                    <a:lnTo>
                      <a:pt x="8996" y="3996"/>
                    </a:lnTo>
                    <a:lnTo>
                      <a:pt x="8996" y="4062"/>
                    </a:lnTo>
                    <a:lnTo>
                      <a:pt x="8970" y="4035"/>
                    </a:lnTo>
                    <a:lnTo>
                      <a:pt x="8811" y="4049"/>
                    </a:lnTo>
                    <a:lnTo>
                      <a:pt x="8771" y="4049"/>
                    </a:lnTo>
                    <a:lnTo>
                      <a:pt x="8679" y="4049"/>
                    </a:lnTo>
                    <a:lnTo>
                      <a:pt x="8573" y="4035"/>
                    </a:lnTo>
                    <a:lnTo>
                      <a:pt x="8533" y="4035"/>
                    </a:lnTo>
                    <a:lnTo>
                      <a:pt x="8494" y="4009"/>
                    </a:lnTo>
                    <a:lnTo>
                      <a:pt x="8454" y="4009"/>
                    </a:lnTo>
                    <a:lnTo>
                      <a:pt x="8414" y="3969"/>
                    </a:lnTo>
                    <a:lnTo>
                      <a:pt x="8348" y="3930"/>
                    </a:lnTo>
                    <a:lnTo>
                      <a:pt x="8308" y="3916"/>
                    </a:lnTo>
                    <a:lnTo>
                      <a:pt x="8269" y="3916"/>
                    </a:lnTo>
                    <a:lnTo>
                      <a:pt x="8203" y="3930"/>
                    </a:lnTo>
                    <a:lnTo>
                      <a:pt x="8163" y="3943"/>
                    </a:lnTo>
                    <a:lnTo>
                      <a:pt x="8084" y="3956"/>
                    </a:lnTo>
                    <a:lnTo>
                      <a:pt x="8031" y="3969"/>
                    </a:lnTo>
                    <a:lnTo>
                      <a:pt x="7978" y="3982"/>
                    </a:lnTo>
                    <a:lnTo>
                      <a:pt x="7885" y="3982"/>
                    </a:lnTo>
                    <a:lnTo>
                      <a:pt x="7819" y="3996"/>
                    </a:lnTo>
                    <a:lnTo>
                      <a:pt x="7753" y="3996"/>
                    </a:lnTo>
                    <a:lnTo>
                      <a:pt x="7687" y="4009"/>
                    </a:lnTo>
                    <a:lnTo>
                      <a:pt x="7607" y="4022"/>
                    </a:lnTo>
                    <a:lnTo>
                      <a:pt x="7541" y="4035"/>
                    </a:lnTo>
                    <a:lnTo>
                      <a:pt x="7501" y="4035"/>
                    </a:lnTo>
                    <a:lnTo>
                      <a:pt x="7435" y="4035"/>
                    </a:lnTo>
                    <a:lnTo>
                      <a:pt x="7263" y="4035"/>
                    </a:lnTo>
                    <a:lnTo>
                      <a:pt x="7197" y="4049"/>
                    </a:lnTo>
                    <a:lnTo>
                      <a:pt x="7118" y="4062"/>
                    </a:lnTo>
                    <a:lnTo>
                      <a:pt x="7065" y="4075"/>
                    </a:lnTo>
                    <a:lnTo>
                      <a:pt x="7025" y="4075"/>
                    </a:lnTo>
                    <a:lnTo>
                      <a:pt x="6933" y="4075"/>
                    </a:lnTo>
                    <a:lnTo>
                      <a:pt x="6893" y="4075"/>
                    </a:lnTo>
                    <a:lnTo>
                      <a:pt x="6827" y="4088"/>
                    </a:lnTo>
                    <a:lnTo>
                      <a:pt x="6655" y="4088"/>
                    </a:lnTo>
                    <a:lnTo>
                      <a:pt x="6589" y="4088"/>
                    </a:lnTo>
                    <a:lnTo>
                      <a:pt x="6522" y="4075"/>
                    </a:lnTo>
                    <a:lnTo>
                      <a:pt x="6483" y="4075"/>
                    </a:lnTo>
                    <a:lnTo>
                      <a:pt x="6443" y="4075"/>
                    </a:lnTo>
                    <a:lnTo>
                      <a:pt x="6364" y="4062"/>
                    </a:lnTo>
                    <a:lnTo>
                      <a:pt x="6311" y="4062"/>
                    </a:lnTo>
                    <a:lnTo>
                      <a:pt x="6192" y="4062"/>
                    </a:lnTo>
                    <a:lnTo>
                      <a:pt x="6152" y="4062"/>
                    </a:lnTo>
                    <a:lnTo>
                      <a:pt x="6099" y="4062"/>
                    </a:lnTo>
                    <a:lnTo>
                      <a:pt x="5980" y="4049"/>
                    </a:lnTo>
                    <a:lnTo>
                      <a:pt x="5821" y="4049"/>
                    </a:lnTo>
                    <a:lnTo>
                      <a:pt x="5755" y="4049"/>
                    </a:lnTo>
                    <a:lnTo>
                      <a:pt x="5676" y="4049"/>
                    </a:lnTo>
                    <a:lnTo>
                      <a:pt x="5610" y="4062"/>
                    </a:lnTo>
                    <a:lnTo>
                      <a:pt x="5041" y="4128"/>
                    </a:lnTo>
                    <a:lnTo>
                      <a:pt x="4975" y="4128"/>
                    </a:lnTo>
                    <a:lnTo>
                      <a:pt x="4842" y="4141"/>
                    </a:lnTo>
                    <a:lnTo>
                      <a:pt x="4803" y="4154"/>
                    </a:lnTo>
                    <a:lnTo>
                      <a:pt x="4763" y="4154"/>
                    </a:lnTo>
                    <a:lnTo>
                      <a:pt x="4684" y="4181"/>
                    </a:lnTo>
                    <a:lnTo>
                      <a:pt x="4644" y="4181"/>
                    </a:lnTo>
                    <a:lnTo>
                      <a:pt x="4604" y="4181"/>
                    </a:lnTo>
                    <a:lnTo>
                      <a:pt x="4512" y="4181"/>
                    </a:lnTo>
                    <a:lnTo>
                      <a:pt x="4458" y="4181"/>
                    </a:lnTo>
                    <a:lnTo>
                      <a:pt x="4392" y="4154"/>
                    </a:lnTo>
                    <a:lnTo>
                      <a:pt x="4325" y="4141"/>
                    </a:lnTo>
                    <a:lnTo>
                      <a:pt x="4259" y="4128"/>
                    </a:lnTo>
                    <a:lnTo>
                      <a:pt x="4153" y="4102"/>
                    </a:lnTo>
                    <a:lnTo>
                      <a:pt x="4087" y="4102"/>
                    </a:lnTo>
                    <a:lnTo>
                      <a:pt x="3915" y="4102"/>
                    </a:lnTo>
                    <a:lnTo>
                      <a:pt x="3849" y="4102"/>
                    </a:lnTo>
                    <a:lnTo>
                      <a:pt x="3757" y="4088"/>
                    </a:lnTo>
                    <a:lnTo>
                      <a:pt x="3585" y="4088"/>
                    </a:lnTo>
                    <a:lnTo>
                      <a:pt x="3518" y="4102"/>
                    </a:lnTo>
                    <a:lnTo>
                      <a:pt x="3466" y="4102"/>
                    </a:lnTo>
                    <a:lnTo>
                      <a:pt x="3413" y="4102"/>
                    </a:lnTo>
                    <a:lnTo>
                      <a:pt x="3373" y="4088"/>
                    </a:lnTo>
                    <a:lnTo>
                      <a:pt x="3333" y="4075"/>
                    </a:lnTo>
                    <a:lnTo>
                      <a:pt x="3201" y="4062"/>
                    </a:lnTo>
                    <a:lnTo>
                      <a:pt x="3042" y="4049"/>
                    </a:lnTo>
                    <a:lnTo>
                      <a:pt x="2950" y="4049"/>
                    </a:lnTo>
                    <a:lnTo>
                      <a:pt x="2791" y="4049"/>
                    </a:lnTo>
                    <a:lnTo>
                      <a:pt x="2579" y="4075"/>
                    </a:lnTo>
                    <a:lnTo>
                      <a:pt x="2513" y="4075"/>
                    </a:lnTo>
                    <a:lnTo>
                      <a:pt x="2473" y="4075"/>
                    </a:lnTo>
                    <a:lnTo>
                      <a:pt x="2420" y="4075"/>
                    </a:lnTo>
                    <a:lnTo>
                      <a:pt x="2368" y="4075"/>
                    </a:lnTo>
                    <a:lnTo>
                      <a:pt x="2301" y="4088"/>
                    </a:lnTo>
                    <a:lnTo>
                      <a:pt x="2235" y="4088"/>
                    </a:lnTo>
                    <a:lnTo>
                      <a:pt x="2182" y="4088"/>
                    </a:lnTo>
                    <a:lnTo>
                      <a:pt x="2143" y="4088"/>
                    </a:lnTo>
                    <a:lnTo>
                      <a:pt x="2050" y="4075"/>
                    </a:lnTo>
                    <a:lnTo>
                      <a:pt x="1984" y="4049"/>
                    </a:lnTo>
                    <a:lnTo>
                      <a:pt x="1944" y="4049"/>
                    </a:lnTo>
                    <a:lnTo>
                      <a:pt x="1878" y="4035"/>
                    </a:lnTo>
                    <a:lnTo>
                      <a:pt x="1838" y="4035"/>
                    </a:lnTo>
                    <a:lnTo>
                      <a:pt x="1772" y="4022"/>
                    </a:lnTo>
                    <a:lnTo>
                      <a:pt x="1733" y="4022"/>
                    </a:lnTo>
                    <a:lnTo>
                      <a:pt x="1693" y="4022"/>
                    </a:lnTo>
                    <a:lnTo>
                      <a:pt x="1653" y="4009"/>
                    </a:lnTo>
                    <a:lnTo>
                      <a:pt x="1574" y="4009"/>
                    </a:lnTo>
                    <a:lnTo>
                      <a:pt x="1415" y="4009"/>
                    </a:lnTo>
                    <a:lnTo>
                      <a:pt x="1375" y="4009"/>
                    </a:lnTo>
                    <a:lnTo>
                      <a:pt x="1336" y="4009"/>
                    </a:lnTo>
                    <a:lnTo>
                      <a:pt x="1243" y="4022"/>
                    </a:lnTo>
                    <a:lnTo>
                      <a:pt x="1203" y="4022"/>
                    </a:lnTo>
                    <a:lnTo>
                      <a:pt x="1150" y="4035"/>
                    </a:lnTo>
                    <a:lnTo>
                      <a:pt x="1111" y="4049"/>
                    </a:lnTo>
                    <a:lnTo>
                      <a:pt x="1071" y="4049"/>
                    </a:lnTo>
                    <a:lnTo>
                      <a:pt x="1005" y="4049"/>
                    </a:lnTo>
                    <a:lnTo>
                      <a:pt x="939" y="4062"/>
                    </a:lnTo>
                    <a:lnTo>
                      <a:pt x="859" y="4062"/>
                    </a:lnTo>
                    <a:lnTo>
                      <a:pt x="820" y="4062"/>
                    </a:lnTo>
                    <a:lnTo>
                      <a:pt x="767" y="4062"/>
                    </a:lnTo>
                    <a:lnTo>
                      <a:pt x="727" y="4062"/>
                    </a:lnTo>
                    <a:lnTo>
                      <a:pt x="687" y="4062"/>
                    </a:lnTo>
                    <a:lnTo>
                      <a:pt x="621" y="4062"/>
                    </a:lnTo>
                    <a:lnTo>
                      <a:pt x="568" y="4062"/>
                    </a:lnTo>
                    <a:lnTo>
                      <a:pt x="502" y="4049"/>
                    </a:lnTo>
                    <a:lnTo>
                      <a:pt x="463" y="4049"/>
                    </a:lnTo>
                    <a:lnTo>
                      <a:pt x="423" y="4049"/>
                    </a:lnTo>
                    <a:lnTo>
                      <a:pt x="357" y="4049"/>
                    </a:lnTo>
                    <a:lnTo>
                      <a:pt x="317" y="4049"/>
                    </a:lnTo>
                    <a:lnTo>
                      <a:pt x="251" y="4049"/>
                    </a:lnTo>
                    <a:lnTo>
                      <a:pt x="185" y="4049"/>
                    </a:lnTo>
                    <a:lnTo>
                      <a:pt x="145" y="4049"/>
                    </a:lnTo>
                    <a:lnTo>
                      <a:pt x="105" y="4049"/>
                    </a:lnTo>
                    <a:lnTo>
                      <a:pt x="39" y="4049"/>
                    </a:lnTo>
                    <a:lnTo>
                      <a:pt x="0" y="404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653"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5" name=""/>
          <p:cNvSpPr txBox="1"/>
          <p:nvPr/>
        </p:nvSpPr>
        <p:spPr>
          <a:xfrm>
            <a:off x="5033880" y="695160"/>
            <a:ext cx="326088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Minimum 3 points contacting </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assumed datum A</a:t>
            </a:r>
            <a:endParaRPr b="0" lang="en-US" sz="2000" spc="-1" strike="noStrike">
              <a:solidFill>
                <a:srgbClr val="000000"/>
              </a:solidFill>
              <a:latin typeface="Arial"/>
            </a:endParaRPr>
          </a:p>
        </p:txBody>
      </p:sp>
      <p:sp>
        <p:nvSpPr>
          <p:cNvPr id="1656" name=""/>
          <p:cNvSpPr/>
          <p:nvPr/>
        </p:nvSpPr>
        <p:spPr>
          <a:xfrm>
            <a:off x="7042320" y="118116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flipH="1">
            <a:off x="6388200" y="1181160"/>
            <a:ext cx="853920" cy="2292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p:nvPr/>
        </p:nvSpPr>
        <p:spPr>
          <a:xfrm>
            <a:off x="6323040" y="3440160"/>
            <a:ext cx="98280" cy="98280"/>
          </a:xfrm>
          <a:prstGeom prst="ellipse">
            <a:avLst/>
          </a:prstGeom>
          <a:solidFill>
            <a:srgbClr val="ffffff"/>
          </a:solidFill>
          <a:ln w="12600">
            <a:solidFill>
              <a:srgbClr val="ffffff"/>
            </a:solidFill>
            <a:round/>
          </a:ln>
        </p:spPr>
        <p:txBody>
          <a:bodyPr lIns="96120" rIns="96120" tIns="47160" bIns="47160" anchor="t">
            <a:noAutofit/>
          </a:bodyPr>
          <a:p>
            <a:endParaRPr b="0" lang="en-US" sz="1800" spc="-1" strike="noStrike">
              <a:solidFill>
                <a:srgbClr val="000000"/>
              </a:solidFill>
              <a:latin typeface="Arial"/>
            </a:endParaRPr>
          </a:p>
        </p:txBody>
      </p:sp>
      <p:sp>
        <p:nvSpPr>
          <p:cNvPr id="1659"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660" name=""/>
          <p:cNvGrpSpPr/>
          <p:nvPr/>
        </p:nvGrpSpPr>
        <p:grpSpPr>
          <a:xfrm>
            <a:off x="560520" y="447840"/>
            <a:ext cx="3624120" cy="1190520"/>
            <a:chOff x="560520" y="447840"/>
            <a:chExt cx="3624120" cy="1190520"/>
          </a:xfrm>
        </p:grpSpPr>
        <p:sp>
          <p:nvSpPr>
            <p:cNvPr id="1661"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662"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6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5"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66" name=""/>
          <p:cNvGrpSpPr/>
          <p:nvPr/>
        </p:nvGrpSpPr>
        <p:grpSpPr>
          <a:xfrm>
            <a:off x="2776680" y="2549520"/>
            <a:ext cx="3497400" cy="1594080"/>
            <a:chOff x="2776680" y="2549520"/>
            <a:chExt cx="3497400" cy="1594080"/>
          </a:xfrm>
        </p:grpSpPr>
        <p:sp>
          <p:nvSpPr>
            <p:cNvPr id="1667" name=""/>
            <p:cNvSpPr/>
            <p:nvPr/>
          </p:nvSpPr>
          <p:spPr>
            <a:xfrm flipH="1">
              <a:off x="5821200" y="3637080"/>
              <a:ext cx="190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8" name=""/>
            <p:cNvSpPr/>
            <p:nvPr/>
          </p:nvSpPr>
          <p:spPr>
            <a:xfrm flipH="1">
              <a:off x="5675400" y="3643200"/>
              <a:ext cx="85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flipH="1">
              <a:off x="5335560" y="3639960"/>
              <a:ext cx="279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5716440" y="3349800"/>
              <a:ext cx="0" cy="198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5713560" y="3606840"/>
              <a:ext cx="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672" name=""/>
            <p:cNvSpPr/>
            <p:nvPr/>
          </p:nvSpPr>
          <p:spPr>
            <a:xfrm>
              <a:off x="5716440" y="3754440"/>
              <a:ext cx="0" cy="227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flipH="1">
              <a:off x="3662280" y="3645000"/>
              <a:ext cx="2462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3573360" y="3325680"/>
              <a:ext cx="0" cy="190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a:off x="3575160" y="3606840"/>
              <a:ext cx="0" cy="82440"/>
            </a:xfrm>
            <a:prstGeom prst="line">
              <a:avLst/>
            </a:prstGeom>
            <a:ln w="12600">
              <a:solidFill>
                <a:srgbClr val="f2fefd"/>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676" name=""/>
            <p:cNvSpPr/>
            <p:nvPr/>
          </p:nvSpPr>
          <p:spPr>
            <a:xfrm>
              <a:off x="3575160" y="3784680"/>
              <a:ext cx="0" cy="207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7" name=""/>
            <p:cNvSpPr/>
            <p:nvPr/>
          </p:nvSpPr>
          <p:spPr>
            <a:xfrm flipH="1">
              <a:off x="3529080" y="3645000"/>
              <a:ext cx="93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flipH="1">
              <a:off x="3094200" y="3645000"/>
              <a:ext cx="377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79" name=""/>
            <p:cNvGrpSpPr/>
            <p:nvPr/>
          </p:nvGrpSpPr>
          <p:grpSpPr>
            <a:xfrm>
              <a:off x="2776680" y="2549520"/>
              <a:ext cx="3497400" cy="1594080"/>
              <a:chOff x="2776680" y="2549520"/>
              <a:chExt cx="3497400" cy="1594080"/>
            </a:xfrm>
          </p:grpSpPr>
          <p:sp>
            <p:nvSpPr>
              <p:cNvPr id="1680" name=""/>
              <p:cNvSpPr/>
              <p:nvPr/>
            </p:nvSpPr>
            <p:spPr>
              <a:xfrm>
                <a:off x="2776680" y="2557440"/>
                <a:ext cx="243360" cy="1541880"/>
              </a:xfrm>
              <a:custGeom>
                <a:avLst/>
                <a:gdLst/>
                <a:ahLst/>
                <a:rect l="0" t="0" r="r" b="b"/>
                <a:pathLst>
                  <a:path fill="none" w="676" h="4283">
                    <a:moveTo>
                      <a:pt x="0" y="0"/>
                    </a:moveTo>
                    <a:lnTo>
                      <a:pt x="4" y="180"/>
                    </a:lnTo>
                    <a:lnTo>
                      <a:pt x="186" y="357"/>
                    </a:lnTo>
                    <a:lnTo>
                      <a:pt x="252" y="537"/>
                    </a:lnTo>
                    <a:lnTo>
                      <a:pt x="247" y="709"/>
                    </a:lnTo>
                    <a:lnTo>
                      <a:pt x="239" y="895"/>
                    </a:lnTo>
                    <a:lnTo>
                      <a:pt x="309" y="1076"/>
                    </a:lnTo>
                    <a:lnTo>
                      <a:pt x="358" y="1253"/>
                    </a:lnTo>
                    <a:lnTo>
                      <a:pt x="367" y="1429"/>
                    </a:lnTo>
                    <a:lnTo>
                      <a:pt x="305" y="1667"/>
                    </a:lnTo>
                    <a:lnTo>
                      <a:pt x="300" y="1848"/>
                    </a:lnTo>
                    <a:lnTo>
                      <a:pt x="424" y="2025"/>
                    </a:lnTo>
                    <a:lnTo>
                      <a:pt x="424" y="2210"/>
                    </a:lnTo>
                    <a:lnTo>
                      <a:pt x="424" y="2391"/>
                    </a:lnTo>
                    <a:lnTo>
                      <a:pt x="428" y="2567"/>
                    </a:lnTo>
                    <a:lnTo>
                      <a:pt x="424" y="2748"/>
                    </a:lnTo>
                    <a:lnTo>
                      <a:pt x="424" y="2977"/>
                    </a:lnTo>
                    <a:lnTo>
                      <a:pt x="486" y="3149"/>
                    </a:lnTo>
                    <a:lnTo>
                      <a:pt x="610" y="3335"/>
                    </a:lnTo>
                    <a:lnTo>
                      <a:pt x="606" y="3516"/>
                    </a:lnTo>
                    <a:lnTo>
                      <a:pt x="663" y="3692"/>
                    </a:lnTo>
                    <a:lnTo>
                      <a:pt x="672" y="3878"/>
                    </a:lnTo>
                    <a:lnTo>
                      <a:pt x="672" y="4058"/>
                    </a:lnTo>
                    <a:lnTo>
                      <a:pt x="672" y="4235"/>
                    </a:lnTo>
                    <a:lnTo>
                      <a:pt x="676" y="4283"/>
                    </a:lnTo>
                    <a:lnTo>
                      <a:pt x="659" y="42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81" name=""/>
              <p:cNvSpPr/>
              <p:nvPr/>
            </p:nvSpPr>
            <p:spPr>
              <a:xfrm>
                <a:off x="5508720" y="343548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3355920" y="344808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2787480" y="2549520"/>
                <a:ext cx="3472200" cy="127440"/>
              </a:xfrm>
              <a:custGeom>
                <a:avLst/>
                <a:gdLst/>
                <a:ahLst/>
                <a:rect l="0" t="0" r="r" b="b"/>
                <a:pathLst>
                  <a:path fill="none" w="9645" h="354">
                    <a:moveTo>
                      <a:pt x="9645" y="234"/>
                    </a:moveTo>
                    <a:lnTo>
                      <a:pt x="9376" y="172"/>
                    </a:lnTo>
                    <a:lnTo>
                      <a:pt x="9199" y="172"/>
                    </a:lnTo>
                    <a:lnTo>
                      <a:pt x="9018" y="172"/>
                    </a:lnTo>
                    <a:lnTo>
                      <a:pt x="8842" y="172"/>
                    </a:lnTo>
                    <a:lnTo>
                      <a:pt x="8661" y="115"/>
                    </a:lnTo>
                    <a:lnTo>
                      <a:pt x="8485" y="115"/>
                    </a:lnTo>
                    <a:lnTo>
                      <a:pt x="8304" y="115"/>
                    </a:lnTo>
                    <a:lnTo>
                      <a:pt x="8128" y="52"/>
                    </a:lnTo>
                    <a:lnTo>
                      <a:pt x="7929" y="0"/>
                    </a:lnTo>
                    <a:lnTo>
                      <a:pt x="7770" y="52"/>
                    </a:lnTo>
                    <a:lnTo>
                      <a:pt x="7590" y="172"/>
                    </a:lnTo>
                    <a:lnTo>
                      <a:pt x="7413" y="172"/>
                    </a:lnTo>
                    <a:lnTo>
                      <a:pt x="7232" y="234"/>
                    </a:lnTo>
                    <a:lnTo>
                      <a:pt x="7056" y="293"/>
                    </a:lnTo>
                    <a:lnTo>
                      <a:pt x="6818" y="354"/>
                    </a:lnTo>
                    <a:lnTo>
                      <a:pt x="6637" y="354"/>
                    </a:lnTo>
                    <a:lnTo>
                      <a:pt x="6461" y="354"/>
                    </a:lnTo>
                    <a:lnTo>
                      <a:pt x="6280" y="293"/>
                    </a:lnTo>
                    <a:lnTo>
                      <a:pt x="6042" y="234"/>
                    </a:lnTo>
                    <a:lnTo>
                      <a:pt x="5865" y="234"/>
                    </a:lnTo>
                    <a:lnTo>
                      <a:pt x="5685" y="234"/>
                    </a:lnTo>
                    <a:lnTo>
                      <a:pt x="5508" y="234"/>
                    </a:lnTo>
                    <a:lnTo>
                      <a:pt x="5327" y="234"/>
                    </a:lnTo>
                    <a:lnTo>
                      <a:pt x="5151" y="172"/>
                    </a:lnTo>
                    <a:lnTo>
                      <a:pt x="4970" y="172"/>
                    </a:lnTo>
                    <a:lnTo>
                      <a:pt x="4793" y="172"/>
                    </a:lnTo>
                    <a:lnTo>
                      <a:pt x="4436" y="172"/>
                    </a:lnTo>
                    <a:lnTo>
                      <a:pt x="4220" y="79"/>
                    </a:lnTo>
                    <a:lnTo>
                      <a:pt x="4087" y="35"/>
                    </a:lnTo>
                    <a:lnTo>
                      <a:pt x="3929" y="35"/>
                    </a:lnTo>
                    <a:lnTo>
                      <a:pt x="3770" y="106"/>
                    </a:lnTo>
                    <a:lnTo>
                      <a:pt x="3483" y="115"/>
                    </a:lnTo>
                    <a:lnTo>
                      <a:pt x="3302" y="115"/>
                    </a:lnTo>
                    <a:lnTo>
                      <a:pt x="3064" y="234"/>
                    </a:lnTo>
                    <a:lnTo>
                      <a:pt x="2888" y="293"/>
                    </a:lnTo>
                    <a:lnTo>
                      <a:pt x="2707" y="293"/>
                    </a:lnTo>
                    <a:lnTo>
                      <a:pt x="2531" y="293"/>
                    </a:lnTo>
                    <a:lnTo>
                      <a:pt x="2350" y="234"/>
                    </a:lnTo>
                    <a:lnTo>
                      <a:pt x="2112" y="115"/>
                    </a:lnTo>
                    <a:lnTo>
                      <a:pt x="1935" y="115"/>
                    </a:lnTo>
                    <a:lnTo>
                      <a:pt x="1768" y="106"/>
                    </a:lnTo>
                    <a:lnTo>
                      <a:pt x="1516" y="172"/>
                    </a:lnTo>
                    <a:lnTo>
                      <a:pt x="1278" y="234"/>
                    </a:lnTo>
                    <a:lnTo>
                      <a:pt x="1150" y="164"/>
                    </a:lnTo>
                    <a:lnTo>
                      <a:pt x="970" y="115"/>
                    </a:lnTo>
                    <a:lnTo>
                      <a:pt x="820" y="133"/>
                    </a:lnTo>
                    <a:lnTo>
                      <a:pt x="643" y="186"/>
                    </a:lnTo>
                    <a:lnTo>
                      <a:pt x="489" y="146"/>
                    </a:lnTo>
                    <a:lnTo>
                      <a:pt x="268" y="35"/>
                    </a:lnTo>
                    <a:lnTo>
                      <a:pt x="0" y="22"/>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684" name=""/>
              <p:cNvSpPr/>
              <p:nvPr/>
            </p:nvSpPr>
            <p:spPr>
              <a:xfrm>
                <a:off x="3025800" y="2638440"/>
                <a:ext cx="3248280" cy="1505160"/>
              </a:xfrm>
              <a:custGeom>
                <a:avLst/>
                <a:gdLst/>
                <a:ahLst/>
                <a:rect l="0" t="0" r="r" b="b"/>
                <a:pathLst>
                  <a:path fill="none" w="9023" h="4181">
                    <a:moveTo>
                      <a:pt x="8983" y="0"/>
                    </a:moveTo>
                    <a:lnTo>
                      <a:pt x="8970" y="39"/>
                    </a:lnTo>
                    <a:lnTo>
                      <a:pt x="8943" y="105"/>
                    </a:lnTo>
                    <a:lnTo>
                      <a:pt x="8930" y="145"/>
                    </a:lnTo>
                    <a:lnTo>
                      <a:pt x="8917" y="185"/>
                    </a:lnTo>
                    <a:lnTo>
                      <a:pt x="8904" y="238"/>
                    </a:lnTo>
                    <a:lnTo>
                      <a:pt x="8877" y="277"/>
                    </a:lnTo>
                    <a:lnTo>
                      <a:pt x="8864" y="317"/>
                    </a:lnTo>
                    <a:lnTo>
                      <a:pt x="8851" y="357"/>
                    </a:lnTo>
                    <a:lnTo>
                      <a:pt x="8851" y="396"/>
                    </a:lnTo>
                    <a:lnTo>
                      <a:pt x="8851" y="436"/>
                    </a:lnTo>
                    <a:lnTo>
                      <a:pt x="8851" y="489"/>
                    </a:lnTo>
                    <a:lnTo>
                      <a:pt x="8851" y="542"/>
                    </a:lnTo>
                    <a:lnTo>
                      <a:pt x="8864" y="582"/>
                    </a:lnTo>
                    <a:lnTo>
                      <a:pt x="8877" y="621"/>
                    </a:lnTo>
                    <a:lnTo>
                      <a:pt x="8891" y="687"/>
                    </a:lnTo>
                    <a:lnTo>
                      <a:pt x="8904" y="754"/>
                    </a:lnTo>
                    <a:lnTo>
                      <a:pt x="8917" y="793"/>
                    </a:lnTo>
                    <a:lnTo>
                      <a:pt x="8943" y="833"/>
                    </a:lnTo>
                    <a:lnTo>
                      <a:pt x="8957" y="886"/>
                    </a:lnTo>
                    <a:lnTo>
                      <a:pt x="8970" y="926"/>
                    </a:lnTo>
                    <a:lnTo>
                      <a:pt x="8983" y="965"/>
                    </a:lnTo>
                    <a:lnTo>
                      <a:pt x="8996" y="1005"/>
                    </a:lnTo>
                    <a:lnTo>
                      <a:pt x="9010" y="1071"/>
                    </a:lnTo>
                    <a:lnTo>
                      <a:pt x="9023" y="1150"/>
                    </a:lnTo>
                    <a:lnTo>
                      <a:pt x="9023" y="1203"/>
                    </a:lnTo>
                    <a:lnTo>
                      <a:pt x="9023" y="1243"/>
                    </a:lnTo>
                    <a:lnTo>
                      <a:pt x="9023" y="1283"/>
                    </a:lnTo>
                    <a:lnTo>
                      <a:pt x="9023" y="1322"/>
                    </a:lnTo>
                    <a:lnTo>
                      <a:pt x="9023" y="1428"/>
                    </a:lnTo>
                    <a:lnTo>
                      <a:pt x="9023" y="1468"/>
                    </a:lnTo>
                    <a:lnTo>
                      <a:pt x="9010" y="1521"/>
                    </a:lnTo>
                    <a:lnTo>
                      <a:pt x="9010" y="1561"/>
                    </a:lnTo>
                    <a:lnTo>
                      <a:pt x="8996" y="1627"/>
                    </a:lnTo>
                    <a:lnTo>
                      <a:pt x="8983" y="1666"/>
                    </a:lnTo>
                    <a:lnTo>
                      <a:pt x="8983" y="1733"/>
                    </a:lnTo>
                    <a:lnTo>
                      <a:pt x="8970" y="1772"/>
                    </a:lnTo>
                    <a:lnTo>
                      <a:pt x="8970" y="1812"/>
                    </a:lnTo>
                    <a:lnTo>
                      <a:pt x="8957" y="1891"/>
                    </a:lnTo>
                    <a:lnTo>
                      <a:pt x="8943" y="1944"/>
                    </a:lnTo>
                    <a:lnTo>
                      <a:pt x="8943" y="1984"/>
                    </a:lnTo>
                    <a:lnTo>
                      <a:pt x="8930" y="2024"/>
                    </a:lnTo>
                    <a:lnTo>
                      <a:pt x="8930" y="2063"/>
                    </a:lnTo>
                    <a:lnTo>
                      <a:pt x="8930" y="2117"/>
                    </a:lnTo>
                    <a:lnTo>
                      <a:pt x="8917" y="2183"/>
                    </a:lnTo>
                    <a:lnTo>
                      <a:pt x="8917" y="2276"/>
                    </a:lnTo>
                    <a:lnTo>
                      <a:pt x="8917" y="2342"/>
                    </a:lnTo>
                    <a:lnTo>
                      <a:pt x="8930" y="2395"/>
                    </a:lnTo>
                    <a:lnTo>
                      <a:pt x="8930" y="2435"/>
                    </a:lnTo>
                    <a:lnTo>
                      <a:pt x="8957" y="2488"/>
                    </a:lnTo>
                    <a:lnTo>
                      <a:pt x="8970" y="2541"/>
                    </a:lnTo>
                    <a:lnTo>
                      <a:pt x="8983" y="2593"/>
                    </a:lnTo>
                    <a:lnTo>
                      <a:pt x="8983" y="2633"/>
                    </a:lnTo>
                    <a:lnTo>
                      <a:pt x="8996" y="2699"/>
                    </a:lnTo>
                    <a:lnTo>
                      <a:pt x="9010" y="2739"/>
                    </a:lnTo>
                    <a:lnTo>
                      <a:pt x="9010" y="2805"/>
                    </a:lnTo>
                    <a:lnTo>
                      <a:pt x="9023" y="2871"/>
                    </a:lnTo>
                    <a:lnTo>
                      <a:pt x="9023" y="2937"/>
                    </a:lnTo>
                    <a:lnTo>
                      <a:pt x="9023" y="3004"/>
                    </a:lnTo>
                    <a:lnTo>
                      <a:pt x="9023" y="3043"/>
                    </a:lnTo>
                    <a:lnTo>
                      <a:pt x="9023" y="3083"/>
                    </a:lnTo>
                    <a:lnTo>
                      <a:pt x="9010" y="3123"/>
                    </a:lnTo>
                    <a:lnTo>
                      <a:pt x="9010" y="3176"/>
                    </a:lnTo>
                    <a:lnTo>
                      <a:pt x="8970" y="3215"/>
                    </a:lnTo>
                    <a:lnTo>
                      <a:pt x="8957" y="3295"/>
                    </a:lnTo>
                    <a:lnTo>
                      <a:pt x="8943" y="3334"/>
                    </a:lnTo>
                    <a:lnTo>
                      <a:pt x="8943" y="3453"/>
                    </a:lnTo>
                    <a:lnTo>
                      <a:pt x="8943" y="3506"/>
                    </a:lnTo>
                    <a:lnTo>
                      <a:pt x="8943" y="3546"/>
                    </a:lnTo>
                    <a:lnTo>
                      <a:pt x="8943" y="3612"/>
                    </a:lnTo>
                    <a:lnTo>
                      <a:pt x="8943" y="3652"/>
                    </a:lnTo>
                    <a:lnTo>
                      <a:pt x="8957" y="3731"/>
                    </a:lnTo>
                    <a:lnTo>
                      <a:pt x="8970" y="3784"/>
                    </a:lnTo>
                    <a:lnTo>
                      <a:pt x="8970" y="3837"/>
                    </a:lnTo>
                    <a:lnTo>
                      <a:pt x="8983" y="3877"/>
                    </a:lnTo>
                    <a:lnTo>
                      <a:pt x="8983" y="3916"/>
                    </a:lnTo>
                    <a:lnTo>
                      <a:pt x="8983" y="3956"/>
                    </a:lnTo>
                    <a:lnTo>
                      <a:pt x="8996" y="3996"/>
                    </a:lnTo>
                    <a:lnTo>
                      <a:pt x="8996" y="4062"/>
                    </a:lnTo>
                    <a:lnTo>
                      <a:pt x="8970" y="4035"/>
                    </a:lnTo>
                    <a:lnTo>
                      <a:pt x="8811" y="4049"/>
                    </a:lnTo>
                    <a:lnTo>
                      <a:pt x="8771" y="4049"/>
                    </a:lnTo>
                    <a:lnTo>
                      <a:pt x="8679" y="4049"/>
                    </a:lnTo>
                    <a:lnTo>
                      <a:pt x="8573" y="4035"/>
                    </a:lnTo>
                    <a:lnTo>
                      <a:pt x="8533" y="4035"/>
                    </a:lnTo>
                    <a:lnTo>
                      <a:pt x="8494" y="4009"/>
                    </a:lnTo>
                    <a:lnTo>
                      <a:pt x="8454" y="4009"/>
                    </a:lnTo>
                    <a:lnTo>
                      <a:pt x="8414" y="3969"/>
                    </a:lnTo>
                    <a:lnTo>
                      <a:pt x="8348" y="3930"/>
                    </a:lnTo>
                    <a:lnTo>
                      <a:pt x="8308" y="3916"/>
                    </a:lnTo>
                    <a:lnTo>
                      <a:pt x="8269" y="3916"/>
                    </a:lnTo>
                    <a:lnTo>
                      <a:pt x="8203" y="3930"/>
                    </a:lnTo>
                    <a:lnTo>
                      <a:pt x="8163" y="3943"/>
                    </a:lnTo>
                    <a:lnTo>
                      <a:pt x="8084" y="3956"/>
                    </a:lnTo>
                    <a:lnTo>
                      <a:pt x="8031" y="3969"/>
                    </a:lnTo>
                    <a:lnTo>
                      <a:pt x="7978" y="3982"/>
                    </a:lnTo>
                    <a:lnTo>
                      <a:pt x="7885" y="3982"/>
                    </a:lnTo>
                    <a:lnTo>
                      <a:pt x="7819" y="3996"/>
                    </a:lnTo>
                    <a:lnTo>
                      <a:pt x="7753" y="3996"/>
                    </a:lnTo>
                    <a:lnTo>
                      <a:pt x="7687" y="4009"/>
                    </a:lnTo>
                    <a:lnTo>
                      <a:pt x="7607" y="4022"/>
                    </a:lnTo>
                    <a:lnTo>
                      <a:pt x="7541" y="4035"/>
                    </a:lnTo>
                    <a:lnTo>
                      <a:pt x="7501" y="4035"/>
                    </a:lnTo>
                    <a:lnTo>
                      <a:pt x="7435" y="4035"/>
                    </a:lnTo>
                    <a:lnTo>
                      <a:pt x="7263" y="4035"/>
                    </a:lnTo>
                    <a:lnTo>
                      <a:pt x="7197" y="4049"/>
                    </a:lnTo>
                    <a:lnTo>
                      <a:pt x="7118" y="4062"/>
                    </a:lnTo>
                    <a:lnTo>
                      <a:pt x="7065" y="4075"/>
                    </a:lnTo>
                    <a:lnTo>
                      <a:pt x="7025" y="4075"/>
                    </a:lnTo>
                    <a:lnTo>
                      <a:pt x="6933" y="4075"/>
                    </a:lnTo>
                    <a:lnTo>
                      <a:pt x="6893" y="4075"/>
                    </a:lnTo>
                    <a:lnTo>
                      <a:pt x="6827" y="4088"/>
                    </a:lnTo>
                    <a:lnTo>
                      <a:pt x="6655" y="4088"/>
                    </a:lnTo>
                    <a:lnTo>
                      <a:pt x="6589" y="4088"/>
                    </a:lnTo>
                    <a:lnTo>
                      <a:pt x="6522" y="4075"/>
                    </a:lnTo>
                    <a:lnTo>
                      <a:pt x="6483" y="4075"/>
                    </a:lnTo>
                    <a:lnTo>
                      <a:pt x="6443" y="4075"/>
                    </a:lnTo>
                    <a:lnTo>
                      <a:pt x="6364" y="4062"/>
                    </a:lnTo>
                    <a:lnTo>
                      <a:pt x="6311" y="4062"/>
                    </a:lnTo>
                    <a:lnTo>
                      <a:pt x="6192" y="4062"/>
                    </a:lnTo>
                    <a:lnTo>
                      <a:pt x="6152" y="4062"/>
                    </a:lnTo>
                    <a:lnTo>
                      <a:pt x="6099" y="4062"/>
                    </a:lnTo>
                    <a:lnTo>
                      <a:pt x="5980" y="4049"/>
                    </a:lnTo>
                    <a:lnTo>
                      <a:pt x="5821" y="4049"/>
                    </a:lnTo>
                    <a:lnTo>
                      <a:pt x="5755" y="4049"/>
                    </a:lnTo>
                    <a:lnTo>
                      <a:pt x="5676" y="4049"/>
                    </a:lnTo>
                    <a:lnTo>
                      <a:pt x="5610" y="4062"/>
                    </a:lnTo>
                    <a:lnTo>
                      <a:pt x="5041" y="4128"/>
                    </a:lnTo>
                    <a:lnTo>
                      <a:pt x="4975" y="4128"/>
                    </a:lnTo>
                    <a:lnTo>
                      <a:pt x="4842" y="4141"/>
                    </a:lnTo>
                    <a:lnTo>
                      <a:pt x="4803" y="4154"/>
                    </a:lnTo>
                    <a:lnTo>
                      <a:pt x="4763" y="4154"/>
                    </a:lnTo>
                    <a:lnTo>
                      <a:pt x="4684" y="4181"/>
                    </a:lnTo>
                    <a:lnTo>
                      <a:pt x="4644" y="4181"/>
                    </a:lnTo>
                    <a:lnTo>
                      <a:pt x="4604" y="4181"/>
                    </a:lnTo>
                    <a:lnTo>
                      <a:pt x="4512" y="4181"/>
                    </a:lnTo>
                    <a:lnTo>
                      <a:pt x="4458" y="4181"/>
                    </a:lnTo>
                    <a:lnTo>
                      <a:pt x="4392" y="4154"/>
                    </a:lnTo>
                    <a:lnTo>
                      <a:pt x="4325" y="4141"/>
                    </a:lnTo>
                    <a:lnTo>
                      <a:pt x="4259" y="4128"/>
                    </a:lnTo>
                    <a:lnTo>
                      <a:pt x="4153" y="4102"/>
                    </a:lnTo>
                    <a:lnTo>
                      <a:pt x="4087" y="4102"/>
                    </a:lnTo>
                    <a:lnTo>
                      <a:pt x="3915" y="4102"/>
                    </a:lnTo>
                    <a:lnTo>
                      <a:pt x="3849" y="4102"/>
                    </a:lnTo>
                    <a:lnTo>
                      <a:pt x="3757" y="4088"/>
                    </a:lnTo>
                    <a:lnTo>
                      <a:pt x="3585" y="4088"/>
                    </a:lnTo>
                    <a:lnTo>
                      <a:pt x="3518" y="4102"/>
                    </a:lnTo>
                    <a:lnTo>
                      <a:pt x="3466" y="4102"/>
                    </a:lnTo>
                    <a:lnTo>
                      <a:pt x="3413" y="4102"/>
                    </a:lnTo>
                    <a:lnTo>
                      <a:pt x="3373" y="4088"/>
                    </a:lnTo>
                    <a:lnTo>
                      <a:pt x="3333" y="4075"/>
                    </a:lnTo>
                    <a:lnTo>
                      <a:pt x="3201" y="4062"/>
                    </a:lnTo>
                    <a:lnTo>
                      <a:pt x="3042" y="4049"/>
                    </a:lnTo>
                    <a:lnTo>
                      <a:pt x="2950" y="4049"/>
                    </a:lnTo>
                    <a:lnTo>
                      <a:pt x="2791" y="4049"/>
                    </a:lnTo>
                    <a:lnTo>
                      <a:pt x="2579" y="4075"/>
                    </a:lnTo>
                    <a:lnTo>
                      <a:pt x="2513" y="4075"/>
                    </a:lnTo>
                    <a:lnTo>
                      <a:pt x="2473" y="4075"/>
                    </a:lnTo>
                    <a:lnTo>
                      <a:pt x="2420" y="4075"/>
                    </a:lnTo>
                    <a:lnTo>
                      <a:pt x="2368" y="4075"/>
                    </a:lnTo>
                    <a:lnTo>
                      <a:pt x="2301" y="4088"/>
                    </a:lnTo>
                    <a:lnTo>
                      <a:pt x="2235" y="4088"/>
                    </a:lnTo>
                    <a:lnTo>
                      <a:pt x="2182" y="4088"/>
                    </a:lnTo>
                    <a:lnTo>
                      <a:pt x="2143" y="4088"/>
                    </a:lnTo>
                    <a:lnTo>
                      <a:pt x="2050" y="4075"/>
                    </a:lnTo>
                    <a:lnTo>
                      <a:pt x="1984" y="4049"/>
                    </a:lnTo>
                    <a:lnTo>
                      <a:pt x="1944" y="4049"/>
                    </a:lnTo>
                    <a:lnTo>
                      <a:pt x="1878" y="4035"/>
                    </a:lnTo>
                    <a:lnTo>
                      <a:pt x="1838" y="4035"/>
                    </a:lnTo>
                    <a:lnTo>
                      <a:pt x="1772" y="4022"/>
                    </a:lnTo>
                    <a:lnTo>
                      <a:pt x="1733" y="4022"/>
                    </a:lnTo>
                    <a:lnTo>
                      <a:pt x="1693" y="4022"/>
                    </a:lnTo>
                    <a:lnTo>
                      <a:pt x="1653" y="4009"/>
                    </a:lnTo>
                    <a:lnTo>
                      <a:pt x="1574" y="4009"/>
                    </a:lnTo>
                    <a:lnTo>
                      <a:pt x="1415" y="4009"/>
                    </a:lnTo>
                    <a:lnTo>
                      <a:pt x="1375" y="4009"/>
                    </a:lnTo>
                    <a:lnTo>
                      <a:pt x="1336" y="4009"/>
                    </a:lnTo>
                    <a:lnTo>
                      <a:pt x="1243" y="4022"/>
                    </a:lnTo>
                    <a:lnTo>
                      <a:pt x="1203" y="4022"/>
                    </a:lnTo>
                    <a:lnTo>
                      <a:pt x="1150" y="4035"/>
                    </a:lnTo>
                    <a:lnTo>
                      <a:pt x="1111" y="4049"/>
                    </a:lnTo>
                    <a:lnTo>
                      <a:pt x="1071" y="4049"/>
                    </a:lnTo>
                    <a:lnTo>
                      <a:pt x="1005" y="4049"/>
                    </a:lnTo>
                    <a:lnTo>
                      <a:pt x="939" y="4062"/>
                    </a:lnTo>
                    <a:lnTo>
                      <a:pt x="859" y="4062"/>
                    </a:lnTo>
                    <a:lnTo>
                      <a:pt x="820" y="4062"/>
                    </a:lnTo>
                    <a:lnTo>
                      <a:pt x="767" y="4062"/>
                    </a:lnTo>
                    <a:lnTo>
                      <a:pt x="727" y="4062"/>
                    </a:lnTo>
                    <a:lnTo>
                      <a:pt x="687" y="4062"/>
                    </a:lnTo>
                    <a:lnTo>
                      <a:pt x="621" y="4062"/>
                    </a:lnTo>
                    <a:lnTo>
                      <a:pt x="568" y="4062"/>
                    </a:lnTo>
                    <a:lnTo>
                      <a:pt x="502" y="4049"/>
                    </a:lnTo>
                    <a:lnTo>
                      <a:pt x="463" y="4049"/>
                    </a:lnTo>
                    <a:lnTo>
                      <a:pt x="423" y="4049"/>
                    </a:lnTo>
                    <a:lnTo>
                      <a:pt x="357" y="4049"/>
                    </a:lnTo>
                    <a:lnTo>
                      <a:pt x="317" y="4049"/>
                    </a:lnTo>
                    <a:lnTo>
                      <a:pt x="251" y="4049"/>
                    </a:lnTo>
                    <a:lnTo>
                      <a:pt x="185" y="4049"/>
                    </a:lnTo>
                    <a:lnTo>
                      <a:pt x="145" y="4049"/>
                    </a:lnTo>
                    <a:lnTo>
                      <a:pt x="105" y="4049"/>
                    </a:lnTo>
                    <a:lnTo>
                      <a:pt x="39" y="4049"/>
                    </a:lnTo>
                    <a:lnTo>
                      <a:pt x="0" y="404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685"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6"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87" name=""/>
          <p:cNvSpPr txBox="1"/>
          <p:nvPr/>
        </p:nvSpPr>
        <p:spPr>
          <a:xfrm>
            <a:off x="4967280" y="650880"/>
            <a:ext cx="313380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Minimum 2 points in contact</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with assumed datum B.</a:t>
            </a:r>
            <a:endParaRPr b="0" lang="en-US" sz="2000" spc="-1" strike="noStrike">
              <a:solidFill>
                <a:srgbClr val="000000"/>
              </a:solidFill>
              <a:latin typeface="Arial"/>
            </a:endParaRPr>
          </a:p>
        </p:txBody>
      </p:sp>
      <p:sp>
        <p:nvSpPr>
          <p:cNvPr id="1688" name=""/>
          <p:cNvSpPr/>
          <p:nvPr/>
        </p:nvSpPr>
        <p:spPr>
          <a:xfrm flipH="1">
            <a:off x="4727520" y="836640"/>
            <a:ext cx="198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flipH="1">
            <a:off x="3786120" y="836640"/>
            <a:ext cx="941400" cy="171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0"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691" name=""/>
          <p:cNvGrpSpPr/>
          <p:nvPr/>
        </p:nvGrpSpPr>
        <p:grpSpPr>
          <a:xfrm>
            <a:off x="560520" y="447840"/>
            <a:ext cx="3624120" cy="1190520"/>
            <a:chOff x="560520" y="447840"/>
            <a:chExt cx="3624120" cy="1190520"/>
          </a:xfrm>
        </p:grpSpPr>
        <p:sp>
          <p:nvSpPr>
            <p:cNvPr id="1692"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693"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9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6"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97" name=""/>
          <p:cNvGrpSpPr/>
          <p:nvPr/>
        </p:nvGrpSpPr>
        <p:grpSpPr>
          <a:xfrm>
            <a:off x="2965320" y="2549520"/>
            <a:ext cx="3497760" cy="1594080"/>
            <a:chOff x="2965320" y="2549520"/>
            <a:chExt cx="3497760" cy="1594080"/>
          </a:xfrm>
        </p:grpSpPr>
        <p:sp>
          <p:nvSpPr>
            <p:cNvPr id="1698" name=""/>
            <p:cNvSpPr/>
            <p:nvPr/>
          </p:nvSpPr>
          <p:spPr>
            <a:xfrm flipH="1">
              <a:off x="6010200" y="3637080"/>
              <a:ext cx="190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flipH="1">
              <a:off x="5864400" y="3643200"/>
              <a:ext cx="85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flipH="1">
              <a:off x="5524560" y="3639960"/>
              <a:ext cx="279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5905440" y="3349800"/>
              <a:ext cx="0" cy="198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2" name=""/>
            <p:cNvSpPr/>
            <p:nvPr/>
          </p:nvSpPr>
          <p:spPr>
            <a:xfrm>
              <a:off x="5902200" y="3606840"/>
              <a:ext cx="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703" name=""/>
            <p:cNvSpPr/>
            <p:nvPr/>
          </p:nvSpPr>
          <p:spPr>
            <a:xfrm>
              <a:off x="5905440" y="3754440"/>
              <a:ext cx="0" cy="227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flipH="1">
              <a:off x="3851280" y="3645000"/>
              <a:ext cx="245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5" name=""/>
            <p:cNvSpPr/>
            <p:nvPr/>
          </p:nvSpPr>
          <p:spPr>
            <a:xfrm>
              <a:off x="3762360" y="3325680"/>
              <a:ext cx="0" cy="190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a:off x="3763800" y="3606840"/>
              <a:ext cx="0" cy="82440"/>
            </a:xfrm>
            <a:prstGeom prst="line">
              <a:avLst/>
            </a:prstGeom>
            <a:ln w="12600">
              <a:solidFill>
                <a:srgbClr val="f2fefd"/>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707" name=""/>
            <p:cNvSpPr/>
            <p:nvPr/>
          </p:nvSpPr>
          <p:spPr>
            <a:xfrm>
              <a:off x="3763800" y="3784680"/>
              <a:ext cx="0" cy="207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flipH="1">
              <a:off x="3718080" y="3645000"/>
              <a:ext cx="93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flipH="1">
              <a:off x="3282840" y="3645000"/>
              <a:ext cx="378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10" name=""/>
            <p:cNvGrpSpPr/>
            <p:nvPr/>
          </p:nvGrpSpPr>
          <p:grpSpPr>
            <a:xfrm>
              <a:off x="2965320" y="2549520"/>
              <a:ext cx="3497760" cy="1594080"/>
              <a:chOff x="2965320" y="2549520"/>
              <a:chExt cx="3497760" cy="1594080"/>
            </a:xfrm>
          </p:grpSpPr>
          <p:sp>
            <p:nvSpPr>
              <p:cNvPr id="1711" name=""/>
              <p:cNvSpPr/>
              <p:nvPr/>
            </p:nvSpPr>
            <p:spPr>
              <a:xfrm>
                <a:off x="2965320" y="2557440"/>
                <a:ext cx="243360" cy="1541880"/>
              </a:xfrm>
              <a:custGeom>
                <a:avLst/>
                <a:gdLst/>
                <a:ahLst/>
                <a:rect l="0" t="0" r="r" b="b"/>
                <a:pathLst>
                  <a:path fill="none" w="676" h="4283">
                    <a:moveTo>
                      <a:pt x="0" y="0"/>
                    </a:moveTo>
                    <a:lnTo>
                      <a:pt x="4" y="180"/>
                    </a:lnTo>
                    <a:lnTo>
                      <a:pt x="186" y="357"/>
                    </a:lnTo>
                    <a:lnTo>
                      <a:pt x="252" y="537"/>
                    </a:lnTo>
                    <a:lnTo>
                      <a:pt x="247" y="709"/>
                    </a:lnTo>
                    <a:lnTo>
                      <a:pt x="239" y="895"/>
                    </a:lnTo>
                    <a:lnTo>
                      <a:pt x="309" y="1076"/>
                    </a:lnTo>
                    <a:lnTo>
                      <a:pt x="358" y="1253"/>
                    </a:lnTo>
                    <a:lnTo>
                      <a:pt x="367" y="1429"/>
                    </a:lnTo>
                    <a:lnTo>
                      <a:pt x="305" y="1667"/>
                    </a:lnTo>
                    <a:lnTo>
                      <a:pt x="300" y="1848"/>
                    </a:lnTo>
                    <a:lnTo>
                      <a:pt x="424" y="2025"/>
                    </a:lnTo>
                    <a:lnTo>
                      <a:pt x="424" y="2210"/>
                    </a:lnTo>
                    <a:lnTo>
                      <a:pt x="424" y="2391"/>
                    </a:lnTo>
                    <a:lnTo>
                      <a:pt x="428" y="2567"/>
                    </a:lnTo>
                    <a:lnTo>
                      <a:pt x="424" y="2748"/>
                    </a:lnTo>
                    <a:lnTo>
                      <a:pt x="424" y="2977"/>
                    </a:lnTo>
                    <a:lnTo>
                      <a:pt x="486" y="3149"/>
                    </a:lnTo>
                    <a:lnTo>
                      <a:pt x="610" y="3335"/>
                    </a:lnTo>
                    <a:lnTo>
                      <a:pt x="606" y="3516"/>
                    </a:lnTo>
                    <a:lnTo>
                      <a:pt x="663" y="3692"/>
                    </a:lnTo>
                    <a:lnTo>
                      <a:pt x="672" y="3878"/>
                    </a:lnTo>
                    <a:lnTo>
                      <a:pt x="672" y="4058"/>
                    </a:lnTo>
                    <a:lnTo>
                      <a:pt x="672" y="4235"/>
                    </a:lnTo>
                    <a:lnTo>
                      <a:pt x="676" y="4283"/>
                    </a:lnTo>
                    <a:lnTo>
                      <a:pt x="659" y="42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12" name=""/>
              <p:cNvSpPr/>
              <p:nvPr/>
            </p:nvSpPr>
            <p:spPr>
              <a:xfrm>
                <a:off x="5697360" y="343548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3544920" y="344808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a:off x="2976480" y="2549520"/>
                <a:ext cx="3472200" cy="127440"/>
              </a:xfrm>
              <a:custGeom>
                <a:avLst/>
                <a:gdLst/>
                <a:ahLst/>
                <a:rect l="0" t="0" r="r" b="b"/>
                <a:pathLst>
                  <a:path fill="none" w="9645" h="354">
                    <a:moveTo>
                      <a:pt x="9645" y="234"/>
                    </a:moveTo>
                    <a:lnTo>
                      <a:pt x="9376" y="172"/>
                    </a:lnTo>
                    <a:lnTo>
                      <a:pt x="9199" y="172"/>
                    </a:lnTo>
                    <a:lnTo>
                      <a:pt x="9018" y="172"/>
                    </a:lnTo>
                    <a:lnTo>
                      <a:pt x="8842" y="172"/>
                    </a:lnTo>
                    <a:lnTo>
                      <a:pt x="8661" y="115"/>
                    </a:lnTo>
                    <a:lnTo>
                      <a:pt x="8485" y="115"/>
                    </a:lnTo>
                    <a:lnTo>
                      <a:pt x="8304" y="115"/>
                    </a:lnTo>
                    <a:lnTo>
                      <a:pt x="8128" y="52"/>
                    </a:lnTo>
                    <a:lnTo>
                      <a:pt x="7929" y="0"/>
                    </a:lnTo>
                    <a:lnTo>
                      <a:pt x="7770" y="52"/>
                    </a:lnTo>
                    <a:lnTo>
                      <a:pt x="7590" y="172"/>
                    </a:lnTo>
                    <a:lnTo>
                      <a:pt x="7413" y="172"/>
                    </a:lnTo>
                    <a:lnTo>
                      <a:pt x="7232" y="234"/>
                    </a:lnTo>
                    <a:lnTo>
                      <a:pt x="7056" y="293"/>
                    </a:lnTo>
                    <a:lnTo>
                      <a:pt x="6818" y="354"/>
                    </a:lnTo>
                    <a:lnTo>
                      <a:pt x="6637" y="354"/>
                    </a:lnTo>
                    <a:lnTo>
                      <a:pt x="6461" y="354"/>
                    </a:lnTo>
                    <a:lnTo>
                      <a:pt x="6280" y="293"/>
                    </a:lnTo>
                    <a:lnTo>
                      <a:pt x="6042" y="234"/>
                    </a:lnTo>
                    <a:lnTo>
                      <a:pt x="5865" y="234"/>
                    </a:lnTo>
                    <a:lnTo>
                      <a:pt x="5685" y="234"/>
                    </a:lnTo>
                    <a:lnTo>
                      <a:pt x="5508" y="234"/>
                    </a:lnTo>
                    <a:lnTo>
                      <a:pt x="5327" y="234"/>
                    </a:lnTo>
                    <a:lnTo>
                      <a:pt x="5151" y="172"/>
                    </a:lnTo>
                    <a:lnTo>
                      <a:pt x="4970" y="172"/>
                    </a:lnTo>
                    <a:lnTo>
                      <a:pt x="4793" y="172"/>
                    </a:lnTo>
                    <a:lnTo>
                      <a:pt x="4436" y="172"/>
                    </a:lnTo>
                    <a:lnTo>
                      <a:pt x="4220" y="79"/>
                    </a:lnTo>
                    <a:lnTo>
                      <a:pt x="4087" y="35"/>
                    </a:lnTo>
                    <a:lnTo>
                      <a:pt x="3929" y="35"/>
                    </a:lnTo>
                    <a:lnTo>
                      <a:pt x="3770" y="106"/>
                    </a:lnTo>
                    <a:lnTo>
                      <a:pt x="3483" y="115"/>
                    </a:lnTo>
                    <a:lnTo>
                      <a:pt x="3302" y="115"/>
                    </a:lnTo>
                    <a:lnTo>
                      <a:pt x="3064" y="234"/>
                    </a:lnTo>
                    <a:lnTo>
                      <a:pt x="2888" y="293"/>
                    </a:lnTo>
                    <a:lnTo>
                      <a:pt x="2707" y="293"/>
                    </a:lnTo>
                    <a:lnTo>
                      <a:pt x="2531" y="293"/>
                    </a:lnTo>
                    <a:lnTo>
                      <a:pt x="2350" y="234"/>
                    </a:lnTo>
                    <a:lnTo>
                      <a:pt x="2112" y="115"/>
                    </a:lnTo>
                    <a:lnTo>
                      <a:pt x="1935" y="115"/>
                    </a:lnTo>
                    <a:lnTo>
                      <a:pt x="1768" y="106"/>
                    </a:lnTo>
                    <a:lnTo>
                      <a:pt x="1516" y="172"/>
                    </a:lnTo>
                    <a:lnTo>
                      <a:pt x="1278" y="234"/>
                    </a:lnTo>
                    <a:lnTo>
                      <a:pt x="1150" y="164"/>
                    </a:lnTo>
                    <a:lnTo>
                      <a:pt x="970" y="115"/>
                    </a:lnTo>
                    <a:lnTo>
                      <a:pt x="820" y="133"/>
                    </a:lnTo>
                    <a:lnTo>
                      <a:pt x="643" y="186"/>
                    </a:lnTo>
                    <a:lnTo>
                      <a:pt x="489" y="146"/>
                    </a:lnTo>
                    <a:lnTo>
                      <a:pt x="268" y="35"/>
                    </a:lnTo>
                    <a:lnTo>
                      <a:pt x="0" y="22"/>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3214800" y="2638440"/>
                <a:ext cx="3248280" cy="1505160"/>
              </a:xfrm>
              <a:custGeom>
                <a:avLst/>
                <a:gdLst/>
                <a:ahLst/>
                <a:rect l="0" t="0" r="r" b="b"/>
                <a:pathLst>
                  <a:path fill="none" w="9023" h="4181">
                    <a:moveTo>
                      <a:pt x="8983" y="0"/>
                    </a:moveTo>
                    <a:lnTo>
                      <a:pt x="8970" y="39"/>
                    </a:lnTo>
                    <a:lnTo>
                      <a:pt x="8943" y="105"/>
                    </a:lnTo>
                    <a:lnTo>
                      <a:pt x="8930" y="145"/>
                    </a:lnTo>
                    <a:lnTo>
                      <a:pt x="8917" y="185"/>
                    </a:lnTo>
                    <a:lnTo>
                      <a:pt x="8904" y="238"/>
                    </a:lnTo>
                    <a:lnTo>
                      <a:pt x="8877" y="277"/>
                    </a:lnTo>
                    <a:lnTo>
                      <a:pt x="8864" y="317"/>
                    </a:lnTo>
                    <a:lnTo>
                      <a:pt x="8851" y="357"/>
                    </a:lnTo>
                    <a:lnTo>
                      <a:pt x="8851" y="396"/>
                    </a:lnTo>
                    <a:lnTo>
                      <a:pt x="8851" y="436"/>
                    </a:lnTo>
                    <a:lnTo>
                      <a:pt x="8851" y="489"/>
                    </a:lnTo>
                    <a:lnTo>
                      <a:pt x="8851" y="542"/>
                    </a:lnTo>
                    <a:lnTo>
                      <a:pt x="8864" y="582"/>
                    </a:lnTo>
                    <a:lnTo>
                      <a:pt x="8877" y="621"/>
                    </a:lnTo>
                    <a:lnTo>
                      <a:pt x="8891" y="687"/>
                    </a:lnTo>
                    <a:lnTo>
                      <a:pt x="8904" y="754"/>
                    </a:lnTo>
                    <a:lnTo>
                      <a:pt x="8917" y="793"/>
                    </a:lnTo>
                    <a:lnTo>
                      <a:pt x="8943" y="833"/>
                    </a:lnTo>
                    <a:lnTo>
                      <a:pt x="8957" y="886"/>
                    </a:lnTo>
                    <a:lnTo>
                      <a:pt x="8970" y="926"/>
                    </a:lnTo>
                    <a:lnTo>
                      <a:pt x="8983" y="965"/>
                    </a:lnTo>
                    <a:lnTo>
                      <a:pt x="8996" y="1005"/>
                    </a:lnTo>
                    <a:lnTo>
                      <a:pt x="9010" y="1071"/>
                    </a:lnTo>
                    <a:lnTo>
                      <a:pt x="9023" y="1150"/>
                    </a:lnTo>
                    <a:lnTo>
                      <a:pt x="9023" y="1203"/>
                    </a:lnTo>
                    <a:lnTo>
                      <a:pt x="9023" y="1243"/>
                    </a:lnTo>
                    <a:lnTo>
                      <a:pt x="9023" y="1283"/>
                    </a:lnTo>
                    <a:lnTo>
                      <a:pt x="9023" y="1322"/>
                    </a:lnTo>
                    <a:lnTo>
                      <a:pt x="9023" y="1428"/>
                    </a:lnTo>
                    <a:lnTo>
                      <a:pt x="9023" y="1468"/>
                    </a:lnTo>
                    <a:lnTo>
                      <a:pt x="9010" y="1521"/>
                    </a:lnTo>
                    <a:lnTo>
                      <a:pt x="9010" y="1561"/>
                    </a:lnTo>
                    <a:lnTo>
                      <a:pt x="8996" y="1627"/>
                    </a:lnTo>
                    <a:lnTo>
                      <a:pt x="8983" y="1666"/>
                    </a:lnTo>
                    <a:lnTo>
                      <a:pt x="8983" y="1733"/>
                    </a:lnTo>
                    <a:lnTo>
                      <a:pt x="8970" y="1772"/>
                    </a:lnTo>
                    <a:lnTo>
                      <a:pt x="8970" y="1812"/>
                    </a:lnTo>
                    <a:lnTo>
                      <a:pt x="8957" y="1891"/>
                    </a:lnTo>
                    <a:lnTo>
                      <a:pt x="8943" y="1944"/>
                    </a:lnTo>
                    <a:lnTo>
                      <a:pt x="8943" y="1984"/>
                    </a:lnTo>
                    <a:lnTo>
                      <a:pt x="8930" y="2024"/>
                    </a:lnTo>
                    <a:lnTo>
                      <a:pt x="8930" y="2063"/>
                    </a:lnTo>
                    <a:lnTo>
                      <a:pt x="8930" y="2117"/>
                    </a:lnTo>
                    <a:lnTo>
                      <a:pt x="8917" y="2183"/>
                    </a:lnTo>
                    <a:lnTo>
                      <a:pt x="8917" y="2276"/>
                    </a:lnTo>
                    <a:lnTo>
                      <a:pt x="8917" y="2342"/>
                    </a:lnTo>
                    <a:lnTo>
                      <a:pt x="8930" y="2395"/>
                    </a:lnTo>
                    <a:lnTo>
                      <a:pt x="8930" y="2435"/>
                    </a:lnTo>
                    <a:lnTo>
                      <a:pt x="8957" y="2488"/>
                    </a:lnTo>
                    <a:lnTo>
                      <a:pt x="8970" y="2541"/>
                    </a:lnTo>
                    <a:lnTo>
                      <a:pt x="8983" y="2593"/>
                    </a:lnTo>
                    <a:lnTo>
                      <a:pt x="8983" y="2633"/>
                    </a:lnTo>
                    <a:lnTo>
                      <a:pt x="8996" y="2699"/>
                    </a:lnTo>
                    <a:lnTo>
                      <a:pt x="9010" y="2739"/>
                    </a:lnTo>
                    <a:lnTo>
                      <a:pt x="9010" y="2805"/>
                    </a:lnTo>
                    <a:lnTo>
                      <a:pt x="9023" y="2871"/>
                    </a:lnTo>
                    <a:lnTo>
                      <a:pt x="9023" y="2937"/>
                    </a:lnTo>
                    <a:lnTo>
                      <a:pt x="9023" y="3004"/>
                    </a:lnTo>
                    <a:lnTo>
                      <a:pt x="9023" y="3043"/>
                    </a:lnTo>
                    <a:lnTo>
                      <a:pt x="9023" y="3083"/>
                    </a:lnTo>
                    <a:lnTo>
                      <a:pt x="9010" y="3123"/>
                    </a:lnTo>
                    <a:lnTo>
                      <a:pt x="9010" y="3176"/>
                    </a:lnTo>
                    <a:lnTo>
                      <a:pt x="8970" y="3215"/>
                    </a:lnTo>
                    <a:lnTo>
                      <a:pt x="8957" y="3295"/>
                    </a:lnTo>
                    <a:lnTo>
                      <a:pt x="8943" y="3334"/>
                    </a:lnTo>
                    <a:lnTo>
                      <a:pt x="8943" y="3453"/>
                    </a:lnTo>
                    <a:lnTo>
                      <a:pt x="8943" y="3506"/>
                    </a:lnTo>
                    <a:lnTo>
                      <a:pt x="8943" y="3546"/>
                    </a:lnTo>
                    <a:lnTo>
                      <a:pt x="8943" y="3612"/>
                    </a:lnTo>
                    <a:lnTo>
                      <a:pt x="8943" y="3652"/>
                    </a:lnTo>
                    <a:lnTo>
                      <a:pt x="8957" y="3731"/>
                    </a:lnTo>
                    <a:lnTo>
                      <a:pt x="8970" y="3784"/>
                    </a:lnTo>
                    <a:lnTo>
                      <a:pt x="8970" y="3837"/>
                    </a:lnTo>
                    <a:lnTo>
                      <a:pt x="8983" y="3877"/>
                    </a:lnTo>
                    <a:lnTo>
                      <a:pt x="8983" y="3916"/>
                    </a:lnTo>
                    <a:lnTo>
                      <a:pt x="8983" y="3956"/>
                    </a:lnTo>
                    <a:lnTo>
                      <a:pt x="8996" y="3996"/>
                    </a:lnTo>
                    <a:lnTo>
                      <a:pt x="8996" y="4062"/>
                    </a:lnTo>
                    <a:lnTo>
                      <a:pt x="8970" y="4035"/>
                    </a:lnTo>
                    <a:lnTo>
                      <a:pt x="8811" y="4049"/>
                    </a:lnTo>
                    <a:lnTo>
                      <a:pt x="8771" y="4049"/>
                    </a:lnTo>
                    <a:lnTo>
                      <a:pt x="8679" y="4049"/>
                    </a:lnTo>
                    <a:lnTo>
                      <a:pt x="8573" y="4035"/>
                    </a:lnTo>
                    <a:lnTo>
                      <a:pt x="8533" y="4035"/>
                    </a:lnTo>
                    <a:lnTo>
                      <a:pt x="8494" y="4009"/>
                    </a:lnTo>
                    <a:lnTo>
                      <a:pt x="8454" y="4009"/>
                    </a:lnTo>
                    <a:lnTo>
                      <a:pt x="8414" y="3969"/>
                    </a:lnTo>
                    <a:lnTo>
                      <a:pt x="8348" y="3930"/>
                    </a:lnTo>
                    <a:lnTo>
                      <a:pt x="8308" y="3916"/>
                    </a:lnTo>
                    <a:lnTo>
                      <a:pt x="8269" y="3916"/>
                    </a:lnTo>
                    <a:lnTo>
                      <a:pt x="8203" y="3930"/>
                    </a:lnTo>
                    <a:lnTo>
                      <a:pt x="8163" y="3943"/>
                    </a:lnTo>
                    <a:lnTo>
                      <a:pt x="8084" y="3956"/>
                    </a:lnTo>
                    <a:lnTo>
                      <a:pt x="8031" y="3969"/>
                    </a:lnTo>
                    <a:lnTo>
                      <a:pt x="7978" y="3982"/>
                    </a:lnTo>
                    <a:lnTo>
                      <a:pt x="7885" y="3982"/>
                    </a:lnTo>
                    <a:lnTo>
                      <a:pt x="7819" y="3996"/>
                    </a:lnTo>
                    <a:lnTo>
                      <a:pt x="7753" y="3996"/>
                    </a:lnTo>
                    <a:lnTo>
                      <a:pt x="7687" y="4009"/>
                    </a:lnTo>
                    <a:lnTo>
                      <a:pt x="7607" y="4022"/>
                    </a:lnTo>
                    <a:lnTo>
                      <a:pt x="7541" y="4035"/>
                    </a:lnTo>
                    <a:lnTo>
                      <a:pt x="7501" y="4035"/>
                    </a:lnTo>
                    <a:lnTo>
                      <a:pt x="7435" y="4035"/>
                    </a:lnTo>
                    <a:lnTo>
                      <a:pt x="7263" y="4035"/>
                    </a:lnTo>
                    <a:lnTo>
                      <a:pt x="7197" y="4049"/>
                    </a:lnTo>
                    <a:lnTo>
                      <a:pt x="7118" y="4062"/>
                    </a:lnTo>
                    <a:lnTo>
                      <a:pt x="7065" y="4075"/>
                    </a:lnTo>
                    <a:lnTo>
                      <a:pt x="7025" y="4075"/>
                    </a:lnTo>
                    <a:lnTo>
                      <a:pt x="6933" y="4075"/>
                    </a:lnTo>
                    <a:lnTo>
                      <a:pt x="6893" y="4075"/>
                    </a:lnTo>
                    <a:lnTo>
                      <a:pt x="6827" y="4088"/>
                    </a:lnTo>
                    <a:lnTo>
                      <a:pt x="6655" y="4088"/>
                    </a:lnTo>
                    <a:lnTo>
                      <a:pt x="6589" y="4088"/>
                    </a:lnTo>
                    <a:lnTo>
                      <a:pt x="6522" y="4075"/>
                    </a:lnTo>
                    <a:lnTo>
                      <a:pt x="6483" y="4075"/>
                    </a:lnTo>
                    <a:lnTo>
                      <a:pt x="6443" y="4075"/>
                    </a:lnTo>
                    <a:lnTo>
                      <a:pt x="6364" y="4062"/>
                    </a:lnTo>
                    <a:lnTo>
                      <a:pt x="6311" y="4062"/>
                    </a:lnTo>
                    <a:lnTo>
                      <a:pt x="6192" y="4062"/>
                    </a:lnTo>
                    <a:lnTo>
                      <a:pt x="6152" y="4062"/>
                    </a:lnTo>
                    <a:lnTo>
                      <a:pt x="6099" y="4062"/>
                    </a:lnTo>
                    <a:lnTo>
                      <a:pt x="5980" y="4049"/>
                    </a:lnTo>
                    <a:lnTo>
                      <a:pt x="5821" y="4049"/>
                    </a:lnTo>
                    <a:lnTo>
                      <a:pt x="5755" y="4049"/>
                    </a:lnTo>
                    <a:lnTo>
                      <a:pt x="5676" y="4049"/>
                    </a:lnTo>
                    <a:lnTo>
                      <a:pt x="5610" y="4062"/>
                    </a:lnTo>
                    <a:lnTo>
                      <a:pt x="5041" y="4128"/>
                    </a:lnTo>
                    <a:lnTo>
                      <a:pt x="4975" y="4128"/>
                    </a:lnTo>
                    <a:lnTo>
                      <a:pt x="4842" y="4141"/>
                    </a:lnTo>
                    <a:lnTo>
                      <a:pt x="4803" y="4154"/>
                    </a:lnTo>
                    <a:lnTo>
                      <a:pt x="4763" y="4154"/>
                    </a:lnTo>
                    <a:lnTo>
                      <a:pt x="4684" y="4181"/>
                    </a:lnTo>
                    <a:lnTo>
                      <a:pt x="4644" y="4181"/>
                    </a:lnTo>
                    <a:lnTo>
                      <a:pt x="4604" y="4181"/>
                    </a:lnTo>
                    <a:lnTo>
                      <a:pt x="4512" y="4181"/>
                    </a:lnTo>
                    <a:lnTo>
                      <a:pt x="4458" y="4181"/>
                    </a:lnTo>
                    <a:lnTo>
                      <a:pt x="4392" y="4154"/>
                    </a:lnTo>
                    <a:lnTo>
                      <a:pt x="4325" y="4141"/>
                    </a:lnTo>
                    <a:lnTo>
                      <a:pt x="4259" y="4128"/>
                    </a:lnTo>
                    <a:lnTo>
                      <a:pt x="4153" y="4102"/>
                    </a:lnTo>
                    <a:lnTo>
                      <a:pt x="4087" y="4102"/>
                    </a:lnTo>
                    <a:lnTo>
                      <a:pt x="3915" y="4102"/>
                    </a:lnTo>
                    <a:lnTo>
                      <a:pt x="3849" y="4102"/>
                    </a:lnTo>
                    <a:lnTo>
                      <a:pt x="3757" y="4088"/>
                    </a:lnTo>
                    <a:lnTo>
                      <a:pt x="3585" y="4088"/>
                    </a:lnTo>
                    <a:lnTo>
                      <a:pt x="3518" y="4102"/>
                    </a:lnTo>
                    <a:lnTo>
                      <a:pt x="3466" y="4102"/>
                    </a:lnTo>
                    <a:lnTo>
                      <a:pt x="3413" y="4102"/>
                    </a:lnTo>
                    <a:lnTo>
                      <a:pt x="3373" y="4088"/>
                    </a:lnTo>
                    <a:lnTo>
                      <a:pt x="3333" y="4075"/>
                    </a:lnTo>
                    <a:lnTo>
                      <a:pt x="3201" y="4062"/>
                    </a:lnTo>
                    <a:lnTo>
                      <a:pt x="3042" y="4049"/>
                    </a:lnTo>
                    <a:lnTo>
                      <a:pt x="2950" y="4049"/>
                    </a:lnTo>
                    <a:lnTo>
                      <a:pt x="2791" y="4049"/>
                    </a:lnTo>
                    <a:lnTo>
                      <a:pt x="2579" y="4075"/>
                    </a:lnTo>
                    <a:lnTo>
                      <a:pt x="2513" y="4075"/>
                    </a:lnTo>
                    <a:lnTo>
                      <a:pt x="2473" y="4075"/>
                    </a:lnTo>
                    <a:lnTo>
                      <a:pt x="2420" y="4075"/>
                    </a:lnTo>
                    <a:lnTo>
                      <a:pt x="2368" y="4075"/>
                    </a:lnTo>
                    <a:lnTo>
                      <a:pt x="2301" y="4088"/>
                    </a:lnTo>
                    <a:lnTo>
                      <a:pt x="2235" y="4088"/>
                    </a:lnTo>
                    <a:lnTo>
                      <a:pt x="2182" y="4088"/>
                    </a:lnTo>
                    <a:lnTo>
                      <a:pt x="2143" y="4088"/>
                    </a:lnTo>
                    <a:lnTo>
                      <a:pt x="2050" y="4075"/>
                    </a:lnTo>
                    <a:lnTo>
                      <a:pt x="1984" y="4049"/>
                    </a:lnTo>
                    <a:lnTo>
                      <a:pt x="1944" y="4049"/>
                    </a:lnTo>
                    <a:lnTo>
                      <a:pt x="1878" y="4035"/>
                    </a:lnTo>
                    <a:lnTo>
                      <a:pt x="1838" y="4035"/>
                    </a:lnTo>
                    <a:lnTo>
                      <a:pt x="1772" y="4022"/>
                    </a:lnTo>
                    <a:lnTo>
                      <a:pt x="1733" y="4022"/>
                    </a:lnTo>
                    <a:lnTo>
                      <a:pt x="1693" y="4022"/>
                    </a:lnTo>
                    <a:lnTo>
                      <a:pt x="1653" y="4009"/>
                    </a:lnTo>
                    <a:lnTo>
                      <a:pt x="1574" y="4009"/>
                    </a:lnTo>
                    <a:lnTo>
                      <a:pt x="1415" y="4009"/>
                    </a:lnTo>
                    <a:lnTo>
                      <a:pt x="1375" y="4009"/>
                    </a:lnTo>
                    <a:lnTo>
                      <a:pt x="1336" y="4009"/>
                    </a:lnTo>
                    <a:lnTo>
                      <a:pt x="1243" y="4022"/>
                    </a:lnTo>
                    <a:lnTo>
                      <a:pt x="1203" y="4022"/>
                    </a:lnTo>
                    <a:lnTo>
                      <a:pt x="1150" y="4035"/>
                    </a:lnTo>
                    <a:lnTo>
                      <a:pt x="1111" y="4049"/>
                    </a:lnTo>
                    <a:lnTo>
                      <a:pt x="1071" y="4049"/>
                    </a:lnTo>
                    <a:lnTo>
                      <a:pt x="1005" y="4049"/>
                    </a:lnTo>
                    <a:lnTo>
                      <a:pt x="939" y="4062"/>
                    </a:lnTo>
                    <a:lnTo>
                      <a:pt x="859" y="4062"/>
                    </a:lnTo>
                    <a:lnTo>
                      <a:pt x="820" y="4062"/>
                    </a:lnTo>
                    <a:lnTo>
                      <a:pt x="767" y="4062"/>
                    </a:lnTo>
                    <a:lnTo>
                      <a:pt x="727" y="4062"/>
                    </a:lnTo>
                    <a:lnTo>
                      <a:pt x="687" y="4062"/>
                    </a:lnTo>
                    <a:lnTo>
                      <a:pt x="621" y="4062"/>
                    </a:lnTo>
                    <a:lnTo>
                      <a:pt x="568" y="4062"/>
                    </a:lnTo>
                    <a:lnTo>
                      <a:pt x="502" y="4049"/>
                    </a:lnTo>
                    <a:lnTo>
                      <a:pt x="463" y="4049"/>
                    </a:lnTo>
                    <a:lnTo>
                      <a:pt x="423" y="4049"/>
                    </a:lnTo>
                    <a:lnTo>
                      <a:pt x="357" y="4049"/>
                    </a:lnTo>
                    <a:lnTo>
                      <a:pt x="317" y="4049"/>
                    </a:lnTo>
                    <a:lnTo>
                      <a:pt x="251" y="4049"/>
                    </a:lnTo>
                    <a:lnTo>
                      <a:pt x="185" y="4049"/>
                    </a:lnTo>
                    <a:lnTo>
                      <a:pt x="145" y="4049"/>
                    </a:lnTo>
                    <a:lnTo>
                      <a:pt x="105" y="4049"/>
                    </a:lnTo>
                    <a:lnTo>
                      <a:pt x="39" y="4049"/>
                    </a:lnTo>
                    <a:lnTo>
                      <a:pt x="0" y="404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716"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18" name=""/>
          <p:cNvSpPr txBox="1"/>
          <p:nvPr/>
        </p:nvSpPr>
        <p:spPr>
          <a:xfrm>
            <a:off x="5299200" y="628560"/>
            <a:ext cx="327348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Minimum one point in contact</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with assumed datum C</a:t>
            </a:r>
            <a:endParaRPr b="0" lang="en-US" sz="2000" spc="-1" strike="noStrike">
              <a:solidFill>
                <a:srgbClr val="000000"/>
              </a:solidFill>
              <a:latin typeface="Arial"/>
            </a:endParaRPr>
          </a:p>
        </p:txBody>
      </p:sp>
      <p:sp>
        <p:nvSpPr>
          <p:cNvPr id="1719" name=""/>
          <p:cNvSpPr/>
          <p:nvPr/>
        </p:nvSpPr>
        <p:spPr>
          <a:xfrm>
            <a:off x="7783560" y="112536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flipH="1">
            <a:off x="6477120" y="1125360"/>
            <a:ext cx="1517400" cy="179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1" name=""/>
          <p:cNvSpPr txBox="1"/>
          <p:nvPr/>
        </p:nvSpPr>
        <p:spPr>
          <a:xfrm>
            <a:off x="465120" y="5710320"/>
            <a:ext cx="311148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MPLIED INTERPRETATION</a:t>
            </a:r>
            <a:endParaRPr b="0" lang="en-US" sz="1800" spc="-1" strike="noStrike">
              <a:solidFill>
                <a:srgbClr val="000000"/>
              </a:solidFill>
              <a:latin typeface="Arial"/>
            </a:endParaRPr>
          </a:p>
        </p:txBody>
      </p:sp>
      <p:grpSp>
        <p:nvGrpSpPr>
          <p:cNvPr id="1722" name=""/>
          <p:cNvGrpSpPr/>
          <p:nvPr/>
        </p:nvGrpSpPr>
        <p:grpSpPr>
          <a:xfrm>
            <a:off x="560520" y="447840"/>
            <a:ext cx="3624120" cy="1190520"/>
            <a:chOff x="560520" y="447840"/>
            <a:chExt cx="3624120" cy="1190520"/>
          </a:xfrm>
        </p:grpSpPr>
        <p:sp>
          <p:nvSpPr>
            <p:cNvPr id="1723"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724"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2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6"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7"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flipH="1">
            <a:off x="6010200" y="3637080"/>
            <a:ext cx="1904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p:nvPr/>
        </p:nvSpPr>
        <p:spPr>
          <a:xfrm flipH="1">
            <a:off x="5864400" y="3643200"/>
            <a:ext cx="85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flipH="1">
            <a:off x="5524560" y="3639960"/>
            <a:ext cx="279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1" name=""/>
          <p:cNvSpPr/>
          <p:nvPr/>
        </p:nvSpPr>
        <p:spPr>
          <a:xfrm>
            <a:off x="5905440" y="3349800"/>
            <a:ext cx="0" cy="198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a:off x="5902200" y="3606840"/>
            <a:ext cx="0" cy="87120"/>
          </a:xfrm>
          <a:prstGeom prst="line">
            <a:avLst/>
          </a:prstGeom>
          <a:ln w="12600">
            <a:solidFill>
              <a:srgbClr val="f2fefd"/>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1733" name=""/>
          <p:cNvSpPr/>
          <p:nvPr/>
        </p:nvSpPr>
        <p:spPr>
          <a:xfrm>
            <a:off x="5905440" y="3754440"/>
            <a:ext cx="0" cy="2271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flipH="1">
            <a:off x="3851280" y="3645000"/>
            <a:ext cx="245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3762360" y="3325680"/>
            <a:ext cx="0" cy="1908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6" name=""/>
          <p:cNvSpPr/>
          <p:nvPr/>
        </p:nvSpPr>
        <p:spPr>
          <a:xfrm>
            <a:off x="3763800" y="3606840"/>
            <a:ext cx="0" cy="82440"/>
          </a:xfrm>
          <a:prstGeom prst="line">
            <a:avLst/>
          </a:prstGeom>
          <a:ln w="12600">
            <a:solidFill>
              <a:srgbClr val="f2fefd"/>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1737" name=""/>
          <p:cNvSpPr/>
          <p:nvPr/>
        </p:nvSpPr>
        <p:spPr>
          <a:xfrm>
            <a:off x="3763800" y="3784680"/>
            <a:ext cx="0" cy="207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8" name=""/>
          <p:cNvSpPr/>
          <p:nvPr/>
        </p:nvSpPr>
        <p:spPr>
          <a:xfrm flipH="1">
            <a:off x="3718080" y="3645000"/>
            <a:ext cx="93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flipH="1">
            <a:off x="3282840" y="3645000"/>
            <a:ext cx="378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2965320" y="2557440"/>
            <a:ext cx="243360" cy="1541880"/>
          </a:xfrm>
          <a:custGeom>
            <a:avLst/>
            <a:gdLst/>
            <a:ahLst/>
            <a:rect l="0" t="0" r="r" b="b"/>
            <a:pathLst>
              <a:path fill="none" w="676" h="4283">
                <a:moveTo>
                  <a:pt x="0" y="0"/>
                </a:moveTo>
                <a:lnTo>
                  <a:pt x="4" y="180"/>
                </a:lnTo>
                <a:lnTo>
                  <a:pt x="186" y="357"/>
                </a:lnTo>
                <a:lnTo>
                  <a:pt x="252" y="537"/>
                </a:lnTo>
                <a:lnTo>
                  <a:pt x="247" y="709"/>
                </a:lnTo>
                <a:lnTo>
                  <a:pt x="239" y="895"/>
                </a:lnTo>
                <a:lnTo>
                  <a:pt x="309" y="1076"/>
                </a:lnTo>
                <a:lnTo>
                  <a:pt x="358" y="1253"/>
                </a:lnTo>
                <a:lnTo>
                  <a:pt x="367" y="1429"/>
                </a:lnTo>
                <a:lnTo>
                  <a:pt x="305" y="1667"/>
                </a:lnTo>
                <a:lnTo>
                  <a:pt x="300" y="1848"/>
                </a:lnTo>
                <a:lnTo>
                  <a:pt x="424" y="2025"/>
                </a:lnTo>
                <a:lnTo>
                  <a:pt x="424" y="2210"/>
                </a:lnTo>
                <a:lnTo>
                  <a:pt x="424" y="2391"/>
                </a:lnTo>
                <a:lnTo>
                  <a:pt x="428" y="2567"/>
                </a:lnTo>
                <a:lnTo>
                  <a:pt x="424" y="2748"/>
                </a:lnTo>
                <a:lnTo>
                  <a:pt x="424" y="2977"/>
                </a:lnTo>
                <a:lnTo>
                  <a:pt x="486" y="3149"/>
                </a:lnTo>
                <a:lnTo>
                  <a:pt x="610" y="3335"/>
                </a:lnTo>
                <a:lnTo>
                  <a:pt x="606" y="3516"/>
                </a:lnTo>
                <a:lnTo>
                  <a:pt x="663" y="3692"/>
                </a:lnTo>
                <a:lnTo>
                  <a:pt x="672" y="3878"/>
                </a:lnTo>
                <a:lnTo>
                  <a:pt x="672" y="4058"/>
                </a:lnTo>
                <a:lnTo>
                  <a:pt x="672" y="4235"/>
                </a:lnTo>
                <a:lnTo>
                  <a:pt x="676" y="4283"/>
                </a:lnTo>
                <a:lnTo>
                  <a:pt x="659" y="423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41" name=""/>
          <p:cNvSpPr/>
          <p:nvPr/>
        </p:nvSpPr>
        <p:spPr>
          <a:xfrm>
            <a:off x="5697360" y="343548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3544920" y="3448080"/>
            <a:ext cx="407880" cy="406440"/>
          </a:xfrm>
          <a:prstGeom prst="ellipse">
            <a:avLst/>
          </a:prstGeom>
          <a:no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2976480" y="2549520"/>
            <a:ext cx="3472200" cy="127440"/>
          </a:xfrm>
          <a:custGeom>
            <a:avLst/>
            <a:gdLst/>
            <a:ahLst/>
            <a:rect l="0" t="0" r="r" b="b"/>
            <a:pathLst>
              <a:path fill="none" w="9645" h="354">
                <a:moveTo>
                  <a:pt x="9645" y="234"/>
                </a:moveTo>
                <a:lnTo>
                  <a:pt x="9376" y="172"/>
                </a:lnTo>
                <a:lnTo>
                  <a:pt x="9199" y="172"/>
                </a:lnTo>
                <a:lnTo>
                  <a:pt x="9018" y="172"/>
                </a:lnTo>
                <a:lnTo>
                  <a:pt x="8842" y="172"/>
                </a:lnTo>
                <a:lnTo>
                  <a:pt x="8661" y="115"/>
                </a:lnTo>
                <a:lnTo>
                  <a:pt x="8485" y="115"/>
                </a:lnTo>
                <a:lnTo>
                  <a:pt x="8304" y="115"/>
                </a:lnTo>
                <a:lnTo>
                  <a:pt x="8128" y="52"/>
                </a:lnTo>
                <a:lnTo>
                  <a:pt x="7929" y="0"/>
                </a:lnTo>
                <a:lnTo>
                  <a:pt x="7770" y="52"/>
                </a:lnTo>
                <a:lnTo>
                  <a:pt x="7590" y="172"/>
                </a:lnTo>
                <a:lnTo>
                  <a:pt x="7413" y="172"/>
                </a:lnTo>
                <a:lnTo>
                  <a:pt x="7232" y="234"/>
                </a:lnTo>
                <a:lnTo>
                  <a:pt x="7056" y="293"/>
                </a:lnTo>
                <a:lnTo>
                  <a:pt x="6818" y="354"/>
                </a:lnTo>
                <a:lnTo>
                  <a:pt x="6637" y="354"/>
                </a:lnTo>
                <a:lnTo>
                  <a:pt x="6461" y="354"/>
                </a:lnTo>
                <a:lnTo>
                  <a:pt x="6280" y="293"/>
                </a:lnTo>
                <a:lnTo>
                  <a:pt x="6042" y="234"/>
                </a:lnTo>
                <a:lnTo>
                  <a:pt x="5865" y="234"/>
                </a:lnTo>
                <a:lnTo>
                  <a:pt x="5685" y="234"/>
                </a:lnTo>
                <a:lnTo>
                  <a:pt x="5508" y="234"/>
                </a:lnTo>
                <a:lnTo>
                  <a:pt x="5327" y="234"/>
                </a:lnTo>
                <a:lnTo>
                  <a:pt x="5151" y="172"/>
                </a:lnTo>
                <a:lnTo>
                  <a:pt x="4970" y="172"/>
                </a:lnTo>
                <a:lnTo>
                  <a:pt x="4793" y="172"/>
                </a:lnTo>
                <a:lnTo>
                  <a:pt x="4436" y="172"/>
                </a:lnTo>
                <a:lnTo>
                  <a:pt x="4220" y="79"/>
                </a:lnTo>
                <a:lnTo>
                  <a:pt x="4087" y="35"/>
                </a:lnTo>
                <a:lnTo>
                  <a:pt x="3929" y="35"/>
                </a:lnTo>
                <a:lnTo>
                  <a:pt x="3770" y="106"/>
                </a:lnTo>
                <a:lnTo>
                  <a:pt x="3483" y="115"/>
                </a:lnTo>
                <a:lnTo>
                  <a:pt x="3302" y="115"/>
                </a:lnTo>
                <a:lnTo>
                  <a:pt x="3064" y="234"/>
                </a:lnTo>
                <a:lnTo>
                  <a:pt x="2888" y="293"/>
                </a:lnTo>
                <a:lnTo>
                  <a:pt x="2707" y="293"/>
                </a:lnTo>
                <a:lnTo>
                  <a:pt x="2531" y="293"/>
                </a:lnTo>
                <a:lnTo>
                  <a:pt x="2350" y="234"/>
                </a:lnTo>
                <a:lnTo>
                  <a:pt x="2112" y="115"/>
                </a:lnTo>
                <a:lnTo>
                  <a:pt x="1935" y="115"/>
                </a:lnTo>
                <a:lnTo>
                  <a:pt x="1768" y="106"/>
                </a:lnTo>
                <a:lnTo>
                  <a:pt x="1516" y="172"/>
                </a:lnTo>
                <a:lnTo>
                  <a:pt x="1278" y="234"/>
                </a:lnTo>
                <a:lnTo>
                  <a:pt x="1150" y="164"/>
                </a:lnTo>
                <a:lnTo>
                  <a:pt x="970" y="115"/>
                </a:lnTo>
                <a:lnTo>
                  <a:pt x="820" y="133"/>
                </a:lnTo>
                <a:lnTo>
                  <a:pt x="643" y="186"/>
                </a:lnTo>
                <a:lnTo>
                  <a:pt x="489" y="146"/>
                </a:lnTo>
                <a:lnTo>
                  <a:pt x="268" y="35"/>
                </a:lnTo>
                <a:lnTo>
                  <a:pt x="0" y="22"/>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3214800" y="2638440"/>
            <a:ext cx="3248280" cy="1505160"/>
          </a:xfrm>
          <a:custGeom>
            <a:avLst/>
            <a:gdLst/>
            <a:ahLst/>
            <a:rect l="0" t="0" r="r" b="b"/>
            <a:pathLst>
              <a:path fill="none" w="9023" h="4181">
                <a:moveTo>
                  <a:pt x="8983" y="0"/>
                </a:moveTo>
                <a:lnTo>
                  <a:pt x="8970" y="39"/>
                </a:lnTo>
                <a:lnTo>
                  <a:pt x="8943" y="105"/>
                </a:lnTo>
                <a:lnTo>
                  <a:pt x="8930" y="145"/>
                </a:lnTo>
                <a:lnTo>
                  <a:pt x="8917" y="185"/>
                </a:lnTo>
                <a:lnTo>
                  <a:pt x="8904" y="238"/>
                </a:lnTo>
                <a:lnTo>
                  <a:pt x="8877" y="277"/>
                </a:lnTo>
                <a:lnTo>
                  <a:pt x="8864" y="317"/>
                </a:lnTo>
                <a:lnTo>
                  <a:pt x="8851" y="357"/>
                </a:lnTo>
                <a:lnTo>
                  <a:pt x="8851" y="396"/>
                </a:lnTo>
                <a:lnTo>
                  <a:pt x="8851" y="436"/>
                </a:lnTo>
                <a:lnTo>
                  <a:pt x="8851" y="489"/>
                </a:lnTo>
                <a:lnTo>
                  <a:pt x="8851" y="542"/>
                </a:lnTo>
                <a:lnTo>
                  <a:pt x="8864" y="582"/>
                </a:lnTo>
                <a:lnTo>
                  <a:pt x="8877" y="621"/>
                </a:lnTo>
                <a:lnTo>
                  <a:pt x="8891" y="687"/>
                </a:lnTo>
                <a:lnTo>
                  <a:pt x="8904" y="754"/>
                </a:lnTo>
                <a:lnTo>
                  <a:pt x="8917" y="793"/>
                </a:lnTo>
                <a:lnTo>
                  <a:pt x="8943" y="833"/>
                </a:lnTo>
                <a:lnTo>
                  <a:pt x="8957" y="886"/>
                </a:lnTo>
                <a:lnTo>
                  <a:pt x="8970" y="926"/>
                </a:lnTo>
                <a:lnTo>
                  <a:pt x="8983" y="965"/>
                </a:lnTo>
                <a:lnTo>
                  <a:pt x="8996" y="1005"/>
                </a:lnTo>
                <a:lnTo>
                  <a:pt x="9010" y="1071"/>
                </a:lnTo>
                <a:lnTo>
                  <a:pt x="9023" y="1150"/>
                </a:lnTo>
                <a:lnTo>
                  <a:pt x="9023" y="1203"/>
                </a:lnTo>
                <a:lnTo>
                  <a:pt x="9023" y="1243"/>
                </a:lnTo>
                <a:lnTo>
                  <a:pt x="9023" y="1283"/>
                </a:lnTo>
                <a:lnTo>
                  <a:pt x="9023" y="1322"/>
                </a:lnTo>
                <a:lnTo>
                  <a:pt x="9023" y="1428"/>
                </a:lnTo>
                <a:lnTo>
                  <a:pt x="9023" y="1468"/>
                </a:lnTo>
                <a:lnTo>
                  <a:pt x="9010" y="1521"/>
                </a:lnTo>
                <a:lnTo>
                  <a:pt x="9010" y="1561"/>
                </a:lnTo>
                <a:lnTo>
                  <a:pt x="8996" y="1627"/>
                </a:lnTo>
                <a:lnTo>
                  <a:pt x="8983" y="1666"/>
                </a:lnTo>
                <a:lnTo>
                  <a:pt x="8983" y="1733"/>
                </a:lnTo>
                <a:lnTo>
                  <a:pt x="8970" y="1772"/>
                </a:lnTo>
                <a:lnTo>
                  <a:pt x="8970" y="1812"/>
                </a:lnTo>
                <a:lnTo>
                  <a:pt x="8957" y="1891"/>
                </a:lnTo>
                <a:lnTo>
                  <a:pt x="8943" y="1944"/>
                </a:lnTo>
                <a:lnTo>
                  <a:pt x="8943" y="1984"/>
                </a:lnTo>
                <a:lnTo>
                  <a:pt x="8930" y="2024"/>
                </a:lnTo>
                <a:lnTo>
                  <a:pt x="8930" y="2063"/>
                </a:lnTo>
                <a:lnTo>
                  <a:pt x="8930" y="2117"/>
                </a:lnTo>
                <a:lnTo>
                  <a:pt x="8917" y="2183"/>
                </a:lnTo>
                <a:lnTo>
                  <a:pt x="8917" y="2276"/>
                </a:lnTo>
                <a:lnTo>
                  <a:pt x="8917" y="2342"/>
                </a:lnTo>
                <a:lnTo>
                  <a:pt x="8930" y="2395"/>
                </a:lnTo>
                <a:lnTo>
                  <a:pt x="8930" y="2435"/>
                </a:lnTo>
                <a:lnTo>
                  <a:pt x="8957" y="2488"/>
                </a:lnTo>
                <a:lnTo>
                  <a:pt x="8970" y="2541"/>
                </a:lnTo>
                <a:lnTo>
                  <a:pt x="8983" y="2593"/>
                </a:lnTo>
                <a:lnTo>
                  <a:pt x="8983" y="2633"/>
                </a:lnTo>
                <a:lnTo>
                  <a:pt x="8996" y="2699"/>
                </a:lnTo>
                <a:lnTo>
                  <a:pt x="9010" y="2739"/>
                </a:lnTo>
                <a:lnTo>
                  <a:pt x="9010" y="2805"/>
                </a:lnTo>
                <a:lnTo>
                  <a:pt x="9023" y="2871"/>
                </a:lnTo>
                <a:lnTo>
                  <a:pt x="9023" y="2937"/>
                </a:lnTo>
                <a:lnTo>
                  <a:pt x="9023" y="3004"/>
                </a:lnTo>
                <a:lnTo>
                  <a:pt x="9023" y="3043"/>
                </a:lnTo>
                <a:lnTo>
                  <a:pt x="9023" y="3083"/>
                </a:lnTo>
                <a:lnTo>
                  <a:pt x="9010" y="3123"/>
                </a:lnTo>
                <a:lnTo>
                  <a:pt x="9010" y="3176"/>
                </a:lnTo>
                <a:lnTo>
                  <a:pt x="8970" y="3215"/>
                </a:lnTo>
                <a:lnTo>
                  <a:pt x="8957" y="3295"/>
                </a:lnTo>
                <a:lnTo>
                  <a:pt x="8943" y="3334"/>
                </a:lnTo>
                <a:lnTo>
                  <a:pt x="8943" y="3453"/>
                </a:lnTo>
                <a:lnTo>
                  <a:pt x="8943" y="3506"/>
                </a:lnTo>
                <a:lnTo>
                  <a:pt x="8943" y="3546"/>
                </a:lnTo>
                <a:lnTo>
                  <a:pt x="8943" y="3612"/>
                </a:lnTo>
                <a:lnTo>
                  <a:pt x="8943" y="3652"/>
                </a:lnTo>
                <a:lnTo>
                  <a:pt x="8957" y="3731"/>
                </a:lnTo>
                <a:lnTo>
                  <a:pt x="8970" y="3784"/>
                </a:lnTo>
                <a:lnTo>
                  <a:pt x="8970" y="3837"/>
                </a:lnTo>
                <a:lnTo>
                  <a:pt x="8983" y="3877"/>
                </a:lnTo>
                <a:lnTo>
                  <a:pt x="8983" y="3916"/>
                </a:lnTo>
                <a:lnTo>
                  <a:pt x="8983" y="3956"/>
                </a:lnTo>
                <a:lnTo>
                  <a:pt x="8996" y="3996"/>
                </a:lnTo>
                <a:lnTo>
                  <a:pt x="8996" y="4062"/>
                </a:lnTo>
                <a:lnTo>
                  <a:pt x="8970" y="4035"/>
                </a:lnTo>
                <a:lnTo>
                  <a:pt x="8811" y="4049"/>
                </a:lnTo>
                <a:lnTo>
                  <a:pt x="8771" y="4049"/>
                </a:lnTo>
                <a:lnTo>
                  <a:pt x="8679" y="4049"/>
                </a:lnTo>
                <a:lnTo>
                  <a:pt x="8573" y="4035"/>
                </a:lnTo>
                <a:lnTo>
                  <a:pt x="8533" y="4035"/>
                </a:lnTo>
                <a:lnTo>
                  <a:pt x="8494" y="4009"/>
                </a:lnTo>
                <a:lnTo>
                  <a:pt x="8454" y="4009"/>
                </a:lnTo>
                <a:lnTo>
                  <a:pt x="8414" y="3969"/>
                </a:lnTo>
                <a:lnTo>
                  <a:pt x="8348" y="3930"/>
                </a:lnTo>
                <a:lnTo>
                  <a:pt x="8308" y="3916"/>
                </a:lnTo>
                <a:lnTo>
                  <a:pt x="8269" y="3916"/>
                </a:lnTo>
                <a:lnTo>
                  <a:pt x="8203" y="3930"/>
                </a:lnTo>
                <a:lnTo>
                  <a:pt x="8163" y="3943"/>
                </a:lnTo>
                <a:lnTo>
                  <a:pt x="8084" y="3956"/>
                </a:lnTo>
                <a:lnTo>
                  <a:pt x="8031" y="3969"/>
                </a:lnTo>
                <a:lnTo>
                  <a:pt x="7978" y="3982"/>
                </a:lnTo>
                <a:lnTo>
                  <a:pt x="7885" y="3982"/>
                </a:lnTo>
                <a:lnTo>
                  <a:pt x="7819" y="3996"/>
                </a:lnTo>
                <a:lnTo>
                  <a:pt x="7753" y="3996"/>
                </a:lnTo>
                <a:lnTo>
                  <a:pt x="7687" y="4009"/>
                </a:lnTo>
                <a:lnTo>
                  <a:pt x="7607" y="4022"/>
                </a:lnTo>
                <a:lnTo>
                  <a:pt x="7541" y="4035"/>
                </a:lnTo>
                <a:lnTo>
                  <a:pt x="7501" y="4035"/>
                </a:lnTo>
                <a:lnTo>
                  <a:pt x="7435" y="4035"/>
                </a:lnTo>
                <a:lnTo>
                  <a:pt x="7263" y="4035"/>
                </a:lnTo>
                <a:lnTo>
                  <a:pt x="7197" y="4049"/>
                </a:lnTo>
                <a:lnTo>
                  <a:pt x="7118" y="4062"/>
                </a:lnTo>
                <a:lnTo>
                  <a:pt x="7065" y="4075"/>
                </a:lnTo>
                <a:lnTo>
                  <a:pt x="7025" y="4075"/>
                </a:lnTo>
                <a:lnTo>
                  <a:pt x="6933" y="4075"/>
                </a:lnTo>
                <a:lnTo>
                  <a:pt x="6893" y="4075"/>
                </a:lnTo>
                <a:lnTo>
                  <a:pt x="6827" y="4088"/>
                </a:lnTo>
                <a:lnTo>
                  <a:pt x="6655" y="4088"/>
                </a:lnTo>
                <a:lnTo>
                  <a:pt x="6589" y="4088"/>
                </a:lnTo>
                <a:lnTo>
                  <a:pt x="6522" y="4075"/>
                </a:lnTo>
                <a:lnTo>
                  <a:pt x="6483" y="4075"/>
                </a:lnTo>
                <a:lnTo>
                  <a:pt x="6443" y="4075"/>
                </a:lnTo>
                <a:lnTo>
                  <a:pt x="6364" y="4062"/>
                </a:lnTo>
                <a:lnTo>
                  <a:pt x="6311" y="4062"/>
                </a:lnTo>
                <a:lnTo>
                  <a:pt x="6192" y="4062"/>
                </a:lnTo>
                <a:lnTo>
                  <a:pt x="6152" y="4062"/>
                </a:lnTo>
                <a:lnTo>
                  <a:pt x="6099" y="4062"/>
                </a:lnTo>
                <a:lnTo>
                  <a:pt x="5980" y="4049"/>
                </a:lnTo>
                <a:lnTo>
                  <a:pt x="5821" y="4049"/>
                </a:lnTo>
                <a:lnTo>
                  <a:pt x="5755" y="4049"/>
                </a:lnTo>
                <a:lnTo>
                  <a:pt x="5676" y="4049"/>
                </a:lnTo>
                <a:lnTo>
                  <a:pt x="5610" y="4062"/>
                </a:lnTo>
                <a:lnTo>
                  <a:pt x="5041" y="4128"/>
                </a:lnTo>
                <a:lnTo>
                  <a:pt x="4975" y="4128"/>
                </a:lnTo>
                <a:lnTo>
                  <a:pt x="4842" y="4141"/>
                </a:lnTo>
                <a:lnTo>
                  <a:pt x="4803" y="4154"/>
                </a:lnTo>
                <a:lnTo>
                  <a:pt x="4763" y="4154"/>
                </a:lnTo>
                <a:lnTo>
                  <a:pt x="4684" y="4181"/>
                </a:lnTo>
                <a:lnTo>
                  <a:pt x="4644" y="4181"/>
                </a:lnTo>
                <a:lnTo>
                  <a:pt x="4604" y="4181"/>
                </a:lnTo>
                <a:lnTo>
                  <a:pt x="4512" y="4181"/>
                </a:lnTo>
                <a:lnTo>
                  <a:pt x="4458" y="4181"/>
                </a:lnTo>
                <a:lnTo>
                  <a:pt x="4392" y="4154"/>
                </a:lnTo>
                <a:lnTo>
                  <a:pt x="4325" y="4141"/>
                </a:lnTo>
                <a:lnTo>
                  <a:pt x="4259" y="4128"/>
                </a:lnTo>
                <a:lnTo>
                  <a:pt x="4153" y="4102"/>
                </a:lnTo>
                <a:lnTo>
                  <a:pt x="4087" y="4102"/>
                </a:lnTo>
                <a:lnTo>
                  <a:pt x="3915" y="4102"/>
                </a:lnTo>
                <a:lnTo>
                  <a:pt x="3849" y="4102"/>
                </a:lnTo>
                <a:lnTo>
                  <a:pt x="3757" y="4088"/>
                </a:lnTo>
                <a:lnTo>
                  <a:pt x="3585" y="4088"/>
                </a:lnTo>
                <a:lnTo>
                  <a:pt x="3518" y="4102"/>
                </a:lnTo>
                <a:lnTo>
                  <a:pt x="3466" y="4102"/>
                </a:lnTo>
                <a:lnTo>
                  <a:pt x="3413" y="4102"/>
                </a:lnTo>
                <a:lnTo>
                  <a:pt x="3373" y="4088"/>
                </a:lnTo>
                <a:lnTo>
                  <a:pt x="3333" y="4075"/>
                </a:lnTo>
                <a:lnTo>
                  <a:pt x="3201" y="4062"/>
                </a:lnTo>
                <a:lnTo>
                  <a:pt x="3042" y="4049"/>
                </a:lnTo>
                <a:lnTo>
                  <a:pt x="2950" y="4049"/>
                </a:lnTo>
                <a:lnTo>
                  <a:pt x="2791" y="4049"/>
                </a:lnTo>
                <a:lnTo>
                  <a:pt x="2579" y="4075"/>
                </a:lnTo>
                <a:lnTo>
                  <a:pt x="2513" y="4075"/>
                </a:lnTo>
                <a:lnTo>
                  <a:pt x="2473" y="4075"/>
                </a:lnTo>
                <a:lnTo>
                  <a:pt x="2420" y="4075"/>
                </a:lnTo>
                <a:lnTo>
                  <a:pt x="2368" y="4075"/>
                </a:lnTo>
                <a:lnTo>
                  <a:pt x="2301" y="4088"/>
                </a:lnTo>
                <a:lnTo>
                  <a:pt x="2235" y="4088"/>
                </a:lnTo>
                <a:lnTo>
                  <a:pt x="2182" y="4088"/>
                </a:lnTo>
                <a:lnTo>
                  <a:pt x="2143" y="4088"/>
                </a:lnTo>
                <a:lnTo>
                  <a:pt x="2050" y="4075"/>
                </a:lnTo>
                <a:lnTo>
                  <a:pt x="1984" y="4049"/>
                </a:lnTo>
                <a:lnTo>
                  <a:pt x="1944" y="4049"/>
                </a:lnTo>
                <a:lnTo>
                  <a:pt x="1878" y="4035"/>
                </a:lnTo>
                <a:lnTo>
                  <a:pt x="1838" y="4035"/>
                </a:lnTo>
                <a:lnTo>
                  <a:pt x="1772" y="4022"/>
                </a:lnTo>
                <a:lnTo>
                  <a:pt x="1733" y="4022"/>
                </a:lnTo>
                <a:lnTo>
                  <a:pt x="1693" y="4022"/>
                </a:lnTo>
                <a:lnTo>
                  <a:pt x="1653" y="4009"/>
                </a:lnTo>
                <a:lnTo>
                  <a:pt x="1574" y="4009"/>
                </a:lnTo>
                <a:lnTo>
                  <a:pt x="1415" y="4009"/>
                </a:lnTo>
                <a:lnTo>
                  <a:pt x="1375" y="4009"/>
                </a:lnTo>
                <a:lnTo>
                  <a:pt x="1336" y="4009"/>
                </a:lnTo>
                <a:lnTo>
                  <a:pt x="1243" y="4022"/>
                </a:lnTo>
                <a:lnTo>
                  <a:pt x="1203" y="4022"/>
                </a:lnTo>
                <a:lnTo>
                  <a:pt x="1150" y="4035"/>
                </a:lnTo>
                <a:lnTo>
                  <a:pt x="1111" y="4049"/>
                </a:lnTo>
                <a:lnTo>
                  <a:pt x="1071" y="4049"/>
                </a:lnTo>
                <a:lnTo>
                  <a:pt x="1005" y="4049"/>
                </a:lnTo>
                <a:lnTo>
                  <a:pt x="939" y="4062"/>
                </a:lnTo>
                <a:lnTo>
                  <a:pt x="859" y="4062"/>
                </a:lnTo>
                <a:lnTo>
                  <a:pt x="820" y="4062"/>
                </a:lnTo>
                <a:lnTo>
                  <a:pt x="767" y="4062"/>
                </a:lnTo>
                <a:lnTo>
                  <a:pt x="727" y="4062"/>
                </a:lnTo>
                <a:lnTo>
                  <a:pt x="687" y="4062"/>
                </a:lnTo>
                <a:lnTo>
                  <a:pt x="621" y="4062"/>
                </a:lnTo>
                <a:lnTo>
                  <a:pt x="568" y="4062"/>
                </a:lnTo>
                <a:lnTo>
                  <a:pt x="502" y="4049"/>
                </a:lnTo>
                <a:lnTo>
                  <a:pt x="463" y="4049"/>
                </a:lnTo>
                <a:lnTo>
                  <a:pt x="423" y="4049"/>
                </a:lnTo>
                <a:lnTo>
                  <a:pt x="357" y="4049"/>
                </a:lnTo>
                <a:lnTo>
                  <a:pt x="317" y="4049"/>
                </a:lnTo>
                <a:lnTo>
                  <a:pt x="251" y="4049"/>
                </a:lnTo>
                <a:lnTo>
                  <a:pt x="185" y="4049"/>
                </a:lnTo>
                <a:lnTo>
                  <a:pt x="145" y="4049"/>
                </a:lnTo>
                <a:lnTo>
                  <a:pt x="105" y="4049"/>
                </a:lnTo>
                <a:lnTo>
                  <a:pt x="39" y="4049"/>
                </a:lnTo>
                <a:lnTo>
                  <a:pt x="0" y="404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1745" name=""/>
          <p:cNvSpPr txBox="1"/>
          <p:nvPr/>
        </p:nvSpPr>
        <p:spPr>
          <a:xfrm>
            <a:off x="1582560" y="5589720"/>
            <a:ext cx="6137280" cy="70164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Results may or may not conform to drawing specifications</a:t>
            </a:r>
            <a:endParaRPr b="0" lang="en-US" sz="2000" spc="-1" strike="noStrike">
              <a:solidFill>
                <a:srgbClr val="000000"/>
              </a:solidFill>
              <a:latin typeface="Arial"/>
            </a:endParaRPr>
          </a:p>
          <a:p>
            <a:pPr algn="ctr">
              <a:lnSpc>
                <a:spcPct val="100000"/>
              </a:lnSpc>
            </a:pPr>
            <a:r>
              <a:rPr b="0" lang="en-US" sz="2000" spc="-1" strike="noStrike">
                <a:solidFill>
                  <a:srgbClr val="ffffff"/>
                </a:solidFill>
                <a:latin typeface="Times New Roman"/>
                <a:ea typeface="Times New Roman"/>
              </a:rPr>
              <a:t>The significant question is “Who is right?”</a:t>
            </a:r>
            <a:endParaRPr b="0" lang="en-US" sz="2000" spc="-1" strike="noStrike">
              <a:solidFill>
                <a:srgbClr val="000000"/>
              </a:solidFill>
              <a:latin typeface="Arial"/>
            </a:endParaRPr>
          </a:p>
        </p:txBody>
      </p:sp>
      <p:sp>
        <p:nvSpPr>
          <p:cNvPr id="1746" name=""/>
          <p:cNvSpPr/>
          <p:nvPr/>
        </p:nvSpPr>
        <p:spPr>
          <a:xfrm>
            <a:off x="1641600" y="2549520"/>
            <a:ext cx="4834440" cy="2789640"/>
          </a:xfrm>
          <a:custGeom>
            <a:avLst/>
            <a:gdLst/>
            <a:ahLst/>
            <a:rect l="0" t="0" r="r" b="b"/>
            <a:pathLst>
              <a:path fill="none" w="13429" h="7749">
                <a:moveTo>
                  <a:pt x="3308" y="0"/>
                </a:moveTo>
                <a:lnTo>
                  <a:pt x="0" y="0"/>
                </a:lnTo>
                <a:lnTo>
                  <a:pt x="0" y="117"/>
                </a:lnTo>
                <a:lnTo>
                  <a:pt x="0" y="273"/>
                </a:lnTo>
                <a:lnTo>
                  <a:pt x="0" y="390"/>
                </a:lnTo>
                <a:lnTo>
                  <a:pt x="0" y="585"/>
                </a:lnTo>
                <a:lnTo>
                  <a:pt x="39" y="702"/>
                </a:lnTo>
                <a:lnTo>
                  <a:pt x="78" y="819"/>
                </a:lnTo>
                <a:lnTo>
                  <a:pt x="156" y="976"/>
                </a:lnTo>
                <a:lnTo>
                  <a:pt x="234" y="1132"/>
                </a:lnTo>
                <a:lnTo>
                  <a:pt x="345" y="1327"/>
                </a:lnTo>
                <a:lnTo>
                  <a:pt x="423" y="1478"/>
                </a:lnTo>
                <a:lnTo>
                  <a:pt x="463" y="1595"/>
                </a:lnTo>
                <a:lnTo>
                  <a:pt x="619" y="1829"/>
                </a:lnTo>
                <a:lnTo>
                  <a:pt x="736" y="1986"/>
                </a:lnTo>
                <a:lnTo>
                  <a:pt x="736" y="2103"/>
                </a:lnTo>
                <a:lnTo>
                  <a:pt x="775" y="2377"/>
                </a:lnTo>
                <a:lnTo>
                  <a:pt x="775" y="2494"/>
                </a:lnTo>
                <a:lnTo>
                  <a:pt x="775" y="2689"/>
                </a:lnTo>
                <a:lnTo>
                  <a:pt x="775" y="2923"/>
                </a:lnTo>
                <a:lnTo>
                  <a:pt x="775" y="3113"/>
                </a:lnTo>
                <a:lnTo>
                  <a:pt x="775" y="3425"/>
                </a:lnTo>
                <a:lnTo>
                  <a:pt x="775" y="3582"/>
                </a:lnTo>
                <a:lnTo>
                  <a:pt x="775" y="3699"/>
                </a:lnTo>
                <a:lnTo>
                  <a:pt x="775" y="4050"/>
                </a:lnTo>
                <a:lnTo>
                  <a:pt x="814" y="4363"/>
                </a:lnTo>
                <a:lnTo>
                  <a:pt x="931" y="4636"/>
                </a:lnTo>
                <a:lnTo>
                  <a:pt x="931" y="4825"/>
                </a:lnTo>
                <a:lnTo>
                  <a:pt x="1048" y="5099"/>
                </a:lnTo>
                <a:lnTo>
                  <a:pt x="1087" y="5294"/>
                </a:lnTo>
                <a:lnTo>
                  <a:pt x="1087" y="5411"/>
                </a:lnTo>
                <a:lnTo>
                  <a:pt x="1048" y="5763"/>
                </a:lnTo>
                <a:lnTo>
                  <a:pt x="1048" y="6037"/>
                </a:lnTo>
                <a:lnTo>
                  <a:pt x="1048" y="6310"/>
                </a:lnTo>
                <a:lnTo>
                  <a:pt x="1048" y="6812"/>
                </a:lnTo>
                <a:lnTo>
                  <a:pt x="1907" y="7164"/>
                </a:lnTo>
                <a:lnTo>
                  <a:pt x="2175" y="7281"/>
                </a:lnTo>
                <a:lnTo>
                  <a:pt x="2292" y="7359"/>
                </a:lnTo>
                <a:lnTo>
                  <a:pt x="2448" y="7359"/>
                </a:lnTo>
                <a:lnTo>
                  <a:pt x="2956" y="7359"/>
                </a:lnTo>
                <a:lnTo>
                  <a:pt x="3073" y="7359"/>
                </a:lnTo>
                <a:lnTo>
                  <a:pt x="3190" y="7359"/>
                </a:lnTo>
                <a:lnTo>
                  <a:pt x="3387" y="7359"/>
                </a:lnTo>
                <a:lnTo>
                  <a:pt x="3543" y="7398"/>
                </a:lnTo>
                <a:lnTo>
                  <a:pt x="3733" y="7437"/>
                </a:lnTo>
                <a:lnTo>
                  <a:pt x="3928" y="7554"/>
                </a:lnTo>
                <a:lnTo>
                  <a:pt x="4123" y="7593"/>
                </a:lnTo>
                <a:lnTo>
                  <a:pt x="4396" y="7710"/>
                </a:lnTo>
                <a:lnTo>
                  <a:pt x="4514" y="7749"/>
                </a:lnTo>
                <a:lnTo>
                  <a:pt x="5099" y="7749"/>
                </a:lnTo>
                <a:lnTo>
                  <a:pt x="5719" y="7749"/>
                </a:lnTo>
                <a:lnTo>
                  <a:pt x="5914" y="7749"/>
                </a:lnTo>
                <a:lnTo>
                  <a:pt x="6031" y="7749"/>
                </a:lnTo>
                <a:lnTo>
                  <a:pt x="6148" y="7593"/>
                </a:lnTo>
                <a:lnTo>
                  <a:pt x="6578" y="7437"/>
                </a:lnTo>
                <a:lnTo>
                  <a:pt x="6617" y="7359"/>
                </a:lnTo>
                <a:lnTo>
                  <a:pt x="6890" y="7320"/>
                </a:lnTo>
                <a:lnTo>
                  <a:pt x="7002" y="7281"/>
                </a:lnTo>
                <a:lnTo>
                  <a:pt x="7275" y="7203"/>
                </a:lnTo>
                <a:lnTo>
                  <a:pt x="7822" y="7398"/>
                </a:lnTo>
                <a:lnTo>
                  <a:pt x="7939" y="7320"/>
                </a:lnTo>
                <a:lnTo>
                  <a:pt x="8525" y="7320"/>
                </a:lnTo>
                <a:lnTo>
                  <a:pt x="9417" y="6968"/>
                </a:lnTo>
                <a:lnTo>
                  <a:pt x="9769" y="6929"/>
                </a:lnTo>
                <a:lnTo>
                  <a:pt x="10003" y="6851"/>
                </a:lnTo>
                <a:lnTo>
                  <a:pt x="10199" y="7008"/>
                </a:lnTo>
                <a:lnTo>
                  <a:pt x="10350" y="7047"/>
                </a:lnTo>
                <a:lnTo>
                  <a:pt x="10975" y="7086"/>
                </a:lnTo>
                <a:lnTo>
                  <a:pt x="11209" y="7086"/>
                </a:lnTo>
                <a:lnTo>
                  <a:pt x="11365" y="7047"/>
                </a:lnTo>
                <a:lnTo>
                  <a:pt x="11521" y="6929"/>
                </a:lnTo>
                <a:lnTo>
                  <a:pt x="11638" y="6929"/>
                </a:lnTo>
                <a:lnTo>
                  <a:pt x="11990" y="6929"/>
                </a:lnTo>
                <a:lnTo>
                  <a:pt x="12140" y="6929"/>
                </a:lnTo>
                <a:lnTo>
                  <a:pt x="12258" y="6890"/>
                </a:lnTo>
                <a:lnTo>
                  <a:pt x="12414" y="6890"/>
                </a:lnTo>
                <a:lnTo>
                  <a:pt x="12531" y="6929"/>
                </a:lnTo>
                <a:lnTo>
                  <a:pt x="12648" y="6929"/>
                </a:lnTo>
                <a:lnTo>
                  <a:pt x="12765" y="7047"/>
                </a:lnTo>
                <a:lnTo>
                  <a:pt x="12882" y="7164"/>
                </a:lnTo>
                <a:lnTo>
                  <a:pt x="13000" y="7320"/>
                </a:lnTo>
                <a:lnTo>
                  <a:pt x="13195" y="7359"/>
                </a:lnTo>
                <a:lnTo>
                  <a:pt x="13312" y="7398"/>
                </a:lnTo>
                <a:lnTo>
                  <a:pt x="13429" y="7437"/>
                </a:lnTo>
                <a:lnTo>
                  <a:pt x="13429" y="7320"/>
                </a:lnTo>
                <a:lnTo>
                  <a:pt x="13429" y="7203"/>
                </a:lnTo>
                <a:lnTo>
                  <a:pt x="13429" y="685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7" name=""/>
          <p:cNvSpPr/>
          <p:nvPr/>
        </p:nvSpPr>
        <p:spPr>
          <a:xfrm>
            <a:off x="704880" y="1623960"/>
            <a:ext cx="17240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8" name=""/>
          <p:cNvSpPr txBox="1"/>
          <p:nvPr/>
        </p:nvSpPr>
        <p:spPr>
          <a:xfrm>
            <a:off x="5299200" y="628560"/>
            <a:ext cx="327348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Minimum one point in contact</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with assumed datum C</a:t>
            </a:r>
            <a:endParaRPr b="0" lang="en-US" sz="2000" spc="-1" strike="noStrike">
              <a:solidFill>
                <a:srgbClr val="000000"/>
              </a:solidFill>
              <a:latin typeface="Arial"/>
            </a:endParaRPr>
          </a:p>
        </p:txBody>
      </p:sp>
      <p:sp>
        <p:nvSpPr>
          <p:cNvPr id="1749" name=""/>
          <p:cNvSpPr/>
          <p:nvPr/>
        </p:nvSpPr>
        <p:spPr>
          <a:xfrm>
            <a:off x="7783560" y="112536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0" name=""/>
          <p:cNvSpPr/>
          <p:nvPr/>
        </p:nvSpPr>
        <p:spPr>
          <a:xfrm flipH="1">
            <a:off x="6477120" y="1125360"/>
            <a:ext cx="1517400" cy="1793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51" name=""/>
          <p:cNvGrpSpPr/>
          <p:nvPr/>
        </p:nvGrpSpPr>
        <p:grpSpPr>
          <a:xfrm>
            <a:off x="560520" y="447840"/>
            <a:ext cx="3624120" cy="1190520"/>
            <a:chOff x="560520" y="447840"/>
            <a:chExt cx="3624120" cy="1190520"/>
          </a:xfrm>
        </p:grpSpPr>
        <p:sp>
          <p:nvSpPr>
            <p:cNvPr id="1752"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Implied)</a:t>
              </a:r>
              <a:endParaRPr b="0" lang="en-US" sz="3600" spc="-1" strike="noStrike">
                <a:solidFill>
                  <a:srgbClr val="000000"/>
                </a:solidFill>
                <a:latin typeface="Arial"/>
              </a:endParaRPr>
            </a:p>
          </p:txBody>
        </p:sp>
        <p:sp>
          <p:nvSpPr>
            <p:cNvPr id="1753" name=""/>
            <p:cNvSpPr/>
            <p:nvPr/>
          </p:nvSpPr>
          <p:spPr>
            <a:xfrm>
              <a:off x="884160" y="1623960"/>
              <a:ext cx="1362240" cy="0"/>
            </a:xfrm>
            <a:prstGeom prst="line">
              <a:avLst/>
            </a:prstGeom>
            <a:ln w="25560">
              <a:solidFill>
                <a:srgbClr val="ffff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54" name=""/>
          <p:cNvSpPr txBox="1"/>
          <p:nvPr/>
        </p:nvSpPr>
        <p:spPr>
          <a:xfrm>
            <a:off x="814320" y="503280"/>
            <a:ext cx="3444840" cy="106668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Times New Roman"/>
                <a:ea typeface="Times New Roman"/>
              </a:rPr>
              <a:t>Datum Precedence</a:t>
            </a:r>
            <a:endParaRPr b="0" lang="en-US" sz="3200" spc="-1" strike="noStrike">
              <a:solidFill>
                <a:srgbClr val="000000"/>
              </a:solidFill>
              <a:latin typeface="Arial"/>
            </a:endParaRPr>
          </a:p>
          <a:p>
            <a:pPr>
              <a:lnSpc>
                <a:spcPct val="100000"/>
              </a:lnSpc>
            </a:pPr>
            <a:r>
              <a:rPr b="1" lang="en-US" sz="3200" spc="-1" strike="noStrike">
                <a:solidFill>
                  <a:srgbClr val="ffffff"/>
                </a:solidFill>
                <a:latin typeface="Times New Roman"/>
                <a:ea typeface="Times New Roman"/>
              </a:rPr>
              <a:t>Applications</a:t>
            </a:r>
            <a:endParaRPr b="0" lang="en-US" sz="3200" spc="-1" strike="noStrike">
              <a:solidFill>
                <a:srgbClr val="000000"/>
              </a:solidFill>
              <a:latin typeface="Arial"/>
            </a:endParaRPr>
          </a:p>
        </p:txBody>
      </p:sp>
      <p:sp>
        <p:nvSpPr>
          <p:cNvPr id="1755" name=""/>
          <p:cNvSpPr txBox="1"/>
          <p:nvPr/>
        </p:nvSpPr>
        <p:spPr>
          <a:xfrm>
            <a:off x="1722600" y="4664160"/>
            <a:ext cx="7016760" cy="1189080"/>
          </a:xfrm>
          <a:prstGeom prst="rect">
            <a:avLst/>
          </a:prstGeom>
          <a:noFill/>
          <a:ln w="0">
            <a:noFill/>
          </a:ln>
        </p:spPr>
        <p:txBody>
          <a:bodyPr lIns="0" rIns="0" tIns="0" bIns="0" anchor="t">
            <a:noAutofit/>
          </a:bodyPr>
          <a:p>
            <a:pPr>
              <a:lnSpc>
                <a:spcPct val="100000"/>
              </a:lnSpc>
            </a:pPr>
            <a:r>
              <a:rPr b="1" lang="en-US" sz="7200" spc="-1" strike="noStrike">
                <a:solidFill>
                  <a:srgbClr val="ffffff"/>
                </a:solidFill>
                <a:latin typeface="Times New Roman"/>
                <a:ea typeface="Times New Roman"/>
              </a:rPr>
              <a:t>Specified Datum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04" name=""/>
          <p:cNvSpPr txBox="1"/>
          <p:nvPr/>
        </p:nvSpPr>
        <p:spPr>
          <a:xfrm>
            <a:off x="685800" y="1023840"/>
            <a:ext cx="7772400" cy="335268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DATUMS AND DATUM REFERENCING</a:t>
            </a:r>
            <a:endParaRPr b="0" lang="en-US" sz="7200" spc="-1" strike="noStrike">
              <a:solidFill>
                <a:srgbClr val="000000"/>
              </a:solidFill>
              <a:latin typeface="Arial"/>
            </a:endParaRPr>
          </a:p>
        </p:txBody>
      </p:sp>
      <p:sp>
        <p:nvSpPr>
          <p:cNvPr id="605" name=""/>
          <p:cNvSpPr/>
          <p:nvPr/>
        </p:nvSpPr>
        <p:spPr>
          <a:xfrm>
            <a:off x="5613480" y="6408720"/>
            <a:ext cx="2657520" cy="43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1658880" y="4668840"/>
            <a:ext cx="5815080" cy="1041480"/>
          </a:xfrm>
          <a:prstGeom prst="rect">
            <a:avLst/>
          </a:prstGeom>
          <a:solidFill>
            <a:srgbClr val="fc0128"/>
          </a:solidFill>
          <a:ln w="50760">
            <a:solidFill>
              <a:srgbClr val="ffffff"/>
            </a:solidFill>
            <a:round/>
          </a:ln>
        </p:spPr>
        <p:txBody>
          <a:bodyPr lIns="115200" rIns="115200" tIns="70200" bIns="70200" anchor="t">
            <a:noAutofit/>
          </a:bodyPr>
          <a:p>
            <a:endParaRPr b="0" lang="en-US" sz="1800" spc="-1" strike="noStrike">
              <a:solidFill>
                <a:srgbClr val="000000"/>
              </a:solidFill>
              <a:latin typeface="Arial"/>
            </a:endParaRPr>
          </a:p>
        </p:txBody>
      </p:sp>
      <p:sp>
        <p:nvSpPr>
          <p:cNvPr id="607" name=""/>
          <p:cNvSpPr txBox="1"/>
          <p:nvPr/>
        </p:nvSpPr>
        <p:spPr>
          <a:xfrm>
            <a:off x="2602080" y="4808520"/>
            <a:ext cx="3922560" cy="701640"/>
          </a:xfrm>
          <a:prstGeom prst="rect">
            <a:avLst/>
          </a:prstGeom>
          <a:noFill/>
          <a:ln w="0">
            <a:noFill/>
          </a:ln>
        </p:spPr>
        <p:txBody>
          <a:bodyPr lIns="0" rIns="0" tIns="0" bIns="0" anchor="t">
            <a:noAutofit/>
          </a:bodyPr>
          <a:p>
            <a:pPr algn="ctr">
              <a:lnSpc>
                <a:spcPct val="100000"/>
              </a:lnSpc>
            </a:pPr>
            <a:r>
              <a:rPr b="0" lang="en-US" sz="4000" spc="-1" strike="noStrike">
                <a:solidFill>
                  <a:srgbClr val="ffff00"/>
                </a:solidFill>
                <a:latin typeface="Times New Roman"/>
                <a:ea typeface="Times New Roman"/>
              </a:rPr>
              <a:t>Part Two of Thre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7"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a:off x="2778120" y="26668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9"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0" name=""/>
          <p:cNvSpPr/>
          <p:nvPr/>
        </p:nvSpPr>
        <p:spPr>
          <a:xfrm>
            <a:off x="5064120" y="331776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61" name=""/>
          <p:cNvGrpSpPr/>
          <p:nvPr/>
        </p:nvGrpSpPr>
        <p:grpSpPr>
          <a:xfrm>
            <a:off x="4413240" y="2560680"/>
            <a:ext cx="507960" cy="495360"/>
            <a:chOff x="4413240" y="2560680"/>
            <a:chExt cx="507960" cy="495360"/>
          </a:xfrm>
        </p:grpSpPr>
        <p:sp>
          <p:nvSpPr>
            <p:cNvPr id="1762"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3"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767"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68" name=""/>
          <p:cNvGrpSpPr/>
          <p:nvPr/>
        </p:nvGrpSpPr>
        <p:grpSpPr>
          <a:xfrm>
            <a:off x="2676600" y="2570040"/>
            <a:ext cx="507960" cy="495360"/>
            <a:chOff x="2676600" y="2570040"/>
            <a:chExt cx="507960" cy="495360"/>
          </a:xfrm>
        </p:grpSpPr>
        <p:sp>
          <p:nvSpPr>
            <p:cNvPr id="1769" name=""/>
            <p:cNvSpPr/>
            <p:nvPr/>
          </p:nvSpPr>
          <p:spPr>
            <a:xfrm>
              <a:off x="2676600" y="2806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a:off x="2882880" y="2806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a:off x="3009960" y="2806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774"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75" name=""/>
          <p:cNvGrpSpPr/>
          <p:nvPr/>
        </p:nvGrpSpPr>
        <p:grpSpPr>
          <a:xfrm>
            <a:off x="2523960" y="5121360"/>
            <a:ext cx="2523960" cy="1133280"/>
            <a:chOff x="2523960" y="5121360"/>
            <a:chExt cx="2523960" cy="1133280"/>
          </a:xfrm>
        </p:grpSpPr>
        <p:sp>
          <p:nvSpPr>
            <p:cNvPr id="1776"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7"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8"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0"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1" name=""/>
            <p:cNvGrpSpPr/>
            <p:nvPr/>
          </p:nvGrpSpPr>
          <p:grpSpPr>
            <a:xfrm>
              <a:off x="4651200" y="5127480"/>
              <a:ext cx="0" cy="1127160"/>
              <a:chOff x="4651200" y="5127480"/>
              <a:chExt cx="0" cy="1127160"/>
            </a:xfrm>
          </p:grpSpPr>
          <p:sp>
            <p:nvSpPr>
              <p:cNvPr id="1782"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3"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1784"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85" name=""/>
            <p:cNvGrpSpPr/>
            <p:nvPr/>
          </p:nvGrpSpPr>
          <p:grpSpPr>
            <a:xfrm>
              <a:off x="2898720" y="5121360"/>
              <a:ext cx="0" cy="1127160"/>
              <a:chOff x="2898720" y="5121360"/>
              <a:chExt cx="0" cy="1127160"/>
            </a:xfrm>
          </p:grpSpPr>
          <p:sp>
            <p:nvSpPr>
              <p:cNvPr id="1786"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1788"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789"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0"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1"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2"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3"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5"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6"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a:off x="5699160" y="2270160"/>
            <a:ext cx="49212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8"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grpSp>
        <p:nvGrpSpPr>
          <p:cNvPr id="1799" name=""/>
          <p:cNvGrpSpPr/>
          <p:nvPr/>
        </p:nvGrpSpPr>
        <p:grpSpPr>
          <a:xfrm>
            <a:off x="5397480" y="3516480"/>
            <a:ext cx="539640" cy="336600"/>
            <a:chOff x="5397480" y="3516480"/>
            <a:chExt cx="539640" cy="336600"/>
          </a:xfrm>
        </p:grpSpPr>
        <p:sp>
          <p:nvSpPr>
            <p:cNvPr id="1800" name=""/>
            <p:cNvSpPr/>
            <p:nvPr/>
          </p:nvSpPr>
          <p:spPr>
            <a:xfrm>
              <a:off x="5423040" y="3533760"/>
              <a:ext cx="444600" cy="270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1"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grpSp>
      <p:grpSp>
        <p:nvGrpSpPr>
          <p:cNvPr id="1802" name=""/>
          <p:cNvGrpSpPr/>
          <p:nvPr/>
        </p:nvGrpSpPr>
        <p:grpSpPr>
          <a:xfrm>
            <a:off x="2921040" y="3500280"/>
            <a:ext cx="1147680" cy="336600"/>
            <a:chOff x="2921040" y="3500280"/>
            <a:chExt cx="1147680" cy="336600"/>
          </a:xfrm>
        </p:grpSpPr>
        <p:sp>
          <p:nvSpPr>
            <p:cNvPr id="1803" name=""/>
            <p:cNvSpPr/>
            <p:nvPr/>
          </p:nvSpPr>
          <p:spPr>
            <a:xfrm>
              <a:off x="3540240" y="3524400"/>
              <a:ext cx="444600" cy="270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4" name=""/>
            <p:cNvSpPr/>
            <p:nvPr/>
          </p:nvSpPr>
          <p:spPr>
            <a:xfrm flipH="1">
              <a:off x="2921040" y="3651120"/>
              <a:ext cx="619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5"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grpSp>
      <p:grpSp>
        <p:nvGrpSpPr>
          <p:cNvPr id="1806" name=""/>
          <p:cNvGrpSpPr/>
          <p:nvPr/>
        </p:nvGrpSpPr>
        <p:grpSpPr>
          <a:xfrm>
            <a:off x="5068800" y="4376880"/>
            <a:ext cx="825480" cy="291960"/>
            <a:chOff x="5068800" y="4376880"/>
            <a:chExt cx="825480" cy="291960"/>
          </a:xfrm>
        </p:grpSpPr>
        <p:sp>
          <p:nvSpPr>
            <p:cNvPr id="1807" name=""/>
            <p:cNvSpPr/>
            <p:nvPr/>
          </p:nvSpPr>
          <p:spPr>
            <a:xfrm>
              <a:off x="5602320" y="437688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flipH="1">
              <a:off x="5129280" y="4522680"/>
              <a:ext cx="46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5068800" y="4441680"/>
              <a:ext cx="165600" cy="165600"/>
            </a:xfrm>
            <a:custGeom>
              <a:avLst/>
              <a:gdLst/>
              <a:ahLst/>
              <a:rect l="0" t="0" r="r" b="b"/>
              <a:pathLst>
                <a:path w="460" h="460">
                  <a:moveTo>
                    <a:pt x="0" y="0"/>
                  </a:moveTo>
                  <a:lnTo>
                    <a:pt x="0" y="460"/>
                  </a:lnTo>
                  <a:lnTo>
                    <a:pt x="460" y="230"/>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0" name=""/>
          <p:cNvGrpSpPr/>
          <p:nvPr/>
        </p:nvGrpSpPr>
        <p:grpSpPr>
          <a:xfrm>
            <a:off x="5979960" y="5135400"/>
            <a:ext cx="291960" cy="826200"/>
            <a:chOff x="5979960" y="5135400"/>
            <a:chExt cx="291960" cy="826200"/>
          </a:xfrm>
        </p:grpSpPr>
        <p:sp>
          <p:nvSpPr>
            <p:cNvPr id="1811" name=""/>
            <p:cNvSpPr/>
            <p:nvPr/>
          </p:nvSpPr>
          <p:spPr>
            <a:xfrm>
              <a:off x="5979960" y="513540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6126120" y="5430960"/>
              <a:ext cx="0" cy="46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6045120" y="5796000"/>
              <a:ext cx="165600" cy="165600"/>
            </a:xfrm>
            <a:custGeom>
              <a:avLst/>
              <a:gdLst/>
              <a:ahLst/>
              <a:rect l="0" t="0" r="r" b="b"/>
              <a:pathLst>
                <a:path w="460" h="460">
                  <a:moveTo>
                    <a:pt x="0" y="460"/>
                  </a:moveTo>
                  <a:lnTo>
                    <a:pt x="460" y="460"/>
                  </a:lnTo>
                  <a:lnTo>
                    <a:pt x="230" y="0"/>
                  </a:lnTo>
                  <a:lnTo>
                    <a:pt x="0" y="46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14" name=""/>
          <p:cNvSpPr/>
          <p:nvPr/>
        </p:nvSpPr>
        <p:spPr>
          <a:xfrm>
            <a:off x="5159520" y="5969160"/>
            <a:ext cx="136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5" name=""/>
          <p:cNvSpPr txBox="1"/>
          <p:nvPr/>
        </p:nvSpPr>
        <p:spPr>
          <a:xfrm>
            <a:off x="5962680" y="51354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1816" name=""/>
          <p:cNvSpPr txBox="1"/>
          <p:nvPr/>
        </p:nvSpPr>
        <p:spPr>
          <a:xfrm>
            <a:off x="5619600" y="43736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grpSp>
        <p:nvGrpSpPr>
          <p:cNvPr id="1817" name=""/>
          <p:cNvGrpSpPr/>
          <p:nvPr/>
        </p:nvGrpSpPr>
        <p:grpSpPr>
          <a:xfrm>
            <a:off x="6175440" y="1353960"/>
            <a:ext cx="318960" cy="699120"/>
            <a:chOff x="6175440" y="1353960"/>
            <a:chExt cx="318960" cy="699120"/>
          </a:xfrm>
        </p:grpSpPr>
        <p:sp>
          <p:nvSpPr>
            <p:cNvPr id="1818" name=""/>
            <p:cNvSpPr/>
            <p:nvPr/>
          </p:nvSpPr>
          <p:spPr>
            <a:xfrm>
              <a:off x="6329520" y="1666800"/>
              <a:ext cx="0" cy="3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6248520" y="1887480"/>
              <a:ext cx="165600" cy="165600"/>
            </a:xfrm>
            <a:custGeom>
              <a:avLst/>
              <a:gdLst/>
              <a:ahLst/>
              <a:rect l="0" t="0" r="r" b="b"/>
              <a:pathLst>
                <a:path w="460" h="460">
                  <a:moveTo>
                    <a:pt x="0" y="460"/>
                  </a:moveTo>
                  <a:lnTo>
                    <a:pt x="460" y="460"/>
                  </a:lnTo>
                  <a:lnTo>
                    <a:pt x="230" y="0"/>
                  </a:lnTo>
                  <a:lnTo>
                    <a:pt x="0" y="46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20" name=""/>
            <p:cNvGrpSpPr/>
            <p:nvPr/>
          </p:nvGrpSpPr>
          <p:grpSpPr>
            <a:xfrm>
              <a:off x="6175440" y="1353960"/>
              <a:ext cx="318960" cy="341640"/>
              <a:chOff x="6175440" y="1353960"/>
              <a:chExt cx="318960" cy="341640"/>
            </a:xfrm>
          </p:grpSpPr>
          <p:sp>
            <p:nvSpPr>
              <p:cNvPr id="1821" name=""/>
              <p:cNvSpPr/>
              <p:nvPr/>
            </p:nvSpPr>
            <p:spPr>
              <a:xfrm>
                <a:off x="6183360" y="135396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2" name=""/>
              <p:cNvSpPr txBox="1"/>
              <p:nvPr/>
            </p:nvSpPr>
            <p:spPr>
              <a:xfrm>
                <a:off x="6175440" y="135900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grpSp>
      </p:grpSp>
      <p:sp>
        <p:nvSpPr>
          <p:cNvPr id="1823"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4"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txBox="1"/>
          <p:nvPr/>
        </p:nvSpPr>
        <p:spPr>
          <a:xfrm>
            <a:off x="5483160" y="42228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1827" name=""/>
          <p:cNvSpPr txBox="1"/>
          <p:nvPr/>
        </p:nvSpPr>
        <p:spPr>
          <a:xfrm>
            <a:off x="6099120" y="27936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1828" name=""/>
          <p:cNvGrpSpPr/>
          <p:nvPr/>
        </p:nvGrpSpPr>
        <p:grpSpPr>
          <a:xfrm>
            <a:off x="5952960" y="460440"/>
            <a:ext cx="174960" cy="174600"/>
            <a:chOff x="5952960" y="460440"/>
            <a:chExt cx="174960" cy="174600"/>
          </a:xfrm>
        </p:grpSpPr>
        <p:sp>
          <p:nvSpPr>
            <p:cNvPr id="1829" name=""/>
            <p:cNvSpPr/>
            <p:nvPr/>
          </p:nvSpPr>
          <p:spPr>
            <a:xfrm>
              <a:off x="5969160" y="4762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flipH="1">
              <a:off x="5952960" y="460440"/>
              <a:ext cx="17496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1" name=""/>
          <p:cNvSpPr/>
          <p:nvPr/>
        </p:nvSpPr>
        <p:spPr>
          <a:xfrm>
            <a:off x="5619600" y="888840"/>
            <a:ext cx="203184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32" name=""/>
          <p:cNvGrpSpPr/>
          <p:nvPr/>
        </p:nvGrpSpPr>
        <p:grpSpPr>
          <a:xfrm>
            <a:off x="5683320" y="927000"/>
            <a:ext cx="237960" cy="228600"/>
            <a:chOff x="5683320" y="927000"/>
            <a:chExt cx="237960" cy="228600"/>
          </a:xfrm>
        </p:grpSpPr>
        <p:sp>
          <p:nvSpPr>
            <p:cNvPr id="1833" name=""/>
            <p:cNvSpPr/>
            <p:nvPr/>
          </p:nvSpPr>
          <p:spPr>
            <a:xfrm>
              <a:off x="5721480" y="955800"/>
              <a:ext cx="17460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5810400" y="92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a:off x="5683320" y="104472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6" name=""/>
          <p:cNvSpPr/>
          <p:nvPr/>
        </p:nvSpPr>
        <p:spPr>
          <a:xfrm>
            <a:off x="5994360" y="90180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37" name=""/>
          <p:cNvGrpSpPr/>
          <p:nvPr/>
        </p:nvGrpSpPr>
        <p:grpSpPr>
          <a:xfrm>
            <a:off x="6073920" y="949320"/>
            <a:ext cx="174600" cy="174600"/>
            <a:chOff x="6073920" y="949320"/>
            <a:chExt cx="174600" cy="174600"/>
          </a:xfrm>
        </p:grpSpPr>
        <p:sp>
          <p:nvSpPr>
            <p:cNvPr id="1838" name=""/>
            <p:cNvSpPr/>
            <p:nvPr/>
          </p:nvSpPr>
          <p:spPr>
            <a:xfrm>
              <a:off x="6089760" y="9651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flipH="1">
              <a:off x="6073920" y="949320"/>
              <a:ext cx="17460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40" name=""/>
          <p:cNvSpPr txBox="1"/>
          <p:nvPr/>
        </p:nvSpPr>
        <p:spPr>
          <a:xfrm>
            <a:off x="6251400" y="879480"/>
            <a:ext cx="2858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a:t>
            </a:r>
            <a:endParaRPr b="0" lang="en-US" sz="1600" spc="-1" strike="noStrike">
              <a:solidFill>
                <a:srgbClr val="000000"/>
              </a:solidFill>
              <a:latin typeface="Arial"/>
            </a:endParaRPr>
          </a:p>
        </p:txBody>
      </p:sp>
      <p:sp>
        <p:nvSpPr>
          <p:cNvPr id="1841" name=""/>
          <p:cNvSpPr/>
          <p:nvPr/>
        </p:nvSpPr>
        <p:spPr>
          <a:xfrm>
            <a:off x="6556320" y="91440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2" name=""/>
          <p:cNvSpPr txBox="1"/>
          <p:nvPr/>
        </p:nvSpPr>
        <p:spPr>
          <a:xfrm>
            <a:off x="6500880" y="879480"/>
            <a:ext cx="365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1843" name=""/>
          <p:cNvSpPr/>
          <p:nvPr/>
        </p:nvSpPr>
        <p:spPr>
          <a:xfrm>
            <a:off x="6908760" y="89856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4" name=""/>
          <p:cNvSpPr txBox="1"/>
          <p:nvPr/>
        </p:nvSpPr>
        <p:spPr>
          <a:xfrm>
            <a:off x="6864480" y="8701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1845" name=""/>
          <p:cNvSpPr/>
          <p:nvPr/>
        </p:nvSpPr>
        <p:spPr>
          <a:xfrm>
            <a:off x="7159680" y="89856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6" name=""/>
          <p:cNvSpPr/>
          <p:nvPr/>
        </p:nvSpPr>
        <p:spPr>
          <a:xfrm>
            <a:off x="7413480" y="901800"/>
            <a:ext cx="0" cy="27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7" name=""/>
          <p:cNvSpPr txBox="1"/>
          <p:nvPr/>
        </p:nvSpPr>
        <p:spPr>
          <a:xfrm>
            <a:off x="7128000" y="87012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sp>
        <p:nvSpPr>
          <p:cNvPr id="1848" name=""/>
          <p:cNvSpPr txBox="1"/>
          <p:nvPr/>
        </p:nvSpPr>
        <p:spPr>
          <a:xfrm>
            <a:off x="7365960" y="8636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1849"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850" name=""/>
          <p:cNvSpPr/>
          <p:nvPr/>
        </p:nvSpPr>
        <p:spPr>
          <a:xfrm flipH="1">
            <a:off x="5349960" y="5554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1" name=""/>
          <p:cNvSpPr/>
          <p:nvPr/>
        </p:nvSpPr>
        <p:spPr>
          <a:xfrm flipH="1">
            <a:off x="4714920" y="555480"/>
            <a:ext cx="635040" cy="209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52" name=""/>
          <p:cNvGrpSpPr/>
          <p:nvPr/>
        </p:nvGrpSpPr>
        <p:grpSpPr>
          <a:xfrm>
            <a:off x="560520" y="447840"/>
            <a:ext cx="3624120" cy="1190520"/>
            <a:chOff x="560520" y="447840"/>
            <a:chExt cx="3624120" cy="1190520"/>
          </a:xfrm>
        </p:grpSpPr>
        <p:sp>
          <p:nvSpPr>
            <p:cNvPr id="1853"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1854"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
        <p:nvSpPr>
          <p:cNvPr id="1855"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5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7"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58" name=""/>
          <p:cNvGrpSpPr/>
          <p:nvPr/>
        </p:nvGrpSpPr>
        <p:grpSpPr>
          <a:xfrm>
            <a:off x="1112760" y="2797200"/>
            <a:ext cx="5065920" cy="2081160"/>
            <a:chOff x="1112760" y="2797200"/>
            <a:chExt cx="5065920" cy="2081160"/>
          </a:xfrm>
        </p:grpSpPr>
        <p:sp>
          <p:nvSpPr>
            <p:cNvPr id="1859" name=""/>
            <p:cNvSpPr/>
            <p:nvPr/>
          </p:nvSpPr>
          <p:spPr>
            <a:xfrm flipH="1">
              <a:off x="2424240" y="279720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0" name=""/>
            <p:cNvSpPr txBox="1"/>
            <p:nvPr/>
          </p:nvSpPr>
          <p:spPr>
            <a:xfrm>
              <a:off x="4003560" y="44830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1861" name=""/>
            <p:cNvSpPr txBox="1"/>
            <p:nvPr/>
          </p:nvSpPr>
          <p:spPr>
            <a:xfrm>
              <a:off x="1112760" y="297972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1862" name=""/>
            <p:cNvSpPr/>
            <p:nvPr/>
          </p:nvSpPr>
          <p:spPr>
            <a:xfrm>
              <a:off x="2190600" y="315900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flipV="1">
              <a:off x="2428920" y="2825640"/>
              <a:ext cx="33336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4" name=""/>
            <p:cNvSpPr/>
            <p:nvPr/>
          </p:nvSpPr>
          <p:spPr>
            <a:xfrm flipV="1">
              <a:off x="5214960" y="43149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5" name=""/>
            <p:cNvSpPr/>
            <p:nvPr/>
          </p:nvSpPr>
          <p:spPr>
            <a:xfrm flipH="1">
              <a:off x="5025960" y="46911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6" name=""/>
            <p:cNvSpPr/>
            <p:nvPr/>
          </p:nvSpPr>
          <p:spPr>
            <a:xfrm>
              <a:off x="3624120" y="437832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867" name=""/>
            <p:cNvSpPr txBox="1"/>
            <p:nvPr/>
          </p:nvSpPr>
          <p:spPr>
            <a:xfrm>
              <a:off x="1973160" y="4511520"/>
              <a:ext cx="10288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A</a:t>
              </a:r>
              <a:endParaRPr b="0" lang="en-US" sz="1800" spc="-1" strike="noStrike">
                <a:solidFill>
                  <a:srgbClr val="000000"/>
                </a:solidFill>
                <a:latin typeface="Arial"/>
              </a:endParaRPr>
            </a:p>
          </p:txBody>
        </p:sp>
        <p:sp>
          <p:nvSpPr>
            <p:cNvPr id="1868" name=""/>
            <p:cNvSpPr/>
            <p:nvPr/>
          </p:nvSpPr>
          <p:spPr>
            <a:xfrm flipV="1">
              <a:off x="3100320" y="4437000"/>
              <a:ext cx="552600" cy="26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9" name=""/>
            <p:cNvSpPr/>
            <p:nvPr/>
          </p:nvSpPr>
          <p:spPr>
            <a:xfrm>
              <a:off x="2932200" y="4702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70" name=""/>
          <p:cNvSpPr/>
          <p:nvPr/>
        </p:nvSpPr>
        <p:spPr>
          <a:xfrm>
            <a:off x="3165480" y="2797200"/>
            <a:ext cx="2991240" cy="2194200"/>
          </a:xfrm>
          <a:custGeom>
            <a:avLst/>
            <a:gdLst/>
            <a:ahLst/>
            <a:rect l="0" t="0" r="r" b="b"/>
            <a:pathLst>
              <a:path fill="none" w="8309" h="6095">
                <a:moveTo>
                  <a:pt x="401" y="0"/>
                </a:moveTo>
                <a:lnTo>
                  <a:pt x="401" y="92"/>
                </a:lnTo>
                <a:lnTo>
                  <a:pt x="246" y="154"/>
                </a:lnTo>
                <a:lnTo>
                  <a:pt x="154" y="216"/>
                </a:lnTo>
                <a:lnTo>
                  <a:pt x="123" y="308"/>
                </a:lnTo>
                <a:lnTo>
                  <a:pt x="61" y="463"/>
                </a:lnTo>
                <a:lnTo>
                  <a:pt x="61" y="617"/>
                </a:lnTo>
                <a:lnTo>
                  <a:pt x="61" y="709"/>
                </a:lnTo>
                <a:lnTo>
                  <a:pt x="61" y="802"/>
                </a:lnTo>
                <a:lnTo>
                  <a:pt x="61" y="895"/>
                </a:lnTo>
                <a:lnTo>
                  <a:pt x="61" y="987"/>
                </a:lnTo>
                <a:lnTo>
                  <a:pt x="61" y="1080"/>
                </a:lnTo>
                <a:lnTo>
                  <a:pt x="30" y="1199"/>
                </a:lnTo>
                <a:lnTo>
                  <a:pt x="30" y="1292"/>
                </a:lnTo>
                <a:lnTo>
                  <a:pt x="0" y="1384"/>
                </a:lnTo>
                <a:lnTo>
                  <a:pt x="0" y="1477"/>
                </a:lnTo>
                <a:lnTo>
                  <a:pt x="0" y="1693"/>
                </a:lnTo>
                <a:lnTo>
                  <a:pt x="61" y="1847"/>
                </a:lnTo>
                <a:lnTo>
                  <a:pt x="154" y="1940"/>
                </a:lnTo>
                <a:lnTo>
                  <a:pt x="246" y="2032"/>
                </a:lnTo>
                <a:lnTo>
                  <a:pt x="308" y="2125"/>
                </a:lnTo>
                <a:lnTo>
                  <a:pt x="308" y="2248"/>
                </a:lnTo>
                <a:lnTo>
                  <a:pt x="308" y="2341"/>
                </a:lnTo>
                <a:lnTo>
                  <a:pt x="308" y="2491"/>
                </a:lnTo>
                <a:lnTo>
                  <a:pt x="308" y="2584"/>
                </a:lnTo>
                <a:lnTo>
                  <a:pt x="308" y="2738"/>
                </a:lnTo>
                <a:lnTo>
                  <a:pt x="277" y="2831"/>
                </a:lnTo>
                <a:lnTo>
                  <a:pt x="277" y="2923"/>
                </a:lnTo>
                <a:lnTo>
                  <a:pt x="246" y="3016"/>
                </a:lnTo>
                <a:lnTo>
                  <a:pt x="216" y="3171"/>
                </a:lnTo>
                <a:lnTo>
                  <a:pt x="154" y="3264"/>
                </a:lnTo>
                <a:lnTo>
                  <a:pt x="154" y="3418"/>
                </a:lnTo>
                <a:lnTo>
                  <a:pt x="92" y="3511"/>
                </a:lnTo>
                <a:lnTo>
                  <a:pt x="92" y="3603"/>
                </a:lnTo>
                <a:lnTo>
                  <a:pt x="61" y="3753"/>
                </a:lnTo>
                <a:lnTo>
                  <a:pt x="61" y="3908"/>
                </a:lnTo>
                <a:lnTo>
                  <a:pt x="92" y="4124"/>
                </a:lnTo>
                <a:lnTo>
                  <a:pt x="92" y="4247"/>
                </a:lnTo>
                <a:lnTo>
                  <a:pt x="123" y="4340"/>
                </a:lnTo>
                <a:lnTo>
                  <a:pt x="246" y="4494"/>
                </a:lnTo>
                <a:lnTo>
                  <a:pt x="277" y="4587"/>
                </a:lnTo>
                <a:lnTo>
                  <a:pt x="339" y="4679"/>
                </a:lnTo>
                <a:lnTo>
                  <a:pt x="401" y="4772"/>
                </a:lnTo>
                <a:lnTo>
                  <a:pt x="463" y="4864"/>
                </a:lnTo>
                <a:lnTo>
                  <a:pt x="612" y="5200"/>
                </a:lnTo>
                <a:lnTo>
                  <a:pt x="643" y="5354"/>
                </a:lnTo>
                <a:lnTo>
                  <a:pt x="767" y="5539"/>
                </a:lnTo>
                <a:lnTo>
                  <a:pt x="921" y="5693"/>
                </a:lnTo>
                <a:lnTo>
                  <a:pt x="1014" y="5724"/>
                </a:lnTo>
                <a:lnTo>
                  <a:pt x="1415" y="5817"/>
                </a:lnTo>
                <a:lnTo>
                  <a:pt x="1631" y="5848"/>
                </a:lnTo>
                <a:lnTo>
                  <a:pt x="2059" y="5910"/>
                </a:lnTo>
                <a:lnTo>
                  <a:pt x="2152" y="5910"/>
                </a:lnTo>
                <a:lnTo>
                  <a:pt x="2276" y="5910"/>
                </a:lnTo>
                <a:lnTo>
                  <a:pt x="2369" y="5910"/>
                </a:lnTo>
                <a:lnTo>
                  <a:pt x="2492" y="5940"/>
                </a:lnTo>
                <a:lnTo>
                  <a:pt x="2893" y="5940"/>
                </a:lnTo>
                <a:lnTo>
                  <a:pt x="3048" y="5971"/>
                </a:lnTo>
                <a:lnTo>
                  <a:pt x="3259" y="5971"/>
                </a:lnTo>
                <a:lnTo>
                  <a:pt x="3383" y="6033"/>
                </a:lnTo>
                <a:lnTo>
                  <a:pt x="3537" y="6064"/>
                </a:lnTo>
                <a:lnTo>
                  <a:pt x="3691" y="6095"/>
                </a:lnTo>
                <a:lnTo>
                  <a:pt x="3784" y="6095"/>
                </a:lnTo>
                <a:lnTo>
                  <a:pt x="3877" y="6095"/>
                </a:lnTo>
                <a:lnTo>
                  <a:pt x="4031" y="6095"/>
                </a:lnTo>
                <a:lnTo>
                  <a:pt x="4278" y="6095"/>
                </a:lnTo>
                <a:lnTo>
                  <a:pt x="4401" y="6064"/>
                </a:lnTo>
                <a:lnTo>
                  <a:pt x="4525" y="6064"/>
                </a:lnTo>
                <a:lnTo>
                  <a:pt x="4675" y="6064"/>
                </a:lnTo>
                <a:lnTo>
                  <a:pt x="4829" y="6064"/>
                </a:lnTo>
                <a:lnTo>
                  <a:pt x="5014" y="6002"/>
                </a:lnTo>
                <a:lnTo>
                  <a:pt x="5107" y="6002"/>
                </a:lnTo>
                <a:lnTo>
                  <a:pt x="5539" y="6002"/>
                </a:lnTo>
                <a:lnTo>
                  <a:pt x="5632" y="6002"/>
                </a:lnTo>
                <a:lnTo>
                  <a:pt x="5755" y="6002"/>
                </a:lnTo>
                <a:lnTo>
                  <a:pt x="5848" y="6002"/>
                </a:lnTo>
                <a:lnTo>
                  <a:pt x="6029" y="6002"/>
                </a:lnTo>
                <a:lnTo>
                  <a:pt x="6121" y="6002"/>
                </a:lnTo>
                <a:lnTo>
                  <a:pt x="6214" y="5971"/>
                </a:lnTo>
                <a:lnTo>
                  <a:pt x="6307" y="5971"/>
                </a:lnTo>
                <a:lnTo>
                  <a:pt x="6400" y="5910"/>
                </a:lnTo>
                <a:lnTo>
                  <a:pt x="6523" y="5879"/>
                </a:lnTo>
                <a:lnTo>
                  <a:pt x="6616" y="5817"/>
                </a:lnTo>
                <a:lnTo>
                  <a:pt x="6709" y="5755"/>
                </a:lnTo>
                <a:lnTo>
                  <a:pt x="6956" y="5724"/>
                </a:lnTo>
                <a:lnTo>
                  <a:pt x="7141" y="5693"/>
                </a:lnTo>
                <a:lnTo>
                  <a:pt x="7383" y="5663"/>
                </a:lnTo>
                <a:lnTo>
                  <a:pt x="7476" y="5663"/>
                </a:lnTo>
                <a:lnTo>
                  <a:pt x="7630" y="5601"/>
                </a:lnTo>
                <a:lnTo>
                  <a:pt x="7723" y="5601"/>
                </a:lnTo>
                <a:lnTo>
                  <a:pt x="7939" y="5601"/>
                </a:lnTo>
                <a:lnTo>
                  <a:pt x="8032" y="5601"/>
                </a:lnTo>
                <a:lnTo>
                  <a:pt x="8124" y="5601"/>
                </a:lnTo>
                <a:lnTo>
                  <a:pt x="8217" y="5601"/>
                </a:lnTo>
                <a:lnTo>
                  <a:pt x="8309" y="553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1" name=""/>
          <p:cNvSpPr txBox="1"/>
          <p:nvPr/>
        </p:nvSpPr>
        <p:spPr>
          <a:xfrm>
            <a:off x="465120" y="5710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872" name=""/>
          <p:cNvGrpSpPr/>
          <p:nvPr/>
        </p:nvGrpSpPr>
        <p:grpSpPr>
          <a:xfrm>
            <a:off x="560520" y="447840"/>
            <a:ext cx="3624120" cy="1190520"/>
            <a:chOff x="560520" y="447840"/>
            <a:chExt cx="3624120" cy="1190520"/>
          </a:xfrm>
        </p:grpSpPr>
        <p:sp>
          <p:nvSpPr>
            <p:cNvPr id="1873"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1874"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7" name=""/>
          <p:cNvSpPr txBox="1"/>
          <p:nvPr/>
        </p:nvSpPr>
        <p:spPr>
          <a:xfrm>
            <a:off x="797040" y="4846680"/>
            <a:ext cx="29019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imum of three points of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act on Primary Datum A)</a:t>
            </a:r>
            <a:endParaRPr b="0" lang="en-US" sz="1800" spc="-1" strike="noStrike">
              <a:solidFill>
                <a:srgbClr val="000000"/>
              </a:solidFill>
              <a:latin typeface="Arial"/>
            </a:endParaRPr>
          </a:p>
        </p:txBody>
      </p:sp>
      <p:grpSp>
        <p:nvGrpSpPr>
          <p:cNvPr id="1878" name=""/>
          <p:cNvGrpSpPr/>
          <p:nvPr/>
        </p:nvGrpSpPr>
        <p:grpSpPr>
          <a:xfrm>
            <a:off x="3627360" y="3701880"/>
            <a:ext cx="523800" cy="524160"/>
            <a:chOff x="3627360" y="3701880"/>
            <a:chExt cx="523800" cy="524160"/>
          </a:xfrm>
        </p:grpSpPr>
        <p:grpSp>
          <p:nvGrpSpPr>
            <p:cNvPr id="1879" name=""/>
            <p:cNvGrpSpPr/>
            <p:nvPr/>
          </p:nvGrpSpPr>
          <p:grpSpPr>
            <a:xfrm>
              <a:off x="3627360" y="3938760"/>
              <a:ext cx="523800" cy="0"/>
              <a:chOff x="3627360" y="3938760"/>
              <a:chExt cx="523800" cy="0"/>
            </a:xfrm>
          </p:grpSpPr>
          <p:sp>
            <p:nvSpPr>
              <p:cNvPr id="1880" name=""/>
              <p:cNvSpPr/>
              <p:nvPr/>
            </p:nvSpPr>
            <p:spPr>
              <a:xfrm>
                <a:off x="3627360" y="39387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a:off x="3833640" y="393876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2" name=""/>
              <p:cNvSpPr/>
              <p:nvPr/>
            </p:nvSpPr>
            <p:spPr>
              <a:xfrm>
                <a:off x="3976560" y="39387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3" name=""/>
            <p:cNvSpPr/>
            <p:nvPr/>
          </p:nvSpPr>
          <p:spPr>
            <a:xfrm>
              <a:off x="3714840" y="3787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84" name=""/>
            <p:cNvGrpSpPr/>
            <p:nvPr/>
          </p:nvGrpSpPr>
          <p:grpSpPr>
            <a:xfrm>
              <a:off x="3867120" y="3701880"/>
              <a:ext cx="0" cy="524160"/>
              <a:chOff x="3867120" y="3701880"/>
              <a:chExt cx="0" cy="524160"/>
            </a:xfrm>
          </p:grpSpPr>
          <p:sp>
            <p:nvSpPr>
              <p:cNvPr id="1885" name=""/>
              <p:cNvSpPr/>
              <p:nvPr/>
            </p:nvSpPr>
            <p:spPr>
              <a:xfrm>
                <a:off x="3867120" y="37018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6" name=""/>
              <p:cNvSpPr/>
              <p:nvPr/>
            </p:nvSpPr>
            <p:spPr>
              <a:xfrm>
                <a:off x="3867120" y="390852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887" name=""/>
              <p:cNvSpPr/>
              <p:nvPr/>
            </p:nvSpPr>
            <p:spPr>
              <a:xfrm>
                <a:off x="3867120" y="405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888" name=""/>
          <p:cNvGrpSpPr/>
          <p:nvPr/>
        </p:nvGrpSpPr>
        <p:grpSpPr>
          <a:xfrm>
            <a:off x="5365800" y="3703680"/>
            <a:ext cx="628560" cy="523800"/>
            <a:chOff x="5365800" y="3703680"/>
            <a:chExt cx="628560" cy="523800"/>
          </a:xfrm>
        </p:grpSpPr>
        <p:sp>
          <p:nvSpPr>
            <p:cNvPr id="1889" name=""/>
            <p:cNvSpPr/>
            <p:nvPr/>
          </p:nvSpPr>
          <p:spPr>
            <a:xfrm>
              <a:off x="5489640" y="379404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0" name=""/>
            <p:cNvSpPr/>
            <p:nvPr/>
          </p:nvSpPr>
          <p:spPr>
            <a:xfrm>
              <a:off x="5365800" y="3940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a:off x="5730840" y="394020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5603760" y="3940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93" name=""/>
            <p:cNvGrpSpPr/>
            <p:nvPr/>
          </p:nvGrpSpPr>
          <p:grpSpPr>
            <a:xfrm>
              <a:off x="5637240" y="3703680"/>
              <a:ext cx="0" cy="523800"/>
              <a:chOff x="5637240" y="3703680"/>
              <a:chExt cx="0" cy="523800"/>
            </a:xfrm>
          </p:grpSpPr>
          <p:sp>
            <p:nvSpPr>
              <p:cNvPr id="1894" name=""/>
              <p:cNvSpPr/>
              <p:nvPr/>
            </p:nvSpPr>
            <p:spPr>
              <a:xfrm>
                <a:off x="5637240" y="3703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5637240" y="3909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1896" name=""/>
              <p:cNvSpPr/>
              <p:nvPr/>
            </p:nvSpPr>
            <p:spPr>
              <a:xfrm>
                <a:off x="5637240" y="405288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897" name=""/>
          <p:cNvSpPr/>
          <p:nvPr/>
        </p:nvSpPr>
        <p:spPr>
          <a:xfrm>
            <a:off x="4151160" y="3938760"/>
            <a:ext cx="121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flipH="1">
            <a:off x="2424240" y="279720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9" name=""/>
          <p:cNvSpPr txBox="1"/>
          <p:nvPr/>
        </p:nvSpPr>
        <p:spPr>
          <a:xfrm>
            <a:off x="1112760" y="297972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1900" name=""/>
          <p:cNvSpPr/>
          <p:nvPr/>
        </p:nvSpPr>
        <p:spPr>
          <a:xfrm>
            <a:off x="2190600" y="315900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1" name=""/>
          <p:cNvSpPr/>
          <p:nvPr/>
        </p:nvSpPr>
        <p:spPr>
          <a:xfrm flipV="1">
            <a:off x="2428920" y="2825640"/>
            <a:ext cx="33336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3624120" y="437832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903" name=""/>
          <p:cNvSpPr txBox="1"/>
          <p:nvPr/>
        </p:nvSpPr>
        <p:spPr>
          <a:xfrm>
            <a:off x="1973160" y="4511520"/>
            <a:ext cx="10288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A</a:t>
            </a:r>
            <a:endParaRPr b="0" lang="en-US" sz="1800" spc="-1" strike="noStrike">
              <a:solidFill>
                <a:srgbClr val="000000"/>
              </a:solidFill>
              <a:latin typeface="Arial"/>
            </a:endParaRPr>
          </a:p>
        </p:txBody>
      </p:sp>
      <p:sp>
        <p:nvSpPr>
          <p:cNvPr id="1904" name=""/>
          <p:cNvSpPr/>
          <p:nvPr/>
        </p:nvSpPr>
        <p:spPr>
          <a:xfrm flipV="1">
            <a:off x="3100320" y="4437000"/>
            <a:ext cx="552600" cy="26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5" name=""/>
          <p:cNvSpPr/>
          <p:nvPr/>
        </p:nvSpPr>
        <p:spPr>
          <a:xfrm>
            <a:off x="2932200" y="4702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3176640" y="2786040"/>
            <a:ext cx="2991240" cy="2127600"/>
          </a:xfrm>
          <a:custGeom>
            <a:avLst/>
            <a:gdLst/>
            <a:ahLst/>
            <a:rect l="0" t="0" r="r" b="b"/>
            <a:pathLst>
              <a:path fill="none" w="8309" h="5910">
                <a:moveTo>
                  <a:pt x="401" y="0"/>
                </a:moveTo>
                <a:lnTo>
                  <a:pt x="401" y="92"/>
                </a:lnTo>
                <a:lnTo>
                  <a:pt x="246" y="154"/>
                </a:lnTo>
                <a:lnTo>
                  <a:pt x="154" y="216"/>
                </a:lnTo>
                <a:lnTo>
                  <a:pt x="123" y="308"/>
                </a:lnTo>
                <a:lnTo>
                  <a:pt x="61" y="463"/>
                </a:lnTo>
                <a:lnTo>
                  <a:pt x="61" y="617"/>
                </a:lnTo>
                <a:lnTo>
                  <a:pt x="61" y="709"/>
                </a:lnTo>
                <a:lnTo>
                  <a:pt x="61" y="802"/>
                </a:lnTo>
                <a:lnTo>
                  <a:pt x="61" y="895"/>
                </a:lnTo>
                <a:lnTo>
                  <a:pt x="61" y="987"/>
                </a:lnTo>
                <a:lnTo>
                  <a:pt x="61" y="1080"/>
                </a:lnTo>
                <a:lnTo>
                  <a:pt x="30" y="1199"/>
                </a:lnTo>
                <a:lnTo>
                  <a:pt x="30" y="1292"/>
                </a:lnTo>
                <a:lnTo>
                  <a:pt x="0" y="1384"/>
                </a:lnTo>
                <a:lnTo>
                  <a:pt x="0" y="1477"/>
                </a:lnTo>
                <a:lnTo>
                  <a:pt x="0" y="1693"/>
                </a:lnTo>
                <a:lnTo>
                  <a:pt x="61" y="1847"/>
                </a:lnTo>
                <a:lnTo>
                  <a:pt x="154" y="1940"/>
                </a:lnTo>
                <a:lnTo>
                  <a:pt x="246" y="2032"/>
                </a:lnTo>
                <a:lnTo>
                  <a:pt x="308" y="2125"/>
                </a:lnTo>
                <a:lnTo>
                  <a:pt x="308" y="2248"/>
                </a:lnTo>
                <a:lnTo>
                  <a:pt x="308" y="2341"/>
                </a:lnTo>
                <a:lnTo>
                  <a:pt x="308" y="2491"/>
                </a:lnTo>
                <a:lnTo>
                  <a:pt x="308" y="2584"/>
                </a:lnTo>
                <a:lnTo>
                  <a:pt x="308" y="2738"/>
                </a:lnTo>
                <a:lnTo>
                  <a:pt x="277" y="2831"/>
                </a:lnTo>
                <a:lnTo>
                  <a:pt x="277" y="2923"/>
                </a:lnTo>
                <a:lnTo>
                  <a:pt x="246" y="3017"/>
                </a:lnTo>
                <a:lnTo>
                  <a:pt x="216" y="3171"/>
                </a:lnTo>
                <a:lnTo>
                  <a:pt x="154" y="3264"/>
                </a:lnTo>
                <a:lnTo>
                  <a:pt x="154" y="3418"/>
                </a:lnTo>
                <a:lnTo>
                  <a:pt x="92" y="3511"/>
                </a:lnTo>
                <a:lnTo>
                  <a:pt x="92" y="3603"/>
                </a:lnTo>
                <a:lnTo>
                  <a:pt x="61" y="3753"/>
                </a:lnTo>
                <a:lnTo>
                  <a:pt x="61" y="3908"/>
                </a:lnTo>
                <a:lnTo>
                  <a:pt x="92" y="4124"/>
                </a:lnTo>
                <a:lnTo>
                  <a:pt x="92" y="4247"/>
                </a:lnTo>
                <a:lnTo>
                  <a:pt x="123" y="4340"/>
                </a:lnTo>
                <a:lnTo>
                  <a:pt x="246" y="4494"/>
                </a:lnTo>
                <a:lnTo>
                  <a:pt x="277" y="4587"/>
                </a:lnTo>
                <a:lnTo>
                  <a:pt x="339" y="4679"/>
                </a:lnTo>
                <a:lnTo>
                  <a:pt x="401" y="4772"/>
                </a:lnTo>
                <a:lnTo>
                  <a:pt x="463" y="4864"/>
                </a:lnTo>
                <a:lnTo>
                  <a:pt x="612" y="5200"/>
                </a:lnTo>
                <a:lnTo>
                  <a:pt x="643" y="5354"/>
                </a:lnTo>
                <a:lnTo>
                  <a:pt x="767" y="5539"/>
                </a:lnTo>
                <a:lnTo>
                  <a:pt x="921" y="5693"/>
                </a:lnTo>
                <a:lnTo>
                  <a:pt x="1014" y="5724"/>
                </a:lnTo>
                <a:lnTo>
                  <a:pt x="1415" y="5817"/>
                </a:lnTo>
                <a:lnTo>
                  <a:pt x="1631" y="5848"/>
                </a:lnTo>
                <a:lnTo>
                  <a:pt x="2059" y="5910"/>
                </a:lnTo>
                <a:lnTo>
                  <a:pt x="2152" y="5910"/>
                </a:lnTo>
                <a:lnTo>
                  <a:pt x="2276" y="5910"/>
                </a:lnTo>
                <a:lnTo>
                  <a:pt x="2369" y="5910"/>
                </a:lnTo>
                <a:lnTo>
                  <a:pt x="2492" y="5755"/>
                </a:lnTo>
                <a:lnTo>
                  <a:pt x="2893" y="5755"/>
                </a:lnTo>
                <a:lnTo>
                  <a:pt x="2955" y="5817"/>
                </a:lnTo>
                <a:lnTo>
                  <a:pt x="3202" y="5693"/>
                </a:lnTo>
                <a:lnTo>
                  <a:pt x="3414" y="5724"/>
                </a:lnTo>
                <a:lnTo>
                  <a:pt x="3630" y="5724"/>
                </a:lnTo>
                <a:lnTo>
                  <a:pt x="3599" y="5755"/>
                </a:lnTo>
                <a:lnTo>
                  <a:pt x="3691" y="5755"/>
                </a:lnTo>
                <a:lnTo>
                  <a:pt x="3908" y="5786"/>
                </a:lnTo>
                <a:lnTo>
                  <a:pt x="4124" y="5755"/>
                </a:lnTo>
                <a:lnTo>
                  <a:pt x="4247" y="5724"/>
                </a:lnTo>
                <a:lnTo>
                  <a:pt x="4340" y="5755"/>
                </a:lnTo>
                <a:lnTo>
                  <a:pt x="4551" y="5786"/>
                </a:lnTo>
                <a:lnTo>
                  <a:pt x="4706" y="5693"/>
                </a:lnTo>
                <a:lnTo>
                  <a:pt x="4860" y="5817"/>
                </a:lnTo>
                <a:lnTo>
                  <a:pt x="5014" y="5817"/>
                </a:lnTo>
                <a:lnTo>
                  <a:pt x="5138" y="5786"/>
                </a:lnTo>
                <a:lnTo>
                  <a:pt x="5570" y="5817"/>
                </a:lnTo>
                <a:lnTo>
                  <a:pt x="5693" y="5786"/>
                </a:lnTo>
                <a:lnTo>
                  <a:pt x="5724" y="5817"/>
                </a:lnTo>
                <a:lnTo>
                  <a:pt x="5848" y="5786"/>
                </a:lnTo>
                <a:lnTo>
                  <a:pt x="5936" y="5786"/>
                </a:lnTo>
                <a:lnTo>
                  <a:pt x="6059" y="5817"/>
                </a:lnTo>
                <a:lnTo>
                  <a:pt x="6246" y="5817"/>
                </a:lnTo>
                <a:lnTo>
                  <a:pt x="6369" y="5848"/>
                </a:lnTo>
                <a:lnTo>
                  <a:pt x="6338" y="5817"/>
                </a:lnTo>
                <a:lnTo>
                  <a:pt x="6400" y="5755"/>
                </a:lnTo>
                <a:lnTo>
                  <a:pt x="6616" y="5817"/>
                </a:lnTo>
                <a:lnTo>
                  <a:pt x="6709" y="5755"/>
                </a:lnTo>
                <a:lnTo>
                  <a:pt x="6956" y="5724"/>
                </a:lnTo>
                <a:lnTo>
                  <a:pt x="7141" y="5693"/>
                </a:lnTo>
                <a:lnTo>
                  <a:pt x="7383" y="5663"/>
                </a:lnTo>
                <a:lnTo>
                  <a:pt x="7476" y="5663"/>
                </a:lnTo>
                <a:lnTo>
                  <a:pt x="7630" y="5601"/>
                </a:lnTo>
                <a:lnTo>
                  <a:pt x="7723" y="5601"/>
                </a:lnTo>
                <a:lnTo>
                  <a:pt x="7939" y="5601"/>
                </a:lnTo>
                <a:lnTo>
                  <a:pt x="8032" y="5601"/>
                </a:lnTo>
                <a:lnTo>
                  <a:pt x="8124" y="5601"/>
                </a:lnTo>
                <a:lnTo>
                  <a:pt x="8217" y="5601"/>
                </a:lnTo>
                <a:lnTo>
                  <a:pt x="8309" y="553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07" name=""/>
          <p:cNvGrpSpPr/>
          <p:nvPr/>
        </p:nvGrpSpPr>
        <p:grpSpPr>
          <a:xfrm>
            <a:off x="4003560" y="4879800"/>
            <a:ext cx="2175120" cy="736920"/>
            <a:chOff x="4003560" y="4879800"/>
            <a:chExt cx="2175120" cy="736920"/>
          </a:xfrm>
        </p:grpSpPr>
        <p:grpSp>
          <p:nvGrpSpPr>
            <p:cNvPr id="1908" name=""/>
            <p:cNvGrpSpPr/>
            <p:nvPr/>
          </p:nvGrpSpPr>
          <p:grpSpPr>
            <a:xfrm>
              <a:off x="4003560" y="5081760"/>
              <a:ext cx="2175120" cy="534960"/>
              <a:chOff x="4003560" y="5081760"/>
              <a:chExt cx="2175120" cy="534960"/>
            </a:xfrm>
          </p:grpSpPr>
          <p:sp>
            <p:nvSpPr>
              <p:cNvPr id="1909" name=""/>
              <p:cNvSpPr txBox="1"/>
              <p:nvPr/>
            </p:nvSpPr>
            <p:spPr>
              <a:xfrm>
                <a:off x="4003560" y="52498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1910" name=""/>
              <p:cNvSpPr/>
              <p:nvPr/>
            </p:nvSpPr>
            <p:spPr>
              <a:xfrm flipV="1">
                <a:off x="5214960" y="50817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flipH="1">
                <a:off x="5025960" y="54579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12" name=""/>
            <p:cNvSpPr/>
            <p:nvPr/>
          </p:nvSpPr>
          <p:spPr>
            <a:xfrm>
              <a:off x="6178680" y="4879800"/>
              <a:ext cx="0" cy="509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13" name=""/>
          <p:cNvSpPr/>
          <p:nvPr/>
        </p:nvSpPr>
        <p:spPr>
          <a:xfrm>
            <a:off x="3462480" y="3033720"/>
            <a:ext cx="2619720" cy="1276560"/>
          </a:xfrm>
          <a:custGeom>
            <a:avLst/>
            <a:gdLst/>
            <a:ahLst/>
            <a:rect l="0" t="0" r="r" b="b"/>
            <a:pathLst>
              <a:path fill="none" w="7277" h="3546">
                <a:moveTo>
                  <a:pt x="26" y="3467"/>
                </a:moveTo>
                <a:lnTo>
                  <a:pt x="26" y="3414"/>
                </a:lnTo>
                <a:lnTo>
                  <a:pt x="26" y="3374"/>
                </a:lnTo>
                <a:lnTo>
                  <a:pt x="26" y="3334"/>
                </a:lnTo>
                <a:lnTo>
                  <a:pt x="26" y="3281"/>
                </a:lnTo>
                <a:lnTo>
                  <a:pt x="13" y="3242"/>
                </a:lnTo>
                <a:lnTo>
                  <a:pt x="0" y="3202"/>
                </a:lnTo>
                <a:lnTo>
                  <a:pt x="0" y="3162"/>
                </a:lnTo>
                <a:lnTo>
                  <a:pt x="0" y="3109"/>
                </a:lnTo>
                <a:lnTo>
                  <a:pt x="0" y="3070"/>
                </a:lnTo>
                <a:lnTo>
                  <a:pt x="13" y="3030"/>
                </a:lnTo>
                <a:lnTo>
                  <a:pt x="26" y="2990"/>
                </a:lnTo>
                <a:lnTo>
                  <a:pt x="39" y="2951"/>
                </a:lnTo>
                <a:lnTo>
                  <a:pt x="52" y="2911"/>
                </a:lnTo>
                <a:lnTo>
                  <a:pt x="66" y="2871"/>
                </a:lnTo>
                <a:lnTo>
                  <a:pt x="79" y="2832"/>
                </a:lnTo>
                <a:lnTo>
                  <a:pt x="79" y="2779"/>
                </a:lnTo>
                <a:lnTo>
                  <a:pt x="92" y="2739"/>
                </a:lnTo>
                <a:lnTo>
                  <a:pt x="92" y="2686"/>
                </a:lnTo>
                <a:lnTo>
                  <a:pt x="105" y="2633"/>
                </a:lnTo>
                <a:lnTo>
                  <a:pt x="119" y="2593"/>
                </a:lnTo>
                <a:lnTo>
                  <a:pt x="119" y="2554"/>
                </a:lnTo>
                <a:lnTo>
                  <a:pt x="105" y="2461"/>
                </a:lnTo>
                <a:lnTo>
                  <a:pt x="105" y="2421"/>
                </a:lnTo>
                <a:lnTo>
                  <a:pt x="105" y="2382"/>
                </a:lnTo>
                <a:lnTo>
                  <a:pt x="105" y="2342"/>
                </a:lnTo>
                <a:lnTo>
                  <a:pt x="105" y="2302"/>
                </a:lnTo>
                <a:lnTo>
                  <a:pt x="105" y="2197"/>
                </a:lnTo>
                <a:lnTo>
                  <a:pt x="105" y="2091"/>
                </a:lnTo>
                <a:lnTo>
                  <a:pt x="105" y="2051"/>
                </a:lnTo>
                <a:lnTo>
                  <a:pt x="119" y="2011"/>
                </a:lnTo>
                <a:lnTo>
                  <a:pt x="132" y="1958"/>
                </a:lnTo>
                <a:lnTo>
                  <a:pt x="145" y="1853"/>
                </a:lnTo>
                <a:lnTo>
                  <a:pt x="158" y="1800"/>
                </a:lnTo>
                <a:lnTo>
                  <a:pt x="158" y="1746"/>
                </a:lnTo>
                <a:lnTo>
                  <a:pt x="171" y="1640"/>
                </a:lnTo>
                <a:lnTo>
                  <a:pt x="185" y="1600"/>
                </a:lnTo>
                <a:lnTo>
                  <a:pt x="198" y="1561"/>
                </a:lnTo>
                <a:lnTo>
                  <a:pt x="211" y="1521"/>
                </a:lnTo>
                <a:lnTo>
                  <a:pt x="211" y="1481"/>
                </a:lnTo>
                <a:lnTo>
                  <a:pt x="211" y="1441"/>
                </a:lnTo>
                <a:lnTo>
                  <a:pt x="211" y="1389"/>
                </a:lnTo>
                <a:lnTo>
                  <a:pt x="224" y="1336"/>
                </a:lnTo>
                <a:lnTo>
                  <a:pt x="224" y="1243"/>
                </a:lnTo>
                <a:lnTo>
                  <a:pt x="224" y="1203"/>
                </a:lnTo>
                <a:lnTo>
                  <a:pt x="224" y="1164"/>
                </a:lnTo>
                <a:lnTo>
                  <a:pt x="224" y="1124"/>
                </a:lnTo>
                <a:lnTo>
                  <a:pt x="224" y="1018"/>
                </a:lnTo>
                <a:lnTo>
                  <a:pt x="238" y="978"/>
                </a:lnTo>
                <a:lnTo>
                  <a:pt x="238" y="939"/>
                </a:lnTo>
                <a:lnTo>
                  <a:pt x="238" y="899"/>
                </a:lnTo>
                <a:lnTo>
                  <a:pt x="238" y="859"/>
                </a:lnTo>
                <a:lnTo>
                  <a:pt x="251" y="806"/>
                </a:lnTo>
                <a:lnTo>
                  <a:pt x="251" y="754"/>
                </a:lnTo>
                <a:lnTo>
                  <a:pt x="251" y="714"/>
                </a:lnTo>
                <a:lnTo>
                  <a:pt x="251" y="661"/>
                </a:lnTo>
                <a:lnTo>
                  <a:pt x="264" y="608"/>
                </a:lnTo>
                <a:lnTo>
                  <a:pt x="264" y="568"/>
                </a:lnTo>
                <a:lnTo>
                  <a:pt x="277" y="529"/>
                </a:lnTo>
                <a:lnTo>
                  <a:pt x="291" y="489"/>
                </a:lnTo>
                <a:lnTo>
                  <a:pt x="291" y="410"/>
                </a:lnTo>
                <a:lnTo>
                  <a:pt x="291" y="370"/>
                </a:lnTo>
                <a:lnTo>
                  <a:pt x="291" y="330"/>
                </a:lnTo>
                <a:lnTo>
                  <a:pt x="291" y="291"/>
                </a:lnTo>
                <a:lnTo>
                  <a:pt x="304" y="238"/>
                </a:lnTo>
                <a:lnTo>
                  <a:pt x="304" y="198"/>
                </a:lnTo>
                <a:lnTo>
                  <a:pt x="304" y="158"/>
                </a:lnTo>
                <a:lnTo>
                  <a:pt x="304" y="119"/>
                </a:lnTo>
                <a:lnTo>
                  <a:pt x="304" y="79"/>
                </a:lnTo>
                <a:lnTo>
                  <a:pt x="343" y="52"/>
                </a:lnTo>
                <a:lnTo>
                  <a:pt x="383" y="66"/>
                </a:lnTo>
                <a:lnTo>
                  <a:pt x="423" y="66"/>
                </a:lnTo>
                <a:lnTo>
                  <a:pt x="463" y="66"/>
                </a:lnTo>
                <a:lnTo>
                  <a:pt x="502" y="52"/>
                </a:lnTo>
                <a:lnTo>
                  <a:pt x="542" y="39"/>
                </a:lnTo>
                <a:lnTo>
                  <a:pt x="582" y="26"/>
                </a:lnTo>
                <a:lnTo>
                  <a:pt x="634" y="26"/>
                </a:lnTo>
                <a:lnTo>
                  <a:pt x="674" y="13"/>
                </a:lnTo>
                <a:lnTo>
                  <a:pt x="714" y="0"/>
                </a:lnTo>
                <a:lnTo>
                  <a:pt x="793" y="0"/>
                </a:lnTo>
                <a:lnTo>
                  <a:pt x="833" y="0"/>
                </a:lnTo>
                <a:lnTo>
                  <a:pt x="886" y="13"/>
                </a:lnTo>
                <a:lnTo>
                  <a:pt x="926" y="13"/>
                </a:lnTo>
                <a:lnTo>
                  <a:pt x="965" y="13"/>
                </a:lnTo>
                <a:lnTo>
                  <a:pt x="1005" y="26"/>
                </a:lnTo>
                <a:lnTo>
                  <a:pt x="1084" y="26"/>
                </a:lnTo>
                <a:lnTo>
                  <a:pt x="1124" y="39"/>
                </a:lnTo>
                <a:lnTo>
                  <a:pt x="1230" y="52"/>
                </a:lnTo>
                <a:lnTo>
                  <a:pt x="1269" y="52"/>
                </a:lnTo>
                <a:lnTo>
                  <a:pt x="1349" y="52"/>
                </a:lnTo>
                <a:lnTo>
                  <a:pt x="1402" y="52"/>
                </a:lnTo>
                <a:lnTo>
                  <a:pt x="1441" y="52"/>
                </a:lnTo>
                <a:lnTo>
                  <a:pt x="1547" y="66"/>
                </a:lnTo>
                <a:lnTo>
                  <a:pt x="1627" y="66"/>
                </a:lnTo>
                <a:lnTo>
                  <a:pt x="1666" y="66"/>
                </a:lnTo>
                <a:lnTo>
                  <a:pt x="1772" y="66"/>
                </a:lnTo>
                <a:lnTo>
                  <a:pt x="1904" y="66"/>
                </a:lnTo>
                <a:lnTo>
                  <a:pt x="2010" y="66"/>
                </a:lnTo>
                <a:lnTo>
                  <a:pt x="2143" y="66"/>
                </a:lnTo>
                <a:lnTo>
                  <a:pt x="2196" y="52"/>
                </a:lnTo>
                <a:lnTo>
                  <a:pt x="2235" y="39"/>
                </a:lnTo>
                <a:lnTo>
                  <a:pt x="2275" y="39"/>
                </a:lnTo>
                <a:lnTo>
                  <a:pt x="2368" y="26"/>
                </a:lnTo>
                <a:lnTo>
                  <a:pt x="2407" y="26"/>
                </a:lnTo>
                <a:lnTo>
                  <a:pt x="2447" y="26"/>
                </a:lnTo>
                <a:lnTo>
                  <a:pt x="2487" y="26"/>
                </a:lnTo>
                <a:lnTo>
                  <a:pt x="2592" y="26"/>
                </a:lnTo>
                <a:lnTo>
                  <a:pt x="2685" y="26"/>
                </a:lnTo>
                <a:lnTo>
                  <a:pt x="2738" y="26"/>
                </a:lnTo>
                <a:lnTo>
                  <a:pt x="2817" y="26"/>
                </a:lnTo>
                <a:lnTo>
                  <a:pt x="2897" y="26"/>
                </a:lnTo>
                <a:lnTo>
                  <a:pt x="2976" y="26"/>
                </a:lnTo>
                <a:lnTo>
                  <a:pt x="3095" y="26"/>
                </a:lnTo>
                <a:lnTo>
                  <a:pt x="3135" y="26"/>
                </a:lnTo>
                <a:lnTo>
                  <a:pt x="3241" y="13"/>
                </a:lnTo>
                <a:lnTo>
                  <a:pt x="3320" y="13"/>
                </a:lnTo>
                <a:lnTo>
                  <a:pt x="3439" y="0"/>
                </a:lnTo>
                <a:lnTo>
                  <a:pt x="3492" y="0"/>
                </a:lnTo>
                <a:lnTo>
                  <a:pt x="3598" y="0"/>
                </a:lnTo>
                <a:lnTo>
                  <a:pt x="3639" y="0"/>
                </a:lnTo>
                <a:lnTo>
                  <a:pt x="3771" y="13"/>
                </a:lnTo>
                <a:lnTo>
                  <a:pt x="3824" y="26"/>
                </a:lnTo>
                <a:lnTo>
                  <a:pt x="4035" y="26"/>
                </a:lnTo>
                <a:lnTo>
                  <a:pt x="4088" y="26"/>
                </a:lnTo>
                <a:lnTo>
                  <a:pt x="4194" y="26"/>
                </a:lnTo>
                <a:lnTo>
                  <a:pt x="4247" y="26"/>
                </a:lnTo>
                <a:lnTo>
                  <a:pt x="4287" y="26"/>
                </a:lnTo>
                <a:lnTo>
                  <a:pt x="4419" y="26"/>
                </a:lnTo>
                <a:lnTo>
                  <a:pt x="4459" y="26"/>
                </a:lnTo>
                <a:lnTo>
                  <a:pt x="4578" y="26"/>
                </a:lnTo>
                <a:lnTo>
                  <a:pt x="4617" y="39"/>
                </a:lnTo>
                <a:lnTo>
                  <a:pt x="4723" y="39"/>
                </a:lnTo>
                <a:lnTo>
                  <a:pt x="4763" y="52"/>
                </a:lnTo>
                <a:lnTo>
                  <a:pt x="4948" y="52"/>
                </a:lnTo>
                <a:lnTo>
                  <a:pt x="4988" y="52"/>
                </a:lnTo>
                <a:lnTo>
                  <a:pt x="5028" y="52"/>
                </a:lnTo>
                <a:lnTo>
                  <a:pt x="5160" y="39"/>
                </a:lnTo>
                <a:lnTo>
                  <a:pt x="5200" y="26"/>
                </a:lnTo>
                <a:lnTo>
                  <a:pt x="5332" y="26"/>
                </a:lnTo>
                <a:lnTo>
                  <a:pt x="5372" y="26"/>
                </a:lnTo>
                <a:lnTo>
                  <a:pt x="5411" y="26"/>
                </a:lnTo>
                <a:lnTo>
                  <a:pt x="5451" y="52"/>
                </a:lnTo>
                <a:lnTo>
                  <a:pt x="5504" y="52"/>
                </a:lnTo>
                <a:lnTo>
                  <a:pt x="5610" y="66"/>
                </a:lnTo>
                <a:lnTo>
                  <a:pt x="5649" y="66"/>
                </a:lnTo>
                <a:lnTo>
                  <a:pt x="5689" y="66"/>
                </a:lnTo>
                <a:lnTo>
                  <a:pt x="5782" y="66"/>
                </a:lnTo>
                <a:lnTo>
                  <a:pt x="5835" y="66"/>
                </a:lnTo>
                <a:lnTo>
                  <a:pt x="5874" y="66"/>
                </a:lnTo>
                <a:lnTo>
                  <a:pt x="5927" y="66"/>
                </a:lnTo>
                <a:lnTo>
                  <a:pt x="6007" y="66"/>
                </a:lnTo>
                <a:lnTo>
                  <a:pt x="6046" y="52"/>
                </a:lnTo>
                <a:lnTo>
                  <a:pt x="6139" y="52"/>
                </a:lnTo>
                <a:lnTo>
                  <a:pt x="6192" y="39"/>
                </a:lnTo>
                <a:lnTo>
                  <a:pt x="6245" y="39"/>
                </a:lnTo>
                <a:lnTo>
                  <a:pt x="6284" y="39"/>
                </a:lnTo>
                <a:lnTo>
                  <a:pt x="6337" y="26"/>
                </a:lnTo>
                <a:lnTo>
                  <a:pt x="6377" y="26"/>
                </a:lnTo>
                <a:lnTo>
                  <a:pt x="6496" y="39"/>
                </a:lnTo>
                <a:lnTo>
                  <a:pt x="6536" y="39"/>
                </a:lnTo>
                <a:lnTo>
                  <a:pt x="6575" y="39"/>
                </a:lnTo>
                <a:lnTo>
                  <a:pt x="6628" y="52"/>
                </a:lnTo>
                <a:lnTo>
                  <a:pt x="6668" y="52"/>
                </a:lnTo>
                <a:lnTo>
                  <a:pt x="6708" y="52"/>
                </a:lnTo>
                <a:lnTo>
                  <a:pt x="6787" y="52"/>
                </a:lnTo>
                <a:lnTo>
                  <a:pt x="6827" y="52"/>
                </a:lnTo>
                <a:lnTo>
                  <a:pt x="6866" y="52"/>
                </a:lnTo>
                <a:lnTo>
                  <a:pt x="6906" y="52"/>
                </a:lnTo>
                <a:lnTo>
                  <a:pt x="6946" y="52"/>
                </a:lnTo>
                <a:lnTo>
                  <a:pt x="6985" y="52"/>
                </a:lnTo>
                <a:lnTo>
                  <a:pt x="7025" y="52"/>
                </a:lnTo>
                <a:lnTo>
                  <a:pt x="7065" y="52"/>
                </a:lnTo>
                <a:lnTo>
                  <a:pt x="7105" y="52"/>
                </a:lnTo>
                <a:lnTo>
                  <a:pt x="7144" y="52"/>
                </a:lnTo>
                <a:lnTo>
                  <a:pt x="7184" y="52"/>
                </a:lnTo>
                <a:lnTo>
                  <a:pt x="7277" y="26"/>
                </a:lnTo>
                <a:lnTo>
                  <a:pt x="7263" y="66"/>
                </a:lnTo>
                <a:lnTo>
                  <a:pt x="7263" y="145"/>
                </a:lnTo>
                <a:lnTo>
                  <a:pt x="7250" y="251"/>
                </a:lnTo>
                <a:lnTo>
                  <a:pt x="7250" y="291"/>
                </a:lnTo>
                <a:lnTo>
                  <a:pt x="7237" y="330"/>
                </a:lnTo>
                <a:lnTo>
                  <a:pt x="7237" y="370"/>
                </a:lnTo>
                <a:lnTo>
                  <a:pt x="7237" y="449"/>
                </a:lnTo>
                <a:lnTo>
                  <a:pt x="7237" y="502"/>
                </a:lnTo>
                <a:lnTo>
                  <a:pt x="7237" y="555"/>
                </a:lnTo>
                <a:lnTo>
                  <a:pt x="7237" y="595"/>
                </a:lnTo>
                <a:lnTo>
                  <a:pt x="7224" y="635"/>
                </a:lnTo>
                <a:lnTo>
                  <a:pt x="7224" y="674"/>
                </a:lnTo>
                <a:lnTo>
                  <a:pt x="7210" y="714"/>
                </a:lnTo>
                <a:lnTo>
                  <a:pt x="7210" y="754"/>
                </a:lnTo>
                <a:lnTo>
                  <a:pt x="7210" y="793"/>
                </a:lnTo>
                <a:lnTo>
                  <a:pt x="7210" y="833"/>
                </a:lnTo>
                <a:lnTo>
                  <a:pt x="7184" y="873"/>
                </a:lnTo>
                <a:lnTo>
                  <a:pt x="7171" y="978"/>
                </a:lnTo>
                <a:lnTo>
                  <a:pt x="7157" y="1018"/>
                </a:lnTo>
                <a:lnTo>
                  <a:pt x="7157" y="1124"/>
                </a:lnTo>
                <a:lnTo>
                  <a:pt x="7157" y="1164"/>
                </a:lnTo>
                <a:lnTo>
                  <a:pt x="7157" y="1243"/>
                </a:lnTo>
                <a:lnTo>
                  <a:pt x="7144" y="1296"/>
                </a:lnTo>
                <a:lnTo>
                  <a:pt x="7144" y="1349"/>
                </a:lnTo>
                <a:lnTo>
                  <a:pt x="7144" y="1389"/>
                </a:lnTo>
                <a:lnTo>
                  <a:pt x="7144" y="1428"/>
                </a:lnTo>
                <a:lnTo>
                  <a:pt x="7144" y="1521"/>
                </a:lnTo>
                <a:lnTo>
                  <a:pt x="7144" y="1561"/>
                </a:lnTo>
                <a:lnTo>
                  <a:pt x="7144" y="1600"/>
                </a:lnTo>
                <a:lnTo>
                  <a:pt x="7144" y="1640"/>
                </a:lnTo>
                <a:lnTo>
                  <a:pt x="7131" y="1680"/>
                </a:lnTo>
                <a:lnTo>
                  <a:pt x="7118" y="1786"/>
                </a:lnTo>
                <a:lnTo>
                  <a:pt x="7105" y="1892"/>
                </a:lnTo>
                <a:lnTo>
                  <a:pt x="7105" y="1998"/>
                </a:lnTo>
                <a:lnTo>
                  <a:pt x="7091" y="2038"/>
                </a:lnTo>
                <a:lnTo>
                  <a:pt x="7078" y="2130"/>
                </a:lnTo>
                <a:lnTo>
                  <a:pt x="7052" y="2183"/>
                </a:lnTo>
                <a:lnTo>
                  <a:pt x="7052" y="2223"/>
                </a:lnTo>
                <a:lnTo>
                  <a:pt x="7052" y="2263"/>
                </a:lnTo>
                <a:lnTo>
                  <a:pt x="7038" y="2302"/>
                </a:lnTo>
                <a:lnTo>
                  <a:pt x="7038" y="2355"/>
                </a:lnTo>
                <a:lnTo>
                  <a:pt x="7038" y="2395"/>
                </a:lnTo>
                <a:lnTo>
                  <a:pt x="7038" y="2435"/>
                </a:lnTo>
                <a:lnTo>
                  <a:pt x="7038" y="2474"/>
                </a:lnTo>
                <a:lnTo>
                  <a:pt x="7038" y="2554"/>
                </a:lnTo>
                <a:lnTo>
                  <a:pt x="7038" y="2607"/>
                </a:lnTo>
                <a:lnTo>
                  <a:pt x="7038" y="2660"/>
                </a:lnTo>
                <a:lnTo>
                  <a:pt x="7038" y="2712"/>
                </a:lnTo>
                <a:lnTo>
                  <a:pt x="7038" y="2845"/>
                </a:lnTo>
                <a:lnTo>
                  <a:pt x="7038" y="2898"/>
                </a:lnTo>
                <a:lnTo>
                  <a:pt x="7025" y="3004"/>
                </a:lnTo>
                <a:lnTo>
                  <a:pt x="7012" y="3043"/>
                </a:lnTo>
                <a:lnTo>
                  <a:pt x="6999" y="3123"/>
                </a:lnTo>
                <a:lnTo>
                  <a:pt x="6999" y="3162"/>
                </a:lnTo>
                <a:lnTo>
                  <a:pt x="6985" y="3215"/>
                </a:lnTo>
                <a:lnTo>
                  <a:pt x="6985" y="3255"/>
                </a:lnTo>
                <a:lnTo>
                  <a:pt x="6972" y="3347"/>
                </a:lnTo>
                <a:lnTo>
                  <a:pt x="6972" y="3387"/>
                </a:lnTo>
                <a:lnTo>
                  <a:pt x="6959" y="3427"/>
                </a:lnTo>
                <a:lnTo>
                  <a:pt x="6959" y="3467"/>
                </a:lnTo>
                <a:lnTo>
                  <a:pt x="6919" y="3480"/>
                </a:lnTo>
                <a:lnTo>
                  <a:pt x="6866" y="3467"/>
                </a:lnTo>
                <a:lnTo>
                  <a:pt x="6827" y="3493"/>
                </a:lnTo>
                <a:lnTo>
                  <a:pt x="6787" y="3506"/>
                </a:lnTo>
                <a:lnTo>
                  <a:pt x="6734" y="3533"/>
                </a:lnTo>
                <a:lnTo>
                  <a:pt x="6694" y="3546"/>
                </a:lnTo>
                <a:lnTo>
                  <a:pt x="6615" y="3546"/>
                </a:lnTo>
                <a:lnTo>
                  <a:pt x="6575" y="3546"/>
                </a:lnTo>
                <a:lnTo>
                  <a:pt x="6496" y="3546"/>
                </a:lnTo>
                <a:lnTo>
                  <a:pt x="6443" y="3546"/>
                </a:lnTo>
                <a:lnTo>
                  <a:pt x="6350" y="3546"/>
                </a:lnTo>
                <a:lnTo>
                  <a:pt x="6245" y="3546"/>
                </a:lnTo>
                <a:lnTo>
                  <a:pt x="6139" y="3546"/>
                </a:lnTo>
                <a:lnTo>
                  <a:pt x="6033" y="3546"/>
                </a:lnTo>
                <a:lnTo>
                  <a:pt x="5914" y="3546"/>
                </a:lnTo>
                <a:lnTo>
                  <a:pt x="5755" y="3546"/>
                </a:lnTo>
                <a:lnTo>
                  <a:pt x="5676" y="3546"/>
                </a:lnTo>
                <a:lnTo>
                  <a:pt x="5570" y="3546"/>
                </a:lnTo>
                <a:lnTo>
                  <a:pt x="5438" y="3546"/>
                </a:lnTo>
                <a:lnTo>
                  <a:pt x="5332" y="3533"/>
                </a:lnTo>
                <a:lnTo>
                  <a:pt x="5292" y="3533"/>
                </a:lnTo>
                <a:lnTo>
                  <a:pt x="5213" y="3533"/>
                </a:lnTo>
                <a:lnTo>
                  <a:pt x="5107" y="3533"/>
                </a:lnTo>
                <a:lnTo>
                  <a:pt x="5014" y="3533"/>
                </a:lnTo>
                <a:lnTo>
                  <a:pt x="4975" y="3533"/>
                </a:lnTo>
                <a:lnTo>
                  <a:pt x="4869" y="3519"/>
                </a:lnTo>
                <a:lnTo>
                  <a:pt x="4776" y="3519"/>
                </a:lnTo>
                <a:lnTo>
                  <a:pt x="4644" y="3506"/>
                </a:lnTo>
                <a:lnTo>
                  <a:pt x="4551" y="3506"/>
                </a:lnTo>
                <a:lnTo>
                  <a:pt x="4445" y="3506"/>
                </a:lnTo>
                <a:lnTo>
                  <a:pt x="4366" y="3493"/>
                </a:lnTo>
                <a:lnTo>
                  <a:pt x="4287" y="3493"/>
                </a:lnTo>
                <a:lnTo>
                  <a:pt x="4247" y="3493"/>
                </a:lnTo>
                <a:lnTo>
                  <a:pt x="3982" y="3493"/>
                </a:lnTo>
                <a:lnTo>
                  <a:pt x="3903" y="3493"/>
                </a:lnTo>
                <a:lnTo>
                  <a:pt x="3797" y="3480"/>
                </a:lnTo>
                <a:lnTo>
                  <a:pt x="3691" y="3480"/>
                </a:lnTo>
                <a:lnTo>
                  <a:pt x="3639" y="3480"/>
                </a:lnTo>
                <a:lnTo>
                  <a:pt x="3598" y="3467"/>
                </a:lnTo>
                <a:lnTo>
                  <a:pt x="3492" y="3467"/>
                </a:lnTo>
                <a:lnTo>
                  <a:pt x="3413" y="3467"/>
                </a:lnTo>
                <a:lnTo>
                  <a:pt x="3307" y="3467"/>
                </a:lnTo>
                <a:lnTo>
                  <a:pt x="3214" y="3467"/>
                </a:lnTo>
                <a:lnTo>
                  <a:pt x="3108" y="3467"/>
                </a:lnTo>
                <a:lnTo>
                  <a:pt x="3016" y="3467"/>
                </a:lnTo>
                <a:lnTo>
                  <a:pt x="2936" y="3467"/>
                </a:lnTo>
                <a:lnTo>
                  <a:pt x="2831" y="3453"/>
                </a:lnTo>
                <a:lnTo>
                  <a:pt x="2725" y="3453"/>
                </a:lnTo>
                <a:lnTo>
                  <a:pt x="2632" y="3453"/>
                </a:lnTo>
                <a:lnTo>
                  <a:pt x="2473" y="3467"/>
                </a:lnTo>
                <a:lnTo>
                  <a:pt x="2394" y="3467"/>
                </a:lnTo>
                <a:lnTo>
                  <a:pt x="2301" y="3467"/>
                </a:lnTo>
                <a:lnTo>
                  <a:pt x="2169" y="3467"/>
                </a:lnTo>
                <a:lnTo>
                  <a:pt x="2129" y="3467"/>
                </a:lnTo>
                <a:lnTo>
                  <a:pt x="2090" y="3467"/>
                </a:lnTo>
                <a:lnTo>
                  <a:pt x="2050" y="3480"/>
                </a:lnTo>
                <a:lnTo>
                  <a:pt x="1944" y="3493"/>
                </a:lnTo>
                <a:lnTo>
                  <a:pt x="1891" y="3493"/>
                </a:lnTo>
                <a:lnTo>
                  <a:pt x="1785" y="3493"/>
                </a:lnTo>
                <a:lnTo>
                  <a:pt x="1746" y="3506"/>
                </a:lnTo>
                <a:lnTo>
                  <a:pt x="1640" y="3506"/>
                </a:lnTo>
                <a:lnTo>
                  <a:pt x="1600" y="3493"/>
                </a:lnTo>
                <a:lnTo>
                  <a:pt x="1561" y="3467"/>
                </a:lnTo>
                <a:lnTo>
                  <a:pt x="1402" y="3453"/>
                </a:lnTo>
                <a:lnTo>
                  <a:pt x="1349" y="3440"/>
                </a:lnTo>
                <a:lnTo>
                  <a:pt x="1217" y="3440"/>
                </a:lnTo>
                <a:lnTo>
                  <a:pt x="1177" y="3440"/>
                </a:lnTo>
                <a:lnTo>
                  <a:pt x="1018" y="3440"/>
                </a:lnTo>
                <a:lnTo>
                  <a:pt x="978" y="3440"/>
                </a:lnTo>
                <a:lnTo>
                  <a:pt x="939" y="3440"/>
                </a:lnTo>
                <a:lnTo>
                  <a:pt x="886" y="3440"/>
                </a:lnTo>
                <a:lnTo>
                  <a:pt x="846" y="3440"/>
                </a:lnTo>
                <a:lnTo>
                  <a:pt x="793" y="3440"/>
                </a:lnTo>
                <a:lnTo>
                  <a:pt x="754" y="3453"/>
                </a:lnTo>
                <a:lnTo>
                  <a:pt x="714" y="3467"/>
                </a:lnTo>
                <a:lnTo>
                  <a:pt x="674" y="3467"/>
                </a:lnTo>
                <a:lnTo>
                  <a:pt x="634" y="3480"/>
                </a:lnTo>
                <a:lnTo>
                  <a:pt x="555" y="3493"/>
                </a:lnTo>
                <a:lnTo>
                  <a:pt x="515" y="3493"/>
                </a:lnTo>
                <a:lnTo>
                  <a:pt x="476" y="3493"/>
                </a:lnTo>
                <a:lnTo>
                  <a:pt x="423" y="3493"/>
                </a:lnTo>
                <a:lnTo>
                  <a:pt x="383" y="3480"/>
                </a:lnTo>
                <a:lnTo>
                  <a:pt x="277" y="3480"/>
                </a:lnTo>
                <a:lnTo>
                  <a:pt x="238" y="3480"/>
                </a:lnTo>
                <a:lnTo>
                  <a:pt x="158" y="3480"/>
                </a:lnTo>
                <a:lnTo>
                  <a:pt x="119" y="3467"/>
                </a:lnTo>
                <a:lnTo>
                  <a:pt x="79" y="3467"/>
                </a:lnTo>
                <a:lnTo>
                  <a:pt x="39" y="3480"/>
                </a:lnTo>
                <a:lnTo>
                  <a:pt x="39" y="346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txBox="1"/>
          <p:nvPr/>
        </p:nvSpPr>
        <p:spPr>
          <a:xfrm>
            <a:off x="465120" y="5710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915" name=""/>
          <p:cNvGrpSpPr/>
          <p:nvPr/>
        </p:nvGrpSpPr>
        <p:grpSpPr>
          <a:xfrm>
            <a:off x="560520" y="447840"/>
            <a:ext cx="3624120" cy="1190520"/>
            <a:chOff x="560520" y="447840"/>
            <a:chExt cx="3624120" cy="1190520"/>
          </a:xfrm>
        </p:grpSpPr>
        <p:sp>
          <p:nvSpPr>
            <p:cNvPr id="191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1917"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1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9"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0" name=""/>
          <p:cNvSpPr txBox="1"/>
          <p:nvPr/>
        </p:nvSpPr>
        <p:spPr>
          <a:xfrm>
            <a:off x="852480" y="4835520"/>
            <a:ext cx="29019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imum of three points of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act on Primary Datum A)</a:t>
            </a:r>
            <a:endParaRPr b="0" lang="en-US" sz="1800" spc="-1" strike="noStrike">
              <a:solidFill>
                <a:srgbClr val="000000"/>
              </a:solidFill>
              <a:latin typeface="Arial"/>
            </a:endParaRPr>
          </a:p>
        </p:txBody>
      </p:sp>
      <p:sp>
        <p:nvSpPr>
          <p:cNvPr id="1921" name=""/>
          <p:cNvSpPr/>
          <p:nvPr/>
        </p:nvSpPr>
        <p:spPr>
          <a:xfrm>
            <a:off x="6168960" y="2963880"/>
            <a:ext cx="0" cy="12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2" name=""/>
          <p:cNvSpPr/>
          <p:nvPr/>
        </p:nvSpPr>
        <p:spPr>
          <a:xfrm flipH="1">
            <a:off x="2424240" y="279720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3" name=""/>
          <p:cNvSpPr txBox="1"/>
          <p:nvPr/>
        </p:nvSpPr>
        <p:spPr>
          <a:xfrm>
            <a:off x="1112760" y="297972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1924" name=""/>
          <p:cNvSpPr/>
          <p:nvPr/>
        </p:nvSpPr>
        <p:spPr>
          <a:xfrm>
            <a:off x="2190600" y="315900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flipV="1">
            <a:off x="2428920" y="2825640"/>
            <a:ext cx="33336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6" name=""/>
          <p:cNvSpPr/>
          <p:nvPr/>
        </p:nvSpPr>
        <p:spPr>
          <a:xfrm>
            <a:off x="3624120" y="437832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927" name=""/>
          <p:cNvSpPr txBox="1"/>
          <p:nvPr/>
        </p:nvSpPr>
        <p:spPr>
          <a:xfrm>
            <a:off x="1973160" y="4511520"/>
            <a:ext cx="10288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A</a:t>
            </a:r>
            <a:endParaRPr b="0" lang="en-US" sz="1800" spc="-1" strike="noStrike">
              <a:solidFill>
                <a:srgbClr val="000000"/>
              </a:solidFill>
              <a:latin typeface="Arial"/>
            </a:endParaRPr>
          </a:p>
        </p:txBody>
      </p:sp>
      <p:sp>
        <p:nvSpPr>
          <p:cNvPr id="1928" name=""/>
          <p:cNvSpPr/>
          <p:nvPr/>
        </p:nvSpPr>
        <p:spPr>
          <a:xfrm flipV="1">
            <a:off x="3100320" y="4437000"/>
            <a:ext cx="552600" cy="26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a:off x="2932200" y="4702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0" name=""/>
          <p:cNvSpPr/>
          <p:nvPr/>
        </p:nvSpPr>
        <p:spPr>
          <a:xfrm>
            <a:off x="3176640" y="2786040"/>
            <a:ext cx="2991240" cy="2127600"/>
          </a:xfrm>
          <a:custGeom>
            <a:avLst/>
            <a:gdLst/>
            <a:ahLst/>
            <a:rect l="0" t="0" r="r" b="b"/>
            <a:pathLst>
              <a:path fill="none" w="8309" h="5910">
                <a:moveTo>
                  <a:pt x="401" y="0"/>
                </a:moveTo>
                <a:lnTo>
                  <a:pt x="401" y="92"/>
                </a:lnTo>
                <a:lnTo>
                  <a:pt x="246" y="154"/>
                </a:lnTo>
                <a:lnTo>
                  <a:pt x="154" y="216"/>
                </a:lnTo>
                <a:lnTo>
                  <a:pt x="123" y="308"/>
                </a:lnTo>
                <a:lnTo>
                  <a:pt x="61" y="463"/>
                </a:lnTo>
                <a:lnTo>
                  <a:pt x="61" y="617"/>
                </a:lnTo>
                <a:lnTo>
                  <a:pt x="61" y="709"/>
                </a:lnTo>
                <a:lnTo>
                  <a:pt x="61" y="802"/>
                </a:lnTo>
                <a:lnTo>
                  <a:pt x="61" y="895"/>
                </a:lnTo>
                <a:lnTo>
                  <a:pt x="61" y="987"/>
                </a:lnTo>
                <a:lnTo>
                  <a:pt x="61" y="1080"/>
                </a:lnTo>
                <a:lnTo>
                  <a:pt x="30" y="1199"/>
                </a:lnTo>
                <a:lnTo>
                  <a:pt x="30" y="1292"/>
                </a:lnTo>
                <a:lnTo>
                  <a:pt x="0" y="1384"/>
                </a:lnTo>
                <a:lnTo>
                  <a:pt x="0" y="1477"/>
                </a:lnTo>
                <a:lnTo>
                  <a:pt x="0" y="1693"/>
                </a:lnTo>
                <a:lnTo>
                  <a:pt x="61" y="1847"/>
                </a:lnTo>
                <a:lnTo>
                  <a:pt x="154" y="1940"/>
                </a:lnTo>
                <a:lnTo>
                  <a:pt x="246" y="2032"/>
                </a:lnTo>
                <a:lnTo>
                  <a:pt x="308" y="2125"/>
                </a:lnTo>
                <a:lnTo>
                  <a:pt x="308" y="2248"/>
                </a:lnTo>
                <a:lnTo>
                  <a:pt x="308" y="2341"/>
                </a:lnTo>
                <a:lnTo>
                  <a:pt x="308" y="2491"/>
                </a:lnTo>
                <a:lnTo>
                  <a:pt x="308" y="2584"/>
                </a:lnTo>
                <a:lnTo>
                  <a:pt x="308" y="2738"/>
                </a:lnTo>
                <a:lnTo>
                  <a:pt x="277" y="2831"/>
                </a:lnTo>
                <a:lnTo>
                  <a:pt x="277" y="2923"/>
                </a:lnTo>
                <a:lnTo>
                  <a:pt x="246" y="3017"/>
                </a:lnTo>
                <a:lnTo>
                  <a:pt x="216" y="3171"/>
                </a:lnTo>
                <a:lnTo>
                  <a:pt x="154" y="3264"/>
                </a:lnTo>
                <a:lnTo>
                  <a:pt x="154" y="3418"/>
                </a:lnTo>
                <a:lnTo>
                  <a:pt x="92" y="3511"/>
                </a:lnTo>
                <a:lnTo>
                  <a:pt x="92" y="3603"/>
                </a:lnTo>
                <a:lnTo>
                  <a:pt x="61" y="3753"/>
                </a:lnTo>
                <a:lnTo>
                  <a:pt x="61" y="3908"/>
                </a:lnTo>
                <a:lnTo>
                  <a:pt x="92" y="4124"/>
                </a:lnTo>
                <a:lnTo>
                  <a:pt x="92" y="4247"/>
                </a:lnTo>
                <a:lnTo>
                  <a:pt x="123" y="4340"/>
                </a:lnTo>
                <a:lnTo>
                  <a:pt x="246" y="4494"/>
                </a:lnTo>
                <a:lnTo>
                  <a:pt x="277" y="4587"/>
                </a:lnTo>
                <a:lnTo>
                  <a:pt x="339" y="4679"/>
                </a:lnTo>
                <a:lnTo>
                  <a:pt x="401" y="4772"/>
                </a:lnTo>
                <a:lnTo>
                  <a:pt x="463" y="4864"/>
                </a:lnTo>
                <a:lnTo>
                  <a:pt x="612" y="5200"/>
                </a:lnTo>
                <a:lnTo>
                  <a:pt x="643" y="5354"/>
                </a:lnTo>
                <a:lnTo>
                  <a:pt x="767" y="5539"/>
                </a:lnTo>
                <a:lnTo>
                  <a:pt x="921" y="5693"/>
                </a:lnTo>
                <a:lnTo>
                  <a:pt x="1014" y="5724"/>
                </a:lnTo>
                <a:lnTo>
                  <a:pt x="1415" y="5817"/>
                </a:lnTo>
                <a:lnTo>
                  <a:pt x="1631" y="5848"/>
                </a:lnTo>
                <a:lnTo>
                  <a:pt x="2059" y="5910"/>
                </a:lnTo>
                <a:lnTo>
                  <a:pt x="2152" y="5910"/>
                </a:lnTo>
                <a:lnTo>
                  <a:pt x="2276" y="5910"/>
                </a:lnTo>
                <a:lnTo>
                  <a:pt x="2369" y="5910"/>
                </a:lnTo>
                <a:lnTo>
                  <a:pt x="2492" y="5755"/>
                </a:lnTo>
                <a:lnTo>
                  <a:pt x="2893" y="5755"/>
                </a:lnTo>
                <a:lnTo>
                  <a:pt x="2955" y="5817"/>
                </a:lnTo>
                <a:lnTo>
                  <a:pt x="3202" y="5693"/>
                </a:lnTo>
                <a:lnTo>
                  <a:pt x="3414" y="5724"/>
                </a:lnTo>
                <a:lnTo>
                  <a:pt x="3630" y="5724"/>
                </a:lnTo>
                <a:lnTo>
                  <a:pt x="3599" y="5755"/>
                </a:lnTo>
                <a:lnTo>
                  <a:pt x="3691" y="5755"/>
                </a:lnTo>
                <a:lnTo>
                  <a:pt x="3908" y="5786"/>
                </a:lnTo>
                <a:lnTo>
                  <a:pt x="4124" y="5755"/>
                </a:lnTo>
                <a:lnTo>
                  <a:pt x="4247" y="5724"/>
                </a:lnTo>
                <a:lnTo>
                  <a:pt x="4340" y="5755"/>
                </a:lnTo>
                <a:lnTo>
                  <a:pt x="4551" y="5786"/>
                </a:lnTo>
                <a:lnTo>
                  <a:pt x="4706" y="5693"/>
                </a:lnTo>
                <a:lnTo>
                  <a:pt x="4860" y="5817"/>
                </a:lnTo>
                <a:lnTo>
                  <a:pt x="5014" y="5817"/>
                </a:lnTo>
                <a:lnTo>
                  <a:pt x="5138" y="5786"/>
                </a:lnTo>
                <a:lnTo>
                  <a:pt x="5570" y="5817"/>
                </a:lnTo>
                <a:lnTo>
                  <a:pt x="5693" y="5786"/>
                </a:lnTo>
                <a:lnTo>
                  <a:pt x="5724" y="5817"/>
                </a:lnTo>
                <a:lnTo>
                  <a:pt x="5848" y="5786"/>
                </a:lnTo>
                <a:lnTo>
                  <a:pt x="5936" y="5786"/>
                </a:lnTo>
                <a:lnTo>
                  <a:pt x="6059" y="5817"/>
                </a:lnTo>
                <a:lnTo>
                  <a:pt x="6246" y="5817"/>
                </a:lnTo>
                <a:lnTo>
                  <a:pt x="6369" y="5848"/>
                </a:lnTo>
                <a:lnTo>
                  <a:pt x="6338" y="5817"/>
                </a:lnTo>
                <a:lnTo>
                  <a:pt x="6400" y="5755"/>
                </a:lnTo>
                <a:lnTo>
                  <a:pt x="6616" y="5817"/>
                </a:lnTo>
                <a:lnTo>
                  <a:pt x="6709" y="5755"/>
                </a:lnTo>
                <a:lnTo>
                  <a:pt x="6956" y="5724"/>
                </a:lnTo>
                <a:lnTo>
                  <a:pt x="7141" y="5693"/>
                </a:lnTo>
                <a:lnTo>
                  <a:pt x="7383" y="5663"/>
                </a:lnTo>
                <a:lnTo>
                  <a:pt x="7476" y="5663"/>
                </a:lnTo>
                <a:lnTo>
                  <a:pt x="7630" y="5601"/>
                </a:lnTo>
                <a:lnTo>
                  <a:pt x="7723" y="5601"/>
                </a:lnTo>
                <a:lnTo>
                  <a:pt x="7939" y="5601"/>
                </a:lnTo>
                <a:lnTo>
                  <a:pt x="8032" y="5601"/>
                </a:lnTo>
                <a:lnTo>
                  <a:pt x="8124" y="5601"/>
                </a:lnTo>
                <a:lnTo>
                  <a:pt x="8217" y="5601"/>
                </a:lnTo>
                <a:lnTo>
                  <a:pt x="8309" y="553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1" name=""/>
          <p:cNvSpPr txBox="1"/>
          <p:nvPr/>
        </p:nvSpPr>
        <p:spPr>
          <a:xfrm>
            <a:off x="4019400" y="5554800"/>
            <a:ext cx="34606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imum of two points of contac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n the Secondary Datum B)</a:t>
            </a:r>
            <a:endParaRPr b="0" lang="en-US" sz="1800" spc="-1" strike="noStrike">
              <a:solidFill>
                <a:srgbClr val="000000"/>
              </a:solidFill>
              <a:latin typeface="Arial"/>
            </a:endParaRPr>
          </a:p>
        </p:txBody>
      </p:sp>
      <p:grpSp>
        <p:nvGrpSpPr>
          <p:cNvPr id="1932" name=""/>
          <p:cNvGrpSpPr/>
          <p:nvPr/>
        </p:nvGrpSpPr>
        <p:grpSpPr>
          <a:xfrm>
            <a:off x="4003560" y="4879800"/>
            <a:ext cx="2175120" cy="736920"/>
            <a:chOff x="4003560" y="4879800"/>
            <a:chExt cx="2175120" cy="736920"/>
          </a:xfrm>
        </p:grpSpPr>
        <p:grpSp>
          <p:nvGrpSpPr>
            <p:cNvPr id="1933" name=""/>
            <p:cNvGrpSpPr/>
            <p:nvPr/>
          </p:nvGrpSpPr>
          <p:grpSpPr>
            <a:xfrm>
              <a:off x="4003560" y="5081760"/>
              <a:ext cx="2175120" cy="534960"/>
              <a:chOff x="4003560" y="5081760"/>
              <a:chExt cx="2175120" cy="534960"/>
            </a:xfrm>
          </p:grpSpPr>
          <p:sp>
            <p:nvSpPr>
              <p:cNvPr id="1934" name=""/>
              <p:cNvSpPr txBox="1"/>
              <p:nvPr/>
            </p:nvSpPr>
            <p:spPr>
              <a:xfrm>
                <a:off x="4003560" y="52498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1935" name=""/>
              <p:cNvSpPr/>
              <p:nvPr/>
            </p:nvSpPr>
            <p:spPr>
              <a:xfrm flipV="1">
                <a:off x="5214960" y="50817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6" name=""/>
              <p:cNvSpPr/>
              <p:nvPr/>
            </p:nvSpPr>
            <p:spPr>
              <a:xfrm flipH="1">
                <a:off x="5025960" y="54579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37" name=""/>
            <p:cNvSpPr/>
            <p:nvPr/>
          </p:nvSpPr>
          <p:spPr>
            <a:xfrm>
              <a:off x="6178680" y="4879800"/>
              <a:ext cx="0" cy="509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38" name=""/>
          <p:cNvGrpSpPr/>
          <p:nvPr/>
        </p:nvGrpSpPr>
        <p:grpSpPr>
          <a:xfrm>
            <a:off x="3637080" y="2932200"/>
            <a:ext cx="2523960" cy="1465560"/>
            <a:chOff x="3637080" y="2932200"/>
            <a:chExt cx="2523960" cy="1465560"/>
          </a:xfrm>
        </p:grpSpPr>
        <p:grpSp>
          <p:nvGrpSpPr>
            <p:cNvPr id="1939" name=""/>
            <p:cNvGrpSpPr/>
            <p:nvPr/>
          </p:nvGrpSpPr>
          <p:grpSpPr>
            <a:xfrm>
              <a:off x="3794040" y="3846600"/>
              <a:ext cx="523800" cy="523800"/>
              <a:chOff x="3794040" y="3846600"/>
              <a:chExt cx="523800" cy="523800"/>
            </a:xfrm>
          </p:grpSpPr>
          <p:grpSp>
            <p:nvGrpSpPr>
              <p:cNvPr id="1940" name=""/>
              <p:cNvGrpSpPr/>
              <p:nvPr/>
            </p:nvGrpSpPr>
            <p:grpSpPr>
              <a:xfrm>
                <a:off x="3794040" y="4083120"/>
                <a:ext cx="523800" cy="0"/>
                <a:chOff x="3794040" y="4083120"/>
                <a:chExt cx="523800" cy="0"/>
              </a:xfrm>
            </p:grpSpPr>
            <p:sp>
              <p:nvSpPr>
                <p:cNvPr id="1941" name=""/>
                <p:cNvSpPr/>
                <p:nvPr/>
              </p:nvSpPr>
              <p:spPr>
                <a:xfrm>
                  <a:off x="3794040" y="408312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4000680" y="408312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3" name=""/>
                <p:cNvSpPr/>
                <p:nvPr/>
              </p:nvSpPr>
              <p:spPr>
                <a:xfrm>
                  <a:off x="4143240" y="40831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44" name=""/>
              <p:cNvSpPr/>
              <p:nvPr/>
            </p:nvSpPr>
            <p:spPr>
              <a:xfrm>
                <a:off x="3881520" y="39322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45" name=""/>
              <p:cNvGrpSpPr/>
              <p:nvPr/>
            </p:nvGrpSpPr>
            <p:grpSpPr>
              <a:xfrm>
                <a:off x="4033800" y="3846600"/>
                <a:ext cx="0" cy="523800"/>
                <a:chOff x="4033800" y="3846600"/>
                <a:chExt cx="0" cy="523800"/>
              </a:xfrm>
            </p:grpSpPr>
            <p:sp>
              <p:nvSpPr>
                <p:cNvPr id="1946" name=""/>
                <p:cNvSpPr/>
                <p:nvPr/>
              </p:nvSpPr>
              <p:spPr>
                <a:xfrm>
                  <a:off x="4033800" y="38466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4033800" y="40528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948" name=""/>
                <p:cNvSpPr/>
                <p:nvPr/>
              </p:nvSpPr>
              <p:spPr>
                <a:xfrm>
                  <a:off x="4033800" y="4195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949" name=""/>
            <p:cNvGrpSpPr/>
            <p:nvPr/>
          </p:nvGrpSpPr>
          <p:grpSpPr>
            <a:xfrm>
              <a:off x="5532480" y="3697200"/>
              <a:ext cx="628560" cy="523800"/>
              <a:chOff x="5532480" y="3697200"/>
              <a:chExt cx="628560" cy="523800"/>
            </a:xfrm>
          </p:grpSpPr>
          <p:sp>
            <p:nvSpPr>
              <p:cNvPr id="1950" name=""/>
              <p:cNvSpPr/>
              <p:nvPr/>
            </p:nvSpPr>
            <p:spPr>
              <a:xfrm>
                <a:off x="5656320" y="3787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5532480" y="39337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a:off x="5897520" y="393372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5770440" y="39337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54" name=""/>
              <p:cNvGrpSpPr/>
              <p:nvPr/>
            </p:nvGrpSpPr>
            <p:grpSpPr>
              <a:xfrm>
                <a:off x="5803920" y="3697200"/>
                <a:ext cx="0" cy="523800"/>
                <a:chOff x="5803920" y="3697200"/>
                <a:chExt cx="0" cy="523800"/>
              </a:xfrm>
            </p:grpSpPr>
            <p:sp>
              <p:nvSpPr>
                <p:cNvPr id="1955" name=""/>
                <p:cNvSpPr/>
                <p:nvPr/>
              </p:nvSpPr>
              <p:spPr>
                <a:xfrm>
                  <a:off x="5803920" y="36972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5803920" y="390384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957" name=""/>
                <p:cNvSpPr/>
                <p:nvPr/>
              </p:nvSpPr>
              <p:spPr>
                <a:xfrm>
                  <a:off x="5803920" y="40464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58" name=""/>
            <p:cNvSpPr/>
            <p:nvPr/>
          </p:nvSpPr>
          <p:spPr>
            <a:xfrm>
              <a:off x="3637080" y="293220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959" name=""/>
          <p:cNvSpPr txBox="1"/>
          <p:nvPr/>
        </p:nvSpPr>
        <p:spPr>
          <a:xfrm>
            <a:off x="465120" y="5710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960" name=""/>
          <p:cNvGrpSpPr/>
          <p:nvPr/>
        </p:nvGrpSpPr>
        <p:grpSpPr>
          <a:xfrm>
            <a:off x="560520" y="447840"/>
            <a:ext cx="3624120" cy="1190520"/>
            <a:chOff x="560520" y="447840"/>
            <a:chExt cx="3624120" cy="1190520"/>
          </a:xfrm>
        </p:grpSpPr>
        <p:sp>
          <p:nvSpPr>
            <p:cNvPr id="1961"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1962"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6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64"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5" name=""/>
          <p:cNvSpPr txBox="1"/>
          <p:nvPr/>
        </p:nvSpPr>
        <p:spPr>
          <a:xfrm>
            <a:off x="317520" y="3295800"/>
            <a:ext cx="2995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imum of one point of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act on the Tertiary Datum.</a:t>
            </a:r>
            <a:endParaRPr b="0" lang="en-US" sz="1800" spc="-1" strike="noStrike">
              <a:solidFill>
                <a:srgbClr val="000000"/>
              </a:solidFill>
              <a:latin typeface="Arial"/>
            </a:endParaRPr>
          </a:p>
        </p:txBody>
      </p:sp>
      <p:sp>
        <p:nvSpPr>
          <p:cNvPr id="1966" name=""/>
          <p:cNvSpPr/>
          <p:nvPr/>
        </p:nvSpPr>
        <p:spPr>
          <a:xfrm flipH="1">
            <a:off x="2424240" y="279720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7" name=""/>
          <p:cNvSpPr txBox="1"/>
          <p:nvPr/>
        </p:nvSpPr>
        <p:spPr>
          <a:xfrm>
            <a:off x="1112760" y="297972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1968" name=""/>
          <p:cNvSpPr/>
          <p:nvPr/>
        </p:nvSpPr>
        <p:spPr>
          <a:xfrm>
            <a:off x="2190600" y="315900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flipV="1">
            <a:off x="2428920" y="2825640"/>
            <a:ext cx="33336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txBox="1"/>
          <p:nvPr/>
        </p:nvSpPr>
        <p:spPr>
          <a:xfrm>
            <a:off x="852480" y="4835520"/>
            <a:ext cx="29019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imum of three points of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act on Primary Datum A)</a:t>
            </a:r>
            <a:endParaRPr b="0" lang="en-US" sz="1800" spc="-1" strike="noStrike">
              <a:solidFill>
                <a:srgbClr val="000000"/>
              </a:solidFill>
              <a:latin typeface="Arial"/>
            </a:endParaRPr>
          </a:p>
        </p:txBody>
      </p:sp>
      <p:sp>
        <p:nvSpPr>
          <p:cNvPr id="1971" name=""/>
          <p:cNvSpPr/>
          <p:nvPr/>
        </p:nvSpPr>
        <p:spPr>
          <a:xfrm flipH="1">
            <a:off x="2424240" y="279720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2" name=""/>
          <p:cNvSpPr txBox="1"/>
          <p:nvPr/>
        </p:nvSpPr>
        <p:spPr>
          <a:xfrm>
            <a:off x="1112760" y="297972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1973" name=""/>
          <p:cNvSpPr/>
          <p:nvPr/>
        </p:nvSpPr>
        <p:spPr>
          <a:xfrm>
            <a:off x="2190600" y="315900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flipV="1">
            <a:off x="2428920" y="2825640"/>
            <a:ext cx="33336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3624120" y="437832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1976" name=""/>
          <p:cNvSpPr txBox="1"/>
          <p:nvPr/>
        </p:nvSpPr>
        <p:spPr>
          <a:xfrm>
            <a:off x="1973160" y="4511520"/>
            <a:ext cx="10288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A</a:t>
            </a:r>
            <a:endParaRPr b="0" lang="en-US" sz="1800" spc="-1" strike="noStrike">
              <a:solidFill>
                <a:srgbClr val="000000"/>
              </a:solidFill>
              <a:latin typeface="Arial"/>
            </a:endParaRPr>
          </a:p>
        </p:txBody>
      </p:sp>
      <p:sp>
        <p:nvSpPr>
          <p:cNvPr id="1977" name=""/>
          <p:cNvSpPr/>
          <p:nvPr/>
        </p:nvSpPr>
        <p:spPr>
          <a:xfrm flipV="1">
            <a:off x="3100320" y="4437000"/>
            <a:ext cx="552600" cy="265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8" name=""/>
          <p:cNvSpPr/>
          <p:nvPr/>
        </p:nvSpPr>
        <p:spPr>
          <a:xfrm>
            <a:off x="2932200" y="470232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3176640" y="2786040"/>
            <a:ext cx="2991240" cy="2127600"/>
          </a:xfrm>
          <a:custGeom>
            <a:avLst/>
            <a:gdLst/>
            <a:ahLst/>
            <a:rect l="0" t="0" r="r" b="b"/>
            <a:pathLst>
              <a:path fill="none" w="8309" h="5910">
                <a:moveTo>
                  <a:pt x="401" y="0"/>
                </a:moveTo>
                <a:lnTo>
                  <a:pt x="401" y="92"/>
                </a:lnTo>
                <a:lnTo>
                  <a:pt x="246" y="154"/>
                </a:lnTo>
                <a:lnTo>
                  <a:pt x="154" y="216"/>
                </a:lnTo>
                <a:lnTo>
                  <a:pt x="123" y="308"/>
                </a:lnTo>
                <a:lnTo>
                  <a:pt x="61" y="463"/>
                </a:lnTo>
                <a:lnTo>
                  <a:pt x="61" y="617"/>
                </a:lnTo>
                <a:lnTo>
                  <a:pt x="61" y="709"/>
                </a:lnTo>
                <a:lnTo>
                  <a:pt x="61" y="802"/>
                </a:lnTo>
                <a:lnTo>
                  <a:pt x="61" y="895"/>
                </a:lnTo>
                <a:lnTo>
                  <a:pt x="61" y="987"/>
                </a:lnTo>
                <a:lnTo>
                  <a:pt x="61" y="1080"/>
                </a:lnTo>
                <a:lnTo>
                  <a:pt x="30" y="1199"/>
                </a:lnTo>
                <a:lnTo>
                  <a:pt x="30" y="1292"/>
                </a:lnTo>
                <a:lnTo>
                  <a:pt x="0" y="1384"/>
                </a:lnTo>
                <a:lnTo>
                  <a:pt x="0" y="1477"/>
                </a:lnTo>
                <a:lnTo>
                  <a:pt x="0" y="1693"/>
                </a:lnTo>
                <a:lnTo>
                  <a:pt x="61" y="1847"/>
                </a:lnTo>
                <a:lnTo>
                  <a:pt x="154" y="1940"/>
                </a:lnTo>
                <a:lnTo>
                  <a:pt x="246" y="2032"/>
                </a:lnTo>
                <a:lnTo>
                  <a:pt x="308" y="2125"/>
                </a:lnTo>
                <a:lnTo>
                  <a:pt x="308" y="2248"/>
                </a:lnTo>
                <a:lnTo>
                  <a:pt x="308" y="2341"/>
                </a:lnTo>
                <a:lnTo>
                  <a:pt x="308" y="2491"/>
                </a:lnTo>
                <a:lnTo>
                  <a:pt x="308" y="2584"/>
                </a:lnTo>
                <a:lnTo>
                  <a:pt x="308" y="2738"/>
                </a:lnTo>
                <a:lnTo>
                  <a:pt x="277" y="2831"/>
                </a:lnTo>
                <a:lnTo>
                  <a:pt x="277" y="2923"/>
                </a:lnTo>
                <a:lnTo>
                  <a:pt x="246" y="3017"/>
                </a:lnTo>
                <a:lnTo>
                  <a:pt x="216" y="3171"/>
                </a:lnTo>
                <a:lnTo>
                  <a:pt x="154" y="3264"/>
                </a:lnTo>
                <a:lnTo>
                  <a:pt x="154" y="3418"/>
                </a:lnTo>
                <a:lnTo>
                  <a:pt x="92" y="3511"/>
                </a:lnTo>
                <a:lnTo>
                  <a:pt x="92" y="3603"/>
                </a:lnTo>
                <a:lnTo>
                  <a:pt x="61" y="3753"/>
                </a:lnTo>
                <a:lnTo>
                  <a:pt x="61" y="3908"/>
                </a:lnTo>
                <a:lnTo>
                  <a:pt x="92" y="4124"/>
                </a:lnTo>
                <a:lnTo>
                  <a:pt x="92" y="4247"/>
                </a:lnTo>
                <a:lnTo>
                  <a:pt x="123" y="4340"/>
                </a:lnTo>
                <a:lnTo>
                  <a:pt x="246" y="4494"/>
                </a:lnTo>
                <a:lnTo>
                  <a:pt x="277" y="4587"/>
                </a:lnTo>
                <a:lnTo>
                  <a:pt x="339" y="4679"/>
                </a:lnTo>
                <a:lnTo>
                  <a:pt x="401" y="4772"/>
                </a:lnTo>
                <a:lnTo>
                  <a:pt x="463" y="4864"/>
                </a:lnTo>
                <a:lnTo>
                  <a:pt x="612" y="5200"/>
                </a:lnTo>
                <a:lnTo>
                  <a:pt x="643" y="5354"/>
                </a:lnTo>
                <a:lnTo>
                  <a:pt x="767" y="5539"/>
                </a:lnTo>
                <a:lnTo>
                  <a:pt x="921" y="5693"/>
                </a:lnTo>
                <a:lnTo>
                  <a:pt x="1014" y="5724"/>
                </a:lnTo>
                <a:lnTo>
                  <a:pt x="1415" y="5817"/>
                </a:lnTo>
                <a:lnTo>
                  <a:pt x="1631" y="5848"/>
                </a:lnTo>
                <a:lnTo>
                  <a:pt x="2059" y="5910"/>
                </a:lnTo>
                <a:lnTo>
                  <a:pt x="2152" y="5910"/>
                </a:lnTo>
                <a:lnTo>
                  <a:pt x="2276" y="5910"/>
                </a:lnTo>
                <a:lnTo>
                  <a:pt x="2369" y="5910"/>
                </a:lnTo>
                <a:lnTo>
                  <a:pt x="2492" y="5755"/>
                </a:lnTo>
                <a:lnTo>
                  <a:pt x="2893" y="5755"/>
                </a:lnTo>
                <a:lnTo>
                  <a:pt x="2955" y="5817"/>
                </a:lnTo>
                <a:lnTo>
                  <a:pt x="3202" y="5693"/>
                </a:lnTo>
                <a:lnTo>
                  <a:pt x="3414" y="5724"/>
                </a:lnTo>
                <a:lnTo>
                  <a:pt x="3630" y="5724"/>
                </a:lnTo>
                <a:lnTo>
                  <a:pt x="3599" y="5755"/>
                </a:lnTo>
                <a:lnTo>
                  <a:pt x="3691" y="5755"/>
                </a:lnTo>
                <a:lnTo>
                  <a:pt x="3908" y="5786"/>
                </a:lnTo>
                <a:lnTo>
                  <a:pt x="4124" y="5755"/>
                </a:lnTo>
                <a:lnTo>
                  <a:pt x="4247" y="5724"/>
                </a:lnTo>
                <a:lnTo>
                  <a:pt x="4340" y="5755"/>
                </a:lnTo>
                <a:lnTo>
                  <a:pt x="4551" y="5786"/>
                </a:lnTo>
                <a:lnTo>
                  <a:pt x="4706" y="5693"/>
                </a:lnTo>
                <a:lnTo>
                  <a:pt x="4860" y="5817"/>
                </a:lnTo>
                <a:lnTo>
                  <a:pt x="5014" y="5817"/>
                </a:lnTo>
                <a:lnTo>
                  <a:pt x="5138" y="5786"/>
                </a:lnTo>
                <a:lnTo>
                  <a:pt x="5570" y="5817"/>
                </a:lnTo>
                <a:lnTo>
                  <a:pt x="5693" y="5786"/>
                </a:lnTo>
                <a:lnTo>
                  <a:pt x="5724" y="5817"/>
                </a:lnTo>
                <a:lnTo>
                  <a:pt x="5848" y="5786"/>
                </a:lnTo>
                <a:lnTo>
                  <a:pt x="5936" y="5786"/>
                </a:lnTo>
                <a:lnTo>
                  <a:pt x="6059" y="5817"/>
                </a:lnTo>
                <a:lnTo>
                  <a:pt x="6246" y="5817"/>
                </a:lnTo>
                <a:lnTo>
                  <a:pt x="6369" y="5848"/>
                </a:lnTo>
                <a:lnTo>
                  <a:pt x="6338" y="5817"/>
                </a:lnTo>
                <a:lnTo>
                  <a:pt x="6400" y="5755"/>
                </a:lnTo>
                <a:lnTo>
                  <a:pt x="6616" y="5817"/>
                </a:lnTo>
                <a:lnTo>
                  <a:pt x="6709" y="5755"/>
                </a:lnTo>
                <a:lnTo>
                  <a:pt x="6956" y="5724"/>
                </a:lnTo>
                <a:lnTo>
                  <a:pt x="7141" y="5693"/>
                </a:lnTo>
                <a:lnTo>
                  <a:pt x="7383" y="5663"/>
                </a:lnTo>
                <a:lnTo>
                  <a:pt x="7476" y="5663"/>
                </a:lnTo>
                <a:lnTo>
                  <a:pt x="7630" y="5601"/>
                </a:lnTo>
                <a:lnTo>
                  <a:pt x="7723" y="5601"/>
                </a:lnTo>
                <a:lnTo>
                  <a:pt x="7939" y="5601"/>
                </a:lnTo>
                <a:lnTo>
                  <a:pt x="8032" y="5601"/>
                </a:lnTo>
                <a:lnTo>
                  <a:pt x="8124" y="5601"/>
                </a:lnTo>
                <a:lnTo>
                  <a:pt x="8217" y="5601"/>
                </a:lnTo>
                <a:lnTo>
                  <a:pt x="8309" y="553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80" name=""/>
          <p:cNvGrpSpPr/>
          <p:nvPr/>
        </p:nvGrpSpPr>
        <p:grpSpPr>
          <a:xfrm>
            <a:off x="4003560" y="4879800"/>
            <a:ext cx="3476520" cy="1316520"/>
            <a:chOff x="4003560" y="4879800"/>
            <a:chExt cx="3476520" cy="1316520"/>
          </a:xfrm>
        </p:grpSpPr>
        <p:sp>
          <p:nvSpPr>
            <p:cNvPr id="1981" name=""/>
            <p:cNvSpPr txBox="1"/>
            <p:nvPr/>
          </p:nvSpPr>
          <p:spPr>
            <a:xfrm>
              <a:off x="4019400" y="5554800"/>
              <a:ext cx="34606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inimum of two points of contac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on the Secondary Datum B)</a:t>
              </a:r>
              <a:endParaRPr b="0" lang="en-US" sz="1800" spc="-1" strike="noStrike">
                <a:solidFill>
                  <a:srgbClr val="000000"/>
                </a:solidFill>
                <a:latin typeface="Arial"/>
              </a:endParaRPr>
            </a:p>
          </p:txBody>
        </p:sp>
        <p:grpSp>
          <p:nvGrpSpPr>
            <p:cNvPr id="1982" name=""/>
            <p:cNvGrpSpPr/>
            <p:nvPr/>
          </p:nvGrpSpPr>
          <p:grpSpPr>
            <a:xfrm>
              <a:off x="4003560" y="5081760"/>
              <a:ext cx="2175120" cy="534960"/>
              <a:chOff x="4003560" y="5081760"/>
              <a:chExt cx="2175120" cy="534960"/>
            </a:xfrm>
          </p:grpSpPr>
          <p:sp>
            <p:nvSpPr>
              <p:cNvPr id="1983" name=""/>
              <p:cNvSpPr txBox="1"/>
              <p:nvPr/>
            </p:nvSpPr>
            <p:spPr>
              <a:xfrm>
                <a:off x="4003560" y="52498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1984" name=""/>
              <p:cNvSpPr/>
              <p:nvPr/>
            </p:nvSpPr>
            <p:spPr>
              <a:xfrm flipV="1">
                <a:off x="5214960" y="50817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flipH="1">
                <a:off x="5025960" y="54579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86" name=""/>
            <p:cNvSpPr/>
            <p:nvPr/>
          </p:nvSpPr>
          <p:spPr>
            <a:xfrm>
              <a:off x="6178680" y="4879800"/>
              <a:ext cx="0" cy="509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87" name=""/>
          <p:cNvGrpSpPr/>
          <p:nvPr/>
        </p:nvGrpSpPr>
        <p:grpSpPr>
          <a:xfrm>
            <a:off x="3637080" y="2798640"/>
            <a:ext cx="2523960" cy="1465560"/>
            <a:chOff x="3637080" y="2798640"/>
            <a:chExt cx="2523960" cy="1465560"/>
          </a:xfrm>
        </p:grpSpPr>
        <p:grpSp>
          <p:nvGrpSpPr>
            <p:cNvPr id="1988" name=""/>
            <p:cNvGrpSpPr/>
            <p:nvPr/>
          </p:nvGrpSpPr>
          <p:grpSpPr>
            <a:xfrm>
              <a:off x="3794040" y="3713040"/>
              <a:ext cx="523800" cy="524160"/>
              <a:chOff x="3794040" y="3713040"/>
              <a:chExt cx="523800" cy="524160"/>
            </a:xfrm>
          </p:grpSpPr>
          <p:grpSp>
            <p:nvGrpSpPr>
              <p:cNvPr id="1989" name=""/>
              <p:cNvGrpSpPr/>
              <p:nvPr/>
            </p:nvGrpSpPr>
            <p:grpSpPr>
              <a:xfrm>
                <a:off x="3794040" y="3949560"/>
                <a:ext cx="523800" cy="0"/>
                <a:chOff x="3794040" y="3949560"/>
                <a:chExt cx="523800" cy="0"/>
              </a:xfrm>
            </p:grpSpPr>
            <p:sp>
              <p:nvSpPr>
                <p:cNvPr id="1990" name=""/>
                <p:cNvSpPr/>
                <p:nvPr/>
              </p:nvSpPr>
              <p:spPr>
                <a:xfrm>
                  <a:off x="3794040" y="3949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a:off x="4000680" y="3949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4143240" y="3949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93" name=""/>
              <p:cNvSpPr/>
              <p:nvPr/>
            </p:nvSpPr>
            <p:spPr>
              <a:xfrm>
                <a:off x="3881520" y="37987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94" name=""/>
              <p:cNvGrpSpPr/>
              <p:nvPr/>
            </p:nvGrpSpPr>
            <p:grpSpPr>
              <a:xfrm>
                <a:off x="4033800" y="3713040"/>
                <a:ext cx="0" cy="524160"/>
                <a:chOff x="4033800" y="3713040"/>
                <a:chExt cx="0" cy="524160"/>
              </a:xfrm>
            </p:grpSpPr>
            <p:sp>
              <p:nvSpPr>
                <p:cNvPr id="1995" name=""/>
                <p:cNvSpPr/>
                <p:nvPr/>
              </p:nvSpPr>
              <p:spPr>
                <a:xfrm>
                  <a:off x="4033800" y="3713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6" name=""/>
                <p:cNvSpPr/>
                <p:nvPr/>
              </p:nvSpPr>
              <p:spPr>
                <a:xfrm>
                  <a:off x="4033800" y="3919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1997" name=""/>
                <p:cNvSpPr/>
                <p:nvPr/>
              </p:nvSpPr>
              <p:spPr>
                <a:xfrm>
                  <a:off x="4033800" y="406224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998" name=""/>
            <p:cNvGrpSpPr/>
            <p:nvPr/>
          </p:nvGrpSpPr>
          <p:grpSpPr>
            <a:xfrm>
              <a:off x="5532480" y="3564000"/>
              <a:ext cx="628560" cy="523800"/>
              <a:chOff x="5532480" y="3564000"/>
              <a:chExt cx="628560" cy="523800"/>
            </a:xfrm>
          </p:grpSpPr>
          <p:sp>
            <p:nvSpPr>
              <p:cNvPr id="1999" name=""/>
              <p:cNvSpPr/>
              <p:nvPr/>
            </p:nvSpPr>
            <p:spPr>
              <a:xfrm>
                <a:off x="5656320" y="365436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0" name=""/>
              <p:cNvSpPr/>
              <p:nvPr/>
            </p:nvSpPr>
            <p:spPr>
              <a:xfrm>
                <a:off x="5532480" y="38005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1" name=""/>
              <p:cNvSpPr/>
              <p:nvPr/>
            </p:nvSpPr>
            <p:spPr>
              <a:xfrm>
                <a:off x="5897520" y="380052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a:off x="5770440" y="38005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03" name=""/>
              <p:cNvGrpSpPr/>
              <p:nvPr/>
            </p:nvGrpSpPr>
            <p:grpSpPr>
              <a:xfrm>
                <a:off x="5803920" y="3564000"/>
                <a:ext cx="0" cy="523800"/>
                <a:chOff x="5803920" y="3564000"/>
                <a:chExt cx="0" cy="523800"/>
              </a:xfrm>
            </p:grpSpPr>
            <p:sp>
              <p:nvSpPr>
                <p:cNvPr id="2004" name=""/>
                <p:cNvSpPr/>
                <p:nvPr/>
              </p:nvSpPr>
              <p:spPr>
                <a:xfrm>
                  <a:off x="5803920" y="35640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5" name=""/>
                <p:cNvSpPr/>
                <p:nvPr/>
              </p:nvSpPr>
              <p:spPr>
                <a:xfrm>
                  <a:off x="5803920" y="37702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06" name=""/>
                <p:cNvSpPr/>
                <p:nvPr/>
              </p:nvSpPr>
              <p:spPr>
                <a:xfrm>
                  <a:off x="5803920" y="39132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007" name=""/>
            <p:cNvSpPr/>
            <p:nvPr/>
          </p:nvSpPr>
          <p:spPr>
            <a:xfrm>
              <a:off x="3637080" y="279864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08" name=""/>
          <p:cNvSpPr txBox="1"/>
          <p:nvPr/>
        </p:nvSpPr>
        <p:spPr>
          <a:xfrm>
            <a:off x="465120" y="5710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2009" name=""/>
          <p:cNvGrpSpPr/>
          <p:nvPr/>
        </p:nvGrpSpPr>
        <p:grpSpPr>
          <a:xfrm>
            <a:off x="560520" y="447840"/>
            <a:ext cx="3624120" cy="1190520"/>
            <a:chOff x="560520" y="447840"/>
            <a:chExt cx="3624120" cy="1190520"/>
          </a:xfrm>
        </p:grpSpPr>
        <p:sp>
          <p:nvSpPr>
            <p:cNvPr id="2010"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011"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1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3"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4" name=""/>
          <p:cNvSpPr/>
          <p:nvPr/>
        </p:nvSpPr>
        <p:spPr>
          <a:xfrm flipH="1">
            <a:off x="2741760" y="3016080"/>
            <a:ext cx="79992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015" name=""/>
          <p:cNvSpPr/>
          <p:nvPr/>
        </p:nvSpPr>
        <p:spPr>
          <a:xfrm flipH="1">
            <a:off x="2808360" y="4253040"/>
            <a:ext cx="73512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016" name=""/>
          <p:cNvSpPr/>
          <p:nvPr/>
        </p:nvSpPr>
        <p:spPr>
          <a:xfrm>
            <a:off x="2852640" y="3087720"/>
            <a:ext cx="28800" cy="36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2892600" y="3916440"/>
            <a:ext cx="26640" cy="38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18" name=""/>
          <p:cNvGrpSpPr/>
          <p:nvPr/>
        </p:nvGrpSpPr>
        <p:grpSpPr>
          <a:xfrm>
            <a:off x="1236600" y="3205080"/>
            <a:ext cx="1119240" cy="959040"/>
            <a:chOff x="1236600" y="3205080"/>
            <a:chExt cx="1119240" cy="959040"/>
          </a:xfrm>
        </p:grpSpPr>
        <p:grpSp>
          <p:nvGrpSpPr>
            <p:cNvPr id="2019" name=""/>
            <p:cNvGrpSpPr/>
            <p:nvPr/>
          </p:nvGrpSpPr>
          <p:grpSpPr>
            <a:xfrm>
              <a:off x="2225520" y="3205080"/>
              <a:ext cx="130320" cy="959040"/>
              <a:chOff x="2225520" y="3205080"/>
              <a:chExt cx="130320" cy="959040"/>
            </a:xfrm>
          </p:grpSpPr>
          <p:sp>
            <p:nvSpPr>
              <p:cNvPr id="2020" name=""/>
              <p:cNvSpPr/>
              <p:nvPr/>
            </p:nvSpPr>
            <p:spPr>
              <a:xfrm>
                <a:off x="2225520" y="32050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021" name=""/>
              <p:cNvSpPr/>
              <p:nvPr/>
            </p:nvSpPr>
            <p:spPr>
              <a:xfrm>
                <a:off x="2295360" y="327492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2" name=""/>
              <p:cNvSpPr/>
              <p:nvPr/>
            </p:nvSpPr>
            <p:spPr>
              <a:xfrm>
                <a:off x="2295360" y="361476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023" name=""/>
              <p:cNvSpPr/>
              <p:nvPr/>
            </p:nvSpPr>
            <p:spPr>
              <a:xfrm flipH="1">
                <a:off x="2295360" y="36752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024" name=""/>
              <p:cNvSpPr/>
              <p:nvPr/>
            </p:nvSpPr>
            <p:spPr>
              <a:xfrm>
                <a:off x="2295360" y="3735360"/>
                <a:ext cx="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5" name=""/>
              <p:cNvSpPr/>
              <p:nvPr/>
            </p:nvSpPr>
            <p:spPr>
              <a:xfrm flipH="1">
                <a:off x="2235240" y="410688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2026" name=""/>
            <p:cNvSpPr txBox="1"/>
            <p:nvPr/>
          </p:nvSpPr>
          <p:spPr>
            <a:xfrm>
              <a:off x="1236600" y="3298680"/>
              <a:ext cx="1009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a:t>
              </a:r>
              <a:endParaRPr b="0" lang="en-US" sz="2000" spc="-1" strike="noStrike">
                <a:solidFill>
                  <a:srgbClr val="000000"/>
                </a:solidFill>
                <a:latin typeface="Arial"/>
              </a:endParaRPr>
            </a:p>
          </p:txBody>
        </p:sp>
      </p:grpSp>
      <p:sp>
        <p:nvSpPr>
          <p:cNvPr id="2027" name=""/>
          <p:cNvSpPr txBox="1"/>
          <p:nvPr/>
        </p:nvSpPr>
        <p:spPr>
          <a:xfrm>
            <a:off x="2395440" y="35352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0 - 30.4</a:t>
            </a:r>
            <a:endParaRPr b="0" lang="en-US" sz="1600" spc="-1" strike="noStrike">
              <a:solidFill>
                <a:srgbClr val="000000"/>
              </a:solidFill>
              <a:latin typeface="Arial"/>
            </a:endParaRPr>
          </a:p>
        </p:txBody>
      </p:sp>
      <p:grpSp>
        <p:nvGrpSpPr>
          <p:cNvPr id="2028" name=""/>
          <p:cNvGrpSpPr/>
          <p:nvPr/>
        </p:nvGrpSpPr>
        <p:grpSpPr>
          <a:xfrm>
            <a:off x="3637080" y="2798640"/>
            <a:ext cx="2523960" cy="1465560"/>
            <a:chOff x="3637080" y="2798640"/>
            <a:chExt cx="2523960" cy="1465560"/>
          </a:xfrm>
        </p:grpSpPr>
        <p:grpSp>
          <p:nvGrpSpPr>
            <p:cNvPr id="2029" name=""/>
            <p:cNvGrpSpPr/>
            <p:nvPr/>
          </p:nvGrpSpPr>
          <p:grpSpPr>
            <a:xfrm>
              <a:off x="3794040" y="3713040"/>
              <a:ext cx="523800" cy="524160"/>
              <a:chOff x="3794040" y="3713040"/>
              <a:chExt cx="523800" cy="524160"/>
            </a:xfrm>
          </p:grpSpPr>
          <p:grpSp>
            <p:nvGrpSpPr>
              <p:cNvPr id="2030" name=""/>
              <p:cNvGrpSpPr/>
              <p:nvPr/>
            </p:nvGrpSpPr>
            <p:grpSpPr>
              <a:xfrm>
                <a:off x="3794040" y="3949560"/>
                <a:ext cx="523800" cy="0"/>
                <a:chOff x="3794040" y="3949560"/>
                <a:chExt cx="523800" cy="0"/>
              </a:xfrm>
            </p:grpSpPr>
            <p:sp>
              <p:nvSpPr>
                <p:cNvPr id="2031" name=""/>
                <p:cNvSpPr/>
                <p:nvPr/>
              </p:nvSpPr>
              <p:spPr>
                <a:xfrm>
                  <a:off x="3794040" y="3949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2" name=""/>
                <p:cNvSpPr/>
                <p:nvPr/>
              </p:nvSpPr>
              <p:spPr>
                <a:xfrm>
                  <a:off x="4000680" y="3949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3" name=""/>
                <p:cNvSpPr/>
                <p:nvPr/>
              </p:nvSpPr>
              <p:spPr>
                <a:xfrm>
                  <a:off x="4143240" y="3949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34" name=""/>
              <p:cNvSpPr/>
              <p:nvPr/>
            </p:nvSpPr>
            <p:spPr>
              <a:xfrm>
                <a:off x="3881520" y="37987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35" name=""/>
              <p:cNvGrpSpPr/>
              <p:nvPr/>
            </p:nvGrpSpPr>
            <p:grpSpPr>
              <a:xfrm>
                <a:off x="4033800" y="3713040"/>
                <a:ext cx="0" cy="524160"/>
                <a:chOff x="4033800" y="3713040"/>
                <a:chExt cx="0" cy="524160"/>
              </a:xfrm>
            </p:grpSpPr>
            <p:sp>
              <p:nvSpPr>
                <p:cNvPr id="2036" name=""/>
                <p:cNvSpPr/>
                <p:nvPr/>
              </p:nvSpPr>
              <p:spPr>
                <a:xfrm>
                  <a:off x="4033800" y="3713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a:off x="4033800" y="3919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38" name=""/>
                <p:cNvSpPr/>
                <p:nvPr/>
              </p:nvSpPr>
              <p:spPr>
                <a:xfrm>
                  <a:off x="4033800" y="406224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039" name=""/>
            <p:cNvGrpSpPr/>
            <p:nvPr/>
          </p:nvGrpSpPr>
          <p:grpSpPr>
            <a:xfrm>
              <a:off x="5532480" y="3564000"/>
              <a:ext cx="628560" cy="523800"/>
              <a:chOff x="5532480" y="3564000"/>
              <a:chExt cx="628560" cy="523800"/>
            </a:xfrm>
          </p:grpSpPr>
          <p:sp>
            <p:nvSpPr>
              <p:cNvPr id="2040" name=""/>
              <p:cNvSpPr/>
              <p:nvPr/>
            </p:nvSpPr>
            <p:spPr>
              <a:xfrm>
                <a:off x="5656320" y="365436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a:off x="5532480" y="38005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a:off x="5897520" y="380052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3" name=""/>
              <p:cNvSpPr/>
              <p:nvPr/>
            </p:nvSpPr>
            <p:spPr>
              <a:xfrm>
                <a:off x="5770440" y="38005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44" name=""/>
              <p:cNvGrpSpPr/>
              <p:nvPr/>
            </p:nvGrpSpPr>
            <p:grpSpPr>
              <a:xfrm>
                <a:off x="5803920" y="3564000"/>
                <a:ext cx="0" cy="523800"/>
                <a:chOff x="5803920" y="3564000"/>
                <a:chExt cx="0" cy="523800"/>
              </a:xfrm>
            </p:grpSpPr>
            <p:sp>
              <p:nvSpPr>
                <p:cNvPr id="2045" name=""/>
                <p:cNvSpPr/>
                <p:nvPr/>
              </p:nvSpPr>
              <p:spPr>
                <a:xfrm>
                  <a:off x="5803920" y="35640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6" name=""/>
                <p:cNvSpPr/>
                <p:nvPr/>
              </p:nvSpPr>
              <p:spPr>
                <a:xfrm>
                  <a:off x="5803920" y="37702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47" name=""/>
                <p:cNvSpPr/>
                <p:nvPr/>
              </p:nvSpPr>
              <p:spPr>
                <a:xfrm>
                  <a:off x="5803920" y="39132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048" name=""/>
            <p:cNvSpPr/>
            <p:nvPr/>
          </p:nvSpPr>
          <p:spPr>
            <a:xfrm>
              <a:off x="3637080" y="279864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049" name=""/>
          <p:cNvSpPr txBox="1"/>
          <p:nvPr/>
        </p:nvSpPr>
        <p:spPr>
          <a:xfrm>
            <a:off x="465120" y="57103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2050" name=""/>
          <p:cNvGrpSpPr/>
          <p:nvPr/>
        </p:nvGrpSpPr>
        <p:grpSpPr>
          <a:xfrm>
            <a:off x="560520" y="447840"/>
            <a:ext cx="3624120" cy="1190520"/>
            <a:chOff x="560520" y="447840"/>
            <a:chExt cx="3624120" cy="1190520"/>
          </a:xfrm>
        </p:grpSpPr>
        <p:sp>
          <p:nvSpPr>
            <p:cNvPr id="2051"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052"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4"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5" name=""/>
          <p:cNvSpPr/>
          <p:nvPr/>
        </p:nvSpPr>
        <p:spPr>
          <a:xfrm flipH="1">
            <a:off x="2741760" y="3016080"/>
            <a:ext cx="79992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056" name=""/>
          <p:cNvSpPr/>
          <p:nvPr/>
        </p:nvSpPr>
        <p:spPr>
          <a:xfrm flipH="1">
            <a:off x="2808360" y="4253040"/>
            <a:ext cx="73512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057" name=""/>
          <p:cNvSpPr/>
          <p:nvPr/>
        </p:nvSpPr>
        <p:spPr>
          <a:xfrm>
            <a:off x="2852640" y="3087720"/>
            <a:ext cx="28800" cy="36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8" name=""/>
          <p:cNvSpPr/>
          <p:nvPr/>
        </p:nvSpPr>
        <p:spPr>
          <a:xfrm>
            <a:off x="2892600" y="3916440"/>
            <a:ext cx="26640" cy="38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9" name=""/>
          <p:cNvSpPr txBox="1"/>
          <p:nvPr/>
        </p:nvSpPr>
        <p:spPr>
          <a:xfrm>
            <a:off x="3784680" y="5157720"/>
            <a:ext cx="4151160" cy="1190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Notice that the depth dimension 30.0-30.4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does NOT originate with datum C.  It is a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feature of size with no geometric toleranc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ink to a controlling datum plane.</a:t>
            </a:r>
            <a:endParaRPr b="0" lang="en-US" sz="1800" spc="-1" strike="noStrike">
              <a:solidFill>
                <a:srgbClr val="000000"/>
              </a:solidFill>
              <a:latin typeface="Arial"/>
            </a:endParaRPr>
          </a:p>
        </p:txBody>
      </p:sp>
      <p:sp>
        <p:nvSpPr>
          <p:cNvPr id="2060" name=""/>
          <p:cNvSpPr txBox="1"/>
          <p:nvPr/>
        </p:nvSpPr>
        <p:spPr>
          <a:xfrm>
            <a:off x="814320" y="5043600"/>
            <a:ext cx="2000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CLARIFICATION:</a:t>
            </a:r>
            <a:endParaRPr b="0" lang="en-US" sz="1800" spc="-1" strike="noStrike">
              <a:solidFill>
                <a:srgbClr val="000000"/>
              </a:solidFill>
              <a:latin typeface="Arial"/>
            </a:endParaRPr>
          </a:p>
        </p:txBody>
      </p:sp>
      <p:sp>
        <p:nvSpPr>
          <p:cNvPr id="2061" name=""/>
          <p:cNvSpPr txBox="1"/>
          <p:nvPr/>
        </p:nvSpPr>
        <p:spPr>
          <a:xfrm>
            <a:off x="2395440" y="35352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0 - 30.4</a:t>
            </a:r>
            <a:endParaRPr b="0" lang="en-US" sz="1600" spc="-1" strike="noStrike">
              <a:solidFill>
                <a:srgbClr val="000000"/>
              </a:solidFill>
              <a:latin typeface="Arial"/>
            </a:endParaRPr>
          </a:p>
        </p:txBody>
      </p:sp>
      <p:grpSp>
        <p:nvGrpSpPr>
          <p:cNvPr id="2062" name=""/>
          <p:cNvGrpSpPr/>
          <p:nvPr/>
        </p:nvGrpSpPr>
        <p:grpSpPr>
          <a:xfrm>
            <a:off x="3637080" y="2798640"/>
            <a:ext cx="2523960" cy="1465560"/>
            <a:chOff x="3637080" y="2798640"/>
            <a:chExt cx="2523960" cy="1465560"/>
          </a:xfrm>
        </p:grpSpPr>
        <p:grpSp>
          <p:nvGrpSpPr>
            <p:cNvPr id="2063" name=""/>
            <p:cNvGrpSpPr/>
            <p:nvPr/>
          </p:nvGrpSpPr>
          <p:grpSpPr>
            <a:xfrm>
              <a:off x="3794040" y="3713040"/>
              <a:ext cx="523800" cy="524160"/>
              <a:chOff x="3794040" y="3713040"/>
              <a:chExt cx="523800" cy="524160"/>
            </a:xfrm>
          </p:grpSpPr>
          <p:grpSp>
            <p:nvGrpSpPr>
              <p:cNvPr id="2064" name=""/>
              <p:cNvGrpSpPr/>
              <p:nvPr/>
            </p:nvGrpSpPr>
            <p:grpSpPr>
              <a:xfrm>
                <a:off x="3794040" y="3949560"/>
                <a:ext cx="523800" cy="0"/>
                <a:chOff x="3794040" y="3949560"/>
                <a:chExt cx="523800" cy="0"/>
              </a:xfrm>
            </p:grpSpPr>
            <p:sp>
              <p:nvSpPr>
                <p:cNvPr id="2065" name=""/>
                <p:cNvSpPr/>
                <p:nvPr/>
              </p:nvSpPr>
              <p:spPr>
                <a:xfrm>
                  <a:off x="3794040" y="3949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6" name=""/>
                <p:cNvSpPr/>
                <p:nvPr/>
              </p:nvSpPr>
              <p:spPr>
                <a:xfrm>
                  <a:off x="4000680" y="3949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a:off x="4143240" y="3949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68" name=""/>
              <p:cNvSpPr/>
              <p:nvPr/>
            </p:nvSpPr>
            <p:spPr>
              <a:xfrm>
                <a:off x="3881520" y="37987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69" name=""/>
              <p:cNvGrpSpPr/>
              <p:nvPr/>
            </p:nvGrpSpPr>
            <p:grpSpPr>
              <a:xfrm>
                <a:off x="4033800" y="3713040"/>
                <a:ext cx="0" cy="524160"/>
                <a:chOff x="4033800" y="3713040"/>
                <a:chExt cx="0" cy="524160"/>
              </a:xfrm>
            </p:grpSpPr>
            <p:sp>
              <p:nvSpPr>
                <p:cNvPr id="2070" name=""/>
                <p:cNvSpPr/>
                <p:nvPr/>
              </p:nvSpPr>
              <p:spPr>
                <a:xfrm>
                  <a:off x="4033800" y="3713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4033800" y="3919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72" name=""/>
                <p:cNvSpPr/>
                <p:nvPr/>
              </p:nvSpPr>
              <p:spPr>
                <a:xfrm>
                  <a:off x="4033800" y="406224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073" name=""/>
            <p:cNvGrpSpPr/>
            <p:nvPr/>
          </p:nvGrpSpPr>
          <p:grpSpPr>
            <a:xfrm>
              <a:off x="5532480" y="3564000"/>
              <a:ext cx="628560" cy="523800"/>
              <a:chOff x="5532480" y="3564000"/>
              <a:chExt cx="628560" cy="523800"/>
            </a:xfrm>
          </p:grpSpPr>
          <p:sp>
            <p:nvSpPr>
              <p:cNvPr id="2074" name=""/>
              <p:cNvSpPr/>
              <p:nvPr/>
            </p:nvSpPr>
            <p:spPr>
              <a:xfrm>
                <a:off x="5656320" y="365436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5" name=""/>
              <p:cNvSpPr/>
              <p:nvPr/>
            </p:nvSpPr>
            <p:spPr>
              <a:xfrm>
                <a:off x="5532480" y="38005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a:off x="5897520" y="380052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7" name=""/>
              <p:cNvSpPr/>
              <p:nvPr/>
            </p:nvSpPr>
            <p:spPr>
              <a:xfrm>
                <a:off x="5770440" y="38005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78" name=""/>
              <p:cNvGrpSpPr/>
              <p:nvPr/>
            </p:nvGrpSpPr>
            <p:grpSpPr>
              <a:xfrm>
                <a:off x="5803920" y="3564000"/>
                <a:ext cx="0" cy="523800"/>
                <a:chOff x="5803920" y="3564000"/>
                <a:chExt cx="0" cy="523800"/>
              </a:xfrm>
            </p:grpSpPr>
            <p:sp>
              <p:nvSpPr>
                <p:cNvPr id="2079" name=""/>
                <p:cNvSpPr/>
                <p:nvPr/>
              </p:nvSpPr>
              <p:spPr>
                <a:xfrm>
                  <a:off x="5803920" y="35640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0" name=""/>
                <p:cNvSpPr/>
                <p:nvPr/>
              </p:nvSpPr>
              <p:spPr>
                <a:xfrm>
                  <a:off x="5803920" y="37702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81" name=""/>
                <p:cNvSpPr/>
                <p:nvPr/>
              </p:nvSpPr>
              <p:spPr>
                <a:xfrm>
                  <a:off x="5803920" y="39132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082" name=""/>
            <p:cNvSpPr/>
            <p:nvPr/>
          </p:nvSpPr>
          <p:spPr>
            <a:xfrm>
              <a:off x="3637080" y="279864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083" name=""/>
          <p:cNvGrpSpPr/>
          <p:nvPr/>
        </p:nvGrpSpPr>
        <p:grpSpPr>
          <a:xfrm>
            <a:off x="560520" y="447840"/>
            <a:ext cx="3624120" cy="1190520"/>
            <a:chOff x="560520" y="447840"/>
            <a:chExt cx="3624120" cy="1190520"/>
          </a:xfrm>
        </p:grpSpPr>
        <p:sp>
          <p:nvSpPr>
            <p:cNvPr id="2084"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085"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2086" name=""/>
          <p:cNvGrpSpPr/>
          <p:nvPr/>
        </p:nvGrpSpPr>
        <p:grpSpPr>
          <a:xfrm>
            <a:off x="1236600" y="3205080"/>
            <a:ext cx="1119240" cy="959040"/>
            <a:chOff x="1236600" y="3205080"/>
            <a:chExt cx="1119240" cy="959040"/>
          </a:xfrm>
        </p:grpSpPr>
        <p:grpSp>
          <p:nvGrpSpPr>
            <p:cNvPr id="2087" name=""/>
            <p:cNvGrpSpPr/>
            <p:nvPr/>
          </p:nvGrpSpPr>
          <p:grpSpPr>
            <a:xfrm>
              <a:off x="2225520" y="3205080"/>
              <a:ext cx="130320" cy="959040"/>
              <a:chOff x="2225520" y="3205080"/>
              <a:chExt cx="130320" cy="959040"/>
            </a:xfrm>
          </p:grpSpPr>
          <p:sp>
            <p:nvSpPr>
              <p:cNvPr id="2088" name=""/>
              <p:cNvSpPr/>
              <p:nvPr/>
            </p:nvSpPr>
            <p:spPr>
              <a:xfrm>
                <a:off x="2225520" y="32050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089" name=""/>
              <p:cNvSpPr/>
              <p:nvPr/>
            </p:nvSpPr>
            <p:spPr>
              <a:xfrm>
                <a:off x="2295360" y="327492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0" name=""/>
              <p:cNvSpPr/>
              <p:nvPr/>
            </p:nvSpPr>
            <p:spPr>
              <a:xfrm>
                <a:off x="2295360" y="361476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091" name=""/>
              <p:cNvSpPr/>
              <p:nvPr/>
            </p:nvSpPr>
            <p:spPr>
              <a:xfrm flipH="1">
                <a:off x="2295360" y="36752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092" name=""/>
              <p:cNvSpPr/>
              <p:nvPr/>
            </p:nvSpPr>
            <p:spPr>
              <a:xfrm>
                <a:off x="2295360" y="3735360"/>
                <a:ext cx="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flipH="1">
                <a:off x="2235240" y="410688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2094" name=""/>
            <p:cNvSpPr txBox="1"/>
            <p:nvPr/>
          </p:nvSpPr>
          <p:spPr>
            <a:xfrm>
              <a:off x="1236600" y="3298680"/>
              <a:ext cx="1009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9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096"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flipH="1">
            <a:off x="2741760" y="3016080"/>
            <a:ext cx="79992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098" name=""/>
          <p:cNvSpPr/>
          <p:nvPr/>
        </p:nvSpPr>
        <p:spPr>
          <a:xfrm flipH="1">
            <a:off x="2808360" y="4253040"/>
            <a:ext cx="73512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099" name=""/>
          <p:cNvSpPr/>
          <p:nvPr/>
        </p:nvSpPr>
        <p:spPr>
          <a:xfrm>
            <a:off x="2852640" y="3087720"/>
            <a:ext cx="28800" cy="36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0" name=""/>
          <p:cNvSpPr/>
          <p:nvPr/>
        </p:nvSpPr>
        <p:spPr>
          <a:xfrm>
            <a:off x="2892600" y="3916440"/>
            <a:ext cx="26640" cy="38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a:off x="6254640" y="2793960"/>
            <a:ext cx="21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4456080" y="3956040"/>
            <a:ext cx="390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p:nvPr/>
        </p:nvSpPr>
        <p:spPr>
          <a:xfrm>
            <a:off x="8255160" y="2795760"/>
            <a:ext cx="0" cy="331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4" name=""/>
          <p:cNvSpPr/>
          <p:nvPr/>
        </p:nvSpPr>
        <p:spPr>
          <a:xfrm flipV="1">
            <a:off x="8255160" y="3579840"/>
            <a:ext cx="0" cy="36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5" name=""/>
          <p:cNvSpPr txBox="1"/>
          <p:nvPr/>
        </p:nvSpPr>
        <p:spPr>
          <a:xfrm>
            <a:off x="8085240" y="3173400"/>
            <a:ext cx="311040" cy="396720"/>
          </a:xfrm>
          <a:prstGeom prst="rect">
            <a:avLst/>
          </a:prstGeom>
          <a:noFill/>
          <a:ln w="0">
            <a:noFill/>
          </a:ln>
        </p:spPr>
        <p:txBody>
          <a:bodyPr lIns="0" rIns="0" tIns="0" bIns="0" anchor="t">
            <a:noAutofit/>
          </a:bodyPr>
          <a:p>
            <a:pPr algn="ctr">
              <a:lnSpc>
                <a:spcPct val="100000"/>
              </a:lnSpc>
            </a:pPr>
            <a:r>
              <a:rPr b="1" lang="en-US" sz="2000" spc="-1" strike="noStrike">
                <a:solidFill>
                  <a:srgbClr val="fd0000"/>
                </a:solidFill>
                <a:latin typeface="Times New Roman"/>
                <a:ea typeface="Times New Roman"/>
              </a:rPr>
              <a:t>?</a:t>
            </a:r>
            <a:endParaRPr b="0" lang="en-US" sz="2000" spc="-1" strike="noStrike">
              <a:solidFill>
                <a:srgbClr val="000000"/>
              </a:solidFill>
              <a:latin typeface="Arial"/>
            </a:endParaRPr>
          </a:p>
        </p:txBody>
      </p:sp>
      <p:sp>
        <p:nvSpPr>
          <p:cNvPr id="2106" name=""/>
          <p:cNvSpPr/>
          <p:nvPr/>
        </p:nvSpPr>
        <p:spPr>
          <a:xfrm>
            <a:off x="6173640" y="3803760"/>
            <a:ext cx="114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a:off x="6254640" y="279396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7223040" y="279396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9" name=""/>
          <p:cNvSpPr/>
          <p:nvPr/>
        </p:nvSpPr>
        <p:spPr>
          <a:xfrm>
            <a:off x="7223040" y="3349800"/>
            <a:ext cx="0" cy="446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0" name=""/>
          <p:cNvSpPr txBox="1"/>
          <p:nvPr/>
        </p:nvSpPr>
        <p:spPr>
          <a:xfrm>
            <a:off x="7059600" y="3075120"/>
            <a:ext cx="293760" cy="274680"/>
          </a:xfrm>
          <a:prstGeom prst="rect">
            <a:avLst/>
          </a:prstGeom>
          <a:noFill/>
          <a:ln w="0">
            <a:noFill/>
          </a:ln>
        </p:spPr>
        <p:txBody>
          <a:bodyPr lIns="0" rIns="0" tIns="0" bIns="0" anchor="t">
            <a:noAutofit/>
          </a:bodyPr>
          <a:p>
            <a:pPr algn="ctr">
              <a:lnSpc>
                <a:spcPct val="100000"/>
              </a:lnSpc>
            </a:pPr>
            <a:r>
              <a:rPr b="0" lang="en-US" sz="1200" spc="-1" strike="noStrike">
                <a:solidFill>
                  <a:srgbClr val="ffffff"/>
                </a:solidFill>
                <a:latin typeface="Times New Roman"/>
                <a:ea typeface="Times New Roman"/>
              </a:rPr>
              <a:t>X</a:t>
            </a:r>
            <a:endParaRPr b="0" lang="en-US" sz="1200" spc="-1" strike="noStrike">
              <a:solidFill>
                <a:srgbClr val="000000"/>
              </a:solidFill>
              <a:latin typeface="Arial"/>
            </a:endParaRPr>
          </a:p>
        </p:txBody>
      </p:sp>
      <p:sp>
        <p:nvSpPr>
          <p:cNvPr id="2111" name=""/>
          <p:cNvSpPr txBox="1"/>
          <p:nvPr/>
        </p:nvSpPr>
        <p:spPr>
          <a:xfrm>
            <a:off x="2395440" y="35352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0 - 30.4</a:t>
            </a:r>
            <a:endParaRPr b="0" lang="en-US" sz="1600" spc="-1" strike="noStrike">
              <a:solidFill>
                <a:srgbClr val="000000"/>
              </a:solidFill>
              <a:latin typeface="Arial"/>
            </a:endParaRPr>
          </a:p>
        </p:txBody>
      </p:sp>
      <p:sp>
        <p:nvSpPr>
          <p:cNvPr id="2112" name=""/>
          <p:cNvSpPr txBox="1"/>
          <p:nvPr/>
        </p:nvSpPr>
        <p:spPr>
          <a:xfrm>
            <a:off x="6769080" y="1465200"/>
            <a:ext cx="1778040" cy="701640"/>
          </a:xfrm>
          <a:prstGeom prst="rect">
            <a:avLst/>
          </a:prstGeom>
          <a:noFill/>
          <a:ln w="0">
            <a:noFill/>
          </a:ln>
        </p:spPr>
        <p:txBody>
          <a:bodyPr lIns="0" rIns="0" tIns="0" bIns="0" anchor="t">
            <a:noAutofit/>
          </a:bodyPr>
          <a:p>
            <a:pPr>
              <a:lnSpc>
                <a:spcPct val="100000"/>
              </a:lnSpc>
            </a:pPr>
            <a:r>
              <a:rPr b="1" lang="en-US" sz="2000" spc="-1" strike="noStrike" u="sng">
                <a:solidFill>
                  <a:srgbClr val="ffffff"/>
                </a:solidFill>
                <a:uFillTx/>
                <a:latin typeface="Times New Roman"/>
                <a:ea typeface="Times New Roman"/>
              </a:rPr>
              <a:t>Hole Location</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from Datum C</a:t>
            </a:r>
            <a:endParaRPr b="0" lang="en-US" sz="2000" spc="-1" strike="noStrike">
              <a:solidFill>
                <a:srgbClr val="000000"/>
              </a:solidFill>
              <a:latin typeface="Arial"/>
            </a:endParaRPr>
          </a:p>
        </p:txBody>
      </p:sp>
      <p:grpSp>
        <p:nvGrpSpPr>
          <p:cNvPr id="2113" name=""/>
          <p:cNvGrpSpPr/>
          <p:nvPr/>
        </p:nvGrpSpPr>
        <p:grpSpPr>
          <a:xfrm>
            <a:off x="3637080" y="2798640"/>
            <a:ext cx="2523960" cy="1465560"/>
            <a:chOff x="3637080" y="2798640"/>
            <a:chExt cx="2523960" cy="1465560"/>
          </a:xfrm>
        </p:grpSpPr>
        <p:grpSp>
          <p:nvGrpSpPr>
            <p:cNvPr id="2114" name=""/>
            <p:cNvGrpSpPr/>
            <p:nvPr/>
          </p:nvGrpSpPr>
          <p:grpSpPr>
            <a:xfrm>
              <a:off x="3794040" y="3713040"/>
              <a:ext cx="523800" cy="524160"/>
              <a:chOff x="3794040" y="3713040"/>
              <a:chExt cx="523800" cy="524160"/>
            </a:xfrm>
          </p:grpSpPr>
          <p:grpSp>
            <p:nvGrpSpPr>
              <p:cNvPr id="2115" name=""/>
              <p:cNvGrpSpPr/>
              <p:nvPr/>
            </p:nvGrpSpPr>
            <p:grpSpPr>
              <a:xfrm>
                <a:off x="3794040" y="3949560"/>
                <a:ext cx="523800" cy="0"/>
                <a:chOff x="3794040" y="3949560"/>
                <a:chExt cx="523800" cy="0"/>
              </a:xfrm>
            </p:grpSpPr>
            <p:sp>
              <p:nvSpPr>
                <p:cNvPr id="2116" name=""/>
                <p:cNvSpPr/>
                <p:nvPr/>
              </p:nvSpPr>
              <p:spPr>
                <a:xfrm>
                  <a:off x="3794040" y="3949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7" name=""/>
                <p:cNvSpPr/>
                <p:nvPr/>
              </p:nvSpPr>
              <p:spPr>
                <a:xfrm>
                  <a:off x="4000680" y="3949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8" name=""/>
                <p:cNvSpPr/>
                <p:nvPr/>
              </p:nvSpPr>
              <p:spPr>
                <a:xfrm>
                  <a:off x="4143240" y="3949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19" name=""/>
              <p:cNvSpPr/>
              <p:nvPr/>
            </p:nvSpPr>
            <p:spPr>
              <a:xfrm>
                <a:off x="3881520" y="37987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20" name=""/>
              <p:cNvGrpSpPr/>
              <p:nvPr/>
            </p:nvGrpSpPr>
            <p:grpSpPr>
              <a:xfrm>
                <a:off x="4033800" y="3713040"/>
                <a:ext cx="0" cy="524160"/>
                <a:chOff x="4033800" y="3713040"/>
                <a:chExt cx="0" cy="524160"/>
              </a:xfrm>
            </p:grpSpPr>
            <p:sp>
              <p:nvSpPr>
                <p:cNvPr id="2121" name=""/>
                <p:cNvSpPr/>
                <p:nvPr/>
              </p:nvSpPr>
              <p:spPr>
                <a:xfrm>
                  <a:off x="4033800" y="3713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4033800" y="3919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123" name=""/>
                <p:cNvSpPr/>
                <p:nvPr/>
              </p:nvSpPr>
              <p:spPr>
                <a:xfrm>
                  <a:off x="4033800" y="406224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124" name=""/>
            <p:cNvGrpSpPr/>
            <p:nvPr/>
          </p:nvGrpSpPr>
          <p:grpSpPr>
            <a:xfrm>
              <a:off x="5532480" y="3564000"/>
              <a:ext cx="628560" cy="523800"/>
              <a:chOff x="5532480" y="3564000"/>
              <a:chExt cx="628560" cy="523800"/>
            </a:xfrm>
          </p:grpSpPr>
          <p:sp>
            <p:nvSpPr>
              <p:cNvPr id="2125" name=""/>
              <p:cNvSpPr/>
              <p:nvPr/>
            </p:nvSpPr>
            <p:spPr>
              <a:xfrm>
                <a:off x="5656320" y="365436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a:off x="5532480" y="38005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7" name=""/>
              <p:cNvSpPr/>
              <p:nvPr/>
            </p:nvSpPr>
            <p:spPr>
              <a:xfrm>
                <a:off x="5897520" y="380052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a:off x="5770440" y="38005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29" name=""/>
              <p:cNvGrpSpPr/>
              <p:nvPr/>
            </p:nvGrpSpPr>
            <p:grpSpPr>
              <a:xfrm>
                <a:off x="5803920" y="3564000"/>
                <a:ext cx="0" cy="523800"/>
                <a:chOff x="5803920" y="3564000"/>
                <a:chExt cx="0" cy="523800"/>
              </a:xfrm>
            </p:grpSpPr>
            <p:sp>
              <p:nvSpPr>
                <p:cNvPr id="2130" name=""/>
                <p:cNvSpPr/>
                <p:nvPr/>
              </p:nvSpPr>
              <p:spPr>
                <a:xfrm>
                  <a:off x="5803920" y="35640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a:off x="5803920" y="37702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132" name=""/>
                <p:cNvSpPr/>
                <p:nvPr/>
              </p:nvSpPr>
              <p:spPr>
                <a:xfrm>
                  <a:off x="5803920" y="39132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133" name=""/>
            <p:cNvSpPr/>
            <p:nvPr/>
          </p:nvSpPr>
          <p:spPr>
            <a:xfrm>
              <a:off x="3637080" y="279864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134" name=""/>
          <p:cNvGrpSpPr/>
          <p:nvPr/>
        </p:nvGrpSpPr>
        <p:grpSpPr>
          <a:xfrm>
            <a:off x="560520" y="447840"/>
            <a:ext cx="3624120" cy="1190520"/>
            <a:chOff x="560520" y="447840"/>
            <a:chExt cx="3624120" cy="1190520"/>
          </a:xfrm>
        </p:grpSpPr>
        <p:sp>
          <p:nvSpPr>
            <p:cNvPr id="2135"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136"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2137" name=""/>
          <p:cNvGrpSpPr/>
          <p:nvPr/>
        </p:nvGrpSpPr>
        <p:grpSpPr>
          <a:xfrm>
            <a:off x="1236600" y="3205080"/>
            <a:ext cx="1119240" cy="959040"/>
            <a:chOff x="1236600" y="3205080"/>
            <a:chExt cx="1119240" cy="959040"/>
          </a:xfrm>
        </p:grpSpPr>
        <p:grpSp>
          <p:nvGrpSpPr>
            <p:cNvPr id="2138" name=""/>
            <p:cNvGrpSpPr/>
            <p:nvPr/>
          </p:nvGrpSpPr>
          <p:grpSpPr>
            <a:xfrm>
              <a:off x="2225520" y="3205080"/>
              <a:ext cx="130320" cy="959040"/>
              <a:chOff x="2225520" y="3205080"/>
              <a:chExt cx="130320" cy="959040"/>
            </a:xfrm>
          </p:grpSpPr>
          <p:sp>
            <p:nvSpPr>
              <p:cNvPr id="2139" name=""/>
              <p:cNvSpPr/>
              <p:nvPr/>
            </p:nvSpPr>
            <p:spPr>
              <a:xfrm>
                <a:off x="2225520" y="32050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140" name=""/>
              <p:cNvSpPr/>
              <p:nvPr/>
            </p:nvSpPr>
            <p:spPr>
              <a:xfrm>
                <a:off x="2295360" y="327492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a:off x="2295360" y="361476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142" name=""/>
              <p:cNvSpPr/>
              <p:nvPr/>
            </p:nvSpPr>
            <p:spPr>
              <a:xfrm flipH="1">
                <a:off x="2295360" y="36752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143" name=""/>
              <p:cNvSpPr/>
              <p:nvPr/>
            </p:nvSpPr>
            <p:spPr>
              <a:xfrm>
                <a:off x="2295360" y="3735360"/>
                <a:ext cx="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flipH="1">
                <a:off x="2235240" y="410688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2145" name=""/>
            <p:cNvSpPr txBox="1"/>
            <p:nvPr/>
          </p:nvSpPr>
          <p:spPr>
            <a:xfrm>
              <a:off x="1236600" y="3298680"/>
              <a:ext cx="1009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147"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8" name=""/>
          <p:cNvSpPr/>
          <p:nvPr/>
        </p:nvSpPr>
        <p:spPr>
          <a:xfrm flipH="1">
            <a:off x="2741760" y="3016080"/>
            <a:ext cx="79992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149" name=""/>
          <p:cNvSpPr/>
          <p:nvPr/>
        </p:nvSpPr>
        <p:spPr>
          <a:xfrm flipH="1">
            <a:off x="2808360" y="4253040"/>
            <a:ext cx="73512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150" name=""/>
          <p:cNvSpPr/>
          <p:nvPr/>
        </p:nvSpPr>
        <p:spPr>
          <a:xfrm>
            <a:off x="2852640" y="3087720"/>
            <a:ext cx="28800" cy="36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p:nvPr/>
        </p:nvSpPr>
        <p:spPr>
          <a:xfrm>
            <a:off x="2892600" y="3916440"/>
            <a:ext cx="26640" cy="38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2" name=""/>
          <p:cNvSpPr/>
          <p:nvPr/>
        </p:nvSpPr>
        <p:spPr>
          <a:xfrm>
            <a:off x="6254640" y="2793960"/>
            <a:ext cx="21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4456080" y="3956040"/>
            <a:ext cx="390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a:off x="8255160" y="2795760"/>
            <a:ext cx="0" cy="331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5" name=""/>
          <p:cNvSpPr/>
          <p:nvPr/>
        </p:nvSpPr>
        <p:spPr>
          <a:xfrm flipV="1">
            <a:off x="8255160" y="3579840"/>
            <a:ext cx="0" cy="36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6" name=""/>
          <p:cNvSpPr txBox="1"/>
          <p:nvPr/>
        </p:nvSpPr>
        <p:spPr>
          <a:xfrm>
            <a:off x="8085240" y="3173400"/>
            <a:ext cx="311040" cy="396720"/>
          </a:xfrm>
          <a:prstGeom prst="rect">
            <a:avLst/>
          </a:prstGeom>
          <a:noFill/>
          <a:ln w="0">
            <a:noFill/>
          </a:ln>
        </p:spPr>
        <p:txBody>
          <a:bodyPr lIns="0" rIns="0" tIns="0" bIns="0" anchor="t">
            <a:noAutofit/>
          </a:bodyPr>
          <a:p>
            <a:pPr algn="ctr">
              <a:lnSpc>
                <a:spcPct val="100000"/>
              </a:lnSpc>
            </a:pPr>
            <a:r>
              <a:rPr b="1" lang="en-US" sz="2000" spc="-1" strike="noStrike">
                <a:solidFill>
                  <a:srgbClr val="fd0000"/>
                </a:solidFill>
                <a:latin typeface="Times New Roman"/>
                <a:ea typeface="Times New Roman"/>
              </a:rPr>
              <a:t>?</a:t>
            </a:r>
            <a:endParaRPr b="0" lang="en-US" sz="2000" spc="-1" strike="noStrike">
              <a:solidFill>
                <a:srgbClr val="000000"/>
              </a:solidFill>
              <a:latin typeface="Arial"/>
            </a:endParaRPr>
          </a:p>
        </p:txBody>
      </p:sp>
      <p:sp>
        <p:nvSpPr>
          <p:cNvPr id="2157" name=""/>
          <p:cNvSpPr/>
          <p:nvPr/>
        </p:nvSpPr>
        <p:spPr>
          <a:xfrm>
            <a:off x="6173640" y="3803760"/>
            <a:ext cx="114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8" name=""/>
          <p:cNvSpPr/>
          <p:nvPr/>
        </p:nvSpPr>
        <p:spPr>
          <a:xfrm>
            <a:off x="6254640" y="279396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9" name=""/>
          <p:cNvSpPr/>
          <p:nvPr/>
        </p:nvSpPr>
        <p:spPr>
          <a:xfrm>
            <a:off x="7223040" y="279396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0" name=""/>
          <p:cNvSpPr/>
          <p:nvPr/>
        </p:nvSpPr>
        <p:spPr>
          <a:xfrm>
            <a:off x="7223040" y="3349800"/>
            <a:ext cx="0" cy="446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1" name=""/>
          <p:cNvSpPr txBox="1"/>
          <p:nvPr/>
        </p:nvSpPr>
        <p:spPr>
          <a:xfrm>
            <a:off x="7059600" y="3075120"/>
            <a:ext cx="293760" cy="274680"/>
          </a:xfrm>
          <a:prstGeom prst="rect">
            <a:avLst/>
          </a:prstGeom>
          <a:noFill/>
          <a:ln w="0">
            <a:noFill/>
          </a:ln>
        </p:spPr>
        <p:txBody>
          <a:bodyPr lIns="0" rIns="0" tIns="0" bIns="0" anchor="t">
            <a:noAutofit/>
          </a:bodyPr>
          <a:p>
            <a:pPr algn="ctr">
              <a:lnSpc>
                <a:spcPct val="100000"/>
              </a:lnSpc>
            </a:pPr>
            <a:r>
              <a:rPr b="0" lang="en-US" sz="1200" spc="-1" strike="noStrike">
                <a:solidFill>
                  <a:srgbClr val="ffffff"/>
                </a:solidFill>
                <a:latin typeface="Times New Roman"/>
                <a:ea typeface="Times New Roman"/>
              </a:rPr>
              <a:t>X</a:t>
            </a:r>
            <a:endParaRPr b="0" lang="en-US" sz="1200" spc="-1" strike="noStrike">
              <a:solidFill>
                <a:srgbClr val="000000"/>
              </a:solidFill>
              <a:latin typeface="Arial"/>
            </a:endParaRPr>
          </a:p>
        </p:txBody>
      </p:sp>
      <p:sp>
        <p:nvSpPr>
          <p:cNvPr id="2162" name=""/>
          <p:cNvSpPr txBox="1"/>
          <p:nvPr/>
        </p:nvSpPr>
        <p:spPr>
          <a:xfrm>
            <a:off x="2395440" y="35352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0 - 30.4</a:t>
            </a:r>
            <a:endParaRPr b="0" lang="en-US" sz="1600" spc="-1" strike="noStrike">
              <a:solidFill>
                <a:srgbClr val="000000"/>
              </a:solidFill>
              <a:latin typeface="Arial"/>
            </a:endParaRPr>
          </a:p>
        </p:txBody>
      </p:sp>
      <p:sp>
        <p:nvSpPr>
          <p:cNvPr id="2163" name=""/>
          <p:cNvSpPr txBox="1"/>
          <p:nvPr/>
        </p:nvSpPr>
        <p:spPr>
          <a:xfrm>
            <a:off x="6769080" y="1465200"/>
            <a:ext cx="1778040" cy="701640"/>
          </a:xfrm>
          <a:prstGeom prst="rect">
            <a:avLst/>
          </a:prstGeom>
          <a:noFill/>
          <a:ln w="0">
            <a:noFill/>
          </a:ln>
        </p:spPr>
        <p:txBody>
          <a:bodyPr lIns="0" rIns="0" tIns="0" bIns="0" anchor="t">
            <a:noAutofit/>
          </a:bodyPr>
          <a:p>
            <a:pPr>
              <a:lnSpc>
                <a:spcPct val="100000"/>
              </a:lnSpc>
            </a:pPr>
            <a:r>
              <a:rPr b="1" lang="en-US" sz="2000" spc="-1" strike="noStrike" u="sng">
                <a:solidFill>
                  <a:srgbClr val="ffffff"/>
                </a:solidFill>
                <a:uFillTx/>
                <a:latin typeface="Times New Roman"/>
                <a:ea typeface="Times New Roman"/>
              </a:rPr>
              <a:t>Hole Location</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from Datum C</a:t>
            </a:r>
            <a:endParaRPr b="0" lang="en-US" sz="2000" spc="-1" strike="noStrike">
              <a:solidFill>
                <a:srgbClr val="000000"/>
              </a:solidFill>
              <a:latin typeface="Arial"/>
            </a:endParaRPr>
          </a:p>
        </p:txBody>
      </p:sp>
      <p:grpSp>
        <p:nvGrpSpPr>
          <p:cNvPr id="2164" name=""/>
          <p:cNvGrpSpPr/>
          <p:nvPr/>
        </p:nvGrpSpPr>
        <p:grpSpPr>
          <a:xfrm>
            <a:off x="3637080" y="2798640"/>
            <a:ext cx="2523960" cy="1465560"/>
            <a:chOff x="3637080" y="2798640"/>
            <a:chExt cx="2523960" cy="1465560"/>
          </a:xfrm>
        </p:grpSpPr>
        <p:grpSp>
          <p:nvGrpSpPr>
            <p:cNvPr id="2165" name=""/>
            <p:cNvGrpSpPr/>
            <p:nvPr/>
          </p:nvGrpSpPr>
          <p:grpSpPr>
            <a:xfrm>
              <a:off x="3794040" y="3713040"/>
              <a:ext cx="523800" cy="524160"/>
              <a:chOff x="3794040" y="3713040"/>
              <a:chExt cx="523800" cy="524160"/>
            </a:xfrm>
          </p:grpSpPr>
          <p:grpSp>
            <p:nvGrpSpPr>
              <p:cNvPr id="2166" name=""/>
              <p:cNvGrpSpPr/>
              <p:nvPr/>
            </p:nvGrpSpPr>
            <p:grpSpPr>
              <a:xfrm>
                <a:off x="3794040" y="3949560"/>
                <a:ext cx="523800" cy="0"/>
                <a:chOff x="3794040" y="3949560"/>
                <a:chExt cx="523800" cy="0"/>
              </a:xfrm>
            </p:grpSpPr>
            <p:sp>
              <p:nvSpPr>
                <p:cNvPr id="2167" name=""/>
                <p:cNvSpPr/>
                <p:nvPr/>
              </p:nvSpPr>
              <p:spPr>
                <a:xfrm>
                  <a:off x="3794040" y="3949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8" name=""/>
                <p:cNvSpPr/>
                <p:nvPr/>
              </p:nvSpPr>
              <p:spPr>
                <a:xfrm>
                  <a:off x="4000680" y="3949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9" name=""/>
                <p:cNvSpPr/>
                <p:nvPr/>
              </p:nvSpPr>
              <p:spPr>
                <a:xfrm>
                  <a:off x="4143240" y="3949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70" name=""/>
              <p:cNvSpPr/>
              <p:nvPr/>
            </p:nvSpPr>
            <p:spPr>
              <a:xfrm>
                <a:off x="3881520" y="37987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71" name=""/>
              <p:cNvGrpSpPr/>
              <p:nvPr/>
            </p:nvGrpSpPr>
            <p:grpSpPr>
              <a:xfrm>
                <a:off x="4033800" y="3713040"/>
                <a:ext cx="0" cy="524160"/>
                <a:chOff x="4033800" y="3713040"/>
                <a:chExt cx="0" cy="524160"/>
              </a:xfrm>
            </p:grpSpPr>
            <p:sp>
              <p:nvSpPr>
                <p:cNvPr id="2172" name=""/>
                <p:cNvSpPr/>
                <p:nvPr/>
              </p:nvSpPr>
              <p:spPr>
                <a:xfrm>
                  <a:off x="4033800" y="3713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3" name=""/>
                <p:cNvSpPr/>
                <p:nvPr/>
              </p:nvSpPr>
              <p:spPr>
                <a:xfrm>
                  <a:off x="4033800" y="3919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174" name=""/>
                <p:cNvSpPr/>
                <p:nvPr/>
              </p:nvSpPr>
              <p:spPr>
                <a:xfrm>
                  <a:off x="4033800" y="406224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175" name=""/>
            <p:cNvGrpSpPr/>
            <p:nvPr/>
          </p:nvGrpSpPr>
          <p:grpSpPr>
            <a:xfrm>
              <a:off x="5532480" y="3564000"/>
              <a:ext cx="628560" cy="523800"/>
              <a:chOff x="5532480" y="3564000"/>
              <a:chExt cx="628560" cy="523800"/>
            </a:xfrm>
          </p:grpSpPr>
          <p:sp>
            <p:nvSpPr>
              <p:cNvPr id="2176" name=""/>
              <p:cNvSpPr/>
              <p:nvPr/>
            </p:nvSpPr>
            <p:spPr>
              <a:xfrm>
                <a:off x="5656320" y="365436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7" name=""/>
              <p:cNvSpPr/>
              <p:nvPr/>
            </p:nvSpPr>
            <p:spPr>
              <a:xfrm>
                <a:off x="5532480" y="38005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8" name=""/>
              <p:cNvSpPr/>
              <p:nvPr/>
            </p:nvSpPr>
            <p:spPr>
              <a:xfrm>
                <a:off x="5897520" y="380052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9" name=""/>
              <p:cNvSpPr/>
              <p:nvPr/>
            </p:nvSpPr>
            <p:spPr>
              <a:xfrm>
                <a:off x="5770440" y="38005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80" name=""/>
              <p:cNvGrpSpPr/>
              <p:nvPr/>
            </p:nvGrpSpPr>
            <p:grpSpPr>
              <a:xfrm>
                <a:off x="5803920" y="3564000"/>
                <a:ext cx="0" cy="523800"/>
                <a:chOff x="5803920" y="3564000"/>
                <a:chExt cx="0" cy="523800"/>
              </a:xfrm>
            </p:grpSpPr>
            <p:sp>
              <p:nvSpPr>
                <p:cNvPr id="2181" name=""/>
                <p:cNvSpPr/>
                <p:nvPr/>
              </p:nvSpPr>
              <p:spPr>
                <a:xfrm>
                  <a:off x="5803920" y="35640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a:off x="5803920" y="37702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183" name=""/>
                <p:cNvSpPr/>
                <p:nvPr/>
              </p:nvSpPr>
              <p:spPr>
                <a:xfrm>
                  <a:off x="5803920" y="39132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184" name=""/>
            <p:cNvSpPr/>
            <p:nvPr/>
          </p:nvSpPr>
          <p:spPr>
            <a:xfrm>
              <a:off x="3637080" y="279864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185" name=""/>
          <p:cNvSpPr/>
          <p:nvPr/>
        </p:nvSpPr>
        <p:spPr>
          <a:xfrm>
            <a:off x="8248680" y="3962520"/>
            <a:ext cx="0" cy="9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6" name=""/>
          <p:cNvSpPr/>
          <p:nvPr/>
        </p:nvSpPr>
        <p:spPr>
          <a:xfrm flipH="1">
            <a:off x="8086680" y="48960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7" name=""/>
          <p:cNvSpPr txBox="1"/>
          <p:nvPr/>
        </p:nvSpPr>
        <p:spPr>
          <a:xfrm>
            <a:off x="5672160" y="4713120"/>
            <a:ext cx="24703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00"/>
                </a:solidFill>
                <a:latin typeface="Times New Roman"/>
                <a:ea typeface="Times New Roman"/>
              </a:rPr>
              <a:t>Beyond tolerance limits?</a:t>
            </a:r>
            <a:endParaRPr b="0" lang="en-US" sz="1800" spc="-1" strike="noStrike">
              <a:solidFill>
                <a:srgbClr val="000000"/>
              </a:solidFill>
              <a:latin typeface="Arial"/>
            </a:endParaRPr>
          </a:p>
        </p:txBody>
      </p:sp>
      <p:grpSp>
        <p:nvGrpSpPr>
          <p:cNvPr id="2188" name=""/>
          <p:cNvGrpSpPr/>
          <p:nvPr/>
        </p:nvGrpSpPr>
        <p:grpSpPr>
          <a:xfrm>
            <a:off x="560520" y="447840"/>
            <a:ext cx="3624120" cy="1190520"/>
            <a:chOff x="560520" y="447840"/>
            <a:chExt cx="3624120" cy="1190520"/>
          </a:xfrm>
        </p:grpSpPr>
        <p:sp>
          <p:nvSpPr>
            <p:cNvPr id="2189"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190"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2191" name=""/>
          <p:cNvGrpSpPr/>
          <p:nvPr/>
        </p:nvGrpSpPr>
        <p:grpSpPr>
          <a:xfrm>
            <a:off x="1236600" y="3205080"/>
            <a:ext cx="1119240" cy="959040"/>
            <a:chOff x="1236600" y="3205080"/>
            <a:chExt cx="1119240" cy="959040"/>
          </a:xfrm>
        </p:grpSpPr>
        <p:grpSp>
          <p:nvGrpSpPr>
            <p:cNvPr id="2192" name=""/>
            <p:cNvGrpSpPr/>
            <p:nvPr/>
          </p:nvGrpSpPr>
          <p:grpSpPr>
            <a:xfrm>
              <a:off x="2225520" y="3205080"/>
              <a:ext cx="130320" cy="959040"/>
              <a:chOff x="2225520" y="3205080"/>
              <a:chExt cx="130320" cy="959040"/>
            </a:xfrm>
          </p:grpSpPr>
          <p:sp>
            <p:nvSpPr>
              <p:cNvPr id="2193" name=""/>
              <p:cNvSpPr/>
              <p:nvPr/>
            </p:nvSpPr>
            <p:spPr>
              <a:xfrm>
                <a:off x="2225520" y="32050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194" name=""/>
              <p:cNvSpPr/>
              <p:nvPr/>
            </p:nvSpPr>
            <p:spPr>
              <a:xfrm>
                <a:off x="2295360" y="327492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5" name=""/>
              <p:cNvSpPr/>
              <p:nvPr/>
            </p:nvSpPr>
            <p:spPr>
              <a:xfrm>
                <a:off x="2295360" y="361476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196" name=""/>
              <p:cNvSpPr/>
              <p:nvPr/>
            </p:nvSpPr>
            <p:spPr>
              <a:xfrm flipH="1">
                <a:off x="2295360" y="36752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197" name=""/>
              <p:cNvSpPr/>
              <p:nvPr/>
            </p:nvSpPr>
            <p:spPr>
              <a:xfrm>
                <a:off x="2295360" y="3735360"/>
                <a:ext cx="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flipH="1">
                <a:off x="2235240" y="410688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2199" name=""/>
            <p:cNvSpPr txBox="1"/>
            <p:nvPr/>
          </p:nvSpPr>
          <p:spPr>
            <a:xfrm>
              <a:off x="1236600" y="3298680"/>
              <a:ext cx="1009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0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01"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2" name=""/>
          <p:cNvSpPr/>
          <p:nvPr/>
        </p:nvSpPr>
        <p:spPr>
          <a:xfrm flipH="1">
            <a:off x="2741760" y="3016080"/>
            <a:ext cx="79992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203" name=""/>
          <p:cNvSpPr/>
          <p:nvPr/>
        </p:nvSpPr>
        <p:spPr>
          <a:xfrm flipH="1">
            <a:off x="2808360" y="4253040"/>
            <a:ext cx="73512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204" name=""/>
          <p:cNvSpPr/>
          <p:nvPr/>
        </p:nvSpPr>
        <p:spPr>
          <a:xfrm>
            <a:off x="2852640" y="3087720"/>
            <a:ext cx="28800" cy="36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5" name=""/>
          <p:cNvSpPr/>
          <p:nvPr/>
        </p:nvSpPr>
        <p:spPr>
          <a:xfrm>
            <a:off x="2892600" y="3916440"/>
            <a:ext cx="26640" cy="38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6" name=""/>
          <p:cNvSpPr/>
          <p:nvPr/>
        </p:nvSpPr>
        <p:spPr>
          <a:xfrm>
            <a:off x="6254640" y="2793960"/>
            <a:ext cx="211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7" name=""/>
          <p:cNvSpPr/>
          <p:nvPr/>
        </p:nvSpPr>
        <p:spPr>
          <a:xfrm>
            <a:off x="4456080" y="3956040"/>
            <a:ext cx="390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8" name=""/>
          <p:cNvSpPr/>
          <p:nvPr/>
        </p:nvSpPr>
        <p:spPr>
          <a:xfrm>
            <a:off x="8255160" y="2795760"/>
            <a:ext cx="0" cy="331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9" name=""/>
          <p:cNvSpPr/>
          <p:nvPr/>
        </p:nvSpPr>
        <p:spPr>
          <a:xfrm flipV="1">
            <a:off x="8255160" y="3579840"/>
            <a:ext cx="0" cy="368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0" name=""/>
          <p:cNvSpPr txBox="1"/>
          <p:nvPr/>
        </p:nvSpPr>
        <p:spPr>
          <a:xfrm>
            <a:off x="8085240" y="3173400"/>
            <a:ext cx="311040" cy="396720"/>
          </a:xfrm>
          <a:prstGeom prst="rect">
            <a:avLst/>
          </a:prstGeom>
          <a:noFill/>
          <a:ln w="0">
            <a:noFill/>
          </a:ln>
        </p:spPr>
        <p:txBody>
          <a:bodyPr lIns="0" rIns="0" tIns="0" bIns="0" anchor="t">
            <a:noAutofit/>
          </a:bodyPr>
          <a:p>
            <a:pPr algn="ctr">
              <a:lnSpc>
                <a:spcPct val="100000"/>
              </a:lnSpc>
            </a:pPr>
            <a:r>
              <a:rPr b="1" lang="en-US" sz="2000" spc="-1" strike="noStrike">
                <a:solidFill>
                  <a:srgbClr val="fd0000"/>
                </a:solidFill>
                <a:latin typeface="Times New Roman"/>
                <a:ea typeface="Times New Roman"/>
              </a:rPr>
              <a:t>?</a:t>
            </a:r>
            <a:endParaRPr b="0" lang="en-US" sz="2000" spc="-1" strike="noStrike">
              <a:solidFill>
                <a:srgbClr val="000000"/>
              </a:solidFill>
              <a:latin typeface="Arial"/>
            </a:endParaRPr>
          </a:p>
        </p:txBody>
      </p:sp>
      <p:sp>
        <p:nvSpPr>
          <p:cNvPr id="2211" name=""/>
          <p:cNvSpPr/>
          <p:nvPr/>
        </p:nvSpPr>
        <p:spPr>
          <a:xfrm>
            <a:off x="6173640" y="3803760"/>
            <a:ext cx="114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2" name=""/>
          <p:cNvSpPr/>
          <p:nvPr/>
        </p:nvSpPr>
        <p:spPr>
          <a:xfrm>
            <a:off x="6254640" y="279396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3" name=""/>
          <p:cNvSpPr/>
          <p:nvPr/>
        </p:nvSpPr>
        <p:spPr>
          <a:xfrm>
            <a:off x="7223040" y="279396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4" name=""/>
          <p:cNvSpPr/>
          <p:nvPr/>
        </p:nvSpPr>
        <p:spPr>
          <a:xfrm>
            <a:off x="7223040" y="3349800"/>
            <a:ext cx="0" cy="446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5" name=""/>
          <p:cNvSpPr txBox="1"/>
          <p:nvPr/>
        </p:nvSpPr>
        <p:spPr>
          <a:xfrm>
            <a:off x="7059600" y="3075120"/>
            <a:ext cx="293760" cy="274680"/>
          </a:xfrm>
          <a:prstGeom prst="rect">
            <a:avLst/>
          </a:prstGeom>
          <a:noFill/>
          <a:ln w="0">
            <a:noFill/>
          </a:ln>
        </p:spPr>
        <p:txBody>
          <a:bodyPr lIns="0" rIns="0" tIns="0" bIns="0" anchor="t">
            <a:noAutofit/>
          </a:bodyPr>
          <a:p>
            <a:pPr algn="ctr">
              <a:lnSpc>
                <a:spcPct val="100000"/>
              </a:lnSpc>
            </a:pPr>
            <a:r>
              <a:rPr b="0" lang="en-US" sz="1200" spc="-1" strike="noStrike">
                <a:solidFill>
                  <a:srgbClr val="ffffff"/>
                </a:solidFill>
                <a:latin typeface="Times New Roman"/>
                <a:ea typeface="Times New Roman"/>
              </a:rPr>
              <a:t>X</a:t>
            </a:r>
            <a:endParaRPr b="0" lang="en-US" sz="1200" spc="-1" strike="noStrike">
              <a:solidFill>
                <a:srgbClr val="000000"/>
              </a:solidFill>
              <a:latin typeface="Arial"/>
            </a:endParaRPr>
          </a:p>
        </p:txBody>
      </p:sp>
      <p:sp>
        <p:nvSpPr>
          <p:cNvPr id="2216" name=""/>
          <p:cNvSpPr txBox="1"/>
          <p:nvPr/>
        </p:nvSpPr>
        <p:spPr>
          <a:xfrm>
            <a:off x="2395440" y="35352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0 - 30.4</a:t>
            </a:r>
            <a:endParaRPr b="0" lang="en-US" sz="1600" spc="-1" strike="noStrike">
              <a:solidFill>
                <a:srgbClr val="000000"/>
              </a:solidFill>
              <a:latin typeface="Arial"/>
            </a:endParaRPr>
          </a:p>
        </p:txBody>
      </p:sp>
      <p:grpSp>
        <p:nvGrpSpPr>
          <p:cNvPr id="2217" name=""/>
          <p:cNvGrpSpPr/>
          <p:nvPr/>
        </p:nvGrpSpPr>
        <p:grpSpPr>
          <a:xfrm>
            <a:off x="3794040" y="3713040"/>
            <a:ext cx="523800" cy="524160"/>
            <a:chOff x="3794040" y="3713040"/>
            <a:chExt cx="523800" cy="524160"/>
          </a:xfrm>
        </p:grpSpPr>
        <p:grpSp>
          <p:nvGrpSpPr>
            <p:cNvPr id="2218" name=""/>
            <p:cNvGrpSpPr/>
            <p:nvPr/>
          </p:nvGrpSpPr>
          <p:grpSpPr>
            <a:xfrm>
              <a:off x="3794040" y="3949560"/>
              <a:ext cx="523800" cy="0"/>
              <a:chOff x="3794040" y="3949560"/>
              <a:chExt cx="523800" cy="0"/>
            </a:xfrm>
          </p:grpSpPr>
          <p:sp>
            <p:nvSpPr>
              <p:cNvPr id="2219" name=""/>
              <p:cNvSpPr/>
              <p:nvPr/>
            </p:nvSpPr>
            <p:spPr>
              <a:xfrm>
                <a:off x="3794040" y="3949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0" name=""/>
              <p:cNvSpPr/>
              <p:nvPr/>
            </p:nvSpPr>
            <p:spPr>
              <a:xfrm>
                <a:off x="4000680" y="3949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1" name=""/>
              <p:cNvSpPr/>
              <p:nvPr/>
            </p:nvSpPr>
            <p:spPr>
              <a:xfrm>
                <a:off x="4143240" y="3949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22" name=""/>
            <p:cNvSpPr/>
            <p:nvPr/>
          </p:nvSpPr>
          <p:spPr>
            <a:xfrm>
              <a:off x="3881520" y="37987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23" name=""/>
            <p:cNvGrpSpPr/>
            <p:nvPr/>
          </p:nvGrpSpPr>
          <p:grpSpPr>
            <a:xfrm>
              <a:off x="4033800" y="3713040"/>
              <a:ext cx="0" cy="524160"/>
              <a:chOff x="4033800" y="3713040"/>
              <a:chExt cx="0" cy="524160"/>
            </a:xfrm>
          </p:grpSpPr>
          <p:sp>
            <p:nvSpPr>
              <p:cNvPr id="2224" name=""/>
              <p:cNvSpPr/>
              <p:nvPr/>
            </p:nvSpPr>
            <p:spPr>
              <a:xfrm>
                <a:off x="4033800" y="3713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5" name=""/>
              <p:cNvSpPr/>
              <p:nvPr/>
            </p:nvSpPr>
            <p:spPr>
              <a:xfrm>
                <a:off x="4033800" y="3919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226" name=""/>
              <p:cNvSpPr/>
              <p:nvPr/>
            </p:nvSpPr>
            <p:spPr>
              <a:xfrm>
                <a:off x="4033800" y="4062240"/>
                <a:ext cx="0" cy="17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227" name=""/>
          <p:cNvGrpSpPr/>
          <p:nvPr/>
        </p:nvGrpSpPr>
        <p:grpSpPr>
          <a:xfrm>
            <a:off x="5532480" y="3564000"/>
            <a:ext cx="628560" cy="523800"/>
            <a:chOff x="5532480" y="3564000"/>
            <a:chExt cx="628560" cy="523800"/>
          </a:xfrm>
        </p:grpSpPr>
        <p:sp>
          <p:nvSpPr>
            <p:cNvPr id="2228" name=""/>
            <p:cNvSpPr/>
            <p:nvPr/>
          </p:nvSpPr>
          <p:spPr>
            <a:xfrm>
              <a:off x="5656320" y="365436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5532480" y="380052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0" name=""/>
            <p:cNvSpPr/>
            <p:nvPr/>
          </p:nvSpPr>
          <p:spPr>
            <a:xfrm>
              <a:off x="5897520" y="380052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5770440" y="380052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32" name=""/>
            <p:cNvGrpSpPr/>
            <p:nvPr/>
          </p:nvGrpSpPr>
          <p:grpSpPr>
            <a:xfrm>
              <a:off x="5803920" y="3564000"/>
              <a:ext cx="0" cy="523800"/>
              <a:chOff x="5803920" y="3564000"/>
              <a:chExt cx="0" cy="523800"/>
            </a:xfrm>
          </p:grpSpPr>
          <p:sp>
            <p:nvSpPr>
              <p:cNvPr id="2233" name=""/>
              <p:cNvSpPr/>
              <p:nvPr/>
            </p:nvSpPr>
            <p:spPr>
              <a:xfrm>
                <a:off x="5803920" y="356400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p:nvPr/>
            </p:nvSpPr>
            <p:spPr>
              <a:xfrm>
                <a:off x="5803920" y="37702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235" name=""/>
              <p:cNvSpPr/>
              <p:nvPr/>
            </p:nvSpPr>
            <p:spPr>
              <a:xfrm>
                <a:off x="5803920" y="39132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236" name=""/>
          <p:cNvSpPr/>
          <p:nvPr/>
        </p:nvSpPr>
        <p:spPr>
          <a:xfrm>
            <a:off x="3637080" y="279864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a:off x="8248680" y="3962520"/>
            <a:ext cx="0" cy="93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8" name=""/>
          <p:cNvSpPr/>
          <p:nvPr/>
        </p:nvSpPr>
        <p:spPr>
          <a:xfrm flipH="1">
            <a:off x="8086680" y="48960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txBox="1"/>
          <p:nvPr/>
        </p:nvSpPr>
        <p:spPr>
          <a:xfrm>
            <a:off x="5672160" y="4713120"/>
            <a:ext cx="24703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00"/>
                </a:solidFill>
                <a:latin typeface="Times New Roman"/>
                <a:ea typeface="Times New Roman"/>
              </a:rPr>
              <a:t>Beyond tolerance limits?</a:t>
            </a:r>
            <a:endParaRPr b="0" lang="en-US" sz="1800" spc="-1" strike="noStrike">
              <a:solidFill>
                <a:srgbClr val="000000"/>
              </a:solidFill>
              <a:latin typeface="Arial"/>
            </a:endParaRPr>
          </a:p>
        </p:txBody>
      </p:sp>
      <p:grpSp>
        <p:nvGrpSpPr>
          <p:cNvPr id="2240" name=""/>
          <p:cNvGrpSpPr/>
          <p:nvPr/>
        </p:nvGrpSpPr>
        <p:grpSpPr>
          <a:xfrm>
            <a:off x="5538960" y="541440"/>
            <a:ext cx="2147760" cy="1481040"/>
            <a:chOff x="5538960" y="541440"/>
            <a:chExt cx="2147760" cy="1481040"/>
          </a:xfrm>
        </p:grpSpPr>
        <p:sp>
          <p:nvSpPr>
            <p:cNvPr id="2241" name=""/>
            <p:cNvSpPr/>
            <p:nvPr/>
          </p:nvSpPr>
          <p:spPr>
            <a:xfrm>
              <a:off x="5538960" y="541440"/>
              <a:ext cx="2147760" cy="148104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42" name=""/>
            <p:cNvSpPr txBox="1"/>
            <p:nvPr/>
          </p:nvSpPr>
          <p:spPr>
            <a:xfrm>
              <a:off x="5870520" y="825480"/>
              <a:ext cx="1487520" cy="824040"/>
            </a:xfrm>
            <a:prstGeom prst="rect">
              <a:avLst/>
            </a:prstGeom>
            <a:noFill/>
            <a:ln w="0">
              <a:noFill/>
            </a:ln>
          </p:spPr>
          <p:txBody>
            <a:bodyPr lIns="0" rIns="0" tIns="0" bIns="0" anchor="t">
              <a:noAutofit/>
            </a:bodyPr>
            <a:p>
              <a:pPr>
                <a:lnSpc>
                  <a:spcPct val="100000"/>
                </a:lnSpc>
              </a:pPr>
              <a:r>
                <a:rPr b="0" lang="en-US" sz="4800" spc="-1" strike="noStrike" u="sng">
                  <a:solidFill>
                    <a:srgbClr val="ffff00"/>
                  </a:solidFill>
                  <a:uFillTx/>
                  <a:latin typeface="Times New Roman"/>
                  <a:ea typeface="Times New Roman"/>
                </a:rPr>
                <a:t>OR...</a:t>
              </a:r>
              <a:endParaRPr b="0" lang="en-US" sz="4800" spc="-1" strike="noStrike">
                <a:solidFill>
                  <a:srgbClr val="000000"/>
                </a:solidFill>
                <a:latin typeface="Arial"/>
              </a:endParaRPr>
            </a:p>
          </p:txBody>
        </p:sp>
      </p:grpSp>
      <p:grpSp>
        <p:nvGrpSpPr>
          <p:cNvPr id="2243" name=""/>
          <p:cNvGrpSpPr/>
          <p:nvPr/>
        </p:nvGrpSpPr>
        <p:grpSpPr>
          <a:xfrm>
            <a:off x="560520" y="447840"/>
            <a:ext cx="3624120" cy="1190520"/>
            <a:chOff x="560520" y="447840"/>
            <a:chExt cx="3624120" cy="1190520"/>
          </a:xfrm>
        </p:grpSpPr>
        <p:sp>
          <p:nvSpPr>
            <p:cNvPr id="2244"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245"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2246" name=""/>
          <p:cNvGrpSpPr/>
          <p:nvPr/>
        </p:nvGrpSpPr>
        <p:grpSpPr>
          <a:xfrm>
            <a:off x="1236600" y="3205080"/>
            <a:ext cx="1119240" cy="959040"/>
            <a:chOff x="1236600" y="3205080"/>
            <a:chExt cx="1119240" cy="959040"/>
          </a:xfrm>
        </p:grpSpPr>
        <p:grpSp>
          <p:nvGrpSpPr>
            <p:cNvPr id="2247" name=""/>
            <p:cNvGrpSpPr/>
            <p:nvPr/>
          </p:nvGrpSpPr>
          <p:grpSpPr>
            <a:xfrm>
              <a:off x="2225520" y="3205080"/>
              <a:ext cx="130320" cy="959040"/>
              <a:chOff x="2225520" y="3205080"/>
              <a:chExt cx="130320" cy="959040"/>
            </a:xfrm>
          </p:grpSpPr>
          <p:sp>
            <p:nvSpPr>
              <p:cNvPr id="2248" name=""/>
              <p:cNvSpPr/>
              <p:nvPr/>
            </p:nvSpPr>
            <p:spPr>
              <a:xfrm>
                <a:off x="2225520" y="32050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249" name=""/>
              <p:cNvSpPr/>
              <p:nvPr/>
            </p:nvSpPr>
            <p:spPr>
              <a:xfrm>
                <a:off x="2295360" y="327492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a:off x="2295360" y="361476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251" name=""/>
              <p:cNvSpPr/>
              <p:nvPr/>
            </p:nvSpPr>
            <p:spPr>
              <a:xfrm flipH="1">
                <a:off x="2295360" y="36752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252" name=""/>
              <p:cNvSpPr/>
              <p:nvPr/>
            </p:nvSpPr>
            <p:spPr>
              <a:xfrm>
                <a:off x="2295360" y="3735360"/>
                <a:ext cx="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3" name=""/>
              <p:cNvSpPr/>
              <p:nvPr/>
            </p:nvSpPr>
            <p:spPr>
              <a:xfrm flipH="1">
                <a:off x="2235240" y="410688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2254" name=""/>
            <p:cNvSpPr txBox="1"/>
            <p:nvPr/>
          </p:nvSpPr>
          <p:spPr>
            <a:xfrm>
              <a:off x="1236600" y="3298680"/>
              <a:ext cx="1009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8" name=""/>
          <p:cNvSpPr/>
          <p:nvPr/>
        </p:nvSpPr>
        <p:spPr>
          <a:xfrm>
            <a:off x="5613480" y="6408720"/>
            <a:ext cx="2657520" cy="436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txBox="1"/>
          <p:nvPr/>
        </p:nvSpPr>
        <p:spPr>
          <a:xfrm>
            <a:off x="685800" y="388800"/>
            <a:ext cx="7772400" cy="357120"/>
          </a:xfrm>
          <a:prstGeom prst="rect">
            <a:avLst/>
          </a:prstGeom>
          <a:noFill/>
          <a:ln w="0">
            <a:noFill/>
          </a:ln>
        </p:spPr>
        <p:txBody>
          <a:bodyPr lIns="0" rIns="0" tIns="0" bIns="0" anchor="t">
            <a:noAutofit/>
          </a:bodyPr>
          <a:p>
            <a:pPr algn="ctr">
              <a:lnSpc>
                <a:spcPct val="100000"/>
              </a:lnSpc>
            </a:pPr>
            <a:r>
              <a:rPr b="0" lang="en-US" sz="2400" spc="-1" strike="noStrike" u="sng">
                <a:solidFill>
                  <a:srgbClr val="ffff00"/>
                </a:solidFill>
                <a:uFillTx/>
                <a:latin typeface="Times New Roman"/>
                <a:ea typeface="Times New Roman"/>
              </a:rPr>
              <a:t>Table of Contents</a:t>
            </a:r>
            <a:endParaRPr b="0" lang="en-US" sz="2400" spc="-1" strike="noStrike">
              <a:solidFill>
                <a:srgbClr val="000000"/>
              </a:solidFill>
              <a:latin typeface="Arial"/>
            </a:endParaRPr>
          </a:p>
        </p:txBody>
      </p:sp>
      <p:sp>
        <p:nvSpPr>
          <p:cNvPr id="610" name=""/>
          <p:cNvSpPr txBox="1"/>
          <p:nvPr/>
        </p:nvSpPr>
        <p:spPr>
          <a:xfrm>
            <a:off x="685800" y="1073160"/>
            <a:ext cx="7772400" cy="5168880"/>
          </a:xfrm>
          <a:prstGeom prst="rect">
            <a:avLst/>
          </a:prstGeom>
          <a:noFill/>
          <a:ln w="0">
            <a:noFill/>
          </a:ln>
        </p:spPr>
        <p:txBody>
          <a:bodyPr lIns="0" rIns="0" tIns="0" bIns="0" anchor="t">
            <a:noAutofit/>
          </a:bodyPr>
          <a:p>
            <a:pPr>
              <a:lnSpc>
                <a:spcPct val="100000"/>
              </a:lnSpc>
              <a:spcBef>
                <a:spcPts val="479"/>
              </a:spcBef>
            </a:pPr>
            <a:r>
              <a:rPr b="0" lang="en-US" sz="1400" spc="-1" strike="noStrike">
                <a:solidFill>
                  <a:srgbClr val="ffffff"/>
                </a:solidFill>
                <a:latin typeface="Times New Roman"/>
                <a:ea typeface="Times New Roman"/>
              </a:rPr>
              <a:t>Datum Precedence</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7</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The 3-2-1 Rule</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9</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Implied Datum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22</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Specified Datum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49</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Interrelated Datum Reference Frame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65</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Temporary and Permanent Datum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72</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Primary Internal Datum Width (RF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74</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Primary External Datum Width (RF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79</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Primary External Datum Diameter (RF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83</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Primary Internal Datum Diameter (RF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90</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Cylindrical Datum Features (Primary--RF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98</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Secondary and Tertiary Datum Features (RF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14</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Secondary and Tertiary Datum Features (MMC)</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22</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Secondary and Tertiary Datum Features (LMC)</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30</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Datum Precedence and Material Condition</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38</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Multiple Datum Features -- Codatum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67</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Single Datum Axis From Two Datum Feature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73</a:t>
            </a:r>
            <a:endParaRPr b="0" lang="en-US" sz="1400" spc="-1" strike="noStrike">
              <a:solidFill>
                <a:srgbClr val="000000"/>
              </a:solidFill>
              <a:latin typeface="Arial"/>
            </a:endParaRPr>
          </a:p>
          <a:p>
            <a:pPr>
              <a:lnSpc>
                <a:spcPct val="100000"/>
              </a:lnSpc>
              <a:spcBef>
                <a:spcPts val="479"/>
              </a:spcBef>
            </a:pPr>
            <a:r>
              <a:rPr b="0" lang="en-US" sz="1400" spc="-1" strike="noStrike">
                <a:solidFill>
                  <a:srgbClr val="ffffff"/>
                </a:solidFill>
                <a:latin typeface="Times New Roman"/>
                <a:ea typeface="Times New Roman"/>
              </a:rPr>
              <a:t>Partial Surface Datum Features</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	</a:t>
            </a:r>
            <a:r>
              <a:rPr b="0" lang="en-US" sz="1400" spc="-1" strike="noStrike">
                <a:solidFill>
                  <a:srgbClr val="ffffff"/>
                </a:solidFill>
                <a:latin typeface="Times New Roman"/>
                <a:ea typeface="Times New Roman"/>
              </a:rPr>
              <a:t>180</a:t>
            </a:r>
            <a:endParaRPr b="0" lang="en-US" sz="1400" spc="-1" strike="noStrike">
              <a:solidFill>
                <a:srgbClr val="000000"/>
              </a:solidFill>
              <a:latin typeface="Arial"/>
            </a:endParaRPr>
          </a:p>
        </p:txBody>
      </p:sp>
      <p:sp>
        <p:nvSpPr>
          <p:cNvPr id="611" name=""/>
          <p:cNvSpPr txBox="1"/>
          <p:nvPr/>
        </p:nvSpPr>
        <p:spPr>
          <a:xfrm>
            <a:off x="816120" y="765000"/>
            <a:ext cx="65880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ffff00"/>
                </a:solidFill>
                <a:uFillTx/>
                <a:latin typeface="Times New Roman"/>
                <a:ea typeface="Times New Roman"/>
              </a:rPr>
              <a:t>Topic</a:t>
            </a:r>
            <a:endParaRPr b="0" lang="en-US" sz="1600" spc="-1" strike="noStrike">
              <a:solidFill>
                <a:srgbClr val="000000"/>
              </a:solidFill>
              <a:latin typeface="Arial"/>
            </a:endParaRPr>
          </a:p>
        </p:txBody>
      </p:sp>
      <p:sp>
        <p:nvSpPr>
          <p:cNvPr id="612" name=""/>
          <p:cNvSpPr txBox="1"/>
          <p:nvPr/>
        </p:nvSpPr>
        <p:spPr>
          <a:xfrm>
            <a:off x="7445520" y="781200"/>
            <a:ext cx="1319040" cy="336600"/>
          </a:xfrm>
          <a:prstGeom prst="rect">
            <a:avLst/>
          </a:prstGeom>
          <a:noFill/>
          <a:ln w="0">
            <a:noFill/>
          </a:ln>
        </p:spPr>
        <p:txBody>
          <a:bodyPr lIns="0" rIns="0" tIns="0" bIns="0" anchor="t">
            <a:noAutofit/>
          </a:bodyPr>
          <a:p>
            <a:pPr algn="ctr">
              <a:lnSpc>
                <a:spcPct val="100000"/>
              </a:lnSpc>
            </a:pPr>
            <a:r>
              <a:rPr b="0" lang="en-US" sz="1600" spc="-1" strike="noStrike" u="sng">
                <a:solidFill>
                  <a:srgbClr val="ffff00"/>
                </a:solidFill>
                <a:uFillTx/>
                <a:latin typeface="Times New Roman"/>
                <a:ea typeface="Times New Roman"/>
              </a:rPr>
              <a:t>Slide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55" name=""/>
          <p:cNvSpPr/>
          <p:nvPr/>
        </p:nvSpPr>
        <p:spPr>
          <a:xfrm>
            <a:off x="3301920" y="2206800"/>
            <a:ext cx="3524760" cy="2588040"/>
          </a:xfrm>
          <a:custGeom>
            <a:avLst/>
            <a:gdLst/>
            <a:ahLst/>
            <a:rect l="0" t="0" r="r" b="b"/>
            <a:pathLst>
              <a:path w="9791" h="7189">
                <a:moveTo>
                  <a:pt x="44" y="1631"/>
                </a:moveTo>
                <a:lnTo>
                  <a:pt x="7983" y="1631"/>
                </a:lnTo>
                <a:lnTo>
                  <a:pt x="7983" y="7189"/>
                </a:lnTo>
                <a:lnTo>
                  <a:pt x="7983" y="7145"/>
                </a:lnTo>
                <a:lnTo>
                  <a:pt x="8115" y="7145"/>
                </a:lnTo>
                <a:lnTo>
                  <a:pt x="8159" y="7013"/>
                </a:lnTo>
                <a:lnTo>
                  <a:pt x="8292" y="6925"/>
                </a:lnTo>
                <a:lnTo>
                  <a:pt x="8424" y="6925"/>
                </a:lnTo>
                <a:lnTo>
                  <a:pt x="8556" y="6837"/>
                </a:lnTo>
                <a:lnTo>
                  <a:pt x="8689" y="6704"/>
                </a:lnTo>
                <a:lnTo>
                  <a:pt x="8733" y="6572"/>
                </a:lnTo>
                <a:lnTo>
                  <a:pt x="8777" y="6440"/>
                </a:lnTo>
                <a:lnTo>
                  <a:pt x="8821" y="6307"/>
                </a:lnTo>
                <a:lnTo>
                  <a:pt x="8865" y="6175"/>
                </a:lnTo>
                <a:lnTo>
                  <a:pt x="8865" y="6043"/>
                </a:lnTo>
                <a:lnTo>
                  <a:pt x="8909" y="5866"/>
                </a:lnTo>
                <a:lnTo>
                  <a:pt x="9041" y="5734"/>
                </a:lnTo>
                <a:lnTo>
                  <a:pt x="9130" y="5602"/>
                </a:lnTo>
                <a:lnTo>
                  <a:pt x="9218" y="5470"/>
                </a:lnTo>
                <a:lnTo>
                  <a:pt x="9262" y="5292"/>
                </a:lnTo>
                <a:lnTo>
                  <a:pt x="9306" y="5160"/>
                </a:lnTo>
                <a:lnTo>
                  <a:pt x="9394" y="4983"/>
                </a:lnTo>
                <a:lnTo>
                  <a:pt x="9394" y="4851"/>
                </a:lnTo>
                <a:lnTo>
                  <a:pt x="9438" y="4675"/>
                </a:lnTo>
                <a:lnTo>
                  <a:pt x="9482" y="4498"/>
                </a:lnTo>
                <a:lnTo>
                  <a:pt x="9482" y="4366"/>
                </a:lnTo>
                <a:lnTo>
                  <a:pt x="9438" y="4190"/>
                </a:lnTo>
                <a:lnTo>
                  <a:pt x="9438" y="4057"/>
                </a:lnTo>
                <a:lnTo>
                  <a:pt x="9438" y="3925"/>
                </a:lnTo>
                <a:lnTo>
                  <a:pt x="9482" y="3749"/>
                </a:lnTo>
                <a:lnTo>
                  <a:pt x="9526" y="3572"/>
                </a:lnTo>
                <a:lnTo>
                  <a:pt x="9615" y="3440"/>
                </a:lnTo>
                <a:lnTo>
                  <a:pt x="9703" y="3264"/>
                </a:lnTo>
                <a:lnTo>
                  <a:pt x="9747" y="2999"/>
                </a:lnTo>
                <a:lnTo>
                  <a:pt x="9791" y="2867"/>
                </a:lnTo>
                <a:lnTo>
                  <a:pt x="9791" y="2690"/>
                </a:lnTo>
                <a:lnTo>
                  <a:pt x="9747" y="2558"/>
                </a:lnTo>
                <a:lnTo>
                  <a:pt x="9703" y="2338"/>
                </a:lnTo>
                <a:lnTo>
                  <a:pt x="9659" y="2205"/>
                </a:lnTo>
                <a:lnTo>
                  <a:pt x="9615" y="1985"/>
                </a:lnTo>
                <a:lnTo>
                  <a:pt x="9571" y="1808"/>
                </a:lnTo>
                <a:lnTo>
                  <a:pt x="9526" y="1675"/>
                </a:lnTo>
                <a:lnTo>
                  <a:pt x="9482" y="1543"/>
                </a:lnTo>
                <a:lnTo>
                  <a:pt x="9438" y="1411"/>
                </a:lnTo>
                <a:lnTo>
                  <a:pt x="9394" y="1278"/>
                </a:lnTo>
                <a:lnTo>
                  <a:pt x="9394" y="1146"/>
                </a:lnTo>
                <a:lnTo>
                  <a:pt x="9306" y="970"/>
                </a:lnTo>
                <a:lnTo>
                  <a:pt x="9130" y="837"/>
                </a:lnTo>
                <a:lnTo>
                  <a:pt x="8997" y="749"/>
                </a:lnTo>
                <a:lnTo>
                  <a:pt x="8865" y="705"/>
                </a:lnTo>
                <a:lnTo>
                  <a:pt x="8689" y="617"/>
                </a:lnTo>
                <a:lnTo>
                  <a:pt x="8512" y="573"/>
                </a:lnTo>
                <a:lnTo>
                  <a:pt x="8380" y="529"/>
                </a:lnTo>
                <a:lnTo>
                  <a:pt x="8248" y="529"/>
                </a:lnTo>
                <a:lnTo>
                  <a:pt x="7719" y="529"/>
                </a:lnTo>
                <a:lnTo>
                  <a:pt x="7542" y="529"/>
                </a:lnTo>
                <a:lnTo>
                  <a:pt x="7410" y="529"/>
                </a:lnTo>
                <a:lnTo>
                  <a:pt x="7277" y="485"/>
                </a:lnTo>
                <a:lnTo>
                  <a:pt x="7144" y="396"/>
                </a:lnTo>
                <a:lnTo>
                  <a:pt x="7012" y="308"/>
                </a:lnTo>
                <a:lnTo>
                  <a:pt x="6836" y="220"/>
                </a:lnTo>
                <a:lnTo>
                  <a:pt x="6571" y="176"/>
                </a:lnTo>
                <a:lnTo>
                  <a:pt x="6439" y="132"/>
                </a:lnTo>
                <a:lnTo>
                  <a:pt x="6306" y="132"/>
                </a:lnTo>
                <a:lnTo>
                  <a:pt x="5072" y="88"/>
                </a:lnTo>
                <a:lnTo>
                  <a:pt x="4895" y="44"/>
                </a:lnTo>
                <a:lnTo>
                  <a:pt x="4675" y="44"/>
                </a:lnTo>
                <a:lnTo>
                  <a:pt x="3264" y="44"/>
                </a:lnTo>
                <a:lnTo>
                  <a:pt x="3131" y="44"/>
                </a:lnTo>
                <a:lnTo>
                  <a:pt x="2955" y="44"/>
                </a:lnTo>
                <a:lnTo>
                  <a:pt x="2823" y="44"/>
                </a:lnTo>
                <a:lnTo>
                  <a:pt x="2690" y="0"/>
                </a:lnTo>
                <a:lnTo>
                  <a:pt x="2514" y="0"/>
                </a:lnTo>
                <a:lnTo>
                  <a:pt x="2381" y="0"/>
                </a:lnTo>
                <a:lnTo>
                  <a:pt x="1058" y="44"/>
                </a:lnTo>
                <a:lnTo>
                  <a:pt x="926" y="132"/>
                </a:lnTo>
                <a:lnTo>
                  <a:pt x="749" y="264"/>
                </a:lnTo>
                <a:lnTo>
                  <a:pt x="661" y="396"/>
                </a:lnTo>
                <a:lnTo>
                  <a:pt x="529" y="529"/>
                </a:lnTo>
                <a:lnTo>
                  <a:pt x="396" y="661"/>
                </a:lnTo>
                <a:lnTo>
                  <a:pt x="264" y="837"/>
                </a:lnTo>
                <a:lnTo>
                  <a:pt x="132" y="926"/>
                </a:lnTo>
                <a:lnTo>
                  <a:pt x="44" y="1058"/>
                </a:lnTo>
                <a:lnTo>
                  <a:pt x="44" y="1190"/>
                </a:lnTo>
                <a:lnTo>
                  <a:pt x="44" y="1322"/>
                </a:lnTo>
                <a:lnTo>
                  <a:pt x="44" y="1455"/>
                </a:lnTo>
                <a:lnTo>
                  <a:pt x="0" y="1587"/>
                </a:lnTo>
                <a:lnTo>
                  <a:pt x="0" y="1631"/>
                </a:lnTo>
                <a:lnTo>
                  <a:pt x="44" y="1631"/>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6" name=""/>
          <p:cNvSpPr/>
          <p:nvPr/>
        </p:nvSpPr>
        <p:spPr>
          <a:xfrm>
            <a:off x="5921280" y="3780000"/>
            <a:ext cx="139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7" name=""/>
          <p:cNvSpPr/>
          <p:nvPr/>
        </p:nvSpPr>
        <p:spPr>
          <a:xfrm>
            <a:off x="6254640" y="2793960"/>
            <a:ext cx="107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a:off x="7223040" y="279396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9" name=""/>
          <p:cNvSpPr/>
          <p:nvPr/>
        </p:nvSpPr>
        <p:spPr>
          <a:xfrm>
            <a:off x="7223040" y="3349800"/>
            <a:ext cx="0" cy="4269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0" name=""/>
          <p:cNvSpPr txBox="1"/>
          <p:nvPr/>
        </p:nvSpPr>
        <p:spPr>
          <a:xfrm>
            <a:off x="7042320" y="304164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2261" name=""/>
          <p:cNvSpPr/>
          <p:nvPr/>
        </p:nvSpPr>
        <p:spPr>
          <a:xfrm>
            <a:off x="6254640" y="2793960"/>
            <a:ext cx="1062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2" name=""/>
          <p:cNvSpPr/>
          <p:nvPr/>
        </p:nvSpPr>
        <p:spPr>
          <a:xfrm>
            <a:off x="8085240" y="313992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263" name=""/>
          <p:cNvGrpSpPr/>
          <p:nvPr/>
        </p:nvGrpSpPr>
        <p:grpSpPr>
          <a:xfrm>
            <a:off x="5538960" y="541440"/>
            <a:ext cx="2147760" cy="1481040"/>
            <a:chOff x="5538960" y="541440"/>
            <a:chExt cx="2147760" cy="1481040"/>
          </a:xfrm>
        </p:grpSpPr>
        <p:sp>
          <p:nvSpPr>
            <p:cNvPr id="2264" name=""/>
            <p:cNvSpPr/>
            <p:nvPr/>
          </p:nvSpPr>
          <p:spPr>
            <a:xfrm>
              <a:off x="5538960" y="541440"/>
              <a:ext cx="2147760" cy="148104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65" name=""/>
            <p:cNvSpPr txBox="1"/>
            <p:nvPr/>
          </p:nvSpPr>
          <p:spPr>
            <a:xfrm>
              <a:off x="5870520" y="825480"/>
              <a:ext cx="1487520" cy="824040"/>
            </a:xfrm>
            <a:prstGeom prst="rect">
              <a:avLst/>
            </a:prstGeom>
            <a:noFill/>
            <a:ln w="0">
              <a:noFill/>
            </a:ln>
          </p:spPr>
          <p:txBody>
            <a:bodyPr lIns="0" rIns="0" tIns="0" bIns="0" anchor="t">
              <a:noAutofit/>
            </a:bodyPr>
            <a:p>
              <a:pPr>
                <a:lnSpc>
                  <a:spcPct val="100000"/>
                </a:lnSpc>
              </a:pPr>
              <a:r>
                <a:rPr b="0" lang="en-US" sz="4800" spc="-1" strike="noStrike" u="sng">
                  <a:solidFill>
                    <a:srgbClr val="ffff00"/>
                  </a:solidFill>
                  <a:uFillTx/>
                  <a:latin typeface="Times New Roman"/>
                  <a:ea typeface="Times New Roman"/>
                </a:rPr>
                <a:t>OR...</a:t>
              </a:r>
              <a:endParaRPr b="0" lang="en-US" sz="4800" spc="-1" strike="noStrike">
                <a:solidFill>
                  <a:srgbClr val="000000"/>
                </a:solidFill>
                <a:latin typeface="Arial"/>
              </a:endParaRPr>
            </a:p>
          </p:txBody>
        </p:sp>
      </p:grpSp>
      <p:sp>
        <p:nvSpPr>
          <p:cNvPr id="2266" name=""/>
          <p:cNvSpPr/>
          <p:nvPr/>
        </p:nvSpPr>
        <p:spPr>
          <a:xfrm>
            <a:off x="6168960" y="2808360"/>
            <a:ext cx="0" cy="12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3800520" y="37767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a:off x="4006800" y="377676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a:off x="4149720" y="3776760"/>
            <a:ext cx="138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3887640" y="3625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71" name=""/>
          <p:cNvGrpSpPr/>
          <p:nvPr/>
        </p:nvGrpSpPr>
        <p:grpSpPr>
          <a:xfrm>
            <a:off x="4040280" y="3540240"/>
            <a:ext cx="0" cy="523800"/>
            <a:chOff x="4040280" y="3540240"/>
            <a:chExt cx="0" cy="523800"/>
          </a:xfrm>
        </p:grpSpPr>
        <p:sp>
          <p:nvSpPr>
            <p:cNvPr id="2272" name=""/>
            <p:cNvSpPr/>
            <p:nvPr/>
          </p:nvSpPr>
          <p:spPr>
            <a:xfrm>
              <a:off x="4040280" y="35402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3" name=""/>
            <p:cNvSpPr/>
            <p:nvPr/>
          </p:nvSpPr>
          <p:spPr>
            <a:xfrm>
              <a:off x="4040280" y="374652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274" name=""/>
            <p:cNvSpPr/>
            <p:nvPr/>
          </p:nvSpPr>
          <p:spPr>
            <a:xfrm>
              <a:off x="4040280" y="3889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75" name=""/>
          <p:cNvGrpSpPr/>
          <p:nvPr/>
        </p:nvGrpSpPr>
        <p:grpSpPr>
          <a:xfrm>
            <a:off x="5532480" y="3541680"/>
            <a:ext cx="628560" cy="523800"/>
            <a:chOff x="5532480" y="3541680"/>
            <a:chExt cx="628560" cy="523800"/>
          </a:xfrm>
        </p:grpSpPr>
        <p:sp>
          <p:nvSpPr>
            <p:cNvPr id="2276" name=""/>
            <p:cNvSpPr/>
            <p:nvPr/>
          </p:nvSpPr>
          <p:spPr>
            <a:xfrm>
              <a:off x="5656320" y="363204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7" name=""/>
            <p:cNvSpPr/>
            <p:nvPr/>
          </p:nvSpPr>
          <p:spPr>
            <a:xfrm>
              <a:off x="5532480" y="3778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8" name=""/>
            <p:cNvSpPr/>
            <p:nvPr/>
          </p:nvSpPr>
          <p:spPr>
            <a:xfrm>
              <a:off x="5897520" y="3778200"/>
              <a:ext cx="2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a:off x="5770440" y="3778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80" name=""/>
            <p:cNvGrpSpPr/>
            <p:nvPr/>
          </p:nvGrpSpPr>
          <p:grpSpPr>
            <a:xfrm>
              <a:off x="5803920" y="3541680"/>
              <a:ext cx="0" cy="523800"/>
              <a:chOff x="5803920" y="3541680"/>
              <a:chExt cx="0" cy="523800"/>
            </a:xfrm>
          </p:grpSpPr>
          <p:sp>
            <p:nvSpPr>
              <p:cNvPr id="2281" name=""/>
              <p:cNvSpPr/>
              <p:nvPr/>
            </p:nvSpPr>
            <p:spPr>
              <a:xfrm>
                <a:off x="5803920" y="3541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2" name=""/>
              <p:cNvSpPr/>
              <p:nvPr/>
            </p:nvSpPr>
            <p:spPr>
              <a:xfrm>
                <a:off x="5803920" y="3747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283" name=""/>
              <p:cNvSpPr/>
              <p:nvPr/>
            </p:nvSpPr>
            <p:spPr>
              <a:xfrm>
                <a:off x="5803920" y="389088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2284" name=""/>
          <p:cNvGrpSpPr/>
          <p:nvPr/>
        </p:nvGrpSpPr>
        <p:grpSpPr>
          <a:xfrm>
            <a:off x="2395440" y="3016080"/>
            <a:ext cx="1148040" cy="1292400"/>
            <a:chOff x="2395440" y="3016080"/>
            <a:chExt cx="1148040" cy="1292400"/>
          </a:xfrm>
        </p:grpSpPr>
        <p:sp>
          <p:nvSpPr>
            <p:cNvPr id="2285" name=""/>
            <p:cNvSpPr/>
            <p:nvPr/>
          </p:nvSpPr>
          <p:spPr>
            <a:xfrm flipH="1">
              <a:off x="2741760" y="3016080"/>
              <a:ext cx="799920" cy="65160"/>
            </a:xfrm>
            <a:prstGeom prst="line">
              <a:avLst/>
            </a:prstGeom>
            <a:ln w="12600">
              <a:solidFill>
                <a:srgbClr val="ffffff"/>
              </a:solidFill>
              <a:round/>
            </a:ln>
          </p:spPr>
          <p:style>
            <a:lnRef idx="0"/>
            <a:fillRef idx="0"/>
            <a:effectRef idx="0"/>
            <a:fontRef idx="minor"/>
          </p:style>
          <p:txBody>
            <a:bodyPr lIns="96120" rIns="96120" tIns="14040" bIns="14040" anchor="t">
              <a:noAutofit/>
            </a:bodyPr>
            <a:p>
              <a:endParaRPr b="0" lang="en-US" sz="1800" spc="-1" strike="noStrike">
                <a:solidFill>
                  <a:srgbClr val="000000"/>
                </a:solidFill>
                <a:latin typeface="Arial"/>
              </a:endParaRPr>
            </a:p>
          </p:txBody>
        </p:sp>
        <p:sp>
          <p:nvSpPr>
            <p:cNvPr id="2286" name=""/>
            <p:cNvSpPr/>
            <p:nvPr/>
          </p:nvSpPr>
          <p:spPr>
            <a:xfrm flipH="1">
              <a:off x="2808360" y="4253040"/>
              <a:ext cx="735120" cy="55440"/>
            </a:xfrm>
            <a:prstGeom prst="line">
              <a:avLst/>
            </a:prstGeom>
            <a:ln w="12600">
              <a:solidFill>
                <a:srgbClr val="ffffff"/>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2287" name=""/>
            <p:cNvSpPr/>
            <p:nvPr/>
          </p:nvSpPr>
          <p:spPr>
            <a:xfrm>
              <a:off x="2852640" y="3087720"/>
              <a:ext cx="28800" cy="366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8" name=""/>
            <p:cNvSpPr/>
            <p:nvPr/>
          </p:nvSpPr>
          <p:spPr>
            <a:xfrm>
              <a:off x="2892600" y="3916440"/>
              <a:ext cx="26640" cy="382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9" name=""/>
            <p:cNvSpPr txBox="1"/>
            <p:nvPr/>
          </p:nvSpPr>
          <p:spPr>
            <a:xfrm>
              <a:off x="2395440" y="3535200"/>
              <a:ext cx="10652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0 - 30.4</a:t>
              </a:r>
              <a:endParaRPr b="0" lang="en-US" sz="1600" spc="-1" strike="noStrike">
                <a:solidFill>
                  <a:srgbClr val="000000"/>
                </a:solidFill>
                <a:latin typeface="Arial"/>
              </a:endParaRPr>
            </a:p>
          </p:txBody>
        </p:sp>
      </p:grpSp>
      <p:sp>
        <p:nvSpPr>
          <p:cNvPr id="2290" name=""/>
          <p:cNvSpPr txBox="1"/>
          <p:nvPr/>
        </p:nvSpPr>
        <p:spPr>
          <a:xfrm>
            <a:off x="4981680" y="4981680"/>
            <a:ext cx="2908440" cy="119052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The holes may be within the </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locational specification, but </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out of alignment with the part</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edges.</a:t>
            </a:r>
            <a:endParaRPr b="0" lang="en-US" sz="1800" spc="-1" strike="noStrike">
              <a:solidFill>
                <a:srgbClr val="000000"/>
              </a:solidFill>
              <a:latin typeface="Arial"/>
            </a:endParaRPr>
          </a:p>
        </p:txBody>
      </p:sp>
      <p:sp>
        <p:nvSpPr>
          <p:cNvPr id="2291" name=""/>
          <p:cNvSpPr/>
          <p:nvPr/>
        </p:nvSpPr>
        <p:spPr>
          <a:xfrm>
            <a:off x="3637080" y="2798640"/>
            <a:ext cx="2518200" cy="1465560"/>
          </a:xfrm>
          <a:custGeom>
            <a:avLst/>
            <a:gdLst/>
            <a:ahLst/>
            <a:rect l="0" t="0" r="r" b="b"/>
            <a:pathLst>
              <a:path fill="none" w="6995" h="4071">
                <a:moveTo>
                  <a:pt x="57" y="4057"/>
                </a:moveTo>
                <a:lnTo>
                  <a:pt x="52" y="4005"/>
                </a:lnTo>
                <a:lnTo>
                  <a:pt x="52" y="3965"/>
                </a:lnTo>
                <a:lnTo>
                  <a:pt x="48" y="3925"/>
                </a:lnTo>
                <a:lnTo>
                  <a:pt x="44" y="3872"/>
                </a:lnTo>
                <a:lnTo>
                  <a:pt x="26" y="3837"/>
                </a:lnTo>
                <a:lnTo>
                  <a:pt x="8" y="3797"/>
                </a:lnTo>
                <a:lnTo>
                  <a:pt x="4" y="3758"/>
                </a:lnTo>
                <a:lnTo>
                  <a:pt x="0" y="3705"/>
                </a:lnTo>
                <a:lnTo>
                  <a:pt x="0" y="3665"/>
                </a:lnTo>
                <a:lnTo>
                  <a:pt x="8" y="3625"/>
                </a:lnTo>
                <a:lnTo>
                  <a:pt x="17" y="3581"/>
                </a:lnTo>
                <a:lnTo>
                  <a:pt x="26" y="3542"/>
                </a:lnTo>
                <a:lnTo>
                  <a:pt x="35" y="3502"/>
                </a:lnTo>
                <a:lnTo>
                  <a:pt x="48" y="3462"/>
                </a:lnTo>
                <a:lnTo>
                  <a:pt x="57" y="3418"/>
                </a:lnTo>
                <a:lnTo>
                  <a:pt x="52" y="3365"/>
                </a:lnTo>
                <a:lnTo>
                  <a:pt x="61" y="3325"/>
                </a:lnTo>
                <a:lnTo>
                  <a:pt x="57" y="3273"/>
                </a:lnTo>
                <a:lnTo>
                  <a:pt x="66" y="3220"/>
                </a:lnTo>
                <a:lnTo>
                  <a:pt x="74" y="3180"/>
                </a:lnTo>
                <a:lnTo>
                  <a:pt x="70" y="3140"/>
                </a:lnTo>
                <a:lnTo>
                  <a:pt x="52" y="3048"/>
                </a:lnTo>
                <a:lnTo>
                  <a:pt x="48" y="3008"/>
                </a:lnTo>
                <a:lnTo>
                  <a:pt x="44" y="2968"/>
                </a:lnTo>
                <a:lnTo>
                  <a:pt x="39" y="2933"/>
                </a:lnTo>
                <a:lnTo>
                  <a:pt x="35" y="2893"/>
                </a:lnTo>
                <a:lnTo>
                  <a:pt x="26" y="2787"/>
                </a:lnTo>
                <a:lnTo>
                  <a:pt x="17" y="2682"/>
                </a:lnTo>
                <a:lnTo>
                  <a:pt x="13" y="2642"/>
                </a:lnTo>
                <a:lnTo>
                  <a:pt x="26" y="2602"/>
                </a:lnTo>
                <a:lnTo>
                  <a:pt x="35" y="2545"/>
                </a:lnTo>
                <a:lnTo>
                  <a:pt x="39" y="2439"/>
                </a:lnTo>
                <a:lnTo>
                  <a:pt x="48" y="2386"/>
                </a:lnTo>
                <a:lnTo>
                  <a:pt x="39" y="2333"/>
                </a:lnTo>
                <a:lnTo>
                  <a:pt x="44" y="2223"/>
                </a:lnTo>
                <a:lnTo>
                  <a:pt x="57" y="2183"/>
                </a:lnTo>
                <a:lnTo>
                  <a:pt x="66" y="2144"/>
                </a:lnTo>
                <a:lnTo>
                  <a:pt x="74" y="2104"/>
                </a:lnTo>
                <a:lnTo>
                  <a:pt x="70" y="2064"/>
                </a:lnTo>
                <a:lnTo>
                  <a:pt x="66" y="2024"/>
                </a:lnTo>
                <a:lnTo>
                  <a:pt x="61" y="1971"/>
                </a:lnTo>
                <a:lnTo>
                  <a:pt x="70" y="1913"/>
                </a:lnTo>
                <a:lnTo>
                  <a:pt x="66" y="1821"/>
                </a:lnTo>
                <a:lnTo>
                  <a:pt x="61" y="1781"/>
                </a:lnTo>
                <a:lnTo>
                  <a:pt x="57" y="1746"/>
                </a:lnTo>
                <a:lnTo>
                  <a:pt x="52" y="1706"/>
                </a:lnTo>
                <a:lnTo>
                  <a:pt x="44" y="1600"/>
                </a:lnTo>
                <a:lnTo>
                  <a:pt x="52" y="1561"/>
                </a:lnTo>
                <a:lnTo>
                  <a:pt x="52" y="1521"/>
                </a:lnTo>
                <a:lnTo>
                  <a:pt x="48" y="1481"/>
                </a:lnTo>
                <a:lnTo>
                  <a:pt x="44" y="1441"/>
                </a:lnTo>
                <a:lnTo>
                  <a:pt x="52" y="1389"/>
                </a:lnTo>
                <a:lnTo>
                  <a:pt x="48" y="1336"/>
                </a:lnTo>
                <a:lnTo>
                  <a:pt x="44" y="1296"/>
                </a:lnTo>
                <a:lnTo>
                  <a:pt x="39" y="1243"/>
                </a:lnTo>
                <a:lnTo>
                  <a:pt x="48" y="1190"/>
                </a:lnTo>
                <a:lnTo>
                  <a:pt x="44" y="1150"/>
                </a:lnTo>
                <a:lnTo>
                  <a:pt x="52" y="1106"/>
                </a:lnTo>
                <a:lnTo>
                  <a:pt x="66" y="1067"/>
                </a:lnTo>
                <a:lnTo>
                  <a:pt x="57" y="987"/>
                </a:lnTo>
                <a:lnTo>
                  <a:pt x="52" y="948"/>
                </a:lnTo>
                <a:lnTo>
                  <a:pt x="52" y="908"/>
                </a:lnTo>
                <a:lnTo>
                  <a:pt x="48" y="868"/>
                </a:lnTo>
                <a:lnTo>
                  <a:pt x="57" y="815"/>
                </a:lnTo>
                <a:lnTo>
                  <a:pt x="52" y="776"/>
                </a:lnTo>
                <a:lnTo>
                  <a:pt x="48" y="736"/>
                </a:lnTo>
                <a:lnTo>
                  <a:pt x="44" y="696"/>
                </a:lnTo>
                <a:lnTo>
                  <a:pt x="44" y="657"/>
                </a:lnTo>
                <a:lnTo>
                  <a:pt x="79" y="626"/>
                </a:lnTo>
                <a:lnTo>
                  <a:pt x="119" y="635"/>
                </a:lnTo>
                <a:lnTo>
                  <a:pt x="158" y="635"/>
                </a:lnTo>
                <a:lnTo>
                  <a:pt x="198" y="630"/>
                </a:lnTo>
                <a:lnTo>
                  <a:pt x="238" y="612"/>
                </a:lnTo>
                <a:lnTo>
                  <a:pt x="277" y="595"/>
                </a:lnTo>
                <a:lnTo>
                  <a:pt x="313" y="582"/>
                </a:lnTo>
                <a:lnTo>
                  <a:pt x="366" y="577"/>
                </a:lnTo>
                <a:lnTo>
                  <a:pt x="405" y="564"/>
                </a:lnTo>
                <a:lnTo>
                  <a:pt x="445" y="546"/>
                </a:lnTo>
                <a:lnTo>
                  <a:pt x="520" y="537"/>
                </a:lnTo>
                <a:lnTo>
                  <a:pt x="560" y="533"/>
                </a:lnTo>
                <a:lnTo>
                  <a:pt x="612" y="542"/>
                </a:lnTo>
                <a:lnTo>
                  <a:pt x="652" y="542"/>
                </a:lnTo>
                <a:lnTo>
                  <a:pt x="692" y="537"/>
                </a:lnTo>
                <a:lnTo>
                  <a:pt x="732" y="546"/>
                </a:lnTo>
                <a:lnTo>
                  <a:pt x="811" y="537"/>
                </a:lnTo>
                <a:lnTo>
                  <a:pt x="855" y="546"/>
                </a:lnTo>
                <a:lnTo>
                  <a:pt x="961" y="551"/>
                </a:lnTo>
                <a:lnTo>
                  <a:pt x="1001" y="546"/>
                </a:lnTo>
                <a:lnTo>
                  <a:pt x="1080" y="537"/>
                </a:lnTo>
                <a:lnTo>
                  <a:pt x="1133" y="533"/>
                </a:lnTo>
                <a:lnTo>
                  <a:pt x="1172" y="529"/>
                </a:lnTo>
                <a:lnTo>
                  <a:pt x="1278" y="533"/>
                </a:lnTo>
                <a:lnTo>
                  <a:pt x="1358" y="529"/>
                </a:lnTo>
                <a:lnTo>
                  <a:pt x="1397" y="524"/>
                </a:lnTo>
                <a:lnTo>
                  <a:pt x="1503" y="515"/>
                </a:lnTo>
                <a:lnTo>
                  <a:pt x="1631" y="502"/>
                </a:lnTo>
                <a:lnTo>
                  <a:pt x="1737" y="493"/>
                </a:lnTo>
                <a:lnTo>
                  <a:pt x="1870" y="485"/>
                </a:lnTo>
                <a:lnTo>
                  <a:pt x="1923" y="463"/>
                </a:lnTo>
                <a:lnTo>
                  <a:pt x="1963" y="449"/>
                </a:lnTo>
                <a:lnTo>
                  <a:pt x="2003" y="445"/>
                </a:lnTo>
                <a:lnTo>
                  <a:pt x="2091" y="427"/>
                </a:lnTo>
                <a:lnTo>
                  <a:pt x="2130" y="423"/>
                </a:lnTo>
                <a:lnTo>
                  <a:pt x="2170" y="423"/>
                </a:lnTo>
                <a:lnTo>
                  <a:pt x="2210" y="418"/>
                </a:lnTo>
                <a:lnTo>
                  <a:pt x="2316" y="410"/>
                </a:lnTo>
                <a:lnTo>
                  <a:pt x="2408" y="401"/>
                </a:lnTo>
                <a:lnTo>
                  <a:pt x="2461" y="396"/>
                </a:lnTo>
                <a:lnTo>
                  <a:pt x="2541" y="388"/>
                </a:lnTo>
                <a:lnTo>
                  <a:pt x="2620" y="383"/>
                </a:lnTo>
                <a:lnTo>
                  <a:pt x="2699" y="374"/>
                </a:lnTo>
                <a:lnTo>
                  <a:pt x="2814" y="366"/>
                </a:lnTo>
                <a:lnTo>
                  <a:pt x="2854" y="361"/>
                </a:lnTo>
                <a:lnTo>
                  <a:pt x="2959" y="339"/>
                </a:lnTo>
                <a:lnTo>
                  <a:pt x="3039" y="330"/>
                </a:lnTo>
                <a:lnTo>
                  <a:pt x="3158" y="308"/>
                </a:lnTo>
                <a:lnTo>
                  <a:pt x="3211" y="304"/>
                </a:lnTo>
                <a:lnTo>
                  <a:pt x="3317" y="295"/>
                </a:lnTo>
                <a:lnTo>
                  <a:pt x="3356" y="291"/>
                </a:lnTo>
                <a:lnTo>
                  <a:pt x="3489" y="291"/>
                </a:lnTo>
                <a:lnTo>
                  <a:pt x="3542" y="299"/>
                </a:lnTo>
                <a:lnTo>
                  <a:pt x="3753" y="282"/>
                </a:lnTo>
                <a:lnTo>
                  <a:pt x="3806" y="277"/>
                </a:lnTo>
                <a:lnTo>
                  <a:pt x="3912" y="268"/>
                </a:lnTo>
                <a:lnTo>
                  <a:pt x="3960" y="264"/>
                </a:lnTo>
                <a:lnTo>
                  <a:pt x="4000" y="260"/>
                </a:lnTo>
                <a:lnTo>
                  <a:pt x="4132" y="251"/>
                </a:lnTo>
                <a:lnTo>
                  <a:pt x="4172" y="246"/>
                </a:lnTo>
                <a:lnTo>
                  <a:pt x="4291" y="233"/>
                </a:lnTo>
                <a:lnTo>
                  <a:pt x="4335" y="242"/>
                </a:lnTo>
                <a:lnTo>
                  <a:pt x="4441" y="233"/>
                </a:lnTo>
                <a:lnTo>
                  <a:pt x="4481" y="242"/>
                </a:lnTo>
                <a:lnTo>
                  <a:pt x="4666" y="224"/>
                </a:lnTo>
                <a:lnTo>
                  <a:pt x="4706" y="220"/>
                </a:lnTo>
                <a:lnTo>
                  <a:pt x="4745" y="220"/>
                </a:lnTo>
                <a:lnTo>
                  <a:pt x="4878" y="194"/>
                </a:lnTo>
                <a:lnTo>
                  <a:pt x="4913" y="180"/>
                </a:lnTo>
                <a:lnTo>
                  <a:pt x="5045" y="171"/>
                </a:lnTo>
                <a:lnTo>
                  <a:pt x="5085" y="167"/>
                </a:lnTo>
                <a:lnTo>
                  <a:pt x="5120" y="163"/>
                </a:lnTo>
                <a:lnTo>
                  <a:pt x="5164" y="180"/>
                </a:lnTo>
                <a:lnTo>
                  <a:pt x="5217" y="176"/>
                </a:lnTo>
                <a:lnTo>
                  <a:pt x="5324" y="180"/>
                </a:lnTo>
                <a:lnTo>
                  <a:pt x="5364" y="176"/>
                </a:lnTo>
                <a:lnTo>
                  <a:pt x="5403" y="171"/>
                </a:lnTo>
                <a:lnTo>
                  <a:pt x="5496" y="167"/>
                </a:lnTo>
                <a:lnTo>
                  <a:pt x="5549" y="163"/>
                </a:lnTo>
                <a:lnTo>
                  <a:pt x="5589" y="158"/>
                </a:lnTo>
                <a:lnTo>
                  <a:pt x="5642" y="154"/>
                </a:lnTo>
                <a:lnTo>
                  <a:pt x="5721" y="145"/>
                </a:lnTo>
                <a:lnTo>
                  <a:pt x="5761" y="127"/>
                </a:lnTo>
                <a:lnTo>
                  <a:pt x="5853" y="123"/>
                </a:lnTo>
                <a:lnTo>
                  <a:pt x="5906" y="105"/>
                </a:lnTo>
                <a:lnTo>
                  <a:pt x="5959" y="101"/>
                </a:lnTo>
                <a:lnTo>
                  <a:pt x="5999" y="97"/>
                </a:lnTo>
                <a:lnTo>
                  <a:pt x="6047" y="83"/>
                </a:lnTo>
                <a:lnTo>
                  <a:pt x="6087" y="79"/>
                </a:lnTo>
                <a:lnTo>
                  <a:pt x="6210" y="79"/>
                </a:lnTo>
                <a:lnTo>
                  <a:pt x="6246" y="74"/>
                </a:lnTo>
                <a:lnTo>
                  <a:pt x="6285" y="70"/>
                </a:lnTo>
                <a:lnTo>
                  <a:pt x="6338" y="79"/>
                </a:lnTo>
                <a:lnTo>
                  <a:pt x="6378" y="74"/>
                </a:lnTo>
                <a:lnTo>
                  <a:pt x="6418" y="70"/>
                </a:lnTo>
                <a:lnTo>
                  <a:pt x="6497" y="66"/>
                </a:lnTo>
                <a:lnTo>
                  <a:pt x="6537" y="61"/>
                </a:lnTo>
                <a:lnTo>
                  <a:pt x="6576" y="57"/>
                </a:lnTo>
                <a:lnTo>
                  <a:pt x="6616" y="52"/>
                </a:lnTo>
                <a:lnTo>
                  <a:pt x="6656" y="52"/>
                </a:lnTo>
                <a:lnTo>
                  <a:pt x="6695" y="48"/>
                </a:lnTo>
                <a:lnTo>
                  <a:pt x="6735" y="44"/>
                </a:lnTo>
                <a:lnTo>
                  <a:pt x="6775" y="39"/>
                </a:lnTo>
                <a:lnTo>
                  <a:pt x="6815" y="39"/>
                </a:lnTo>
                <a:lnTo>
                  <a:pt x="6854" y="35"/>
                </a:lnTo>
                <a:lnTo>
                  <a:pt x="6894" y="30"/>
                </a:lnTo>
                <a:lnTo>
                  <a:pt x="6982" y="0"/>
                </a:lnTo>
                <a:lnTo>
                  <a:pt x="6973" y="35"/>
                </a:lnTo>
                <a:lnTo>
                  <a:pt x="6982" y="114"/>
                </a:lnTo>
                <a:lnTo>
                  <a:pt x="6978" y="224"/>
                </a:lnTo>
                <a:lnTo>
                  <a:pt x="6982" y="264"/>
                </a:lnTo>
                <a:lnTo>
                  <a:pt x="6973" y="304"/>
                </a:lnTo>
                <a:lnTo>
                  <a:pt x="6973" y="343"/>
                </a:lnTo>
                <a:lnTo>
                  <a:pt x="6982" y="423"/>
                </a:lnTo>
                <a:lnTo>
                  <a:pt x="6987" y="476"/>
                </a:lnTo>
                <a:lnTo>
                  <a:pt x="6991" y="529"/>
                </a:lnTo>
                <a:lnTo>
                  <a:pt x="6995" y="568"/>
                </a:lnTo>
                <a:lnTo>
                  <a:pt x="6987" y="608"/>
                </a:lnTo>
                <a:lnTo>
                  <a:pt x="6987" y="648"/>
                </a:lnTo>
                <a:lnTo>
                  <a:pt x="6978" y="687"/>
                </a:lnTo>
                <a:lnTo>
                  <a:pt x="6982" y="727"/>
                </a:lnTo>
                <a:lnTo>
                  <a:pt x="6987" y="767"/>
                </a:lnTo>
                <a:lnTo>
                  <a:pt x="6987" y="806"/>
                </a:lnTo>
                <a:lnTo>
                  <a:pt x="6964" y="851"/>
                </a:lnTo>
                <a:lnTo>
                  <a:pt x="6960" y="956"/>
                </a:lnTo>
                <a:lnTo>
                  <a:pt x="6951" y="996"/>
                </a:lnTo>
                <a:lnTo>
                  <a:pt x="6960" y="1102"/>
                </a:lnTo>
                <a:lnTo>
                  <a:pt x="6964" y="1142"/>
                </a:lnTo>
                <a:lnTo>
                  <a:pt x="6973" y="1217"/>
                </a:lnTo>
                <a:lnTo>
                  <a:pt x="6964" y="1274"/>
                </a:lnTo>
                <a:lnTo>
                  <a:pt x="6969" y="1327"/>
                </a:lnTo>
                <a:lnTo>
                  <a:pt x="6969" y="1367"/>
                </a:lnTo>
                <a:lnTo>
                  <a:pt x="6973" y="1406"/>
                </a:lnTo>
                <a:lnTo>
                  <a:pt x="6982" y="1499"/>
                </a:lnTo>
                <a:lnTo>
                  <a:pt x="6987" y="1538"/>
                </a:lnTo>
                <a:lnTo>
                  <a:pt x="6991" y="1578"/>
                </a:lnTo>
                <a:lnTo>
                  <a:pt x="6991" y="1618"/>
                </a:lnTo>
                <a:lnTo>
                  <a:pt x="6982" y="1658"/>
                </a:lnTo>
                <a:lnTo>
                  <a:pt x="6978" y="1763"/>
                </a:lnTo>
                <a:lnTo>
                  <a:pt x="6973" y="1874"/>
                </a:lnTo>
                <a:lnTo>
                  <a:pt x="6982" y="1979"/>
                </a:lnTo>
                <a:lnTo>
                  <a:pt x="6973" y="2019"/>
                </a:lnTo>
                <a:lnTo>
                  <a:pt x="6969" y="2113"/>
                </a:lnTo>
                <a:lnTo>
                  <a:pt x="6947" y="2170"/>
                </a:lnTo>
                <a:lnTo>
                  <a:pt x="6951" y="2210"/>
                </a:lnTo>
                <a:lnTo>
                  <a:pt x="6956" y="2249"/>
                </a:lnTo>
                <a:lnTo>
                  <a:pt x="6942" y="2289"/>
                </a:lnTo>
                <a:lnTo>
                  <a:pt x="6951" y="2338"/>
                </a:lnTo>
                <a:lnTo>
                  <a:pt x="6951" y="2377"/>
                </a:lnTo>
                <a:lnTo>
                  <a:pt x="6956" y="2417"/>
                </a:lnTo>
                <a:lnTo>
                  <a:pt x="6960" y="2457"/>
                </a:lnTo>
                <a:lnTo>
                  <a:pt x="6964" y="2536"/>
                </a:lnTo>
                <a:lnTo>
                  <a:pt x="6969" y="2589"/>
                </a:lnTo>
                <a:lnTo>
                  <a:pt x="6978" y="2642"/>
                </a:lnTo>
                <a:lnTo>
                  <a:pt x="6982" y="2695"/>
                </a:lnTo>
                <a:lnTo>
                  <a:pt x="6991" y="2827"/>
                </a:lnTo>
                <a:lnTo>
                  <a:pt x="6995" y="2880"/>
                </a:lnTo>
                <a:lnTo>
                  <a:pt x="6991" y="2986"/>
                </a:lnTo>
                <a:lnTo>
                  <a:pt x="6982" y="3026"/>
                </a:lnTo>
                <a:lnTo>
                  <a:pt x="6978" y="3109"/>
                </a:lnTo>
                <a:lnTo>
                  <a:pt x="6978" y="3149"/>
                </a:lnTo>
                <a:lnTo>
                  <a:pt x="6969" y="3202"/>
                </a:lnTo>
                <a:lnTo>
                  <a:pt x="6973" y="3242"/>
                </a:lnTo>
                <a:lnTo>
                  <a:pt x="6969" y="3334"/>
                </a:lnTo>
                <a:lnTo>
                  <a:pt x="6973" y="3374"/>
                </a:lnTo>
                <a:lnTo>
                  <a:pt x="6964" y="3414"/>
                </a:lnTo>
                <a:lnTo>
                  <a:pt x="6964" y="3453"/>
                </a:lnTo>
                <a:lnTo>
                  <a:pt x="6929" y="3471"/>
                </a:lnTo>
                <a:lnTo>
                  <a:pt x="6872" y="3462"/>
                </a:lnTo>
                <a:lnTo>
                  <a:pt x="6837" y="3493"/>
                </a:lnTo>
                <a:lnTo>
                  <a:pt x="6797" y="3511"/>
                </a:lnTo>
                <a:lnTo>
                  <a:pt x="6748" y="3537"/>
                </a:lnTo>
                <a:lnTo>
                  <a:pt x="6709" y="3555"/>
                </a:lnTo>
                <a:lnTo>
                  <a:pt x="6629" y="3559"/>
                </a:lnTo>
                <a:lnTo>
                  <a:pt x="6590" y="3564"/>
                </a:lnTo>
                <a:lnTo>
                  <a:pt x="6515" y="3572"/>
                </a:lnTo>
                <a:lnTo>
                  <a:pt x="6462" y="3577"/>
                </a:lnTo>
                <a:lnTo>
                  <a:pt x="6369" y="3581"/>
                </a:lnTo>
                <a:lnTo>
                  <a:pt x="6263" y="3594"/>
                </a:lnTo>
                <a:lnTo>
                  <a:pt x="6157" y="3603"/>
                </a:lnTo>
                <a:lnTo>
                  <a:pt x="6052" y="3612"/>
                </a:lnTo>
                <a:lnTo>
                  <a:pt x="5933" y="3621"/>
                </a:lnTo>
                <a:lnTo>
                  <a:pt x="5774" y="3634"/>
                </a:lnTo>
                <a:lnTo>
                  <a:pt x="5694" y="3643"/>
                </a:lnTo>
                <a:lnTo>
                  <a:pt x="5589" y="3652"/>
                </a:lnTo>
                <a:lnTo>
                  <a:pt x="5456" y="3661"/>
                </a:lnTo>
                <a:lnTo>
                  <a:pt x="5355" y="3661"/>
                </a:lnTo>
                <a:lnTo>
                  <a:pt x="5315" y="3661"/>
                </a:lnTo>
                <a:lnTo>
                  <a:pt x="5235" y="3669"/>
                </a:lnTo>
                <a:lnTo>
                  <a:pt x="5129" y="3678"/>
                </a:lnTo>
                <a:lnTo>
                  <a:pt x="5036" y="3687"/>
                </a:lnTo>
                <a:lnTo>
                  <a:pt x="4997" y="3691"/>
                </a:lnTo>
                <a:lnTo>
                  <a:pt x="4891" y="3687"/>
                </a:lnTo>
                <a:lnTo>
                  <a:pt x="4798" y="3696"/>
                </a:lnTo>
                <a:lnTo>
                  <a:pt x="4662" y="3696"/>
                </a:lnTo>
                <a:lnTo>
                  <a:pt x="4569" y="3705"/>
                </a:lnTo>
                <a:lnTo>
                  <a:pt x="4463" y="3713"/>
                </a:lnTo>
                <a:lnTo>
                  <a:pt x="4384" y="3709"/>
                </a:lnTo>
                <a:lnTo>
                  <a:pt x="4304" y="3713"/>
                </a:lnTo>
                <a:lnTo>
                  <a:pt x="4265" y="3718"/>
                </a:lnTo>
                <a:lnTo>
                  <a:pt x="4005" y="3740"/>
                </a:lnTo>
                <a:lnTo>
                  <a:pt x="3925" y="3749"/>
                </a:lnTo>
                <a:lnTo>
                  <a:pt x="3819" y="3744"/>
                </a:lnTo>
                <a:lnTo>
                  <a:pt x="3713" y="3753"/>
                </a:lnTo>
                <a:lnTo>
                  <a:pt x="3661" y="3758"/>
                </a:lnTo>
                <a:lnTo>
                  <a:pt x="3616" y="3749"/>
                </a:lnTo>
                <a:lnTo>
                  <a:pt x="3511" y="3758"/>
                </a:lnTo>
                <a:lnTo>
                  <a:pt x="3431" y="3762"/>
                </a:lnTo>
                <a:lnTo>
                  <a:pt x="3325" y="3775"/>
                </a:lnTo>
                <a:lnTo>
                  <a:pt x="3233" y="3780"/>
                </a:lnTo>
                <a:lnTo>
                  <a:pt x="3127" y="3788"/>
                </a:lnTo>
                <a:lnTo>
                  <a:pt x="3039" y="3797"/>
                </a:lnTo>
                <a:lnTo>
                  <a:pt x="2959" y="3806"/>
                </a:lnTo>
                <a:lnTo>
                  <a:pt x="2854" y="3802"/>
                </a:lnTo>
                <a:lnTo>
                  <a:pt x="2748" y="3811"/>
                </a:lnTo>
                <a:lnTo>
                  <a:pt x="2655" y="3819"/>
                </a:lnTo>
                <a:lnTo>
                  <a:pt x="2496" y="3846"/>
                </a:lnTo>
                <a:lnTo>
                  <a:pt x="2417" y="3855"/>
                </a:lnTo>
                <a:lnTo>
                  <a:pt x="2324" y="3859"/>
                </a:lnTo>
                <a:lnTo>
                  <a:pt x="2192" y="3872"/>
                </a:lnTo>
                <a:lnTo>
                  <a:pt x="2152" y="3877"/>
                </a:lnTo>
                <a:lnTo>
                  <a:pt x="2113" y="3881"/>
                </a:lnTo>
                <a:lnTo>
                  <a:pt x="2077" y="3894"/>
                </a:lnTo>
                <a:lnTo>
                  <a:pt x="1972" y="3916"/>
                </a:lnTo>
                <a:lnTo>
                  <a:pt x="1923" y="3925"/>
                </a:lnTo>
                <a:lnTo>
                  <a:pt x="1817" y="3934"/>
                </a:lnTo>
                <a:lnTo>
                  <a:pt x="1778" y="3947"/>
                </a:lnTo>
                <a:lnTo>
                  <a:pt x="1671" y="3956"/>
                </a:lnTo>
                <a:lnTo>
                  <a:pt x="1631" y="3947"/>
                </a:lnTo>
                <a:lnTo>
                  <a:pt x="1587" y="3925"/>
                </a:lnTo>
                <a:lnTo>
                  <a:pt x="1428" y="3925"/>
                </a:lnTo>
                <a:lnTo>
                  <a:pt x="1375" y="3916"/>
                </a:lnTo>
                <a:lnTo>
                  <a:pt x="1243" y="3930"/>
                </a:lnTo>
                <a:lnTo>
                  <a:pt x="1203" y="3934"/>
                </a:lnTo>
                <a:lnTo>
                  <a:pt x="1045" y="3947"/>
                </a:lnTo>
                <a:lnTo>
                  <a:pt x="1005" y="3952"/>
                </a:lnTo>
                <a:lnTo>
                  <a:pt x="965" y="3952"/>
                </a:lnTo>
                <a:lnTo>
                  <a:pt x="912" y="3956"/>
                </a:lnTo>
                <a:lnTo>
                  <a:pt x="873" y="3960"/>
                </a:lnTo>
                <a:lnTo>
                  <a:pt x="820" y="3965"/>
                </a:lnTo>
                <a:lnTo>
                  <a:pt x="780" y="3982"/>
                </a:lnTo>
                <a:lnTo>
                  <a:pt x="745" y="4000"/>
                </a:lnTo>
                <a:lnTo>
                  <a:pt x="705" y="4005"/>
                </a:lnTo>
                <a:lnTo>
                  <a:pt x="670" y="4018"/>
                </a:lnTo>
                <a:lnTo>
                  <a:pt x="590" y="4040"/>
                </a:lnTo>
                <a:lnTo>
                  <a:pt x="551" y="4044"/>
                </a:lnTo>
                <a:lnTo>
                  <a:pt x="511" y="4044"/>
                </a:lnTo>
                <a:lnTo>
                  <a:pt x="458" y="4053"/>
                </a:lnTo>
                <a:lnTo>
                  <a:pt x="418" y="4040"/>
                </a:lnTo>
                <a:lnTo>
                  <a:pt x="313" y="4049"/>
                </a:lnTo>
                <a:lnTo>
                  <a:pt x="273" y="4053"/>
                </a:lnTo>
                <a:lnTo>
                  <a:pt x="194" y="4062"/>
                </a:lnTo>
                <a:lnTo>
                  <a:pt x="149" y="4053"/>
                </a:lnTo>
                <a:lnTo>
                  <a:pt x="110" y="4053"/>
                </a:lnTo>
                <a:lnTo>
                  <a:pt x="74" y="4071"/>
                </a:lnTo>
                <a:lnTo>
                  <a:pt x="70" y="405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92" name=""/>
          <p:cNvGrpSpPr/>
          <p:nvPr/>
        </p:nvGrpSpPr>
        <p:grpSpPr>
          <a:xfrm>
            <a:off x="560520" y="447840"/>
            <a:ext cx="3624120" cy="1190520"/>
            <a:chOff x="560520" y="447840"/>
            <a:chExt cx="3624120" cy="1190520"/>
          </a:xfrm>
        </p:grpSpPr>
        <p:sp>
          <p:nvSpPr>
            <p:cNvPr id="2293"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294"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nvGrpSpPr>
          <p:cNvPr id="2295" name=""/>
          <p:cNvGrpSpPr/>
          <p:nvPr/>
        </p:nvGrpSpPr>
        <p:grpSpPr>
          <a:xfrm>
            <a:off x="1236600" y="3205080"/>
            <a:ext cx="1119240" cy="959040"/>
            <a:chOff x="1236600" y="3205080"/>
            <a:chExt cx="1119240" cy="959040"/>
          </a:xfrm>
        </p:grpSpPr>
        <p:grpSp>
          <p:nvGrpSpPr>
            <p:cNvPr id="2296" name=""/>
            <p:cNvGrpSpPr/>
            <p:nvPr/>
          </p:nvGrpSpPr>
          <p:grpSpPr>
            <a:xfrm>
              <a:off x="2225520" y="3205080"/>
              <a:ext cx="130320" cy="959040"/>
              <a:chOff x="2225520" y="3205080"/>
              <a:chExt cx="130320" cy="959040"/>
            </a:xfrm>
          </p:grpSpPr>
          <p:sp>
            <p:nvSpPr>
              <p:cNvPr id="2297" name=""/>
              <p:cNvSpPr/>
              <p:nvPr/>
            </p:nvSpPr>
            <p:spPr>
              <a:xfrm>
                <a:off x="2225520" y="3205080"/>
                <a:ext cx="69840" cy="69840"/>
              </a:xfrm>
              <a:prstGeom prst="line">
                <a:avLst/>
              </a:prstGeom>
              <a:ln w="12600">
                <a:solidFill>
                  <a:srgbClr val="ffffff"/>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298" name=""/>
              <p:cNvSpPr/>
              <p:nvPr/>
            </p:nvSpPr>
            <p:spPr>
              <a:xfrm>
                <a:off x="2295360" y="327492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9" name=""/>
              <p:cNvSpPr/>
              <p:nvPr/>
            </p:nvSpPr>
            <p:spPr>
              <a:xfrm>
                <a:off x="2295360" y="3614760"/>
                <a:ext cx="60480" cy="60480"/>
              </a:xfrm>
              <a:prstGeom prst="line">
                <a:avLst/>
              </a:prstGeom>
              <a:ln w="12600">
                <a:solidFill>
                  <a:srgbClr val="ffffff"/>
                </a:solidFill>
                <a:round/>
              </a:ln>
            </p:spPr>
            <p:style>
              <a:lnRef idx="0"/>
              <a:fillRef idx="0"/>
              <a:effectRef idx="0"/>
              <a:fontRef idx="minor"/>
            </p:style>
            <p:txBody>
              <a:bodyPr lIns="96120" rIns="96120" tIns="9360" bIns="9360" anchor="t">
                <a:noAutofit/>
              </a:bodyPr>
              <a:p>
                <a:endParaRPr b="0" lang="en-US" sz="1800" spc="-1" strike="noStrike">
                  <a:solidFill>
                    <a:srgbClr val="000000"/>
                  </a:solidFill>
                  <a:latin typeface="Arial"/>
                </a:endParaRPr>
              </a:p>
            </p:txBody>
          </p:sp>
          <p:sp>
            <p:nvSpPr>
              <p:cNvPr id="2300" name=""/>
              <p:cNvSpPr/>
              <p:nvPr/>
            </p:nvSpPr>
            <p:spPr>
              <a:xfrm flipH="1">
                <a:off x="2295360" y="3675240"/>
                <a:ext cx="60480" cy="60120"/>
              </a:xfrm>
              <a:prstGeom prst="line">
                <a:avLst/>
              </a:prstGeom>
              <a:ln w="12600">
                <a:solidFill>
                  <a:srgbClr val="ffffff"/>
                </a:solidFill>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2301" name=""/>
              <p:cNvSpPr/>
              <p:nvPr/>
            </p:nvSpPr>
            <p:spPr>
              <a:xfrm>
                <a:off x="2295360" y="3735360"/>
                <a:ext cx="0" cy="37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2" name=""/>
              <p:cNvSpPr/>
              <p:nvPr/>
            </p:nvSpPr>
            <p:spPr>
              <a:xfrm flipH="1">
                <a:off x="2235240" y="4106880"/>
                <a:ext cx="57240" cy="57240"/>
              </a:xfrm>
              <a:prstGeom prst="line">
                <a:avLst/>
              </a:prstGeom>
              <a:ln w="12600">
                <a:solidFill>
                  <a:srgbClr val="ffffff"/>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grpSp>
        <p:sp>
          <p:nvSpPr>
            <p:cNvPr id="2303" name=""/>
            <p:cNvSpPr txBox="1"/>
            <p:nvPr/>
          </p:nvSpPr>
          <p:spPr>
            <a:xfrm>
              <a:off x="1236600" y="3298680"/>
              <a:ext cx="10098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eatur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0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5" name=""/>
          <p:cNvSpPr/>
          <p:nvPr/>
        </p:nvSpPr>
        <p:spPr>
          <a:xfrm>
            <a:off x="2523960" y="2063880"/>
            <a:ext cx="2540160" cy="1143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6" name=""/>
          <p:cNvSpPr/>
          <p:nvPr/>
        </p:nvSpPr>
        <p:spPr>
          <a:xfrm>
            <a:off x="2778120" y="266688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7" name=""/>
          <p:cNvSpPr/>
          <p:nvPr/>
        </p:nvSpPr>
        <p:spPr>
          <a:xfrm>
            <a:off x="4502160" y="2644920"/>
            <a:ext cx="301680" cy="301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8" name=""/>
          <p:cNvSpPr/>
          <p:nvPr/>
        </p:nvSpPr>
        <p:spPr>
          <a:xfrm>
            <a:off x="5064120" y="331776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09" name=""/>
          <p:cNvGrpSpPr/>
          <p:nvPr/>
        </p:nvGrpSpPr>
        <p:grpSpPr>
          <a:xfrm>
            <a:off x="4413240" y="2560680"/>
            <a:ext cx="507960" cy="495360"/>
            <a:chOff x="4413240" y="2560680"/>
            <a:chExt cx="507960" cy="495360"/>
          </a:xfrm>
        </p:grpSpPr>
        <p:sp>
          <p:nvSpPr>
            <p:cNvPr id="2310" name=""/>
            <p:cNvSpPr/>
            <p:nvPr/>
          </p:nvSpPr>
          <p:spPr>
            <a:xfrm>
              <a:off x="4413240" y="279720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4619520" y="2797200"/>
              <a:ext cx="6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2" name=""/>
            <p:cNvSpPr/>
            <p:nvPr/>
          </p:nvSpPr>
          <p:spPr>
            <a:xfrm>
              <a:off x="4746600" y="279720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a:off x="4653000" y="256068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a:off x="4653000" y="276696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315" name=""/>
            <p:cNvSpPr/>
            <p:nvPr/>
          </p:nvSpPr>
          <p:spPr>
            <a:xfrm>
              <a:off x="4653000" y="288144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16" name=""/>
          <p:cNvGrpSpPr/>
          <p:nvPr/>
        </p:nvGrpSpPr>
        <p:grpSpPr>
          <a:xfrm>
            <a:off x="2676600" y="2570040"/>
            <a:ext cx="507960" cy="495360"/>
            <a:chOff x="2676600" y="2570040"/>
            <a:chExt cx="507960" cy="495360"/>
          </a:xfrm>
        </p:grpSpPr>
        <p:sp>
          <p:nvSpPr>
            <p:cNvPr id="2317" name=""/>
            <p:cNvSpPr/>
            <p:nvPr/>
          </p:nvSpPr>
          <p:spPr>
            <a:xfrm>
              <a:off x="2676600" y="280656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2882880" y="28065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3009960" y="28065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0" name=""/>
            <p:cNvSpPr/>
            <p:nvPr/>
          </p:nvSpPr>
          <p:spPr>
            <a:xfrm>
              <a:off x="2916360" y="2570040"/>
              <a:ext cx="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1" name=""/>
            <p:cNvSpPr/>
            <p:nvPr/>
          </p:nvSpPr>
          <p:spPr>
            <a:xfrm>
              <a:off x="2916360" y="277668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322" name=""/>
            <p:cNvSpPr/>
            <p:nvPr/>
          </p:nvSpPr>
          <p:spPr>
            <a:xfrm>
              <a:off x="2916360" y="2890800"/>
              <a:ext cx="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23" name=""/>
          <p:cNvGrpSpPr/>
          <p:nvPr/>
        </p:nvGrpSpPr>
        <p:grpSpPr>
          <a:xfrm>
            <a:off x="2523960" y="5121360"/>
            <a:ext cx="2523960" cy="1133280"/>
            <a:chOff x="2523960" y="5121360"/>
            <a:chExt cx="2523960" cy="1133280"/>
          </a:xfrm>
        </p:grpSpPr>
        <p:sp>
          <p:nvSpPr>
            <p:cNvPr id="2324" name=""/>
            <p:cNvSpPr/>
            <p:nvPr/>
          </p:nvSpPr>
          <p:spPr>
            <a:xfrm>
              <a:off x="2523960" y="5349960"/>
              <a:ext cx="2523960" cy="619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5" name=""/>
            <p:cNvSpPr/>
            <p:nvPr/>
          </p:nvSpPr>
          <p:spPr>
            <a:xfrm>
              <a:off x="276228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6" name=""/>
            <p:cNvSpPr/>
            <p:nvPr/>
          </p:nvSpPr>
          <p:spPr>
            <a:xfrm>
              <a:off x="3048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7" name=""/>
            <p:cNvSpPr/>
            <p:nvPr/>
          </p:nvSpPr>
          <p:spPr>
            <a:xfrm>
              <a:off x="450864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8" name=""/>
            <p:cNvSpPr/>
            <p:nvPr/>
          </p:nvSpPr>
          <p:spPr>
            <a:xfrm>
              <a:off x="4794120" y="5349960"/>
              <a:ext cx="0" cy="61920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29" name=""/>
            <p:cNvGrpSpPr/>
            <p:nvPr/>
          </p:nvGrpSpPr>
          <p:grpSpPr>
            <a:xfrm>
              <a:off x="4651200" y="5127480"/>
              <a:ext cx="0" cy="1127160"/>
              <a:chOff x="4651200" y="5127480"/>
              <a:chExt cx="0" cy="1127160"/>
            </a:xfrm>
          </p:grpSpPr>
          <p:sp>
            <p:nvSpPr>
              <p:cNvPr id="2330" name=""/>
              <p:cNvSpPr/>
              <p:nvPr/>
            </p:nvSpPr>
            <p:spPr>
              <a:xfrm>
                <a:off x="4651200" y="5127480"/>
                <a:ext cx="0" cy="381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a:off x="4651200" y="560376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2332" name=""/>
              <p:cNvSpPr/>
              <p:nvPr/>
            </p:nvSpPr>
            <p:spPr>
              <a:xfrm>
                <a:off x="4651200" y="5810400"/>
                <a:ext cx="0" cy="44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33" name=""/>
            <p:cNvGrpSpPr/>
            <p:nvPr/>
          </p:nvGrpSpPr>
          <p:grpSpPr>
            <a:xfrm>
              <a:off x="2898720" y="5121360"/>
              <a:ext cx="0" cy="1127160"/>
              <a:chOff x="2898720" y="5121360"/>
              <a:chExt cx="0" cy="1127160"/>
            </a:xfrm>
          </p:grpSpPr>
          <p:sp>
            <p:nvSpPr>
              <p:cNvPr id="2334" name=""/>
              <p:cNvSpPr/>
              <p:nvPr/>
            </p:nvSpPr>
            <p:spPr>
              <a:xfrm>
                <a:off x="2898720" y="5121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5" name=""/>
              <p:cNvSpPr/>
              <p:nvPr/>
            </p:nvSpPr>
            <p:spPr>
              <a:xfrm>
                <a:off x="2898720" y="559764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2336" name=""/>
              <p:cNvSpPr/>
              <p:nvPr/>
            </p:nvSpPr>
            <p:spPr>
              <a:xfrm>
                <a:off x="2898720" y="5803920"/>
                <a:ext cx="0" cy="44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337" name=""/>
          <p:cNvSpPr/>
          <p:nvPr/>
        </p:nvSpPr>
        <p:spPr>
          <a:xfrm>
            <a:off x="2921040" y="3079800"/>
            <a:ext cx="0" cy="698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8" name=""/>
          <p:cNvSpPr/>
          <p:nvPr/>
        </p:nvSpPr>
        <p:spPr>
          <a:xfrm>
            <a:off x="4651200" y="3048120"/>
            <a:ext cx="0" cy="68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9" name=""/>
          <p:cNvSpPr/>
          <p:nvPr/>
        </p:nvSpPr>
        <p:spPr>
          <a:xfrm>
            <a:off x="4000680" y="3651120"/>
            <a:ext cx="65052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0" name=""/>
          <p:cNvSpPr/>
          <p:nvPr/>
        </p:nvSpPr>
        <p:spPr>
          <a:xfrm>
            <a:off x="5064120" y="3651120"/>
            <a:ext cx="365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1" name=""/>
          <p:cNvSpPr/>
          <p:nvPr/>
        </p:nvSpPr>
        <p:spPr>
          <a:xfrm>
            <a:off x="4921200" y="2797200"/>
            <a:ext cx="11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a:off x="5175360" y="2063880"/>
            <a:ext cx="168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flipV="1">
            <a:off x="5921280" y="1714680"/>
            <a:ext cx="0" cy="34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a:off x="5921280" y="2797200"/>
            <a:ext cx="0" cy="282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5" name=""/>
          <p:cNvSpPr/>
          <p:nvPr/>
        </p:nvSpPr>
        <p:spPr>
          <a:xfrm>
            <a:off x="5699160" y="2270160"/>
            <a:ext cx="49212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6" name=""/>
          <p:cNvSpPr txBox="1"/>
          <p:nvPr/>
        </p:nvSpPr>
        <p:spPr>
          <a:xfrm>
            <a:off x="5683320" y="227952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20.0</a:t>
            </a:r>
            <a:endParaRPr b="0" lang="en-US" sz="1600" spc="-1" strike="noStrike">
              <a:solidFill>
                <a:srgbClr val="000000"/>
              </a:solidFill>
              <a:latin typeface="Arial"/>
            </a:endParaRPr>
          </a:p>
        </p:txBody>
      </p:sp>
      <p:grpSp>
        <p:nvGrpSpPr>
          <p:cNvPr id="2347" name=""/>
          <p:cNvGrpSpPr/>
          <p:nvPr/>
        </p:nvGrpSpPr>
        <p:grpSpPr>
          <a:xfrm>
            <a:off x="5397480" y="3516480"/>
            <a:ext cx="539640" cy="336600"/>
            <a:chOff x="5397480" y="3516480"/>
            <a:chExt cx="539640" cy="336600"/>
          </a:xfrm>
        </p:grpSpPr>
        <p:sp>
          <p:nvSpPr>
            <p:cNvPr id="2348" name=""/>
            <p:cNvSpPr/>
            <p:nvPr/>
          </p:nvSpPr>
          <p:spPr>
            <a:xfrm>
              <a:off x="5423040" y="3533760"/>
              <a:ext cx="444600" cy="270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9" name=""/>
            <p:cNvSpPr txBox="1"/>
            <p:nvPr/>
          </p:nvSpPr>
          <p:spPr>
            <a:xfrm>
              <a:off x="5397480" y="3516480"/>
              <a:ext cx="5396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10.0</a:t>
              </a:r>
              <a:endParaRPr b="0" lang="en-US" sz="1600" spc="-1" strike="noStrike">
                <a:solidFill>
                  <a:srgbClr val="000000"/>
                </a:solidFill>
                <a:latin typeface="Arial"/>
              </a:endParaRPr>
            </a:p>
          </p:txBody>
        </p:sp>
      </p:grpSp>
      <p:grpSp>
        <p:nvGrpSpPr>
          <p:cNvPr id="2350" name=""/>
          <p:cNvGrpSpPr/>
          <p:nvPr/>
        </p:nvGrpSpPr>
        <p:grpSpPr>
          <a:xfrm>
            <a:off x="2921040" y="3500280"/>
            <a:ext cx="1147680" cy="336600"/>
            <a:chOff x="2921040" y="3500280"/>
            <a:chExt cx="1147680" cy="336600"/>
          </a:xfrm>
        </p:grpSpPr>
        <p:sp>
          <p:nvSpPr>
            <p:cNvPr id="2351" name=""/>
            <p:cNvSpPr/>
            <p:nvPr/>
          </p:nvSpPr>
          <p:spPr>
            <a:xfrm>
              <a:off x="3540240" y="3524400"/>
              <a:ext cx="444600" cy="270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2" name=""/>
            <p:cNvSpPr/>
            <p:nvPr/>
          </p:nvSpPr>
          <p:spPr>
            <a:xfrm flipH="1">
              <a:off x="2921040" y="3651120"/>
              <a:ext cx="619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3" name=""/>
            <p:cNvSpPr txBox="1"/>
            <p:nvPr/>
          </p:nvSpPr>
          <p:spPr>
            <a:xfrm>
              <a:off x="3529080" y="35002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8.0</a:t>
              </a:r>
              <a:endParaRPr b="0" lang="en-US" sz="1600" spc="-1" strike="noStrike">
                <a:solidFill>
                  <a:srgbClr val="000000"/>
                </a:solidFill>
                <a:latin typeface="Arial"/>
              </a:endParaRPr>
            </a:p>
          </p:txBody>
        </p:sp>
      </p:grpSp>
      <p:grpSp>
        <p:nvGrpSpPr>
          <p:cNvPr id="2354" name=""/>
          <p:cNvGrpSpPr/>
          <p:nvPr/>
        </p:nvGrpSpPr>
        <p:grpSpPr>
          <a:xfrm>
            <a:off x="5068800" y="4376880"/>
            <a:ext cx="825480" cy="291960"/>
            <a:chOff x="5068800" y="4376880"/>
            <a:chExt cx="825480" cy="291960"/>
          </a:xfrm>
        </p:grpSpPr>
        <p:sp>
          <p:nvSpPr>
            <p:cNvPr id="2355" name=""/>
            <p:cNvSpPr/>
            <p:nvPr/>
          </p:nvSpPr>
          <p:spPr>
            <a:xfrm>
              <a:off x="5602320" y="437688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6" name=""/>
            <p:cNvSpPr/>
            <p:nvPr/>
          </p:nvSpPr>
          <p:spPr>
            <a:xfrm flipH="1">
              <a:off x="5129280" y="4522680"/>
              <a:ext cx="46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7" name=""/>
            <p:cNvSpPr/>
            <p:nvPr/>
          </p:nvSpPr>
          <p:spPr>
            <a:xfrm>
              <a:off x="5068800" y="4441680"/>
              <a:ext cx="165600" cy="165600"/>
            </a:xfrm>
            <a:custGeom>
              <a:avLst/>
              <a:gdLst/>
              <a:ahLst/>
              <a:rect l="0" t="0" r="r" b="b"/>
              <a:pathLst>
                <a:path w="460" h="460">
                  <a:moveTo>
                    <a:pt x="0" y="0"/>
                  </a:moveTo>
                  <a:lnTo>
                    <a:pt x="0" y="460"/>
                  </a:lnTo>
                  <a:lnTo>
                    <a:pt x="460" y="230"/>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58" name=""/>
          <p:cNvGrpSpPr/>
          <p:nvPr/>
        </p:nvGrpSpPr>
        <p:grpSpPr>
          <a:xfrm>
            <a:off x="5979960" y="5135400"/>
            <a:ext cx="291960" cy="826200"/>
            <a:chOff x="5979960" y="5135400"/>
            <a:chExt cx="291960" cy="826200"/>
          </a:xfrm>
        </p:grpSpPr>
        <p:sp>
          <p:nvSpPr>
            <p:cNvPr id="2359" name=""/>
            <p:cNvSpPr/>
            <p:nvPr/>
          </p:nvSpPr>
          <p:spPr>
            <a:xfrm>
              <a:off x="5979960" y="513540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0" name=""/>
            <p:cNvSpPr/>
            <p:nvPr/>
          </p:nvSpPr>
          <p:spPr>
            <a:xfrm>
              <a:off x="6126120" y="5430960"/>
              <a:ext cx="0" cy="46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1" name=""/>
            <p:cNvSpPr/>
            <p:nvPr/>
          </p:nvSpPr>
          <p:spPr>
            <a:xfrm>
              <a:off x="6045120" y="5796000"/>
              <a:ext cx="165600" cy="165600"/>
            </a:xfrm>
            <a:custGeom>
              <a:avLst/>
              <a:gdLst/>
              <a:ahLst/>
              <a:rect l="0" t="0" r="r" b="b"/>
              <a:pathLst>
                <a:path w="460" h="460">
                  <a:moveTo>
                    <a:pt x="0" y="460"/>
                  </a:moveTo>
                  <a:lnTo>
                    <a:pt x="460" y="460"/>
                  </a:lnTo>
                  <a:lnTo>
                    <a:pt x="230" y="0"/>
                  </a:lnTo>
                  <a:lnTo>
                    <a:pt x="0" y="46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2362" name=""/>
          <p:cNvSpPr/>
          <p:nvPr/>
        </p:nvSpPr>
        <p:spPr>
          <a:xfrm>
            <a:off x="5159520" y="5969160"/>
            <a:ext cx="136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3" name=""/>
          <p:cNvSpPr txBox="1"/>
          <p:nvPr/>
        </p:nvSpPr>
        <p:spPr>
          <a:xfrm>
            <a:off x="5962680" y="51354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2364" name=""/>
          <p:cNvSpPr txBox="1"/>
          <p:nvPr/>
        </p:nvSpPr>
        <p:spPr>
          <a:xfrm>
            <a:off x="5619600" y="437364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B</a:t>
            </a:r>
            <a:endParaRPr b="0" lang="en-US" sz="1600" spc="-1" strike="noStrike">
              <a:solidFill>
                <a:srgbClr val="000000"/>
              </a:solidFill>
              <a:latin typeface="Arial"/>
            </a:endParaRPr>
          </a:p>
        </p:txBody>
      </p:sp>
      <p:grpSp>
        <p:nvGrpSpPr>
          <p:cNvPr id="2365" name=""/>
          <p:cNvGrpSpPr/>
          <p:nvPr/>
        </p:nvGrpSpPr>
        <p:grpSpPr>
          <a:xfrm>
            <a:off x="6175440" y="1353960"/>
            <a:ext cx="318960" cy="699120"/>
            <a:chOff x="6175440" y="1353960"/>
            <a:chExt cx="318960" cy="699120"/>
          </a:xfrm>
        </p:grpSpPr>
        <p:sp>
          <p:nvSpPr>
            <p:cNvPr id="2366" name=""/>
            <p:cNvSpPr/>
            <p:nvPr/>
          </p:nvSpPr>
          <p:spPr>
            <a:xfrm>
              <a:off x="6329520" y="1666800"/>
              <a:ext cx="0" cy="325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7" name=""/>
            <p:cNvSpPr/>
            <p:nvPr/>
          </p:nvSpPr>
          <p:spPr>
            <a:xfrm>
              <a:off x="6248520" y="1887480"/>
              <a:ext cx="165600" cy="165600"/>
            </a:xfrm>
            <a:custGeom>
              <a:avLst/>
              <a:gdLst/>
              <a:ahLst/>
              <a:rect l="0" t="0" r="r" b="b"/>
              <a:pathLst>
                <a:path w="460" h="460">
                  <a:moveTo>
                    <a:pt x="0" y="460"/>
                  </a:moveTo>
                  <a:lnTo>
                    <a:pt x="460" y="460"/>
                  </a:lnTo>
                  <a:lnTo>
                    <a:pt x="230" y="0"/>
                  </a:lnTo>
                  <a:lnTo>
                    <a:pt x="0" y="46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68" name=""/>
            <p:cNvGrpSpPr/>
            <p:nvPr/>
          </p:nvGrpSpPr>
          <p:grpSpPr>
            <a:xfrm>
              <a:off x="6175440" y="1353960"/>
              <a:ext cx="318960" cy="341640"/>
              <a:chOff x="6175440" y="1353960"/>
              <a:chExt cx="318960" cy="341640"/>
            </a:xfrm>
          </p:grpSpPr>
          <p:sp>
            <p:nvSpPr>
              <p:cNvPr id="2369" name=""/>
              <p:cNvSpPr/>
              <p:nvPr/>
            </p:nvSpPr>
            <p:spPr>
              <a:xfrm>
                <a:off x="6183360" y="1353960"/>
                <a:ext cx="29196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0" name=""/>
              <p:cNvSpPr txBox="1"/>
              <p:nvPr/>
            </p:nvSpPr>
            <p:spPr>
              <a:xfrm>
                <a:off x="6175440" y="1359000"/>
                <a:ext cx="31896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grpSp>
      </p:grpSp>
      <p:sp>
        <p:nvSpPr>
          <p:cNvPr id="2371" name=""/>
          <p:cNvSpPr/>
          <p:nvPr/>
        </p:nvSpPr>
        <p:spPr>
          <a:xfrm>
            <a:off x="5159520" y="3191040"/>
            <a:ext cx="171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2" name=""/>
          <p:cNvSpPr/>
          <p:nvPr/>
        </p:nvSpPr>
        <p:spPr>
          <a:xfrm flipV="1">
            <a:off x="6715080" y="2079720"/>
            <a:ext cx="0" cy="253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3" name=""/>
          <p:cNvSpPr/>
          <p:nvPr/>
        </p:nvSpPr>
        <p:spPr>
          <a:xfrm>
            <a:off x="6730920" y="2857680"/>
            <a:ext cx="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4" name=""/>
          <p:cNvSpPr txBox="1"/>
          <p:nvPr/>
        </p:nvSpPr>
        <p:spPr>
          <a:xfrm>
            <a:off x="5483160" y="422280"/>
            <a:ext cx="431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X</a:t>
            </a:r>
            <a:endParaRPr b="0" lang="en-US" sz="1600" spc="-1" strike="noStrike">
              <a:solidFill>
                <a:srgbClr val="000000"/>
              </a:solidFill>
              <a:latin typeface="Arial"/>
            </a:endParaRPr>
          </a:p>
        </p:txBody>
      </p:sp>
      <p:sp>
        <p:nvSpPr>
          <p:cNvPr id="2375" name=""/>
          <p:cNvSpPr txBox="1"/>
          <p:nvPr/>
        </p:nvSpPr>
        <p:spPr>
          <a:xfrm>
            <a:off x="6099120" y="279360"/>
            <a:ext cx="438120" cy="58104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6.0</a:t>
            </a:r>
            <a:endParaRPr b="0" lang="en-US" sz="1600" spc="-1" strike="noStrike">
              <a:solidFill>
                <a:srgbClr val="000000"/>
              </a:solidFill>
              <a:latin typeface="Arial"/>
            </a:endParaRPr>
          </a:p>
          <a:p>
            <a:pPr algn="ctr">
              <a:lnSpc>
                <a:spcPct val="100000"/>
              </a:lnSpc>
            </a:pPr>
            <a:r>
              <a:rPr b="0" lang="en-US" sz="1600" spc="-1" strike="noStrike">
                <a:solidFill>
                  <a:srgbClr val="ffffff"/>
                </a:solidFill>
                <a:latin typeface="Times New Roman"/>
                <a:ea typeface="Times New Roman"/>
              </a:rPr>
              <a:t>5.6</a:t>
            </a:r>
            <a:endParaRPr b="0" lang="en-US" sz="1600" spc="-1" strike="noStrike">
              <a:solidFill>
                <a:srgbClr val="000000"/>
              </a:solidFill>
              <a:latin typeface="Arial"/>
            </a:endParaRPr>
          </a:p>
        </p:txBody>
      </p:sp>
      <p:grpSp>
        <p:nvGrpSpPr>
          <p:cNvPr id="2376" name=""/>
          <p:cNvGrpSpPr/>
          <p:nvPr/>
        </p:nvGrpSpPr>
        <p:grpSpPr>
          <a:xfrm>
            <a:off x="5952960" y="460440"/>
            <a:ext cx="174960" cy="174600"/>
            <a:chOff x="5952960" y="460440"/>
            <a:chExt cx="174960" cy="174600"/>
          </a:xfrm>
        </p:grpSpPr>
        <p:sp>
          <p:nvSpPr>
            <p:cNvPr id="2377" name=""/>
            <p:cNvSpPr/>
            <p:nvPr/>
          </p:nvSpPr>
          <p:spPr>
            <a:xfrm>
              <a:off x="5969160" y="47628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flipH="1">
              <a:off x="5952960" y="460440"/>
              <a:ext cx="17496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9" name=""/>
          <p:cNvSpPr/>
          <p:nvPr/>
        </p:nvSpPr>
        <p:spPr>
          <a:xfrm>
            <a:off x="5619600" y="888840"/>
            <a:ext cx="203184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0" name=""/>
          <p:cNvGrpSpPr/>
          <p:nvPr/>
        </p:nvGrpSpPr>
        <p:grpSpPr>
          <a:xfrm>
            <a:off x="5683320" y="927000"/>
            <a:ext cx="237960" cy="228600"/>
            <a:chOff x="5683320" y="927000"/>
            <a:chExt cx="237960" cy="228600"/>
          </a:xfrm>
        </p:grpSpPr>
        <p:sp>
          <p:nvSpPr>
            <p:cNvPr id="2381" name=""/>
            <p:cNvSpPr/>
            <p:nvPr/>
          </p:nvSpPr>
          <p:spPr>
            <a:xfrm>
              <a:off x="5721480" y="955800"/>
              <a:ext cx="17460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2" name=""/>
            <p:cNvSpPr/>
            <p:nvPr/>
          </p:nvSpPr>
          <p:spPr>
            <a:xfrm>
              <a:off x="5810400" y="92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3" name=""/>
            <p:cNvSpPr/>
            <p:nvPr/>
          </p:nvSpPr>
          <p:spPr>
            <a:xfrm>
              <a:off x="5683320" y="1044720"/>
              <a:ext cx="23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84" name=""/>
          <p:cNvSpPr/>
          <p:nvPr/>
        </p:nvSpPr>
        <p:spPr>
          <a:xfrm>
            <a:off x="5994360" y="90180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85" name=""/>
          <p:cNvGrpSpPr/>
          <p:nvPr/>
        </p:nvGrpSpPr>
        <p:grpSpPr>
          <a:xfrm>
            <a:off x="6073920" y="949320"/>
            <a:ext cx="174600" cy="174600"/>
            <a:chOff x="6073920" y="949320"/>
            <a:chExt cx="174600" cy="174600"/>
          </a:xfrm>
        </p:grpSpPr>
        <p:sp>
          <p:nvSpPr>
            <p:cNvPr id="2386" name=""/>
            <p:cNvSpPr/>
            <p:nvPr/>
          </p:nvSpPr>
          <p:spPr>
            <a:xfrm>
              <a:off x="6089760" y="965160"/>
              <a:ext cx="142920" cy="142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flipH="1">
              <a:off x="6073920" y="949320"/>
              <a:ext cx="174600" cy="174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88" name=""/>
          <p:cNvSpPr txBox="1"/>
          <p:nvPr/>
        </p:nvSpPr>
        <p:spPr>
          <a:xfrm>
            <a:off x="6251400" y="879480"/>
            <a:ext cx="2858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a:t>
            </a:r>
            <a:endParaRPr b="0" lang="en-US" sz="1600" spc="-1" strike="noStrike">
              <a:solidFill>
                <a:srgbClr val="000000"/>
              </a:solidFill>
              <a:latin typeface="Arial"/>
            </a:endParaRPr>
          </a:p>
        </p:txBody>
      </p:sp>
      <p:sp>
        <p:nvSpPr>
          <p:cNvPr id="2389" name=""/>
          <p:cNvSpPr/>
          <p:nvPr/>
        </p:nvSpPr>
        <p:spPr>
          <a:xfrm>
            <a:off x="6556320" y="914400"/>
            <a:ext cx="254160" cy="254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90" name=""/>
          <p:cNvSpPr txBox="1"/>
          <p:nvPr/>
        </p:nvSpPr>
        <p:spPr>
          <a:xfrm>
            <a:off x="6500880" y="879480"/>
            <a:ext cx="36504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2391" name=""/>
          <p:cNvSpPr/>
          <p:nvPr/>
        </p:nvSpPr>
        <p:spPr>
          <a:xfrm>
            <a:off x="6908760" y="898560"/>
            <a:ext cx="0" cy="285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txBox="1"/>
          <p:nvPr/>
        </p:nvSpPr>
        <p:spPr>
          <a:xfrm>
            <a:off x="6864480" y="8701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2393" name=""/>
          <p:cNvSpPr/>
          <p:nvPr/>
        </p:nvSpPr>
        <p:spPr>
          <a:xfrm>
            <a:off x="7159680" y="898560"/>
            <a:ext cx="0" cy="282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4" name=""/>
          <p:cNvSpPr/>
          <p:nvPr/>
        </p:nvSpPr>
        <p:spPr>
          <a:xfrm>
            <a:off x="7413480" y="901800"/>
            <a:ext cx="0" cy="27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5" name=""/>
          <p:cNvSpPr txBox="1"/>
          <p:nvPr/>
        </p:nvSpPr>
        <p:spPr>
          <a:xfrm>
            <a:off x="7122960" y="870120"/>
            <a:ext cx="330120" cy="336600"/>
          </a:xfrm>
          <a:prstGeom prst="rect">
            <a:avLst/>
          </a:prstGeom>
          <a:noFill/>
          <a:ln w="0">
            <a:noFill/>
          </a:ln>
        </p:spPr>
        <p:txBody>
          <a:bodyPr lIns="0" rIns="0" tIns="0" bIns="0" anchor="t">
            <a:noAutofit/>
          </a:bodyPr>
          <a:p>
            <a:pPr algn="ctr">
              <a:lnSpc>
                <a:spcPct val="100000"/>
              </a:lnSpc>
            </a:pPr>
            <a:r>
              <a:rPr b="1" lang="en-US" sz="1600" spc="-1" strike="noStrike">
                <a:solidFill>
                  <a:srgbClr val="fafd00"/>
                </a:solidFill>
                <a:latin typeface="Times New Roman"/>
                <a:ea typeface="Times New Roman"/>
              </a:rPr>
              <a:t>C</a:t>
            </a:r>
            <a:endParaRPr b="0" lang="en-US" sz="1600" spc="-1" strike="noStrike">
              <a:solidFill>
                <a:srgbClr val="000000"/>
              </a:solidFill>
              <a:latin typeface="Arial"/>
            </a:endParaRPr>
          </a:p>
        </p:txBody>
      </p:sp>
      <p:sp>
        <p:nvSpPr>
          <p:cNvPr id="2396" name=""/>
          <p:cNvSpPr txBox="1"/>
          <p:nvPr/>
        </p:nvSpPr>
        <p:spPr>
          <a:xfrm>
            <a:off x="7365960" y="863640"/>
            <a:ext cx="318960" cy="336600"/>
          </a:xfrm>
          <a:prstGeom prst="rect">
            <a:avLst/>
          </a:prstGeom>
          <a:noFill/>
          <a:ln w="0">
            <a:noFill/>
          </a:ln>
        </p:spPr>
        <p:txBody>
          <a:bodyPr lIns="0" rIns="0" tIns="0" bIns="0" anchor="t">
            <a:noAutofit/>
          </a:bodyPr>
          <a:p>
            <a:pPr algn="ctr">
              <a:lnSpc>
                <a:spcPct val="100000"/>
              </a:lnSpc>
            </a:pPr>
            <a:r>
              <a:rPr b="1" lang="en-US" sz="1600" spc="-1" strike="noStrike">
                <a:solidFill>
                  <a:srgbClr val="fafd00"/>
                </a:solidFill>
                <a:latin typeface="Times New Roman"/>
                <a:ea typeface="Times New Roman"/>
              </a:rPr>
              <a:t>B</a:t>
            </a:r>
            <a:endParaRPr b="0" lang="en-US" sz="1600" spc="-1" strike="noStrike">
              <a:solidFill>
                <a:srgbClr val="000000"/>
              </a:solidFill>
              <a:latin typeface="Arial"/>
            </a:endParaRPr>
          </a:p>
        </p:txBody>
      </p:sp>
      <p:sp>
        <p:nvSpPr>
          <p:cNvPr id="2397" name=""/>
          <p:cNvSpPr txBox="1"/>
          <p:nvPr/>
        </p:nvSpPr>
        <p:spPr>
          <a:xfrm>
            <a:off x="563400" y="409104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398" name=""/>
          <p:cNvSpPr/>
          <p:nvPr/>
        </p:nvSpPr>
        <p:spPr>
          <a:xfrm flipH="1">
            <a:off x="5349960" y="55548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9" name=""/>
          <p:cNvSpPr/>
          <p:nvPr/>
        </p:nvSpPr>
        <p:spPr>
          <a:xfrm flipH="1">
            <a:off x="4714920" y="555480"/>
            <a:ext cx="635040" cy="209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0" name=""/>
          <p:cNvSpPr/>
          <p:nvPr/>
        </p:nvSpPr>
        <p:spPr>
          <a:xfrm>
            <a:off x="7061040" y="709560"/>
            <a:ext cx="706320" cy="706320"/>
          </a:xfrm>
          <a:prstGeom prst="ellipse">
            <a:avLst/>
          </a:prstGeom>
          <a:noFill/>
          <a:ln w="25560">
            <a:solidFill>
              <a:srgbClr val="fd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401" name=""/>
          <p:cNvSpPr txBox="1"/>
          <p:nvPr/>
        </p:nvSpPr>
        <p:spPr>
          <a:xfrm>
            <a:off x="6432480" y="23432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30.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30.0</a:t>
            </a:r>
            <a:endParaRPr b="0" lang="en-US" sz="1600" spc="-1" strike="noStrike">
              <a:solidFill>
                <a:srgbClr val="000000"/>
              </a:solidFill>
              <a:latin typeface="Arial"/>
            </a:endParaRPr>
          </a:p>
        </p:txBody>
      </p:sp>
      <p:grpSp>
        <p:nvGrpSpPr>
          <p:cNvPr id="2402" name=""/>
          <p:cNvGrpSpPr/>
          <p:nvPr/>
        </p:nvGrpSpPr>
        <p:grpSpPr>
          <a:xfrm>
            <a:off x="560520" y="447840"/>
            <a:ext cx="3624120" cy="1190520"/>
            <a:chOff x="560520" y="447840"/>
            <a:chExt cx="3624120" cy="1190520"/>
          </a:xfrm>
        </p:grpSpPr>
        <p:sp>
          <p:nvSpPr>
            <p:cNvPr id="2403"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404"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0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6" name=""/>
          <p:cNvSpPr txBox="1"/>
          <p:nvPr/>
        </p:nvSpPr>
        <p:spPr>
          <a:xfrm>
            <a:off x="369720" y="50436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407"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8" name=""/>
          <p:cNvSpPr txBox="1"/>
          <p:nvPr/>
        </p:nvSpPr>
        <p:spPr>
          <a:xfrm>
            <a:off x="3027240" y="5241960"/>
            <a:ext cx="507996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ree points of contact on datum A (minim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wo points of contact on datum C (minim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ne point of contact on datum B (minim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s now in tolerance with datum C.</a:t>
            </a:r>
            <a:endParaRPr b="0" lang="en-US" sz="2000" spc="-1" strike="noStrike">
              <a:solidFill>
                <a:srgbClr val="000000"/>
              </a:solidFill>
              <a:latin typeface="Arial"/>
            </a:endParaRPr>
          </a:p>
        </p:txBody>
      </p:sp>
      <p:sp>
        <p:nvSpPr>
          <p:cNvPr id="2409" name=""/>
          <p:cNvSpPr/>
          <p:nvPr/>
        </p:nvSpPr>
        <p:spPr>
          <a:xfrm flipH="1">
            <a:off x="1646280" y="255276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0" name=""/>
          <p:cNvSpPr txBox="1"/>
          <p:nvPr/>
        </p:nvSpPr>
        <p:spPr>
          <a:xfrm>
            <a:off x="4303800" y="44830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2411" name=""/>
          <p:cNvSpPr txBox="1"/>
          <p:nvPr/>
        </p:nvSpPr>
        <p:spPr>
          <a:xfrm>
            <a:off x="334800" y="27352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2412" name=""/>
          <p:cNvSpPr/>
          <p:nvPr/>
        </p:nvSpPr>
        <p:spPr>
          <a:xfrm>
            <a:off x="1413000" y="29145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3" name=""/>
          <p:cNvSpPr/>
          <p:nvPr/>
        </p:nvSpPr>
        <p:spPr>
          <a:xfrm flipV="1">
            <a:off x="1650960" y="2581200"/>
            <a:ext cx="33336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4" name=""/>
          <p:cNvSpPr/>
          <p:nvPr/>
        </p:nvSpPr>
        <p:spPr>
          <a:xfrm flipV="1">
            <a:off x="5514840" y="43149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flipH="1">
            <a:off x="5326200" y="469116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6" name=""/>
          <p:cNvSpPr/>
          <p:nvPr/>
        </p:nvSpPr>
        <p:spPr>
          <a:xfrm>
            <a:off x="3257640" y="43671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2417" name=""/>
          <p:cNvSpPr txBox="1"/>
          <p:nvPr/>
        </p:nvSpPr>
        <p:spPr>
          <a:xfrm>
            <a:off x="1817640" y="4522680"/>
            <a:ext cx="10288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A</a:t>
            </a:r>
            <a:endParaRPr b="0" lang="en-US" sz="1800" spc="-1" strike="noStrike">
              <a:solidFill>
                <a:srgbClr val="000000"/>
              </a:solidFill>
              <a:latin typeface="Arial"/>
            </a:endParaRPr>
          </a:p>
        </p:txBody>
      </p:sp>
      <p:sp>
        <p:nvSpPr>
          <p:cNvPr id="2418" name=""/>
          <p:cNvSpPr/>
          <p:nvPr/>
        </p:nvSpPr>
        <p:spPr>
          <a:xfrm>
            <a:off x="2905200" y="2540160"/>
            <a:ext cx="3571920" cy="22701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9" name=""/>
          <p:cNvSpPr/>
          <p:nvPr/>
        </p:nvSpPr>
        <p:spPr>
          <a:xfrm>
            <a:off x="3000240" y="2540160"/>
            <a:ext cx="3476880" cy="1572120"/>
          </a:xfrm>
          <a:custGeom>
            <a:avLst/>
            <a:gdLst/>
            <a:ahLst/>
            <a:rect l="0" t="0" r="r" b="b"/>
            <a:pathLst>
              <a:path w="9658" h="4367">
                <a:moveTo>
                  <a:pt x="132" y="132"/>
                </a:moveTo>
                <a:lnTo>
                  <a:pt x="308" y="176"/>
                </a:lnTo>
                <a:lnTo>
                  <a:pt x="440" y="176"/>
                </a:lnTo>
                <a:lnTo>
                  <a:pt x="573" y="176"/>
                </a:lnTo>
                <a:lnTo>
                  <a:pt x="705" y="176"/>
                </a:lnTo>
                <a:lnTo>
                  <a:pt x="837" y="132"/>
                </a:lnTo>
                <a:lnTo>
                  <a:pt x="970" y="88"/>
                </a:lnTo>
                <a:lnTo>
                  <a:pt x="1102" y="88"/>
                </a:lnTo>
                <a:lnTo>
                  <a:pt x="1234" y="44"/>
                </a:lnTo>
                <a:lnTo>
                  <a:pt x="1367" y="44"/>
                </a:lnTo>
                <a:lnTo>
                  <a:pt x="1499" y="44"/>
                </a:lnTo>
                <a:lnTo>
                  <a:pt x="1631" y="88"/>
                </a:lnTo>
                <a:lnTo>
                  <a:pt x="1763" y="132"/>
                </a:lnTo>
                <a:lnTo>
                  <a:pt x="1940" y="132"/>
                </a:lnTo>
                <a:lnTo>
                  <a:pt x="2072" y="132"/>
                </a:lnTo>
                <a:lnTo>
                  <a:pt x="2204" y="132"/>
                </a:lnTo>
                <a:lnTo>
                  <a:pt x="2337" y="88"/>
                </a:lnTo>
                <a:lnTo>
                  <a:pt x="2469" y="88"/>
                </a:lnTo>
                <a:lnTo>
                  <a:pt x="2601" y="132"/>
                </a:lnTo>
                <a:lnTo>
                  <a:pt x="2778" y="176"/>
                </a:lnTo>
                <a:lnTo>
                  <a:pt x="2954" y="176"/>
                </a:lnTo>
                <a:lnTo>
                  <a:pt x="3263" y="176"/>
                </a:lnTo>
                <a:lnTo>
                  <a:pt x="3395" y="176"/>
                </a:lnTo>
                <a:lnTo>
                  <a:pt x="3527" y="176"/>
                </a:lnTo>
                <a:lnTo>
                  <a:pt x="3660" y="176"/>
                </a:lnTo>
                <a:lnTo>
                  <a:pt x="3836" y="264"/>
                </a:lnTo>
                <a:lnTo>
                  <a:pt x="3968" y="264"/>
                </a:lnTo>
                <a:lnTo>
                  <a:pt x="4101" y="264"/>
                </a:lnTo>
                <a:lnTo>
                  <a:pt x="4233" y="264"/>
                </a:lnTo>
                <a:lnTo>
                  <a:pt x="4365" y="264"/>
                </a:lnTo>
                <a:lnTo>
                  <a:pt x="4497" y="264"/>
                </a:lnTo>
                <a:lnTo>
                  <a:pt x="4630" y="264"/>
                </a:lnTo>
                <a:lnTo>
                  <a:pt x="4762" y="176"/>
                </a:lnTo>
                <a:lnTo>
                  <a:pt x="4939" y="176"/>
                </a:lnTo>
                <a:lnTo>
                  <a:pt x="5072" y="132"/>
                </a:lnTo>
                <a:lnTo>
                  <a:pt x="5204" y="88"/>
                </a:lnTo>
                <a:lnTo>
                  <a:pt x="5336" y="88"/>
                </a:lnTo>
                <a:lnTo>
                  <a:pt x="5469" y="88"/>
                </a:lnTo>
                <a:lnTo>
                  <a:pt x="5645" y="88"/>
                </a:lnTo>
                <a:lnTo>
                  <a:pt x="5777" y="88"/>
                </a:lnTo>
                <a:lnTo>
                  <a:pt x="6086" y="88"/>
                </a:lnTo>
                <a:lnTo>
                  <a:pt x="6218" y="88"/>
                </a:lnTo>
                <a:lnTo>
                  <a:pt x="6351" y="88"/>
                </a:lnTo>
                <a:lnTo>
                  <a:pt x="6483" y="44"/>
                </a:lnTo>
                <a:lnTo>
                  <a:pt x="6615" y="0"/>
                </a:lnTo>
                <a:lnTo>
                  <a:pt x="6747" y="44"/>
                </a:lnTo>
                <a:lnTo>
                  <a:pt x="6924" y="44"/>
                </a:lnTo>
                <a:lnTo>
                  <a:pt x="7056" y="88"/>
                </a:lnTo>
                <a:lnTo>
                  <a:pt x="7188" y="132"/>
                </a:lnTo>
                <a:lnTo>
                  <a:pt x="7321" y="176"/>
                </a:lnTo>
                <a:lnTo>
                  <a:pt x="7453" y="176"/>
                </a:lnTo>
                <a:lnTo>
                  <a:pt x="7585" y="176"/>
                </a:lnTo>
                <a:lnTo>
                  <a:pt x="7718" y="176"/>
                </a:lnTo>
                <a:lnTo>
                  <a:pt x="7850" y="176"/>
                </a:lnTo>
                <a:lnTo>
                  <a:pt x="7982" y="176"/>
                </a:lnTo>
                <a:lnTo>
                  <a:pt x="8114" y="176"/>
                </a:lnTo>
                <a:lnTo>
                  <a:pt x="8247" y="176"/>
                </a:lnTo>
                <a:lnTo>
                  <a:pt x="8379" y="176"/>
                </a:lnTo>
                <a:lnTo>
                  <a:pt x="8511" y="176"/>
                </a:lnTo>
                <a:lnTo>
                  <a:pt x="8688" y="132"/>
                </a:lnTo>
                <a:lnTo>
                  <a:pt x="8820" y="132"/>
                </a:lnTo>
                <a:lnTo>
                  <a:pt x="8952" y="132"/>
                </a:lnTo>
                <a:lnTo>
                  <a:pt x="9085" y="88"/>
                </a:lnTo>
                <a:lnTo>
                  <a:pt x="9217" y="88"/>
                </a:lnTo>
                <a:lnTo>
                  <a:pt x="9349" y="88"/>
                </a:lnTo>
                <a:lnTo>
                  <a:pt x="9481" y="44"/>
                </a:lnTo>
                <a:lnTo>
                  <a:pt x="9614" y="44"/>
                </a:lnTo>
                <a:lnTo>
                  <a:pt x="9658" y="176"/>
                </a:lnTo>
                <a:lnTo>
                  <a:pt x="9658" y="308"/>
                </a:lnTo>
                <a:lnTo>
                  <a:pt x="9658" y="440"/>
                </a:lnTo>
                <a:lnTo>
                  <a:pt x="9614" y="573"/>
                </a:lnTo>
                <a:lnTo>
                  <a:pt x="9570" y="705"/>
                </a:lnTo>
                <a:lnTo>
                  <a:pt x="9570" y="837"/>
                </a:lnTo>
                <a:lnTo>
                  <a:pt x="9570" y="970"/>
                </a:lnTo>
                <a:lnTo>
                  <a:pt x="9570" y="1103"/>
                </a:lnTo>
                <a:lnTo>
                  <a:pt x="9570" y="1235"/>
                </a:lnTo>
                <a:lnTo>
                  <a:pt x="9570" y="1368"/>
                </a:lnTo>
                <a:lnTo>
                  <a:pt x="9570" y="1500"/>
                </a:lnTo>
                <a:lnTo>
                  <a:pt x="9526" y="1632"/>
                </a:lnTo>
                <a:lnTo>
                  <a:pt x="9481" y="1764"/>
                </a:lnTo>
                <a:lnTo>
                  <a:pt x="9481" y="1941"/>
                </a:lnTo>
                <a:lnTo>
                  <a:pt x="9481" y="2073"/>
                </a:lnTo>
                <a:lnTo>
                  <a:pt x="9437" y="2205"/>
                </a:lnTo>
                <a:lnTo>
                  <a:pt x="9393" y="2338"/>
                </a:lnTo>
                <a:lnTo>
                  <a:pt x="9349" y="2470"/>
                </a:lnTo>
                <a:lnTo>
                  <a:pt x="9349" y="2602"/>
                </a:lnTo>
                <a:lnTo>
                  <a:pt x="9305" y="2735"/>
                </a:lnTo>
                <a:lnTo>
                  <a:pt x="9305" y="2867"/>
                </a:lnTo>
                <a:lnTo>
                  <a:pt x="9305" y="2999"/>
                </a:lnTo>
                <a:lnTo>
                  <a:pt x="9305" y="3131"/>
                </a:lnTo>
                <a:lnTo>
                  <a:pt x="9305" y="3264"/>
                </a:lnTo>
                <a:lnTo>
                  <a:pt x="9305" y="3397"/>
                </a:lnTo>
                <a:lnTo>
                  <a:pt x="9305" y="3529"/>
                </a:lnTo>
                <a:lnTo>
                  <a:pt x="9261" y="3662"/>
                </a:lnTo>
                <a:lnTo>
                  <a:pt x="9217" y="3794"/>
                </a:lnTo>
                <a:lnTo>
                  <a:pt x="9217" y="3970"/>
                </a:lnTo>
                <a:lnTo>
                  <a:pt x="9217" y="4235"/>
                </a:lnTo>
                <a:lnTo>
                  <a:pt x="9129" y="4367"/>
                </a:lnTo>
                <a:lnTo>
                  <a:pt x="8996" y="4279"/>
                </a:lnTo>
                <a:lnTo>
                  <a:pt x="8864" y="4323"/>
                </a:lnTo>
                <a:lnTo>
                  <a:pt x="8732" y="4323"/>
                </a:lnTo>
                <a:lnTo>
                  <a:pt x="8599" y="4323"/>
                </a:lnTo>
                <a:lnTo>
                  <a:pt x="8467" y="4323"/>
                </a:lnTo>
                <a:lnTo>
                  <a:pt x="8291" y="4323"/>
                </a:lnTo>
                <a:lnTo>
                  <a:pt x="8158" y="4323"/>
                </a:lnTo>
                <a:lnTo>
                  <a:pt x="7850" y="4323"/>
                </a:lnTo>
                <a:lnTo>
                  <a:pt x="7718" y="4323"/>
                </a:lnTo>
                <a:lnTo>
                  <a:pt x="7321" y="4323"/>
                </a:lnTo>
                <a:lnTo>
                  <a:pt x="7144" y="4323"/>
                </a:lnTo>
                <a:lnTo>
                  <a:pt x="7012" y="4367"/>
                </a:lnTo>
                <a:lnTo>
                  <a:pt x="6880" y="4367"/>
                </a:lnTo>
                <a:lnTo>
                  <a:pt x="6747" y="4367"/>
                </a:lnTo>
                <a:lnTo>
                  <a:pt x="6615" y="4367"/>
                </a:lnTo>
                <a:lnTo>
                  <a:pt x="6439" y="4367"/>
                </a:lnTo>
                <a:lnTo>
                  <a:pt x="6306" y="4323"/>
                </a:lnTo>
                <a:lnTo>
                  <a:pt x="6174" y="4323"/>
                </a:lnTo>
                <a:lnTo>
                  <a:pt x="6042" y="4279"/>
                </a:lnTo>
                <a:lnTo>
                  <a:pt x="5865" y="4235"/>
                </a:lnTo>
                <a:lnTo>
                  <a:pt x="5733" y="4235"/>
                </a:lnTo>
                <a:lnTo>
                  <a:pt x="5380" y="4235"/>
                </a:lnTo>
                <a:lnTo>
                  <a:pt x="5248" y="4235"/>
                </a:lnTo>
                <a:lnTo>
                  <a:pt x="5072" y="4279"/>
                </a:lnTo>
                <a:lnTo>
                  <a:pt x="4939" y="4279"/>
                </a:lnTo>
                <a:lnTo>
                  <a:pt x="4806" y="4279"/>
                </a:lnTo>
                <a:lnTo>
                  <a:pt x="4674" y="4323"/>
                </a:lnTo>
                <a:lnTo>
                  <a:pt x="4542" y="4367"/>
                </a:lnTo>
                <a:lnTo>
                  <a:pt x="4409" y="4367"/>
                </a:lnTo>
                <a:lnTo>
                  <a:pt x="4145" y="4367"/>
                </a:lnTo>
                <a:lnTo>
                  <a:pt x="3792" y="4367"/>
                </a:lnTo>
                <a:lnTo>
                  <a:pt x="3527" y="4367"/>
                </a:lnTo>
                <a:lnTo>
                  <a:pt x="3395" y="4367"/>
                </a:lnTo>
                <a:lnTo>
                  <a:pt x="2954" y="4367"/>
                </a:lnTo>
                <a:lnTo>
                  <a:pt x="2778" y="4367"/>
                </a:lnTo>
                <a:lnTo>
                  <a:pt x="2601" y="4367"/>
                </a:lnTo>
                <a:lnTo>
                  <a:pt x="2469" y="4367"/>
                </a:lnTo>
                <a:lnTo>
                  <a:pt x="2337" y="4279"/>
                </a:lnTo>
                <a:lnTo>
                  <a:pt x="2204" y="4279"/>
                </a:lnTo>
                <a:lnTo>
                  <a:pt x="1896" y="4235"/>
                </a:lnTo>
                <a:lnTo>
                  <a:pt x="1763" y="4235"/>
                </a:lnTo>
                <a:lnTo>
                  <a:pt x="1455" y="4235"/>
                </a:lnTo>
                <a:lnTo>
                  <a:pt x="1322" y="4235"/>
                </a:lnTo>
                <a:lnTo>
                  <a:pt x="1190" y="4235"/>
                </a:lnTo>
                <a:lnTo>
                  <a:pt x="1058" y="4235"/>
                </a:lnTo>
                <a:lnTo>
                  <a:pt x="926" y="4235"/>
                </a:lnTo>
                <a:lnTo>
                  <a:pt x="793" y="4235"/>
                </a:lnTo>
                <a:lnTo>
                  <a:pt x="661" y="4235"/>
                </a:lnTo>
                <a:lnTo>
                  <a:pt x="529" y="4235"/>
                </a:lnTo>
                <a:lnTo>
                  <a:pt x="396" y="4235"/>
                </a:lnTo>
                <a:lnTo>
                  <a:pt x="264" y="4235"/>
                </a:lnTo>
                <a:lnTo>
                  <a:pt x="132" y="4279"/>
                </a:lnTo>
                <a:lnTo>
                  <a:pt x="44" y="4147"/>
                </a:lnTo>
                <a:lnTo>
                  <a:pt x="44" y="4014"/>
                </a:lnTo>
                <a:lnTo>
                  <a:pt x="44" y="3882"/>
                </a:lnTo>
                <a:lnTo>
                  <a:pt x="44" y="3750"/>
                </a:lnTo>
                <a:lnTo>
                  <a:pt x="44" y="3617"/>
                </a:lnTo>
                <a:lnTo>
                  <a:pt x="44" y="3485"/>
                </a:lnTo>
                <a:lnTo>
                  <a:pt x="44" y="3353"/>
                </a:lnTo>
                <a:lnTo>
                  <a:pt x="0" y="3220"/>
                </a:lnTo>
                <a:lnTo>
                  <a:pt x="0" y="3087"/>
                </a:lnTo>
                <a:lnTo>
                  <a:pt x="0" y="2955"/>
                </a:lnTo>
                <a:lnTo>
                  <a:pt x="0" y="2779"/>
                </a:lnTo>
                <a:lnTo>
                  <a:pt x="0" y="2646"/>
                </a:lnTo>
                <a:lnTo>
                  <a:pt x="0" y="2470"/>
                </a:lnTo>
                <a:lnTo>
                  <a:pt x="44" y="2338"/>
                </a:lnTo>
                <a:lnTo>
                  <a:pt x="88" y="2205"/>
                </a:lnTo>
                <a:lnTo>
                  <a:pt x="88" y="2073"/>
                </a:lnTo>
                <a:lnTo>
                  <a:pt x="88" y="1941"/>
                </a:lnTo>
                <a:lnTo>
                  <a:pt x="88" y="1808"/>
                </a:lnTo>
                <a:lnTo>
                  <a:pt x="88" y="1632"/>
                </a:lnTo>
                <a:lnTo>
                  <a:pt x="44" y="1500"/>
                </a:lnTo>
                <a:lnTo>
                  <a:pt x="44" y="1368"/>
                </a:lnTo>
                <a:lnTo>
                  <a:pt x="44" y="1235"/>
                </a:lnTo>
                <a:lnTo>
                  <a:pt x="88" y="1103"/>
                </a:lnTo>
                <a:lnTo>
                  <a:pt x="132" y="970"/>
                </a:lnTo>
                <a:lnTo>
                  <a:pt x="132" y="837"/>
                </a:lnTo>
                <a:lnTo>
                  <a:pt x="132" y="705"/>
                </a:lnTo>
                <a:lnTo>
                  <a:pt x="132" y="573"/>
                </a:lnTo>
                <a:lnTo>
                  <a:pt x="88" y="440"/>
                </a:lnTo>
                <a:lnTo>
                  <a:pt x="88" y="308"/>
                </a:lnTo>
                <a:lnTo>
                  <a:pt x="132" y="176"/>
                </a:lnTo>
                <a:lnTo>
                  <a:pt x="132" y="132"/>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0"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1"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2"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2423" name=""/>
          <p:cNvSpPr/>
          <p:nvPr/>
        </p:nvSpPr>
        <p:spPr>
          <a:xfrm>
            <a:off x="5643720" y="364500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4" name=""/>
          <p:cNvSpPr/>
          <p:nvPr/>
        </p:nvSpPr>
        <p:spPr>
          <a:xfrm>
            <a:off x="3340080" y="3435480"/>
            <a:ext cx="407880" cy="4064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5"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6"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7"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2428" name=""/>
          <p:cNvSpPr/>
          <p:nvPr/>
        </p:nvSpPr>
        <p:spPr>
          <a:xfrm>
            <a:off x="3549600" y="37544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9" name=""/>
          <p:cNvSpPr/>
          <p:nvPr/>
        </p:nvSpPr>
        <p:spPr>
          <a:xfrm>
            <a:off x="3254400" y="363852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0" name=""/>
          <p:cNvSpPr/>
          <p:nvPr/>
        </p:nvSpPr>
        <p:spPr>
          <a:xfrm>
            <a:off x="5668920" y="3448080"/>
            <a:ext cx="407880" cy="4064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1" name=""/>
          <p:cNvSpPr/>
          <p:nvPr/>
        </p:nvSpPr>
        <p:spPr>
          <a:xfrm>
            <a:off x="3651120" y="3641760"/>
            <a:ext cx="1851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2" name=""/>
          <p:cNvSpPr/>
          <p:nvPr/>
        </p:nvSpPr>
        <p:spPr>
          <a:xfrm>
            <a:off x="5495760" y="3645000"/>
            <a:ext cx="27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3" name=""/>
          <p:cNvSpPr/>
          <p:nvPr/>
        </p:nvSpPr>
        <p:spPr>
          <a:xfrm>
            <a:off x="587052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a:off x="5869080" y="359568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2435" name=""/>
          <p:cNvSpPr/>
          <p:nvPr/>
        </p:nvSpPr>
        <p:spPr>
          <a:xfrm>
            <a:off x="5962680" y="3643200"/>
            <a:ext cx="231840" cy="1800"/>
          </a:xfrm>
          <a:prstGeom prst="line">
            <a:avLst/>
          </a:prstGeom>
          <a:ln w="12600">
            <a:solidFill>
              <a:srgbClr val="ffffff"/>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2436" name=""/>
          <p:cNvSpPr/>
          <p:nvPr/>
        </p:nvSpPr>
        <p:spPr>
          <a:xfrm>
            <a:off x="5869080" y="378468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7" name=""/>
          <p:cNvSpPr/>
          <p:nvPr/>
        </p:nvSpPr>
        <p:spPr>
          <a:xfrm>
            <a:off x="5821200" y="3645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8" name=""/>
          <p:cNvSpPr/>
          <p:nvPr/>
        </p:nvSpPr>
        <p:spPr>
          <a:xfrm flipV="1">
            <a:off x="2987640" y="4425840"/>
            <a:ext cx="28908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9" name=""/>
          <p:cNvSpPr/>
          <p:nvPr/>
        </p:nvSpPr>
        <p:spPr>
          <a:xfrm flipH="1">
            <a:off x="2800440" y="4713120"/>
            <a:ext cx="17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0" name=""/>
          <p:cNvSpPr/>
          <p:nvPr/>
        </p:nvSpPr>
        <p:spPr>
          <a:xfrm>
            <a:off x="3238560" y="4349880"/>
            <a:ext cx="95400" cy="95400"/>
          </a:xfrm>
          <a:prstGeom prst="ellipse">
            <a:avLst/>
          </a:prstGeom>
          <a:solidFill>
            <a:srgbClr val="ffffff"/>
          </a:solid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2441" name=""/>
          <p:cNvGrpSpPr/>
          <p:nvPr/>
        </p:nvGrpSpPr>
        <p:grpSpPr>
          <a:xfrm>
            <a:off x="6462720" y="4044960"/>
            <a:ext cx="2174760" cy="534960"/>
            <a:chOff x="6462720" y="4044960"/>
            <a:chExt cx="2174760" cy="534960"/>
          </a:xfrm>
        </p:grpSpPr>
        <p:sp>
          <p:nvSpPr>
            <p:cNvPr id="2442" name=""/>
            <p:cNvSpPr txBox="1"/>
            <p:nvPr/>
          </p:nvSpPr>
          <p:spPr>
            <a:xfrm>
              <a:off x="7621560" y="42130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2443" name=""/>
            <p:cNvSpPr/>
            <p:nvPr/>
          </p:nvSpPr>
          <p:spPr>
            <a:xfrm flipH="1" flipV="1">
              <a:off x="6462720" y="40449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4" name=""/>
            <p:cNvSpPr/>
            <p:nvPr/>
          </p:nvSpPr>
          <p:spPr>
            <a:xfrm>
              <a:off x="7437600" y="4421160"/>
              <a:ext cx="17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45" name=""/>
          <p:cNvGrpSpPr/>
          <p:nvPr/>
        </p:nvGrpSpPr>
        <p:grpSpPr>
          <a:xfrm>
            <a:off x="560520" y="447840"/>
            <a:ext cx="3624120" cy="1190520"/>
            <a:chOff x="560520" y="447840"/>
            <a:chExt cx="3624120" cy="1190520"/>
          </a:xfrm>
        </p:grpSpPr>
        <p:sp>
          <p:nvSpPr>
            <p:cNvPr id="2446"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447"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9" name=""/>
          <p:cNvSpPr/>
          <p:nvPr/>
        </p:nvSpPr>
        <p:spPr>
          <a:xfrm>
            <a:off x="8085240" y="313848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0" name=""/>
          <p:cNvSpPr/>
          <p:nvPr/>
        </p:nvSpPr>
        <p:spPr>
          <a:xfrm>
            <a:off x="2598840" y="1754280"/>
            <a:ext cx="4758120" cy="3494520"/>
          </a:xfrm>
          <a:custGeom>
            <a:avLst/>
            <a:gdLst/>
            <a:ahLst/>
            <a:rect l="0" t="0" r="r" b="b"/>
            <a:pathLst>
              <a:path w="13217" h="9707">
                <a:moveTo>
                  <a:pt x="61" y="2204"/>
                </a:moveTo>
                <a:lnTo>
                  <a:pt x="10779" y="2204"/>
                </a:lnTo>
                <a:lnTo>
                  <a:pt x="10779" y="9707"/>
                </a:lnTo>
                <a:lnTo>
                  <a:pt x="10779" y="9646"/>
                </a:lnTo>
                <a:lnTo>
                  <a:pt x="10955" y="9646"/>
                </a:lnTo>
                <a:lnTo>
                  <a:pt x="11017" y="9469"/>
                </a:lnTo>
                <a:lnTo>
                  <a:pt x="11193" y="9350"/>
                </a:lnTo>
                <a:lnTo>
                  <a:pt x="11374" y="9350"/>
                </a:lnTo>
                <a:lnTo>
                  <a:pt x="11551" y="9231"/>
                </a:lnTo>
                <a:lnTo>
                  <a:pt x="11731" y="9050"/>
                </a:lnTo>
                <a:lnTo>
                  <a:pt x="11789" y="8874"/>
                </a:lnTo>
                <a:lnTo>
                  <a:pt x="11850" y="8693"/>
                </a:lnTo>
                <a:lnTo>
                  <a:pt x="11908" y="8517"/>
                </a:lnTo>
                <a:lnTo>
                  <a:pt x="11969" y="8336"/>
                </a:lnTo>
                <a:lnTo>
                  <a:pt x="11969" y="8159"/>
                </a:lnTo>
                <a:lnTo>
                  <a:pt x="12027" y="7921"/>
                </a:lnTo>
                <a:lnTo>
                  <a:pt x="12208" y="7741"/>
                </a:lnTo>
                <a:lnTo>
                  <a:pt x="12327" y="7564"/>
                </a:lnTo>
                <a:lnTo>
                  <a:pt x="12446" y="7383"/>
                </a:lnTo>
                <a:lnTo>
                  <a:pt x="12503" y="7144"/>
                </a:lnTo>
                <a:lnTo>
                  <a:pt x="12565" y="6968"/>
                </a:lnTo>
                <a:lnTo>
                  <a:pt x="12684" y="6730"/>
                </a:lnTo>
                <a:lnTo>
                  <a:pt x="12684" y="6549"/>
                </a:lnTo>
                <a:lnTo>
                  <a:pt x="12741" y="6311"/>
                </a:lnTo>
                <a:lnTo>
                  <a:pt x="12803" y="6073"/>
                </a:lnTo>
                <a:lnTo>
                  <a:pt x="12803" y="5896"/>
                </a:lnTo>
                <a:lnTo>
                  <a:pt x="12741" y="5658"/>
                </a:lnTo>
                <a:lnTo>
                  <a:pt x="12741" y="5477"/>
                </a:lnTo>
                <a:lnTo>
                  <a:pt x="12741" y="5301"/>
                </a:lnTo>
                <a:lnTo>
                  <a:pt x="12803" y="5063"/>
                </a:lnTo>
                <a:lnTo>
                  <a:pt x="12860" y="4825"/>
                </a:lnTo>
                <a:lnTo>
                  <a:pt x="12979" y="4644"/>
                </a:lnTo>
                <a:lnTo>
                  <a:pt x="13098" y="4406"/>
                </a:lnTo>
                <a:lnTo>
                  <a:pt x="13160" y="4049"/>
                </a:lnTo>
                <a:lnTo>
                  <a:pt x="13217" y="3872"/>
                </a:lnTo>
                <a:lnTo>
                  <a:pt x="13217" y="3634"/>
                </a:lnTo>
                <a:lnTo>
                  <a:pt x="13160" y="3453"/>
                </a:lnTo>
                <a:lnTo>
                  <a:pt x="13098" y="3158"/>
                </a:lnTo>
                <a:lnTo>
                  <a:pt x="13041" y="2977"/>
                </a:lnTo>
                <a:lnTo>
                  <a:pt x="12979" y="2682"/>
                </a:lnTo>
                <a:lnTo>
                  <a:pt x="12922" y="2443"/>
                </a:lnTo>
                <a:lnTo>
                  <a:pt x="12860" y="2262"/>
                </a:lnTo>
                <a:lnTo>
                  <a:pt x="12803" y="2085"/>
                </a:lnTo>
                <a:lnTo>
                  <a:pt x="12741" y="1905"/>
                </a:lnTo>
                <a:lnTo>
                  <a:pt x="12684" y="1728"/>
                </a:lnTo>
                <a:lnTo>
                  <a:pt x="12684" y="1547"/>
                </a:lnTo>
                <a:lnTo>
                  <a:pt x="12565" y="1309"/>
                </a:lnTo>
                <a:lnTo>
                  <a:pt x="12327" y="1133"/>
                </a:lnTo>
                <a:lnTo>
                  <a:pt x="12146" y="1014"/>
                </a:lnTo>
                <a:lnTo>
                  <a:pt x="11969" y="952"/>
                </a:lnTo>
                <a:lnTo>
                  <a:pt x="11731" y="833"/>
                </a:lnTo>
                <a:lnTo>
                  <a:pt x="11493" y="776"/>
                </a:lnTo>
                <a:lnTo>
                  <a:pt x="11312" y="714"/>
                </a:lnTo>
                <a:lnTo>
                  <a:pt x="11136" y="714"/>
                </a:lnTo>
                <a:lnTo>
                  <a:pt x="10422" y="714"/>
                </a:lnTo>
                <a:lnTo>
                  <a:pt x="10184" y="714"/>
                </a:lnTo>
                <a:lnTo>
                  <a:pt x="10003" y="714"/>
                </a:lnTo>
                <a:lnTo>
                  <a:pt x="9825" y="657"/>
                </a:lnTo>
                <a:lnTo>
                  <a:pt x="9645" y="537"/>
                </a:lnTo>
                <a:lnTo>
                  <a:pt x="9468" y="418"/>
                </a:lnTo>
                <a:lnTo>
                  <a:pt x="9230" y="299"/>
                </a:lnTo>
                <a:lnTo>
                  <a:pt x="8873" y="238"/>
                </a:lnTo>
                <a:lnTo>
                  <a:pt x="8692" y="180"/>
                </a:lnTo>
                <a:lnTo>
                  <a:pt x="8516" y="180"/>
                </a:lnTo>
                <a:lnTo>
                  <a:pt x="6849" y="119"/>
                </a:lnTo>
                <a:lnTo>
                  <a:pt x="6611" y="61"/>
                </a:lnTo>
                <a:lnTo>
                  <a:pt x="6311" y="61"/>
                </a:lnTo>
                <a:lnTo>
                  <a:pt x="4406" y="61"/>
                </a:lnTo>
                <a:lnTo>
                  <a:pt x="4229" y="61"/>
                </a:lnTo>
                <a:lnTo>
                  <a:pt x="3991" y="61"/>
                </a:lnTo>
                <a:lnTo>
                  <a:pt x="3811" y="61"/>
                </a:lnTo>
                <a:lnTo>
                  <a:pt x="3634" y="0"/>
                </a:lnTo>
                <a:lnTo>
                  <a:pt x="3396" y="0"/>
                </a:lnTo>
                <a:lnTo>
                  <a:pt x="3214" y="0"/>
                </a:lnTo>
                <a:lnTo>
                  <a:pt x="1428" y="61"/>
                </a:lnTo>
                <a:lnTo>
                  <a:pt x="1252" y="180"/>
                </a:lnTo>
                <a:lnTo>
                  <a:pt x="1014" y="357"/>
                </a:lnTo>
                <a:lnTo>
                  <a:pt x="895" y="537"/>
                </a:lnTo>
                <a:lnTo>
                  <a:pt x="714" y="714"/>
                </a:lnTo>
                <a:lnTo>
                  <a:pt x="537" y="895"/>
                </a:lnTo>
                <a:lnTo>
                  <a:pt x="357" y="1133"/>
                </a:lnTo>
                <a:lnTo>
                  <a:pt x="180" y="1252"/>
                </a:lnTo>
                <a:lnTo>
                  <a:pt x="61" y="1428"/>
                </a:lnTo>
                <a:lnTo>
                  <a:pt x="61" y="1609"/>
                </a:lnTo>
                <a:lnTo>
                  <a:pt x="61" y="1785"/>
                </a:lnTo>
                <a:lnTo>
                  <a:pt x="61" y="1966"/>
                </a:lnTo>
                <a:lnTo>
                  <a:pt x="0" y="2143"/>
                </a:lnTo>
                <a:lnTo>
                  <a:pt x="0" y="2204"/>
                </a:lnTo>
                <a:lnTo>
                  <a:pt x="61" y="2204"/>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1" name=""/>
          <p:cNvSpPr/>
          <p:nvPr/>
        </p:nvSpPr>
        <p:spPr>
          <a:xfrm>
            <a:off x="6585120" y="254808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2" name=""/>
          <p:cNvSpPr/>
          <p:nvPr/>
        </p:nvSpPr>
        <p:spPr>
          <a:xfrm>
            <a:off x="7893000" y="2548080"/>
            <a:ext cx="0" cy="320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3" name=""/>
          <p:cNvSpPr/>
          <p:nvPr/>
        </p:nvSpPr>
        <p:spPr>
          <a:xfrm>
            <a:off x="7893000" y="3276720"/>
            <a:ext cx="0" cy="363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4" name=""/>
          <p:cNvSpPr txBox="1"/>
          <p:nvPr/>
        </p:nvSpPr>
        <p:spPr>
          <a:xfrm>
            <a:off x="7632720" y="2879640"/>
            <a:ext cx="476280" cy="398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20</a:t>
            </a:r>
            <a:endParaRPr b="0" lang="en-US" sz="1800" spc="-1" strike="noStrike">
              <a:solidFill>
                <a:srgbClr val="000000"/>
              </a:solidFill>
              <a:latin typeface="Arial"/>
            </a:endParaRPr>
          </a:p>
        </p:txBody>
      </p:sp>
      <p:sp>
        <p:nvSpPr>
          <p:cNvPr id="2455" name=""/>
          <p:cNvSpPr/>
          <p:nvPr/>
        </p:nvSpPr>
        <p:spPr>
          <a:xfrm>
            <a:off x="3541680" y="5084640"/>
            <a:ext cx="2314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6" name=""/>
          <p:cNvSpPr/>
          <p:nvPr/>
        </p:nvSpPr>
        <p:spPr>
          <a:xfrm>
            <a:off x="4273560" y="4913280"/>
            <a:ext cx="600120" cy="3110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7" name=""/>
          <p:cNvSpPr txBox="1"/>
          <p:nvPr/>
        </p:nvSpPr>
        <p:spPr>
          <a:xfrm>
            <a:off x="7732800" y="4878360"/>
            <a:ext cx="476280" cy="398520"/>
          </a:xfrm>
          <a:prstGeom prst="rect">
            <a:avLst/>
          </a:prstGeom>
          <a:noFill/>
          <a:ln w="0">
            <a:noFill/>
          </a:ln>
        </p:spPr>
        <p:txBody>
          <a:bodyPr lIns="0" rIns="0" tIns="0" bIns="0" anchor="t">
            <a:noAutofit/>
          </a:bodyPr>
          <a:p>
            <a:pPr algn="ctr">
              <a:lnSpc>
                <a:spcPct val="100000"/>
              </a:lnSpc>
            </a:pPr>
            <a:r>
              <a:rPr b="0" lang="en-US" sz="1800" spc="-1" strike="noStrike">
                <a:solidFill>
                  <a:srgbClr val="f2fefd"/>
                </a:solidFill>
                <a:latin typeface="Times New Roman"/>
                <a:ea typeface="Times New Roman"/>
              </a:rPr>
              <a:t>10</a:t>
            </a:r>
            <a:endParaRPr b="0" lang="en-US" sz="1800" spc="-1" strike="noStrike">
              <a:solidFill>
                <a:srgbClr val="000000"/>
              </a:solidFill>
              <a:latin typeface="Arial"/>
            </a:endParaRPr>
          </a:p>
        </p:txBody>
      </p:sp>
      <p:sp>
        <p:nvSpPr>
          <p:cNvPr id="2458" name=""/>
          <p:cNvSpPr/>
          <p:nvPr/>
        </p:nvSpPr>
        <p:spPr>
          <a:xfrm>
            <a:off x="6478560" y="5084640"/>
            <a:ext cx="122076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txBox="1"/>
          <p:nvPr/>
        </p:nvSpPr>
        <p:spPr>
          <a:xfrm>
            <a:off x="3265560" y="5321160"/>
            <a:ext cx="470520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wo points of contact on datum 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ne point of contact on datum B.</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s now in tolerance with datum C and B.</a:t>
            </a:r>
            <a:endParaRPr b="0" lang="en-US" sz="2000" spc="-1" strike="noStrike">
              <a:solidFill>
                <a:srgbClr val="000000"/>
              </a:solidFill>
              <a:latin typeface="Arial"/>
            </a:endParaRPr>
          </a:p>
        </p:txBody>
      </p:sp>
      <p:sp>
        <p:nvSpPr>
          <p:cNvPr id="2460" name=""/>
          <p:cNvSpPr/>
          <p:nvPr/>
        </p:nvSpPr>
        <p:spPr>
          <a:xfrm>
            <a:off x="3254400" y="363708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1"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2" name=""/>
          <p:cNvSpPr/>
          <p:nvPr/>
        </p:nvSpPr>
        <p:spPr>
          <a:xfrm>
            <a:off x="3651120" y="3639960"/>
            <a:ext cx="2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3"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2465" name=""/>
          <p:cNvSpPr/>
          <p:nvPr/>
        </p:nvSpPr>
        <p:spPr>
          <a:xfrm>
            <a:off x="5535720" y="3645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6" name=""/>
          <p:cNvSpPr/>
          <p:nvPr/>
        </p:nvSpPr>
        <p:spPr>
          <a:xfrm>
            <a:off x="587052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5869080" y="360684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2468" name=""/>
          <p:cNvSpPr/>
          <p:nvPr/>
        </p:nvSpPr>
        <p:spPr>
          <a:xfrm>
            <a:off x="5821200" y="3645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txBox="1"/>
          <p:nvPr/>
        </p:nvSpPr>
        <p:spPr>
          <a:xfrm>
            <a:off x="4246560" y="489420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2fefd"/>
                </a:solidFill>
                <a:latin typeface="Times New Roman"/>
                <a:ea typeface="Times New Roman"/>
              </a:rPr>
              <a:t>48.0</a:t>
            </a:r>
            <a:endParaRPr b="0" lang="en-US" sz="1800" spc="-1" strike="noStrike">
              <a:solidFill>
                <a:srgbClr val="000000"/>
              </a:solidFill>
              <a:latin typeface="Arial"/>
            </a:endParaRPr>
          </a:p>
        </p:txBody>
      </p:sp>
      <p:sp>
        <p:nvSpPr>
          <p:cNvPr id="2470" name=""/>
          <p:cNvSpPr/>
          <p:nvPr/>
        </p:nvSpPr>
        <p:spPr>
          <a:xfrm>
            <a:off x="7640640" y="2930400"/>
            <a:ext cx="498600" cy="309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1" name=""/>
          <p:cNvSpPr/>
          <p:nvPr/>
        </p:nvSpPr>
        <p:spPr>
          <a:xfrm>
            <a:off x="7750080" y="4924440"/>
            <a:ext cx="498600" cy="322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2" name=""/>
          <p:cNvSpPr/>
          <p:nvPr/>
        </p:nvSpPr>
        <p:spPr>
          <a:xfrm flipH="1">
            <a:off x="1646280" y="2552760"/>
            <a:ext cx="80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3" name=""/>
          <p:cNvSpPr txBox="1"/>
          <p:nvPr/>
        </p:nvSpPr>
        <p:spPr>
          <a:xfrm>
            <a:off x="334800" y="27352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C</a:t>
            </a:r>
            <a:endParaRPr b="0" lang="en-US" sz="1800" spc="-1" strike="noStrike">
              <a:solidFill>
                <a:srgbClr val="000000"/>
              </a:solidFill>
              <a:latin typeface="Arial"/>
            </a:endParaRPr>
          </a:p>
        </p:txBody>
      </p:sp>
      <p:sp>
        <p:nvSpPr>
          <p:cNvPr id="2474" name=""/>
          <p:cNvSpPr/>
          <p:nvPr/>
        </p:nvSpPr>
        <p:spPr>
          <a:xfrm>
            <a:off x="1413000" y="2914560"/>
            <a:ext cx="222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5" name=""/>
          <p:cNvSpPr/>
          <p:nvPr/>
        </p:nvSpPr>
        <p:spPr>
          <a:xfrm flipV="1">
            <a:off x="1650960" y="2581200"/>
            <a:ext cx="333360" cy="3333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76" name=""/>
          <p:cNvGrpSpPr/>
          <p:nvPr/>
        </p:nvGrpSpPr>
        <p:grpSpPr>
          <a:xfrm>
            <a:off x="6462720" y="4044960"/>
            <a:ext cx="2174760" cy="534960"/>
            <a:chOff x="6462720" y="4044960"/>
            <a:chExt cx="2174760" cy="534960"/>
          </a:xfrm>
        </p:grpSpPr>
        <p:sp>
          <p:nvSpPr>
            <p:cNvPr id="2477" name=""/>
            <p:cNvSpPr txBox="1"/>
            <p:nvPr/>
          </p:nvSpPr>
          <p:spPr>
            <a:xfrm>
              <a:off x="7621560" y="4213080"/>
              <a:ext cx="1015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B</a:t>
              </a:r>
              <a:endParaRPr b="0" lang="en-US" sz="1800" spc="-1" strike="noStrike">
                <a:solidFill>
                  <a:srgbClr val="000000"/>
                </a:solidFill>
                <a:latin typeface="Arial"/>
              </a:endParaRPr>
            </a:p>
          </p:txBody>
        </p:sp>
        <p:sp>
          <p:nvSpPr>
            <p:cNvPr id="2478" name=""/>
            <p:cNvSpPr/>
            <p:nvPr/>
          </p:nvSpPr>
          <p:spPr>
            <a:xfrm flipH="1" flipV="1">
              <a:off x="6462720" y="4044960"/>
              <a:ext cx="963720" cy="36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9" name=""/>
            <p:cNvSpPr/>
            <p:nvPr/>
          </p:nvSpPr>
          <p:spPr>
            <a:xfrm>
              <a:off x="7437600" y="4421160"/>
              <a:ext cx="177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80" name=""/>
          <p:cNvSpPr/>
          <p:nvPr/>
        </p:nvSpPr>
        <p:spPr>
          <a:xfrm>
            <a:off x="2905200" y="2540160"/>
            <a:ext cx="3571920" cy="22701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81" name=""/>
          <p:cNvGrpSpPr/>
          <p:nvPr/>
        </p:nvGrpSpPr>
        <p:grpSpPr>
          <a:xfrm>
            <a:off x="1817640" y="4367160"/>
            <a:ext cx="1519200" cy="522360"/>
            <a:chOff x="1817640" y="4367160"/>
            <a:chExt cx="1519200" cy="522360"/>
          </a:xfrm>
        </p:grpSpPr>
        <p:sp>
          <p:nvSpPr>
            <p:cNvPr id="2482" name=""/>
            <p:cNvSpPr/>
            <p:nvPr/>
          </p:nvSpPr>
          <p:spPr>
            <a:xfrm>
              <a:off x="3257640" y="43671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2483" name=""/>
            <p:cNvSpPr txBox="1"/>
            <p:nvPr/>
          </p:nvSpPr>
          <p:spPr>
            <a:xfrm>
              <a:off x="1817640" y="4522680"/>
              <a:ext cx="10288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A</a:t>
              </a:r>
              <a:endParaRPr b="0" lang="en-US" sz="1800" spc="-1" strike="noStrike">
                <a:solidFill>
                  <a:srgbClr val="000000"/>
                </a:solidFill>
                <a:latin typeface="Arial"/>
              </a:endParaRPr>
            </a:p>
          </p:txBody>
        </p:sp>
        <p:sp>
          <p:nvSpPr>
            <p:cNvPr id="2484" name=""/>
            <p:cNvSpPr/>
            <p:nvPr/>
          </p:nvSpPr>
          <p:spPr>
            <a:xfrm flipV="1">
              <a:off x="2987640" y="4425840"/>
              <a:ext cx="289080" cy="28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5" name=""/>
            <p:cNvSpPr/>
            <p:nvPr/>
          </p:nvSpPr>
          <p:spPr>
            <a:xfrm flipH="1">
              <a:off x="2800440" y="4713120"/>
              <a:ext cx="176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86" name=""/>
          <p:cNvSpPr/>
          <p:nvPr/>
        </p:nvSpPr>
        <p:spPr>
          <a:xfrm>
            <a:off x="3000240" y="2540160"/>
            <a:ext cx="3476880" cy="1572120"/>
          </a:xfrm>
          <a:custGeom>
            <a:avLst/>
            <a:gdLst/>
            <a:ahLst/>
            <a:rect l="0" t="0" r="r" b="b"/>
            <a:pathLst>
              <a:path w="9658" h="4367">
                <a:moveTo>
                  <a:pt x="132" y="132"/>
                </a:moveTo>
                <a:lnTo>
                  <a:pt x="308" y="176"/>
                </a:lnTo>
                <a:lnTo>
                  <a:pt x="440" y="176"/>
                </a:lnTo>
                <a:lnTo>
                  <a:pt x="573" y="176"/>
                </a:lnTo>
                <a:lnTo>
                  <a:pt x="705" y="176"/>
                </a:lnTo>
                <a:lnTo>
                  <a:pt x="837" y="132"/>
                </a:lnTo>
                <a:lnTo>
                  <a:pt x="970" y="88"/>
                </a:lnTo>
                <a:lnTo>
                  <a:pt x="1102" y="88"/>
                </a:lnTo>
                <a:lnTo>
                  <a:pt x="1234" y="44"/>
                </a:lnTo>
                <a:lnTo>
                  <a:pt x="1367" y="44"/>
                </a:lnTo>
                <a:lnTo>
                  <a:pt x="1499" y="44"/>
                </a:lnTo>
                <a:lnTo>
                  <a:pt x="1631" y="88"/>
                </a:lnTo>
                <a:lnTo>
                  <a:pt x="1763" y="132"/>
                </a:lnTo>
                <a:lnTo>
                  <a:pt x="1940" y="132"/>
                </a:lnTo>
                <a:lnTo>
                  <a:pt x="2072" y="132"/>
                </a:lnTo>
                <a:lnTo>
                  <a:pt x="2204" y="132"/>
                </a:lnTo>
                <a:lnTo>
                  <a:pt x="2337" y="88"/>
                </a:lnTo>
                <a:lnTo>
                  <a:pt x="2469" y="88"/>
                </a:lnTo>
                <a:lnTo>
                  <a:pt x="2601" y="132"/>
                </a:lnTo>
                <a:lnTo>
                  <a:pt x="2778" y="176"/>
                </a:lnTo>
                <a:lnTo>
                  <a:pt x="2954" y="176"/>
                </a:lnTo>
                <a:lnTo>
                  <a:pt x="3263" y="176"/>
                </a:lnTo>
                <a:lnTo>
                  <a:pt x="3395" y="176"/>
                </a:lnTo>
                <a:lnTo>
                  <a:pt x="3527" y="176"/>
                </a:lnTo>
                <a:lnTo>
                  <a:pt x="3660" y="176"/>
                </a:lnTo>
                <a:lnTo>
                  <a:pt x="3836" y="264"/>
                </a:lnTo>
                <a:lnTo>
                  <a:pt x="3968" y="264"/>
                </a:lnTo>
                <a:lnTo>
                  <a:pt x="4101" y="264"/>
                </a:lnTo>
                <a:lnTo>
                  <a:pt x="4233" y="264"/>
                </a:lnTo>
                <a:lnTo>
                  <a:pt x="4365" y="264"/>
                </a:lnTo>
                <a:lnTo>
                  <a:pt x="4497" y="264"/>
                </a:lnTo>
                <a:lnTo>
                  <a:pt x="4630" y="264"/>
                </a:lnTo>
                <a:lnTo>
                  <a:pt x="4762" y="176"/>
                </a:lnTo>
                <a:lnTo>
                  <a:pt x="4939" y="176"/>
                </a:lnTo>
                <a:lnTo>
                  <a:pt x="5072" y="132"/>
                </a:lnTo>
                <a:lnTo>
                  <a:pt x="5204" y="88"/>
                </a:lnTo>
                <a:lnTo>
                  <a:pt x="5336" y="88"/>
                </a:lnTo>
                <a:lnTo>
                  <a:pt x="5469" y="88"/>
                </a:lnTo>
                <a:lnTo>
                  <a:pt x="5645" y="88"/>
                </a:lnTo>
                <a:lnTo>
                  <a:pt x="5777" y="88"/>
                </a:lnTo>
                <a:lnTo>
                  <a:pt x="6086" y="88"/>
                </a:lnTo>
                <a:lnTo>
                  <a:pt x="6218" y="88"/>
                </a:lnTo>
                <a:lnTo>
                  <a:pt x="6351" y="88"/>
                </a:lnTo>
                <a:lnTo>
                  <a:pt x="6483" y="44"/>
                </a:lnTo>
                <a:lnTo>
                  <a:pt x="6615" y="0"/>
                </a:lnTo>
                <a:lnTo>
                  <a:pt x="6747" y="44"/>
                </a:lnTo>
                <a:lnTo>
                  <a:pt x="6924" y="44"/>
                </a:lnTo>
                <a:lnTo>
                  <a:pt x="7056" y="88"/>
                </a:lnTo>
                <a:lnTo>
                  <a:pt x="7188" y="132"/>
                </a:lnTo>
                <a:lnTo>
                  <a:pt x="7321" y="176"/>
                </a:lnTo>
                <a:lnTo>
                  <a:pt x="7453" y="176"/>
                </a:lnTo>
                <a:lnTo>
                  <a:pt x="7585" y="176"/>
                </a:lnTo>
                <a:lnTo>
                  <a:pt x="7718" y="176"/>
                </a:lnTo>
                <a:lnTo>
                  <a:pt x="7850" y="176"/>
                </a:lnTo>
                <a:lnTo>
                  <a:pt x="7982" y="176"/>
                </a:lnTo>
                <a:lnTo>
                  <a:pt x="8114" y="176"/>
                </a:lnTo>
                <a:lnTo>
                  <a:pt x="8247" y="176"/>
                </a:lnTo>
                <a:lnTo>
                  <a:pt x="8379" y="176"/>
                </a:lnTo>
                <a:lnTo>
                  <a:pt x="8511" y="176"/>
                </a:lnTo>
                <a:lnTo>
                  <a:pt x="8688" y="132"/>
                </a:lnTo>
                <a:lnTo>
                  <a:pt x="8820" y="132"/>
                </a:lnTo>
                <a:lnTo>
                  <a:pt x="8952" y="132"/>
                </a:lnTo>
                <a:lnTo>
                  <a:pt x="9085" y="88"/>
                </a:lnTo>
                <a:lnTo>
                  <a:pt x="9217" y="88"/>
                </a:lnTo>
                <a:lnTo>
                  <a:pt x="9349" y="88"/>
                </a:lnTo>
                <a:lnTo>
                  <a:pt x="9481" y="44"/>
                </a:lnTo>
                <a:lnTo>
                  <a:pt x="9614" y="44"/>
                </a:lnTo>
                <a:lnTo>
                  <a:pt x="9658" y="176"/>
                </a:lnTo>
                <a:lnTo>
                  <a:pt x="9658" y="308"/>
                </a:lnTo>
                <a:lnTo>
                  <a:pt x="9658" y="440"/>
                </a:lnTo>
                <a:lnTo>
                  <a:pt x="9614" y="573"/>
                </a:lnTo>
                <a:lnTo>
                  <a:pt x="9570" y="705"/>
                </a:lnTo>
                <a:lnTo>
                  <a:pt x="9570" y="837"/>
                </a:lnTo>
                <a:lnTo>
                  <a:pt x="9570" y="970"/>
                </a:lnTo>
                <a:lnTo>
                  <a:pt x="9570" y="1103"/>
                </a:lnTo>
                <a:lnTo>
                  <a:pt x="9570" y="1235"/>
                </a:lnTo>
                <a:lnTo>
                  <a:pt x="9570" y="1368"/>
                </a:lnTo>
                <a:lnTo>
                  <a:pt x="9570" y="1500"/>
                </a:lnTo>
                <a:lnTo>
                  <a:pt x="9526" y="1632"/>
                </a:lnTo>
                <a:lnTo>
                  <a:pt x="9481" y="1764"/>
                </a:lnTo>
                <a:lnTo>
                  <a:pt x="9481" y="1941"/>
                </a:lnTo>
                <a:lnTo>
                  <a:pt x="9481" y="2073"/>
                </a:lnTo>
                <a:lnTo>
                  <a:pt x="9437" y="2205"/>
                </a:lnTo>
                <a:lnTo>
                  <a:pt x="9393" y="2338"/>
                </a:lnTo>
                <a:lnTo>
                  <a:pt x="9349" y="2470"/>
                </a:lnTo>
                <a:lnTo>
                  <a:pt x="9349" y="2602"/>
                </a:lnTo>
                <a:lnTo>
                  <a:pt x="9305" y="2735"/>
                </a:lnTo>
                <a:lnTo>
                  <a:pt x="9305" y="2867"/>
                </a:lnTo>
                <a:lnTo>
                  <a:pt x="9305" y="2999"/>
                </a:lnTo>
                <a:lnTo>
                  <a:pt x="9305" y="3131"/>
                </a:lnTo>
                <a:lnTo>
                  <a:pt x="9305" y="3264"/>
                </a:lnTo>
                <a:lnTo>
                  <a:pt x="9305" y="3397"/>
                </a:lnTo>
                <a:lnTo>
                  <a:pt x="9305" y="3529"/>
                </a:lnTo>
                <a:lnTo>
                  <a:pt x="9261" y="3662"/>
                </a:lnTo>
                <a:lnTo>
                  <a:pt x="9217" y="3794"/>
                </a:lnTo>
                <a:lnTo>
                  <a:pt x="9217" y="3970"/>
                </a:lnTo>
                <a:lnTo>
                  <a:pt x="9217" y="4235"/>
                </a:lnTo>
                <a:lnTo>
                  <a:pt x="9129" y="4367"/>
                </a:lnTo>
                <a:lnTo>
                  <a:pt x="8996" y="4279"/>
                </a:lnTo>
                <a:lnTo>
                  <a:pt x="8864" y="4323"/>
                </a:lnTo>
                <a:lnTo>
                  <a:pt x="8732" y="4323"/>
                </a:lnTo>
                <a:lnTo>
                  <a:pt x="8599" y="4323"/>
                </a:lnTo>
                <a:lnTo>
                  <a:pt x="8467" y="4323"/>
                </a:lnTo>
                <a:lnTo>
                  <a:pt x="8291" y="4323"/>
                </a:lnTo>
                <a:lnTo>
                  <a:pt x="8158" y="4323"/>
                </a:lnTo>
                <a:lnTo>
                  <a:pt x="7850" y="4323"/>
                </a:lnTo>
                <a:lnTo>
                  <a:pt x="7718" y="4323"/>
                </a:lnTo>
                <a:lnTo>
                  <a:pt x="7321" y="4323"/>
                </a:lnTo>
                <a:lnTo>
                  <a:pt x="7144" y="4323"/>
                </a:lnTo>
                <a:lnTo>
                  <a:pt x="7012" y="4367"/>
                </a:lnTo>
                <a:lnTo>
                  <a:pt x="6880" y="4367"/>
                </a:lnTo>
                <a:lnTo>
                  <a:pt x="6747" y="4367"/>
                </a:lnTo>
                <a:lnTo>
                  <a:pt x="6615" y="4367"/>
                </a:lnTo>
                <a:lnTo>
                  <a:pt x="6439" y="4367"/>
                </a:lnTo>
                <a:lnTo>
                  <a:pt x="6306" y="4323"/>
                </a:lnTo>
                <a:lnTo>
                  <a:pt x="6174" y="4323"/>
                </a:lnTo>
                <a:lnTo>
                  <a:pt x="6042" y="4279"/>
                </a:lnTo>
                <a:lnTo>
                  <a:pt x="5865" y="4235"/>
                </a:lnTo>
                <a:lnTo>
                  <a:pt x="5733" y="4235"/>
                </a:lnTo>
                <a:lnTo>
                  <a:pt x="5380" y="4235"/>
                </a:lnTo>
                <a:lnTo>
                  <a:pt x="5248" y="4235"/>
                </a:lnTo>
                <a:lnTo>
                  <a:pt x="5072" y="4279"/>
                </a:lnTo>
                <a:lnTo>
                  <a:pt x="4939" y="4279"/>
                </a:lnTo>
                <a:lnTo>
                  <a:pt x="4806" y="4279"/>
                </a:lnTo>
                <a:lnTo>
                  <a:pt x="4674" y="4323"/>
                </a:lnTo>
                <a:lnTo>
                  <a:pt x="4542" y="4367"/>
                </a:lnTo>
                <a:lnTo>
                  <a:pt x="4409" y="4367"/>
                </a:lnTo>
                <a:lnTo>
                  <a:pt x="4145" y="4367"/>
                </a:lnTo>
                <a:lnTo>
                  <a:pt x="3792" y="4367"/>
                </a:lnTo>
                <a:lnTo>
                  <a:pt x="3527" y="4367"/>
                </a:lnTo>
                <a:lnTo>
                  <a:pt x="3395" y="4367"/>
                </a:lnTo>
                <a:lnTo>
                  <a:pt x="2954" y="4367"/>
                </a:lnTo>
                <a:lnTo>
                  <a:pt x="2778" y="4367"/>
                </a:lnTo>
                <a:lnTo>
                  <a:pt x="2601" y="4367"/>
                </a:lnTo>
                <a:lnTo>
                  <a:pt x="2469" y="4367"/>
                </a:lnTo>
                <a:lnTo>
                  <a:pt x="2337" y="4279"/>
                </a:lnTo>
                <a:lnTo>
                  <a:pt x="2204" y="4279"/>
                </a:lnTo>
                <a:lnTo>
                  <a:pt x="1896" y="4235"/>
                </a:lnTo>
                <a:lnTo>
                  <a:pt x="1763" y="4235"/>
                </a:lnTo>
                <a:lnTo>
                  <a:pt x="1455" y="4235"/>
                </a:lnTo>
                <a:lnTo>
                  <a:pt x="1322" y="4235"/>
                </a:lnTo>
                <a:lnTo>
                  <a:pt x="1190" y="4235"/>
                </a:lnTo>
                <a:lnTo>
                  <a:pt x="1058" y="4235"/>
                </a:lnTo>
                <a:lnTo>
                  <a:pt x="926" y="4235"/>
                </a:lnTo>
                <a:lnTo>
                  <a:pt x="793" y="4235"/>
                </a:lnTo>
                <a:lnTo>
                  <a:pt x="661" y="4235"/>
                </a:lnTo>
                <a:lnTo>
                  <a:pt x="529" y="4235"/>
                </a:lnTo>
                <a:lnTo>
                  <a:pt x="396" y="4235"/>
                </a:lnTo>
                <a:lnTo>
                  <a:pt x="264" y="4235"/>
                </a:lnTo>
                <a:lnTo>
                  <a:pt x="132" y="4279"/>
                </a:lnTo>
                <a:lnTo>
                  <a:pt x="44" y="4147"/>
                </a:lnTo>
                <a:lnTo>
                  <a:pt x="44" y="4014"/>
                </a:lnTo>
                <a:lnTo>
                  <a:pt x="44" y="3882"/>
                </a:lnTo>
                <a:lnTo>
                  <a:pt x="44" y="3750"/>
                </a:lnTo>
                <a:lnTo>
                  <a:pt x="44" y="3617"/>
                </a:lnTo>
                <a:lnTo>
                  <a:pt x="44" y="3485"/>
                </a:lnTo>
                <a:lnTo>
                  <a:pt x="44" y="3353"/>
                </a:lnTo>
                <a:lnTo>
                  <a:pt x="0" y="3220"/>
                </a:lnTo>
                <a:lnTo>
                  <a:pt x="0" y="3087"/>
                </a:lnTo>
                <a:lnTo>
                  <a:pt x="0" y="2955"/>
                </a:lnTo>
                <a:lnTo>
                  <a:pt x="0" y="2779"/>
                </a:lnTo>
                <a:lnTo>
                  <a:pt x="0" y="2646"/>
                </a:lnTo>
                <a:lnTo>
                  <a:pt x="0" y="2470"/>
                </a:lnTo>
                <a:lnTo>
                  <a:pt x="44" y="2338"/>
                </a:lnTo>
                <a:lnTo>
                  <a:pt x="88" y="2205"/>
                </a:lnTo>
                <a:lnTo>
                  <a:pt x="88" y="2073"/>
                </a:lnTo>
                <a:lnTo>
                  <a:pt x="88" y="1941"/>
                </a:lnTo>
                <a:lnTo>
                  <a:pt x="88" y="1808"/>
                </a:lnTo>
                <a:lnTo>
                  <a:pt x="88" y="1632"/>
                </a:lnTo>
                <a:lnTo>
                  <a:pt x="44" y="1500"/>
                </a:lnTo>
                <a:lnTo>
                  <a:pt x="44" y="1368"/>
                </a:lnTo>
                <a:lnTo>
                  <a:pt x="44" y="1235"/>
                </a:lnTo>
                <a:lnTo>
                  <a:pt x="88" y="1103"/>
                </a:lnTo>
                <a:lnTo>
                  <a:pt x="132" y="970"/>
                </a:lnTo>
                <a:lnTo>
                  <a:pt x="132" y="837"/>
                </a:lnTo>
                <a:lnTo>
                  <a:pt x="132" y="705"/>
                </a:lnTo>
                <a:lnTo>
                  <a:pt x="132" y="573"/>
                </a:lnTo>
                <a:lnTo>
                  <a:pt x="88" y="440"/>
                </a:lnTo>
                <a:lnTo>
                  <a:pt x="88" y="308"/>
                </a:lnTo>
                <a:lnTo>
                  <a:pt x="132" y="176"/>
                </a:lnTo>
                <a:lnTo>
                  <a:pt x="132" y="132"/>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7" name=""/>
          <p:cNvSpPr/>
          <p:nvPr/>
        </p:nvSpPr>
        <p:spPr>
          <a:xfrm>
            <a:off x="3549600" y="3754440"/>
            <a:ext cx="0" cy="144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9"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0"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2491" name=""/>
          <p:cNvSpPr/>
          <p:nvPr/>
        </p:nvSpPr>
        <p:spPr>
          <a:xfrm>
            <a:off x="5869080" y="3784680"/>
            <a:ext cx="0" cy="141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2" name=""/>
          <p:cNvSpPr/>
          <p:nvPr/>
        </p:nvSpPr>
        <p:spPr>
          <a:xfrm>
            <a:off x="5643720" y="3645000"/>
            <a:ext cx="114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3" name=""/>
          <p:cNvSpPr/>
          <p:nvPr/>
        </p:nvSpPr>
        <p:spPr>
          <a:xfrm>
            <a:off x="3340080" y="3435480"/>
            <a:ext cx="407880" cy="4064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4" name=""/>
          <p:cNvSpPr/>
          <p:nvPr/>
        </p:nvSpPr>
        <p:spPr>
          <a:xfrm>
            <a:off x="3505320" y="3643200"/>
            <a:ext cx="85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5" name=""/>
          <p:cNvSpPr/>
          <p:nvPr/>
        </p:nvSpPr>
        <p:spPr>
          <a:xfrm>
            <a:off x="3549600" y="3349800"/>
            <a:ext cx="0" cy="198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6" name=""/>
          <p:cNvSpPr/>
          <p:nvPr/>
        </p:nvSpPr>
        <p:spPr>
          <a:xfrm>
            <a:off x="3552840" y="3606840"/>
            <a:ext cx="0" cy="87120"/>
          </a:xfrm>
          <a:prstGeom prst="line">
            <a:avLst/>
          </a:prstGeom>
          <a:ln w="12600">
            <a:solidFill>
              <a:srgbClr val="ffffff"/>
            </a:solidFill>
            <a:round/>
          </a:ln>
        </p:spPr>
        <p:style>
          <a:lnRef idx="0"/>
          <a:fillRef idx="0"/>
          <a:effectRef idx="0"/>
          <a:fontRef idx="minor"/>
        </p:style>
        <p:txBody>
          <a:bodyPr lIns="96120" rIns="96120" tIns="36000" bIns="36000" anchor="t">
            <a:noAutofit/>
          </a:bodyPr>
          <a:p>
            <a:endParaRPr b="0" lang="en-US" sz="1800" spc="-1" strike="noStrike">
              <a:solidFill>
                <a:srgbClr val="000000"/>
              </a:solidFill>
              <a:latin typeface="Arial"/>
            </a:endParaRPr>
          </a:p>
        </p:txBody>
      </p:sp>
      <p:sp>
        <p:nvSpPr>
          <p:cNvPr id="2497" name=""/>
          <p:cNvSpPr/>
          <p:nvPr/>
        </p:nvSpPr>
        <p:spPr>
          <a:xfrm>
            <a:off x="3549600" y="3754440"/>
            <a:ext cx="0" cy="27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8" name=""/>
          <p:cNvSpPr/>
          <p:nvPr/>
        </p:nvSpPr>
        <p:spPr>
          <a:xfrm>
            <a:off x="3254400" y="3643200"/>
            <a:ext cx="190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9" name=""/>
          <p:cNvSpPr/>
          <p:nvPr/>
        </p:nvSpPr>
        <p:spPr>
          <a:xfrm>
            <a:off x="5668920" y="3448080"/>
            <a:ext cx="407880" cy="406440"/>
          </a:xfrm>
          <a:prstGeom prst="ellipse">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00" name=""/>
          <p:cNvSpPr/>
          <p:nvPr/>
        </p:nvSpPr>
        <p:spPr>
          <a:xfrm>
            <a:off x="3651120" y="3641760"/>
            <a:ext cx="1882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1" name=""/>
          <p:cNvSpPr/>
          <p:nvPr/>
        </p:nvSpPr>
        <p:spPr>
          <a:xfrm>
            <a:off x="5524560" y="3645000"/>
            <a:ext cx="24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2" name=""/>
          <p:cNvSpPr/>
          <p:nvPr/>
        </p:nvSpPr>
        <p:spPr>
          <a:xfrm>
            <a:off x="5870520" y="3325680"/>
            <a:ext cx="0" cy="190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3" name=""/>
          <p:cNvSpPr/>
          <p:nvPr/>
        </p:nvSpPr>
        <p:spPr>
          <a:xfrm>
            <a:off x="5869080" y="3595680"/>
            <a:ext cx="0" cy="82440"/>
          </a:xfrm>
          <a:prstGeom prst="line">
            <a:avLst/>
          </a:prstGeom>
          <a:ln w="12600">
            <a:solidFill>
              <a:srgbClr val="ffffff"/>
            </a:solidFill>
            <a:round/>
          </a:ln>
        </p:spPr>
        <p:style>
          <a:lnRef idx="0"/>
          <a:fillRef idx="0"/>
          <a:effectRef idx="0"/>
          <a:fontRef idx="minor"/>
        </p:style>
        <p:txBody>
          <a:bodyPr lIns="96120" rIns="96120" tIns="31320" bIns="31320" anchor="t">
            <a:noAutofit/>
          </a:bodyPr>
          <a:p>
            <a:endParaRPr b="0" lang="en-US" sz="1800" spc="-1" strike="noStrike">
              <a:solidFill>
                <a:srgbClr val="000000"/>
              </a:solidFill>
              <a:latin typeface="Arial"/>
            </a:endParaRPr>
          </a:p>
        </p:txBody>
      </p:sp>
      <p:sp>
        <p:nvSpPr>
          <p:cNvPr id="2504" name=""/>
          <p:cNvSpPr/>
          <p:nvPr/>
        </p:nvSpPr>
        <p:spPr>
          <a:xfrm>
            <a:off x="5869080" y="378468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5958000" y="3643200"/>
            <a:ext cx="20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6" name=""/>
          <p:cNvSpPr/>
          <p:nvPr/>
        </p:nvSpPr>
        <p:spPr>
          <a:xfrm>
            <a:off x="5821200" y="3645000"/>
            <a:ext cx="9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7" name=""/>
          <p:cNvSpPr txBox="1"/>
          <p:nvPr/>
        </p:nvSpPr>
        <p:spPr>
          <a:xfrm>
            <a:off x="369720" y="50436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2508" name=""/>
          <p:cNvGrpSpPr/>
          <p:nvPr/>
        </p:nvGrpSpPr>
        <p:grpSpPr>
          <a:xfrm>
            <a:off x="560520" y="447840"/>
            <a:ext cx="3624120" cy="1190520"/>
            <a:chOff x="560520" y="447840"/>
            <a:chExt cx="3624120" cy="1190520"/>
          </a:xfrm>
        </p:grpSpPr>
        <p:sp>
          <p:nvSpPr>
            <p:cNvPr id="2509" name=""/>
            <p:cNvSpPr txBox="1"/>
            <p:nvPr/>
          </p:nvSpPr>
          <p:spPr>
            <a:xfrm>
              <a:off x="560520" y="447840"/>
              <a:ext cx="3624120" cy="1190520"/>
            </a:xfrm>
            <a:prstGeom prst="rect">
              <a:avLst/>
            </a:prstGeom>
            <a:noFill/>
            <a:ln w="0">
              <a:noFill/>
            </a:ln>
          </p:spPr>
          <p:txBody>
            <a:bodyPr lIns="0" rIns="0" tIns="0" bIns="0" anchor="t">
              <a:noAutofit/>
            </a:bodyPr>
            <a:p>
              <a:pPr>
                <a:lnSpc>
                  <a:spcPct val="100000"/>
                </a:lnSpc>
              </a:pPr>
              <a:r>
                <a:rPr b="0" lang="en-US" sz="3600" spc="-1" strike="noStrike">
                  <a:solidFill>
                    <a:srgbClr val="fafd00"/>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0" lang="en-US" sz="3600" spc="-1" strike="noStrike">
                  <a:solidFill>
                    <a:srgbClr val="fafd00"/>
                  </a:solidFill>
                  <a:latin typeface="Times New Roman"/>
                  <a:ea typeface="Times New Roman"/>
                </a:rPr>
                <a:t>(Specified)</a:t>
              </a:r>
              <a:endParaRPr b="0" lang="en-US" sz="3600" spc="-1" strike="noStrike">
                <a:solidFill>
                  <a:srgbClr val="000000"/>
                </a:solidFill>
                <a:latin typeface="Arial"/>
              </a:endParaRPr>
            </a:p>
          </p:txBody>
        </p:sp>
        <p:sp>
          <p:nvSpPr>
            <p:cNvPr id="2510" name=""/>
            <p:cNvSpPr/>
            <p:nvPr/>
          </p:nvSpPr>
          <p:spPr>
            <a:xfrm>
              <a:off x="873000" y="1568520"/>
              <a:ext cx="1616040" cy="0"/>
            </a:xfrm>
            <a:prstGeom prst="line">
              <a:avLst/>
            </a:prstGeom>
            <a:ln w="38160">
              <a:solidFill>
                <a:srgbClr val="ffff00"/>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fd0000"/>
                </a:solidFill>
                <a:latin typeface="Times New Roman"/>
                <a:ea typeface="Times New Roman"/>
              </a:rPr>
              <a:t>REMINDER</a:t>
            </a:r>
            <a:endParaRPr b="0" lang="en-US" sz="4400" spc="-1" strike="noStrike">
              <a:solidFill>
                <a:srgbClr val="000000"/>
              </a:solidFill>
              <a:latin typeface="Arial"/>
            </a:endParaRPr>
          </a:p>
        </p:txBody>
      </p:sp>
      <p:sp>
        <p:nvSpPr>
          <p:cNvPr id="2513" name=""/>
          <p:cNvSpPr txBox="1"/>
          <p:nvPr/>
        </p:nvSpPr>
        <p:spPr>
          <a:xfrm>
            <a:off x="474840" y="1981080"/>
            <a:ext cx="804384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atum Reference Frames are </a:t>
            </a:r>
            <a:r>
              <a:rPr b="0" lang="en-US" sz="2800" spc="-1" strike="noStrike">
                <a:solidFill>
                  <a:srgbClr val="fafd00"/>
                </a:solidFill>
                <a:latin typeface="Times New Roman"/>
                <a:ea typeface="Times New Roman"/>
              </a:rPr>
              <a:t>theoretical</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y do not exist on the part.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ctual part features are brought into contact with </a:t>
            </a:r>
            <a:r>
              <a:rPr b="0" lang="en-US" sz="2800" spc="-1" strike="noStrike">
                <a:solidFill>
                  <a:srgbClr val="fafd00"/>
                </a:solidFill>
                <a:latin typeface="Times New Roman"/>
                <a:ea typeface="Times New Roman"/>
              </a:rPr>
              <a:t>simulated datums</a:t>
            </a:r>
            <a:r>
              <a:rPr b="0" lang="en-US" sz="2800" spc="-1" strike="noStrike">
                <a:solidFill>
                  <a:srgbClr val="ffffff"/>
                </a:solidFill>
                <a:latin typeface="Times New Roman"/>
                <a:ea typeface="Times New Roman"/>
              </a:rPr>
              <a:t>, which represent the theoretical datum reference frame </a:t>
            </a:r>
            <a:r>
              <a:rPr b="0" i="1" lang="en-US" sz="2800" spc="-1" strike="noStrike">
                <a:solidFill>
                  <a:srgbClr val="fafd00"/>
                </a:solidFill>
                <a:latin typeface="Times New Roman"/>
                <a:ea typeface="Times New Roman"/>
              </a:rPr>
              <a:t>(this procedure associates the theoretical reference frame with actual features on the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5" name=""/>
          <p:cNvSpPr txBox="1"/>
          <p:nvPr/>
        </p:nvSpPr>
        <p:spPr>
          <a:xfrm>
            <a:off x="479520" y="2367000"/>
            <a:ext cx="840744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datum simulation process is accomplished by positioning specific features in contact with appropriate datum simulators, in a specified order of precedence, and following a procedure that is repeatable.  This is done to restrict part motion, and relate toleranced features to the datum reference frame.</a:t>
            </a:r>
            <a:endParaRPr b="0" lang="en-US" sz="2800" spc="-1" strike="noStrike">
              <a:solidFill>
                <a:srgbClr val="000000"/>
              </a:solidFill>
              <a:latin typeface="Arial"/>
            </a:endParaRPr>
          </a:p>
        </p:txBody>
      </p:sp>
      <p:sp>
        <p:nvSpPr>
          <p:cNvPr id="25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d0000"/>
                </a:solidFill>
                <a:latin typeface="Times New Roman"/>
                <a:ea typeface="Times New Roman"/>
              </a:rPr>
              <a:t>CONCEPTS TO CLING TO</a:t>
            </a:r>
            <a:endParaRPr b="0" lang="en-US" sz="3600" spc="-1" strike="noStrike">
              <a:solidFill>
                <a:srgbClr val="000000"/>
              </a:solidFill>
              <a:latin typeface="Arial"/>
            </a:endParaRPr>
          </a:p>
        </p:txBody>
      </p:sp>
      <p:sp>
        <p:nvSpPr>
          <p:cNvPr id="2517" name=""/>
          <p:cNvSpPr/>
          <p:nvPr/>
        </p:nvSpPr>
        <p:spPr>
          <a:xfrm>
            <a:off x="344520" y="2192400"/>
            <a:ext cx="8481960" cy="3065400"/>
          </a:xfrm>
          <a:prstGeom prst="roundRect">
            <a:avLst/>
          </a:prstGeom>
          <a:noFill/>
          <a:ln w="38160">
            <a:solidFill>
              <a:srgbClr val="ffffff"/>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8" name=""/>
          <p:cNvSpPr txBox="1"/>
          <p:nvPr/>
        </p:nvSpPr>
        <p:spPr>
          <a:xfrm>
            <a:off x="685800" y="1557360"/>
            <a:ext cx="7772400" cy="333360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Interrelated Datum Reference Fram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0" name=""/>
          <p:cNvSpPr txBox="1"/>
          <p:nvPr/>
        </p:nvSpPr>
        <p:spPr>
          <a:xfrm>
            <a:off x="685800" y="7732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INTERRELATED DATUM REFERENCE FRAMES</a:t>
            </a:r>
            <a:endParaRPr b="0" lang="en-US" sz="3600" spc="-1" strike="noStrike">
              <a:solidFill>
                <a:srgbClr val="000000"/>
              </a:solidFill>
              <a:latin typeface="Arial"/>
            </a:endParaRPr>
          </a:p>
        </p:txBody>
      </p:sp>
      <p:sp>
        <p:nvSpPr>
          <p:cNvPr id="2521" name=""/>
          <p:cNvSpPr txBox="1"/>
          <p:nvPr/>
        </p:nvSpPr>
        <p:spPr>
          <a:xfrm>
            <a:off x="534960" y="2243160"/>
            <a:ext cx="775656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epending upon the complexity and functional design requirements of the part, one or more datum reference frame(s) may be required to control and verify finished geometr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ny change in the </a:t>
            </a:r>
            <a:r>
              <a:rPr b="0" lang="en-US" sz="2800" spc="-1" strike="noStrike">
                <a:solidFill>
                  <a:srgbClr val="fafd00"/>
                </a:solidFill>
                <a:latin typeface="Times New Roman"/>
                <a:ea typeface="Times New Roman"/>
              </a:rPr>
              <a:t>order</a:t>
            </a:r>
            <a:r>
              <a:rPr b="0" lang="en-US" sz="2800" spc="-1" strike="noStrike">
                <a:solidFill>
                  <a:srgbClr val="ffffff"/>
                </a:solidFill>
                <a:latin typeface="Times New Roman"/>
                <a:ea typeface="Times New Roman"/>
              </a:rPr>
              <a:t> of datum precedence or material condition, requires different inspection methods, and consequently, establishes different datum reference fr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2522" name=""/>
          <p:cNvGrpSpPr/>
          <p:nvPr/>
        </p:nvGrpSpPr>
        <p:grpSpPr>
          <a:xfrm>
            <a:off x="838080" y="1413000"/>
            <a:ext cx="7772400" cy="4916520"/>
            <a:chOff x="838080" y="1413000"/>
            <a:chExt cx="7772400" cy="4916520"/>
          </a:xfrm>
        </p:grpSpPr>
        <p:sp>
          <p:nvSpPr>
            <p:cNvPr id="2523" name=""/>
            <p:cNvSpPr/>
            <p:nvPr/>
          </p:nvSpPr>
          <p:spPr>
            <a:xfrm>
              <a:off x="3124080" y="58723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4" name=""/>
            <p:cNvSpPr txBox="1"/>
            <p:nvPr/>
          </p:nvSpPr>
          <p:spPr>
            <a:xfrm>
              <a:off x="838080" y="2523960"/>
              <a:ext cx="7772400" cy="1574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re is </a:t>
              </a:r>
              <a:r>
                <a:rPr b="0" lang="en-US" sz="2800" spc="-1" strike="noStrike">
                  <a:solidFill>
                    <a:srgbClr val="fafd00"/>
                  </a:solidFill>
                  <a:latin typeface="Times New Roman"/>
                  <a:ea typeface="Times New Roman"/>
                </a:rPr>
                <a:t>no limit </a:t>
              </a:r>
              <a:r>
                <a:rPr b="0" lang="en-US" sz="2800" spc="-1" strike="noStrike">
                  <a:solidFill>
                    <a:srgbClr val="ffffff"/>
                  </a:solidFill>
                  <a:latin typeface="Times New Roman"/>
                  <a:ea typeface="Times New Roman"/>
                </a:rPr>
                <a:t>to the number of datum reference frames that can be used on an engineering drawing.  However, alpha characters assigned to datum features may only be used once per drawing.</a:t>
              </a:r>
              <a:endParaRPr b="0" lang="en-US" sz="2800" spc="-1" strike="noStrike">
                <a:solidFill>
                  <a:srgbClr val="000000"/>
                </a:solidFill>
                <a:latin typeface="Arial"/>
              </a:endParaRPr>
            </a:p>
          </p:txBody>
        </p:sp>
        <p:sp>
          <p:nvSpPr>
            <p:cNvPr id="2525" name=""/>
            <p:cNvSpPr txBox="1"/>
            <p:nvPr/>
          </p:nvSpPr>
          <p:spPr>
            <a:xfrm>
              <a:off x="1550880" y="1413000"/>
              <a:ext cx="5837400" cy="641520"/>
            </a:xfrm>
            <a:prstGeom prst="rect">
              <a:avLst/>
            </a:prstGeom>
            <a:noFill/>
            <a:ln w="0">
              <a:noFill/>
            </a:ln>
          </p:spPr>
          <p:txBody>
            <a:bodyPr lIns="0" rIns="0" tIns="0" bIns="0" anchor="t">
              <a:noAutofit/>
            </a:bodyPr>
            <a:p>
              <a:pPr algn="ctr">
                <a:lnSpc>
                  <a:spcPct val="100000"/>
                </a:lnSpc>
              </a:pPr>
              <a:r>
                <a:rPr b="1" lang="en-US" sz="3600" spc="-1" strike="noStrike" u="sng">
                  <a:solidFill>
                    <a:srgbClr val="fd0000"/>
                  </a:solidFill>
                  <a:uFillTx/>
                  <a:latin typeface="Times New Roman"/>
                  <a:ea typeface="Times New Roman"/>
                </a:rPr>
                <a:t>CONCEPTS TO CLING TO</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2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7" name=""/>
          <p:cNvSpPr/>
          <p:nvPr/>
        </p:nvSpPr>
        <p:spPr>
          <a:xfrm>
            <a:off x="838080" y="4952880"/>
            <a:ext cx="2705040" cy="144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8" name=""/>
          <p:cNvSpPr/>
          <p:nvPr/>
        </p:nvSpPr>
        <p:spPr>
          <a:xfrm flipV="1">
            <a:off x="853920" y="373392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9" name=""/>
          <p:cNvSpPr/>
          <p:nvPr/>
        </p:nvSpPr>
        <p:spPr>
          <a:xfrm>
            <a:off x="1684440" y="2814480"/>
            <a:ext cx="185904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0" name=""/>
          <p:cNvSpPr/>
          <p:nvPr/>
        </p:nvSpPr>
        <p:spPr>
          <a:xfrm>
            <a:off x="3543480" y="365904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1" name=""/>
          <p:cNvSpPr/>
          <p:nvPr/>
        </p:nvSpPr>
        <p:spPr>
          <a:xfrm flipH="1">
            <a:off x="844560" y="3981600"/>
            <a:ext cx="269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2" name=""/>
          <p:cNvSpPr/>
          <p:nvPr/>
        </p:nvSpPr>
        <p:spPr>
          <a:xfrm>
            <a:off x="3112920" y="4784760"/>
            <a:ext cx="168480" cy="168480"/>
          </a:xfrm>
          <a:custGeom>
            <a:avLst/>
            <a:gdLst/>
            <a:ahLst/>
            <a:rect l="0" t="0" r="r" b="b"/>
            <a:pathLst>
              <a:path w="468" h="468">
                <a:moveTo>
                  <a:pt x="0" y="468"/>
                </a:moveTo>
                <a:lnTo>
                  <a:pt x="468" y="468"/>
                </a:lnTo>
                <a:lnTo>
                  <a:pt x="233"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3" name=""/>
          <p:cNvSpPr/>
          <p:nvPr/>
        </p:nvSpPr>
        <p:spPr>
          <a:xfrm>
            <a:off x="3544920" y="3753000"/>
            <a:ext cx="168480" cy="168480"/>
          </a:xfrm>
          <a:custGeom>
            <a:avLst/>
            <a:gdLst/>
            <a:ahLst/>
            <a:rect l="0" t="0" r="r" b="b"/>
            <a:pathLst>
              <a:path w="468" h="468">
                <a:moveTo>
                  <a:pt x="0" y="0"/>
                </a:moveTo>
                <a:lnTo>
                  <a:pt x="0" y="468"/>
                </a:lnTo>
                <a:lnTo>
                  <a:pt x="468" y="23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4" name=""/>
          <p:cNvSpPr/>
          <p:nvPr/>
        </p:nvSpPr>
        <p:spPr>
          <a:xfrm>
            <a:off x="2187720" y="3983040"/>
            <a:ext cx="168480" cy="168480"/>
          </a:xfrm>
          <a:custGeom>
            <a:avLst/>
            <a:gdLst/>
            <a:ahLst/>
            <a:rect l="0" t="0" r="r" b="b"/>
            <a:pathLst>
              <a:path w="468" h="468">
                <a:moveTo>
                  <a:pt x="0" y="0"/>
                </a:moveTo>
                <a:lnTo>
                  <a:pt x="468" y="0"/>
                </a:lnTo>
                <a:lnTo>
                  <a:pt x="233" y="468"/>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5" name=""/>
          <p:cNvSpPr/>
          <p:nvPr/>
        </p:nvSpPr>
        <p:spPr>
          <a:xfrm>
            <a:off x="3986280" y="369108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6" name=""/>
          <p:cNvSpPr/>
          <p:nvPr/>
        </p:nvSpPr>
        <p:spPr>
          <a:xfrm>
            <a:off x="3062160" y="425772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7" name=""/>
          <p:cNvSpPr/>
          <p:nvPr/>
        </p:nvSpPr>
        <p:spPr>
          <a:xfrm flipH="1">
            <a:off x="3719520" y="383868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8" name=""/>
          <p:cNvSpPr/>
          <p:nvPr/>
        </p:nvSpPr>
        <p:spPr>
          <a:xfrm>
            <a:off x="3201840" y="45226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9" name=""/>
          <p:cNvSpPr/>
          <p:nvPr/>
        </p:nvSpPr>
        <p:spPr>
          <a:xfrm>
            <a:off x="2147760" y="441324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0" name=""/>
          <p:cNvSpPr/>
          <p:nvPr/>
        </p:nvSpPr>
        <p:spPr>
          <a:xfrm>
            <a:off x="2276640" y="414972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1" name=""/>
          <p:cNvSpPr txBox="1"/>
          <p:nvPr/>
        </p:nvSpPr>
        <p:spPr>
          <a:xfrm>
            <a:off x="2138400" y="437832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2542" name=""/>
          <p:cNvSpPr txBox="1"/>
          <p:nvPr/>
        </p:nvSpPr>
        <p:spPr>
          <a:xfrm>
            <a:off x="3052800" y="424656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Y</a:t>
            </a:r>
            <a:endParaRPr b="0" lang="en-US" sz="1600" spc="-1" strike="noStrike">
              <a:solidFill>
                <a:srgbClr val="000000"/>
              </a:solidFill>
              <a:latin typeface="Arial"/>
            </a:endParaRPr>
          </a:p>
        </p:txBody>
      </p:sp>
      <p:sp>
        <p:nvSpPr>
          <p:cNvPr id="2543" name=""/>
          <p:cNvSpPr txBox="1"/>
          <p:nvPr/>
        </p:nvSpPr>
        <p:spPr>
          <a:xfrm>
            <a:off x="3971880" y="3662280"/>
            <a:ext cx="318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Z</a:t>
            </a:r>
            <a:endParaRPr b="0" lang="en-US" sz="1600" spc="-1" strike="noStrike">
              <a:solidFill>
                <a:srgbClr val="000000"/>
              </a:solidFill>
              <a:latin typeface="Arial"/>
            </a:endParaRPr>
          </a:p>
        </p:txBody>
      </p:sp>
      <p:sp>
        <p:nvSpPr>
          <p:cNvPr id="2544" name=""/>
          <p:cNvSpPr/>
          <p:nvPr/>
        </p:nvSpPr>
        <p:spPr>
          <a:xfrm>
            <a:off x="1258920" y="51973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5" name=""/>
          <p:cNvSpPr/>
          <p:nvPr/>
        </p:nvSpPr>
        <p:spPr>
          <a:xfrm>
            <a:off x="2075040" y="5202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6" name=""/>
          <p:cNvSpPr/>
          <p:nvPr/>
        </p:nvSpPr>
        <p:spPr>
          <a:xfrm>
            <a:off x="1112760" y="534204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7" name=""/>
          <p:cNvSpPr/>
          <p:nvPr/>
        </p:nvSpPr>
        <p:spPr>
          <a:xfrm>
            <a:off x="1808280" y="5342040"/>
            <a:ext cx="8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8" name=""/>
          <p:cNvSpPr/>
          <p:nvPr/>
        </p:nvSpPr>
        <p:spPr>
          <a:xfrm>
            <a:off x="1994040" y="534024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9" name=""/>
          <p:cNvSpPr/>
          <p:nvPr/>
        </p:nvSpPr>
        <p:spPr>
          <a:xfrm>
            <a:off x="1397160" y="5137200"/>
            <a:ext cx="0" cy="41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0" name=""/>
          <p:cNvSpPr/>
          <p:nvPr/>
        </p:nvSpPr>
        <p:spPr>
          <a:xfrm>
            <a:off x="2214720" y="51004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1" name=""/>
          <p:cNvSpPr/>
          <p:nvPr/>
        </p:nvSpPr>
        <p:spPr>
          <a:xfrm>
            <a:off x="790560" y="2055960"/>
            <a:ext cx="144288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2" name=""/>
          <p:cNvSpPr/>
          <p:nvPr/>
        </p:nvSpPr>
        <p:spPr>
          <a:xfrm>
            <a:off x="2236680" y="22003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3" name=""/>
          <p:cNvSpPr/>
          <p:nvPr/>
        </p:nvSpPr>
        <p:spPr>
          <a:xfrm flipH="1">
            <a:off x="2052720" y="2200320"/>
            <a:ext cx="384120" cy="771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4" name=""/>
          <p:cNvSpPr/>
          <p:nvPr/>
        </p:nvSpPr>
        <p:spPr>
          <a:xfrm>
            <a:off x="2359080" y="5410080"/>
            <a:ext cx="1812960" cy="600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a:off x="4157640" y="6010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a:off x="4479840" y="5840280"/>
            <a:ext cx="245736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7" name=""/>
          <p:cNvSpPr/>
          <p:nvPr/>
        </p:nvSpPr>
        <p:spPr>
          <a:xfrm flipH="1">
            <a:off x="1568520" y="2806560"/>
            <a:ext cx="10800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8" name=""/>
          <p:cNvSpPr/>
          <p:nvPr/>
        </p:nvSpPr>
        <p:spPr>
          <a:xfrm>
            <a:off x="1562040" y="3054240"/>
            <a:ext cx="1530360" cy="6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flipH="1">
            <a:off x="851040" y="3740040"/>
            <a:ext cx="22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60" name=""/>
          <p:cNvGrpSpPr/>
          <p:nvPr/>
        </p:nvGrpSpPr>
        <p:grpSpPr>
          <a:xfrm>
            <a:off x="4510080" y="5854680"/>
            <a:ext cx="276120" cy="276120"/>
            <a:chOff x="4510080" y="5854680"/>
            <a:chExt cx="276120" cy="276120"/>
          </a:xfrm>
        </p:grpSpPr>
        <p:sp>
          <p:nvSpPr>
            <p:cNvPr id="2561" name=""/>
            <p:cNvSpPr/>
            <p:nvPr/>
          </p:nvSpPr>
          <p:spPr>
            <a:xfrm>
              <a:off x="4570560" y="59166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2" name=""/>
            <p:cNvSpPr/>
            <p:nvPr/>
          </p:nvSpPr>
          <p:spPr>
            <a:xfrm>
              <a:off x="4654440" y="585468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3" name=""/>
            <p:cNvSpPr/>
            <p:nvPr/>
          </p:nvSpPr>
          <p:spPr>
            <a:xfrm>
              <a:off x="4510080" y="600228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64" name=""/>
          <p:cNvGrpSpPr/>
          <p:nvPr/>
        </p:nvGrpSpPr>
        <p:grpSpPr>
          <a:xfrm>
            <a:off x="868320" y="2122560"/>
            <a:ext cx="230400" cy="123840"/>
            <a:chOff x="868320" y="2122560"/>
            <a:chExt cx="230400" cy="123840"/>
          </a:xfrm>
        </p:grpSpPr>
        <p:sp>
          <p:nvSpPr>
            <p:cNvPr id="2565" name=""/>
            <p:cNvSpPr/>
            <p:nvPr/>
          </p:nvSpPr>
          <p:spPr>
            <a:xfrm flipH="1">
              <a:off x="868320" y="2122560"/>
              <a:ext cx="18432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6" name=""/>
            <p:cNvSpPr/>
            <p:nvPr/>
          </p:nvSpPr>
          <p:spPr>
            <a:xfrm>
              <a:off x="868320" y="224640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67" name=""/>
          <p:cNvSpPr/>
          <p:nvPr/>
        </p:nvSpPr>
        <p:spPr>
          <a:xfrm>
            <a:off x="114156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8" name=""/>
          <p:cNvSpPr/>
          <p:nvPr/>
        </p:nvSpPr>
        <p:spPr>
          <a:xfrm>
            <a:off x="48481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9" name=""/>
          <p:cNvSpPr txBox="1"/>
          <p:nvPr/>
        </p:nvSpPr>
        <p:spPr>
          <a:xfrm>
            <a:off x="1147680" y="2063880"/>
            <a:ext cx="1138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0.1   X   Y</a:t>
            </a:r>
            <a:endParaRPr b="0" lang="en-US" sz="1600" spc="-1" strike="noStrike">
              <a:solidFill>
                <a:srgbClr val="000000"/>
              </a:solidFill>
              <a:latin typeface="Arial"/>
            </a:endParaRPr>
          </a:p>
        </p:txBody>
      </p:sp>
      <p:sp>
        <p:nvSpPr>
          <p:cNvPr id="2570" name=""/>
          <p:cNvSpPr/>
          <p:nvPr/>
        </p:nvSpPr>
        <p:spPr>
          <a:xfrm>
            <a:off x="16066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1" name=""/>
          <p:cNvSpPr/>
          <p:nvPr/>
        </p:nvSpPr>
        <p:spPr>
          <a:xfrm>
            <a:off x="19144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72" name=""/>
          <p:cNvGrpSpPr/>
          <p:nvPr/>
        </p:nvGrpSpPr>
        <p:grpSpPr>
          <a:xfrm>
            <a:off x="4892760" y="5884920"/>
            <a:ext cx="199800" cy="199800"/>
            <a:chOff x="4892760" y="5884920"/>
            <a:chExt cx="199800" cy="199800"/>
          </a:xfrm>
        </p:grpSpPr>
        <p:sp>
          <p:nvSpPr>
            <p:cNvPr id="2573" name=""/>
            <p:cNvSpPr/>
            <p:nvPr/>
          </p:nvSpPr>
          <p:spPr>
            <a:xfrm>
              <a:off x="4923000" y="59151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4" name=""/>
            <p:cNvSpPr/>
            <p:nvPr/>
          </p:nvSpPr>
          <p:spPr>
            <a:xfrm flipH="1">
              <a:off x="4892760" y="588492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75" name=""/>
          <p:cNvSpPr txBox="1"/>
          <p:nvPr/>
        </p:nvSpPr>
        <p:spPr>
          <a:xfrm>
            <a:off x="5094360" y="5834160"/>
            <a:ext cx="18543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2  M    X   Y   Z</a:t>
            </a:r>
            <a:endParaRPr b="0" lang="en-US" sz="1800" spc="-1" strike="noStrike">
              <a:solidFill>
                <a:srgbClr val="000000"/>
              </a:solidFill>
              <a:latin typeface="Arial"/>
            </a:endParaRPr>
          </a:p>
        </p:txBody>
      </p:sp>
      <p:sp>
        <p:nvSpPr>
          <p:cNvPr id="2576" name=""/>
          <p:cNvSpPr/>
          <p:nvPr/>
        </p:nvSpPr>
        <p:spPr>
          <a:xfrm>
            <a:off x="5556240" y="5886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7" name=""/>
          <p:cNvSpPr/>
          <p:nvPr/>
        </p:nvSpPr>
        <p:spPr>
          <a:xfrm>
            <a:off x="59389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8" name=""/>
          <p:cNvSpPr/>
          <p:nvPr/>
        </p:nvSpPr>
        <p:spPr>
          <a:xfrm>
            <a:off x="627696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9" name=""/>
          <p:cNvSpPr/>
          <p:nvPr/>
        </p:nvSpPr>
        <p:spPr>
          <a:xfrm>
            <a:off x="661500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0" name=""/>
          <p:cNvSpPr txBox="1"/>
          <p:nvPr/>
        </p:nvSpPr>
        <p:spPr>
          <a:xfrm>
            <a:off x="4602240" y="4476600"/>
            <a:ext cx="3263760" cy="106668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Interrelated Datum</a:t>
            </a:r>
            <a:endParaRPr b="0" lang="en-US" sz="3200" spc="-1" strike="noStrike">
              <a:solidFill>
                <a:srgbClr val="000000"/>
              </a:solidFill>
              <a:latin typeface="Arial"/>
            </a:endParaRPr>
          </a:p>
          <a:p>
            <a:pPr>
              <a:lnSpc>
                <a:spcPct val="100000"/>
              </a:lnSpc>
            </a:pPr>
            <a:r>
              <a:rPr b="0" lang="en-US" sz="3200" spc="-1" strike="noStrike">
                <a:solidFill>
                  <a:srgbClr val="fafd00"/>
                </a:solidFill>
                <a:latin typeface="Times New Roman"/>
                <a:ea typeface="Times New Roman"/>
              </a:rPr>
              <a:t>Reference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4" name=""/>
          <p:cNvSpPr txBox="1"/>
          <p:nvPr/>
        </p:nvSpPr>
        <p:spPr>
          <a:xfrm>
            <a:off x="1355760" y="549360"/>
            <a:ext cx="6432480" cy="6415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DATUM  CONCEPTS  REVIEW</a:t>
            </a:r>
            <a:endParaRPr b="0" lang="en-US" sz="3600" spc="-1" strike="noStrike">
              <a:solidFill>
                <a:srgbClr val="000000"/>
              </a:solidFill>
              <a:latin typeface="Arial"/>
            </a:endParaRPr>
          </a:p>
        </p:txBody>
      </p:sp>
      <p:sp>
        <p:nvSpPr>
          <p:cNvPr id="615" name=""/>
          <p:cNvSpPr txBox="1"/>
          <p:nvPr/>
        </p:nvSpPr>
        <p:spPr>
          <a:xfrm>
            <a:off x="461880" y="1535040"/>
            <a:ext cx="7772400" cy="1746360"/>
          </a:xfrm>
          <a:prstGeom prst="rect">
            <a:avLst/>
          </a:prstGeom>
          <a:noFill/>
          <a:ln w="0">
            <a:noFill/>
          </a:ln>
        </p:spPr>
        <p:txBody>
          <a:bodyPr lIns="0" rIns="0" tIns="0" bIns="0" anchor="t">
            <a:noAutofit/>
          </a:bodyPr>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rfaces or features that are identified as primary, secondary, and tertiary datum features should have a significant relationship in the design and function of the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82" name=""/>
          <p:cNvSpPr/>
          <p:nvPr/>
        </p:nvSpPr>
        <p:spPr>
          <a:xfrm>
            <a:off x="838080" y="4952880"/>
            <a:ext cx="2705040" cy="144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3" name=""/>
          <p:cNvSpPr/>
          <p:nvPr/>
        </p:nvSpPr>
        <p:spPr>
          <a:xfrm flipV="1">
            <a:off x="853920" y="373392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4" name=""/>
          <p:cNvSpPr/>
          <p:nvPr/>
        </p:nvSpPr>
        <p:spPr>
          <a:xfrm>
            <a:off x="1684440" y="2814480"/>
            <a:ext cx="185904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5" name=""/>
          <p:cNvSpPr/>
          <p:nvPr/>
        </p:nvSpPr>
        <p:spPr>
          <a:xfrm>
            <a:off x="3543480" y="365904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6" name=""/>
          <p:cNvSpPr/>
          <p:nvPr/>
        </p:nvSpPr>
        <p:spPr>
          <a:xfrm flipH="1">
            <a:off x="844560" y="3981600"/>
            <a:ext cx="269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7" name=""/>
          <p:cNvSpPr/>
          <p:nvPr/>
        </p:nvSpPr>
        <p:spPr>
          <a:xfrm>
            <a:off x="3112920" y="4784760"/>
            <a:ext cx="168480" cy="168480"/>
          </a:xfrm>
          <a:custGeom>
            <a:avLst/>
            <a:gdLst/>
            <a:ahLst/>
            <a:rect l="0" t="0" r="r" b="b"/>
            <a:pathLst>
              <a:path w="468" h="468">
                <a:moveTo>
                  <a:pt x="0" y="468"/>
                </a:moveTo>
                <a:lnTo>
                  <a:pt x="468" y="468"/>
                </a:lnTo>
                <a:lnTo>
                  <a:pt x="233"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8" name=""/>
          <p:cNvSpPr/>
          <p:nvPr/>
        </p:nvSpPr>
        <p:spPr>
          <a:xfrm>
            <a:off x="3544920" y="3753000"/>
            <a:ext cx="168480" cy="168480"/>
          </a:xfrm>
          <a:custGeom>
            <a:avLst/>
            <a:gdLst/>
            <a:ahLst/>
            <a:rect l="0" t="0" r="r" b="b"/>
            <a:pathLst>
              <a:path w="468" h="468">
                <a:moveTo>
                  <a:pt x="0" y="0"/>
                </a:moveTo>
                <a:lnTo>
                  <a:pt x="0" y="468"/>
                </a:lnTo>
                <a:lnTo>
                  <a:pt x="468" y="23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9" name=""/>
          <p:cNvSpPr/>
          <p:nvPr/>
        </p:nvSpPr>
        <p:spPr>
          <a:xfrm>
            <a:off x="2614680" y="3098880"/>
            <a:ext cx="168480" cy="168480"/>
          </a:xfrm>
          <a:custGeom>
            <a:avLst/>
            <a:gdLst/>
            <a:ahLst/>
            <a:rect l="0" t="0" r="r" b="b"/>
            <a:pathLst>
              <a:path w="468" h="468">
                <a:moveTo>
                  <a:pt x="0" y="468"/>
                </a:moveTo>
                <a:lnTo>
                  <a:pt x="468" y="468"/>
                </a:lnTo>
                <a:lnTo>
                  <a:pt x="233"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0" name=""/>
          <p:cNvSpPr/>
          <p:nvPr/>
        </p:nvSpPr>
        <p:spPr>
          <a:xfrm>
            <a:off x="2187720" y="3983040"/>
            <a:ext cx="168480" cy="168480"/>
          </a:xfrm>
          <a:custGeom>
            <a:avLst/>
            <a:gdLst/>
            <a:ahLst/>
            <a:rect l="0" t="0" r="r" b="b"/>
            <a:pathLst>
              <a:path w="468" h="468">
                <a:moveTo>
                  <a:pt x="0" y="0"/>
                </a:moveTo>
                <a:lnTo>
                  <a:pt x="468" y="0"/>
                </a:lnTo>
                <a:lnTo>
                  <a:pt x="233" y="468"/>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a:off x="3036960" y="265572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2" name=""/>
          <p:cNvSpPr/>
          <p:nvPr/>
        </p:nvSpPr>
        <p:spPr>
          <a:xfrm>
            <a:off x="3986280" y="369108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3" name=""/>
          <p:cNvSpPr/>
          <p:nvPr/>
        </p:nvSpPr>
        <p:spPr>
          <a:xfrm>
            <a:off x="3062160" y="425772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4" name=""/>
          <p:cNvSpPr/>
          <p:nvPr/>
        </p:nvSpPr>
        <p:spPr>
          <a:xfrm flipV="1">
            <a:off x="2719440" y="2771640"/>
            <a:ext cx="18396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5" name=""/>
          <p:cNvSpPr/>
          <p:nvPr/>
        </p:nvSpPr>
        <p:spPr>
          <a:xfrm>
            <a:off x="2913120" y="277164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6" name=""/>
          <p:cNvSpPr/>
          <p:nvPr/>
        </p:nvSpPr>
        <p:spPr>
          <a:xfrm flipH="1">
            <a:off x="3719520" y="383868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7" name=""/>
          <p:cNvSpPr/>
          <p:nvPr/>
        </p:nvSpPr>
        <p:spPr>
          <a:xfrm>
            <a:off x="3201840" y="45226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8" name=""/>
          <p:cNvSpPr/>
          <p:nvPr/>
        </p:nvSpPr>
        <p:spPr>
          <a:xfrm>
            <a:off x="2147760" y="441324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9" name=""/>
          <p:cNvSpPr/>
          <p:nvPr/>
        </p:nvSpPr>
        <p:spPr>
          <a:xfrm>
            <a:off x="2276640" y="414972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0" name=""/>
          <p:cNvSpPr txBox="1"/>
          <p:nvPr/>
        </p:nvSpPr>
        <p:spPr>
          <a:xfrm>
            <a:off x="2138400" y="437832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2601" name=""/>
          <p:cNvSpPr txBox="1"/>
          <p:nvPr/>
        </p:nvSpPr>
        <p:spPr>
          <a:xfrm>
            <a:off x="3052800" y="424656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Y</a:t>
            </a:r>
            <a:endParaRPr b="0" lang="en-US" sz="1600" spc="-1" strike="noStrike">
              <a:solidFill>
                <a:srgbClr val="000000"/>
              </a:solidFill>
              <a:latin typeface="Arial"/>
            </a:endParaRPr>
          </a:p>
        </p:txBody>
      </p:sp>
      <p:sp>
        <p:nvSpPr>
          <p:cNvPr id="2602" name=""/>
          <p:cNvSpPr txBox="1"/>
          <p:nvPr/>
        </p:nvSpPr>
        <p:spPr>
          <a:xfrm>
            <a:off x="3971880" y="3662280"/>
            <a:ext cx="318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Z</a:t>
            </a:r>
            <a:endParaRPr b="0" lang="en-US" sz="1600" spc="-1" strike="noStrike">
              <a:solidFill>
                <a:srgbClr val="000000"/>
              </a:solidFill>
              <a:latin typeface="Arial"/>
            </a:endParaRPr>
          </a:p>
        </p:txBody>
      </p:sp>
      <p:sp>
        <p:nvSpPr>
          <p:cNvPr id="2603" name=""/>
          <p:cNvSpPr txBox="1"/>
          <p:nvPr/>
        </p:nvSpPr>
        <p:spPr>
          <a:xfrm>
            <a:off x="3005280" y="2635200"/>
            <a:ext cx="3873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a:t>
            </a:r>
            <a:endParaRPr b="0" lang="en-US" sz="1600" spc="-1" strike="noStrike">
              <a:solidFill>
                <a:srgbClr val="000000"/>
              </a:solidFill>
              <a:latin typeface="Arial"/>
            </a:endParaRPr>
          </a:p>
        </p:txBody>
      </p:sp>
      <p:sp>
        <p:nvSpPr>
          <p:cNvPr id="2604" name=""/>
          <p:cNvSpPr/>
          <p:nvPr/>
        </p:nvSpPr>
        <p:spPr>
          <a:xfrm>
            <a:off x="1258920" y="51973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5" name=""/>
          <p:cNvSpPr/>
          <p:nvPr/>
        </p:nvSpPr>
        <p:spPr>
          <a:xfrm>
            <a:off x="2075040" y="5202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a:off x="1112760" y="534204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p:nvPr/>
        </p:nvSpPr>
        <p:spPr>
          <a:xfrm>
            <a:off x="1808280" y="5342040"/>
            <a:ext cx="8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1994040" y="534024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9" name=""/>
          <p:cNvSpPr/>
          <p:nvPr/>
        </p:nvSpPr>
        <p:spPr>
          <a:xfrm>
            <a:off x="1397160" y="5137200"/>
            <a:ext cx="0" cy="41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0" name=""/>
          <p:cNvSpPr/>
          <p:nvPr/>
        </p:nvSpPr>
        <p:spPr>
          <a:xfrm>
            <a:off x="2214720" y="51004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1" name=""/>
          <p:cNvSpPr/>
          <p:nvPr/>
        </p:nvSpPr>
        <p:spPr>
          <a:xfrm>
            <a:off x="790560" y="2055960"/>
            <a:ext cx="144288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2236680" y="22003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flipH="1">
            <a:off x="2052720" y="2200320"/>
            <a:ext cx="384120" cy="771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a:off x="2359080" y="5410080"/>
            <a:ext cx="1812960" cy="600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a:off x="4157640" y="6010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p:nvPr/>
        </p:nvSpPr>
        <p:spPr>
          <a:xfrm>
            <a:off x="4479840" y="5840280"/>
            <a:ext cx="245736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flipH="1">
            <a:off x="1568520" y="2806560"/>
            <a:ext cx="10800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a:off x="1562040" y="3054240"/>
            <a:ext cx="1530360" cy="6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flipH="1">
            <a:off x="851040" y="3740040"/>
            <a:ext cx="22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20" name=""/>
          <p:cNvGrpSpPr/>
          <p:nvPr/>
        </p:nvGrpSpPr>
        <p:grpSpPr>
          <a:xfrm>
            <a:off x="4510080" y="5854680"/>
            <a:ext cx="276120" cy="276120"/>
            <a:chOff x="4510080" y="5854680"/>
            <a:chExt cx="276120" cy="276120"/>
          </a:xfrm>
        </p:grpSpPr>
        <p:sp>
          <p:nvSpPr>
            <p:cNvPr id="2621" name=""/>
            <p:cNvSpPr/>
            <p:nvPr/>
          </p:nvSpPr>
          <p:spPr>
            <a:xfrm>
              <a:off x="4570560" y="59166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2" name=""/>
            <p:cNvSpPr/>
            <p:nvPr/>
          </p:nvSpPr>
          <p:spPr>
            <a:xfrm>
              <a:off x="4654440" y="585468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3" name=""/>
            <p:cNvSpPr/>
            <p:nvPr/>
          </p:nvSpPr>
          <p:spPr>
            <a:xfrm>
              <a:off x="4510080" y="600228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24" name=""/>
          <p:cNvGrpSpPr/>
          <p:nvPr/>
        </p:nvGrpSpPr>
        <p:grpSpPr>
          <a:xfrm>
            <a:off x="868320" y="2122560"/>
            <a:ext cx="230400" cy="123840"/>
            <a:chOff x="868320" y="2122560"/>
            <a:chExt cx="230400" cy="123840"/>
          </a:xfrm>
        </p:grpSpPr>
        <p:sp>
          <p:nvSpPr>
            <p:cNvPr id="2625" name=""/>
            <p:cNvSpPr/>
            <p:nvPr/>
          </p:nvSpPr>
          <p:spPr>
            <a:xfrm flipH="1">
              <a:off x="868320" y="2122560"/>
              <a:ext cx="18432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868320" y="224640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27" name=""/>
          <p:cNvSpPr/>
          <p:nvPr/>
        </p:nvSpPr>
        <p:spPr>
          <a:xfrm>
            <a:off x="114156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8" name=""/>
          <p:cNvSpPr/>
          <p:nvPr/>
        </p:nvSpPr>
        <p:spPr>
          <a:xfrm>
            <a:off x="48481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9" name=""/>
          <p:cNvSpPr txBox="1"/>
          <p:nvPr/>
        </p:nvSpPr>
        <p:spPr>
          <a:xfrm>
            <a:off x="1147680" y="2063880"/>
            <a:ext cx="1138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0.1   X   Y</a:t>
            </a:r>
            <a:endParaRPr b="0" lang="en-US" sz="1600" spc="-1" strike="noStrike">
              <a:solidFill>
                <a:srgbClr val="000000"/>
              </a:solidFill>
              <a:latin typeface="Arial"/>
            </a:endParaRPr>
          </a:p>
        </p:txBody>
      </p:sp>
      <p:sp>
        <p:nvSpPr>
          <p:cNvPr id="2630" name=""/>
          <p:cNvSpPr/>
          <p:nvPr/>
        </p:nvSpPr>
        <p:spPr>
          <a:xfrm>
            <a:off x="16066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1" name=""/>
          <p:cNvSpPr/>
          <p:nvPr/>
        </p:nvSpPr>
        <p:spPr>
          <a:xfrm>
            <a:off x="19144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32" name=""/>
          <p:cNvGrpSpPr/>
          <p:nvPr/>
        </p:nvGrpSpPr>
        <p:grpSpPr>
          <a:xfrm>
            <a:off x="4892760" y="5884920"/>
            <a:ext cx="199800" cy="199800"/>
            <a:chOff x="4892760" y="5884920"/>
            <a:chExt cx="199800" cy="199800"/>
          </a:xfrm>
        </p:grpSpPr>
        <p:sp>
          <p:nvSpPr>
            <p:cNvPr id="2633" name=""/>
            <p:cNvSpPr/>
            <p:nvPr/>
          </p:nvSpPr>
          <p:spPr>
            <a:xfrm>
              <a:off x="4923000" y="59151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4" name=""/>
            <p:cNvSpPr/>
            <p:nvPr/>
          </p:nvSpPr>
          <p:spPr>
            <a:xfrm flipH="1">
              <a:off x="4892760" y="588492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35" name=""/>
          <p:cNvSpPr txBox="1"/>
          <p:nvPr/>
        </p:nvSpPr>
        <p:spPr>
          <a:xfrm>
            <a:off x="5094360" y="5834160"/>
            <a:ext cx="18543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2  M    X   Y   Z</a:t>
            </a:r>
            <a:endParaRPr b="0" lang="en-US" sz="1800" spc="-1" strike="noStrike">
              <a:solidFill>
                <a:srgbClr val="000000"/>
              </a:solidFill>
              <a:latin typeface="Arial"/>
            </a:endParaRPr>
          </a:p>
        </p:txBody>
      </p:sp>
      <p:sp>
        <p:nvSpPr>
          <p:cNvPr id="2636" name=""/>
          <p:cNvSpPr/>
          <p:nvPr/>
        </p:nvSpPr>
        <p:spPr>
          <a:xfrm>
            <a:off x="5556240" y="5886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7" name=""/>
          <p:cNvSpPr/>
          <p:nvPr/>
        </p:nvSpPr>
        <p:spPr>
          <a:xfrm>
            <a:off x="59389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8" name=""/>
          <p:cNvSpPr/>
          <p:nvPr/>
        </p:nvSpPr>
        <p:spPr>
          <a:xfrm>
            <a:off x="627696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9" name=""/>
          <p:cNvSpPr/>
          <p:nvPr/>
        </p:nvSpPr>
        <p:spPr>
          <a:xfrm>
            <a:off x="661500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0" name=""/>
          <p:cNvSpPr txBox="1"/>
          <p:nvPr/>
        </p:nvSpPr>
        <p:spPr>
          <a:xfrm>
            <a:off x="4602240" y="4476600"/>
            <a:ext cx="3263760" cy="106668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Interrelated Datum</a:t>
            </a:r>
            <a:endParaRPr b="0" lang="en-US" sz="3200" spc="-1" strike="noStrike">
              <a:solidFill>
                <a:srgbClr val="000000"/>
              </a:solidFill>
              <a:latin typeface="Arial"/>
            </a:endParaRPr>
          </a:p>
          <a:p>
            <a:pPr>
              <a:lnSpc>
                <a:spcPct val="100000"/>
              </a:lnSpc>
            </a:pPr>
            <a:r>
              <a:rPr b="0" lang="en-US" sz="3200" spc="-1" strike="noStrike">
                <a:solidFill>
                  <a:srgbClr val="fafd00"/>
                </a:solidFill>
                <a:latin typeface="Times New Roman"/>
                <a:ea typeface="Times New Roman"/>
              </a:rPr>
              <a:t>Reference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4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42" name=""/>
          <p:cNvSpPr/>
          <p:nvPr/>
        </p:nvSpPr>
        <p:spPr>
          <a:xfrm>
            <a:off x="838080" y="4952880"/>
            <a:ext cx="2705040" cy="144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3" name=""/>
          <p:cNvSpPr/>
          <p:nvPr/>
        </p:nvSpPr>
        <p:spPr>
          <a:xfrm flipV="1">
            <a:off x="853920" y="373392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4" name=""/>
          <p:cNvSpPr/>
          <p:nvPr/>
        </p:nvSpPr>
        <p:spPr>
          <a:xfrm>
            <a:off x="1684440" y="2814480"/>
            <a:ext cx="185904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5" name=""/>
          <p:cNvSpPr/>
          <p:nvPr/>
        </p:nvSpPr>
        <p:spPr>
          <a:xfrm>
            <a:off x="3543480" y="365904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6" name=""/>
          <p:cNvSpPr/>
          <p:nvPr/>
        </p:nvSpPr>
        <p:spPr>
          <a:xfrm flipH="1">
            <a:off x="844560" y="3981600"/>
            <a:ext cx="269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7" name=""/>
          <p:cNvSpPr/>
          <p:nvPr/>
        </p:nvSpPr>
        <p:spPr>
          <a:xfrm>
            <a:off x="2430360" y="793800"/>
            <a:ext cx="2016000" cy="147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8" name=""/>
          <p:cNvSpPr/>
          <p:nvPr/>
        </p:nvSpPr>
        <p:spPr>
          <a:xfrm>
            <a:off x="3112920" y="4784760"/>
            <a:ext cx="168480" cy="168480"/>
          </a:xfrm>
          <a:custGeom>
            <a:avLst/>
            <a:gdLst/>
            <a:ahLst/>
            <a:rect l="0" t="0" r="r" b="b"/>
            <a:pathLst>
              <a:path w="468" h="468">
                <a:moveTo>
                  <a:pt x="0" y="468"/>
                </a:moveTo>
                <a:lnTo>
                  <a:pt x="468" y="468"/>
                </a:lnTo>
                <a:lnTo>
                  <a:pt x="233"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9" name=""/>
          <p:cNvSpPr/>
          <p:nvPr/>
        </p:nvSpPr>
        <p:spPr>
          <a:xfrm>
            <a:off x="3544920" y="3753000"/>
            <a:ext cx="168480" cy="168480"/>
          </a:xfrm>
          <a:custGeom>
            <a:avLst/>
            <a:gdLst/>
            <a:ahLst/>
            <a:rect l="0" t="0" r="r" b="b"/>
            <a:pathLst>
              <a:path w="468" h="468">
                <a:moveTo>
                  <a:pt x="0" y="0"/>
                </a:moveTo>
                <a:lnTo>
                  <a:pt x="0" y="468"/>
                </a:lnTo>
                <a:lnTo>
                  <a:pt x="468" y="23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0" name=""/>
          <p:cNvSpPr/>
          <p:nvPr/>
        </p:nvSpPr>
        <p:spPr>
          <a:xfrm>
            <a:off x="2614680" y="3098880"/>
            <a:ext cx="168480" cy="168480"/>
          </a:xfrm>
          <a:custGeom>
            <a:avLst/>
            <a:gdLst/>
            <a:ahLst/>
            <a:rect l="0" t="0" r="r" b="b"/>
            <a:pathLst>
              <a:path w="468" h="468">
                <a:moveTo>
                  <a:pt x="0" y="468"/>
                </a:moveTo>
                <a:lnTo>
                  <a:pt x="468" y="468"/>
                </a:lnTo>
                <a:lnTo>
                  <a:pt x="233"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1" name=""/>
          <p:cNvSpPr/>
          <p:nvPr/>
        </p:nvSpPr>
        <p:spPr>
          <a:xfrm>
            <a:off x="2187720" y="3983040"/>
            <a:ext cx="168480" cy="168480"/>
          </a:xfrm>
          <a:custGeom>
            <a:avLst/>
            <a:gdLst/>
            <a:ahLst/>
            <a:rect l="0" t="0" r="r" b="b"/>
            <a:pathLst>
              <a:path w="468" h="468">
                <a:moveTo>
                  <a:pt x="0" y="0"/>
                </a:moveTo>
                <a:lnTo>
                  <a:pt x="468" y="0"/>
                </a:lnTo>
                <a:lnTo>
                  <a:pt x="233" y="468"/>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2" name=""/>
          <p:cNvSpPr/>
          <p:nvPr/>
        </p:nvSpPr>
        <p:spPr>
          <a:xfrm>
            <a:off x="3036960" y="265572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3" name=""/>
          <p:cNvSpPr/>
          <p:nvPr/>
        </p:nvSpPr>
        <p:spPr>
          <a:xfrm>
            <a:off x="3986280" y="369108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4" name=""/>
          <p:cNvSpPr/>
          <p:nvPr/>
        </p:nvSpPr>
        <p:spPr>
          <a:xfrm>
            <a:off x="3062160" y="425772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5" name=""/>
          <p:cNvSpPr/>
          <p:nvPr/>
        </p:nvSpPr>
        <p:spPr>
          <a:xfrm flipV="1">
            <a:off x="2719440" y="2771640"/>
            <a:ext cx="18396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6" name=""/>
          <p:cNvSpPr/>
          <p:nvPr/>
        </p:nvSpPr>
        <p:spPr>
          <a:xfrm>
            <a:off x="2913120" y="277164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7" name=""/>
          <p:cNvSpPr/>
          <p:nvPr/>
        </p:nvSpPr>
        <p:spPr>
          <a:xfrm flipH="1">
            <a:off x="3719520" y="383868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8" name=""/>
          <p:cNvSpPr/>
          <p:nvPr/>
        </p:nvSpPr>
        <p:spPr>
          <a:xfrm>
            <a:off x="3201840" y="45226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9" name=""/>
          <p:cNvSpPr/>
          <p:nvPr/>
        </p:nvSpPr>
        <p:spPr>
          <a:xfrm>
            <a:off x="2147760" y="441324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0" name=""/>
          <p:cNvSpPr/>
          <p:nvPr/>
        </p:nvSpPr>
        <p:spPr>
          <a:xfrm>
            <a:off x="2276640" y="414972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1" name=""/>
          <p:cNvSpPr txBox="1"/>
          <p:nvPr/>
        </p:nvSpPr>
        <p:spPr>
          <a:xfrm>
            <a:off x="2138400" y="437832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2662" name=""/>
          <p:cNvSpPr txBox="1"/>
          <p:nvPr/>
        </p:nvSpPr>
        <p:spPr>
          <a:xfrm>
            <a:off x="3052800" y="424656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Y</a:t>
            </a:r>
            <a:endParaRPr b="0" lang="en-US" sz="1600" spc="-1" strike="noStrike">
              <a:solidFill>
                <a:srgbClr val="000000"/>
              </a:solidFill>
              <a:latin typeface="Arial"/>
            </a:endParaRPr>
          </a:p>
        </p:txBody>
      </p:sp>
      <p:sp>
        <p:nvSpPr>
          <p:cNvPr id="2663" name=""/>
          <p:cNvSpPr txBox="1"/>
          <p:nvPr/>
        </p:nvSpPr>
        <p:spPr>
          <a:xfrm>
            <a:off x="3971880" y="3662280"/>
            <a:ext cx="318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Z</a:t>
            </a:r>
            <a:endParaRPr b="0" lang="en-US" sz="1600" spc="-1" strike="noStrike">
              <a:solidFill>
                <a:srgbClr val="000000"/>
              </a:solidFill>
              <a:latin typeface="Arial"/>
            </a:endParaRPr>
          </a:p>
        </p:txBody>
      </p:sp>
      <p:sp>
        <p:nvSpPr>
          <p:cNvPr id="2664" name=""/>
          <p:cNvSpPr txBox="1"/>
          <p:nvPr/>
        </p:nvSpPr>
        <p:spPr>
          <a:xfrm>
            <a:off x="3005280" y="2635200"/>
            <a:ext cx="3873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a:t>
            </a:r>
            <a:endParaRPr b="0" lang="en-US" sz="1600" spc="-1" strike="noStrike">
              <a:solidFill>
                <a:srgbClr val="000000"/>
              </a:solidFill>
              <a:latin typeface="Arial"/>
            </a:endParaRPr>
          </a:p>
        </p:txBody>
      </p:sp>
      <p:sp>
        <p:nvSpPr>
          <p:cNvPr id="2665" name=""/>
          <p:cNvSpPr/>
          <p:nvPr/>
        </p:nvSpPr>
        <p:spPr>
          <a:xfrm>
            <a:off x="3409920" y="10256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6" name=""/>
          <p:cNvSpPr/>
          <p:nvPr/>
        </p:nvSpPr>
        <p:spPr>
          <a:xfrm>
            <a:off x="3063960" y="1727280"/>
            <a:ext cx="258840" cy="258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7" name=""/>
          <p:cNvSpPr/>
          <p:nvPr/>
        </p:nvSpPr>
        <p:spPr>
          <a:xfrm>
            <a:off x="3292560" y="1424160"/>
            <a:ext cx="173160" cy="173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8" name=""/>
          <p:cNvSpPr/>
          <p:nvPr/>
        </p:nvSpPr>
        <p:spPr>
          <a:xfrm>
            <a:off x="2900520" y="12002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9" name=""/>
          <p:cNvSpPr/>
          <p:nvPr/>
        </p:nvSpPr>
        <p:spPr>
          <a:xfrm>
            <a:off x="3605040" y="1544760"/>
            <a:ext cx="258840" cy="258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0" name=""/>
          <p:cNvSpPr/>
          <p:nvPr/>
        </p:nvSpPr>
        <p:spPr>
          <a:xfrm>
            <a:off x="2973240" y="1092240"/>
            <a:ext cx="803160" cy="803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1" name=""/>
          <p:cNvSpPr/>
          <p:nvPr/>
        </p:nvSpPr>
        <p:spPr>
          <a:xfrm>
            <a:off x="2752560" y="1195560"/>
            <a:ext cx="50040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2" name=""/>
          <p:cNvSpPr/>
          <p:nvPr/>
        </p:nvSpPr>
        <p:spPr>
          <a:xfrm>
            <a:off x="3371760" y="1496880"/>
            <a:ext cx="54000" cy="25560"/>
          </a:xfrm>
          <a:prstGeom prst="line">
            <a:avLst/>
          </a:prstGeom>
          <a:ln w="12600">
            <a:solidFill>
              <a:srgbClr val="fffff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673" name=""/>
          <p:cNvSpPr/>
          <p:nvPr/>
        </p:nvSpPr>
        <p:spPr>
          <a:xfrm>
            <a:off x="3546360" y="1582560"/>
            <a:ext cx="430200" cy="20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4" name=""/>
          <p:cNvSpPr/>
          <p:nvPr/>
        </p:nvSpPr>
        <p:spPr>
          <a:xfrm flipH="1">
            <a:off x="3462480" y="909720"/>
            <a:ext cx="195120" cy="3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5" name=""/>
          <p:cNvSpPr/>
          <p:nvPr/>
        </p:nvSpPr>
        <p:spPr>
          <a:xfrm flipH="1">
            <a:off x="3338640" y="1427040"/>
            <a:ext cx="66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6" name=""/>
          <p:cNvSpPr/>
          <p:nvPr/>
        </p:nvSpPr>
        <p:spPr>
          <a:xfrm flipH="1">
            <a:off x="3086280" y="1670040"/>
            <a:ext cx="19980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7" name=""/>
          <p:cNvSpPr/>
          <p:nvPr/>
        </p:nvSpPr>
        <p:spPr>
          <a:xfrm>
            <a:off x="1258920" y="51973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a:off x="2075040" y="5202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9" name=""/>
          <p:cNvSpPr/>
          <p:nvPr/>
        </p:nvSpPr>
        <p:spPr>
          <a:xfrm>
            <a:off x="1112760" y="534204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0" name=""/>
          <p:cNvSpPr/>
          <p:nvPr/>
        </p:nvSpPr>
        <p:spPr>
          <a:xfrm>
            <a:off x="1808280" y="5342040"/>
            <a:ext cx="8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1994040" y="534024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1397160" y="5137200"/>
            <a:ext cx="0" cy="41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2214720" y="51004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3435480" y="1569960"/>
            <a:ext cx="1228680" cy="1720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5" name=""/>
          <p:cNvSpPr/>
          <p:nvPr/>
        </p:nvSpPr>
        <p:spPr>
          <a:xfrm>
            <a:off x="4664160" y="329076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6" name=""/>
          <p:cNvSpPr/>
          <p:nvPr/>
        </p:nvSpPr>
        <p:spPr>
          <a:xfrm>
            <a:off x="4863960" y="3119400"/>
            <a:ext cx="251928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7" name=""/>
          <p:cNvSpPr/>
          <p:nvPr/>
        </p:nvSpPr>
        <p:spPr>
          <a:xfrm>
            <a:off x="5749920" y="3467160"/>
            <a:ext cx="168480" cy="168480"/>
          </a:xfrm>
          <a:custGeom>
            <a:avLst/>
            <a:gdLst/>
            <a:ahLst/>
            <a:rect l="0" t="0" r="r" b="b"/>
            <a:pathLst>
              <a:path w="468" h="468">
                <a:moveTo>
                  <a:pt x="0" y="0"/>
                </a:moveTo>
                <a:lnTo>
                  <a:pt x="468" y="0"/>
                </a:lnTo>
                <a:lnTo>
                  <a:pt x="233" y="468"/>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8" name=""/>
          <p:cNvSpPr/>
          <p:nvPr/>
        </p:nvSpPr>
        <p:spPr>
          <a:xfrm flipV="1">
            <a:off x="5837400" y="361332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9" name=""/>
          <p:cNvSpPr/>
          <p:nvPr/>
        </p:nvSpPr>
        <p:spPr>
          <a:xfrm>
            <a:off x="5697360" y="3925800"/>
            <a:ext cx="27612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0" name=""/>
          <p:cNvSpPr/>
          <p:nvPr/>
        </p:nvSpPr>
        <p:spPr>
          <a:xfrm>
            <a:off x="5637240" y="3873600"/>
            <a:ext cx="20304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691" name=""/>
          <p:cNvSpPr/>
          <p:nvPr/>
        </p:nvSpPr>
        <p:spPr>
          <a:xfrm>
            <a:off x="790560" y="2055960"/>
            <a:ext cx="144288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a:off x="2236680" y="22003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3" name=""/>
          <p:cNvSpPr/>
          <p:nvPr/>
        </p:nvSpPr>
        <p:spPr>
          <a:xfrm flipH="1">
            <a:off x="2052720" y="2200320"/>
            <a:ext cx="384120" cy="771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4" name=""/>
          <p:cNvSpPr/>
          <p:nvPr/>
        </p:nvSpPr>
        <p:spPr>
          <a:xfrm>
            <a:off x="2359080" y="5410080"/>
            <a:ext cx="1812960" cy="600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5" name=""/>
          <p:cNvSpPr/>
          <p:nvPr/>
        </p:nvSpPr>
        <p:spPr>
          <a:xfrm>
            <a:off x="4157640" y="6010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6" name=""/>
          <p:cNvSpPr/>
          <p:nvPr/>
        </p:nvSpPr>
        <p:spPr>
          <a:xfrm>
            <a:off x="4479840" y="5840280"/>
            <a:ext cx="245736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flipH="1">
            <a:off x="1568520" y="2806560"/>
            <a:ext cx="10800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8" name=""/>
          <p:cNvSpPr/>
          <p:nvPr/>
        </p:nvSpPr>
        <p:spPr>
          <a:xfrm>
            <a:off x="1562040" y="3054240"/>
            <a:ext cx="1530360" cy="6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9" name=""/>
          <p:cNvSpPr/>
          <p:nvPr/>
        </p:nvSpPr>
        <p:spPr>
          <a:xfrm flipH="1">
            <a:off x="851040" y="3740040"/>
            <a:ext cx="22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0" name=""/>
          <p:cNvSpPr txBox="1"/>
          <p:nvPr/>
        </p:nvSpPr>
        <p:spPr>
          <a:xfrm>
            <a:off x="5676840" y="390528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nvGrpSpPr>
          <p:cNvPr id="2701" name=""/>
          <p:cNvGrpSpPr/>
          <p:nvPr/>
        </p:nvGrpSpPr>
        <p:grpSpPr>
          <a:xfrm>
            <a:off x="4911840" y="3137040"/>
            <a:ext cx="276120" cy="276120"/>
            <a:chOff x="4911840" y="3137040"/>
            <a:chExt cx="276120" cy="276120"/>
          </a:xfrm>
        </p:grpSpPr>
        <p:sp>
          <p:nvSpPr>
            <p:cNvPr id="2702" name=""/>
            <p:cNvSpPr/>
            <p:nvPr/>
          </p:nvSpPr>
          <p:spPr>
            <a:xfrm>
              <a:off x="4971960" y="31989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3" name=""/>
            <p:cNvSpPr/>
            <p:nvPr/>
          </p:nvSpPr>
          <p:spPr>
            <a:xfrm>
              <a:off x="5056200" y="313704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4" name=""/>
            <p:cNvSpPr/>
            <p:nvPr/>
          </p:nvSpPr>
          <p:spPr>
            <a:xfrm>
              <a:off x="4911840" y="32846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05" name=""/>
          <p:cNvGrpSpPr/>
          <p:nvPr/>
        </p:nvGrpSpPr>
        <p:grpSpPr>
          <a:xfrm>
            <a:off x="4510080" y="5854680"/>
            <a:ext cx="276120" cy="276120"/>
            <a:chOff x="4510080" y="5854680"/>
            <a:chExt cx="276120" cy="276120"/>
          </a:xfrm>
        </p:grpSpPr>
        <p:sp>
          <p:nvSpPr>
            <p:cNvPr id="2706" name=""/>
            <p:cNvSpPr/>
            <p:nvPr/>
          </p:nvSpPr>
          <p:spPr>
            <a:xfrm>
              <a:off x="4570560" y="59166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7" name=""/>
            <p:cNvSpPr/>
            <p:nvPr/>
          </p:nvSpPr>
          <p:spPr>
            <a:xfrm>
              <a:off x="4654440" y="585468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8" name=""/>
            <p:cNvSpPr/>
            <p:nvPr/>
          </p:nvSpPr>
          <p:spPr>
            <a:xfrm>
              <a:off x="4510080" y="600228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09" name=""/>
          <p:cNvGrpSpPr/>
          <p:nvPr/>
        </p:nvGrpSpPr>
        <p:grpSpPr>
          <a:xfrm>
            <a:off x="868320" y="2122560"/>
            <a:ext cx="230400" cy="123840"/>
            <a:chOff x="868320" y="2122560"/>
            <a:chExt cx="230400" cy="123840"/>
          </a:xfrm>
        </p:grpSpPr>
        <p:sp>
          <p:nvSpPr>
            <p:cNvPr id="2710" name=""/>
            <p:cNvSpPr/>
            <p:nvPr/>
          </p:nvSpPr>
          <p:spPr>
            <a:xfrm flipH="1">
              <a:off x="868320" y="2122560"/>
              <a:ext cx="18432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868320" y="224640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12" name=""/>
          <p:cNvSpPr/>
          <p:nvPr/>
        </p:nvSpPr>
        <p:spPr>
          <a:xfrm>
            <a:off x="114156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3" name=""/>
          <p:cNvSpPr/>
          <p:nvPr/>
        </p:nvSpPr>
        <p:spPr>
          <a:xfrm>
            <a:off x="524844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4" name=""/>
          <p:cNvSpPr/>
          <p:nvPr/>
        </p:nvSpPr>
        <p:spPr>
          <a:xfrm>
            <a:off x="48481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txBox="1"/>
          <p:nvPr/>
        </p:nvSpPr>
        <p:spPr>
          <a:xfrm>
            <a:off x="1147680" y="2063880"/>
            <a:ext cx="1138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0.1   X   Y</a:t>
            </a:r>
            <a:endParaRPr b="0" lang="en-US" sz="1600" spc="-1" strike="noStrike">
              <a:solidFill>
                <a:srgbClr val="000000"/>
              </a:solidFill>
              <a:latin typeface="Arial"/>
            </a:endParaRPr>
          </a:p>
        </p:txBody>
      </p:sp>
      <p:sp>
        <p:nvSpPr>
          <p:cNvPr id="2716" name=""/>
          <p:cNvSpPr/>
          <p:nvPr/>
        </p:nvSpPr>
        <p:spPr>
          <a:xfrm>
            <a:off x="16066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7" name=""/>
          <p:cNvSpPr/>
          <p:nvPr/>
        </p:nvSpPr>
        <p:spPr>
          <a:xfrm>
            <a:off x="19144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18" name=""/>
          <p:cNvGrpSpPr/>
          <p:nvPr/>
        </p:nvGrpSpPr>
        <p:grpSpPr>
          <a:xfrm>
            <a:off x="5308560" y="3198960"/>
            <a:ext cx="200160" cy="199800"/>
            <a:chOff x="5308560" y="3198960"/>
            <a:chExt cx="200160" cy="199800"/>
          </a:xfrm>
        </p:grpSpPr>
        <p:sp>
          <p:nvSpPr>
            <p:cNvPr id="2719" name=""/>
            <p:cNvSpPr/>
            <p:nvPr/>
          </p:nvSpPr>
          <p:spPr>
            <a:xfrm>
              <a:off x="5338800" y="322884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flipH="1">
              <a:off x="5308560" y="3198960"/>
              <a:ext cx="20016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21" name=""/>
          <p:cNvGrpSpPr/>
          <p:nvPr/>
        </p:nvGrpSpPr>
        <p:grpSpPr>
          <a:xfrm>
            <a:off x="4892760" y="5884920"/>
            <a:ext cx="199800" cy="199800"/>
            <a:chOff x="4892760" y="5884920"/>
            <a:chExt cx="199800" cy="199800"/>
          </a:xfrm>
        </p:grpSpPr>
        <p:sp>
          <p:nvSpPr>
            <p:cNvPr id="2722" name=""/>
            <p:cNvSpPr/>
            <p:nvPr/>
          </p:nvSpPr>
          <p:spPr>
            <a:xfrm>
              <a:off x="4923000" y="59151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3" name=""/>
            <p:cNvSpPr/>
            <p:nvPr/>
          </p:nvSpPr>
          <p:spPr>
            <a:xfrm flipH="1">
              <a:off x="4892760" y="588492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24" name=""/>
          <p:cNvSpPr txBox="1"/>
          <p:nvPr/>
        </p:nvSpPr>
        <p:spPr>
          <a:xfrm>
            <a:off x="5524560" y="3116160"/>
            <a:ext cx="1860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2  M   W   Y   Z</a:t>
            </a:r>
            <a:endParaRPr b="0" lang="en-US" sz="1800" spc="-1" strike="noStrike">
              <a:solidFill>
                <a:srgbClr val="000000"/>
              </a:solidFill>
              <a:latin typeface="Arial"/>
            </a:endParaRPr>
          </a:p>
        </p:txBody>
      </p:sp>
      <p:sp>
        <p:nvSpPr>
          <p:cNvPr id="2725" name=""/>
          <p:cNvSpPr/>
          <p:nvPr/>
        </p:nvSpPr>
        <p:spPr>
          <a:xfrm>
            <a:off x="6002280" y="315288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6" name=""/>
          <p:cNvSpPr/>
          <p:nvPr/>
        </p:nvSpPr>
        <p:spPr>
          <a:xfrm>
            <a:off x="636912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7" name=""/>
          <p:cNvSpPr/>
          <p:nvPr/>
        </p:nvSpPr>
        <p:spPr>
          <a:xfrm>
            <a:off x="672300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a:off x="707544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9" name=""/>
          <p:cNvSpPr txBox="1"/>
          <p:nvPr/>
        </p:nvSpPr>
        <p:spPr>
          <a:xfrm>
            <a:off x="5094360" y="5834160"/>
            <a:ext cx="18543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2  M    X   Y   Z</a:t>
            </a:r>
            <a:endParaRPr b="0" lang="en-US" sz="1800" spc="-1" strike="noStrike">
              <a:solidFill>
                <a:srgbClr val="000000"/>
              </a:solidFill>
              <a:latin typeface="Arial"/>
            </a:endParaRPr>
          </a:p>
        </p:txBody>
      </p:sp>
      <p:sp>
        <p:nvSpPr>
          <p:cNvPr id="2730" name=""/>
          <p:cNvSpPr/>
          <p:nvPr/>
        </p:nvSpPr>
        <p:spPr>
          <a:xfrm>
            <a:off x="5556240" y="5886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1" name=""/>
          <p:cNvSpPr/>
          <p:nvPr/>
        </p:nvSpPr>
        <p:spPr>
          <a:xfrm>
            <a:off x="59389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2" name=""/>
          <p:cNvSpPr/>
          <p:nvPr/>
        </p:nvSpPr>
        <p:spPr>
          <a:xfrm>
            <a:off x="627696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3" name=""/>
          <p:cNvSpPr/>
          <p:nvPr/>
        </p:nvSpPr>
        <p:spPr>
          <a:xfrm>
            <a:off x="661500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4" name=""/>
          <p:cNvSpPr txBox="1"/>
          <p:nvPr/>
        </p:nvSpPr>
        <p:spPr>
          <a:xfrm>
            <a:off x="4602240" y="4476600"/>
            <a:ext cx="3263760" cy="1066680"/>
          </a:xfrm>
          <a:prstGeom prst="rect">
            <a:avLst/>
          </a:prstGeom>
          <a:noFill/>
          <a:ln w="0">
            <a:noFill/>
          </a:ln>
        </p:spPr>
        <p:txBody>
          <a:bodyPr lIns="0" rIns="0" tIns="0" bIns="0" anchor="t">
            <a:noAutofit/>
          </a:bodyPr>
          <a:p>
            <a:pPr>
              <a:lnSpc>
                <a:spcPct val="100000"/>
              </a:lnSpc>
            </a:pPr>
            <a:r>
              <a:rPr b="0" lang="en-US" sz="3200" spc="-1" strike="noStrike">
                <a:solidFill>
                  <a:srgbClr val="fafd00"/>
                </a:solidFill>
                <a:latin typeface="Times New Roman"/>
                <a:ea typeface="Times New Roman"/>
              </a:rPr>
              <a:t>Interrelated Datum</a:t>
            </a:r>
            <a:endParaRPr b="0" lang="en-US" sz="3200" spc="-1" strike="noStrike">
              <a:solidFill>
                <a:srgbClr val="000000"/>
              </a:solidFill>
              <a:latin typeface="Arial"/>
            </a:endParaRPr>
          </a:p>
          <a:p>
            <a:pPr>
              <a:lnSpc>
                <a:spcPct val="100000"/>
              </a:lnSpc>
            </a:pPr>
            <a:r>
              <a:rPr b="0" lang="en-US" sz="3200" spc="-1" strike="noStrike">
                <a:solidFill>
                  <a:srgbClr val="fafd00"/>
                </a:solidFill>
                <a:latin typeface="Times New Roman"/>
                <a:ea typeface="Times New Roman"/>
              </a:rPr>
              <a:t>Reference Fra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3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6" name=""/>
          <p:cNvSpPr/>
          <p:nvPr/>
        </p:nvSpPr>
        <p:spPr>
          <a:xfrm>
            <a:off x="838080" y="4952880"/>
            <a:ext cx="2705040" cy="1441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flipV="1">
            <a:off x="853920" y="3733920"/>
            <a:ext cx="0" cy="241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8" name=""/>
          <p:cNvSpPr/>
          <p:nvPr/>
        </p:nvSpPr>
        <p:spPr>
          <a:xfrm>
            <a:off x="1684440" y="2814480"/>
            <a:ext cx="1859040" cy="84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9" name=""/>
          <p:cNvSpPr/>
          <p:nvPr/>
        </p:nvSpPr>
        <p:spPr>
          <a:xfrm>
            <a:off x="3543480" y="3659040"/>
            <a:ext cx="0" cy="32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0" name=""/>
          <p:cNvSpPr/>
          <p:nvPr/>
        </p:nvSpPr>
        <p:spPr>
          <a:xfrm flipH="1">
            <a:off x="844560" y="3981600"/>
            <a:ext cx="269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1" name=""/>
          <p:cNvSpPr/>
          <p:nvPr/>
        </p:nvSpPr>
        <p:spPr>
          <a:xfrm>
            <a:off x="2430360" y="793800"/>
            <a:ext cx="2016000" cy="1473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2" name=""/>
          <p:cNvSpPr/>
          <p:nvPr/>
        </p:nvSpPr>
        <p:spPr>
          <a:xfrm>
            <a:off x="3112920" y="4784760"/>
            <a:ext cx="168480" cy="168480"/>
          </a:xfrm>
          <a:custGeom>
            <a:avLst/>
            <a:gdLst/>
            <a:ahLst/>
            <a:rect l="0" t="0" r="r" b="b"/>
            <a:pathLst>
              <a:path w="468" h="468">
                <a:moveTo>
                  <a:pt x="0" y="468"/>
                </a:moveTo>
                <a:lnTo>
                  <a:pt x="468" y="468"/>
                </a:lnTo>
                <a:lnTo>
                  <a:pt x="233"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a:off x="3544920" y="3753000"/>
            <a:ext cx="168480" cy="168480"/>
          </a:xfrm>
          <a:custGeom>
            <a:avLst/>
            <a:gdLst/>
            <a:ahLst/>
            <a:rect l="0" t="0" r="r" b="b"/>
            <a:pathLst>
              <a:path w="468" h="468">
                <a:moveTo>
                  <a:pt x="0" y="0"/>
                </a:moveTo>
                <a:lnTo>
                  <a:pt x="0" y="468"/>
                </a:lnTo>
                <a:lnTo>
                  <a:pt x="468" y="233"/>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a:off x="2614680" y="3098880"/>
            <a:ext cx="168480" cy="168480"/>
          </a:xfrm>
          <a:custGeom>
            <a:avLst/>
            <a:gdLst/>
            <a:ahLst/>
            <a:rect l="0" t="0" r="r" b="b"/>
            <a:pathLst>
              <a:path w="468" h="468">
                <a:moveTo>
                  <a:pt x="0" y="468"/>
                </a:moveTo>
                <a:lnTo>
                  <a:pt x="468" y="468"/>
                </a:lnTo>
                <a:lnTo>
                  <a:pt x="233" y="0"/>
                </a:lnTo>
                <a:lnTo>
                  <a:pt x="0" y="468"/>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5" name=""/>
          <p:cNvSpPr/>
          <p:nvPr/>
        </p:nvSpPr>
        <p:spPr>
          <a:xfrm>
            <a:off x="2187720" y="3983040"/>
            <a:ext cx="168480" cy="168480"/>
          </a:xfrm>
          <a:custGeom>
            <a:avLst/>
            <a:gdLst/>
            <a:ahLst/>
            <a:rect l="0" t="0" r="r" b="b"/>
            <a:pathLst>
              <a:path w="468" h="468">
                <a:moveTo>
                  <a:pt x="0" y="0"/>
                </a:moveTo>
                <a:lnTo>
                  <a:pt x="468" y="0"/>
                </a:lnTo>
                <a:lnTo>
                  <a:pt x="233" y="468"/>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6" name=""/>
          <p:cNvSpPr/>
          <p:nvPr/>
        </p:nvSpPr>
        <p:spPr>
          <a:xfrm>
            <a:off x="3036960" y="265572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7" name=""/>
          <p:cNvSpPr/>
          <p:nvPr/>
        </p:nvSpPr>
        <p:spPr>
          <a:xfrm>
            <a:off x="3986280" y="369108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8" name=""/>
          <p:cNvSpPr/>
          <p:nvPr/>
        </p:nvSpPr>
        <p:spPr>
          <a:xfrm>
            <a:off x="3062160" y="425772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flipV="1">
            <a:off x="2719440" y="2771640"/>
            <a:ext cx="183960" cy="35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a:off x="2913120" y="2771640"/>
            <a:ext cx="12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p:nvPr/>
        </p:nvSpPr>
        <p:spPr>
          <a:xfrm flipH="1">
            <a:off x="3719520" y="3838680"/>
            <a:ext cx="260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2" name=""/>
          <p:cNvSpPr/>
          <p:nvPr/>
        </p:nvSpPr>
        <p:spPr>
          <a:xfrm>
            <a:off x="3201840" y="45226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3" name=""/>
          <p:cNvSpPr/>
          <p:nvPr/>
        </p:nvSpPr>
        <p:spPr>
          <a:xfrm>
            <a:off x="2147760" y="4413240"/>
            <a:ext cx="26208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a:off x="2276640" y="414972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5" name=""/>
          <p:cNvSpPr txBox="1"/>
          <p:nvPr/>
        </p:nvSpPr>
        <p:spPr>
          <a:xfrm>
            <a:off x="2138400" y="437832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X</a:t>
            </a:r>
            <a:endParaRPr b="0" lang="en-US" sz="1600" spc="-1" strike="noStrike">
              <a:solidFill>
                <a:srgbClr val="000000"/>
              </a:solidFill>
              <a:latin typeface="Arial"/>
            </a:endParaRPr>
          </a:p>
        </p:txBody>
      </p:sp>
      <p:sp>
        <p:nvSpPr>
          <p:cNvPr id="2756" name=""/>
          <p:cNvSpPr txBox="1"/>
          <p:nvPr/>
        </p:nvSpPr>
        <p:spPr>
          <a:xfrm>
            <a:off x="3052800" y="424656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Y</a:t>
            </a:r>
            <a:endParaRPr b="0" lang="en-US" sz="1600" spc="-1" strike="noStrike">
              <a:solidFill>
                <a:srgbClr val="000000"/>
              </a:solidFill>
              <a:latin typeface="Arial"/>
            </a:endParaRPr>
          </a:p>
        </p:txBody>
      </p:sp>
      <p:sp>
        <p:nvSpPr>
          <p:cNvPr id="2757" name=""/>
          <p:cNvSpPr txBox="1"/>
          <p:nvPr/>
        </p:nvSpPr>
        <p:spPr>
          <a:xfrm>
            <a:off x="3971880" y="3662280"/>
            <a:ext cx="3189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Z</a:t>
            </a:r>
            <a:endParaRPr b="0" lang="en-US" sz="1600" spc="-1" strike="noStrike">
              <a:solidFill>
                <a:srgbClr val="000000"/>
              </a:solidFill>
              <a:latin typeface="Arial"/>
            </a:endParaRPr>
          </a:p>
        </p:txBody>
      </p:sp>
      <p:sp>
        <p:nvSpPr>
          <p:cNvPr id="2758" name=""/>
          <p:cNvSpPr txBox="1"/>
          <p:nvPr/>
        </p:nvSpPr>
        <p:spPr>
          <a:xfrm>
            <a:off x="3005280" y="2635200"/>
            <a:ext cx="38736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W</a:t>
            </a:r>
            <a:endParaRPr b="0" lang="en-US" sz="1600" spc="-1" strike="noStrike">
              <a:solidFill>
                <a:srgbClr val="000000"/>
              </a:solidFill>
              <a:latin typeface="Arial"/>
            </a:endParaRPr>
          </a:p>
        </p:txBody>
      </p:sp>
      <p:sp>
        <p:nvSpPr>
          <p:cNvPr id="2759" name=""/>
          <p:cNvSpPr/>
          <p:nvPr/>
        </p:nvSpPr>
        <p:spPr>
          <a:xfrm>
            <a:off x="3409920" y="10256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3063960" y="1727280"/>
            <a:ext cx="258840" cy="258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3292560" y="1424160"/>
            <a:ext cx="173160" cy="173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2" name=""/>
          <p:cNvSpPr/>
          <p:nvPr/>
        </p:nvSpPr>
        <p:spPr>
          <a:xfrm>
            <a:off x="2900520" y="1200240"/>
            <a:ext cx="260280" cy="260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3" name=""/>
          <p:cNvSpPr/>
          <p:nvPr/>
        </p:nvSpPr>
        <p:spPr>
          <a:xfrm>
            <a:off x="3605040" y="1544760"/>
            <a:ext cx="258840" cy="2588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4" name=""/>
          <p:cNvSpPr/>
          <p:nvPr/>
        </p:nvSpPr>
        <p:spPr>
          <a:xfrm>
            <a:off x="2973240" y="1092240"/>
            <a:ext cx="803160" cy="803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5" name=""/>
          <p:cNvSpPr/>
          <p:nvPr/>
        </p:nvSpPr>
        <p:spPr>
          <a:xfrm>
            <a:off x="2752560" y="1195560"/>
            <a:ext cx="50040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6" name=""/>
          <p:cNvSpPr/>
          <p:nvPr/>
        </p:nvSpPr>
        <p:spPr>
          <a:xfrm>
            <a:off x="3371760" y="1496880"/>
            <a:ext cx="54000" cy="25560"/>
          </a:xfrm>
          <a:prstGeom prst="line">
            <a:avLst/>
          </a:prstGeom>
          <a:ln w="12600">
            <a:solidFill>
              <a:srgbClr val="ffffff"/>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767" name=""/>
          <p:cNvSpPr/>
          <p:nvPr/>
        </p:nvSpPr>
        <p:spPr>
          <a:xfrm>
            <a:off x="3546360" y="1582560"/>
            <a:ext cx="430200" cy="209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flipH="1">
            <a:off x="3462480" y="909720"/>
            <a:ext cx="195120" cy="398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9" name=""/>
          <p:cNvSpPr/>
          <p:nvPr/>
        </p:nvSpPr>
        <p:spPr>
          <a:xfrm flipH="1">
            <a:off x="3338640" y="1427040"/>
            <a:ext cx="6660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flipH="1">
            <a:off x="3086280" y="1670040"/>
            <a:ext cx="199800" cy="414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1" name=""/>
          <p:cNvSpPr/>
          <p:nvPr/>
        </p:nvSpPr>
        <p:spPr>
          <a:xfrm>
            <a:off x="1258920" y="51973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2" name=""/>
          <p:cNvSpPr/>
          <p:nvPr/>
        </p:nvSpPr>
        <p:spPr>
          <a:xfrm>
            <a:off x="2075040" y="5202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3" name=""/>
          <p:cNvSpPr/>
          <p:nvPr/>
        </p:nvSpPr>
        <p:spPr>
          <a:xfrm>
            <a:off x="1112760" y="5342040"/>
            <a:ext cx="588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4" name=""/>
          <p:cNvSpPr/>
          <p:nvPr/>
        </p:nvSpPr>
        <p:spPr>
          <a:xfrm>
            <a:off x="1808280" y="5342040"/>
            <a:ext cx="82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5" name=""/>
          <p:cNvSpPr/>
          <p:nvPr/>
        </p:nvSpPr>
        <p:spPr>
          <a:xfrm>
            <a:off x="1994040" y="5340240"/>
            <a:ext cx="507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a:off x="1397160" y="5137200"/>
            <a:ext cx="0" cy="417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a:off x="2214720" y="5100480"/>
            <a:ext cx="0" cy="452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8" name=""/>
          <p:cNvSpPr/>
          <p:nvPr/>
        </p:nvSpPr>
        <p:spPr>
          <a:xfrm>
            <a:off x="3435480" y="1569960"/>
            <a:ext cx="1228680" cy="1720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9" name=""/>
          <p:cNvSpPr/>
          <p:nvPr/>
        </p:nvSpPr>
        <p:spPr>
          <a:xfrm>
            <a:off x="4664160" y="3290760"/>
            <a:ext cx="18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0" name=""/>
          <p:cNvSpPr/>
          <p:nvPr/>
        </p:nvSpPr>
        <p:spPr>
          <a:xfrm>
            <a:off x="4863960" y="3119400"/>
            <a:ext cx="251928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1" name=""/>
          <p:cNvSpPr/>
          <p:nvPr/>
        </p:nvSpPr>
        <p:spPr>
          <a:xfrm flipV="1">
            <a:off x="3849840" y="847800"/>
            <a:ext cx="1122120" cy="7524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a:off x="4956120" y="84780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a:off x="5170320" y="693720"/>
            <a:ext cx="3057480" cy="3380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4" name=""/>
          <p:cNvSpPr/>
          <p:nvPr/>
        </p:nvSpPr>
        <p:spPr>
          <a:xfrm>
            <a:off x="5749920" y="3467160"/>
            <a:ext cx="168480" cy="168480"/>
          </a:xfrm>
          <a:custGeom>
            <a:avLst/>
            <a:gdLst/>
            <a:ahLst/>
            <a:rect l="0" t="0" r="r" b="b"/>
            <a:pathLst>
              <a:path w="468" h="468">
                <a:moveTo>
                  <a:pt x="0" y="0"/>
                </a:moveTo>
                <a:lnTo>
                  <a:pt x="468" y="0"/>
                </a:lnTo>
                <a:lnTo>
                  <a:pt x="233" y="468"/>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5" name=""/>
          <p:cNvSpPr/>
          <p:nvPr/>
        </p:nvSpPr>
        <p:spPr>
          <a:xfrm flipV="1">
            <a:off x="5837400" y="3613320"/>
            <a:ext cx="0" cy="32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5697360" y="3925800"/>
            <a:ext cx="27612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a:off x="5637240" y="3873600"/>
            <a:ext cx="20304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8" name=""/>
          <p:cNvSpPr/>
          <p:nvPr/>
        </p:nvSpPr>
        <p:spPr>
          <a:xfrm>
            <a:off x="790560" y="2055960"/>
            <a:ext cx="1442880" cy="291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2236680" y="220032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flipH="1">
            <a:off x="2052720" y="2200320"/>
            <a:ext cx="384120" cy="771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a:off x="2359080" y="5410080"/>
            <a:ext cx="1812960" cy="600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2" name=""/>
          <p:cNvSpPr/>
          <p:nvPr/>
        </p:nvSpPr>
        <p:spPr>
          <a:xfrm>
            <a:off x="4157640" y="6010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3" name=""/>
          <p:cNvSpPr/>
          <p:nvPr/>
        </p:nvSpPr>
        <p:spPr>
          <a:xfrm>
            <a:off x="4479840" y="5840280"/>
            <a:ext cx="2457360" cy="324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4" name=""/>
          <p:cNvSpPr/>
          <p:nvPr/>
        </p:nvSpPr>
        <p:spPr>
          <a:xfrm flipH="1">
            <a:off x="1568520" y="2806560"/>
            <a:ext cx="10800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1562040" y="3054240"/>
            <a:ext cx="1530360" cy="67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flipH="1">
            <a:off x="851040" y="3740040"/>
            <a:ext cx="224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7" name=""/>
          <p:cNvSpPr txBox="1"/>
          <p:nvPr/>
        </p:nvSpPr>
        <p:spPr>
          <a:xfrm>
            <a:off x="5676840" y="390528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nvGrpSpPr>
          <p:cNvPr id="2798" name=""/>
          <p:cNvGrpSpPr/>
          <p:nvPr/>
        </p:nvGrpSpPr>
        <p:grpSpPr>
          <a:xfrm>
            <a:off x="4911840" y="3137040"/>
            <a:ext cx="276120" cy="276120"/>
            <a:chOff x="4911840" y="3137040"/>
            <a:chExt cx="276120" cy="276120"/>
          </a:xfrm>
        </p:grpSpPr>
        <p:sp>
          <p:nvSpPr>
            <p:cNvPr id="2799" name=""/>
            <p:cNvSpPr/>
            <p:nvPr/>
          </p:nvSpPr>
          <p:spPr>
            <a:xfrm>
              <a:off x="4971960" y="319896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0" name=""/>
            <p:cNvSpPr/>
            <p:nvPr/>
          </p:nvSpPr>
          <p:spPr>
            <a:xfrm>
              <a:off x="5056200" y="313704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1" name=""/>
            <p:cNvSpPr/>
            <p:nvPr/>
          </p:nvSpPr>
          <p:spPr>
            <a:xfrm>
              <a:off x="4911840" y="328464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2" name=""/>
          <p:cNvGrpSpPr/>
          <p:nvPr/>
        </p:nvGrpSpPr>
        <p:grpSpPr>
          <a:xfrm>
            <a:off x="4510080" y="5854680"/>
            <a:ext cx="276120" cy="276120"/>
            <a:chOff x="4510080" y="5854680"/>
            <a:chExt cx="276120" cy="276120"/>
          </a:xfrm>
        </p:grpSpPr>
        <p:sp>
          <p:nvSpPr>
            <p:cNvPr id="2803" name=""/>
            <p:cNvSpPr/>
            <p:nvPr/>
          </p:nvSpPr>
          <p:spPr>
            <a:xfrm>
              <a:off x="4570560" y="591660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a:off x="4654440" y="585468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5" name=""/>
            <p:cNvSpPr/>
            <p:nvPr/>
          </p:nvSpPr>
          <p:spPr>
            <a:xfrm>
              <a:off x="4510080" y="600228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06" name=""/>
          <p:cNvGrpSpPr/>
          <p:nvPr/>
        </p:nvGrpSpPr>
        <p:grpSpPr>
          <a:xfrm>
            <a:off x="5214960" y="708120"/>
            <a:ext cx="276120" cy="276120"/>
            <a:chOff x="5214960" y="708120"/>
            <a:chExt cx="276120" cy="276120"/>
          </a:xfrm>
        </p:grpSpPr>
        <p:sp>
          <p:nvSpPr>
            <p:cNvPr id="2807" name=""/>
            <p:cNvSpPr/>
            <p:nvPr/>
          </p:nvSpPr>
          <p:spPr>
            <a:xfrm>
              <a:off x="5275440" y="770040"/>
              <a:ext cx="169920" cy="1699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8" name=""/>
            <p:cNvSpPr/>
            <p:nvPr/>
          </p:nvSpPr>
          <p:spPr>
            <a:xfrm>
              <a:off x="5359320" y="708120"/>
              <a:ext cx="0" cy="276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9" name=""/>
            <p:cNvSpPr/>
            <p:nvPr/>
          </p:nvSpPr>
          <p:spPr>
            <a:xfrm>
              <a:off x="5214960" y="855720"/>
              <a:ext cx="276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10" name=""/>
          <p:cNvGrpSpPr/>
          <p:nvPr/>
        </p:nvGrpSpPr>
        <p:grpSpPr>
          <a:xfrm>
            <a:off x="868320" y="2122560"/>
            <a:ext cx="230400" cy="123840"/>
            <a:chOff x="868320" y="2122560"/>
            <a:chExt cx="230400" cy="123840"/>
          </a:xfrm>
        </p:grpSpPr>
        <p:sp>
          <p:nvSpPr>
            <p:cNvPr id="2811" name=""/>
            <p:cNvSpPr/>
            <p:nvPr/>
          </p:nvSpPr>
          <p:spPr>
            <a:xfrm flipH="1">
              <a:off x="868320" y="2122560"/>
              <a:ext cx="184320" cy="123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2" name=""/>
            <p:cNvSpPr/>
            <p:nvPr/>
          </p:nvSpPr>
          <p:spPr>
            <a:xfrm>
              <a:off x="868320" y="2246400"/>
              <a:ext cx="230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13" name=""/>
          <p:cNvSpPr/>
          <p:nvPr/>
        </p:nvSpPr>
        <p:spPr>
          <a:xfrm>
            <a:off x="114156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4" name=""/>
          <p:cNvSpPr/>
          <p:nvPr/>
        </p:nvSpPr>
        <p:spPr>
          <a:xfrm>
            <a:off x="5570640" y="69372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5" name=""/>
          <p:cNvSpPr/>
          <p:nvPr/>
        </p:nvSpPr>
        <p:spPr>
          <a:xfrm>
            <a:off x="524844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6" name=""/>
          <p:cNvSpPr/>
          <p:nvPr/>
        </p:nvSpPr>
        <p:spPr>
          <a:xfrm>
            <a:off x="48481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7" name=""/>
          <p:cNvSpPr txBox="1"/>
          <p:nvPr/>
        </p:nvSpPr>
        <p:spPr>
          <a:xfrm>
            <a:off x="1147680" y="2063880"/>
            <a:ext cx="11383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0.1   X   Y</a:t>
            </a:r>
            <a:endParaRPr b="0" lang="en-US" sz="1600" spc="-1" strike="noStrike">
              <a:solidFill>
                <a:srgbClr val="000000"/>
              </a:solidFill>
              <a:latin typeface="Arial"/>
            </a:endParaRPr>
          </a:p>
        </p:txBody>
      </p:sp>
      <p:sp>
        <p:nvSpPr>
          <p:cNvPr id="2818" name=""/>
          <p:cNvSpPr/>
          <p:nvPr/>
        </p:nvSpPr>
        <p:spPr>
          <a:xfrm>
            <a:off x="16066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1914480" y="206208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20" name=""/>
          <p:cNvGrpSpPr/>
          <p:nvPr/>
        </p:nvGrpSpPr>
        <p:grpSpPr>
          <a:xfrm>
            <a:off x="5308560" y="3198960"/>
            <a:ext cx="200160" cy="199800"/>
            <a:chOff x="5308560" y="3198960"/>
            <a:chExt cx="200160" cy="199800"/>
          </a:xfrm>
        </p:grpSpPr>
        <p:sp>
          <p:nvSpPr>
            <p:cNvPr id="2821" name=""/>
            <p:cNvSpPr/>
            <p:nvPr/>
          </p:nvSpPr>
          <p:spPr>
            <a:xfrm>
              <a:off x="5338800" y="322884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2" name=""/>
            <p:cNvSpPr/>
            <p:nvPr/>
          </p:nvSpPr>
          <p:spPr>
            <a:xfrm flipH="1">
              <a:off x="5308560" y="3198960"/>
              <a:ext cx="20016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23" name=""/>
          <p:cNvGrpSpPr/>
          <p:nvPr/>
        </p:nvGrpSpPr>
        <p:grpSpPr>
          <a:xfrm>
            <a:off x="5613480" y="754200"/>
            <a:ext cx="199800" cy="199800"/>
            <a:chOff x="5613480" y="754200"/>
            <a:chExt cx="199800" cy="199800"/>
          </a:xfrm>
        </p:grpSpPr>
        <p:sp>
          <p:nvSpPr>
            <p:cNvPr id="2824" name=""/>
            <p:cNvSpPr/>
            <p:nvPr/>
          </p:nvSpPr>
          <p:spPr>
            <a:xfrm>
              <a:off x="5643720" y="78408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5" name=""/>
            <p:cNvSpPr/>
            <p:nvPr/>
          </p:nvSpPr>
          <p:spPr>
            <a:xfrm flipH="1">
              <a:off x="5613480" y="75420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26" name=""/>
          <p:cNvGrpSpPr/>
          <p:nvPr/>
        </p:nvGrpSpPr>
        <p:grpSpPr>
          <a:xfrm>
            <a:off x="4892760" y="5884920"/>
            <a:ext cx="199800" cy="199800"/>
            <a:chOff x="4892760" y="5884920"/>
            <a:chExt cx="199800" cy="199800"/>
          </a:xfrm>
        </p:grpSpPr>
        <p:sp>
          <p:nvSpPr>
            <p:cNvPr id="2827" name=""/>
            <p:cNvSpPr/>
            <p:nvPr/>
          </p:nvSpPr>
          <p:spPr>
            <a:xfrm>
              <a:off x="4923000" y="59151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8" name=""/>
            <p:cNvSpPr/>
            <p:nvPr/>
          </p:nvSpPr>
          <p:spPr>
            <a:xfrm flipH="1">
              <a:off x="4892760" y="5884920"/>
              <a:ext cx="199800" cy="19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29" name=""/>
          <p:cNvSpPr txBox="1"/>
          <p:nvPr/>
        </p:nvSpPr>
        <p:spPr>
          <a:xfrm>
            <a:off x="5524560" y="3116160"/>
            <a:ext cx="18604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2  M   W   Y   Z</a:t>
            </a:r>
            <a:endParaRPr b="0" lang="en-US" sz="1800" spc="-1" strike="noStrike">
              <a:solidFill>
                <a:srgbClr val="000000"/>
              </a:solidFill>
              <a:latin typeface="Arial"/>
            </a:endParaRPr>
          </a:p>
        </p:txBody>
      </p:sp>
      <p:sp>
        <p:nvSpPr>
          <p:cNvPr id="2830" name=""/>
          <p:cNvSpPr/>
          <p:nvPr/>
        </p:nvSpPr>
        <p:spPr>
          <a:xfrm>
            <a:off x="6002280" y="315288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1" name=""/>
          <p:cNvSpPr/>
          <p:nvPr/>
        </p:nvSpPr>
        <p:spPr>
          <a:xfrm>
            <a:off x="636912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2" name=""/>
          <p:cNvSpPr/>
          <p:nvPr/>
        </p:nvSpPr>
        <p:spPr>
          <a:xfrm>
            <a:off x="672300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3" name=""/>
          <p:cNvSpPr/>
          <p:nvPr/>
        </p:nvSpPr>
        <p:spPr>
          <a:xfrm>
            <a:off x="7075440" y="312120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4" name=""/>
          <p:cNvSpPr txBox="1"/>
          <p:nvPr/>
        </p:nvSpPr>
        <p:spPr>
          <a:xfrm>
            <a:off x="5832360" y="704880"/>
            <a:ext cx="237492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4   M    W   A  M    Y</a:t>
            </a:r>
            <a:endParaRPr b="0" lang="en-US" sz="1800" spc="-1" strike="noStrike">
              <a:solidFill>
                <a:srgbClr val="000000"/>
              </a:solidFill>
              <a:latin typeface="Arial"/>
            </a:endParaRPr>
          </a:p>
        </p:txBody>
      </p:sp>
      <p:sp>
        <p:nvSpPr>
          <p:cNvPr id="2835" name=""/>
          <p:cNvSpPr/>
          <p:nvPr/>
        </p:nvSpPr>
        <p:spPr>
          <a:xfrm>
            <a:off x="6786720" y="69372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6" name=""/>
          <p:cNvSpPr/>
          <p:nvPr/>
        </p:nvSpPr>
        <p:spPr>
          <a:xfrm>
            <a:off x="7170840" y="69372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7" name=""/>
          <p:cNvSpPr/>
          <p:nvPr/>
        </p:nvSpPr>
        <p:spPr>
          <a:xfrm>
            <a:off x="7889760" y="693720"/>
            <a:ext cx="0" cy="33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8" name=""/>
          <p:cNvSpPr/>
          <p:nvPr/>
        </p:nvSpPr>
        <p:spPr>
          <a:xfrm>
            <a:off x="6369120" y="7239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9" name=""/>
          <p:cNvSpPr/>
          <p:nvPr/>
        </p:nvSpPr>
        <p:spPr>
          <a:xfrm>
            <a:off x="7491240" y="72540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0" name=""/>
          <p:cNvSpPr txBox="1"/>
          <p:nvPr/>
        </p:nvSpPr>
        <p:spPr>
          <a:xfrm>
            <a:off x="5094360" y="5834160"/>
            <a:ext cx="185436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0.2  M    X   Y   Z</a:t>
            </a:r>
            <a:endParaRPr b="0" lang="en-US" sz="1800" spc="-1" strike="noStrike">
              <a:solidFill>
                <a:srgbClr val="000000"/>
              </a:solidFill>
              <a:latin typeface="Arial"/>
            </a:endParaRPr>
          </a:p>
        </p:txBody>
      </p:sp>
      <p:sp>
        <p:nvSpPr>
          <p:cNvPr id="2841" name=""/>
          <p:cNvSpPr/>
          <p:nvPr/>
        </p:nvSpPr>
        <p:spPr>
          <a:xfrm>
            <a:off x="5556240" y="588636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2" name=""/>
          <p:cNvSpPr/>
          <p:nvPr/>
        </p:nvSpPr>
        <p:spPr>
          <a:xfrm>
            <a:off x="593892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3" name=""/>
          <p:cNvSpPr/>
          <p:nvPr/>
        </p:nvSpPr>
        <p:spPr>
          <a:xfrm>
            <a:off x="627696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4" name=""/>
          <p:cNvSpPr/>
          <p:nvPr/>
        </p:nvSpPr>
        <p:spPr>
          <a:xfrm>
            <a:off x="6615000" y="58402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5" name=""/>
          <p:cNvSpPr txBox="1"/>
          <p:nvPr/>
        </p:nvSpPr>
        <p:spPr>
          <a:xfrm>
            <a:off x="4602240" y="4476600"/>
            <a:ext cx="2879640" cy="946080"/>
          </a:xfrm>
          <a:prstGeom prst="rect">
            <a:avLst/>
          </a:prstGeom>
          <a:noFill/>
          <a:ln w="0">
            <a:noFill/>
          </a:ln>
        </p:spPr>
        <p:txBody>
          <a:bodyPr lIns="0" rIns="0" tIns="0" bIns="0" anchor="t">
            <a:noAutofit/>
          </a:bodyPr>
          <a:p>
            <a:pPr>
              <a:lnSpc>
                <a:spcPct val="100000"/>
              </a:lnSpc>
            </a:pPr>
            <a:r>
              <a:rPr b="0" lang="en-US" sz="2800" spc="-1" strike="noStrike">
                <a:solidFill>
                  <a:srgbClr val="fafd00"/>
                </a:solidFill>
                <a:latin typeface="Times New Roman"/>
                <a:ea typeface="Times New Roman"/>
              </a:rPr>
              <a:t>Interrelated Datum</a:t>
            </a:r>
            <a:endParaRPr b="0" lang="en-US" sz="2800" spc="-1" strike="noStrike">
              <a:solidFill>
                <a:srgbClr val="000000"/>
              </a:solidFill>
              <a:latin typeface="Arial"/>
            </a:endParaRPr>
          </a:p>
          <a:p>
            <a:pPr>
              <a:lnSpc>
                <a:spcPct val="100000"/>
              </a:lnSpc>
            </a:pPr>
            <a:r>
              <a:rPr b="0" lang="en-US" sz="2800" spc="-1" strike="noStrike">
                <a:solidFill>
                  <a:srgbClr val="fafd00"/>
                </a:solidFill>
                <a:latin typeface="Times New Roman"/>
                <a:ea typeface="Times New Roman"/>
              </a:rPr>
              <a:t>Reference Fr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4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7" name=""/>
          <p:cNvSpPr txBox="1"/>
          <p:nvPr/>
        </p:nvSpPr>
        <p:spPr>
          <a:xfrm>
            <a:off x="685800" y="1814400"/>
            <a:ext cx="7772400" cy="291924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Temporary and Permanent Datum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49" name=""/>
          <p:cNvSpPr txBox="1"/>
          <p:nvPr/>
        </p:nvSpPr>
        <p:spPr>
          <a:xfrm>
            <a:off x="457200" y="355680"/>
            <a:ext cx="82296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TEMPORARY / PERMANENT DATUMS</a:t>
            </a:r>
            <a:endParaRPr b="0" lang="en-US" sz="3600" spc="-1" strike="noStrike">
              <a:solidFill>
                <a:srgbClr val="000000"/>
              </a:solidFill>
              <a:latin typeface="Arial"/>
            </a:endParaRPr>
          </a:p>
        </p:txBody>
      </p:sp>
      <p:sp>
        <p:nvSpPr>
          <p:cNvPr id="2850" name=""/>
          <p:cNvSpPr txBox="1"/>
          <p:nvPr/>
        </p:nvSpPr>
        <p:spPr>
          <a:xfrm>
            <a:off x="411120" y="169560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u="sng">
                <a:solidFill>
                  <a:srgbClr val="fafd00"/>
                </a:solidFill>
                <a:uFillTx/>
                <a:latin typeface="Times New Roman"/>
                <a:ea typeface="Times New Roman"/>
              </a:rPr>
              <a:t>Temporary datum featur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re features on parts such as castings or forgings, which may be removed by subsequent machining operations as parts progress through interim stages in the production proces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u="sng">
                <a:solidFill>
                  <a:srgbClr val="fafd00"/>
                </a:solidFill>
                <a:uFillTx/>
                <a:latin typeface="Times New Roman"/>
                <a:ea typeface="Times New Roman"/>
              </a:rPr>
              <a:t>Permanent datum features</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are features that are not changed by subsequent production  processing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1" name=""/>
          <p:cNvSpPr txBox="1"/>
          <p:nvPr/>
        </p:nvSpPr>
        <p:spPr>
          <a:xfrm>
            <a:off x="708120" y="1515960"/>
            <a:ext cx="7772400" cy="3772080"/>
          </a:xfrm>
          <a:prstGeom prst="rect">
            <a:avLst/>
          </a:prstGeom>
          <a:noFill/>
          <a:ln w="0">
            <a:noFill/>
          </a:ln>
        </p:spPr>
        <p:txBody>
          <a:bodyPr lIns="0" rIns="0" tIns="0" bIns="0" anchor="t">
            <a:noAutofit/>
          </a:bodyPr>
          <a:p>
            <a:pPr algn="ctr">
              <a:lnSpc>
                <a:spcPct val="100000"/>
              </a:lnSpc>
              <a:spcAft>
                <a:spcPts val="2401"/>
              </a:spcAft>
            </a:pPr>
            <a:r>
              <a:rPr b="0" lang="en-US" sz="7200" spc="-1" strike="noStrike">
                <a:solidFill>
                  <a:srgbClr val="ffffff"/>
                </a:solidFill>
                <a:latin typeface="Times New Roman"/>
                <a:ea typeface="Times New Roman"/>
              </a:rPr>
              <a:t>Primary Internal Datum Width</a:t>
            </a:r>
            <a:br>
              <a:rPr sz="1800"/>
            </a:br>
            <a:br>
              <a:rPr sz="1800"/>
            </a:br>
            <a:r>
              <a:rPr b="0" lang="en-US" sz="4400" spc="-1" strike="noStrike">
                <a:solidFill>
                  <a:srgbClr val="ffffff"/>
                </a:solidFill>
                <a:latin typeface="Times New Roman"/>
                <a:ea typeface="Times New Roman"/>
              </a:rPr>
              <a:t>Regardless of Feature Size (R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3" name=""/>
          <p:cNvSpPr txBox="1"/>
          <p:nvPr/>
        </p:nvSpPr>
        <p:spPr>
          <a:xfrm>
            <a:off x="685800" y="4856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Datum Features (RFS)</a:t>
            </a:r>
            <a:endParaRPr b="0" lang="en-US" sz="3600" spc="-1" strike="noStrike">
              <a:solidFill>
                <a:srgbClr val="000000"/>
              </a:solidFill>
              <a:latin typeface="Arial"/>
            </a:endParaRPr>
          </a:p>
        </p:txBody>
      </p:sp>
      <p:sp>
        <p:nvSpPr>
          <p:cNvPr id="2854" name=""/>
          <p:cNvSpPr txBox="1"/>
          <p:nvPr/>
        </p:nvSpPr>
        <p:spPr>
          <a:xfrm>
            <a:off x="701640" y="18064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a datum </a:t>
            </a:r>
            <a:r>
              <a:rPr b="0" lang="en-US" sz="2800" spc="-1" strike="noStrike">
                <a:solidFill>
                  <a:srgbClr val="fafd00"/>
                </a:solidFill>
                <a:latin typeface="Times New Roman"/>
                <a:ea typeface="Times New Roman"/>
              </a:rPr>
              <a:t>feature of size </a:t>
            </a:r>
            <a:r>
              <a:rPr b="0" lang="en-US" sz="2800" spc="-1" strike="noStrike">
                <a:solidFill>
                  <a:srgbClr val="ffffff"/>
                </a:solidFill>
                <a:latin typeface="Times New Roman"/>
                <a:ea typeface="Times New Roman"/>
              </a:rPr>
              <a:t>is applied </a:t>
            </a:r>
            <a:r>
              <a:rPr b="0" lang="en-US" sz="2800" spc="-1" strike="noStrike">
                <a:solidFill>
                  <a:srgbClr val="fafd00"/>
                </a:solidFill>
                <a:latin typeface="Times New Roman"/>
                <a:ea typeface="Times New Roman"/>
              </a:rPr>
              <a:t>RFS</a:t>
            </a:r>
            <a:r>
              <a:rPr b="0" lang="en-US" sz="2800" spc="-1" strike="noStrike">
                <a:solidFill>
                  <a:srgbClr val="ffffff"/>
                </a:solidFill>
                <a:latin typeface="Times New Roman"/>
                <a:ea typeface="Times New Roman"/>
              </a:rPr>
              <a:t>, the </a:t>
            </a:r>
            <a:r>
              <a:rPr b="0" lang="en-US" sz="2800" spc="-1" strike="noStrike">
                <a:solidFill>
                  <a:srgbClr val="ffff00"/>
                </a:solidFill>
                <a:latin typeface="Times New Roman"/>
                <a:ea typeface="Times New Roman"/>
              </a:rPr>
              <a:t>datum</a:t>
            </a:r>
            <a:r>
              <a:rPr b="0" lang="en-US" sz="2800" spc="-1" strike="noStrike">
                <a:solidFill>
                  <a:srgbClr val="ffffff"/>
                </a:solidFill>
                <a:latin typeface="Times New Roman"/>
                <a:ea typeface="Times New Roman"/>
              </a:rPr>
              <a:t> is established by actual contact of the feature surface high points and the surface of the gage or processing equipmen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a:t>
            </a:r>
            <a:r>
              <a:rPr b="0" lang="en-US" sz="2800" spc="-1" strike="noStrike">
                <a:solidFill>
                  <a:srgbClr val="fafd00"/>
                </a:solidFill>
                <a:latin typeface="Times New Roman"/>
                <a:ea typeface="Times New Roman"/>
              </a:rPr>
              <a:t>variable gage </a:t>
            </a:r>
            <a:r>
              <a:rPr b="0" lang="en-US" sz="2800" spc="-1" strike="noStrike">
                <a:solidFill>
                  <a:srgbClr val="ffffff"/>
                </a:solidFill>
                <a:latin typeface="Times New Roman"/>
                <a:ea typeface="Times New Roman"/>
              </a:rPr>
              <a:t>such as a chuck, mandrel, vise or centering device, is used to simulate a true geometric counterpart of the feature and to establish the datum axis or center pla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6" name=""/>
          <p:cNvSpPr txBox="1"/>
          <p:nvPr/>
        </p:nvSpPr>
        <p:spPr>
          <a:xfrm>
            <a:off x="533520" y="2057400"/>
            <a:ext cx="838188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simulated datum for feature width at RFS is the </a:t>
            </a:r>
            <a:r>
              <a:rPr b="0" lang="en-US" sz="2800" spc="-1" strike="noStrike">
                <a:solidFill>
                  <a:srgbClr val="fafd00"/>
                </a:solidFill>
                <a:latin typeface="Times New Roman"/>
                <a:ea typeface="Times New Roman"/>
              </a:rPr>
              <a:t>center plane </a:t>
            </a:r>
            <a:r>
              <a:rPr b="0" lang="en-US" sz="2800" spc="-1" strike="noStrike">
                <a:solidFill>
                  <a:srgbClr val="ffffff"/>
                </a:solidFill>
                <a:latin typeface="Times New Roman"/>
                <a:ea typeface="Times New Roman"/>
              </a:rPr>
              <a:t>of the </a:t>
            </a:r>
            <a:r>
              <a:rPr b="0" lang="en-US" sz="2800" spc="-1" strike="noStrike" u="sng">
                <a:solidFill>
                  <a:srgbClr val="ffff00"/>
                </a:solidFill>
                <a:uFillTx/>
                <a:latin typeface="Times New Roman"/>
                <a:ea typeface="Times New Roman"/>
              </a:rPr>
              <a:t>gage</a:t>
            </a:r>
            <a:r>
              <a:rPr b="0" lang="en-US" sz="2800" spc="-1" strike="noStrike">
                <a:solidFill>
                  <a:srgbClr val="ffffff"/>
                </a:solidFill>
                <a:latin typeface="Times New Roman"/>
                <a:ea typeface="Times New Roman"/>
              </a:rPr>
              <a:t> representing the feature’s true geometric counterpart (or actual mating envelope).  The datum center plane is established for an </a:t>
            </a:r>
            <a:r>
              <a:rPr b="0" lang="en-US" sz="2800" spc="-1" strike="noStrike">
                <a:solidFill>
                  <a:srgbClr val="ffff00"/>
                </a:solidFill>
                <a:latin typeface="Times New Roman"/>
                <a:ea typeface="Times New Roman"/>
              </a:rPr>
              <a:t>internal</a:t>
            </a:r>
            <a:r>
              <a:rPr b="0" lang="en-US" sz="2800" spc="-1" strike="noStrike">
                <a:solidFill>
                  <a:srgbClr val="ffffff"/>
                </a:solidFill>
                <a:latin typeface="Times New Roman"/>
                <a:ea typeface="Times New Roman"/>
              </a:rPr>
              <a:t> feature by bringing two parallel</a:t>
            </a:r>
            <a:r>
              <a:rPr b="0" lang="en-US" sz="2800" spc="-1" strike="noStrike">
                <a:solidFill>
                  <a:srgbClr val="fafd00"/>
                </a:solidFill>
                <a:latin typeface="Times New Roman"/>
                <a:ea typeface="Times New Roman"/>
              </a:rPr>
              <a:t> planes </a:t>
            </a:r>
            <a:r>
              <a:rPr b="0" lang="en-US" sz="2800" spc="-1" strike="noStrike">
                <a:solidFill>
                  <a:srgbClr val="ffffff"/>
                </a:solidFill>
                <a:latin typeface="Times New Roman"/>
                <a:ea typeface="Times New Roman"/>
              </a:rPr>
              <a:t>at </a:t>
            </a:r>
            <a:r>
              <a:rPr b="0" lang="en-US" sz="2800" spc="-1" strike="noStrike">
                <a:solidFill>
                  <a:srgbClr val="fafd00"/>
                </a:solidFill>
                <a:latin typeface="Times New Roman"/>
                <a:ea typeface="Times New Roman"/>
              </a:rPr>
              <a:t>maximum separation </a:t>
            </a:r>
            <a:r>
              <a:rPr b="0" lang="en-US" sz="2800" spc="-1" strike="noStrike">
                <a:solidFill>
                  <a:srgbClr val="f2fefd"/>
                </a:solidFill>
                <a:latin typeface="Times New Roman"/>
                <a:ea typeface="Times New Roman"/>
              </a:rPr>
              <a:t>into contact with the high points of the surfaces of the datum feature.</a:t>
            </a:r>
            <a:endParaRPr b="0" lang="en-US" sz="2800" spc="-1" strike="noStrike">
              <a:solidFill>
                <a:srgbClr val="000000"/>
              </a:solidFill>
              <a:latin typeface="Arial"/>
            </a:endParaRPr>
          </a:p>
        </p:txBody>
      </p:sp>
      <p:sp>
        <p:nvSpPr>
          <p:cNvPr id="2857" name=""/>
          <p:cNvSpPr txBox="1"/>
          <p:nvPr/>
        </p:nvSpPr>
        <p:spPr>
          <a:xfrm>
            <a:off x="685800" y="37944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Primary Datum Feature -- </a:t>
            </a:r>
            <a:r>
              <a:rPr b="0" lang="en-US" sz="4400" spc="-1" strike="noStrike" u="sng">
                <a:solidFill>
                  <a:srgbClr val="fafd00"/>
                </a:solidFill>
                <a:uFillTx/>
                <a:latin typeface="Times New Roman"/>
                <a:ea typeface="Times New Roman"/>
              </a:rPr>
              <a:t>Width R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58" name=""/>
          <p:cNvSpPr/>
          <p:nvPr/>
        </p:nvSpPr>
        <p:spPr>
          <a:xfrm>
            <a:off x="4230720" y="4361040"/>
            <a:ext cx="25891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9" name=""/>
          <p:cNvSpPr/>
          <p:nvPr/>
        </p:nvSpPr>
        <p:spPr>
          <a:xfrm flipH="1">
            <a:off x="4230720" y="1974960"/>
            <a:ext cx="25891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0" name=""/>
          <p:cNvSpPr/>
          <p:nvPr/>
        </p:nvSpPr>
        <p:spPr>
          <a:xfrm>
            <a:off x="4035600" y="3571920"/>
            <a:ext cx="195480" cy="789480"/>
          </a:xfrm>
          <a:custGeom>
            <a:avLst/>
            <a:gdLst/>
            <a:ahLst/>
            <a:rect l="0" t="0" r="r" b="b"/>
            <a:pathLst>
              <a:path fill="none" w="543" h="2193">
                <a:moveTo>
                  <a:pt x="0" y="0"/>
                </a:moveTo>
                <a:lnTo>
                  <a:pt x="0" y="1654"/>
                </a:lnTo>
                <a:lnTo>
                  <a:pt x="72" y="1925"/>
                </a:lnTo>
                <a:lnTo>
                  <a:pt x="273" y="2121"/>
                </a:lnTo>
                <a:lnTo>
                  <a:pt x="543" y="2193"/>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61" name=""/>
          <p:cNvSpPr/>
          <p:nvPr/>
        </p:nvSpPr>
        <p:spPr>
          <a:xfrm flipH="1">
            <a:off x="2585880" y="2763720"/>
            <a:ext cx="1352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2" name=""/>
          <p:cNvSpPr/>
          <p:nvPr/>
        </p:nvSpPr>
        <p:spPr>
          <a:xfrm flipH="1">
            <a:off x="2585880" y="3571920"/>
            <a:ext cx="13528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3" name=""/>
          <p:cNvSpPr/>
          <p:nvPr/>
        </p:nvSpPr>
        <p:spPr>
          <a:xfrm>
            <a:off x="1892160" y="1873080"/>
            <a:ext cx="543240" cy="543240"/>
          </a:xfrm>
          <a:custGeom>
            <a:avLst/>
            <a:gdLst/>
            <a:ahLst/>
            <a:rect l="0" t="0" r="r" b="b"/>
            <a:pathLst>
              <a:path fill="none" w="1509" h="1509">
                <a:moveTo>
                  <a:pt x="0" y="0"/>
                </a:moveTo>
                <a:lnTo>
                  <a:pt x="0" y="1509"/>
                </a:lnTo>
                <a:lnTo>
                  <a:pt x="1509" y="1509"/>
                </a:lnTo>
                <a:lnTo>
                  <a:pt x="1509"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64" name=""/>
          <p:cNvSpPr/>
          <p:nvPr/>
        </p:nvSpPr>
        <p:spPr>
          <a:xfrm flipV="1">
            <a:off x="2867040" y="2144880"/>
            <a:ext cx="0" cy="3744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5" name=""/>
          <p:cNvSpPr/>
          <p:nvPr/>
        </p:nvSpPr>
        <p:spPr>
          <a:xfrm>
            <a:off x="2867040" y="2252520"/>
            <a:ext cx="0" cy="1040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6" name=""/>
          <p:cNvSpPr/>
          <p:nvPr/>
        </p:nvSpPr>
        <p:spPr>
          <a:xfrm>
            <a:off x="2819520" y="3292560"/>
            <a:ext cx="93960" cy="279720"/>
          </a:xfrm>
          <a:custGeom>
            <a:avLst/>
            <a:gdLst/>
            <a:ahLst/>
            <a:rect l="0" t="0" r="r" b="b"/>
            <a:pathLst>
              <a:path w="261" h="777">
                <a:moveTo>
                  <a:pt x="0" y="0"/>
                </a:moveTo>
                <a:lnTo>
                  <a:pt x="261" y="0"/>
                </a:lnTo>
                <a:lnTo>
                  <a:pt x="131" y="777"/>
                </a:lnTo>
                <a:lnTo>
                  <a:pt x="0" y="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67" name=""/>
          <p:cNvSpPr/>
          <p:nvPr/>
        </p:nvSpPr>
        <p:spPr>
          <a:xfrm>
            <a:off x="2724120" y="2519280"/>
            <a:ext cx="284400" cy="244800"/>
          </a:xfrm>
          <a:custGeom>
            <a:avLst/>
            <a:gdLst/>
            <a:ahLst/>
            <a:rect l="0" t="0" r="r" b="b"/>
            <a:pathLst>
              <a:path w="790" h="680">
                <a:moveTo>
                  <a:pt x="0" y="680"/>
                </a:moveTo>
                <a:lnTo>
                  <a:pt x="394" y="0"/>
                </a:lnTo>
                <a:lnTo>
                  <a:pt x="790" y="680"/>
                </a:lnTo>
                <a:lnTo>
                  <a:pt x="0" y="68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68" name=""/>
          <p:cNvSpPr/>
          <p:nvPr/>
        </p:nvSpPr>
        <p:spPr>
          <a:xfrm flipH="1">
            <a:off x="2435400" y="2144880"/>
            <a:ext cx="4316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9" name=""/>
          <p:cNvSpPr/>
          <p:nvPr/>
        </p:nvSpPr>
        <p:spPr>
          <a:xfrm>
            <a:off x="4035600" y="2168640"/>
            <a:ext cx="1270440" cy="595800"/>
          </a:xfrm>
          <a:custGeom>
            <a:avLst/>
            <a:gdLst/>
            <a:ahLst/>
            <a:rect l="0" t="0" r="r" b="b"/>
            <a:pathLst>
              <a:path fill="none" w="3529" h="1655">
                <a:moveTo>
                  <a:pt x="0" y="0"/>
                </a:moveTo>
                <a:lnTo>
                  <a:pt x="0" y="1655"/>
                </a:lnTo>
                <a:lnTo>
                  <a:pt x="3529" y="1655"/>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70" name=""/>
          <p:cNvSpPr/>
          <p:nvPr/>
        </p:nvSpPr>
        <p:spPr>
          <a:xfrm flipH="1">
            <a:off x="4035600" y="3571920"/>
            <a:ext cx="12697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1" name=""/>
          <p:cNvSpPr/>
          <p:nvPr/>
        </p:nvSpPr>
        <p:spPr>
          <a:xfrm>
            <a:off x="5305320" y="2763720"/>
            <a:ext cx="0" cy="8082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2" name=""/>
          <p:cNvSpPr/>
          <p:nvPr/>
        </p:nvSpPr>
        <p:spPr>
          <a:xfrm>
            <a:off x="4035600" y="1974960"/>
            <a:ext cx="195480" cy="194040"/>
          </a:xfrm>
          <a:custGeom>
            <a:avLst/>
            <a:gdLst/>
            <a:ahLst/>
            <a:rect l="0" t="0" r="r" b="b"/>
            <a:pathLst>
              <a:path fill="none" w="543" h="539">
                <a:moveTo>
                  <a:pt x="543" y="0"/>
                </a:moveTo>
                <a:lnTo>
                  <a:pt x="273" y="71"/>
                </a:lnTo>
                <a:lnTo>
                  <a:pt x="72" y="268"/>
                </a:lnTo>
                <a:lnTo>
                  <a:pt x="0" y="539"/>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73" name=""/>
          <p:cNvSpPr/>
          <p:nvPr/>
        </p:nvSpPr>
        <p:spPr>
          <a:xfrm flipV="1">
            <a:off x="7013520" y="2168640"/>
            <a:ext cx="0" cy="19987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4" name=""/>
          <p:cNvSpPr/>
          <p:nvPr/>
        </p:nvSpPr>
        <p:spPr>
          <a:xfrm>
            <a:off x="6819840" y="4167360"/>
            <a:ext cx="194040" cy="194040"/>
          </a:xfrm>
          <a:custGeom>
            <a:avLst/>
            <a:gdLst/>
            <a:ahLst/>
            <a:rect l="0" t="0" r="r" b="b"/>
            <a:pathLst>
              <a:path fill="none" w="539" h="539">
                <a:moveTo>
                  <a:pt x="0" y="539"/>
                </a:moveTo>
                <a:lnTo>
                  <a:pt x="271" y="468"/>
                </a:lnTo>
                <a:lnTo>
                  <a:pt x="468" y="271"/>
                </a:lnTo>
                <a:lnTo>
                  <a:pt x="539"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75" name=""/>
          <p:cNvSpPr/>
          <p:nvPr/>
        </p:nvSpPr>
        <p:spPr>
          <a:xfrm flipV="1">
            <a:off x="6113520" y="2930400"/>
            <a:ext cx="0" cy="166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6" name=""/>
          <p:cNvSpPr/>
          <p:nvPr/>
        </p:nvSpPr>
        <p:spPr>
          <a:xfrm>
            <a:off x="6183360" y="3166920"/>
            <a:ext cx="166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7" name=""/>
          <p:cNvSpPr/>
          <p:nvPr/>
        </p:nvSpPr>
        <p:spPr>
          <a:xfrm>
            <a:off x="6113520" y="3236760"/>
            <a:ext cx="0" cy="1684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8" name=""/>
          <p:cNvSpPr/>
          <p:nvPr/>
        </p:nvSpPr>
        <p:spPr>
          <a:xfrm>
            <a:off x="5910120" y="2965320"/>
            <a:ext cx="405000" cy="405000"/>
          </a:xfrm>
          <a:custGeom>
            <a:avLst/>
            <a:gdLst/>
            <a:ahLst/>
            <a:rect l="0" t="0" r="r" b="b"/>
            <a:pathLst>
              <a:path fill="none" w="1125" h="1125">
                <a:moveTo>
                  <a:pt x="1125" y="564"/>
                </a:moveTo>
                <a:lnTo>
                  <a:pt x="1051" y="280"/>
                </a:lnTo>
                <a:lnTo>
                  <a:pt x="844" y="76"/>
                </a:lnTo>
                <a:lnTo>
                  <a:pt x="564" y="0"/>
                </a:lnTo>
                <a:lnTo>
                  <a:pt x="282" y="76"/>
                </a:lnTo>
                <a:lnTo>
                  <a:pt x="76" y="280"/>
                </a:lnTo>
                <a:lnTo>
                  <a:pt x="0" y="564"/>
                </a:lnTo>
                <a:lnTo>
                  <a:pt x="76" y="842"/>
                </a:lnTo>
                <a:lnTo>
                  <a:pt x="282" y="1048"/>
                </a:lnTo>
                <a:lnTo>
                  <a:pt x="564" y="1125"/>
                </a:lnTo>
                <a:lnTo>
                  <a:pt x="844" y="1048"/>
                </a:lnTo>
                <a:lnTo>
                  <a:pt x="1051" y="842"/>
                </a:lnTo>
                <a:lnTo>
                  <a:pt x="1125" y="564"/>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79" name=""/>
          <p:cNvSpPr/>
          <p:nvPr/>
        </p:nvSpPr>
        <p:spPr>
          <a:xfrm flipH="1">
            <a:off x="5877000" y="3166920"/>
            <a:ext cx="166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0" name=""/>
          <p:cNvSpPr/>
          <p:nvPr/>
        </p:nvSpPr>
        <p:spPr>
          <a:xfrm>
            <a:off x="6078600" y="3166920"/>
            <a:ext cx="69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1" name=""/>
          <p:cNvSpPr/>
          <p:nvPr/>
        </p:nvSpPr>
        <p:spPr>
          <a:xfrm flipV="1">
            <a:off x="6113520" y="3132000"/>
            <a:ext cx="0" cy="69840"/>
          </a:xfrm>
          <a:prstGeom prst="line">
            <a:avLst/>
          </a:prstGeom>
          <a:ln w="12600">
            <a:solidFill>
              <a:srgbClr val="f2fefd"/>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2882" name=""/>
          <p:cNvSpPr/>
          <p:nvPr/>
        </p:nvSpPr>
        <p:spPr>
          <a:xfrm>
            <a:off x="6819840" y="1974960"/>
            <a:ext cx="194040" cy="194040"/>
          </a:xfrm>
          <a:custGeom>
            <a:avLst/>
            <a:gdLst/>
            <a:ahLst/>
            <a:rect l="0" t="0" r="r" b="b"/>
            <a:pathLst>
              <a:path fill="none" w="539" h="539">
                <a:moveTo>
                  <a:pt x="539" y="539"/>
                </a:moveTo>
                <a:lnTo>
                  <a:pt x="468" y="268"/>
                </a:lnTo>
                <a:lnTo>
                  <a:pt x="271" y="71"/>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83" name=""/>
          <p:cNvSpPr txBox="1"/>
          <p:nvPr/>
        </p:nvSpPr>
        <p:spPr>
          <a:xfrm>
            <a:off x="1955880" y="1914480"/>
            <a:ext cx="404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a:t>
            </a:r>
            <a:endParaRPr b="0" lang="en-US" sz="2400" spc="-1" strike="noStrike">
              <a:solidFill>
                <a:srgbClr val="000000"/>
              </a:solidFill>
              <a:latin typeface="Arial"/>
            </a:endParaRPr>
          </a:p>
        </p:txBody>
      </p:sp>
      <p:sp>
        <p:nvSpPr>
          <p:cNvPr id="2884" name=""/>
          <p:cNvSpPr txBox="1"/>
          <p:nvPr/>
        </p:nvSpPr>
        <p:spPr>
          <a:xfrm>
            <a:off x="1963800" y="5315040"/>
            <a:ext cx="545796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INTERNAL DATUM WIDTH</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85" name=""/>
          <p:cNvSpPr/>
          <p:nvPr/>
        </p:nvSpPr>
        <p:spPr>
          <a:xfrm>
            <a:off x="4270320" y="2965320"/>
            <a:ext cx="20145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6" name=""/>
          <p:cNvSpPr/>
          <p:nvPr/>
        </p:nvSpPr>
        <p:spPr>
          <a:xfrm>
            <a:off x="4270320" y="3552840"/>
            <a:ext cx="20145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7" name=""/>
          <p:cNvSpPr/>
          <p:nvPr/>
        </p:nvSpPr>
        <p:spPr>
          <a:xfrm>
            <a:off x="3368520" y="4179960"/>
            <a:ext cx="1995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8" name=""/>
          <p:cNvSpPr/>
          <p:nvPr/>
        </p:nvSpPr>
        <p:spPr>
          <a:xfrm flipH="1">
            <a:off x="3368520" y="2338560"/>
            <a:ext cx="19954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9" name=""/>
          <p:cNvSpPr/>
          <p:nvPr/>
        </p:nvSpPr>
        <p:spPr>
          <a:xfrm>
            <a:off x="2579760" y="3259080"/>
            <a:ext cx="8017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0" name=""/>
          <p:cNvSpPr/>
          <p:nvPr/>
        </p:nvSpPr>
        <p:spPr>
          <a:xfrm>
            <a:off x="3529080" y="3259080"/>
            <a:ext cx="150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1" name=""/>
          <p:cNvSpPr/>
          <p:nvPr/>
        </p:nvSpPr>
        <p:spPr>
          <a:xfrm>
            <a:off x="3828960" y="3259080"/>
            <a:ext cx="7509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2" name=""/>
          <p:cNvSpPr/>
          <p:nvPr/>
        </p:nvSpPr>
        <p:spPr>
          <a:xfrm>
            <a:off x="4730760" y="3259080"/>
            <a:ext cx="1508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3" name=""/>
          <p:cNvSpPr/>
          <p:nvPr/>
        </p:nvSpPr>
        <p:spPr>
          <a:xfrm>
            <a:off x="5029200" y="3259080"/>
            <a:ext cx="8031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4" name=""/>
          <p:cNvSpPr/>
          <p:nvPr/>
        </p:nvSpPr>
        <p:spPr>
          <a:xfrm flipV="1">
            <a:off x="4002120" y="1652760"/>
            <a:ext cx="0" cy="12142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5" name=""/>
          <p:cNvSpPr/>
          <p:nvPr/>
        </p:nvSpPr>
        <p:spPr>
          <a:xfrm>
            <a:off x="2117880" y="2978280"/>
            <a:ext cx="180324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6" name=""/>
          <p:cNvSpPr/>
          <p:nvPr/>
        </p:nvSpPr>
        <p:spPr>
          <a:xfrm>
            <a:off x="2617920" y="3259080"/>
            <a:ext cx="114840" cy="214560"/>
          </a:xfrm>
          <a:custGeom>
            <a:avLst/>
            <a:gdLst/>
            <a:ahLst/>
            <a:rect l="0" t="0" r="r" b="b"/>
            <a:pathLst>
              <a:path w="319" h="596">
                <a:moveTo>
                  <a:pt x="0" y="517"/>
                </a:moveTo>
                <a:lnTo>
                  <a:pt x="319" y="0"/>
                </a:lnTo>
                <a:lnTo>
                  <a:pt x="182" y="596"/>
                </a:lnTo>
                <a:lnTo>
                  <a:pt x="0" y="517"/>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897" name=""/>
          <p:cNvSpPr/>
          <p:nvPr/>
        </p:nvSpPr>
        <p:spPr>
          <a:xfrm flipV="1">
            <a:off x="3997440" y="3094200"/>
            <a:ext cx="0" cy="311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8" name=""/>
          <p:cNvSpPr/>
          <p:nvPr/>
        </p:nvSpPr>
        <p:spPr>
          <a:xfrm>
            <a:off x="4195800" y="2973240"/>
            <a:ext cx="0" cy="56844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99" name=""/>
          <p:cNvSpPr/>
          <p:nvPr/>
        </p:nvSpPr>
        <p:spPr>
          <a:xfrm>
            <a:off x="3218040" y="3571920"/>
            <a:ext cx="978120" cy="51120"/>
          </a:xfrm>
          <a:custGeom>
            <a:avLst/>
            <a:gdLst/>
            <a:ahLst/>
            <a:rect l="0" t="0" r="r" b="b"/>
            <a:pathLst>
              <a:path fill="none" w="2717" h="142">
                <a:moveTo>
                  <a:pt x="0" y="22"/>
                </a:moveTo>
                <a:lnTo>
                  <a:pt x="87" y="13"/>
                </a:lnTo>
                <a:lnTo>
                  <a:pt x="193" y="52"/>
                </a:lnTo>
                <a:lnTo>
                  <a:pt x="280" y="52"/>
                </a:lnTo>
                <a:lnTo>
                  <a:pt x="418" y="22"/>
                </a:lnTo>
                <a:lnTo>
                  <a:pt x="524" y="0"/>
                </a:lnTo>
                <a:lnTo>
                  <a:pt x="658" y="0"/>
                </a:lnTo>
                <a:lnTo>
                  <a:pt x="791" y="30"/>
                </a:lnTo>
                <a:lnTo>
                  <a:pt x="1054" y="142"/>
                </a:lnTo>
                <a:lnTo>
                  <a:pt x="1256" y="111"/>
                </a:lnTo>
                <a:lnTo>
                  <a:pt x="1474" y="30"/>
                </a:lnTo>
                <a:lnTo>
                  <a:pt x="1667" y="4"/>
                </a:lnTo>
                <a:lnTo>
                  <a:pt x="1865" y="39"/>
                </a:lnTo>
                <a:lnTo>
                  <a:pt x="2040" y="120"/>
                </a:lnTo>
                <a:lnTo>
                  <a:pt x="2206" y="142"/>
                </a:lnTo>
                <a:lnTo>
                  <a:pt x="2381" y="30"/>
                </a:lnTo>
                <a:lnTo>
                  <a:pt x="2547" y="0"/>
                </a:lnTo>
                <a:lnTo>
                  <a:pt x="2717" y="0"/>
                </a:lnTo>
              </a:path>
            </a:pathLst>
          </a:custGeom>
          <a:ln w="12600">
            <a:solidFill>
              <a:srgbClr val="f2fefd"/>
            </a:solidFill>
            <a:round/>
          </a:ln>
        </p:spPr>
        <p:txBody>
          <a:bodyPr lIns="96120" rIns="96120" tIns="0" bIns="0" anchor="t">
            <a:noAutofit/>
          </a:bodyPr>
          <a:p>
            <a:endParaRPr b="0" lang="en-US" sz="1800" spc="-1" strike="noStrike">
              <a:solidFill>
                <a:srgbClr val="000000"/>
              </a:solidFill>
              <a:latin typeface="Arial"/>
            </a:endParaRPr>
          </a:p>
        </p:txBody>
      </p:sp>
      <p:sp>
        <p:nvSpPr>
          <p:cNvPr id="2900" name=""/>
          <p:cNvSpPr/>
          <p:nvPr/>
        </p:nvSpPr>
        <p:spPr>
          <a:xfrm>
            <a:off x="3218040" y="3571920"/>
            <a:ext cx="151200" cy="608400"/>
          </a:xfrm>
          <a:custGeom>
            <a:avLst/>
            <a:gdLst/>
            <a:ahLst/>
            <a:rect l="0" t="0" r="r" b="b"/>
            <a:pathLst>
              <a:path fill="none" w="420" h="1690">
                <a:moveTo>
                  <a:pt x="0" y="0"/>
                </a:moveTo>
                <a:lnTo>
                  <a:pt x="0" y="1277"/>
                </a:lnTo>
                <a:lnTo>
                  <a:pt x="55" y="1484"/>
                </a:lnTo>
                <a:lnTo>
                  <a:pt x="210" y="1635"/>
                </a:lnTo>
                <a:lnTo>
                  <a:pt x="420" y="169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01" name=""/>
          <p:cNvSpPr/>
          <p:nvPr/>
        </p:nvSpPr>
        <p:spPr>
          <a:xfrm>
            <a:off x="3962520" y="3405240"/>
            <a:ext cx="71640" cy="216360"/>
          </a:xfrm>
          <a:custGeom>
            <a:avLst/>
            <a:gdLst/>
            <a:ahLst/>
            <a:rect l="0" t="0" r="r" b="b"/>
            <a:pathLst>
              <a:path w="199" h="601">
                <a:moveTo>
                  <a:pt x="0" y="0"/>
                </a:moveTo>
                <a:lnTo>
                  <a:pt x="199" y="0"/>
                </a:lnTo>
                <a:lnTo>
                  <a:pt x="99" y="601"/>
                </a:lnTo>
                <a:lnTo>
                  <a:pt x="0" y="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02" name=""/>
          <p:cNvSpPr/>
          <p:nvPr/>
        </p:nvSpPr>
        <p:spPr>
          <a:xfrm>
            <a:off x="3218040" y="2878200"/>
            <a:ext cx="978120" cy="70200"/>
          </a:xfrm>
          <a:custGeom>
            <a:avLst/>
            <a:gdLst/>
            <a:ahLst/>
            <a:rect l="0" t="0" r="r" b="b"/>
            <a:pathLst>
              <a:path fill="none" w="2717" h="195">
                <a:moveTo>
                  <a:pt x="0" y="127"/>
                </a:moveTo>
                <a:lnTo>
                  <a:pt x="114" y="181"/>
                </a:lnTo>
                <a:lnTo>
                  <a:pt x="225" y="195"/>
                </a:lnTo>
                <a:lnTo>
                  <a:pt x="326" y="127"/>
                </a:lnTo>
                <a:lnTo>
                  <a:pt x="455" y="113"/>
                </a:lnTo>
                <a:lnTo>
                  <a:pt x="588" y="145"/>
                </a:lnTo>
                <a:lnTo>
                  <a:pt x="758" y="167"/>
                </a:lnTo>
                <a:lnTo>
                  <a:pt x="1011" y="195"/>
                </a:lnTo>
                <a:lnTo>
                  <a:pt x="1199" y="136"/>
                </a:lnTo>
                <a:lnTo>
                  <a:pt x="1351" y="100"/>
                </a:lnTo>
                <a:lnTo>
                  <a:pt x="1485" y="131"/>
                </a:lnTo>
                <a:lnTo>
                  <a:pt x="1742" y="190"/>
                </a:lnTo>
                <a:lnTo>
                  <a:pt x="1871" y="186"/>
                </a:lnTo>
                <a:lnTo>
                  <a:pt x="1991" y="140"/>
                </a:lnTo>
                <a:lnTo>
                  <a:pt x="2202" y="0"/>
                </a:lnTo>
                <a:lnTo>
                  <a:pt x="2322" y="4"/>
                </a:lnTo>
                <a:lnTo>
                  <a:pt x="2446" y="67"/>
                </a:lnTo>
                <a:lnTo>
                  <a:pt x="2717" y="195"/>
                </a:lnTo>
              </a:path>
            </a:pathLst>
          </a:custGeom>
          <a:ln w="12600">
            <a:solidFill>
              <a:srgbClr val="f2fefd"/>
            </a:solidFill>
            <a:round/>
          </a:ln>
        </p:spPr>
        <p:txBody>
          <a:bodyPr lIns="96120" rIns="96120" tIns="19080" bIns="19080" anchor="t">
            <a:noAutofit/>
          </a:bodyPr>
          <a:p>
            <a:endParaRPr b="0" lang="en-US" sz="1800" spc="-1" strike="noStrike">
              <a:solidFill>
                <a:srgbClr val="000000"/>
              </a:solidFill>
              <a:latin typeface="Arial"/>
            </a:endParaRPr>
          </a:p>
        </p:txBody>
      </p:sp>
      <p:sp>
        <p:nvSpPr>
          <p:cNvPr id="2903" name=""/>
          <p:cNvSpPr/>
          <p:nvPr/>
        </p:nvSpPr>
        <p:spPr>
          <a:xfrm>
            <a:off x="3218040" y="2486160"/>
            <a:ext cx="0" cy="4381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4" name=""/>
          <p:cNvSpPr/>
          <p:nvPr/>
        </p:nvSpPr>
        <p:spPr>
          <a:xfrm>
            <a:off x="3218040" y="2338560"/>
            <a:ext cx="151200" cy="147960"/>
          </a:xfrm>
          <a:custGeom>
            <a:avLst/>
            <a:gdLst/>
            <a:ahLst/>
            <a:rect l="0" t="0" r="r" b="b"/>
            <a:pathLst>
              <a:path fill="none" w="420" h="411">
                <a:moveTo>
                  <a:pt x="420" y="0"/>
                </a:moveTo>
                <a:lnTo>
                  <a:pt x="210" y="54"/>
                </a:lnTo>
                <a:lnTo>
                  <a:pt x="55" y="206"/>
                </a:lnTo>
                <a:lnTo>
                  <a:pt x="0" y="411"/>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05" name=""/>
          <p:cNvSpPr/>
          <p:nvPr/>
        </p:nvSpPr>
        <p:spPr>
          <a:xfrm>
            <a:off x="3962520" y="2889360"/>
            <a:ext cx="71640" cy="214560"/>
          </a:xfrm>
          <a:custGeom>
            <a:avLst/>
            <a:gdLst/>
            <a:ahLst/>
            <a:rect l="0" t="0" r="r" b="b"/>
            <a:pathLst>
              <a:path w="199" h="596">
                <a:moveTo>
                  <a:pt x="0" y="596"/>
                </a:moveTo>
                <a:lnTo>
                  <a:pt x="199" y="596"/>
                </a:lnTo>
                <a:lnTo>
                  <a:pt x="99" y="0"/>
                </a:lnTo>
                <a:lnTo>
                  <a:pt x="0" y="596"/>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06" name=""/>
          <p:cNvSpPr/>
          <p:nvPr/>
        </p:nvSpPr>
        <p:spPr>
          <a:xfrm>
            <a:off x="4002120" y="1652760"/>
            <a:ext cx="216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7" name=""/>
          <p:cNvSpPr/>
          <p:nvPr/>
        </p:nvSpPr>
        <p:spPr>
          <a:xfrm flipV="1">
            <a:off x="5514840" y="2486160"/>
            <a:ext cx="0" cy="15429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8" name=""/>
          <p:cNvSpPr/>
          <p:nvPr/>
        </p:nvSpPr>
        <p:spPr>
          <a:xfrm flipV="1">
            <a:off x="4819680" y="3076560"/>
            <a:ext cx="0" cy="1303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9" name=""/>
          <p:cNvSpPr/>
          <p:nvPr/>
        </p:nvSpPr>
        <p:spPr>
          <a:xfrm>
            <a:off x="4665600" y="3102120"/>
            <a:ext cx="311400" cy="311400"/>
          </a:xfrm>
          <a:custGeom>
            <a:avLst/>
            <a:gdLst/>
            <a:ahLst/>
            <a:rect l="0" t="0" r="r" b="b"/>
            <a:pathLst>
              <a:path fill="none" w="865" h="865">
                <a:moveTo>
                  <a:pt x="865" y="433"/>
                </a:moveTo>
                <a:lnTo>
                  <a:pt x="810" y="216"/>
                </a:lnTo>
                <a:lnTo>
                  <a:pt x="649" y="59"/>
                </a:lnTo>
                <a:lnTo>
                  <a:pt x="433" y="0"/>
                </a:lnTo>
                <a:lnTo>
                  <a:pt x="216" y="59"/>
                </a:lnTo>
                <a:lnTo>
                  <a:pt x="55" y="216"/>
                </a:lnTo>
                <a:lnTo>
                  <a:pt x="0" y="433"/>
                </a:lnTo>
                <a:lnTo>
                  <a:pt x="55" y="649"/>
                </a:lnTo>
                <a:lnTo>
                  <a:pt x="216" y="805"/>
                </a:lnTo>
                <a:lnTo>
                  <a:pt x="433" y="865"/>
                </a:lnTo>
                <a:lnTo>
                  <a:pt x="649" y="805"/>
                </a:lnTo>
                <a:lnTo>
                  <a:pt x="810" y="649"/>
                </a:lnTo>
                <a:lnTo>
                  <a:pt x="865" y="433"/>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10" name=""/>
          <p:cNvSpPr/>
          <p:nvPr/>
        </p:nvSpPr>
        <p:spPr>
          <a:xfrm>
            <a:off x="5364000" y="4029120"/>
            <a:ext cx="151200" cy="151200"/>
          </a:xfrm>
          <a:custGeom>
            <a:avLst/>
            <a:gdLst/>
            <a:ahLst/>
            <a:rect l="0" t="0" r="r" b="b"/>
            <a:pathLst>
              <a:path fill="none" w="420" h="420">
                <a:moveTo>
                  <a:pt x="0" y="420"/>
                </a:moveTo>
                <a:lnTo>
                  <a:pt x="212" y="365"/>
                </a:lnTo>
                <a:lnTo>
                  <a:pt x="365" y="210"/>
                </a:lnTo>
                <a:lnTo>
                  <a:pt x="42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11" name=""/>
          <p:cNvSpPr/>
          <p:nvPr/>
        </p:nvSpPr>
        <p:spPr>
          <a:xfrm>
            <a:off x="4875120" y="3259080"/>
            <a:ext cx="1285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2" name=""/>
          <p:cNvSpPr/>
          <p:nvPr/>
        </p:nvSpPr>
        <p:spPr>
          <a:xfrm>
            <a:off x="4819680" y="3313080"/>
            <a:ext cx="0" cy="1285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3" name=""/>
          <p:cNvSpPr/>
          <p:nvPr/>
        </p:nvSpPr>
        <p:spPr>
          <a:xfrm flipH="1">
            <a:off x="4640400" y="3259080"/>
            <a:ext cx="1267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4" name=""/>
          <p:cNvSpPr/>
          <p:nvPr/>
        </p:nvSpPr>
        <p:spPr>
          <a:xfrm>
            <a:off x="4794120" y="3259080"/>
            <a:ext cx="54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5" name=""/>
          <p:cNvSpPr/>
          <p:nvPr/>
        </p:nvSpPr>
        <p:spPr>
          <a:xfrm flipV="1">
            <a:off x="4819680" y="3232080"/>
            <a:ext cx="0" cy="54000"/>
          </a:xfrm>
          <a:prstGeom prst="line">
            <a:avLst/>
          </a:prstGeom>
          <a:ln w="12600">
            <a:solidFill>
              <a:srgbClr val="f2fefd"/>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916" name=""/>
          <p:cNvSpPr/>
          <p:nvPr/>
        </p:nvSpPr>
        <p:spPr>
          <a:xfrm>
            <a:off x="6032520" y="3571920"/>
            <a:ext cx="71640" cy="214560"/>
          </a:xfrm>
          <a:custGeom>
            <a:avLst/>
            <a:gdLst/>
            <a:ahLst/>
            <a:rect l="0" t="0" r="r" b="b"/>
            <a:pathLst>
              <a:path w="199" h="596">
                <a:moveTo>
                  <a:pt x="0" y="596"/>
                </a:moveTo>
                <a:lnTo>
                  <a:pt x="199" y="596"/>
                </a:lnTo>
                <a:lnTo>
                  <a:pt x="99" y="0"/>
                </a:lnTo>
                <a:lnTo>
                  <a:pt x="0" y="596"/>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17" name=""/>
          <p:cNvSpPr/>
          <p:nvPr/>
        </p:nvSpPr>
        <p:spPr>
          <a:xfrm>
            <a:off x="6068880" y="3786120"/>
            <a:ext cx="0" cy="2174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8" name=""/>
          <p:cNvSpPr/>
          <p:nvPr/>
        </p:nvSpPr>
        <p:spPr>
          <a:xfrm>
            <a:off x="5364000" y="2338560"/>
            <a:ext cx="151200" cy="147960"/>
          </a:xfrm>
          <a:custGeom>
            <a:avLst/>
            <a:gdLst/>
            <a:ahLst/>
            <a:rect l="0" t="0" r="r" b="b"/>
            <a:pathLst>
              <a:path fill="none" w="420" h="411">
                <a:moveTo>
                  <a:pt x="420" y="411"/>
                </a:moveTo>
                <a:lnTo>
                  <a:pt x="365" y="206"/>
                </a:lnTo>
                <a:lnTo>
                  <a:pt x="212" y="54"/>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19" name=""/>
          <p:cNvSpPr/>
          <p:nvPr/>
        </p:nvSpPr>
        <p:spPr>
          <a:xfrm flipV="1">
            <a:off x="6068880" y="2521080"/>
            <a:ext cx="0" cy="2095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0" name=""/>
          <p:cNvSpPr/>
          <p:nvPr/>
        </p:nvSpPr>
        <p:spPr>
          <a:xfrm>
            <a:off x="6032520" y="2730600"/>
            <a:ext cx="71640" cy="217800"/>
          </a:xfrm>
          <a:custGeom>
            <a:avLst/>
            <a:gdLst/>
            <a:ahLst/>
            <a:rect l="0" t="0" r="r" b="b"/>
            <a:pathLst>
              <a:path w="199" h="605">
                <a:moveTo>
                  <a:pt x="0" y="0"/>
                </a:moveTo>
                <a:lnTo>
                  <a:pt x="199" y="0"/>
                </a:lnTo>
                <a:lnTo>
                  <a:pt x="99" y="605"/>
                </a:lnTo>
                <a:lnTo>
                  <a:pt x="0" y="0"/>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21" name=""/>
          <p:cNvSpPr/>
          <p:nvPr/>
        </p:nvSpPr>
        <p:spPr>
          <a:xfrm>
            <a:off x="6068880" y="2521080"/>
            <a:ext cx="3207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2" name=""/>
          <p:cNvSpPr txBox="1"/>
          <p:nvPr/>
        </p:nvSpPr>
        <p:spPr>
          <a:xfrm>
            <a:off x="790560" y="1363680"/>
            <a:ext cx="1679400" cy="6793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imulator</a:t>
            </a:r>
            <a:endParaRPr b="0" lang="en-US" sz="1800" spc="-1" strike="noStrike">
              <a:solidFill>
                <a:srgbClr val="000000"/>
              </a:solidFill>
              <a:latin typeface="Arial"/>
            </a:endParaRPr>
          </a:p>
        </p:txBody>
      </p:sp>
      <p:sp>
        <p:nvSpPr>
          <p:cNvPr id="2923" name=""/>
          <p:cNvSpPr/>
          <p:nvPr/>
        </p:nvSpPr>
        <p:spPr>
          <a:xfrm>
            <a:off x="1922400" y="1846440"/>
            <a:ext cx="7333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4" name=""/>
          <p:cNvSpPr/>
          <p:nvPr/>
        </p:nvSpPr>
        <p:spPr>
          <a:xfrm flipH="1">
            <a:off x="2314440" y="1846440"/>
            <a:ext cx="341280" cy="1110960"/>
          </a:xfrm>
          <a:prstGeom prst="line">
            <a:avLst/>
          </a:prstGeom>
          <a:ln w="12600">
            <a:solidFill>
              <a:srgbClr val="f2fefd"/>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5" name=""/>
          <p:cNvSpPr txBox="1"/>
          <p:nvPr/>
        </p:nvSpPr>
        <p:spPr>
          <a:xfrm>
            <a:off x="4211640" y="1449360"/>
            <a:ext cx="1800360" cy="3826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2926" name=""/>
          <p:cNvSpPr/>
          <p:nvPr/>
        </p:nvSpPr>
        <p:spPr>
          <a:xfrm>
            <a:off x="4078440" y="2975040"/>
            <a:ext cx="11556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7" name=""/>
          <p:cNvSpPr/>
          <p:nvPr/>
        </p:nvSpPr>
        <p:spPr>
          <a:xfrm>
            <a:off x="4056120" y="3546360"/>
            <a:ext cx="13500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28" name=""/>
          <p:cNvSpPr/>
          <p:nvPr/>
        </p:nvSpPr>
        <p:spPr>
          <a:xfrm>
            <a:off x="4202280" y="2951280"/>
            <a:ext cx="25920" cy="622800"/>
          </a:xfrm>
          <a:custGeom>
            <a:avLst/>
            <a:gdLst/>
            <a:ahLst/>
            <a:rect l="0" t="0" r="r" b="b"/>
            <a:pathLst>
              <a:path fill="none" w="72" h="1730">
                <a:moveTo>
                  <a:pt x="0" y="0"/>
                </a:moveTo>
                <a:lnTo>
                  <a:pt x="15" y="35"/>
                </a:lnTo>
                <a:lnTo>
                  <a:pt x="26" y="61"/>
                </a:lnTo>
                <a:lnTo>
                  <a:pt x="31" y="92"/>
                </a:lnTo>
                <a:lnTo>
                  <a:pt x="46" y="138"/>
                </a:lnTo>
                <a:lnTo>
                  <a:pt x="41" y="168"/>
                </a:lnTo>
                <a:lnTo>
                  <a:pt x="26" y="199"/>
                </a:lnTo>
                <a:lnTo>
                  <a:pt x="26" y="235"/>
                </a:lnTo>
                <a:lnTo>
                  <a:pt x="26" y="265"/>
                </a:lnTo>
                <a:lnTo>
                  <a:pt x="26" y="296"/>
                </a:lnTo>
                <a:lnTo>
                  <a:pt x="26" y="327"/>
                </a:lnTo>
                <a:lnTo>
                  <a:pt x="31" y="352"/>
                </a:lnTo>
                <a:lnTo>
                  <a:pt x="41" y="388"/>
                </a:lnTo>
                <a:lnTo>
                  <a:pt x="46" y="419"/>
                </a:lnTo>
                <a:lnTo>
                  <a:pt x="46" y="445"/>
                </a:lnTo>
                <a:lnTo>
                  <a:pt x="57" y="476"/>
                </a:lnTo>
                <a:lnTo>
                  <a:pt x="57" y="507"/>
                </a:lnTo>
                <a:lnTo>
                  <a:pt x="46" y="537"/>
                </a:lnTo>
                <a:lnTo>
                  <a:pt x="46" y="568"/>
                </a:lnTo>
                <a:lnTo>
                  <a:pt x="46" y="614"/>
                </a:lnTo>
                <a:lnTo>
                  <a:pt x="46" y="645"/>
                </a:lnTo>
                <a:lnTo>
                  <a:pt x="62" y="676"/>
                </a:lnTo>
                <a:lnTo>
                  <a:pt x="62" y="706"/>
                </a:lnTo>
                <a:lnTo>
                  <a:pt x="57" y="737"/>
                </a:lnTo>
                <a:lnTo>
                  <a:pt x="46" y="768"/>
                </a:lnTo>
                <a:lnTo>
                  <a:pt x="41" y="798"/>
                </a:lnTo>
                <a:lnTo>
                  <a:pt x="41" y="834"/>
                </a:lnTo>
                <a:lnTo>
                  <a:pt x="41" y="860"/>
                </a:lnTo>
                <a:lnTo>
                  <a:pt x="41" y="890"/>
                </a:lnTo>
                <a:lnTo>
                  <a:pt x="41" y="921"/>
                </a:lnTo>
                <a:lnTo>
                  <a:pt x="41" y="952"/>
                </a:lnTo>
                <a:lnTo>
                  <a:pt x="46" y="1003"/>
                </a:lnTo>
                <a:lnTo>
                  <a:pt x="46" y="1044"/>
                </a:lnTo>
                <a:lnTo>
                  <a:pt x="46" y="1074"/>
                </a:lnTo>
                <a:lnTo>
                  <a:pt x="46" y="1110"/>
                </a:lnTo>
                <a:lnTo>
                  <a:pt x="41" y="1141"/>
                </a:lnTo>
                <a:lnTo>
                  <a:pt x="41" y="1172"/>
                </a:lnTo>
                <a:lnTo>
                  <a:pt x="41" y="1202"/>
                </a:lnTo>
                <a:lnTo>
                  <a:pt x="46" y="1228"/>
                </a:lnTo>
                <a:lnTo>
                  <a:pt x="62" y="1264"/>
                </a:lnTo>
                <a:lnTo>
                  <a:pt x="72" y="1289"/>
                </a:lnTo>
                <a:lnTo>
                  <a:pt x="72" y="1352"/>
                </a:lnTo>
                <a:lnTo>
                  <a:pt x="72" y="1387"/>
                </a:lnTo>
                <a:lnTo>
                  <a:pt x="62" y="1413"/>
                </a:lnTo>
                <a:lnTo>
                  <a:pt x="46" y="1439"/>
                </a:lnTo>
                <a:lnTo>
                  <a:pt x="46" y="1469"/>
                </a:lnTo>
                <a:lnTo>
                  <a:pt x="41" y="1515"/>
                </a:lnTo>
                <a:lnTo>
                  <a:pt x="41" y="1561"/>
                </a:lnTo>
                <a:lnTo>
                  <a:pt x="41" y="1592"/>
                </a:lnTo>
                <a:lnTo>
                  <a:pt x="26" y="1638"/>
                </a:lnTo>
                <a:lnTo>
                  <a:pt x="15" y="1669"/>
                </a:lnTo>
                <a:lnTo>
                  <a:pt x="15" y="1699"/>
                </a:lnTo>
                <a:lnTo>
                  <a:pt x="15" y="1730"/>
                </a:lnTo>
                <a:lnTo>
                  <a:pt x="0" y="171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9" name=""/>
          <p:cNvSpPr txBox="1"/>
          <p:nvPr/>
        </p:nvSpPr>
        <p:spPr>
          <a:xfrm>
            <a:off x="588960" y="3927600"/>
            <a:ext cx="1969920" cy="120636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Plane A</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enter plane of</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true geometric</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unterpart [gage])</a:t>
            </a:r>
            <a:endParaRPr b="0" lang="en-US" sz="1800" spc="-1" strike="noStrike">
              <a:solidFill>
                <a:srgbClr val="000000"/>
              </a:solidFill>
              <a:latin typeface="Arial"/>
            </a:endParaRPr>
          </a:p>
        </p:txBody>
      </p:sp>
      <p:sp>
        <p:nvSpPr>
          <p:cNvPr id="2930" name=""/>
          <p:cNvSpPr txBox="1"/>
          <p:nvPr/>
        </p:nvSpPr>
        <p:spPr>
          <a:xfrm>
            <a:off x="6332400" y="2352600"/>
            <a:ext cx="2719440" cy="120636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part of datum A  </a:t>
            </a:r>
            <a:r>
              <a:rPr b="0" lang="en-US" sz="1800" spc="-1" strike="noStrike">
                <a:solidFill>
                  <a:srgbClr val="ffff00"/>
                </a:solidFill>
                <a:latin typeface="Times New Roman"/>
                <a:ea typeface="Times New Roman"/>
              </a:rPr>
              <a:t>(Parallel</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planes at maximum separa-</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tion)</a:t>
            </a:r>
            <a:endParaRPr b="0" lang="en-US" sz="1800" spc="-1" strike="noStrike">
              <a:solidFill>
                <a:srgbClr val="000000"/>
              </a:solidFill>
              <a:latin typeface="Arial"/>
            </a:endParaRPr>
          </a:p>
        </p:txBody>
      </p:sp>
      <p:sp>
        <p:nvSpPr>
          <p:cNvPr id="2931" name=""/>
          <p:cNvSpPr txBox="1"/>
          <p:nvPr/>
        </p:nvSpPr>
        <p:spPr>
          <a:xfrm>
            <a:off x="1305000" y="60660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2932" name=""/>
          <p:cNvSpPr txBox="1"/>
          <p:nvPr/>
        </p:nvSpPr>
        <p:spPr>
          <a:xfrm>
            <a:off x="1963800" y="5315040"/>
            <a:ext cx="545796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INTERNAL DATUM WIDTH</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2933" name=""/>
          <p:cNvSpPr/>
          <p:nvPr/>
        </p:nvSpPr>
        <p:spPr>
          <a:xfrm>
            <a:off x="2610000" y="2905200"/>
            <a:ext cx="85680" cy="133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4" name=""/>
          <p:cNvSpPr/>
          <p:nvPr/>
        </p:nvSpPr>
        <p:spPr>
          <a:xfrm>
            <a:off x="2800440" y="2914560"/>
            <a:ext cx="85680" cy="133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5" name=""/>
          <p:cNvSpPr/>
          <p:nvPr/>
        </p:nvSpPr>
        <p:spPr>
          <a:xfrm>
            <a:off x="2981160" y="2924280"/>
            <a:ext cx="85680" cy="133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6" name=""/>
          <p:cNvSpPr/>
          <p:nvPr/>
        </p:nvSpPr>
        <p:spPr>
          <a:xfrm>
            <a:off x="2117880" y="3540240"/>
            <a:ext cx="1803240" cy="0"/>
          </a:xfrm>
          <a:prstGeom prst="line">
            <a:avLst/>
          </a:prstGeom>
          <a:ln w="25560">
            <a:solidFill>
              <a:srgbClr val="fd07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37" name=""/>
          <p:cNvSpPr/>
          <p:nvPr/>
        </p:nvSpPr>
        <p:spPr>
          <a:xfrm>
            <a:off x="2610000" y="3467160"/>
            <a:ext cx="85680" cy="133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8" name=""/>
          <p:cNvSpPr/>
          <p:nvPr/>
        </p:nvSpPr>
        <p:spPr>
          <a:xfrm>
            <a:off x="2800440" y="3476520"/>
            <a:ext cx="85680" cy="133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9" name=""/>
          <p:cNvSpPr/>
          <p:nvPr/>
        </p:nvSpPr>
        <p:spPr>
          <a:xfrm>
            <a:off x="2981160" y="3486240"/>
            <a:ext cx="85680" cy="1332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0" name=""/>
          <p:cNvSpPr/>
          <p:nvPr/>
        </p:nvSpPr>
        <p:spPr>
          <a:xfrm>
            <a:off x="2176560" y="3460680"/>
            <a:ext cx="475200" cy="662400"/>
          </a:xfrm>
          <a:custGeom>
            <a:avLst/>
            <a:gdLst/>
            <a:ahLst/>
            <a:rect l="0" t="0" r="r" b="b"/>
            <a:pathLst>
              <a:path fill="none" w="1320" h="1840">
                <a:moveTo>
                  <a:pt x="1320" y="0"/>
                </a:moveTo>
                <a:lnTo>
                  <a:pt x="561" y="1840"/>
                </a:lnTo>
                <a:lnTo>
                  <a:pt x="0" y="184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6" name=""/>
          <p:cNvSpPr txBox="1"/>
          <p:nvPr/>
        </p:nvSpPr>
        <p:spPr>
          <a:xfrm>
            <a:off x="460440" y="3294000"/>
            <a:ext cx="8334360" cy="29415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imensions related to a datum reference frame through geometric tolerances or special notes should be measured </a:t>
            </a:r>
            <a:r>
              <a:rPr b="0" lang="en-US" sz="2800" spc="-1" strike="noStrike">
                <a:solidFill>
                  <a:srgbClr val="fafd00"/>
                </a:solidFill>
                <a:latin typeface="Times New Roman"/>
                <a:ea typeface="Times New Roman"/>
              </a:rPr>
              <a:t>from</a:t>
            </a:r>
            <a:r>
              <a:rPr b="0" lang="en-US" sz="2800" spc="-1" strike="noStrike">
                <a:solidFill>
                  <a:srgbClr val="ffffff"/>
                </a:solidFill>
                <a:latin typeface="Times New Roman"/>
                <a:ea typeface="Times New Roman"/>
              </a:rPr>
              <a:t> the datum reference frame.</a:t>
            </a:r>
            <a:endParaRPr b="0" lang="en-US" sz="2800" spc="-1" strike="noStrike">
              <a:solidFill>
                <a:srgbClr val="000000"/>
              </a:solidFill>
              <a:latin typeface="Arial"/>
            </a:endParaRPr>
          </a:p>
        </p:txBody>
      </p:sp>
      <p:sp>
        <p:nvSpPr>
          <p:cNvPr id="617" name=""/>
          <p:cNvSpPr txBox="1"/>
          <p:nvPr/>
        </p:nvSpPr>
        <p:spPr>
          <a:xfrm>
            <a:off x="1355760" y="549360"/>
            <a:ext cx="6432480" cy="6415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DATUM  CONCEPTS  REVIEW</a:t>
            </a:r>
            <a:endParaRPr b="0" lang="en-US" sz="3600" spc="-1" strike="noStrike">
              <a:solidFill>
                <a:srgbClr val="000000"/>
              </a:solidFill>
              <a:latin typeface="Arial"/>
            </a:endParaRPr>
          </a:p>
        </p:txBody>
      </p:sp>
      <p:sp>
        <p:nvSpPr>
          <p:cNvPr id="618" name=""/>
          <p:cNvSpPr txBox="1"/>
          <p:nvPr/>
        </p:nvSpPr>
        <p:spPr>
          <a:xfrm>
            <a:off x="461880" y="1535040"/>
            <a:ext cx="7772400" cy="1746360"/>
          </a:xfrm>
          <a:prstGeom prst="rect">
            <a:avLst/>
          </a:prstGeom>
          <a:noFill/>
          <a:ln w="0">
            <a:noFill/>
          </a:ln>
        </p:spPr>
        <p:txBody>
          <a:bodyPr lIns="0" rIns="0" tIns="0" bIns="0" anchor="t">
            <a:noAutofit/>
          </a:bodyPr>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rfaces or features that are identified as primary, secondary, and tertiary datum features should have a significant relationship in the design and function of the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41" name=""/>
          <p:cNvSpPr txBox="1"/>
          <p:nvPr/>
        </p:nvSpPr>
        <p:spPr>
          <a:xfrm>
            <a:off x="716040" y="1946160"/>
            <a:ext cx="7772400" cy="2901960"/>
          </a:xfrm>
          <a:prstGeom prst="rect">
            <a:avLst/>
          </a:prstGeom>
          <a:noFill/>
          <a:ln w="0">
            <a:noFill/>
          </a:ln>
        </p:spPr>
        <p:txBody>
          <a:bodyPr lIns="0" rIns="0" tIns="0" bIns="0" anchor="t">
            <a:noAutofit/>
          </a:bodyPr>
          <a:p>
            <a:pPr algn="ctr">
              <a:lnSpc>
                <a:spcPct val="100000"/>
              </a:lnSpc>
              <a:spcAft>
                <a:spcPts val="2401"/>
              </a:spcAft>
            </a:pPr>
            <a:r>
              <a:rPr b="0" lang="en-US" sz="7200" spc="-1" strike="noStrike">
                <a:solidFill>
                  <a:srgbClr val="ffffff"/>
                </a:solidFill>
                <a:latin typeface="Times New Roman"/>
                <a:ea typeface="Times New Roman"/>
              </a:rPr>
              <a:t>Primary External Datum Width</a:t>
            </a:r>
            <a:br>
              <a:rPr sz="1800"/>
            </a:br>
            <a:br>
              <a:rPr sz="1800"/>
            </a:br>
            <a:r>
              <a:rPr b="0" lang="en-US" sz="4400" spc="-1" strike="noStrike">
                <a:solidFill>
                  <a:srgbClr val="ffffff"/>
                </a:solidFill>
                <a:latin typeface="Times New Roman"/>
                <a:ea typeface="Times New Roman"/>
              </a:rPr>
              <a:t>Regardless of Feature Size (R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4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943" name=""/>
          <p:cNvSpPr txBox="1"/>
          <p:nvPr/>
        </p:nvSpPr>
        <p:spPr>
          <a:xfrm>
            <a:off x="533520" y="2374920"/>
            <a:ext cx="8381880" cy="34131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simulated datum for feature width at RFS is the </a:t>
            </a:r>
            <a:r>
              <a:rPr b="0" lang="en-US" sz="2800" spc="-1" strike="noStrike">
                <a:solidFill>
                  <a:srgbClr val="fafd00"/>
                </a:solidFill>
                <a:latin typeface="Times New Roman"/>
                <a:ea typeface="Times New Roman"/>
              </a:rPr>
              <a:t>center plane </a:t>
            </a:r>
            <a:r>
              <a:rPr b="0" lang="en-US" sz="2800" spc="-1" strike="noStrike">
                <a:solidFill>
                  <a:srgbClr val="ffffff"/>
                </a:solidFill>
                <a:latin typeface="Times New Roman"/>
                <a:ea typeface="Times New Roman"/>
              </a:rPr>
              <a:t>of the </a:t>
            </a:r>
            <a:r>
              <a:rPr b="0" lang="en-US" sz="2800" spc="-1" strike="noStrike" u="sng">
                <a:solidFill>
                  <a:srgbClr val="ffff00"/>
                </a:solidFill>
                <a:uFillTx/>
                <a:latin typeface="Times New Roman"/>
                <a:ea typeface="Times New Roman"/>
              </a:rPr>
              <a:t>gage</a:t>
            </a:r>
            <a:r>
              <a:rPr b="0" lang="en-US" sz="2800" spc="-1" strike="noStrike">
                <a:solidFill>
                  <a:srgbClr val="ffffff"/>
                </a:solidFill>
                <a:latin typeface="Times New Roman"/>
                <a:ea typeface="Times New Roman"/>
              </a:rPr>
              <a:t> representing the feature’s true geometric counterpart (or actual mating envelope).  The datum center plane is established for an </a:t>
            </a:r>
            <a:r>
              <a:rPr b="0" lang="en-US" sz="2800" spc="-1" strike="noStrike">
                <a:solidFill>
                  <a:srgbClr val="ffff00"/>
                </a:solidFill>
                <a:latin typeface="Times New Roman"/>
                <a:ea typeface="Times New Roman"/>
              </a:rPr>
              <a:t>external</a:t>
            </a:r>
            <a:r>
              <a:rPr b="0" lang="en-US" sz="2800" spc="-1" strike="noStrike">
                <a:solidFill>
                  <a:srgbClr val="ffffff"/>
                </a:solidFill>
                <a:latin typeface="Times New Roman"/>
                <a:ea typeface="Times New Roman"/>
              </a:rPr>
              <a:t> feature by bringing two parallel</a:t>
            </a:r>
            <a:r>
              <a:rPr b="0" lang="en-US" sz="2800" spc="-1" strike="noStrike">
                <a:solidFill>
                  <a:srgbClr val="fafd00"/>
                </a:solidFill>
                <a:latin typeface="Times New Roman"/>
                <a:ea typeface="Times New Roman"/>
              </a:rPr>
              <a:t> planes </a:t>
            </a:r>
            <a:r>
              <a:rPr b="0" lang="en-US" sz="2800" spc="-1" strike="noStrike">
                <a:solidFill>
                  <a:srgbClr val="ffffff"/>
                </a:solidFill>
                <a:latin typeface="Times New Roman"/>
                <a:ea typeface="Times New Roman"/>
              </a:rPr>
              <a:t>at </a:t>
            </a:r>
            <a:r>
              <a:rPr b="0" lang="en-US" sz="2800" spc="-1" strike="noStrike">
                <a:solidFill>
                  <a:srgbClr val="fafd00"/>
                </a:solidFill>
                <a:latin typeface="Times New Roman"/>
                <a:ea typeface="Times New Roman"/>
              </a:rPr>
              <a:t>minimum separation </a:t>
            </a:r>
            <a:r>
              <a:rPr b="0" lang="en-US" sz="2800" spc="-1" strike="noStrike">
                <a:solidFill>
                  <a:srgbClr val="f2fefd"/>
                </a:solidFill>
                <a:latin typeface="Times New Roman"/>
                <a:ea typeface="Times New Roman"/>
              </a:rPr>
              <a:t>into contact with the high points of the surfaces of the datum feature.</a:t>
            </a:r>
            <a:endParaRPr b="0" lang="en-US" sz="2800" spc="-1" strike="noStrike">
              <a:solidFill>
                <a:srgbClr val="000000"/>
              </a:solidFill>
              <a:latin typeface="Arial"/>
            </a:endParaRPr>
          </a:p>
        </p:txBody>
      </p:sp>
      <p:sp>
        <p:nvSpPr>
          <p:cNvPr id="2944" name=""/>
          <p:cNvSpPr txBox="1"/>
          <p:nvPr/>
        </p:nvSpPr>
        <p:spPr>
          <a:xfrm>
            <a:off x="685800" y="6969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imary Datum Feature -- </a:t>
            </a:r>
            <a:r>
              <a:rPr b="0" lang="en-US" sz="3600" spc="-1" strike="noStrike" u="sng">
                <a:solidFill>
                  <a:srgbClr val="fafd00"/>
                </a:solidFill>
                <a:uFillTx/>
                <a:latin typeface="Times New Roman"/>
                <a:ea typeface="Times New Roman"/>
              </a:rPr>
              <a:t>Width RF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45" name=""/>
          <p:cNvSpPr/>
          <p:nvPr/>
        </p:nvSpPr>
        <p:spPr>
          <a:xfrm flipV="1">
            <a:off x="2973240" y="3257640"/>
            <a:ext cx="0" cy="111132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6" name=""/>
          <p:cNvSpPr/>
          <p:nvPr/>
        </p:nvSpPr>
        <p:spPr>
          <a:xfrm>
            <a:off x="4102200" y="3876840"/>
            <a:ext cx="0" cy="761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7" name=""/>
          <p:cNvSpPr/>
          <p:nvPr/>
        </p:nvSpPr>
        <p:spPr>
          <a:xfrm flipV="1">
            <a:off x="6973920" y="2335320"/>
            <a:ext cx="0" cy="23032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8" name=""/>
          <p:cNvSpPr/>
          <p:nvPr/>
        </p:nvSpPr>
        <p:spPr>
          <a:xfrm>
            <a:off x="4102200" y="4638600"/>
            <a:ext cx="28717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9" name=""/>
          <p:cNvSpPr/>
          <p:nvPr/>
        </p:nvSpPr>
        <p:spPr>
          <a:xfrm flipH="1">
            <a:off x="2703600" y="4638600"/>
            <a:ext cx="1305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0" name=""/>
          <p:cNvSpPr/>
          <p:nvPr/>
        </p:nvSpPr>
        <p:spPr>
          <a:xfrm>
            <a:off x="2927520" y="4368960"/>
            <a:ext cx="90720" cy="270360"/>
          </a:xfrm>
          <a:custGeom>
            <a:avLst/>
            <a:gdLst/>
            <a:ahLst/>
            <a:rect l="0" t="0" r="r" b="b"/>
            <a:pathLst>
              <a:path w="252" h="751">
                <a:moveTo>
                  <a:pt x="0" y="0"/>
                </a:moveTo>
                <a:lnTo>
                  <a:pt x="252" y="0"/>
                </a:lnTo>
                <a:lnTo>
                  <a:pt x="127" y="751"/>
                </a:lnTo>
                <a:lnTo>
                  <a:pt x="0" y="0"/>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51" name=""/>
          <p:cNvSpPr/>
          <p:nvPr/>
        </p:nvSpPr>
        <p:spPr>
          <a:xfrm flipH="1">
            <a:off x="4102200" y="3876840"/>
            <a:ext cx="1128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2" name=""/>
          <p:cNvSpPr/>
          <p:nvPr/>
        </p:nvSpPr>
        <p:spPr>
          <a:xfrm>
            <a:off x="4102200" y="3097080"/>
            <a:ext cx="11286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p:nvPr/>
        </p:nvSpPr>
        <p:spPr>
          <a:xfrm flipH="1">
            <a:off x="4102200" y="2335320"/>
            <a:ext cx="287172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4" name=""/>
          <p:cNvSpPr/>
          <p:nvPr/>
        </p:nvSpPr>
        <p:spPr>
          <a:xfrm>
            <a:off x="2033640" y="1476360"/>
            <a:ext cx="524160" cy="524160"/>
          </a:xfrm>
          <a:custGeom>
            <a:avLst/>
            <a:gdLst/>
            <a:ahLst/>
            <a:rect l="0" t="0" r="r" b="b"/>
            <a:pathLst>
              <a:path fill="none" w="1456" h="1456">
                <a:moveTo>
                  <a:pt x="0" y="0"/>
                </a:moveTo>
                <a:lnTo>
                  <a:pt x="0" y="1456"/>
                </a:lnTo>
                <a:lnTo>
                  <a:pt x="1456" y="1456"/>
                </a:lnTo>
                <a:lnTo>
                  <a:pt x="1456"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flipV="1">
            <a:off x="2973240" y="1738440"/>
            <a:ext cx="0" cy="3603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6" name=""/>
          <p:cNvSpPr/>
          <p:nvPr/>
        </p:nvSpPr>
        <p:spPr>
          <a:xfrm>
            <a:off x="2973240" y="2604960"/>
            <a:ext cx="0" cy="65268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7" name=""/>
          <p:cNvSpPr/>
          <p:nvPr/>
        </p:nvSpPr>
        <p:spPr>
          <a:xfrm>
            <a:off x="4102200" y="2335320"/>
            <a:ext cx="0" cy="76176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8" name=""/>
          <p:cNvSpPr/>
          <p:nvPr/>
        </p:nvSpPr>
        <p:spPr>
          <a:xfrm flipH="1">
            <a:off x="2703600" y="2335320"/>
            <a:ext cx="1305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9" name=""/>
          <p:cNvSpPr/>
          <p:nvPr/>
        </p:nvSpPr>
        <p:spPr>
          <a:xfrm>
            <a:off x="2927520" y="2335320"/>
            <a:ext cx="90720" cy="270360"/>
          </a:xfrm>
          <a:custGeom>
            <a:avLst/>
            <a:gdLst/>
            <a:ahLst/>
            <a:rect l="0" t="0" r="r" b="b"/>
            <a:pathLst>
              <a:path w="252" h="751">
                <a:moveTo>
                  <a:pt x="0" y="751"/>
                </a:moveTo>
                <a:lnTo>
                  <a:pt x="252" y="751"/>
                </a:lnTo>
                <a:lnTo>
                  <a:pt x="127" y="0"/>
                </a:lnTo>
                <a:lnTo>
                  <a:pt x="0" y="751"/>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60" name=""/>
          <p:cNvSpPr/>
          <p:nvPr/>
        </p:nvSpPr>
        <p:spPr>
          <a:xfrm>
            <a:off x="2836800" y="2098800"/>
            <a:ext cx="273240" cy="236880"/>
          </a:xfrm>
          <a:custGeom>
            <a:avLst/>
            <a:gdLst/>
            <a:ahLst/>
            <a:rect l="0" t="0" r="r" b="b"/>
            <a:pathLst>
              <a:path w="759" h="658">
                <a:moveTo>
                  <a:pt x="0" y="658"/>
                </a:moveTo>
                <a:lnTo>
                  <a:pt x="380" y="0"/>
                </a:lnTo>
                <a:lnTo>
                  <a:pt x="759" y="658"/>
                </a:lnTo>
                <a:lnTo>
                  <a:pt x="0" y="658"/>
                </a:lnTo>
                <a:close/>
              </a:path>
            </a:pathLst>
          </a:custGeom>
          <a:solidFill>
            <a:srgbClr val="f2fefd"/>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61" name=""/>
          <p:cNvSpPr/>
          <p:nvPr/>
        </p:nvSpPr>
        <p:spPr>
          <a:xfrm flipH="1">
            <a:off x="2557440" y="1738440"/>
            <a:ext cx="4158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2" name=""/>
          <p:cNvSpPr/>
          <p:nvPr/>
        </p:nvSpPr>
        <p:spPr>
          <a:xfrm>
            <a:off x="5324400" y="3191040"/>
            <a:ext cx="0" cy="5918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3" name=""/>
          <p:cNvSpPr/>
          <p:nvPr/>
        </p:nvSpPr>
        <p:spPr>
          <a:xfrm>
            <a:off x="5230800" y="3782880"/>
            <a:ext cx="93960" cy="93960"/>
          </a:xfrm>
          <a:custGeom>
            <a:avLst/>
            <a:gdLst/>
            <a:ahLst/>
            <a:rect l="0" t="0" r="r" b="b"/>
            <a:pathLst>
              <a:path fill="none" w="261" h="261">
                <a:moveTo>
                  <a:pt x="0" y="261"/>
                </a:moveTo>
                <a:lnTo>
                  <a:pt x="185" y="183"/>
                </a:lnTo>
                <a:lnTo>
                  <a:pt x="261" y="0"/>
                </a:lnTo>
              </a:path>
            </a:pathLst>
          </a:custGeom>
          <a:ln w="12600">
            <a:solidFill>
              <a:srgbClr val="f2fefd"/>
            </a:solidFill>
            <a:round/>
          </a:ln>
        </p:spPr>
        <p:txBody>
          <a:bodyPr lIns="96120" rIns="96120" tIns="42840" bIns="42840" anchor="t">
            <a:noAutofit/>
          </a:bodyPr>
          <a:p>
            <a:endParaRPr b="0" lang="en-US" sz="1800" spc="-1" strike="noStrike">
              <a:solidFill>
                <a:srgbClr val="000000"/>
              </a:solidFill>
              <a:latin typeface="Arial"/>
            </a:endParaRPr>
          </a:p>
        </p:txBody>
      </p:sp>
      <p:sp>
        <p:nvSpPr>
          <p:cNvPr id="2964" name=""/>
          <p:cNvSpPr/>
          <p:nvPr/>
        </p:nvSpPr>
        <p:spPr>
          <a:xfrm>
            <a:off x="5230800" y="3097080"/>
            <a:ext cx="93960" cy="93960"/>
          </a:xfrm>
          <a:custGeom>
            <a:avLst/>
            <a:gdLst/>
            <a:ahLst/>
            <a:rect l="0" t="0" r="r" b="b"/>
            <a:pathLst>
              <a:path fill="none" w="261" h="261">
                <a:moveTo>
                  <a:pt x="261" y="261"/>
                </a:moveTo>
                <a:lnTo>
                  <a:pt x="185" y="76"/>
                </a:lnTo>
                <a:lnTo>
                  <a:pt x="0" y="0"/>
                </a:lnTo>
              </a:path>
            </a:pathLst>
          </a:custGeom>
          <a:ln w="12600">
            <a:solidFill>
              <a:srgbClr val="f2fefd"/>
            </a:solidFill>
            <a:round/>
          </a:ln>
        </p:spPr>
        <p:txBody>
          <a:bodyPr lIns="96120" rIns="96120" tIns="42840" bIns="42840" anchor="t">
            <a:noAutofit/>
          </a:bodyPr>
          <a:p>
            <a:endParaRPr b="0" lang="en-US" sz="1800" spc="-1" strike="noStrike">
              <a:solidFill>
                <a:srgbClr val="000000"/>
              </a:solidFill>
              <a:latin typeface="Arial"/>
            </a:endParaRPr>
          </a:p>
        </p:txBody>
      </p:sp>
      <p:sp>
        <p:nvSpPr>
          <p:cNvPr id="2965" name=""/>
          <p:cNvSpPr/>
          <p:nvPr/>
        </p:nvSpPr>
        <p:spPr>
          <a:xfrm>
            <a:off x="6105600" y="3554280"/>
            <a:ext cx="0" cy="162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6" name=""/>
          <p:cNvSpPr/>
          <p:nvPr/>
        </p:nvSpPr>
        <p:spPr>
          <a:xfrm>
            <a:off x="5910120" y="3292560"/>
            <a:ext cx="390960" cy="389160"/>
          </a:xfrm>
          <a:custGeom>
            <a:avLst/>
            <a:gdLst/>
            <a:ahLst/>
            <a:rect l="0" t="0" r="r" b="b"/>
            <a:pathLst>
              <a:path fill="none" w="1086" h="1081">
                <a:moveTo>
                  <a:pt x="1086" y="542"/>
                </a:moveTo>
                <a:lnTo>
                  <a:pt x="927" y="158"/>
                </a:lnTo>
                <a:lnTo>
                  <a:pt x="542" y="0"/>
                </a:lnTo>
                <a:lnTo>
                  <a:pt x="158" y="158"/>
                </a:lnTo>
                <a:lnTo>
                  <a:pt x="0" y="542"/>
                </a:lnTo>
                <a:lnTo>
                  <a:pt x="158" y="923"/>
                </a:lnTo>
                <a:lnTo>
                  <a:pt x="542" y="1081"/>
                </a:lnTo>
                <a:lnTo>
                  <a:pt x="927" y="923"/>
                </a:lnTo>
                <a:lnTo>
                  <a:pt x="1086" y="542"/>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2967" name=""/>
          <p:cNvSpPr/>
          <p:nvPr/>
        </p:nvSpPr>
        <p:spPr>
          <a:xfrm flipH="1">
            <a:off x="5877000" y="3486240"/>
            <a:ext cx="160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8" name=""/>
          <p:cNvSpPr/>
          <p:nvPr/>
        </p:nvSpPr>
        <p:spPr>
          <a:xfrm flipV="1">
            <a:off x="6105600" y="3257640"/>
            <a:ext cx="0" cy="16200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9" name=""/>
          <p:cNvSpPr/>
          <p:nvPr/>
        </p:nvSpPr>
        <p:spPr>
          <a:xfrm>
            <a:off x="6172200" y="3486240"/>
            <a:ext cx="1620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0" name=""/>
          <p:cNvSpPr/>
          <p:nvPr/>
        </p:nvSpPr>
        <p:spPr>
          <a:xfrm>
            <a:off x="6070680" y="3486240"/>
            <a:ext cx="6804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1" name=""/>
          <p:cNvSpPr/>
          <p:nvPr/>
        </p:nvSpPr>
        <p:spPr>
          <a:xfrm flipV="1">
            <a:off x="6105600" y="3452760"/>
            <a:ext cx="0" cy="68400"/>
          </a:xfrm>
          <a:prstGeom prst="line">
            <a:avLst/>
          </a:prstGeom>
          <a:ln w="12600">
            <a:solidFill>
              <a:srgbClr val="f2fefd"/>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2972" name=""/>
          <p:cNvSpPr txBox="1"/>
          <p:nvPr/>
        </p:nvSpPr>
        <p:spPr>
          <a:xfrm>
            <a:off x="2101680" y="1511280"/>
            <a:ext cx="385920" cy="4478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A</a:t>
            </a:r>
            <a:endParaRPr b="0" lang="en-US" sz="2400" spc="-1" strike="noStrike">
              <a:solidFill>
                <a:srgbClr val="000000"/>
              </a:solidFill>
              <a:latin typeface="Arial"/>
            </a:endParaRPr>
          </a:p>
        </p:txBody>
      </p:sp>
      <p:sp>
        <p:nvSpPr>
          <p:cNvPr id="2973" name=""/>
          <p:cNvSpPr txBox="1"/>
          <p:nvPr/>
        </p:nvSpPr>
        <p:spPr>
          <a:xfrm>
            <a:off x="760320" y="74304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DRAWING</a:t>
            </a:r>
            <a:endParaRPr b="0" lang="en-US" sz="1800" spc="-1" strike="noStrike">
              <a:solidFill>
                <a:srgbClr val="000000"/>
              </a:solidFill>
              <a:latin typeface="Arial"/>
            </a:endParaRPr>
          </a:p>
        </p:txBody>
      </p:sp>
      <p:sp>
        <p:nvSpPr>
          <p:cNvPr id="2974" name=""/>
          <p:cNvSpPr txBox="1"/>
          <p:nvPr/>
        </p:nvSpPr>
        <p:spPr>
          <a:xfrm>
            <a:off x="1620720" y="5416560"/>
            <a:ext cx="566100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EXTERNAL DATUM HEIGHT</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75" name=""/>
          <p:cNvSpPr/>
          <p:nvPr/>
        </p:nvSpPr>
        <p:spPr>
          <a:xfrm>
            <a:off x="2489040" y="3192480"/>
            <a:ext cx="109800" cy="189360"/>
          </a:xfrm>
          <a:custGeom>
            <a:avLst/>
            <a:gdLst/>
            <a:ahLst/>
            <a:rect l="0" t="0" r="r" b="b"/>
            <a:pathLst>
              <a:path w="305" h="526">
                <a:moveTo>
                  <a:pt x="0" y="461"/>
                </a:moveTo>
                <a:lnTo>
                  <a:pt x="305" y="0"/>
                </a:lnTo>
                <a:lnTo>
                  <a:pt x="174" y="526"/>
                </a:lnTo>
                <a:lnTo>
                  <a:pt x="0" y="461"/>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6" name=""/>
          <p:cNvSpPr/>
          <p:nvPr/>
        </p:nvSpPr>
        <p:spPr>
          <a:xfrm>
            <a:off x="2071800" y="3367080"/>
            <a:ext cx="449640" cy="589320"/>
          </a:xfrm>
          <a:custGeom>
            <a:avLst/>
            <a:gdLst/>
            <a:ahLst/>
            <a:rect l="0" t="0" r="r" b="b"/>
            <a:pathLst>
              <a:path fill="none" w="1249" h="1637">
                <a:moveTo>
                  <a:pt x="1249" y="0"/>
                </a:moveTo>
                <a:lnTo>
                  <a:pt x="528" y="1637"/>
                </a:lnTo>
                <a:lnTo>
                  <a:pt x="0" y="163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7" name=""/>
          <p:cNvSpPr/>
          <p:nvPr/>
        </p:nvSpPr>
        <p:spPr>
          <a:xfrm flipV="1">
            <a:off x="3451320" y="3027240"/>
            <a:ext cx="0" cy="736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3981600" y="2981160"/>
            <a:ext cx="0" cy="422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4422600" y="3054240"/>
            <a:ext cx="294120" cy="275040"/>
          </a:xfrm>
          <a:custGeom>
            <a:avLst/>
            <a:gdLst/>
            <a:ahLst/>
            <a:rect l="0" t="0" r="r" b="b"/>
            <a:pathLst>
              <a:path fill="none" w="817" h="764">
                <a:moveTo>
                  <a:pt x="817" y="382"/>
                </a:moveTo>
                <a:lnTo>
                  <a:pt x="763" y="190"/>
                </a:lnTo>
                <a:lnTo>
                  <a:pt x="612" y="50"/>
                </a:lnTo>
                <a:lnTo>
                  <a:pt x="408" y="0"/>
                </a:lnTo>
                <a:lnTo>
                  <a:pt x="203" y="50"/>
                </a:lnTo>
                <a:lnTo>
                  <a:pt x="53" y="190"/>
                </a:lnTo>
                <a:lnTo>
                  <a:pt x="0" y="382"/>
                </a:lnTo>
                <a:lnTo>
                  <a:pt x="53" y="574"/>
                </a:lnTo>
                <a:lnTo>
                  <a:pt x="203" y="714"/>
                </a:lnTo>
                <a:lnTo>
                  <a:pt x="408" y="764"/>
                </a:lnTo>
                <a:lnTo>
                  <a:pt x="612" y="714"/>
                </a:lnTo>
                <a:lnTo>
                  <a:pt x="763" y="574"/>
                </a:lnTo>
                <a:lnTo>
                  <a:pt x="817" y="382"/>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flipV="1">
            <a:off x="4568760" y="3166920"/>
            <a:ext cx="0" cy="47880"/>
          </a:xfrm>
          <a:prstGeom prst="line">
            <a:avLst/>
          </a:prstGeom>
          <a:ln w="12600">
            <a:solidFill>
              <a:srgbClr val="fc0128"/>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2981" name=""/>
          <p:cNvSpPr/>
          <p:nvPr/>
        </p:nvSpPr>
        <p:spPr>
          <a:xfrm flipV="1">
            <a:off x="5226120" y="2374920"/>
            <a:ext cx="0" cy="163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flipH="1">
            <a:off x="3056040" y="3467160"/>
            <a:ext cx="85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3" name=""/>
          <p:cNvSpPr/>
          <p:nvPr/>
        </p:nvSpPr>
        <p:spPr>
          <a:xfrm>
            <a:off x="3056040" y="3933720"/>
            <a:ext cx="2170440" cy="71640"/>
          </a:xfrm>
          <a:custGeom>
            <a:avLst/>
            <a:gdLst/>
            <a:ahLst/>
            <a:rect l="0" t="0" r="r" b="b"/>
            <a:pathLst>
              <a:path fill="none" w="6029" h="199">
                <a:moveTo>
                  <a:pt x="0" y="17"/>
                </a:moveTo>
                <a:lnTo>
                  <a:pt x="211" y="129"/>
                </a:lnTo>
                <a:lnTo>
                  <a:pt x="311" y="182"/>
                </a:lnTo>
                <a:lnTo>
                  <a:pt x="415" y="199"/>
                </a:lnTo>
                <a:lnTo>
                  <a:pt x="824" y="48"/>
                </a:lnTo>
                <a:lnTo>
                  <a:pt x="1255" y="199"/>
                </a:lnTo>
                <a:lnTo>
                  <a:pt x="1475" y="112"/>
                </a:lnTo>
                <a:lnTo>
                  <a:pt x="1621" y="80"/>
                </a:lnTo>
                <a:lnTo>
                  <a:pt x="1771" y="83"/>
                </a:lnTo>
                <a:lnTo>
                  <a:pt x="2099" y="129"/>
                </a:lnTo>
                <a:lnTo>
                  <a:pt x="2415" y="143"/>
                </a:lnTo>
                <a:lnTo>
                  <a:pt x="2707" y="83"/>
                </a:lnTo>
                <a:lnTo>
                  <a:pt x="2931" y="73"/>
                </a:lnTo>
                <a:lnTo>
                  <a:pt x="3163" y="97"/>
                </a:lnTo>
                <a:lnTo>
                  <a:pt x="3394" y="115"/>
                </a:lnTo>
                <a:lnTo>
                  <a:pt x="3621" y="97"/>
                </a:lnTo>
                <a:lnTo>
                  <a:pt x="4026" y="0"/>
                </a:lnTo>
                <a:lnTo>
                  <a:pt x="4307" y="66"/>
                </a:lnTo>
                <a:lnTo>
                  <a:pt x="4519" y="129"/>
                </a:lnTo>
                <a:lnTo>
                  <a:pt x="4835" y="199"/>
                </a:lnTo>
                <a:lnTo>
                  <a:pt x="5123" y="157"/>
                </a:lnTo>
                <a:lnTo>
                  <a:pt x="5416" y="97"/>
                </a:lnTo>
                <a:lnTo>
                  <a:pt x="5663" y="112"/>
                </a:lnTo>
                <a:lnTo>
                  <a:pt x="6029" y="199"/>
                </a:lnTo>
              </a:path>
            </a:pathLst>
          </a:custGeom>
          <a:ln w="12600">
            <a:solidFill>
              <a:srgbClr val="ffffff"/>
            </a:solidFill>
            <a:round/>
          </a:ln>
        </p:spPr>
        <p:txBody>
          <a:bodyPr lIns="96120" rIns="96120" tIns="20520" bIns="20520" anchor="t">
            <a:noAutofit/>
          </a:bodyPr>
          <a:p>
            <a:endParaRPr b="0" lang="en-US" sz="1800" spc="-1" strike="noStrike">
              <a:solidFill>
                <a:srgbClr val="000000"/>
              </a:solidFill>
              <a:latin typeface="Arial"/>
            </a:endParaRPr>
          </a:p>
        </p:txBody>
      </p:sp>
      <p:sp>
        <p:nvSpPr>
          <p:cNvPr id="2984" name=""/>
          <p:cNvSpPr/>
          <p:nvPr/>
        </p:nvSpPr>
        <p:spPr>
          <a:xfrm>
            <a:off x="3056040" y="3467160"/>
            <a:ext cx="0" cy="47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5" name=""/>
          <p:cNvSpPr/>
          <p:nvPr/>
        </p:nvSpPr>
        <p:spPr>
          <a:xfrm>
            <a:off x="3416400" y="3763800"/>
            <a:ext cx="70200" cy="190800"/>
          </a:xfrm>
          <a:custGeom>
            <a:avLst/>
            <a:gdLst/>
            <a:ahLst/>
            <a:rect l="0" t="0" r="r" b="b"/>
            <a:pathLst>
              <a:path w="195" h="530">
                <a:moveTo>
                  <a:pt x="0" y="0"/>
                </a:moveTo>
                <a:lnTo>
                  <a:pt x="195" y="0"/>
                </a:lnTo>
                <a:lnTo>
                  <a:pt x="98" y="53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6" name=""/>
          <p:cNvSpPr/>
          <p:nvPr/>
        </p:nvSpPr>
        <p:spPr>
          <a:xfrm>
            <a:off x="3911760" y="3403440"/>
            <a:ext cx="70200" cy="63720"/>
          </a:xfrm>
          <a:custGeom>
            <a:avLst/>
            <a:gdLst/>
            <a:ahLst/>
            <a:rect l="0" t="0" r="r" b="b"/>
            <a:pathLst>
              <a:path fill="none" w="195" h="177">
                <a:moveTo>
                  <a:pt x="0" y="177"/>
                </a:moveTo>
                <a:lnTo>
                  <a:pt x="137" y="125"/>
                </a:lnTo>
                <a:lnTo>
                  <a:pt x="195" y="0"/>
                </a:lnTo>
              </a:path>
            </a:pathLst>
          </a:custGeom>
          <a:ln w="12600">
            <a:solidFill>
              <a:srgbClr val="ffffff"/>
            </a:solidFill>
            <a:round/>
          </a:ln>
        </p:spPr>
        <p:txBody>
          <a:bodyPr lIns="96120" rIns="96120" tIns="12600" bIns="12600" anchor="t">
            <a:noAutofit/>
          </a:bodyPr>
          <a:p>
            <a:endParaRPr b="0" lang="en-US" sz="1800" spc="-1" strike="noStrike">
              <a:solidFill>
                <a:srgbClr val="000000"/>
              </a:solidFill>
              <a:latin typeface="Arial"/>
            </a:endParaRPr>
          </a:p>
        </p:txBody>
      </p:sp>
      <p:sp>
        <p:nvSpPr>
          <p:cNvPr id="2987" name=""/>
          <p:cNvSpPr/>
          <p:nvPr/>
        </p:nvSpPr>
        <p:spPr>
          <a:xfrm>
            <a:off x="4568760" y="3238560"/>
            <a:ext cx="0" cy="11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2452680" y="3192480"/>
            <a:ext cx="75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9" name=""/>
          <p:cNvSpPr/>
          <p:nvPr/>
        </p:nvSpPr>
        <p:spPr>
          <a:xfrm>
            <a:off x="3351240" y="3192480"/>
            <a:ext cx="142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0" name=""/>
          <p:cNvSpPr/>
          <p:nvPr/>
        </p:nvSpPr>
        <p:spPr>
          <a:xfrm>
            <a:off x="3633840" y="3192480"/>
            <a:ext cx="70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1" name=""/>
          <p:cNvSpPr/>
          <p:nvPr/>
        </p:nvSpPr>
        <p:spPr>
          <a:xfrm>
            <a:off x="4484520" y="3192480"/>
            <a:ext cx="1414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2" name=""/>
          <p:cNvSpPr/>
          <p:nvPr/>
        </p:nvSpPr>
        <p:spPr>
          <a:xfrm>
            <a:off x="4767120" y="3192480"/>
            <a:ext cx="755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3" name=""/>
          <p:cNvSpPr/>
          <p:nvPr/>
        </p:nvSpPr>
        <p:spPr>
          <a:xfrm flipH="1">
            <a:off x="3282840" y="1152360"/>
            <a:ext cx="169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4" name=""/>
          <p:cNvSpPr/>
          <p:nvPr/>
        </p:nvSpPr>
        <p:spPr>
          <a:xfrm>
            <a:off x="3056040" y="2916360"/>
            <a:ext cx="855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a:off x="3056040" y="2374920"/>
            <a:ext cx="2170440" cy="74880"/>
          </a:xfrm>
          <a:custGeom>
            <a:avLst/>
            <a:gdLst/>
            <a:ahLst/>
            <a:rect l="0" t="0" r="r" b="b"/>
            <a:pathLst>
              <a:path fill="none" w="6029" h="208">
                <a:moveTo>
                  <a:pt x="0" y="193"/>
                </a:moveTo>
                <a:lnTo>
                  <a:pt x="211" y="77"/>
                </a:lnTo>
                <a:lnTo>
                  <a:pt x="315" y="22"/>
                </a:lnTo>
                <a:lnTo>
                  <a:pt x="415" y="0"/>
                </a:lnTo>
                <a:lnTo>
                  <a:pt x="616" y="62"/>
                </a:lnTo>
                <a:lnTo>
                  <a:pt x="824" y="156"/>
                </a:lnTo>
                <a:lnTo>
                  <a:pt x="1005" y="174"/>
                </a:lnTo>
                <a:lnTo>
                  <a:pt x="1194" y="141"/>
                </a:lnTo>
                <a:lnTo>
                  <a:pt x="1475" y="88"/>
                </a:lnTo>
                <a:lnTo>
                  <a:pt x="1771" y="123"/>
                </a:lnTo>
                <a:lnTo>
                  <a:pt x="2141" y="0"/>
                </a:lnTo>
                <a:lnTo>
                  <a:pt x="2280" y="0"/>
                </a:lnTo>
                <a:lnTo>
                  <a:pt x="2418" y="37"/>
                </a:lnTo>
                <a:lnTo>
                  <a:pt x="2707" y="123"/>
                </a:lnTo>
                <a:lnTo>
                  <a:pt x="2935" y="134"/>
                </a:lnTo>
                <a:lnTo>
                  <a:pt x="3163" y="108"/>
                </a:lnTo>
                <a:lnTo>
                  <a:pt x="3394" y="85"/>
                </a:lnTo>
                <a:lnTo>
                  <a:pt x="3621" y="108"/>
                </a:lnTo>
                <a:lnTo>
                  <a:pt x="4026" y="208"/>
                </a:lnTo>
                <a:lnTo>
                  <a:pt x="4307" y="141"/>
                </a:lnTo>
                <a:lnTo>
                  <a:pt x="4519" y="74"/>
                </a:lnTo>
                <a:lnTo>
                  <a:pt x="4835" y="0"/>
                </a:lnTo>
                <a:lnTo>
                  <a:pt x="5123" y="44"/>
                </a:lnTo>
                <a:lnTo>
                  <a:pt x="5416" y="108"/>
                </a:lnTo>
                <a:lnTo>
                  <a:pt x="5663" y="88"/>
                </a:lnTo>
                <a:lnTo>
                  <a:pt x="6029" y="0"/>
                </a:lnTo>
              </a:path>
            </a:pathLst>
          </a:custGeom>
          <a:ln w="12600">
            <a:solidFill>
              <a:srgbClr val="ffffff"/>
            </a:solidFill>
            <a:round/>
          </a:ln>
        </p:spPr>
        <p:txBody>
          <a:bodyPr lIns="96120" rIns="96120" tIns="23760" bIns="23760" anchor="t">
            <a:noAutofit/>
          </a:bodyPr>
          <a:p>
            <a:endParaRPr b="0" lang="en-US" sz="1800" spc="-1" strike="noStrike">
              <a:solidFill>
                <a:srgbClr val="000000"/>
              </a:solidFill>
              <a:latin typeface="Arial"/>
            </a:endParaRPr>
          </a:p>
        </p:txBody>
      </p:sp>
      <p:sp>
        <p:nvSpPr>
          <p:cNvPr id="2996" name=""/>
          <p:cNvSpPr/>
          <p:nvPr/>
        </p:nvSpPr>
        <p:spPr>
          <a:xfrm>
            <a:off x="3056040" y="2443320"/>
            <a:ext cx="0" cy="47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7" name=""/>
          <p:cNvSpPr/>
          <p:nvPr/>
        </p:nvSpPr>
        <p:spPr>
          <a:xfrm>
            <a:off x="3416400" y="2425680"/>
            <a:ext cx="70200" cy="192600"/>
          </a:xfrm>
          <a:custGeom>
            <a:avLst/>
            <a:gdLst/>
            <a:ahLst/>
            <a:rect l="0" t="0" r="r" b="b"/>
            <a:pathLst>
              <a:path w="195" h="535">
                <a:moveTo>
                  <a:pt x="0" y="535"/>
                </a:moveTo>
                <a:lnTo>
                  <a:pt x="195" y="535"/>
                </a:lnTo>
                <a:lnTo>
                  <a:pt x="98" y="0"/>
                </a:lnTo>
                <a:lnTo>
                  <a:pt x="0" y="535"/>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8" name=""/>
          <p:cNvSpPr/>
          <p:nvPr/>
        </p:nvSpPr>
        <p:spPr>
          <a:xfrm>
            <a:off x="3451320" y="2617920"/>
            <a:ext cx="0" cy="374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9" name=""/>
          <p:cNvSpPr/>
          <p:nvPr/>
        </p:nvSpPr>
        <p:spPr>
          <a:xfrm>
            <a:off x="3911760" y="2916360"/>
            <a:ext cx="70200" cy="65520"/>
          </a:xfrm>
          <a:custGeom>
            <a:avLst/>
            <a:gdLst/>
            <a:ahLst/>
            <a:rect l="0" t="0" r="r" b="b"/>
            <a:pathLst>
              <a:path fill="none" w="195" h="182">
                <a:moveTo>
                  <a:pt x="195" y="182"/>
                </a:moveTo>
                <a:lnTo>
                  <a:pt x="137" y="50"/>
                </a:lnTo>
                <a:lnTo>
                  <a:pt x="0" y="0"/>
                </a:lnTo>
              </a:path>
            </a:pathLst>
          </a:custGeom>
          <a:ln w="12600">
            <a:solidFill>
              <a:srgbClr val="ffffff"/>
            </a:solidFill>
            <a:round/>
          </a:ln>
        </p:spPr>
        <p:txBody>
          <a:bodyPr lIns="96120" rIns="96120" tIns="14400" bIns="14400" anchor="t">
            <a:noAutofit/>
          </a:bodyPr>
          <a:p>
            <a:endParaRPr b="0" lang="en-US" sz="1800" spc="-1" strike="noStrike">
              <a:solidFill>
                <a:srgbClr val="000000"/>
              </a:solidFill>
              <a:latin typeface="Arial"/>
            </a:endParaRPr>
          </a:p>
        </p:txBody>
      </p:sp>
      <p:sp>
        <p:nvSpPr>
          <p:cNvPr id="3000" name=""/>
          <p:cNvSpPr/>
          <p:nvPr/>
        </p:nvSpPr>
        <p:spPr>
          <a:xfrm flipH="1">
            <a:off x="4397400" y="319248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1" name=""/>
          <p:cNvSpPr/>
          <p:nvPr/>
        </p:nvSpPr>
        <p:spPr>
          <a:xfrm>
            <a:off x="4621320" y="319248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2" name=""/>
          <p:cNvSpPr/>
          <p:nvPr/>
        </p:nvSpPr>
        <p:spPr>
          <a:xfrm flipV="1">
            <a:off x="4568760" y="302904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3" name=""/>
          <p:cNvSpPr/>
          <p:nvPr/>
        </p:nvSpPr>
        <p:spPr>
          <a:xfrm>
            <a:off x="4545000" y="3192480"/>
            <a:ext cx="5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4" name=""/>
          <p:cNvSpPr/>
          <p:nvPr/>
        </p:nvSpPr>
        <p:spPr>
          <a:xfrm>
            <a:off x="7107120" y="3814920"/>
            <a:ext cx="68760" cy="190800"/>
          </a:xfrm>
          <a:custGeom>
            <a:avLst/>
            <a:gdLst/>
            <a:ahLst/>
            <a:rect l="0" t="0" r="r" b="b"/>
            <a:pathLst>
              <a:path w="191" h="530">
                <a:moveTo>
                  <a:pt x="0" y="0"/>
                </a:moveTo>
                <a:lnTo>
                  <a:pt x="191" y="0"/>
                </a:lnTo>
                <a:lnTo>
                  <a:pt x="97" y="53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5" name=""/>
          <p:cNvSpPr/>
          <p:nvPr/>
        </p:nvSpPr>
        <p:spPr>
          <a:xfrm>
            <a:off x="6438960" y="4005360"/>
            <a:ext cx="90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6" name=""/>
          <p:cNvSpPr/>
          <p:nvPr/>
        </p:nvSpPr>
        <p:spPr>
          <a:xfrm flipV="1">
            <a:off x="7143840" y="358452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7" name=""/>
          <p:cNvSpPr/>
          <p:nvPr/>
        </p:nvSpPr>
        <p:spPr>
          <a:xfrm>
            <a:off x="7107120" y="2374920"/>
            <a:ext cx="68760" cy="195480"/>
          </a:xfrm>
          <a:custGeom>
            <a:avLst/>
            <a:gdLst/>
            <a:ahLst/>
            <a:rect l="0" t="0" r="r" b="b"/>
            <a:pathLst>
              <a:path w="191" h="543">
                <a:moveTo>
                  <a:pt x="0" y="543"/>
                </a:moveTo>
                <a:lnTo>
                  <a:pt x="191" y="543"/>
                </a:lnTo>
                <a:lnTo>
                  <a:pt x="97" y="0"/>
                </a:lnTo>
                <a:lnTo>
                  <a:pt x="0" y="543"/>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8" name=""/>
          <p:cNvSpPr/>
          <p:nvPr/>
        </p:nvSpPr>
        <p:spPr>
          <a:xfrm>
            <a:off x="7143840" y="257004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9" name=""/>
          <p:cNvSpPr/>
          <p:nvPr/>
        </p:nvSpPr>
        <p:spPr>
          <a:xfrm>
            <a:off x="6438960" y="2374920"/>
            <a:ext cx="904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0" name=""/>
          <p:cNvSpPr txBox="1"/>
          <p:nvPr/>
        </p:nvSpPr>
        <p:spPr>
          <a:xfrm>
            <a:off x="5597640" y="2708280"/>
            <a:ext cx="3094200" cy="96516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True geometric counterpart of</a:t>
            </a:r>
            <a:endParaRPr b="0" lang="en-US" sz="1900" spc="-1" strike="noStrike">
              <a:solidFill>
                <a:srgbClr val="000000"/>
              </a:solidFill>
              <a:latin typeface="Arial"/>
            </a:endParaRPr>
          </a:p>
          <a:p>
            <a:pPr>
              <a:lnSpc>
                <a:spcPct val="100000"/>
              </a:lnSpc>
            </a:pPr>
            <a:r>
              <a:rPr b="0" lang="en-US" sz="1900" spc="-1" strike="noStrike">
                <a:solidFill>
                  <a:srgbClr val="ffffff"/>
                </a:solidFill>
                <a:latin typeface="Times New Roman"/>
                <a:ea typeface="Times New Roman"/>
              </a:rPr>
              <a:t>datum feature A.  </a:t>
            </a:r>
            <a:r>
              <a:rPr b="0" lang="en-US" sz="1900" spc="-1" strike="noStrike">
                <a:solidFill>
                  <a:srgbClr val="ffff00"/>
                </a:solidFill>
                <a:latin typeface="Times New Roman"/>
                <a:ea typeface="Times New Roman"/>
              </a:rPr>
              <a:t>(Smallest </a:t>
            </a:r>
            <a:endParaRPr b="0" lang="en-US" sz="1900" spc="-1" strike="noStrike">
              <a:solidFill>
                <a:srgbClr val="000000"/>
              </a:solidFill>
              <a:latin typeface="Arial"/>
            </a:endParaRPr>
          </a:p>
          <a:p>
            <a:pPr>
              <a:lnSpc>
                <a:spcPct val="100000"/>
              </a:lnSpc>
            </a:pPr>
            <a:r>
              <a:rPr b="0" lang="en-US" sz="1900" spc="-1" strike="noStrike">
                <a:solidFill>
                  <a:srgbClr val="ffff00"/>
                </a:solidFill>
                <a:latin typeface="Times New Roman"/>
                <a:ea typeface="Times New Roman"/>
              </a:rPr>
              <a:t>separation of parallel planes.)</a:t>
            </a:r>
            <a:endParaRPr b="0" lang="en-US" sz="1900" spc="-1" strike="noStrike">
              <a:solidFill>
                <a:srgbClr val="000000"/>
              </a:solidFill>
              <a:latin typeface="Arial"/>
            </a:endParaRPr>
          </a:p>
        </p:txBody>
      </p:sp>
      <p:sp>
        <p:nvSpPr>
          <p:cNvPr id="3011" name=""/>
          <p:cNvSpPr txBox="1"/>
          <p:nvPr/>
        </p:nvSpPr>
        <p:spPr>
          <a:xfrm>
            <a:off x="422280" y="3767040"/>
            <a:ext cx="2049480" cy="125424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Datum plane A</a:t>
            </a:r>
            <a:endParaRPr b="0" lang="en-US" sz="1900" spc="-1" strike="noStrike">
              <a:solidFill>
                <a:srgbClr val="000000"/>
              </a:solidFill>
              <a:latin typeface="Arial"/>
            </a:endParaRPr>
          </a:p>
          <a:p>
            <a:pPr>
              <a:lnSpc>
                <a:spcPct val="100000"/>
              </a:lnSpc>
            </a:pPr>
            <a:r>
              <a:rPr b="0" lang="en-US" sz="1900" spc="-1" strike="noStrike">
                <a:solidFill>
                  <a:srgbClr val="ffffff"/>
                </a:solidFill>
                <a:latin typeface="Times New Roman"/>
                <a:ea typeface="Times New Roman"/>
              </a:rPr>
              <a:t>(Center plane of</a:t>
            </a:r>
            <a:endParaRPr b="0" lang="en-US" sz="1900" spc="-1" strike="noStrike">
              <a:solidFill>
                <a:srgbClr val="000000"/>
              </a:solidFill>
              <a:latin typeface="Arial"/>
            </a:endParaRPr>
          </a:p>
          <a:p>
            <a:pPr>
              <a:lnSpc>
                <a:spcPct val="100000"/>
              </a:lnSpc>
            </a:pPr>
            <a:r>
              <a:rPr b="0" lang="en-US" sz="1900" spc="-1" strike="noStrike">
                <a:solidFill>
                  <a:srgbClr val="ffffff"/>
                </a:solidFill>
                <a:latin typeface="Times New Roman"/>
                <a:ea typeface="Times New Roman"/>
              </a:rPr>
              <a:t>true geometric </a:t>
            </a:r>
            <a:endParaRPr b="0" lang="en-US" sz="1900" spc="-1" strike="noStrike">
              <a:solidFill>
                <a:srgbClr val="000000"/>
              </a:solidFill>
              <a:latin typeface="Arial"/>
            </a:endParaRPr>
          </a:p>
          <a:p>
            <a:pPr>
              <a:lnSpc>
                <a:spcPct val="100000"/>
              </a:lnSpc>
            </a:pPr>
            <a:r>
              <a:rPr b="0" lang="en-US" sz="1900" spc="-1" strike="noStrike">
                <a:solidFill>
                  <a:srgbClr val="ffffff"/>
                </a:solidFill>
                <a:latin typeface="Times New Roman"/>
                <a:ea typeface="Times New Roman"/>
              </a:rPr>
              <a:t>counterpart [gage])</a:t>
            </a:r>
            <a:endParaRPr b="0" lang="en-US" sz="1900" spc="-1" strike="noStrike">
              <a:solidFill>
                <a:srgbClr val="000000"/>
              </a:solidFill>
              <a:latin typeface="Arial"/>
            </a:endParaRPr>
          </a:p>
        </p:txBody>
      </p:sp>
      <p:sp>
        <p:nvSpPr>
          <p:cNvPr id="3012" name=""/>
          <p:cNvSpPr txBox="1"/>
          <p:nvPr/>
        </p:nvSpPr>
        <p:spPr>
          <a:xfrm>
            <a:off x="1542960" y="930240"/>
            <a:ext cx="1814400" cy="387360"/>
          </a:xfrm>
          <a:prstGeom prst="rect">
            <a:avLst/>
          </a:prstGeom>
          <a:noFill/>
          <a:ln w="0">
            <a:noFill/>
          </a:ln>
        </p:spPr>
        <p:txBody>
          <a:bodyPr lIns="0" rIns="0" tIns="0" bIns="0" anchor="t">
            <a:noAutofit/>
          </a:bodyPr>
          <a:p>
            <a:pPr>
              <a:lnSpc>
                <a:spcPct val="100000"/>
              </a:lnSpc>
            </a:pPr>
            <a:r>
              <a:rPr b="0" lang="en-US" sz="1900" spc="-1" strike="noStrike">
                <a:solidFill>
                  <a:srgbClr val="ffffff"/>
                </a:solidFill>
                <a:latin typeface="Times New Roman"/>
                <a:ea typeface="Times New Roman"/>
              </a:rPr>
              <a:t>Datum feature A</a:t>
            </a:r>
            <a:endParaRPr b="0" lang="en-US" sz="1900" spc="-1" strike="noStrike">
              <a:solidFill>
                <a:srgbClr val="000000"/>
              </a:solidFill>
              <a:latin typeface="Arial"/>
            </a:endParaRPr>
          </a:p>
        </p:txBody>
      </p:sp>
      <p:sp>
        <p:nvSpPr>
          <p:cNvPr id="3013" name=""/>
          <p:cNvSpPr txBox="1"/>
          <p:nvPr/>
        </p:nvSpPr>
        <p:spPr>
          <a:xfrm>
            <a:off x="1620720" y="5416560"/>
            <a:ext cx="566100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EXTERNAL DATUM HEIGHT</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014" name=""/>
          <p:cNvSpPr/>
          <p:nvPr/>
        </p:nvSpPr>
        <p:spPr>
          <a:xfrm>
            <a:off x="2484360" y="1719360"/>
            <a:ext cx="3870720" cy="649800"/>
          </a:xfrm>
          <a:custGeom>
            <a:avLst/>
            <a:gdLst/>
            <a:ahLst/>
            <a:rect l="0" t="0" r="r" b="b"/>
            <a:pathLst>
              <a:path w="10752" h="1805">
                <a:moveTo>
                  <a:pt x="0" y="715"/>
                </a:moveTo>
                <a:lnTo>
                  <a:pt x="0" y="1805"/>
                </a:lnTo>
                <a:lnTo>
                  <a:pt x="10752" y="1805"/>
                </a:lnTo>
                <a:lnTo>
                  <a:pt x="10752" y="379"/>
                </a:lnTo>
                <a:lnTo>
                  <a:pt x="10752" y="335"/>
                </a:lnTo>
                <a:lnTo>
                  <a:pt x="10541" y="335"/>
                </a:lnTo>
                <a:lnTo>
                  <a:pt x="10206" y="335"/>
                </a:lnTo>
                <a:lnTo>
                  <a:pt x="10078" y="335"/>
                </a:lnTo>
                <a:lnTo>
                  <a:pt x="9910" y="335"/>
                </a:lnTo>
                <a:lnTo>
                  <a:pt x="9659" y="291"/>
                </a:lnTo>
                <a:lnTo>
                  <a:pt x="9452" y="291"/>
                </a:lnTo>
                <a:lnTo>
                  <a:pt x="9324" y="251"/>
                </a:lnTo>
                <a:lnTo>
                  <a:pt x="9156" y="207"/>
                </a:lnTo>
                <a:lnTo>
                  <a:pt x="9028" y="207"/>
                </a:lnTo>
                <a:lnTo>
                  <a:pt x="8821" y="167"/>
                </a:lnTo>
                <a:lnTo>
                  <a:pt x="8570" y="167"/>
                </a:lnTo>
                <a:lnTo>
                  <a:pt x="8442" y="167"/>
                </a:lnTo>
                <a:lnTo>
                  <a:pt x="8314" y="123"/>
                </a:lnTo>
                <a:lnTo>
                  <a:pt x="8107" y="123"/>
                </a:lnTo>
                <a:lnTo>
                  <a:pt x="7978" y="123"/>
                </a:lnTo>
                <a:lnTo>
                  <a:pt x="7810" y="167"/>
                </a:lnTo>
                <a:lnTo>
                  <a:pt x="7475" y="251"/>
                </a:lnTo>
                <a:lnTo>
                  <a:pt x="7307" y="207"/>
                </a:lnTo>
                <a:lnTo>
                  <a:pt x="7140" y="123"/>
                </a:lnTo>
                <a:lnTo>
                  <a:pt x="7012" y="83"/>
                </a:lnTo>
                <a:lnTo>
                  <a:pt x="6677" y="39"/>
                </a:lnTo>
                <a:lnTo>
                  <a:pt x="6549" y="39"/>
                </a:lnTo>
                <a:lnTo>
                  <a:pt x="6381" y="39"/>
                </a:lnTo>
                <a:lnTo>
                  <a:pt x="6214" y="39"/>
                </a:lnTo>
                <a:lnTo>
                  <a:pt x="5962" y="83"/>
                </a:lnTo>
                <a:lnTo>
                  <a:pt x="5667" y="167"/>
                </a:lnTo>
                <a:lnTo>
                  <a:pt x="5499" y="167"/>
                </a:lnTo>
                <a:lnTo>
                  <a:pt x="5248" y="251"/>
                </a:lnTo>
                <a:lnTo>
                  <a:pt x="4873" y="335"/>
                </a:lnTo>
                <a:lnTo>
                  <a:pt x="4662" y="379"/>
                </a:lnTo>
                <a:lnTo>
                  <a:pt x="4534" y="379"/>
                </a:lnTo>
                <a:lnTo>
                  <a:pt x="4366" y="418"/>
                </a:lnTo>
                <a:lnTo>
                  <a:pt x="4199" y="335"/>
                </a:lnTo>
                <a:lnTo>
                  <a:pt x="3991" y="335"/>
                </a:lnTo>
                <a:lnTo>
                  <a:pt x="3696" y="207"/>
                </a:lnTo>
                <a:lnTo>
                  <a:pt x="3484" y="167"/>
                </a:lnTo>
                <a:lnTo>
                  <a:pt x="3317" y="123"/>
                </a:lnTo>
                <a:lnTo>
                  <a:pt x="3021" y="83"/>
                </a:lnTo>
                <a:lnTo>
                  <a:pt x="2854" y="39"/>
                </a:lnTo>
                <a:lnTo>
                  <a:pt x="2685" y="39"/>
                </a:lnTo>
                <a:lnTo>
                  <a:pt x="2517" y="39"/>
                </a:lnTo>
                <a:lnTo>
                  <a:pt x="2310" y="0"/>
                </a:lnTo>
                <a:lnTo>
                  <a:pt x="2015" y="0"/>
                </a:lnTo>
                <a:lnTo>
                  <a:pt x="1887" y="0"/>
                </a:lnTo>
                <a:lnTo>
                  <a:pt x="1680" y="0"/>
                </a:lnTo>
                <a:lnTo>
                  <a:pt x="1552" y="39"/>
                </a:lnTo>
                <a:lnTo>
                  <a:pt x="1384" y="83"/>
                </a:lnTo>
                <a:lnTo>
                  <a:pt x="1172" y="123"/>
                </a:lnTo>
                <a:lnTo>
                  <a:pt x="1005" y="167"/>
                </a:lnTo>
                <a:lnTo>
                  <a:pt x="837" y="291"/>
                </a:lnTo>
                <a:lnTo>
                  <a:pt x="586" y="379"/>
                </a:lnTo>
                <a:lnTo>
                  <a:pt x="418" y="464"/>
                </a:lnTo>
                <a:lnTo>
                  <a:pt x="291" y="547"/>
                </a:lnTo>
                <a:lnTo>
                  <a:pt x="4" y="759"/>
                </a:lnTo>
                <a:lnTo>
                  <a:pt x="0" y="715"/>
                </a:lnTo>
                <a:close/>
              </a:path>
            </a:pathLst>
          </a:custGeom>
          <a:solidFill>
            <a:srgbClr val="618f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5" name=""/>
          <p:cNvSpPr/>
          <p:nvPr/>
        </p:nvSpPr>
        <p:spPr>
          <a:xfrm flipV="1">
            <a:off x="3452760" y="1147680"/>
            <a:ext cx="0" cy="12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6" name=""/>
          <p:cNvSpPr/>
          <p:nvPr/>
        </p:nvSpPr>
        <p:spPr>
          <a:xfrm>
            <a:off x="2514600" y="4017960"/>
            <a:ext cx="3842280" cy="711720"/>
          </a:xfrm>
          <a:custGeom>
            <a:avLst/>
            <a:gdLst/>
            <a:ahLst/>
            <a:rect l="0" t="0" r="r" b="b"/>
            <a:pathLst>
              <a:path w="10673" h="1977">
                <a:moveTo>
                  <a:pt x="10669" y="966"/>
                </a:moveTo>
                <a:lnTo>
                  <a:pt x="10669" y="0"/>
                </a:lnTo>
                <a:lnTo>
                  <a:pt x="0" y="0"/>
                </a:lnTo>
                <a:lnTo>
                  <a:pt x="0" y="1385"/>
                </a:lnTo>
                <a:lnTo>
                  <a:pt x="0" y="1429"/>
                </a:lnTo>
                <a:lnTo>
                  <a:pt x="127" y="1429"/>
                </a:lnTo>
                <a:lnTo>
                  <a:pt x="335" y="1429"/>
                </a:lnTo>
                <a:lnTo>
                  <a:pt x="463" y="1469"/>
                </a:lnTo>
                <a:lnTo>
                  <a:pt x="630" y="1469"/>
                </a:lnTo>
                <a:lnTo>
                  <a:pt x="926" y="1514"/>
                </a:lnTo>
                <a:lnTo>
                  <a:pt x="1177" y="1469"/>
                </a:lnTo>
                <a:lnTo>
                  <a:pt x="1305" y="1469"/>
                </a:lnTo>
                <a:lnTo>
                  <a:pt x="1556" y="1514"/>
                </a:lnTo>
                <a:lnTo>
                  <a:pt x="1891" y="1721"/>
                </a:lnTo>
                <a:lnTo>
                  <a:pt x="2059" y="1765"/>
                </a:lnTo>
                <a:lnTo>
                  <a:pt x="2271" y="1889"/>
                </a:lnTo>
                <a:lnTo>
                  <a:pt x="2438" y="1933"/>
                </a:lnTo>
                <a:lnTo>
                  <a:pt x="2690" y="1933"/>
                </a:lnTo>
                <a:lnTo>
                  <a:pt x="3277" y="1933"/>
                </a:lnTo>
                <a:lnTo>
                  <a:pt x="3405" y="1977"/>
                </a:lnTo>
                <a:lnTo>
                  <a:pt x="3780" y="1977"/>
                </a:lnTo>
                <a:lnTo>
                  <a:pt x="3952" y="1977"/>
                </a:lnTo>
                <a:lnTo>
                  <a:pt x="4119" y="1977"/>
                </a:lnTo>
                <a:lnTo>
                  <a:pt x="4371" y="1977"/>
                </a:lnTo>
                <a:lnTo>
                  <a:pt x="4578" y="1933"/>
                </a:lnTo>
                <a:lnTo>
                  <a:pt x="4873" y="1805"/>
                </a:lnTo>
                <a:lnTo>
                  <a:pt x="5001" y="1765"/>
                </a:lnTo>
                <a:lnTo>
                  <a:pt x="5169" y="1721"/>
                </a:lnTo>
                <a:lnTo>
                  <a:pt x="5376" y="1638"/>
                </a:lnTo>
                <a:lnTo>
                  <a:pt x="5504" y="1638"/>
                </a:lnTo>
                <a:lnTo>
                  <a:pt x="5716" y="1598"/>
                </a:lnTo>
                <a:lnTo>
                  <a:pt x="5883" y="1598"/>
                </a:lnTo>
                <a:lnTo>
                  <a:pt x="6051" y="1598"/>
                </a:lnTo>
                <a:lnTo>
                  <a:pt x="6302" y="1598"/>
                </a:lnTo>
                <a:lnTo>
                  <a:pt x="6470" y="1598"/>
                </a:lnTo>
                <a:lnTo>
                  <a:pt x="6681" y="1598"/>
                </a:lnTo>
                <a:lnTo>
                  <a:pt x="6849" y="1598"/>
                </a:lnTo>
                <a:lnTo>
                  <a:pt x="7016" y="1598"/>
                </a:lnTo>
                <a:lnTo>
                  <a:pt x="7307" y="1598"/>
                </a:lnTo>
                <a:lnTo>
                  <a:pt x="7479" y="1598"/>
                </a:lnTo>
                <a:lnTo>
                  <a:pt x="7647" y="1598"/>
                </a:lnTo>
                <a:lnTo>
                  <a:pt x="7815" y="1598"/>
                </a:lnTo>
                <a:lnTo>
                  <a:pt x="8151" y="1598"/>
                </a:lnTo>
                <a:lnTo>
                  <a:pt x="8362" y="1598"/>
                </a:lnTo>
                <a:lnTo>
                  <a:pt x="8530" y="1598"/>
                </a:lnTo>
                <a:lnTo>
                  <a:pt x="8697" y="1598"/>
                </a:lnTo>
                <a:lnTo>
                  <a:pt x="8865" y="1554"/>
                </a:lnTo>
                <a:lnTo>
                  <a:pt x="9072" y="1429"/>
                </a:lnTo>
                <a:lnTo>
                  <a:pt x="9200" y="1385"/>
                </a:lnTo>
                <a:lnTo>
                  <a:pt x="9412" y="1345"/>
                </a:lnTo>
                <a:lnTo>
                  <a:pt x="9619" y="1301"/>
                </a:lnTo>
                <a:lnTo>
                  <a:pt x="9870" y="1301"/>
                </a:lnTo>
                <a:lnTo>
                  <a:pt x="9998" y="1178"/>
                </a:lnTo>
                <a:lnTo>
                  <a:pt x="10210" y="1134"/>
                </a:lnTo>
                <a:lnTo>
                  <a:pt x="10378" y="1094"/>
                </a:lnTo>
                <a:lnTo>
                  <a:pt x="10673" y="927"/>
                </a:lnTo>
                <a:lnTo>
                  <a:pt x="10669" y="966"/>
                </a:lnTo>
                <a:close/>
              </a:path>
            </a:pathLst>
          </a:custGeom>
          <a:solidFill>
            <a:srgbClr val="618f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7" name=""/>
          <p:cNvSpPr txBox="1"/>
          <p:nvPr/>
        </p:nvSpPr>
        <p:spPr>
          <a:xfrm>
            <a:off x="5629320" y="696960"/>
            <a:ext cx="2508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Feature Simulator</a:t>
            </a:r>
            <a:endParaRPr b="0" lang="en-US" sz="1800" spc="-1" strike="noStrike">
              <a:solidFill>
                <a:srgbClr val="000000"/>
              </a:solidFill>
              <a:latin typeface="Arial"/>
            </a:endParaRPr>
          </a:p>
        </p:txBody>
      </p:sp>
      <p:sp>
        <p:nvSpPr>
          <p:cNvPr id="3018" name=""/>
          <p:cNvSpPr/>
          <p:nvPr/>
        </p:nvSpPr>
        <p:spPr>
          <a:xfrm flipH="1">
            <a:off x="5464080" y="8888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9" name=""/>
          <p:cNvSpPr/>
          <p:nvPr/>
        </p:nvSpPr>
        <p:spPr>
          <a:xfrm flipH="1">
            <a:off x="4861080" y="888840"/>
            <a:ext cx="603000" cy="816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0" name=""/>
          <p:cNvSpPr txBox="1"/>
          <p:nvPr/>
        </p:nvSpPr>
        <p:spPr>
          <a:xfrm>
            <a:off x="1244520" y="311040"/>
            <a:ext cx="2962440" cy="457200"/>
          </a:xfrm>
          <a:prstGeom prst="rect">
            <a:avLst/>
          </a:prstGeom>
          <a:noFill/>
          <a:ln w="0">
            <a:noFill/>
          </a:ln>
        </p:spPr>
        <p:txBody>
          <a:bodyPr lIns="0" rIns="0" tIns="0" bIns="0" anchor="t">
            <a:noAutofit/>
          </a:bodyPr>
          <a:p>
            <a:pPr>
              <a:lnSpc>
                <a:spcPct val="100000"/>
              </a:lnSpc>
            </a:pPr>
            <a:r>
              <a:rPr b="1" lang="en-US" sz="2400" spc="-1" strike="noStrike">
                <a:solidFill>
                  <a:srgbClr val="ffff00"/>
                </a:solidFill>
                <a:latin typeface="Times New Roman"/>
                <a:ea typeface="Times New Roman"/>
              </a:rPr>
              <a:t>INTERPRE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21" name=""/>
          <p:cNvSpPr txBox="1"/>
          <p:nvPr/>
        </p:nvSpPr>
        <p:spPr>
          <a:xfrm>
            <a:off x="685800" y="1600200"/>
            <a:ext cx="7772400" cy="3824280"/>
          </a:xfrm>
          <a:prstGeom prst="rect">
            <a:avLst/>
          </a:prstGeom>
          <a:noFill/>
          <a:ln w="0">
            <a:noFill/>
          </a:ln>
        </p:spPr>
        <p:txBody>
          <a:bodyPr lIns="0" rIns="0" tIns="0" bIns="0" anchor="t">
            <a:noAutofit/>
          </a:bodyPr>
          <a:p>
            <a:pPr algn="ctr">
              <a:lnSpc>
                <a:spcPct val="100000"/>
              </a:lnSpc>
              <a:spcAft>
                <a:spcPts val="2401"/>
              </a:spcAft>
            </a:pPr>
            <a:r>
              <a:rPr b="0" lang="en-US" sz="7200" spc="-1" strike="noStrike">
                <a:solidFill>
                  <a:srgbClr val="ffffff"/>
                </a:solidFill>
                <a:latin typeface="Times New Roman"/>
                <a:ea typeface="Times New Roman"/>
              </a:rPr>
              <a:t>Primary External Datum Diameter</a:t>
            </a:r>
            <a:br>
              <a:rPr sz="1800"/>
            </a:br>
            <a:br>
              <a:rPr sz="1800"/>
            </a:br>
            <a:r>
              <a:rPr b="0" lang="en-US" sz="4400" spc="-1" strike="noStrike">
                <a:solidFill>
                  <a:srgbClr val="ffffff"/>
                </a:solidFill>
                <a:latin typeface="Times New Roman"/>
                <a:ea typeface="Times New Roman"/>
              </a:rPr>
              <a:t>Regardless of Feature Size (R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023" name=""/>
          <p:cNvSpPr txBox="1"/>
          <p:nvPr/>
        </p:nvSpPr>
        <p:spPr>
          <a:xfrm>
            <a:off x="685800" y="9288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rimary Datum Feature -- </a:t>
            </a:r>
            <a:r>
              <a:rPr b="0" lang="en-US" sz="3600" spc="-1" strike="noStrike" u="sng">
                <a:solidFill>
                  <a:srgbClr val="fafd00"/>
                </a:solidFill>
                <a:uFillTx/>
                <a:latin typeface="Times New Roman"/>
                <a:ea typeface="Times New Roman"/>
              </a:rPr>
              <a:t>External Diameter RFS</a:t>
            </a:r>
            <a:endParaRPr b="0" lang="en-US" sz="3600" spc="-1" strike="noStrike">
              <a:solidFill>
                <a:srgbClr val="000000"/>
              </a:solidFill>
              <a:latin typeface="Arial"/>
            </a:endParaRPr>
          </a:p>
        </p:txBody>
      </p:sp>
      <p:sp>
        <p:nvSpPr>
          <p:cNvPr id="3024" name=""/>
          <p:cNvSpPr txBox="1"/>
          <p:nvPr/>
        </p:nvSpPr>
        <p:spPr>
          <a:xfrm>
            <a:off x="685800" y="2690640"/>
            <a:ext cx="7772400" cy="31100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simulated datum for an external diameter is the </a:t>
            </a:r>
            <a:r>
              <a:rPr b="0" i="1" lang="en-US" sz="2800" spc="-1" strike="noStrike" u="sng">
                <a:solidFill>
                  <a:srgbClr val="fafd00"/>
                </a:solidFill>
                <a:uFillTx/>
                <a:latin typeface="Times New Roman"/>
                <a:ea typeface="Times New Roman"/>
              </a:rPr>
              <a:t>axis</a:t>
            </a:r>
            <a:r>
              <a:rPr b="0" lang="en-US" sz="2800" spc="-1" strike="noStrike" u="sng">
                <a:solidFill>
                  <a:srgbClr val="fafd00"/>
                </a:solidFill>
                <a:uFillTx/>
                <a:latin typeface="Times New Roman"/>
                <a:ea typeface="Times New Roman"/>
              </a:rPr>
              <a:t> of a variable </a:t>
            </a:r>
            <a:r>
              <a:rPr b="0" i="1" lang="en-US" sz="2800" spc="-1" strike="noStrike" u="sng">
                <a:solidFill>
                  <a:srgbClr val="ffff00"/>
                </a:solidFill>
                <a:uFillTx/>
                <a:latin typeface="Times New Roman"/>
                <a:ea typeface="Times New Roman"/>
              </a:rPr>
              <a:t>gage</a:t>
            </a:r>
            <a:r>
              <a:rPr b="0" lang="en-US" sz="2800" spc="-1" strike="noStrike">
                <a:solidFill>
                  <a:srgbClr val="ffffff"/>
                </a:solidFill>
                <a:latin typeface="Times New Roman"/>
                <a:ea typeface="Times New Roman"/>
              </a:rPr>
              <a:t> which physically contacts the high points of the datum feature. It is the </a:t>
            </a:r>
            <a:r>
              <a:rPr b="0" lang="en-US" sz="2800" spc="-1" strike="noStrike">
                <a:solidFill>
                  <a:srgbClr val="ffff00"/>
                </a:solidFill>
                <a:latin typeface="Times New Roman"/>
                <a:ea typeface="Times New Roman"/>
              </a:rPr>
              <a:t>smallest circumscribed cylinder</a:t>
            </a:r>
            <a:r>
              <a:rPr b="0" lang="en-US" sz="2800" spc="-1" strike="noStrike">
                <a:solidFill>
                  <a:srgbClr val="ffffff"/>
                </a:solidFill>
                <a:latin typeface="Times New Roman"/>
                <a:ea typeface="Times New Roman"/>
              </a:rPr>
              <a:t> brought into contact with the high points of the featur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25" name=""/>
          <p:cNvSpPr/>
          <p:nvPr/>
        </p:nvSpPr>
        <p:spPr>
          <a:xfrm>
            <a:off x="2847960" y="2417760"/>
            <a:ext cx="4089240" cy="1130400"/>
          </a:xfrm>
          <a:prstGeom prst="rect">
            <a:avLst/>
          </a:pr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6" name=""/>
          <p:cNvSpPr/>
          <p:nvPr/>
        </p:nvSpPr>
        <p:spPr>
          <a:xfrm>
            <a:off x="6083280" y="2984400"/>
            <a:ext cx="136368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7" name=""/>
          <p:cNvSpPr/>
          <p:nvPr/>
        </p:nvSpPr>
        <p:spPr>
          <a:xfrm flipV="1">
            <a:off x="7885080" y="2417760"/>
            <a:ext cx="0" cy="1119240"/>
          </a:xfrm>
          <a:prstGeom prst="line">
            <a:avLst/>
          </a:prstGeom>
          <a:ln w="12600">
            <a:solidFill>
              <a:srgbClr val="f2fefd"/>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8" name=""/>
          <p:cNvSpPr/>
          <p:nvPr/>
        </p:nvSpPr>
        <p:spPr>
          <a:xfrm>
            <a:off x="7000920" y="2417760"/>
            <a:ext cx="104436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9" name=""/>
          <p:cNvSpPr/>
          <p:nvPr/>
        </p:nvSpPr>
        <p:spPr>
          <a:xfrm>
            <a:off x="8045280" y="1719360"/>
            <a:ext cx="314640" cy="311400"/>
          </a:xfrm>
          <a:custGeom>
            <a:avLst/>
            <a:gdLst/>
            <a:ahLst/>
            <a:rect l="0" t="0" r="r" b="b"/>
            <a:pathLst>
              <a:path fill="none" w="874" h="865">
                <a:moveTo>
                  <a:pt x="0" y="0"/>
                </a:moveTo>
                <a:lnTo>
                  <a:pt x="0" y="865"/>
                </a:lnTo>
                <a:lnTo>
                  <a:pt x="874" y="865"/>
                </a:lnTo>
                <a:lnTo>
                  <a:pt x="874" y="0"/>
                </a:lnTo>
                <a:lnTo>
                  <a:pt x="0" y="0"/>
                </a:lnTo>
              </a:path>
            </a:pathLst>
          </a:custGeom>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3030" name=""/>
          <p:cNvSpPr/>
          <p:nvPr/>
        </p:nvSpPr>
        <p:spPr>
          <a:xfrm flipV="1">
            <a:off x="7885080" y="1882800"/>
            <a:ext cx="0" cy="50004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1" name=""/>
          <p:cNvSpPr/>
          <p:nvPr/>
        </p:nvSpPr>
        <p:spPr>
          <a:xfrm>
            <a:off x="7804080" y="2276640"/>
            <a:ext cx="162360" cy="141480"/>
          </a:xfrm>
          <a:custGeom>
            <a:avLst/>
            <a:gdLst/>
            <a:ahLst/>
            <a:rect l="0" t="0" r="r" b="b"/>
            <a:pathLst>
              <a:path w="451" h="393">
                <a:moveTo>
                  <a:pt x="0" y="393"/>
                </a:moveTo>
                <a:lnTo>
                  <a:pt x="225" y="0"/>
                </a:lnTo>
                <a:lnTo>
                  <a:pt x="451" y="393"/>
                </a:lnTo>
                <a:lnTo>
                  <a:pt x="0" y="393"/>
                </a:lnTo>
                <a:close/>
              </a:path>
            </a:pathLst>
          </a:custGeom>
          <a:solidFill>
            <a:srgbClr val="ffffff"/>
          </a:solidFill>
          <a:ln w="12600">
            <a:solidFill>
              <a:srgbClr val="f2fefd"/>
            </a:solidFill>
            <a:round/>
          </a:ln>
        </p:spPr>
        <p:txBody>
          <a:bodyPr lIns="96120" rIns="96120" tIns="51120" bIns="51120" anchor="t">
            <a:noAutofit/>
          </a:bodyPr>
          <a:p>
            <a:endParaRPr b="0" lang="en-US" sz="1800" spc="-1" strike="noStrike">
              <a:solidFill>
                <a:srgbClr val="000000"/>
              </a:solidFill>
              <a:latin typeface="Arial"/>
            </a:endParaRPr>
          </a:p>
        </p:txBody>
      </p:sp>
      <p:sp>
        <p:nvSpPr>
          <p:cNvPr id="3032" name=""/>
          <p:cNvSpPr/>
          <p:nvPr/>
        </p:nvSpPr>
        <p:spPr>
          <a:xfrm>
            <a:off x="7885080" y="1887480"/>
            <a:ext cx="160200" cy="0"/>
          </a:xfrm>
          <a:prstGeom prst="line">
            <a:avLst/>
          </a:prstGeom>
          <a:ln w="12600">
            <a:solidFill>
              <a:srgbClr val="f2fefd"/>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3" name=""/>
          <p:cNvSpPr txBox="1"/>
          <p:nvPr/>
        </p:nvSpPr>
        <p:spPr>
          <a:xfrm>
            <a:off x="8047080" y="16826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3034" name=""/>
          <p:cNvSpPr/>
          <p:nvPr/>
        </p:nvSpPr>
        <p:spPr>
          <a:xfrm>
            <a:off x="6934320" y="2427120"/>
            <a:ext cx="114840" cy="1117800"/>
          </a:xfrm>
          <a:custGeom>
            <a:avLst/>
            <a:gdLst/>
            <a:ahLst/>
            <a:rect l="0" t="0" r="r" b="b"/>
            <a:pathLst>
              <a:path w="319" h="3105">
                <a:moveTo>
                  <a:pt x="0" y="0"/>
                </a:moveTo>
                <a:lnTo>
                  <a:pt x="319" y="317"/>
                </a:lnTo>
                <a:lnTo>
                  <a:pt x="319" y="2805"/>
                </a:lnTo>
                <a:lnTo>
                  <a:pt x="17" y="3105"/>
                </a:lnTo>
                <a:lnTo>
                  <a:pt x="0"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a:off x="2743200" y="2424240"/>
            <a:ext cx="114840" cy="1121040"/>
          </a:xfrm>
          <a:custGeom>
            <a:avLst/>
            <a:gdLst/>
            <a:ahLst/>
            <a:rect l="0" t="0" r="r" b="b"/>
            <a:pathLst>
              <a:path w="319" h="3114">
                <a:moveTo>
                  <a:pt x="319" y="0"/>
                </a:moveTo>
                <a:lnTo>
                  <a:pt x="0" y="317"/>
                </a:lnTo>
                <a:lnTo>
                  <a:pt x="0" y="2805"/>
                </a:lnTo>
                <a:lnTo>
                  <a:pt x="310" y="3114"/>
                </a:lnTo>
                <a:lnTo>
                  <a:pt x="319"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6" name=""/>
          <p:cNvSpPr/>
          <p:nvPr/>
        </p:nvSpPr>
        <p:spPr>
          <a:xfrm>
            <a:off x="3359160" y="298620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7" name=""/>
          <p:cNvSpPr/>
          <p:nvPr/>
        </p:nvSpPr>
        <p:spPr>
          <a:xfrm>
            <a:off x="3578400" y="2986200"/>
            <a:ext cx="20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8" name=""/>
          <p:cNvSpPr/>
          <p:nvPr/>
        </p:nvSpPr>
        <p:spPr>
          <a:xfrm>
            <a:off x="5686560" y="298620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9" name=""/>
          <p:cNvSpPr/>
          <p:nvPr/>
        </p:nvSpPr>
        <p:spPr>
          <a:xfrm>
            <a:off x="5892840" y="2986200"/>
            <a:ext cx="1193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0" name=""/>
          <p:cNvSpPr txBox="1"/>
          <p:nvPr/>
        </p:nvSpPr>
        <p:spPr>
          <a:xfrm>
            <a:off x="1003320" y="595440"/>
            <a:ext cx="1289160" cy="366840"/>
          </a:xfrm>
          <a:prstGeom prst="rect">
            <a:avLst/>
          </a:prstGeom>
          <a:noFill/>
          <a:ln w="0">
            <a:noFill/>
          </a:ln>
        </p:spPr>
        <p:txBody>
          <a:bodyPr lIns="0" rIns="0" tIns="0" bIns="0" anchor="t">
            <a:noAutofit/>
          </a:bodyPr>
          <a:p>
            <a:pPr algn="ctr">
              <a:lnSpc>
                <a:spcPct val="100000"/>
              </a:lnSpc>
            </a:pPr>
            <a:r>
              <a:rPr b="0" lang="en-US" sz="1800" spc="-1" strike="noStrike">
                <a:solidFill>
                  <a:srgbClr val="00dfca"/>
                </a:solidFill>
                <a:latin typeface="Times New Roman"/>
                <a:ea typeface="Times New Roman"/>
              </a:rPr>
              <a:t>DRAWING</a:t>
            </a:r>
            <a:endParaRPr b="0" lang="en-US" sz="1800" spc="-1" strike="noStrike">
              <a:solidFill>
                <a:srgbClr val="000000"/>
              </a:solidFill>
              <a:latin typeface="Arial"/>
            </a:endParaRPr>
          </a:p>
        </p:txBody>
      </p:sp>
      <p:sp>
        <p:nvSpPr>
          <p:cNvPr id="3041" name=""/>
          <p:cNvSpPr/>
          <p:nvPr/>
        </p:nvSpPr>
        <p:spPr>
          <a:xfrm>
            <a:off x="2424240" y="2984400"/>
            <a:ext cx="876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2" name=""/>
          <p:cNvSpPr txBox="1"/>
          <p:nvPr/>
        </p:nvSpPr>
        <p:spPr>
          <a:xfrm>
            <a:off x="1514520" y="5284800"/>
            <a:ext cx="633096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EX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043" name=""/>
          <p:cNvSpPr/>
          <p:nvPr/>
        </p:nvSpPr>
        <p:spPr>
          <a:xfrm>
            <a:off x="7000920" y="3549600"/>
            <a:ext cx="1044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44" name=""/>
          <p:cNvSpPr/>
          <p:nvPr/>
        </p:nvSpPr>
        <p:spPr>
          <a:xfrm>
            <a:off x="34797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5" name=""/>
          <p:cNvSpPr/>
          <p:nvPr/>
        </p:nvSpPr>
        <p:spPr>
          <a:xfrm>
            <a:off x="3925800" y="2790720"/>
            <a:ext cx="1121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6" name=""/>
          <p:cNvSpPr/>
          <p:nvPr/>
        </p:nvSpPr>
        <p:spPr>
          <a:xfrm>
            <a:off x="52689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7" name=""/>
          <p:cNvSpPr/>
          <p:nvPr/>
        </p:nvSpPr>
        <p:spPr>
          <a:xfrm>
            <a:off x="2906640" y="2228760"/>
            <a:ext cx="4015080" cy="1114920"/>
          </a:xfrm>
          <a:custGeom>
            <a:avLst/>
            <a:gdLst/>
            <a:ahLst/>
            <a:rect l="0" t="0" r="r" b="b"/>
            <a:pathLst>
              <a:path w="11153" h="3097">
                <a:moveTo>
                  <a:pt x="0" y="291"/>
                </a:moveTo>
                <a:lnTo>
                  <a:pt x="26" y="317"/>
                </a:lnTo>
                <a:lnTo>
                  <a:pt x="17" y="291"/>
                </a:lnTo>
                <a:lnTo>
                  <a:pt x="185" y="291"/>
                </a:lnTo>
                <a:lnTo>
                  <a:pt x="352" y="207"/>
                </a:lnTo>
                <a:lnTo>
                  <a:pt x="480" y="167"/>
                </a:lnTo>
                <a:lnTo>
                  <a:pt x="648" y="167"/>
                </a:lnTo>
                <a:lnTo>
                  <a:pt x="815" y="167"/>
                </a:lnTo>
                <a:lnTo>
                  <a:pt x="983" y="123"/>
                </a:lnTo>
                <a:lnTo>
                  <a:pt x="1150" y="123"/>
                </a:lnTo>
                <a:lnTo>
                  <a:pt x="1318" y="123"/>
                </a:lnTo>
                <a:lnTo>
                  <a:pt x="1446" y="123"/>
                </a:lnTo>
                <a:lnTo>
                  <a:pt x="1613" y="123"/>
                </a:lnTo>
                <a:lnTo>
                  <a:pt x="1781" y="123"/>
                </a:lnTo>
                <a:lnTo>
                  <a:pt x="1949" y="123"/>
                </a:lnTo>
                <a:lnTo>
                  <a:pt x="2116" y="83"/>
                </a:lnTo>
                <a:lnTo>
                  <a:pt x="2244" y="83"/>
                </a:lnTo>
                <a:lnTo>
                  <a:pt x="2579" y="83"/>
                </a:lnTo>
                <a:lnTo>
                  <a:pt x="2747" y="83"/>
                </a:lnTo>
                <a:lnTo>
                  <a:pt x="2914" y="83"/>
                </a:lnTo>
                <a:lnTo>
                  <a:pt x="3126" y="83"/>
                </a:lnTo>
                <a:lnTo>
                  <a:pt x="3294" y="39"/>
                </a:lnTo>
                <a:lnTo>
                  <a:pt x="3461" y="39"/>
                </a:lnTo>
                <a:lnTo>
                  <a:pt x="3629" y="39"/>
                </a:lnTo>
                <a:lnTo>
                  <a:pt x="3796" y="39"/>
                </a:lnTo>
                <a:lnTo>
                  <a:pt x="4008" y="39"/>
                </a:lnTo>
                <a:lnTo>
                  <a:pt x="4176" y="39"/>
                </a:lnTo>
                <a:lnTo>
                  <a:pt x="4343" y="39"/>
                </a:lnTo>
                <a:lnTo>
                  <a:pt x="4511" y="39"/>
                </a:lnTo>
                <a:lnTo>
                  <a:pt x="4890" y="0"/>
                </a:lnTo>
                <a:lnTo>
                  <a:pt x="5057" y="0"/>
                </a:lnTo>
                <a:lnTo>
                  <a:pt x="5225" y="0"/>
                </a:lnTo>
                <a:lnTo>
                  <a:pt x="5393" y="0"/>
                </a:lnTo>
                <a:lnTo>
                  <a:pt x="5560" y="39"/>
                </a:lnTo>
                <a:lnTo>
                  <a:pt x="5782" y="52"/>
                </a:lnTo>
                <a:lnTo>
                  <a:pt x="5967" y="52"/>
                </a:lnTo>
                <a:lnTo>
                  <a:pt x="6108" y="83"/>
                </a:lnTo>
                <a:lnTo>
                  <a:pt x="6443" y="52"/>
                </a:lnTo>
                <a:lnTo>
                  <a:pt x="6734" y="92"/>
                </a:lnTo>
                <a:lnTo>
                  <a:pt x="6933" y="92"/>
                </a:lnTo>
                <a:lnTo>
                  <a:pt x="7118" y="39"/>
                </a:lnTo>
                <a:lnTo>
                  <a:pt x="7303" y="92"/>
                </a:lnTo>
                <a:lnTo>
                  <a:pt x="7435" y="52"/>
                </a:lnTo>
                <a:lnTo>
                  <a:pt x="7607" y="79"/>
                </a:lnTo>
                <a:lnTo>
                  <a:pt x="7819" y="66"/>
                </a:lnTo>
                <a:lnTo>
                  <a:pt x="8057" y="92"/>
                </a:lnTo>
                <a:lnTo>
                  <a:pt x="8216" y="145"/>
                </a:lnTo>
                <a:lnTo>
                  <a:pt x="8441" y="132"/>
                </a:lnTo>
                <a:lnTo>
                  <a:pt x="8719" y="79"/>
                </a:lnTo>
                <a:lnTo>
                  <a:pt x="8970" y="145"/>
                </a:lnTo>
                <a:lnTo>
                  <a:pt x="9234" y="132"/>
                </a:lnTo>
                <a:lnTo>
                  <a:pt x="9552" y="185"/>
                </a:lnTo>
                <a:lnTo>
                  <a:pt x="9750" y="145"/>
                </a:lnTo>
                <a:lnTo>
                  <a:pt x="10094" y="171"/>
                </a:lnTo>
                <a:lnTo>
                  <a:pt x="10293" y="185"/>
                </a:lnTo>
                <a:lnTo>
                  <a:pt x="10412" y="224"/>
                </a:lnTo>
                <a:lnTo>
                  <a:pt x="10571" y="251"/>
                </a:lnTo>
                <a:lnTo>
                  <a:pt x="10729" y="264"/>
                </a:lnTo>
                <a:lnTo>
                  <a:pt x="10888" y="291"/>
                </a:lnTo>
                <a:lnTo>
                  <a:pt x="11126" y="383"/>
                </a:lnTo>
                <a:lnTo>
                  <a:pt x="11060" y="343"/>
                </a:lnTo>
                <a:lnTo>
                  <a:pt x="11020" y="317"/>
                </a:lnTo>
                <a:lnTo>
                  <a:pt x="11153" y="396"/>
                </a:lnTo>
                <a:lnTo>
                  <a:pt x="10769" y="3066"/>
                </a:lnTo>
                <a:lnTo>
                  <a:pt x="10641" y="3022"/>
                </a:lnTo>
                <a:lnTo>
                  <a:pt x="10474" y="3022"/>
                </a:lnTo>
                <a:lnTo>
                  <a:pt x="10306" y="2982"/>
                </a:lnTo>
                <a:lnTo>
                  <a:pt x="10094" y="2982"/>
                </a:lnTo>
                <a:lnTo>
                  <a:pt x="9843" y="2938"/>
                </a:lnTo>
                <a:lnTo>
                  <a:pt x="9675" y="2938"/>
                </a:lnTo>
                <a:lnTo>
                  <a:pt x="9468" y="2938"/>
                </a:lnTo>
                <a:lnTo>
                  <a:pt x="9340" y="2938"/>
                </a:lnTo>
                <a:lnTo>
                  <a:pt x="9129" y="2938"/>
                </a:lnTo>
                <a:lnTo>
                  <a:pt x="8961" y="2938"/>
                </a:lnTo>
                <a:lnTo>
                  <a:pt x="8793" y="2938"/>
                </a:lnTo>
                <a:lnTo>
                  <a:pt x="8626" y="2982"/>
                </a:lnTo>
                <a:lnTo>
                  <a:pt x="8419" y="2982"/>
                </a:lnTo>
                <a:lnTo>
                  <a:pt x="8291" y="2982"/>
                </a:lnTo>
                <a:lnTo>
                  <a:pt x="7995" y="2938"/>
                </a:lnTo>
                <a:lnTo>
                  <a:pt x="7788" y="2938"/>
                </a:lnTo>
                <a:lnTo>
                  <a:pt x="7493" y="2938"/>
                </a:lnTo>
                <a:lnTo>
                  <a:pt x="7365" y="2938"/>
                </a:lnTo>
                <a:lnTo>
                  <a:pt x="7113" y="2899"/>
                </a:lnTo>
                <a:lnTo>
                  <a:pt x="6862" y="2855"/>
                </a:lnTo>
                <a:lnTo>
                  <a:pt x="6694" y="2855"/>
                </a:lnTo>
                <a:lnTo>
                  <a:pt x="6567" y="2815"/>
                </a:lnTo>
                <a:lnTo>
                  <a:pt x="6315" y="2771"/>
                </a:lnTo>
                <a:lnTo>
                  <a:pt x="6108" y="2771"/>
                </a:lnTo>
                <a:lnTo>
                  <a:pt x="5980" y="2771"/>
                </a:lnTo>
                <a:lnTo>
                  <a:pt x="5813" y="2771"/>
                </a:lnTo>
                <a:lnTo>
                  <a:pt x="5601" y="2815"/>
                </a:lnTo>
                <a:lnTo>
                  <a:pt x="5432" y="2855"/>
                </a:lnTo>
                <a:lnTo>
                  <a:pt x="5225" y="2855"/>
                </a:lnTo>
                <a:lnTo>
                  <a:pt x="5097" y="2855"/>
                </a:lnTo>
                <a:lnTo>
                  <a:pt x="4762" y="2899"/>
                </a:lnTo>
                <a:lnTo>
                  <a:pt x="4467" y="2899"/>
                </a:lnTo>
                <a:lnTo>
                  <a:pt x="4259" y="2855"/>
                </a:lnTo>
                <a:lnTo>
                  <a:pt x="4048" y="2855"/>
                </a:lnTo>
                <a:lnTo>
                  <a:pt x="3712" y="2855"/>
                </a:lnTo>
                <a:lnTo>
                  <a:pt x="3585" y="2855"/>
                </a:lnTo>
                <a:lnTo>
                  <a:pt x="3417" y="2855"/>
                </a:lnTo>
                <a:lnTo>
                  <a:pt x="3210" y="2855"/>
                </a:lnTo>
                <a:lnTo>
                  <a:pt x="2954" y="2855"/>
                </a:lnTo>
                <a:lnTo>
                  <a:pt x="2786" y="2855"/>
                </a:lnTo>
                <a:lnTo>
                  <a:pt x="2619" y="2855"/>
                </a:lnTo>
                <a:lnTo>
                  <a:pt x="2451" y="2855"/>
                </a:lnTo>
                <a:lnTo>
                  <a:pt x="2284" y="2899"/>
                </a:lnTo>
                <a:lnTo>
                  <a:pt x="2156" y="2899"/>
                </a:lnTo>
                <a:lnTo>
                  <a:pt x="1988" y="2899"/>
                </a:lnTo>
                <a:lnTo>
                  <a:pt x="1737" y="2899"/>
                </a:lnTo>
                <a:lnTo>
                  <a:pt x="1530" y="2938"/>
                </a:lnTo>
                <a:lnTo>
                  <a:pt x="1402" y="3022"/>
                </a:lnTo>
                <a:lnTo>
                  <a:pt x="1274" y="3022"/>
                </a:lnTo>
                <a:lnTo>
                  <a:pt x="1106" y="3022"/>
                </a:lnTo>
                <a:lnTo>
                  <a:pt x="939" y="3022"/>
                </a:lnTo>
                <a:lnTo>
                  <a:pt x="806" y="3057"/>
                </a:lnTo>
                <a:lnTo>
                  <a:pt x="621" y="3097"/>
                </a:lnTo>
                <a:lnTo>
                  <a:pt x="268" y="3022"/>
                </a:lnTo>
                <a:lnTo>
                  <a:pt x="0" y="291"/>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8" name=""/>
          <p:cNvSpPr/>
          <p:nvPr/>
        </p:nvSpPr>
        <p:spPr>
          <a:xfrm>
            <a:off x="2835360" y="2328840"/>
            <a:ext cx="171720" cy="995760"/>
          </a:xfrm>
          <a:custGeom>
            <a:avLst/>
            <a:gdLst/>
            <a:ahLst/>
            <a:rect l="0" t="0" r="r" b="b"/>
            <a:pathLst>
              <a:path w="477" h="2766">
                <a:moveTo>
                  <a:pt x="211" y="0"/>
                </a:moveTo>
                <a:lnTo>
                  <a:pt x="0" y="198"/>
                </a:lnTo>
                <a:lnTo>
                  <a:pt x="252" y="2647"/>
                </a:lnTo>
                <a:lnTo>
                  <a:pt x="477" y="2766"/>
                </a:lnTo>
                <a:lnTo>
                  <a:pt x="211"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9" name=""/>
          <p:cNvSpPr/>
          <p:nvPr/>
        </p:nvSpPr>
        <p:spPr>
          <a:xfrm>
            <a:off x="6781680" y="2371680"/>
            <a:ext cx="206640" cy="962280"/>
          </a:xfrm>
          <a:custGeom>
            <a:avLst/>
            <a:gdLst/>
            <a:ahLst/>
            <a:rect l="0" t="0" r="r" b="b"/>
            <a:pathLst>
              <a:path w="574" h="2673">
                <a:moveTo>
                  <a:pt x="380" y="0"/>
                </a:moveTo>
                <a:lnTo>
                  <a:pt x="574" y="194"/>
                </a:lnTo>
                <a:lnTo>
                  <a:pt x="246" y="2532"/>
                </a:lnTo>
                <a:lnTo>
                  <a:pt x="0" y="2673"/>
                </a:lnTo>
                <a:lnTo>
                  <a:pt x="380"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0" name=""/>
          <p:cNvSpPr/>
          <p:nvPr/>
        </p:nvSpPr>
        <p:spPr>
          <a:xfrm>
            <a:off x="2352600" y="2790720"/>
            <a:ext cx="97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1" name=""/>
          <p:cNvSpPr/>
          <p:nvPr/>
        </p:nvSpPr>
        <p:spPr>
          <a:xfrm>
            <a:off x="3416400" y="27907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2" name=""/>
          <p:cNvSpPr/>
          <p:nvPr/>
        </p:nvSpPr>
        <p:spPr>
          <a:xfrm>
            <a:off x="3635280" y="2790720"/>
            <a:ext cx="20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3" name=""/>
          <p:cNvSpPr/>
          <p:nvPr/>
        </p:nvSpPr>
        <p:spPr>
          <a:xfrm>
            <a:off x="5743440" y="27907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4" name=""/>
          <p:cNvSpPr/>
          <p:nvPr/>
        </p:nvSpPr>
        <p:spPr>
          <a:xfrm>
            <a:off x="5950080" y="2790720"/>
            <a:ext cx="1528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5" name=""/>
          <p:cNvSpPr txBox="1"/>
          <p:nvPr/>
        </p:nvSpPr>
        <p:spPr>
          <a:xfrm>
            <a:off x="247680" y="9889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056" name=""/>
          <p:cNvSpPr txBox="1"/>
          <p:nvPr/>
        </p:nvSpPr>
        <p:spPr>
          <a:xfrm>
            <a:off x="1514520" y="5284800"/>
            <a:ext cx="633096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EX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057" name=""/>
          <p:cNvSpPr txBox="1"/>
          <p:nvPr/>
        </p:nvSpPr>
        <p:spPr>
          <a:xfrm>
            <a:off x="4668840" y="590400"/>
            <a:ext cx="177156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00"/>
                </a:solidFill>
                <a:latin typeface="Times New Roman"/>
                <a:ea typeface="Times New Roman"/>
              </a:rPr>
              <a:t>Datum Feature A</a:t>
            </a:r>
            <a:endParaRPr b="0" lang="en-US" sz="1800" spc="-1" strike="noStrike">
              <a:solidFill>
                <a:srgbClr val="000000"/>
              </a:solidFill>
              <a:latin typeface="Arial"/>
            </a:endParaRPr>
          </a:p>
        </p:txBody>
      </p:sp>
      <p:sp>
        <p:nvSpPr>
          <p:cNvPr id="3058" name=""/>
          <p:cNvSpPr/>
          <p:nvPr/>
        </p:nvSpPr>
        <p:spPr>
          <a:xfrm>
            <a:off x="6400800" y="7682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9" name=""/>
          <p:cNvSpPr/>
          <p:nvPr/>
        </p:nvSpPr>
        <p:spPr>
          <a:xfrm flipH="1">
            <a:off x="6219720" y="768240"/>
            <a:ext cx="347760" cy="1511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0" name=""/>
          <p:cNvSpPr/>
          <p:nvPr/>
        </p:nvSpPr>
        <p:spPr>
          <a:xfrm>
            <a:off x="34797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1" name=""/>
          <p:cNvSpPr/>
          <p:nvPr/>
        </p:nvSpPr>
        <p:spPr>
          <a:xfrm>
            <a:off x="3925800" y="2790720"/>
            <a:ext cx="1121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2" name=""/>
          <p:cNvSpPr/>
          <p:nvPr/>
        </p:nvSpPr>
        <p:spPr>
          <a:xfrm>
            <a:off x="2476440" y="1357200"/>
            <a:ext cx="4748400" cy="862200"/>
          </a:xfrm>
          <a:custGeom>
            <a:avLst/>
            <a:gdLst/>
            <a:ahLst/>
            <a:rect l="0" t="0" r="r" b="b"/>
            <a:pathLst>
              <a:path w="13190" h="2395">
                <a:moveTo>
                  <a:pt x="44" y="965"/>
                </a:moveTo>
                <a:lnTo>
                  <a:pt x="44" y="2395"/>
                </a:lnTo>
                <a:lnTo>
                  <a:pt x="13190" y="2395"/>
                </a:lnTo>
                <a:lnTo>
                  <a:pt x="13190" y="714"/>
                </a:lnTo>
                <a:lnTo>
                  <a:pt x="13190" y="418"/>
                </a:lnTo>
                <a:lnTo>
                  <a:pt x="13062" y="374"/>
                </a:lnTo>
                <a:lnTo>
                  <a:pt x="12934" y="418"/>
                </a:lnTo>
                <a:lnTo>
                  <a:pt x="12727" y="418"/>
                </a:lnTo>
                <a:lnTo>
                  <a:pt x="12559" y="418"/>
                </a:lnTo>
                <a:lnTo>
                  <a:pt x="12432" y="418"/>
                </a:lnTo>
                <a:lnTo>
                  <a:pt x="12264" y="418"/>
                </a:lnTo>
                <a:lnTo>
                  <a:pt x="12136" y="418"/>
                </a:lnTo>
                <a:lnTo>
                  <a:pt x="12013" y="291"/>
                </a:lnTo>
                <a:lnTo>
                  <a:pt x="11885" y="251"/>
                </a:lnTo>
                <a:lnTo>
                  <a:pt x="11717" y="251"/>
                </a:lnTo>
                <a:lnTo>
                  <a:pt x="11382" y="207"/>
                </a:lnTo>
                <a:lnTo>
                  <a:pt x="11254" y="167"/>
                </a:lnTo>
                <a:lnTo>
                  <a:pt x="11087" y="167"/>
                </a:lnTo>
                <a:lnTo>
                  <a:pt x="10919" y="167"/>
                </a:lnTo>
                <a:lnTo>
                  <a:pt x="10835" y="39"/>
                </a:lnTo>
                <a:lnTo>
                  <a:pt x="10668" y="39"/>
                </a:lnTo>
                <a:lnTo>
                  <a:pt x="10500" y="39"/>
                </a:lnTo>
                <a:lnTo>
                  <a:pt x="10205" y="39"/>
                </a:lnTo>
                <a:lnTo>
                  <a:pt x="9997" y="39"/>
                </a:lnTo>
                <a:lnTo>
                  <a:pt x="9662" y="39"/>
                </a:lnTo>
                <a:lnTo>
                  <a:pt x="9406" y="39"/>
                </a:lnTo>
                <a:lnTo>
                  <a:pt x="8780" y="0"/>
                </a:lnTo>
                <a:lnTo>
                  <a:pt x="8608" y="0"/>
                </a:lnTo>
                <a:lnTo>
                  <a:pt x="8401" y="39"/>
                </a:lnTo>
                <a:lnTo>
                  <a:pt x="8189" y="167"/>
                </a:lnTo>
                <a:lnTo>
                  <a:pt x="8022" y="251"/>
                </a:lnTo>
                <a:lnTo>
                  <a:pt x="7603" y="463"/>
                </a:lnTo>
                <a:lnTo>
                  <a:pt x="7435" y="546"/>
                </a:lnTo>
                <a:lnTo>
                  <a:pt x="7307" y="586"/>
                </a:lnTo>
                <a:lnTo>
                  <a:pt x="7056" y="586"/>
                </a:lnTo>
                <a:lnTo>
                  <a:pt x="6637" y="586"/>
                </a:lnTo>
                <a:lnTo>
                  <a:pt x="6217" y="586"/>
                </a:lnTo>
                <a:lnTo>
                  <a:pt x="6089" y="586"/>
                </a:lnTo>
                <a:lnTo>
                  <a:pt x="5961" y="586"/>
                </a:lnTo>
                <a:lnTo>
                  <a:pt x="5626" y="463"/>
                </a:lnTo>
                <a:lnTo>
                  <a:pt x="5335" y="418"/>
                </a:lnTo>
                <a:lnTo>
                  <a:pt x="4872" y="418"/>
                </a:lnTo>
                <a:lnTo>
                  <a:pt x="4621" y="418"/>
                </a:lnTo>
                <a:lnTo>
                  <a:pt x="4493" y="463"/>
                </a:lnTo>
                <a:lnTo>
                  <a:pt x="4158" y="546"/>
                </a:lnTo>
                <a:lnTo>
                  <a:pt x="3946" y="586"/>
                </a:lnTo>
                <a:lnTo>
                  <a:pt x="3655" y="630"/>
                </a:lnTo>
                <a:lnTo>
                  <a:pt x="3360" y="714"/>
                </a:lnTo>
                <a:lnTo>
                  <a:pt x="3192" y="714"/>
                </a:lnTo>
                <a:lnTo>
                  <a:pt x="3064" y="754"/>
                </a:lnTo>
                <a:lnTo>
                  <a:pt x="2857" y="798"/>
                </a:lnTo>
                <a:lnTo>
                  <a:pt x="2729" y="798"/>
                </a:lnTo>
                <a:lnTo>
                  <a:pt x="2522" y="754"/>
                </a:lnTo>
                <a:lnTo>
                  <a:pt x="2394" y="714"/>
                </a:lnTo>
                <a:lnTo>
                  <a:pt x="2266" y="714"/>
                </a:lnTo>
                <a:lnTo>
                  <a:pt x="1931" y="714"/>
                </a:lnTo>
                <a:lnTo>
                  <a:pt x="1763" y="714"/>
                </a:lnTo>
                <a:lnTo>
                  <a:pt x="1596" y="714"/>
                </a:lnTo>
                <a:lnTo>
                  <a:pt x="1428" y="714"/>
                </a:lnTo>
                <a:lnTo>
                  <a:pt x="1177" y="714"/>
                </a:lnTo>
                <a:lnTo>
                  <a:pt x="1009" y="714"/>
                </a:lnTo>
                <a:lnTo>
                  <a:pt x="881" y="714"/>
                </a:lnTo>
                <a:lnTo>
                  <a:pt x="670" y="714"/>
                </a:lnTo>
                <a:lnTo>
                  <a:pt x="463" y="754"/>
                </a:lnTo>
                <a:lnTo>
                  <a:pt x="335" y="837"/>
                </a:lnTo>
                <a:lnTo>
                  <a:pt x="167" y="921"/>
                </a:lnTo>
                <a:lnTo>
                  <a:pt x="0" y="965"/>
                </a:lnTo>
                <a:lnTo>
                  <a:pt x="44" y="965"/>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3" name=""/>
          <p:cNvSpPr/>
          <p:nvPr/>
        </p:nvSpPr>
        <p:spPr>
          <a:xfrm>
            <a:off x="52689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4" name=""/>
          <p:cNvSpPr/>
          <p:nvPr/>
        </p:nvSpPr>
        <p:spPr>
          <a:xfrm flipH="1">
            <a:off x="2487600" y="3355920"/>
            <a:ext cx="4719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5" name=""/>
          <p:cNvSpPr/>
          <p:nvPr/>
        </p:nvSpPr>
        <p:spPr>
          <a:xfrm>
            <a:off x="7219800" y="2217600"/>
            <a:ext cx="0" cy="11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6" name=""/>
          <p:cNvSpPr/>
          <p:nvPr/>
        </p:nvSpPr>
        <p:spPr>
          <a:xfrm>
            <a:off x="2487600" y="2217600"/>
            <a:ext cx="0" cy="11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7" name=""/>
          <p:cNvSpPr/>
          <p:nvPr/>
        </p:nvSpPr>
        <p:spPr>
          <a:xfrm>
            <a:off x="2489040" y="3351240"/>
            <a:ext cx="4732560" cy="848160"/>
          </a:xfrm>
          <a:custGeom>
            <a:avLst/>
            <a:gdLst/>
            <a:ahLst/>
            <a:rect l="0" t="0" r="r" b="b"/>
            <a:pathLst>
              <a:path w="13146" h="2356">
                <a:moveTo>
                  <a:pt x="0" y="1306"/>
                </a:moveTo>
                <a:lnTo>
                  <a:pt x="0" y="0"/>
                </a:lnTo>
                <a:lnTo>
                  <a:pt x="13146" y="0"/>
                </a:lnTo>
                <a:lnTo>
                  <a:pt x="13146" y="1849"/>
                </a:lnTo>
                <a:lnTo>
                  <a:pt x="13018" y="1849"/>
                </a:lnTo>
                <a:lnTo>
                  <a:pt x="12850" y="1849"/>
                </a:lnTo>
                <a:lnTo>
                  <a:pt x="12599" y="1849"/>
                </a:lnTo>
                <a:lnTo>
                  <a:pt x="12392" y="1809"/>
                </a:lnTo>
                <a:lnTo>
                  <a:pt x="12180" y="1809"/>
                </a:lnTo>
                <a:lnTo>
                  <a:pt x="12013" y="1764"/>
                </a:lnTo>
                <a:lnTo>
                  <a:pt x="11885" y="1809"/>
                </a:lnTo>
                <a:lnTo>
                  <a:pt x="11633" y="1893"/>
                </a:lnTo>
                <a:lnTo>
                  <a:pt x="11342" y="1977"/>
                </a:lnTo>
                <a:lnTo>
                  <a:pt x="11131" y="2061"/>
                </a:lnTo>
                <a:lnTo>
                  <a:pt x="11003" y="2061"/>
                </a:lnTo>
                <a:lnTo>
                  <a:pt x="10165" y="2061"/>
                </a:lnTo>
                <a:lnTo>
                  <a:pt x="9869" y="2061"/>
                </a:lnTo>
                <a:lnTo>
                  <a:pt x="9662" y="2021"/>
                </a:lnTo>
                <a:lnTo>
                  <a:pt x="9490" y="1977"/>
                </a:lnTo>
                <a:lnTo>
                  <a:pt x="9323" y="1937"/>
                </a:lnTo>
                <a:lnTo>
                  <a:pt x="9155" y="1937"/>
                </a:lnTo>
                <a:lnTo>
                  <a:pt x="8948" y="1893"/>
                </a:lnTo>
                <a:lnTo>
                  <a:pt x="8820" y="1849"/>
                </a:lnTo>
                <a:lnTo>
                  <a:pt x="8608" y="1849"/>
                </a:lnTo>
                <a:lnTo>
                  <a:pt x="8189" y="1893"/>
                </a:lnTo>
                <a:lnTo>
                  <a:pt x="8022" y="1937"/>
                </a:lnTo>
                <a:lnTo>
                  <a:pt x="7854" y="1977"/>
                </a:lnTo>
                <a:lnTo>
                  <a:pt x="7643" y="1977"/>
                </a:lnTo>
                <a:lnTo>
                  <a:pt x="7435" y="1977"/>
                </a:lnTo>
                <a:lnTo>
                  <a:pt x="7224" y="2021"/>
                </a:lnTo>
                <a:lnTo>
                  <a:pt x="7016" y="2021"/>
                </a:lnTo>
                <a:lnTo>
                  <a:pt x="6805" y="2061"/>
                </a:lnTo>
                <a:lnTo>
                  <a:pt x="6593" y="2061"/>
                </a:lnTo>
                <a:lnTo>
                  <a:pt x="6301" y="2189"/>
                </a:lnTo>
                <a:lnTo>
                  <a:pt x="6089" y="2189"/>
                </a:lnTo>
                <a:lnTo>
                  <a:pt x="5710" y="2312"/>
                </a:lnTo>
                <a:lnTo>
                  <a:pt x="5419" y="2356"/>
                </a:lnTo>
                <a:lnTo>
                  <a:pt x="5291" y="2356"/>
                </a:lnTo>
                <a:lnTo>
                  <a:pt x="4744" y="2356"/>
                </a:lnTo>
                <a:lnTo>
                  <a:pt x="4493" y="2356"/>
                </a:lnTo>
                <a:lnTo>
                  <a:pt x="4158" y="2145"/>
                </a:lnTo>
                <a:lnTo>
                  <a:pt x="3907" y="2061"/>
                </a:lnTo>
                <a:lnTo>
                  <a:pt x="3488" y="1849"/>
                </a:lnTo>
                <a:lnTo>
                  <a:pt x="3192" y="1725"/>
                </a:lnTo>
                <a:lnTo>
                  <a:pt x="2897" y="1557"/>
                </a:lnTo>
                <a:lnTo>
                  <a:pt x="2773" y="1429"/>
                </a:lnTo>
                <a:lnTo>
                  <a:pt x="2434" y="1306"/>
                </a:lnTo>
                <a:lnTo>
                  <a:pt x="2059" y="1262"/>
                </a:lnTo>
                <a:lnTo>
                  <a:pt x="1891" y="1262"/>
                </a:lnTo>
                <a:lnTo>
                  <a:pt x="1596" y="1262"/>
                </a:lnTo>
                <a:lnTo>
                  <a:pt x="1093" y="1262"/>
                </a:lnTo>
                <a:lnTo>
                  <a:pt x="842" y="1262"/>
                </a:lnTo>
                <a:lnTo>
                  <a:pt x="714" y="1262"/>
                </a:lnTo>
                <a:lnTo>
                  <a:pt x="502" y="1262"/>
                </a:lnTo>
                <a:lnTo>
                  <a:pt x="295" y="1262"/>
                </a:lnTo>
                <a:lnTo>
                  <a:pt x="167" y="1262"/>
                </a:lnTo>
                <a:lnTo>
                  <a:pt x="0" y="1262"/>
                </a:lnTo>
                <a:lnTo>
                  <a:pt x="0" y="130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8" name=""/>
          <p:cNvSpPr/>
          <p:nvPr/>
        </p:nvSpPr>
        <p:spPr>
          <a:xfrm>
            <a:off x="2906640" y="2228760"/>
            <a:ext cx="4015080" cy="1114920"/>
          </a:xfrm>
          <a:custGeom>
            <a:avLst/>
            <a:gdLst/>
            <a:ahLst/>
            <a:rect l="0" t="0" r="r" b="b"/>
            <a:pathLst>
              <a:path w="11153" h="3097">
                <a:moveTo>
                  <a:pt x="0" y="291"/>
                </a:moveTo>
                <a:lnTo>
                  <a:pt x="26" y="317"/>
                </a:lnTo>
                <a:lnTo>
                  <a:pt x="17" y="291"/>
                </a:lnTo>
                <a:lnTo>
                  <a:pt x="185" y="291"/>
                </a:lnTo>
                <a:lnTo>
                  <a:pt x="352" y="207"/>
                </a:lnTo>
                <a:lnTo>
                  <a:pt x="480" y="167"/>
                </a:lnTo>
                <a:lnTo>
                  <a:pt x="648" y="167"/>
                </a:lnTo>
                <a:lnTo>
                  <a:pt x="815" y="167"/>
                </a:lnTo>
                <a:lnTo>
                  <a:pt x="983" y="123"/>
                </a:lnTo>
                <a:lnTo>
                  <a:pt x="1150" y="123"/>
                </a:lnTo>
                <a:lnTo>
                  <a:pt x="1318" y="123"/>
                </a:lnTo>
                <a:lnTo>
                  <a:pt x="1446" y="123"/>
                </a:lnTo>
                <a:lnTo>
                  <a:pt x="1613" y="123"/>
                </a:lnTo>
                <a:lnTo>
                  <a:pt x="1781" y="123"/>
                </a:lnTo>
                <a:lnTo>
                  <a:pt x="1949" y="123"/>
                </a:lnTo>
                <a:lnTo>
                  <a:pt x="2116" y="83"/>
                </a:lnTo>
                <a:lnTo>
                  <a:pt x="2244" y="83"/>
                </a:lnTo>
                <a:lnTo>
                  <a:pt x="2579" y="83"/>
                </a:lnTo>
                <a:lnTo>
                  <a:pt x="2747" y="83"/>
                </a:lnTo>
                <a:lnTo>
                  <a:pt x="2914" y="83"/>
                </a:lnTo>
                <a:lnTo>
                  <a:pt x="3126" y="83"/>
                </a:lnTo>
                <a:lnTo>
                  <a:pt x="3294" y="39"/>
                </a:lnTo>
                <a:lnTo>
                  <a:pt x="3461" y="39"/>
                </a:lnTo>
                <a:lnTo>
                  <a:pt x="3629" y="39"/>
                </a:lnTo>
                <a:lnTo>
                  <a:pt x="3796" y="39"/>
                </a:lnTo>
                <a:lnTo>
                  <a:pt x="4008" y="39"/>
                </a:lnTo>
                <a:lnTo>
                  <a:pt x="4176" y="39"/>
                </a:lnTo>
                <a:lnTo>
                  <a:pt x="4343" y="39"/>
                </a:lnTo>
                <a:lnTo>
                  <a:pt x="4511" y="39"/>
                </a:lnTo>
                <a:lnTo>
                  <a:pt x="4890" y="0"/>
                </a:lnTo>
                <a:lnTo>
                  <a:pt x="5057" y="0"/>
                </a:lnTo>
                <a:lnTo>
                  <a:pt x="5225" y="0"/>
                </a:lnTo>
                <a:lnTo>
                  <a:pt x="5393" y="0"/>
                </a:lnTo>
                <a:lnTo>
                  <a:pt x="5560" y="39"/>
                </a:lnTo>
                <a:lnTo>
                  <a:pt x="5782" y="52"/>
                </a:lnTo>
                <a:lnTo>
                  <a:pt x="5967" y="52"/>
                </a:lnTo>
                <a:lnTo>
                  <a:pt x="6108" y="83"/>
                </a:lnTo>
                <a:lnTo>
                  <a:pt x="6443" y="52"/>
                </a:lnTo>
                <a:lnTo>
                  <a:pt x="6734" y="92"/>
                </a:lnTo>
                <a:lnTo>
                  <a:pt x="6933" y="92"/>
                </a:lnTo>
                <a:lnTo>
                  <a:pt x="7118" y="39"/>
                </a:lnTo>
                <a:lnTo>
                  <a:pt x="7303" y="92"/>
                </a:lnTo>
                <a:lnTo>
                  <a:pt x="7435" y="52"/>
                </a:lnTo>
                <a:lnTo>
                  <a:pt x="7607" y="79"/>
                </a:lnTo>
                <a:lnTo>
                  <a:pt x="7819" y="66"/>
                </a:lnTo>
                <a:lnTo>
                  <a:pt x="8057" y="92"/>
                </a:lnTo>
                <a:lnTo>
                  <a:pt x="8216" y="145"/>
                </a:lnTo>
                <a:lnTo>
                  <a:pt x="8441" y="132"/>
                </a:lnTo>
                <a:lnTo>
                  <a:pt x="8719" y="79"/>
                </a:lnTo>
                <a:lnTo>
                  <a:pt x="8970" y="145"/>
                </a:lnTo>
                <a:lnTo>
                  <a:pt x="9234" y="132"/>
                </a:lnTo>
                <a:lnTo>
                  <a:pt x="9552" y="185"/>
                </a:lnTo>
                <a:lnTo>
                  <a:pt x="9750" y="145"/>
                </a:lnTo>
                <a:lnTo>
                  <a:pt x="10094" y="171"/>
                </a:lnTo>
                <a:lnTo>
                  <a:pt x="10293" y="185"/>
                </a:lnTo>
                <a:lnTo>
                  <a:pt x="10412" y="224"/>
                </a:lnTo>
                <a:lnTo>
                  <a:pt x="10571" y="251"/>
                </a:lnTo>
                <a:lnTo>
                  <a:pt x="10729" y="264"/>
                </a:lnTo>
                <a:lnTo>
                  <a:pt x="10888" y="291"/>
                </a:lnTo>
                <a:lnTo>
                  <a:pt x="11126" y="383"/>
                </a:lnTo>
                <a:lnTo>
                  <a:pt x="11060" y="343"/>
                </a:lnTo>
                <a:lnTo>
                  <a:pt x="11020" y="317"/>
                </a:lnTo>
                <a:lnTo>
                  <a:pt x="11153" y="396"/>
                </a:lnTo>
                <a:lnTo>
                  <a:pt x="10769" y="3066"/>
                </a:lnTo>
                <a:lnTo>
                  <a:pt x="10641" y="3022"/>
                </a:lnTo>
                <a:lnTo>
                  <a:pt x="10474" y="3022"/>
                </a:lnTo>
                <a:lnTo>
                  <a:pt x="10306" y="2982"/>
                </a:lnTo>
                <a:lnTo>
                  <a:pt x="10094" y="2982"/>
                </a:lnTo>
                <a:lnTo>
                  <a:pt x="9843" y="2938"/>
                </a:lnTo>
                <a:lnTo>
                  <a:pt x="9675" y="2938"/>
                </a:lnTo>
                <a:lnTo>
                  <a:pt x="9468" y="2938"/>
                </a:lnTo>
                <a:lnTo>
                  <a:pt x="9340" y="2938"/>
                </a:lnTo>
                <a:lnTo>
                  <a:pt x="9129" y="2938"/>
                </a:lnTo>
                <a:lnTo>
                  <a:pt x="8961" y="2938"/>
                </a:lnTo>
                <a:lnTo>
                  <a:pt x="8793" y="2938"/>
                </a:lnTo>
                <a:lnTo>
                  <a:pt x="8626" y="2982"/>
                </a:lnTo>
                <a:lnTo>
                  <a:pt x="8419" y="2982"/>
                </a:lnTo>
                <a:lnTo>
                  <a:pt x="8291" y="2982"/>
                </a:lnTo>
                <a:lnTo>
                  <a:pt x="7995" y="2938"/>
                </a:lnTo>
                <a:lnTo>
                  <a:pt x="7788" y="2938"/>
                </a:lnTo>
                <a:lnTo>
                  <a:pt x="7493" y="2938"/>
                </a:lnTo>
                <a:lnTo>
                  <a:pt x="7365" y="2938"/>
                </a:lnTo>
                <a:lnTo>
                  <a:pt x="7113" y="2899"/>
                </a:lnTo>
                <a:lnTo>
                  <a:pt x="6862" y="2855"/>
                </a:lnTo>
                <a:lnTo>
                  <a:pt x="6694" y="2855"/>
                </a:lnTo>
                <a:lnTo>
                  <a:pt x="6567" y="2815"/>
                </a:lnTo>
                <a:lnTo>
                  <a:pt x="6315" y="2771"/>
                </a:lnTo>
                <a:lnTo>
                  <a:pt x="6108" y="2771"/>
                </a:lnTo>
                <a:lnTo>
                  <a:pt x="5980" y="2771"/>
                </a:lnTo>
                <a:lnTo>
                  <a:pt x="5813" y="2771"/>
                </a:lnTo>
                <a:lnTo>
                  <a:pt x="5601" y="2815"/>
                </a:lnTo>
                <a:lnTo>
                  <a:pt x="5432" y="2855"/>
                </a:lnTo>
                <a:lnTo>
                  <a:pt x="5225" y="2855"/>
                </a:lnTo>
                <a:lnTo>
                  <a:pt x="5097" y="2855"/>
                </a:lnTo>
                <a:lnTo>
                  <a:pt x="4762" y="2899"/>
                </a:lnTo>
                <a:lnTo>
                  <a:pt x="4467" y="2899"/>
                </a:lnTo>
                <a:lnTo>
                  <a:pt x="4259" y="2855"/>
                </a:lnTo>
                <a:lnTo>
                  <a:pt x="4048" y="2855"/>
                </a:lnTo>
                <a:lnTo>
                  <a:pt x="3712" y="2855"/>
                </a:lnTo>
                <a:lnTo>
                  <a:pt x="3585" y="2855"/>
                </a:lnTo>
                <a:lnTo>
                  <a:pt x="3417" y="2855"/>
                </a:lnTo>
                <a:lnTo>
                  <a:pt x="3210" y="2855"/>
                </a:lnTo>
                <a:lnTo>
                  <a:pt x="2954" y="2855"/>
                </a:lnTo>
                <a:lnTo>
                  <a:pt x="2786" y="2855"/>
                </a:lnTo>
                <a:lnTo>
                  <a:pt x="2619" y="2855"/>
                </a:lnTo>
                <a:lnTo>
                  <a:pt x="2451" y="2855"/>
                </a:lnTo>
                <a:lnTo>
                  <a:pt x="2284" y="2899"/>
                </a:lnTo>
                <a:lnTo>
                  <a:pt x="2156" y="2899"/>
                </a:lnTo>
                <a:lnTo>
                  <a:pt x="1988" y="2899"/>
                </a:lnTo>
                <a:lnTo>
                  <a:pt x="1737" y="2899"/>
                </a:lnTo>
                <a:lnTo>
                  <a:pt x="1530" y="2938"/>
                </a:lnTo>
                <a:lnTo>
                  <a:pt x="1402" y="3022"/>
                </a:lnTo>
                <a:lnTo>
                  <a:pt x="1274" y="3022"/>
                </a:lnTo>
                <a:lnTo>
                  <a:pt x="1106" y="3022"/>
                </a:lnTo>
                <a:lnTo>
                  <a:pt x="939" y="3022"/>
                </a:lnTo>
                <a:lnTo>
                  <a:pt x="806" y="3057"/>
                </a:lnTo>
                <a:lnTo>
                  <a:pt x="621" y="3097"/>
                </a:lnTo>
                <a:lnTo>
                  <a:pt x="268" y="3022"/>
                </a:lnTo>
                <a:lnTo>
                  <a:pt x="0" y="291"/>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9" name=""/>
          <p:cNvSpPr/>
          <p:nvPr/>
        </p:nvSpPr>
        <p:spPr>
          <a:xfrm>
            <a:off x="2835360" y="2328840"/>
            <a:ext cx="171720" cy="995760"/>
          </a:xfrm>
          <a:custGeom>
            <a:avLst/>
            <a:gdLst/>
            <a:ahLst/>
            <a:rect l="0" t="0" r="r" b="b"/>
            <a:pathLst>
              <a:path w="477" h="2766">
                <a:moveTo>
                  <a:pt x="211" y="0"/>
                </a:moveTo>
                <a:lnTo>
                  <a:pt x="0" y="198"/>
                </a:lnTo>
                <a:lnTo>
                  <a:pt x="252" y="2647"/>
                </a:lnTo>
                <a:lnTo>
                  <a:pt x="477" y="2766"/>
                </a:lnTo>
                <a:lnTo>
                  <a:pt x="211"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0" name=""/>
          <p:cNvSpPr/>
          <p:nvPr/>
        </p:nvSpPr>
        <p:spPr>
          <a:xfrm>
            <a:off x="6781680" y="2371680"/>
            <a:ext cx="206640" cy="962280"/>
          </a:xfrm>
          <a:custGeom>
            <a:avLst/>
            <a:gdLst/>
            <a:ahLst/>
            <a:rect l="0" t="0" r="r" b="b"/>
            <a:pathLst>
              <a:path w="574" h="2673">
                <a:moveTo>
                  <a:pt x="380" y="0"/>
                </a:moveTo>
                <a:lnTo>
                  <a:pt x="574" y="194"/>
                </a:lnTo>
                <a:lnTo>
                  <a:pt x="246" y="2532"/>
                </a:lnTo>
                <a:lnTo>
                  <a:pt x="0" y="2673"/>
                </a:lnTo>
                <a:lnTo>
                  <a:pt x="380"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1" name=""/>
          <p:cNvSpPr/>
          <p:nvPr/>
        </p:nvSpPr>
        <p:spPr>
          <a:xfrm>
            <a:off x="2352600" y="2790720"/>
            <a:ext cx="97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2" name=""/>
          <p:cNvSpPr/>
          <p:nvPr/>
        </p:nvSpPr>
        <p:spPr>
          <a:xfrm>
            <a:off x="3416400" y="27907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3" name=""/>
          <p:cNvSpPr/>
          <p:nvPr/>
        </p:nvSpPr>
        <p:spPr>
          <a:xfrm>
            <a:off x="3635280" y="2790720"/>
            <a:ext cx="20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4" name=""/>
          <p:cNvSpPr/>
          <p:nvPr/>
        </p:nvSpPr>
        <p:spPr>
          <a:xfrm>
            <a:off x="5743440" y="27907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5" name=""/>
          <p:cNvSpPr/>
          <p:nvPr/>
        </p:nvSpPr>
        <p:spPr>
          <a:xfrm>
            <a:off x="5950080" y="2790720"/>
            <a:ext cx="1528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6" name=""/>
          <p:cNvSpPr txBox="1"/>
          <p:nvPr/>
        </p:nvSpPr>
        <p:spPr>
          <a:xfrm>
            <a:off x="247680" y="9889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077" name=""/>
          <p:cNvSpPr txBox="1"/>
          <p:nvPr/>
        </p:nvSpPr>
        <p:spPr>
          <a:xfrm>
            <a:off x="1514520" y="5284800"/>
            <a:ext cx="633096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EX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078" name=""/>
          <p:cNvSpPr txBox="1"/>
          <p:nvPr/>
        </p:nvSpPr>
        <p:spPr>
          <a:xfrm>
            <a:off x="4668840" y="590400"/>
            <a:ext cx="177156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079" name=""/>
          <p:cNvSpPr/>
          <p:nvPr/>
        </p:nvSpPr>
        <p:spPr>
          <a:xfrm>
            <a:off x="6400800" y="7682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0" name=""/>
          <p:cNvSpPr/>
          <p:nvPr/>
        </p:nvSpPr>
        <p:spPr>
          <a:xfrm flipH="1">
            <a:off x="6219720" y="768240"/>
            <a:ext cx="347760" cy="1511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1" name=""/>
          <p:cNvSpPr txBox="1"/>
          <p:nvPr/>
        </p:nvSpPr>
        <p:spPr>
          <a:xfrm>
            <a:off x="1154160" y="214200"/>
            <a:ext cx="2508120" cy="64152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Datum Feature Simulator</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Variable cylinder gage)</a:t>
            </a:r>
            <a:endParaRPr b="0" lang="en-US" sz="1800" spc="-1" strike="noStrike">
              <a:solidFill>
                <a:srgbClr val="000000"/>
              </a:solidFill>
              <a:latin typeface="Arial"/>
            </a:endParaRPr>
          </a:p>
        </p:txBody>
      </p:sp>
      <p:sp>
        <p:nvSpPr>
          <p:cNvPr id="3082" name=""/>
          <p:cNvSpPr/>
          <p:nvPr/>
        </p:nvSpPr>
        <p:spPr>
          <a:xfrm>
            <a:off x="3678120" y="44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3" name=""/>
          <p:cNvSpPr/>
          <p:nvPr/>
        </p:nvSpPr>
        <p:spPr>
          <a:xfrm>
            <a:off x="3844800" y="441360"/>
            <a:ext cx="1438560" cy="1052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84" name=""/>
          <p:cNvSpPr/>
          <p:nvPr/>
        </p:nvSpPr>
        <p:spPr>
          <a:xfrm>
            <a:off x="34797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5" name=""/>
          <p:cNvSpPr/>
          <p:nvPr/>
        </p:nvSpPr>
        <p:spPr>
          <a:xfrm>
            <a:off x="3925800" y="2790720"/>
            <a:ext cx="1121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6" name=""/>
          <p:cNvSpPr/>
          <p:nvPr/>
        </p:nvSpPr>
        <p:spPr>
          <a:xfrm>
            <a:off x="2476440" y="1357200"/>
            <a:ext cx="4748400" cy="862200"/>
          </a:xfrm>
          <a:custGeom>
            <a:avLst/>
            <a:gdLst/>
            <a:ahLst/>
            <a:rect l="0" t="0" r="r" b="b"/>
            <a:pathLst>
              <a:path w="13190" h="2395">
                <a:moveTo>
                  <a:pt x="44" y="965"/>
                </a:moveTo>
                <a:lnTo>
                  <a:pt x="44" y="2395"/>
                </a:lnTo>
                <a:lnTo>
                  <a:pt x="13190" y="2395"/>
                </a:lnTo>
                <a:lnTo>
                  <a:pt x="13190" y="714"/>
                </a:lnTo>
                <a:lnTo>
                  <a:pt x="13190" y="418"/>
                </a:lnTo>
                <a:lnTo>
                  <a:pt x="13062" y="374"/>
                </a:lnTo>
                <a:lnTo>
                  <a:pt x="12934" y="418"/>
                </a:lnTo>
                <a:lnTo>
                  <a:pt x="12727" y="418"/>
                </a:lnTo>
                <a:lnTo>
                  <a:pt x="12559" y="418"/>
                </a:lnTo>
                <a:lnTo>
                  <a:pt x="12432" y="418"/>
                </a:lnTo>
                <a:lnTo>
                  <a:pt x="12264" y="418"/>
                </a:lnTo>
                <a:lnTo>
                  <a:pt x="12136" y="418"/>
                </a:lnTo>
                <a:lnTo>
                  <a:pt x="12013" y="291"/>
                </a:lnTo>
                <a:lnTo>
                  <a:pt x="11885" y="251"/>
                </a:lnTo>
                <a:lnTo>
                  <a:pt x="11717" y="251"/>
                </a:lnTo>
                <a:lnTo>
                  <a:pt x="11382" y="207"/>
                </a:lnTo>
                <a:lnTo>
                  <a:pt x="11254" y="167"/>
                </a:lnTo>
                <a:lnTo>
                  <a:pt x="11087" y="167"/>
                </a:lnTo>
                <a:lnTo>
                  <a:pt x="10919" y="167"/>
                </a:lnTo>
                <a:lnTo>
                  <a:pt x="10835" y="39"/>
                </a:lnTo>
                <a:lnTo>
                  <a:pt x="10668" y="39"/>
                </a:lnTo>
                <a:lnTo>
                  <a:pt x="10500" y="39"/>
                </a:lnTo>
                <a:lnTo>
                  <a:pt x="10205" y="39"/>
                </a:lnTo>
                <a:lnTo>
                  <a:pt x="9997" y="39"/>
                </a:lnTo>
                <a:lnTo>
                  <a:pt x="9662" y="39"/>
                </a:lnTo>
                <a:lnTo>
                  <a:pt x="9406" y="39"/>
                </a:lnTo>
                <a:lnTo>
                  <a:pt x="8780" y="0"/>
                </a:lnTo>
                <a:lnTo>
                  <a:pt x="8608" y="0"/>
                </a:lnTo>
                <a:lnTo>
                  <a:pt x="8401" y="39"/>
                </a:lnTo>
                <a:lnTo>
                  <a:pt x="8189" y="167"/>
                </a:lnTo>
                <a:lnTo>
                  <a:pt x="8022" y="251"/>
                </a:lnTo>
                <a:lnTo>
                  <a:pt x="7603" y="463"/>
                </a:lnTo>
                <a:lnTo>
                  <a:pt x="7435" y="546"/>
                </a:lnTo>
                <a:lnTo>
                  <a:pt x="7307" y="586"/>
                </a:lnTo>
                <a:lnTo>
                  <a:pt x="7056" y="586"/>
                </a:lnTo>
                <a:lnTo>
                  <a:pt x="6637" y="586"/>
                </a:lnTo>
                <a:lnTo>
                  <a:pt x="6217" y="586"/>
                </a:lnTo>
                <a:lnTo>
                  <a:pt x="6089" y="586"/>
                </a:lnTo>
                <a:lnTo>
                  <a:pt x="5961" y="586"/>
                </a:lnTo>
                <a:lnTo>
                  <a:pt x="5626" y="463"/>
                </a:lnTo>
                <a:lnTo>
                  <a:pt x="5335" y="418"/>
                </a:lnTo>
                <a:lnTo>
                  <a:pt x="4872" y="418"/>
                </a:lnTo>
                <a:lnTo>
                  <a:pt x="4621" y="418"/>
                </a:lnTo>
                <a:lnTo>
                  <a:pt x="4493" y="463"/>
                </a:lnTo>
                <a:lnTo>
                  <a:pt x="4158" y="546"/>
                </a:lnTo>
                <a:lnTo>
                  <a:pt x="3946" y="586"/>
                </a:lnTo>
                <a:lnTo>
                  <a:pt x="3655" y="630"/>
                </a:lnTo>
                <a:lnTo>
                  <a:pt x="3360" y="714"/>
                </a:lnTo>
                <a:lnTo>
                  <a:pt x="3192" y="714"/>
                </a:lnTo>
                <a:lnTo>
                  <a:pt x="3064" y="754"/>
                </a:lnTo>
                <a:lnTo>
                  <a:pt x="2857" y="798"/>
                </a:lnTo>
                <a:lnTo>
                  <a:pt x="2729" y="798"/>
                </a:lnTo>
                <a:lnTo>
                  <a:pt x="2522" y="754"/>
                </a:lnTo>
                <a:lnTo>
                  <a:pt x="2394" y="714"/>
                </a:lnTo>
                <a:lnTo>
                  <a:pt x="2266" y="714"/>
                </a:lnTo>
                <a:lnTo>
                  <a:pt x="1931" y="714"/>
                </a:lnTo>
                <a:lnTo>
                  <a:pt x="1763" y="714"/>
                </a:lnTo>
                <a:lnTo>
                  <a:pt x="1596" y="714"/>
                </a:lnTo>
                <a:lnTo>
                  <a:pt x="1428" y="714"/>
                </a:lnTo>
                <a:lnTo>
                  <a:pt x="1177" y="714"/>
                </a:lnTo>
                <a:lnTo>
                  <a:pt x="1009" y="714"/>
                </a:lnTo>
                <a:lnTo>
                  <a:pt x="881" y="714"/>
                </a:lnTo>
                <a:lnTo>
                  <a:pt x="670" y="714"/>
                </a:lnTo>
                <a:lnTo>
                  <a:pt x="463" y="754"/>
                </a:lnTo>
                <a:lnTo>
                  <a:pt x="335" y="837"/>
                </a:lnTo>
                <a:lnTo>
                  <a:pt x="167" y="921"/>
                </a:lnTo>
                <a:lnTo>
                  <a:pt x="0" y="965"/>
                </a:lnTo>
                <a:lnTo>
                  <a:pt x="44" y="965"/>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52689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8" name=""/>
          <p:cNvSpPr/>
          <p:nvPr/>
        </p:nvSpPr>
        <p:spPr>
          <a:xfrm flipH="1">
            <a:off x="2487600" y="3355920"/>
            <a:ext cx="4719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9" name=""/>
          <p:cNvSpPr/>
          <p:nvPr/>
        </p:nvSpPr>
        <p:spPr>
          <a:xfrm>
            <a:off x="7219800" y="2217600"/>
            <a:ext cx="0" cy="11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0" name=""/>
          <p:cNvSpPr/>
          <p:nvPr/>
        </p:nvSpPr>
        <p:spPr>
          <a:xfrm>
            <a:off x="2487600" y="2217600"/>
            <a:ext cx="0" cy="11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1" name=""/>
          <p:cNvSpPr/>
          <p:nvPr/>
        </p:nvSpPr>
        <p:spPr>
          <a:xfrm>
            <a:off x="2489040" y="3351240"/>
            <a:ext cx="4732560" cy="848160"/>
          </a:xfrm>
          <a:custGeom>
            <a:avLst/>
            <a:gdLst/>
            <a:ahLst/>
            <a:rect l="0" t="0" r="r" b="b"/>
            <a:pathLst>
              <a:path w="13146" h="2356">
                <a:moveTo>
                  <a:pt x="0" y="1306"/>
                </a:moveTo>
                <a:lnTo>
                  <a:pt x="0" y="0"/>
                </a:lnTo>
                <a:lnTo>
                  <a:pt x="13146" y="0"/>
                </a:lnTo>
                <a:lnTo>
                  <a:pt x="13146" y="1849"/>
                </a:lnTo>
                <a:lnTo>
                  <a:pt x="13018" y="1849"/>
                </a:lnTo>
                <a:lnTo>
                  <a:pt x="12850" y="1849"/>
                </a:lnTo>
                <a:lnTo>
                  <a:pt x="12599" y="1849"/>
                </a:lnTo>
                <a:lnTo>
                  <a:pt x="12392" y="1809"/>
                </a:lnTo>
                <a:lnTo>
                  <a:pt x="12180" y="1809"/>
                </a:lnTo>
                <a:lnTo>
                  <a:pt x="12013" y="1764"/>
                </a:lnTo>
                <a:lnTo>
                  <a:pt x="11885" y="1809"/>
                </a:lnTo>
                <a:lnTo>
                  <a:pt x="11633" y="1893"/>
                </a:lnTo>
                <a:lnTo>
                  <a:pt x="11342" y="1977"/>
                </a:lnTo>
                <a:lnTo>
                  <a:pt x="11131" y="2061"/>
                </a:lnTo>
                <a:lnTo>
                  <a:pt x="11003" y="2061"/>
                </a:lnTo>
                <a:lnTo>
                  <a:pt x="10165" y="2061"/>
                </a:lnTo>
                <a:lnTo>
                  <a:pt x="9869" y="2061"/>
                </a:lnTo>
                <a:lnTo>
                  <a:pt x="9662" y="2021"/>
                </a:lnTo>
                <a:lnTo>
                  <a:pt x="9490" y="1977"/>
                </a:lnTo>
                <a:lnTo>
                  <a:pt x="9323" y="1937"/>
                </a:lnTo>
                <a:lnTo>
                  <a:pt x="9155" y="1937"/>
                </a:lnTo>
                <a:lnTo>
                  <a:pt x="8948" y="1893"/>
                </a:lnTo>
                <a:lnTo>
                  <a:pt x="8820" y="1849"/>
                </a:lnTo>
                <a:lnTo>
                  <a:pt x="8608" y="1849"/>
                </a:lnTo>
                <a:lnTo>
                  <a:pt x="8189" y="1893"/>
                </a:lnTo>
                <a:lnTo>
                  <a:pt x="8022" y="1937"/>
                </a:lnTo>
                <a:lnTo>
                  <a:pt x="7854" y="1977"/>
                </a:lnTo>
                <a:lnTo>
                  <a:pt x="7643" y="1977"/>
                </a:lnTo>
                <a:lnTo>
                  <a:pt x="7435" y="1977"/>
                </a:lnTo>
                <a:lnTo>
                  <a:pt x="7224" y="2021"/>
                </a:lnTo>
                <a:lnTo>
                  <a:pt x="7016" y="2021"/>
                </a:lnTo>
                <a:lnTo>
                  <a:pt x="6805" y="2061"/>
                </a:lnTo>
                <a:lnTo>
                  <a:pt x="6593" y="2061"/>
                </a:lnTo>
                <a:lnTo>
                  <a:pt x="6301" y="2189"/>
                </a:lnTo>
                <a:lnTo>
                  <a:pt x="6089" y="2189"/>
                </a:lnTo>
                <a:lnTo>
                  <a:pt x="5710" y="2312"/>
                </a:lnTo>
                <a:lnTo>
                  <a:pt x="5419" y="2356"/>
                </a:lnTo>
                <a:lnTo>
                  <a:pt x="5291" y="2356"/>
                </a:lnTo>
                <a:lnTo>
                  <a:pt x="4744" y="2356"/>
                </a:lnTo>
                <a:lnTo>
                  <a:pt x="4493" y="2356"/>
                </a:lnTo>
                <a:lnTo>
                  <a:pt x="4158" y="2145"/>
                </a:lnTo>
                <a:lnTo>
                  <a:pt x="3907" y="2061"/>
                </a:lnTo>
                <a:lnTo>
                  <a:pt x="3488" y="1849"/>
                </a:lnTo>
                <a:lnTo>
                  <a:pt x="3192" y="1725"/>
                </a:lnTo>
                <a:lnTo>
                  <a:pt x="2897" y="1557"/>
                </a:lnTo>
                <a:lnTo>
                  <a:pt x="2773" y="1429"/>
                </a:lnTo>
                <a:lnTo>
                  <a:pt x="2434" y="1306"/>
                </a:lnTo>
                <a:lnTo>
                  <a:pt x="2059" y="1262"/>
                </a:lnTo>
                <a:lnTo>
                  <a:pt x="1891" y="1262"/>
                </a:lnTo>
                <a:lnTo>
                  <a:pt x="1596" y="1262"/>
                </a:lnTo>
                <a:lnTo>
                  <a:pt x="1093" y="1262"/>
                </a:lnTo>
                <a:lnTo>
                  <a:pt x="842" y="1262"/>
                </a:lnTo>
                <a:lnTo>
                  <a:pt x="714" y="1262"/>
                </a:lnTo>
                <a:lnTo>
                  <a:pt x="502" y="1262"/>
                </a:lnTo>
                <a:lnTo>
                  <a:pt x="295" y="1262"/>
                </a:lnTo>
                <a:lnTo>
                  <a:pt x="167" y="1262"/>
                </a:lnTo>
                <a:lnTo>
                  <a:pt x="0" y="1262"/>
                </a:lnTo>
                <a:lnTo>
                  <a:pt x="0" y="130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2" name=""/>
          <p:cNvSpPr/>
          <p:nvPr/>
        </p:nvSpPr>
        <p:spPr>
          <a:xfrm>
            <a:off x="2906640" y="2228760"/>
            <a:ext cx="4015080" cy="1114920"/>
          </a:xfrm>
          <a:custGeom>
            <a:avLst/>
            <a:gdLst/>
            <a:ahLst/>
            <a:rect l="0" t="0" r="r" b="b"/>
            <a:pathLst>
              <a:path w="11153" h="3097">
                <a:moveTo>
                  <a:pt x="0" y="291"/>
                </a:moveTo>
                <a:lnTo>
                  <a:pt x="26" y="317"/>
                </a:lnTo>
                <a:lnTo>
                  <a:pt x="17" y="291"/>
                </a:lnTo>
                <a:lnTo>
                  <a:pt x="185" y="291"/>
                </a:lnTo>
                <a:lnTo>
                  <a:pt x="352" y="207"/>
                </a:lnTo>
                <a:lnTo>
                  <a:pt x="480" y="167"/>
                </a:lnTo>
                <a:lnTo>
                  <a:pt x="648" y="167"/>
                </a:lnTo>
                <a:lnTo>
                  <a:pt x="815" y="167"/>
                </a:lnTo>
                <a:lnTo>
                  <a:pt x="983" y="123"/>
                </a:lnTo>
                <a:lnTo>
                  <a:pt x="1150" y="123"/>
                </a:lnTo>
                <a:lnTo>
                  <a:pt x="1318" y="123"/>
                </a:lnTo>
                <a:lnTo>
                  <a:pt x="1446" y="123"/>
                </a:lnTo>
                <a:lnTo>
                  <a:pt x="1613" y="123"/>
                </a:lnTo>
                <a:lnTo>
                  <a:pt x="1781" y="123"/>
                </a:lnTo>
                <a:lnTo>
                  <a:pt x="1949" y="123"/>
                </a:lnTo>
                <a:lnTo>
                  <a:pt x="2116" y="83"/>
                </a:lnTo>
                <a:lnTo>
                  <a:pt x="2244" y="83"/>
                </a:lnTo>
                <a:lnTo>
                  <a:pt x="2579" y="83"/>
                </a:lnTo>
                <a:lnTo>
                  <a:pt x="2747" y="83"/>
                </a:lnTo>
                <a:lnTo>
                  <a:pt x="2914" y="83"/>
                </a:lnTo>
                <a:lnTo>
                  <a:pt x="3126" y="83"/>
                </a:lnTo>
                <a:lnTo>
                  <a:pt x="3294" y="39"/>
                </a:lnTo>
                <a:lnTo>
                  <a:pt x="3461" y="39"/>
                </a:lnTo>
                <a:lnTo>
                  <a:pt x="3629" y="39"/>
                </a:lnTo>
                <a:lnTo>
                  <a:pt x="3796" y="39"/>
                </a:lnTo>
                <a:lnTo>
                  <a:pt x="4008" y="39"/>
                </a:lnTo>
                <a:lnTo>
                  <a:pt x="4176" y="39"/>
                </a:lnTo>
                <a:lnTo>
                  <a:pt x="4343" y="39"/>
                </a:lnTo>
                <a:lnTo>
                  <a:pt x="4511" y="39"/>
                </a:lnTo>
                <a:lnTo>
                  <a:pt x="4890" y="0"/>
                </a:lnTo>
                <a:lnTo>
                  <a:pt x="5057" y="0"/>
                </a:lnTo>
                <a:lnTo>
                  <a:pt x="5225" y="0"/>
                </a:lnTo>
                <a:lnTo>
                  <a:pt x="5393" y="0"/>
                </a:lnTo>
                <a:lnTo>
                  <a:pt x="5560" y="39"/>
                </a:lnTo>
                <a:lnTo>
                  <a:pt x="5782" y="52"/>
                </a:lnTo>
                <a:lnTo>
                  <a:pt x="5967" y="52"/>
                </a:lnTo>
                <a:lnTo>
                  <a:pt x="6108" y="83"/>
                </a:lnTo>
                <a:lnTo>
                  <a:pt x="6443" y="52"/>
                </a:lnTo>
                <a:lnTo>
                  <a:pt x="6734" y="92"/>
                </a:lnTo>
                <a:lnTo>
                  <a:pt x="6933" y="92"/>
                </a:lnTo>
                <a:lnTo>
                  <a:pt x="7118" y="39"/>
                </a:lnTo>
                <a:lnTo>
                  <a:pt x="7303" y="92"/>
                </a:lnTo>
                <a:lnTo>
                  <a:pt x="7435" y="52"/>
                </a:lnTo>
                <a:lnTo>
                  <a:pt x="7607" y="79"/>
                </a:lnTo>
                <a:lnTo>
                  <a:pt x="7819" y="66"/>
                </a:lnTo>
                <a:lnTo>
                  <a:pt x="8057" y="92"/>
                </a:lnTo>
                <a:lnTo>
                  <a:pt x="8216" y="145"/>
                </a:lnTo>
                <a:lnTo>
                  <a:pt x="8441" y="132"/>
                </a:lnTo>
                <a:lnTo>
                  <a:pt x="8719" y="79"/>
                </a:lnTo>
                <a:lnTo>
                  <a:pt x="8970" y="145"/>
                </a:lnTo>
                <a:lnTo>
                  <a:pt x="9234" y="132"/>
                </a:lnTo>
                <a:lnTo>
                  <a:pt x="9552" y="185"/>
                </a:lnTo>
                <a:lnTo>
                  <a:pt x="9750" y="145"/>
                </a:lnTo>
                <a:lnTo>
                  <a:pt x="10094" y="171"/>
                </a:lnTo>
                <a:lnTo>
                  <a:pt x="10293" y="185"/>
                </a:lnTo>
                <a:lnTo>
                  <a:pt x="10412" y="224"/>
                </a:lnTo>
                <a:lnTo>
                  <a:pt x="10571" y="251"/>
                </a:lnTo>
                <a:lnTo>
                  <a:pt x="10729" y="264"/>
                </a:lnTo>
                <a:lnTo>
                  <a:pt x="10888" y="291"/>
                </a:lnTo>
                <a:lnTo>
                  <a:pt x="11126" y="383"/>
                </a:lnTo>
                <a:lnTo>
                  <a:pt x="11060" y="343"/>
                </a:lnTo>
                <a:lnTo>
                  <a:pt x="11020" y="317"/>
                </a:lnTo>
                <a:lnTo>
                  <a:pt x="11153" y="396"/>
                </a:lnTo>
                <a:lnTo>
                  <a:pt x="10769" y="3066"/>
                </a:lnTo>
                <a:lnTo>
                  <a:pt x="10641" y="3022"/>
                </a:lnTo>
                <a:lnTo>
                  <a:pt x="10474" y="3022"/>
                </a:lnTo>
                <a:lnTo>
                  <a:pt x="10306" y="2982"/>
                </a:lnTo>
                <a:lnTo>
                  <a:pt x="10094" y="2982"/>
                </a:lnTo>
                <a:lnTo>
                  <a:pt x="9843" y="2938"/>
                </a:lnTo>
                <a:lnTo>
                  <a:pt x="9675" y="2938"/>
                </a:lnTo>
                <a:lnTo>
                  <a:pt x="9468" y="2938"/>
                </a:lnTo>
                <a:lnTo>
                  <a:pt x="9340" y="2938"/>
                </a:lnTo>
                <a:lnTo>
                  <a:pt x="9129" y="2938"/>
                </a:lnTo>
                <a:lnTo>
                  <a:pt x="8961" y="2938"/>
                </a:lnTo>
                <a:lnTo>
                  <a:pt x="8793" y="2938"/>
                </a:lnTo>
                <a:lnTo>
                  <a:pt x="8626" y="2982"/>
                </a:lnTo>
                <a:lnTo>
                  <a:pt x="8419" y="2982"/>
                </a:lnTo>
                <a:lnTo>
                  <a:pt x="8291" y="2982"/>
                </a:lnTo>
                <a:lnTo>
                  <a:pt x="7995" y="2938"/>
                </a:lnTo>
                <a:lnTo>
                  <a:pt x="7788" y="2938"/>
                </a:lnTo>
                <a:lnTo>
                  <a:pt x="7493" y="2938"/>
                </a:lnTo>
                <a:lnTo>
                  <a:pt x="7365" y="2938"/>
                </a:lnTo>
                <a:lnTo>
                  <a:pt x="7113" y="2899"/>
                </a:lnTo>
                <a:lnTo>
                  <a:pt x="6862" y="2855"/>
                </a:lnTo>
                <a:lnTo>
                  <a:pt x="6694" y="2855"/>
                </a:lnTo>
                <a:lnTo>
                  <a:pt x="6567" y="2815"/>
                </a:lnTo>
                <a:lnTo>
                  <a:pt x="6315" y="2771"/>
                </a:lnTo>
                <a:lnTo>
                  <a:pt x="6108" y="2771"/>
                </a:lnTo>
                <a:lnTo>
                  <a:pt x="5980" y="2771"/>
                </a:lnTo>
                <a:lnTo>
                  <a:pt x="5813" y="2771"/>
                </a:lnTo>
                <a:lnTo>
                  <a:pt x="5601" y="2815"/>
                </a:lnTo>
                <a:lnTo>
                  <a:pt x="5432" y="2855"/>
                </a:lnTo>
                <a:lnTo>
                  <a:pt x="5225" y="2855"/>
                </a:lnTo>
                <a:lnTo>
                  <a:pt x="5097" y="2855"/>
                </a:lnTo>
                <a:lnTo>
                  <a:pt x="4762" y="2899"/>
                </a:lnTo>
                <a:lnTo>
                  <a:pt x="4467" y="2899"/>
                </a:lnTo>
                <a:lnTo>
                  <a:pt x="4259" y="2855"/>
                </a:lnTo>
                <a:lnTo>
                  <a:pt x="4048" y="2855"/>
                </a:lnTo>
                <a:lnTo>
                  <a:pt x="3712" y="2855"/>
                </a:lnTo>
                <a:lnTo>
                  <a:pt x="3585" y="2855"/>
                </a:lnTo>
                <a:lnTo>
                  <a:pt x="3417" y="2855"/>
                </a:lnTo>
                <a:lnTo>
                  <a:pt x="3210" y="2855"/>
                </a:lnTo>
                <a:lnTo>
                  <a:pt x="2954" y="2855"/>
                </a:lnTo>
                <a:lnTo>
                  <a:pt x="2786" y="2855"/>
                </a:lnTo>
                <a:lnTo>
                  <a:pt x="2619" y="2855"/>
                </a:lnTo>
                <a:lnTo>
                  <a:pt x="2451" y="2855"/>
                </a:lnTo>
                <a:lnTo>
                  <a:pt x="2284" y="2899"/>
                </a:lnTo>
                <a:lnTo>
                  <a:pt x="2156" y="2899"/>
                </a:lnTo>
                <a:lnTo>
                  <a:pt x="1988" y="2899"/>
                </a:lnTo>
                <a:lnTo>
                  <a:pt x="1737" y="2899"/>
                </a:lnTo>
                <a:lnTo>
                  <a:pt x="1530" y="2938"/>
                </a:lnTo>
                <a:lnTo>
                  <a:pt x="1402" y="3022"/>
                </a:lnTo>
                <a:lnTo>
                  <a:pt x="1274" y="3022"/>
                </a:lnTo>
                <a:lnTo>
                  <a:pt x="1106" y="3022"/>
                </a:lnTo>
                <a:lnTo>
                  <a:pt x="939" y="3022"/>
                </a:lnTo>
                <a:lnTo>
                  <a:pt x="806" y="3057"/>
                </a:lnTo>
                <a:lnTo>
                  <a:pt x="621" y="3097"/>
                </a:lnTo>
                <a:lnTo>
                  <a:pt x="268" y="3022"/>
                </a:lnTo>
                <a:lnTo>
                  <a:pt x="0" y="291"/>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3" name=""/>
          <p:cNvSpPr/>
          <p:nvPr/>
        </p:nvSpPr>
        <p:spPr>
          <a:xfrm>
            <a:off x="2835360" y="2328840"/>
            <a:ext cx="171720" cy="995760"/>
          </a:xfrm>
          <a:custGeom>
            <a:avLst/>
            <a:gdLst/>
            <a:ahLst/>
            <a:rect l="0" t="0" r="r" b="b"/>
            <a:pathLst>
              <a:path w="477" h="2766">
                <a:moveTo>
                  <a:pt x="211" y="0"/>
                </a:moveTo>
                <a:lnTo>
                  <a:pt x="0" y="198"/>
                </a:lnTo>
                <a:lnTo>
                  <a:pt x="252" y="2647"/>
                </a:lnTo>
                <a:lnTo>
                  <a:pt x="477" y="2766"/>
                </a:lnTo>
                <a:lnTo>
                  <a:pt x="211"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4" name=""/>
          <p:cNvSpPr/>
          <p:nvPr/>
        </p:nvSpPr>
        <p:spPr>
          <a:xfrm>
            <a:off x="6781680" y="2371680"/>
            <a:ext cx="206640" cy="962280"/>
          </a:xfrm>
          <a:custGeom>
            <a:avLst/>
            <a:gdLst/>
            <a:ahLst/>
            <a:rect l="0" t="0" r="r" b="b"/>
            <a:pathLst>
              <a:path w="574" h="2673">
                <a:moveTo>
                  <a:pt x="380" y="0"/>
                </a:moveTo>
                <a:lnTo>
                  <a:pt x="574" y="194"/>
                </a:lnTo>
                <a:lnTo>
                  <a:pt x="246" y="2532"/>
                </a:lnTo>
                <a:lnTo>
                  <a:pt x="0" y="2673"/>
                </a:lnTo>
                <a:lnTo>
                  <a:pt x="380"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5" name=""/>
          <p:cNvSpPr/>
          <p:nvPr/>
        </p:nvSpPr>
        <p:spPr>
          <a:xfrm>
            <a:off x="2352600" y="2790720"/>
            <a:ext cx="97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6" name=""/>
          <p:cNvSpPr/>
          <p:nvPr/>
        </p:nvSpPr>
        <p:spPr>
          <a:xfrm>
            <a:off x="3416400" y="279072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7" name=""/>
          <p:cNvSpPr/>
          <p:nvPr/>
        </p:nvSpPr>
        <p:spPr>
          <a:xfrm>
            <a:off x="3635280" y="2790720"/>
            <a:ext cx="2019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8" name=""/>
          <p:cNvSpPr/>
          <p:nvPr/>
        </p:nvSpPr>
        <p:spPr>
          <a:xfrm>
            <a:off x="5743440" y="279072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9" name=""/>
          <p:cNvSpPr/>
          <p:nvPr/>
        </p:nvSpPr>
        <p:spPr>
          <a:xfrm>
            <a:off x="5950080" y="2790720"/>
            <a:ext cx="1528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0" name=""/>
          <p:cNvSpPr/>
          <p:nvPr/>
        </p:nvSpPr>
        <p:spPr>
          <a:xfrm>
            <a:off x="7372440" y="221760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1" name=""/>
          <p:cNvSpPr/>
          <p:nvPr/>
        </p:nvSpPr>
        <p:spPr>
          <a:xfrm>
            <a:off x="7342200" y="3351240"/>
            <a:ext cx="847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2" name=""/>
          <p:cNvSpPr/>
          <p:nvPr/>
        </p:nvSpPr>
        <p:spPr>
          <a:xfrm>
            <a:off x="8053560" y="2217600"/>
            <a:ext cx="0" cy="1133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3" name=""/>
          <p:cNvSpPr/>
          <p:nvPr/>
        </p:nvSpPr>
        <p:spPr>
          <a:xfrm>
            <a:off x="8053560" y="3351240"/>
            <a:ext cx="0" cy="108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4" name=""/>
          <p:cNvSpPr/>
          <p:nvPr/>
        </p:nvSpPr>
        <p:spPr>
          <a:xfrm flipH="1">
            <a:off x="7796160" y="444024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5" name=""/>
          <p:cNvSpPr txBox="1"/>
          <p:nvPr/>
        </p:nvSpPr>
        <p:spPr>
          <a:xfrm>
            <a:off x="3371760" y="4264200"/>
            <a:ext cx="44751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 of datum feature A</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smallest circumscribed cylinder)</a:t>
            </a:r>
            <a:endParaRPr b="0" lang="en-US" sz="1800" spc="-1" strike="noStrike">
              <a:solidFill>
                <a:srgbClr val="000000"/>
              </a:solidFill>
              <a:latin typeface="Arial"/>
            </a:endParaRPr>
          </a:p>
        </p:txBody>
      </p:sp>
      <p:sp>
        <p:nvSpPr>
          <p:cNvPr id="3106" name=""/>
          <p:cNvSpPr txBox="1"/>
          <p:nvPr/>
        </p:nvSpPr>
        <p:spPr>
          <a:xfrm>
            <a:off x="247680" y="9889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107" name=""/>
          <p:cNvSpPr txBox="1"/>
          <p:nvPr/>
        </p:nvSpPr>
        <p:spPr>
          <a:xfrm>
            <a:off x="1514520" y="5284800"/>
            <a:ext cx="633096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EX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108" name=""/>
          <p:cNvSpPr txBox="1"/>
          <p:nvPr/>
        </p:nvSpPr>
        <p:spPr>
          <a:xfrm>
            <a:off x="4668840" y="590400"/>
            <a:ext cx="177156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109" name=""/>
          <p:cNvSpPr/>
          <p:nvPr/>
        </p:nvSpPr>
        <p:spPr>
          <a:xfrm>
            <a:off x="6400800" y="7682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0" name=""/>
          <p:cNvSpPr/>
          <p:nvPr/>
        </p:nvSpPr>
        <p:spPr>
          <a:xfrm flipH="1">
            <a:off x="6219720" y="768240"/>
            <a:ext cx="347760" cy="1511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1" name=""/>
          <p:cNvSpPr txBox="1"/>
          <p:nvPr/>
        </p:nvSpPr>
        <p:spPr>
          <a:xfrm>
            <a:off x="1154160" y="214200"/>
            <a:ext cx="2508120" cy="64152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Datum Feature Simulator</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Variable cylinder gage)</a:t>
            </a:r>
            <a:endParaRPr b="0" lang="en-US" sz="1800" spc="-1" strike="noStrike">
              <a:solidFill>
                <a:srgbClr val="000000"/>
              </a:solidFill>
              <a:latin typeface="Arial"/>
            </a:endParaRPr>
          </a:p>
        </p:txBody>
      </p:sp>
      <p:sp>
        <p:nvSpPr>
          <p:cNvPr id="3112" name=""/>
          <p:cNvSpPr/>
          <p:nvPr/>
        </p:nvSpPr>
        <p:spPr>
          <a:xfrm>
            <a:off x="3678120" y="44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3" name=""/>
          <p:cNvSpPr/>
          <p:nvPr/>
        </p:nvSpPr>
        <p:spPr>
          <a:xfrm>
            <a:off x="3844800" y="441360"/>
            <a:ext cx="1438560" cy="1052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9" name=""/>
          <p:cNvSpPr txBox="1"/>
          <p:nvPr/>
        </p:nvSpPr>
        <p:spPr>
          <a:xfrm>
            <a:off x="460440" y="3294000"/>
            <a:ext cx="8334360" cy="29415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Dimensions related to a datum reference frame through geometric tolerances or special notes should be measured </a:t>
            </a:r>
            <a:r>
              <a:rPr b="0" lang="en-US" sz="2800" spc="-1" strike="noStrike">
                <a:solidFill>
                  <a:srgbClr val="fafd00"/>
                </a:solidFill>
                <a:latin typeface="Times New Roman"/>
                <a:ea typeface="Times New Roman"/>
              </a:rPr>
              <a:t>from</a:t>
            </a:r>
            <a:r>
              <a:rPr b="0" lang="en-US" sz="2800" spc="-1" strike="noStrike">
                <a:solidFill>
                  <a:srgbClr val="ffffff"/>
                </a:solidFill>
                <a:latin typeface="Times New Roman"/>
                <a:ea typeface="Times New Roman"/>
              </a:rPr>
              <a:t> the datum reference fram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Geomtric tolerances that are linked to a datum reference frame must have a datum </a:t>
            </a:r>
            <a:r>
              <a:rPr b="0" lang="en-US" sz="2800" spc="-1" strike="noStrike">
                <a:solidFill>
                  <a:srgbClr val="fafd00"/>
                </a:solidFill>
                <a:latin typeface="Times New Roman"/>
                <a:ea typeface="Times New Roman"/>
              </a:rPr>
              <a:t>precedence</a:t>
            </a:r>
            <a:r>
              <a:rPr b="0" lang="en-US" sz="2800" spc="-1" strike="noStrike">
                <a:solidFill>
                  <a:srgbClr val="ffffff"/>
                </a:solidFill>
                <a:latin typeface="Times New Roman"/>
                <a:ea typeface="Times New Roman"/>
              </a:rPr>
              <a:t> specified.</a:t>
            </a:r>
            <a:endParaRPr b="0" lang="en-US" sz="2800" spc="-1" strike="noStrike">
              <a:solidFill>
                <a:srgbClr val="000000"/>
              </a:solidFill>
              <a:latin typeface="Arial"/>
            </a:endParaRPr>
          </a:p>
        </p:txBody>
      </p:sp>
      <p:sp>
        <p:nvSpPr>
          <p:cNvPr id="620" name=""/>
          <p:cNvSpPr txBox="1"/>
          <p:nvPr/>
        </p:nvSpPr>
        <p:spPr>
          <a:xfrm>
            <a:off x="1355760" y="549360"/>
            <a:ext cx="6432480" cy="6415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DATUM  CONCEPTS  REVIEW</a:t>
            </a:r>
            <a:endParaRPr b="0" lang="en-US" sz="3600" spc="-1" strike="noStrike">
              <a:solidFill>
                <a:srgbClr val="000000"/>
              </a:solidFill>
              <a:latin typeface="Arial"/>
            </a:endParaRPr>
          </a:p>
        </p:txBody>
      </p:sp>
      <p:sp>
        <p:nvSpPr>
          <p:cNvPr id="621" name=""/>
          <p:cNvSpPr txBox="1"/>
          <p:nvPr/>
        </p:nvSpPr>
        <p:spPr>
          <a:xfrm>
            <a:off x="461880" y="1535040"/>
            <a:ext cx="7772400" cy="1746360"/>
          </a:xfrm>
          <a:prstGeom prst="rect">
            <a:avLst/>
          </a:prstGeom>
          <a:noFill/>
          <a:ln w="0">
            <a:noFill/>
          </a:ln>
        </p:spPr>
        <p:txBody>
          <a:bodyPr lIns="0" rIns="0" tIns="0" bIns="0" anchor="t">
            <a:noAutofit/>
          </a:bodyPr>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Surfaces or features that are identified as primary, secondary, and tertiary datum features should have a significant relationship in the design and function of the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14" name=""/>
          <p:cNvSpPr/>
          <p:nvPr/>
        </p:nvSpPr>
        <p:spPr>
          <a:xfrm>
            <a:off x="34797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5" name=""/>
          <p:cNvSpPr/>
          <p:nvPr/>
        </p:nvSpPr>
        <p:spPr>
          <a:xfrm>
            <a:off x="3925800" y="2790720"/>
            <a:ext cx="11210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6" name=""/>
          <p:cNvSpPr/>
          <p:nvPr/>
        </p:nvSpPr>
        <p:spPr>
          <a:xfrm>
            <a:off x="5268960" y="2790720"/>
            <a:ext cx="2239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7" name=""/>
          <p:cNvSpPr/>
          <p:nvPr/>
        </p:nvSpPr>
        <p:spPr>
          <a:xfrm>
            <a:off x="2476440" y="1357200"/>
            <a:ext cx="4748400" cy="862200"/>
          </a:xfrm>
          <a:custGeom>
            <a:avLst/>
            <a:gdLst/>
            <a:ahLst/>
            <a:rect l="0" t="0" r="r" b="b"/>
            <a:pathLst>
              <a:path w="13190" h="2395">
                <a:moveTo>
                  <a:pt x="44" y="965"/>
                </a:moveTo>
                <a:lnTo>
                  <a:pt x="44" y="2395"/>
                </a:lnTo>
                <a:lnTo>
                  <a:pt x="13190" y="2395"/>
                </a:lnTo>
                <a:lnTo>
                  <a:pt x="13190" y="714"/>
                </a:lnTo>
                <a:lnTo>
                  <a:pt x="13190" y="418"/>
                </a:lnTo>
                <a:lnTo>
                  <a:pt x="13062" y="374"/>
                </a:lnTo>
                <a:lnTo>
                  <a:pt x="12934" y="418"/>
                </a:lnTo>
                <a:lnTo>
                  <a:pt x="12727" y="418"/>
                </a:lnTo>
                <a:lnTo>
                  <a:pt x="12559" y="418"/>
                </a:lnTo>
                <a:lnTo>
                  <a:pt x="12432" y="418"/>
                </a:lnTo>
                <a:lnTo>
                  <a:pt x="12264" y="418"/>
                </a:lnTo>
                <a:lnTo>
                  <a:pt x="12136" y="418"/>
                </a:lnTo>
                <a:lnTo>
                  <a:pt x="12013" y="291"/>
                </a:lnTo>
                <a:lnTo>
                  <a:pt x="11885" y="251"/>
                </a:lnTo>
                <a:lnTo>
                  <a:pt x="11717" y="251"/>
                </a:lnTo>
                <a:lnTo>
                  <a:pt x="11382" y="207"/>
                </a:lnTo>
                <a:lnTo>
                  <a:pt x="11254" y="167"/>
                </a:lnTo>
                <a:lnTo>
                  <a:pt x="11087" y="167"/>
                </a:lnTo>
                <a:lnTo>
                  <a:pt x="10919" y="167"/>
                </a:lnTo>
                <a:lnTo>
                  <a:pt x="10835" y="39"/>
                </a:lnTo>
                <a:lnTo>
                  <a:pt x="10668" y="39"/>
                </a:lnTo>
                <a:lnTo>
                  <a:pt x="10500" y="39"/>
                </a:lnTo>
                <a:lnTo>
                  <a:pt x="10205" y="39"/>
                </a:lnTo>
                <a:lnTo>
                  <a:pt x="9997" y="39"/>
                </a:lnTo>
                <a:lnTo>
                  <a:pt x="9662" y="39"/>
                </a:lnTo>
                <a:lnTo>
                  <a:pt x="9406" y="39"/>
                </a:lnTo>
                <a:lnTo>
                  <a:pt x="8780" y="0"/>
                </a:lnTo>
                <a:lnTo>
                  <a:pt x="8608" y="0"/>
                </a:lnTo>
                <a:lnTo>
                  <a:pt x="8401" y="39"/>
                </a:lnTo>
                <a:lnTo>
                  <a:pt x="8189" y="167"/>
                </a:lnTo>
                <a:lnTo>
                  <a:pt x="8022" y="251"/>
                </a:lnTo>
                <a:lnTo>
                  <a:pt x="7603" y="463"/>
                </a:lnTo>
                <a:lnTo>
                  <a:pt x="7435" y="546"/>
                </a:lnTo>
                <a:lnTo>
                  <a:pt x="7307" y="586"/>
                </a:lnTo>
                <a:lnTo>
                  <a:pt x="7056" y="586"/>
                </a:lnTo>
                <a:lnTo>
                  <a:pt x="6637" y="586"/>
                </a:lnTo>
                <a:lnTo>
                  <a:pt x="6217" y="586"/>
                </a:lnTo>
                <a:lnTo>
                  <a:pt x="6089" y="586"/>
                </a:lnTo>
                <a:lnTo>
                  <a:pt x="5961" y="586"/>
                </a:lnTo>
                <a:lnTo>
                  <a:pt x="5626" y="463"/>
                </a:lnTo>
                <a:lnTo>
                  <a:pt x="5335" y="418"/>
                </a:lnTo>
                <a:lnTo>
                  <a:pt x="4872" y="418"/>
                </a:lnTo>
                <a:lnTo>
                  <a:pt x="4621" y="418"/>
                </a:lnTo>
                <a:lnTo>
                  <a:pt x="4493" y="463"/>
                </a:lnTo>
                <a:lnTo>
                  <a:pt x="4158" y="546"/>
                </a:lnTo>
                <a:lnTo>
                  <a:pt x="3946" y="586"/>
                </a:lnTo>
                <a:lnTo>
                  <a:pt x="3655" y="630"/>
                </a:lnTo>
                <a:lnTo>
                  <a:pt x="3360" y="714"/>
                </a:lnTo>
                <a:lnTo>
                  <a:pt x="3192" y="714"/>
                </a:lnTo>
                <a:lnTo>
                  <a:pt x="3064" y="754"/>
                </a:lnTo>
                <a:lnTo>
                  <a:pt x="2857" y="798"/>
                </a:lnTo>
                <a:lnTo>
                  <a:pt x="2729" y="798"/>
                </a:lnTo>
                <a:lnTo>
                  <a:pt x="2522" y="754"/>
                </a:lnTo>
                <a:lnTo>
                  <a:pt x="2394" y="714"/>
                </a:lnTo>
                <a:lnTo>
                  <a:pt x="2266" y="714"/>
                </a:lnTo>
                <a:lnTo>
                  <a:pt x="1931" y="714"/>
                </a:lnTo>
                <a:lnTo>
                  <a:pt x="1763" y="714"/>
                </a:lnTo>
                <a:lnTo>
                  <a:pt x="1596" y="714"/>
                </a:lnTo>
                <a:lnTo>
                  <a:pt x="1428" y="714"/>
                </a:lnTo>
                <a:lnTo>
                  <a:pt x="1177" y="714"/>
                </a:lnTo>
                <a:lnTo>
                  <a:pt x="1009" y="714"/>
                </a:lnTo>
                <a:lnTo>
                  <a:pt x="881" y="714"/>
                </a:lnTo>
                <a:lnTo>
                  <a:pt x="670" y="714"/>
                </a:lnTo>
                <a:lnTo>
                  <a:pt x="463" y="754"/>
                </a:lnTo>
                <a:lnTo>
                  <a:pt x="335" y="837"/>
                </a:lnTo>
                <a:lnTo>
                  <a:pt x="167" y="921"/>
                </a:lnTo>
                <a:lnTo>
                  <a:pt x="0" y="965"/>
                </a:lnTo>
                <a:lnTo>
                  <a:pt x="44" y="965"/>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flipH="1">
            <a:off x="2487600" y="3355920"/>
            <a:ext cx="4719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9" name=""/>
          <p:cNvSpPr/>
          <p:nvPr/>
        </p:nvSpPr>
        <p:spPr>
          <a:xfrm>
            <a:off x="7219800" y="2217600"/>
            <a:ext cx="0" cy="11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0" name=""/>
          <p:cNvSpPr/>
          <p:nvPr/>
        </p:nvSpPr>
        <p:spPr>
          <a:xfrm>
            <a:off x="2487600" y="2217600"/>
            <a:ext cx="0" cy="11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1" name=""/>
          <p:cNvSpPr/>
          <p:nvPr/>
        </p:nvSpPr>
        <p:spPr>
          <a:xfrm>
            <a:off x="2489040" y="3351240"/>
            <a:ext cx="4732560" cy="848160"/>
          </a:xfrm>
          <a:custGeom>
            <a:avLst/>
            <a:gdLst/>
            <a:ahLst/>
            <a:rect l="0" t="0" r="r" b="b"/>
            <a:pathLst>
              <a:path w="13146" h="2356">
                <a:moveTo>
                  <a:pt x="0" y="1306"/>
                </a:moveTo>
                <a:lnTo>
                  <a:pt x="0" y="0"/>
                </a:lnTo>
                <a:lnTo>
                  <a:pt x="13146" y="0"/>
                </a:lnTo>
                <a:lnTo>
                  <a:pt x="13146" y="1849"/>
                </a:lnTo>
                <a:lnTo>
                  <a:pt x="13018" y="1849"/>
                </a:lnTo>
                <a:lnTo>
                  <a:pt x="12850" y="1849"/>
                </a:lnTo>
                <a:lnTo>
                  <a:pt x="12599" y="1849"/>
                </a:lnTo>
                <a:lnTo>
                  <a:pt x="12392" y="1809"/>
                </a:lnTo>
                <a:lnTo>
                  <a:pt x="12180" y="1809"/>
                </a:lnTo>
                <a:lnTo>
                  <a:pt x="12013" y="1764"/>
                </a:lnTo>
                <a:lnTo>
                  <a:pt x="11885" y="1809"/>
                </a:lnTo>
                <a:lnTo>
                  <a:pt x="11633" y="1893"/>
                </a:lnTo>
                <a:lnTo>
                  <a:pt x="11342" y="1977"/>
                </a:lnTo>
                <a:lnTo>
                  <a:pt x="11131" y="2061"/>
                </a:lnTo>
                <a:lnTo>
                  <a:pt x="11003" y="2061"/>
                </a:lnTo>
                <a:lnTo>
                  <a:pt x="10165" y="2061"/>
                </a:lnTo>
                <a:lnTo>
                  <a:pt x="9869" y="2061"/>
                </a:lnTo>
                <a:lnTo>
                  <a:pt x="9662" y="2021"/>
                </a:lnTo>
                <a:lnTo>
                  <a:pt x="9490" y="1977"/>
                </a:lnTo>
                <a:lnTo>
                  <a:pt x="9323" y="1937"/>
                </a:lnTo>
                <a:lnTo>
                  <a:pt x="9155" y="1937"/>
                </a:lnTo>
                <a:lnTo>
                  <a:pt x="8948" y="1893"/>
                </a:lnTo>
                <a:lnTo>
                  <a:pt x="8820" y="1849"/>
                </a:lnTo>
                <a:lnTo>
                  <a:pt x="8608" y="1849"/>
                </a:lnTo>
                <a:lnTo>
                  <a:pt x="8189" y="1893"/>
                </a:lnTo>
                <a:lnTo>
                  <a:pt x="8022" y="1937"/>
                </a:lnTo>
                <a:lnTo>
                  <a:pt x="7854" y="1977"/>
                </a:lnTo>
                <a:lnTo>
                  <a:pt x="7643" y="1977"/>
                </a:lnTo>
                <a:lnTo>
                  <a:pt x="7435" y="1977"/>
                </a:lnTo>
                <a:lnTo>
                  <a:pt x="7224" y="2021"/>
                </a:lnTo>
                <a:lnTo>
                  <a:pt x="7016" y="2021"/>
                </a:lnTo>
                <a:lnTo>
                  <a:pt x="6805" y="2061"/>
                </a:lnTo>
                <a:lnTo>
                  <a:pt x="6593" y="2061"/>
                </a:lnTo>
                <a:lnTo>
                  <a:pt x="6301" y="2189"/>
                </a:lnTo>
                <a:lnTo>
                  <a:pt x="6089" y="2189"/>
                </a:lnTo>
                <a:lnTo>
                  <a:pt x="5710" y="2312"/>
                </a:lnTo>
                <a:lnTo>
                  <a:pt x="5419" y="2356"/>
                </a:lnTo>
                <a:lnTo>
                  <a:pt x="5291" y="2356"/>
                </a:lnTo>
                <a:lnTo>
                  <a:pt x="4744" y="2356"/>
                </a:lnTo>
                <a:lnTo>
                  <a:pt x="4493" y="2356"/>
                </a:lnTo>
                <a:lnTo>
                  <a:pt x="4158" y="2145"/>
                </a:lnTo>
                <a:lnTo>
                  <a:pt x="3907" y="2061"/>
                </a:lnTo>
                <a:lnTo>
                  <a:pt x="3488" y="1849"/>
                </a:lnTo>
                <a:lnTo>
                  <a:pt x="3192" y="1725"/>
                </a:lnTo>
                <a:lnTo>
                  <a:pt x="2897" y="1557"/>
                </a:lnTo>
                <a:lnTo>
                  <a:pt x="2773" y="1429"/>
                </a:lnTo>
                <a:lnTo>
                  <a:pt x="2434" y="1306"/>
                </a:lnTo>
                <a:lnTo>
                  <a:pt x="2059" y="1262"/>
                </a:lnTo>
                <a:lnTo>
                  <a:pt x="1891" y="1262"/>
                </a:lnTo>
                <a:lnTo>
                  <a:pt x="1596" y="1262"/>
                </a:lnTo>
                <a:lnTo>
                  <a:pt x="1093" y="1262"/>
                </a:lnTo>
                <a:lnTo>
                  <a:pt x="842" y="1262"/>
                </a:lnTo>
                <a:lnTo>
                  <a:pt x="714" y="1262"/>
                </a:lnTo>
                <a:lnTo>
                  <a:pt x="502" y="1262"/>
                </a:lnTo>
                <a:lnTo>
                  <a:pt x="295" y="1262"/>
                </a:lnTo>
                <a:lnTo>
                  <a:pt x="167" y="1262"/>
                </a:lnTo>
                <a:lnTo>
                  <a:pt x="0" y="1262"/>
                </a:lnTo>
                <a:lnTo>
                  <a:pt x="0" y="1306"/>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2" name=""/>
          <p:cNvSpPr/>
          <p:nvPr/>
        </p:nvSpPr>
        <p:spPr>
          <a:xfrm>
            <a:off x="2906640" y="2228760"/>
            <a:ext cx="4015080" cy="1114920"/>
          </a:xfrm>
          <a:custGeom>
            <a:avLst/>
            <a:gdLst/>
            <a:ahLst/>
            <a:rect l="0" t="0" r="r" b="b"/>
            <a:pathLst>
              <a:path w="11153" h="3097">
                <a:moveTo>
                  <a:pt x="0" y="291"/>
                </a:moveTo>
                <a:lnTo>
                  <a:pt x="26" y="317"/>
                </a:lnTo>
                <a:lnTo>
                  <a:pt x="17" y="291"/>
                </a:lnTo>
                <a:lnTo>
                  <a:pt x="185" y="291"/>
                </a:lnTo>
                <a:lnTo>
                  <a:pt x="352" y="207"/>
                </a:lnTo>
                <a:lnTo>
                  <a:pt x="480" y="167"/>
                </a:lnTo>
                <a:lnTo>
                  <a:pt x="648" y="167"/>
                </a:lnTo>
                <a:lnTo>
                  <a:pt x="815" y="167"/>
                </a:lnTo>
                <a:lnTo>
                  <a:pt x="983" y="123"/>
                </a:lnTo>
                <a:lnTo>
                  <a:pt x="1150" y="123"/>
                </a:lnTo>
                <a:lnTo>
                  <a:pt x="1318" y="123"/>
                </a:lnTo>
                <a:lnTo>
                  <a:pt x="1446" y="123"/>
                </a:lnTo>
                <a:lnTo>
                  <a:pt x="1613" y="123"/>
                </a:lnTo>
                <a:lnTo>
                  <a:pt x="1781" y="123"/>
                </a:lnTo>
                <a:lnTo>
                  <a:pt x="1949" y="123"/>
                </a:lnTo>
                <a:lnTo>
                  <a:pt x="2116" y="83"/>
                </a:lnTo>
                <a:lnTo>
                  <a:pt x="2244" y="83"/>
                </a:lnTo>
                <a:lnTo>
                  <a:pt x="2579" y="83"/>
                </a:lnTo>
                <a:lnTo>
                  <a:pt x="2747" y="83"/>
                </a:lnTo>
                <a:lnTo>
                  <a:pt x="2914" y="83"/>
                </a:lnTo>
                <a:lnTo>
                  <a:pt x="3126" y="83"/>
                </a:lnTo>
                <a:lnTo>
                  <a:pt x="3294" y="39"/>
                </a:lnTo>
                <a:lnTo>
                  <a:pt x="3461" y="39"/>
                </a:lnTo>
                <a:lnTo>
                  <a:pt x="3629" y="39"/>
                </a:lnTo>
                <a:lnTo>
                  <a:pt x="3796" y="39"/>
                </a:lnTo>
                <a:lnTo>
                  <a:pt x="4008" y="39"/>
                </a:lnTo>
                <a:lnTo>
                  <a:pt x="4176" y="39"/>
                </a:lnTo>
                <a:lnTo>
                  <a:pt x="4343" y="39"/>
                </a:lnTo>
                <a:lnTo>
                  <a:pt x="4511" y="39"/>
                </a:lnTo>
                <a:lnTo>
                  <a:pt x="4890" y="0"/>
                </a:lnTo>
                <a:lnTo>
                  <a:pt x="5057" y="0"/>
                </a:lnTo>
                <a:lnTo>
                  <a:pt x="5225" y="0"/>
                </a:lnTo>
                <a:lnTo>
                  <a:pt x="5393" y="0"/>
                </a:lnTo>
                <a:lnTo>
                  <a:pt x="5560" y="39"/>
                </a:lnTo>
                <a:lnTo>
                  <a:pt x="5782" y="52"/>
                </a:lnTo>
                <a:lnTo>
                  <a:pt x="5967" y="52"/>
                </a:lnTo>
                <a:lnTo>
                  <a:pt x="6108" y="83"/>
                </a:lnTo>
                <a:lnTo>
                  <a:pt x="6443" y="52"/>
                </a:lnTo>
                <a:lnTo>
                  <a:pt x="6734" y="92"/>
                </a:lnTo>
                <a:lnTo>
                  <a:pt x="6933" y="92"/>
                </a:lnTo>
                <a:lnTo>
                  <a:pt x="7118" y="39"/>
                </a:lnTo>
                <a:lnTo>
                  <a:pt x="7303" y="92"/>
                </a:lnTo>
                <a:lnTo>
                  <a:pt x="7435" y="52"/>
                </a:lnTo>
                <a:lnTo>
                  <a:pt x="7607" y="79"/>
                </a:lnTo>
                <a:lnTo>
                  <a:pt x="7819" y="66"/>
                </a:lnTo>
                <a:lnTo>
                  <a:pt x="8057" y="92"/>
                </a:lnTo>
                <a:lnTo>
                  <a:pt x="8216" y="145"/>
                </a:lnTo>
                <a:lnTo>
                  <a:pt x="8441" y="132"/>
                </a:lnTo>
                <a:lnTo>
                  <a:pt x="8719" y="79"/>
                </a:lnTo>
                <a:lnTo>
                  <a:pt x="8970" y="145"/>
                </a:lnTo>
                <a:lnTo>
                  <a:pt x="9234" y="132"/>
                </a:lnTo>
                <a:lnTo>
                  <a:pt x="9552" y="185"/>
                </a:lnTo>
                <a:lnTo>
                  <a:pt x="9750" y="145"/>
                </a:lnTo>
                <a:lnTo>
                  <a:pt x="10094" y="171"/>
                </a:lnTo>
                <a:lnTo>
                  <a:pt x="10293" y="185"/>
                </a:lnTo>
                <a:lnTo>
                  <a:pt x="10412" y="224"/>
                </a:lnTo>
                <a:lnTo>
                  <a:pt x="10571" y="251"/>
                </a:lnTo>
                <a:lnTo>
                  <a:pt x="10729" y="264"/>
                </a:lnTo>
                <a:lnTo>
                  <a:pt x="10888" y="291"/>
                </a:lnTo>
                <a:lnTo>
                  <a:pt x="11126" y="383"/>
                </a:lnTo>
                <a:lnTo>
                  <a:pt x="11060" y="343"/>
                </a:lnTo>
                <a:lnTo>
                  <a:pt x="11020" y="317"/>
                </a:lnTo>
                <a:lnTo>
                  <a:pt x="11153" y="396"/>
                </a:lnTo>
                <a:lnTo>
                  <a:pt x="10769" y="3066"/>
                </a:lnTo>
                <a:lnTo>
                  <a:pt x="10641" y="3022"/>
                </a:lnTo>
                <a:lnTo>
                  <a:pt x="10474" y="3022"/>
                </a:lnTo>
                <a:lnTo>
                  <a:pt x="10306" y="2982"/>
                </a:lnTo>
                <a:lnTo>
                  <a:pt x="10094" y="2982"/>
                </a:lnTo>
                <a:lnTo>
                  <a:pt x="9843" y="2938"/>
                </a:lnTo>
                <a:lnTo>
                  <a:pt x="9675" y="2938"/>
                </a:lnTo>
                <a:lnTo>
                  <a:pt x="9468" y="2938"/>
                </a:lnTo>
                <a:lnTo>
                  <a:pt x="9340" y="2938"/>
                </a:lnTo>
                <a:lnTo>
                  <a:pt x="9129" y="2938"/>
                </a:lnTo>
                <a:lnTo>
                  <a:pt x="8961" y="2938"/>
                </a:lnTo>
                <a:lnTo>
                  <a:pt x="8793" y="2938"/>
                </a:lnTo>
                <a:lnTo>
                  <a:pt x="8626" y="2982"/>
                </a:lnTo>
                <a:lnTo>
                  <a:pt x="8419" y="2982"/>
                </a:lnTo>
                <a:lnTo>
                  <a:pt x="8291" y="2982"/>
                </a:lnTo>
                <a:lnTo>
                  <a:pt x="7995" y="2938"/>
                </a:lnTo>
                <a:lnTo>
                  <a:pt x="7788" y="2938"/>
                </a:lnTo>
                <a:lnTo>
                  <a:pt x="7493" y="2938"/>
                </a:lnTo>
                <a:lnTo>
                  <a:pt x="7365" y="2938"/>
                </a:lnTo>
                <a:lnTo>
                  <a:pt x="7113" y="2899"/>
                </a:lnTo>
                <a:lnTo>
                  <a:pt x="6862" y="2855"/>
                </a:lnTo>
                <a:lnTo>
                  <a:pt x="6694" y="2855"/>
                </a:lnTo>
                <a:lnTo>
                  <a:pt x="6567" y="2815"/>
                </a:lnTo>
                <a:lnTo>
                  <a:pt x="6315" y="2771"/>
                </a:lnTo>
                <a:lnTo>
                  <a:pt x="6108" y="2771"/>
                </a:lnTo>
                <a:lnTo>
                  <a:pt x="5980" y="2771"/>
                </a:lnTo>
                <a:lnTo>
                  <a:pt x="5813" y="2771"/>
                </a:lnTo>
                <a:lnTo>
                  <a:pt x="5601" y="2815"/>
                </a:lnTo>
                <a:lnTo>
                  <a:pt x="5432" y="2855"/>
                </a:lnTo>
                <a:lnTo>
                  <a:pt x="5225" y="2855"/>
                </a:lnTo>
                <a:lnTo>
                  <a:pt x="5097" y="2855"/>
                </a:lnTo>
                <a:lnTo>
                  <a:pt x="4762" y="2899"/>
                </a:lnTo>
                <a:lnTo>
                  <a:pt x="4467" y="2899"/>
                </a:lnTo>
                <a:lnTo>
                  <a:pt x="4259" y="2855"/>
                </a:lnTo>
                <a:lnTo>
                  <a:pt x="4048" y="2855"/>
                </a:lnTo>
                <a:lnTo>
                  <a:pt x="3712" y="2855"/>
                </a:lnTo>
                <a:lnTo>
                  <a:pt x="3585" y="2855"/>
                </a:lnTo>
                <a:lnTo>
                  <a:pt x="3417" y="2855"/>
                </a:lnTo>
                <a:lnTo>
                  <a:pt x="3210" y="2855"/>
                </a:lnTo>
                <a:lnTo>
                  <a:pt x="2954" y="2855"/>
                </a:lnTo>
                <a:lnTo>
                  <a:pt x="2786" y="2855"/>
                </a:lnTo>
                <a:lnTo>
                  <a:pt x="2619" y="2855"/>
                </a:lnTo>
                <a:lnTo>
                  <a:pt x="2451" y="2855"/>
                </a:lnTo>
                <a:lnTo>
                  <a:pt x="2284" y="2899"/>
                </a:lnTo>
                <a:lnTo>
                  <a:pt x="2156" y="2899"/>
                </a:lnTo>
                <a:lnTo>
                  <a:pt x="1988" y="2899"/>
                </a:lnTo>
                <a:lnTo>
                  <a:pt x="1737" y="2899"/>
                </a:lnTo>
                <a:lnTo>
                  <a:pt x="1530" y="2938"/>
                </a:lnTo>
                <a:lnTo>
                  <a:pt x="1402" y="3022"/>
                </a:lnTo>
                <a:lnTo>
                  <a:pt x="1274" y="3022"/>
                </a:lnTo>
                <a:lnTo>
                  <a:pt x="1106" y="3022"/>
                </a:lnTo>
                <a:lnTo>
                  <a:pt x="939" y="3022"/>
                </a:lnTo>
                <a:lnTo>
                  <a:pt x="806" y="3057"/>
                </a:lnTo>
                <a:lnTo>
                  <a:pt x="621" y="3097"/>
                </a:lnTo>
                <a:lnTo>
                  <a:pt x="268" y="3022"/>
                </a:lnTo>
                <a:lnTo>
                  <a:pt x="0" y="291"/>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3" name=""/>
          <p:cNvSpPr/>
          <p:nvPr/>
        </p:nvSpPr>
        <p:spPr>
          <a:xfrm>
            <a:off x="2835360" y="2328840"/>
            <a:ext cx="171720" cy="995760"/>
          </a:xfrm>
          <a:custGeom>
            <a:avLst/>
            <a:gdLst/>
            <a:ahLst/>
            <a:rect l="0" t="0" r="r" b="b"/>
            <a:pathLst>
              <a:path w="477" h="2766">
                <a:moveTo>
                  <a:pt x="211" y="0"/>
                </a:moveTo>
                <a:lnTo>
                  <a:pt x="0" y="198"/>
                </a:lnTo>
                <a:lnTo>
                  <a:pt x="252" y="2647"/>
                </a:lnTo>
                <a:lnTo>
                  <a:pt x="477" y="2766"/>
                </a:lnTo>
                <a:lnTo>
                  <a:pt x="211"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4" name=""/>
          <p:cNvSpPr/>
          <p:nvPr/>
        </p:nvSpPr>
        <p:spPr>
          <a:xfrm>
            <a:off x="6781680" y="2371680"/>
            <a:ext cx="206640" cy="962280"/>
          </a:xfrm>
          <a:custGeom>
            <a:avLst/>
            <a:gdLst/>
            <a:ahLst/>
            <a:rect l="0" t="0" r="r" b="b"/>
            <a:pathLst>
              <a:path w="574" h="2673">
                <a:moveTo>
                  <a:pt x="380" y="0"/>
                </a:moveTo>
                <a:lnTo>
                  <a:pt x="574" y="194"/>
                </a:lnTo>
                <a:lnTo>
                  <a:pt x="246" y="2532"/>
                </a:lnTo>
                <a:lnTo>
                  <a:pt x="0" y="2673"/>
                </a:lnTo>
                <a:lnTo>
                  <a:pt x="380" y="0"/>
                </a:lnTo>
                <a:close/>
              </a:path>
            </a:pathLst>
          </a:custGeom>
          <a:gradFill rotWithShape="0">
            <a:gsLst>
              <a:gs pos="0">
                <a:srgbClr val="30394c"/>
              </a:gs>
              <a:gs pos="50000">
                <a:srgbClr val="a2c1fe"/>
              </a:gs>
              <a:gs pos="100000">
                <a:srgbClr val="3039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25" name=""/>
          <p:cNvGrpSpPr/>
          <p:nvPr/>
        </p:nvGrpSpPr>
        <p:grpSpPr>
          <a:xfrm>
            <a:off x="1865160" y="2790720"/>
            <a:ext cx="5613480" cy="0"/>
            <a:chOff x="1865160" y="2790720"/>
            <a:chExt cx="5613480" cy="0"/>
          </a:xfrm>
        </p:grpSpPr>
        <p:sp>
          <p:nvSpPr>
            <p:cNvPr id="3126" name=""/>
            <p:cNvSpPr/>
            <p:nvPr/>
          </p:nvSpPr>
          <p:spPr>
            <a:xfrm>
              <a:off x="1865160" y="2790720"/>
              <a:ext cx="1465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7" name=""/>
            <p:cNvSpPr/>
            <p:nvPr/>
          </p:nvSpPr>
          <p:spPr>
            <a:xfrm>
              <a:off x="3416400" y="2790720"/>
              <a:ext cx="15228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8" name=""/>
            <p:cNvSpPr/>
            <p:nvPr/>
          </p:nvSpPr>
          <p:spPr>
            <a:xfrm>
              <a:off x="3635280" y="2790720"/>
              <a:ext cx="20192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9" name=""/>
            <p:cNvSpPr/>
            <p:nvPr/>
          </p:nvSpPr>
          <p:spPr>
            <a:xfrm>
              <a:off x="5743440" y="2790720"/>
              <a:ext cx="123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0" name=""/>
            <p:cNvSpPr/>
            <p:nvPr/>
          </p:nvSpPr>
          <p:spPr>
            <a:xfrm>
              <a:off x="5950080" y="2790720"/>
              <a:ext cx="15285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31" name=""/>
          <p:cNvSpPr/>
          <p:nvPr/>
        </p:nvSpPr>
        <p:spPr>
          <a:xfrm>
            <a:off x="7372440" y="2217600"/>
            <a:ext cx="831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2" name=""/>
          <p:cNvSpPr/>
          <p:nvPr/>
        </p:nvSpPr>
        <p:spPr>
          <a:xfrm>
            <a:off x="7342200" y="3351240"/>
            <a:ext cx="847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3" name=""/>
          <p:cNvSpPr/>
          <p:nvPr/>
        </p:nvSpPr>
        <p:spPr>
          <a:xfrm>
            <a:off x="8053560" y="2217600"/>
            <a:ext cx="0" cy="11336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4" name=""/>
          <p:cNvSpPr/>
          <p:nvPr/>
        </p:nvSpPr>
        <p:spPr>
          <a:xfrm>
            <a:off x="8053560" y="3351240"/>
            <a:ext cx="0" cy="108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5" name=""/>
          <p:cNvSpPr/>
          <p:nvPr/>
        </p:nvSpPr>
        <p:spPr>
          <a:xfrm flipH="1">
            <a:off x="7796160" y="444024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6" name=""/>
          <p:cNvSpPr txBox="1"/>
          <p:nvPr/>
        </p:nvSpPr>
        <p:spPr>
          <a:xfrm>
            <a:off x="3371760" y="4264200"/>
            <a:ext cx="44751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rue geometric counterpart of datum feature A</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smallest circumscribed cylinder)</a:t>
            </a:r>
            <a:endParaRPr b="0" lang="en-US" sz="1800" spc="-1" strike="noStrike">
              <a:solidFill>
                <a:srgbClr val="000000"/>
              </a:solidFill>
              <a:latin typeface="Arial"/>
            </a:endParaRPr>
          </a:p>
        </p:txBody>
      </p:sp>
      <p:sp>
        <p:nvSpPr>
          <p:cNvPr id="3137" name=""/>
          <p:cNvSpPr txBox="1"/>
          <p:nvPr/>
        </p:nvSpPr>
        <p:spPr>
          <a:xfrm>
            <a:off x="247680" y="98892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138" name=""/>
          <p:cNvSpPr txBox="1"/>
          <p:nvPr/>
        </p:nvSpPr>
        <p:spPr>
          <a:xfrm>
            <a:off x="1514520" y="5284800"/>
            <a:ext cx="633096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EX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139" name=""/>
          <p:cNvSpPr txBox="1"/>
          <p:nvPr/>
        </p:nvSpPr>
        <p:spPr>
          <a:xfrm>
            <a:off x="4668840" y="590400"/>
            <a:ext cx="177156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 Feature A</a:t>
            </a:r>
            <a:endParaRPr b="0" lang="en-US" sz="1800" spc="-1" strike="noStrike">
              <a:solidFill>
                <a:srgbClr val="000000"/>
              </a:solidFill>
              <a:latin typeface="Arial"/>
            </a:endParaRPr>
          </a:p>
        </p:txBody>
      </p:sp>
      <p:sp>
        <p:nvSpPr>
          <p:cNvPr id="3140" name=""/>
          <p:cNvSpPr/>
          <p:nvPr/>
        </p:nvSpPr>
        <p:spPr>
          <a:xfrm>
            <a:off x="6400800" y="76824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1" name=""/>
          <p:cNvSpPr/>
          <p:nvPr/>
        </p:nvSpPr>
        <p:spPr>
          <a:xfrm flipH="1">
            <a:off x="6219720" y="768240"/>
            <a:ext cx="347760" cy="1511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2" name=""/>
          <p:cNvSpPr txBox="1"/>
          <p:nvPr/>
        </p:nvSpPr>
        <p:spPr>
          <a:xfrm>
            <a:off x="352440" y="3025800"/>
            <a:ext cx="1916280" cy="1190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um Axis A</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Axis of the true</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geometric counter-</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part [gage])</a:t>
            </a:r>
            <a:endParaRPr b="0" lang="en-US" sz="1800" spc="-1" strike="noStrike">
              <a:solidFill>
                <a:srgbClr val="000000"/>
              </a:solidFill>
              <a:latin typeface="Arial"/>
            </a:endParaRPr>
          </a:p>
        </p:txBody>
      </p:sp>
      <p:sp>
        <p:nvSpPr>
          <p:cNvPr id="3143" name=""/>
          <p:cNvSpPr/>
          <p:nvPr/>
        </p:nvSpPr>
        <p:spPr>
          <a:xfrm>
            <a:off x="1865160" y="320184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4" name=""/>
          <p:cNvSpPr/>
          <p:nvPr/>
        </p:nvSpPr>
        <p:spPr>
          <a:xfrm flipH="1" flipV="1">
            <a:off x="1941480" y="2809800"/>
            <a:ext cx="150840" cy="392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5" name=""/>
          <p:cNvSpPr txBox="1"/>
          <p:nvPr/>
        </p:nvSpPr>
        <p:spPr>
          <a:xfrm>
            <a:off x="1154160" y="214200"/>
            <a:ext cx="2508120" cy="641520"/>
          </a:xfrm>
          <a:prstGeom prst="rect">
            <a:avLst/>
          </a:prstGeom>
          <a:noFill/>
          <a:ln w="0">
            <a:noFill/>
          </a:ln>
        </p:spPr>
        <p:txBody>
          <a:bodyPr lIns="0" rIns="0" tIns="0" bIns="0" anchor="t">
            <a:noAutofit/>
          </a:bodyPr>
          <a:p>
            <a:pPr>
              <a:lnSpc>
                <a:spcPct val="100000"/>
              </a:lnSpc>
            </a:pPr>
            <a:r>
              <a:rPr b="0" lang="en-US" sz="1800" spc="-1" strike="noStrike">
                <a:solidFill>
                  <a:srgbClr val="ffff00"/>
                </a:solidFill>
                <a:latin typeface="Times New Roman"/>
                <a:ea typeface="Times New Roman"/>
              </a:rPr>
              <a:t>Datum Feature Simulator</a:t>
            </a:r>
            <a:endParaRPr b="0" lang="en-US" sz="1800" spc="-1" strike="noStrike">
              <a:solidFill>
                <a:srgbClr val="000000"/>
              </a:solidFill>
              <a:latin typeface="Arial"/>
            </a:endParaRPr>
          </a:p>
          <a:p>
            <a:pPr>
              <a:lnSpc>
                <a:spcPct val="100000"/>
              </a:lnSpc>
            </a:pPr>
            <a:r>
              <a:rPr b="0" lang="en-US" sz="1800" spc="-1" strike="noStrike">
                <a:solidFill>
                  <a:srgbClr val="ffff00"/>
                </a:solidFill>
                <a:latin typeface="Times New Roman"/>
                <a:ea typeface="Times New Roman"/>
              </a:rPr>
              <a:t>(Variable cylinder gage)</a:t>
            </a:r>
            <a:endParaRPr b="0" lang="en-US" sz="1800" spc="-1" strike="noStrike">
              <a:solidFill>
                <a:srgbClr val="000000"/>
              </a:solidFill>
              <a:latin typeface="Arial"/>
            </a:endParaRPr>
          </a:p>
        </p:txBody>
      </p:sp>
      <p:sp>
        <p:nvSpPr>
          <p:cNvPr id="3146" name=""/>
          <p:cNvSpPr/>
          <p:nvPr/>
        </p:nvSpPr>
        <p:spPr>
          <a:xfrm>
            <a:off x="3678120" y="44136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7" name=""/>
          <p:cNvSpPr/>
          <p:nvPr/>
        </p:nvSpPr>
        <p:spPr>
          <a:xfrm>
            <a:off x="3844800" y="441360"/>
            <a:ext cx="1438560" cy="1052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48" name=""/>
          <p:cNvSpPr txBox="1"/>
          <p:nvPr/>
        </p:nvSpPr>
        <p:spPr>
          <a:xfrm>
            <a:off x="685800" y="2090880"/>
            <a:ext cx="7772400" cy="2901960"/>
          </a:xfrm>
          <a:prstGeom prst="rect">
            <a:avLst/>
          </a:prstGeom>
          <a:noFill/>
          <a:ln w="0">
            <a:noFill/>
          </a:ln>
        </p:spPr>
        <p:txBody>
          <a:bodyPr lIns="0" rIns="0" tIns="0" bIns="0" anchor="t">
            <a:noAutofit/>
          </a:bodyPr>
          <a:p>
            <a:pPr algn="ctr">
              <a:lnSpc>
                <a:spcPct val="100000"/>
              </a:lnSpc>
              <a:spcAft>
                <a:spcPts val="2401"/>
              </a:spcAft>
            </a:pPr>
            <a:r>
              <a:rPr b="0" lang="en-US" sz="7200" spc="-1" strike="noStrike">
                <a:solidFill>
                  <a:srgbClr val="ffffff"/>
                </a:solidFill>
                <a:latin typeface="Times New Roman"/>
                <a:ea typeface="Times New Roman"/>
              </a:rPr>
              <a:t>Primary Internal Datum Diameter</a:t>
            </a:r>
            <a:br>
              <a:rPr sz="1800"/>
            </a:br>
            <a:br>
              <a:rPr sz="1800"/>
            </a:br>
            <a:r>
              <a:rPr b="0" lang="en-US" sz="4400" spc="-1" strike="noStrike">
                <a:solidFill>
                  <a:srgbClr val="ffffff"/>
                </a:solidFill>
                <a:latin typeface="Times New Roman"/>
                <a:ea typeface="Times New Roman"/>
              </a:rPr>
              <a:t>Regardless of Feature Size (RF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4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50" name=""/>
          <p:cNvSpPr txBox="1"/>
          <p:nvPr/>
        </p:nvSpPr>
        <p:spPr>
          <a:xfrm>
            <a:off x="685800" y="6573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fffff"/>
                </a:solidFill>
                <a:latin typeface="Times New Roman"/>
                <a:ea typeface="Times New Roman"/>
              </a:rPr>
              <a:t>Primary Datum Feature -- </a:t>
            </a:r>
            <a:r>
              <a:rPr b="0" lang="en-US" sz="3600" spc="-1" strike="noStrike" u="sng">
                <a:solidFill>
                  <a:srgbClr val="ffffff"/>
                </a:solidFill>
                <a:uFillTx/>
                <a:latin typeface="Times New Roman"/>
                <a:ea typeface="Times New Roman"/>
              </a:rPr>
              <a:t>Internal Diameter RFS</a:t>
            </a:r>
            <a:endParaRPr b="0" lang="en-US" sz="3600" spc="-1" strike="noStrike">
              <a:solidFill>
                <a:srgbClr val="000000"/>
              </a:solidFill>
              <a:latin typeface="Arial"/>
            </a:endParaRPr>
          </a:p>
        </p:txBody>
      </p:sp>
      <p:sp>
        <p:nvSpPr>
          <p:cNvPr id="3151" name=""/>
          <p:cNvSpPr txBox="1"/>
          <p:nvPr/>
        </p:nvSpPr>
        <p:spPr>
          <a:xfrm>
            <a:off x="685800" y="2359080"/>
            <a:ext cx="7772400" cy="3110040"/>
          </a:xfrm>
          <a:prstGeom prst="rect">
            <a:avLst/>
          </a:prstGeom>
          <a:noFill/>
          <a:ln w="0">
            <a:noFill/>
          </a:ln>
        </p:spPr>
        <p:txBody>
          <a:bodyPr lIns="0" rIns="0" tIns="0" bIns="0" anchor="t">
            <a:noAutofit/>
          </a:bodyPr>
          <a:p>
            <a:pPr>
              <a:lnSpc>
                <a:spcPct val="100000"/>
              </a:lnSpc>
              <a:spcBef>
                <a:spcPts val="479"/>
              </a:spcBef>
            </a:pPr>
            <a:r>
              <a:rPr b="0" lang="en-US" sz="3200" spc="-1" strike="noStrike">
                <a:solidFill>
                  <a:srgbClr val="ffffff"/>
                </a:solidFill>
                <a:latin typeface="Times New Roman"/>
                <a:ea typeface="Times New Roman"/>
              </a:rPr>
              <a:t>The simulated datum for an </a:t>
            </a:r>
            <a:r>
              <a:rPr b="0" lang="en-US" sz="3200" spc="-1" strike="noStrike">
                <a:solidFill>
                  <a:srgbClr val="ffff00"/>
                </a:solidFill>
                <a:latin typeface="Times New Roman"/>
                <a:ea typeface="Times New Roman"/>
              </a:rPr>
              <a:t>internal </a:t>
            </a:r>
            <a:r>
              <a:rPr b="0" lang="en-US" sz="3200" spc="-1" strike="noStrike">
                <a:solidFill>
                  <a:srgbClr val="f2fefd"/>
                </a:solidFill>
                <a:latin typeface="Times New Roman"/>
                <a:ea typeface="Times New Roman"/>
              </a:rPr>
              <a:t>diameter </a:t>
            </a:r>
            <a:r>
              <a:rPr b="0" lang="en-US" sz="3200" spc="-1" strike="noStrike">
                <a:solidFill>
                  <a:srgbClr val="ffffff"/>
                </a:solidFill>
                <a:latin typeface="Times New Roman"/>
                <a:ea typeface="Times New Roman"/>
              </a:rPr>
              <a:t>is the </a:t>
            </a:r>
            <a:r>
              <a:rPr b="1" i="1" lang="en-US" sz="3200" spc="-1" strike="noStrike" u="sng">
                <a:solidFill>
                  <a:srgbClr val="fafd00"/>
                </a:solidFill>
                <a:uFillTx/>
                <a:latin typeface="Times New Roman"/>
                <a:ea typeface="Times New Roman"/>
              </a:rPr>
              <a:t>axis</a:t>
            </a:r>
            <a:r>
              <a:rPr b="0" lang="en-US" sz="3200" spc="-1" strike="noStrike">
                <a:solidFill>
                  <a:srgbClr val="fd0000"/>
                </a:solidFill>
                <a:latin typeface="Times New Roman"/>
                <a:ea typeface="Times New Roman"/>
              </a:rPr>
              <a:t> of a variable </a:t>
            </a:r>
            <a:r>
              <a:rPr b="0" lang="en-US" sz="3200" spc="-1" strike="noStrike" u="sng">
                <a:solidFill>
                  <a:srgbClr val="ffff00"/>
                </a:solidFill>
                <a:uFillTx/>
                <a:latin typeface="Times New Roman"/>
                <a:ea typeface="Times New Roman"/>
              </a:rPr>
              <a:t>gage</a:t>
            </a:r>
            <a:r>
              <a:rPr b="0" lang="en-US" sz="3200" spc="-1" strike="noStrike">
                <a:solidFill>
                  <a:srgbClr val="ffffff"/>
                </a:solidFill>
                <a:latin typeface="Times New Roman"/>
                <a:ea typeface="Times New Roman"/>
              </a:rPr>
              <a:t> which physically contacts the high points of the datum feature. It is the </a:t>
            </a:r>
            <a:r>
              <a:rPr b="0" lang="en-US" sz="3200" spc="-1" strike="noStrike">
                <a:solidFill>
                  <a:srgbClr val="ffff00"/>
                </a:solidFill>
                <a:latin typeface="Times New Roman"/>
                <a:ea typeface="Times New Roman"/>
              </a:rPr>
              <a:t>largest circumscribed cylinder</a:t>
            </a:r>
            <a:r>
              <a:rPr b="0" lang="en-US" sz="3200" spc="-1" strike="noStrike">
                <a:solidFill>
                  <a:srgbClr val="ffffff"/>
                </a:solidFill>
                <a:latin typeface="Times New Roman"/>
                <a:ea typeface="Times New Roman"/>
              </a:rPr>
              <a:t> brought into contact with the high points of the feature su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52" name=""/>
          <p:cNvSpPr txBox="1"/>
          <p:nvPr/>
        </p:nvSpPr>
        <p:spPr>
          <a:xfrm>
            <a:off x="858960" y="712800"/>
            <a:ext cx="1289160" cy="366840"/>
          </a:xfrm>
          <a:prstGeom prst="rect">
            <a:avLst/>
          </a:prstGeom>
          <a:noFill/>
          <a:ln w="0">
            <a:noFill/>
          </a:ln>
        </p:spPr>
        <p:txBody>
          <a:bodyPr lIns="0" rIns="0" tIns="0" bIns="0" anchor="t">
            <a:noAutofit/>
          </a:bodyPr>
          <a:p>
            <a:pPr algn="ctr">
              <a:lnSpc>
                <a:spcPct val="100000"/>
              </a:lnSpc>
            </a:pPr>
            <a:r>
              <a:rPr b="0" lang="en-US" sz="1800" spc="-1" strike="noStrike">
                <a:solidFill>
                  <a:srgbClr val="00dfca"/>
                </a:solidFill>
                <a:latin typeface="Times New Roman"/>
                <a:ea typeface="Times New Roman"/>
              </a:rPr>
              <a:t>DRAWING</a:t>
            </a:r>
            <a:endParaRPr b="0" lang="en-US" sz="1800" spc="-1" strike="noStrike">
              <a:solidFill>
                <a:srgbClr val="000000"/>
              </a:solidFill>
              <a:latin typeface="Arial"/>
            </a:endParaRPr>
          </a:p>
        </p:txBody>
      </p:sp>
      <p:sp>
        <p:nvSpPr>
          <p:cNvPr id="3153" name=""/>
          <p:cNvSpPr txBox="1"/>
          <p:nvPr/>
        </p:nvSpPr>
        <p:spPr>
          <a:xfrm>
            <a:off x="1684440" y="5254560"/>
            <a:ext cx="601812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IN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154" name=""/>
          <p:cNvSpPr/>
          <p:nvPr/>
        </p:nvSpPr>
        <p:spPr>
          <a:xfrm>
            <a:off x="2719440" y="1400040"/>
            <a:ext cx="3567600" cy="681480"/>
          </a:xfrm>
          <a:custGeom>
            <a:avLst/>
            <a:gdLst/>
            <a:ahLst/>
            <a:rect l="0" t="0" r="r" b="b"/>
            <a:pathLst>
              <a:path w="9910" h="1893">
                <a:moveTo>
                  <a:pt x="0" y="591"/>
                </a:moveTo>
                <a:lnTo>
                  <a:pt x="0" y="1893"/>
                </a:lnTo>
                <a:lnTo>
                  <a:pt x="9910" y="1893"/>
                </a:lnTo>
                <a:lnTo>
                  <a:pt x="9910" y="44"/>
                </a:lnTo>
                <a:lnTo>
                  <a:pt x="9743" y="127"/>
                </a:lnTo>
                <a:lnTo>
                  <a:pt x="9535" y="127"/>
                </a:lnTo>
                <a:lnTo>
                  <a:pt x="9407" y="167"/>
                </a:lnTo>
                <a:lnTo>
                  <a:pt x="9156" y="127"/>
                </a:lnTo>
                <a:lnTo>
                  <a:pt x="9028" y="127"/>
                </a:lnTo>
                <a:lnTo>
                  <a:pt x="8861" y="83"/>
                </a:lnTo>
                <a:lnTo>
                  <a:pt x="8653" y="83"/>
                </a:lnTo>
                <a:lnTo>
                  <a:pt x="8442" y="44"/>
                </a:lnTo>
                <a:lnTo>
                  <a:pt x="8190" y="0"/>
                </a:lnTo>
                <a:lnTo>
                  <a:pt x="7979" y="0"/>
                </a:lnTo>
                <a:lnTo>
                  <a:pt x="7811" y="0"/>
                </a:lnTo>
                <a:lnTo>
                  <a:pt x="7644" y="44"/>
                </a:lnTo>
                <a:lnTo>
                  <a:pt x="7476" y="44"/>
                </a:lnTo>
                <a:lnTo>
                  <a:pt x="7307" y="83"/>
                </a:lnTo>
                <a:lnTo>
                  <a:pt x="7140" y="127"/>
                </a:lnTo>
                <a:lnTo>
                  <a:pt x="7012" y="127"/>
                </a:lnTo>
                <a:lnTo>
                  <a:pt x="6677" y="211"/>
                </a:lnTo>
                <a:lnTo>
                  <a:pt x="6425" y="211"/>
                </a:lnTo>
                <a:lnTo>
                  <a:pt x="6214" y="211"/>
                </a:lnTo>
                <a:lnTo>
                  <a:pt x="5962" y="211"/>
                </a:lnTo>
                <a:lnTo>
                  <a:pt x="5795" y="255"/>
                </a:lnTo>
                <a:lnTo>
                  <a:pt x="5544" y="295"/>
                </a:lnTo>
                <a:lnTo>
                  <a:pt x="5248" y="339"/>
                </a:lnTo>
                <a:lnTo>
                  <a:pt x="5080" y="339"/>
                </a:lnTo>
                <a:lnTo>
                  <a:pt x="4913" y="295"/>
                </a:lnTo>
                <a:lnTo>
                  <a:pt x="4745" y="295"/>
                </a:lnTo>
                <a:lnTo>
                  <a:pt x="4494" y="255"/>
                </a:lnTo>
                <a:lnTo>
                  <a:pt x="4366" y="255"/>
                </a:lnTo>
                <a:lnTo>
                  <a:pt x="4159" y="211"/>
                </a:lnTo>
                <a:lnTo>
                  <a:pt x="4031" y="211"/>
                </a:lnTo>
                <a:lnTo>
                  <a:pt x="3824" y="211"/>
                </a:lnTo>
                <a:lnTo>
                  <a:pt x="3444" y="211"/>
                </a:lnTo>
                <a:lnTo>
                  <a:pt x="3233" y="211"/>
                </a:lnTo>
                <a:lnTo>
                  <a:pt x="2981" y="211"/>
                </a:lnTo>
                <a:lnTo>
                  <a:pt x="2854" y="211"/>
                </a:lnTo>
                <a:lnTo>
                  <a:pt x="2686" y="211"/>
                </a:lnTo>
                <a:lnTo>
                  <a:pt x="1680" y="295"/>
                </a:lnTo>
                <a:lnTo>
                  <a:pt x="1344" y="339"/>
                </a:lnTo>
                <a:lnTo>
                  <a:pt x="1217" y="339"/>
                </a:lnTo>
                <a:lnTo>
                  <a:pt x="1089" y="379"/>
                </a:lnTo>
                <a:lnTo>
                  <a:pt x="837" y="423"/>
                </a:lnTo>
                <a:lnTo>
                  <a:pt x="670" y="423"/>
                </a:lnTo>
                <a:lnTo>
                  <a:pt x="502" y="463"/>
                </a:lnTo>
                <a:lnTo>
                  <a:pt x="335" y="463"/>
                </a:lnTo>
                <a:lnTo>
                  <a:pt x="207" y="463"/>
                </a:lnTo>
                <a:lnTo>
                  <a:pt x="0" y="547"/>
                </a:lnTo>
                <a:lnTo>
                  <a:pt x="0" y="547"/>
                </a:lnTo>
                <a:lnTo>
                  <a:pt x="0" y="59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5" name=""/>
          <p:cNvSpPr/>
          <p:nvPr/>
        </p:nvSpPr>
        <p:spPr>
          <a:xfrm>
            <a:off x="2714760" y="3089160"/>
            <a:ext cx="3572280" cy="581400"/>
          </a:xfrm>
          <a:custGeom>
            <a:avLst/>
            <a:gdLst/>
            <a:ahLst/>
            <a:rect l="0" t="0" r="r" b="b"/>
            <a:pathLst>
              <a:path w="9923" h="1615">
                <a:moveTo>
                  <a:pt x="0" y="0"/>
                </a:moveTo>
                <a:lnTo>
                  <a:pt x="9923" y="0"/>
                </a:lnTo>
                <a:lnTo>
                  <a:pt x="9923" y="1510"/>
                </a:lnTo>
                <a:lnTo>
                  <a:pt x="9844" y="1483"/>
                </a:lnTo>
                <a:lnTo>
                  <a:pt x="9765" y="1457"/>
                </a:lnTo>
                <a:lnTo>
                  <a:pt x="9606" y="1457"/>
                </a:lnTo>
                <a:lnTo>
                  <a:pt x="9500" y="1457"/>
                </a:lnTo>
                <a:lnTo>
                  <a:pt x="9288" y="1457"/>
                </a:lnTo>
                <a:lnTo>
                  <a:pt x="9183" y="1457"/>
                </a:lnTo>
                <a:lnTo>
                  <a:pt x="9103" y="1457"/>
                </a:lnTo>
                <a:lnTo>
                  <a:pt x="8918" y="1483"/>
                </a:lnTo>
                <a:lnTo>
                  <a:pt x="8839" y="1510"/>
                </a:lnTo>
                <a:lnTo>
                  <a:pt x="8759" y="1510"/>
                </a:lnTo>
                <a:lnTo>
                  <a:pt x="8680" y="1510"/>
                </a:lnTo>
                <a:lnTo>
                  <a:pt x="8574" y="1563"/>
                </a:lnTo>
                <a:lnTo>
                  <a:pt x="8442" y="1589"/>
                </a:lnTo>
                <a:lnTo>
                  <a:pt x="8309" y="1615"/>
                </a:lnTo>
                <a:lnTo>
                  <a:pt x="8071" y="1615"/>
                </a:lnTo>
                <a:lnTo>
                  <a:pt x="7833" y="1589"/>
                </a:lnTo>
                <a:lnTo>
                  <a:pt x="7754" y="1563"/>
                </a:lnTo>
                <a:lnTo>
                  <a:pt x="7648" y="1536"/>
                </a:lnTo>
                <a:lnTo>
                  <a:pt x="7542" y="1536"/>
                </a:lnTo>
                <a:lnTo>
                  <a:pt x="7277" y="1510"/>
                </a:lnTo>
                <a:lnTo>
                  <a:pt x="7144" y="1510"/>
                </a:lnTo>
                <a:lnTo>
                  <a:pt x="6959" y="1510"/>
                </a:lnTo>
                <a:lnTo>
                  <a:pt x="6774" y="1483"/>
                </a:lnTo>
                <a:lnTo>
                  <a:pt x="6694" y="1483"/>
                </a:lnTo>
                <a:lnTo>
                  <a:pt x="6536" y="1483"/>
                </a:lnTo>
                <a:lnTo>
                  <a:pt x="6351" y="1404"/>
                </a:lnTo>
                <a:lnTo>
                  <a:pt x="6271" y="1404"/>
                </a:lnTo>
                <a:lnTo>
                  <a:pt x="6033" y="1404"/>
                </a:lnTo>
                <a:lnTo>
                  <a:pt x="5795" y="1404"/>
                </a:lnTo>
                <a:lnTo>
                  <a:pt x="5716" y="1404"/>
                </a:lnTo>
                <a:lnTo>
                  <a:pt x="5504" y="1404"/>
                </a:lnTo>
                <a:lnTo>
                  <a:pt x="5266" y="1430"/>
                </a:lnTo>
                <a:lnTo>
                  <a:pt x="5081" y="1430"/>
                </a:lnTo>
                <a:lnTo>
                  <a:pt x="4922" y="1430"/>
                </a:lnTo>
                <a:lnTo>
                  <a:pt x="4816" y="1430"/>
                </a:lnTo>
                <a:lnTo>
                  <a:pt x="4472" y="1430"/>
                </a:lnTo>
                <a:lnTo>
                  <a:pt x="4340" y="1430"/>
                </a:lnTo>
                <a:lnTo>
                  <a:pt x="4102" y="1430"/>
                </a:lnTo>
                <a:lnTo>
                  <a:pt x="3837" y="1404"/>
                </a:lnTo>
                <a:lnTo>
                  <a:pt x="3414" y="1324"/>
                </a:lnTo>
                <a:lnTo>
                  <a:pt x="3228" y="1298"/>
                </a:lnTo>
                <a:lnTo>
                  <a:pt x="3070" y="1191"/>
                </a:lnTo>
                <a:lnTo>
                  <a:pt x="2990" y="1191"/>
                </a:lnTo>
                <a:lnTo>
                  <a:pt x="2911" y="1191"/>
                </a:lnTo>
                <a:lnTo>
                  <a:pt x="2567" y="1165"/>
                </a:lnTo>
                <a:lnTo>
                  <a:pt x="2488" y="1165"/>
                </a:lnTo>
                <a:lnTo>
                  <a:pt x="2248" y="1138"/>
                </a:lnTo>
                <a:lnTo>
                  <a:pt x="2116" y="1138"/>
                </a:lnTo>
                <a:lnTo>
                  <a:pt x="1905" y="1138"/>
                </a:lnTo>
                <a:lnTo>
                  <a:pt x="1772" y="1138"/>
                </a:lnTo>
                <a:lnTo>
                  <a:pt x="1640" y="1138"/>
                </a:lnTo>
                <a:lnTo>
                  <a:pt x="1561" y="1138"/>
                </a:lnTo>
                <a:lnTo>
                  <a:pt x="1481" y="1138"/>
                </a:lnTo>
                <a:lnTo>
                  <a:pt x="1349" y="1138"/>
                </a:lnTo>
                <a:lnTo>
                  <a:pt x="1190" y="1138"/>
                </a:lnTo>
                <a:lnTo>
                  <a:pt x="1058" y="1138"/>
                </a:lnTo>
                <a:lnTo>
                  <a:pt x="926" y="1138"/>
                </a:lnTo>
                <a:lnTo>
                  <a:pt x="767" y="1138"/>
                </a:lnTo>
                <a:lnTo>
                  <a:pt x="608" y="1112"/>
                </a:lnTo>
                <a:lnTo>
                  <a:pt x="529" y="1085"/>
                </a:lnTo>
                <a:lnTo>
                  <a:pt x="396" y="1059"/>
                </a:lnTo>
                <a:lnTo>
                  <a:pt x="317" y="1059"/>
                </a:lnTo>
                <a:lnTo>
                  <a:pt x="291" y="979"/>
                </a:lnTo>
                <a:lnTo>
                  <a:pt x="52" y="927"/>
                </a:lnTo>
                <a:lnTo>
                  <a:pt x="0" y="940"/>
                </a:lnTo>
                <a:lnTo>
                  <a:pt x="0" y="927"/>
                </a:lnTo>
                <a:lnTo>
                  <a:pt x="0" y="953"/>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6" name=""/>
          <p:cNvSpPr/>
          <p:nvPr/>
        </p:nvSpPr>
        <p:spPr>
          <a:xfrm>
            <a:off x="2717640" y="2081160"/>
            <a:ext cx="0" cy="101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7" name=""/>
          <p:cNvSpPr/>
          <p:nvPr/>
        </p:nvSpPr>
        <p:spPr>
          <a:xfrm>
            <a:off x="6286680" y="2081160"/>
            <a:ext cx="0" cy="1013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58" name=""/>
          <p:cNvGrpSpPr/>
          <p:nvPr/>
        </p:nvGrpSpPr>
        <p:grpSpPr>
          <a:xfrm>
            <a:off x="2522520" y="2565360"/>
            <a:ext cx="4081320" cy="0"/>
            <a:chOff x="2522520" y="2565360"/>
            <a:chExt cx="4081320" cy="0"/>
          </a:xfrm>
        </p:grpSpPr>
        <p:sp>
          <p:nvSpPr>
            <p:cNvPr id="3159" name=""/>
            <p:cNvSpPr/>
            <p:nvPr/>
          </p:nvSpPr>
          <p:spPr>
            <a:xfrm>
              <a:off x="2522520" y="2565360"/>
              <a:ext cx="10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0" name=""/>
            <p:cNvSpPr/>
            <p:nvPr/>
          </p:nvSpPr>
          <p:spPr>
            <a:xfrm>
              <a:off x="3672000" y="256536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1" name=""/>
            <p:cNvSpPr/>
            <p:nvPr/>
          </p:nvSpPr>
          <p:spPr>
            <a:xfrm>
              <a:off x="3913200" y="2565360"/>
              <a:ext cx="127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2" name=""/>
            <p:cNvSpPr/>
            <p:nvPr/>
          </p:nvSpPr>
          <p:spPr>
            <a:xfrm>
              <a:off x="5289480" y="256536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3" name=""/>
            <p:cNvSpPr/>
            <p:nvPr/>
          </p:nvSpPr>
          <p:spPr>
            <a:xfrm>
              <a:off x="5516640" y="2565360"/>
              <a:ext cx="108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64" name=""/>
          <p:cNvSpPr/>
          <p:nvPr/>
        </p:nvSpPr>
        <p:spPr>
          <a:xfrm>
            <a:off x="6408720" y="2081160"/>
            <a:ext cx="1133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5" name=""/>
          <p:cNvSpPr/>
          <p:nvPr/>
        </p:nvSpPr>
        <p:spPr>
          <a:xfrm>
            <a:off x="6408720" y="3094200"/>
            <a:ext cx="1163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6" name=""/>
          <p:cNvSpPr/>
          <p:nvPr/>
        </p:nvSpPr>
        <p:spPr>
          <a:xfrm>
            <a:off x="7421400" y="2081160"/>
            <a:ext cx="0" cy="10130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7" name=""/>
          <p:cNvSpPr/>
          <p:nvPr/>
        </p:nvSpPr>
        <p:spPr>
          <a:xfrm>
            <a:off x="7351560" y="1940040"/>
            <a:ext cx="136800" cy="136800"/>
          </a:xfrm>
          <a:custGeom>
            <a:avLst/>
            <a:gdLst/>
            <a:ahLst/>
            <a:rect l="0" t="0" r="r" b="b"/>
            <a:pathLst>
              <a:path w="380" h="380">
                <a:moveTo>
                  <a:pt x="0" y="380"/>
                </a:moveTo>
                <a:lnTo>
                  <a:pt x="380" y="380"/>
                </a:lnTo>
                <a:lnTo>
                  <a:pt x="189" y="0"/>
                </a:lnTo>
                <a:lnTo>
                  <a:pt x="0" y="380"/>
                </a:lnTo>
                <a:close/>
              </a:path>
            </a:pathLst>
          </a:custGeom>
          <a:solidFill>
            <a:srgbClr val="f2fef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8" name=""/>
          <p:cNvSpPr/>
          <p:nvPr/>
        </p:nvSpPr>
        <p:spPr>
          <a:xfrm>
            <a:off x="7238880" y="1224000"/>
            <a:ext cx="347760" cy="3477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9" name=""/>
          <p:cNvSpPr/>
          <p:nvPr/>
        </p:nvSpPr>
        <p:spPr>
          <a:xfrm>
            <a:off x="7419960" y="1571760"/>
            <a:ext cx="0" cy="377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0" name=""/>
          <p:cNvSpPr txBox="1"/>
          <p:nvPr/>
        </p:nvSpPr>
        <p:spPr>
          <a:xfrm>
            <a:off x="7269120" y="11970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3171" name=""/>
          <p:cNvSpPr txBox="1"/>
          <p:nvPr/>
        </p:nvSpPr>
        <p:spPr>
          <a:xfrm>
            <a:off x="4589640" y="627120"/>
            <a:ext cx="674640" cy="457200"/>
          </a:xfrm>
          <a:prstGeom prst="rect">
            <a:avLst/>
          </a:prstGeom>
          <a:noFill/>
          <a:ln w="0">
            <a:noFill/>
          </a:ln>
        </p:spPr>
        <p:txBody>
          <a:bodyPr lIns="0" rIns="0" tIns="0" bIns="0" anchor="t">
            <a:noAutofit/>
          </a:bodyPr>
          <a:p>
            <a:pPr algn="ctr">
              <a:lnSpc>
                <a:spcPct val="100000"/>
              </a:lnSpc>
            </a:pPr>
            <a:r>
              <a:rPr b="0" lang="en-US" sz="2400" spc="-1" strike="noStrike">
                <a:solidFill>
                  <a:srgbClr val="ffffff"/>
                </a:solidFill>
                <a:latin typeface="Times New Roman"/>
                <a:ea typeface="Times New Roman"/>
              </a:rPr>
              <a:t>Part</a:t>
            </a:r>
            <a:endParaRPr b="0" lang="en-US" sz="2400" spc="-1" strike="noStrike">
              <a:solidFill>
                <a:srgbClr val="000000"/>
              </a:solidFill>
              <a:latin typeface="Arial"/>
            </a:endParaRPr>
          </a:p>
        </p:txBody>
      </p:sp>
      <p:sp>
        <p:nvSpPr>
          <p:cNvPr id="3172" name=""/>
          <p:cNvSpPr/>
          <p:nvPr/>
        </p:nvSpPr>
        <p:spPr>
          <a:xfrm flipH="1">
            <a:off x="4336920" y="857160"/>
            <a:ext cx="257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4336920" y="857160"/>
            <a:ext cx="36216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74" name=""/>
          <p:cNvSpPr/>
          <p:nvPr/>
        </p:nvSpPr>
        <p:spPr>
          <a:xfrm>
            <a:off x="3029040" y="1447920"/>
            <a:ext cx="3146760" cy="681480"/>
          </a:xfrm>
          <a:custGeom>
            <a:avLst/>
            <a:gdLst/>
            <a:ahLst/>
            <a:rect l="0" t="0" r="r" b="b"/>
            <a:pathLst>
              <a:path w="8741" h="1893">
                <a:moveTo>
                  <a:pt x="4" y="547"/>
                </a:moveTo>
                <a:lnTo>
                  <a:pt x="4" y="1849"/>
                </a:lnTo>
                <a:lnTo>
                  <a:pt x="185" y="1801"/>
                </a:lnTo>
                <a:lnTo>
                  <a:pt x="370" y="1854"/>
                </a:lnTo>
                <a:lnTo>
                  <a:pt x="648" y="1827"/>
                </a:lnTo>
                <a:lnTo>
                  <a:pt x="926" y="1849"/>
                </a:lnTo>
                <a:lnTo>
                  <a:pt x="1053" y="1765"/>
                </a:lnTo>
                <a:lnTo>
                  <a:pt x="1221" y="1765"/>
                </a:lnTo>
                <a:lnTo>
                  <a:pt x="1389" y="1765"/>
                </a:lnTo>
                <a:lnTo>
                  <a:pt x="1556" y="1809"/>
                </a:lnTo>
                <a:lnTo>
                  <a:pt x="1684" y="1849"/>
                </a:lnTo>
                <a:lnTo>
                  <a:pt x="1891" y="1849"/>
                </a:lnTo>
                <a:lnTo>
                  <a:pt x="2103" y="1893"/>
                </a:lnTo>
                <a:lnTo>
                  <a:pt x="2271" y="1893"/>
                </a:lnTo>
                <a:lnTo>
                  <a:pt x="2478" y="1893"/>
                </a:lnTo>
                <a:lnTo>
                  <a:pt x="2650" y="1849"/>
                </a:lnTo>
                <a:lnTo>
                  <a:pt x="2857" y="1809"/>
                </a:lnTo>
                <a:lnTo>
                  <a:pt x="2985" y="1809"/>
                </a:lnTo>
                <a:lnTo>
                  <a:pt x="3152" y="1809"/>
                </a:lnTo>
                <a:lnTo>
                  <a:pt x="3488" y="1809"/>
                </a:lnTo>
                <a:lnTo>
                  <a:pt x="3655" y="1809"/>
                </a:lnTo>
                <a:lnTo>
                  <a:pt x="3823" y="1809"/>
                </a:lnTo>
                <a:lnTo>
                  <a:pt x="3951" y="1765"/>
                </a:lnTo>
                <a:lnTo>
                  <a:pt x="4118" y="1726"/>
                </a:lnTo>
                <a:lnTo>
                  <a:pt x="4286" y="1682"/>
                </a:lnTo>
                <a:lnTo>
                  <a:pt x="4415" y="1682"/>
                </a:lnTo>
                <a:lnTo>
                  <a:pt x="4666" y="1682"/>
                </a:lnTo>
                <a:lnTo>
                  <a:pt x="4957" y="1726"/>
                </a:lnTo>
                <a:lnTo>
                  <a:pt x="5125" y="1765"/>
                </a:lnTo>
                <a:lnTo>
                  <a:pt x="5252" y="1765"/>
                </a:lnTo>
                <a:lnTo>
                  <a:pt x="5420" y="1765"/>
                </a:lnTo>
                <a:lnTo>
                  <a:pt x="5548" y="1765"/>
                </a:lnTo>
                <a:lnTo>
                  <a:pt x="5839" y="1765"/>
                </a:lnTo>
                <a:lnTo>
                  <a:pt x="5967" y="1765"/>
                </a:lnTo>
                <a:lnTo>
                  <a:pt x="6134" y="1726"/>
                </a:lnTo>
                <a:lnTo>
                  <a:pt x="6302" y="1726"/>
                </a:lnTo>
                <a:lnTo>
                  <a:pt x="6470" y="1726"/>
                </a:lnTo>
                <a:lnTo>
                  <a:pt x="6765" y="1765"/>
                </a:lnTo>
                <a:lnTo>
                  <a:pt x="6977" y="1765"/>
                </a:lnTo>
                <a:lnTo>
                  <a:pt x="7228" y="1849"/>
                </a:lnTo>
                <a:lnTo>
                  <a:pt x="7396" y="1849"/>
                </a:lnTo>
                <a:lnTo>
                  <a:pt x="7563" y="1849"/>
                </a:lnTo>
                <a:lnTo>
                  <a:pt x="7770" y="1849"/>
                </a:lnTo>
                <a:lnTo>
                  <a:pt x="7982" y="1849"/>
                </a:lnTo>
                <a:lnTo>
                  <a:pt x="8110" y="1849"/>
                </a:lnTo>
                <a:lnTo>
                  <a:pt x="8278" y="1849"/>
                </a:lnTo>
                <a:lnTo>
                  <a:pt x="8445" y="1765"/>
                </a:lnTo>
                <a:lnTo>
                  <a:pt x="8696" y="1765"/>
                </a:lnTo>
                <a:lnTo>
                  <a:pt x="8741" y="1809"/>
                </a:lnTo>
                <a:lnTo>
                  <a:pt x="8741" y="44"/>
                </a:lnTo>
                <a:lnTo>
                  <a:pt x="8613" y="44"/>
                </a:lnTo>
                <a:lnTo>
                  <a:pt x="8485" y="83"/>
                </a:lnTo>
                <a:lnTo>
                  <a:pt x="8317" y="83"/>
                </a:lnTo>
                <a:lnTo>
                  <a:pt x="8110" y="83"/>
                </a:lnTo>
                <a:lnTo>
                  <a:pt x="7942" y="44"/>
                </a:lnTo>
                <a:lnTo>
                  <a:pt x="7770" y="44"/>
                </a:lnTo>
                <a:lnTo>
                  <a:pt x="7519" y="44"/>
                </a:lnTo>
                <a:lnTo>
                  <a:pt x="7184" y="0"/>
                </a:lnTo>
                <a:lnTo>
                  <a:pt x="6933" y="0"/>
                </a:lnTo>
                <a:lnTo>
                  <a:pt x="6637" y="0"/>
                </a:lnTo>
                <a:lnTo>
                  <a:pt x="6346" y="0"/>
                </a:lnTo>
                <a:lnTo>
                  <a:pt x="6095" y="0"/>
                </a:lnTo>
                <a:lnTo>
                  <a:pt x="5967" y="0"/>
                </a:lnTo>
                <a:lnTo>
                  <a:pt x="5839" y="44"/>
                </a:lnTo>
                <a:lnTo>
                  <a:pt x="5632" y="44"/>
                </a:lnTo>
                <a:lnTo>
                  <a:pt x="5420" y="44"/>
                </a:lnTo>
                <a:lnTo>
                  <a:pt x="5169" y="127"/>
                </a:lnTo>
                <a:lnTo>
                  <a:pt x="4957" y="127"/>
                </a:lnTo>
                <a:lnTo>
                  <a:pt x="4706" y="127"/>
                </a:lnTo>
                <a:lnTo>
                  <a:pt x="4415" y="127"/>
                </a:lnTo>
                <a:lnTo>
                  <a:pt x="4286" y="127"/>
                </a:lnTo>
                <a:lnTo>
                  <a:pt x="4158" y="83"/>
                </a:lnTo>
                <a:lnTo>
                  <a:pt x="3823" y="44"/>
                </a:lnTo>
                <a:lnTo>
                  <a:pt x="3615" y="44"/>
                </a:lnTo>
                <a:lnTo>
                  <a:pt x="3448" y="44"/>
                </a:lnTo>
                <a:lnTo>
                  <a:pt x="3320" y="44"/>
                </a:lnTo>
                <a:lnTo>
                  <a:pt x="3108" y="44"/>
                </a:lnTo>
                <a:lnTo>
                  <a:pt x="2857" y="44"/>
                </a:lnTo>
                <a:lnTo>
                  <a:pt x="2650" y="44"/>
                </a:lnTo>
                <a:lnTo>
                  <a:pt x="2522" y="83"/>
                </a:lnTo>
                <a:lnTo>
                  <a:pt x="2394" y="167"/>
                </a:lnTo>
                <a:lnTo>
                  <a:pt x="2226" y="211"/>
                </a:lnTo>
                <a:lnTo>
                  <a:pt x="2059" y="295"/>
                </a:lnTo>
                <a:lnTo>
                  <a:pt x="1807" y="295"/>
                </a:lnTo>
                <a:lnTo>
                  <a:pt x="1640" y="339"/>
                </a:lnTo>
                <a:lnTo>
                  <a:pt x="1512" y="339"/>
                </a:lnTo>
                <a:lnTo>
                  <a:pt x="1344" y="339"/>
                </a:lnTo>
                <a:lnTo>
                  <a:pt x="1093" y="379"/>
                </a:lnTo>
                <a:lnTo>
                  <a:pt x="926" y="379"/>
                </a:lnTo>
                <a:lnTo>
                  <a:pt x="590" y="379"/>
                </a:lnTo>
                <a:lnTo>
                  <a:pt x="423" y="379"/>
                </a:lnTo>
                <a:lnTo>
                  <a:pt x="295" y="379"/>
                </a:lnTo>
                <a:lnTo>
                  <a:pt x="8" y="530"/>
                </a:lnTo>
                <a:lnTo>
                  <a:pt x="0" y="547"/>
                </a:lnTo>
                <a:lnTo>
                  <a:pt x="4" y="54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5" name=""/>
          <p:cNvSpPr/>
          <p:nvPr/>
        </p:nvSpPr>
        <p:spPr>
          <a:xfrm>
            <a:off x="3029040" y="3019320"/>
            <a:ext cx="3148200" cy="816480"/>
          </a:xfrm>
          <a:custGeom>
            <a:avLst/>
            <a:gdLst/>
            <a:ahLst/>
            <a:rect l="0" t="0" r="r" b="b"/>
            <a:pathLst>
              <a:path w="8745" h="2268">
                <a:moveTo>
                  <a:pt x="4" y="83"/>
                </a:moveTo>
                <a:lnTo>
                  <a:pt x="4" y="1849"/>
                </a:lnTo>
                <a:lnTo>
                  <a:pt x="339" y="1977"/>
                </a:lnTo>
                <a:lnTo>
                  <a:pt x="714" y="2101"/>
                </a:lnTo>
                <a:lnTo>
                  <a:pt x="926" y="2145"/>
                </a:lnTo>
                <a:lnTo>
                  <a:pt x="1053" y="2184"/>
                </a:lnTo>
                <a:lnTo>
                  <a:pt x="1221" y="2184"/>
                </a:lnTo>
                <a:lnTo>
                  <a:pt x="1389" y="2184"/>
                </a:lnTo>
                <a:lnTo>
                  <a:pt x="1556" y="2184"/>
                </a:lnTo>
                <a:lnTo>
                  <a:pt x="1684" y="2184"/>
                </a:lnTo>
                <a:lnTo>
                  <a:pt x="1975" y="2228"/>
                </a:lnTo>
                <a:lnTo>
                  <a:pt x="2310" y="2268"/>
                </a:lnTo>
                <a:lnTo>
                  <a:pt x="2478" y="2268"/>
                </a:lnTo>
                <a:lnTo>
                  <a:pt x="2689" y="2268"/>
                </a:lnTo>
                <a:lnTo>
                  <a:pt x="2817" y="2228"/>
                </a:lnTo>
                <a:lnTo>
                  <a:pt x="3025" y="2228"/>
                </a:lnTo>
                <a:lnTo>
                  <a:pt x="3236" y="2228"/>
                </a:lnTo>
                <a:lnTo>
                  <a:pt x="3404" y="2228"/>
                </a:lnTo>
                <a:lnTo>
                  <a:pt x="3699" y="2184"/>
                </a:lnTo>
                <a:lnTo>
                  <a:pt x="3907" y="2145"/>
                </a:lnTo>
                <a:lnTo>
                  <a:pt x="4034" y="2101"/>
                </a:lnTo>
                <a:lnTo>
                  <a:pt x="4202" y="2061"/>
                </a:lnTo>
                <a:lnTo>
                  <a:pt x="4330" y="2017"/>
                </a:lnTo>
                <a:lnTo>
                  <a:pt x="4498" y="2017"/>
                </a:lnTo>
                <a:lnTo>
                  <a:pt x="4666" y="1977"/>
                </a:lnTo>
                <a:lnTo>
                  <a:pt x="4957" y="1977"/>
                </a:lnTo>
                <a:lnTo>
                  <a:pt x="5085" y="1977"/>
                </a:lnTo>
                <a:lnTo>
                  <a:pt x="5297" y="1977"/>
                </a:lnTo>
                <a:lnTo>
                  <a:pt x="5671" y="2017"/>
                </a:lnTo>
                <a:lnTo>
                  <a:pt x="5799" y="2061"/>
                </a:lnTo>
                <a:lnTo>
                  <a:pt x="6134" y="2061"/>
                </a:lnTo>
                <a:lnTo>
                  <a:pt x="6430" y="2017"/>
                </a:lnTo>
                <a:lnTo>
                  <a:pt x="6681" y="2017"/>
                </a:lnTo>
                <a:lnTo>
                  <a:pt x="6888" y="1977"/>
                </a:lnTo>
                <a:lnTo>
                  <a:pt x="7184" y="1977"/>
                </a:lnTo>
                <a:lnTo>
                  <a:pt x="7396" y="1977"/>
                </a:lnTo>
                <a:lnTo>
                  <a:pt x="7770" y="1977"/>
                </a:lnTo>
                <a:lnTo>
                  <a:pt x="7898" y="2017"/>
                </a:lnTo>
                <a:lnTo>
                  <a:pt x="8026" y="2017"/>
                </a:lnTo>
                <a:lnTo>
                  <a:pt x="8317" y="2017"/>
                </a:lnTo>
                <a:lnTo>
                  <a:pt x="8445" y="2017"/>
                </a:lnTo>
                <a:lnTo>
                  <a:pt x="8613" y="2017"/>
                </a:lnTo>
                <a:lnTo>
                  <a:pt x="8741" y="2017"/>
                </a:lnTo>
                <a:lnTo>
                  <a:pt x="8745" y="1973"/>
                </a:lnTo>
                <a:lnTo>
                  <a:pt x="8745" y="132"/>
                </a:lnTo>
                <a:lnTo>
                  <a:pt x="8696" y="127"/>
                </a:lnTo>
                <a:lnTo>
                  <a:pt x="8485" y="83"/>
                </a:lnTo>
                <a:lnTo>
                  <a:pt x="8233" y="44"/>
                </a:lnTo>
                <a:lnTo>
                  <a:pt x="8026" y="0"/>
                </a:lnTo>
                <a:lnTo>
                  <a:pt x="7859" y="0"/>
                </a:lnTo>
                <a:lnTo>
                  <a:pt x="7731" y="44"/>
                </a:lnTo>
                <a:lnTo>
                  <a:pt x="7435" y="83"/>
                </a:lnTo>
                <a:lnTo>
                  <a:pt x="7268" y="83"/>
                </a:lnTo>
                <a:lnTo>
                  <a:pt x="6933" y="83"/>
                </a:lnTo>
                <a:lnTo>
                  <a:pt x="6681" y="83"/>
                </a:lnTo>
                <a:lnTo>
                  <a:pt x="6470" y="83"/>
                </a:lnTo>
                <a:lnTo>
                  <a:pt x="6262" y="83"/>
                </a:lnTo>
                <a:lnTo>
                  <a:pt x="6134" y="83"/>
                </a:lnTo>
                <a:lnTo>
                  <a:pt x="6007" y="44"/>
                </a:lnTo>
                <a:lnTo>
                  <a:pt x="5716" y="83"/>
                </a:lnTo>
                <a:lnTo>
                  <a:pt x="5548" y="83"/>
                </a:lnTo>
                <a:lnTo>
                  <a:pt x="5420" y="83"/>
                </a:lnTo>
                <a:lnTo>
                  <a:pt x="5213" y="127"/>
                </a:lnTo>
                <a:lnTo>
                  <a:pt x="4873" y="167"/>
                </a:lnTo>
                <a:lnTo>
                  <a:pt x="4622" y="167"/>
                </a:lnTo>
                <a:lnTo>
                  <a:pt x="4454" y="167"/>
                </a:lnTo>
                <a:lnTo>
                  <a:pt x="4118" y="167"/>
                </a:lnTo>
                <a:lnTo>
                  <a:pt x="3951" y="167"/>
                </a:lnTo>
                <a:lnTo>
                  <a:pt x="3655" y="167"/>
                </a:lnTo>
                <a:lnTo>
                  <a:pt x="3360" y="127"/>
                </a:lnTo>
                <a:lnTo>
                  <a:pt x="3152" y="127"/>
                </a:lnTo>
                <a:lnTo>
                  <a:pt x="2941" y="127"/>
                </a:lnTo>
                <a:lnTo>
                  <a:pt x="2773" y="127"/>
                </a:lnTo>
                <a:lnTo>
                  <a:pt x="2606" y="127"/>
                </a:lnTo>
                <a:lnTo>
                  <a:pt x="2478" y="127"/>
                </a:lnTo>
                <a:lnTo>
                  <a:pt x="2310" y="127"/>
                </a:lnTo>
                <a:lnTo>
                  <a:pt x="2143" y="127"/>
                </a:lnTo>
                <a:lnTo>
                  <a:pt x="1975" y="127"/>
                </a:lnTo>
                <a:lnTo>
                  <a:pt x="1807" y="127"/>
                </a:lnTo>
                <a:lnTo>
                  <a:pt x="1640" y="127"/>
                </a:lnTo>
                <a:lnTo>
                  <a:pt x="1428" y="127"/>
                </a:lnTo>
                <a:lnTo>
                  <a:pt x="1221" y="127"/>
                </a:lnTo>
                <a:lnTo>
                  <a:pt x="970" y="127"/>
                </a:lnTo>
                <a:lnTo>
                  <a:pt x="842" y="127"/>
                </a:lnTo>
                <a:lnTo>
                  <a:pt x="714" y="127"/>
                </a:lnTo>
                <a:lnTo>
                  <a:pt x="546" y="127"/>
                </a:lnTo>
                <a:lnTo>
                  <a:pt x="379" y="44"/>
                </a:lnTo>
                <a:lnTo>
                  <a:pt x="145" y="39"/>
                </a:lnTo>
                <a:lnTo>
                  <a:pt x="0" y="79"/>
                </a:lnTo>
                <a:lnTo>
                  <a:pt x="4" y="8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6" name=""/>
          <p:cNvSpPr txBox="1"/>
          <p:nvPr/>
        </p:nvSpPr>
        <p:spPr>
          <a:xfrm>
            <a:off x="4414680" y="339840"/>
            <a:ext cx="13334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Actual Part</a:t>
            </a:r>
            <a:endParaRPr b="0" lang="en-US" sz="2000" spc="-1" strike="noStrike">
              <a:solidFill>
                <a:srgbClr val="000000"/>
              </a:solidFill>
              <a:latin typeface="Arial"/>
            </a:endParaRPr>
          </a:p>
        </p:txBody>
      </p:sp>
      <p:sp>
        <p:nvSpPr>
          <p:cNvPr id="3177" name=""/>
          <p:cNvSpPr/>
          <p:nvPr/>
        </p:nvSpPr>
        <p:spPr>
          <a:xfrm>
            <a:off x="5835600" y="539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p:nvPr/>
        </p:nvSpPr>
        <p:spPr>
          <a:xfrm flipH="1">
            <a:off x="5759280" y="539640"/>
            <a:ext cx="287640" cy="90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9" name=""/>
          <p:cNvSpPr/>
          <p:nvPr/>
        </p:nvSpPr>
        <p:spPr>
          <a:xfrm>
            <a:off x="2425680" y="2567160"/>
            <a:ext cx="12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0" name=""/>
          <p:cNvSpPr/>
          <p:nvPr/>
        </p:nvSpPr>
        <p:spPr>
          <a:xfrm>
            <a:off x="3770280" y="256716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a:off x="3997440" y="256716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2" name=""/>
          <p:cNvSpPr/>
          <p:nvPr/>
        </p:nvSpPr>
        <p:spPr>
          <a:xfrm>
            <a:off x="5540400" y="256716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3" name=""/>
          <p:cNvSpPr/>
          <p:nvPr/>
        </p:nvSpPr>
        <p:spPr>
          <a:xfrm>
            <a:off x="5751360" y="2567160"/>
            <a:ext cx="131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4" name=""/>
          <p:cNvSpPr txBox="1"/>
          <p:nvPr/>
        </p:nvSpPr>
        <p:spPr>
          <a:xfrm>
            <a:off x="533520" y="60660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185" name=""/>
          <p:cNvSpPr txBox="1"/>
          <p:nvPr/>
        </p:nvSpPr>
        <p:spPr>
          <a:xfrm>
            <a:off x="1684440" y="5254560"/>
            <a:ext cx="601812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IN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186" name=""/>
          <p:cNvSpPr txBox="1"/>
          <p:nvPr/>
        </p:nvSpPr>
        <p:spPr>
          <a:xfrm>
            <a:off x="6845400" y="3456000"/>
            <a:ext cx="1947960" cy="39672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Datum Feature A</a:t>
            </a:r>
            <a:endParaRPr b="0" lang="en-US" sz="2000" spc="-1" strike="noStrike">
              <a:solidFill>
                <a:srgbClr val="000000"/>
              </a:solidFill>
              <a:latin typeface="Arial"/>
            </a:endParaRPr>
          </a:p>
        </p:txBody>
      </p:sp>
      <p:sp>
        <p:nvSpPr>
          <p:cNvPr id="3187" name=""/>
          <p:cNvSpPr/>
          <p:nvPr/>
        </p:nvSpPr>
        <p:spPr>
          <a:xfrm flipH="1">
            <a:off x="6680160" y="363996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8" name=""/>
          <p:cNvSpPr/>
          <p:nvPr/>
        </p:nvSpPr>
        <p:spPr>
          <a:xfrm flipH="1" flipV="1">
            <a:off x="5297400" y="2082960"/>
            <a:ext cx="1360440" cy="1557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9" name=""/>
          <p:cNvSpPr/>
          <p:nvPr/>
        </p:nvSpPr>
        <p:spPr>
          <a:xfrm>
            <a:off x="3029040" y="2098800"/>
            <a:ext cx="0" cy="96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0" name=""/>
          <p:cNvSpPr/>
          <p:nvPr/>
        </p:nvSpPr>
        <p:spPr>
          <a:xfrm>
            <a:off x="6175440" y="2112840"/>
            <a:ext cx="0" cy="982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91" name=""/>
          <p:cNvSpPr/>
          <p:nvPr/>
        </p:nvSpPr>
        <p:spPr>
          <a:xfrm>
            <a:off x="3029040" y="1447920"/>
            <a:ext cx="3146760" cy="681480"/>
          </a:xfrm>
          <a:custGeom>
            <a:avLst/>
            <a:gdLst/>
            <a:ahLst/>
            <a:rect l="0" t="0" r="r" b="b"/>
            <a:pathLst>
              <a:path w="8741" h="1893">
                <a:moveTo>
                  <a:pt x="4" y="547"/>
                </a:moveTo>
                <a:lnTo>
                  <a:pt x="4" y="1849"/>
                </a:lnTo>
                <a:lnTo>
                  <a:pt x="185" y="1801"/>
                </a:lnTo>
                <a:lnTo>
                  <a:pt x="370" y="1854"/>
                </a:lnTo>
                <a:lnTo>
                  <a:pt x="648" y="1827"/>
                </a:lnTo>
                <a:lnTo>
                  <a:pt x="926" y="1849"/>
                </a:lnTo>
                <a:lnTo>
                  <a:pt x="1053" y="1765"/>
                </a:lnTo>
                <a:lnTo>
                  <a:pt x="1221" y="1765"/>
                </a:lnTo>
                <a:lnTo>
                  <a:pt x="1389" y="1765"/>
                </a:lnTo>
                <a:lnTo>
                  <a:pt x="1556" y="1809"/>
                </a:lnTo>
                <a:lnTo>
                  <a:pt x="1684" y="1849"/>
                </a:lnTo>
                <a:lnTo>
                  <a:pt x="1891" y="1849"/>
                </a:lnTo>
                <a:lnTo>
                  <a:pt x="2103" y="1893"/>
                </a:lnTo>
                <a:lnTo>
                  <a:pt x="2271" y="1893"/>
                </a:lnTo>
                <a:lnTo>
                  <a:pt x="2478" y="1893"/>
                </a:lnTo>
                <a:lnTo>
                  <a:pt x="2650" y="1849"/>
                </a:lnTo>
                <a:lnTo>
                  <a:pt x="2857" y="1809"/>
                </a:lnTo>
                <a:lnTo>
                  <a:pt x="2985" y="1809"/>
                </a:lnTo>
                <a:lnTo>
                  <a:pt x="3152" y="1809"/>
                </a:lnTo>
                <a:lnTo>
                  <a:pt x="3488" y="1809"/>
                </a:lnTo>
                <a:lnTo>
                  <a:pt x="3655" y="1809"/>
                </a:lnTo>
                <a:lnTo>
                  <a:pt x="3823" y="1809"/>
                </a:lnTo>
                <a:lnTo>
                  <a:pt x="3951" y="1765"/>
                </a:lnTo>
                <a:lnTo>
                  <a:pt x="4118" y="1726"/>
                </a:lnTo>
                <a:lnTo>
                  <a:pt x="4286" y="1682"/>
                </a:lnTo>
                <a:lnTo>
                  <a:pt x="4415" y="1682"/>
                </a:lnTo>
                <a:lnTo>
                  <a:pt x="4666" y="1682"/>
                </a:lnTo>
                <a:lnTo>
                  <a:pt x="4957" y="1726"/>
                </a:lnTo>
                <a:lnTo>
                  <a:pt x="5125" y="1765"/>
                </a:lnTo>
                <a:lnTo>
                  <a:pt x="5252" y="1765"/>
                </a:lnTo>
                <a:lnTo>
                  <a:pt x="5420" y="1765"/>
                </a:lnTo>
                <a:lnTo>
                  <a:pt x="5548" y="1765"/>
                </a:lnTo>
                <a:lnTo>
                  <a:pt x="5839" y="1765"/>
                </a:lnTo>
                <a:lnTo>
                  <a:pt x="5967" y="1765"/>
                </a:lnTo>
                <a:lnTo>
                  <a:pt x="6134" y="1726"/>
                </a:lnTo>
                <a:lnTo>
                  <a:pt x="6302" y="1726"/>
                </a:lnTo>
                <a:lnTo>
                  <a:pt x="6470" y="1726"/>
                </a:lnTo>
                <a:lnTo>
                  <a:pt x="6765" y="1765"/>
                </a:lnTo>
                <a:lnTo>
                  <a:pt x="6977" y="1765"/>
                </a:lnTo>
                <a:lnTo>
                  <a:pt x="7228" y="1849"/>
                </a:lnTo>
                <a:lnTo>
                  <a:pt x="7396" y="1849"/>
                </a:lnTo>
                <a:lnTo>
                  <a:pt x="7563" y="1849"/>
                </a:lnTo>
                <a:lnTo>
                  <a:pt x="7770" y="1849"/>
                </a:lnTo>
                <a:lnTo>
                  <a:pt x="7982" y="1849"/>
                </a:lnTo>
                <a:lnTo>
                  <a:pt x="8110" y="1849"/>
                </a:lnTo>
                <a:lnTo>
                  <a:pt x="8278" y="1849"/>
                </a:lnTo>
                <a:lnTo>
                  <a:pt x="8445" y="1765"/>
                </a:lnTo>
                <a:lnTo>
                  <a:pt x="8696" y="1765"/>
                </a:lnTo>
                <a:lnTo>
                  <a:pt x="8741" y="1809"/>
                </a:lnTo>
                <a:lnTo>
                  <a:pt x="8741" y="44"/>
                </a:lnTo>
                <a:lnTo>
                  <a:pt x="8613" y="44"/>
                </a:lnTo>
                <a:lnTo>
                  <a:pt x="8485" y="83"/>
                </a:lnTo>
                <a:lnTo>
                  <a:pt x="8317" y="83"/>
                </a:lnTo>
                <a:lnTo>
                  <a:pt x="8110" y="83"/>
                </a:lnTo>
                <a:lnTo>
                  <a:pt x="7942" y="44"/>
                </a:lnTo>
                <a:lnTo>
                  <a:pt x="7770" y="44"/>
                </a:lnTo>
                <a:lnTo>
                  <a:pt x="7519" y="44"/>
                </a:lnTo>
                <a:lnTo>
                  <a:pt x="7184" y="0"/>
                </a:lnTo>
                <a:lnTo>
                  <a:pt x="6933" y="0"/>
                </a:lnTo>
                <a:lnTo>
                  <a:pt x="6637" y="0"/>
                </a:lnTo>
                <a:lnTo>
                  <a:pt x="6346" y="0"/>
                </a:lnTo>
                <a:lnTo>
                  <a:pt x="6095" y="0"/>
                </a:lnTo>
                <a:lnTo>
                  <a:pt x="5967" y="0"/>
                </a:lnTo>
                <a:lnTo>
                  <a:pt x="5839" y="44"/>
                </a:lnTo>
                <a:lnTo>
                  <a:pt x="5632" y="44"/>
                </a:lnTo>
                <a:lnTo>
                  <a:pt x="5420" y="44"/>
                </a:lnTo>
                <a:lnTo>
                  <a:pt x="5169" y="127"/>
                </a:lnTo>
                <a:lnTo>
                  <a:pt x="4957" y="127"/>
                </a:lnTo>
                <a:lnTo>
                  <a:pt x="4706" y="127"/>
                </a:lnTo>
                <a:lnTo>
                  <a:pt x="4415" y="127"/>
                </a:lnTo>
                <a:lnTo>
                  <a:pt x="4286" y="127"/>
                </a:lnTo>
                <a:lnTo>
                  <a:pt x="4158" y="83"/>
                </a:lnTo>
                <a:lnTo>
                  <a:pt x="3823" y="44"/>
                </a:lnTo>
                <a:lnTo>
                  <a:pt x="3615" y="44"/>
                </a:lnTo>
                <a:lnTo>
                  <a:pt x="3448" y="44"/>
                </a:lnTo>
                <a:lnTo>
                  <a:pt x="3320" y="44"/>
                </a:lnTo>
                <a:lnTo>
                  <a:pt x="3108" y="44"/>
                </a:lnTo>
                <a:lnTo>
                  <a:pt x="2857" y="44"/>
                </a:lnTo>
                <a:lnTo>
                  <a:pt x="2650" y="44"/>
                </a:lnTo>
                <a:lnTo>
                  <a:pt x="2522" y="83"/>
                </a:lnTo>
                <a:lnTo>
                  <a:pt x="2394" y="167"/>
                </a:lnTo>
                <a:lnTo>
                  <a:pt x="2226" y="211"/>
                </a:lnTo>
                <a:lnTo>
                  <a:pt x="2059" y="295"/>
                </a:lnTo>
                <a:lnTo>
                  <a:pt x="1807" y="295"/>
                </a:lnTo>
                <a:lnTo>
                  <a:pt x="1640" y="339"/>
                </a:lnTo>
                <a:lnTo>
                  <a:pt x="1512" y="339"/>
                </a:lnTo>
                <a:lnTo>
                  <a:pt x="1344" y="339"/>
                </a:lnTo>
                <a:lnTo>
                  <a:pt x="1093" y="379"/>
                </a:lnTo>
                <a:lnTo>
                  <a:pt x="926" y="379"/>
                </a:lnTo>
                <a:lnTo>
                  <a:pt x="590" y="379"/>
                </a:lnTo>
                <a:lnTo>
                  <a:pt x="423" y="379"/>
                </a:lnTo>
                <a:lnTo>
                  <a:pt x="295" y="379"/>
                </a:lnTo>
                <a:lnTo>
                  <a:pt x="8" y="530"/>
                </a:lnTo>
                <a:lnTo>
                  <a:pt x="0" y="547"/>
                </a:lnTo>
                <a:lnTo>
                  <a:pt x="4" y="54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92" name=""/>
          <p:cNvSpPr/>
          <p:nvPr/>
        </p:nvSpPr>
        <p:spPr>
          <a:xfrm>
            <a:off x="3029040" y="3019320"/>
            <a:ext cx="3148200" cy="816480"/>
          </a:xfrm>
          <a:custGeom>
            <a:avLst/>
            <a:gdLst/>
            <a:ahLst/>
            <a:rect l="0" t="0" r="r" b="b"/>
            <a:pathLst>
              <a:path w="8745" h="2268">
                <a:moveTo>
                  <a:pt x="4" y="83"/>
                </a:moveTo>
                <a:lnTo>
                  <a:pt x="4" y="1849"/>
                </a:lnTo>
                <a:lnTo>
                  <a:pt x="339" y="1977"/>
                </a:lnTo>
                <a:lnTo>
                  <a:pt x="714" y="2101"/>
                </a:lnTo>
                <a:lnTo>
                  <a:pt x="926" y="2145"/>
                </a:lnTo>
                <a:lnTo>
                  <a:pt x="1053" y="2184"/>
                </a:lnTo>
                <a:lnTo>
                  <a:pt x="1221" y="2184"/>
                </a:lnTo>
                <a:lnTo>
                  <a:pt x="1389" y="2184"/>
                </a:lnTo>
                <a:lnTo>
                  <a:pt x="1556" y="2184"/>
                </a:lnTo>
                <a:lnTo>
                  <a:pt x="1684" y="2184"/>
                </a:lnTo>
                <a:lnTo>
                  <a:pt x="1975" y="2228"/>
                </a:lnTo>
                <a:lnTo>
                  <a:pt x="2310" y="2268"/>
                </a:lnTo>
                <a:lnTo>
                  <a:pt x="2478" y="2268"/>
                </a:lnTo>
                <a:lnTo>
                  <a:pt x="2689" y="2268"/>
                </a:lnTo>
                <a:lnTo>
                  <a:pt x="2817" y="2228"/>
                </a:lnTo>
                <a:lnTo>
                  <a:pt x="3025" y="2228"/>
                </a:lnTo>
                <a:lnTo>
                  <a:pt x="3236" y="2228"/>
                </a:lnTo>
                <a:lnTo>
                  <a:pt x="3404" y="2228"/>
                </a:lnTo>
                <a:lnTo>
                  <a:pt x="3699" y="2184"/>
                </a:lnTo>
                <a:lnTo>
                  <a:pt x="3907" y="2145"/>
                </a:lnTo>
                <a:lnTo>
                  <a:pt x="4034" y="2101"/>
                </a:lnTo>
                <a:lnTo>
                  <a:pt x="4202" y="2061"/>
                </a:lnTo>
                <a:lnTo>
                  <a:pt x="4330" y="2017"/>
                </a:lnTo>
                <a:lnTo>
                  <a:pt x="4498" y="2017"/>
                </a:lnTo>
                <a:lnTo>
                  <a:pt x="4666" y="1977"/>
                </a:lnTo>
                <a:lnTo>
                  <a:pt x="4957" y="1977"/>
                </a:lnTo>
                <a:lnTo>
                  <a:pt x="5085" y="1977"/>
                </a:lnTo>
                <a:lnTo>
                  <a:pt x="5297" y="1977"/>
                </a:lnTo>
                <a:lnTo>
                  <a:pt x="5671" y="2017"/>
                </a:lnTo>
                <a:lnTo>
                  <a:pt x="5799" y="2061"/>
                </a:lnTo>
                <a:lnTo>
                  <a:pt x="6134" y="2061"/>
                </a:lnTo>
                <a:lnTo>
                  <a:pt x="6430" y="2017"/>
                </a:lnTo>
                <a:lnTo>
                  <a:pt x="6681" y="2017"/>
                </a:lnTo>
                <a:lnTo>
                  <a:pt x="6888" y="1977"/>
                </a:lnTo>
                <a:lnTo>
                  <a:pt x="7184" y="1977"/>
                </a:lnTo>
                <a:lnTo>
                  <a:pt x="7396" y="1977"/>
                </a:lnTo>
                <a:lnTo>
                  <a:pt x="7770" y="1977"/>
                </a:lnTo>
                <a:lnTo>
                  <a:pt x="7898" y="2017"/>
                </a:lnTo>
                <a:lnTo>
                  <a:pt x="8026" y="2017"/>
                </a:lnTo>
                <a:lnTo>
                  <a:pt x="8317" y="2017"/>
                </a:lnTo>
                <a:lnTo>
                  <a:pt x="8445" y="2017"/>
                </a:lnTo>
                <a:lnTo>
                  <a:pt x="8613" y="2017"/>
                </a:lnTo>
                <a:lnTo>
                  <a:pt x="8741" y="2017"/>
                </a:lnTo>
                <a:lnTo>
                  <a:pt x="8745" y="1973"/>
                </a:lnTo>
                <a:lnTo>
                  <a:pt x="8745" y="132"/>
                </a:lnTo>
                <a:lnTo>
                  <a:pt x="8696" y="127"/>
                </a:lnTo>
                <a:lnTo>
                  <a:pt x="8485" y="83"/>
                </a:lnTo>
                <a:lnTo>
                  <a:pt x="8233" y="44"/>
                </a:lnTo>
                <a:lnTo>
                  <a:pt x="8026" y="0"/>
                </a:lnTo>
                <a:lnTo>
                  <a:pt x="7859" y="0"/>
                </a:lnTo>
                <a:lnTo>
                  <a:pt x="7731" y="44"/>
                </a:lnTo>
                <a:lnTo>
                  <a:pt x="7435" y="83"/>
                </a:lnTo>
                <a:lnTo>
                  <a:pt x="7268" y="83"/>
                </a:lnTo>
                <a:lnTo>
                  <a:pt x="6933" y="83"/>
                </a:lnTo>
                <a:lnTo>
                  <a:pt x="6681" y="83"/>
                </a:lnTo>
                <a:lnTo>
                  <a:pt x="6470" y="83"/>
                </a:lnTo>
                <a:lnTo>
                  <a:pt x="6262" y="83"/>
                </a:lnTo>
                <a:lnTo>
                  <a:pt x="6134" y="83"/>
                </a:lnTo>
                <a:lnTo>
                  <a:pt x="6007" y="44"/>
                </a:lnTo>
                <a:lnTo>
                  <a:pt x="5716" y="83"/>
                </a:lnTo>
                <a:lnTo>
                  <a:pt x="5548" y="83"/>
                </a:lnTo>
                <a:lnTo>
                  <a:pt x="5420" y="83"/>
                </a:lnTo>
                <a:lnTo>
                  <a:pt x="5213" y="127"/>
                </a:lnTo>
                <a:lnTo>
                  <a:pt x="4873" y="167"/>
                </a:lnTo>
                <a:lnTo>
                  <a:pt x="4622" y="167"/>
                </a:lnTo>
                <a:lnTo>
                  <a:pt x="4454" y="167"/>
                </a:lnTo>
                <a:lnTo>
                  <a:pt x="4118" y="167"/>
                </a:lnTo>
                <a:lnTo>
                  <a:pt x="3951" y="167"/>
                </a:lnTo>
                <a:lnTo>
                  <a:pt x="3655" y="167"/>
                </a:lnTo>
                <a:lnTo>
                  <a:pt x="3360" y="127"/>
                </a:lnTo>
                <a:lnTo>
                  <a:pt x="3152" y="127"/>
                </a:lnTo>
                <a:lnTo>
                  <a:pt x="2941" y="127"/>
                </a:lnTo>
                <a:lnTo>
                  <a:pt x="2773" y="127"/>
                </a:lnTo>
                <a:lnTo>
                  <a:pt x="2606" y="127"/>
                </a:lnTo>
                <a:lnTo>
                  <a:pt x="2478" y="127"/>
                </a:lnTo>
                <a:lnTo>
                  <a:pt x="2310" y="127"/>
                </a:lnTo>
                <a:lnTo>
                  <a:pt x="2143" y="127"/>
                </a:lnTo>
                <a:lnTo>
                  <a:pt x="1975" y="127"/>
                </a:lnTo>
                <a:lnTo>
                  <a:pt x="1807" y="127"/>
                </a:lnTo>
                <a:lnTo>
                  <a:pt x="1640" y="127"/>
                </a:lnTo>
                <a:lnTo>
                  <a:pt x="1428" y="127"/>
                </a:lnTo>
                <a:lnTo>
                  <a:pt x="1221" y="127"/>
                </a:lnTo>
                <a:lnTo>
                  <a:pt x="970" y="127"/>
                </a:lnTo>
                <a:lnTo>
                  <a:pt x="842" y="127"/>
                </a:lnTo>
                <a:lnTo>
                  <a:pt x="714" y="127"/>
                </a:lnTo>
                <a:lnTo>
                  <a:pt x="546" y="127"/>
                </a:lnTo>
                <a:lnTo>
                  <a:pt x="379" y="44"/>
                </a:lnTo>
                <a:lnTo>
                  <a:pt x="145" y="39"/>
                </a:lnTo>
                <a:lnTo>
                  <a:pt x="0" y="79"/>
                </a:lnTo>
                <a:lnTo>
                  <a:pt x="4" y="8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93" name=""/>
          <p:cNvSpPr/>
          <p:nvPr/>
        </p:nvSpPr>
        <p:spPr>
          <a:xfrm>
            <a:off x="2657520" y="2124000"/>
            <a:ext cx="4143240" cy="895320"/>
          </a:xfrm>
          <a:prstGeom prst="rect">
            <a:avLst/>
          </a:prstGeom>
          <a:gradFill rotWithShape="0">
            <a:gsLst>
              <a:gs pos="0">
                <a:srgbClr val="393d4c"/>
              </a:gs>
              <a:gs pos="50000">
                <a:srgbClr val="c1ceff"/>
              </a:gs>
              <a:gs pos="100000">
                <a:srgbClr val="393d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94" name=""/>
          <p:cNvSpPr/>
          <p:nvPr/>
        </p:nvSpPr>
        <p:spPr>
          <a:xfrm>
            <a:off x="2425680" y="2567160"/>
            <a:ext cx="12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5" name=""/>
          <p:cNvSpPr/>
          <p:nvPr/>
        </p:nvSpPr>
        <p:spPr>
          <a:xfrm>
            <a:off x="3770280" y="256716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6" name=""/>
          <p:cNvSpPr/>
          <p:nvPr/>
        </p:nvSpPr>
        <p:spPr>
          <a:xfrm>
            <a:off x="3997440" y="256716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7" name=""/>
          <p:cNvSpPr/>
          <p:nvPr/>
        </p:nvSpPr>
        <p:spPr>
          <a:xfrm>
            <a:off x="5540400" y="256716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8" name=""/>
          <p:cNvSpPr/>
          <p:nvPr/>
        </p:nvSpPr>
        <p:spPr>
          <a:xfrm>
            <a:off x="5751360" y="2567160"/>
            <a:ext cx="131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9" name=""/>
          <p:cNvSpPr txBox="1"/>
          <p:nvPr/>
        </p:nvSpPr>
        <p:spPr>
          <a:xfrm>
            <a:off x="533520" y="60660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200" name=""/>
          <p:cNvSpPr txBox="1"/>
          <p:nvPr/>
        </p:nvSpPr>
        <p:spPr>
          <a:xfrm>
            <a:off x="1684440" y="5254560"/>
            <a:ext cx="601812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IN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201" name=""/>
          <p:cNvSpPr txBox="1"/>
          <p:nvPr/>
        </p:nvSpPr>
        <p:spPr>
          <a:xfrm>
            <a:off x="6845400" y="3456000"/>
            <a:ext cx="19479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A</a:t>
            </a:r>
            <a:endParaRPr b="0" lang="en-US" sz="2000" spc="-1" strike="noStrike">
              <a:solidFill>
                <a:srgbClr val="000000"/>
              </a:solidFill>
              <a:latin typeface="Arial"/>
            </a:endParaRPr>
          </a:p>
        </p:txBody>
      </p:sp>
      <p:sp>
        <p:nvSpPr>
          <p:cNvPr id="3202" name=""/>
          <p:cNvSpPr/>
          <p:nvPr/>
        </p:nvSpPr>
        <p:spPr>
          <a:xfrm flipH="1">
            <a:off x="6680160" y="363996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3" name=""/>
          <p:cNvSpPr/>
          <p:nvPr/>
        </p:nvSpPr>
        <p:spPr>
          <a:xfrm flipH="1" flipV="1">
            <a:off x="5297400" y="2082960"/>
            <a:ext cx="1360440" cy="1557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4" name=""/>
          <p:cNvSpPr txBox="1"/>
          <p:nvPr/>
        </p:nvSpPr>
        <p:spPr>
          <a:xfrm>
            <a:off x="1293840" y="3986280"/>
            <a:ext cx="2870280" cy="100656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Simulator</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Variable diameter gage --</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largest inscribed cylinder)</a:t>
            </a:r>
            <a:endParaRPr b="0" lang="en-US" sz="2000" spc="-1" strike="noStrike">
              <a:solidFill>
                <a:srgbClr val="000000"/>
              </a:solidFill>
              <a:latin typeface="Arial"/>
            </a:endParaRPr>
          </a:p>
        </p:txBody>
      </p:sp>
      <p:sp>
        <p:nvSpPr>
          <p:cNvPr id="3205" name=""/>
          <p:cNvSpPr/>
          <p:nvPr/>
        </p:nvSpPr>
        <p:spPr>
          <a:xfrm flipH="1">
            <a:off x="1109520" y="417024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6" name=""/>
          <p:cNvSpPr/>
          <p:nvPr/>
        </p:nvSpPr>
        <p:spPr>
          <a:xfrm flipV="1">
            <a:off x="1109520" y="3035160"/>
            <a:ext cx="1527480" cy="113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7" name=""/>
          <p:cNvSpPr/>
          <p:nvPr/>
        </p:nvSpPr>
        <p:spPr>
          <a:xfrm>
            <a:off x="5835600" y="539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8" name=""/>
          <p:cNvSpPr/>
          <p:nvPr/>
        </p:nvSpPr>
        <p:spPr>
          <a:xfrm flipH="1">
            <a:off x="5759280" y="539640"/>
            <a:ext cx="287640" cy="90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9" name=""/>
          <p:cNvSpPr txBox="1"/>
          <p:nvPr/>
        </p:nvSpPr>
        <p:spPr>
          <a:xfrm>
            <a:off x="4414680" y="339840"/>
            <a:ext cx="13334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Actual 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10" name=""/>
          <p:cNvSpPr/>
          <p:nvPr/>
        </p:nvSpPr>
        <p:spPr>
          <a:xfrm>
            <a:off x="3029040" y="1447920"/>
            <a:ext cx="3146760" cy="681480"/>
          </a:xfrm>
          <a:custGeom>
            <a:avLst/>
            <a:gdLst/>
            <a:ahLst/>
            <a:rect l="0" t="0" r="r" b="b"/>
            <a:pathLst>
              <a:path w="8741" h="1893">
                <a:moveTo>
                  <a:pt x="4" y="547"/>
                </a:moveTo>
                <a:lnTo>
                  <a:pt x="4" y="1849"/>
                </a:lnTo>
                <a:lnTo>
                  <a:pt x="185" y="1801"/>
                </a:lnTo>
                <a:lnTo>
                  <a:pt x="370" y="1854"/>
                </a:lnTo>
                <a:lnTo>
                  <a:pt x="648" y="1827"/>
                </a:lnTo>
                <a:lnTo>
                  <a:pt x="926" y="1849"/>
                </a:lnTo>
                <a:lnTo>
                  <a:pt x="1053" y="1765"/>
                </a:lnTo>
                <a:lnTo>
                  <a:pt x="1221" y="1765"/>
                </a:lnTo>
                <a:lnTo>
                  <a:pt x="1389" y="1765"/>
                </a:lnTo>
                <a:lnTo>
                  <a:pt x="1556" y="1809"/>
                </a:lnTo>
                <a:lnTo>
                  <a:pt x="1684" y="1849"/>
                </a:lnTo>
                <a:lnTo>
                  <a:pt x="1891" y="1849"/>
                </a:lnTo>
                <a:lnTo>
                  <a:pt x="2103" y="1893"/>
                </a:lnTo>
                <a:lnTo>
                  <a:pt x="2271" y="1893"/>
                </a:lnTo>
                <a:lnTo>
                  <a:pt x="2478" y="1893"/>
                </a:lnTo>
                <a:lnTo>
                  <a:pt x="2650" y="1849"/>
                </a:lnTo>
                <a:lnTo>
                  <a:pt x="2857" y="1809"/>
                </a:lnTo>
                <a:lnTo>
                  <a:pt x="2985" y="1809"/>
                </a:lnTo>
                <a:lnTo>
                  <a:pt x="3152" y="1809"/>
                </a:lnTo>
                <a:lnTo>
                  <a:pt x="3488" y="1809"/>
                </a:lnTo>
                <a:lnTo>
                  <a:pt x="3655" y="1809"/>
                </a:lnTo>
                <a:lnTo>
                  <a:pt x="3823" y="1809"/>
                </a:lnTo>
                <a:lnTo>
                  <a:pt x="3951" y="1765"/>
                </a:lnTo>
                <a:lnTo>
                  <a:pt x="4118" y="1726"/>
                </a:lnTo>
                <a:lnTo>
                  <a:pt x="4286" y="1682"/>
                </a:lnTo>
                <a:lnTo>
                  <a:pt x="4415" y="1682"/>
                </a:lnTo>
                <a:lnTo>
                  <a:pt x="4666" y="1682"/>
                </a:lnTo>
                <a:lnTo>
                  <a:pt x="4957" y="1726"/>
                </a:lnTo>
                <a:lnTo>
                  <a:pt x="5125" y="1765"/>
                </a:lnTo>
                <a:lnTo>
                  <a:pt x="5252" y="1765"/>
                </a:lnTo>
                <a:lnTo>
                  <a:pt x="5420" y="1765"/>
                </a:lnTo>
                <a:lnTo>
                  <a:pt x="5548" y="1765"/>
                </a:lnTo>
                <a:lnTo>
                  <a:pt x="5839" y="1765"/>
                </a:lnTo>
                <a:lnTo>
                  <a:pt x="5967" y="1765"/>
                </a:lnTo>
                <a:lnTo>
                  <a:pt x="6134" y="1726"/>
                </a:lnTo>
                <a:lnTo>
                  <a:pt x="6302" y="1726"/>
                </a:lnTo>
                <a:lnTo>
                  <a:pt x="6470" y="1726"/>
                </a:lnTo>
                <a:lnTo>
                  <a:pt x="6765" y="1765"/>
                </a:lnTo>
                <a:lnTo>
                  <a:pt x="6977" y="1765"/>
                </a:lnTo>
                <a:lnTo>
                  <a:pt x="7228" y="1849"/>
                </a:lnTo>
                <a:lnTo>
                  <a:pt x="7396" y="1849"/>
                </a:lnTo>
                <a:lnTo>
                  <a:pt x="7563" y="1849"/>
                </a:lnTo>
                <a:lnTo>
                  <a:pt x="7770" y="1849"/>
                </a:lnTo>
                <a:lnTo>
                  <a:pt x="7982" y="1849"/>
                </a:lnTo>
                <a:lnTo>
                  <a:pt x="8110" y="1849"/>
                </a:lnTo>
                <a:lnTo>
                  <a:pt x="8278" y="1849"/>
                </a:lnTo>
                <a:lnTo>
                  <a:pt x="8445" y="1765"/>
                </a:lnTo>
                <a:lnTo>
                  <a:pt x="8696" y="1765"/>
                </a:lnTo>
                <a:lnTo>
                  <a:pt x="8741" y="1809"/>
                </a:lnTo>
                <a:lnTo>
                  <a:pt x="8741" y="44"/>
                </a:lnTo>
                <a:lnTo>
                  <a:pt x="8613" y="44"/>
                </a:lnTo>
                <a:lnTo>
                  <a:pt x="8485" y="83"/>
                </a:lnTo>
                <a:lnTo>
                  <a:pt x="8317" y="83"/>
                </a:lnTo>
                <a:lnTo>
                  <a:pt x="8110" y="83"/>
                </a:lnTo>
                <a:lnTo>
                  <a:pt x="7942" y="44"/>
                </a:lnTo>
                <a:lnTo>
                  <a:pt x="7770" y="44"/>
                </a:lnTo>
                <a:lnTo>
                  <a:pt x="7519" y="44"/>
                </a:lnTo>
                <a:lnTo>
                  <a:pt x="7184" y="0"/>
                </a:lnTo>
                <a:lnTo>
                  <a:pt x="6933" y="0"/>
                </a:lnTo>
                <a:lnTo>
                  <a:pt x="6637" y="0"/>
                </a:lnTo>
                <a:lnTo>
                  <a:pt x="6346" y="0"/>
                </a:lnTo>
                <a:lnTo>
                  <a:pt x="6095" y="0"/>
                </a:lnTo>
                <a:lnTo>
                  <a:pt x="5967" y="0"/>
                </a:lnTo>
                <a:lnTo>
                  <a:pt x="5839" y="44"/>
                </a:lnTo>
                <a:lnTo>
                  <a:pt x="5632" y="44"/>
                </a:lnTo>
                <a:lnTo>
                  <a:pt x="5420" y="44"/>
                </a:lnTo>
                <a:lnTo>
                  <a:pt x="5169" y="127"/>
                </a:lnTo>
                <a:lnTo>
                  <a:pt x="4957" y="127"/>
                </a:lnTo>
                <a:lnTo>
                  <a:pt x="4706" y="127"/>
                </a:lnTo>
                <a:lnTo>
                  <a:pt x="4415" y="127"/>
                </a:lnTo>
                <a:lnTo>
                  <a:pt x="4286" y="127"/>
                </a:lnTo>
                <a:lnTo>
                  <a:pt x="4158" y="83"/>
                </a:lnTo>
                <a:lnTo>
                  <a:pt x="3823" y="44"/>
                </a:lnTo>
                <a:lnTo>
                  <a:pt x="3615" y="44"/>
                </a:lnTo>
                <a:lnTo>
                  <a:pt x="3448" y="44"/>
                </a:lnTo>
                <a:lnTo>
                  <a:pt x="3320" y="44"/>
                </a:lnTo>
                <a:lnTo>
                  <a:pt x="3108" y="44"/>
                </a:lnTo>
                <a:lnTo>
                  <a:pt x="2857" y="44"/>
                </a:lnTo>
                <a:lnTo>
                  <a:pt x="2650" y="44"/>
                </a:lnTo>
                <a:lnTo>
                  <a:pt x="2522" y="83"/>
                </a:lnTo>
                <a:lnTo>
                  <a:pt x="2394" y="167"/>
                </a:lnTo>
                <a:lnTo>
                  <a:pt x="2226" y="211"/>
                </a:lnTo>
                <a:lnTo>
                  <a:pt x="2059" y="295"/>
                </a:lnTo>
                <a:lnTo>
                  <a:pt x="1807" y="295"/>
                </a:lnTo>
                <a:lnTo>
                  <a:pt x="1640" y="339"/>
                </a:lnTo>
                <a:lnTo>
                  <a:pt x="1512" y="339"/>
                </a:lnTo>
                <a:lnTo>
                  <a:pt x="1344" y="339"/>
                </a:lnTo>
                <a:lnTo>
                  <a:pt x="1093" y="379"/>
                </a:lnTo>
                <a:lnTo>
                  <a:pt x="926" y="379"/>
                </a:lnTo>
                <a:lnTo>
                  <a:pt x="590" y="379"/>
                </a:lnTo>
                <a:lnTo>
                  <a:pt x="423" y="379"/>
                </a:lnTo>
                <a:lnTo>
                  <a:pt x="295" y="379"/>
                </a:lnTo>
                <a:lnTo>
                  <a:pt x="8" y="530"/>
                </a:lnTo>
                <a:lnTo>
                  <a:pt x="0" y="547"/>
                </a:lnTo>
                <a:lnTo>
                  <a:pt x="4" y="54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1" name=""/>
          <p:cNvSpPr/>
          <p:nvPr/>
        </p:nvSpPr>
        <p:spPr>
          <a:xfrm>
            <a:off x="3029040" y="3019320"/>
            <a:ext cx="3148200" cy="816480"/>
          </a:xfrm>
          <a:custGeom>
            <a:avLst/>
            <a:gdLst/>
            <a:ahLst/>
            <a:rect l="0" t="0" r="r" b="b"/>
            <a:pathLst>
              <a:path w="8745" h="2268">
                <a:moveTo>
                  <a:pt x="4" y="83"/>
                </a:moveTo>
                <a:lnTo>
                  <a:pt x="4" y="1849"/>
                </a:lnTo>
                <a:lnTo>
                  <a:pt x="339" y="1977"/>
                </a:lnTo>
                <a:lnTo>
                  <a:pt x="714" y="2101"/>
                </a:lnTo>
                <a:lnTo>
                  <a:pt x="926" y="2145"/>
                </a:lnTo>
                <a:lnTo>
                  <a:pt x="1053" y="2184"/>
                </a:lnTo>
                <a:lnTo>
                  <a:pt x="1221" y="2184"/>
                </a:lnTo>
                <a:lnTo>
                  <a:pt x="1389" y="2184"/>
                </a:lnTo>
                <a:lnTo>
                  <a:pt x="1556" y="2184"/>
                </a:lnTo>
                <a:lnTo>
                  <a:pt x="1684" y="2184"/>
                </a:lnTo>
                <a:lnTo>
                  <a:pt x="1975" y="2228"/>
                </a:lnTo>
                <a:lnTo>
                  <a:pt x="2310" y="2268"/>
                </a:lnTo>
                <a:lnTo>
                  <a:pt x="2478" y="2268"/>
                </a:lnTo>
                <a:lnTo>
                  <a:pt x="2689" y="2268"/>
                </a:lnTo>
                <a:lnTo>
                  <a:pt x="2817" y="2228"/>
                </a:lnTo>
                <a:lnTo>
                  <a:pt x="3025" y="2228"/>
                </a:lnTo>
                <a:lnTo>
                  <a:pt x="3236" y="2228"/>
                </a:lnTo>
                <a:lnTo>
                  <a:pt x="3404" y="2228"/>
                </a:lnTo>
                <a:lnTo>
                  <a:pt x="3699" y="2184"/>
                </a:lnTo>
                <a:lnTo>
                  <a:pt x="3907" y="2145"/>
                </a:lnTo>
                <a:lnTo>
                  <a:pt x="4034" y="2101"/>
                </a:lnTo>
                <a:lnTo>
                  <a:pt x="4202" y="2061"/>
                </a:lnTo>
                <a:lnTo>
                  <a:pt x="4330" y="2017"/>
                </a:lnTo>
                <a:lnTo>
                  <a:pt x="4498" y="2017"/>
                </a:lnTo>
                <a:lnTo>
                  <a:pt x="4666" y="1977"/>
                </a:lnTo>
                <a:lnTo>
                  <a:pt x="4957" y="1977"/>
                </a:lnTo>
                <a:lnTo>
                  <a:pt x="5085" y="1977"/>
                </a:lnTo>
                <a:lnTo>
                  <a:pt x="5297" y="1977"/>
                </a:lnTo>
                <a:lnTo>
                  <a:pt x="5671" y="2017"/>
                </a:lnTo>
                <a:lnTo>
                  <a:pt x="5799" y="2061"/>
                </a:lnTo>
                <a:lnTo>
                  <a:pt x="6134" y="2061"/>
                </a:lnTo>
                <a:lnTo>
                  <a:pt x="6430" y="2017"/>
                </a:lnTo>
                <a:lnTo>
                  <a:pt x="6681" y="2017"/>
                </a:lnTo>
                <a:lnTo>
                  <a:pt x="6888" y="1977"/>
                </a:lnTo>
                <a:lnTo>
                  <a:pt x="7184" y="1977"/>
                </a:lnTo>
                <a:lnTo>
                  <a:pt x="7396" y="1977"/>
                </a:lnTo>
                <a:lnTo>
                  <a:pt x="7770" y="1977"/>
                </a:lnTo>
                <a:lnTo>
                  <a:pt x="7898" y="2017"/>
                </a:lnTo>
                <a:lnTo>
                  <a:pt x="8026" y="2017"/>
                </a:lnTo>
                <a:lnTo>
                  <a:pt x="8317" y="2017"/>
                </a:lnTo>
                <a:lnTo>
                  <a:pt x="8445" y="2017"/>
                </a:lnTo>
                <a:lnTo>
                  <a:pt x="8613" y="2017"/>
                </a:lnTo>
                <a:lnTo>
                  <a:pt x="8741" y="2017"/>
                </a:lnTo>
                <a:lnTo>
                  <a:pt x="8745" y="1973"/>
                </a:lnTo>
                <a:lnTo>
                  <a:pt x="8745" y="132"/>
                </a:lnTo>
                <a:lnTo>
                  <a:pt x="8696" y="127"/>
                </a:lnTo>
                <a:lnTo>
                  <a:pt x="8485" y="83"/>
                </a:lnTo>
                <a:lnTo>
                  <a:pt x="8233" y="44"/>
                </a:lnTo>
                <a:lnTo>
                  <a:pt x="8026" y="0"/>
                </a:lnTo>
                <a:lnTo>
                  <a:pt x="7859" y="0"/>
                </a:lnTo>
                <a:lnTo>
                  <a:pt x="7731" y="44"/>
                </a:lnTo>
                <a:lnTo>
                  <a:pt x="7435" y="83"/>
                </a:lnTo>
                <a:lnTo>
                  <a:pt x="7268" y="83"/>
                </a:lnTo>
                <a:lnTo>
                  <a:pt x="6933" y="83"/>
                </a:lnTo>
                <a:lnTo>
                  <a:pt x="6681" y="83"/>
                </a:lnTo>
                <a:lnTo>
                  <a:pt x="6470" y="83"/>
                </a:lnTo>
                <a:lnTo>
                  <a:pt x="6262" y="83"/>
                </a:lnTo>
                <a:lnTo>
                  <a:pt x="6134" y="83"/>
                </a:lnTo>
                <a:lnTo>
                  <a:pt x="6007" y="44"/>
                </a:lnTo>
                <a:lnTo>
                  <a:pt x="5716" y="83"/>
                </a:lnTo>
                <a:lnTo>
                  <a:pt x="5548" y="83"/>
                </a:lnTo>
                <a:lnTo>
                  <a:pt x="5420" y="83"/>
                </a:lnTo>
                <a:lnTo>
                  <a:pt x="5213" y="127"/>
                </a:lnTo>
                <a:lnTo>
                  <a:pt x="4873" y="167"/>
                </a:lnTo>
                <a:lnTo>
                  <a:pt x="4622" y="167"/>
                </a:lnTo>
                <a:lnTo>
                  <a:pt x="4454" y="167"/>
                </a:lnTo>
                <a:lnTo>
                  <a:pt x="4118" y="167"/>
                </a:lnTo>
                <a:lnTo>
                  <a:pt x="3951" y="167"/>
                </a:lnTo>
                <a:lnTo>
                  <a:pt x="3655" y="167"/>
                </a:lnTo>
                <a:lnTo>
                  <a:pt x="3360" y="127"/>
                </a:lnTo>
                <a:lnTo>
                  <a:pt x="3152" y="127"/>
                </a:lnTo>
                <a:lnTo>
                  <a:pt x="2941" y="127"/>
                </a:lnTo>
                <a:lnTo>
                  <a:pt x="2773" y="127"/>
                </a:lnTo>
                <a:lnTo>
                  <a:pt x="2606" y="127"/>
                </a:lnTo>
                <a:lnTo>
                  <a:pt x="2478" y="127"/>
                </a:lnTo>
                <a:lnTo>
                  <a:pt x="2310" y="127"/>
                </a:lnTo>
                <a:lnTo>
                  <a:pt x="2143" y="127"/>
                </a:lnTo>
                <a:lnTo>
                  <a:pt x="1975" y="127"/>
                </a:lnTo>
                <a:lnTo>
                  <a:pt x="1807" y="127"/>
                </a:lnTo>
                <a:lnTo>
                  <a:pt x="1640" y="127"/>
                </a:lnTo>
                <a:lnTo>
                  <a:pt x="1428" y="127"/>
                </a:lnTo>
                <a:lnTo>
                  <a:pt x="1221" y="127"/>
                </a:lnTo>
                <a:lnTo>
                  <a:pt x="970" y="127"/>
                </a:lnTo>
                <a:lnTo>
                  <a:pt x="842" y="127"/>
                </a:lnTo>
                <a:lnTo>
                  <a:pt x="714" y="127"/>
                </a:lnTo>
                <a:lnTo>
                  <a:pt x="546" y="127"/>
                </a:lnTo>
                <a:lnTo>
                  <a:pt x="379" y="44"/>
                </a:lnTo>
                <a:lnTo>
                  <a:pt x="145" y="39"/>
                </a:lnTo>
                <a:lnTo>
                  <a:pt x="0" y="79"/>
                </a:lnTo>
                <a:lnTo>
                  <a:pt x="4" y="8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2" name=""/>
          <p:cNvSpPr/>
          <p:nvPr/>
        </p:nvSpPr>
        <p:spPr>
          <a:xfrm>
            <a:off x="2657520" y="2124000"/>
            <a:ext cx="4143240" cy="895320"/>
          </a:xfrm>
          <a:prstGeom prst="rect">
            <a:avLst/>
          </a:prstGeom>
          <a:gradFill rotWithShape="0">
            <a:gsLst>
              <a:gs pos="0">
                <a:srgbClr val="393d4c"/>
              </a:gs>
              <a:gs pos="50000">
                <a:srgbClr val="c1ceff"/>
              </a:gs>
              <a:gs pos="100000">
                <a:srgbClr val="393d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3" name=""/>
          <p:cNvSpPr/>
          <p:nvPr/>
        </p:nvSpPr>
        <p:spPr>
          <a:xfrm>
            <a:off x="2425680" y="2567160"/>
            <a:ext cx="123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4" name=""/>
          <p:cNvSpPr/>
          <p:nvPr/>
        </p:nvSpPr>
        <p:spPr>
          <a:xfrm>
            <a:off x="3770280" y="2567160"/>
            <a:ext cx="120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5" name=""/>
          <p:cNvSpPr/>
          <p:nvPr/>
        </p:nvSpPr>
        <p:spPr>
          <a:xfrm>
            <a:off x="3997440" y="2567160"/>
            <a:ext cx="1436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6" name=""/>
          <p:cNvSpPr/>
          <p:nvPr/>
        </p:nvSpPr>
        <p:spPr>
          <a:xfrm>
            <a:off x="5540400" y="2567160"/>
            <a:ext cx="104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7" name=""/>
          <p:cNvSpPr/>
          <p:nvPr/>
        </p:nvSpPr>
        <p:spPr>
          <a:xfrm>
            <a:off x="5751360" y="2567160"/>
            <a:ext cx="1314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8" name=""/>
          <p:cNvSpPr txBox="1"/>
          <p:nvPr/>
        </p:nvSpPr>
        <p:spPr>
          <a:xfrm>
            <a:off x="533520" y="60660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219" name=""/>
          <p:cNvSpPr txBox="1"/>
          <p:nvPr/>
        </p:nvSpPr>
        <p:spPr>
          <a:xfrm>
            <a:off x="1684440" y="5254560"/>
            <a:ext cx="601812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IN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220" name=""/>
          <p:cNvSpPr txBox="1"/>
          <p:nvPr/>
        </p:nvSpPr>
        <p:spPr>
          <a:xfrm>
            <a:off x="6845400" y="3456000"/>
            <a:ext cx="19479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A</a:t>
            </a:r>
            <a:endParaRPr b="0" lang="en-US" sz="2000" spc="-1" strike="noStrike">
              <a:solidFill>
                <a:srgbClr val="000000"/>
              </a:solidFill>
              <a:latin typeface="Arial"/>
            </a:endParaRPr>
          </a:p>
        </p:txBody>
      </p:sp>
      <p:sp>
        <p:nvSpPr>
          <p:cNvPr id="3221" name=""/>
          <p:cNvSpPr/>
          <p:nvPr/>
        </p:nvSpPr>
        <p:spPr>
          <a:xfrm flipH="1">
            <a:off x="6680160" y="363996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2" name=""/>
          <p:cNvSpPr/>
          <p:nvPr/>
        </p:nvSpPr>
        <p:spPr>
          <a:xfrm flipH="1" flipV="1">
            <a:off x="5297400" y="2082960"/>
            <a:ext cx="1360440" cy="1557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3" name=""/>
          <p:cNvSpPr txBox="1"/>
          <p:nvPr/>
        </p:nvSpPr>
        <p:spPr>
          <a:xfrm>
            <a:off x="1293840" y="3986280"/>
            <a:ext cx="2870280" cy="100656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Simulator</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Variable diameter gage --</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largest inscribed cylinder)</a:t>
            </a:r>
            <a:endParaRPr b="0" lang="en-US" sz="2000" spc="-1" strike="noStrike">
              <a:solidFill>
                <a:srgbClr val="000000"/>
              </a:solidFill>
              <a:latin typeface="Arial"/>
            </a:endParaRPr>
          </a:p>
        </p:txBody>
      </p:sp>
      <p:sp>
        <p:nvSpPr>
          <p:cNvPr id="3224" name=""/>
          <p:cNvSpPr/>
          <p:nvPr/>
        </p:nvSpPr>
        <p:spPr>
          <a:xfrm flipH="1">
            <a:off x="1109520" y="417024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5" name=""/>
          <p:cNvSpPr/>
          <p:nvPr/>
        </p:nvSpPr>
        <p:spPr>
          <a:xfrm flipV="1">
            <a:off x="1109520" y="3035160"/>
            <a:ext cx="1527480" cy="113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6" name=""/>
          <p:cNvSpPr/>
          <p:nvPr/>
        </p:nvSpPr>
        <p:spPr>
          <a:xfrm>
            <a:off x="6885000" y="2128680"/>
            <a:ext cx="143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7" name=""/>
          <p:cNvSpPr/>
          <p:nvPr/>
        </p:nvSpPr>
        <p:spPr>
          <a:xfrm>
            <a:off x="6900840" y="3021120"/>
            <a:ext cx="14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8" name=""/>
          <p:cNvSpPr/>
          <p:nvPr/>
        </p:nvSpPr>
        <p:spPr>
          <a:xfrm flipV="1">
            <a:off x="8170920" y="1751040"/>
            <a:ext cx="0" cy="377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9" name=""/>
          <p:cNvSpPr/>
          <p:nvPr/>
        </p:nvSpPr>
        <p:spPr>
          <a:xfrm>
            <a:off x="8170920" y="3021120"/>
            <a:ext cx="0" cy="301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0" name=""/>
          <p:cNvSpPr txBox="1"/>
          <p:nvPr/>
        </p:nvSpPr>
        <p:spPr>
          <a:xfrm>
            <a:off x="7201080" y="2232000"/>
            <a:ext cx="1743120" cy="701640"/>
          </a:xfrm>
          <a:prstGeom prst="rect">
            <a:avLst/>
          </a:prstGeom>
          <a:noFill/>
          <a:ln w="0">
            <a:noFill/>
          </a:ln>
        </p:spPr>
        <p:txBody>
          <a:bodyPr lIns="0" rIns="0" tIns="0" bIns="0" anchor="t">
            <a:noAutofit/>
          </a:bodyPr>
          <a:p>
            <a:pPr>
              <a:lnSpc>
                <a:spcPct val="100000"/>
              </a:lnSpc>
            </a:pPr>
            <a:r>
              <a:rPr b="0" lang="en-US" sz="2000" spc="-1" strike="noStrike">
                <a:solidFill>
                  <a:srgbClr val="ffff00"/>
                </a:solidFill>
                <a:latin typeface="Times New Roman"/>
                <a:ea typeface="Times New Roman"/>
              </a:rPr>
              <a:t>True geometric</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counterpart</a:t>
            </a:r>
            <a:endParaRPr b="0" lang="en-US" sz="2000" spc="-1" strike="noStrike">
              <a:solidFill>
                <a:srgbClr val="000000"/>
              </a:solidFill>
              <a:latin typeface="Arial"/>
            </a:endParaRPr>
          </a:p>
        </p:txBody>
      </p:sp>
      <p:sp>
        <p:nvSpPr>
          <p:cNvPr id="3231" name=""/>
          <p:cNvSpPr/>
          <p:nvPr/>
        </p:nvSpPr>
        <p:spPr>
          <a:xfrm>
            <a:off x="5835600" y="539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2" name=""/>
          <p:cNvSpPr/>
          <p:nvPr/>
        </p:nvSpPr>
        <p:spPr>
          <a:xfrm flipH="1">
            <a:off x="5759280" y="539640"/>
            <a:ext cx="287640" cy="90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3" name=""/>
          <p:cNvSpPr txBox="1"/>
          <p:nvPr/>
        </p:nvSpPr>
        <p:spPr>
          <a:xfrm>
            <a:off x="4414680" y="339840"/>
            <a:ext cx="13334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Actual 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34" name=""/>
          <p:cNvSpPr/>
          <p:nvPr/>
        </p:nvSpPr>
        <p:spPr>
          <a:xfrm>
            <a:off x="3029040" y="1447920"/>
            <a:ext cx="3146760" cy="681480"/>
          </a:xfrm>
          <a:custGeom>
            <a:avLst/>
            <a:gdLst/>
            <a:ahLst/>
            <a:rect l="0" t="0" r="r" b="b"/>
            <a:pathLst>
              <a:path w="8741" h="1893">
                <a:moveTo>
                  <a:pt x="4" y="547"/>
                </a:moveTo>
                <a:lnTo>
                  <a:pt x="4" y="1849"/>
                </a:lnTo>
                <a:lnTo>
                  <a:pt x="185" y="1801"/>
                </a:lnTo>
                <a:lnTo>
                  <a:pt x="370" y="1854"/>
                </a:lnTo>
                <a:lnTo>
                  <a:pt x="648" y="1827"/>
                </a:lnTo>
                <a:lnTo>
                  <a:pt x="926" y="1849"/>
                </a:lnTo>
                <a:lnTo>
                  <a:pt x="1053" y="1765"/>
                </a:lnTo>
                <a:lnTo>
                  <a:pt x="1221" y="1765"/>
                </a:lnTo>
                <a:lnTo>
                  <a:pt x="1389" y="1765"/>
                </a:lnTo>
                <a:lnTo>
                  <a:pt x="1556" y="1809"/>
                </a:lnTo>
                <a:lnTo>
                  <a:pt x="1684" y="1849"/>
                </a:lnTo>
                <a:lnTo>
                  <a:pt x="1891" y="1849"/>
                </a:lnTo>
                <a:lnTo>
                  <a:pt x="2103" y="1893"/>
                </a:lnTo>
                <a:lnTo>
                  <a:pt x="2271" y="1893"/>
                </a:lnTo>
                <a:lnTo>
                  <a:pt x="2478" y="1893"/>
                </a:lnTo>
                <a:lnTo>
                  <a:pt x="2650" y="1849"/>
                </a:lnTo>
                <a:lnTo>
                  <a:pt x="2857" y="1809"/>
                </a:lnTo>
                <a:lnTo>
                  <a:pt x="2985" y="1809"/>
                </a:lnTo>
                <a:lnTo>
                  <a:pt x="3152" y="1809"/>
                </a:lnTo>
                <a:lnTo>
                  <a:pt x="3488" y="1809"/>
                </a:lnTo>
                <a:lnTo>
                  <a:pt x="3655" y="1809"/>
                </a:lnTo>
                <a:lnTo>
                  <a:pt x="3823" y="1809"/>
                </a:lnTo>
                <a:lnTo>
                  <a:pt x="3951" y="1765"/>
                </a:lnTo>
                <a:lnTo>
                  <a:pt x="4118" y="1726"/>
                </a:lnTo>
                <a:lnTo>
                  <a:pt x="4286" y="1682"/>
                </a:lnTo>
                <a:lnTo>
                  <a:pt x="4415" y="1682"/>
                </a:lnTo>
                <a:lnTo>
                  <a:pt x="4666" y="1682"/>
                </a:lnTo>
                <a:lnTo>
                  <a:pt x="4957" y="1726"/>
                </a:lnTo>
                <a:lnTo>
                  <a:pt x="5125" y="1765"/>
                </a:lnTo>
                <a:lnTo>
                  <a:pt x="5252" y="1765"/>
                </a:lnTo>
                <a:lnTo>
                  <a:pt x="5420" y="1765"/>
                </a:lnTo>
                <a:lnTo>
                  <a:pt x="5548" y="1765"/>
                </a:lnTo>
                <a:lnTo>
                  <a:pt x="5839" y="1765"/>
                </a:lnTo>
                <a:lnTo>
                  <a:pt x="5967" y="1765"/>
                </a:lnTo>
                <a:lnTo>
                  <a:pt x="6134" y="1726"/>
                </a:lnTo>
                <a:lnTo>
                  <a:pt x="6302" y="1726"/>
                </a:lnTo>
                <a:lnTo>
                  <a:pt x="6470" y="1726"/>
                </a:lnTo>
                <a:lnTo>
                  <a:pt x="6765" y="1765"/>
                </a:lnTo>
                <a:lnTo>
                  <a:pt x="6977" y="1765"/>
                </a:lnTo>
                <a:lnTo>
                  <a:pt x="7228" y="1849"/>
                </a:lnTo>
                <a:lnTo>
                  <a:pt x="7396" y="1849"/>
                </a:lnTo>
                <a:lnTo>
                  <a:pt x="7563" y="1849"/>
                </a:lnTo>
                <a:lnTo>
                  <a:pt x="7770" y="1849"/>
                </a:lnTo>
                <a:lnTo>
                  <a:pt x="7982" y="1849"/>
                </a:lnTo>
                <a:lnTo>
                  <a:pt x="8110" y="1849"/>
                </a:lnTo>
                <a:lnTo>
                  <a:pt x="8278" y="1849"/>
                </a:lnTo>
                <a:lnTo>
                  <a:pt x="8445" y="1765"/>
                </a:lnTo>
                <a:lnTo>
                  <a:pt x="8696" y="1765"/>
                </a:lnTo>
                <a:lnTo>
                  <a:pt x="8741" y="1809"/>
                </a:lnTo>
                <a:lnTo>
                  <a:pt x="8741" y="44"/>
                </a:lnTo>
                <a:lnTo>
                  <a:pt x="8613" y="44"/>
                </a:lnTo>
                <a:lnTo>
                  <a:pt x="8485" y="83"/>
                </a:lnTo>
                <a:lnTo>
                  <a:pt x="8317" y="83"/>
                </a:lnTo>
                <a:lnTo>
                  <a:pt x="8110" y="83"/>
                </a:lnTo>
                <a:lnTo>
                  <a:pt x="7942" y="44"/>
                </a:lnTo>
                <a:lnTo>
                  <a:pt x="7770" y="44"/>
                </a:lnTo>
                <a:lnTo>
                  <a:pt x="7519" y="44"/>
                </a:lnTo>
                <a:lnTo>
                  <a:pt x="7184" y="0"/>
                </a:lnTo>
                <a:lnTo>
                  <a:pt x="6933" y="0"/>
                </a:lnTo>
                <a:lnTo>
                  <a:pt x="6637" y="0"/>
                </a:lnTo>
                <a:lnTo>
                  <a:pt x="6346" y="0"/>
                </a:lnTo>
                <a:lnTo>
                  <a:pt x="6095" y="0"/>
                </a:lnTo>
                <a:lnTo>
                  <a:pt x="5967" y="0"/>
                </a:lnTo>
                <a:lnTo>
                  <a:pt x="5839" y="44"/>
                </a:lnTo>
                <a:lnTo>
                  <a:pt x="5632" y="44"/>
                </a:lnTo>
                <a:lnTo>
                  <a:pt x="5420" y="44"/>
                </a:lnTo>
                <a:lnTo>
                  <a:pt x="5169" y="127"/>
                </a:lnTo>
                <a:lnTo>
                  <a:pt x="4957" y="127"/>
                </a:lnTo>
                <a:lnTo>
                  <a:pt x="4706" y="127"/>
                </a:lnTo>
                <a:lnTo>
                  <a:pt x="4415" y="127"/>
                </a:lnTo>
                <a:lnTo>
                  <a:pt x="4286" y="127"/>
                </a:lnTo>
                <a:lnTo>
                  <a:pt x="4158" y="83"/>
                </a:lnTo>
                <a:lnTo>
                  <a:pt x="3823" y="44"/>
                </a:lnTo>
                <a:lnTo>
                  <a:pt x="3615" y="44"/>
                </a:lnTo>
                <a:lnTo>
                  <a:pt x="3448" y="44"/>
                </a:lnTo>
                <a:lnTo>
                  <a:pt x="3320" y="44"/>
                </a:lnTo>
                <a:lnTo>
                  <a:pt x="3108" y="44"/>
                </a:lnTo>
                <a:lnTo>
                  <a:pt x="2857" y="44"/>
                </a:lnTo>
                <a:lnTo>
                  <a:pt x="2650" y="44"/>
                </a:lnTo>
                <a:lnTo>
                  <a:pt x="2522" y="83"/>
                </a:lnTo>
                <a:lnTo>
                  <a:pt x="2394" y="167"/>
                </a:lnTo>
                <a:lnTo>
                  <a:pt x="2226" y="211"/>
                </a:lnTo>
                <a:lnTo>
                  <a:pt x="2059" y="295"/>
                </a:lnTo>
                <a:lnTo>
                  <a:pt x="1807" y="295"/>
                </a:lnTo>
                <a:lnTo>
                  <a:pt x="1640" y="339"/>
                </a:lnTo>
                <a:lnTo>
                  <a:pt x="1512" y="339"/>
                </a:lnTo>
                <a:lnTo>
                  <a:pt x="1344" y="339"/>
                </a:lnTo>
                <a:lnTo>
                  <a:pt x="1093" y="379"/>
                </a:lnTo>
                <a:lnTo>
                  <a:pt x="926" y="379"/>
                </a:lnTo>
                <a:lnTo>
                  <a:pt x="590" y="379"/>
                </a:lnTo>
                <a:lnTo>
                  <a:pt x="423" y="379"/>
                </a:lnTo>
                <a:lnTo>
                  <a:pt x="295" y="379"/>
                </a:lnTo>
                <a:lnTo>
                  <a:pt x="8" y="530"/>
                </a:lnTo>
                <a:lnTo>
                  <a:pt x="0" y="547"/>
                </a:lnTo>
                <a:lnTo>
                  <a:pt x="4" y="547"/>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5" name=""/>
          <p:cNvSpPr/>
          <p:nvPr/>
        </p:nvSpPr>
        <p:spPr>
          <a:xfrm>
            <a:off x="3029040" y="3019320"/>
            <a:ext cx="3148200" cy="816480"/>
          </a:xfrm>
          <a:custGeom>
            <a:avLst/>
            <a:gdLst/>
            <a:ahLst/>
            <a:rect l="0" t="0" r="r" b="b"/>
            <a:pathLst>
              <a:path w="8745" h="2268">
                <a:moveTo>
                  <a:pt x="4" y="83"/>
                </a:moveTo>
                <a:lnTo>
                  <a:pt x="4" y="1849"/>
                </a:lnTo>
                <a:lnTo>
                  <a:pt x="339" y="1977"/>
                </a:lnTo>
                <a:lnTo>
                  <a:pt x="714" y="2101"/>
                </a:lnTo>
                <a:lnTo>
                  <a:pt x="926" y="2145"/>
                </a:lnTo>
                <a:lnTo>
                  <a:pt x="1053" y="2184"/>
                </a:lnTo>
                <a:lnTo>
                  <a:pt x="1221" y="2184"/>
                </a:lnTo>
                <a:lnTo>
                  <a:pt x="1389" y="2184"/>
                </a:lnTo>
                <a:lnTo>
                  <a:pt x="1556" y="2184"/>
                </a:lnTo>
                <a:lnTo>
                  <a:pt x="1684" y="2184"/>
                </a:lnTo>
                <a:lnTo>
                  <a:pt x="1975" y="2228"/>
                </a:lnTo>
                <a:lnTo>
                  <a:pt x="2310" y="2268"/>
                </a:lnTo>
                <a:lnTo>
                  <a:pt x="2478" y="2268"/>
                </a:lnTo>
                <a:lnTo>
                  <a:pt x="2689" y="2268"/>
                </a:lnTo>
                <a:lnTo>
                  <a:pt x="2817" y="2228"/>
                </a:lnTo>
                <a:lnTo>
                  <a:pt x="3025" y="2228"/>
                </a:lnTo>
                <a:lnTo>
                  <a:pt x="3236" y="2228"/>
                </a:lnTo>
                <a:lnTo>
                  <a:pt x="3404" y="2228"/>
                </a:lnTo>
                <a:lnTo>
                  <a:pt x="3699" y="2184"/>
                </a:lnTo>
                <a:lnTo>
                  <a:pt x="3907" y="2145"/>
                </a:lnTo>
                <a:lnTo>
                  <a:pt x="4034" y="2101"/>
                </a:lnTo>
                <a:lnTo>
                  <a:pt x="4202" y="2061"/>
                </a:lnTo>
                <a:lnTo>
                  <a:pt x="4330" y="2017"/>
                </a:lnTo>
                <a:lnTo>
                  <a:pt x="4498" y="2017"/>
                </a:lnTo>
                <a:lnTo>
                  <a:pt x="4666" y="1977"/>
                </a:lnTo>
                <a:lnTo>
                  <a:pt x="4957" y="1977"/>
                </a:lnTo>
                <a:lnTo>
                  <a:pt x="5085" y="1977"/>
                </a:lnTo>
                <a:lnTo>
                  <a:pt x="5297" y="1977"/>
                </a:lnTo>
                <a:lnTo>
                  <a:pt x="5671" y="2017"/>
                </a:lnTo>
                <a:lnTo>
                  <a:pt x="5799" y="2061"/>
                </a:lnTo>
                <a:lnTo>
                  <a:pt x="6134" y="2061"/>
                </a:lnTo>
                <a:lnTo>
                  <a:pt x="6430" y="2017"/>
                </a:lnTo>
                <a:lnTo>
                  <a:pt x="6681" y="2017"/>
                </a:lnTo>
                <a:lnTo>
                  <a:pt x="6888" y="1977"/>
                </a:lnTo>
                <a:lnTo>
                  <a:pt x="7184" y="1977"/>
                </a:lnTo>
                <a:lnTo>
                  <a:pt x="7396" y="1977"/>
                </a:lnTo>
                <a:lnTo>
                  <a:pt x="7770" y="1977"/>
                </a:lnTo>
                <a:lnTo>
                  <a:pt x="7898" y="2017"/>
                </a:lnTo>
                <a:lnTo>
                  <a:pt x="8026" y="2017"/>
                </a:lnTo>
                <a:lnTo>
                  <a:pt x="8317" y="2017"/>
                </a:lnTo>
                <a:lnTo>
                  <a:pt x="8445" y="2017"/>
                </a:lnTo>
                <a:lnTo>
                  <a:pt x="8613" y="2017"/>
                </a:lnTo>
                <a:lnTo>
                  <a:pt x="8741" y="2017"/>
                </a:lnTo>
                <a:lnTo>
                  <a:pt x="8745" y="1973"/>
                </a:lnTo>
                <a:lnTo>
                  <a:pt x="8745" y="132"/>
                </a:lnTo>
                <a:lnTo>
                  <a:pt x="8696" y="127"/>
                </a:lnTo>
                <a:lnTo>
                  <a:pt x="8485" y="83"/>
                </a:lnTo>
                <a:lnTo>
                  <a:pt x="8233" y="44"/>
                </a:lnTo>
                <a:lnTo>
                  <a:pt x="8026" y="0"/>
                </a:lnTo>
                <a:lnTo>
                  <a:pt x="7859" y="0"/>
                </a:lnTo>
                <a:lnTo>
                  <a:pt x="7731" y="44"/>
                </a:lnTo>
                <a:lnTo>
                  <a:pt x="7435" y="83"/>
                </a:lnTo>
                <a:lnTo>
                  <a:pt x="7268" y="83"/>
                </a:lnTo>
                <a:lnTo>
                  <a:pt x="6933" y="83"/>
                </a:lnTo>
                <a:lnTo>
                  <a:pt x="6681" y="83"/>
                </a:lnTo>
                <a:lnTo>
                  <a:pt x="6470" y="83"/>
                </a:lnTo>
                <a:lnTo>
                  <a:pt x="6262" y="83"/>
                </a:lnTo>
                <a:lnTo>
                  <a:pt x="6134" y="83"/>
                </a:lnTo>
                <a:lnTo>
                  <a:pt x="6007" y="44"/>
                </a:lnTo>
                <a:lnTo>
                  <a:pt x="5716" y="83"/>
                </a:lnTo>
                <a:lnTo>
                  <a:pt x="5548" y="83"/>
                </a:lnTo>
                <a:lnTo>
                  <a:pt x="5420" y="83"/>
                </a:lnTo>
                <a:lnTo>
                  <a:pt x="5213" y="127"/>
                </a:lnTo>
                <a:lnTo>
                  <a:pt x="4873" y="167"/>
                </a:lnTo>
                <a:lnTo>
                  <a:pt x="4622" y="167"/>
                </a:lnTo>
                <a:lnTo>
                  <a:pt x="4454" y="167"/>
                </a:lnTo>
                <a:lnTo>
                  <a:pt x="4118" y="167"/>
                </a:lnTo>
                <a:lnTo>
                  <a:pt x="3951" y="167"/>
                </a:lnTo>
                <a:lnTo>
                  <a:pt x="3655" y="167"/>
                </a:lnTo>
                <a:lnTo>
                  <a:pt x="3360" y="127"/>
                </a:lnTo>
                <a:lnTo>
                  <a:pt x="3152" y="127"/>
                </a:lnTo>
                <a:lnTo>
                  <a:pt x="2941" y="127"/>
                </a:lnTo>
                <a:lnTo>
                  <a:pt x="2773" y="127"/>
                </a:lnTo>
                <a:lnTo>
                  <a:pt x="2606" y="127"/>
                </a:lnTo>
                <a:lnTo>
                  <a:pt x="2478" y="127"/>
                </a:lnTo>
                <a:lnTo>
                  <a:pt x="2310" y="127"/>
                </a:lnTo>
                <a:lnTo>
                  <a:pt x="2143" y="127"/>
                </a:lnTo>
                <a:lnTo>
                  <a:pt x="1975" y="127"/>
                </a:lnTo>
                <a:lnTo>
                  <a:pt x="1807" y="127"/>
                </a:lnTo>
                <a:lnTo>
                  <a:pt x="1640" y="127"/>
                </a:lnTo>
                <a:lnTo>
                  <a:pt x="1428" y="127"/>
                </a:lnTo>
                <a:lnTo>
                  <a:pt x="1221" y="127"/>
                </a:lnTo>
                <a:lnTo>
                  <a:pt x="970" y="127"/>
                </a:lnTo>
                <a:lnTo>
                  <a:pt x="842" y="127"/>
                </a:lnTo>
                <a:lnTo>
                  <a:pt x="714" y="127"/>
                </a:lnTo>
                <a:lnTo>
                  <a:pt x="546" y="127"/>
                </a:lnTo>
                <a:lnTo>
                  <a:pt x="379" y="44"/>
                </a:lnTo>
                <a:lnTo>
                  <a:pt x="145" y="39"/>
                </a:lnTo>
                <a:lnTo>
                  <a:pt x="0" y="79"/>
                </a:lnTo>
                <a:lnTo>
                  <a:pt x="4" y="83"/>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6" name=""/>
          <p:cNvSpPr/>
          <p:nvPr/>
        </p:nvSpPr>
        <p:spPr>
          <a:xfrm>
            <a:off x="2657520" y="2124000"/>
            <a:ext cx="4143240" cy="895320"/>
          </a:xfrm>
          <a:prstGeom prst="rect">
            <a:avLst/>
          </a:prstGeom>
          <a:gradFill rotWithShape="0">
            <a:gsLst>
              <a:gs pos="0">
                <a:srgbClr val="393d4c"/>
              </a:gs>
              <a:gs pos="50000">
                <a:srgbClr val="c1ceff"/>
              </a:gs>
              <a:gs pos="100000">
                <a:srgbClr val="393d4c"/>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37" name=""/>
          <p:cNvGrpSpPr/>
          <p:nvPr/>
        </p:nvGrpSpPr>
        <p:grpSpPr>
          <a:xfrm>
            <a:off x="2425680" y="2567160"/>
            <a:ext cx="4640400" cy="0"/>
            <a:chOff x="2425680" y="2567160"/>
            <a:chExt cx="4640400" cy="0"/>
          </a:xfrm>
        </p:grpSpPr>
        <p:sp>
          <p:nvSpPr>
            <p:cNvPr id="3238" name=""/>
            <p:cNvSpPr/>
            <p:nvPr/>
          </p:nvSpPr>
          <p:spPr>
            <a:xfrm>
              <a:off x="2425680" y="2567160"/>
              <a:ext cx="123984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9" name=""/>
            <p:cNvSpPr/>
            <p:nvPr/>
          </p:nvSpPr>
          <p:spPr>
            <a:xfrm>
              <a:off x="3770280" y="2567160"/>
              <a:ext cx="1206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0" name=""/>
            <p:cNvSpPr/>
            <p:nvPr/>
          </p:nvSpPr>
          <p:spPr>
            <a:xfrm>
              <a:off x="3997440" y="2567160"/>
              <a:ext cx="143640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1" name=""/>
            <p:cNvSpPr/>
            <p:nvPr/>
          </p:nvSpPr>
          <p:spPr>
            <a:xfrm>
              <a:off x="5540400" y="2567160"/>
              <a:ext cx="10476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2" name=""/>
            <p:cNvSpPr/>
            <p:nvPr/>
          </p:nvSpPr>
          <p:spPr>
            <a:xfrm>
              <a:off x="5751360" y="2567160"/>
              <a:ext cx="1314720" cy="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43" name=""/>
          <p:cNvSpPr txBox="1"/>
          <p:nvPr/>
        </p:nvSpPr>
        <p:spPr>
          <a:xfrm>
            <a:off x="533520" y="606600"/>
            <a:ext cx="2127240" cy="366840"/>
          </a:xfrm>
          <a:prstGeom prst="rect">
            <a:avLst/>
          </a:prstGeom>
          <a:noFill/>
          <a:ln w="0">
            <a:noFill/>
          </a:ln>
        </p:spPr>
        <p:txBody>
          <a:bodyPr lIns="0" rIns="0" tIns="0" bIns="0" anchor="t">
            <a:noAutofit/>
          </a:bodyPr>
          <a:p>
            <a:pPr>
              <a:lnSpc>
                <a:spcPct val="100000"/>
              </a:lnSpc>
            </a:pPr>
            <a:r>
              <a:rPr b="0" lang="en-US" sz="1800" spc="-1" strike="noStrike">
                <a:solidFill>
                  <a:srgbClr val="00dfca"/>
                </a:solidFill>
                <a:latin typeface="Times New Roman"/>
                <a:ea typeface="Times New Roman"/>
              </a:rPr>
              <a:t>INTERPRETATION</a:t>
            </a:r>
            <a:endParaRPr b="0" lang="en-US" sz="1800" spc="-1" strike="noStrike">
              <a:solidFill>
                <a:srgbClr val="000000"/>
              </a:solidFill>
              <a:latin typeface="Arial"/>
            </a:endParaRPr>
          </a:p>
        </p:txBody>
      </p:sp>
      <p:sp>
        <p:nvSpPr>
          <p:cNvPr id="3244" name=""/>
          <p:cNvSpPr txBox="1"/>
          <p:nvPr/>
        </p:nvSpPr>
        <p:spPr>
          <a:xfrm>
            <a:off x="1684440" y="5254560"/>
            <a:ext cx="6018120" cy="822240"/>
          </a:xfrm>
          <a:prstGeom prst="rect">
            <a:avLst/>
          </a:prstGeom>
          <a:noFill/>
          <a:ln w="0">
            <a:noFill/>
          </a:ln>
        </p:spPr>
        <p:txBody>
          <a:bodyPr lIns="0" rIns="0" tIns="0" bIns="0" anchor="t">
            <a:noAutofit/>
          </a:bodyPr>
          <a:p>
            <a:pPr algn="ctr">
              <a:lnSpc>
                <a:spcPct val="100000"/>
              </a:lnSpc>
            </a:pPr>
            <a:r>
              <a:rPr b="0" lang="en-US" sz="2400" spc="-1" strike="noStrike" u="sng">
                <a:solidFill>
                  <a:srgbClr val="f2fefd"/>
                </a:solidFill>
                <a:uFillTx/>
                <a:latin typeface="Times New Roman"/>
                <a:ea typeface="Times New Roman"/>
              </a:rPr>
              <a:t>PRIMARY INTERNAL DATUM DIAMETER</a:t>
            </a:r>
            <a:endParaRPr b="0" lang="en-US" sz="2400" spc="-1" strike="noStrike">
              <a:solidFill>
                <a:srgbClr val="000000"/>
              </a:solidFill>
              <a:latin typeface="Arial"/>
            </a:endParaRPr>
          </a:p>
          <a:p>
            <a:pPr algn="ctr">
              <a:lnSpc>
                <a:spcPct val="100000"/>
              </a:lnSpc>
            </a:pPr>
            <a:r>
              <a:rPr b="0" lang="en-US" sz="2400" spc="-1" strike="noStrike">
                <a:solidFill>
                  <a:srgbClr val="f2fefd"/>
                </a:solidFill>
                <a:latin typeface="Times New Roman"/>
                <a:ea typeface="Times New Roman"/>
              </a:rPr>
              <a:t>Regardless of Feature Size</a:t>
            </a:r>
            <a:endParaRPr b="0" lang="en-US" sz="2400" spc="-1" strike="noStrike">
              <a:solidFill>
                <a:srgbClr val="000000"/>
              </a:solidFill>
              <a:latin typeface="Arial"/>
            </a:endParaRPr>
          </a:p>
        </p:txBody>
      </p:sp>
      <p:sp>
        <p:nvSpPr>
          <p:cNvPr id="3245" name=""/>
          <p:cNvSpPr txBox="1"/>
          <p:nvPr/>
        </p:nvSpPr>
        <p:spPr>
          <a:xfrm>
            <a:off x="6845400" y="3456000"/>
            <a:ext cx="1947960" cy="39672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A</a:t>
            </a:r>
            <a:endParaRPr b="0" lang="en-US" sz="2000" spc="-1" strike="noStrike">
              <a:solidFill>
                <a:srgbClr val="000000"/>
              </a:solidFill>
              <a:latin typeface="Arial"/>
            </a:endParaRPr>
          </a:p>
        </p:txBody>
      </p:sp>
      <p:sp>
        <p:nvSpPr>
          <p:cNvPr id="3246" name=""/>
          <p:cNvSpPr/>
          <p:nvPr/>
        </p:nvSpPr>
        <p:spPr>
          <a:xfrm flipH="1">
            <a:off x="6680160" y="3639960"/>
            <a:ext cx="165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7" name=""/>
          <p:cNvSpPr/>
          <p:nvPr/>
        </p:nvSpPr>
        <p:spPr>
          <a:xfrm flipH="1" flipV="1">
            <a:off x="5297400" y="2082960"/>
            <a:ext cx="1360440" cy="1557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8" name=""/>
          <p:cNvSpPr txBox="1"/>
          <p:nvPr/>
        </p:nvSpPr>
        <p:spPr>
          <a:xfrm>
            <a:off x="1293840" y="3986280"/>
            <a:ext cx="2870280" cy="100656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Datum Feature Simulator</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Variable diameter gage --</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largest inscribed cylinder)</a:t>
            </a:r>
            <a:endParaRPr b="0" lang="en-US" sz="2000" spc="-1" strike="noStrike">
              <a:solidFill>
                <a:srgbClr val="000000"/>
              </a:solidFill>
              <a:latin typeface="Arial"/>
            </a:endParaRPr>
          </a:p>
        </p:txBody>
      </p:sp>
      <p:sp>
        <p:nvSpPr>
          <p:cNvPr id="3249" name=""/>
          <p:cNvSpPr/>
          <p:nvPr/>
        </p:nvSpPr>
        <p:spPr>
          <a:xfrm flipH="1">
            <a:off x="1109520" y="417024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flipV="1">
            <a:off x="1109520" y="3035160"/>
            <a:ext cx="1527480" cy="1135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1" name=""/>
          <p:cNvSpPr/>
          <p:nvPr/>
        </p:nvSpPr>
        <p:spPr>
          <a:xfrm>
            <a:off x="6885000" y="2128680"/>
            <a:ext cx="143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2" name=""/>
          <p:cNvSpPr/>
          <p:nvPr/>
        </p:nvSpPr>
        <p:spPr>
          <a:xfrm>
            <a:off x="6900840" y="3021120"/>
            <a:ext cx="14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3" name=""/>
          <p:cNvSpPr/>
          <p:nvPr/>
        </p:nvSpPr>
        <p:spPr>
          <a:xfrm flipV="1">
            <a:off x="8170920" y="1751040"/>
            <a:ext cx="0" cy="3776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4" name=""/>
          <p:cNvSpPr/>
          <p:nvPr/>
        </p:nvSpPr>
        <p:spPr>
          <a:xfrm>
            <a:off x="8170920" y="3021120"/>
            <a:ext cx="0" cy="301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5" name=""/>
          <p:cNvSpPr txBox="1"/>
          <p:nvPr/>
        </p:nvSpPr>
        <p:spPr>
          <a:xfrm>
            <a:off x="7201080" y="2232000"/>
            <a:ext cx="1743120" cy="701640"/>
          </a:xfrm>
          <a:prstGeom prst="rect">
            <a:avLst/>
          </a:prstGeom>
          <a:noFill/>
          <a:ln w="0">
            <a:noFill/>
          </a:ln>
        </p:spPr>
        <p:txBody>
          <a:bodyPr lIns="0" rIns="0" tIns="0" bIns="0" anchor="t">
            <a:noAutofit/>
          </a:bodyPr>
          <a:p>
            <a:pPr>
              <a:lnSpc>
                <a:spcPct val="100000"/>
              </a:lnSpc>
            </a:pPr>
            <a:r>
              <a:rPr b="0" lang="en-US" sz="2000" spc="-1" strike="noStrike">
                <a:solidFill>
                  <a:srgbClr val="f2fefd"/>
                </a:solidFill>
                <a:latin typeface="Times New Roman"/>
                <a:ea typeface="Times New Roman"/>
              </a:rPr>
              <a:t>True geometric</a:t>
            </a:r>
            <a:endParaRPr b="0" lang="en-US" sz="2000" spc="-1" strike="noStrike">
              <a:solidFill>
                <a:srgbClr val="000000"/>
              </a:solidFill>
              <a:latin typeface="Arial"/>
            </a:endParaRPr>
          </a:p>
          <a:p>
            <a:pPr>
              <a:lnSpc>
                <a:spcPct val="100000"/>
              </a:lnSpc>
            </a:pPr>
            <a:r>
              <a:rPr b="0" lang="en-US" sz="2000" spc="-1" strike="noStrike">
                <a:solidFill>
                  <a:srgbClr val="f2fefd"/>
                </a:solidFill>
                <a:latin typeface="Times New Roman"/>
                <a:ea typeface="Times New Roman"/>
              </a:rPr>
              <a:t>counterpart</a:t>
            </a:r>
            <a:endParaRPr b="0" lang="en-US" sz="2000" spc="-1" strike="noStrike">
              <a:solidFill>
                <a:srgbClr val="000000"/>
              </a:solidFill>
              <a:latin typeface="Arial"/>
            </a:endParaRPr>
          </a:p>
        </p:txBody>
      </p:sp>
      <p:sp>
        <p:nvSpPr>
          <p:cNvPr id="3256" name=""/>
          <p:cNvSpPr txBox="1"/>
          <p:nvPr/>
        </p:nvSpPr>
        <p:spPr>
          <a:xfrm>
            <a:off x="295200" y="1339920"/>
            <a:ext cx="2136600" cy="13111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Axis of true </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geometric</a:t>
            </a:r>
            <a:endParaRPr b="0" lang="en-US" sz="2000" spc="-1" strike="noStrike">
              <a:solidFill>
                <a:srgbClr val="000000"/>
              </a:solidFill>
              <a:latin typeface="Arial"/>
            </a:endParaRPr>
          </a:p>
          <a:p>
            <a:pPr>
              <a:lnSpc>
                <a:spcPct val="100000"/>
              </a:lnSpc>
            </a:pPr>
            <a:r>
              <a:rPr b="0" lang="en-US" sz="2000" spc="-1" strike="noStrike">
                <a:solidFill>
                  <a:srgbClr val="ffff00"/>
                </a:solidFill>
                <a:latin typeface="Times New Roman"/>
                <a:ea typeface="Times New Roman"/>
              </a:rPr>
              <a:t>counterpart [gage])</a:t>
            </a:r>
            <a:endParaRPr b="0" lang="en-US" sz="2000" spc="-1" strike="noStrike">
              <a:solidFill>
                <a:srgbClr val="000000"/>
              </a:solidFill>
              <a:latin typeface="Arial"/>
            </a:endParaRPr>
          </a:p>
        </p:txBody>
      </p:sp>
      <p:sp>
        <p:nvSpPr>
          <p:cNvPr id="3257" name=""/>
          <p:cNvSpPr/>
          <p:nvPr/>
        </p:nvSpPr>
        <p:spPr>
          <a:xfrm>
            <a:off x="1881360" y="1554120"/>
            <a:ext cx="166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8" name=""/>
          <p:cNvSpPr/>
          <p:nvPr/>
        </p:nvSpPr>
        <p:spPr>
          <a:xfrm>
            <a:off x="2062080" y="1554120"/>
            <a:ext cx="452520" cy="1013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9" name=""/>
          <p:cNvSpPr/>
          <p:nvPr/>
        </p:nvSpPr>
        <p:spPr>
          <a:xfrm>
            <a:off x="5835600" y="539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0" name=""/>
          <p:cNvSpPr/>
          <p:nvPr/>
        </p:nvSpPr>
        <p:spPr>
          <a:xfrm flipH="1">
            <a:off x="5759280" y="539640"/>
            <a:ext cx="287640" cy="9064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1" name=""/>
          <p:cNvSpPr txBox="1"/>
          <p:nvPr/>
        </p:nvSpPr>
        <p:spPr>
          <a:xfrm>
            <a:off x="4414680" y="339840"/>
            <a:ext cx="13334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00"/>
                </a:solidFill>
                <a:latin typeface="Times New Roman"/>
                <a:ea typeface="Times New Roman"/>
              </a:rPr>
              <a:t>Actual P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6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63" name=""/>
          <p:cNvSpPr txBox="1"/>
          <p:nvPr/>
        </p:nvSpPr>
        <p:spPr>
          <a:xfrm>
            <a:off x="685800" y="71424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Size</a:t>
            </a:r>
            <a:r>
              <a:rPr b="0" lang="en-US" sz="3600" spc="-1" strike="noStrike">
                <a:solidFill>
                  <a:srgbClr val="fafd00"/>
                </a:solidFill>
                <a:latin typeface="Times New Roman"/>
                <a:ea typeface="Times New Roman"/>
              </a:rPr>
              <a:t> of a Primary or Single Datum Feature</a:t>
            </a:r>
            <a:endParaRPr b="0" lang="en-US" sz="3600" spc="-1" strike="noStrike">
              <a:solidFill>
                <a:srgbClr val="000000"/>
              </a:solidFill>
              <a:latin typeface="Arial"/>
            </a:endParaRPr>
          </a:p>
        </p:txBody>
      </p:sp>
      <p:sp>
        <p:nvSpPr>
          <p:cNvPr id="3264" name=""/>
          <p:cNvSpPr txBox="1"/>
          <p:nvPr/>
        </p:nvSpPr>
        <p:spPr>
          <a:xfrm>
            <a:off x="304920" y="2268360"/>
            <a:ext cx="8458200" cy="4114800"/>
          </a:xfrm>
          <a:prstGeom prst="rect">
            <a:avLst/>
          </a:prstGeom>
          <a:noFill/>
          <a:ln w="0">
            <a:noFill/>
          </a:ln>
        </p:spPr>
        <p:txBody>
          <a:bodyPr lIns="0" rIns="0" tIns="0" bIns="0" anchor="t">
            <a:noAutofit/>
          </a:bodyPr>
          <a:p>
            <a:pPr marL="291960" indent="-2919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a primary or single datum feature of size is controlled by a </a:t>
            </a:r>
            <a:r>
              <a:rPr b="0" lang="en-US" sz="2800" spc="-1" strike="noStrike">
                <a:solidFill>
                  <a:srgbClr val="fafd00"/>
                </a:solidFill>
                <a:latin typeface="Times New Roman"/>
                <a:ea typeface="Times New Roman"/>
              </a:rPr>
              <a:t>circularity or cylindricity </a:t>
            </a:r>
            <a:r>
              <a:rPr b="0" lang="en-US" sz="2800" spc="-1" strike="noStrike">
                <a:solidFill>
                  <a:srgbClr val="ffffff"/>
                </a:solidFill>
                <a:latin typeface="Times New Roman"/>
                <a:ea typeface="Times New Roman"/>
              </a:rPr>
              <a:t>tolerance, the size of the true geometric counterpart used to establish the simulated datum is the </a:t>
            </a:r>
            <a:r>
              <a:rPr b="0" lang="en-US" sz="2800" spc="-1" strike="noStrike">
                <a:solidFill>
                  <a:srgbClr val="fafd00"/>
                </a:solidFill>
                <a:latin typeface="Times New Roman"/>
                <a:ea typeface="Times New Roman"/>
              </a:rPr>
              <a:t>MMC limit of size</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marL="291960" indent="-29196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a </a:t>
            </a:r>
            <a:r>
              <a:rPr b="0" lang="en-US" sz="2800" spc="-1" strike="noStrike">
                <a:solidFill>
                  <a:srgbClr val="fafd00"/>
                </a:solidFill>
                <a:latin typeface="Times New Roman"/>
                <a:ea typeface="Times New Roman"/>
              </a:rPr>
              <a:t>straightness</a:t>
            </a:r>
            <a:r>
              <a:rPr b="0" lang="en-US" sz="2800" spc="-1" strike="noStrike">
                <a:solidFill>
                  <a:srgbClr val="ffffff"/>
                </a:solidFill>
                <a:latin typeface="Times New Roman"/>
                <a:ea typeface="Times New Roman"/>
              </a:rPr>
              <a:t> tolerance is applied at an </a:t>
            </a:r>
            <a:r>
              <a:rPr b="0" lang="en-US" sz="2800" spc="-1" strike="noStrike">
                <a:solidFill>
                  <a:srgbClr val="fafd00"/>
                </a:solidFill>
                <a:latin typeface="Times New Roman"/>
                <a:ea typeface="Times New Roman"/>
              </a:rPr>
              <a:t>MMC</a:t>
            </a:r>
            <a:r>
              <a:rPr b="0" lang="en-US" sz="2800" spc="-1" strike="noStrike">
                <a:solidFill>
                  <a:srgbClr val="ffffff"/>
                </a:solidFill>
                <a:latin typeface="Times New Roman"/>
                <a:ea typeface="Times New Roman"/>
              </a:rPr>
              <a:t> basis, the size of the true geometric counterpart is the </a:t>
            </a:r>
            <a:r>
              <a:rPr b="0" lang="en-US" sz="2800" spc="-1" strike="noStrike">
                <a:solidFill>
                  <a:srgbClr val="fafd00"/>
                </a:solidFill>
                <a:latin typeface="Times New Roman"/>
                <a:ea typeface="Times New Roman"/>
              </a:rPr>
              <a:t>MMC virtual condition</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6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66" name=""/>
          <p:cNvSpPr txBox="1"/>
          <p:nvPr/>
        </p:nvSpPr>
        <p:spPr>
          <a:xfrm>
            <a:off x="716040" y="2092320"/>
            <a:ext cx="7772400" cy="253512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Cylindrical Datum Feature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3" name=""/>
          <p:cNvSpPr txBox="1"/>
          <p:nvPr/>
        </p:nvSpPr>
        <p:spPr>
          <a:xfrm>
            <a:off x="560520" y="447840"/>
            <a:ext cx="3852720" cy="1190520"/>
          </a:xfrm>
          <a:prstGeom prst="rect">
            <a:avLst/>
          </a:prstGeom>
          <a:noFill/>
          <a:ln w="0">
            <a:noFill/>
          </a:ln>
        </p:spPr>
        <p:txBody>
          <a:bodyPr lIns="0" rIns="0" tIns="0" bIns="0" anchor="t">
            <a:noAutofit/>
          </a:bodyPr>
          <a:p>
            <a:pPr>
              <a:lnSpc>
                <a:spcPct val="100000"/>
              </a:lnSpc>
            </a:pPr>
            <a:r>
              <a:rPr b="1" lang="en-US" sz="3600" spc="-1" strike="noStrike">
                <a:solidFill>
                  <a:srgbClr val="ffffff"/>
                </a:solidFill>
                <a:latin typeface="Times New Roman"/>
                <a:ea typeface="Times New Roman"/>
              </a:rPr>
              <a:t>Datum Precedence</a:t>
            </a:r>
            <a:endParaRPr b="0" lang="en-US" sz="3600" spc="-1" strike="noStrike">
              <a:solidFill>
                <a:srgbClr val="000000"/>
              </a:solidFill>
              <a:latin typeface="Arial"/>
            </a:endParaRPr>
          </a:p>
          <a:p>
            <a:pPr>
              <a:lnSpc>
                <a:spcPct val="100000"/>
              </a:lnSpc>
            </a:pPr>
            <a:r>
              <a:rPr b="1" lang="en-US" sz="3600" spc="-1" strike="noStrike">
                <a:solidFill>
                  <a:srgbClr val="ffffff"/>
                </a:solidFill>
                <a:latin typeface="Times New Roman"/>
                <a:ea typeface="Times New Roman"/>
              </a:rPr>
              <a:t>Applica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6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68" name=""/>
          <p:cNvSpPr txBox="1"/>
          <p:nvPr/>
        </p:nvSpPr>
        <p:spPr>
          <a:xfrm>
            <a:off x="822240" y="1670040"/>
            <a:ext cx="7543800" cy="46162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cylindrical datum feature is always associated with two theoretical planes intersecting at right angles on the datum axis.  </a:t>
            </a:r>
            <a:r>
              <a:rPr b="0" i="1" lang="en-US" sz="2800" spc="-1" strike="noStrike">
                <a:solidFill>
                  <a:srgbClr val="ffff00"/>
                </a:solidFill>
                <a:latin typeface="Times New Roman"/>
                <a:ea typeface="Times New Roman"/>
              </a:rPr>
              <a:t>The datum of a cylindrical surface is the </a:t>
            </a:r>
            <a:r>
              <a:rPr b="0" i="1" lang="en-US" sz="2800" spc="-1" strike="noStrike" u="sng">
                <a:solidFill>
                  <a:srgbClr val="ffff00"/>
                </a:solidFill>
                <a:uFillTx/>
                <a:latin typeface="Times New Roman"/>
                <a:ea typeface="Times New Roman"/>
              </a:rPr>
              <a:t>axis</a:t>
            </a:r>
            <a:r>
              <a:rPr b="0" i="1" lang="en-US" sz="2800" spc="-1" strike="noStrike">
                <a:solidFill>
                  <a:srgbClr val="ffff00"/>
                </a:solidFill>
                <a:latin typeface="Times New Roman"/>
                <a:ea typeface="Times New Roman"/>
              </a:rPr>
              <a:t> </a:t>
            </a:r>
            <a:r>
              <a:rPr b="0" i="1" lang="en-US" sz="2800" spc="-1" strike="noStrike" u="sng">
                <a:solidFill>
                  <a:srgbClr val="ffff00"/>
                </a:solidFill>
                <a:uFillTx/>
                <a:latin typeface="Times New Roman"/>
                <a:ea typeface="Times New Roman"/>
              </a:rPr>
              <a:t>of the true geometric counterpart</a:t>
            </a:r>
            <a:r>
              <a:rPr b="0" i="1" lang="en-US" sz="2800" spc="-1" strike="noStrike">
                <a:solidFill>
                  <a:srgbClr val="ffff00"/>
                </a:solidFill>
                <a:latin typeface="Times New Roman"/>
                <a:ea typeface="Times New Roman"/>
              </a:rPr>
              <a:t> (gage)of the datum feature</a:t>
            </a:r>
            <a:r>
              <a:rPr b="0" lang="en-US" sz="2800" spc="-1" strike="noStrike">
                <a:solidFill>
                  <a:srgbClr val="ffffff"/>
                </a:solidFill>
                <a:latin typeface="Times New Roman"/>
                <a:ea typeface="Times New Roman"/>
              </a:rPr>
              <a:t>, and is simulated by the axis of a cylinder in the manufacturing or inspection process -- mandrels for internal features, and chucks or collets for external features are examples of such tooling.</a:t>
            </a:r>
            <a:endParaRPr b="0" lang="en-US" sz="2800" spc="-1" strike="noStrike">
              <a:solidFill>
                <a:srgbClr val="000000"/>
              </a:solidFill>
              <a:latin typeface="Arial"/>
            </a:endParaRPr>
          </a:p>
        </p:txBody>
      </p:sp>
      <p:sp>
        <p:nvSpPr>
          <p:cNvPr id="3269" name=""/>
          <p:cNvSpPr txBox="1"/>
          <p:nvPr/>
        </p:nvSpPr>
        <p:spPr>
          <a:xfrm>
            <a:off x="1816200" y="704880"/>
            <a:ext cx="5262480" cy="6415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Cylindrical Datum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70"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71" name=""/>
          <p:cNvSpPr txBox="1"/>
          <p:nvPr/>
        </p:nvSpPr>
        <p:spPr>
          <a:xfrm>
            <a:off x="655560" y="1835280"/>
            <a:ext cx="7772400" cy="3505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wo theoretical planes are represented on the drawing by center lines crossing at right angles.  The </a:t>
            </a:r>
            <a:r>
              <a:rPr b="0" lang="en-US" sz="2800" spc="-1" strike="noStrike">
                <a:solidFill>
                  <a:srgbClr val="fafd00"/>
                </a:solidFill>
                <a:latin typeface="Times New Roman"/>
                <a:ea typeface="Times New Roman"/>
              </a:rPr>
              <a:t>intersection</a:t>
            </a:r>
            <a:r>
              <a:rPr b="0" lang="en-US" sz="2800" spc="-1" strike="noStrike">
                <a:solidFill>
                  <a:srgbClr val="ffffff"/>
                </a:solidFill>
                <a:latin typeface="Times New Roman"/>
                <a:ea typeface="Times New Roman"/>
              </a:rPr>
              <a:t> of these planes coincides with the </a:t>
            </a:r>
            <a:r>
              <a:rPr b="0" lang="en-US" sz="2800" spc="-1" strike="noStrike">
                <a:solidFill>
                  <a:srgbClr val="fafd00"/>
                </a:solidFill>
                <a:latin typeface="Times New Roman"/>
                <a:ea typeface="Times New Roman"/>
              </a:rPr>
              <a:t>datum axis</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Once established, the datum axis becomes the </a:t>
            </a:r>
            <a:r>
              <a:rPr b="0" lang="en-US" sz="2800" spc="-1" strike="noStrike">
                <a:solidFill>
                  <a:srgbClr val="fafd00"/>
                </a:solidFill>
                <a:latin typeface="Times New Roman"/>
                <a:ea typeface="Times New Roman"/>
              </a:rPr>
              <a:t>origin</a:t>
            </a:r>
            <a:r>
              <a:rPr b="0" lang="en-US" sz="2800" spc="-1" strike="noStrike">
                <a:solidFill>
                  <a:srgbClr val="ffffff"/>
                </a:solidFill>
                <a:latin typeface="Times New Roman"/>
                <a:ea typeface="Times New Roman"/>
              </a:rPr>
              <a:t> for related dimensions while the second and third planes indicate the direction for measurements.</a:t>
            </a:r>
            <a:endParaRPr b="0" lang="en-US" sz="2800" spc="-1" strike="noStrike">
              <a:solidFill>
                <a:srgbClr val="000000"/>
              </a:solidFill>
              <a:latin typeface="Arial"/>
            </a:endParaRPr>
          </a:p>
        </p:txBody>
      </p:sp>
      <p:sp>
        <p:nvSpPr>
          <p:cNvPr id="3272" name=""/>
          <p:cNvSpPr txBox="1"/>
          <p:nvPr/>
        </p:nvSpPr>
        <p:spPr>
          <a:xfrm>
            <a:off x="1533600" y="811080"/>
            <a:ext cx="5827680" cy="701640"/>
          </a:xfrm>
          <a:prstGeom prst="rect">
            <a:avLst/>
          </a:prstGeom>
          <a:noFill/>
          <a:ln w="0">
            <a:noFill/>
          </a:ln>
        </p:spPr>
        <p:txBody>
          <a:bodyPr lIns="0" rIns="0" tIns="0" bIns="0" anchor="t">
            <a:noAutofit/>
          </a:bodyPr>
          <a:p>
            <a:pPr algn="ctr">
              <a:lnSpc>
                <a:spcPct val="100000"/>
              </a:lnSpc>
            </a:pPr>
            <a:r>
              <a:rPr b="0" lang="en-US" sz="4000" spc="-1" strike="noStrike" u="sng">
                <a:solidFill>
                  <a:srgbClr val="fafd00"/>
                </a:solidFill>
                <a:uFillTx/>
                <a:latin typeface="Times New Roman"/>
                <a:ea typeface="Times New Roman"/>
              </a:rPr>
              <a:t>Cylindrical Datum Featur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274" name=""/>
          <p:cNvSpPr/>
          <p:nvPr/>
        </p:nvSpPr>
        <p:spPr>
          <a:xfrm>
            <a:off x="1873080" y="1508040"/>
            <a:ext cx="3063960" cy="3063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a:off x="6524640" y="1508040"/>
            <a:ext cx="571680" cy="306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6" name=""/>
          <p:cNvSpPr/>
          <p:nvPr/>
        </p:nvSpPr>
        <p:spPr>
          <a:xfrm>
            <a:off x="4317840" y="287352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7" name=""/>
          <p:cNvSpPr/>
          <p:nvPr/>
        </p:nvSpPr>
        <p:spPr>
          <a:xfrm>
            <a:off x="2136600" y="286704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8" name=""/>
          <p:cNvSpPr/>
          <p:nvPr/>
        </p:nvSpPr>
        <p:spPr>
          <a:xfrm>
            <a:off x="3257640" y="398772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79" name=""/>
          <p:cNvGrpSpPr/>
          <p:nvPr/>
        </p:nvGrpSpPr>
        <p:grpSpPr>
          <a:xfrm>
            <a:off x="1000080" y="3032280"/>
            <a:ext cx="4238640" cy="0"/>
            <a:chOff x="1000080" y="3032280"/>
            <a:chExt cx="4238640" cy="0"/>
          </a:xfrm>
        </p:grpSpPr>
        <p:sp>
          <p:nvSpPr>
            <p:cNvPr id="3280" name=""/>
            <p:cNvSpPr/>
            <p:nvPr/>
          </p:nvSpPr>
          <p:spPr>
            <a:xfrm>
              <a:off x="1000080" y="3032280"/>
              <a:ext cx="2254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1" name=""/>
            <p:cNvSpPr/>
            <p:nvPr/>
          </p:nvSpPr>
          <p:spPr>
            <a:xfrm>
              <a:off x="3349800" y="3032280"/>
              <a:ext cx="11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2" name=""/>
            <p:cNvSpPr/>
            <p:nvPr/>
          </p:nvSpPr>
          <p:spPr>
            <a:xfrm>
              <a:off x="3587760" y="3032280"/>
              <a:ext cx="165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83" name=""/>
          <p:cNvGrpSpPr/>
          <p:nvPr/>
        </p:nvGrpSpPr>
        <p:grpSpPr>
          <a:xfrm>
            <a:off x="3413160" y="571680"/>
            <a:ext cx="0" cy="4206600"/>
            <a:chOff x="3413160" y="571680"/>
            <a:chExt cx="0" cy="4206600"/>
          </a:xfrm>
        </p:grpSpPr>
        <p:sp>
          <p:nvSpPr>
            <p:cNvPr id="3284" name=""/>
            <p:cNvSpPr/>
            <p:nvPr/>
          </p:nvSpPr>
          <p:spPr>
            <a:xfrm>
              <a:off x="3413160" y="571680"/>
              <a:ext cx="0" cy="231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5" name=""/>
            <p:cNvSpPr/>
            <p:nvPr/>
          </p:nvSpPr>
          <p:spPr>
            <a:xfrm>
              <a:off x="3413160" y="298440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286" name=""/>
            <p:cNvSpPr/>
            <p:nvPr/>
          </p:nvSpPr>
          <p:spPr>
            <a:xfrm>
              <a:off x="3413160" y="3174840"/>
              <a:ext cx="0" cy="1603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87" name=""/>
          <p:cNvGrpSpPr/>
          <p:nvPr/>
        </p:nvGrpSpPr>
        <p:grpSpPr>
          <a:xfrm>
            <a:off x="6302520" y="3016080"/>
            <a:ext cx="952200" cy="0"/>
            <a:chOff x="6302520" y="3016080"/>
            <a:chExt cx="952200" cy="0"/>
          </a:xfrm>
        </p:grpSpPr>
        <p:sp>
          <p:nvSpPr>
            <p:cNvPr id="3288" name=""/>
            <p:cNvSpPr/>
            <p:nvPr/>
          </p:nvSpPr>
          <p:spPr>
            <a:xfrm>
              <a:off x="6302520" y="30160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9" name=""/>
            <p:cNvSpPr/>
            <p:nvPr/>
          </p:nvSpPr>
          <p:spPr>
            <a:xfrm>
              <a:off x="6778800" y="30160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0" name=""/>
            <p:cNvSpPr/>
            <p:nvPr/>
          </p:nvSpPr>
          <p:spPr>
            <a:xfrm>
              <a:off x="6937200" y="30160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91" name=""/>
          <p:cNvGrpSpPr/>
          <p:nvPr/>
        </p:nvGrpSpPr>
        <p:grpSpPr>
          <a:xfrm>
            <a:off x="6296040" y="1946160"/>
            <a:ext cx="952560" cy="0"/>
            <a:chOff x="6296040" y="1946160"/>
            <a:chExt cx="952560" cy="0"/>
          </a:xfrm>
        </p:grpSpPr>
        <p:sp>
          <p:nvSpPr>
            <p:cNvPr id="3292" name=""/>
            <p:cNvSpPr/>
            <p:nvPr/>
          </p:nvSpPr>
          <p:spPr>
            <a:xfrm>
              <a:off x="6296040" y="194616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3" name=""/>
            <p:cNvSpPr/>
            <p:nvPr/>
          </p:nvSpPr>
          <p:spPr>
            <a:xfrm>
              <a:off x="6772320" y="194616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4" name=""/>
            <p:cNvSpPr/>
            <p:nvPr/>
          </p:nvSpPr>
          <p:spPr>
            <a:xfrm>
              <a:off x="6931080" y="194616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95" name=""/>
          <p:cNvGrpSpPr/>
          <p:nvPr/>
        </p:nvGrpSpPr>
        <p:grpSpPr>
          <a:xfrm>
            <a:off x="6321600" y="4146480"/>
            <a:ext cx="952200" cy="0"/>
            <a:chOff x="6321600" y="4146480"/>
            <a:chExt cx="952200" cy="0"/>
          </a:xfrm>
        </p:grpSpPr>
        <p:sp>
          <p:nvSpPr>
            <p:cNvPr id="3296" name=""/>
            <p:cNvSpPr/>
            <p:nvPr/>
          </p:nvSpPr>
          <p:spPr>
            <a:xfrm>
              <a:off x="6321600" y="41464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7" name=""/>
            <p:cNvSpPr/>
            <p:nvPr/>
          </p:nvSpPr>
          <p:spPr>
            <a:xfrm>
              <a:off x="6797520" y="4146480"/>
              <a:ext cx="79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8" name=""/>
            <p:cNvSpPr/>
            <p:nvPr/>
          </p:nvSpPr>
          <p:spPr>
            <a:xfrm>
              <a:off x="6956280" y="41464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99" name=""/>
          <p:cNvSpPr/>
          <p:nvPr/>
        </p:nvSpPr>
        <p:spPr>
          <a:xfrm>
            <a:off x="3251160" y="177480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0" name=""/>
          <p:cNvSpPr/>
          <p:nvPr/>
        </p:nvSpPr>
        <p:spPr>
          <a:xfrm flipH="1">
            <a:off x="3508200" y="19209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p:nvPr/>
        </p:nvSpPr>
        <p:spPr>
          <a:xfrm flipH="1">
            <a:off x="3381480" y="19209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2" name=""/>
          <p:cNvSpPr/>
          <p:nvPr/>
        </p:nvSpPr>
        <p:spPr>
          <a:xfrm flipH="1">
            <a:off x="984240" y="1920960"/>
            <a:ext cx="23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03" name=""/>
          <p:cNvGrpSpPr/>
          <p:nvPr/>
        </p:nvGrpSpPr>
        <p:grpSpPr>
          <a:xfrm>
            <a:off x="961920" y="4137120"/>
            <a:ext cx="2667240" cy="0"/>
            <a:chOff x="961920" y="4137120"/>
            <a:chExt cx="2667240" cy="0"/>
          </a:xfrm>
        </p:grpSpPr>
        <p:sp>
          <p:nvSpPr>
            <p:cNvPr id="3304" name=""/>
            <p:cNvSpPr/>
            <p:nvPr/>
          </p:nvSpPr>
          <p:spPr>
            <a:xfrm flipH="1">
              <a:off x="3502080" y="413712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5" name=""/>
            <p:cNvSpPr/>
            <p:nvPr/>
          </p:nvSpPr>
          <p:spPr>
            <a:xfrm flipH="1">
              <a:off x="3375000" y="413712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6" name=""/>
            <p:cNvSpPr/>
            <p:nvPr/>
          </p:nvSpPr>
          <p:spPr>
            <a:xfrm flipH="1">
              <a:off x="961920" y="4137120"/>
              <a:ext cx="23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07" name=""/>
          <p:cNvGrpSpPr/>
          <p:nvPr/>
        </p:nvGrpSpPr>
        <p:grpSpPr>
          <a:xfrm>
            <a:off x="2305080" y="590400"/>
            <a:ext cx="0" cy="2667240"/>
            <a:chOff x="2305080" y="590400"/>
            <a:chExt cx="0" cy="2667240"/>
          </a:xfrm>
        </p:grpSpPr>
        <p:sp>
          <p:nvSpPr>
            <p:cNvPr id="3308" name=""/>
            <p:cNvSpPr/>
            <p:nvPr/>
          </p:nvSpPr>
          <p:spPr>
            <a:xfrm flipV="1">
              <a:off x="2305080" y="313056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9" name=""/>
            <p:cNvSpPr/>
            <p:nvPr/>
          </p:nvSpPr>
          <p:spPr>
            <a:xfrm flipV="1">
              <a:off x="2305080" y="30034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3310" name=""/>
            <p:cNvSpPr/>
            <p:nvPr/>
          </p:nvSpPr>
          <p:spPr>
            <a:xfrm flipV="1">
              <a:off x="2305080" y="590400"/>
              <a:ext cx="0" cy="231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11" name=""/>
          <p:cNvGrpSpPr/>
          <p:nvPr/>
        </p:nvGrpSpPr>
        <p:grpSpPr>
          <a:xfrm>
            <a:off x="4473720" y="584280"/>
            <a:ext cx="0" cy="2666880"/>
            <a:chOff x="4473720" y="584280"/>
            <a:chExt cx="0" cy="2666880"/>
          </a:xfrm>
        </p:grpSpPr>
        <p:sp>
          <p:nvSpPr>
            <p:cNvPr id="3312" name=""/>
            <p:cNvSpPr/>
            <p:nvPr/>
          </p:nvSpPr>
          <p:spPr>
            <a:xfrm flipV="1">
              <a:off x="4473720" y="312408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3" name=""/>
            <p:cNvSpPr/>
            <p:nvPr/>
          </p:nvSpPr>
          <p:spPr>
            <a:xfrm flipV="1">
              <a:off x="4473720" y="299736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3314" name=""/>
            <p:cNvSpPr/>
            <p:nvPr/>
          </p:nvSpPr>
          <p:spPr>
            <a:xfrm flipV="1">
              <a:off x="4473720" y="584280"/>
              <a:ext cx="0" cy="231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15" name=""/>
          <p:cNvSpPr/>
          <p:nvPr/>
        </p:nvSpPr>
        <p:spPr>
          <a:xfrm>
            <a:off x="2317680" y="1952640"/>
            <a:ext cx="2175120" cy="2174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6" name=""/>
          <p:cNvSpPr/>
          <p:nvPr/>
        </p:nvSpPr>
        <p:spPr>
          <a:xfrm>
            <a:off x="4492800" y="4127400"/>
            <a:ext cx="42840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7" name=""/>
          <p:cNvSpPr/>
          <p:nvPr/>
        </p:nvSpPr>
        <p:spPr>
          <a:xfrm>
            <a:off x="4924440" y="45561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8" name=""/>
          <p:cNvSpPr/>
          <p:nvPr/>
        </p:nvSpPr>
        <p:spPr>
          <a:xfrm flipH="1">
            <a:off x="2778120" y="4286160"/>
            <a:ext cx="555480" cy="1158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9" name=""/>
          <p:cNvSpPr/>
          <p:nvPr/>
        </p:nvSpPr>
        <p:spPr>
          <a:xfrm>
            <a:off x="2778120" y="5445000"/>
            <a:ext cx="2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0" name=""/>
          <p:cNvSpPr/>
          <p:nvPr/>
        </p:nvSpPr>
        <p:spPr>
          <a:xfrm>
            <a:off x="2971800" y="526572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1" name=""/>
          <p:cNvSpPr txBox="1"/>
          <p:nvPr/>
        </p:nvSpPr>
        <p:spPr>
          <a:xfrm>
            <a:off x="3036960" y="5310360"/>
            <a:ext cx="1414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X      8.4 - 8.6</a:t>
            </a:r>
            <a:endParaRPr b="0" lang="en-US" sz="1600" spc="-1" strike="noStrike">
              <a:solidFill>
                <a:srgbClr val="000000"/>
              </a:solidFill>
              <a:latin typeface="Arial"/>
            </a:endParaRPr>
          </a:p>
        </p:txBody>
      </p:sp>
      <p:grpSp>
        <p:nvGrpSpPr>
          <p:cNvPr id="3322" name=""/>
          <p:cNvGrpSpPr/>
          <p:nvPr/>
        </p:nvGrpSpPr>
        <p:grpSpPr>
          <a:xfrm>
            <a:off x="3460680" y="5413320"/>
            <a:ext cx="142920" cy="142920"/>
            <a:chOff x="3460680" y="5413320"/>
            <a:chExt cx="142920" cy="142920"/>
          </a:xfrm>
        </p:grpSpPr>
        <p:sp>
          <p:nvSpPr>
            <p:cNvPr id="3323" name=""/>
            <p:cNvSpPr/>
            <p:nvPr/>
          </p:nvSpPr>
          <p:spPr>
            <a:xfrm>
              <a:off x="3476520" y="5429160"/>
              <a:ext cx="111240" cy="111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4" name=""/>
            <p:cNvSpPr/>
            <p:nvPr/>
          </p:nvSpPr>
          <p:spPr>
            <a:xfrm flipH="1">
              <a:off x="3460680" y="54133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25" name=""/>
          <p:cNvSpPr/>
          <p:nvPr/>
        </p:nvSpPr>
        <p:spPr>
          <a:xfrm>
            <a:off x="2301840" y="714240"/>
            <a:ext cx="11113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6" name=""/>
          <p:cNvSpPr/>
          <p:nvPr/>
        </p:nvSpPr>
        <p:spPr>
          <a:xfrm>
            <a:off x="3413160" y="714240"/>
            <a:ext cx="1063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7" name=""/>
          <p:cNvSpPr/>
          <p:nvPr/>
        </p:nvSpPr>
        <p:spPr>
          <a:xfrm>
            <a:off x="4479840" y="7142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8" name=""/>
          <p:cNvSpPr/>
          <p:nvPr/>
        </p:nvSpPr>
        <p:spPr>
          <a:xfrm flipH="1">
            <a:off x="2127240" y="7142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9" name=""/>
          <p:cNvSpPr/>
          <p:nvPr/>
        </p:nvSpPr>
        <p:spPr>
          <a:xfrm>
            <a:off x="4648320" y="581040"/>
            <a:ext cx="479520" cy="270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0" name=""/>
          <p:cNvSpPr/>
          <p:nvPr/>
        </p:nvSpPr>
        <p:spPr>
          <a:xfrm>
            <a:off x="1635120" y="571680"/>
            <a:ext cx="49212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1" name=""/>
          <p:cNvSpPr txBox="1"/>
          <p:nvPr/>
        </p:nvSpPr>
        <p:spPr>
          <a:xfrm>
            <a:off x="1674720" y="55872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332" name=""/>
          <p:cNvSpPr txBox="1"/>
          <p:nvPr/>
        </p:nvSpPr>
        <p:spPr>
          <a:xfrm>
            <a:off x="4664160" y="5652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333" name=""/>
          <p:cNvSpPr/>
          <p:nvPr/>
        </p:nvSpPr>
        <p:spPr>
          <a:xfrm>
            <a:off x="1111320" y="1447920"/>
            <a:ext cx="0" cy="46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4" name=""/>
          <p:cNvSpPr/>
          <p:nvPr/>
        </p:nvSpPr>
        <p:spPr>
          <a:xfrm>
            <a:off x="1111320" y="1917720"/>
            <a:ext cx="0" cy="1104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5" name=""/>
          <p:cNvSpPr/>
          <p:nvPr/>
        </p:nvSpPr>
        <p:spPr>
          <a:xfrm>
            <a:off x="1111320" y="3029040"/>
            <a:ext cx="0" cy="1104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6" name=""/>
          <p:cNvSpPr/>
          <p:nvPr/>
        </p:nvSpPr>
        <p:spPr>
          <a:xfrm>
            <a:off x="1111320" y="4140360"/>
            <a:ext cx="0" cy="431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7" name=""/>
          <p:cNvSpPr/>
          <p:nvPr/>
        </p:nvSpPr>
        <p:spPr>
          <a:xfrm flipH="1">
            <a:off x="952560" y="14479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8" name=""/>
          <p:cNvSpPr/>
          <p:nvPr/>
        </p:nvSpPr>
        <p:spPr>
          <a:xfrm>
            <a:off x="457200" y="1327320"/>
            <a:ext cx="4888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9" name=""/>
          <p:cNvSpPr/>
          <p:nvPr/>
        </p:nvSpPr>
        <p:spPr>
          <a:xfrm flipH="1">
            <a:off x="984240" y="4572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0" name=""/>
          <p:cNvSpPr/>
          <p:nvPr/>
        </p:nvSpPr>
        <p:spPr>
          <a:xfrm>
            <a:off x="520560" y="4444920"/>
            <a:ext cx="457200" cy="241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1" name=""/>
          <p:cNvSpPr txBox="1"/>
          <p:nvPr/>
        </p:nvSpPr>
        <p:spPr>
          <a:xfrm>
            <a:off x="576360" y="440532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342" name=""/>
          <p:cNvSpPr txBox="1"/>
          <p:nvPr/>
        </p:nvSpPr>
        <p:spPr>
          <a:xfrm>
            <a:off x="531720" y="12952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343" name=""/>
          <p:cNvSpPr txBox="1"/>
          <p:nvPr/>
        </p:nvSpPr>
        <p:spPr>
          <a:xfrm>
            <a:off x="5369040" y="42530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65.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65.4</a:t>
            </a:r>
            <a:endParaRPr b="0" lang="en-US" sz="1600" spc="-1" strike="noStrike">
              <a:solidFill>
                <a:srgbClr val="000000"/>
              </a:solidFill>
              <a:latin typeface="Arial"/>
            </a:endParaRPr>
          </a:p>
        </p:txBody>
      </p:sp>
      <p:grpSp>
        <p:nvGrpSpPr>
          <p:cNvPr id="3344" name=""/>
          <p:cNvGrpSpPr/>
          <p:nvPr/>
        </p:nvGrpSpPr>
        <p:grpSpPr>
          <a:xfrm>
            <a:off x="5207040" y="4457880"/>
            <a:ext cx="177840" cy="177480"/>
            <a:chOff x="5207040" y="4457880"/>
            <a:chExt cx="177840" cy="177480"/>
          </a:xfrm>
        </p:grpSpPr>
        <p:sp>
          <p:nvSpPr>
            <p:cNvPr id="3345" name=""/>
            <p:cNvSpPr/>
            <p:nvPr/>
          </p:nvSpPr>
          <p:spPr>
            <a:xfrm>
              <a:off x="5219640" y="4483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flipH="1">
              <a:off x="5207040" y="445788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47" name=""/>
          <p:cNvSpPr/>
          <p:nvPr/>
        </p:nvSpPr>
        <p:spPr>
          <a:xfrm flipV="1">
            <a:off x="7099200" y="609480"/>
            <a:ext cx="0" cy="78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8" name=""/>
          <p:cNvSpPr/>
          <p:nvPr/>
        </p:nvSpPr>
        <p:spPr>
          <a:xfrm>
            <a:off x="6362640" y="596880"/>
            <a:ext cx="30492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9" name=""/>
          <p:cNvSpPr/>
          <p:nvPr/>
        </p:nvSpPr>
        <p:spPr>
          <a:xfrm>
            <a:off x="6667560" y="746280"/>
            <a:ext cx="27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0" name=""/>
          <p:cNvSpPr/>
          <p:nvPr/>
        </p:nvSpPr>
        <p:spPr>
          <a:xfrm>
            <a:off x="6934320" y="660240"/>
            <a:ext cx="165600" cy="165600"/>
          </a:xfrm>
          <a:custGeom>
            <a:avLst/>
            <a:gdLst/>
            <a:ahLst/>
            <a:rect l="0" t="0" r="r" b="b"/>
            <a:pathLst>
              <a:path w="460" h="460">
                <a:moveTo>
                  <a:pt x="460" y="460"/>
                </a:moveTo>
                <a:lnTo>
                  <a:pt x="460" y="0"/>
                </a:lnTo>
                <a:lnTo>
                  <a:pt x="0" y="230"/>
                </a:lnTo>
                <a:lnTo>
                  <a:pt x="460"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1" name=""/>
          <p:cNvSpPr txBox="1"/>
          <p:nvPr/>
        </p:nvSpPr>
        <p:spPr>
          <a:xfrm>
            <a:off x="6346800" y="5842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grpSp>
        <p:nvGrpSpPr>
          <p:cNvPr id="3352" name=""/>
          <p:cNvGrpSpPr/>
          <p:nvPr/>
        </p:nvGrpSpPr>
        <p:grpSpPr>
          <a:xfrm>
            <a:off x="4537080" y="1562040"/>
            <a:ext cx="869760" cy="495720"/>
            <a:chOff x="4537080" y="1562040"/>
            <a:chExt cx="869760" cy="495720"/>
          </a:xfrm>
        </p:grpSpPr>
        <p:sp>
          <p:nvSpPr>
            <p:cNvPr id="3353" name=""/>
            <p:cNvSpPr/>
            <p:nvPr/>
          </p:nvSpPr>
          <p:spPr>
            <a:xfrm>
              <a:off x="5079960" y="1574640"/>
              <a:ext cx="30492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4" name=""/>
            <p:cNvSpPr/>
            <p:nvPr/>
          </p:nvSpPr>
          <p:spPr>
            <a:xfrm flipH="1">
              <a:off x="4673520" y="17334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5" name=""/>
            <p:cNvSpPr/>
            <p:nvPr/>
          </p:nvSpPr>
          <p:spPr>
            <a:xfrm>
              <a:off x="4537080" y="1892160"/>
              <a:ext cx="165600" cy="165600"/>
            </a:xfrm>
            <a:custGeom>
              <a:avLst/>
              <a:gdLst/>
              <a:ahLst/>
              <a:rect l="0" t="0" r="r" b="b"/>
              <a:pathLst>
                <a:path w="460" h="460">
                  <a:moveTo>
                    <a:pt x="0" y="460"/>
                  </a:moveTo>
                  <a:lnTo>
                    <a:pt x="460" y="460"/>
                  </a:lnTo>
                  <a:lnTo>
                    <a:pt x="230" y="0"/>
                  </a:lnTo>
                  <a:lnTo>
                    <a:pt x="0"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6" name=""/>
            <p:cNvSpPr/>
            <p:nvPr/>
          </p:nvSpPr>
          <p:spPr>
            <a:xfrm>
              <a:off x="4876920" y="17272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7" name=""/>
            <p:cNvSpPr txBox="1"/>
            <p:nvPr/>
          </p:nvSpPr>
          <p:spPr>
            <a:xfrm>
              <a:off x="5076720" y="15620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grpSp>
      <p:sp>
        <p:nvSpPr>
          <p:cNvPr id="3358" name=""/>
          <p:cNvSpPr/>
          <p:nvPr/>
        </p:nvSpPr>
        <p:spPr>
          <a:xfrm>
            <a:off x="3048120" y="5683320"/>
            <a:ext cx="258768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9" name=""/>
          <p:cNvSpPr/>
          <p:nvPr/>
        </p:nvSpPr>
        <p:spPr>
          <a:xfrm>
            <a:off x="3448080" y="568944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0" name=""/>
          <p:cNvSpPr/>
          <p:nvPr/>
        </p:nvSpPr>
        <p:spPr>
          <a:xfrm>
            <a:off x="4584600" y="568944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1" name=""/>
          <p:cNvSpPr/>
          <p:nvPr/>
        </p:nvSpPr>
        <p:spPr>
          <a:xfrm>
            <a:off x="4940280" y="5689440"/>
            <a:ext cx="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62" name=""/>
          <p:cNvGrpSpPr/>
          <p:nvPr/>
        </p:nvGrpSpPr>
        <p:grpSpPr>
          <a:xfrm>
            <a:off x="3124080" y="5715000"/>
            <a:ext cx="247680" cy="247680"/>
            <a:chOff x="3124080" y="5715000"/>
            <a:chExt cx="247680" cy="247680"/>
          </a:xfrm>
        </p:grpSpPr>
        <p:sp>
          <p:nvSpPr>
            <p:cNvPr id="3363" name=""/>
            <p:cNvSpPr/>
            <p:nvPr/>
          </p:nvSpPr>
          <p:spPr>
            <a:xfrm>
              <a:off x="3162240" y="575316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4" name=""/>
            <p:cNvSpPr/>
            <p:nvPr/>
          </p:nvSpPr>
          <p:spPr>
            <a:xfrm>
              <a:off x="3251160" y="571500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5" name=""/>
            <p:cNvSpPr/>
            <p:nvPr/>
          </p:nvSpPr>
          <p:spPr>
            <a:xfrm>
              <a:off x="3124080" y="584208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66" name=""/>
          <p:cNvGrpSpPr/>
          <p:nvPr/>
        </p:nvGrpSpPr>
        <p:grpSpPr>
          <a:xfrm>
            <a:off x="3524400" y="5740560"/>
            <a:ext cx="190440" cy="190440"/>
            <a:chOff x="3524400" y="5740560"/>
            <a:chExt cx="190440" cy="190440"/>
          </a:xfrm>
        </p:grpSpPr>
        <p:sp>
          <p:nvSpPr>
            <p:cNvPr id="3367" name=""/>
            <p:cNvSpPr/>
            <p:nvPr/>
          </p:nvSpPr>
          <p:spPr>
            <a:xfrm>
              <a:off x="3549600" y="576576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8" name=""/>
            <p:cNvSpPr/>
            <p:nvPr/>
          </p:nvSpPr>
          <p:spPr>
            <a:xfrm flipH="1">
              <a:off x="3524400" y="5740560"/>
              <a:ext cx="1904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69" name=""/>
          <p:cNvSpPr txBox="1"/>
          <p:nvPr/>
        </p:nvSpPr>
        <p:spPr>
          <a:xfrm>
            <a:off x="3738600" y="566892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370" name=""/>
          <p:cNvSpPr/>
          <p:nvPr/>
        </p:nvSpPr>
        <p:spPr>
          <a:xfrm>
            <a:off x="4216320" y="571500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1" name=""/>
          <p:cNvSpPr txBox="1"/>
          <p:nvPr/>
        </p:nvSpPr>
        <p:spPr>
          <a:xfrm>
            <a:off x="4626000" y="566244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372" name=""/>
          <p:cNvSpPr txBox="1"/>
          <p:nvPr/>
        </p:nvSpPr>
        <p:spPr>
          <a:xfrm>
            <a:off x="4968720" y="565632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3373" name=""/>
          <p:cNvSpPr/>
          <p:nvPr/>
        </p:nvSpPr>
        <p:spPr>
          <a:xfrm>
            <a:off x="5295960" y="571500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4" name=""/>
          <p:cNvSpPr txBox="1"/>
          <p:nvPr/>
        </p:nvSpPr>
        <p:spPr>
          <a:xfrm>
            <a:off x="5222880" y="56689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7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6" name=""/>
          <p:cNvSpPr/>
          <p:nvPr/>
        </p:nvSpPr>
        <p:spPr>
          <a:xfrm>
            <a:off x="1873080" y="1508040"/>
            <a:ext cx="3063960" cy="3063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7" name=""/>
          <p:cNvSpPr/>
          <p:nvPr/>
        </p:nvSpPr>
        <p:spPr>
          <a:xfrm>
            <a:off x="6524640" y="1508040"/>
            <a:ext cx="571680" cy="3063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8" name=""/>
          <p:cNvSpPr/>
          <p:nvPr/>
        </p:nvSpPr>
        <p:spPr>
          <a:xfrm>
            <a:off x="4317840" y="287352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9" name=""/>
          <p:cNvSpPr/>
          <p:nvPr/>
        </p:nvSpPr>
        <p:spPr>
          <a:xfrm>
            <a:off x="2136600" y="286704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0" name=""/>
          <p:cNvSpPr/>
          <p:nvPr/>
        </p:nvSpPr>
        <p:spPr>
          <a:xfrm>
            <a:off x="3257640" y="398772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81" name=""/>
          <p:cNvGrpSpPr/>
          <p:nvPr/>
        </p:nvGrpSpPr>
        <p:grpSpPr>
          <a:xfrm>
            <a:off x="1000080" y="3032280"/>
            <a:ext cx="4238640" cy="0"/>
            <a:chOff x="1000080" y="3032280"/>
            <a:chExt cx="4238640" cy="0"/>
          </a:xfrm>
        </p:grpSpPr>
        <p:sp>
          <p:nvSpPr>
            <p:cNvPr id="3382" name=""/>
            <p:cNvSpPr/>
            <p:nvPr/>
          </p:nvSpPr>
          <p:spPr>
            <a:xfrm>
              <a:off x="1000080" y="3032280"/>
              <a:ext cx="2254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3" name=""/>
            <p:cNvSpPr/>
            <p:nvPr/>
          </p:nvSpPr>
          <p:spPr>
            <a:xfrm>
              <a:off x="3349800" y="3032280"/>
              <a:ext cx="11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4" name=""/>
            <p:cNvSpPr/>
            <p:nvPr/>
          </p:nvSpPr>
          <p:spPr>
            <a:xfrm>
              <a:off x="3587760" y="3032280"/>
              <a:ext cx="1650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85" name=""/>
          <p:cNvGrpSpPr/>
          <p:nvPr/>
        </p:nvGrpSpPr>
        <p:grpSpPr>
          <a:xfrm>
            <a:off x="3413160" y="571680"/>
            <a:ext cx="0" cy="4206600"/>
            <a:chOff x="3413160" y="571680"/>
            <a:chExt cx="0" cy="4206600"/>
          </a:xfrm>
        </p:grpSpPr>
        <p:sp>
          <p:nvSpPr>
            <p:cNvPr id="3386" name=""/>
            <p:cNvSpPr/>
            <p:nvPr/>
          </p:nvSpPr>
          <p:spPr>
            <a:xfrm>
              <a:off x="3413160" y="571680"/>
              <a:ext cx="0" cy="23176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7" name=""/>
            <p:cNvSpPr/>
            <p:nvPr/>
          </p:nvSpPr>
          <p:spPr>
            <a:xfrm>
              <a:off x="3413160" y="298440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388" name=""/>
            <p:cNvSpPr/>
            <p:nvPr/>
          </p:nvSpPr>
          <p:spPr>
            <a:xfrm>
              <a:off x="3413160" y="3174840"/>
              <a:ext cx="0" cy="16034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89" name=""/>
          <p:cNvGrpSpPr/>
          <p:nvPr/>
        </p:nvGrpSpPr>
        <p:grpSpPr>
          <a:xfrm>
            <a:off x="6302520" y="3016080"/>
            <a:ext cx="952200" cy="0"/>
            <a:chOff x="6302520" y="3016080"/>
            <a:chExt cx="952200" cy="0"/>
          </a:xfrm>
        </p:grpSpPr>
        <p:sp>
          <p:nvSpPr>
            <p:cNvPr id="3390" name=""/>
            <p:cNvSpPr/>
            <p:nvPr/>
          </p:nvSpPr>
          <p:spPr>
            <a:xfrm>
              <a:off x="6302520" y="30160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1" name=""/>
            <p:cNvSpPr/>
            <p:nvPr/>
          </p:nvSpPr>
          <p:spPr>
            <a:xfrm>
              <a:off x="6778800" y="301608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2" name=""/>
            <p:cNvSpPr/>
            <p:nvPr/>
          </p:nvSpPr>
          <p:spPr>
            <a:xfrm>
              <a:off x="6937200" y="30160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93" name=""/>
          <p:cNvGrpSpPr/>
          <p:nvPr/>
        </p:nvGrpSpPr>
        <p:grpSpPr>
          <a:xfrm>
            <a:off x="6296040" y="1946160"/>
            <a:ext cx="952560" cy="0"/>
            <a:chOff x="6296040" y="1946160"/>
            <a:chExt cx="952560" cy="0"/>
          </a:xfrm>
        </p:grpSpPr>
        <p:sp>
          <p:nvSpPr>
            <p:cNvPr id="3394" name=""/>
            <p:cNvSpPr/>
            <p:nvPr/>
          </p:nvSpPr>
          <p:spPr>
            <a:xfrm>
              <a:off x="6296040" y="194616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5" name=""/>
            <p:cNvSpPr/>
            <p:nvPr/>
          </p:nvSpPr>
          <p:spPr>
            <a:xfrm>
              <a:off x="6772320" y="1946160"/>
              <a:ext cx="79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6" name=""/>
            <p:cNvSpPr/>
            <p:nvPr/>
          </p:nvSpPr>
          <p:spPr>
            <a:xfrm>
              <a:off x="6931080" y="194616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97" name=""/>
          <p:cNvGrpSpPr/>
          <p:nvPr/>
        </p:nvGrpSpPr>
        <p:grpSpPr>
          <a:xfrm>
            <a:off x="6321600" y="4146480"/>
            <a:ext cx="952200" cy="0"/>
            <a:chOff x="6321600" y="4146480"/>
            <a:chExt cx="952200" cy="0"/>
          </a:xfrm>
        </p:grpSpPr>
        <p:sp>
          <p:nvSpPr>
            <p:cNvPr id="3398" name=""/>
            <p:cNvSpPr/>
            <p:nvPr/>
          </p:nvSpPr>
          <p:spPr>
            <a:xfrm>
              <a:off x="6321600" y="4146480"/>
              <a:ext cx="380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9" name=""/>
            <p:cNvSpPr/>
            <p:nvPr/>
          </p:nvSpPr>
          <p:spPr>
            <a:xfrm>
              <a:off x="6797520" y="4146480"/>
              <a:ext cx="79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0" name=""/>
            <p:cNvSpPr/>
            <p:nvPr/>
          </p:nvSpPr>
          <p:spPr>
            <a:xfrm>
              <a:off x="6956280" y="4146480"/>
              <a:ext cx="317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01" name=""/>
          <p:cNvSpPr/>
          <p:nvPr/>
        </p:nvSpPr>
        <p:spPr>
          <a:xfrm>
            <a:off x="3251160" y="1774800"/>
            <a:ext cx="317520" cy="3175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2" name=""/>
          <p:cNvSpPr/>
          <p:nvPr/>
        </p:nvSpPr>
        <p:spPr>
          <a:xfrm flipH="1">
            <a:off x="3508200" y="192096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3" name=""/>
          <p:cNvSpPr/>
          <p:nvPr/>
        </p:nvSpPr>
        <p:spPr>
          <a:xfrm flipH="1">
            <a:off x="3381480" y="192096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4" name=""/>
          <p:cNvSpPr/>
          <p:nvPr/>
        </p:nvSpPr>
        <p:spPr>
          <a:xfrm flipH="1">
            <a:off x="984240" y="1920960"/>
            <a:ext cx="23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05" name=""/>
          <p:cNvGrpSpPr/>
          <p:nvPr/>
        </p:nvGrpSpPr>
        <p:grpSpPr>
          <a:xfrm>
            <a:off x="961920" y="4137120"/>
            <a:ext cx="2667240" cy="0"/>
            <a:chOff x="961920" y="4137120"/>
            <a:chExt cx="2667240" cy="0"/>
          </a:xfrm>
        </p:grpSpPr>
        <p:sp>
          <p:nvSpPr>
            <p:cNvPr id="3406" name=""/>
            <p:cNvSpPr/>
            <p:nvPr/>
          </p:nvSpPr>
          <p:spPr>
            <a:xfrm flipH="1">
              <a:off x="3502080" y="413712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7" name=""/>
            <p:cNvSpPr/>
            <p:nvPr/>
          </p:nvSpPr>
          <p:spPr>
            <a:xfrm flipH="1">
              <a:off x="3375000" y="4137120"/>
              <a:ext cx="63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8" name=""/>
            <p:cNvSpPr/>
            <p:nvPr/>
          </p:nvSpPr>
          <p:spPr>
            <a:xfrm flipH="1">
              <a:off x="961920" y="4137120"/>
              <a:ext cx="231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09" name=""/>
          <p:cNvGrpSpPr/>
          <p:nvPr/>
        </p:nvGrpSpPr>
        <p:grpSpPr>
          <a:xfrm>
            <a:off x="2305080" y="590400"/>
            <a:ext cx="0" cy="2667240"/>
            <a:chOff x="2305080" y="590400"/>
            <a:chExt cx="0" cy="2667240"/>
          </a:xfrm>
        </p:grpSpPr>
        <p:sp>
          <p:nvSpPr>
            <p:cNvPr id="3410" name=""/>
            <p:cNvSpPr/>
            <p:nvPr/>
          </p:nvSpPr>
          <p:spPr>
            <a:xfrm flipV="1">
              <a:off x="2305080" y="313056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1" name=""/>
            <p:cNvSpPr/>
            <p:nvPr/>
          </p:nvSpPr>
          <p:spPr>
            <a:xfrm flipV="1">
              <a:off x="2305080" y="3003480"/>
              <a:ext cx="0" cy="63720"/>
            </a:xfrm>
            <a:prstGeom prst="line">
              <a:avLst/>
            </a:prstGeom>
            <a:ln w="12600">
              <a:solidFill>
                <a:srgbClr val="ffffff"/>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3412" name=""/>
            <p:cNvSpPr/>
            <p:nvPr/>
          </p:nvSpPr>
          <p:spPr>
            <a:xfrm flipV="1">
              <a:off x="2305080" y="590400"/>
              <a:ext cx="0" cy="2318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13" name=""/>
          <p:cNvGrpSpPr/>
          <p:nvPr/>
        </p:nvGrpSpPr>
        <p:grpSpPr>
          <a:xfrm>
            <a:off x="4473720" y="584280"/>
            <a:ext cx="0" cy="2666880"/>
            <a:chOff x="4473720" y="584280"/>
            <a:chExt cx="0" cy="2666880"/>
          </a:xfrm>
        </p:grpSpPr>
        <p:sp>
          <p:nvSpPr>
            <p:cNvPr id="3414" name=""/>
            <p:cNvSpPr/>
            <p:nvPr/>
          </p:nvSpPr>
          <p:spPr>
            <a:xfrm flipV="1">
              <a:off x="4473720" y="3124080"/>
              <a:ext cx="0" cy="127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5" name=""/>
            <p:cNvSpPr/>
            <p:nvPr/>
          </p:nvSpPr>
          <p:spPr>
            <a:xfrm flipV="1">
              <a:off x="4473720" y="2997360"/>
              <a:ext cx="0" cy="63360"/>
            </a:xfrm>
            <a:prstGeom prst="line">
              <a:avLst/>
            </a:prstGeom>
            <a:ln w="12600">
              <a:solidFill>
                <a:srgbClr val="ffffff"/>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3416" name=""/>
            <p:cNvSpPr/>
            <p:nvPr/>
          </p:nvSpPr>
          <p:spPr>
            <a:xfrm flipV="1">
              <a:off x="4473720" y="584280"/>
              <a:ext cx="0" cy="231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17" name=""/>
          <p:cNvSpPr/>
          <p:nvPr/>
        </p:nvSpPr>
        <p:spPr>
          <a:xfrm>
            <a:off x="2330280" y="1952640"/>
            <a:ext cx="2175120" cy="217476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8" name=""/>
          <p:cNvSpPr/>
          <p:nvPr/>
        </p:nvSpPr>
        <p:spPr>
          <a:xfrm>
            <a:off x="4492800" y="4127400"/>
            <a:ext cx="428400" cy="4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9" name=""/>
          <p:cNvSpPr/>
          <p:nvPr/>
        </p:nvSpPr>
        <p:spPr>
          <a:xfrm>
            <a:off x="4924440" y="4556160"/>
            <a:ext cx="174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0" name=""/>
          <p:cNvSpPr/>
          <p:nvPr/>
        </p:nvSpPr>
        <p:spPr>
          <a:xfrm flipH="1">
            <a:off x="2778120" y="4286160"/>
            <a:ext cx="555480" cy="1158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1" name=""/>
          <p:cNvSpPr/>
          <p:nvPr/>
        </p:nvSpPr>
        <p:spPr>
          <a:xfrm>
            <a:off x="2971800" y="5265720"/>
            <a:ext cx="31104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22" name=""/>
          <p:cNvSpPr txBox="1"/>
          <p:nvPr/>
        </p:nvSpPr>
        <p:spPr>
          <a:xfrm>
            <a:off x="3036960" y="5310360"/>
            <a:ext cx="14144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4X      8.4 - 8.6</a:t>
            </a:r>
            <a:endParaRPr b="0" lang="en-US" sz="1600" spc="-1" strike="noStrike">
              <a:solidFill>
                <a:srgbClr val="000000"/>
              </a:solidFill>
              <a:latin typeface="Arial"/>
            </a:endParaRPr>
          </a:p>
        </p:txBody>
      </p:sp>
      <p:grpSp>
        <p:nvGrpSpPr>
          <p:cNvPr id="3423" name=""/>
          <p:cNvGrpSpPr/>
          <p:nvPr/>
        </p:nvGrpSpPr>
        <p:grpSpPr>
          <a:xfrm>
            <a:off x="3460680" y="5413320"/>
            <a:ext cx="142920" cy="142920"/>
            <a:chOff x="3460680" y="5413320"/>
            <a:chExt cx="142920" cy="142920"/>
          </a:xfrm>
        </p:grpSpPr>
        <p:sp>
          <p:nvSpPr>
            <p:cNvPr id="3424" name=""/>
            <p:cNvSpPr/>
            <p:nvPr/>
          </p:nvSpPr>
          <p:spPr>
            <a:xfrm>
              <a:off x="3476520" y="5429160"/>
              <a:ext cx="111240" cy="111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5" name=""/>
            <p:cNvSpPr/>
            <p:nvPr/>
          </p:nvSpPr>
          <p:spPr>
            <a:xfrm flipH="1">
              <a:off x="3460680" y="5413320"/>
              <a:ext cx="142920" cy="142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26" name=""/>
          <p:cNvSpPr/>
          <p:nvPr/>
        </p:nvSpPr>
        <p:spPr>
          <a:xfrm>
            <a:off x="2301840" y="714240"/>
            <a:ext cx="111132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7" name=""/>
          <p:cNvSpPr/>
          <p:nvPr/>
        </p:nvSpPr>
        <p:spPr>
          <a:xfrm>
            <a:off x="3413160" y="714240"/>
            <a:ext cx="10634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8" name=""/>
          <p:cNvSpPr/>
          <p:nvPr/>
        </p:nvSpPr>
        <p:spPr>
          <a:xfrm>
            <a:off x="4479840" y="7142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9" name=""/>
          <p:cNvSpPr/>
          <p:nvPr/>
        </p:nvSpPr>
        <p:spPr>
          <a:xfrm flipH="1">
            <a:off x="2127240" y="7142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0" name=""/>
          <p:cNvSpPr/>
          <p:nvPr/>
        </p:nvSpPr>
        <p:spPr>
          <a:xfrm>
            <a:off x="4648320" y="581040"/>
            <a:ext cx="479520" cy="270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1" name=""/>
          <p:cNvSpPr/>
          <p:nvPr/>
        </p:nvSpPr>
        <p:spPr>
          <a:xfrm>
            <a:off x="1635120" y="571680"/>
            <a:ext cx="49212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2" name=""/>
          <p:cNvSpPr txBox="1"/>
          <p:nvPr/>
        </p:nvSpPr>
        <p:spPr>
          <a:xfrm>
            <a:off x="1674720" y="55872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433" name=""/>
          <p:cNvSpPr txBox="1"/>
          <p:nvPr/>
        </p:nvSpPr>
        <p:spPr>
          <a:xfrm>
            <a:off x="4664160" y="5652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434" name=""/>
          <p:cNvSpPr/>
          <p:nvPr/>
        </p:nvSpPr>
        <p:spPr>
          <a:xfrm>
            <a:off x="1111320" y="1447920"/>
            <a:ext cx="0" cy="463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5" name=""/>
          <p:cNvSpPr/>
          <p:nvPr/>
        </p:nvSpPr>
        <p:spPr>
          <a:xfrm>
            <a:off x="1111320" y="1917720"/>
            <a:ext cx="0" cy="1104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6" name=""/>
          <p:cNvSpPr/>
          <p:nvPr/>
        </p:nvSpPr>
        <p:spPr>
          <a:xfrm>
            <a:off x="1111320" y="3029040"/>
            <a:ext cx="0" cy="110484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7" name=""/>
          <p:cNvSpPr/>
          <p:nvPr/>
        </p:nvSpPr>
        <p:spPr>
          <a:xfrm>
            <a:off x="1111320" y="4140360"/>
            <a:ext cx="0" cy="431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8" name=""/>
          <p:cNvSpPr/>
          <p:nvPr/>
        </p:nvSpPr>
        <p:spPr>
          <a:xfrm flipH="1">
            <a:off x="952560" y="14479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9" name=""/>
          <p:cNvSpPr/>
          <p:nvPr/>
        </p:nvSpPr>
        <p:spPr>
          <a:xfrm>
            <a:off x="457200" y="1327320"/>
            <a:ext cx="488880" cy="26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flipH="1">
            <a:off x="984240" y="4572000"/>
            <a:ext cx="127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1" name=""/>
          <p:cNvSpPr/>
          <p:nvPr/>
        </p:nvSpPr>
        <p:spPr>
          <a:xfrm>
            <a:off x="520560" y="4444920"/>
            <a:ext cx="457200" cy="2412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2" name=""/>
          <p:cNvSpPr txBox="1"/>
          <p:nvPr/>
        </p:nvSpPr>
        <p:spPr>
          <a:xfrm>
            <a:off x="576360" y="440532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443" name=""/>
          <p:cNvSpPr txBox="1"/>
          <p:nvPr/>
        </p:nvSpPr>
        <p:spPr>
          <a:xfrm>
            <a:off x="531720" y="129528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20</a:t>
            </a:r>
            <a:endParaRPr b="0" lang="en-US" sz="1600" spc="-1" strike="noStrike">
              <a:solidFill>
                <a:srgbClr val="000000"/>
              </a:solidFill>
              <a:latin typeface="Arial"/>
            </a:endParaRPr>
          </a:p>
        </p:txBody>
      </p:sp>
      <p:sp>
        <p:nvSpPr>
          <p:cNvPr id="3444" name=""/>
          <p:cNvSpPr txBox="1"/>
          <p:nvPr/>
        </p:nvSpPr>
        <p:spPr>
          <a:xfrm>
            <a:off x="5369040" y="4253040"/>
            <a:ext cx="539640" cy="58104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65.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65.4</a:t>
            </a:r>
            <a:endParaRPr b="0" lang="en-US" sz="1600" spc="-1" strike="noStrike">
              <a:solidFill>
                <a:srgbClr val="000000"/>
              </a:solidFill>
              <a:latin typeface="Arial"/>
            </a:endParaRPr>
          </a:p>
        </p:txBody>
      </p:sp>
      <p:grpSp>
        <p:nvGrpSpPr>
          <p:cNvPr id="3445" name=""/>
          <p:cNvGrpSpPr/>
          <p:nvPr/>
        </p:nvGrpSpPr>
        <p:grpSpPr>
          <a:xfrm>
            <a:off x="5207040" y="4457880"/>
            <a:ext cx="177840" cy="177480"/>
            <a:chOff x="5207040" y="4457880"/>
            <a:chExt cx="177840" cy="177480"/>
          </a:xfrm>
        </p:grpSpPr>
        <p:sp>
          <p:nvSpPr>
            <p:cNvPr id="3446" name=""/>
            <p:cNvSpPr/>
            <p:nvPr/>
          </p:nvSpPr>
          <p:spPr>
            <a:xfrm>
              <a:off x="5219640" y="448308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7" name=""/>
            <p:cNvSpPr/>
            <p:nvPr/>
          </p:nvSpPr>
          <p:spPr>
            <a:xfrm flipH="1">
              <a:off x="5207040" y="445788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48" name=""/>
          <p:cNvSpPr/>
          <p:nvPr/>
        </p:nvSpPr>
        <p:spPr>
          <a:xfrm flipV="1">
            <a:off x="7099200" y="609480"/>
            <a:ext cx="0" cy="78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49" name=""/>
          <p:cNvGrpSpPr/>
          <p:nvPr/>
        </p:nvGrpSpPr>
        <p:grpSpPr>
          <a:xfrm>
            <a:off x="6346800" y="584280"/>
            <a:ext cx="753120" cy="336600"/>
            <a:chOff x="6346800" y="584280"/>
            <a:chExt cx="753120" cy="336600"/>
          </a:xfrm>
        </p:grpSpPr>
        <p:sp>
          <p:nvSpPr>
            <p:cNvPr id="3450" name=""/>
            <p:cNvSpPr/>
            <p:nvPr/>
          </p:nvSpPr>
          <p:spPr>
            <a:xfrm>
              <a:off x="6362640" y="596880"/>
              <a:ext cx="30492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1" name=""/>
            <p:cNvSpPr/>
            <p:nvPr/>
          </p:nvSpPr>
          <p:spPr>
            <a:xfrm>
              <a:off x="6667560" y="749160"/>
              <a:ext cx="279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2" name=""/>
            <p:cNvSpPr/>
            <p:nvPr/>
          </p:nvSpPr>
          <p:spPr>
            <a:xfrm>
              <a:off x="6934320" y="666720"/>
              <a:ext cx="165600" cy="165600"/>
            </a:xfrm>
            <a:custGeom>
              <a:avLst/>
              <a:gdLst/>
              <a:ahLst/>
              <a:rect l="0" t="0" r="r" b="b"/>
              <a:pathLst>
                <a:path fill="none" w="460" h="460">
                  <a:moveTo>
                    <a:pt x="460" y="460"/>
                  </a:moveTo>
                  <a:lnTo>
                    <a:pt x="460" y="0"/>
                  </a:lnTo>
                  <a:lnTo>
                    <a:pt x="0" y="230"/>
                  </a:lnTo>
                  <a:lnTo>
                    <a:pt x="460" y="4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3" name=""/>
            <p:cNvSpPr txBox="1"/>
            <p:nvPr/>
          </p:nvSpPr>
          <p:spPr>
            <a:xfrm>
              <a:off x="6346800" y="58428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grpSp>
      <p:grpSp>
        <p:nvGrpSpPr>
          <p:cNvPr id="3454" name=""/>
          <p:cNvGrpSpPr/>
          <p:nvPr/>
        </p:nvGrpSpPr>
        <p:grpSpPr>
          <a:xfrm>
            <a:off x="2778120" y="5445000"/>
            <a:ext cx="2857680" cy="560520"/>
            <a:chOff x="2778120" y="5445000"/>
            <a:chExt cx="2857680" cy="560520"/>
          </a:xfrm>
        </p:grpSpPr>
        <p:sp>
          <p:nvSpPr>
            <p:cNvPr id="3455" name=""/>
            <p:cNvSpPr/>
            <p:nvPr/>
          </p:nvSpPr>
          <p:spPr>
            <a:xfrm>
              <a:off x="2778120" y="5445000"/>
              <a:ext cx="2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6" name=""/>
            <p:cNvSpPr/>
            <p:nvPr/>
          </p:nvSpPr>
          <p:spPr>
            <a:xfrm>
              <a:off x="3048120" y="5683320"/>
              <a:ext cx="258768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7" name=""/>
            <p:cNvSpPr/>
            <p:nvPr/>
          </p:nvSpPr>
          <p:spPr>
            <a:xfrm>
              <a:off x="3448080" y="568944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a:off x="4584600" y="5689440"/>
              <a:ext cx="0" cy="292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a:off x="4940280" y="5689440"/>
              <a:ext cx="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60" name=""/>
            <p:cNvGrpSpPr/>
            <p:nvPr/>
          </p:nvGrpSpPr>
          <p:grpSpPr>
            <a:xfrm>
              <a:off x="3124080" y="5715000"/>
              <a:ext cx="247680" cy="247680"/>
              <a:chOff x="3124080" y="5715000"/>
              <a:chExt cx="247680" cy="247680"/>
            </a:xfrm>
          </p:grpSpPr>
          <p:sp>
            <p:nvSpPr>
              <p:cNvPr id="3461" name=""/>
              <p:cNvSpPr/>
              <p:nvPr/>
            </p:nvSpPr>
            <p:spPr>
              <a:xfrm>
                <a:off x="3162240" y="575316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2" name=""/>
              <p:cNvSpPr/>
              <p:nvPr/>
            </p:nvSpPr>
            <p:spPr>
              <a:xfrm>
                <a:off x="3251160" y="571500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3" name=""/>
              <p:cNvSpPr/>
              <p:nvPr/>
            </p:nvSpPr>
            <p:spPr>
              <a:xfrm>
                <a:off x="3124080" y="584208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64" name=""/>
            <p:cNvGrpSpPr/>
            <p:nvPr/>
          </p:nvGrpSpPr>
          <p:grpSpPr>
            <a:xfrm>
              <a:off x="3524400" y="5740560"/>
              <a:ext cx="190440" cy="190440"/>
              <a:chOff x="3524400" y="5740560"/>
              <a:chExt cx="190440" cy="190440"/>
            </a:xfrm>
          </p:grpSpPr>
          <p:sp>
            <p:nvSpPr>
              <p:cNvPr id="3465" name=""/>
              <p:cNvSpPr/>
              <p:nvPr/>
            </p:nvSpPr>
            <p:spPr>
              <a:xfrm>
                <a:off x="3549600" y="576576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6" name=""/>
              <p:cNvSpPr/>
              <p:nvPr/>
            </p:nvSpPr>
            <p:spPr>
              <a:xfrm flipH="1">
                <a:off x="3524400" y="5740560"/>
                <a:ext cx="1904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67" name=""/>
            <p:cNvSpPr txBox="1"/>
            <p:nvPr/>
          </p:nvSpPr>
          <p:spPr>
            <a:xfrm>
              <a:off x="3738600" y="5668920"/>
              <a:ext cx="77148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468" name=""/>
            <p:cNvSpPr/>
            <p:nvPr/>
          </p:nvSpPr>
          <p:spPr>
            <a:xfrm>
              <a:off x="4216320" y="571500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9" name=""/>
            <p:cNvSpPr txBox="1"/>
            <p:nvPr/>
          </p:nvSpPr>
          <p:spPr>
            <a:xfrm>
              <a:off x="4626000" y="5662440"/>
              <a:ext cx="3189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470" name=""/>
            <p:cNvSpPr txBox="1"/>
            <p:nvPr/>
          </p:nvSpPr>
          <p:spPr>
            <a:xfrm>
              <a:off x="4968720" y="565632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3471" name=""/>
            <p:cNvSpPr/>
            <p:nvPr/>
          </p:nvSpPr>
          <p:spPr>
            <a:xfrm>
              <a:off x="5295960" y="571500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72" name=""/>
            <p:cNvSpPr txBox="1"/>
            <p:nvPr/>
          </p:nvSpPr>
          <p:spPr>
            <a:xfrm>
              <a:off x="5222880" y="56689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3473" name=""/>
          <p:cNvSpPr/>
          <p:nvPr/>
        </p:nvSpPr>
        <p:spPr>
          <a:xfrm>
            <a:off x="3392640" y="3013200"/>
            <a:ext cx="36360" cy="36360"/>
          </a:xfrm>
          <a:prstGeom prst="ellipse">
            <a:avLst/>
          </a:prstGeom>
          <a:solidFill>
            <a:srgbClr val="ffffff"/>
          </a:solidFill>
          <a:ln w="12600">
            <a:solidFill>
              <a:srgbClr val="ffffff"/>
            </a:solidFill>
            <a:round/>
          </a:ln>
        </p:spPr>
        <p:txBody>
          <a:bodyPr lIns="96120" rIns="96120" tIns="-14760" bIns="-14760" anchor="t">
            <a:noAutofit/>
          </a:bodyPr>
          <a:p>
            <a:endParaRPr b="0" lang="en-US" sz="1800" spc="-1" strike="noStrike">
              <a:solidFill>
                <a:srgbClr val="000000"/>
              </a:solidFill>
              <a:latin typeface="Arial"/>
            </a:endParaRPr>
          </a:p>
        </p:txBody>
      </p:sp>
      <p:sp>
        <p:nvSpPr>
          <p:cNvPr id="3474" name=""/>
          <p:cNvSpPr/>
          <p:nvPr/>
        </p:nvSpPr>
        <p:spPr>
          <a:xfrm>
            <a:off x="3073320" y="2703600"/>
            <a:ext cx="665280" cy="665280"/>
          </a:xfrm>
          <a:prstGeom prst="ellipse">
            <a:avLst/>
          </a:prstGeom>
          <a:noFill/>
          <a:ln w="38160">
            <a:solidFill>
              <a:srgbClr val="fc0128"/>
            </a:solidFill>
            <a:round/>
          </a:ln>
        </p:spPr>
        <p:txBody>
          <a:bodyPr lIns="109080" rIns="109080" tIns="64080" bIns="64080" anchor="t">
            <a:noAutofit/>
          </a:bodyPr>
          <a:p>
            <a:endParaRPr b="0" lang="en-US" sz="1800" spc="-1" strike="noStrike">
              <a:solidFill>
                <a:srgbClr val="000000"/>
              </a:solidFill>
              <a:latin typeface="Arial"/>
            </a:endParaRPr>
          </a:p>
        </p:txBody>
      </p:sp>
      <p:grpSp>
        <p:nvGrpSpPr>
          <p:cNvPr id="3475" name=""/>
          <p:cNvGrpSpPr/>
          <p:nvPr/>
        </p:nvGrpSpPr>
        <p:grpSpPr>
          <a:xfrm>
            <a:off x="4537080" y="1562040"/>
            <a:ext cx="869760" cy="495720"/>
            <a:chOff x="4537080" y="1562040"/>
            <a:chExt cx="869760" cy="495720"/>
          </a:xfrm>
        </p:grpSpPr>
        <p:sp>
          <p:nvSpPr>
            <p:cNvPr id="3476" name=""/>
            <p:cNvSpPr/>
            <p:nvPr/>
          </p:nvSpPr>
          <p:spPr>
            <a:xfrm>
              <a:off x="5079960" y="1574640"/>
              <a:ext cx="30492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77" name=""/>
            <p:cNvSpPr/>
            <p:nvPr/>
          </p:nvSpPr>
          <p:spPr>
            <a:xfrm flipH="1">
              <a:off x="4673520" y="1733400"/>
              <a:ext cx="196920" cy="196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8" name=""/>
            <p:cNvSpPr/>
            <p:nvPr/>
          </p:nvSpPr>
          <p:spPr>
            <a:xfrm>
              <a:off x="4537080" y="1892160"/>
              <a:ext cx="165600" cy="165600"/>
            </a:xfrm>
            <a:custGeom>
              <a:avLst/>
              <a:gdLst/>
              <a:ahLst/>
              <a:rect l="0" t="0" r="r" b="b"/>
              <a:pathLst>
                <a:path w="460" h="460">
                  <a:moveTo>
                    <a:pt x="0" y="460"/>
                  </a:moveTo>
                  <a:lnTo>
                    <a:pt x="460" y="460"/>
                  </a:lnTo>
                  <a:lnTo>
                    <a:pt x="230" y="0"/>
                  </a:lnTo>
                  <a:lnTo>
                    <a:pt x="0" y="46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79" name=""/>
            <p:cNvSpPr/>
            <p:nvPr/>
          </p:nvSpPr>
          <p:spPr>
            <a:xfrm>
              <a:off x="4876920" y="1727280"/>
              <a:ext cx="203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0" name=""/>
            <p:cNvSpPr txBox="1"/>
            <p:nvPr/>
          </p:nvSpPr>
          <p:spPr>
            <a:xfrm>
              <a:off x="5076720" y="156204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8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2" name=""/>
          <p:cNvSpPr txBox="1"/>
          <p:nvPr/>
        </p:nvSpPr>
        <p:spPr>
          <a:xfrm>
            <a:off x="685800" y="14270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features’ location about the datum axis have no effect on the function of the part, the rotational orientation of the second and third planes of the datum reference frame is not specified.  </a:t>
            </a:r>
            <a:endParaRPr b="0" lang="en-US" sz="2800" spc="-1" strike="noStrike">
              <a:solidFill>
                <a:srgbClr val="000000"/>
              </a:solidFill>
              <a:latin typeface="Arial"/>
            </a:endParaRPr>
          </a:p>
        </p:txBody>
      </p:sp>
      <p:sp>
        <p:nvSpPr>
          <p:cNvPr id="3483" name=""/>
          <p:cNvSpPr txBox="1"/>
          <p:nvPr/>
        </p:nvSpPr>
        <p:spPr>
          <a:xfrm>
            <a:off x="1816200" y="447840"/>
            <a:ext cx="5262480" cy="6415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Cylindrical Datum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8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485" name=""/>
          <p:cNvSpPr txBox="1"/>
          <p:nvPr/>
        </p:nvSpPr>
        <p:spPr>
          <a:xfrm>
            <a:off x="685800" y="14270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Where features’ location about the datum axis have no effect on the function of the part, the rotational orientation of the second and third planes of the datum reference frame is not specified.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In such cases, only two datum features are referenced in the feature control frame--primary and secondary.</a:t>
            </a:r>
            <a:endParaRPr b="0" lang="en-US" sz="2800" spc="-1" strike="noStrike">
              <a:solidFill>
                <a:srgbClr val="000000"/>
              </a:solidFill>
              <a:latin typeface="Arial"/>
            </a:endParaRPr>
          </a:p>
        </p:txBody>
      </p:sp>
      <p:grpSp>
        <p:nvGrpSpPr>
          <p:cNvPr id="3486" name=""/>
          <p:cNvGrpSpPr/>
          <p:nvPr/>
        </p:nvGrpSpPr>
        <p:grpSpPr>
          <a:xfrm>
            <a:off x="3228840" y="6064200"/>
            <a:ext cx="2587680" cy="349200"/>
            <a:chOff x="3228840" y="6064200"/>
            <a:chExt cx="2587680" cy="349200"/>
          </a:xfrm>
        </p:grpSpPr>
        <p:sp>
          <p:nvSpPr>
            <p:cNvPr id="3487" name=""/>
            <p:cNvSpPr/>
            <p:nvPr/>
          </p:nvSpPr>
          <p:spPr>
            <a:xfrm>
              <a:off x="3228840" y="6091200"/>
              <a:ext cx="258768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88" name=""/>
            <p:cNvSpPr/>
            <p:nvPr/>
          </p:nvSpPr>
          <p:spPr>
            <a:xfrm>
              <a:off x="362916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9" name=""/>
            <p:cNvSpPr/>
            <p:nvPr/>
          </p:nvSpPr>
          <p:spPr>
            <a:xfrm>
              <a:off x="476568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0" name=""/>
            <p:cNvSpPr/>
            <p:nvPr/>
          </p:nvSpPr>
          <p:spPr>
            <a:xfrm>
              <a:off x="5121360" y="6097680"/>
              <a:ext cx="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91" name=""/>
            <p:cNvGrpSpPr/>
            <p:nvPr/>
          </p:nvGrpSpPr>
          <p:grpSpPr>
            <a:xfrm>
              <a:off x="3305160" y="6122880"/>
              <a:ext cx="247680" cy="247680"/>
              <a:chOff x="3305160" y="6122880"/>
              <a:chExt cx="247680" cy="247680"/>
            </a:xfrm>
          </p:grpSpPr>
          <p:sp>
            <p:nvSpPr>
              <p:cNvPr id="3492" name=""/>
              <p:cNvSpPr/>
              <p:nvPr/>
            </p:nvSpPr>
            <p:spPr>
              <a:xfrm>
                <a:off x="3343320" y="616104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3" name=""/>
              <p:cNvSpPr/>
              <p:nvPr/>
            </p:nvSpPr>
            <p:spPr>
              <a:xfrm>
                <a:off x="3432240" y="61228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4" name=""/>
              <p:cNvSpPr/>
              <p:nvPr/>
            </p:nvSpPr>
            <p:spPr>
              <a:xfrm>
                <a:off x="3305160" y="624996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95" name=""/>
            <p:cNvGrpSpPr/>
            <p:nvPr/>
          </p:nvGrpSpPr>
          <p:grpSpPr>
            <a:xfrm>
              <a:off x="3705120" y="6148440"/>
              <a:ext cx="190440" cy="190440"/>
              <a:chOff x="3705120" y="6148440"/>
              <a:chExt cx="190440" cy="190440"/>
            </a:xfrm>
          </p:grpSpPr>
          <p:sp>
            <p:nvSpPr>
              <p:cNvPr id="3496" name=""/>
              <p:cNvSpPr/>
              <p:nvPr/>
            </p:nvSpPr>
            <p:spPr>
              <a:xfrm>
                <a:off x="3730680" y="61736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97" name=""/>
              <p:cNvSpPr/>
              <p:nvPr/>
            </p:nvSpPr>
            <p:spPr>
              <a:xfrm flipH="1">
                <a:off x="3705120" y="6148440"/>
                <a:ext cx="1904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98" name=""/>
            <p:cNvSpPr txBox="1"/>
            <p:nvPr/>
          </p:nvSpPr>
          <p:spPr>
            <a:xfrm>
              <a:off x="3917880" y="6076800"/>
              <a:ext cx="782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499" name=""/>
            <p:cNvSpPr/>
            <p:nvPr/>
          </p:nvSpPr>
          <p:spPr>
            <a:xfrm>
              <a:off x="439740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0" name=""/>
            <p:cNvSpPr txBox="1"/>
            <p:nvPr/>
          </p:nvSpPr>
          <p:spPr>
            <a:xfrm>
              <a:off x="4807080" y="607068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501" name=""/>
            <p:cNvSpPr txBox="1"/>
            <p:nvPr/>
          </p:nvSpPr>
          <p:spPr>
            <a:xfrm>
              <a:off x="5149800" y="6064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3502" name=""/>
            <p:cNvSpPr/>
            <p:nvPr/>
          </p:nvSpPr>
          <p:spPr>
            <a:xfrm>
              <a:off x="547704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3" name=""/>
            <p:cNvSpPr txBox="1"/>
            <p:nvPr/>
          </p:nvSpPr>
          <p:spPr>
            <a:xfrm>
              <a:off x="5403960" y="6076800"/>
              <a:ext cx="37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3504" name=""/>
          <p:cNvSpPr txBox="1"/>
          <p:nvPr/>
        </p:nvSpPr>
        <p:spPr>
          <a:xfrm>
            <a:off x="1816200" y="447840"/>
            <a:ext cx="5262480" cy="64152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Cylindrical Datum Featur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505" name=""/>
          <p:cNvGrpSpPr/>
          <p:nvPr/>
        </p:nvGrpSpPr>
        <p:grpSpPr>
          <a:xfrm>
            <a:off x="1308240" y="447840"/>
            <a:ext cx="6673680" cy="6257880"/>
            <a:chOff x="1308240" y="447840"/>
            <a:chExt cx="6673680" cy="6257880"/>
          </a:xfrm>
        </p:grpSpPr>
        <p:sp>
          <p:nvSpPr>
            <p:cNvPr id="350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07" name=""/>
            <p:cNvSpPr/>
            <p:nvPr/>
          </p:nvSpPr>
          <p:spPr>
            <a:xfrm>
              <a:off x="2841480" y="3168720"/>
              <a:ext cx="3286080" cy="166680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8" name=""/>
            <p:cNvSpPr/>
            <p:nvPr/>
          </p:nvSpPr>
          <p:spPr>
            <a:xfrm>
              <a:off x="2841480" y="2809800"/>
              <a:ext cx="3286080" cy="166680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9" name=""/>
            <p:cNvSpPr/>
            <p:nvPr/>
          </p:nvSpPr>
          <p:spPr>
            <a:xfrm>
              <a:off x="2841480" y="36511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0" name=""/>
            <p:cNvSpPr/>
            <p:nvPr/>
          </p:nvSpPr>
          <p:spPr>
            <a:xfrm>
              <a:off x="6124680" y="366696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1" name=""/>
            <p:cNvSpPr/>
            <p:nvPr/>
          </p:nvSpPr>
          <p:spPr>
            <a:xfrm>
              <a:off x="2841480" y="3651120"/>
              <a:ext cx="38520" cy="330480"/>
            </a:xfrm>
            <a:custGeom>
              <a:avLst/>
              <a:gdLst/>
              <a:ahLst/>
              <a:rect l="0" t="0" r="r" b="b"/>
              <a:pathLst>
                <a:path w="107" h="918">
                  <a:moveTo>
                    <a:pt x="0" y="0"/>
                  </a:moveTo>
                  <a:lnTo>
                    <a:pt x="0" y="26"/>
                  </a:lnTo>
                  <a:lnTo>
                    <a:pt x="8" y="52"/>
                  </a:lnTo>
                  <a:lnTo>
                    <a:pt x="8" y="79"/>
                  </a:lnTo>
                  <a:lnTo>
                    <a:pt x="8" y="105"/>
                  </a:lnTo>
                  <a:lnTo>
                    <a:pt x="8" y="132"/>
                  </a:lnTo>
                  <a:lnTo>
                    <a:pt x="8" y="158"/>
                  </a:lnTo>
                  <a:lnTo>
                    <a:pt x="8" y="185"/>
                  </a:lnTo>
                  <a:lnTo>
                    <a:pt x="17" y="211"/>
                  </a:lnTo>
                  <a:lnTo>
                    <a:pt x="26" y="238"/>
                  </a:lnTo>
                  <a:lnTo>
                    <a:pt x="36" y="264"/>
                  </a:lnTo>
                  <a:lnTo>
                    <a:pt x="45" y="291"/>
                  </a:lnTo>
                  <a:lnTo>
                    <a:pt x="62" y="317"/>
                  </a:lnTo>
                  <a:lnTo>
                    <a:pt x="71" y="343"/>
                  </a:lnTo>
                  <a:lnTo>
                    <a:pt x="71" y="370"/>
                  </a:lnTo>
                  <a:lnTo>
                    <a:pt x="81" y="396"/>
                  </a:lnTo>
                  <a:lnTo>
                    <a:pt x="90" y="423"/>
                  </a:lnTo>
                  <a:lnTo>
                    <a:pt x="99" y="449"/>
                  </a:lnTo>
                  <a:lnTo>
                    <a:pt x="107" y="477"/>
                  </a:lnTo>
                  <a:lnTo>
                    <a:pt x="107" y="503"/>
                  </a:lnTo>
                  <a:lnTo>
                    <a:pt x="99" y="530"/>
                  </a:lnTo>
                  <a:lnTo>
                    <a:pt x="90" y="556"/>
                  </a:lnTo>
                  <a:lnTo>
                    <a:pt x="81" y="583"/>
                  </a:lnTo>
                  <a:lnTo>
                    <a:pt x="71" y="609"/>
                  </a:lnTo>
                  <a:lnTo>
                    <a:pt x="62" y="636"/>
                  </a:lnTo>
                  <a:lnTo>
                    <a:pt x="53" y="662"/>
                  </a:lnTo>
                  <a:lnTo>
                    <a:pt x="53" y="688"/>
                  </a:lnTo>
                  <a:lnTo>
                    <a:pt x="45" y="715"/>
                  </a:lnTo>
                  <a:lnTo>
                    <a:pt x="36" y="741"/>
                  </a:lnTo>
                  <a:lnTo>
                    <a:pt x="26" y="777"/>
                  </a:lnTo>
                  <a:lnTo>
                    <a:pt x="17" y="803"/>
                  </a:lnTo>
                  <a:lnTo>
                    <a:pt x="8" y="830"/>
                  </a:lnTo>
                  <a:lnTo>
                    <a:pt x="0" y="865"/>
                  </a:lnTo>
                  <a:lnTo>
                    <a:pt x="0" y="891"/>
                  </a:lnTo>
                  <a:lnTo>
                    <a:pt x="0" y="918"/>
                  </a:lnTo>
                  <a:lnTo>
                    <a:pt x="8" y="891"/>
                  </a:lnTo>
                  <a:lnTo>
                    <a:pt x="17" y="865"/>
                  </a:lnTo>
                  <a:lnTo>
                    <a:pt x="17" y="838"/>
                  </a:lnTo>
                  <a:lnTo>
                    <a:pt x="17" y="812"/>
                  </a:lnTo>
                  <a:lnTo>
                    <a:pt x="17" y="785"/>
                  </a:lnTo>
                  <a:lnTo>
                    <a:pt x="0" y="812"/>
                  </a:lnTo>
                  <a:lnTo>
                    <a:pt x="0" y="80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2" name=""/>
            <p:cNvSpPr/>
            <p:nvPr/>
          </p:nvSpPr>
          <p:spPr>
            <a:xfrm>
              <a:off x="2863800" y="3832200"/>
              <a:ext cx="34920" cy="155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13" name=""/>
            <p:cNvSpPr/>
            <p:nvPr/>
          </p:nvSpPr>
          <p:spPr>
            <a:xfrm>
              <a:off x="6089760" y="3740040"/>
              <a:ext cx="32040" cy="174960"/>
            </a:xfrm>
            <a:custGeom>
              <a:avLst/>
              <a:gdLst/>
              <a:ahLst/>
              <a:rect l="0" t="0" r="r" b="b"/>
              <a:pathLst>
                <a:path w="89" h="486">
                  <a:moveTo>
                    <a:pt x="89" y="0"/>
                  </a:moveTo>
                  <a:lnTo>
                    <a:pt x="89" y="486"/>
                  </a:lnTo>
                  <a:lnTo>
                    <a:pt x="89" y="477"/>
                  </a:lnTo>
                  <a:lnTo>
                    <a:pt x="71" y="450"/>
                  </a:lnTo>
                  <a:lnTo>
                    <a:pt x="62" y="424"/>
                  </a:lnTo>
                  <a:lnTo>
                    <a:pt x="53" y="397"/>
                  </a:lnTo>
                  <a:lnTo>
                    <a:pt x="45" y="371"/>
                  </a:lnTo>
                  <a:lnTo>
                    <a:pt x="35" y="344"/>
                  </a:lnTo>
                  <a:lnTo>
                    <a:pt x="26" y="318"/>
                  </a:lnTo>
                  <a:lnTo>
                    <a:pt x="17" y="292"/>
                  </a:lnTo>
                  <a:lnTo>
                    <a:pt x="0" y="265"/>
                  </a:lnTo>
                  <a:lnTo>
                    <a:pt x="8" y="238"/>
                  </a:lnTo>
                  <a:lnTo>
                    <a:pt x="26" y="211"/>
                  </a:lnTo>
                  <a:lnTo>
                    <a:pt x="26" y="185"/>
                  </a:lnTo>
                  <a:lnTo>
                    <a:pt x="35" y="158"/>
                  </a:lnTo>
                  <a:lnTo>
                    <a:pt x="45" y="132"/>
                  </a:lnTo>
                  <a:lnTo>
                    <a:pt x="53" y="105"/>
                  </a:lnTo>
                  <a:lnTo>
                    <a:pt x="62" y="79"/>
                  </a:lnTo>
                  <a:lnTo>
                    <a:pt x="71" y="52"/>
                  </a:lnTo>
                  <a:lnTo>
                    <a:pt x="80" y="26"/>
                  </a:lnTo>
                  <a:lnTo>
                    <a:pt x="89"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4" name=""/>
            <p:cNvSpPr/>
            <p:nvPr/>
          </p:nvSpPr>
          <p:spPr>
            <a:xfrm>
              <a:off x="6086520" y="3838680"/>
              <a:ext cx="284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15" name=""/>
            <p:cNvSpPr/>
            <p:nvPr/>
          </p:nvSpPr>
          <p:spPr>
            <a:xfrm>
              <a:off x="1676520" y="3778200"/>
              <a:ext cx="2816280" cy="188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6" name=""/>
            <p:cNvSpPr/>
            <p:nvPr/>
          </p:nvSpPr>
          <p:spPr>
            <a:xfrm flipV="1">
              <a:off x="4492800" y="3968640"/>
              <a:ext cx="2952720" cy="16988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7" name=""/>
            <p:cNvSpPr/>
            <p:nvPr/>
          </p:nvSpPr>
          <p:spPr>
            <a:xfrm flipH="1" flipV="1">
              <a:off x="4543560" y="2278080"/>
              <a:ext cx="2901960" cy="16858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8" name=""/>
            <p:cNvSpPr/>
            <p:nvPr/>
          </p:nvSpPr>
          <p:spPr>
            <a:xfrm flipV="1">
              <a:off x="1660680" y="2286000"/>
              <a:ext cx="2893680" cy="15019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9" name=""/>
            <p:cNvSpPr/>
            <p:nvPr/>
          </p:nvSpPr>
          <p:spPr>
            <a:xfrm>
              <a:off x="3460680" y="3921120"/>
              <a:ext cx="365040" cy="19044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0" name=""/>
            <p:cNvSpPr/>
            <p:nvPr/>
          </p:nvSpPr>
          <p:spPr>
            <a:xfrm>
              <a:off x="5105520" y="3114720"/>
              <a:ext cx="365040" cy="17136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1" name=""/>
            <p:cNvSpPr/>
            <p:nvPr/>
          </p:nvSpPr>
          <p:spPr>
            <a:xfrm>
              <a:off x="3606840" y="3102120"/>
              <a:ext cx="365040" cy="15228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2" name=""/>
            <p:cNvSpPr/>
            <p:nvPr/>
          </p:nvSpPr>
          <p:spPr>
            <a:xfrm>
              <a:off x="5124600" y="3914640"/>
              <a:ext cx="365040" cy="19692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23" name=""/>
            <p:cNvSpPr txBox="1"/>
            <p:nvPr/>
          </p:nvSpPr>
          <p:spPr>
            <a:xfrm>
              <a:off x="5638680" y="5494320"/>
              <a:ext cx="2343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imary Datum Plane</a:t>
              </a:r>
              <a:endParaRPr b="0" lang="en-US" sz="1800" spc="-1" strike="noStrike">
                <a:solidFill>
                  <a:srgbClr val="000000"/>
                </a:solidFill>
                <a:latin typeface="Arial"/>
              </a:endParaRPr>
            </a:p>
          </p:txBody>
        </p:sp>
        <p:sp>
          <p:nvSpPr>
            <p:cNvPr id="3524" name=""/>
            <p:cNvSpPr/>
            <p:nvPr/>
          </p:nvSpPr>
          <p:spPr>
            <a:xfrm flipH="1">
              <a:off x="5445000" y="569916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5" name=""/>
            <p:cNvSpPr/>
            <p:nvPr/>
          </p:nvSpPr>
          <p:spPr>
            <a:xfrm flipH="1" flipV="1">
              <a:off x="4572000" y="5127480"/>
              <a:ext cx="857160" cy="5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6" name=""/>
            <p:cNvSpPr/>
            <p:nvPr/>
          </p:nvSpPr>
          <p:spPr>
            <a:xfrm>
              <a:off x="4524480" y="506412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grpSp>
          <p:nvGrpSpPr>
            <p:cNvPr id="3527" name=""/>
            <p:cNvGrpSpPr/>
            <p:nvPr/>
          </p:nvGrpSpPr>
          <p:grpSpPr>
            <a:xfrm>
              <a:off x="3228840" y="6064200"/>
              <a:ext cx="2587680" cy="349200"/>
              <a:chOff x="3228840" y="6064200"/>
              <a:chExt cx="2587680" cy="349200"/>
            </a:xfrm>
          </p:grpSpPr>
          <p:sp>
            <p:nvSpPr>
              <p:cNvPr id="3528" name=""/>
              <p:cNvSpPr/>
              <p:nvPr/>
            </p:nvSpPr>
            <p:spPr>
              <a:xfrm>
                <a:off x="3228840" y="6091200"/>
                <a:ext cx="258768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9" name=""/>
              <p:cNvSpPr/>
              <p:nvPr/>
            </p:nvSpPr>
            <p:spPr>
              <a:xfrm>
                <a:off x="362916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0" name=""/>
              <p:cNvSpPr/>
              <p:nvPr/>
            </p:nvSpPr>
            <p:spPr>
              <a:xfrm>
                <a:off x="476568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1" name=""/>
              <p:cNvSpPr/>
              <p:nvPr/>
            </p:nvSpPr>
            <p:spPr>
              <a:xfrm>
                <a:off x="5121360" y="6097680"/>
                <a:ext cx="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32" name=""/>
              <p:cNvGrpSpPr/>
              <p:nvPr/>
            </p:nvGrpSpPr>
            <p:grpSpPr>
              <a:xfrm>
                <a:off x="3305160" y="6122880"/>
                <a:ext cx="247680" cy="247680"/>
                <a:chOff x="3305160" y="6122880"/>
                <a:chExt cx="247680" cy="247680"/>
              </a:xfrm>
            </p:grpSpPr>
            <p:sp>
              <p:nvSpPr>
                <p:cNvPr id="3533" name=""/>
                <p:cNvSpPr/>
                <p:nvPr/>
              </p:nvSpPr>
              <p:spPr>
                <a:xfrm>
                  <a:off x="3343320" y="616104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4" name=""/>
                <p:cNvSpPr/>
                <p:nvPr/>
              </p:nvSpPr>
              <p:spPr>
                <a:xfrm>
                  <a:off x="3432240" y="61228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5" name=""/>
                <p:cNvSpPr/>
                <p:nvPr/>
              </p:nvSpPr>
              <p:spPr>
                <a:xfrm>
                  <a:off x="3305160" y="624996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36" name=""/>
              <p:cNvGrpSpPr/>
              <p:nvPr/>
            </p:nvGrpSpPr>
            <p:grpSpPr>
              <a:xfrm>
                <a:off x="3705120" y="6148440"/>
                <a:ext cx="190440" cy="190440"/>
                <a:chOff x="3705120" y="6148440"/>
                <a:chExt cx="190440" cy="190440"/>
              </a:xfrm>
            </p:grpSpPr>
            <p:sp>
              <p:nvSpPr>
                <p:cNvPr id="3537" name=""/>
                <p:cNvSpPr/>
                <p:nvPr/>
              </p:nvSpPr>
              <p:spPr>
                <a:xfrm>
                  <a:off x="3730680" y="61736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8" name=""/>
                <p:cNvSpPr/>
                <p:nvPr/>
              </p:nvSpPr>
              <p:spPr>
                <a:xfrm flipH="1">
                  <a:off x="3705120" y="6148440"/>
                  <a:ext cx="1904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39" name=""/>
              <p:cNvSpPr txBox="1"/>
              <p:nvPr/>
            </p:nvSpPr>
            <p:spPr>
              <a:xfrm>
                <a:off x="3917880" y="6076800"/>
                <a:ext cx="782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540" name=""/>
              <p:cNvSpPr/>
              <p:nvPr/>
            </p:nvSpPr>
            <p:spPr>
              <a:xfrm>
                <a:off x="439740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1" name=""/>
              <p:cNvSpPr txBox="1"/>
              <p:nvPr/>
            </p:nvSpPr>
            <p:spPr>
              <a:xfrm>
                <a:off x="4807080" y="607068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542" name=""/>
              <p:cNvSpPr txBox="1"/>
              <p:nvPr/>
            </p:nvSpPr>
            <p:spPr>
              <a:xfrm>
                <a:off x="5149800" y="6064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3543" name=""/>
              <p:cNvSpPr/>
              <p:nvPr/>
            </p:nvSpPr>
            <p:spPr>
              <a:xfrm>
                <a:off x="547704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4" name=""/>
              <p:cNvSpPr txBox="1"/>
              <p:nvPr/>
            </p:nvSpPr>
            <p:spPr>
              <a:xfrm>
                <a:off x="5403960" y="6076800"/>
                <a:ext cx="37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3545" name=""/>
            <p:cNvSpPr txBox="1"/>
            <p:nvPr/>
          </p:nvSpPr>
          <p:spPr>
            <a:xfrm>
              <a:off x="1308240" y="447840"/>
              <a:ext cx="6280200" cy="701640"/>
            </a:xfrm>
            <a:prstGeom prst="rect">
              <a:avLst/>
            </a:prstGeom>
            <a:noFill/>
            <a:ln w="0">
              <a:noFill/>
            </a:ln>
          </p:spPr>
          <p:txBody>
            <a:bodyPr lIns="0" rIns="0" tIns="0" bIns="0" anchor="t">
              <a:noAutofit/>
            </a:bodyPr>
            <a:p>
              <a:pPr algn="ctr">
                <a:lnSpc>
                  <a:spcPct val="100000"/>
                </a:lnSpc>
              </a:pPr>
              <a:r>
                <a:rPr b="1" lang="en-US" sz="4000" spc="-1" strike="noStrike" u="sng">
                  <a:solidFill>
                    <a:srgbClr val="ffffff"/>
                  </a:solidFill>
                  <a:uFillTx/>
                  <a:latin typeface="Times New Roman"/>
                  <a:ea typeface="Times New Roman"/>
                </a:rPr>
                <a:t>Cylindrical Datum Features</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546" name=""/>
          <p:cNvGrpSpPr/>
          <p:nvPr/>
        </p:nvGrpSpPr>
        <p:grpSpPr>
          <a:xfrm>
            <a:off x="1308240" y="447840"/>
            <a:ext cx="7091280" cy="6257880"/>
            <a:chOff x="1308240" y="447840"/>
            <a:chExt cx="7091280" cy="6257880"/>
          </a:xfrm>
        </p:grpSpPr>
        <p:sp>
          <p:nvSpPr>
            <p:cNvPr id="354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48" name=""/>
            <p:cNvSpPr/>
            <p:nvPr/>
          </p:nvSpPr>
          <p:spPr>
            <a:xfrm>
              <a:off x="2841480" y="3168720"/>
              <a:ext cx="3286080" cy="166680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9" name=""/>
            <p:cNvSpPr/>
            <p:nvPr/>
          </p:nvSpPr>
          <p:spPr>
            <a:xfrm>
              <a:off x="2841480" y="2809800"/>
              <a:ext cx="3286080" cy="166680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50" name=""/>
            <p:cNvSpPr/>
            <p:nvPr/>
          </p:nvSpPr>
          <p:spPr>
            <a:xfrm>
              <a:off x="2841480" y="36511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1" name=""/>
            <p:cNvSpPr/>
            <p:nvPr/>
          </p:nvSpPr>
          <p:spPr>
            <a:xfrm>
              <a:off x="6124680" y="366696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2" name=""/>
            <p:cNvSpPr/>
            <p:nvPr/>
          </p:nvSpPr>
          <p:spPr>
            <a:xfrm>
              <a:off x="2841480" y="3651120"/>
              <a:ext cx="38520" cy="330480"/>
            </a:xfrm>
            <a:custGeom>
              <a:avLst/>
              <a:gdLst/>
              <a:ahLst/>
              <a:rect l="0" t="0" r="r" b="b"/>
              <a:pathLst>
                <a:path w="107" h="918">
                  <a:moveTo>
                    <a:pt x="0" y="0"/>
                  </a:moveTo>
                  <a:lnTo>
                    <a:pt x="0" y="26"/>
                  </a:lnTo>
                  <a:lnTo>
                    <a:pt x="8" y="52"/>
                  </a:lnTo>
                  <a:lnTo>
                    <a:pt x="8" y="79"/>
                  </a:lnTo>
                  <a:lnTo>
                    <a:pt x="8" y="105"/>
                  </a:lnTo>
                  <a:lnTo>
                    <a:pt x="8" y="132"/>
                  </a:lnTo>
                  <a:lnTo>
                    <a:pt x="8" y="158"/>
                  </a:lnTo>
                  <a:lnTo>
                    <a:pt x="8" y="185"/>
                  </a:lnTo>
                  <a:lnTo>
                    <a:pt x="17" y="211"/>
                  </a:lnTo>
                  <a:lnTo>
                    <a:pt x="26" y="238"/>
                  </a:lnTo>
                  <a:lnTo>
                    <a:pt x="36" y="264"/>
                  </a:lnTo>
                  <a:lnTo>
                    <a:pt x="45" y="291"/>
                  </a:lnTo>
                  <a:lnTo>
                    <a:pt x="62" y="317"/>
                  </a:lnTo>
                  <a:lnTo>
                    <a:pt x="71" y="343"/>
                  </a:lnTo>
                  <a:lnTo>
                    <a:pt x="71" y="370"/>
                  </a:lnTo>
                  <a:lnTo>
                    <a:pt x="81" y="396"/>
                  </a:lnTo>
                  <a:lnTo>
                    <a:pt x="90" y="423"/>
                  </a:lnTo>
                  <a:lnTo>
                    <a:pt x="99" y="449"/>
                  </a:lnTo>
                  <a:lnTo>
                    <a:pt x="107" y="477"/>
                  </a:lnTo>
                  <a:lnTo>
                    <a:pt x="107" y="503"/>
                  </a:lnTo>
                  <a:lnTo>
                    <a:pt x="99" y="530"/>
                  </a:lnTo>
                  <a:lnTo>
                    <a:pt x="90" y="556"/>
                  </a:lnTo>
                  <a:lnTo>
                    <a:pt x="81" y="583"/>
                  </a:lnTo>
                  <a:lnTo>
                    <a:pt x="71" y="609"/>
                  </a:lnTo>
                  <a:lnTo>
                    <a:pt x="62" y="636"/>
                  </a:lnTo>
                  <a:lnTo>
                    <a:pt x="53" y="662"/>
                  </a:lnTo>
                  <a:lnTo>
                    <a:pt x="53" y="688"/>
                  </a:lnTo>
                  <a:lnTo>
                    <a:pt x="45" y="715"/>
                  </a:lnTo>
                  <a:lnTo>
                    <a:pt x="36" y="741"/>
                  </a:lnTo>
                  <a:lnTo>
                    <a:pt x="26" y="777"/>
                  </a:lnTo>
                  <a:lnTo>
                    <a:pt x="17" y="803"/>
                  </a:lnTo>
                  <a:lnTo>
                    <a:pt x="8" y="830"/>
                  </a:lnTo>
                  <a:lnTo>
                    <a:pt x="0" y="865"/>
                  </a:lnTo>
                  <a:lnTo>
                    <a:pt x="0" y="891"/>
                  </a:lnTo>
                  <a:lnTo>
                    <a:pt x="0" y="918"/>
                  </a:lnTo>
                  <a:lnTo>
                    <a:pt x="8" y="891"/>
                  </a:lnTo>
                  <a:lnTo>
                    <a:pt x="17" y="865"/>
                  </a:lnTo>
                  <a:lnTo>
                    <a:pt x="17" y="838"/>
                  </a:lnTo>
                  <a:lnTo>
                    <a:pt x="17" y="812"/>
                  </a:lnTo>
                  <a:lnTo>
                    <a:pt x="17" y="785"/>
                  </a:lnTo>
                  <a:lnTo>
                    <a:pt x="0" y="812"/>
                  </a:lnTo>
                  <a:lnTo>
                    <a:pt x="0" y="80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53" name=""/>
            <p:cNvSpPr/>
            <p:nvPr/>
          </p:nvSpPr>
          <p:spPr>
            <a:xfrm>
              <a:off x="2863800" y="3832200"/>
              <a:ext cx="34920" cy="155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4" name=""/>
            <p:cNvSpPr/>
            <p:nvPr/>
          </p:nvSpPr>
          <p:spPr>
            <a:xfrm>
              <a:off x="6089760" y="3740040"/>
              <a:ext cx="32040" cy="174960"/>
            </a:xfrm>
            <a:custGeom>
              <a:avLst/>
              <a:gdLst/>
              <a:ahLst/>
              <a:rect l="0" t="0" r="r" b="b"/>
              <a:pathLst>
                <a:path w="89" h="486">
                  <a:moveTo>
                    <a:pt x="89" y="0"/>
                  </a:moveTo>
                  <a:lnTo>
                    <a:pt x="89" y="486"/>
                  </a:lnTo>
                  <a:lnTo>
                    <a:pt x="89" y="477"/>
                  </a:lnTo>
                  <a:lnTo>
                    <a:pt x="71" y="450"/>
                  </a:lnTo>
                  <a:lnTo>
                    <a:pt x="62" y="424"/>
                  </a:lnTo>
                  <a:lnTo>
                    <a:pt x="53" y="397"/>
                  </a:lnTo>
                  <a:lnTo>
                    <a:pt x="45" y="371"/>
                  </a:lnTo>
                  <a:lnTo>
                    <a:pt x="35" y="344"/>
                  </a:lnTo>
                  <a:lnTo>
                    <a:pt x="26" y="318"/>
                  </a:lnTo>
                  <a:lnTo>
                    <a:pt x="17" y="292"/>
                  </a:lnTo>
                  <a:lnTo>
                    <a:pt x="0" y="265"/>
                  </a:lnTo>
                  <a:lnTo>
                    <a:pt x="8" y="238"/>
                  </a:lnTo>
                  <a:lnTo>
                    <a:pt x="26" y="211"/>
                  </a:lnTo>
                  <a:lnTo>
                    <a:pt x="26" y="185"/>
                  </a:lnTo>
                  <a:lnTo>
                    <a:pt x="35" y="158"/>
                  </a:lnTo>
                  <a:lnTo>
                    <a:pt x="45" y="132"/>
                  </a:lnTo>
                  <a:lnTo>
                    <a:pt x="53" y="105"/>
                  </a:lnTo>
                  <a:lnTo>
                    <a:pt x="62" y="79"/>
                  </a:lnTo>
                  <a:lnTo>
                    <a:pt x="71" y="52"/>
                  </a:lnTo>
                  <a:lnTo>
                    <a:pt x="80" y="26"/>
                  </a:lnTo>
                  <a:lnTo>
                    <a:pt x="89"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55" name=""/>
            <p:cNvSpPr/>
            <p:nvPr/>
          </p:nvSpPr>
          <p:spPr>
            <a:xfrm>
              <a:off x="6086520" y="3838680"/>
              <a:ext cx="284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56" name=""/>
            <p:cNvSpPr/>
            <p:nvPr/>
          </p:nvSpPr>
          <p:spPr>
            <a:xfrm>
              <a:off x="1676520" y="3778200"/>
              <a:ext cx="2816280" cy="188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7" name=""/>
            <p:cNvSpPr/>
            <p:nvPr/>
          </p:nvSpPr>
          <p:spPr>
            <a:xfrm flipV="1">
              <a:off x="4492800" y="3968640"/>
              <a:ext cx="2952720" cy="16988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8" name=""/>
            <p:cNvSpPr/>
            <p:nvPr/>
          </p:nvSpPr>
          <p:spPr>
            <a:xfrm flipH="1" flipV="1">
              <a:off x="4533840" y="2270160"/>
              <a:ext cx="165240" cy="95040"/>
            </a:xfrm>
            <a:prstGeom prst="line">
              <a:avLst/>
            </a:prstGeom>
            <a:ln w="12600">
              <a:solidFill>
                <a:srgbClr val="00dfca"/>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559" name=""/>
            <p:cNvSpPr/>
            <p:nvPr/>
          </p:nvSpPr>
          <p:spPr>
            <a:xfrm flipV="1">
              <a:off x="1676520" y="2270160"/>
              <a:ext cx="2894040" cy="15019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0" name=""/>
            <p:cNvSpPr/>
            <p:nvPr/>
          </p:nvSpPr>
          <p:spPr>
            <a:xfrm flipV="1">
              <a:off x="6032520" y="1682640"/>
              <a:ext cx="0" cy="14446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1" name=""/>
            <p:cNvSpPr/>
            <p:nvPr/>
          </p:nvSpPr>
          <p:spPr>
            <a:xfrm>
              <a:off x="3048120" y="3174840"/>
              <a:ext cx="0" cy="152424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2" name=""/>
            <p:cNvSpPr/>
            <p:nvPr/>
          </p:nvSpPr>
          <p:spPr>
            <a:xfrm flipV="1">
              <a:off x="3048120" y="4572000"/>
              <a:ext cx="210960" cy="1270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3" name=""/>
            <p:cNvSpPr/>
            <p:nvPr/>
          </p:nvSpPr>
          <p:spPr>
            <a:xfrm flipV="1">
              <a:off x="3041640" y="1682640"/>
              <a:ext cx="3006720" cy="14860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4" name=""/>
            <p:cNvSpPr/>
            <p:nvPr/>
          </p:nvSpPr>
          <p:spPr>
            <a:xfrm flipV="1">
              <a:off x="3238560" y="4206960"/>
              <a:ext cx="0" cy="3492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5" name=""/>
            <p:cNvSpPr/>
            <p:nvPr/>
          </p:nvSpPr>
          <p:spPr>
            <a:xfrm flipV="1">
              <a:off x="5905440" y="3143160"/>
              <a:ext cx="127080" cy="63720"/>
            </a:xfrm>
            <a:prstGeom prst="line">
              <a:avLst/>
            </a:prstGeom>
            <a:ln w="12600">
              <a:solidFill>
                <a:srgbClr val="fd0000"/>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3566" name=""/>
            <p:cNvSpPr/>
            <p:nvPr/>
          </p:nvSpPr>
          <p:spPr>
            <a:xfrm flipH="1">
              <a:off x="3286080" y="3571920"/>
              <a:ext cx="1254240" cy="6192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7" name=""/>
            <p:cNvSpPr/>
            <p:nvPr/>
          </p:nvSpPr>
          <p:spPr>
            <a:xfrm flipV="1">
              <a:off x="4540320" y="3032280"/>
              <a:ext cx="1063440" cy="53964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8" name=""/>
            <p:cNvSpPr/>
            <p:nvPr/>
          </p:nvSpPr>
          <p:spPr>
            <a:xfrm>
              <a:off x="3460680" y="3921120"/>
              <a:ext cx="365040" cy="19044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69" name=""/>
            <p:cNvSpPr/>
            <p:nvPr/>
          </p:nvSpPr>
          <p:spPr>
            <a:xfrm>
              <a:off x="5105520" y="3114720"/>
              <a:ext cx="365040" cy="17136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0" name=""/>
            <p:cNvSpPr/>
            <p:nvPr/>
          </p:nvSpPr>
          <p:spPr>
            <a:xfrm>
              <a:off x="3606840" y="3102120"/>
              <a:ext cx="365040" cy="15228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1" name=""/>
            <p:cNvSpPr/>
            <p:nvPr/>
          </p:nvSpPr>
          <p:spPr>
            <a:xfrm>
              <a:off x="5124600" y="3914640"/>
              <a:ext cx="365040" cy="19692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72" name=""/>
            <p:cNvSpPr/>
            <p:nvPr/>
          </p:nvSpPr>
          <p:spPr>
            <a:xfrm>
              <a:off x="5067360" y="509760"/>
              <a:ext cx="134604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573" name=""/>
            <p:cNvSpPr txBox="1"/>
            <p:nvPr/>
          </p:nvSpPr>
          <p:spPr>
            <a:xfrm>
              <a:off x="5638680" y="5494320"/>
              <a:ext cx="2343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imary Datum Plane</a:t>
              </a:r>
              <a:endParaRPr b="0" lang="en-US" sz="1800" spc="-1" strike="noStrike">
                <a:solidFill>
                  <a:srgbClr val="000000"/>
                </a:solidFill>
                <a:latin typeface="Arial"/>
              </a:endParaRPr>
            </a:p>
          </p:txBody>
        </p:sp>
        <p:sp>
          <p:nvSpPr>
            <p:cNvPr id="3574" name=""/>
            <p:cNvSpPr txBox="1"/>
            <p:nvPr/>
          </p:nvSpPr>
          <p:spPr>
            <a:xfrm>
              <a:off x="6654960" y="1654200"/>
              <a:ext cx="174456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rst Reference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lane</a:t>
              </a:r>
              <a:endParaRPr b="0" lang="en-US" sz="1800" spc="-1" strike="noStrike">
                <a:solidFill>
                  <a:srgbClr val="000000"/>
                </a:solidFill>
                <a:latin typeface="Arial"/>
              </a:endParaRPr>
            </a:p>
          </p:txBody>
        </p:sp>
        <p:sp>
          <p:nvSpPr>
            <p:cNvPr id="3575" name=""/>
            <p:cNvSpPr/>
            <p:nvPr/>
          </p:nvSpPr>
          <p:spPr>
            <a:xfrm flipH="1">
              <a:off x="6524640" y="1809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6" name=""/>
            <p:cNvSpPr/>
            <p:nvPr/>
          </p:nvSpPr>
          <p:spPr>
            <a:xfrm flipH="1">
              <a:off x="5683320" y="1809720"/>
              <a:ext cx="84132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7" name=""/>
            <p:cNvSpPr/>
            <p:nvPr/>
          </p:nvSpPr>
          <p:spPr>
            <a:xfrm flipH="1">
              <a:off x="5445000" y="569916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8" name=""/>
            <p:cNvSpPr/>
            <p:nvPr/>
          </p:nvSpPr>
          <p:spPr>
            <a:xfrm flipH="1" flipV="1">
              <a:off x="4572000" y="5127480"/>
              <a:ext cx="857160" cy="5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9" name=""/>
            <p:cNvSpPr/>
            <p:nvPr/>
          </p:nvSpPr>
          <p:spPr>
            <a:xfrm>
              <a:off x="5619600" y="241308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580" name=""/>
            <p:cNvSpPr/>
            <p:nvPr/>
          </p:nvSpPr>
          <p:spPr>
            <a:xfrm>
              <a:off x="4511520" y="50673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581" name=""/>
            <p:cNvSpPr/>
            <p:nvPr/>
          </p:nvSpPr>
          <p:spPr>
            <a:xfrm flipH="1" flipV="1">
              <a:off x="6048360" y="3143160"/>
              <a:ext cx="1397160" cy="8096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82" name=""/>
            <p:cNvGrpSpPr/>
            <p:nvPr/>
          </p:nvGrpSpPr>
          <p:grpSpPr>
            <a:xfrm>
              <a:off x="3228840" y="6064200"/>
              <a:ext cx="2587680" cy="349200"/>
              <a:chOff x="3228840" y="6064200"/>
              <a:chExt cx="2587680" cy="349200"/>
            </a:xfrm>
          </p:grpSpPr>
          <p:sp>
            <p:nvSpPr>
              <p:cNvPr id="3583" name=""/>
              <p:cNvSpPr/>
              <p:nvPr/>
            </p:nvSpPr>
            <p:spPr>
              <a:xfrm>
                <a:off x="3228840" y="6091200"/>
                <a:ext cx="258768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4" name=""/>
              <p:cNvSpPr/>
              <p:nvPr/>
            </p:nvSpPr>
            <p:spPr>
              <a:xfrm>
                <a:off x="362916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5" name=""/>
              <p:cNvSpPr/>
              <p:nvPr/>
            </p:nvSpPr>
            <p:spPr>
              <a:xfrm>
                <a:off x="476568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6" name=""/>
              <p:cNvSpPr/>
              <p:nvPr/>
            </p:nvSpPr>
            <p:spPr>
              <a:xfrm>
                <a:off x="5121360" y="6097680"/>
                <a:ext cx="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87" name=""/>
              <p:cNvGrpSpPr/>
              <p:nvPr/>
            </p:nvGrpSpPr>
            <p:grpSpPr>
              <a:xfrm>
                <a:off x="3305160" y="6122880"/>
                <a:ext cx="247680" cy="247680"/>
                <a:chOff x="3305160" y="6122880"/>
                <a:chExt cx="247680" cy="247680"/>
              </a:xfrm>
            </p:grpSpPr>
            <p:sp>
              <p:nvSpPr>
                <p:cNvPr id="3588" name=""/>
                <p:cNvSpPr/>
                <p:nvPr/>
              </p:nvSpPr>
              <p:spPr>
                <a:xfrm>
                  <a:off x="3343320" y="616104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9" name=""/>
                <p:cNvSpPr/>
                <p:nvPr/>
              </p:nvSpPr>
              <p:spPr>
                <a:xfrm>
                  <a:off x="3432240" y="61228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0" name=""/>
                <p:cNvSpPr/>
                <p:nvPr/>
              </p:nvSpPr>
              <p:spPr>
                <a:xfrm>
                  <a:off x="3305160" y="624996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91" name=""/>
              <p:cNvGrpSpPr/>
              <p:nvPr/>
            </p:nvGrpSpPr>
            <p:grpSpPr>
              <a:xfrm>
                <a:off x="3705120" y="6148440"/>
                <a:ext cx="190440" cy="190440"/>
                <a:chOff x="3705120" y="6148440"/>
                <a:chExt cx="190440" cy="190440"/>
              </a:xfrm>
            </p:grpSpPr>
            <p:sp>
              <p:nvSpPr>
                <p:cNvPr id="3592" name=""/>
                <p:cNvSpPr/>
                <p:nvPr/>
              </p:nvSpPr>
              <p:spPr>
                <a:xfrm>
                  <a:off x="3730680" y="61736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3" name=""/>
                <p:cNvSpPr/>
                <p:nvPr/>
              </p:nvSpPr>
              <p:spPr>
                <a:xfrm flipH="1">
                  <a:off x="3705120" y="6148440"/>
                  <a:ext cx="1904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94" name=""/>
              <p:cNvSpPr txBox="1"/>
              <p:nvPr/>
            </p:nvSpPr>
            <p:spPr>
              <a:xfrm>
                <a:off x="3917880" y="6076800"/>
                <a:ext cx="782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595" name=""/>
              <p:cNvSpPr/>
              <p:nvPr/>
            </p:nvSpPr>
            <p:spPr>
              <a:xfrm>
                <a:off x="439740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6" name=""/>
              <p:cNvSpPr txBox="1"/>
              <p:nvPr/>
            </p:nvSpPr>
            <p:spPr>
              <a:xfrm>
                <a:off x="4807080" y="607068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597" name=""/>
              <p:cNvSpPr txBox="1"/>
              <p:nvPr/>
            </p:nvSpPr>
            <p:spPr>
              <a:xfrm>
                <a:off x="5149800" y="6064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3598" name=""/>
              <p:cNvSpPr/>
              <p:nvPr/>
            </p:nvSpPr>
            <p:spPr>
              <a:xfrm>
                <a:off x="547704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9" name=""/>
              <p:cNvSpPr txBox="1"/>
              <p:nvPr/>
            </p:nvSpPr>
            <p:spPr>
              <a:xfrm>
                <a:off x="5403960" y="6076800"/>
                <a:ext cx="37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3600" name=""/>
            <p:cNvSpPr txBox="1"/>
            <p:nvPr/>
          </p:nvSpPr>
          <p:spPr>
            <a:xfrm>
              <a:off x="1308240" y="447840"/>
              <a:ext cx="6280200" cy="701640"/>
            </a:xfrm>
            <a:prstGeom prst="rect">
              <a:avLst/>
            </a:prstGeom>
            <a:noFill/>
            <a:ln w="0">
              <a:noFill/>
            </a:ln>
          </p:spPr>
          <p:txBody>
            <a:bodyPr lIns="0" rIns="0" tIns="0" bIns="0" anchor="t">
              <a:noAutofit/>
            </a:bodyPr>
            <a:p>
              <a:pPr algn="ctr">
                <a:lnSpc>
                  <a:spcPct val="100000"/>
                </a:lnSpc>
              </a:pPr>
              <a:r>
                <a:rPr b="1" lang="en-US" sz="4000" spc="-1" strike="noStrike" u="sng">
                  <a:solidFill>
                    <a:srgbClr val="ffffff"/>
                  </a:solidFill>
                  <a:uFillTx/>
                  <a:latin typeface="Times New Roman"/>
                  <a:ea typeface="Times New Roman"/>
                </a:rPr>
                <a:t>Cylindrical Datum Features</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601" name=""/>
          <p:cNvGrpSpPr/>
          <p:nvPr/>
        </p:nvGrpSpPr>
        <p:grpSpPr>
          <a:xfrm>
            <a:off x="352440" y="447840"/>
            <a:ext cx="8047080" cy="6257880"/>
            <a:chOff x="352440" y="447840"/>
            <a:chExt cx="8047080" cy="6257880"/>
          </a:xfrm>
        </p:grpSpPr>
        <p:sp>
          <p:nvSpPr>
            <p:cNvPr id="360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03" name=""/>
            <p:cNvSpPr/>
            <p:nvPr/>
          </p:nvSpPr>
          <p:spPr>
            <a:xfrm>
              <a:off x="2841480" y="3168720"/>
              <a:ext cx="3286080" cy="166680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4" name=""/>
            <p:cNvSpPr/>
            <p:nvPr/>
          </p:nvSpPr>
          <p:spPr>
            <a:xfrm>
              <a:off x="2841480" y="2809800"/>
              <a:ext cx="3286080" cy="166680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5" name=""/>
            <p:cNvSpPr/>
            <p:nvPr/>
          </p:nvSpPr>
          <p:spPr>
            <a:xfrm>
              <a:off x="2841480" y="36511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6" name=""/>
            <p:cNvSpPr/>
            <p:nvPr/>
          </p:nvSpPr>
          <p:spPr>
            <a:xfrm>
              <a:off x="6124680" y="366696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7" name=""/>
            <p:cNvSpPr/>
            <p:nvPr/>
          </p:nvSpPr>
          <p:spPr>
            <a:xfrm>
              <a:off x="2841480" y="3651120"/>
              <a:ext cx="38520" cy="330480"/>
            </a:xfrm>
            <a:custGeom>
              <a:avLst/>
              <a:gdLst/>
              <a:ahLst/>
              <a:rect l="0" t="0" r="r" b="b"/>
              <a:pathLst>
                <a:path w="107" h="918">
                  <a:moveTo>
                    <a:pt x="0" y="0"/>
                  </a:moveTo>
                  <a:lnTo>
                    <a:pt x="0" y="26"/>
                  </a:lnTo>
                  <a:lnTo>
                    <a:pt x="8" y="52"/>
                  </a:lnTo>
                  <a:lnTo>
                    <a:pt x="8" y="79"/>
                  </a:lnTo>
                  <a:lnTo>
                    <a:pt x="8" y="105"/>
                  </a:lnTo>
                  <a:lnTo>
                    <a:pt x="8" y="132"/>
                  </a:lnTo>
                  <a:lnTo>
                    <a:pt x="8" y="158"/>
                  </a:lnTo>
                  <a:lnTo>
                    <a:pt x="8" y="185"/>
                  </a:lnTo>
                  <a:lnTo>
                    <a:pt x="17" y="211"/>
                  </a:lnTo>
                  <a:lnTo>
                    <a:pt x="26" y="238"/>
                  </a:lnTo>
                  <a:lnTo>
                    <a:pt x="36" y="264"/>
                  </a:lnTo>
                  <a:lnTo>
                    <a:pt x="45" y="291"/>
                  </a:lnTo>
                  <a:lnTo>
                    <a:pt x="62" y="317"/>
                  </a:lnTo>
                  <a:lnTo>
                    <a:pt x="71" y="343"/>
                  </a:lnTo>
                  <a:lnTo>
                    <a:pt x="71" y="370"/>
                  </a:lnTo>
                  <a:lnTo>
                    <a:pt x="81" y="396"/>
                  </a:lnTo>
                  <a:lnTo>
                    <a:pt x="90" y="423"/>
                  </a:lnTo>
                  <a:lnTo>
                    <a:pt x="99" y="449"/>
                  </a:lnTo>
                  <a:lnTo>
                    <a:pt x="107" y="477"/>
                  </a:lnTo>
                  <a:lnTo>
                    <a:pt x="107" y="503"/>
                  </a:lnTo>
                  <a:lnTo>
                    <a:pt x="99" y="530"/>
                  </a:lnTo>
                  <a:lnTo>
                    <a:pt x="90" y="556"/>
                  </a:lnTo>
                  <a:lnTo>
                    <a:pt x="81" y="583"/>
                  </a:lnTo>
                  <a:lnTo>
                    <a:pt x="71" y="609"/>
                  </a:lnTo>
                  <a:lnTo>
                    <a:pt x="62" y="636"/>
                  </a:lnTo>
                  <a:lnTo>
                    <a:pt x="53" y="662"/>
                  </a:lnTo>
                  <a:lnTo>
                    <a:pt x="53" y="688"/>
                  </a:lnTo>
                  <a:lnTo>
                    <a:pt x="45" y="715"/>
                  </a:lnTo>
                  <a:lnTo>
                    <a:pt x="36" y="741"/>
                  </a:lnTo>
                  <a:lnTo>
                    <a:pt x="26" y="777"/>
                  </a:lnTo>
                  <a:lnTo>
                    <a:pt x="17" y="803"/>
                  </a:lnTo>
                  <a:lnTo>
                    <a:pt x="8" y="830"/>
                  </a:lnTo>
                  <a:lnTo>
                    <a:pt x="0" y="865"/>
                  </a:lnTo>
                  <a:lnTo>
                    <a:pt x="0" y="891"/>
                  </a:lnTo>
                  <a:lnTo>
                    <a:pt x="0" y="918"/>
                  </a:lnTo>
                  <a:lnTo>
                    <a:pt x="8" y="891"/>
                  </a:lnTo>
                  <a:lnTo>
                    <a:pt x="17" y="865"/>
                  </a:lnTo>
                  <a:lnTo>
                    <a:pt x="17" y="838"/>
                  </a:lnTo>
                  <a:lnTo>
                    <a:pt x="17" y="812"/>
                  </a:lnTo>
                  <a:lnTo>
                    <a:pt x="17" y="785"/>
                  </a:lnTo>
                  <a:lnTo>
                    <a:pt x="0" y="812"/>
                  </a:lnTo>
                  <a:lnTo>
                    <a:pt x="0" y="80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8" name=""/>
            <p:cNvSpPr/>
            <p:nvPr/>
          </p:nvSpPr>
          <p:spPr>
            <a:xfrm>
              <a:off x="2863800" y="3832200"/>
              <a:ext cx="34920" cy="155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09" name=""/>
            <p:cNvSpPr/>
            <p:nvPr/>
          </p:nvSpPr>
          <p:spPr>
            <a:xfrm>
              <a:off x="6089760" y="3740040"/>
              <a:ext cx="32040" cy="174960"/>
            </a:xfrm>
            <a:custGeom>
              <a:avLst/>
              <a:gdLst/>
              <a:ahLst/>
              <a:rect l="0" t="0" r="r" b="b"/>
              <a:pathLst>
                <a:path w="89" h="486">
                  <a:moveTo>
                    <a:pt x="89" y="0"/>
                  </a:moveTo>
                  <a:lnTo>
                    <a:pt x="89" y="486"/>
                  </a:lnTo>
                  <a:lnTo>
                    <a:pt x="89" y="477"/>
                  </a:lnTo>
                  <a:lnTo>
                    <a:pt x="71" y="450"/>
                  </a:lnTo>
                  <a:lnTo>
                    <a:pt x="62" y="424"/>
                  </a:lnTo>
                  <a:lnTo>
                    <a:pt x="53" y="397"/>
                  </a:lnTo>
                  <a:lnTo>
                    <a:pt x="45" y="371"/>
                  </a:lnTo>
                  <a:lnTo>
                    <a:pt x="35" y="344"/>
                  </a:lnTo>
                  <a:lnTo>
                    <a:pt x="26" y="318"/>
                  </a:lnTo>
                  <a:lnTo>
                    <a:pt x="17" y="292"/>
                  </a:lnTo>
                  <a:lnTo>
                    <a:pt x="0" y="265"/>
                  </a:lnTo>
                  <a:lnTo>
                    <a:pt x="8" y="238"/>
                  </a:lnTo>
                  <a:lnTo>
                    <a:pt x="26" y="211"/>
                  </a:lnTo>
                  <a:lnTo>
                    <a:pt x="26" y="185"/>
                  </a:lnTo>
                  <a:lnTo>
                    <a:pt x="35" y="158"/>
                  </a:lnTo>
                  <a:lnTo>
                    <a:pt x="45" y="132"/>
                  </a:lnTo>
                  <a:lnTo>
                    <a:pt x="53" y="105"/>
                  </a:lnTo>
                  <a:lnTo>
                    <a:pt x="62" y="79"/>
                  </a:lnTo>
                  <a:lnTo>
                    <a:pt x="71" y="52"/>
                  </a:lnTo>
                  <a:lnTo>
                    <a:pt x="80" y="26"/>
                  </a:lnTo>
                  <a:lnTo>
                    <a:pt x="89"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10" name=""/>
            <p:cNvSpPr/>
            <p:nvPr/>
          </p:nvSpPr>
          <p:spPr>
            <a:xfrm>
              <a:off x="6086520" y="3838680"/>
              <a:ext cx="284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11" name=""/>
            <p:cNvSpPr/>
            <p:nvPr/>
          </p:nvSpPr>
          <p:spPr>
            <a:xfrm flipV="1">
              <a:off x="5905440" y="3143160"/>
              <a:ext cx="127080" cy="63720"/>
            </a:xfrm>
            <a:prstGeom prst="line">
              <a:avLst/>
            </a:prstGeom>
            <a:ln w="12600">
              <a:solidFill>
                <a:srgbClr val="fc0128"/>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nvGrpSpPr>
            <p:cNvPr id="3612" name=""/>
            <p:cNvGrpSpPr/>
            <p:nvPr/>
          </p:nvGrpSpPr>
          <p:grpSpPr>
            <a:xfrm>
              <a:off x="3143160" y="1650960"/>
              <a:ext cx="2841840" cy="3143160"/>
              <a:chOff x="3143160" y="1650960"/>
              <a:chExt cx="2841840" cy="3143160"/>
            </a:xfrm>
          </p:grpSpPr>
          <p:sp>
            <p:nvSpPr>
              <p:cNvPr id="3613" name=""/>
              <p:cNvSpPr/>
              <p:nvPr/>
            </p:nvSpPr>
            <p:spPr>
              <a:xfrm>
                <a:off x="5667480" y="4222800"/>
                <a:ext cx="0" cy="380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4" name=""/>
              <p:cNvSpPr/>
              <p:nvPr/>
            </p:nvSpPr>
            <p:spPr>
              <a:xfrm>
                <a:off x="5667480" y="4603680"/>
                <a:ext cx="317520" cy="1904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5" name=""/>
              <p:cNvSpPr/>
              <p:nvPr/>
            </p:nvSpPr>
            <p:spPr>
              <a:xfrm flipV="1">
                <a:off x="5985000" y="3206880"/>
                <a:ext cx="0" cy="15872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6" name=""/>
              <p:cNvSpPr/>
              <p:nvPr/>
            </p:nvSpPr>
            <p:spPr>
              <a:xfrm flipH="1" flipV="1">
                <a:off x="4540320" y="3571920"/>
                <a:ext cx="1127160" cy="650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7" name=""/>
              <p:cNvSpPr/>
              <p:nvPr/>
            </p:nvSpPr>
            <p:spPr>
              <a:xfrm>
                <a:off x="4540320" y="2428920"/>
                <a:ext cx="1444680" cy="793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8" name=""/>
              <p:cNvSpPr/>
              <p:nvPr/>
            </p:nvSpPr>
            <p:spPr>
              <a:xfrm flipH="1" flipV="1">
                <a:off x="3143160" y="1650960"/>
                <a:ext cx="1397160" cy="777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9" name=""/>
              <p:cNvSpPr/>
              <p:nvPr/>
            </p:nvSpPr>
            <p:spPr>
              <a:xfrm>
                <a:off x="3143160" y="1650960"/>
                <a:ext cx="0" cy="136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0" name=""/>
              <p:cNvSpPr/>
              <p:nvPr/>
            </p:nvSpPr>
            <p:spPr>
              <a:xfrm>
                <a:off x="3143160" y="3016080"/>
                <a:ext cx="95400" cy="47880"/>
              </a:xfrm>
              <a:prstGeom prst="line">
                <a:avLst/>
              </a:prstGeom>
              <a:ln w="12600">
                <a:solidFill>
                  <a:srgbClr val="fc0128"/>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3621" name=""/>
              <p:cNvSpPr/>
              <p:nvPr/>
            </p:nvSpPr>
            <p:spPr>
              <a:xfrm flipH="1" flipV="1">
                <a:off x="3460680" y="2984400"/>
                <a:ext cx="1063800" cy="58752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22" name=""/>
            <p:cNvGrpSpPr/>
            <p:nvPr/>
          </p:nvGrpSpPr>
          <p:grpSpPr>
            <a:xfrm>
              <a:off x="1676520" y="2317680"/>
              <a:ext cx="5769000" cy="3349800"/>
              <a:chOff x="1676520" y="2317680"/>
              <a:chExt cx="5769000" cy="3349800"/>
            </a:xfrm>
          </p:grpSpPr>
          <p:sp>
            <p:nvSpPr>
              <p:cNvPr id="3623" name=""/>
              <p:cNvSpPr/>
              <p:nvPr/>
            </p:nvSpPr>
            <p:spPr>
              <a:xfrm>
                <a:off x="1676520" y="3778200"/>
                <a:ext cx="2816280" cy="188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4" name=""/>
              <p:cNvSpPr/>
              <p:nvPr/>
            </p:nvSpPr>
            <p:spPr>
              <a:xfrm flipV="1">
                <a:off x="4492800" y="3968640"/>
                <a:ext cx="2952720" cy="16988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5" name=""/>
              <p:cNvSpPr/>
              <p:nvPr/>
            </p:nvSpPr>
            <p:spPr>
              <a:xfrm flipH="1" flipV="1">
                <a:off x="6032520" y="3141720"/>
                <a:ext cx="1413000" cy="8222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6" name=""/>
              <p:cNvSpPr/>
              <p:nvPr/>
            </p:nvSpPr>
            <p:spPr>
              <a:xfrm flipV="1">
                <a:off x="1676520" y="3009960"/>
                <a:ext cx="1466640" cy="7621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7" name=""/>
              <p:cNvSpPr/>
              <p:nvPr/>
            </p:nvSpPr>
            <p:spPr>
              <a:xfrm flipH="1" flipV="1">
                <a:off x="4476600" y="2317680"/>
                <a:ext cx="133560" cy="69840"/>
              </a:xfrm>
              <a:prstGeom prst="line">
                <a:avLst/>
              </a:prstGeom>
              <a:ln w="12600">
                <a:solidFill>
                  <a:srgbClr val="00dfca"/>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628" name=""/>
              <p:cNvSpPr/>
              <p:nvPr/>
            </p:nvSpPr>
            <p:spPr>
              <a:xfrm flipH="1">
                <a:off x="4416480" y="2317680"/>
                <a:ext cx="60120" cy="22320"/>
              </a:xfrm>
              <a:prstGeom prst="line">
                <a:avLst/>
              </a:prstGeom>
              <a:ln w="12600">
                <a:solidFill>
                  <a:srgbClr val="00dfca"/>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grpSp>
        <p:grpSp>
          <p:nvGrpSpPr>
            <p:cNvPr id="3629" name=""/>
            <p:cNvGrpSpPr/>
            <p:nvPr/>
          </p:nvGrpSpPr>
          <p:grpSpPr>
            <a:xfrm>
              <a:off x="3041640" y="1682640"/>
              <a:ext cx="3006720" cy="3016440"/>
              <a:chOff x="3041640" y="1682640"/>
              <a:chExt cx="3006720" cy="3016440"/>
            </a:xfrm>
          </p:grpSpPr>
          <p:sp>
            <p:nvSpPr>
              <p:cNvPr id="3630" name=""/>
              <p:cNvSpPr/>
              <p:nvPr/>
            </p:nvSpPr>
            <p:spPr>
              <a:xfrm flipV="1">
                <a:off x="6032520" y="1682640"/>
                <a:ext cx="0" cy="14446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1" name=""/>
              <p:cNvSpPr/>
              <p:nvPr/>
            </p:nvSpPr>
            <p:spPr>
              <a:xfrm>
                <a:off x="3048120" y="3174840"/>
                <a:ext cx="0" cy="152424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flipV="1">
                <a:off x="3048120" y="4572000"/>
                <a:ext cx="210960" cy="1270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3" name=""/>
              <p:cNvSpPr/>
              <p:nvPr/>
            </p:nvSpPr>
            <p:spPr>
              <a:xfrm flipV="1">
                <a:off x="3041640" y="1682640"/>
                <a:ext cx="3006720" cy="14860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4" name=""/>
              <p:cNvSpPr/>
              <p:nvPr/>
            </p:nvSpPr>
            <p:spPr>
              <a:xfrm flipV="1">
                <a:off x="3238560" y="4206960"/>
                <a:ext cx="0" cy="3492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5" name=""/>
              <p:cNvSpPr/>
              <p:nvPr/>
            </p:nvSpPr>
            <p:spPr>
              <a:xfrm flipH="1">
                <a:off x="3286080" y="3571920"/>
                <a:ext cx="1254240" cy="6192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6" name=""/>
              <p:cNvSpPr/>
              <p:nvPr/>
            </p:nvSpPr>
            <p:spPr>
              <a:xfrm flipV="1">
                <a:off x="4540320" y="3032280"/>
                <a:ext cx="1063440" cy="539640"/>
              </a:xfrm>
              <a:prstGeom prst="line">
                <a:avLst/>
              </a:prstGeom>
              <a:ln w="12600">
                <a:solidFill>
                  <a:srgbClr val="fd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37" name=""/>
            <p:cNvSpPr/>
            <p:nvPr/>
          </p:nvSpPr>
          <p:spPr>
            <a:xfrm>
              <a:off x="3460680" y="3921120"/>
              <a:ext cx="365040" cy="19044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8" name=""/>
            <p:cNvSpPr/>
            <p:nvPr/>
          </p:nvSpPr>
          <p:spPr>
            <a:xfrm>
              <a:off x="5105520" y="3114720"/>
              <a:ext cx="365040" cy="17136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39" name=""/>
            <p:cNvSpPr/>
            <p:nvPr/>
          </p:nvSpPr>
          <p:spPr>
            <a:xfrm>
              <a:off x="3606840" y="3102120"/>
              <a:ext cx="365040" cy="15228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0" name=""/>
            <p:cNvSpPr/>
            <p:nvPr/>
          </p:nvSpPr>
          <p:spPr>
            <a:xfrm>
              <a:off x="5124600" y="3914640"/>
              <a:ext cx="365040" cy="196920"/>
            </a:xfrm>
            <a:prstGeom prst="ellipse">
              <a:avLst/>
            </a:prstGeom>
            <a:gradFill rotWithShape="0">
              <a:gsLst>
                <a:gs pos="0">
                  <a:srgbClr val="002622"/>
                </a:gs>
                <a:gs pos="50000">
                  <a:srgbClr val="008074"/>
                </a:gs>
                <a:gs pos="100000">
                  <a:srgbClr val="002622"/>
                </a:gs>
              </a:gsLst>
              <a:lin ang="0"/>
            </a:gra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3641" name=""/>
            <p:cNvSpPr txBox="1"/>
            <p:nvPr/>
          </p:nvSpPr>
          <p:spPr>
            <a:xfrm>
              <a:off x="352440" y="1733400"/>
              <a:ext cx="2521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econd Reference Plane</a:t>
              </a:r>
              <a:endParaRPr b="0" lang="en-US" sz="1800" spc="-1" strike="noStrike">
                <a:solidFill>
                  <a:srgbClr val="000000"/>
                </a:solidFill>
                <a:latin typeface="Arial"/>
              </a:endParaRPr>
            </a:p>
          </p:txBody>
        </p:sp>
        <p:sp>
          <p:nvSpPr>
            <p:cNvPr id="3642" name=""/>
            <p:cNvSpPr/>
            <p:nvPr/>
          </p:nvSpPr>
          <p:spPr>
            <a:xfrm flipH="1">
              <a:off x="6524640" y="1809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3" name=""/>
            <p:cNvSpPr/>
            <p:nvPr/>
          </p:nvSpPr>
          <p:spPr>
            <a:xfrm flipH="1">
              <a:off x="5683320" y="1809720"/>
              <a:ext cx="84132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4" name=""/>
            <p:cNvSpPr/>
            <p:nvPr/>
          </p:nvSpPr>
          <p:spPr>
            <a:xfrm flipH="1" flipV="1">
              <a:off x="4572000" y="5127480"/>
              <a:ext cx="857160" cy="5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5" name=""/>
            <p:cNvSpPr/>
            <p:nvPr/>
          </p:nvSpPr>
          <p:spPr>
            <a:xfrm>
              <a:off x="2841480" y="192096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6" name=""/>
            <p:cNvSpPr/>
            <p:nvPr/>
          </p:nvSpPr>
          <p:spPr>
            <a:xfrm>
              <a:off x="3032280" y="192096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7" name=""/>
            <p:cNvSpPr/>
            <p:nvPr/>
          </p:nvSpPr>
          <p:spPr>
            <a:xfrm>
              <a:off x="5619600" y="241308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648" name=""/>
            <p:cNvSpPr/>
            <p:nvPr/>
          </p:nvSpPr>
          <p:spPr>
            <a:xfrm>
              <a:off x="3502080" y="24066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649" name=""/>
            <p:cNvSpPr/>
            <p:nvPr/>
          </p:nvSpPr>
          <p:spPr>
            <a:xfrm>
              <a:off x="4511520" y="50673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650" name=""/>
            <p:cNvSpPr txBox="1"/>
            <p:nvPr/>
          </p:nvSpPr>
          <p:spPr>
            <a:xfrm>
              <a:off x="5638680" y="5494320"/>
              <a:ext cx="2343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imary Datum Plane</a:t>
              </a:r>
              <a:endParaRPr b="0" lang="en-US" sz="1800" spc="-1" strike="noStrike">
                <a:solidFill>
                  <a:srgbClr val="000000"/>
                </a:solidFill>
                <a:latin typeface="Arial"/>
              </a:endParaRPr>
            </a:p>
          </p:txBody>
        </p:sp>
        <p:sp>
          <p:nvSpPr>
            <p:cNvPr id="3651" name=""/>
            <p:cNvSpPr txBox="1"/>
            <p:nvPr/>
          </p:nvSpPr>
          <p:spPr>
            <a:xfrm>
              <a:off x="6654960" y="1654200"/>
              <a:ext cx="174456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rst Reference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lane</a:t>
              </a:r>
              <a:endParaRPr b="0" lang="en-US" sz="1800" spc="-1" strike="noStrike">
                <a:solidFill>
                  <a:srgbClr val="000000"/>
                </a:solidFill>
                <a:latin typeface="Arial"/>
              </a:endParaRPr>
            </a:p>
          </p:txBody>
        </p:sp>
        <p:sp>
          <p:nvSpPr>
            <p:cNvPr id="3652" name=""/>
            <p:cNvSpPr/>
            <p:nvPr/>
          </p:nvSpPr>
          <p:spPr>
            <a:xfrm flipH="1">
              <a:off x="5445000" y="569916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53" name=""/>
            <p:cNvGrpSpPr/>
            <p:nvPr/>
          </p:nvGrpSpPr>
          <p:grpSpPr>
            <a:xfrm>
              <a:off x="3228840" y="6064200"/>
              <a:ext cx="2587680" cy="349200"/>
              <a:chOff x="3228840" y="6064200"/>
              <a:chExt cx="2587680" cy="349200"/>
            </a:xfrm>
          </p:grpSpPr>
          <p:sp>
            <p:nvSpPr>
              <p:cNvPr id="3654" name=""/>
              <p:cNvSpPr/>
              <p:nvPr/>
            </p:nvSpPr>
            <p:spPr>
              <a:xfrm>
                <a:off x="3228840" y="6091200"/>
                <a:ext cx="258768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5" name=""/>
              <p:cNvSpPr/>
              <p:nvPr/>
            </p:nvSpPr>
            <p:spPr>
              <a:xfrm>
                <a:off x="362916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6" name=""/>
              <p:cNvSpPr/>
              <p:nvPr/>
            </p:nvSpPr>
            <p:spPr>
              <a:xfrm>
                <a:off x="476568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7" name=""/>
              <p:cNvSpPr/>
              <p:nvPr/>
            </p:nvSpPr>
            <p:spPr>
              <a:xfrm>
                <a:off x="5121360" y="6097680"/>
                <a:ext cx="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58" name=""/>
              <p:cNvGrpSpPr/>
              <p:nvPr/>
            </p:nvGrpSpPr>
            <p:grpSpPr>
              <a:xfrm>
                <a:off x="3305160" y="6122880"/>
                <a:ext cx="247680" cy="247680"/>
                <a:chOff x="3305160" y="6122880"/>
                <a:chExt cx="247680" cy="247680"/>
              </a:xfrm>
            </p:grpSpPr>
            <p:sp>
              <p:nvSpPr>
                <p:cNvPr id="3659" name=""/>
                <p:cNvSpPr/>
                <p:nvPr/>
              </p:nvSpPr>
              <p:spPr>
                <a:xfrm>
                  <a:off x="3343320" y="616104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0" name=""/>
                <p:cNvSpPr/>
                <p:nvPr/>
              </p:nvSpPr>
              <p:spPr>
                <a:xfrm>
                  <a:off x="3432240" y="61228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1" name=""/>
                <p:cNvSpPr/>
                <p:nvPr/>
              </p:nvSpPr>
              <p:spPr>
                <a:xfrm>
                  <a:off x="3305160" y="624996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62" name=""/>
              <p:cNvGrpSpPr/>
              <p:nvPr/>
            </p:nvGrpSpPr>
            <p:grpSpPr>
              <a:xfrm>
                <a:off x="3705120" y="6148440"/>
                <a:ext cx="190440" cy="190440"/>
                <a:chOff x="3705120" y="6148440"/>
                <a:chExt cx="190440" cy="190440"/>
              </a:xfrm>
            </p:grpSpPr>
            <p:sp>
              <p:nvSpPr>
                <p:cNvPr id="3663" name=""/>
                <p:cNvSpPr/>
                <p:nvPr/>
              </p:nvSpPr>
              <p:spPr>
                <a:xfrm>
                  <a:off x="3730680" y="61736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4" name=""/>
                <p:cNvSpPr/>
                <p:nvPr/>
              </p:nvSpPr>
              <p:spPr>
                <a:xfrm flipH="1">
                  <a:off x="3705120" y="6148440"/>
                  <a:ext cx="1904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65" name=""/>
              <p:cNvSpPr txBox="1"/>
              <p:nvPr/>
            </p:nvSpPr>
            <p:spPr>
              <a:xfrm>
                <a:off x="3917880" y="6076800"/>
                <a:ext cx="782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666" name=""/>
              <p:cNvSpPr/>
              <p:nvPr/>
            </p:nvSpPr>
            <p:spPr>
              <a:xfrm>
                <a:off x="439740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7" name=""/>
              <p:cNvSpPr txBox="1"/>
              <p:nvPr/>
            </p:nvSpPr>
            <p:spPr>
              <a:xfrm>
                <a:off x="4807080" y="607068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668" name=""/>
              <p:cNvSpPr txBox="1"/>
              <p:nvPr/>
            </p:nvSpPr>
            <p:spPr>
              <a:xfrm>
                <a:off x="5149800" y="6064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3669" name=""/>
              <p:cNvSpPr/>
              <p:nvPr/>
            </p:nvSpPr>
            <p:spPr>
              <a:xfrm>
                <a:off x="547704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0" name=""/>
              <p:cNvSpPr txBox="1"/>
              <p:nvPr/>
            </p:nvSpPr>
            <p:spPr>
              <a:xfrm>
                <a:off x="5403960" y="6076800"/>
                <a:ext cx="37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3671" name=""/>
            <p:cNvSpPr txBox="1"/>
            <p:nvPr/>
          </p:nvSpPr>
          <p:spPr>
            <a:xfrm>
              <a:off x="1308240" y="447840"/>
              <a:ext cx="6280200" cy="701640"/>
            </a:xfrm>
            <a:prstGeom prst="rect">
              <a:avLst/>
            </a:prstGeom>
            <a:noFill/>
            <a:ln w="0">
              <a:noFill/>
            </a:ln>
          </p:spPr>
          <p:txBody>
            <a:bodyPr lIns="0" rIns="0" tIns="0" bIns="0" anchor="t">
              <a:noAutofit/>
            </a:bodyPr>
            <a:p>
              <a:pPr algn="ctr">
                <a:lnSpc>
                  <a:spcPct val="100000"/>
                </a:lnSpc>
              </a:pPr>
              <a:r>
                <a:rPr b="1" lang="en-US" sz="4000" spc="-1" strike="noStrike" u="sng">
                  <a:solidFill>
                    <a:srgbClr val="ffffff"/>
                  </a:solidFill>
                  <a:uFillTx/>
                  <a:latin typeface="Times New Roman"/>
                  <a:ea typeface="Times New Roman"/>
                </a:rPr>
                <a:t>Cylindrical Datum Features</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672" name=""/>
          <p:cNvGrpSpPr/>
          <p:nvPr/>
        </p:nvGrpSpPr>
        <p:grpSpPr>
          <a:xfrm>
            <a:off x="352440" y="511200"/>
            <a:ext cx="8047080" cy="6194520"/>
            <a:chOff x="352440" y="511200"/>
            <a:chExt cx="8047080" cy="6194520"/>
          </a:xfrm>
        </p:grpSpPr>
        <p:sp>
          <p:nvSpPr>
            <p:cNvPr id="367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674" name=""/>
            <p:cNvSpPr/>
            <p:nvPr/>
          </p:nvSpPr>
          <p:spPr>
            <a:xfrm>
              <a:off x="2841480" y="3168720"/>
              <a:ext cx="3286080" cy="1666800"/>
            </a:xfrm>
            <a:prstGeom prst="ellipse">
              <a:avLst/>
            </a:prstGeom>
            <a:gradFill rotWithShape="0">
              <a:gsLst>
                <a:gs pos="0">
                  <a:srgbClr val="002622"/>
                </a:gs>
                <a:gs pos="50000">
                  <a:srgbClr val="008074"/>
                </a:gs>
                <a:gs pos="100000">
                  <a:srgbClr val="002622"/>
                </a:gs>
              </a:gsLst>
              <a:lin ang="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5" name=""/>
            <p:cNvSpPr/>
            <p:nvPr/>
          </p:nvSpPr>
          <p:spPr>
            <a:xfrm>
              <a:off x="2841480" y="2809800"/>
              <a:ext cx="3286080" cy="1666800"/>
            </a:xfrm>
            <a:prstGeom prst="ellipse">
              <a:avLst/>
            </a:prstGeom>
            <a:gradFill rotWithShape="0">
              <a:gsLst>
                <a:gs pos="0">
                  <a:srgbClr val="002622"/>
                </a:gs>
                <a:gs pos="50000">
                  <a:srgbClr val="008074"/>
                </a:gs>
                <a:gs pos="100000">
                  <a:srgbClr val="002622"/>
                </a:gs>
              </a:gsLst>
              <a:lin ang="27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6" name=""/>
            <p:cNvSpPr/>
            <p:nvPr/>
          </p:nvSpPr>
          <p:spPr>
            <a:xfrm>
              <a:off x="2841480" y="3651120"/>
              <a:ext cx="0" cy="368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7" name=""/>
            <p:cNvSpPr/>
            <p:nvPr/>
          </p:nvSpPr>
          <p:spPr>
            <a:xfrm>
              <a:off x="6124680" y="3666960"/>
              <a:ext cx="0" cy="349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8" name=""/>
            <p:cNvSpPr/>
            <p:nvPr/>
          </p:nvSpPr>
          <p:spPr>
            <a:xfrm>
              <a:off x="2841480" y="3651120"/>
              <a:ext cx="38520" cy="330480"/>
            </a:xfrm>
            <a:custGeom>
              <a:avLst/>
              <a:gdLst/>
              <a:ahLst/>
              <a:rect l="0" t="0" r="r" b="b"/>
              <a:pathLst>
                <a:path w="107" h="918">
                  <a:moveTo>
                    <a:pt x="0" y="0"/>
                  </a:moveTo>
                  <a:lnTo>
                    <a:pt x="0" y="26"/>
                  </a:lnTo>
                  <a:lnTo>
                    <a:pt x="8" y="52"/>
                  </a:lnTo>
                  <a:lnTo>
                    <a:pt x="8" y="79"/>
                  </a:lnTo>
                  <a:lnTo>
                    <a:pt x="8" y="105"/>
                  </a:lnTo>
                  <a:lnTo>
                    <a:pt x="8" y="132"/>
                  </a:lnTo>
                  <a:lnTo>
                    <a:pt x="8" y="158"/>
                  </a:lnTo>
                  <a:lnTo>
                    <a:pt x="8" y="185"/>
                  </a:lnTo>
                  <a:lnTo>
                    <a:pt x="17" y="211"/>
                  </a:lnTo>
                  <a:lnTo>
                    <a:pt x="26" y="238"/>
                  </a:lnTo>
                  <a:lnTo>
                    <a:pt x="36" y="264"/>
                  </a:lnTo>
                  <a:lnTo>
                    <a:pt x="45" y="291"/>
                  </a:lnTo>
                  <a:lnTo>
                    <a:pt x="62" y="317"/>
                  </a:lnTo>
                  <a:lnTo>
                    <a:pt x="71" y="343"/>
                  </a:lnTo>
                  <a:lnTo>
                    <a:pt x="71" y="370"/>
                  </a:lnTo>
                  <a:lnTo>
                    <a:pt x="81" y="396"/>
                  </a:lnTo>
                  <a:lnTo>
                    <a:pt x="90" y="423"/>
                  </a:lnTo>
                  <a:lnTo>
                    <a:pt x="99" y="449"/>
                  </a:lnTo>
                  <a:lnTo>
                    <a:pt x="107" y="477"/>
                  </a:lnTo>
                  <a:lnTo>
                    <a:pt x="107" y="503"/>
                  </a:lnTo>
                  <a:lnTo>
                    <a:pt x="99" y="530"/>
                  </a:lnTo>
                  <a:lnTo>
                    <a:pt x="90" y="556"/>
                  </a:lnTo>
                  <a:lnTo>
                    <a:pt x="81" y="583"/>
                  </a:lnTo>
                  <a:lnTo>
                    <a:pt x="71" y="609"/>
                  </a:lnTo>
                  <a:lnTo>
                    <a:pt x="62" y="636"/>
                  </a:lnTo>
                  <a:lnTo>
                    <a:pt x="53" y="662"/>
                  </a:lnTo>
                  <a:lnTo>
                    <a:pt x="53" y="688"/>
                  </a:lnTo>
                  <a:lnTo>
                    <a:pt x="45" y="715"/>
                  </a:lnTo>
                  <a:lnTo>
                    <a:pt x="36" y="741"/>
                  </a:lnTo>
                  <a:lnTo>
                    <a:pt x="26" y="777"/>
                  </a:lnTo>
                  <a:lnTo>
                    <a:pt x="17" y="803"/>
                  </a:lnTo>
                  <a:lnTo>
                    <a:pt x="8" y="830"/>
                  </a:lnTo>
                  <a:lnTo>
                    <a:pt x="0" y="865"/>
                  </a:lnTo>
                  <a:lnTo>
                    <a:pt x="0" y="891"/>
                  </a:lnTo>
                  <a:lnTo>
                    <a:pt x="0" y="918"/>
                  </a:lnTo>
                  <a:lnTo>
                    <a:pt x="8" y="891"/>
                  </a:lnTo>
                  <a:lnTo>
                    <a:pt x="17" y="865"/>
                  </a:lnTo>
                  <a:lnTo>
                    <a:pt x="17" y="838"/>
                  </a:lnTo>
                  <a:lnTo>
                    <a:pt x="17" y="812"/>
                  </a:lnTo>
                  <a:lnTo>
                    <a:pt x="17" y="785"/>
                  </a:lnTo>
                  <a:lnTo>
                    <a:pt x="0" y="812"/>
                  </a:lnTo>
                  <a:lnTo>
                    <a:pt x="0" y="803"/>
                  </a:lnTo>
                  <a:lnTo>
                    <a:pt x="0"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9" name=""/>
            <p:cNvSpPr/>
            <p:nvPr/>
          </p:nvSpPr>
          <p:spPr>
            <a:xfrm>
              <a:off x="2863800" y="3832200"/>
              <a:ext cx="34920" cy="15552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80" name=""/>
            <p:cNvSpPr/>
            <p:nvPr/>
          </p:nvSpPr>
          <p:spPr>
            <a:xfrm>
              <a:off x="6089760" y="3740040"/>
              <a:ext cx="32040" cy="174960"/>
            </a:xfrm>
            <a:custGeom>
              <a:avLst/>
              <a:gdLst/>
              <a:ahLst/>
              <a:rect l="0" t="0" r="r" b="b"/>
              <a:pathLst>
                <a:path w="89" h="486">
                  <a:moveTo>
                    <a:pt x="89" y="0"/>
                  </a:moveTo>
                  <a:lnTo>
                    <a:pt x="89" y="486"/>
                  </a:lnTo>
                  <a:lnTo>
                    <a:pt x="89" y="477"/>
                  </a:lnTo>
                  <a:lnTo>
                    <a:pt x="71" y="450"/>
                  </a:lnTo>
                  <a:lnTo>
                    <a:pt x="62" y="424"/>
                  </a:lnTo>
                  <a:lnTo>
                    <a:pt x="53" y="397"/>
                  </a:lnTo>
                  <a:lnTo>
                    <a:pt x="45" y="371"/>
                  </a:lnTo>
                  <a:lnTo>
                    <a:pt x="35" y="344"/>
                  </a:lnTo>
                  <a:lnTo>
                    <a:pt x="26" y="318"/>
                  </a:lnTo>
                  <a:lnTo>
                    <a:pt x="17" y="292"/>
                  </a:lnTo>
                  <a:lnTo>
                    <a:pt x="0" y="265"/>
                  </a:lnTo>
                  <a:lnTo>
                    <a:pt x="8" y="238"/>
                  </a:lnTo>
                  <a:lnTo>
                    <a:pt x="26" y="211"/>
                  </a:lnTo>
                  <a:lnTo>
                    <a:pt x="26" y="185"/>
                  </a:lnTo>
                  <a:lnTo>
                    <a:pt x="35" y="158"/>
                  </a:lnTo>
                  <a:lnTo>
                    <a:pt x="45" y="132"/>
                  </a:lnTo>
                  <a:lnTo>
                    <a:pt x="53" y="105"/>
                  </a:lnTo>
                  <a:lnTo>
                    <a:pt x="62" y="79"/>
                  </a:lnTo>
                  <a:lnTo>
                    <a:pt x="71" y="52"/>
                  </a:lnTo>
                  <a:lnTo>
                    <a:pt x="80" y="26"/>
                  </a:lnTo>
                  <a:lnTo>
                    <a:pt x="89" y="0"/>
                  </a:lnTo>
                  <a:close/>
                </a:path>
              </a:pathLst>
            </a:custGeom>
            <a:solidFill>
              <a:srgbClr val="a2c1fe"/>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81" name=""/>
            <p:cNvSpPr/>
            <p:nvPr/>
          </p:nvSpPr>
          <p:spPr>
            <a:xfrm>
              <a:off x="6086520" y="3838680"/>
              <a:ext cx="28440" cy="1810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82" name=""/>
            <p:cNvSpPr/>
            <p:nvPr/>
          </p:nvSpPr>
          <p:spPr>
            <a:xfrm flipV="1">
              <a:off x="6032520" y="1682640"/>
              <a:ext cx="0" cy="144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3" name=""/>
            <p:cNvSpPr/>
            <p:nvPr/>
          </p:nvSpPr>
          <p:spPr>
            <a:xfrm>
              <a:off x="3048120" y="3174840"/>
              <a:ext cx="0" cy="152424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4" name=""/>
            <p:cNvSpPr/>
            <p:nvPr/>
          </p:nvSpPr>
          <p:spPr>
            <a:xfrm flipV="1">
              <a:off x="3048120" y="4572000"/>
              <a:ext cx="210960" cy="1270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5" name=""/>
            <p:cNvSpPr/>
            <p:nvPr/>
          </p:nvSpPr>
          <p:spPr>
            <a:xfrm flipV="1">
              <a:off x="3041640" y="1682640"/>
              <a:ext cx="3006720" cy="148608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6" name=""/>
            <p:cNvSpPr/>
            <p:nvPr/>
          </p:nvSpPr>
          <p:spPr>
            <a:xfrm flipV="1">
              <a:off x="3238560" y="4206960"/>
              <a:ext cx="0" cy="3492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7" name=""/>
            <p:cNvSpPr/>
            <p:nvPr/>
          </p:nvSpPr>
          <p:spPr>
            <a:xfrm flipV="1">
              <a:off x="5905440" y="3143160"/>
              <a:ext cx="127080" cy="63720"/>
            </a:xfrm>
            <a:prstGeom prst="line">
              <a:avLst/>
            </a:prstGeom>
            <a:ln w="12600">
              <a:solidFill>
                <a:srgbClr val="fd0000"/>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grpSp>
          <p:nvGrpSpPr>
            <p:cNvPr id="3688" name=""/>
            <p:cNvGrpSpPr/>
            <p:nvPr/>
          </p:nvGrpSpPr>
          <p:grpSpPr>
            <a:xfrm>
              <a:off x="3143160" y="1650960"/>
              <a:ext cx="2841840" cy="3143160"/>
              <a:chOff x="3143160" y="1650960"/>
              <a:chExt cx="2841840" cy="3143160"/>
            </a:xfrm>
          </p:grpSpPr>
          <p:sp>
            <p:nvSpPr>
              <p:cNvPr id="3689" name=""/>
              <p:cNvSpPr/>
              <p:nvPr/>
            </p:nvSpPr>
            <p:spPr>
              <a:xfrm>
                <a:off x="5667480" y="4222800"/>
                <a:ext cx="0" cy="380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0" name=""/>
              <p:cNvSpPr/>
              <p:nvPr/>
            </p:nvSpPr>
            <p:spPr>
              <a:xfrm>
                <a:off x="5667480" y="4603680"/>
                <a:ext cx="317520" cy="1904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1" name=""/>
              <p:cNvSpPr/>
              <p:nvPr/>
            </p:nvSpPr>
            <p:spPr>
              <a:xfrm flipV="1">
                <a:off x="5985000" y="3206880"/>
                <a:ext cx="0" cy="15872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2" name=""/>
              <p:cNvSpPr/>
              <p:nvPr/>
            </p:nvSpPr>
            <p:spPr>
              <a:xfrm flipH="1" flipV="1">
                <a:off x="4540320" y="3571920"/>
                <a:ext cx="1127160" cy="6508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3" name=""/>
              <p:cNvSpPr/>
              <p:nvPr/>
            </p:nvSpPr>
            <p:spPr>
              <a:xfrm>
                <a:off x="4540320" y="2428920"/>
                <a:ext cx="1444680" cy="793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4" name=""/>
              <p:cNvSpPr/>
              <p:nvPr/>
            </p:nvSpPr>
            <p:spPr>
              <a:xfrm flipH="1" flipV="1">
                <a:off x="3143160" y="1650960"/>
                <a:ext cx="1397160" cy="7779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5" name=""/>
              <p:cNvSpPr/>
              <p:nvPr/>
            </p:nvSpPr>
            <p:spPr>
              <a:xfrm>
                <a:off x="3143160" y="1650960"/>
                <a:ext cx="0" cy="136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6" name=""/>
              <p:cNvSpPr/>
              <p:nvPr/>
            </p:nvSpPr>
            <p:spPr>
              <a:xfrm>
                <a:off x="3143160" y="3016080"/>
                <a:ext cx="95400" cy="47880"/>
              </a:xfrm>
              <a:prstGeom prst="line">
                <a:avLst/>
              </a:prstGeom>
              <a:ln w="12600">
                <a:solidFill>
                  <a:srgbClr val="fc0128"/>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3697" name=""/>
              <p:cNvSpPr/>
              <p:nvPr/>
            </p:nvSpPr>
            <p:spPr>
              <a:xfrm flipH="1" flipV="1">
                <a:off x="3460680" y="2984400"/>
                <a:ext cx="1063800" cy="587520"/>
              </a:xfrm>
              <a:prstGeom prst="line">
                <a:avLst/>
              </a:prstGeom>
              <a:ln w="12600">
                <a:solidFill>
                  <a:srgbClr val="fc0128"/>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98" name=""/>
            <p:cNvSpPr/>
            <p:nvPr/>
          </p:nvSpPr>
          <p:spPr>
            <a:xfrm flipH="1">
              <a:off x="3286080" y="3571920"/>
              <a:ext cx="1254240" cy="619200"/>
            </a:xfrm>
            <a:prstGeom prst="line">
              <a:avLst/>
            </a:prstGeom>
            <a:ln w="12600">
              <a:solidFill>
                <a:srgbClr val="fd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9" name=""/>
            <p:cNvSpPr/>
            <p:nvPr/>
          </p:nvSpPr>
          <p:spPr>
            <a:xfrm>
              <a:off x="1676520" y="3778200"/>
              <a:ext cx="2816280" cy="188928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0" name=""/>
            <p:cNvSpPr/>
            <p:nvPr/>
          </p:nvSpPr>
          <p:spPr>
            <a:xfrm flipV="1">
              <a:off x="4492800" y="3968640"/>
              <a:ext cx="2952720" cy="16988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1" name=""/>
            <p:cNvSpPr/>
            <p:nvPr/>
          </p:nvSpPr>
          <p:spPr>
            <a:xfrm flipH="1" flipV="1">
              <a:off x="6032520" y="3141720"/>
              <a:ext cx="1413000" cy="82224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2" name=""/>
            <p:cNvSpPr/>
            <p:nvPr/>
          </p:nvSpPr>
          <p:spPr>
            <a:xfrm flipV="1">
              <a:off x="1676520" y="3009960"/>
              <a:ext cx="1466640" cy="762120"/>
            </a:xfrm>
            <a:prstGeom prst="line">
              <a:avLst/>
            </a:prstGeom>
            <a:ln w="12600">
              <a:solidFill>
                <a:srgbClr val="00dfc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3" name=""/>
            <p:cNvSpPr/>
            <p:nvPr/>
          </p:nvSpPr>
          <p:spPr>
            <a:xfrm flipH="1" flipV="1">
              <a:off x="4476600" y="2317680"/>
              <a:ext cx="133560" cy="69840"/>
            </a:xfrm>
            <a:prstGeom prst="line">
              <a:avLst/>
            </a:prstGeom>
            <a:ln w="12600">
              <a:solidFill>
                <a:srgbClr val="00dfca"/>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704" name=""/>
            <p:cNvSpPr/>
            <p:nvPr/>
          </p:nvSpPr>
          <p:spPr>
            <a:xfrm flipH="1">
              <a:off x="4416480" y="2317680"/>
              <a:ext cx="60120" cy="22320"/>
            </a:xfrm>
            <a:prstGeom prst="line">
              <a:avLst/>
            </a:prstGeom>
            <a:ln w="12600">
              <a:solidFill>
                <a:srgbClr val="00dfca"/>
              </a:solidFill>
              <a:round/>
            </a:ln>
          </p:spPr>
          <p:style>
            <a:lnRef idx="0"/>
            <a:fillRef idx="0"/>
            <a:effectRef idx="0"/>
            <a:fontRef idx="minor"/>
          </p:style>
          <p:txBody>
            <a:bodyPr lIns="96120" rIns="96120" tIns="-28800" bIns="-28800" anchor="t">
              <a:noAutofit/>
            </a:bodyPr>
            <a:p>
              <a:endParaRPr b="0" lang="en-US" sz="1800" spc="-1" strike="noStrike">
                <a:solidFill>
                  <a:srgbClr val="000000"/>
                </a:solidFill>
                <a:latin typeface="Arial"/>
              </a:endParaRPr>
            </a:p>
          </p:txBody>
        </p:sp>
        <p:sp>
          <p:nvSpPr>
            <p:cNvPr id="3705" name=""/>
            <p:cNvSpPr/>
            <p:nvPr/>
          </p:nvSpPr>
          <p:spPr>
            <a:xfrm flipV="1">
              <a:off x="4540320" y="3032280"/>
              <a:ext cx="1063440" cy="539640"/>
            </a:xfrm>
            <a:prstGeom prst="line">
              <a:avLst/>
            </a:prstGeom>
            <a:ln w="12600">
              <a:solidFill>
                <a:srgbClr val="fd0000"/>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6" name=""/>
            <p:cNvSpPr/>
            <p:nvPr/>
          </p:nvSpPr>
          <p:spPr>
            <a:xfrm>
              <a:off x="3460680" y="3921120"/>
              <a:ext cx="365040" cy="190440"/>
            </a:xfrm>
            <a:prstGeom prst="ellipse">
              <a:avLst/>
            </a:prstGeom>
            <a:gradFill rotWithShape="0">
              <a:gsLst>
                <a:gs pos="0">
                  <a:srgbClr val="002622"/>
                </a:gs>
                <a:gs pos="50000">
                  <a:srgbClr val="008074"/>
                </a:gs>
                <a:gs pos="100000">
                  <a:srgbClr val="00262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7" name=""/>
            <p:cNvSpPr/>
            <p:nvPr/>
          </p:nvSpPr>
          <p:spPr>
            <a:xfrm>
              <a:off x="5105520" y="3114720"/>
              <a:ext cx="365040" cy="171360"/>
            </a:xfrm>
            <a:prstGeom prst="ellipse">
              <a:avLst/>
            </a:prstGeom>
            <a:gradFill rotWithShape="0">
              <a:gsLst>
                <a:gs pos="0">
                  <a:srgbClr val="002622"/>
                </a:gs>
                <a:gs pos="50000">
                  <a:srgbClr val="008074"/>
                </a:gs>
                <a:gs pos="100000">
                  <a:srgbClr val="00262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8" name=""/>
            <p:cNvSpPr/>
            <p:nvPr/>
          </p:nvSpPr>
          <p:spPr>
            <a:xfrm>
              <a:off x="3606840" y="3102120"/>
              <a:ext cx="365040" cy="152280"/>
            </a:xfrm>
            <a:prstGeom prst="ellipse">
              <a:avLst/>
            </a:prstGeom>
            <a:gradFill rotWithShape="0">
              <a:gsLst>
                <a:gs pos="0">
                  <a:srgbClr val="002622"/>
                </a:gs>
                <a:gs pos="50000">
                  <a:srgbClr val="008074"/>
                </a:gs>
                <a:gs pos="100000">
                  <a:srgbClr val="00262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09" name=""/>
            <p:cNvSpPr/>
            <p:nvPr/>
          </p:nvSpPr>
          <p:spPr>
            <a:xfrm>
              <a:off x="5124600" y="3914640"/>
              <a:ext cx="365040" cy="196920"/>
            </a:xfrm>
            <a:prstGeom prst="ellipse">
              <a:avLst/>
            </a:prstGeom>
            <a:gradFill rotWithShape="0">
              <a:gsLst>
                <a:gs pos="0">
                  <a:srgbClr val="002622"/>
                </a:gs>
                <a:gs pos="50000">
                  <a:srgbClr val="008074"/>
                </a:gs>
                <a:gs pos="100000">
                  <a:srgbClr val="002622"/>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710" name=""/>
            <p:cNvGrpSpPr/>
            <p:nvPr/>
          </p:nvGrpSpPr>
          <p:grpSpPr>
            <a:xfrm>
              <a:off x="4149720" y="1457280"/>
              <a:ext cx="777960" cy="444600"/>
              <a:chOff x="4149720" y="1457280"/>
              <a:chExt cx="777960" cy="444600"/>
            </a:xfrm>
          </p:grpSpPr>
          <p:sp>
            <p:nvSpPr>
              <p:cNvPr id="3711" name=""/>
              <p:cNvSpPr/>
              <p:nvPr/>
            </p:nvSpPr>
            <p:spPr>
              <a:xfrm>
                <a:off x="4149720" y="1457280"/>
                <a:ext cx="777960" cy="44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12" name=""/>
              <p:cNvSpPr/>
              <p:nvPr/>
            </p:nvSpPr>
            <p:spPr>
              <a:xfrm flipH="1">
                <a:off x="4348080" y="1468440"/>
                <a:ext cx="114480" cy="23760"/>
              </a:xfrm>
              <a:prstGeom prst="line">
                <a:avLst/>
              </a:prstGeom>
              <a:ln w="12600">
                <a:solidFill>
                  <a:srgbClr val="ffffff"/>
                </a:solidFill>
                <a:round/>
                <a:headEnd len="med" type="triangle" w="med"/>
              </a:ln>
            </p:spPr>
            <p:style>
              <a:lnRef idx="0"/>
              <a:fillRef idx="0"/>
              <a:effectRef idx="0"/>
              <a:fontRef idx="minor"/>
            </p:style>
            <p:txBody>
              <a:bodyPr lIns="96120" rIns="96120" tIns="-27360" bIns="-27360" anchor="t">
                <a:noAutofit/>
              </a:bodyPr>
              <a:p>
                <a:endParaRPr b="0" lang="en-US" sz="1800" spc="-1" strike="noStrike">
                  <a:solidFill>
                    <a:srgbClr val="000000"/>
                  </a:solidFill>
                  <a:latin typeface="Arial"/>
                </a:endParaRPr>
              </a:p>
            </p:txBody>
          </p:sp>
          <p:sp>
            <p:nvSpPr>
              <p:cNvPr id="3713" name=""/>
              <p:cNvSpPr/>
              <p:nvPr/>
            </p:nvSpPr>
            <p:spPr>
              <a:xfrm>
                <a:off x="4660920" y="1465200"/>
                <a:ext cx="38160" cy="14400"/>
              </a:xfrm>
              <a:prstGeom prst="line">
                <a:avLst/>
              </a:prstGeom>
              <a:ln w="12600">
                <a:solidFill>
                  <a:srgbClr val="ffffff"/>
                </a:solidFill>
                <a:round/>
                <a:headEnd len="med" type="triangle" w="med"/>
              </a:ln>
            </p:spPr>
            <p:style>
              <a:lnRef idx="0"/>
              <a:fillRef idx="0"/>
              <a:effectRef idx="0"/>
              <a:fontRef idx="minor"/>
            </p:style>
            <p:txBody>
              <a:bodyPr lIns="96120" rIns="96120" tIns="-36720" bIns="-36720" anchor="t">
                <a:noAutofit/>
              </a:bodyPr>
              <a:p>
                <a:endParaRPr b="0" lang="en-US" sz="1800" spc="-1" strike="noStrike">
                  <a:solidFill>
                    <a:srgbClr val="000000"/>
                  </a:solidFill>
                  <a:latin typeface="Arial"/>
                </a:endParaRPr>
              </a:p>
            </p:txBody>
          </p:sp>
        </p:grpSp>
        <p:sp>
          <p:nvSpPr>
            <p:cNvPr id="3714" name=""/>
            <p:cNvSpPr/>
            <p:nvPr/>
          </p:nvSpPr>
          <p:spPr>
            <a:xfrm>
              <a:off x="4465800" y="1407960"/>
              <a:ext cx="20304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15" name=""/>
            <p:cNvSpPr/>
            <p:nvPr/>
          </p:nvSpPr>
          <p:spPr>
            <a:xfrm flipV="1">
              <a:off x="4540320" y="1063800"/>
              <a:ext cx="0" cy="250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6" name=""/>
            <p:cNvSpPr txBox="1"/>
            <p:nvPr/>
          </p:nvSpPr>
          <p:spPr>
            <a:xfrm>
              <a:off x="5067360" y="511200"/>
              <a:ext cx="33148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Datum Axis (Secondary Datum</a:t>
              </a:r>
              <a:r>
                <a:rPr b="1" lang="en-US" sz="1800" spc="-1" strike="noStrike">
                  <a:solidFill>
                    <a:srgbClr val="fd0700"/>
                  </a:solidFill>
                  <a:latin typeface="Times New Roman"/>
                  <a:ea typeface="Times New Roman"/>
                </a:rPr>
                <a:t>)</a:t>
              </a:r>
              <a:endParaRPr b="0" lang="en-US" sz="1800" spc="-1" strike="noStrike">
                <a:solidFill>
                  <a:srgbClr val="000000"/>
                </a:solidFill>
                <a:latin typeface="Arial"/>
              </a:endParaRPr>
            </a:p>
          </p:txBody>
        </p:sp>
        <p:sp>
          <p:nvSpPr>
            <p:cNvPr id="3717" name=""/>
            <p:cNvSpPr/>
            <p:nvPr/>
          </p:nvSpPr>
          <p:spPr>
            <a:xfrm flipH="1">
              <a:off x="4921200" y="666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8" name=""/>
            <p:cNvSpPr/>
            <p:nvPr/>
          </p:nvSpPr>
          <p:spPr>
            <a:xfrm flipH="1">
              <a:off x="4540320" y="666720"/>
              <a:ext cx="380880" cy="460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9" name=""/>
            <p:cNvSpPr/>
            <p:nvPr/>
          </p:nvSpPr>
          <p:spPr>
            <a:xfrm flipH="1">
              <a:off x="6524640" y="180972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0" name=""/>
            <p:cNvSpPr/>
            <p:nvPr/>
          </p:nvSpPr>
          <p:spPr>
            <a:xfrm flipH="1">
              <a:off x="5683320" y="1809720"/>
              <a:ext cx="841320" cy="635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1" name=""/>
            <p:cNvSpPr/>
            <p:nvPr/>
          </p:nvSpPr>
          <p:spPr>
            <a:xfrm flipH="1" flipV="1">
              <a:off x="4572000" y="5127480"/>
              <a:ext cx="857160" cy="571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2" name=""/>
            <p:cNvSpPr/>
            <p:nvPr/>
          </p:nvSpPr>
          <p:spPr>
            <a:xfrm>
              <a:off x="2841480" y="1920960"/>
              <a:ext cx="19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3" name=""/>
            <p:cNvSpPr/>
            <p:nvPr/>
          </p:nvSpPr>
          <p:spPr>
            <a:xfrm>
              <a:off x="3032280" y="1920960"/>
              <a:ext cx="507960" cy="507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4" name=""/>
            <p:cNvSpPr/>
            <p:nvPr/>
          </p:nvSpPr>
          <p:spPr>
            <a:xfrm>
              <a:off x="5619600" y="241308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725" name=""/>
            <p:cNvSpPr/>
            <p:nvPr/>
          </p:nvSpPr>
          <p:spPr>
            <a:xfrm>
              <a:off x="3502080" y="240660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726" name=""/>
            <p:cNvSpPr/>
            <p:nvPr/>
          </p:nvSpPr>
          <p:spPr>
            <a:xfrm>
              <a:off x="4511520" y="5067360"/>
              <a:ext cx="79200" cy="79200"/>
            </a:xfrm>
            <a:prstGeom prst="ellipse">
              <a:avLst/>
            </a:prstGeom>
            <a:solidFill>
              <a:srgbClr val="ffffff"/>
            </a:solidFill>
            <a:ln w="12600">
              <a:solidFill>
                <a:srgbClr val="ffffff"/>
              </a:solidFill>
              <a:round/>
            </a:ln>
          </p:spPr>
          <p:txBody>
            <a:bodyPr lIns="96120" rIns="96120" tIns="28080" bIns="28080" anchor="t">
              <a:noAutofit/>
            </a:bodyPr>
            <a:p>
              <a:endParaRPr b="0" lang="en-US" sz="1800" spc="-1" strike="noStrike">
                <a:solidFill>
                  <a:srgbClr val="000000"/>
                </a:solidFill>
                <a:latin typeface="Arial"/>
              </a:endParaRPr>
            </a:p>
          </p:txBody>
        </p:sp>
        <p:sp>
          <p:nvSpPr>
            <p:cNvPr id="3727" name=""/>
            <p:cNvSpPr txBox="1"/>
            <p:nvPr/>
          </p:nvSpPr>
          <p:spPr>
            <a:xfrm>
              <a:off x="5638680" y="5494320"/>
              <a:ext cx="234324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Primary Datum Plane</a:t>
              </a:r>
              <a:endParaRPr b="0" lang="en-US" sz="1800" spc="-1" strike="noStrike">
                <a:solidFill>
                  <a:srgbClr val="000000"/>
                </a:solidFill>
                <a:latin typeface="Arial"/>
              </a:endParaRPr>
            </a:p>
          </p:txBody>
        </p:sp>
        <p:sp>
          <p:nvSpPr>
            <p:cNvPr id="3728" name=""/>
            <p:cNvSpPr txBox="1"/>
            <p:nvPr/>
          </p:nvSpPr>
          <p:spPr>
            <a:xfrm>
              <a:off x="6654960" y="1654200"/>
              <a:ext cx="1744560" cy="6415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First Reference </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Times New Roman"/>
                  <a:ea typeface="Times New Roman"/>
                </a:rPr>
                <a:t>Plane</a:t>
              </a:r>
              <a:endParaRPr b="0" lang="en-US" sz="1800" spc="-1" strike="noStrike">
                <a:solidFill>
                  <a:srgbClr val="000000"/>
                </a:solidFill>
                <a:latin typeface="Arial"/>
              </a:endParaRPr>
            </a:p>
          </p:txBody>
        </p:sp>
        <p:sp>
          <p:nvSpPr>
            <p:cNvPr id="3729" name=""/>
            <p:cNvSpPr/>
            <p:nvPr/>
          </p:nvSpPr>
          <p:spPr>
            <a:xfrm flipH="1">
              <a:off x="5445000" y="5699160"/>
              <a:ext cx="222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30" name=""/>
            <p:cNvGrpSpPr/>
            <p:nvPr/>
          </p:nvGrpSpPr>
          <p:grpSpPr>
            <a:xfrm>
              <a:off x="3228840" y="6064200"/>
              <a:ext cx="2587680" cy="349200"/>
              <a:chOff x="3228840" y="6064200"/>
              <a:chExt cx="2587680" cy="349200"/>
            </a:xfrm>
          </p:grpSpPr>
          <p:sp>
            <p:nvSpPr>
              <p:cNvPr id="3731" name=""/>
              <p:cNvSpPr/>
              <p:nvPr/>
            </p:nvSpPr>
            <p:spPr>
              <a:xfrm>
                <a:off x="3228840" y="6091200"/>
                <a:ext cx="258768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32" name=""/>
              <p:cNvSpPr/>
              <p:nvPr/>
            </p:nvSpPr>
            <p:spPr>
              <a:xfrm>
                <a:off x="362916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3" name=""/>
              <p:cNvSpPr/>
              <p:nvPr/>
            </p:nvSpPr>
            <p:spPr>
              <a:xfrm>
                <a:off x="4765680" y="6097680"/>
                <a:ext cx="0" cy="291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4" name=""/>
              <p:cNvSpPr/>
              <p:nvPr/>
            </p:nvSpPr>
            <p:spPr>
              <a:xfrm>
                <a:off x="5121360" y="6097680"/>
                <a:ext cx="0" cy="298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35" name=""/>
              <p:cNvGrpSpPr/>
              <p:nvPr/>
            </p:nvGrpSpPr>
            <p:grpSpPr>
              <a:xfrm>
                <a:off x="3305160" y="6122880"/>
                <a:ext cx="247680" cy="247680"/>
                <a:chOff x="3305160" y="6122880"/>
                <a:chExt cx="247680" cy="247680"/>
              </a:xfrm>
            </p:grpSpPr>
            <p:sp>
              <p:nvSpPr>
                <p:cNvPr id="3736" name=""/>
                <p:cNvSpPr/>
                <p:nvPr/>
              </p:nvSpPr>
              <p:spPr>
                <a:xfrm>
                  <a:off x="3343320" y="6161040"/>
                  <a:ext cx="171360" cy="1713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37" name=""/>
                <p:cNvSpPr/>
                <p:nvPr/>
              </p:nvSpPr>
              <p:spPr>
                <a:xfrm>
                  <a:off x="3432240" y="61228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8" name=""/>
                <p:cNvSpPr/>
                <p:nvPr/>
              </p:nvSpPr>
              <p:spPr>
                <a:xfrm>
                  <a:off x="3305160" y="6249960"/>
                  <a:ext cx="247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39" name=""/>
              <p:cNvGrpSpPr/>
              <p:nvPr/>
            </p:nvGrpSpPr>
            <p:grpSpPr>
              <a:xfrm>
                <a:off x="3705120" y="6148440"/>
                <a:ext cx="190440" cy="190440"/>
                <a:chOff x="3705120" y="6148440"/>
                <a:chExt cx="190440" cy="190440"/>
              </a:xfrm>
            </p:grpSpPr>
            <p:sp>
              <p:nvSpPr>
                <p:cNvPr id="3740" name=""/>
                <p:cNvSpPr/>
                <p:nvPr/>
              </p:nvSpPr>
              <p:spPr>
                <a:xfrm>
                  <a:off x="3730680" y="6173640"/>
                  <a:ext cx="13968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1" name=""/>
                <p:cNvSpPr/>
                <p:nvPr/>
              </p:nvSpPr>
              <p:spPr>
                <a:xfrm flipH="1">
                  <a:off x="3705120" y="6148440"/>
                  <a:ext cx="190440" cy="190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42" name=""/>
              <p:cNvSpPr txBox="1"/>
              <p:nvPr/>
            </p:nvSpPr>
            <p:spPr>
              <a:xfrm>
                <a:off x="3917880" y="6076800"/>
                <a:ext cx="78264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0.2   M</a:t>
                </a:r>
                <a:endParaRPr b="0" lang="en-US" sz="1600" spc="-1" strike="noStrike">
                  <a:solidFill>
                    <a:srgbClr val="000000"/>
                  </a:solidFill>
                  <a:latin typeface="Arial"/>
                </a:endParaRPr>
              </a:p>
            </p:txBody>
          </p:sp>
          <p:sp>
            <p:nvSpPr>
              <p:cNvPr id="3743" name=""/>
              <p:cNvSpPr/>
              <p:nvPr/>
            </p:nvSpPr>
            <p:spPr>
              <a:xfrm>
                <a:off x="439740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4" name=""/>
              <p:cNvSpPr txBox="1"/>
              <p:nvPr/>
            </p:nvSpPr>
            <p:spPr>
              <a:xfrm>
                <a:off x="4807080" y="607068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C</a:t>
                </a:r>
                <a:endParaRPr b="0" lang="en-US" sz="1600" spc="-1" strike="noStrike">
                  <a:solidFill>
                    <a:srgbClr val="000000"/>
                  </a:solidFill>
                  <a:latin typeface="Arial"/>
                </a:endParaRPr>
              </a:p>
            </p:txBody>
          </p:sp>
          <p:sp>
            <p:nvSpPr>
              <p:cNvPr id="3745" name=""/>
              <p:cNvSpPr txBox="1"/>
              <p:nvPr/>
            </p:nvSpPr>
            <p:spPr>
              <a:xfrm>
                <a:off x="5149800" y="6064200"/>
                <a:ext cx="33012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D</a:t>
                </a:r>
                <a:endParaRPr b="0" lang="en-US" sz="1600" spc="-1" strike="noStrike">
                  <a:solidFill>
                    <a:srgbClr val="000000"/>
                  </a:solidFill>
                  <a:latin typeface="Arial"/>
                </a:endParaRPr>
              </a:p>
            </p:txBody>
          </p:sp>
          <p:sp>
            <p:nvSpPr>
              <p:cNvPr id="3746" name=""/>
              <p:cNvSpPr/>
              <p:nvPr/>
            </p:nvSpPr>
            <p:spPr>
              <a:xfrm>
                <a:off x="5477040" y="6122880"/>
                <a:ext cx="235080" cy="2350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7" name=""/>
              <p:cNvSpPr txBox="1"/>
              <p:nvPr/>
            </p:nvSpPr>
            <p:spPr>
              <a:xfrm>
                <a:off x="5403960" y="6076800"/>
                <a:ext cx="376200" cy="33660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grpSp>
        <p:sp>
          <p:nvSpPr>
            <p:cNvPr id="3748" name=""/>
            <p:cNvSpPr txBox="1"/>
            <p:nvPr/>
          </p:nvSpPr>
          <p:spPr>
            <a:xfrm>
              <a:off x="352440" y="1733400"/>
              <a:ext cx="2521080" cy="36684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Times New Roman"/>
                  <a:ea typeface="Times New Roman"/>
                </a:rPr>
                <a:t>Second Reference Plan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Datums and Datum Referencing</dc:title>
</cp:coreProperties>
</file>